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785-D418-4915-BEC0-885015DA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356-260F-4F71-8C5F-AEFE2C87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C6A-CDD9-4E29-80F5-6537A7B1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F4B-4507-4F06-80C3-8295E94D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270B-7798-41BA-BAC1-B037D01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4F93-EA14-41B5-81DC-8A48DEC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0ED8-DE6A-402B-AB58-BE12BF54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305B-AD2C-49E3-953D-3C57293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413A-40E1-4CDF-957E-011835A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069-9EAC-4898-9C98-6916628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450D-68FD-409C-B485-FA082FC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A80-EA5A-49A7-8412-7B304E58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BA8F-B791-4D3E-9C7B-E100031F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653-8FF3-4742-914B-3283850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D83C-CF24-44F6-8AE7-7340FD4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E71-CE3A-4743-9F75-8B8C5312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4F13-B4EF-434D-9F8A-B84F2274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4DB-40DC-4B4E-A40D-EA9C7F43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DA3-508D-4E55-A216-9B2C582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B46-A545-45F0-8EEA-91E62F9D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2FB-725F-4ABD-80A3-0C7B4B59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D93-223A-4973-9034-3CFC03D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848-6799-4FCB-83C4-C2A1EE1A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F23-8D77-4CBB-874B-C271C6F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793-7F08-4855-BAEB-2535F2BA8152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328-9C4A-481F-9B01-C2898D28F57A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AR" sz="3200" spc="-1" strike="noStrike">
                <a:solidFill>
                  <a:srgbClr val="e5ffff"/>
                </a:solidFill>
                <a:latin typeface="Tahoma"/>
              </a:rPr>
              <a:t>EL CONCEPTO DE EMPRENDIMIENTO Y SU RELACIÓN CON LA EDUCACIÓN, EL EMPLEO Y EL DESARROLLO LOCAL.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. en Economía María Marta Formichella.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g. Agrónomo José Ignacio Massigoge.</a:t>
            </a:r>
            <a:br>
              <a:rPr sz="1800"/>
            </a:br>
            <a:r>
              <a:rPr b="1" lang="es-AR" sz="1800" spc="-1" strike="noStrike">
                <a:solidFill>
                  <a:srgbClr val="e5ffff"/>
                </a:solidFill>
                <a:latin typeface="Arial"/>
              </a:rPr>
              <a:t>Chacra Experimental Integrada Barrow</a:t>
            </a:r>
            <a:br>
              <a:rPr sz="1800"/>
            </a:br>
            <a:r>
              <a:rPr b="1" lang="es-AR" sz="1800" spc="-1" strike="noStrike">
                <a:solidFill>
                  <a:srgbClr val="e5ffff"/>
                </a:solidFill>
                <a:latin typeface="Arial"/>
              </a:rPr>
              <a:t> (convenio INTA-MAA)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700360" y="5661000"/>
          <a:ext cx="1079640" cy="9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5661000"/>
                    <a:ext cx="10796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859280" y="609300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27640" y="5661000"/>
            <a:ext cx="212400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l emprendedorismo se desarrolla en comunidades en las qu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xisten recursos móv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xiste capital dispon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os éxitos de sus miembros son celebrados por los demás miemb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l cambio es visto como algo positi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(Stevenson, 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Emprendimiento y edu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¿Los emprendedores nacen o se forma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a educación incluye toda una gama de medios complementarios por los cuales se transmiten el conocimiento, los valores y las especializaciones, y se modifican los patrones de comportamiento” (Naciones Unidas, 196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lfred Marshall (188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Una persona puede adquirir cualidades emprendedora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eter Drucker (198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er emprendedor no es un rasgo del carácter, sino una conducta. Cualquiera que sea capaz de tomar decisiones puede aprender a ser un empresario innovador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tevenson (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l entorno es importan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a educación en emprendedorismo genera externalidades positivas para la socie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a provisión privada no es sufi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e requiere de la intervención del Es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2060640"/>
            <a:ext cx="15127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3860640"/>
            <a:ext cx="151272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Emprendimiento y empl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La existencia de desempleo disminuye el costo de oportunidad de encarar un emprend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i aumenta el número de emprendimientos, tiende a disminuir el número de desemple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e5ffff"/>
                </a:solidFill>
                <a:latin typeface="Tahoma"/>
              </a:rPr>
              <a:t>Emprendimiento y desarrollo lo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El desarrollo es un proceso de expansión de las libertades reales de que disfrutan los individuos”(Amartya Sen, 1999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5ffff"/>
                </a:solidFill>
                <a:latin typeface="Tahoma"/>
              </a:rPr>
              <a:t>Desarrollo lo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s un proceso que mejora la </a:t>
            </a: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calidad de vida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de los habitantes de un determinado </a:t>
            </a: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territorio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, superando las dificultades por medio de la actuación de diferentes agentes (públicos y privados), con recursos </a:t>
            </a: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endógenos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y fomentando el aumento de capacidade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620640"/>
            <a:ext cx="6985080" cy="5904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997360"/>
            <a:ext cx="2089080" cy="936360"/>
          </a:xfrm>
          <a:prstGeom prst="rect">
            <a:avLst/>
          </a:prstGeom>
          <a:solidFill>
            <a:srgbClr val="ffff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jores niveles de educación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2521080" cy="1079640"/>
          </a:xfrm>
          <a:prstGeom prst="rect">
            <a:avLst/>
          </a:prstGeom>
          <a:solidFill>
            <a:srgbClr val="ffff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yor educación en emprend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3284640"/>
            <a:ext cx="266400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ejoras en la organización soc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mación de redes soci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Generación de proyectos soci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6165720"/>
            <a:ext cx="4608720" cy="4320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yor desarrollo local de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620640"/>
            <a:ext cx="1008000" cy="1440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911640" y="-63720"/>
            <a:ext cx="863640" cy="1800360"/>
          </a:xfrm>
          <a:custGeom>
            <a:avLst/>
            <a:gdLst>
              <a:gd name="textAreaLeft" fmla="*/ 0 w 863640"/>
              <a:gd name="textAreaRight" fmla="*/ 864000 w 863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74" stAng="10800000" swAng="5400000"/>
                <a:lnTo>
                  <a:pt x="15909" y="3886"/>
                </a:lnTo>
                <a:lnTo>
                  <a:pt x="15909" y="0"/>
                </a:lnTo>
                <a:lnTo>
                  <a:pt x="21600" y="6079"/>
                </a:lnTo>
                <a:lnTo>
                  <a:pt x="15909" y="12158"/>
                </a:lnTo>
                <a:lnTo>
                  <a:pt x="15909" y="8272"/>
                </a:lnTo>
                <a:lnTo>
                  <a:pt x="12427" y="8272"/>
                </a:lnTo>
                <a:arcTo wR="8041" hR="3888" stAng="16200000" swAng="-5400000"/>
                <a:lnTo>
                  <a:pt x="4386" y="21600"/>
                </a:lnTo>
                <a:close/>
              </a:path>
            </a:pathLst>
          </a:cu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019640" y="5229360"/>
            <a:ext cx="1307880" cy="107928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10000">
            <a:off x="442080" y="4281840"/>
            <a:ext cx="830520" cy="1714680"/>
          </a:xfrm>
          <a:custGeom>
            <a:avLst/>
            <a:gdLst>
              <a:gd name="textAreaLeft" fmla="*/ 0 w 830520"/>
              <a:gd name="textAreaRight" fmla="*/ 830880 w 83052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30" stAng="10800000" swAng="5400000"/>
                <a:lnTo>
                  <a:pt x="12427" y="3330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28"/>
                </a:lnTo>
                <a:lnTo>
                  <a:pt x="12427" y="8828"/>
                </a:lnTo>
                <a:arcTo wR="6929" hR="3332" stAng="16200000" swAng="-5400000"/>
                <a:lnTo>
                  <a:pt x="5498" y="21600"/>
                </a:lnTo>
                <a:close/>
              </a:path>
            </a:pathLst>
          </a:cu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rot="1466400">
            <a:off x="5866920" y="2204640"/>
            <a:ext cx="228600" cy="1033560"/>
          </a:xfrm>
          <a:prstGeom prst="downArrow">
            <a:avLst>
              <a:gd name="adj1" fmla="val 50000"/>
              <a:gd name="adj2" fmla="val 11303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92360" y="2205000"/>
            <a:ext cx="230040" cy="1028880"/>
          </a:xfrm>
          <a:prstGeom prst="downArrow">
            <a:avLst>
              <a:gd name="adj1" fmla="val 50000"/>
              <a:gd name="adj2" fmla="val 11181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413000"/>
            <a:ext cx="2627280" cy="12240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umento de la dotación social de cualidades emprended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2210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2637000"/>
            <a:ext cx="2158920" cy="180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reación de empres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recimiento de empresas ya exist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Generación de autoempleo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300640"/>
            <a:ext cx="228600" cy="800280"/>
          </a:xfrm>
          <a:prstGeom prst="downArrow">
            <a:avLst>
              <a:gd name="adj1" fmla="val 50000"/>
              <a:gd name="adj2" fmla="val 8752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5013360"/>
            <a:ext cx="2519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isminución del desempl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e5ffff"/>
                </a:solidFill>
                <a:latin typeface="Tahoma"/>
              </a:rPr>
              <a:t>Emprendimiento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ahoma"/>
              </a:rPr>
              <a:t> “ </a:t>
            </a:r>
            <a:r>
              <a:rPr b="0" lang="es-AR" sz="4000" spc="-1" strike="noStrike">
                <a:solidFill>
                  <a:srgbClr val="ffffff"/>
                </a:solidFill>
                <a:latin typeface="Tahoma"/>
              </a:rPr>
              <a:t>Desarrollo de un proyecto que persigue un determinado fin económico, político o social, entre otros, y que posee una importante cuota de incertidumbre e innovación”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e5ffff"/>
                </a:solidFill>
                <a:latin typeface="Tahoma"/>
              </a:rPr>
              <a:t>Proyecto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4000" spc="-1" strike="noStrike">
                <a:solidFill>
                  <a:srgbClr val="ffffff"/>
                </a:solidFill>
                <a:latin typeface="Tahoma"/>
              </a:rPr>
              <a:t>Busqueda de una solución inteligente al planteamiento de un problema tendiente a resolver, entre tantas, una necesidad humana” 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(Nassir Sapag Chain, 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AR" sz="5400" spc="-1" strike="noStrike">
                <a:solidFill>
                  <a:srgbClr val="e5ffff"/>
                </a:solidFill>
                <a:latin typeface="Tahoma"/>
              </a:rPr>
              <a:t>Incertidumbr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ahoma"/>
              </a:rPr>
              <a:t>Falta de conocimiento cierto, segur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e5ffff"/>
                </a:solidFill>
                <a:latin typeface="Tahoma"/>
              </a:rPr>
              <a:t>Innovación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novar significa introducir un camb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 el medio con el cual explotar el cambio como una oportunidad para un negocio diferente” (Peter Drucker, 198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 un camino por el cual el conocimiento de traslada y se convierte en un proceso, un producto o un servi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novar es ver lo que todos ven, pensar lo que algunos piensan y hacer lo que nadie hace (Hernán Bucarini, Primer Congreso Provincial sobre emprendedorismo y desarrollo loc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estrucción creativa” (Schumpeter, 19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e5ffff"/>
                </a:solidFill>
                <a:latin typeface="Tahoma"/>
              </a:rPr>
              <a:t>Emprendedor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Palabra que tiene su origen en el francés “entrepreneur”(pionero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El termino fue introducido en la literatura económica por Richard Cantillon (siglo XVIII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ahoma"/>
              </a:rPr>
              <a:t>La diferencia entre el emprendedor y el individuo común la establece la personalid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e5ffff"/>
                </a:solidFill>
                <a:latin typeface="Tahoma"/>
              </a:rPr>
              <a:t>Características del emprendedo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iene inici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escubre y aprovecha la oportunid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Sabe armar una estructura de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iene alta autoestima y opti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Tiene visión de futuro y asume riesg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nfrenta lo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4400" spc="-1" strike="noStrike">
                <a:solidFill>
                  <a:srgbClr val="ffffff"/>
                </a:solidFill>
                <a:latin typeface="Tahoma"/>
              </a:rPr>
              <a:t>El emprendedor es una persona dinámica y fuera de lo común, que promueve nuevas combinaciones o innovaciones” (Schumpeter, 194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AR" sz="4800" spc="-1" strike="noStrike">
                <a:solidFill>
                  <a:srgbClr val="ffffff"/>
                </a:solidFill>
                <a:latin typeface="Tahoma"/>
              </a:rPr>
              <a:t>Emprender es perseguir la oportunidad más allá de los recursos que se controlen en la actualidad” (Stevenson, 2000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7:11:24Z</dcterms:created>
  <dc:creator>INTA CHEI BARROW</dc:creator>
  <dc:description/>
  <dc:language>en-US</dc:language>
  <cp:lastModifiedBy>C.P.C.E.C.A.B.A.</cp:lastModifiedBy>
  <dcterms:modified xsi:type="dcterms:W3CDTF">2004-07-01T17:47:41Z</dcterms:modified>
  <cp:revision>24</cp:revision>
  <dc:subject/>
  <dc:title>“Emprendimientos asociativos”</dc:title>
</cp:coreProperties>
</file>