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775332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2640" y="4018320"/>
            <a:ext cx="775332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378360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5960" y="1828800"/>
            <a:ext cx="378360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2640" y="4018320"/>
            <a:ext cx="378360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5960" y="4018320"/>
            <a:ext cx="378360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249624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764160" y="1828800"/>
            <a:ext cx="249624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85680" y="1828800"/>
            <a:ext cx="249624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2640" y="4018320"/>
            <a:ext cx="249624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764160" y="4018320"/>
            <a:ext cx="249624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85680" y="4018320"/>
            <a:ext cx="249624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264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37836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5960" y="1828800"/>
            <a:ext cx="37836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62120" y="2282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378360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5960" y="1828800"/>
            <a:ext cx="37836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2640" y="4018320"/>
            <a:ext cx="378360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37836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5960" y="1828800"/>
            <a:ext cx="378360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5960" y="4018320"/>
            <a:ext cx="378360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378360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5960" y="1828800"/>
            <a:ext cx="378360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2640" y="4018320"/>
            <a:ext cx="775332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36520" y="0"/>
            <a:ext cx="8896320" cy="6845400"/>
            <a:chOff x="236520" y="0"/>
            <a:chExt cx="8896320" cy="6845400"/>
          </a:xfrm>
        </p:grpSpPr>
        <p:sp>
          <p:nvSpPr>
            <p:cNvPr id="1" name=""/>
            <p:cNvSpPr/>
            <p:nvPr/>
          </p:nvSpPr>
          <p:spPr>
            <a:xfrm>
              <a:off x="236520" y="0"/>
              <a:ext cx="238320" cy="6845400"/>
            </a:xfrm>
            <a:prstGeom prst="rect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39560" y="0"/>
              <a:ext cx="373320" cy="4667400"/>
            </a:xfrm>
            <a:prstGeom prst="rect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2200" y="0"/>
              <a:ext cx="1082880" cy="3352680"/>
            </a:xfrm>
            <a:prstGeom prst="rect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6440" y="0"/>
              <a:ext cx="304920" cy="3886200"/>
            </a:xfrm>
            <a:prstGeom prst="rect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92200" y="1467000"/>
              <a:ext cx="525240" cy="1218960"/>
            </a:xfrm>
            <a:prstGeom prst="rect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07960" y="1409760"/>
              <a:ext cx="8624880" cy="133200"/>
            </a:xfrm>
            <a:prstGeom prst="rect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43000" y="1409760"/>
              <a:ext cx="888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4264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5680" y="6486480"/>
            <a:ext cx="1819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José Antonio Ficar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52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I CONAMERCO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El rol del administrador en el cambio organizacional y la generación de empleo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Buenos Aires, Argentina 25 de junio de 2004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ómo se promueve el Administrador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752480" y="1752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Capacitación y desarrollo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Participación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Integrarse a las entidades corporativas nacionales y extranjera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 flipH="1">
            <a:off x="7549920" y="3429000"/>
            <a:ext cx="15937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COMO LOGRAR LA EXCELENCIA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star informado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ceptar el cambio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nejo de conflicto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400680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ER CONCIENTES DE: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Importancia de nuestro ro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Somos el nexo entre las organizaciones y el contexto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Somos la profesión del hoy y del mañana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ADMINISTRADOR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752480" y="1523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e tratado se sembrar ideas.Ustedes deben recoger los fruto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666880" y="3048120"/>
            <a:ext cx="4664160" cy="25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L CAMBIO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CONCEPTO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ADAPTACION DE LAS EMPRESA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IMPREDECIBLES E INCIERTO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ECONOMIAS BASADAEN EL CONOCIMIENTO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l cambio está fuera de la organización y la organización lo adopta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95440" y="1828800"/>
            <a:ext cx="38005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895480" y="3276720"/>
            <a:ext cx="3800520" cy="292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OLES DEL ADMINISTRADOR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iderar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formar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cidir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OLES DEL MANAGEMEN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cursos humano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12600">
            <a:solidFill>
              <a:srgbClr val="474747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NFLUENCIA DE LOS RRHH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47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Cultura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Ejercicio del poder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Clima organizaciona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11560" y="1695600"/>
            <a:ext cx="4519440" cy="34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OMPORTAMIENTOS ADOPTADO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ptitud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ctitud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edisposición hacia el cambio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pacidad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RESPONSABILIDAD SOCIAL DEL ADMINISTRADOR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3300"/>
                </a:solidFill>
                <a:latin typeface="Arial"/>
              </a:rPr>
              <a:t>Comportamiento lega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3300"/>
                </a:solidFill>
                <a:latin typeface="Arial"/>
              </a:rPr>
              <a:t>Costos sociale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3300"/>
                </a:solidFill>
                <a:latin typeface="Arial"/>
              </a:rPr>
              <a:t>Comportamiento preventivo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3300"/>
                </a:solidFill>
                <a:latin typeface="Arial"/>
              </a:rPr>
              <a:t>Sensibilidad socia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ómo generar empleo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663300"/>
                </a:solidFill>
                <a:latin typeface="Arial"/>
              </a:rPr>
              <a:t>Difusión de las entidades corporativa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663300"/>
                </a:solidFill>
                <a:latin typeface="Arial"/>
              </a:rPr>
              <a:t>Eventos que generen participación conjunta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663300"/>
                </a:solidFill>
                <a:latin typeface="Arial"/>
              </a:rPr>
              <a:t>Difusión de las incumbencias y el rol de las organizacione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17T13:45:24Z</dcterms:created>
  <dc:creator>José Antonio Ficarra</dc:creator>
  <dc:description/>
  <dc:language>en-US</dc:language>
  <cp:lastModifiedBy>C.P.C.E.C.A.B.A.</cp:lastModifiedBy>
  <cp:lastPrinted>1998-07-31T13:21:10Z</cp:lastPrinted>
  <dcterms:modified xsi:type="dcterms:W3CDTF">2004-07-06T18:26:06Z</dcterms:modified>
  <cp:revision>9</cp:revision>
  <dc:subject/>
  <dc:title>XI CONAMERCO</dc:title>
</cp:coreProperties>
</file>