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020-3FFE-4ED3-9CD1-CA25D742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FF8-2F8E-43D0-A289-D8120C98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42B-04AD-44A6-B7B1-4A8DBD84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55C-6393-4BC9-A3C4-3C348897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7F8-3F78-4017-986A-6C4C5505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0D3-F3B1-486C-8D06-428DE19A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1C1-8FBF-40C0-AEF3-75D1DFB6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A4C-F99C-4DDD-AC5A-91782311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0D5-C313-4137-A1E8-0D7DE15B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FDA-8751-4813-8469-CB7BDC33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CAF-A00F-438A-8A09-2374C650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909-929B-453B-9C1E-6B7F8D8A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C6DA-C420-4508-8E70-86B75A78910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JO PROFESIONAL DE CIENCIAS ECONÓMICA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CIUDAD AUTÓNOMA DE BUENOS AIRES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º SIMPOSIO SOBRE LEGISLACIÓN TRIBUTARIA ARGENTINA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SIÓN Nº 2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RESTACIONES FINANCIERAS EN EL MARCO DEL IMPUESTO SOBRE LOS CONSUMOS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ITOR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ARDO H. K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00440" y="609480"/>
            <a:ext cx="2057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nti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uadroB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104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05720" y="609120"/>
            <a:ext cx="1752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ontin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uadroC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001000" cy="4484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160020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xo I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ntidades financiera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udación esperada ante variación de base imponible y tasas de im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es en miles de 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Dibujo3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395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dades financieras</a:t>
            </a:r>
            <a:br>
              <a:rPr sz="2500"/>
            </a:b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500"/>
            </a:br>
            <a:r>
              <a:rPr b="1" lang="es-A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udación esperada ante variación de base imponible y tasas de imposició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 aplicados en el Anexo 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bución de</a:t>
            </a:r>
            <a:r>
              <a:rPr b="0" lang="es-E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se imponible </a:t>
            </a:r>
            <a:r>
              <a:rPr b="0" lang="es-A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s-E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os estadísticos utilizado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P </a:t>
            </a:r>
            <a:r>
              <a:rPr b="0" lang="es-A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s-E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A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imponible 20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A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P + </a:t>
            </a:r>
            <a:r>
              <a:rPr b="0" lang="es-E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es pagados</a:t>
            </a:r>
            <a:r>
              <a:rPr b="0" lang="es-A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base imponible 20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evasión tributaria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“emigración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200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xo II</a:t>
            </a:r>
            <a:br>
              <a:rPr sz="3000"/>
            </a:b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ción de las bases imponibles y de la determinación de impuestos</a:t>
            </a:r>
            <a:br>
              <a:rPr sz="3000"/>
            </a:b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500"/>
            </a:b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de </a:t>
            </a:r>
            <a:r>
              <a:rPr b="1" lang="es-A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dad 810118 (Entidades Financieras)</a:t>
            </a:r>
            <a:br>
              <a:rPr sz="2500"/>
            </a:b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500"/>
            </a:b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mulado de los primeros cinco anticipos de cada año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Dibujo4" descr=""/>
          <p:cNvPicPr/>
          <p:nvPr/>
        </p:nvPicPr>
        <p:blipFill>
          <a:blip r:embed="rId1"/>
          <a:stretch/>
        </p:blipFill>
        <p:spPr>
          <a:xfrm>
            <a:off x="1295280" y="3886200"/>
            <a:ext cx="63532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Dibujo5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dades financieras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io Multilateral</a:t>
            </a:r>
            <a:br>
              <a:rPr sz="3000"/>
            </a:br>
            <a:r>
              <a:rPr b="0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500"/>
            </a:b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xo III</a:t>
            </a:r>
            <a:br>
              <a:rPr sz="2500"/>
            </a:b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500"/>
            </a:b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ción del Convenio Multilateral a partir del 1/1/200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uadroD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61048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uadroE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8077320" cy="2854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Anexo III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ontin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7640" y="304920"/>
            <a:ext cx="1676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Anexo III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ontin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uadroE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62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amiento de las prestaciones financieras en el impuesto sobre 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resos brutos de l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udad de Buenos A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impuesto sobre 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resos brut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es un impuesto al consum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objeto del impuesto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14400" y="1397160"/>
          <a:ext cx="7620120" cy="4825800"/>
        </p:xfrm>
        <a:graphic>
          <a:graphicData uri="http://schemas.openxmlformats.org/drawingml/2006/table">
            <a:tbl>
              <a:tblPr/>
              <a:tblGrid>
                <a:gridCol w="4038480"/>
                <a:gridCol w="3581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ulo 1 - ... a)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 ventas de cosas muebles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ituadas o colocadas en el territorio del país efectuadas por...”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iertos sujetos legalmente estableci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...b) 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 obras, locaciones y prestaciones de servicios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cluidas en el artículo 3°, realizadas en el territorio de la Nación...”.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 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...c) 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 importaciones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efinitivas de cosas muebles..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  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...d) 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 prestaciones ...”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e servicios 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... realizadas en el exterior cuya utilización o explotación efectiva se lleve a cabo en el país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uando los prestatarios sean sujetos del impuesto por otros hechos imponibles y revistan la calidad de responsables inscriptos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. 128 - ...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ejercicio habitual y a título oneroso en la Ciudad de Buenos Aires ...de cualquier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 ...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ualquiera sea el resultado obtenido y la naturaleza del sujeto que la preste, incluidas las cooperativas y todas las formas asociativas que no tienen personería jurídica, cualquiera fuera el tipo de contrato elegido por los partícipes y el lugar donde se realiza (zonas portuarias, espacios ferroviarios, aeródromos y aeropuertos, terminales de transporte, edificios y lugares del dominio público y privado, y todo otro de similar naturaleza)...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bitualida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131 - La habitualidad está determinada por la índole de las actividades que dan lugar al hecho imponible, el objeto de la empresa, profesión o locación y los usos y costumbres de la vida económica.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unción de habitualidad</a:t>
            </a:r>
            <a:br>
              <a:rPr sz="3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132 - Se presume la habitualidad en el desarrollo de las siguientes actividades:...5. Operaciones de préstamo de dinero, con o sin garantía...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se de imposi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151 - ...los ingresos brutos devengados durante el período fiscal...”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Todos los ingres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...por el ejercicio de la actividad gravada...”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ón de ingresos brutos para las prestaciones financiera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154 - Es ingreso bruto el valor o monto total... devengado por el ejercicio de la actividad gravada; quedando incluidos entre otros los siguientes conceptos: ...intereses, actualizacion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toda otra retribución por la colocación de un capit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171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ntegran la base impon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os siguientes conceptos:... 2. Los importes que constituy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ntegro de capit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los casos de depósitos, préstamos, créditos, descuentos, adelantos y toda otra operación de tipo financiero, así como sus renovaciones, repeticiones, prórrogas, esperas u otras facilidades, cualquiera sea la modalidad o forma de instrumentación adoptada..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dades financieras - Base de imposición – Tasas de imposi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uadroA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324480" cy="5119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19320" y="13716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4:38:08Z</dcterms:created>
  <dc:creator>AA</dc:creator>
  <dc:description/>
  <dc:language>en-US</dc:language>
  <cp:lastModifiedBy>C.P.C.E.C.A.B.A.</cp:lastModifiedBy>
  <dcterms:modified xsi:type="dcterms:W3CDTF">2004-08-10T16:49:01Z</dcterms:modified>
  <cp:revision>17</cp:revision>
  <dc:subject/>
  <dc:title>CONSEJO PROFESIONAL DE CIENCIAS ECONÓMICAS  DE LA CIUDAD AUTÓNOMA DE BUENOS AIRES   6º SIMPOSIO SOBRE LEGISLACIÓN TRIBUTARIA ARGENTINA   COMISIÓN Nº 2   LAS PRESTACIONES FINANCIERAS EN EL MARCO DEL IMPUESTO SOBRE LOS CONSUMOS  EXPOSITOR  RICARDO H. KOSS</dc:title>
</cp:coreProperties>
</file>