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74C-C0D0-41FD-A908-3C2184D8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C5C-2402-4436-8330-7E726054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B12-C28F-4FCF-9C24-02DA90DE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1E6-320E-47E0-896F-3347BA1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0A7C-FD7B-4A2E-A0FD-B1D6501E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FBD4-793A-4A35-80C3-3E415B73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4A9-37FC-49F3-8638-35694AB9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B38A-C6C0-4F27-8CDE-AFA81E8F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0AE1-0810-4644-A51B-91C1B17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D830-D04B-4E69-9BFB-34987239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F1B0-D4A1-4476-BCE0-36436125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DEE0-02F4-4897-992A-A693737D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0CD4-16C1-4738-9667-8AC6FF58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33A-6FAA-4911-A51D-9574769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A467-9B04-46A9-B1A8-558819F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A913-E99A-4A0A-B3C9-626976C5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25E2-098D-4B9E-9C0A-EDC64C42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C38-7423-4514-ADD5-5F273FE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4741-6846-446A-B5DD-8CE9953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E36-3533-4477-BCEF-2FD88AE1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56D-FAC1-4CFE-823D-C835CE9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E8B-2B1F-427E-8A09-A81D3CE1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D7F-14C4-44EA-BBB5-336C7EF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E78-7509-480F-9709-6CD0D30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AFB4-320D-4251-9F91-D1E7568818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9FE5-8246-4AD9-86ED-513812B3AE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sejo Profesional de Ciencias Económicas de la Ciudad Autónoma de Buenos Ai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2890800"/>
            <a:ext cx="81788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6° Simposio sobre Legislación Tribu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isión N° 2: Impuesto al Valor Agreg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Operaciones financieras: gravabilidad. Cuestiones especial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xpositor: Dr. Fernando D. García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alternativas posi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1. ¿Se puede segregar el inter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1.1. SI. ¿Que se ven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.1.1. Bienes o servicios gravados: Interés no gra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1.1.2. Bienes o servicios no gravados. </a:t>
            </a:r>
            <a:r>
              <a:rPr b="0" lang="es-AR" sz="2000" spc="-1" strike="noStrike" u="sng">
                <a:solidFill>
                  <a:srgbClr val="000000"/>
                </a:solidFill>
                <a:uFillTx/>
                <a:latin typeface="Arial"/>
              </a:rPr>
              <a:t>Suj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1.2. NO. Sigue la suerte de lo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. Casos especial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2.1. Diferencia de tas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2.2. Crédito Fiscal. Exportaciones. Caso: servi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3. El futuro: la tasa efectiva (Gabinete Fiscal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s normas positivas (I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rt. 10 Ley: ...”Son integrantes del precio neto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gravad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-aunque se facturen o convengan por separado- y aún cuando considerados independientemente no se encuentren sometidos al gravamen: ...2) Los intereses, actualizaciones, comisiones, recuperos de gastos y similares percibidos o devengados con motivo de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go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diferidos o fuera de término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s normas positivas (II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conflicto: legalidad (no) e igualdad (posi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s-AR" sz="2800" spc="-1" strike="noStrike" u="sng">
                <a:solidFill>
                  <a:srgbClr val="000000"/>
                </a:solidFill>
                <a:uFillTx/>
                <a:latin typeface="Arial"/>
              </a:rPr>
              <a:t>Art. 10 (Decreto reglamentario 692/98):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Los intereses originados en la financiación o en el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pago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diferido o fuera de término, del precio correspondiente a las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ventas, obras, locaciones o prestacione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(todas),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resultan alcanzados por el impuesto aún cuando las operaciones que dieron lugar a su determinación se encuentren exentas o no gravada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as cuestiones teórica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usencia en la legislación compa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. 13. 6° directiva UE: son servicios lo que no son bienes. Oposición Código Civil A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rgentina: Definir Prestación Financi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so Banco Austral (19/9/00) y D.17/ 9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grava ciertos intangibles, las cesiones de derecho, obligaciones de no hacer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favor: Dictámenes 91/99 (marcas) y 24/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n contra: “Nuñez”, “Picasso”. Caso “Chryse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s consecuencias práctica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ificultad de segregar el “componente financiero” puro (gravado) de la presta-ción o locación intangible “no gravada”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segregados: Casa Denk- A. Boheler 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l caso de los cementerios priv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jemplo: Cesión de créditos (pagaré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Vencimiento Futu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réditos “vencidos” (Dictamen 56/0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ima de ries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entarios preliminares (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sta legislado </a:t>
            </a:r>
            <a:r>
              <a:rPr b="1" lang="es-AR" sz="3200" spc="-1" strike="noStrike">
                <a:solidFill>
                  <a:srgbClr val="000000"/>
                </a:solidFill>
                <a:latin typeface="Arial"/>
              </a:rPr>
              <a:t>al revé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. Desde la óptica de la contraparte (gastos, pagos, etc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uando se trate de venta de bienes o servicios gravados, los gastos financieros forman parte del precio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contra: Dictamen 34/02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rvicios de telecomunicaciones al 27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Financiación al 21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mentarios preliminares (II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reitera el antiguo problem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Cuando se separan las prestacione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Cuando se trata de una sola venta o prestació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 había aceptado la teoría de la unicidad (Giammona, Sala III, 2/2000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contra: Dictamen 76/2003. Computadoras al 10.5% y Software al 21%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proximación a la situación actua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ntidades Financieras. Tasa 10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alta de Neutralidad. Ex SerFi (IEP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ustitución de factores. Importacion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ocaciones y/o prest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general y/o de obras y/o servicios (diferencias: Balzarotti/ Marchevsk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iferencia entr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acturar precio y conceder descue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facturar neto y debitar inter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sos Especia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muebles a plazo. a.10. Cons. 13/7/95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¿Ley anterior o Decreto -NyU- posteri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ctualizacion y Diferencias de Cambi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VA “plus”: Dictámenes 24/91 y 31/0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ómputo Crédito Fiscal. Fed. Patr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Jurisprudencia “Chryse SA” y “LU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estador”, “perfeccionado” y territo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uando la gravabilidad depende del sujet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ctamen 23/94 y Belgrano Day Scho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2:35:07Z</dcterms:created>
  <dc:creator>Fernando Garcia</dc:creator>
  <dc:description/>
  <dc:language>en-US</dc:language>
  <cp:lastModifiedBy>C.P.C.E.C.A.B.A.</cp:lastModifiedBy>
  <dcterms:modified xsi:type="dcterms:W3CDTF">2004-08-10T17:06:16Z</dcterms:modified>
  <cp:revision>9</cp:revision>
  <dc:subject/>
  <dc:title>Consejo Profesional de Ciencias Económicas de la Ciudad Autónoma de Buenos Aires</dc:title>
</cp:coreProperties>
</file>