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77545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330-B1B0-441A-9D88-0B2797DF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33C-5392-4EC7-86A2-DA3DD824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4D3-2E03-440F-94DD-965BACC4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0D7-1A20-401D-BA06-D7426449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DDF-EB9A-4FB6-BB0B-AAD922C3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1CA-F1E6-4F0D-A50E-139E6BC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6B5-407C-435E-AB76-1666E3E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328-B28E-4307-A62D-F8BE9F80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114-CCDB-4C71-AC75-C72D33D1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7C1-11E0-4C8D-B601-AC5076F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42E-6C02-4751-A904-43B959C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2EE-6386-4384-BDDA-A2FA03B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4136-3238-4177-8666-A15FBBE3AB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40" y="260280"/>
            <a:ext cx="9906120" cy="305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 Black"/>
              </a:rPr>
              <a:t>DESARROLLO ECONÓMICO LOCA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 Black"/>
              </a:rPr>
              <a:t>Rol del Estado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 Black"/>
              </a:rPr>
              <a:t>Cooperación Público - Priva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 Black"/>
              </a:rPr>
              <a:t>El caso de la ciudad de Rafae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6880" y="3676680"/>
            <a:ext cx="385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VI Congreso de 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Buenos Ai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14 de Abril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791320"/>
            <a:ext cx="44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Bookman Old Style"/>
              </a:rPr>
              <a:t>Roberto Mira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858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705720"/>
            <a:ext cx="952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63160" y="91440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arco de Cooperación Público Priv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8000" y="1916280"/>
            <a:ext cx="519624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Generación de Información par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oma de decisiones a nivel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3560" y="2781360"/>
            <a:ext cx="948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levamiento Socioeconóm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levamiento Productivo o Cen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levamiento sector expor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levamiento sobre desarrollo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adena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valuación de políticas asoci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tudio sobre la tasa de gestación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nálisis del entramado institucional de apoyo a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13716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52280"/>
            <a:ext cx="9448560" cy="685440"/>
            <a:chOff x="228600" y="152280"/>
            <a:chExt cx="9448560" cy="685440"/>
          </a:xfrm>
        </p:grpSpPr>
        <p:sp>
          <p:nvSpPr>
            <p:cNvPr id="104" name=""/>
            <p:cNvSpPr/>
            <p:nvPr/>
          </p:nvSpPr>
          <p:spPr>
            <a:xfrm>
              <a:off x="228600" y="15228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LA CONSTRUCCIÓN DE 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3920" y="23292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43400" y="1054080"/>
            <a:ext cx="5410080" cy="192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Intercambio con la región de Baden-Wüttemberg - Ale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Estudiantes - prácticas ren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de seis meses de duración en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152280"/>
            <a:ext cx="9448560" cy="685440"/>
            <a:chOff x="228600" y="152280"/>
            <a:chExt cx="9448560" cy="685440"/>
          </a:xfrm>
        </p:grpSpPr>
        <p:sp>
          <p:nvSpPr>
            <p:cNvPr id="108" name=""/>
            <p:cNvSpPr/>
            <p:nvPr/>
          </p:nvSpPr>
          <p:spPr>
            <a:xfrm>
              <a:off x="228600" y="15228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LA INTERNACIONALIZACIÓN DE LA ECONOM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920" y="23292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80880" y="1447920"/>
            <a:ext cx="381024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ransferencia de tecnología con el país vasco - Espa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340080"/>
            <a:ext cx="4876560" cy="19227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Relación de Herman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Fossano - Ita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Intercambio estudiantil, cultural, ayuda social, inversiones produc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124080"/>
            <a:ext cx="342900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Intercambio educativo e inserción comercial con Sao Leopoldo, Esteio y Porto Alegre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5730840"/>
            <a:ext cx="67057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Profundizar la internacionalización de nuestras empresas con expertos japon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28600" y="1828800"/>
            <a:ext cx="9448560" cy="685440"/>
            <a:chOff x="228600" y="1828800"/>
            <a:chExt cx="9448560" cy="685440"/>
          </a:xfrm>
        </p:grpSpPr>
        <p:sp>
          <p:nvSpPr>
            <p:cNvPr id="115" name=""/>
            <p:cNvSpPr/>
            <p:nvPr/>
          </p:nvSpPr>
          <p:spPr>
            <a:xfrm>
              <a:off x="228600" y="182880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Generación de INFORMACIÓN y Estud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3920" y="190944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7680" y="2666880"/>
            <a:ext cx="9448560" cy="685440"/>
            <a:chOff x="247680" y="2666880"/>
            <a:chExt cx="9448560" cy="685440"/>
          </a:xfrm>
        </p:grpSpPr>
        <p:sp>
          <p:nvSpPr>
            <p:cNvPr id="118" name=""/>
            <p:cNvSpPr/>
            <p:nvPr/>
          </p:nvSpPr>
          <p:spPr>
            <a:xfrm>
              <a:off x="247680" y="266688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1" lang="es-AR" sz="2200" spc="-1" strike="noStrike">
                  <a:solidFill>
                    <a:srgbClr val="ffffff"/>
                  </a:solidFill>
                  <a:latin typeface="Verdana"/>
                </a:rPr>
                <a:t>INTERNACIONALIZACIÓN de la Economí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3000" y="274752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7680" y="3505320"/>
            <a:ext cx="9448560" cy="685440"/>
            <a:chOff x="247680" y="3505320"/>
            <a:chExt cx="9448560" cy="685440"/>
          </a:xfrm>
        </p:grpSpPr>
        <p:sp>
          <p:nvSpPr>
            <p:cNvPr id="121" name=""/>
            <p:cNvSpPr/>
            <p:nvPr/>
          </p:nvSpPr>
          <p:spPr>
            <a:xfrm>
              <a:off x="247680" y="350532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      </a:t>
              </a: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Formación DIRIGEN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000" y="358596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7680" y="4343400"/>
            <a:ext cx="9448560" cy="685440"/>
            <a:chOff x="247680" y="4343400"/>
            <a:chExt cx="9448560" cy="685440"/>
          </a:xfrm>
        </p:grpSpPr>
        <p:sp>
          <p:nvSpPr>
            <p:cNvPr id="124" name=""/>
            <p:cNvSpPr/>
            <p:nvPr/>
          </p:nvSpPr>
          <p:spPr>
            <a:xfrm>
              <a:off x="247680" y="434340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ASOCIATIVISMO y Cooperación Empresar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3000" y="442404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47680" y="5181480"/>
            <a:ext cx="9448560" cy="685440"/>
            <a:chOff x="247680" y="5181480"/>
            <a:chExt cx="9448560" cy="685440"/>
          </a:xfrm>
        </p:grpSpPr>
        <p:sp>
          <p:nvSpPr>
            <p:cNvPr id="127" name=""/>
            <p:cNvSpPr/>
            <p:nvPr/>
          </p:nvSpPr>
          <p:spPr>
            <a:xfrm>
              <a:off x="247680" y="518148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Desarrollo de INFRAESTRUC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3000" y="526212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9520" y="6019920"/>
            <a:ext cx="9448560" cy="685440"/>
            <a:chOff x="209520" y="6019920"/>
            <a:chExt cx="9448560" cy="685440"/>
          </a:xfrm>
        </p:grpSpPr>
        <p:sp>
          <p:nvSpPr>
            <p:cNvPr id="130" name=""/>
            <p:cNvSpPr/>
            <p:nvPr/>
          </p:nvSpPr>
          <p:spPr>
            <a:xfrm>
              <a:off x="209520" y="601992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Programa de CALIDAD en el Sector Públ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4840" y="610056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0880" y="228600"/>
            <a:ext cx="91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lgunos ejemplos de INSTRUMENTOS DE Políticas:</a:t>
            </a:r>
            <a:r>
              <a:rPr b="1" lang="es-ES_tradnl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9520" y="990720"/>
            <a:ext cx="9448560" cy="685440"/>
            <a:chOff x="209520" y="990720"/>
            <a:chExt cx="9448560" cy="685440"/>
          </a:xfrm>
        </p:grpSpPr>
        <p:sp>
          <p:nvSpPr>
            <p:cNvPr id="134" name=""/>
            <p:cNvSpPr/>
            <p:nvPr/>
          </p:nvSpPr>
          <p:spPr>
            <a:xfrm>
              <a:off x="209520" y="99072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Desarrollo de SERVICIOS Empresar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4840" y="107136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3796560" y="914400"/>
            <a:ext cx="2063880" cy="1371600"/>
          </a:xfrm>
          <a:custGeom>
            <a:avLst/>
            <a:gdLst>
              <a:gd name="textAreaLeft" fmla="*/ 276480 w 2063880"/>
              <a:gd name="textAreaRight" fmla="*/ 1787400 w 2063880"/>
              <a:gd name="textAreaTop" fmla="*/ 265680 h 1371600"/>
              <a:gd name="textAreaBottom" fmla="*/ 10155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9" stAng="-5400000" swAng="5400000"/>
                <a:lnTo>
                  <a:pt x="21600" y="11808"/>
                </a:lnTo>
                <a:arcTo wR="21600" hR="8369" stAng="0" swAng="2857164"/>
                <a:lnTo>
                  <a:pt x="7200" y="21121"/>
                </a:lnTo>
                <a:lnTo>
                  <a:pt x="0" y="18458"/>
                </a:lnTo>
                <a:lnTo>
                  <a:pt x="7200" y="14836"/>
                </a:lnTo>
                <a:lnTo>
                  <a:pt x="7200" y="16259"/>
                </a:lnTo>
                <a:arcTo wR="21600" hR="8369" stAng="2857164" swAng="-2578145"/>
                <a:lnTo>
                  <a:pt x="21139" y="10089"/>
                </a:lnTo>
                <a:arcTo wR="21600" hR="8369" stAng="-279018" swAng="-5120982"/>
                <a:close/>
              </a:path>
              <a:path fill="darkenLess" w="21600" h="21600">
                <a:moveTo>
                  <a:pt x="0" y="0"/>
                </a:moveTo>
                <a:arcTo wR="21600" hR="8369" stAng="-5400000" swAng="5400000"/>
                <a:lnTo>
                  <a:pt x="21600" y="11808"/>
                </a:lnTo>
                <a:arcTo wR="21600" hR="8369" stAng="0" swAng="-279018"/>
                <a:lnTo>
                  <a:pt x="21139" y="10089"/>
                </a:lnTo>
                <a:arcTo wR="21600" hR="8369" stAng="-279018" swAng="-5120982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42480" y="2924280"/>
            <a:ext cx="8145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La sociedad pretende que el Estado Local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un Estado fuerte, sano, capaz de dar res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a los requerimientos comunitarios propici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modos creativos de par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320"/>
            <a:ext cx="985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INSTRUMENTOS DE POLÍTICA E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MARCO DE LA AR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165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TICULA con los distintos actores y los relaciona, trata de mejorar el clima del entramado, generando  consenso y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352680"/>
            <a:ext cx="92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ALIZA las fuerzas de todos lo sectores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canzar los objetivos y LIDERA el proceso de desarrollo y  de coope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0040" y="4511520"/>
            <a:ext cx="937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GOCIA acuerdos macros regionales, nacionales e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5334120"/>
            <a:ext cx="9372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STRUMENTA políticas:</a:t>
            </a: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infraestructura, innovación, la formación y la capacitación, la generación de estudios e información, la internacionalización, servicios py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1219320"/>
            <a:ext cx="8686440" cy="609120"/>
            <a:chOff x="685800" y="1219320"/>
            <a:chExt cx="8686440" cy="609120"/>
          </a:xfrm>
        </p:grpSpPr>
        <p:sp>
          <p:nvSpPr>
            <p:cNvPr id="144" name=""/>
            <p:cNvSpPr/>
            <p:nvPr/>
          </p:nvSpPr>
          <p:spPr>
            <a:xfrm>
              <a:off x="685800" y="1219320"/>
              <a:ext cx="8686440" cy="60912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El rol del Estado 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2320" y="1290960"/>
              <a:ext cx="507960" cy="48024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Arial Black"/>
              </a:rPr>
              <a:t>Mejorar el ambiente de negoc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523520"/>
            <a:ext cx="91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moviendo la innov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ando en una nueva cultura empresarial y en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imiento de nuevas emprendimi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tilizando el nuevo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cepto de “calidad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cilitando el financiamiento de las actividades produc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poyando la capacitación gerencial, tecnológica,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centivando la internacion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struyendo infraestructur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rtaleciendo las instituciones mejorando el c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320" y="1295280"/>
            <a:ext cx="9829800" cy="5257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52280"/>
            <a:ext cx="9601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CONSTRUCCION DE AMBIENTES DE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Y COOPERACIÓN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981080"/>
            <a:ext cx="8076960" cy="3886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048120"/>
            <a:ext cx="3886200" cy="1447560"/>
          </a:xfrm>
          <a:prstGeom prst="ellipse">
            <a:avLst/>
          </a:prstGeom>
          <a:solidFill>
            <a:srgbClr val="0033c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Gestión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Público-Pri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3160" y="36576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Gre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mpres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0760" y="245412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Institu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duc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600" y="4648320"/>
            <a:ext cx="21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3400" y="373392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Gre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Obr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38240" y="449568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entr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mpresa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4680" y="198108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90080" y="243828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nt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7760" y="14479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texto Político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45320" y="601992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Contexto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175248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rco Legal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920" y="18288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960" y="48164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ribu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7800" y="534996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03000" y="7632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olución del Sistema Institucional de Rafa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"/>
            <a:ext cx="9906120" cy="3429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06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Sociedad Ru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12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Escuela de Educación Técnica (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28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Instituto Nacional de Tecnología Agropecuaria (IN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32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Centro Comercial e Industrial (C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66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Cámara de Industriales Metalúrgicos (C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72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Universidad Tecnológica Nacional - Delegación Rafaela (UT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78     Cámara de Comercio Exterior (C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83     Centro Investigación Tecnológica para la Industria Lechera  (CIT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83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Delegación Norte de la Dción. de Asesoramiento y Ss. Tecnológicos(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09880"/>
            <a:ext cx="9906120" cy="30481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1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Secretaría de Programación Económica (S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2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Fundación para el Desarrollo Regional (F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4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Cámara de Pequeñas Industrias de la Región (CaP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5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Centro Regional Rafaela (CEMRA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6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Centro Desarrollo Empresarial (C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6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Plan Estratégico Rafaela (P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7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Instituto de Capacitación y Estudios para el Desarrollo Local (ICE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1999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ffcc"/>
                </a:solidFill>
                <a:latin typeface="Arial"/>
              </a:rPr>
              <a:t>Asociación Regional para el Desarrollo del Dpto. Castel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0120" y="5410080"/>
            <a:ext cx="91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3333cc"/>
                </a:solidFill>
                <a:latin typeface="Arial Black"/>
              </a:rPr>
              <a:t>PROCESOS DE DESARROLLO LOC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46760" y="60948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v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1360" y="62388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Globalización -  Ciu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0320" y="533520"/>
            <a:ext cx="4292640" cy="761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70520" y="1471680"/>
            <a:ext cx="5902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99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uevos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se alcanza individu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es solo econó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es una alternativa a lo ma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erente en cada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477120"/>
            <a:ext cx="9906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5920" y="5226120"/>
            <a:ext cx="8227440" cy="9471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ffcc"/>
                </a:solidFill>
                <a:latin typeface="Arial"/>
              </a:rPr>
              <a:t>Recuperar la credibilidad pública a través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ffcc"/>
                </a:solidFill>
                <a:latin typeface="Arial"/>
              </a:rPr>
              <a:t>transparencia y la equ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69000" y="990720"/>
            <a:ext cx="9070920" cy="3507480"/>
            <a:chOff x="369000" y="990720"/>
            <a:chExt cx="9070920" cy="3507480"/>
          </a:xfrm>
        </p:grpSpPr>
        <p:sp>
          <p:nvSpPr>
            <p:cNvPr id="176" name=""/>
            <p:cNvSpPr/>
            <p:nvPr/>
          </p:nvSpPr>
          <p:spPr>
            <a:xfrm>
              <a:off x="2017080" y="1599840"/>
              <a:ext cx="731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Alcanzar el equilibrio presupuestario y  planifi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61640" y="2209680"/>
              <a:ext cx="583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Profesionalizar los Recursos Huma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23200" y="281916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Informatizar los procesos y mejorar equipami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000" y="990720"/>
              <a:ext cx="502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 Black"/>
                </a:rPr>
                <a:t>Modernizar el Estado Loc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23480" y="3428640"/>
              <a:ext cx="49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Realizar obras de infraestruc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42480" y="1523880"/>
              <a:ext cx="0" cy="2742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42480" y="2971440"/>
              <a:ext cx="687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42480" y="2361960"/>
              <a:ext cx="687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2480" y="1828440"/>
              <a:ext cx="687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42480" y="3657240"/>
              <a:ext cx="687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63440" y="4038480"/>
              <a:ext cx="59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Nuevos roles y nueva forma de gestió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42480" y="4267080"/>
              <a:ext cx="687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906120" cy="990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000099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4400" y="1752480"/>
            <a:ext cx="9834120" cy="739440"/>
            <a:chOff x="14400" y="1752480"/>
            <a:chExt cx="9834120" cy="739440"/>
          </a:xfrm>
        </p:grpSpPr>
        <p:sp>
          <p:nvSpPr>
            <p:cNvPr id="48" name=""/>
            <p:cNvSpPr/>
            <p:nvPr/>
          </p:nvSpPr>
          <p:spPr>
            <a:xfrm>
              <a:off x="14400" y="1752480"/>
              <a:ext cx="9834120" cy="739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Globalización, Desarrollo Local y</a:t>
              </a:r>
              <a:r>
                <a:rPr b="1" lang="es-MX" sz="2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Competitividad Síste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4120" y="1839600"/>
              <a:ext cx="574920" cy="58284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76640" y="1666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 Black"/>
              </a:rPr>
              <a:t>Tem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4400" y="3182760"/>
            <a:ext cx="9834120" cy="750600"/>
            <a:chOff x="14400" y="3182760"/>
            <a:chExt cx="9834120" cy="750600"/>
          </a:xfrm>
        </p:grpSpPr>
        <p:sp>
          <p:nvSpPr>
            <p:cNvPr id="52" name=""/>
            <p:cNvSpPr/>
            <p:nvPr/>
          </p:nvSpPr>
          <p:spPr>
            <a:xfrm>
              <a:off x="14400" y="3182760"/>
              <a:ext cx="9834120" cy="75060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Arial"/>
                </a:rPr>
                <a:t>Instrumentos  de  Política y Rol del Estado 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4120" y="3271320"/>
              <a:ext cx="574920" cy="59148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4400" y="4508640"/>
            <a:ext cx="9834120" cy="748800"/>
            <a:chOff x="14400" y="4508640"/>
            <a:chExt cx="9834120" cy="748800"/>
          </a:xfrm>
        </p:grpSpPr>
        <p:sp>
          <p:nvSpPr>
            <p:cNvPr id="55" name=""/>
            <p:cNvSpPr/>
            <p:nvPr/>
          </p:nvSpPr>
          <p:spPr>
            <a:xfrm>
              <a:off x="14400" y="4508640"/>
              <a:ext cx="9834120" cy="74880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Arial"/>
                </a:rPr>
                <a:t>Enseñanzas, aprendizajes y desafí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20" y="4596840"/>
              <a:ext cx="574920" cy="59004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38200" y="914400"/>
            <a:ext cx="8976960" cy="4940280"/>
            <a:chOff x="538200" y="914400"/>
            <a:chExt cx="8976960" cy="4940280"/>
          </a:xfrm>
        </p:grpSpPr>
        <p:sp>
          <p:nvSpPr>
            <p:cNvPr id="189" name=""/>
            <p:cNvSpPr/>
            <p:nvPr/>
          </p:nvSpPr>
          <p:spPr>
            <a:xfrm>
              <a:off x="538200" y="5334120"/>
              <a:ext cx="879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Arial"/>
                </a:rPr>
                <a:t>Fortalecimiento y compromiso de la Sociedad Civ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09880" y="152388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Planificación Estratég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66760" y="2133720"/>
              <a:ext cx="52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Infraestructura ligada al desarrol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56400" y="2743200"/>
              <a:ext cx="73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Nuevos espacios de cooperación público-priv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7560" y="914400"/>
              <a:ext cx="68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 Black"/>
                </a:rPr>
                <a:t>Liderar el proceso de Desarrollo Lo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9480" y="3352680"/>
              <a:ext cx="704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Nuevos temas en la agenda: Vivienda, polí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urbano-ambiental, salud, desarrollo econó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05560" y="1447920"/>
              <a:ext cx="0" cy="30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5560" y="2895480"/>
              <a:ext cx="66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05560" y="2286000"/>
              <a:ext cx="66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05560" y="1752480"/>
              <a:ext cx="66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5560" y="3581280"/>
              <a:ext cx="66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20400" y="4267080"/>
              <a:ext cx="673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Reformulación de algunas áreas: educació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Arial"/>
                </a:rPr>
                <a:t>planeamiento, capacitació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05560" y="4495680"/>
              <a:ext cx="66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210360"/>
            <a:ext cx="9906120" cy="647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urrencyOutline"/>
              </a:rPr>
              <a:t>MUNICIPALIDAD  DE  RAFA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915400" y="6095880"/>
            <a:ext cx="990720" cy="776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95360" y="6248520"/>
            <a:ext cx="520560" cy="587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7680" y="380880"/>
            <a:ext cx="9410760" cy="5205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Zurich BlkEx BT"/>
              </a:rPr>
              <a:t>PLAN ESTRATEGICO PARA RAFA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182000" y="4952880"/>
            <a:ext cx="2146320" cy="990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2920" y="2133720"/>
            <a:ext cx="91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Bookman Old Style"/>
              </a:rPr>
              <a:t>"Potenciar a Rafaela como Centro Productivo Regional con proyección internacional desarrollándola como núcleo de capacitación y tecnología, que proyecte su identidad cultural con base solidaria, garantizando calidad urbana, ambiental y de vida para tod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5400" y="123516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Municipio, junto a más de cien instituciones de la ciudad trabajó en la concreción del objetivo central de ciu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444840" y="1979640"/>
            <a:ext cx="3036960" cy="3071880"/>
          </a:xfrm>
          <a:custGeom>
            <a:avLst/>
            <a:gdLst/>
            <a:ahLst/>
            <a:rect l="l" t="t" r="r" b="b"/>
            <a:pathLst>
              <a:path w="2072" h="1935">
                <a:moveTo>
                  <a:pt x="790" y="405"/>
                </a:moveTo>
                <a:lnTo>
                  <a:pt x="811" y="383"/>
                </a:lnTo>
                <a:lnTo>
                  <a:pt x="824" y="362"/>
                </a:lnTo>
                <a:lnTo>
                  <a:pt x="833" y="339"/>
                </a:lnTo>
                <a:lnTo>
                  <a:pt x="833" y="309"/>
                </a:lnTo>
                <a:lnTo>
                  <a:pt x="823" y="273"/>
                </a:lnTo>
                <a:lnTo>
                  <a:pt x="815" y="245"/>
                </a:lnTo>
                <a:lnTo>
                  <a:pt x="804" y="209"/>
                </a:lnTo>
                <a:lnTo>
                  <a:pt x="799" y="170"/>
                </a:lnTo>
                <a:lnTo>
                  <a:pt x="804" y="147"/>
                </a:lnTo>
                <a:lnTo>
                  <a:pt x="812" y="118"/>
                </a:lnTo>
                <a:lnTo>
                  <a:pt x="828" y="88"/>
                </a:lnTo>
                <a:lnTo>
                  <a:pt x="850" y="59"/>
                </a:lnTo>
                <a:lnTo>
                  <a:pt x="880" y="36"/>
                </a:lnTo>
                <a:lnTo>
                  <a:pt x="905" y="18"/>
                </a:lnTo>
                <a:lnTo>
                  <a:pt x="941" y="7"/>
                </a:lnTo>
                <a:lnTo>
                  <a:pt x="982" y="2"/>
                </a:lnTo>
                <a:lnTo>
                  <a:pt x="1027" y="0"/>
                </a:lnTo>
                <a:lnTo>
                  <a:pt x="1088" y="0"/>
                </a:lnTo>
                <a:lnTo>
                  <a:pt x="1136" y="4"/>
                </a:lnTo>
                <a:lnTo>
                  <a:pt x="1164" y="13"/>
                </a:lnTo>
                <a:lnTo>
                  <a:pt x="1185" y="23"/>
                </a:lnTo>
                <a:lnTo>
                  <a:pt x="1208" y="36"/>
                </a:lnTo>
                <a:lnTo>
                  <a:pt x="1230" y="55"/>
                </a:lnTo>
                <a:lnTo>
                  <a:pt x="1251" y="80"/>
                </a:lnTo>
                <a:lnTo>
                  <a:pt x="1267" y="101"/>
                </a:lnTo>
                <a:lnTo>
                  <a:pt x="1275" y="121"/>
                </a:lnTo>
                <a:lnTo>
                  <a:pt x="1281" y="154"/>
                </a:lnTo>
                <a:lnTo>
                  <a:pt x="1281" y="183"/>
                </a:lnTo>
                <a:lnTo>
                  <a:pt x="1276" y="211"/>
                </a:lnTo>
                <a:lnTo>
                  <a:pt x="1270" y="233"/>
                </a:lnTo>
                <a:lnTo>
                  <a:pt x="1263" y="269"/>
                </a:lnTo>
                <a:lnTo>
                  <a:pt x="1251" y="305"/>
                </a:lnTo>
                <a:lnTo>
                  <a:pt x="1246" y="331"/>
                </a:lnTo>
                <a:lnTo>
                  <a:pt x="1254" y="354"/>
                </a:lnTo>
                <a:lnTo>
                  <a:pt x="1264" y="370"/>
                </a:lnTo>
                <a:lnTo>
                  <a:pt x="1281" y="392"/>
                </a:lnTo>
                <a:lnTo>
                  <a:pt x="1307" y="410"/>
                </a:lnTo>
                <a:lnTo>
                  <a:pt x="1331" y="425"/>
                </a:lnTo>
                <a:lnTo>
                  <a:pt x="1369" y="437"/>
                </a:lnTo>
                <a:lnTo>
                  <a:pt x="1403" y="446"/>
                </a:lnTo>
                <a:lnTo>
                  <a:pt x="1437" y="452"/>
                </a:lnTo>
                <a:lnTo>
                  <a:pt x="1473" y="457"/>
                </a:lnTo>
                <a:lnTo>
                  <a:pt x="1510" y="465"/>
                </a:lnTo>
                <a:lnTo>
                  <a:pt x="1539" y="473"/>
                </a:lnTo>
                <a:lnTo>
                  <a:pt x="1561" y="483"/>
                </a:lnTo>
                <a:lnTo>
                  <a:pt x="1579" y="494"/>
                </a:lnTo>
                <a:lnTo>
                  <a:pt x="1592" y="506"/>
                </a:lnTo>
                <a:lnTo>
                  <a:pt x="1601" y="521"/>
                </a:lnTo>
                <a:lnTo>
                  <a:pt x="1609" y="539"/>
                </a:lnTo>
                <a:lnTo>
                  <a:pt x="1613" y="555"/>
                </a:lnTo>
                <a:lnTo>
                  <a:pt x="1616" y="571"/>
                </a:lnTo>
                <a:lnTo>
                  <a:pt x="1616" y="591"/>
                </a:lnTo>
                <a:lnTo>
                  <a:pt x="1613" y="615"/>
                </a:lnTo>
                <a:lnTo>
                  <a:pt x="1613" y="632"/>
                </a:lnTo>
                <a:lnTo>
                  <a:pt x="1618" y="654"/>
                </a:lnTo>
                <a:lnTo>
                  <a:pt x="1628" y="674"/>
                </a:lnTo>
                <a:lnTo>
                  <a:pt x="1642" y="690"/>
                </a:lnTo>
                <a:lnTo>
                  <a:pt x="1658" y="702"/>
                </a:lnTo>
                <a:lnTo>
                  <a:pt x="1679" y="716"/>
                </a:lnTo>
                <a:lnTo>
                  <a:pt x="1700" y="724"/>
                </a:lnTo>
                <a:lnTo>
                  <a:pt x="1731" y="731"/>
                </a:lnTo>
                <a:lnTo>
                  <a:pt x="1759" y="734"/>
                </a:lnTo>
                <a:lnTo>
                  <a:pt x="1785" y="735"/>
                </a:lnTo>
                <a:lnTo>
                  <a:pt x="1813" y="734"/>
                </a:lnTo>
                <a:lnTo>
                  <a:pt x="1849" y="731"/>
                </a:lnTo>
                <a:lnTo>
                  <a:pt x="1877" y="728"/>
                </a:lnTo>
                <a:lnTo>
                  <a:pt x="1904" y="726"/>
                </a:lnTo>
                <a:lnTo>
                  <a:pt x="1930" y="724"/>
                </a:lnTo>
                <a:lnTo>
                  <a:pt x="1961" y="726"/>
                </a:lnTo>
                <a:lnTo>
                  <a:pt x="1976" y="728"/>
                </a:lnTo>
                <a:lnTo>
                  <a:pt x="1997" y="734"/>
                </a:lnTo>
                <a:lnTo>
                  <a:pt x="2015" y="742"/>
                </a:lnTo>
                <a:lnTo>
                  <a:pt x="2034" y="754"/>
                </a:lnTo>
                <a:lnTo>
                  <a:pt x="2049" y="768"/>
                </a:lnTo>
                <a:lnTo>
                  <a:pt x="2060" y="788"/>
                </a:lnTo>
                <a:lnTo>
                  <a:pt x="2065" y="806"/>
                </a:lnTo>
                <a:lnTo>
                  <a:pt x="2068" y="828"/>
                </a:lnTo>
                <a:lnTo>
                  <a:pt x="2071" y="868"/>
                </a:lnTo>
                <a:lnTo>
                  <a:pt x="2070" y="915"/>
                </a:lnTo>
                <a:lnTo>
                  <a:pt x="2071" y="964"/>
                </a:lnTo>
                <a:lnTo>
                  <a:pt x="2067" y="1021"/>
                </a:lnTo>
                <a:lnTo>
                  <a:pt x="2062" y="1062"/>
                </a:lnTo>
                <a:lnTo>
                  <a:pt x="2056" y="1093"/>
                </a:lnTo>
                <a:lnTo>
                  <a:pt x="2049" y="1111"/>
                </a:lnTo>
                <a:lnTo>
                  <a:pt x="2036" y="1127"/>
                </a:lnTo>
                <a:lnTo>
                  <a:pt x="2022" y="1138"/>
                </a:lnTo>
                <a:lnTo>
                  <a:pt x="2002" y="1148"/>
                </a:lnTo>
                <a:lnTo>
                  <a:pt x="1980" y="1155"/>
                </a:lnTo>
                <a:lnTo>
                  <a:pt x="1959" y="1158"/>
                </a:lnTo>
                <a:lnTo>
                  <a:pt x="1919" y="1160"/>
                </a:lnTo>
                <a:lnTo>
                  <a:pt x="1883" y="1158"/>
                </a:lnTo>
                <a:lnTo>
                  <a:pt x="1854" y="1153"/>
                </a:lnTo>
                <a:lnTo>
                  <a:pt x="1828" y="1152"/>
                </a:lnTo>
                <a:lnTo>
                  <a:pt x="1800" y="1150"/>
                </a:lnTo>
                <a:lnTo>
                  <a:pt x="1773" y="1150"/>
                </a:lnTo>
                <a:lnTo>
                  <a:pt x="1751" y="1152"/>
                </a:lnTo>
                <a:lnTo>
                  <a:pt x="1727" y="1155"/>
                </a:lnTo>
                <a:lnTo>
                  <a:pt x="1698" y="1161"/>
                </a:lnTo>
                <a:lnTo>
                  <a:pt x="1682" y="1166"/>
                </a:lnTo>
                <a:lnTo>
                  <a:pt x="1667" y="1173"/>
                </a:lnTo>
                <a:lnTo>
                  <a:pt x="1648" y="1183"/>
                </a:lnTo>
                <a:lnTo>
                  <a:pt x="1636" y="1197"/>
                </a:lnTo>
                <a:lnTo>
                  <a:pt x="1625" y="1209"/>
                </a:lnTo>
                <a:lnTo>
                  <a:pt x="1616" y="1225"/>
                </a:lnTo>
                <a:lnTo>
                  <a:pt x="1612" y="1240"/>
                </a:lnTo>
                <a:lnTo>
                  <a:pt x="1609" y="1256"/>
                </a:lnTo>
                <a:lnTo>
                  <a:pt x="1612" y="1274"/>
                </a:lnTo>
                <a:lnTo>
                  <a:pt x="1612" y="1303"/>
                </a:lnTo>
                <a:lnTo>
                  <a:pt x="1609" y="1336"/>
                </a:lnTo>
                <a:lnTo>
                  <a:pt x="1600" y="1359"/>
                </a:lnTo>
                <a:lnTo>
                  <a:pt x="1591" y="1378"/>
                </a:lnTo>
                <a:lnTo>
                  <a:pt x="1576" y="1391"/>
                </a:lnTo>
                <a:lnTo>
                  <a:pt x="1555" y="1403"/>
                </a:lnTo>
                <a:lnTo>
                  <a:pt x="1534" y="1412"/>
                </a:lnTo>
                <a:lnTo>
                  <a:pt x="1510" y="1417"/>
                </a:lnTo>
                <a:lnTo>
                  <a:pt x="1479" y="1423"/>
                </a:lnTo>
                <a:lnTo>
                  <a:pt x="1454" y="1430"/>
                </a:lnTo>
                <a:lnTo>
                  <a:pt x="1423" y="1434"/>
                </a:lnTo>
                <a:lnTo>
                  <a:pt x="1397" y="1438"/>
                </a:lnTo>
                <a:lnTo>
                  <a:pt x="1369" y="1444"/>
                </a:lnTo>
                <a:lnTo>
                  <a:pt x="1345" y="1453"/>
                </a:lnTo>
                <a:lnTo>
                  <a:pt x="1318" y="1463"/>
                </a:lnTo>
                <a:lnTo>
                  <a:pt x="1294" y="1475"/>
                </a:lnTo>
                <a:lnTo>
                  <a:pt x="1276" y="1491"/>
                </a:lnTo>
                <a:lnTo>
                  <a:pt x="1260" y="1511"/>
                </a:lnTo>
                <a:lnTo>
                  <a:pt x="1248" y="1534"/>
                </a:lnTo>
                <a:lnTo>
                  <a:pt x="1245" y="1555"/>
                </a:lnTo>
                <a:lnTo>
                  <a:pt x="1246" y="1579"/>
                </a:lnTo>
                <a:lnTo>
                  <a:pt x="1251" y="1602"/>
                </a:lnTo>
                <a:lnTo>
                  <a:pt x="1259" y="1625"/>
                </a:lnTo>
                <a:lnTo>
                  <a:pt x="1266" y="1651"/>
                </a:lnTo>
                <a:lnTo>
                  <a:pt x="1270" y="1674"/>
                </a:lnTo>
                <a:lnTo>
                  <a:pt x="1276" y="1704"/>
                </a:lnTo>
                <a:lnTo>
                  <a:pt x="1276" y="1734"/>
                </a:lnTo>
                <a:lnTo>
                  <a:pt x="1269" y="1765"/>
                </a:lnTo>
                <a:lnTo>
                  <a:pt x="1260" y="1788"/>
                </a:lnTo>
                <a:lnTo>
                  <a:pt x="1251" y="1811"/>
                </a:lnTo>
                <a:lnTo>
                  <a:pt x="1238" y="1833"/>
                </a:lnTo>
                <a:lnTo>
                  <a:pt x="1221" y="1861"/>
                </a:lnTo>
                <a:lnTo>
                  <a:pt x="1201" y="1878"/>
                </a:lnTo>
                <a:lnTo>
                  <a:pt x="1185" y="1890"/>
                </a:lnTo>
                <a:lnTo>
                  <a:pt x="1164" y="1905"/>
                </a:lnTo>
                <a:lnTo>
                  <a:pt x="1142" y="1920"/>
                </a:lnTo>
                <a:lnTo>
                  <a:pt x="1121" y="1926"/>
                </a:lnTo>
                <a:lnTo>
                  <a:pt x="1102" y="1930"/>
                </a:lnTo>
                <a:lnTo>
                  <a:pt x="1069" y="1933"/>
                </a:lnTo>
                <a:lnTo>
                  <a:pt x="1032" y="1934"/>
                </a:lnTo>
                <a:lnTo>
                  <a:pt x="987" y="1933"/>
                </a:lnTo>
                <a:lnTo>
                  <a:pt x="966" y="1933"/>
                </a:lnTo>
                <a:lnTo>
                  <a:pt x="939" y="1929"/>
                </a:lnTo>
                <a:lnTo>
                  <a:pt x="910" y="1922"/>
                </a:lnTo>
                <a:lnTo>
                  <a:pt x="884" y="1910"/>
                </a:lnTo>
                <a:lnTo>
                  <a:pt x="868" y="1899"/>
                </a:lnTo>
                <a:lnTo>
                  <a:pt x="850" y="1884"/>
                </a:lnTo>
                <a:lnTo>
                  <a:pt x="836" y="1870"/>
                </a:lnTo>
                <a:lnTo>
                  <a:pt x="821" y="1852"/>
                </a:lnTo>
                <a:lnTo>
                  <a:pt x="811" y="1835"/>
                </a:lnTo>
                <a:lnTo>
                  <a:pt x="801" y="1812"/>
                </a:lnTo>
                <a:lnTo>
                  <a:pt x="796" y="1789"/>
                </a:lnTo>
                <a:lnTo>
                  <a:pt x="794" y="1771"/>
                </a:lnTo>
                <a:lnTo>
                  <a:pt x="794" y="1747"/>
                </a:lnTo>
                <a:lnTo>
                  <a:pt x="796" y="1726"/>
                </a:lnTo>
                <a:lnTo>
                  <a:pt x="804" y="1704"/>
                </a:lnTo>
                <a:lnTo>
                  <a:pt x="811" y="1678"/>
                </a:lnTo>
                <a:lnTo>
                  <a:pt x="818" y="1654"/>
                </a:lnTo>
                <a:lnTo>
                  <a:pt x="823" y="1631"/>
                </a:lnTo>
                <a:lnTo>
                  <a:pt x="824" y="1611"/>
                </a:lnTo>
                <a:lnTo>
                  <a:pt x="823" y="1594"/>
                </a:lnTo>
                <a:lnTo>
                  <a:pt x="818" y="1577"/>
                </a:lnTo>
                <a:lnTo>
                  <a:pt x="805" y="1556"/>
                </a:lnTo>
                <a:lnTo>
                  <a:pt x="793" y="1543"/>
                </a:lnTo>
                <a:lnTo>
                  <a:pt x="777" y="1527"/>
                </a:lnTo>
                <a:lnTo>
                  <a:pt x="759" y="1517"/>
                </a:lnTo>
                <a:lnTo>
                  <a:pt x="741" y="1505"/>
                </a:lnTo>
                <a:lnTo>
                  <a:pt x="714" y="1497"/>
                </a:lnTo>
                <a:lnTo>
                  <a:pt x="691" y="1491"/>
                </a:lnTo>
                <a:lnTo>
                  <a:pt x="662" y="1486"/>
                </a:lnTo>
                <a:lnTo>
                  <a:pt x="636" y="1483"/>
                </a:lnTo>
                <a:lnTo>
                  <a:pt x="613" y="1478"/>
                </a:lnTo>
                <a:lnTo>
                  <a:pt x="583" y="1473"/>
                </a:lnTo>
                <a:lnTo>
                  <a:pt x="559" y="1465"/>
                </a:lnTo>
                <a:lnTo>
                  <a:pt x="530" y="1457"/>
                </a:lnTo>
                <a:lnTo>
                  <a:pt x="508" y="1449"/>
                </a:lnTo>
                <a:lnTo>
                  <a:pt x="490" y="1437"/>
                </a:lnTo>
                <a:lnTo>
                  <a:pt x="475" y="1421"/>
                </a:lnTo>
                <a:lnTo>
                  <a:pt x="466" y="1400"/>
                </a:lnTo>
                <a:lnTo>
                  <a:pt x="458" y="1372"/>
                </a:lnTo>
                <a:lnTo>
                  <a:pt x="456" y="1351"/>
                </a:lnTo>
                <a:lnTo>
                  <a:pt x="458" y="1326"/>
                </a:lnTo>
                <a:lnTo>
                  <a:pt x="462" y="1307"/>
                </a:lnTo>
                <a:lnTo>
                  <a:pt x="458" y="1284"/>
                </a:lnTo>
                <a:lnTo>
                  <a:pt x="450" y="1266"/>
                </a:lnTo>
                <a:lnTo>
                  <a:pt x="435" y="1246"/>
                </a:lnTo>
                <a:lnTo>
                  <a:pt x="421" y="1233"/>
                </a:lnTo>
                <a:lnTo>
                  <a:pt x="404" y="1222"/>
                </a:lnTo>
                <a:lnTo>
                  <a:pt x="380" y="1213"/>
                </a:lnTo>
                <a:lnTo>
                  <a:pt x="352" y="1205"/>
                </a:lnTo>
                <a:lnTo>
                  <a:pt x="323" y="1202"/>
                </a:lnTo>
                <a:lnTo>
                  <a:pt x="299" y="1199"/>
                </a:lnTo>
                <a:lnTo>
                  <a:pt x="271" y="1199"/>
                </a:lnTo>
                <a:lnTo>
                  <a:pt x="247" y="1202"/>
                </a:lnTo>
                <a:lnTo>
                  <a:pt x="223" y="1204"/>
                </a:lnTo>
                <a:lnTo>
                  <a:pt x="199" y="1207"/>
                </a:lnTo>
                <a:lnTo>
                  <a:pt x="175" y="1209"/>
                </a:lnTo>
                <a:lnTo>
                  <a:pt x="135" y="1209"/>
                </a:lnTo>
                <a:lnTo>
                  <a:pt x="109" y="1208"/>
                </a:lnTo>
                <a:lnTo>
                  <a:pt x="80" y="1202"/>
                </a:lnTo>
                <a:lnTo>
                  <a:pt x="61" y="1194"/>
                </a:lnTo>
                <a:lnTo>
                  <a:pt x="40" y="1181"/>
                </a:lnTo>
                <a:lnTo>
                  <a:pt x="25" y="1165"/>
                </a:lnTo>
                <a:lnTo>
                  <a:pt x="16" y="1148"/>
                </a:lnTo>
                <a:lnTo>
                  <a:pt x="4" y="1116"/>
                </a:lnTo>
                <a:lnTo>
                  <a:pt x="3" y="1083"/>
                </a:lnTo>
                <a:lnTo>
                  <a:pt x="1" y="1050"/>
                </a:lnTo>
                <a:lnTo>
                  <a:pt x="0" y="1009"/>
                </a:lnTo>
                <a:lnTo>
                  <a:pt x="3" y="974"/>
                </a:lnTo>
                <a:lnTo>
                  <a:pt x="4" y="935"/>
                </a:lnTo>
                <a:lnTo>
                  <a:pt x="6" y="901"/>
                </a:lnTo>
                <a:lnTo>
                  <a:pt x="9" y="865"/>
                </a:lnTo>
                <a:lnTo>
                  <a:pt x="14" y="838"/>
                </a:lnTo>
                <a:lnTo>
                  <a:pt x="19" y="808"/>
                </a:lnTo>
                <a:lnTo>
                  <a:pt x="25" y="785"/>
                </a:lnTo>
                <a:lnTo>
                  <a:pt x="35" y="769"/>
                </a:lnTo>
                <a:lnTo>
                  <a:pt x="49" y="754"/>
                </a:lnTo>
                <a:lnTo>
                  <a:pt x="64" y="744"/>
                </a:lnTo>
                <a:lnTo>
                  <a:pt x="83" y="734"/>
                </a:lnTo>
                <a:lnTo>
                  <a:pt x="103" y="729"/>
                </a:lnTo>
                <a:lnTo>
                  <a:pt x="125" y="726"/>
                </a:lnTo>
                <a:lnTo>
                  <a:pt x="153" y="724"/>
                </a:lnTo>
                <a:lnTo>
                  <a:pt x="180" y="726"/>
                </a:lnTo>
                <a:lnTo>
                  <a:pt x="216" y="729"/>
                </a:lnTo>
                <a:lnTo>
                  <a:pt x="246" y="732"/>
                </a:lnTo>
                <a:lnTo>
                  <a:pt x="271" y="734"/>
                </a:lnTo>
                <a:lnTo>
                  <a:pt x="307" y="735"/>
                </a:lnTo>
                <a:lnTo>
                  <a:pt x="344" y="731"/>
                </a:lnTo>
                <a:lnTo>
                  <a:pt x="374" y="724"/>
                </a:lnTo>
                <a:lnTo>
                  <a:pt x="404" y="714"/>
                </a:lnTo>
                <a:lnTo>
                  <a:pt x="423" y="705"/>
                </a:lnTo>
                <a:lnTo>
                  <a:pt x="442" y="690"/>
                </a:lnTo>
                <a:lnTo>
                  <a:pt x="456" y="671"/>
                </a:lnTo>
                <a:lnTo>
                  <a:pt x="466" y="651"/>
                </a:lnTo>
                <a:lnTo>
                  <a:pt x="469" y="631"/>
                </a:lnTo>
                <a:lnTo>
                  <a:pt x="468" y="615"/>
                </a:lnTo>
                <a:lnTo>
                  <a:pt x="466" y="587"/>
                </a:lnTo>
                <a:lnTo>
                  <a:pt x="468" y="558"/>
                </a:lnTo>
                <a:lnTo>
                  <a:pt x="474" y="537"/>
                </a:lnTo>
                <a:lnTo>
                  <a:pt x="483" y="516"/>
                </a:lnTo>
                <a:lnTo>
                  <a:pt x="493" y="501"/>
                </a:lnTo>
                <a:lnTo>
                  <a:pt x="516" y="486"/>
                </a:lnTo>
                <a:lnTo>
                  <a:pt x="540" y="475"/>
                </a:lnTo>
                <a:lnTo>
                  <a:pt x="571" y="467"/>
                </a:lnTo>
                <a:lnTo>
                  <a:pt x="601" y="460"/>
                </a:lnTo>
                <a:lnTo>
                  <a:pt x="627" y="454"/>
                </a:lnTo>
                <a:lnTo>
                  <a:pt x="659" y="450"/>
                </a:lnTo>
                <a:lnTo>
                  <a:pt x="690" y="444"/>
                </a:lnTo>
                <a:lnTo>
                  <a:pt x="725" y="436"/>
                </a:lnTo>
                <a:lnTo>
                  <a:pt x="760" y="424"/>
                </a:lnTo>
                <a:lnTo>
                  <a:pt x="790" y="405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1219320"/>
            <a:ext cx="2727360" cy="2450880"/>
          </a:xfrm>
          <a:custGeom>
            <a:avLst/>
            <a:gdLst/>
            <a:ahLst/>
            <a:rect l="l" t="t" r="r" b="b"/>
            <a:pathLst>
              <a:path w="1861" h="1544">
                <a:moveTo>
                  <a:pt x="0" y="321"/>
                </a:moveTo>
                <a:lnTo>
                  <a:pt x="0" y="0"/>
                </a:lnTo>
                <a:lnTo>
                  <a:pt x="1859" y="0"/>
                </a:lnTo>
                <a:lnTo>
                  <a:pt x="1860" y="1231"/>
                </a:lnTo>
                <a:lnTo>
                  <a:pt x="1699" y="1231"/>
                </a:lnTo>
                <a:lnTo>
                  <a:pt x="1693" y="1243"/>
                </a:lnTo>
                <a:lnTo>
                  <a:pt x="1689" y="1257"/>
                </a:lnTo>
                <a:lnTo>
                  <a:pt x="1689" y="1270"/>
                </a:lnTo>
                <a:lnTo>
                  <a:pt x="1690" y="1285"/>
                </a:lnTo>
                <a:lnTo>
                  <a:pt x="1696" y="1304"/>
                </a:lnTo>
                <a:lnTo>
                  <a:pt x="1702" y="1329"/>
                </a:lnTo>
                <a:lnTo>
                  <a:pt x="1709" y="1345"/>
                </a:lnTo>
                <a:lnTo>
                  <a:pt x="1714" y="1366"/>
                </a:lnTo>
                <a:lnTo>
                  <a:pt x="1717" y="1385"/>
                </a:lnTo>
                <a:lnTo>
                  <a:pt x="1717" y="1404"/>
                </a:lnTo>
                <a:lnTo>
                  <a:pt x="1714" y="1422"/>
                </a:lnTo>
                <a:lnTo>
                  <a:pt x="1709" y="1441"/>
                </a:lnTo>
                <a:lnTo>
                  <a:pt x="1701" y="1459"/>
                </a:lnTo>
                <a:lnTo>
                  <a:pt x="1689" y="1474"/>
                </a:lnTo>
                <a:lnTo>
                  <a:pt x="1671" y="1491"/>
                </a:lnTo>
                <a:lnTo>
                  <a:pt x="1653" y="1503"/>
                </a:lnTo>
                <a:lnTo>
                  <a:pt x="1637" y="1515"/>
                </a:lnTo>
                <a:lnTo>
                  <a:pt x="1617" y="1525"/>
                </a:lnTo>
                <a:lnTo>
                  <a:pt x="1595" y="1531"/>
                </a:lnTo>
                <a:lnTo>
                  <a:pt x="1568" y="1539"/>
                </a:lnTo>
                <a:lnTo>
                  <a:pt x="1540" y="1541"/>
                </a:lnTo>
                <a:lnTo>
                  <a:pt x="1517" y="1543"/>
                </a:lnTo>
                <a:lnTo>
                  <a:pt x="1493" y="1543"/>
                </a:lnTo>
                <a:lnTo>
                  <a:pt x="1471" y="1541"/>
                </a:lnTo>
                <a:lnTo>
                  <a:pt x="1453" y="1539"/>
                </a:lnTo>
                <a:lnTo>
                  <a:pt x="1432" y="1533"/>
                </a:lnTo>
                <a:lnTo>
                  <a:pt x="1411" y="1528"/>
                </a:lnTo>
                <a:lnTo>
                  <a:pt x="1395" y="1520"/>
                </a:lnTo>
                <a:lnTo>
                  <a:pt x="1377" y="1508"/>
                </a:lnTo>
                <a:lnTo>
                  <a:pt x="1361" y="1495"/>
                </a:lnTo>
                <a:lnTo>
                  <a:pt x="1346" y="1479"/>
                </a:lnTo>
                <a:lnTo>
                  <a:pt x="1331" y="1463"/>
                </a:lnTo>
                <a:lnTo>
                  <a:pt x="1319" y="1447"/>
                </a:lnTo>
                <a:lnTo>
                  <a:pt x="1312" y="1427"/>
                </a:lnTo>
                <a:lnTo>
                  <a:pt x="1305" y="1403"/>
                </a:lnTo>
                <a:lnTo>
                  <a:pt x="1305" y="1381"/>
                </a:lnTo>
                <a:lnTo>
                  <a:pt x="1312" y="1359"/>
                </a:lnTo>
                <a:lnTo>
                  <a:pt x="1318" y="1337"/>
                </a:lnTo>
                <a:lnTo>
                  <a:pt x="1325" y="1316"/>
                </a:lnTo>
                <a:lnTo>
                  <a:pt x="1332" y="1290"/>
                </a:lnTo>
                <a:lnTo>
                  <a:pt x="1335" y="1272"/>
                </a:lnTo>
                <a:lnTo>
                  <a:pt x="1335" y="1261"/>
                </a:lnTo>
                <a:lnTo>
                  <a:pt x="1334" y="1251"/>
                </a:lnTo>
                <a:lnTo>
                  <a:pt x="1329" y="1240"/>
                </a:lnTo>
                <a:lnTo>
                  <a:pt x="1020" y="1240"/>
                </a:lnTo>
                <a:lnTo>
                  <a:pt x="1025" y="1194"/>
                </a:lnTo>
                <a:lnTo>
                  <a:pt x="1024" y="1167"/>
                </a:lnTo>
                <a:lnTo>
                  <a:pt x="1020" y="1143"/>
                </a:lnTo>
                <a:lnTo>
                  <a:pt x="1017" y="1119"/>
                </a:lnTo>
                <a:lnTo>
                  <a:pt x="1012" y="1104"/>
                </a:lnTo>
                <a:lnTo>
                  <a:pt x="1004" y="1091"/>
                </a:lnTo>
                <a:lnTo>
                  <a:pt x="994" y="1078"/>
                </a:lnTo>
                <a:lnTo>
                  <a:pt x="978" y="1067"/>
                </a:lnTo>
                <a:lnTo>
                  <a:pt x="961" y="1058"/>
                </a:lnTo>
                <a:lnTo>
                  <a:pt x="943" y="1052"/>
                </a:lnTo>
                <a:lnTo>
                  <a:pt x="925" y="1048"/>
                </a:lnTo>
                <a:lnTo>
                  <a:pt x="897" y="1047"/>
                </a:lnTo>
                <a:lnTo>
                  <a:pt x="866" y="1047"/>
                </a:lnTo>
                <a:lnTo>
                  <a:pt x="835" y="1050"/>
                </a:lnTo>
                <a:lnTo>
                  <a:pt x="801" y="1052"/>
                </a:lnTo>
                <a:lnTo>
                  <a:pt x="775" y="1055"/>
                </a:lnTo>
                <a:lnTo>
                  <a:pt x="742" y="1056"/>
                </a:lnTo>
                <a:lnTo>
                  <a:pt x="714" y="1055"/>
                </a:lnTo>
                <a:lnTo>
                  <a:pt x="690" y="1052"/>
                </a:lnTo>
                <a:lnTo>
                  <a:pt x="653" y="1044"/>
                </a:lnTo>
                <a:lnTo>
                  <a:pt x="629" y="1034"/>
                </a:lnTo>
                <a:lnTo>
                  <a:pt x="606" y="1021"/>
                </a:lnTo>
                <a:lnTo>
                  <a:pt x="592" y="1006"/>
                </a:lnTo>
                <a:lnTo>
                  <a:pt x="579" y="990"/>
                </a:lnTo>
                <a:lnTo>
                  <a:pt x="569" y="969"/>
                </a:lnTo>
                <a:lnTo>
                  <a:pt x="568" y="947"/>
                </a:lnTo>
                <a:lnTo>
                  <a:pt x="568" y="919"/>
                </a:lnTo>
                <a:lnTo>
                  <a:pt x="569" y="899"/>
                </a:lnTo>
                <a:lnTo>
                  <a:pt x="568" y="879"/>
                </a:lnTo>
                <a:lnTo>
                  <a:pt x="562" y="855"/>
                </a:lnTo>
                <a:lnTo>
                  <a:pt x="557" y="841"/>
                </a:lnTo>
                <a:lnTo>
                  <a:pt x="548" y="827"/>
                </a:lnTo>
                <a:lnTo>
                  <a:pt x="539" y="818"/>
                </a:lnTo>
                <a:lnTo>
                  <a:pt x="529" y="810"/>
                </a:lnTo>
                <a:lnTo>
                  <a:pt x="508" y="802"/>
                </a:lnTo>
                <a:lnTo>
                  <a:pt x="484" y="792"/>
                </a:lnTo>
                <a:lnTo>
                  <a:pt x="457" y="785"/>
                </a:lnTo>
                <a:lnTo>
                  <a:pt x="424" y="778"/>
                </a:lnTo>
                <a:lnTo>
                  <a:pt x="392" y="773"/>
                </a:lnTo>
                <a:lnTo>
                  <a:pt x="359" y="768"/>
                </a:lnTo>
                <a:lnTo>
                  <a:pt x="335" y="762"/>
                </a:lnTo>
                <a:lnTo>
                  <a:pt x="307" y="755"/>
                </a:lnTo>
                <a:lnTo>
                  <a:pt x="281" y="747"/>
                </a:lnTo>
                <a:lnTo>
                  <a:pt x="263" y="734"/>
                </a:lnTo>
                <a:lnTo>
                  <a:pt x="243" y="719"/>
                </a:lnTo>
                <a:lnTo>
                  <a:pt x="228" y="706"/>
                </a:lnTo>
                <a:lnTo>
                  <a:pt x="216" y="689"/>
                </a:lnTo>
                <a:lnTo>
                  <a:pt x="205" y="670"/>
                </a:lnTo>
                <a:lnTo>
                  <a:pt x="202" y="649"/>
                </a:lnTo>
                <a:lnTo>
                  <a:pt x="202" y="630"/>
                </a:lnTo>
                <a:lnTo>
                  <a:pt x="207" y="611"/>
                </a:lnTo>
                <a:lnTo>
                  <a:pt x="216" y="585"/>
                </a:lnTo>
                <a:lnTo>
                  <a:pt x="223" y="559"/>
                </a:lnTo>
                <a:lnTo>
                  <a:pt x="226" y="536"/>
                </a:lnTo>
                <a:lnTo>
                  <a:pt x="233" y="512"/>
                </a:lnTo>
                <a:lnTo>
                  <a:pt x="236" y="489"/>
                </a:lnTo>
                <a:lnTo>
                  <a:pt x="233" y="464"/>
                </a:lnTo>
                <a:lnTo>
                  <a:pt x="226" y="442"/>
                </a:lnTo>
                <a:lnTo>
                  <a:pt x="217" y="420"/>
                </a:lnTo>
                <a:lnTo>
                  <a:pt x="204" y="400"/>
                </a:lnTo>
                <a:lnTo>
                  <a:pt x="189" y="383"/>
                </a:lnTo>
                <a:lnTo>
                  <a:pt x="181" y="373"/>
                </a:lnTo>
                <a:lnTo>
                  <a:pt x="167" y="362"/>
                </a:lnTo>
                <a:lnTo>
                  <a:pt x="153" y="350"/>
                </a:lnTo>
                <a:lnTo>
                  <a:pt x="138" y="342"/>
                </a:lnTo>
                <a:lnTo>
                  <a:pt x="119" y="334"/>
                </a:lnTo>
                <a:lnTo>
                  <a:pt x="99" y="329"/>
                </a:lnTo>
                <a:lnTo>
                  <a:pt x="75" y="323"/>
                </a:lnTo>
                <a:lnTo>
                  <a:pt x="47" y="321"/>
                </a:lnTo>
                <a:lnTo>
                  <a:pt x="24" y="321"/>
                </a:lnTo>
                <a:lnTo>
                  <a:pt x="0" y="321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03880" y="3660840"/>
            <a:ext cx="2738520" cy="2054160"/>
          </a:xfrm>
          <a:custGeom>
            <a:avLst/>
            <a:gdLst/>
            <a:ahLst/>
            <a:rect l="l" t="t" r="r" b="b"/>
            <a:pathLst>
              <a:path w="1868" h="1294">
                <a:moveTo>
                  <a:pt x="0" y="1021"/>
                </a:moveTo>
                <a:lnTo>
                  <a:pt x="0" y="1293"/>
                </a:lnTo>
                <a:lnTo>
                  <a:pt x="1867" y="1293"/>
                </a:lnTo>
                <a:lnTo>
                  <a:pt x="1866" y="0"/>
                </a:lnTo>
                <a:lnTo>
                  <a:pt x="1700" y="0"/>
                </a:lnTo>
                <a:lnTo>
                  <a:pt x="1691" y="24"/>
                </a:lnTo>
                <a:lnTo>
                  <a:pt x="1691" y="42"/>
                </a:lnTo>
                <a:lnTo>
                  <a:pt x="1697" y="67"/>
                </a:lnTo>
                <a:lnTo>
                  <a:pt x="1706" y="93"/>
                </a:lnTo>
                <a:lnTo>
                  <a:pt x="1716" y="125"/>
                </a:lnTo>
                <a:lnTo>
                  <a:pt x="1721" y="150"/>
                </a:lnTo>
                <a:lnTo>
                  <a:pt x="1721" y="171"/>
                </a:lnTo>
                <a:lnTo>
                  <a:pt x="1718" y="196"/>
                </a:lnTo>
                <a:lnTo>
                  <a:pt x="1709" y="220"/>
                </a:lnTo>
                <a:lnTo>
                  <a:pt x="1691" y="243"/>
                </a:lnTo>
                <a:lnTo>
                  <a:pt x="1671" y="262"/>
                </a:lnTo>
                <a:lnTo>
                  <a:pt x="1648" y="280"/>
                </a:lnTo>
                <a:lnTo>
                  <a:pt x="1623" y="292"/>
                </a:lnTo>
                <a:lnTo>
                  <a:pt x="1593" y="301"/>
                </a:lnTo>
                <a:lnTo>
                  <a:pt x="1563" y="307"/>
                </a:lnTo>
                <a:lnTo>
                  <a:pt x="1524" y="308"/>
                </a:lnTo>
                <a:lnTo>
                  <a:pt x="1480" y="306"/>
                </a:lnTo>
                <a:lnTo>
                  <a:pt x="1451" y="301"/>
                </a:lnTo>
                <a:lnTo>
                  <a:pt x="1424" y="296"/>
                </a:lnTo>
                <a:lnTo>
                  <a:pt x="1401" y="284"/>
                </a:lnTo>
                <a:lnTo>
                  <a:pt x="1370" y="263"/>
                </a:lnTo>
                <a:lnTo>
                  <a:pt x="1351" y="244"/>
                </a:lnTo>
                <a:lnTo>
                  <a:pt x="1333" y="222"/>
                </a:lnTo>
                <a:lnTo>
                  <a:pt x="1324" y="200"/>
                </a:lnTo>
                <a:lnTo>
                  <a:pt x="1317" y="179"/>
                </a:lnTo>
                <a:lnTo>
                  <a:pt x="1317" y="156"/>
                </a:lnTo>
                <a:lnTo>
                  <a:pt x="1320" y="133"/>
                </a:lnTo>
                <a:lnTo>
                  <a:pt x="1327" y="111"/>
                </a:lnTo>
                <a:lnTo>
                  <a:pt x="1333" y="91"/>
                </a:lnTo>
                <a:lnTo>
                  <a:pt x="1341" y="68"/>
                </a:lnTo>
                <a:lnTo>
                  <a:pt x="1347" y="47"/>
                </a:lnTo>
                <a:lnTo>
                  <a:pt x="1347" y="27"/>
                </a:lnTo>
                <a:lnTo>
                  <a:pt x="1339" y="5"/>
                </a:lnTo>
                <a:lnTo>
                  <a:pt x="1028" y="5"/>
                </a:lnTo>
                <a:lnTo>
                  <a:pt x="1031" y="50"/>
                </a:lnTo>
                <a:lnTo>
                  <a:pt x="1028" y="82"/>
                </a:lnTo>
                <a:lnTo>
                  <a:pt x="1026" y="108"/>
                </a:lnTo>
                <a:lnTo>
                  <a:pt x="1026" y="132"/>
                </a:lnTo>
                <a:lnTo>
                  <a:pt x="1023" y="156"/>
                </a:lnTo>
                <a:lnTo>
                  <a:pt x="1017" y="181"/>
                </a:lnTo>
                <a:lnTo>
                  <a:pt x="1008" y="197"/>
                </a:lnTo>
                <a:lnTo>
                  <a:pt x="998" y="212"/>
                </a:lnTo>
                <a:lnTo>
                  <a:pt x="981" y="225"/>
                </a:lnTo>
                <a:lnTo>
                  <a:pt x="963" y="235"/>
                </a:lnTo>
                <a:lnTo>
                  <a:pt x="941" y="240"/>
                </a:lnTo>
                <a:lnTo>
                  <a:pt x="919" y="244"/>
                </a:lnTo>
                <a:lnTo>
                  <a:pt x="898" y="246"/>
                </a:lnTo>
                <a:lnTo>
                  <a:pt x="870" y="246"/>
                </a:lnTo>
                <a:lnTo>
                  <a:pt x="844" y="243"/>
                </a:lnTo>
                <a:lnTo>
                  <a:pt x="823" y="240"/>
                </a:lnTo>
                <a:lnTo>
                  <a:pt x="796" y="238"/>
                </a:lnTo>
                <a:lnTo>
                  <a:pt x="767" y="236"/>
                </a:lnTo>
                <a:lnTo>
                  <a:pt x="735" y="236"/>
                </a:lnTo>
                <a:lnTo>
                  <a:pt x="707" y="238"/>
                </a:lnTo>
                <a:lnTo>
                  <a:pt x="680" y="243"/>
                </a:lnTo>
                <a:lnTo>
                  <a:pt x="652" y="249"/>
                </a:lnTo>
                <a:lnTo>
                  <a:pt x="631" y="259"/>
                </a:lnTo>
                <a:lnTo>
                  <a:pt x="608" y="272"/>
                </a:lnTo>
                <a:lnTo>
                  <a:pt x="593" y="288"/>
                </a:lnTo>
                <a:lnTo>
                  <a:pt x="579" y="306"/>
                </a:lnTo>
                <a:lnTo>
                  <a:pt x="573" y="323"/>
                </a:lnTo>
                <a:lnTo>
                  <a:pt x="570" y="344"/>
                </a:lnTo>
                <a:lnTo>
                  <a:pt x="573" y="365"/>
                </a:lnTo>
                <a:lnTo>
                  <a:pt x="574" y="386"/>
                </a:lnTo>
                <a:lnTo>
                  <a:pt x="573" y="409"/>
                </a:lnTo>
                <a:lnTo>
                  <a:pt x="568" y="427"/>
                </a:lnTo>
                <a:lnTo>
                  <a:pt x="561" y="447"/>
                </a:lnTo>
                <a:lnTo>
                  <a:pt x="552" y="465"/>
                </a:lnTo>
                <a:lnTo>
                  <a:pt x="538" y="477"/>
                </a:lnTo>
                <a:lnTo>
                  <a:pt x="518" y="489"/>
                </a:lnTo>
                <a:lnTo>
                  <a:pt x="492" y="497"/>
                </a:lnTo>
                <a:lnTo>
                  <a:pt x="467" y="504"/>
                </a:lnTo>
                <a:lnTo>
                  <a:pt x="443" y="510"/>
                </a:lnTo>
                <a:lnTo>
                  <a:pt x="416" y="515"/>
                </a:lnTo>
                <a:lnTo>
                  <a:pt x="383" y="521"/>
                </a:lnTo>
                <a:lnTo>
                  <a:pt x="357" y="525"/>
                </a:lnTo>
                <a:lnTo>
                  <a:pt x="330" y="532"/>
                </a:lnTo>
                <a:lnTo>
                  <a:pt x="306" y="539"/>
                </a:lnTo>
                <a:lnTo>
                  <a:pt x="283" y="547"/>
                </a:lnTo>
                <a:lnTo>
                  <a:pt x="265" y="558"/>
                </a:lnTo>
                <a:lnTo>
                  <a:pt x="249" y="569"/>
                </a:lnTo>
                <a:lnTo>
                  <a:pt x="231" y="587"/>
                </a:lnTo>
                <a:lnTo>
                  <a:pt x="221" y="603"/>
                </a:lnTo>
                <a:lnTo>
                  <a:pt x="210" y="623"/>
                </a:lnTo>
                <a:lnTo>
                  <a:pt x="206" y="646"/>
                </a:lnTo>
                <a:lnTo>
                  <a:pt x="209" y="669"/>
                </a:lnTo>
                <a:lnTo>
                  <a:pt x="212" y="691"/>
                </a:lnTo>
                <a:lnTo>
                  <a:pt x="221" y="717"/>
                </a:lnTo>
                <a:lnTo>
                  <a:pt x="228" y="746"/>
                </a:lnTo>
                <a:lnTo>
                  <a:pt x="234" y="771"/>
                </a:lnTo>
                <a:lnTo>
                  <a:pt x="238" y="792"/>
                </a:lnTo>
                <a:lnTo>
                  <a:pt x="238" y="812"/>
                </a:lnTo>
                <a:lnTo>
                  <a:pt x="234" y="838"/>
                </a:lnTo>
                <a:lnTo>
                  <a:pt x="227" y="859"/>
                </a:lnTo>
                <a:lnTo>
                  <a:pt x="221" y="879"/>
                </a:lnTo>
                <a:lnTo>
                  <a:pt x="210" y="897"/>
                </a:lnTo>
                <a:lnTo>
                  <a:pt x="198" y="920"/>
                </a:lnTo>
                <a:lnTo>
                  <a:pt x="180" y="946"/>
                </a:lnTo>
                <a:lnTo>
                  <a:pt x="161" y="965"/>
                </a:lnTo>
                <a:lnTo>
                  <a:pt x="142" y="980"/>
                </a:lnTo>
                <a:lnTo>
                  <a:pt x="124" y="994"/>
                </a:lnTo>
                <a:lnTo>
                  <a:pt x="104" y="1004"/>
                </a:lnTo>
                <a:lnTo>
                  <a:pt x="85" y="1012"/>
                </a:lnTo>
                <a:lnTo>
                  <a:pt x="58" y="1017"/>
                </a:lnTo>
                <a:lnTo>
                  <a:pt x="27" y="1021"/>
                </a:lnTo>
                <a:lnTo>
                  <a:pt x="0" y="1021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95400" y="1219320"/>
            <a:ext cx="2738520" cy="2054160"/>
          </a:xfrm>
          <a:custGeom>
            <a:avLst/>
            <a:gdLst/>
            <a:ahLst/>
            <a:rect l="l" t="t" r="r" b="b"/>
            <a:pathLst>
              <a:path w="1869" h="1294">
                <a:moveTo>
                  <a:pt x="1868" y="322"/>
                </a:moveTo>
                <a:lnTo>
                  <a:pt x="1868" y="0"/>
                </a:lnTo>
                <a:lnTo>
                  <a:pt x="0" y="0"/>
                </a:lnTo>
                <a:lnTo>
                  <a:pt x="2" y="1293"/>
                </a:lnTo>
                <a:lnTo>
                  <a:pt x="167" y="1293"/>
                </a:lnTo>
                <a:lnTo>
                  <a:pt x="176" y="1268"/>
                </a:lnTo>
                <a:lnTo>
                  <a:pt x="176" y="1250"/>
                </a:lnTo>
                <a:lnTo>
                  <a:pt x="170" y="1226"/>
                </a:lnTo>
                <a:lnTo>
                  <a:pt x="161" y="1200"/>
                </a:lnTo>
                <a:lnTo>
                  <a:pt x="151" y="1168"/>
                </a:lnTo>
                <a:lnTo>
                  <a:pt x="146" y="1143"/>
                </a:lnTo>
                <a:lnTo>
                  <a:pt x="145" y="1121"/>
                </a:lnTo>
                <a:lnTo>
                  <a:pt x="150" y="1097"/>
                </a:lnTo>
                <a:lnTo>
                  <a:pt x="158" y="1073"/>
                </a:lnTo>
                <a:lnTo>
                  <a:pt x="176" y="1050"/>
                </a:lnTo>
                <a:lnTo>
                  <a:pt x="197" y="1030"/>
                </a:lnTo>
                <a:lnTo>
                  <a:pt x="219" y="1013"/>
                </a:lnTo>
                <a:lnTo>
                  <a:pt x="245" y="1001"/>
                </a:lnTo>
                <a:lnTo>
                  <a:pt x="275" y="990"/>
                </a:lnTo>
                <a:lnTo>
                  <a:pt x="304" y="986"/>
                </a:lnTo>
                <a:lnTo>
                  <a:pt x="343" y="984"/>
                </a:lnTo>
                <a:lnTo>
                  <a:pt x="388" y="987"/>
                </a:lnTo>
                <a:lnTo>
                  <a:pt x="417" y="990"/>
                </a:lnTo>
                <a:lnTo>
                  <a:pt x="443" y="996"/>
                </a:lnTo>
                <a:lnTo>
                  <a:pt x="467" y="1009"/>
                </a:lnTo>
                <a:lnTo>
                  <a:pt x="497" y="1030"/>
                </a:lnTo>
                <a:lnTo>
                  <a:pt x="516" y="1048"/>
                </a:lnTo>
                <a:lnTo>
                  <a:pt x="534" y="1071"/>
                </a:lnTo>
                <a:lnTo>
                  <a:pt x="543" y="1092"/>
                </a:lnTo>
                <a:lnTo>
                  <a:pt x="550" y="1113"/>
                </a:lnTo>
                <a:lnTo>
                  <a:pt x="550" y="1136"/>
                </a:lnTo>
                <a:lnTo>
                  <a:pt x="547" y="1159"/>
                </a:lnTo>
                <a:lnTo>
                  <a:pt x="540" y="1182"/>
                </a:lnTo>
                <a:lnTo>
                  <a:pt x="534" y="1202"/>
                </a:lnTo>
                <a:lnTo>
                  <a:pt x="527" y="1224"/>
                </a:lnTo>
                <a:lnTo>
                  <a:pt x="521" y="1246"/>
                </a:lnTo>
                <a:lnTo>
                  <a:pt x="521" y="1265"/>
                </a:lnTo>
                <a:lnTo>
                  <a:pt x="528" y="1288"/>
                </a:lnTo>
                <a:lnTo>
                  <a:pt x="840" y="1288"/>
                </a:lnTo>
                <a:lnTo>
                  <a:pt x="837" y="1242"/>
                </a:lnTo>
                <a:lnTo>
                  <a:pt x="840" y="1209"/>
                </a:lnTo>
                <a:lnTo>
                  <a:pt x="840" y="1185"/>
                </a:lnTo>
                <a:lnTo>
                  <a:pt x="841" y="1161"/>
                </a:lnTo>
                <a:lnTo>
                  <a:pt x="844" y="1136"/>
                </a:lnTo>
                <a:lnTo>
                  <a:pt x="851" y="1112"/>
                </a:lnTo>
                <a:lnTo>
                  <a:pt x="859" y="1095"/>
                </a:lnTo>
                <a:lnTo>
                  <a:pt x="870" y="1081"/>
                </a:lnTo>
                <a:lnTo>
                  <a:pt x="886" y="1068"/>
                </a:lnTo>
                <a:lnTo>
                  <a:pt x="904" y="1058"/>
                </a:lnTo>
                <a:lnTo>
                  <a:pt x="925" y="1053"/>
                </a:lnTo>
                <a:lnTo>
                  <a:pt x="949" y="1048"/>
                </a:lnTo>
                <a:lnTo>
                  <a:pt x="970" y="1047"/>
                </a:lnTo>
                <a:lnTo>
                  <a:pt x="998" y="1047"/>
                </a:lnTo>
                <a:lnTo>
                  <a:pt x="1023" y="1050"/>
                </a:lnTo>
                <a:lnTo>
                  <a:pt x="1044" y="1053"/>
                </a:lnTo>
                <a:lnTo>
                  <a:pt x="1071" y="1054"/>
                </a:lnTo>
                <a:lnTo>
                  <a:pt x="1101" y="1056"/>
                </a:lnTo>
                <a:lnTo>
                  <a:pt x="1132" y="1056"/>
                </a:lnTo>
                <a:lnTo>
                  <a:pt x="1159" y="1054"/>
                </a:lnTo>
                <a:lnTo>
                  <a:pt x="1187" y="1050"/>
                </a:lnTo>
                <a:lnTo>
                  <a:pt x="1216" y="1043"/>
                </a:lnTo>
                <a:lnTo>
                  <a:pt x="1237" y="1033"/>
                </a:lnTo>
                <a:lnTo>
                  <a:pt x="1259" y="1021"/>
                </a:lnTo>
                <a:lnTo>
                  <a:pt x="1274" y="1004"/>
                </a:lnTo>
                <a:lnTo>
                  <a:pt x="1289" y="987"/>
                </a:lnTo>
                <a:lnTo>
                  <a:pt x="1295" y="970"/>
                </a:lnTo>
                <a:lnTo>
                  <a:pt x="1298" y="949"/>
                </a:lnTo>
                <a:lnTo>
                  <a:pt x="1295" y="928"/>
                </a:lnTo>
                <a:lnTo>
                  <a:pt x="1293" y="906"/>
                </a:lnTo>
                <a:lnTo>
                  <a:pt x="1295" y="883"/>
                </a:lnTo>
                <a:lnTo>
                  <a:pt x="1299" y="865"/>
                </a:lnTo>
                <a:lnTo>
                  <a:pt x="1307" y="846"/>
                </a:lnTo>
                <a:lnTo>
                  <a:pt x="1316" y="828"/>
                </a:lnTo>
                <a:lnTo>
                  <a:pt x="1329" y="815"/>
                </a:lnTo>
                <a:lnTo>
                  <a:pt x="1350" y="803"/>
                </a:lnTo>
                <a:lnTo>
                  <a:pt x="1375" y="795"/>
                </a:lnTo>
                <a:lnTo>
                  <a:pt x="1401" y="789"/>
                </a:lnTo>
                <a:lnTo>
                  <a:pt x="1425" y="782"/>
                </a:lnTo>
                <a:lnTo>
                  <a:pt x="1451" y="777"/>
                </a:lnTo>
                <a:lnTo>
                  <a:pt x="1484" y="771"/>
                </a:lnTo>
                <a:lnTo>
                  <a:pt x="1511" y="768"/>
                </a:lnTo>
                <a:lnTo>
                  <a:pt x="1538" y="761"/>
                </a:lnTo>
                <a:lnTo>
                  <a:pt x="1562" y="754"/>
                </a:lnTo>
                <a:lnTo>
                  <a:pt x="1584" y="746"/>
                </a:lnTo>
                <a:lnTo>
                  <a:pt x="1602" y="735"/>
                </a:lnTo>
                <a:lnTo>
                  <a:pt x="1618" y="724"/>
                </a:lnTo>
                <a:lnTo>
                  <a:pt x="1636" y="706"/>
                </a:lnTo>
                <a:lnTo>
                  <a:pt x="1647" y="689"/>
                </a:lnTo>
                <a:lnTo>
                  <a:pt x="1657" y="670"/>
                </a:lnTo>
                <a:lnTo>
                  <a:pt x="1662" y="645"/>
                </a:lnTo>
                <a:lnTo>
                  <a:pt x="1659" y="624"/>
                </a:lnTo>
                <a:lnTo>
                  <a:pt x="1656" y="601"/>
                </a:lnTo>
                <a:lnTo>
                  <a:pt x="1647" y="575"/>
                </a:lnTo>
                <a:lnTo>
                  <a:pt x="1639" y="547"/>
                </a:lnTo>
                <a:lnTo>
                  <a:pt x="1631" y="521"/>
                </a:lnTo>
                <a:lnTo>
                  <a:pt x="1629" y="500"/>
                </a:lnTo>
                <a:lnTo>
                  <a:pt x="1629" y="481"/>
                </a:lnTo>
                <a:lnTo>
                  <a:pt x="1633" y="455"/>
                </a:lnTo>
                <a:lnTo>
                  <a:pt x="1641" y="433"/>
                </a:lnTo>
                <a:lnTo>
                  <a:pt x="1648" y="417"/>
                </a:lnTo>
                <a:lnTo>
                  <a:pt x="1660" y="401"/>
                </a:lnTo>
                <a:lnTo>
                  <a:pt x="1676" y="383"/>
                </a:lnTo>
                <a:lnTo>
                  <a:pt x="1693" y="365"/>
                </a:lnTo>
                <a:lnTo>
                  <a:pt x="1717" y="349"/>
                </a:lnTo>
                <a:lnTo>
                  <a:pt x="1741" y="337"/>
                </a:lnTo>
                <a:lnTo>
                  <a:pt x="1763" y="330"/>
                </a:lnTo>
                <a:lnTo>
                  <a:pt x="1786" y="324"/>
                </a:lnTo>
                <a:lnTo>
                  <a:pt x="1809" y="322"/>
                </a:lnTo>
                <a:lnTo>
                  <a:pt x="1839" y="322"/>
                </a:lnTo>
                <a:lnTo>
                  <a:pt x="1868" y="322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19160" y="3352680"/>
            <a:ext cx="2730600" cy="2451240"/>
          </a:xfrm>
          <a:custGeom>
            <a:avLst/>
            <a:gdLst/>
            <a:ahLst/>
            <a:rect l="l" t="t" r="r" b="b"/>
            <a:pathLst>
              <a:path w="1863" h="1544">
                <a:moveTo>
                  <a:pt x="1862" y="1270"/>
                </a:moveTo>
                <a:lnTo>
                  <a:pt x="1862" y="1543"/>
                </a:lnTo>
                <a:lnTo>
                  <a:pt x="2" y="1543"/>
                </a:lnTo>
                <a:lnTo>
                  <a:pt x="0" y="311"/>
                </a:lnTo>
                <a:lnTo>
                  <a:pt x="161" y="311"/>
                </a:lnTo>
                <a:lnTo>
                  <a:pt x="167" y="300"/>
                </a:lnTo>
                <a:lnTo>
                  <a:pt x="173" y="285"/>
                </a:lnTo>
                <a:lnTo>
                  <a:pt x="173" y="272"/>
                </a:lnTo>
                <a:lnTo>
                  <a:pt x="171" y="257"/>
                </a:lnTo>
                <a:lnTo>
                  <a:pt x="164" y="238"/>
                </a:lnTo>
                <a:lnTo>
                  <a:pt x="158" y="214"/>
                </a:lnTo>
                <a:lnTo>
                  <a:pt x="152" y="197"/>
                </a:lnTo>
                <a:lnTo>
                  <a:pt x="145" y="176"/>
                </a:lnTo>
                <a:lnTo>
                  <a:pt x="143" y="158"/>
                </a:lnTo>
                <a:lnTo>
                  <a:pt x="143" y="138"/>
                </a:lnTo>
                <a:lnTo>
                  <a:pt x="145" y="120"/>
                </a:lnTo>
                <a:lnTo>
                  <a:pt x="152" y="101"/>
                </a:lnTo>
                <a:lnTo>
                  <a:pt x="160" y="83"/>
                </a:lnTo>
                <a:lnTo>
                  <a:pt x="173" y="68"/>
                </a:lnTo>
                <a:lnTo>
                  <a:pt x="191" y="52"/>
                </a:lnTo>
                <a:lnTo>
                  <a:pt x="206" y="39"/>
                </a:lnTo>
                <a:lnTo>
                  <a:pt x="224" y="27"/>
                </a:lnTo>
                <a:lnTo>
                  <a:pt x="243" y="18"/>
                </a:lnTo>
                <a:lnTo>
                  <a:pt x="266" y="10"/>
                </a:lnTo>
                <a:lnTo>
                  <a:pt x="292" y="4"/>
                </a:lnTo>
                <a:lnTo>
                  <a:pt x="321" y="1"/>
                </a:lnTo>
                <a:lnTo>
                  <a:pt x="343" y="0"/>
                </a:lnTo>
                <a:lnTo>
                  <a:pt x="367" y="0"/>
                </a:lnTo>
                <a:lnTo>
                  <a:pt x="389" y="1"/>
                </a:lnTo>
                <a:lnTo>
                  <a:pt x="407" y="4"/>
                </a:lnTo>
                <a:lnTo>
                  <a:pt x="428" y="10"/>
                </a:lnTo>
                <a:lnTo>
                  <a:pt x="449" y="15"/>
                </a:lnTo>
                <a:lnTo>
                  <a:pt x="465" y="23"/>
                </a:lnTo>
                <a:lnTo>
                  <a:pt x="483" y="34"/>
                </a:lnTo>
                <a:lnTo>
                  <a:pt x="500" y="47"/>
                </a:lnTo>
                <a:lnTo>
                  <a:pt x="516" y="63"/>
                </a:lnTo>
                <a:lnTo>
                  <a:pt x="530" y="80"/>
                </a:lnTo>
                <a:lnTo>
                  <a:pt x="541" y="96"/>
                </a:lnTo>
                <a:lnTo>
                  <a:pt x="549" y="116"/>
                </a:lnTo>
                <a:lnTo>
                  <a:pt x="556" y="140"/>
                </a:lnTo>
                <a:lnTo>
                  <a:pt x="556" y="161"/>
                </a:lnTo>
                <a:lnTo>
                  <a:pt x="549" y="184"/>
                </a:lnTo>
                <a:lnTo>
                  <a:pt x="543" y="205"/>
                </a:lnTo>
                <a:lnTo>
                  <a:pt x="537" y="227"/>
                </a:lnTo>
                <a:lnTo>
                  <a:pt x="528" y="252"/>
                </a:lnTo>
                <a:lnTo>
                  <a:pt x="523" y="271"/>
                </a:lnTo>
                <a:lnTo>
                  <a:pt x="523" y="282"/>
                </a:lnTo>
                <a:lnTo>
                  <a:pt x="527" y="292"/>
                </a:lnTo>
                <a:lnTo>
                  <a:pt x="532" y="303"/>
                </a:lnTo>
                <a:lnTo>
                  <a:pt x="839" y="303"/>
                </a:lnTo>
                <a:lnTo>
                  <a:pt x="833" y="354"/>
                </a:lnTo>
                <a:lnTo>
                  <a:pt x="832" y="383"/>
                </a:lnTo>
                <a:lnTo>
                  <a:pt x="833" y="408"/>
                </a:lnTo>
                <a:lnTo>
                  <a:pt x="835" y="432"/>
                </a:lnTo>
                <a:lnTo>
                  <a:pt x="838" y="456"/>
                </a:lnTo>
                <a:lnTo>
                  <a:pt x="842" y="481"/>
                </a:lnTo>
                <a:lnTo>
                  <a:pt x="853" y="499"/>
                </a:lnTo>
                <a:lnTo>
                  <a:pt x="863" y="512"/>
                </a:lnTo>
                <a:lnTo>
                  <a:pt x="878" y="525"/>
                </a:lnTo>
                <a:lnTo>
                  <a:pt x="897" y="535"/>
                </a:lnTo>
                <a:lnTo>
                  <a:pt x="918" y="541"/>
                </a:lnTo>
                <a:lnTo>
                  <a:pt x="941" y="544"/>
                </a:lnTo>
                <a:lnTo>
                  <a:pt x="963" y="545"/>
                </a:lnTo>
                <a:lnTo>
                  <a:pt x="989" y="545"/>
                </a:lnTo>
                <a:lnTo>
                  <a:pt x="1017" y="543"/>
                </a:lnTo>
                <a:lnTo>
                  <a:pt x="1036" y="541"/>
                </a:lnTo>
                <a:lnTo>
                  <a:pt x="1065" y="538"/>
                </a:lnTo>
                <a:lnTo>
                  <a:pt x="1094" y="536"/>
                </a:lnTo>
                <a:lnTo>
                  <a:pt x="1126" y="536"/>
                </a:lnTo>
                <a:lnTo>
                  <a:pt x="1154" y="538"/>
                </a:lnTo>
                <a:lnTo>
                  <a:pt x="1181" y="543"/>
                </a:lnTo>
                <a:lnTo>
                  <a:pt x="1208" y="551"/>
                </a:lnTo>
                <a:lnTo>
                  <a:pt x="1230" y="559"/>
                </a:lnTo>
                <a:lnTo>
                  <a:pt x="1254" y="572"/>
                </a:lnTo>
                <a:lnTo>
                  <a:pt x="1267" y="587"/>
                </a:lnTo>
                <a:lnTo>
                  <a:pt x="1281" y="605"/>
                </a:lnTo>
                <a:lnTo>
                  <a:pt x="1288" y="625"/>
                </a:lnTo>
                <a:lnTo>
                  <a:pt x="1292" y="644"/>
                </a:lnTo>
                <a:lnTo>
                  <a:pt x="1288" y="665"/>
                </a:lnTo>
                <a:lnTo>
                  <a:pt x="1287" y="688"/>
                </a:lnTo>
                <a:lnTo>
                  <a:pt x="1288" y="709"/>
                </a:lnTo>
                <a:lnTo>
                  <a:pt x="1292" y="729"/>
                </a:lnTo>
                <a:lnTo>
                  <a:pt x="1300" y="747"/>
                </a:lnTo>
                <a:lnTo>
                  <a:pt x="1309" y="765"/>
                </a:lnTo>
                <a:lnTo>
                  <a:pt x="1322" y="776"/>
                </a:lnTo>
                <a:lnTo>
                  <a:pt x="1342" y="789"/>
                </a:lnTo>
                <a:lnTo>
                  <a:pt x="1367" y="797"/>
                </a:lnTo>
                <a:lnTo>
                  <a:pt x="1395" y="804"/>
                </a:lnTo>
                <a:lnTo>
                  <a:pt x="1418" y="810"/>
                </a:lnTo>
                <a:lnTo>
                  <a:pt x="1445" y="815"/>
                </a:lnTo>
                <a:lnTo>
                  <a:pt x="1477" y="820"/>
                </a:lnTo>
                <a:lnTo>
                  <a:pt x="1504" y="825"/>
                </a:lnTo>
                <a:lnTo>
                  <a:pt x="1531" y="832"/>
                </a:lnTo>
                <a:lnTo>
                  <a:pt x="1556" y="838"/>
                </a:lnTo>
                <a:lnTo>
                  <a:pt x="1579" y="846"/>
                </a:lnTo>
                <a:lnTo>
                  <a:pt x="1596" y="858"/>
                </a:lnTo>
                <a:lnTo>
                  <a:pt x="1610" y="869"/>
                </a:lnTo>
                <a:lnTo>
                  <a:pt x="1630" y="887"/>
                </a:lnTo>
                <a:lnTo>
                  <a:pt x="1641" y="903"/>
                </a:lnTo>
                <a:lnTo>
                  <a:pt x="1650" y="922"/>
                </a:lnTo>
                <a:lnTo>
                  <a:pt x="1656" y="947"/>
                </a:lnTo>
                <a:lnTo>
                  <a:pt x="1653" y="970"/>
                </a:lnTo>
                <a:lnTo>
                  <a:pt x="1647" y="990"/>
                </a:lnTo>
                <a:lnTo>
                  <a:pt x="1641" y="1016"/>
                </a:lnTo>
                <a:lnTo>
                  <a:pt x="1634" y="1045"/>
                </a:lnTo>
                <a:lnTo>
                  <a:pt x="1625" y="1071"/>
                </a:lnTo>
                <a:lnTo>
                  <a:pt x="1622" y="1093"/>
                </a:lnTo>
                <a:lnTo>
                  <a:pt x="1622" y="1111"/>
                </a:lnTo>
                <a:lnTo>
                  <a:pt x="1627" y="1137"/>
                </a:lnTo>
                <a:lnTo>
                  <a:pt x="1634" y="1159"/>
                </a:lnTo>
                <a:lnTo>
                  <a:pt x="1643" y="1176"/>
                </a:lnTo>
                <a:lnTo>
                  <a:pt x="1655" y="1192"/>
                </a:lnTo>
                <a:lnTo>
                  <a:pt x="1670" y="1210"/>
                </a:lnTo>
                <a:lnTo>
                  <a:pt x="1688" y="1228"/>
                </a:lnTo>
                <a:lnTo>
                  <a:pt x="1709" y="1243"/>
                </a:lnTo>
                <a:lnTo>
                  <a:pt x="1734" y="1255"/>
                </a:lnTo>
                <a:lnTo>
                  <a:pt x="1756" y="1262"/>
                </a:lnTo>
                <a:lnTo>
                  <a:pt x="1780" y="1267"/>
                </a:lnTo>
                <a:lnTo>
                  <a:pt x="1804" y="1270"/>
                </a:lnTo>
                <a:lnTo>
                  <a:pt x="1833" y="1272"/>
                </a:lnTo>
                <a:lnTo>
                  <a:pt x="1862" y="127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1160" y="4467240"/>
            <a:ext cx="1912320" cy="792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CONS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94560" y="1706400"/>
            <a:ext cx="1895760" cy="42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0000" y="4527720"/>
            <a:ext cx="2217240" cy="792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V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8160" y="1676520"/>
            <a:ext cx="2048040" cy="42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LIDERAZ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906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Black"/>
              </a:rPr>
              <a:t>QUE NOS DIC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2040" y="2971800"/>
            <a:ext cx="2559240" cy="152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Estrategi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ccff"/>
                </a:solidFill>
                <a:latin typeface="Times New Roman"/>
              </a:rPr>
              <a:t>Marco Público-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2240" y="6248520"/>
            <a:ext cx="8145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Competencias no técnicas para la gestión d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"/>
                            </p:stCondLst>
                            <p:childTnLst>
                              <p:par>
                                <p:cTn id="1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600"/>
                            </p:stCondLst>
                            <p:childTnLst>
                              <p:par>
                                <p:cTn id="1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70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2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100"/>
                            </p:stCondLst>
                            <p:childTnLst>
                              <p:par>
                                <p:cTn id="1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1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914400"/>
            <a:ext cx="99061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320" y="228600"/>
            <a:ext cx="8750160" cy="5814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UBICACIÓN GE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10480" y="76320"/>
            <a:ext cx="990720" cy="776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92640" y="2286000"/>
            <a:ext cx="13698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680" y="76320"/>
            <a:ext cx="916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cc"/>
                </a:solidFill>
                <a:latin typeface="Arial Black"/>
              </a:rPr>
              <a:t>PROCESOS DE DESARROLLO LOC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838080"/>
            <a:ext cx="4952880" cy="990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OB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33320" y="235116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v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93280" y="2317680"/>
            <a:ext cx="151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581280"/>
            <a:ext cx="3962520" cy="60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MBITO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0280" y="4422600"/>
            <a:ext cx="8602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uevo rol de los sectores público, privado y terce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3160" y="5410080"/>
            <a:ext cx="7677000" cy="10670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va definición de políticas de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cesos de conce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990720"/>
            <a:ext cx="4953240" cy="990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BIO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066680"/>
            <a:ext cx="32004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Bookman Old Style"/>
              </a:rPr>
              <a:t>NIVEL 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actores socio-cultu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cala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trones básicos de organiz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lítica, jurídica y econó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pacidad política y de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276720"/>
            <a:ext cx="22860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Bookman Old Style"/>
              </a:rPr>
              <a:t>NIVEL 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líticas: monetar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aria, fisc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mbiaría, comerci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572000"/>
            <a:ext cx="350496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Bookman Old Style"/>
              </a:rPr>
              <a:t>NIVEL MI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novaciones productivas y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erci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pacidad de gestión empresarial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laciones lab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tegración en redes de co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mpresarial y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3200400"/>
            <a:ext cx="312444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Bookman Old Style"/>
              </a:rPr>
              <a:t>NIVEL M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líticas: infraestructura físic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ducacional, tecnológic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mbiental, region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sarrollo rural, industri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urismo, de comercio ex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371600"/>
            <a:ext cx="2590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Parlament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Gobierno nacion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Instituciones estata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Ministe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Banco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Instituciones de Justi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502920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Productores y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omercio, consumidor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servicios orientados 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5334120"/>
            <a:ext cx="3124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REAR ENTORNOS INNOV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A nivel central, regional y loc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Gobiernos, asoci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empresariales, sindicat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organizaciones de consumidor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instituciones públicas y pri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de I+D, etc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83808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Orientación al aprendizaje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rendimiento de los grupo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act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Representación de interes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nivel de organización 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ondiciones cambi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apacidad soci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organización e integ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apacidad de los grupo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actores para la integr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estraté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3124080"/>
            <a:ext cx="3047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Esfuerzo organizativ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institucional del conju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6668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3581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38280" y="5562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29528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1676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4800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76320"/>
            <a:ext cx="9906120" cy="838440"/>
          </a:xfrm>
          <a:prstGeom prst="rect">
            <a:avLst/>
          </a:prstGeom>
          <a:solidFill>
            <a:srgbClr val="00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3300"/>
                </a:solidFill>
                <a:latin typeface="Arial Black"/>
              </a:rPr>
              <a:t>FACTORES  Y ACTORES DETERMINANTES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3300"/>
                </a:solidFill>
                <a:latin typeface="Arial Black"/>
              </a:rPr>
              <a:t>COMPETITIVIDAD SISTEMICA Y EL DESARROLLO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9040" y="228600"/>
            <a:ext cx="9466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mpetitividad es sistém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las empresas no llevan a cabo la pugna competitiva por sí s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4200" y="2577960"/>
            <a:ext cx="9928080" cy="38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Disponibilidad de servicios de desarrollo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Dotación de infraestructur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Naturaleza y magnitud de la investigación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Capacitación en gestión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Vinculación del sector educativo con los probl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Red de proveedores y competidor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Nivel de exigencia de los usuario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Interacción creativa entre el sector público y los agent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90204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94720" y="561960"/>
            <a:ext cx="84848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La competitividad empresa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depende de tres tipos de actua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440" y="2595600"/>
            <a:ext cx="9211680" cy="2068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333399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s realizadas al interi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s llevadas a cabo en la red de proveedores y 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s orientadas a construir un entorno propicio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5520" y="5402160"/>
            <a:ext cx="7497360" cy="1068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El “territorio” es un actor decisivo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el desarrol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3840" y="2060640"/>
            <a:ext cx="9705960" cy="2562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A modo de ejempl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algunas política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llevadas a cabo en Rafae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09800" y="620640"/>
            <a:ext cx="8057880" cy="19220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pacitación y Asistencia Técn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icios Multisectoriales y Secto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enú flexible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finidas desde la demanda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471760"/>
            <a:ext cx="9525240" cy="4483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seguramiento de la Calida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Normas de seguridad, orden y limpieza, calidad alimentaria, calidad industrial, impacto ambiental, BPM, ISO, HACCP,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poyo a la Innova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realización de diagnósticos especializados sobre innovaciones de productos y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ercio exteri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misiones comerciales, ferias y exposiciones, asistencia a la exportación, capacitación, acceso a canales de comercialización y mercados externo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ercio Interi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organización del Salón de Enlaces Industriales, rondas de negocio, ferias, selección de proveedores, capacitación en marketing-desarrollo comercia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sesoramiento Financier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asistencia en en el acceso al crédito, preparación de proyectos de inversión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erenciamient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apacitación en gestión y dirección de empresa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280" y="76320"/>
            <a:ext cx="9448560" cy="685440"/>
            <a:chOff x="152280" y="76320"/>
            <a:chExt cx="9448560" cy="685440"/>
          </a:xfrm>
        </p:grpSpPr>
        <p:sp>
          <p:nvSpPr>
            <p:cNvPr id="97" name=""/>
            <p:cNvSpPr/>
            <p:nvPr/>
          </p:nvSpPr>
          <p:spPr>
            <a:xfrm>
              <a:off x="152280" y="76320"/>
              <a:ext cx="9448560" cy="685440"/>
            </a:xfrm>
            <a:prstGeom prst="rect">
              <a:avLst/>
            </a:prstGeom>
            <a:gradFill rotWithShape="0">
              <a:gsLst>
                <a:gs pos="0">
                  <a:srgbClr val="001d7a"/>
                </a:gs>
                <a:gs pos="100000">
                  <a:srgbClr val="0017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Desarrollo de SERVICIOS Empresar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600" y="156960"/>
              <a:ext cx="552240" cy="540360"/>
            </a:xfrm>
            <a:prstGeom prst="ellipse">
              <a:avLst/>
            </a:prstGeom>
            <a:gradFill rotWithShape="0">
              <a:gsLst>
                <a:gs pos="0">
                  <a:srgbClr val="053ff7"/>
                </a:gs>
                <a:gs pos="100000">
                  <a:srgbClr val="001d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1:32:35Z</dcterms:created>
  <dc:creator>Roberto Mirabella</dc:creator>
  <dc:description/>
  <dc:language>en-US</dc:language>
  <cp:lastModifiedBy>pagina</cp:lastModifiedBy>
  <dcterms:modified xsi:type="dcterms:W3CDTF">2004-04-27T20:57:11Z</dcterms:modified>
  <cp:revision>174</cp:revision>
  <dc:subject>DEL - Concertación Publico - Privada - La experiencia Rafaela</dc:subject>
  <dc:title>Presentacion </dc:title>
</cp:coreProperties>
</file>