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907588" cy="6858000"/>
  <p:notesSz cx="6858000" cy="11850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2C85-3F50-4135-83C0-E4D4CEA9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2680" y="130320"/>
            <a:ext cx="84200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DB54-5CDF-464A-BA1A-23E1E941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130320"/>
            <a:ext cx="84200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6245-9A87-4ED9-BE21-4024C1E9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130320"/>
            <a:ext cx="84200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E3E3-2342-4139-9581-A3D7A2638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5319-9169-4DCA-98BB-6B4B2D59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2680" y="130320"/>
            <a:ext cx="84200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79CB-9C39-4575-9ED3-7CE37345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2680" y="130320"/>
            <a:ext cx="84200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5723-EE57-4C9A-87F8-A9FD25A7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130320"/>
            <a:ext cx="84200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F7FE-258D-4C93-A8D9-7DB916FA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2680" y="130320"/>
            <a:ext cx="84200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054E-35CD-47E2-BE47-FD0D5889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742680" y="130320"/>
            <a:ext cx="842004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FD24-354F-4768-A814-DEC55BD3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2680" y="130320"/>
            <a:ext cx="84200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BF12-3474-43BF-A147-FEC5C69D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130320"/>
            <a:ext cx="84200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6900-BF36-425A-9462-FC020B15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2680" y="130320"/>
            <a:ext cx="84200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672B-A341-4C5C-AFF2-AD93C6D8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2680" y="130320"/>
            <a:ext cx="84200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1728-704C-430A-8883-F01DD55E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130320"/>
            <a:ext cx="84200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8071-F335-4F2F-84C3-0D5373B8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2680" y="130320"/>
            <a:ext cx="84200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777E-6566-4FBF-AF33-FD33958FD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2680" y="130320"/>
            <a:ext cx="84200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8191-01B6-40CC-9372-C449A596F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2680" y="130320"/>
            <a:ext cx="84200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2899-5C4B-4B4F-9C17-B1FCD59C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130320"/>
            <a:ext cx="84200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ECA6-FF01-4A32-B61A-6F29D2AF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2680" y="130320"/>
            <a:ext cx="84200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2F5A-38B1-4109-8FDA-69735EFD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42680" y="130320"/>
            <a:ext cx="842004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C92E-1423-4493-B396-6CF51BDE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2680" y="130320"/>
            <a:ext cx="84200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4C6F-0C0F-4491-BBC4-21DACE37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130320"/>
            <a:ext cx="84200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8280-90F5-4CC8-B86A-088FFD1D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130320"/>
            <a:ext cx="84200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8A58-F92A-49EC-AA58-1CBF7E70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15960" y="-159120"/>
            <a:ext cx="11421720" cy="7610040"/>
            <a:chOff x="-1515960" y="-159120"/>
            <a:chExt cx="11421720" cy="7610040"/>
          </a:xfrm>
        </p:grpSpPr>
        <p:sp>
          <p:nvSpPr>
            <p:cNvPr id="1" name=""/>
            <p:cNvSpPr/>
            <p:nvPr/>
          </p:nvSpPr>
          <p:spPr>
            <a:xfrm>
              <a:off x="2806560" y="6120"/>
              <a:ext cx="298692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98728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438600" y="7560"/>
              <a:ext cx="299088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301920" y="0"/>
              <a:ext cx="357696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01240" y="168120"/>
              <a:ext cx="602604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560240" y="1163160"/>
              <a:ext cx="4038480" cy="1733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42560" y="91800"/>
              <a:ext cx="602604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460160" y="1564560"/>
              <a:ext cx="5562360" cy="2641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288880" y="1463040"/>
              <a:ext cx="61808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3196440" y="1386720"/>
              <a:ext cx="602568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308720" y="2880"/>
              <a:ext cx="1873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90576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06560" y="6294240"/>
              <a:ext cx="298692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98728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438600" y="6294240"/>
              <a:ext cx="299088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301920" y="6294240"/>
              <a:ext cx="357696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90576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442040" y="6233760"/>
              <a:ext cx="17816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624760" y="6151320"/>
              <a:ext cx="1682640" cy="825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386720" y="6151320"/>
              <a:ext cx="1682640" cy="825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120240" y="6100560"/>
              <a:ext cx="1641240" cy="837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90360" y="6221160"/>
              <a:ext cx="61084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412200" y="6221160"/>
              <a:ext cx="2641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5220360" y="6297480"/>
              <a:ext cx="229068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851520" y="6221160"/>
              <a:ext cx="2641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943600" y="6221160"/>
              <a:ext cx="396216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90576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130320"/>
            <a:ext cx="84200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71120" y="63133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413160" y="63133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7128000" y="63133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5CDA-A992-48F7-8DF0-D404EEB831C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16320" y="-173160"/>
            <a:ext cx="11434680" cy="7043760"/>
            <a:chOff x="-1516320" y="-173160"/>
            <a:chExt cx="11434680" cy="7043760"/>
          </a:xfrm>
        </p:grpSpPr>
        <p:sp>
          <p:nvSpPr>
            <p:cNvPr id="70" name=""/>
            <p:cNvSpPr/>
            <p:nvPr/>
          </p:nvSpPr>
          <p:spPr>
            <a:xfrm>
              <a:off x="2806920" y="-7920"/>
              <a:ext cx="298692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98728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438960" y="-6480"/>
              <a:ext cx="299088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02280" y="-14400"/>
              <a:ext cx="357696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1240" y="154080"/>
              <a:ext cx="602640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561320" y="1149120"/>
              <a:ext cx="4038840" cy="1733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2560" y="77760"/>
              <a:ext cx="602640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460520" y="1550880"/>
              <a:ext cx="5562720" cy="2641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288880" y="1449000"/>
              <a:ext cx="618120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3196080" y="1372680"/>
              <a:ext cx="602604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09080" y="-11160"/>
              <a:ext cx="1873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90648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06920" y="3948120"/>
              <a:ext cx="298692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98728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38960" y="3948120"/>
              <a:ext cx="299088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02280" y="3948120"/>
              <a:ext cx="357696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880" y="3898800"/>
              <a:ext cx="990648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42040" y="3887640"/>
              <a:ext cx="178200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625120" y="3805200"/>
              <a:ext cx="1683000" cy="825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386720" y="3805200"/>
              <a:ext cx="1683000" cy="825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120600" y="3754800"/>
              <a:ext cx="1641600" cy="837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89640" y="3874320"/>
              <a:ext cx="61088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412200" y="3874320"/>
              <a:ext cx="2641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5220720" y="3950640"/>
              <a:ext cx="229068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851880" y="3874320"/>
              <a:ext cx="2641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942880" y="3874320"/>
              <a:ext cx="396252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90648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90648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90648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351800" y="2619360"/>
              <a:ext cx="351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16200" y="1904760"/>
            <a:ext cx="78422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AA83-7F87-4B6A-BE51-28178E59FEE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42680" y="914400"/>
            <a:ext cx="8420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ffcc00"/>
                </a:solidFill>
                <a:latin typeface="Arial Black"/>
              </a:rPr>
              <a:t>V. JORNADAS INTERDISCIPLINARIAS SOBRE SOCIEDADES Y CONCURSOS</a:t>
            </a:r>
            <a:br>
              <a:rPr sz="2400"/>
            </a:br>
            <a:r>
              <a:rPr b="1" lang="es-ES_tradnl" sz="2400" spc="-1" strike="noStrike">
                <a:solidFill>
                  <a:srgbClr val="ffcc00"/>
                </a:solidFill>
                <a:latin typeface="Arial Black"/>
              </a:rPr>
              <a:t>27 y 28 de septiembre de  de 2004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485720" y="2742840"/>
            <a:ext cx="69339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LOS ACUERDOS PREVENTIVOS EXTRAJUDICIALES, EXPERIENCIAS Y NECESIDAD DE SU REFOR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xpositor: Dr. C.P. José Escand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2680" y="417600"/>
            <a:ext cx="84200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 Black"/>
              </a:rPr>
              <a:t>LA REALIDAD ARGENTINA AL TIEMPO DE LA CREACIÓN LEGISLATIVA DE LOS AP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42680" y="1341000"/>
            <a:ext cx="84200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RISIS, CESACIÓN DE PAGOS SISTÉMICA, ABANDONO DE LA CONVERTIBILIDAD DEL PESO Y PÉRDIDA DE LA PARIDAD CAMBIARIA DE LA MONEDA LOC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IMPACTO SOBRE LAS GRANDES EMPRESAS: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ENDEUDAMIENTO DIRECTO EN DIVISAS CON EL EXTERIOR Y ESTRUCTURA DE PRECIOS SUJETA AL MERCADO INTERNO, EN ALGUNOS CASOS CON ANCLAJES PARA EVITAR SU EVOLUCIÓN SEGÙN LA TASA DE DEVALUACIÒN O LA TASA DE VARIACIÒN DE LOS PRECIOS INTERN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FOCO DEL PROBLEMA: ENDEUDAMIENTO FINANCI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IMPACTO SOBRE LAS PYM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SCASO ENDEUDAMIENTO FINANCIERO; ALTO ENDEUDAMIENTO FISCAL Y PREVISIONAL, ALTO ENDEUDAMIENTO COMERCIAL CON ROTURA DE LA CADENA DE PAG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FOCO DEL PROBLEMA: ENDEUDAMIENTO GENE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2680" y="172080"/>
            <a:ext cx="8420040" cy="15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ffcc00"/>
                </a:solidFill>
                <a:latin typeface="Arial Black"/>
              </a:rPr>
              <a:t>QUÉ CREAMOS LEGISLATIVAMENTE PARA SOLUCIONAR ESTOS PROBLEMAS?</a:t>
            </a: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42680" y="1773000"/>
            <a:ext cx="842004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N SISTEMA DE 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ACUERDOS EXTRAJUDICIAL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ENTRE DEUDOR Y ACREEDORES CON 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PROYECCIÓN CONCURSAL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N 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SISTEMA DESINTEGRADO DE LOS INSTITUTOS CONCURSAL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SIN AGREGADO DE LEGAJOS, SIN VERIFICACIÓN DE CRÉDITOS, SIN INFORMACIÓN DEL DEUDOR, SIN INFORMES DE FUNCIONARIOS, SIN OPOSICIÓN ORGÀNICA DE OTROS ACREEDORES, SIN CONTROL DE ADMINISTRACIÒN DE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N SISTEMA QUE 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VULNERA EL PRINCIPIO DE INOPONIBILIDAD CONTRACTUAL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DEL Art. 1195 in fine Y 1199 DEL CÓDIGO CIVI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N SISTEMA QUE 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EXIGE DE LOS JUEC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UNA DOSIS DE 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CREATIVIDAD PRETORIAN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INTEGRATIVA DE NORM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2680" y="951480"/>
            <a:ext cx="8420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 Black"/>
              </a:rPr>
              <a:t>QUÉ OCURRE EN EL MUNDO MIENTRAS TANTO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EL BANCO MUNDIAL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EMITE LOS PRINCIPIOS Y LÍNEAS RECTORAS PARA SISTEMAS EFICIENTES DE INSOLVENCIA (Abril de 2001)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EL PRINCIPIO Nº 26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SE REFIERE A LOS DENOMINADOS “ACUERDOS INFORMALES”: LOS RECOMIENDA PARA CONTEXTOS CON CRISIS SISTÉMICA, CON IMPORTANTE AFECTACIÓN DEL SISTEMA FINANCIERO, BAJO EL CONTROL O INTERVENCIÓN DE ÓRGANOS DE LA IMPORTANCIA DE LOS BANCOS CENTRALES O MINISTERIOS DE ECONOMÍA. 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UBICA SUS EFECTOS EN LA TEORÍA CONTRACTUAL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AFIRMANDO QUE SU PROYECCIÓN A LAS MINORÍAS EXIGE SU ACUERDO (DE LO CONTRARIO CABE ACUDIR A PROCESOS “FORMALES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2680" y="798840"/>
            <a:ext cx="8420040" cy="7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 Black"/>
              </a:rPr>
              <a:t>QUÉ OCURRE EN EL MUNDO MIENTRAS TANTO?</a:t>
            </a:r>
            <a:br>
              <a:rPr sz="2400"/>
            </a:br>
            <a:r>
              <a:rPr b="0" lang="es-ES_tradnl" sz="2000" spc="-1" strike="noStrike">
                <a:solidFill>
                  <a:srgbClr val="ffcc00"/>
                </a:solidFill>
                <a:latin typeface="Arial Black"/>
              </a:rPr>
              <a:t>(-2-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ESPAÑ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SANCIONA LA LEY DE QUIEBRAS 22/2003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VÉ LA CELEBRACIÓN DE 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ACUERDOS EXTRAJUDICIAL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Y PERMITE SU CONVALIDACIÓN JUDICIAL, PERO DE 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MODO INTEGRADO A LA LEGISLACIÓN CONCURSAL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TRÁMITE JUDICIAL DEL ACUERDO ES IGUAL AÚN SI JUNTO CON LA PRESENTACIÓN INICIAL SE ACOMPAÑA EL ACUERDO Y LAS CONFORMIDADES, 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REQUIERE LOS MISMOS CONTROLES, INFORMES, EVALUACIONES Y ANÁLISI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(Art. 107 de la Ley 22/2003), VARIANDO ÚNICAMENTE EN QUE SE ABREVIA TODA LA ETAPA POSTERIOR DE OBTENCIÓN DE LAS CONFORM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2680" y="585720"/>
            <a:ext cx="84200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 Black"/>
              </a:rPr>
              <a:t>LA EXPERIENCIA Y LA REALIDAD ARGENTINA </a:t>
            </a:r>
            <a:br>
              <a:rPr sz="2400"/>
            </a:br>
            <a:r>
              <a:rPr b="1" lang="es-ES_tradnl" sz="2400" spc="-1" strike="noStrike">
                <a:solidFill>
                  <a:srgbClr val="ffcc00"/>
                </a:solidFill>
                <a:latin typeface="Arial Black"/>
              </a:rPr>
              <a:t>EN MATERIA DE APE:</a:t>
            </a:r>
            <a:br>
              <a:rPr sz="2400"/>
            </a:br>
            <a:r>
              <a:rPr b="1" lang="es-ES_tradnl" sz="2400" spc="-1" strike="noStrike">
                <a:solidFill>
                  <a:srgbClr val="ffcc00"/>
                </a:solidFill>
                <a:latin typeface="Arial Black"/>
              </a:rPr>
              <a:t>REALIDAD E INTERROGANTE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NO EXISTE GRAN CANTIDAD DE PRESENTACION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, AUNQUE SÍ CABE DESTACAR LA MAGNITUD DE LA MAYOR PARTE DE LAS MISM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PROCEDIMIENTO HA SIDO 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UTILIZADO POR LA CASI TOTALIDAD DE LAS GRANDES EMPRES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QUE NO HAN CONTADO CON ASISTENCIA FINANCIERA DE SUS ACCIONISTAS DEL EXTERIOR. 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SE HA AGOTADO LA NECESIDAD DE UTILIZAR ESTE “SUBTIPO CONCURSAL”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PROCEDIMIENTO HA SIDO 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UTILIZADO POR UNAS POCAS PYM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Y POR PARTICULARES, CON SUERTE DIVERSA Y PROBLEMÁTICA MUY DEFINIDA. 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HA SIDO ÚTIL ESTE INSTITUTO PARA LA PROBLEMÁTICA DE LA CRISIS DE LA PYM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42680" y="768600"/>
            <a:ext cx="84200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 Black"/>
              </a:rPr>
              <a:t>LOS RASGOS PRINCIPALES DE LOS APE DE LAS GRANDES EMPRESA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HAN 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LIMITADO A LOS PASIVOS FINANCIEROS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(OBLIGACIONES NEGOCIABLES Y CRÉDITOS BANCARIOS, TODOS ELLOS CASI ÍNTEGRAMENTE “NO PESIFICADOS”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A LOS RESTANTES ACREEDORES SE LES CONTINUÓ PAGANDO SEGÚN SUS RESPECTIVOS TÍTUL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Y NO SE ACOMPAÑARON CONFORMIDADES (O SEA: CATEGORIZACIÓN TÁCITA Y PRESUNCIÓN DE ACEPTACIÓ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S 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MAYORÍAS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LCANZADAS EN LA CATEGORÍA FINANCIERA ALCANZADA POR EL APE OSCILÓ 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ENTRE EL 87 Y EL 95 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PROYECCIÓN CONCURSAL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DE ESTOS APE A LAS MINORÍAS DISIDENTES QUEDÓ LIMITADA 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ENTRE EL 13 Y EL 5 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TERVINIERON ASESORES FINANCIEROS INTERNACIONALES Y LAS EMPRESAS ESTÁN SUJETAS A AUDITORÍA DE GRANDES ESTUD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2680" y="770040"/>
            <a:ext cx="842004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 Black"/>
              </a:rPr>
              <a:t>LOS RASGOS PRINCIPALES DE LOS APE DE LAS PYM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POCOS CASOS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, PERO EN ELLOS EL PROCESO DE CESACIÓN DE PAGOS AFECTA A TODOS LOS ACREEDORES Y </a:t>
            </a: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NO EXISTE CAPACIDAD DE EXCLUIR A CATEGORÍA ALGUNA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XISTE UNA </a:t>
            </a: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MUY IMPORTANTE DEUDA FISCAL Y PREVISIONAL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. LAS REGLAS FISCALES NO ADMITEN AL APE COMO FIGURA CONCURS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XISTEN DIFICULTADES PARA MANTENER UNA ADMINISTRACIÓN Y CONTABILIDAD EFICIENTES Y POR ENDE EXISTEN </a:t>
            </a: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FALENCIAS IMPORTANTES DE EXPOSICIÓN DE INFORMACIÓN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HAN EXISTIDO </a:t>
            </a: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CASOS PARADIGMÁTICOS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QUE DETERMINAN JURISPRUDENCIA DE EXCLUSIÓN (VINCULADOS CON </a:t>
            </a: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MANEJOS FRAUDULENTOS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E INTENTOS DE LOGRAR </a:t>
            </a: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EFECTOS ABUSIVOS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Y CON IMPOSIBILIDAD DE DAR UN MARCO DE REGISTRACIONES CONFIABLES PARA SUSTENTAR EL APE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2680" y="643320"/>
            <a:ext cx="8420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 Black"/>
              </a:rPr>
              <a:t>CONCLUSIONES POSIBL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42680" y="1484280"/>
            <a:ext cx="84200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EL APE YA CUMPLIÓ LA FINALIDAD POLÍTICO ECONÓMICA QUE MOTIVÓ SU CREACIÓN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LA CESACIÓN DE PAGOS DE LAS GRANDES EMPRESAS COMO DERIVACIÓN DE LA CRISIS SISTÉMICA. EN SU APLICACIÓN A LAS PYME EVIDENCIÓ TODAS SUS FALENCI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RRESPONDE 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REALINEARSE CON LOS PRINCIPIOS INTERNACIONAL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Y ELIMINAR LOS EFECTOS CONCURSALES A UNA ESTRATEGIA DE REFINANCIACIÓN DE PASIVOS DE CARÁCTER JURÍDICO CONTRACT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ÚTIL 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INTEGRAR LA LEY CONCURSAL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(AMÉN DE OTRAS REFORMAS) CON LA INTRODUCCIÓN DE “ACUERDOS CERRADOS O EMPAQUETADOS”, QUE OPEREN SIMPLEMENTE COMO UNA ABREVIACIÓN DEL PLAZO DE CONFORMIDADES PERO QUE QUEDEN SUJETOS A LA RESTANTE NORMATIV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03:45:14Z</dcterms:created>
  <dc:creator>Escandell</dc:creator>
  <dc:description/>
  <dc:language>en-US</dc:language>
  <cp:lastModifiedBy>C.P.C.E.C.A.B.A.</cp:lastModifiedBy>
  <dcterms:modified xsi:type="dcterms:W3CDTF">2004-10-22T12:33:57Z</dcterms:modified>
  <cp:revision>27</cp:revision>
  <dc:subject/>
  <dc:title>3ras. JORNADAS DE SINDICATURA CONCURSAL Córdoba, 27 y 28 de noviembre de 2003</dc:title>
</cp:coreProperties>
</file>