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28.png" ContentType="image/png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projctor.wav" ContentType="audio/x-wav"/>
  <Override PartName="/ppt/media/image27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3040" y="540000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212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008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676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304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008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676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B77A-1813-498F-BC5A-2541AD305B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322A-55BB-4C0A-8B10-34F50B25C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9040-2718-4FD9-8E8B-0070B9D29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5854-5449-4ECB-A1AA-1A68D3358A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28FF-4044-42E9-9ACF-78F4D0BA0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58640" y="3074760"/>
            <a:ext cx="7427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3948-D9C0-4A1C-9F7E-DD725F6EC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50CB-7E16-46B3-B66C-7C1CC2E9E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212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FA88-689B-411F-8DE1-8CB8A18D1F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9BC1-DBA3-436A-B6E5-B95DF978B4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3040" y="540000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3F4C-BCD4-40AE-8CEF-FC5E471B1A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212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1771-2C76-4398-9339-78C97B06F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008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86760" y="448416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304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8008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86760" y="5400000"/>
            <a:ext cx="2387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4427-89CE-455A-B289-AEFC4E504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7413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8640" y="3074760"/>
            <a:ext cx="7427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2120" y="540000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304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2120" y="4484160"/>
            <a:ext cx="3617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3040" y="5400000"/>
            <a:ext cx="741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S-Template-Part1.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480" y="25560"/>
            <a:ext cx="77724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85000"/>
              </a:lnSpc>
              <a:spcBef>
                <a:spcPts val="1950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85000"/>
              </a:lnSpc>
              <a:spcBef>
                <a:spcPts val="1950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85000"/>
              </a:lnSpc>
              <a:spcBef>
                <a:spcPts val="1950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165240" y="6486480"/>
            <a:ext cx="4474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658A-D1C1-4D0E-AB44-BD7BF105864D}" type="slidenum">
              <a:rPr b="0" lang="en-US" sz="1000" spc="-1" strike="noStrike">
                <a:solidFill>
                  <a:srgbClr val="57a0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87320" y="6659280"/>
            <a:ext cx="756936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57a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7a0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S-Template-Part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8640" y="30747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583920" y="6486120"/>
            <a:ext cx="4474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a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8A4-AB48-4AEB-9DAE-63DB6A78022D}" type="slidenum">
              <a:rPr b="0" lang="en-US" sz="1000" spc="-1" strike="noStrike">
                <a:solidFill>
                  <a:srgbClr val="57a0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lnSpc>
                <a:spcPct val="85000"/>
              </a:lnSpc>
              <a:spcBef>
                <a:spcPts val="751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4" marL="1828800" algn="ctr">
              <a:lnSpc>
                <a:spcPct val="85000"/>
              </a:lnSpc>
              <a:spcBef>
                <a:spcPts val="751"/>
              </a:spcBef>
              <a:buClr>
                <a:srgbClr val="00fff2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omercio.com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0381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La Seguridad</a:t>
            </a:r>
            <a:br>
              <a:rPr sz="2600"/>
            </a:br>
            <a:br>
              <a:rPr sz="2600"/>
            </a:b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Factor clave de aceptación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3040" y="5943600"/>
            <a:ext cx="7413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"/>
          <p:cNvSpPr/>
          <p:nvPr/>
        </p:nvSpPr>
        <p:spPr>
          <a:xfrm>
            <a:off x="1525680" y="5943600"/>
            <a:ext cx="7413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Garamond"/>
              </a:rPr>
              <a:t>Norberto Marinel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Garamond"/>
              </a:rPr>
              <a:t>CEO - CertiSur S.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8600" y="1676520"/>
            <a:ext cx="505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dios de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 el Mund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457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Beneficios para el Comercio Adhe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752480"/>
            <a:ext cx="807732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Pago garantizado de las transacciones autentic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Transferencia de la responsabilidad por fraude y  contracargos derivados de la impersonalización, del comercio y banco pagador al banco em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Eliminación de la necesidad de utilizar medios alternativos de control del fraude (ej.: fraud screening), con la consiguiente reducción del costo de las trans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Mejoramiento de la confianza del consumidor y, por lo tanto, conversión de la vidriera en local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4851360" y="2825640"/>
            <a:ext cx="4292640" cy="3747240"/>
            <a:chOff x="4851360" y="2825640"/>
            <a:chExt cx="4292640" cy="3747240"/>
          </a:xfrm>
        </p:grpSpPr>
        <p:grpSp>
          <p:nvGrpSpPr>
            <p:cNvPr id="178" name=""/>
            <p:cNvGrpSpPr/>
            <p:nvPr/>
          </p:nvGrpSpPr>
          <p:grpSpPr>
            <a:xfrm>
              <a:off x="4851360" y="5867280"/>
              <a:ext cx="4292640" cy="705600"/>
              <a:chOff x="4851360" y="5867280"/>
              <a:chExt cx="4292640" cy="705600"/>
            </a:xfrm>
          </p:grpSpPr>
          <p:sp>
            <p:nvSpPr>
              <p:cNvPr id="179" name=""/>
              <p:cNvSpPr/>
              <p:nvPr/>
            </p:nvSpPr>
            <p:spPr>
              <a:xfrm>
                <a:off x="4851360" y="5867280"/>
                <a:ext cx="241560" cy="26676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5f5f5f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00840" y="5869080"/>
                <a:ext cx="4043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ffffff"/>
                    </a:solidFill>
                    <a:latin typeface="Arial"/>
                  </a:rPr>
                  <a:t>El usuario recibe la confirmación de la transacción aceptad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040360" y="2825640"/>
              <a:ext cx="3672000" cy="2962440"/>
            </a:xfrm>
            <a:prstGeom prst="rect">
              <a:avLst/>
            </a:prstGeom>
            <a:ln w="9360">
              <a:solidFill>
                <a:srgbClr val="d6d6d6"/>
              </a:solidFill>
              <a:miter/>
            </a:ln>
          </p:spPr>
        </p:pic>
      </p:grpSp>
      <p:sp>
        <p:nvSpPr>
          <p:cNvPr id="182" name=""/>
          <p:cNvSpPr/>
          <p:nvPr/>
        </p:nvSpPr>
        <p:spPr>
          <a:xfrm>
            <a:off x="9144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Impacto Mínimo en 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520" y="1905120"/>
            <a:ext cx="7673760" cy="3166920"/>
            <a:chOff x="533520" y="1905120"/>
            <a:chExt cx="7673760" cy="3166920"/>
          </a:xfrm>
        </p:grpSpPr>
        <p:sp>
          <p:nvSpPr>
            <p:cNvPr id="184" name=""/>
            <p:cNvSpPr/>
            <p:nvPr/>
          </p:nvSpPr>
          <p:spPr>
            <a:xfrm>
              <a:off x="4448160" y="1927440"/>
              <a:ext cx="37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Arial"/>
                </a:rPr>
                <a:t>El usuario selecciona su compra y presiona “comprar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3240" y="1905120"/>
              <a:ext cx="241560" cy="26676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33520" y="2171880"/>
              <a:ext cx="3622680" cy="2900160"/>
            </a:xfrm>
            <a:prstGeom prst="rect">
              <a:avLst/>
            </a:prstGeom>
            <a:ln w="6480">
              <a:solidFill>
                <a:srgbClr val="d6d6d6"/>
              </a:solidFill>
              <a:miter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343080" y="2629080"/>
            <a:ext cx="5833800" cy="3600720"/>
            <a:chOff x="343080" y="2629080"/>
            <a:chExt cx="5833800" cy="3600720"/>
          </a:xfrm>
        </p:grpSpPr>
        <p:sp>
          <p:nvSpPr>
            <p:cNvPr id="188" name=""/>
            <p:cNvSpPr/>
            <p:nvPr/>
          </p:nvSpPr>
          <p:spPr>
            <a:xfrm>
              <a:off x="343080" y="5526000"/>
              <a:ext cx="266400" cy="287280"/>
            </a:xfrm>
            <a:prstGeom prst="ellipse">
              <a:avLst/>
            </a:prstGeom>
            <a:solidFill>
              <a:srgbClr val="3366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440" y="5526000"/>
              <a:ext cx="429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Arial"/>
                </a:rPr>
                <a:t>Se le solicita al usuario que se autentique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1765440" y="2629080"/>
              <a:ext cx="4411440" cy="2901600"/>
            </a:xfrm>
            <a:prstGeom prst="rect">
              <a:avLst/>
            </a:prstGeom>
            <a:ln w="6480">
              <a:solidFill>
                <a:srgbClr val="d6d6d6"/>
              </a:solidFill>
              <a:miter/>
            </a:ln>
          </p:spPr>
        </p:pic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Desafío para el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75248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entury Gothic"/>
                <a:ea typeface="Times New Roman"/>
              </a:rPr>
              <a:t>GENERAR CONFIANZA EN LOS CONSUM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2971800"/>
            <a:ext cx="6873840" cy="31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No utilización de mecanismos inseguros</a:t>
            </a:r>
            <a:r>
              <a:rPr b="0" lang="es-AR" sz="2800" spc="-1" strike="noStrike">
                <a:solidFill>
                  <a:srgbClr val="ffffff"/>
                </a:solidFill>
                <a:latin typeface="Garamond"/>
              </a:rPr>
              <a:t> (ej.: solicitar información personal mediante mails no firmados digitalmente o en páginas no segur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Capacitación al usuario respecto de las herramientas de seguridad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(Porqué es seguro comprar en este sit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0" y="1447560"/>
            <a:ext cx="57657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dentificar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Sitio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Persona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Utilización de Certificados Digita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b5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078200" cy="1089000"/>
          </a:xfrm>
          <a:prstGeom prst="rect">
            <a:avLst/>
          </a:prstGeom>
          <a:ln w="0">
            <a:noFill/>
          </a:ln>
        </p:spPr>
      </p:pic>
      <p:pic>
        <p:nvPicPr>
          <p:cNvPr id="197" name="b6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078200" cy="1089000"/>
          </a:xfrm>
          <a:prstGeom prst="rect">
            <a:avLst/>
          </a:prstGeom>
          <a:ln w="0">
            <a:noFill/>
          </a:ln>
        </p:spPr>
      </p:pic>
      <p:pic>
        <p:nvPicPr>
          <p:cNvPr id="198" name="b7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078200" cy="1089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09680" y="3200400"/>
            <a:ext cx="3505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Fir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Documentos Digita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Comunic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5105520"/>
            <a:ext cx="57657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Encrip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Garamond"/>
              </a:rPr>
              <a:t>Comunicaciones y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URL%20IE_f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2666880" cy="419400"/>
          </a:xfrm>
          <a:prstGeom prst="rect">
            <a:avLst/>
          </a:prstGeom>
          <a:ln w="0">
            <a:noFill/>
          </a:ln>
        </p:spPr>
      </p:pic>
      <p:pic>
        <p:nvPicPr>
          <p:cNvPr id="202" name="Candado%20Netscape_f" descr=""/>
          <p:cNvPicPr/>
          <p:nvPr/>
        </p:nvPicPr>
        <p:blipFill>
          <a:blip r:embed="rId5"/>
          <a:stretch/>
        </p:blipFill>
        <p:spPr>
          <a:xfrm>
            <a:off x="6019920" y="1981080"/>
            <a:ext cx="1143000" cy="536760"/>
          </a:xfrm>
          <a:prstGeom prst="rect">
            <a:avLst/>
          </a:prstGeom>
          <a:ln w="0">
            <a:noFill/>
          </a:ln>
        </p:spPr>
      </p:pic>
      <p:pic>
        <p:nvPicPr>
          <p:cNvPr id="203" name="CertiSurSealTrans" descr=""/>
          <p:cNvPicPr/>
          <p:nvPr/>
        </p:nvPicPr>
        <p:blipFill>
          <a:blip r:embed="rId6"/>
          <a:stretch/>
        </p:blipFill>
        <p:spPr>
          <a:xfrm>
            <a:off x="7848720" y="1523880"/>
            <a:ext cx="71748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TASIGN" descr=""/>
          <p:cNvPicPr/>
          <p:nvPr/>
        </p:nvPicPr>
        <p:blipFill>
          <a:blip r:embed="rId7"/>
          <a:stretch/>
        </p:blipFill>
        <p:spPr>
          <a:xfrm>
            <a:off x="5791320" y="2971800"/>
            <a:ext cx="1476360" cy="1398600"/>
          </a:xfrm>
          <a:prstGeom prst="rect">
            <a:avLst/>
          </a:prstGeom>
          <a:ln w="0">
            <a:noFill/>
          </a:ln>
        </p:spPr>
      </p:pic>
      <p:pic>
        <p:nvPicPr>
          <p:cNvPr id="205" name="FirmaPDF9" descr=""/>
          <p:cNvPicPr/>
          <p:nvPr/>
        </p:nvPicPr>
        <p:blipFill>
          <a:blip r:embed="rId8"/>
          <a:stretch/>
        </p:blipFill>
        <p:spPr>
          <a:xfrm>
            <a:off x="6705720" y="34290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06" name="SM05" descr=""/>
          <p:cNvPicPr/>
          <p:nvPr/>
        </p:nvPicPr>
        <p:blipFill>
          <a:blip r:embed="rId9"/>
          <a:stretch/>
        </p:blipFill>
        <p:spPr>
          <a:xfrm>
            <a:off x="7010280" y="2666880"/>
            <a:ext cx="1828800" cy="1263600"/>
          </a:xfrm>
          <a:prstGeom prst="rect">
            <a:avLst/>
          </a:prstGeom>
          <a:ln w="0">
            <a:noFill/>
          </a:ln>
        </p:spPr>
      </p:pic>
      <p:pic>
        <p:nvPicPr>
          <p:cNvPr id="207" name="Integris-Bull" descr=""/>
          <p:cNvPicPr/>
          <p:nvPr/>
        </p:nvPicPr>
        <p:blipFill>
          <a:blip r:embed="rId10"/>
          <a:stretch/>
        </p:blipFill>
        <p:spPr>
          <a:xfrm>
            <a:off x="5943600" y="50292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SM05" descr=""/>
          <p:cNvPicPr/>
          <p:nvPr/>
        </p:nvPicPr>
        <p:blipFill>
          <a:blip r:embed="rId11"/>
          <a:stretch/>
        </p:blipFill>
        <p:spPr>
          <a:xfrm>
            <a:off x="6858000" y="5257800"/>
            <a:ext cx="1828800" cy="126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bb83ff"/>
                </a:solidFill>
                <a:uFillTx/>
                <a:latin typeface="Garamond"/>
                <a:hlinkClick r:id="rId1"/>
              </a:rPr>
              <a:t>www.micomercio.com</a:t>
            </a: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 es un sitio seguro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Haciendo click en el candadito se puede verificar la identidad del sitio web y quién es su propietari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Operar en “mi comercio” es confidenci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5000"/>
              </a:lnSpc>
              <a:spcBef>
                <a:spcPts val="82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Garamond"/>
              </a:rPr>
              <a:t>Cualquier dato que se transmita viajará encriptado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El certificado que acredita mi identidad ha sido emitido observando procedimientos de validación sumamente confiabl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Mi sitio no tiene copia (www.lapichincha.com/micomercio)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25560"/>
            <a:ext cx="79758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Vendedor Virtual Segur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200400"/>
            <a:ext cx="3505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105520"/>
            <a:ext cx="57657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Candado%20Netscape_f" descr=""/>
          <p:cNvPicPr/>
          <p:nvPr/>
        </p:nvPicPr>
        <p:blipFill>
          <a:blip r:embed="rId2"/>
          <a:stretch/>
        </p:blipFill>
        <p:spPr>
          <a:xfrm>
            <a:off x="7315200" y="2057400"/>
            <a:ext cx="1143000" cy="536400"/>
          </a:xfrm>
          <a:prstGeom prst="rect">
            <a:avLst/>
          </a:prstGeom>
          <a:ln w="0">
            <a:noFill/>
          </a:ln>
        </p:spPr>
      </p:pic>
      <p:pic>
        <p:nvPicPr>
          <p:cNvPr id="214" name="CertiSurSealTrans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931680" cy="990720"/>
          </a:xfrm>
          <a:prstGeom prst="rect">
            <a:avLst/>
          </a:prstGeom>
          <a:ln w="0">
            <a:noFill/>
          </a:ln>
        </p:spPr>
      </p:pic>
      <p:pic>
        <p:nvPicPr>
          <p:cNvPr id="215" name="URL%20MiCompraFavorita" descr=""/>
          <p:cNvPicPr/>
          <p:nvPr/>
        </p:nvPicPr>
        <p:blipFill>
          <a:blip r:embed="rId4"/>
          <a:stretch/>
        </p:blipFill>
        <p:spPr>
          <a:xfrm>
            <a:off x="5562720" y="3733920"/>
            <a:ext cx="3246480" cy="32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Los alertas de seguridad de su navegador son importante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837720" y="25560"/>
            <a:ext cx="7975800" cy="9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Vendedor Virtual Segur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60640"/>
            <a:ext cx="3505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4076640"/>
            <a:ext cx="57657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8" descr=""/>
          <p:cNvPicPr/>
          <p:nvPr/>
        </p:nvPicPr>
        <p:blipFill>
          <a:blip r:embed="rId1"/>
          <a:stretch/>
        </p:blipFill>
        <p:spPr>
          <a:xfrm>
            <a:off x="1143000" y="3174840"/>
            <a:ext cx="3429000" cy="2692440"/>
          </a:xfrm>
          <a:prstGeom prst="rect">
            <a:avLst/>
          </a:prstGeom>
          <a:ln w="0">
            <a:noFill/>
          </a:ln>
        </p:spPr>
      </p:pic>
      <p:pic>
        <p:nvPicPr>
          <p:cNvPr id="221" name="4" descr=""/>
          <p:cNvPicPr/>
          <p:nvPr/>
        </p:nvPicPr>
        <p:blipFill>
          <a:blip r:embed="rId2"/>
          <a:stretch/>
        </p:blipFill>
        <p:spPr>
          <a:xfrm>
            <a:off x="4876920" y="3203640"/>
            <a:ext cx="3352680" cy="263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114720" y="6256440"/>
            <a:ext cx="2914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2800" y="6257880"/>
            <a:ext cx="1886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12920" y="6257880"/>
            <a:ext cx="2916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5200" y="0"/>
            <a:ext cx="677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Verdana"/>
              </a:rPr>
              <a:t>Muchas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Graci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xigencias de Seguridad en el Mundo Digital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48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Confidencialidad/Privacidad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Autenticació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Integridad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No repudio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Interoperabilidad/Universalidad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¿Para Quién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Comprador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Utilización maliciosa de sus datos personales (Robo de identida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Uso fraudulento del medio de pago electrónic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Entrega de productos de características diferentes a los adquirid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Inclusión indebida en bases de datos de mailings (spam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130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Vendedor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Imposibilidad de recupero del importe de las vent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Gastos de administración y distribución por ventas no concretad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aramond"/>
              </a:rPr>
              <a:t>Impersonalización de su sitio Web, con el consiguiente impacto negativo en su reputació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072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25200"/>
            <a:ext cx="80773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ult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Utilización de Internet como vidriera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Desarrollo de sistemas de pago específico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30000"/>
              </a:lnSpc>
              <a:spcBef>
                <a:spcPts val="2276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Empleo de canales alternativos para concretar la compra (presencial, telefónico, etc.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800600"/>
            <a:ext cx="8076960" cy="1310760"/>
          </a:xfrm>
          <a:prstGeom prst="rect">
            <a:avLst/>
          </a:prstGeom>
          <a:solidFill>
            <a:srgbClr val="84cd2b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s-ES_tradnl" sz="1600" spc="-1" strike="noStrike">
                <a:solidFill>
                  <a:srgbClr val="ffffff"/>
                </a:solidFill>
                <a:latin typeface="Verdana"/>
              </a:rPr>
              <a:t>Si bien la proporción de usuarios en Argentina que realizan compras electrónicas es baja (13%), es alta la cantidad de usuarios que utilizan los sitios de comercio electrónico para informarse respecto de los productos que piensan comprar (51%)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“Transacciones B2C por Internet – 2004”, de Carrier y Asoci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5200"/>
            <a:ext cx="7899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El Mercado Mundial de Pagos Electrónic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1463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Tendencia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Incremento permanente en el volumen de transacciones electrónica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Conversión de circuitos en papel al mundo digit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Presión de los comerciantes para la eliminación de los riesgos derivados de la  aceptación de pagos electrónic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75000"/>
              </a:lnSpc>
              <a:spcBef>
                <a:spcPts val="13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El costo del fraude es alto, incluso para los que no lo asumen </a:t>
            </a:r>
            <a:r>
              <a:rPr b="1" lang="es-AR" sz="1600" spc="-1" strike="noStrike" baseline="30000">
                <a:solidFill>
                  <a:srgbClr val="ffffff"/>
                </a:solidFill>
                <a:latin typeface="Garamond"/>
              </a:rPr>
              <a:t>(1)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El costo administrativo de una llamada de reclamo oscila entre u$s10 y u$s 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El costo de gestión de los contracargos (“chargebacks”) representa el 15% del total de los costos operativ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75000"/>
              </a:lnSpc>
              <a:spcBef>
                <a:spcPts val="1463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Desvalorización de la imagen de marca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Afectación de la confianza de los consumidor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75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Competitividad creciente de parte de métodos de pago alternativo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75000"/>
              </a:lnSpc>
              <a:spcBef>
                <a:spcPts val="13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baseline="30000">
                <a:solidFill>
                  <a:srgbClr val="ffffff"/>
                </a:solidFill>
                <a:latin typeface="Garamond"/>
              </a:rPr>
              <a:t>(1) </a:t>
            </a:r>
            <a:r>
              <a:rPr b="0" lang="es-AR" sz="1600" spc="-1" strike="noStrike">
                <a:solidFill>
                  <a:srgbClr val="ffffff"/>
                </a:solidFill>
                <a:latin typeface="Garamond"/>
              </a:rPr>
              <a:t>Datos de mercado para Estados Unidos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4419720"/>
            <a:ext cx="2743200" cy="1616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Las tarjetas de crédito gastan cerca de u$s 8.000 millones por año solamente en Estados Unidos y más de u$s 12.000 millones a nivel mundial, para administrar los contracargos generados por el crecimiento sin precedentes en el robo de identidad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.”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Fuente: “Edgar Dunn &amp; Company”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72200" y="1905120"/>
            <a:ext cx="2743200" cy="1904760"/>
            <a:chOff x="6172200" y="1905120"/>
            <a:chExt cx="2743200" cy="1904760"/>
          </a:xfrm>
        </p:grpSpPr>
        <p:sp>
          <p:nvSpPr>
            <p:cNvPr id="96" name=""/>
            <p:cNvSpPr/>
            <p:nvPr/>
          </p:nvSpPr>
          <p:spPr>
            <a:xfrm>
              <a:off x="6172200" y="1905120"/>
              <a:ext cx="274320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8160" y="3505320"/>
              <a:ext cx="259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5f5f5f"/>
                  </a:solidFill>
                  <a:latin typeface="Century Gothic"/>
                </a:rPr>
                <a:t>Transacciones digitales vs. pap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6224400" y="1981080"/>
            <a:ext cx="2638440" cy="152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24400" y="1981080"/>
                      <a:ext cx="2638440" cy="15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Sistemas de Tarjetas de Créd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463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Procesamiento de contracarg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Tarjeta Presen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Tarjeta no presen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5000"/>
              </a:lnSpc>
              <a:spcBef>
                <a:spcPts val="1463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Intentos para limitar el fraude y los contracargo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Verificación de domicilio (AV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Chequeo en línea de transacciones (Fraud Screening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Chequeo fuera de línea (ej.: llamadas telefónicas al client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5000"/>
              </a:lnSpc>
              <a:spcBef>
                <a:spcPts val="1463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aramond"/>
              </a:rPr>
              <a:t>Autenticación (Identificar positivamente a las partes involucradas en una transacción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6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Garamond"/>
              </a:rPr>
              <a:t>Verificar que “usted es usted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75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75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2578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19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CONSUMID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2578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2578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52578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11430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019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COMERC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6019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PAGAD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8672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RED DE PAG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6004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EMIS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7057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053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05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518652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14600" y="510552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038480" y="5148360"/>
            <a:ext cx="990720" cy="88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238880" y="5137200"/>
            <a:ext cx="990720" cy="88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8680" y="5334120"/>
            <a:ext cx="990720" cy="53316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715000" y="5491080"/>
            <a:ext cx="380880" cy="2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172200" y="5486400"/>
            <a:ext cx="38088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58920" y="1143000"/>
          <a:ext cx="7885080" cy="655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43000"/>
                    <a:ext cx="78850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3800" y="449568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ransacciones Fraudul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8520" y="37339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eclamos de Usu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48840" y="5334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31980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: VisaNet Estados Unidos (transacciones de tarjetas de crédito y débito generadas por miembros pagadores en Estados Unid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8120" y="1447920"/>
            <a:ext cx="75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orcentaje de Comercio Electrónico sobre el total de transac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84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Tendencias en el Comercio Electrón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87280" y="1981080"/>
            <a:ext cx="133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-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25200"/>
            <a:ext cx="7899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Costo para los Comercios Adherid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90720" y="2133720"/>
            <a:ext cx="7772400" cy="4038480"/>
            <a:chOff x="990720" y="2133720"/>
            <a:chExt cx="7772400" cy="4038480"/>
          </a:xfrm>
        </p:grpSpPr>
        <p:sp>
          <p:nvSpPr>
            <p:cNvPr id="138" name=""/>
            <p:cNvSpPr/>
            <p:nvPr/>
          </p:nvSpPr>
          <p:spPr>
            <a:xfrm>
              <a:off x="990720" y="2133720"/>
              <a:ext cx="7772400" cy="4038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27360" y="2865600"/>
              <a:ext cx="3303720" cy="31240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4680" y="4846680"/>
              <a:ext cx="6285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4040" y="3855960"/>
              <a:ext cx="63036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43760" y="3170160"/>
              <a:ext cx="630000" cy="175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3760" y="4923000"/>
              <a:ext cx="630000" cy="1066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64040" y="5075280"/>
              <a:ext cx="630360" cy="9144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4680" y="5303880"/>
              <a:ext cx="628560" cy="685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17640" y="5532480"/>
              <a:ext cx="63036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7640" y="5456160"/>
              <a:ext cx="6303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2560" y="5456160"/>
              <a:ext cx="5348520" cy="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2560" y="2865600"/>
              <a:ext cx="0" cy="312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2560" y="5989680"/>
              <a:ext cx="558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582200" y="5303880"/>
              <a:ext cx="2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82200" y="4694400"/>
              <a:ext cx="2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82200" y="4084560"/>
              <a:ext cx="2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582200" y="3475080"/>
              <a:ext cx="2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82200" y="2865600"/>
              <a:ext cx="2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6720" y="2719440"/>
              <a:ext cx="412200" cy="33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2880" y="4572000"/>
              <a:ext cx="66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Century Gothic"/>
                </a:rPr>
                <a:t>5.60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22280" y="36115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Century Gothic"/>
                </a:rPr>
                <a:t>10.60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03440" y="292572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Century Gothic"/>
                </a:rPr>
                <a:t>14.25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5840" y="5075280"/>
              <a:ext cx="66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Century Gothic"/>
                </a:rPr>
                <a:t>2.23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10280" y="5410080"/>
              <a:ext cx="16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entury Gothic"/>
                </a:rPr>
                <a:t>Comisi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3733920"/>
              <a:ext cx="175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entury Gothic"/>
                </a:rPr>
                <a:t>Costo por transacciones no cobrad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5486400"/>
              <a:ext cx="73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Tarje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presen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27240" y="2162160"/>
              <a:ext cx="432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ff"/>
                  </a:solidFill>
                  <a:latin typeface="Century Gothic"/>
                </a:rPr>
                <a:t>Costo promedio por transacción (%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9880" y="4876920"/>
              <a:ext cx="673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Ba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riesg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3886200"/>
              <a:ext cx="636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Riesg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1560" y="3184560"/>
              <a:ext cx="60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Century Gothic"/>
                </a:rPr>
                <a:t>riesg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7800" y="2879640"/>
              <a:ext cx="1870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ff"/>
                  </a:solidFill>
                  <a:latin typeface="Century Gothic"/>
                </a:rPr>
                <a:t>Transacciones en Internet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ff"/>
                  </a:solidFill>
                  <a:latin typeface="Century Gothic"/>
                </a:rPr>
                <a:t>Tarjeta no present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94960" y="6259680"/>
            <a:ext cx="34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: CardinalCommerce Services, U.S.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5200"/>
            <a:ext cx="7899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¿Qué hay de nuevo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Regulaciones específicas por parte de los procesadores de medios de pago con respecto a los contracargo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Limitaciones a los riesgos, mejoramiento de la seguridad, autenticación del tarjetahabiente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75000"/>
              </a:lnSpc>
              <a:spcBef>
                <a:spcPts val="9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Garamond"/>
              </a:rPr>
              <a:t>Programa “Verified by Visa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75000"/>
              </a:lnSpc>
              <a:spcBef>
                <a:spcPts val="9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Garamond"/>
              </a:rPr>
              <a:t>Programa “MasterCard SecureCode”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75000"/>
              </a:lnSpc>
              <a:spcBef>
                <a:spcPts val="975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Garamond"/>
              </a:rPr>
              <a:t>Otros programas similares (American Express, JCB, etc.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Transferencia de la responsabilidad por impersonalización al banco emisor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Garantización del pago al comerciante, en la medida en que se incorpore al program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Reducción de las comisiones de intercambio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75000"/>
              </a:lnSpc>
              <a:spcBef>
                <a:spcPts val="1950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Garamond"/>
              </a:rPr>
              <a:t>Implementación region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001000" y="3124080"/>
            <a:ext cx="99072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001000" y="2209680"/>
            <a:ext cx="914400" cy="517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001000" y="3962520"/>
            <a:ext cx="99072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16:00:09Z</dcterms:created>
  <dc:creator>Norberto Marinelli</dc:creator>
  <dc:description/>
  <dc:language>en-US</dc:language>
  <cp:lastModifiedBy>Norberto Marinelli</cp:lastModifiedBy>
  <dcterms:modified xsi:type="dcterms:W3CDTF">2004-08-25T14:55:42Z</dcterms:modified>
  <cp:revision>63</cp:revision>
  <dc:subject/>
  <dc:title>Cereal Exchanges Winning Solution</dc:title>
</cp:coreProperties>
</file>