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764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2120"/>
            <a:ext cx="4878360" cy="365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649400"/>
            <a:ext cx="503244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9952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7640" y="929952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965C-B3D8-469A-B8D1-03E210A659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er foto de deposito con mov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6AE-C57C-4A4B-85DC-3E133F7F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DE0-5735-4D63-AF7B-56A2982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5FB-D8A6-4EEF-82E5-8391E314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C3E-13AF-4EBC-80F2-3000C444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D88-D829-45F5-8299-832C8FE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79B-D688-43DF-86A8-A1BE3E7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012-6FD2-4D34-AE80-C745D0AE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6CE-1B26-4323-8846-A2F2531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E8E-AA1F-4260-B09B-C4E7393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4CF-A552-4741-9A05-E8EAFDEE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BA5-B7C2-4821-A9DA-07DB683E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0E5-BE98-4298-A02B-822ABAF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262-1DC8-44E2-A421-EA212F57B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esco.com/r/?from=HomeLogo&amp;url=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390680"/>
            <a:ext cx="41907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Frutiger Linotype"/>
              </a:rPr>
              <a:t>Le Shop Argentina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ctualidad y realidad de sitios de e-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Agosto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</a:rPr>
              <a:t> 200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971800"/>
            <a:ext cx="236232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amioneta_leShop" descr=""/>
          <p:cNvPicPr/>
          <p:nvPr/>
        </p:nvPicPr>
        <p:blipFill>
          <a:blip r:embed="rId2"/>
          <a:stretch/>
        </p:blipFill>
        <p:spPr>
          <a:xfrm>
            <a:off x="7010280" y="2768760"/>
            <a:ext cx="16002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089000" y="3094200"/>
            <a:ext cx="6966000" cy="671400"/>
            <a:chOff x="1089000" y="3094200"/>
            <a:chExt cx="6966000" cy="671400"/>
          </a:xfrm>
        </p:grpSpPr>
        <p:sp>
          <p:nvSpPr>
            <p:cNvPr id="52" name=""/>
            <p:cNvSpPr/>
            <p:nvPr/>
          </p:nvSpPr>
          <p:spPr>
            <a:xfrm>
              <a:off x="1089000" y="3094200"/>
              <a:ext cx="6966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089000" y="3094200"/>
              <a:ext cx="3571920" cy="671400"/>
              <a:chOff x="1089000" y="3094200"/>
              <a:chExt cx="3571920" cy="671400"/>
            </a:xfrm>
          </p:grpSpPr>
          <p:sp>
            <p:nvSpPr>
              <p:cNvPr id="54" name=""/>
              <p:cNvSpPr/>
              <p:nvPr/>
            </p:nvSpPr>
            <p:spPr>
              <a:xfrm>
                <a:off x="1089000" y="3094200"/>
                <a:ext cx="3571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9000" y="3094200"/>
                <a:ext cx="357192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3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o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3240" y="1905120"/>
            <a:ext cx="41338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249640"/>
            <a:ext cx="6248160" cy="437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7570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057400"/>
            <a:ext cx="1523880" cy="762120"/>
          </a:xfrm>
          <a:prstGeom prst="roundRect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3276720"/>
            <a:ext cx="1524240" cy="1218960"/>
          </a:xfrm>
          <a:prstGeom prst="roundRect">
            <a:avLst>
              <a:gd name="adj" fmla="val 2448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home%20nueva" descr=""/>
          <p:cNvPicPr/>
          <p:nvPr/>
        </p:nvPicPr>
        <p:blipFill>
          <a:blip r:embed="rId2"/>
          <a:stretch/>
        </p:blipFill>
        <p:spPr>
          <a:xfrm>
            <a:off x="2133720" y="2459160"/>
            <a:ext cx="4929120" cy="417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144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o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200400"/>
            <a:ext cx="15242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Ofertas y Promociones que se actualizan constantem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2096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Descuentos Personalizado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14640" y="3886200"/>
            <a:ext cx="1523880" cy="0"/>
          </a:xfrm>
          <a:prstGeom prst="line">
            <a:avLst/>
          </a:prstGeom>
          <a:ln w="158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514600"/>
            <a:ext cx="1905120" cy="762120"/>
          </a:xfrm>
          <a:prstGeom prst="line">
            <a:avLst/>
          </a:prstGeom>
          <a:ln w="158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00480" y="1981080"/>
            <a:ext cx="41526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645160" y="1066680"/>
            <a:ext cx="831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315200" y="5486400"/>
            <a:ext cx="1066680" cy="762120"/>
          </a:xfrm>
          <a:prstGeom prst="roundRect">
            <a:avLst>
              <a:gd name="adj" fmla="val 3594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962520"/>
            <a:ext cx="1447920" cy="838080"/>
          </a:xfrm>
          <a:prstGeom prst="roundRect">
            <a:avLst>
              <a:gd name="adj" fmla="val 41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209680"/>
            <a:ext cx="1067040" cy="838440"/>
          </a:xfrm>
          <a:prstGeom prst="roundRect">
            <a:avLst>
              <a:gd name="adj" fmla="val 32954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715000"/>
            <a:ext cx="1295280" cy="762120"/>
          </a:xfrm>
          <a:prstGeom prst="roundRect">
            <a:avLst>
              <a:gd name="adj" fmla="val 38657"/>
            </a:avLst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86000"/>
            <a:ext cx="1371600" cy="990720"/>
          </a:xfrm>
          <a:prstGeom prst="roundRect">
            <a:avLst>
              <a:gd name="adj" fmla="val 3611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19320"/>
            <a:ext cx="1295280" cy="761760"/>
          </a:xfrm>
          <a:prstGeom prst="roundRect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o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22986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Búsqueda rápida de Produc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4065480"/>
            <a:ext cx="137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Arbol de Categorí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Simple y Cla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3623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Changuito y Gasto de la Compra siempre vis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95280"/>
            <a:ext cx="137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Sólo un click para cargar el produc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91320"/>
            <a:ext cx="1600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Inform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adicional del Produc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56386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7777"/>
                </a:solidFill>
                <a:latin typeface="Verdana"/>
              </a:rPr>
              <a:t>Dos pasos para Pag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categorias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4857480" cy="4092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6629400" y="2286000"/>
            <a:ext cx="838080" cy="38088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52720" y="4343400"/>
            <a:ext cx="762120" cy="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19520"/>
            <a:ext cx="1066680" cy="30456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676520"/>
            <a:ext cx="1905120" cy="129528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roductos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1998720" cy="1687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1371600" y="3048120"/>
            <a:ext cx="2666880" cy="1218960"/>
          </a:xfrm>
          <a:prstGeom prst="line">
            <a:avLst/>
          </a:prstGeom>
          <a:ln w="158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95280" y="4343400"/>
            <a:ext cx="0" cy="137160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5867280"/>
            <a:ext cx="4038480" cy="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828800"/>
            <a:ext cx="38098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486400" y="9907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7480" y="5105520"/>
            <a:ext cx="1295640" cy="609480"/>
          </a:xfrm>
          <a:prstGeom prst="roundRect">
            <a:avLst>
              <a:gd name="adj" fmla="val 4349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3733920"/>
            <a:ext cx="1371600" cy="914400"/>
          </a:xfrm>
          <a:prstGeom prst="roundRect">
            <a:avLst>
              <a:gd name="adj" fmla="val 3446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057400"/>
            <a:ext cx="1447920" cy="609480"/>
          </a:xfrm>
          <a:prstGeom prst="roundRect">
            <a:avLst>
              <a:gd name="adj" fmla="val 4259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81080"/>
            <a:ext cx="1219320" cy="762120"/>
          </a:xfrm>
          <a:prstGeom prst="roundRect">
            <a:avLst>
              <a:gd name="adj" fmla="val 4708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962520"/>
            <a:ext cx="1371600" cy="761760"/>
          </a:xfrm>
          <a:prstGeom prst="roundRect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o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16216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Seleccionar forma de p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57400"/>
            <a:ext cx="137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Controlar la Dirección de Entre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051440"/>
            <a:ext cx="137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Elegir fecha y horario de entre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38862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Ver descuentos persona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51814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Confirmar </a:t>
            </a:r>
            <a:br>
              <a:rPr sz="1100"/>
            </a:br>
            <a:r>
              <a:rPr b="1" lang="es-MX" sz="1100" spc="-1" strike="noStrike">
                <a:solidFill>
                  <a:srgbClr val="777777"/>
                </a:solidFill>
                <a:latin typeface="Verdana"/>
              </a:rPr>
              <a:t>y lis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agar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4857480" cy="4068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76520" y="2362320"/>
            <a:ext cx="1218960" cy="45720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943600" y="2362320"/>
            <a:ext cx="1371600" cy="76176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6920" y="4191120"/>
            <a:ext cx="2590560" cy="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400440" y="4495680"/>
            <a:ext cx="1066680" cy="91440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343400"/>
            <a:ext cx="1219320" cy="38088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3240" y="1828800"/>
            <a:ext cx="420984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641920" y="990720"/>
            <a:ext cx="8352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95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3%20frente%20terminado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2819160" cy="2119320"/>
          </a:xfrm>
          <a:prstGeom prst="rect">
            <a:avLst/>
          </a:prstGeom>
          <a:ln w="0">
            <a:noFill/>
          </a:ln>
        </p:spPr>
      </p:pic>
      <p:pic>
        <p:nvPicPr>
          <p:cNvPr id="144" name="Dsc00004" descr=""/>
          <p:cNvPicPr/>
          <p:nvPr/>
        </p:nvPicPr>
        <p:blipFill>
          <a:blip r:embed="rId3"/>
          <a:stretch/>
        </p:blipFill>
        <p:spPr>
          <a:xfrm>
            <a:off x="2743200" y="3884760"/>
            <a:ext cx="2209680" cy="1525320"/>
          </a:xfrm>
          <a:prstGeom prst="rect">
            <a:avLst/>
          </a:prstGeom>
          <a:ln w="0">
            <a:noFill/>
          </a:ln>
        </p:spPr>
      </p:pic>
      <p:pic>
        <p:nvPicPr>
          <p:cNvPr id="145" name="14%20oficinas%20desde%20dentro" descr=""/>
          <p:cNvPicPr/>
          <p:nvPr/>
        </p:nvPicPr>
        <p:blipFill>
          <a:blip r:embed="rId4"/>
          <a:stretch/>
        </p:blipFill>
        <p:spPr>
          <a:xfrm>
            <a:off x="760320" y="3886200"/>
            <a:ext cx="1906560" cy="2438280"/>
          </a:xfrm>
          <a:prstGeom prst="rect">
            <a:avLst/>
          </a:prstGeom>
          <a:ln w="0">
            <a:noFill/>
          </a:ln>
        </p:spPr>
      </p:pic>
      <p:pic>
        <p:nvPicPr>
          <p:cNvPr id="146" name="Dsc00025" descr=""/>
          <p:cNvPicPr/>
          <p:nvPr/>
        </p:nvPicPr>
        <p:blipFill>
          <a:blip r:embed="rId5"/>
          <a:stretch/>
        </p:blipFill>
        <p:spPr>
          <a:xfrm>
            <a:off x="7086600" y="3505320"/>
            <a:ext cx="1585800" cy="2133360"/>
          </a:xfrm>
          <a:prstGeom prst="rect">
            <a:avLst/>
          </a:prstGeom>
          <a:ln w="0">
            <a:noFill/>
          </a:ln>
        </p:spPr>
      </p:pic>
      <p:pic>
        <p:nvPicPr>
          <p:cNvPr id="147" name="flota%201" descr=""/>
          <p:cNvPicPr/>
          <p:nvPr/>
        </p:nvPicPr>
        <p:blipFill>
          <a:blip r:embed="rId6"/>
          <a:stretch/>
        </p:blipFill>
        <p:spPr>
          <a:xfrm>
            <a:off x="3657600" y="1676520"/>
            <a:ext cx="3276720" cy="1741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a 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1371600"/>
            <a:ext cx="49528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oto%20DEPOSITO%20con%20DELIVERYS" descr=""/>
          <p:cNvPicPr/>
          <p:nvPr/>
        </p:nvPicPr>
        <p:blipFill>
          <a:blip r:embed="rId7"/>
          <a:stretch/>
        </p:blipFill>
        <p:spPr>
          <a:xfrm>
            <a:off x="5029200" y="350532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51" name="16%20pasillo%20picking%20central" descr=""/>
          <p:cNvPicPr/>
          <p:nvPr/>
        </p:nvPicPr>
        <p:blipFill>
          <a:blip r:embed="rId8"/>
          <a:stretch/>
        </p:blipFill>
        <p:spPr>
          <a:xfrm>
            <a:off x="7010280" y="1676520"/>
            <a:ext cx="190512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958000" y="1962000"/>
            <a:ext cx="1128600" cy="1162080"/>
          </a:xfrm>
          <a:prstGeom prst="rect">
            <a:avLst/>
          </a:prstGeom>
          <a:ln w="0">
            <a:noFill/>
          </a:ln>
        </p:spPr>
      </p:pic>
      <p:pic>
        <p:nvPicPr>
          <p:cNvPr id="153" name="13%20frente%20terminado" descr=""/>
          <p:cNvPicPr/>
          <p:nvPr/>
        </p:nvPicPr>
        <p:blipFill>
          <a:blip r:embed="rId3"/>
          <a:stretch/>
        </p:blipFill>
        <p:spPr>
          <a:xfrm>
            <a:off x="7238880" y="243828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16%20pasillo%20picking%20central" descr=""/>
          <p:cNvPicPr/>
          <p:nvPr/>
        </p:nvPicPr>
        <p:blipFill>
          <a:blip r:embed="rId4"/>
          <a:stretch/>
        </p:blipFill>
        <p:spPr>
          <a:xfrm>
            <a:off x="5181480" y="3200400"/>
            <a:ext cx="1752840" cy="1066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000920" y="4265640"/>
            <a:ext cx="1380960" cy="992160"/>
          </a:xfrm>
          <a:prstGeom prst="rect">
            <a:avLst/>
          </a:prstGeom>
          <a:ln w="0">
            <a:noFill/>
          </a:ln>
        </p:spPr>
      </p:pic>
      <p:pic>
        <p:nvPicPr>
          <p:cNvPr id="156" name="camioneta_leShop" descr=""/>
          <p:cNvPicPr/>
          <p:nvPr/>
        </p:nvPicPr>
        <p:blipFill>
          <a:blip r:embed="rId6"/>
          <a:stretch/>
        </p:blipFill>
        <p:spPr>
          <a:xfrm>
            <a:off x="6172200" y="5410080"/>
            <a:ext cx="1825560" cy="127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914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Cómo funcion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09680"/>
            <a:ext cx="670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869760" indent="-349200">
              <a:lnSpc>
                <a:spcPct val="9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ácil de ordenar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65 días x 24h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de cualquier lugar y computado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3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n Procesada en Depó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más de 4500 re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5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ación del pedido con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idado en la preservación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dena de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349200">
              <a:lnSpc>
                <a:spcPct val="11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 a domicili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 la dirección, fecha y horario elegid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27400" y="1676520"/>
            <a:ext cx="445752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23623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       </a:t>
            </a: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Zona de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28600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istribución por código po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pital Federal – Norte &amp; Ce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GBA: Zona N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untries: Zona N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corporamos nuevas zonas paulatinamente, siempre que nos permitan asegurar nuestro bu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1600" y="2057400"/>
            <a:ext cx="44578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camioneta_leShop" descr=""/>
          <p:cNvPicPr/>
          <p:nvPr/>
        </p:nvPicPr>
        <p:blipFill>
          <a:blip r:embed="rId2"/>
          <a:stretch/>
        </p:blipFill>
        <p:spPr>
          <a:xfrm>
            <a:off x="5638680" y="1084320"/>
            <a:ext cx="10670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9907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    </a:t>
            </a:r>
            <a:r>
              <a:rPr b="1" lang="en-US" sz="2200" spc="-1" strike="noStrike">
                <a:solidFill>
                  <a:srgbClr val="777777"/>
                </a:solidFill>
                <a:latin typeface="Verdana"/>
              </a:rPr>
              <a:t>Condiciones de Entre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3623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días a la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liente puede realizar una compra y pedir que se la entreguen en el día sin costo 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lunes a sábados 5 ventanas de entrega diarias, de 2 horas cada 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horas de demora entre orden y ventana de ent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981080"/>
            <a:ext cx="50292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camioneta_leShop" descr=""/>
          <p:cNvPicPr/>
          <p:nvPr/>
        </p:nvPicPr>
        <p:blipFill>
          <a:blip r:embed="rId2"/>
          <a:stretch/>
        </p:blipFill>
        <p:spPr>
          <a:xfrm>
            <a:off x="6019920" y="1106640"/>
            <a:ext cx="1143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</a:t>
            </a: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Costos del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971800"/>
            <a:ext cx="7467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 cargo en compras superiores a $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4 por compras inferiores a $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 mínima $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514600"/>
            <a:ext cx="48196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camioneta_leShop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12193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114300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Medios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590920"/>
            <a:ext cx="8382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6ea4"/>
                </a:solidFill>
                <a:latin typeface="Verdana"/>
              </a:rPr>
              <a:t>Tarjeta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6ea4"/>
                </a:solidFill>
                <a:latin typeface="Verdana"/>
              </a:rPr>
              <a:t>             </a:t>
            </a:r>
            <a:r>
              <a:rPr b="1" lang="en-US" sz="1600" spc="-1" strike="noStrike">
                <a:solidFill>
                  <a:srgbClr val="1e6ea4"/>
                </a:solidFill>
                <a:latin typeface="Verdana"/>
              </a:rPr>
              <a:t>VISA: 2 y 3 cuotas sin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6ea4"/>
                </a:solidFill>
                <a:latin typeface="Verdana"/>
              </a:rPr>
              <a:t>             </a:t>
            </a:r>
            <a:r>
              <a:rPr b="1" lang="en-US" sz="1600" spc="-1" strike="noStrike">
                <a:solidFill>
                  <a:srgbClr val="1e6ea4"/>
                </a:solidFill>
                <a:latin typeface="Verdana"/>
              </a:rPr>
              <a:t>AMEX: 2 a 6 cuotas sin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6ea4"/>
                </a:solidFill>
                <a:latin typeface="Verdana"/>
              </a:rPr>
              <a:t>Ticket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Todos exceptuando Restaurant,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Almuerzo y Combust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6ea4"/>
                </a:solidFill>
                <a:latin typeface="Verdana"/>
              </a:rPr>
              <a:t>Efectivo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Contra Ent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6496"/>
                </a:solidFill>
                <a:latin typeface="Verdana"/>
              </a:rPr>
              <a:t>Chequ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Clientes habi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visa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762120" cy="438120"/>
          </a:xfrm>
          <a:prstGeom prst="rect">
            <a:avLst/>
          </a:prstGeom>
          <a:ln w="0">
            <a:noFill/>
          </a:ln>
        </p:spPr>
      </p:pic>
      <p:pic>
        <p:nvPicPr>
          <p:cNvPr id="176" name="amx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762120" cy="425160"/>
          </a:xfrm>
          <a:prstGeom prst="rect">
            <a:avLst/>
          </a:prstGeom>
          <a:ln w="0">
            <a:noFill/>
          </a:ln>
        </p:spPr>
      </p:pic>
      <p:pic>
        <p:nvPicPr>
          <p:cNvPr id="177" name="master" descr=""/>
          <p:cNvPicPr/>
          <p:nvPr/>
        </p:nvPicPr>
        <p:blipFill>
          <a:blip r:embed="rId4"/>
          <a:stretch/>
        </p:blipFill>
        <p:spPr>
          <a:xfrm>
            <a:off x="5334120" y="2590920"/>
            <a:ext cx="761760" cy="436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1981080"/>
            <a:ext cx="34290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Quiénes so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p nació en 1998 y fue uno de los primeros supermercados por internet en Europa, actualmente es líder en Suiza. Esta asociado con el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igro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dena de distribución del país y ha licenciado su tecnología a otras cadenas de distribución en Francia, España, Italia y Portugal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 Argentina, durante el año 2000, lanzamos el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permercado 100% por internet donde, capitalizando la experiencia del grupo en Suiza, hemos desarrollado una operación con importantes diferencias respecto de las operaciones de venta por internet en supermercados tradicional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057400"/>
            <a:ext cx="443844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mioneta_leShop" descr=""/>
          <p:cNvPicPr/>
          <p:nvPr/>
        </p:nvPicPr>
        <p:blipFill>
          <a:blip r:embed="rId2"/>
          <a:stretch/>
        </p:blipFill>
        <p:spPr>
          <a:xfrm>
            <a:off x="5562720" y="1076400"/>
            <a:ext cx="12952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2280" y="1295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Modelos de Negocios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     TESCO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2133720"/>
            <a:ext cx="495324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43828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Venta 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SOLO COMO SERVICIO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por internet utilizando la estructura de supermercados físicos exist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a50021"/>
                </a:solidFill>
                <a:latin typeface="Verdana"/>
              </a:rPr>
              <a:t>Ventajas: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a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Marca conocida, lo que genera seguridad de los cl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b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Conocimiento previo de los proveedores (más productos y mejores                 condiciones plazo/preci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c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Inversión marginal baja dentro de esta etap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a50021"/>
                </a:solidFill>
                <a:latin typeface="Verdana"/>
              </a:rPr>
              <a:t>Desventaj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a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Procesos “adaptado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b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Imposibilidad de tener un buen fulfillment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c)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conocimiento Cultural del e-commerce supermercad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d)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us Ventas “Reaccionan” solo con Inversión Publicit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e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Imposibilidad de personalizar promos por “Vinculo” con Canal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scologo" descr="Tesco - every little hel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1295280"/>
            <a:ext cx="10670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1143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</a:t>
            </a: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Modelos de Negocios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</a:t>
            </a: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Le Shop Argent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3623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981080"/>
            <a:ext cx="541044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2209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Venta 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SOLO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por Internet utilizando depósitos propios con sofisticación gradu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a50021"/>
                </a:solidFill>
                <a:latin typeface="Verdana"/>
              </a:rPr>
              <a:t>Ventajas: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a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Procesos a “Medida” del Comercio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b)</a:t>
            </a:r>
            <a:r>
              <a:rPr b="1" lang="es-MX" sz="1400" spc="-1" strike="noStrike">
                <a:solidFill>
                  <a:srgbClr val="126496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Alta “Flexibilidad” de Precios &amp; Pro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b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Posibilidad de sinergizar con Fullfilmen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c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Gradualidad de la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d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Adaptabilidad de todos los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3333cc"/>
                </a:solidFill>
                <a:latin typeface="Verdana"/>
              </a:rPr>
              <a:t>e)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Alta motivación por el “e-commerc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a50021"/>
                </a:solidFill>
                <a:latin typeface="Verdana"/>
              </a:rPr>
              <a:t>Desventajas: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a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Marca desconocida, inseguridad de lo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b)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Desconocimiento de los Proveedores (menos productos, plazos    cortos, y precios más alt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Verdana"/>
              </a:rPr>
              <a:t>c)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“Rol” Educ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-LeShop" descr=""/>
          <p:cNvPicPr/>
          <p:nvPr/>
        </p:nvPicPr>
        <p:blipFill>
          <a:blip r:embed="rId2"/>
          <a:stretch/>
        </p:blipFill>
        <p:spPr>
          <a:xfrm>
            <a:off x="5700600" y="944640"/>
            <a:ext cx="1462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9144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Modelos de Negocios</a:t>
            </a:r>
            <a:br>
              <a:rPr sz="2800"/>
            </a:b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Cómo “Ganar” la carrera 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8600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Personalización…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a 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 “Cliente” se tiene que sentir como en el viejo    almacén pero con precios y surtido de un Super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b 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cación de Servicio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c 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enda personal con promociones a su me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Verdana"/>
              </a:rPr>
              <a:t>Excelente Fulfillment Rate..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MX" sz="1600" spc="-1" strike="noStrike">
                <a:solidFill>
                  <a:srgbClr val="3333cc"/>
                </a:solidFill>
                <a:latin typeface="Verdana"/>
              </a:rPr>
              <a:t>a ) </a:t>
            </a: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Entregas completas y pun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600" spc="-1" strike="noStrike">
                <a:solidFill>
                  <a:srgbClr val="3333cc"/>
                </a:solidFill>
                <a:latin typeface="Verdana"/>
              </a:rPr>
              <a:t>b ) </a:t>
            </a: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roductos en excelente estado y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1981080"/>
            <a:ext cx="464832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Modelos de Negocios</a:t>
            </a:r>
            <a:br>
              <a:rPr sz="2800"/>
            </a:b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Nuestro Desafío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71600" y="1828800"/>
            <a:ext cx="44578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451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Verdana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ambio de 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daptarse a la realidad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451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Verdana"/>
              </a:rPr>
              <a:t>Tecnológ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ecnología compleja: Site completo per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ág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fo completa integrada en tiempo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451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Verdana"/>
              </a:rPr>
              <a:t>Comerci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ambio importante de háb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ecer sin publicidad: Escalabilidad sostenida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rketing Directo &amp; C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451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Verdana"/>
              </a:rPr>
              <a:t>Logíst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gística domiciliaria con un mínimo de 4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gística como apéndice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Verdana"/>
              </a:rPr>
              <a:t>Track – History</a:t>
            </a:r>
            <a:br>
              <a:rPr sz="2000"/>
            </a:br>
            <a:r>
              <a:rPr b="1" i="1" lang="en-US" sz="2000" spc="-1" strike="noStrike">
                <a:solidFill>
                  <a:srgbClr val="a50021"/>
                </a:solidFill>
                <a:latin typeface="Verdana"/>
              </a:rPr>
              <a:t>Reclamos vs. Entre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1828800"/>
            <a:ext cx="350496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2209680"/>
          <a:ext cx="7467840" cy="372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209680"/>
                    <a:ext cx="74678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209680" y="4495680"/>
            <a:ext cx="30492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4343400"/>
            <a:ext cx="30492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343400"/>
            <a:ext cx="30492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4343400"/>
            <a:ext cx="30492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4343400"/>
            <a:ext cx="30492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343400"/>
            <a:ext cx="30456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343400"/>
            <a:ext cx="30492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4343400"/>
            <a:ext cx="304560" cy="304920"/>
          </a:xfrm>
          <a:prstGeom prst="ellipse">
            <a:avLst/>
          </a:prstGeom>
          <a:solidFill>
            <a:srgbClr val="097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Verdana"/>
              </a:rPr>
              <a:t>Track – History</a:t>
            </a:r>
            <a:br>
              <a:rPr sz="2000"/>
            </a:br>
            <a:r>
              <a:rPr b="1" i="1" lang="en-US" sz="2000" spc="-1" strike="noStrike">
                <a:solidFill>
                  <a:srgbClr val="a50021"/>
                </a:solidFill>
                <a:latin typeface="Verdana"/>
              </a:rPr>
              <a:t>Ventas por se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1828800"/>
            <a:ext cx="350496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5791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estim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62120" y="2286000"/>
          <a:ext cx="7619760" cy="358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86000"/>
                    <a:ext cx="761976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Resumen 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un entorno económico enormemente complicado Le Shop se ha desarrollado mostrando un ininterrumpido y claro camino de crecimiento con las correspondientes mejoras de sus principales variables ope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perspectivas de crecimiento siguen siendo altamente probables y sin grandes inversiones adic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enemos la posibilidad de replicar nuestro “Modelo” en Latinoamérica vendiendo nuestro Know-How o, en algún caso, participando del Emprendimiento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camioneta_leShop" descr=""/>
          <p:cNvPicPr/>
          <p:nvPr/>
        </p:nvPicPr>
        <p:blipFill>
          <a:blip r:embed="rId2"/>
          <a:stretch/>
        </p:blipFill>
        <p:spPr>
          <a:xfrm>
            <a:off x="5867280" y="1066680"/>
            <a:ext cx="1295640" cy="905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81080" y="2133720"/>
            <a:ext cx="48196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logo-LeShop" descr=""/>
          <p:cNvPicPr/>
          <p:nvPr/>
        </p:nvPicPr>
        <p:blipFill>
          <a:blip r:embed="rId2"/>
          <a:stretch/>
        </p:blipFill>
        <p:spPr>
          <a:xfrm>
            <a:off x="2971800" y="1581120"/>
            <a:ext cx="2819520" cy="1695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4d4d4d"/>
                </a:solidFill>
                <a:latin typeface="Brush Script MT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00480" y="4876920"/>
            <a:ext cx="43434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777777"/>
                </a:solidFill>
                <a:latin typeface="Verdana"/>
              </a:rPr>
              <a:t>¿Porqué un Supermercado por Intern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Verdana"/>
              </a:rPr>
              <a:t>Genera Frustración: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- hay que caminar mucho, entr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mucha g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hay que hacer colas para pesar y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par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60 % de la compra es ruti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Verdana"/>
              </a:rPr>
              <a:t>Consume tiempo: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3 horas por semana que equivalen a casi 13 días enteros por 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Verdana"/>
              </a:rPr>
              <a:t>El horario es restringido: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no puedo comprar a cualquier h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Verdana"/>
              </a:rPr>
              <a:t>Exige un esfuerzo físico: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para comprar 31 productos hay que recorrer casi 1 Km. y elegir entre 7 m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Verdana"/>
              </a:rPr>
              <a:t>Desapareció el trato personal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del viejo almacén de bar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1905120"/>
            <a:ext cx="66294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777777"/>
                </a:solidFill>
                <a:latin typeface="Verdana"/>
              </a:rPr>
              <a:t>¿Qué ofrece Internet para solucionar estos problem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Verdana"/>
              </a:rPr>
              <a:t>N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hay que caminar ni hacer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compra rutinaria se puede hacer por medio de </a:t>
            </a:r>
            <a:r>
              <a:rPr b="0" lang="es-MX" sz="2000" spc="-1" strike="noStrike">
                <a:solidFill>
                  <a:srgbClr val="a50021"/>
                </a:solidFill>
                <a:latin typeface="Verdana"/>
              </a:rPr>
              <a:t>Listas Grabada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anterior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Verdana"/>
              </a:rPr>
              <a:t>Consume mucho menos tiemp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viaje, estacionamiento, carga, descarg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Verdana"/>
              </a:rPr>
              <a:t>El horario es libre: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puedo comprar a cualquier hora del día, todos los días del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Verdana"/>
              </a:rPr>
              <a:t>N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hay un esfuerzo fís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286000"/>
            <a:ext cx="708660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                     </a:t>
            </a:r>
            <a:r>
              <a:rPr b="1" lang="en-US" sz="2400" spc="-1" strike="noStrike">
                <a:solidFill>
                  <a:srgbClr val="777777"/>
                </a:solidFill>
                <a:latin typeface="Verdana"/>
              </a:rPr>
              <a:t>Le Shop en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6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47952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1er. Supermercado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“Especializado”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en Venta por Internet de Argentin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47952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fraestructura dedicada exclusivamente a la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“Compra On-L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47952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ósito único de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3200 m</a:t>
            </a:r>
            <a:r>
              <a:rPr b="1" lang="es-MX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47952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urtido completo de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4500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47952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ás de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95.000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entrega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057400"/>
            <a:ext cx="497196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amioneta_leShop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12193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a M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580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ransformar la compra de Supermercado en una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“experiencia agradable”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para nuestr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ermitirles usar su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“valioso tiempo”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en lo que les gu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-422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Brindarles un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“servicio extraordinario”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sin costo 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8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81080"/>
            <a:ext cx="441936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amioneta_leShop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12189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52520" indent="-43812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utomatizar las tareas aburridas y pesadas de las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2520" indent="-43812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iberar de la obligación de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“ir”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su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2520" indent="-43812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cios</a:t>
            </a:r>
            <a:r>
              <a:rPr b="1" lang="es-MX" sz="2000" spc="-1" strike="noStrike">
                <a:solidFill>
                  <a:srgbClr val="1e6ea4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promedio de las 5 grandes cad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2520" indent="-43812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tención person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2520" indent="-438120"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fertas y Promociones a medida del cliente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gmentamos a nuestros Clientes de acuerdo a su Hábito de Comp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2520" indent="-438120"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untualidad en la entrega a domicilio –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Nuestro Delivery posee una eficiencia de entrega del 9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43240" y="2133720"/>
            <a:ext cx="45910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22520" y="1047600"/>
            <a:ext cx="831960" cy="857520"/>
          </a:xfrm>
          <a:prstGeom prst="rect">
            <a:avLst/>
          </a:prstGeom>
          <a:ln w="0">
            <a:noFill/>
          </a:ln>
        </p:spPr>
      </p:pic>
      <p:pic>
        <p:nvPicPr>
          <p:cNvPr id="77" name="camioneta_leShop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12193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o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2285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ersonas entre 25 y 50 años, nivel socioeconómico BC1-C2.  Preferentemente doble ingreso, 1 ó 2 hijos, usuarios d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net (no fanáticos y generalmente líderes de segm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8440" y="2057400"/>
            <a:ext cx="44578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777777"/>
                </a:solidFill>
                <a:latin typeface="Verdana"/>
              </a:rPr>
              <a:t>Nuestro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in" descr=""/>
          <p:cNvPicPr/>
          <p:nvPr/>
        </p:nvPicPr>
        <p:blipFill>
          <a:blip r:embed="rId2"/>
          <a:stretch/>
        </p:blipFill>
        <p:spPr>
          <a:xfrm>
            <a:off x="1752480" y="2038320"/>
            <a:ext cx="5543640" cy="4362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43240" y="1981080"/>
            <a:ext cx="445752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50080" y="990720"/>
            <a:ext cx="831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19:41:29Z</dcterms:created>
  <dc:creator>Le Shop</dc:creator>
  <dc:description/>
  <dc:language>en-US</dc:language>
  <cp:lastModifiedBy>Pablo Leonard</cp:lastModifiedBy>
  <dcterms:modified xsi:type="dcterms:W3CDTF">2004-08-19T18:32:45Z</dcterms:modified>
  <cp:revision>180</cp:revision>
  <dc:subject/>
  <dc:title>Presentación de PowerPoint</dc:title>
</cp:coreProperties>
</file>