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462E-7EDF-49C0-9B9D-9E365EA9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038B-9EA8-4DBD-945C-0907A4C8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73BB-22F8-4F07-A83F-B8278209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ADCB-C270-41B4-B88C-01CE93EF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71B9-AE29-41AB-80A7-EC572E2B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3EFB-1A2E-414E-B057-FBB495E2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2C28-D235-4D7F-A053-D6E371DF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5A49-2B93-41C0-A3D7-0975AE15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DB7B-192A-4F2B-9F3F-41B11534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E57D-A3A7-4E5C-8A08-99E8699F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84A9-89DF-4216-9FD1-0979864B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7816-E4E4-41B5-B34F-8466F39F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95AF-4A2C-491C-A941-6419B3FCD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13080" y="1268280"/>
            <a:ext cx="43196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24000" y="1236600"/>
          <a:ext cx="3416040" cy="4497480"/>
        </p:xfrm>
        <a:graphic>
          <a:graphicData uri="http://schemas.openxmlformats.org/drawingml/2006/table">
            <a:tbl>
              <a:tblPr/>
              <a:tblGrid>
                <a:gridCol w="1744560"/>
                <a:gridCol w="1671480"/>
              </a:tblGrid>
              <a:tr h="75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MED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ACEPTAC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X CLI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Pago Fác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Deposito banc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Contra entre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TC Vi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TC Masterc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2448000" y="537516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22440" y="242100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38440" y="242100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54440" y="242100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70080" y="2421000"/>
            <a:ext cx="19080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22440" y="3141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38440" y="3141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22440" y="465444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38440" y="465444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54440" y="465444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22440" y="3933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38440" y="3933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54440" y="3933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33440" y="2781360"/>
            <a:ext cx="609480" cy="314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8360" y="2006640"/>
            <a:ext cx="609480" cy="342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68360" y="3548160"/>
            <a:ext cx="609480" cy="314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433440" y="4267080"/>
            <a:ext cx="609480" cy="314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433440" y="5014800"/>
            <a:ext cx="609480" cy="314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4033800" y="189000"/>
            <a:ext cx="1042920" cy="268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468960" y="620640"/>
            <a:ext cx="21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Medios de p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5759280" cy="7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324000" y="1236600"/>
          <a:ext cx="5089320" cy="4497480"/>
        </p:xfrm>
        <a:graphic>
          <a:graphicData uri="http://schemas.openxmlformats.org/drawingml/2006/table">
            <a:tbl>
              <a:tblPr/>
              <a:tblGrid>
                <a:gridCol w="1744560"/>
                <a:gridCol w="1671480"/>
                <a:gridCol w="1673280"/>
              </a:tblGrid>
              <a:tr h="75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MED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ACEPTAC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X CLI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SEGUR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DE COB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Pago Fác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Deposito banc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Contra entre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TC Vi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TC Masterc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2448000" y="537516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22440" y="242100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38440" y="242100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54440" y="242100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70080" y="2421000"/>
            <a:ext cx="19080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22440" y="3141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38440" y="3141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22440" y="465444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38440" y="465444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54440" y="465444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22440" y="3933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38440" y="3933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54440" y="3933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33440" y="2781360"/>
            <a:ext cx="609480" cy="314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68360" y="2006640"/>
            <a:ext cx="609480" cy="342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68360" y="3548160"/>
            <a:ext cx="609480" cy="314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433440" y="4267080"/>
            <a:ext cx="609480" cy="314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433440" y="5014800"/>
            <a:ext cx="609480" cy="314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4033800" y="189000"/>
            <a:ext cx="1042920" cy="2682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468960" y="620640"/>
            <a:ext cx="21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Medios de p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97160" y="2422440"/>
            <a:ext cx="19080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09920" y="2422440"/>
            <a:ext cx="19080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25920" y="242244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41920" y="242244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7920" y="242244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06880" y="3141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19640" y="3141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35640" y="3141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51280" y="3141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67280" y="3141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08320" y="3933720"/>
            <a:ext cx="19080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19640" y="3933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35640" y="3933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06880" y="465444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19640" y="465444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35640" y="465444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06880" y="537516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19640" y="537516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35640" y="537516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51280" y="3933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5759280" cy="7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324000" y="1236600"/>
          <a:ext cx="6761160" cy="4497480"/>
        </p:xfrm>
        <a:graphic>
          <a:graphicData uri="http://schemas.openxmlformats.org/drawingml/2006/table">
            <a:tbl>
              <a:tblPr/>
              <a:tblGrid>
                <a:gridCol w="1744560"/>
                <a:gridCol w="1671480"/>
                <a:gridCol w="1673280"/>
                <a:gridCol w="1671840"/>
              </a:tblGrid>
              <a:tr h="75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MED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ACEPTAC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X CLI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SEGUR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DE COB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CONVENIE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ECONOM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Pago Fác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Deposito banc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Contra entre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TC Vi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TC Masterc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2448000" y="537516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22440" y="242100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38440" y="242100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54440" y="242100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70080" y="2421000"/>
            <a:ext cx="19080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22440" y="3141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38440" y="3141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22440" y="465444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38440" y="465444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54440" y="465444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22440" y="3933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638440" y="3933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54440" y="3933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759280" y="2422440"/>
            <a:ext cx="19080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975280" y="242244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91280" y="242244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07280" y="242244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61080" y="3141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77080" y="3141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92720" y="3141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08720" y="3141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24720" y="3141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59280" y="3933720"/>
            <a:ext cx="19080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75280" y="3933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91280" y="3933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407280" y="3933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759280" y="4654440"/>
            <a:ext cx="19080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75280" y="465444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59280" y="5375160"/>
            <a:ext cx="19080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75280" y="537516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33440" y="2781360"/>
            <a:ext cx="609480" cy="3142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68360" y="2006640"/>
            <a:ext cx="609480" cy="342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68360" y="3548160"/>
            <a:ext cx="609480" cy="3142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433440" y="4267080"/>
            <a:ext cx="609480" cy="3142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433440" y="5014800"/>
            <a:ext cx="609480" cy="3142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6"/>
          <a:stretch/>
        </p:blipFill>
        <p:spPr>
          <a:xfrm>
            <a:off x="4033800" y="189000"/>
            <a:ext cx="1042920" cy="2682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468960" y="620640"/>
            <a:ext cx="21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Medios de p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097160" y="2422440"/>
            <a:ext cx="19080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309920" y="2422440"/>
            <a:ext cx="19080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25920" y="242244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741920" y="242244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7920" y="242244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106880" y="3141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19640" y="3141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35640" y="3141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51280" y="3141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967280" y="3141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08320" y="3933720"/>
            <a:ext cx="19080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19640" y="3933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35640" y="3933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106880" y="465444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19640" y="465444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35640" y="465444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06880" y="537516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19640" y="537516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35640" y="537516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51280" y="3933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732720" y="3068640"/>
            <a:ext cx="215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92720" y="5373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300720" y="5300640"/>
            <a:ext cx="216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5759280" cy="7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"/>
          <p:cNvGraphicFramePr/>
          <p:nvPr/>
        </p:nvGraphicFramePr>
        <p:xfrm>
          <a:off x="324000" y="1236600"/>
          <a:ext cx="8434080" cy="4497480"/>
        </p:xfrm>
        <a:graphic>
          <a:graphicData uri="http://schemas.openxmlformats.org/drawingml/2006/table">
            <a:tbl>
              <a:tblPr/>
              <a:tblGrid>
                <a:gridCol w="1744560"/>
                <a:gridCol w="1671480"/>
                <a:gridCol w="1673280"/>
                <a:gridCol w="1671840"/>
                <a:gridCol w="1672920"/>
              </a:tblGrid>
              <a:tr h="75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MED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ACEPTAC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X CLI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SEGUR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DE COB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CONVENIE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ECONOM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EVALUACION 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Pago Fác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Deposito banc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Contra entre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TC Vi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TC Masterc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2448000" y="537516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22440" y="242100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638440" y="242100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54440" y="242100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70080" y="2421000"/>
            <a:ext cx="19080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22440" y="3141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638440" y="3141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22440" y="465444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38440" y="465444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54440" y="465444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22440" y="3933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38440" y="3933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854440" y="3933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759280" y="2422440"/>
            <a:ext cx="19080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975280" y="242244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91280" y="242244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7280" y="242244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761080" y="3141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977080" y="3141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92720" y="3141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408720" y="3141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24720" y="3141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59280" y="3933720"/>
            <a:ext cx="19080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75280" y="3933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91280" y="3933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07280" y="3933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59280" y="4654440"/>
            <a:ext cx="19080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975280" y="465444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59280" y="5375160"/>
            <a:ext cx="19080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975280" y="537516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392960" y="2421000"/>
            <a:ext cx="190440" cy="142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608960" y="2421000"/>
            <a:ext cx="190440" cy="142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824960" y="2421000"/>
            <a:ext cx="190440" cy="142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040600" y="2421000"/>
            <a:ext cx="190440" cy="142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258040" y="2421000"/>
            <a:ext cx="190800" cy="142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326440" y="2349360"/>
            <a:ext cx="21600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389720" y="3141720"/>
            <a:ext cx="190440" cy="142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605720" y="3141720"/>
            <a:ext cx="190440" cy="142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821720" y="3141720"/>
            <a:ext cx="190440" cy="142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037360" y="3141720"/>
            <a:ext cx="190800" cy="142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389720" y="3932280"/>
            <a:ext cx="190440" cy="142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605720" y="3932280"/>
            <a:ext cx="190440" cy="142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797960" y="3933720"/>
            <a:ext cx="190440" cy="142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015400" y="3933720"/>
            <a:ext cx="190440" cy="142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389720" y="4651200"/>
            <a:ext cx="190440" cy="142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605720" y="4651200"/>
            <a:ext cx="190440" cy="142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821720" y="4651200"/>
            <a:ext cx="190440" cy="142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943760" y="4581360"/>
            <a:ext cx="1429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9720" y="5375160"/>
            <a:ext cx="190440" cy="142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5375160"/>
            <a:ext cx="190440" cy="142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33440" y="2781360"/>
            <a:ext cx="609480" cy="3142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468360" y="2006640"/>
            <a:ext cx="609480" cy="3427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468360" y="3548160"/>
            <a:ext cx="609480" cy="3142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433440" y="4267080"/>
            <a:ext cx="609480" cy="3142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433440" y="5014800"/>
            <a:ext cx="609480" cy="314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0" y="5877000"/>
            <a:ext cx="9144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700" spc="-1" strike="noStrike">
                <a:solidFill>
                  <a:srgbClr val="0000cc"/>
                </a:solidFill>
                <a:latin typeface="Arial Rounded MT Bold"/>
              </a:rPr>
              <a:t>Próximos medios de pago a incorporar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700" spc="-1" strike="noStrike">
                <a:solidFill>
                  <a:srgbClr val="0000cc"/>
                </a:solidFill>
                <a:latin typeface="Arial Rounded MT Bold"/>
              </a:rPr>
              <a:t>Tarjeta de debito / Deposito en Banco Nación / AmEx / Western Un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4033800" y="189000"/>
            <a:ext cx="1042920" cy="2682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3468960" y="620640"/>
            <a:ext cx="21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Medios de p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097160" y="2422440"/>
            <a:ext cx="19080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09920" y="2422440"/>
            <a:ext cx="19080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525920" y="242244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741920" y="242244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957920" y="242244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106880" y="3141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319640" y="3141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35640" y="3141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51280" y="3141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967280" y="3141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108320" y="3933720"/>
            <a:ext cx="19080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19640" y="3933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35640" y="3933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06880" y="465444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319640" y="465444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535640" y="465444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106880" y="537516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319640" y="537516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35640" y="537516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732720" y="3068640"/>
            <a:ext cx="215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192720" y="5373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300720" y="5300640"/>
            <a:ext cx="216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751280" y="3933720"/>
            <a:ext cx="190440" cy="142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76720" y="3860640"/>
            <a:ext cx="21600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72360" y="2997360"/>
            <a:ext cx="216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01080" y="3860640"/>
            <a:ext cx="21600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0"/>
            <a:ext cx="5759280" cy="7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324000" y="1197000"/>
            <a:ext cx="84960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Arial Rounded MT Bold"/>
              </a:rPr>
              <a:t>Como canal de distribución, genera ventas directas e indirec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Arial Rounded MT Bold"/>
              </a:rPr>
              <a:t>Gran parte de las ventas son margi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Arial Rounded MT Bold"/>
              </a:rPr>
              <a:t>Como herramienta comunicacional refuerza el vinculo y logra fide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Arial Rounded MT Bold"/>
              </a:rPr>
              <a:t>Abre la puerta a la generación de nuevas alianzas estraté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Arial Rounded MT Bold"/>
              </a:rPr>
              <a:t>Imagen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455560" y="692280"/>
            <a:ext cx="42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Ventajas de poseer e-comme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0"/>
            <a:ext cx="6581880" cy="7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8798040" y="1764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4033800" y="189000"/>
            <a:ext cx="1042920" cy="26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d4d4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d4d4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d4d4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d4d4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2270880" y="692280"/>
            <a:ext cx="455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Pero hay que tener en cuent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0"/>
            <a:ext cx="7404120" cy="7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8798040" y="17640"/>
            <a:ext cx="144360" cy="1443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24000" y="1268280"/>
            <a:ext cx="84960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280000"/>
              </a:lnSpc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Arial Rounded MT Bold"/>
              </a:rPr>
              <a:t>Requiere atencion constante (actualización, renovación, promo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80000"/>
              </a:lnSpc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Arial Rounded MT Bold"/>
              </a:rPr>
              <a:t>Requiere RRHH dedi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80000"/>
              </a:lnSpc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Arial Rounded MT Bold"/>
              </a:rPr>
              <a:t>Es indispensable una fuerte coordinación con Ventas y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80000"/>
              </a:lnSpc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Arial Rounded MT Bold"/>
              </a:rPr>
              <a:t>Genera costos fijos. De su cuidado dependerá la rent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80000"/>
              </a:lnSpc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Arial Rounded MT Bold"/>
              </a:rPr>
              <a:t>En caso de multinacionales, puede introducir conflictos por 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80000"/>
              </a:lnSpc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Arial Rounded MT Bold"/>
              </a:rPr>
              <a:t>En Argentina, el e-commerce esta en desarrollo (clientes y sopor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4033800" y="189000"/>
            <a:ext cx="1042920" cy="26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d4d4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d4d4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d4d4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d4d4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d4d4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24000" y="1125360"/>
            <a:ext cx="84960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000000"/>
                </a:solidFill>
                <a:latin typeface="Arial Rounded MT Bold"/>
              </a:rPr>
              <a:t>PUBLICIDA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AR" sz="1700" spc="-1" strike="noStrike">
                <a:solidFill>
                  <a:srgbClr val="000000"/>
                </a:solidFill>
                <a:latin typeface="Arial Rounded MT Bold"/>
              </a:rPr>
              <a:t>Presencia en buscador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AR" sz="1700" spc="-1" strike="noStrike">
                <a:solidFill>
                  <a:srgbClr val="000000"/>
                </a:solidFill>
                <a:latin typeface="Arial Rounded MT Bold"/>
              </a:rPr>
              <a:t>Publicidad en medios acertad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AR" sz="1700" spc="-1" strike="noStrike">
                <a:solidFill>
                  <a:srgbClr val="000000"/>
                </a:solidFill>
                <a:latin typeface="Arial Rounded MT Bold"/>
              </a:rPr>
              <a:t>Promoción cruzada con sites afines/complementarios/relacionad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AR" sz="1700" spc="-1" strike="noStrike">
                <a:solidFill>
                  <a:srgbClr val="000000"/>
                </a:solidFill>
                <a:latin typeface="Arial Rounded MT Bold"/>
              </a:rPr>
              <a:t>Emisión de un newslet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929960" y="692280"/>
            <a:ext cx="532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Para concluir, tres aspectos impor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4033800" y="189000"/>
            <a:ext cx="1042920" cy="2682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324000" y="2889360"/>
            <a:ext cx="849600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000000"/>
                </a:solidFill>
                <a:latin typeface="Arial Rounded MT Bold"/>
              </a:rPr>
              <a:t>CUSTOMER CA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AR" sz="1700" spc="-1" strike="noStrike">
                <a:solidFill>
                  <a:srgbClr val="000000"/>
                </a:solidFill>
                <a:latin typeface="Arial Rounded MT Bold"/>
              </a:rPr>
              <a:t>Conocer los “miedos” de los usuarios para implementar detractor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AR" sz="1700" spc="-1" strike="noStrike">
                <a:solidFill>
                  <a:srgbClr val="000000"/>
                </a:solidFill>
                <a:latin typeface="Arial Rounded MT Bold"/>
              </a:rPr>
              <a:t>Velocidad de respuesta a las consultas de los usuari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AR" sz="1700" spc="-1" strike="noStrike">
                <a:solidFill>
                  <a:srgbClr val="000000"/>
                </a:solidFill>
                <a:latin typeface="Arial Rounded MT Bold"/>
              </a:rPr>
              <a:t>Las consultas son un valioso feedback para la introducción de mejor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AR" sz="1700" spc="-1" strike="noStrike">
                <a:solidFill>
                  <a:srgbClr val="000000"/>
                </a:solidFill>
                <a:latin typeface="Arial Rounded MT Bold"/>
              </a:rPr>
              <a:t>Cumplir con lo prometido (y un poco mas tambié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24000" y="4653000"/>
            <a:ext cx="8496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000000"/>
                </a:solidFill>
                <a:latin typeface="Arial Rounded MT Bold"/>
              </a:rPr>
              <a:t>NAVEGABILIDA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AR" sz="1700" spc="-1" strike="noStrike">
                <a:solidFill>
                  <a:srgbClr val="000000"/>
                </a:solidFill>
                <a:latin typeface="Arial Rounded MT Bold"/>
              </a:rPr>
              <a:t>Intuitiv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AR" sz="1700" spc="-1" strike="noStrike">
                <a:solidFill>
                  <a:srgbClr val="000000"/>
                </a:solidFill>
                <a:latin typeface="Arial Rounded MT Bold"/>
              </a:rPr>
              <a:t>Predeci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AR" sz="1700" spc="-1" strike="noStrike">
                <a:solidFill>
                  <a:srgbClr val="000000"/>
                </a:solidFill>
                <a:latin typeface="Arial Rounded MT Bold"/>
              </a:rPr>
              <a:t>Amig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AR" sz="1700" spc="-1" strike="noStrike">
                <a:solidFill>
                  <a:srgbClr val="000000"/>
                </a:solidFill>
                <a:latin typeface="Arial Rounded MT Bold"/>
              </a:rPr>
              <a:t>Mejora constan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8226360" cy="7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8317080" y="17640"/>
            <a:ext cx="144360" cy="14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d4d4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d4d4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638360" y="31417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Rounded MT Bold"/>
              </a:rPr>
              <a:t>PREGUNT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4033800" y="189000"/>
            <a:ext cx="1042920" cy="2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638360" y="308772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 Rounded MT Bold"/>
              </a:rPr>
              <a:t>MUCHAS GRACIA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033800" y="189000"/>
            <a:ext cx="1042920" cy="2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2240" cy="7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87800" y="323388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kosiukostor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41560" y="2781360"/>
            <a:ext cx="1917720" cy="143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239760" y="312840"/>
            <a:ext cx="255528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Lic. Diego Martin Besell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Kowzef S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Webm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941560" y="4383000"/>
            <a:ext cx="1917720" cy="143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4963320" y="486396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kskfm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941560" y="1125360"/>
            <a:ext cx="1917720" cy="14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4971600" y="157644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kosiuk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308640"/>
            <a:ext cx="9144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700" spc="-1" strike="noStrike">
                <a:solidFill>
                  <a:srgbClr val="0000cc"/>
                </a:solidFill>
                <a:latin typeface="Arial Rounded MT Bold"/>
              </a:rPr>
              <a:t>Puede descargar esta presentación en: </a:t>
            </a:r>
            <a:r>
              <a:rPr b="0" i="1" lang="es-AR" sz="1700" spc="-1" strike="noStrike" u="sng">
                <a:solidFill>
                  <a:srgbClr val="0000cc"/>
                </a:solidFill>
                <a:uFillTx/>
                <a:latin typeface="Arial Rounded MT Bold"/>
              </a:rPr>
              <a:t>www.kosiuko.com/kosiuko.zip</a:t>
            </a:r>
            <a:r>
              <a:rPr b="0" i="1" lang="es-AR" sz="1700" spc="-1" strike="noStrike">
                <a:solidFill>
                  <a:srgbClr val="0000cc"/>
                </a:solidFill>
                <a:latin typeface="Arial Rounded MT Bold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411280" y="2795760"/>
            <a:ext cx="3762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1644480" cy="7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1413000"/>
            <a:ext cx="774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3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Empresa 100%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Produce/vende/exporta prendas de vestir y acceso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11 años en 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Líder del segmento</a:t>
            </a: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Facturación anual</a:t>
            </a: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$ 6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Q prendas anuales</a:t>
            </a: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1,2 MM 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Q locales propios</a:t>
            </a: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Q locales exclusivos</a:t>
            </a: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Q locales multimarca</a:t>
            </a: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Q países con presencia</a:t>
            </a: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4186080" y="11592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5661000"/>
            <a:ext cx="8604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700" spc="-1" strike="noStrike">
                <a:solidFill>
                  <a:srgbClr val="0000cc"/>
                </a:solidFill>
                <a:latin typeface="Arial Rounded MT Bold"/>
              </a:rPr>
              <a:t>La clave del éxito radico en la constante innovación en el desarrollo 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700" spc="-1" strike="noStrike">
                <a:solidFill>
                  <a:srgbClr val="0000cc"/>
                </a:solidFill>
                <a:latin typeface="Arial Rounded MT Bold"/>
              </a:rPr>
              <a:t>líneas y productos con un cuidadoso manejo de la imagen de mar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18800" y="98424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L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2468520" cy="7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197240" y="11592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4360" y="191772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659640" y="4697280"/>
            <a:ext cx="1554120" cy="387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799160" y="1919160"/>
            <a:ext cx="1644480" cy="1078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2771640" y="1917720"/>
            <a:ext cx="989280" cy="1079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138840" y="984240"/>
            <a:ext cx="281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Unidades de neg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3218040"/>
            <a:ext cx="1008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 Rounded MT Bold"/>
              </a:rPr>
              <a:t>Pren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 Rounded MT Bold"/>
              </a:rPr>
              <a:t>de vest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71640" y="3218040"/>
            <a:ext cx="1008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 Rounded MT Bold"/>
              </a:rPr>
              <a:t>Ra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 Rounded MT Bold"/>
              </a:rPr>
              <a:t>KSK 101.9 F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75280" y="3218040"/>
            <a:ext cx="1008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 Rounded MT Bold"/>
              </a:rPr>
              <a:t>Discográ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 Rounded MT Bold"/>
              </a:rPr>
              <a:t>KSK Rec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5394240"/>
            <a:ext cx="1008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 Rounded MT Bold"/>
              </a:rPr>
              <a:t>Desodor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 Rounded MT Bold"/>
              </a:rPr>
              <a:t>y Eau de Toile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5396040"/>
            <a:ext cx="1008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 Rounded MT Bold"/>
              </a:rPr>
              <a:t>Anteoj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48360" y="3218040"/>
            <a:ext cx="1008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 Rounded MT Bold"/>
              </a:rPr>
              <a:t>KSK B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48360" y="5418000"/>
            <a:ext cx="1008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 Rounded MT Bold"/>
              </a:rPr>
              <a:t>KSK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 Rounded MT Bold"/>
              </a:rPr>
              <a:t>Venta 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7020000" y="1916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777960" y="4365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788000" y="5445000"/>
            <a:ext cx="1008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 Rounded MT Bold"/>
              </a:rPr>
              <a:t>Relo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4859280" y="4365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9"/>
          <a:stretch/>
        </p:blipFill>
        <p:spPr>
          <a:xfrm>
            <a:off x="2819520" y="436572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3290760" cy="7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2205000"/>
            <a:ext cx="849600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7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AR" sz="1700" spc="-1" strike="noStrike">
                <a:solidFill>
                  <a:srgbClr val="000000"/>
                </a:solidFill>
                <a:latin typeface="Arial Rounded MT Bold"/>
              </a:rPr>
              <a:t>Institucional</a:t>
            </a:r>
            <a:r>
              <a:rPr b="0" i="1" lang="es-AR" sz="17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i="1" lang="es-AR" sz="17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i="1" lang="es-AR" sz="17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i="1" lang="es-AR" sz="1700" spc="-1" strike="noStrike">
                <a:solidFill>
                  <a:srgbClr val="000000"/>
                </a:solidFill>
                <a:latin typeface="Arial Rounded MT Bold"/>
              </a:rPr>
              <a:t>Vanguardia, estar siempre un paso adelan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7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AR" sz="1700" spc="-1" strike="noStrike">
                <a:solidFill>
                  <a:srgbClr val="000000"/>
                </a:solidFill>
                <a:latin typeface="Arial Rounded MT Bold"/>
              </a:rPr>
              <a:t>Comunicacional</a:t>
            </a:r>
            <a:r>
              <a:rPr b="0" i="1" lang="es-AR" sz="17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i="1" lang="es-AR" sz="17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i="1" lang="es-AR" sz="1700" spc="-1" strike="noStrike">
                <a:solidFill>
                  <a:srgbClr val="000000"/>
                </a:solidFill>
                <a:latin typeface="Arial Rounded MT Bold"/>
              </a:rPr>
              <a:t>Catalogo de productos de alcance mundi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7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AR" sz="1700" spc="-1" strike="noStrike">
                <a:solidFill>
                  <a:srgbClr val="000000"/>
                </a:solidFill>
                <a:latin typeface="Arial Rounded MT Bold"/>
              </a:rPr>
              <a:t>Económico</a:t>
            </a:r>
            <a:r>
              <a:rPr b="0" i="1" lang="es-AR" sz="17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i="1" lang="es-AR" sz="17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i="1" lang="es-AR" sz="17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i="1" lang="es-AR" sz="1700" spc="-1" strike="noStrike">
                <a:solidFill>
                  <a:srgbClr val="000000"/>
                </a:solidFill>
                <a:latin typeface="Arial Rounded MT Bold"/>
              </a:rPr>
              <a:t>Generar mas vent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7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AR" sz="1700" spc="-1" strike="noStrike">
                <a:solidFill>
                  <a:srgbClr val="000000"/>
                </a:solidFill>
                <a:latin typeface="Arial Rounded MT Bold"/>
              </a:rPr>
              <a:t>Logístico</a:t>
            </a:r>
            <a:r>
              <a:rPr b="0" i="1" lang="es-AR" sz="17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i="1" lang="es-AR" sz="17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i="1" lang="es-AR" sz="1700" spc="-1" strike="noStrike">
                <a:solidFill>
                  <a:srgbClr val="000000"/>
                </a:solidFill>
                <a:latin typeface="Arial Rounded MT Bold"/>
              </a:rPr>
              <a:t>Llegar a cualquier parte del mun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4653000"/>
            <a:ext cx="8496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Perspec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000000"/>
                </a:solidFill>
                <a:latin typeface="Arial Rounded MT Bold"/>
              </a:rPr>
              <a:t>Vemos a la Internet como un “Tsunami”. Muy poderoso, crece enormemente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000000"/>
                </a:solidFill>
                <a:latin typeface="Arial Rounded MT Bold"/>
              </a:rPr>
              <a:t>es inevitable y cuando llegue a nuestra costa… queremos estar arrib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484280"/>
            <a:ext cx="8496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Lanzamiento</a:t>
            </a: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i="1" lang="es-AR" sz="1700" spc="-1" strike="noStrike">
                <a:solidFill>
                  <a:srgbClr val="000000"/>
                </a:solidFill>
                <a:latin typeface="Arial Rounded MT Bold"/>
              </a:rPr>
              <a:t>Marzo 200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45520" y="765000"/>
            <a:ext cx="318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www.kosiukostor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035600" y="189000"/>
            <a:ext cx="1042920" cy="2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4113360" cy="7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0" y="1268280"/>
          <a:ext cx="9144000" cy="398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39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2843280" y="1665360"/>
            <a:ext cx="0" cy="28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518080"/>
            <a:ext cx="9144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700" spc="-1" strike="noStrike">
                <a:solidFill>
                  <a:srgbClr val="0000cc"/>
                </a:solidFill>
                <a:latin typeface="Arial Rounded MT Bold"/>
              </a:rPr>
              <a:t>La pagina de venta online aumento significativamente el contacto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700" spc="-1" strike="noStrike">
                <a:solidFill>
                  <a:srgbClr val="0000cc"/>
                </a:solidFill>
                <a:latin typeface="Arial Rounded MT Bold"/>
              </a:rPr>
              <a:t>con los clientes y por consiguiente su fidelizació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45880" y="1650960"/>
            <a:ext cx="145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tradi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12840" y="1631880"/>
            <a:ext cx="165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Web 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venta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71640" y="1628640"/>
            <a:ext cx="5977080" cy="2952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748720" y="1484280"/>
            <a:ext cx="395280" cy="31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63800" y="692280"/>
            <a:ext cx="34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Hits mensuales en la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035600" y="189000"/>
            <a:ext cx="1042920" cy="26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3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4935600" cy="7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54160" y="692280"/>
            <a:ext cx="32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Proceso de venta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1960" y="1484280"/>
            <a:ext cx="1273320" cy="1077840"/>
          </a:xfrm>
          <a:custGeom>
            <a:avLst/>
            <a:gdLst>
              <a:gd name="textAreaLeft" fmla="*/ 0 w 1273320"/>
              <a:gd name="textAreaRight" fmla="*/ 1273680 w 1273320"/>
              <a:gd name="textAreaTop" fmla="*/ 0 h 1077840"/>
              <a:gd name="textAreaBottom" fmla="*/ 1077840 h 107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3440" y="1484280"/>
            <a:ext cx="1441440" cy="107784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077840"/>
              <a:gd name="textAreaBottom" fmla="*/ 1077840 h 107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21" y="0"/>
                </a:lnTo>
                <a:lnTo>
                  <a:pt x="21600" y="10800"/>
                </a:lnTo>
                <a:lnTo>
                  <a:pt x="16921" y="21600"/>
                </a:lnTo>
                <a:lnTo>
                  <a:pt x="0" y="21600"/>
                </a:lnTo>
                <a:lnTo>
                  <a:pt x="4679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800" y="1606680"/>
            <a:ext cx="8924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 Rounded MT Bold"/>
              </a:rPr>
              <a:t>El clien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 Rounded MT Bold"/>
              </a:rPr>
              <a:t>elije el/l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 Rounded MT Bold"/>
              </a:rPr>
              <a:t>product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40160" y="1606680"/>
            <a:ext cx="9151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 Rounded MT Bold"/>
              </a:rPr>
              <a:t>Seleccio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 Rounded MT Bold"/>
              </a:rPr>
              <a:t>-Tal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 Rounded MT Bold"/>
              </a:rPr>
              <a:t>-Col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 Rounded MT Bold"/>
              </a:rPr>
              <a:t>-Cantid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58880" y="1484280"/>
            <a:ext cx="1441800" cy="1077840"/>
          </a:xfrm>
          <a:custGeom>
            <a:avLst/>
            <a:gdLst>
              <a:gd name="textAreaLeft" fmla="*/ 0 w 1441800"/>
              <a:gd name="textAreaRight" fmla="*/ 1442160 w 1441800"/>
              <a:gd name="textAreaTop" fmla="*/ 0 h 1077840"/>
              <a:gd name="textAreaBottom" fmla="*/ 1077840 h 107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21" y="0"/>
                </a:lnTo>
                <a:lnTo>
                  <a:pt x="21600" y="10800"/>
                </a:lnTo>
                <a:lnTo>
                  <a:pt x="16921" y="21600"/>
                </a:lnTo>
                <a:lnTo>
                  <a:pt x="0" y="21600"/>
                </a:lnTo>
                <a:lnTo>
                  <a:pt x="4679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00160" y="1606680"/>
            <a:ext cx="955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 Rounded MT Bold"/>
              </a:rPr>
              <a:t>Para pod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 Rounded MT Bold"/>
              </a:rPr>
              <a:t>compr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 Rounded MT Bold"/>
              </a:rPr>
              <a:t>deb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 Rounded MT Bold"/>
              </a:rPr>
              <a:t>registrar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81440" y="1484280"/>
            <a:ext cx="1441440" cy="107784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077840"/>
              <a:gd name="textAreaBottom" fmla="*/ 1077840 h 107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21" y="0"/>
                </a:lnTo>
                <a:lnTo>
                  <a:pt x="21600" y="10800"/>
                </a:lnTo>
                <a:lnTo>
                  <a:pt x="16921" y="21600"/>
                </a:lnTo>
                <a:lnTo>
                  <a:pt x="0" y="21600"/>
                </a:lnTo>
                <a:lnTo>
                  <a:pt x="4679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89240" y="1606680"/>
            <a:ext cx="8542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 Rounded MT Bold"/>
              </a:rPr>
              <a:t>Logu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 Rounded MT Bold"/>
              </a:rPr>
              <a:t>c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 Rounded MT Bold"/>
              </a:rPr>
              <a:t>user 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 Rounded MT Bold"/>
              </a:rPr>
              <a:t>passwor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03640" y="1484280"/>
            <a:ext cx="1441440" cy="107784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077840"/>
              <a:gd name="textAreaBottom" fmla="*/ 1077840 h 107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21" y="0"/>
                </a:lnTo>
                <a:lnTo>
                  <a:pt x="21600" y="10800"/>
                </a:lnTo>
                <a:lnTo>
                  <a:pt x="16921" y="21600"/>
                </a:lnTo>
                <a:lnTo>
                  <a:pt x="0" y="21600"/>
                </a:lnTo>
                <a:lnTo>
                  <a:pt x="4679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20080" y="1606680"/>
            <a:ext cx="915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 Rounded MT Bold"/>
              </a:rPr>
              <a:t>Seleccio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 Rounded MT Bold"/>
              </a:rPr>
              <a:t>método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 Rounded MT Bold"/>
              </a:rPr>
              <a:t>de pa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27640" y="1484280"/>
            <a:ext cx="1441440" cy="107784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077840"/>
              <a:gd name="textAreaBottom" fmla="*/ 1077840 h 107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21" y="0"/>
                </a:lnTo>
                <a:lnTo>
                  <a:pt x="21600" y="10800"/>
                </a:lnTo>
                <a:lnTo>
                  <a:pt x="16921" y="21600"/>
                </a:lnTo>
                <a:lnTo>
                  <a:pt x="0" y="21600"/>
                </a:lnTo>
                <a:lnTo>
                  <a:pt x="4679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62080" y="1606680"/>
            <a:ext cx="942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 Rounded MT Bold"/>
              </a:rPr>
              <a:t>Ingres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 Rounded MT Bold"/>
              </a:rPr>
              <a:t>direc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 Rounded MT Bold"/>
              </a:rPr>
              <a:t>de entreg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51640" y="1484280"/>
            <a:ext cx="1441440" cy="107784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077840"/>
              <a:gd name="textAreaBottom" fmla="*/ 1077840 h 107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21" y="0"/>
                </a:lnTo>
                <a:lnTo>
                  <a:pt x="21600" y="10800"/>
                </a:lnTo>
                <a:lnTo>
                  <a:pt x="16921" y="21600"/>
                </a:lnTo>
                <a:lnTo>
                  <a:pt x="0" y="21600"/>
                </a:lnTo>
                <a:lnTo>
                  <a:pt x="4679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742520" y="1484280"/>
            <a:ext cx="9504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 Rounded MT Bold"/>
              </a:rPr>
              <a:t>Verific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 Rounded MT Bold"/>
              </a:rPr>
              <a:t>todos l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 Rounded MT Bold"/>
              </a:rPr>
              <a:t>dato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 Rounded MT Bold"/>
              </a:rPr>
              <a:t>ingresad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 Rounded MT Bold"/>
              </a:rPr>
              <a:t>y aprueb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 Rounded MT Bold"/>
              </a:rPr>
              <a:t>la comp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760" y="2800440"/>
            <a:ext cx="1441440" cy="107784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077840"/>
              <a:gd name="textAreaBottom" fmla="*/ 1077840 h 107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21" y="0"/>
                </a:lnTo>
                <a:lnTo>
                  <a:pt x="21600" y="10800"/>
                </a:lnTo>
                <a:lnTo>
                  <a:pt x="16921" y="21600"/>
                </a:lnTo>
                <a:lnTo>
                  <a:pt x="0" y="21600"/>
                </a:lnTo>
                <a:lnTo>
                  <a:pt x="4679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3200" y="2878200"/>
            <a:ext cx="865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 Rounded MT Bold"/>
              </a:rPr>
              <a:t>Recib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 Rounded MT Bold"/>
              </a:rPr>
              <a:t>e-mai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 Rounded MT Bold"/>
              </a:rPr>
              <a:t>de acu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 Rounded MT Bold"/>
              </a:rPr>
              <a:t>de pedi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44760" y="2800440"/>
            <a:ext cx="1441440" cy="107784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077840"/>
              <a:gd name="textAreaBottom" fmla="*/ 1077840 h 107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21" y="0"/>
                </a:lnTo>
                <a:lnTo>
                  <a:pt x="21600" y="10800"/>
                </a:lnTo>
                <a:lnTo>
                  <a:pt x="16921" y="21600"/>
                </a:lnTo>
                <a:lnTo>
                  <a:pt x="0" y="21600"/>
                </a:lnTo>
                <a:lnTo>
                  <a:pt x="4679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47440" y="2778120"/>
            <a:ext cx="12261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 Rounded MT Bold"/>
              </a:rPr>
              <a:t>En el dí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 Rounded MT Bold"/>
              </a:rPr>
              <a:t>recibe 2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 Rounded MT Bold"/>
              </a:rPr>
              <a:t>e-mail c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 Rounded MT Bold"/>
              </a:rPr>
              <a:t>confirmación 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 Rounded MT Bold"/>
              </a:rPr>
              <a:t>instruccion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 Rounded MT Bold"/>
              </a:rPr>
              <a:t>de pa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0200" y="2800440"/>
            <a:ext cx="1441440" cy="107784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077840"/>
              <a:gd name="textAreaBottom" fmla="*/ 1077840 h 107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21" y="0"/>
                </a:lnTo>
                <a:lnTo>
                  <a:pt x="21600" y="10800"/>
                </a:lnTo>
                <a:lnTo>
                  <a:pt x="16921" y="21600"/>
                </a:lnTo>
                <a:lnTo>
                  <a:pt x="0" y="21600"/>
                </a:lnTo>
                <a:lnTo>
                  <a:pt x="4679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56400" y="2900520"/>
            <a:ext cx="842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 Rounded MT Bold"/>
              </a:rPr>
              <a:t>Realiza 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 Rounded MT Bold"/>
              </a:rPr>
              <a:t>pa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94200" y="2800440"/>
            <a:ext cx="1441440" cy="107784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077840"/>
              <a:gd name="textAreaBottom" fmla="*/ 1077840 h 107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21" y="0"/>
                </a:lnTo>
                <a:lnTo>
                  <a:pt x="21600" y="10800"/>
                </a:lnTo>
                <a:lnTo>
                  <a:pt x="16921" y="21600"/>
                </a:lnTo>
                <a:lnTo>
                  <a:pt x="0" y="21600"/>
                </a:lnTo>
                <a:lnTo>
                  <a:pt x="4679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02000" y="2900520"/>
            <a:ext cx="848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 Rounded MT Bold"/>
              </a:rPr>
              <a:t>Se reali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 Rounded MT Bold"/>
              </a:rPr>
              <a:t>el enví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2360" y="4221000"/>
            <a:ext cx="777564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0000cc"/>
                </a:solidFill>
                <a:latin typeface="Arial Rounded MT Bold"/>
              </a:rPr>
              <a:t>Featur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700" spc="-1" strike="noStrike">
                <a:solidFill>
                  <a:srgbClr val="0000cc"/>
                </a:solidFill>
                <a:latin typeface="Arial Rounded MT Bold"/>
              </a:rPr>
              <a:t>Ayuda grafica sobre todo el proceso de compra onli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700" spc="-1" strike="noStrike">
                <a:solidFill>
                  <a:srgbClr val="0000cc"/>
                </a:solidFill>
                <a:latin typeface="Arial Rounded MT Bold"/>
              </a:rPr>
              <a:t>Ayuda sobre tal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700" spc="-1" strike="noStrike">
                <a:solidFill>
                  <a:srgbClr val="0000cc"/>
                </a:solidFill>
                <a:latin typeface="Arial Rounded MT Bold"/>
              </a:rPr>
              <a:t>Ayuda sobre soporte post-compr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700" spc="-1" strike="noStrike">
                <a:solidFill>
                  <a:srgbClr val="0000cc"/>
                </a:solidFill>
                <a:latin typeface="Arial Rounded MT Bold"/>
              </a:rPr>
              <a:t>Búsqueda avanzada de produc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700" spc="-1" strike="noStrike">
                <a:solidFill>
                  <a:srgbClr val="0000cc"/>
                </a:solidFill>
                <a:latin typeface="Arial Rounded MT Bold"/>
              </a:rPr>
              <a:t>Selección de distintos métodos de enví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700" spc="-1" strike="noStrike">
                <a:solidFill>
                  <a:srgbClr val="0000cc"/>
                </a:solidFill>
                <a:latin typeface="Arial Rounded MT Bold"/>
              </a:rPr>
              <a:t>Entrega de factura en una segunda direc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700" spc="-1" strike="noStrike">
                <a:solidFill>
                  <a:srgbClr val="0000cc"/>
                </a:solidFill>
                <a:latin typeface="Arial Rounded MT Bold"/>
              </a:rPr>
              <a:t>Revisión del historial de compr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700" spc="-1" strike="noStrike">
                <a:solidFill>
                  <a:srgbClr val="0000cc"/>
                </a:solidFill>
                <a:latin typeface="Arial Rounded MT Bold"/>
              </a:rPr>
              <a:t>Suscripción a newslet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040280" y="189000"/>
            <a:ext cx="1042920" cy="26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18904" t="13670" r="20083" b="8557"/>
          <a:stretch/>
        </p:blipFill>
        <p:spPr>
          <a:xfrm>
            <a:off x="900000" y="0"/>
            <a:ext cx="720108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5759280" cy="7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24000" y="1236600"/>
          <a:ext cx="1744560" cy="4497480"/>
        </p:xfrm>
        <a:graphic>
          <a:graphicData uri="http://schemas.openxmlformats.org/drawingml/2006/table">
            <a:tbl>
              <a:tblPr/>
              <a:tblGrid>
                <a:gridCol w="1744560"/>
              </a:tblGrid>
              <a:tr h="75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MED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Pago Fác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Deposito banc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Contra entre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TC Vi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TC Masterc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33440" y="2781360"/>
            <a:ext cx="609480" cy="314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8360" y="2006640"/>
            <a:ext cx="609480" cy="342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68360" y="3548160"/>
            <a:ext cx="609480" cy="314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33440" y="4267080"/>
            <a:ext cx="609480" cy="314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433440" y="5014800"/>
            <a:ext cx="609480" cy="314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4033800" y="189000"/>
            <a:ext cx="1042920" cy="268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468960" y="620640"/>
            <a:ext cx="21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Medios de p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18:29:07Z</dcterms:created>
  <dc:creator>Martin Besellis</dc:creator>
  <dc:description>e-mail: mbesellis@kosiuko.com</dc:description>
  <dc:language>en-US</dc:language>
  <cp:lastModifiedBy>C.P.C.E.C.A.B.A.</cp:lastModifiedBy>
  <dcterms:modified xsi:type="dcterms:W3CDTF">2004-08-23T20:41:50Z</dcterms:modified>
  <cp:revision>59</cp:revision>
  <dc:subject>CNCE</dc:subject>
  <dc:title>Kosiuko Store</dc:title>
</cp:coreProperties>
</file>