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A29-F6BA-4405-87CC-9BC32F88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566-0664-49C8-8813-88490AC7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C9D-F773-45C0-90BB-3E83484F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A21-9B5C-45D8-B101-7C197E4A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A143-4050-49D8-BB3F-A3E90174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6AF-0CF1-40FC-96E6-5389F45E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978A-AB96-4F3F-B5EA-B2DD248F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A2C-10D5-4C92-B4C3-683B7C6D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942-1FEC-4794-BE0F-B4464E3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E263-08CA-4A9F-AEEA-190BF2EB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4957-D98B-4F91-B318-3F7544C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4CF-C362-42B5-A555-A7498B0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10F2-A9CC-42D8-B43E-290071A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CB11-52E3-4B22-B422-AD99812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83ED-7041-421A-80DE-B688B58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B31B-7307-40EC-93D4-B357204C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23A6-6E3A-4FB7-BC81-B1B5CE43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0A7-2661-49F0-931D-91E4B8A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631-8B7C-479F-A684-405F16AE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F2B-3F88-4213-A6AA-54AE5D0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B28-956F-4AF9-8B9C-2178F370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475-B557-4932-9292-69609AA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EDA-3D16-4152-B00F-4C3A6F4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3BA-C7CE-4F33-84B0-ED53010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E17-A50F-4A8C-826A-C336C3762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80C-2BCE-4AE9-888A-ABDC13303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ESTRATEGIAS DE VENTAS POR INTERNET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66"/>
                </a:solidFill>
                <a:latin typeface="Times New Roman"/>
              </a:rPr>
              <a:t>AVERIGUA SI HAY CLIENT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8200" y="3200400"/>
            <a:ext cx="75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ttp://inventory.overture.com/d/searchinventory/suggestio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3760" y="42670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ttp://terespondo.com/hom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4680" y="32004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Contador pub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89360" y="430704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Contador</a:t>
            </a:r>
            <a:r>
              <a:rPr b="0" lang="es-AR" sz="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pub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66"/>
                </a:solidFill>
                <a:latin typeface="Times New Roman"/>
              </a:rPr>
              <a:t>FIJATE CUANTOS COMPETIDORES TEN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2840" y="32004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ttp://www.google.com.ar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9360" y="300816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Contador pub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WEBONOM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NO VALEN LOS MODOS TRADICIONALES DE HACER PUBLIC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QUIENES PAGAN POR EL MARKETING QUIEREN RESULTAD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ETRIBUIR A CLIENTES CUANDO APORTAN INFORMACION SOBRE SI MISM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NO IMPORTA LA CANTIDAD SINO LA CALIDAD DE LOS HI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LGUNOS DATOS A TENER EN CU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S DE 6000 PAGINAS POR HORA SON CR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N MAS DE 2.400 MILLONES DE SIT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REDEDOR DEL 2% HACE CLICK SOBRE LOS BAN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ADA 5 QUE VISITAN UN SITIO 4 NUNCA VUEL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% DE LOS SITIOS, DE UN AÑO A OTRO, DESAPAREC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 LOS PRIMEROS 30 SITIOS SE REALIZA EL 50% DE LAS VISI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51640" y="1219320"/>
            <a:ext cx="72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S DE 5.6  MILLONES DE USUARIOS EN LA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ARGENTINA. HASTA DICIEMBRE DEL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0560" y="3581280"/>
            <a:ext cx="681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13 % HACE COMPRAS ONLINE Y 15 % UTILI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BANCA ELECTRO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9760" y="4876920"/>
            <a:ext cx="66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PUBLCIDAD POR INTERNET FACTUR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$ 22 MILLONES ESTE AÑO. UN 30% MAS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200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2362320"/>
            <a:ext cx="64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MAS DE 7.5 MILLONES DE USUARIOS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INES DEL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209680"/>
            <a:ext cx="83818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0" bIns="90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cción 301, párrafo (a)(2)(C) de S.1618. Bajo el decreto S.1618 titulo 3ro. Aprobado por el 105 congreso base de las normativas Internacionales sobre SPAM, un E-mail no podrá ser considerado SPAM mientras incluya una forma de ser removido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usted desea ser removido de nuestra base de datos en forma definitiva por favor responda a este e-mail indicando "REMOVER" en el subjec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ffcc66"/>
                </a:solidFill>
                <a:latin typeface="Times New Roman"/>
              </a:rPr>
              <a:t>MUCHAS GRACIAS 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¿ PARA QUE SE UTILIZA LA INTERNET 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BUSCAR INFORMACIO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8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BAJAR SOFTWAR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6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AGINAS DE ENTRETENIMIENTO 6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HATEAR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53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JUGAR EN RE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 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447920"/>
          <a:ext cx="807732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3048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NE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ALOGO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de visitas convertidas en pedidos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de visitantes que comprar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empresas ren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TASAS DE CLICK-THROUG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UROPA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EUU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9 %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4 %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TASAS DE CLICK-THROUGH SEGÚN TIPO DE MENSA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286000"/>
          <a:ext cx="7772400" cy="3809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ML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XTO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 %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6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6 %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¿ QUE DEBEMOS TENER EN CUENTA ANTES DE INICIAR UN NEGOCIO POR INTERNET 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5960" y="4038480"/>
            <a:ext cx="73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SULTA CLAVE ADAPTAR LAS HERRAMIE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 MARKETING CONVENCIONAL A LOS NUE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DIGOS QUE PLANTEA LA 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ITIOS WE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38684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NET DEBE SER UN COMPLEMENTO DE  LOS CANALES TRADI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PRODUCTOS OFRECIDOS TIENEN QUE ESTAR AL ALCANCE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NAVEGANTES ESTAN ACOSTUMBRADOS A QUE TODO LOS SERVICIOS QUE SE PRESTAN POR LA RED SEAN GRATU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3520" y="213372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 Black"/>
              </a:rPr>
              <a:t>QUE CONSIDERAR ANTES DE ESTAR EN LA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CONSIDERAC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ISTA DE TEMAS DE NUESTRO INT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VERIGUA SI HAY CLIENTES -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IJATE CUANTOS COMPETIDORES TENES - 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Felix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21:45:04Z</dcterms:created>
  <dc:creator>PFB</dc:creator>
  <dc:description/>
  <dc:language>en-US</dc:language>
  <cp:lastModifiedBy>Dr. Marcelo Artana</cp:lastModifiedBy>
  <dcterms:modified xsi:type="dcterms:W3CDTF">2004-08-23T16:41:02Z</dcterms:modified>
  <cp:revision>13</cp:revision>
  <dc:subject/>
  <dc:title>ESTRATEGIAS DE VENTAS POR INTERNET</dc:title>
</cp:coreProperties>
</file>