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B933-3AD4-4FD5-A541-067740FC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1F8-71B1-4824-A07D-930D5F58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095F-DAD0-4A0F-B0B4-9EA8FD58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3E0-1763-4BE8-8F28-8663207B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AEB-F613-427B-9D31-51D5BF32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8B22-AF00-45B3-B0A8-31672F76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067-E362-4AF8-ABF0-B80F969B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E8C-0FB0-45DC-B5A4-E5ED5362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3E1-046F-49BF-96AB-054B7E79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090-4354-4688-BA7D-2BBA5CF6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04D-96BD-4148-B933-53DBBA5C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674A-10C7-4484-8F0D-F9C6CCC2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7C49-B6EF-47FA-9237-D961248A3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6680" y="5478480"/>
            <a:ext cx="7488000" cy="109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6160" y="290520"/>
            <a:ext cx="8928000" cy="61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06699"/>
                </a:solidFill>
                <a:latin typeface="Impact"/>
                <a:ea typeface="Times New Roman"/>
              </a:rPr>
              <a:t>La problemática pyme,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06699"/>
                </a:solidFill>
                <a:latin typeface="Impact"/>
                <a:ea typeface="Times New Roman"/>
              </a:rPr>
              <a:t>el comercio exterior y la integración: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006699"/>
                </a:solidFill>
                <a:latin typeface="Impact"/>
                <a:ea typeface="Times New Roman"/>
              </a:rPr>
              <a:t>¿ Hacia donde vamos 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6699"/>
                </a:solidFill>
                <a:latin typeface="Impact"/>
                <a:ea typeface="Times New Roman"/>
              </a:rPr>
              <a:t>III Simposio de Comercio Exterior e Integració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6699"/>
                </a:solidFill>
                <a:latin typeface="Impact"/>
                <a:ea typeface="Times New Roman"/>
              </a:rPr>
              <a:t>Consejo Profesional de Cs. Económica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Impact"/>
                <a:ea typeface="Times New Roman"/>
              </a:rPr>
              <a:t>Lic. Gustavo Svarz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Impact"/>
                <a:ea typeface="Times New Roman"/>
              </a:rPr>
              <a:t>noviembr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15960" y="5622840"/>
            <a:ext cx="74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99"/>
                </a:solidFill>
                <a:latin typeface="Impact"/>
              </a:rPr>
              <a:t>Subsecretaría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99"/>
                </a:solidFill>
                <a:latin typeface="Impact"/>
              </a:rPr>
              <a:t>Gobierno de la Ciudad Autónoma de Buenos 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07880" y="2101680"/>
            <a:ext cx="8369280" cy="4597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0" y="14130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Cadenas Productivas y Patrón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Balance Comercial 2001/2, por Tramos de las Cade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38240"/>
            <a:ext cx="918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aunque el tramo de mayor transformación es aquel en el cual el país exhibe déficit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6335640"/>
            <a:ext cx="571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3f6e8b"/>
                </a:solidFill>
                <a:latin typeface="Tahoma"/>
              </a:rPr>
              <a:t>Fuente: SEPY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76120" y="1665360"/>
            <a:ext cx="85359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e8b"/>
                </a:solidFill>
                <a:latin typeface="Tahoma"/>
              </a:rPr>
              <a:t>Debilidad de la “cultura” y tradición exportadora en buena parte del empresar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e8b"/>
                </a:solidFill>
                <a:latin typeface="Tahoma"/>
              </a:rPr>
              <a:t>Estructura comercial de los mercados de destino (escalonamiento arancelario, etc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e8b"/>
                </a:solidFill>
                <a:latin typeface="Tahoma"/>
              </a:rPr>
              <a:t>Estrategias corporativas que se definen a escala glob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e8b"/>
                </a:solidFill>
                <a:latin typeface="Tahoma"/>
              </a:rPr>
              <a:t>Inestabilidad de regímenes regulatorios nacionales, precios de factores y/o sistemas de incentiv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e8b"/>
                </a:solidFill>
                <a:latin typeface="Tahoma"/>
              </a:rPr>
              <a:t>Existencia de conductas no cooperativas en algunos eslabones de las cade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400" y="217440"/>
            <a:ext cx="9144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Este patrón comercial es pues resultado de una conjunción de factores, endógenos y exógen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6603840"/>
            <a:ext cx="9144000" cy="252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1363680"/>
            <a:ext cx="9144000" cy="48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5000"/>
              </a:lnSpc>
              <a:spcBef>
                <a:spcPts val="24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e8b"/>
                </a:solidFill>
                <a:latin typeface="Tahoma"/>
              </a:rPr>
              <a:t>Sus débiles vínculos con el resto de la economía - con débil impacto sobre demanda de trabaj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24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e8b"/>
                </a:solidFill>
                <a:latin typeface="Tahoma"/>
              </a:rPr>
              <a:t>Un reducido número de empresas con operaciones regulares de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24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e8b"/>
                </a:solidFill>
                <a:latin typeface="Tahoma"/>
              </a:rPr>
              <a:t>Un perfil comercial “clásico”, con exportaciones concentradas en productos de baja e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24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e8b"/>
                </a:solidFill>
                <a:latin typeface="Tahoma"/>
              </a:rPr>
              <a:t>Cadenas productivas “truncas” e incomplet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24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e8b"/>
                </a:solidFill>
                <a:latin typeface="Tahoma"/>
              </a:rPr>
              <a:t>Términos del intercambio secularmente desfavo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10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.....  Oportunidades desaprovech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20" y="190440"/>
            <a:ext cx="90093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De este modo, el sector exportador argentino se caracteriza p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487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ff"/>
                </a:solidFill>
                <a:latin typeface="Arial"/>
              </a:rPr>
              <a:t>Ministerio de Economía y 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92640" y="2722680"/>
            <a:ext cx="78541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Tahoma"/>
              </a:rPr>
              <a:t>Re-pensando la agend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Tahoma"/>
              </a:rPr>
              <a:t>en el nuevo context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Tahoma"/>
              </a:rPr>
              <a:t>nacional e internaciona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73080" y="139680"/>
            <a:ext cx="9009000" cy="13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¿Sobre qué se discute en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40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Foros Comerciales Internacion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400"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(Mercosur, ALCA, CAN, NAFTA, WTO, etc. etc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7226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480" y="2187720"/>
            <a:ext cx="887724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7920">
              <a:lnSpc>
                <a:spcPct val="125000"/>
              </a:lnSpc>
              <a:spcBef>
                <a:spcPts val="1049"/>
              </a:spcBef>
              <a:buClr>
                <a:srgbClr val="ff99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En qué términos y con qué reglas se intercambian los bienes (aranceles, RNAs, subsidos, </a:t>
            </a:r>
            <a:r>
              <a:rPr b="1" i="1" lang="es-MX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dumping</a:t>
            </a:r>
            <a:r>
              <a:rPr b="1" lang="es-MX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7920">
              <a:lnSpc>
                <a:spcPct val="125000"/>
              </a:lnSpc>
              <a:spcBef>
                <a:spcPts val="1049"/>
              </a:spcBef>
              <a:buClr>
                <a:srgbClr val="ff99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Qué condiciones deben cumplir los bienes para ser intercambiados (normas técnicas y sanitaria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7920">
              <a:lnSpc>
                <a:spcPct val="125000"/>
              </a:lnSpc>
              <a:spcBef>
                <a:spcPts val="1049"/>
              </a:spcBef>
              <a:buClr>
                <a:srgbClr val="ff99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Cómo deben ser producidos los bienes “adentro” de los países, a efectos de poder ser comercializados (prop. intelectual, tratamiento a la inversión, estándares laborales, medio ambiente, etc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85680" y="1919160"/>
            <a:ext cx="897588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7920">
              <a:lnSpc>
                <a:spcPct val="120000"/>
              </a:lnSpc>
              <a:spcBef>
                <a:spcPts val="901"/>
              </a:spcBef>
              <a:buClr>
                <a:srgbClr val="ff99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Cómo se sirven los diferentes mercados (quién produce, quién exporta y quién import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7920">
              <a:lnSpc>
                <a:spcPct val="120000"/>
              </a:lnSpc>
              <a:spcBef>
                <a:spcPts val="901"/>
              </a:spcBef>
              <a:buClr>
                <a:srgbClr val="ff99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Dónde se radican las inversiones productivas y en qué lugares se genera el “mejor” emp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60" y="243000"/>
            <a:ext cx="9009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De ese modo, detrás de los temas puntuales de las agendas, lo que se está debatiendo 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5159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480" y="4122720"/>
            <a:ext cx="8823240" cy="23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79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En síntesis, implícita o explícitamente las negociaciones giran en torno a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79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79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33cc"/>
                </a:solidFill>
                <a:latin typeface="Tahoma"/>
                <a:ea typeface="Times New Roman"/>
              </a:rPr>
              <a:t>cómo se estructuran las cadenas y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79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33cc"/>
                </a:solidFill>
                <a:latin typeface="Tahoma"/>
                <a:ea typeface="Times New Roman"/>
              </a:rPr>
              <a:t>cómo se “reparten” los diferentes tramos entre los país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5680" y="2111400"/>
            <a:ext cx="897588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792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Biotecnología, biogenética, OGM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792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Fertilizantes, herbicidas y fitosani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792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Maquinaria agrí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792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Denominaciones de origen e indicaciones </a:t>
            </a:r>
            <a:r>
              <a:rPr b="1" lang="es-MX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geográficas (vinos, ques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792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Aprovechamiento y uso de RR.NN. (ej. </a:t>
            </a:r>
            <a:r>
              <a:rPr b="1" lang="es-MX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certificaciones maderas, manejo de bosques, etc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792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60" y="181080"/>
            <a:ext cx="900900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Y aún donde se tratan cuestiones de la “vieja” agenda (vgr. agricultura), también se están discutiendo temas vinculados a otras cadenas ..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6192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75880" y="1814400"/>
            <a:ext cx="75189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imes New Roman"/>
              </a:rPr>
              <a:t>La Post Convertibilida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imes New Roman"/>
              </a:rPr>
              <a:t>y el nuevo escenari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etitivo para la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imes New Roman"/>
              </a:rPr>
              <a:t>el comercio exteri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imes New Roman"/>
              </a:rPr>
              <a:t>argentin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17240" y="2425680"/>
            <a:ext cx="1739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Total Bien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7800" y="2425680"/>
            <a:ext cx="977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s-MX" sz="2300" spc="-1" strike="noStrike">
                <a:solidFill>
                  <a:srgbClr val="000000"/>
                </a:solidFill>
                <a:latin typeface="Arial"/>
              </a:rPr>
              <a:t>.974</a:t>
            </a: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MX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1480" y="3106800"/>
            <a:ext cx="243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lejo Oleagin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08480" y="310212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2.16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2200" y="3413160"/>
            <a:ext cx="154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bust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80120" y="3406680"/>
            <a:ext cx="777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677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98480" y="3995640"/>
            <a:ext cx="3336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Complejo Oleaginoso +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69520" y="4378320"/>
            <a:ext cx="1934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Combustibl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31080" y="4189320"/>
            <a:ext cx="1058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2300" spc="-1" strike="noStrike">
                <a:solidFill>
                  <a:srgbClr val="000000"/>
                </a:solidFill>
                <a:latin typeface="Arial"/>
              </a:rPr>
              <a:t>.839.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14840" y="4189320"/>
            <a:ext cx="831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Arial"/>
              </a:rPr>
              <a:t>71.4</a:t>
            </a: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6840" y="2308320"/>
            <a:ext cx="837396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6840" y="4754520"/>
            <a:ext cx="837396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44936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Evolución de las Exportaciones en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Variacion montos exportados , en mill. Dolares y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6120" y="76320"/>
            <a:ext cx="88678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0" bIns="82800" anchor="ctr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Luego de una caída del 4% de 2002, el 2003 cerró con un incremento en valores del 14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400" y="5029200"/>
            <a:ext cx="9144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0" bIns="82800" anchor="ctr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64"/>
              </a:spcBef>
              <a:buClr>
                <a:srgbClr val="3333c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33cc"/>
                </a:solidFill>
                <a:latin typeface="Arial"/>
              </a:rPr>
              <a:t>Casi tres de cada cuatro dólares de ese crecimiento se explica por oleaginosas y petró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964"/>
              </a:spcBef>
              <a:buClr>
                <a:srgbClr val="3333c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Los despachos de productos industriales han crecido en el bienio 2002-3 a una tasa del 2% anual promed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2477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29400" y="4038480"/>
            <a:ext cx="1981080" cy="60984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04920" y="1219320"/>
            <a:ext cx="858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f6e8b"/>
                </a:solidFill>
                <a:latin typeface="Tahoma"/>
              </a:rPr>
              <a:t>PIB Transable y PIB no Transable y Exportaci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 </a:t>
            </a: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a precios básicos, en dólares corr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76320"/>
            <a:ext cx="9020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A causa de la devaluación, el PIB en dólares se “desinfló” mucho más en no transabl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229600" cy="50180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14480" y="6629400"/>
            <a:ext cx="6705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: Svarzman y Rozemberg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1240" y="2392200"/>
            <a:ext cx="7707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Tahoma"/>
              </a:rPr>
              <a:t>El Sector Exportador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Tahoma"/>
              </a:rPr>
              <a:t>Argentino en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Tahoma"/>
              </a:rPr>
              <a:t>Perspectiva Comparad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50920" y="1461960"/>
            <a:ext cx="858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f6e8b"/>
                </a:solidFill>
                <a:latin typeface="Tahoma"/>
              </a:rPr>
              <a:t>Relación Exportación Bienes y PIB transabl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a precios básicos, en valores corr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1760" y="196920"/>
            <a:ext cx="888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Argentina ya se encuentra exportando </a:t>
            </a:r>
            <a:r>
              <a:rPr b="1" lang="es-MX" sz="2800" spc="-1" strike="noStrike">
                <a:solidFill>
                  <a:srgbClr val="3333cc"/>
                </a:solidFill>
                <a:latin typeface="Tahoma"/>
              </a:rPr>
              <a:t>unos</a:t>
            </a: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 dos tercios de su oferta de transabl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458200" cy="48988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14480" y="6629400"/>
            <a:ext cx="6705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: Svarzman y Rozemberg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11040" y="1711440"/>
            <a:ext cx="840744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24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n algunos sectores industriales pareciera ser -ya ha sido- posible una expansión </a:t>
            </a:r>
            <a:r>
              <a:rPr b="1" i="1" lang="es-ES" sz="2400" spc="-1" strike="noStrike">
                <a:solidFill>
                  <a:srgbClr val="3333cc"/>
                </a:solidFill>
                <a:latin typeface="Tahoma"/>
              </a:rPr>
              <a:t>“one shot”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 de la producción de transables a través del mejor aprovechamiento de su capacidad instalada y/o de mejoras en la productividad de los fact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24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Así, en la mayor parte de las actividades industriales con aptitud exportadora, Argentina no cuenta actualmente con capacidad instalada como para producir/exportar más que lo que ya exporta, cualquiera sea el nivel del TC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1760" y="282600"/>
            <a:ext cx="888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as Exportaciones Industriales Post Convertibilidad: restricciones de oferta ?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603840"/>
            <a:ext cx="9144000" cy="252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76320" y="1558800"/>
            <a:ext cx="88326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1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Baja inversión-desinversión del último quinquenio (1999-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1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ncarecimiento absoluto y relativo de los bienes vinculados con la inversión y la tecnología</a:t>
            </a:r>
            <a:r>
              <a:rPr b="1" lang="es-MX" sz="2400" spc="-1" strike="noStrike">
                <a:solidFill>
                  <a:srgbClr val="3333c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1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Deterioro del </a:t>
            </a:r>
            <a:r>
              <a:rPr b="1" i="1" lang="es-ES" sz="2400" spc="-1" strike="noStrike">
                <a:solidFill>
                  <a:srgbClr val="3333cc"/>
                </a:solidFill>
                <a:latin typeface="Tahoma"/>
              </a:rPr>
              <a:t>business environement</a:t>
            </a:r>
            <a:r>
              <a:rPr b="1" lang="es-MX" sz="2400" spc="-1" strike="noStrike">
                <a:solidFill>
                  <a:srgbClr val="3333cc"/>
                </a:solidFill>
                <a:latin typeface="Tahoma"/>
              </a:rPr>
              <a:t> interno, fenómeno que afecta particularmente a los grandes proyectos y/o sectores escala intens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1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ahoma"/>
              </a:rPr>
              <a:t>Asimetrías regionales en sectores tradicionales y pérdida de relevancia del mercado brasil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1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ahoma"/>
              </a:rPr>
              <a:t>Recuperación demanda interna (oferta inelást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1760" y="282600"/>
            <a:ext cx="888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imitantes estructurales para el dinamismo exportador en sectores industrial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6603840"/>
            <a:ext cx="9144000" cy="252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51720" y="2738520"/>
            <a:ext cx="6889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imes New Roman"/>
              </a:rPr>
              <a:t>de dónde venimos?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imes New Roman"/>
              </a:rPr>
              <a:t>hacia dónde vamos?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472080" y="2514600"/>
            <a:ext cx="2519640" cy="25192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be4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esfuerzo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por exportar, 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un contexto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poco propic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2971800"/>
            <a:ext cx="1143000" cy="1905120"/>
          </a:xfrm>
          <a:prstGeom prst="rightArrow">
            <a:avLst>
              <a:gd name="adj1" fmla="val 81694"/>
              <a:gd name="adj2" fmla="val 45139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990720"/>
            <a:ext cx="5399280" cy="53989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2971800"/>
            <a:ext cx="2159280" cy="215892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ed5a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tipo d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cambi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real poc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28800" y="2209680"/>
            <a:ext cx="1728720" cy="172908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eefd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inversió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dura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‘90s</a:t>
            </a:r>
            <a:r>
              <a:rPr b="1" lang="es-E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57400" y="4191120"/>
            <a:ext cx="1728720" cy="17287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eefd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Fuert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recesió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en  e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mercad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intern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00400" y="2209680"/>
            <a:ext cx="1728720" cy="1729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ed5a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al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capacida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ocios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320" y="1386000"/>
            <a:ext cx="84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Verdana"/>
              </a:rPr>
              <a:t>2000-2001: exportar </a:t>
            </a:r>
            <a:r>
              <a:rPr b="1" i="1" lang="es-MX" sz="2800" spc="-1" strike="noStrike">
                <a:solidFill>
                  <a:srgbClr val="ff9900"/>
                </a:solidFill>
                <a:latin typeface="Verdana"/>
              </a:rPr>
              <a:t>por necesidad</a:t>
            </a:r>
            <a:r>
              <a:rPr b="1" lang="es-MX" sz="2800" spc="-1" strike="noStrike">
                <a:solidFill>
                  <a:srgbClr val="ff9900"/>
                </a:solidFill>
                <a:latin typeface="Verdan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3352680"/>
            <a:ext cx="1728720" cy="17290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ctativa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ffffff"/>
                </a:solidFill>
                <a:latin typeface="Verdana"/>
                <a:ea typeface="Times New Roman"/>
              </a:rPr>
              <a:t>pesimistas</a:t>
            </a:r>
            <a:r>
              <a:rPr b="1" lang="es-ES" sz="15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79280"/>
            <a:ext cx="918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La etapa final de Convertibilidad impuso un contexto poco favorable para la exportación py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-2052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507000" y="2514600"/>
            <a:ext cx="2519640" cy="25192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be4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exporta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sin estrateg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62720" y="3048120"/>
            <a:ext cx="1143000" cy="1904760"/>
          </a:xfrm>
          <a:prstGeom prst="rightArrow">
            <a:avLst>
              <a:gd name="adj1" fmla="val 81694"/>
              <a:gd name="adj2" fmla="val 45139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1212840"/>
            <a:ext cx="5399280" cy="53989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3262320"/>
            <a:ext cx="2158920" cy="215892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a2ebd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tipo de cambi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real muy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elev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06640" y="412596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fef7f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inexistenci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de finan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ciamiento</a:t>
            </a:r>
            <a:r>
              <a:rPr b="1" lang="es-E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47920" y="2220840"/>
            <a:ext cx="1728720" cy="172872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fef7f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depresió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demand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local-al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capacida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ocios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32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Verdana"/>
              </a:rPr>
              <a:t>Ppios. de 2002: exportar </a:t>
            </a:r>
            <a:r>
              <a:rPr b="1" i="1" lang="es-MX" sz="2800" spc="-1" strike="noStrike">
                <a:solidFill>
                  <a:srgbClr val="ff9900"/>
                </a:solidFill>
                <a:latin typeface="Verdana"/>
              </a:rPr>
              <a:t>para “sobrevivir”</a:t>
            </a:r>
            <a:r>
              <a:rPr b="1" lang="es-MX" sz="2800" spc="-1" strike="noStrike">
                <a:solidFill>
                  <a:srgbClr val="ff9900"/>
                </a:solidFill>
                <a:latin typeface="Verdana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2016000"/>
            <a:ext cx="1728720" cy="1729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a2ebd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incipient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sustitució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de impor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taci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0" y="3365640"/>
            <a:ext cx="1979640" cy="1979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e0ef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</a:rPr>
              <a:t>expectativa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</a:rPr>
              <a:t>pesimistas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</a:rPr>
              <a:t>temores sob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</a:rPr>
              <a:t>el futuro</a:t>
            </a: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44360"/>
            <a:ext cx="918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La crisis de 2001/2002 obligó a la adopción de conductas de supervivencia (“saldos y retazos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-2052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566040" y="2467080"/>
            <a:ext cx="2519280" cy="25192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bcd2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Verdana"/>
              </a:rPr>
              <a:t>Exportació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Verdana"/>
              </a:rPr>
              <a:t>como apuest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Verdana"/>
              </a:rPr>
              <a:t>estratégica y d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Verdana"/>
              </a:rPr>
              <a:t>mediano plaz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562720" y="2847960"/>
            <a:ext cx="1143000" cy="1905120"/>
          </a:xfrm>
          <a:prstGeom prst="rightArrow">
            <a:avLst>
              <a:gd name="adj1" fmla="val 81694"/>
              <a:gd name="adj2" fmla="val 45139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0880" y="1077840"/>
            <a:ext cx="5399280" cy="5399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3000240"/>
            <a:ext cx="2159280" cy="2159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efed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tipo d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cambio rea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alto y est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29000" y="2162160"/>
            <a:ext cx="1728720" cy="172872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a2ebd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fuert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sustitució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de impor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taci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4295880"/>
            <a:ext cx="1800360" cy="18000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dff7f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alternativa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de finan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ciamient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2162160"/>
            <a:ext cx="1728720" cy="17287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ee9c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alta utili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zación de l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capacida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instala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130824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Verdana"/>
              </a:rPr>
              <a:t>2004/5: nuevos escenarios, nuevos desafí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3603600"/>
            <a:ext cx="1800360" cy="180036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d3ef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expectativa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optimista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sobre 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Futuro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127080"/>
            <a:ext cx="918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La superación de la crisis, con un tipo de cambio competitivo, abre nuevos horizontes para py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-20520" y="12096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08000" y="1415880"/>
            <a:ext cx="8542440" cy="45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723960" indent="-343080" algn="just">
              <a:lnSpc>
                <a:spcPct val="105000"/>
              </a:lnSpc>
              <a:spcBef>
                <a:spcPts val="1726"/>
              </a:spcBef>
              <a:buClr>
                <a:srgbClr val="ff99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la orientación macroeconómica actual y el tipo de cambio real más competitivo favorecen una mayor y mejor inserción exportadora del segmento PyME industrial, tanto de sectores tradicionales como no tradicional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723960" indent="-343080" algn="just">
              <a:lnSpc>
                <a:spcPct val="105000"/>
              </a:lnSpc>
              <a:spcBef>
                <a:spcPts val="1726"/>
              </a:spcBef>
              <a:buClr>
                <a:srgbClr val="ff99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para poder realizar este potencial es clave impulsar una mejora y expansión de la capacidad instalada de las empresas, de forma tal que sea posible encarar el negocio exportador desde una perspectiva de mediano plazo;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127080"/>
            <a:ext cx="918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 escenario actual configura una oportunidad para consolidar el proceso de internacionalización pyme, teniendo en cuenta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-20520" y="16286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-1440" y="112680"/>
            <a:ext cx="918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66"/>
                </a:solidFill>
                <a:latin typeface="Tahoma"/>
              </a:rPr>
              <a:t>A diferencia de lo sucedido en otros períodos, el aumento de exportaciones impacta en todas regio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480" y="6315120"/>
            <a:ext cx="6705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808080"/>
                </a:solidFill>
                <a:uFillTx/>
                <a:latin typeface="Arial"/>
              </a:rPr>
              <a:t>Fuente</a:t>
            </a:r>
            <a:r>
              <a:rPr b="0" lang="es-MX" sz="1400" spc="-1" strike="noStrike">
                <a:solidFill>
                  <a:srgbClr val="808080"/>
                </a:solidFill>
                <a:latin typeface="Arial"/>
              </a:rPr>
              <a:t>: C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560" y="1347840"/>
            <a:ext cx="9144000" cy="7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Exportaciones 2003 por Reg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f6e8b"/>
                </a:solidFill>
                <a:latin typeface="Tahoma"/>
              </a:rPr>
              <a:t>  </a:t>
            </a:r>
            <a:r>
              <a:rPr b="1" lang="es-MX" sz="1800" spc="-1" strike="noStrike">
                <a:solidFill>
                  <a:srgbClr val="3f6e8b"/>
                </a:solidFill>
                <a:latin typeface="Tahoma"/>
              </a:rPr>
              <a:t>en millones de dólares y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225440" y="1531800"/>
          <a:ext cx="7348680" cy="44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1531800"/>
                    <a:ext cx="7348680" cy="44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 flipV="1" rot="10767000">
            <a:off x="2136240" y="2048760"/>
            <a:ext cx="1006200" cy="103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17" y="190"/>
                </a:moveTo>
                <a:arcTo wR="10800" hR="10800" stAng="-4754036" swAng="4754036"/>
                <a:lnTo>
                  <a:pt x="10800" y="10800"/>
                </a:lnTo>
                <a:close/>
              </a:path>
              <a:path fill="none" w="21600" h="21600">
                <a:moveTo>
                  <a:pt x="12817" y="190"/>
                </a:moveTo>
                <a:arcTo wR="10800" hR="10800" stAng="-4754036" swAng="4754036"/>
              </a:path>
            </a:pathLst>
          </a:custGeom>
          <a:noFill/>
          <a:ln w="507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 rot="10767000">
            <a:off x="4893480" y="5101560"/>
            <a:ext cx="1380960" cy="65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17" y="190"/>
                </a:moveTo>
                <a:arcTo wR="10800" hR="10800" stAng="-4754036" swAng="4054073"/>
                <a:lnTo>
                  <a:pt x="10800" y="10800"/>
                </a:lnTo>
                <a:close/>
              </a:path>
              <a:path fill="none" w="21600" h="21600">
                <a:moveTo>
                  <a:pt x="12817" y="190"/>
                </a:moveTo>
                <a:arcTo wR="10800" hR="10800" stAng="-4754036" swAng="4054073"/>
              </a:path>
            </a:pathLst>
          </a:custGeom>
          <a:noFill/>
          <a:ln w="507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82920" y="1919160"/>
            <a:ext cx="7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57560" y="4433760"/>
            <a:ext cx="76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 rot="10767000">
            <a:off x="3559680" y="4714560"/>
            <a:ext cx="1441800" cy="103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17" y="190"/>
                </a:moveTo>
                <a:arcTo wR="10800" hR="10800" stAng="-4754036" swAng="4054073"/>
                <a:lnTo>
                  <a:pt x="10800" y="10800"/>
                </a:lnTo>
                <a:close/>
              </a:path>
              <a:path fill="none" w="21600" h="21600">
                <a:moveTo>
                  <a:pt x="12817" y="190"/>
                </a:moveTo>
                <a:arcTo wR="10800" hR="10800" stAng="-4754036" swAng="4054073"/>
              </a:path>
            </a:pathLst>
          </a:custGeom>
          <a:noFill/>
          <a:ln w="507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321600" y="4778280"/>
            <a:ext cx="7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29280" y="4778280"/>
            <a:ext cx="7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 rot="10767000">
            <a:off x="6051960" y="5159880"/>
            <a:ext cx="1319040" cy="62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73" y="101"/>
                </a:moveTo>
                <a:arcTo wR="10800" hR="10800" stAng="-4929675" swAng="4229713"/>
                <a:lnTo>
                  <a:pt x="10800" y="10800"/>
                </a:lnTo>
                <a:close/>
              </a:path>
              <a:path fill="none" w="21600" h="21600">
                <a:moveTo>
                  <a:pt x="12273" y="101"/>
                </a:moveTo>
                <a:arcTo wR="10800" hR="10800" stAng="-4929675" swAng="4229713"/>
              </a:path>
            </a:pathLst>
          </a:custGeom>
          <a:noFill/>
          <a:ln w="507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 rot="10767000">
            <a:off x="7405920" y="5374080"/>
            <a:ext cx="121824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17" y="190"/>
                </a:moveTo>
                <a:arcTo wR="10800" hR="10800" stAng="-4754036" swAng="4054073"/>
                <a:lnTo>
                  <a:pt x="10800" y="10800"/>
                </a:lnTo>
                <a:close/>
              </a:path>
              <a:path fill="none" w="21600" h="21600">
                <a:moveTo>
                  <a:pt x="12817" y="190"/>
                </a:moveTo>
                <a:arcTo wR="10800" hR="10800" stAng="-4754036" swAng="4054073"/>
              </a:path>
            </a:pathLst>
          </a:custGeom>
          <a:noFill/>
          <a:ln w="507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16880" y="5006880"/>
            <a:ext cx="7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90880" y="5913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mpe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44840" y="591336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ago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68720" y="5913360"/>
            <a:ext cx="9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30880" y="5877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19880" y="587700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0520" y="179280"/>
            <a:ext cx="918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El segmento pyme evidencia mejores oportunidades que las grandes empre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4480" y="6315120"/>
            <a:ext cx="6705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808080"/>
                </a:solidFill>
                <a:uFillTx/>
                <a:latin typeface="Arial"/>
              </a:rPr>
              <a:t>Fuente</a:t>
            </a:r>
            <a:r>
              <a:rPr b="0" lang="es-MX" sz="1400" spc="-1" strike="noStrike">
                <a:solidFill>
                  <a:srgbClr val="808080"/>
                </a:solidFill>
                <a:latin typeface="Arial"/>
              </a:rPr>
              <a:t>: SEPy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140004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Evolución Exportaciones según tamaño Empre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variaciones interan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76200" y="1709640"/>
            <a:ext cx="8337600" cy="459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53684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Evolución Exportaciones 1950-2001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Variación porcentual, sobre valores en dólares constantes de 200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000" y="179280"/>
            <a:ext cx="918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Las exportaciones argentinas han exhibido una performance poco favorable en último medio sig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5680" y="2187720"/>
            <a:ext cx="8434440" cy="4346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6840" y="6350040"/>
            <a:ext cx="67057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808080"/>
                </a:solidFill>
                <a:uFillTx/>
                <a:latin typeface="Arial"/>
              </a:rPr>
              <a:t>Fuente</a:t>
            </a:r>
            <a:r>
              <a:rPr b="0" lang="es-MX" sz="1400" spc="-1" strike="noStrike">
                <a:solidFill>
                  <a:srgbClr val="808080"/>
                </a:solidFill>
                <a:latin typeface="Arial"/>
              </a:rPr>
              <a:t>: SEPy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0520" y="179280"/>
            <a:ext cx="918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fenómeno que también se refleja en el incremento en el número de exportador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480" y="6315120"/>
            <a:ext cx="6705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808080"/>
                </a:solidFill>
                <a:uFillTx/>
                <a:latin typeface="Arial"/>
              </a:rPr>
              <a:t>Fuente</a:t>
            </a:r>
            <a:r>
              <a:rPr b="0" lang="es-MX" sz="1400" spc="-1" strike="noStrike">
                <a:solidFill>
                  <a:srgbClr val="808080"/>
                </a:solidFill>
                <a:latin typeface="Arial"/>
              </a:rPr>
              <a:t>: SEPy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140004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Evolución Número de Exportadores al Mun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Firmas con ventas externas anuales mayores a U$S 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09480" y="1886040"/>
            <a:ext cx="8001000" cy="44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0520" y="179280"/>
            <a:ext cx="918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El mercado brasileño ha perdido significacion en las exportaciones de las pyme argentin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4480" y="6315120"/>
            <a:ext cx="6705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808080"/>
                </a:solidFill>
                <a:uFillTx/>
                <a:latin typeface="Arial"/>
              </a:rPr>
              <a:t>Fuente</a:t>
            </a:r>
            <a:r>
              <a:rPr b="0" lang="es-MX" sz="1400" spc="-1" strike="noStrike">
                <a:solidFill>
                  <a:srgbClr val="808080"/>
                </a:solidFill>
                <a:latin typeface="Arial"/>
              </a:rPr>
              <a:t>: SEPy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140004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Número de Exportadores Argentinos a Bras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Firmas con ventas externas anuales mayores a U$S 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57200" y="2019240"/>
            <a:ext cx="822960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89080" y="2028960"/>
            <a:ext cx="85755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Frecuentes fallas de Mercado (acceso al crédit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Existencia en el mercado de agentes con “diferentes” capacidades de 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Asimetrías en el acceso a la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Jugadores que operan con criterios no siempre compatibles con la “racionalidad” microeconómica glob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Problemas de las pymes para “pensar” y/o actuar mas allá del cort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00" y="169920"/>
            <a:ext cx="888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No obstante ello, la inserción sustentable y sostenida de las pymes en mercados externos enfrenta ciertos obstáculos “estructural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17431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6603840"/>
            <a:ext cx="9144000" cy="252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52440" y="2746440"/>
            <a:ext cx="8467560" cy="36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Mejorar la capacidad de generación de empl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Aminorar desequilibrios regionales y propender a una distribución más equitativa del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Mejorar la eficiencia de la economía en su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Favorecer desarrollo de actividades en las que las ventajas competitivas no tienen que ver con la escala sino con la flexibilidad (“small is beautifull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-20520" y="165240"/>
            <a:ext cx="9505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0" bIns="82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¿Por qué impulsar la exportación de las py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3040" y="1425600"/>
            <a:ext cx="885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En países con “buenas” prácticas en materia de políticas publicas hay instrumentos orientados a favorecer el desarrollo exportador pyme, a efectos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2063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6603840"/>
            <a:ext cx="9144000" cy="252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879640" y="14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95240" y="152280"/>
            <a:ext cx="541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Verdana"/>
              </a:rPr>
              <a:t>Estrategia exportadora Porteñ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" y="2557440"/>
            <a:ext cx="403848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Selección del producto o servicio a ofre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Identificación y evaluación del mercado obje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Selección de los potenciales cl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Aprovechamiento sistemático de las oportunidades de neg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CULTURA” EXPORTAD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320" y="228600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ffffff"/>
                </a:solidFill>
                <a:uFillTx/>
                <a:latin typeface="Verdana"/>
              </a:rPr>
              <a:t>Ac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52880" y="2509920"/>
            <a:ext cx="40388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Aumento de la competitividad de las PyMEs en sectores con alto valor agregado y/o impacto en el emp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Incremento de las exportaciones y de las empresas con vocación  exportad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Integración de las cadenas de valor de los sectores con potencial export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Concreción de alianzas empresari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14479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9520" y="781200"/>
            <a:ext cx="388620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f6e8b"/>
                </a:solidFill>
                <a:latin typeface="Tahoma"/>
              </a:rPr>
              <a:t>Estrategia Exportadora Exit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1523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f6e8b"/>
                </a:solidFill>
                <a:latin typeface="Tahoma"/>
              </a:rPr>
              <a:t>Requiere un trabajo sostenido que permita mantener las ventajas competi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3360" y="2546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9600" y="323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0760" y="3841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0760" y="44514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05120" y="1219320"/>
            <a:ext cx="761760" cy="228600"/>
          </a:xfrm>
          <a:prstGeom prst="downArrow">
            <a:avLst>
              <a:gd name="adj1" fmla="val 50000"/>
              <a:gd name="adj2" fmla="val 458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00600" y="777960"/>
            <a:ext cx="42260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f6e8b"/>
                </a:solidFill>
                <a:latin typeface="Tahoma"/>
              </a:rPr>
              <a:t>Acciones Gobierno de la C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85120" y="1219320"/>
            <a:ext cx="761760" cy="228600"/>
          </a:xfrm>
          <a:prstGeom prst="downArrow">
            <a:avLst>
              <a:gd name="adj1" fmla="val 50000"/>
              <a:gd name="adj2" fmla="val 458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649760" y="1514520"/>
            <a:ext cx="42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f6e8b"/>
                </a:solidFill>
                <a:latin typeface="Tahoma"/>
              </a:rPr>
              <a:t>Objetivos vinculados al fortalecimiento de la capacidad exportadora de la Ciudad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49400" y="25146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49400" y="32767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49400" y="4267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9400" y="51814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57400" y="5329080"/>
            <a:ext cx="762120" cy="228600"/>
          </a:xfrm>
          <a:prstGeom prst="downArrow">
            <a:avLst>
              <a:gd name="adj1" fmla="val 50000"/>
              <a:gd name="adj2" fmla="val 45833"/>
            </a:avLst>
          </a:prstGeom>
          <a:solidFill>
            <a:srgbClr val="e88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4876920" y="1676520"/>
            <a:ext cx="403848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4920" y="1676520"/>
            <a:ext cx="403848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828800" y="152280"/>
            <a:ext cx="54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Verdana"/>
              </a:rPr>
              <a:t>Estrategia de trabajo 2005-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798560"/>
            <a:ext cx="39625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Focalización en cadenas de valor, a través de la integración de las áreas de trabajo de la Dir. de Industri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52880" y="1382760"/>
            <a:ext cx="403884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Dinamizar la incorporación de empresas potenciales o exportadoras  a la Red Ex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Trabajar con las Cámaras empresariales de los sectores potencialmente exportadores de la Ciu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Misiones sectoriales, temáticas, multisectoriales y tecnológicas del 2005: destinos en función de la potencialidad de los mercados, ventajas arancelarias y acuerdos de prefe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Diseño de herramientas en función de la sectorialización de la Red de Exportad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4920" y="873000"/>
            <a:ext cx="388620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f6e8b"/>
                </a:solidFill>
                <a:latin typeface="Tahoma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81080" y="121932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2666880"/>
            <a:ext cx="388620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Financia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Comercio Exter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Asistencia Téc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Proyección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Comercio Interi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Registro de Actividades Económic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Región Económica  Metropolit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57840" y="121932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88080" y="863640"/>
            <a:ext cx="40748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f6e8b"/>
                </a:solidFill>
                <a:latin typeface="Tahoma"/>
              </a:rPr>
              <a:t>ACCIONES COMERCIO EX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19240" y="1803240"/>
            <a:ext cx="870876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200" spc="-1" strike="noStrike">
                <a:solidFill>
                  <a:srgbClr val="002c40"/>
                </a:solidFill>
                <a:latin typeface="Impact"/>
                <a:ea typeface="Times New Roman"/>
              </a:rPr>
              <a:t>Gracias !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002c40"/>
                </a:solidFill>
                <a:latin typeface="Impact"/>
                <a:ea typeface="Times New Roman"/>
              </a:rPr>
              <a:t>Lic. Gustavo Svarzma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2c40"/>
                </a:solidFill>
                <a:latin typeface="Impact"/>
                <a:ea typeface="Times New Roman"/>
              </a:rPr>
              <a:t>gsvarzman</a:t>
            </a:r>
            <a:r>
              <a:rPr b="0" lang="es-ES_tradnl" sz="3000" spc="-1" strike="noStrike">
                <a:solidFill>
                  <a:srgbClr val="000000"/>
                </a:solidFill>
                <a:latin typeface="Impact"/>
              </a:rPr>
              <a:t>@buenosaires</a:t>
            </a:r>
            <a:r>
              <a:rPr b="0" lang="es-AR" sz="3000" spc="-1" strike="noStrike">
                <a:solidFill>
                  <a:srgbClr val="002c40"/>
                </a:solidFill>
                <a:latin typeface="Impact"/>
                <a:ea typeface="Times New Roman"/>
              </a:rPr>
              <a:t>.gov.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84360" y="5411880"/>
            <a:ext cx="7488360" cy="109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94000" y="5556240"/>
            <a:ext cx="74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99"/>
                </a:solidFill>
                <a:latin typeface="Impact"/>
              </a:rPr>
              <a:t>Subsecretaría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99"/>
                </a:solidFill>
                <a:latin typeface="Impact"/>
              </a:rPr>
              <a:t>Gobierno de la Ciudad Autónoma de Buenos 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7760" y="6227640"/>
            <a:ext cx="67057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808080"/>
                </a:solidFill>
                <a:uFillTx/>
                <a:latin typeface="Arial"/>
              </a:rPr>
              <a:t>Fuente</a:t>
            </a:r>
            <a:r>
              <a:rPr b="0" lang="es-MX" sz="1400" spc="-1" strike="noStrike">
                <a:solidFill>
                  <a:srgbClr val="808080"/>
                </a:solidFill>
                <a:latin typeface="Arial"/>
              </a:rPr>
              <a:t>: SEPyME, en base a datos de OMC e IN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68280" y="4957920"/>
            <a:ext cx="7169400" cy="28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68280" y="4359240"/>
            <a:ext cx="7169400" cy="180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68280" y="3773520"/>
            <a:ext cx="7169400" cy="14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68280" y="3171960"/>
            <a:ext cx="7169400" cy="28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68280" y="2571840"/>
            <a:ext cx="7169400" cy="14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68280" y="2571840"/>
            <a:ext cx="1800" cy="29876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8840" y="2571840"/>
            <a:ext cx="1800" cy="29876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868120" y="2571840"/>
            <a:ext cx="17640" cy="29876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571840"/>
            <a:ext cx="1440" cy="29876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49600" y="2571840"/>
            <a:ext cx="1800" cy="29876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2571840"/>
            <a:ext cx="1440" cy="29876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049440" y="2571840"/>
            <a:ext cx="17640" cy="29876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37480" y="2571840"/>
            <a:ext cx="2880" cy="29876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43880" y="2573280"/>
            <a:ext cx="4680" cy="298620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37680" y="2571840"/>
            <a:ext cx="1440" cy="29876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32080" y="3249720"/>
            <a:ext cx="463320" cy="2309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22640" y="4559400"/>
            <a:ext cx="479160" cy="1000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30480" y="4883040"/>
            <a:ext cx="461880" cy="676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22840" y="5157720"/>
            <a:ext cx="460080" cy="401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13400" y="5079960"/>
            <a:ext cx="477720" cy="479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9800" y="5035680"/>
            <a:ext cx="461880" cy="52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1800" y="5127480"/>
            <a:ext cx="461880" cy="43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02360" y="5051520"/>
            <a:ext cx="479520" cy="507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810560" y="5021280"/>
            <a:ext cx="461880" cy="538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68280" y="5559480"/>
            <a:ext cx="7169400" cy="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268280" y="5559120"/>
            <a:ext cx="1800" cy="442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058840" y="5559120"/>
            <a:ext cx="1800" cy="442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867040" y="5559120"/>
            <a:ext cx="1440" cy="442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657600" y="5559120"/>
            <a:ext cx="1440" cy="442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49600" y="5559120"/>
            <a:ext cx="1800" cy="442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257800" y="5559120"/>
            <a:ext cx="1440" cy="442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048360" y="5559120"/>
            <a:ext cx="1440" cy="442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837480" y="5559120"/>
            <a:ext cx="2880" cy="442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645320" y="5559120"/>
            <a:ext cx="3240" cy="442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437680" y="5559120"/>
            <a:ext cx="1440" cy="442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15160" y="283680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.93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20120" y="404352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0.84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27960" y="450540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0.57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23560" y="462600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0.34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10880" y="465120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0.4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06120" y="462456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0.44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93440" y="462924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0.36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00200" y="465768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0.43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8040" y="464328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0.46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9600" y="5451480"/>
            <a:ext cx="436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0.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9600" y="4849920"/>
            <a:ext cx="436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0.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9600" y="4249800"/>
            <a:ext cx="436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.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9600" y="3668760"/>
            <a:ext cx="436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.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9600" y="3063960"/>
            <a:ext cx="436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2.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9600" y="2465280"/>
            <a:ext cx="436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2.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9148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9788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8844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080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8720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7776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6832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7616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6672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s-MX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920" y="16606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Participación Argentina en Comercio Mun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en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400" y="158760"/>
            <a:ext cx="918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hecho que se refleja en la fuerte declinación de la participación del país en el comercio mund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2477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206360"/>
            <a:ext cx="914400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Exportaciones por tamaño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-participación en el valor exportado año 2001/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65160" y="2590920"/>
            <a:ext cx="3575880" cy="336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23" y="0"/>
                </a:moveTo>
                <a:arcTo wR="10800" hR="10800" stAng="-5424380" swAng="348603"/>
                <a:lnTo>
                  <a:pt x="10800" y="10800"/>
                </a:lnTo>
                <a:close/>
              </a:path>
              <a:path fill="none" w="21600" h="21600">
                <a:moveTo>
                  <a:pt x="10723" y="0"/>
                </a:moveTo>
                <a:arcTo wR="10800" hR="10800" stAng="-5424380" swAng="348603"/>
              </a:path>
            </a:pathLst>
          </a:cu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63360" y="2591640"/>
            <a:ext cx="3578760" cy="336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17" y="48"/>
                </a:moveTo>
                <a:arcTo wR="10800" hR="10800" stAng="-5075778" swAng="1372339"/>
                <a:lnTo>
                  <a:pt x="10800" y="10800"/>
                </a:lnTo>
                <a:close/>
              </a:path>
              <a:path fill="none" w="21600" h="21600">
                <a:moveTo>
                  <a:pt x="11817" y="48"/>
                </a:moveTo>
                <a:arcTo wR="10800" hR="10800" stAng="-5075778" swAng="1372339"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540320" y="2795760"/>
            <a:ext cx="858600" cy="14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62280" y="2590920"/>
            <a:ext cx="3579480" cy="336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39" swAng="19693419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39" swAng="19693419"/>
              </a:path>
            </a:pathLst>
          </a:cu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60480" y="2592360"/>
            <a:ext cx="3584520" cy="336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41" y="20"/>
                </a:moveTo>
                <a:arcTo wR="10800" hR="10800" stAng="-5610020" swAng="185640"/>
                <a:lnTo>
                  <a:pt x="10800" y="10800"/>
                </a:lnTo>
                <a:close/>
              </a:path>
              <a:path fill="none" w="21600" h="21600">
                <a:moveTo>
                  <a:pt x="10141" y="20"/>
                </a:moveTo>
                <a:arcTo wR="10800" hR="10800" stAng="-5610020" swAng="185640"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540320" y="2590560"/>
            <a:ext cx="1440" cy="167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72040" y="2303640"/>
            <a:ext cx="615960" cy="355320"/>
          </a:xfrm>
          <a:custGeom>
            <a:avLst/>
            <a:gdLst/>
            <a:ahLst/>
            <a:rect l="l" t="t" r="r" b="b"/>
            <a:pathLst>
              <a:path w="21" h="7">
                <a:moveTo>
                  <a:pt x="21" y="0"/>
                </a:move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23040" y="2806560"/>
            <a:ext cx="901440" cy="66960"/>
          </a:xfrm>
          <a:custGeom>
            <a:avLst/>
            <a:gdLst/>
            <a:ahLst/>
            <a:rect l="l" t="t" r="r" b="b"/>
            <a:pathLst>
              <a:path w="50" h="19">
                <a:moveTo>
                  <a:pt x="50" y="19"/>
                </a:moveTo>
                <a:lnTo>
                  <a:pt x="41" y="1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97120" y="2341440"/>
            <a:ext cx="1793880" cy="24948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9" y="0"/>
                </a:lnTo>
                <a:lnTo>
                  <a:pt x="20" y="2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84960" y="490536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Grand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03520" y="5106960"/>
            <a:ext cx="106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Exportado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65240" y="5351400"/>
            <a:ext cx="558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91,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Arial"/>
              </a:rPr>
              <a:t>(67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77840" y="2712960"/>
            <a:ext cx="43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61280" y="2959200"/>
            <a:ext cx="52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0,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Arial"/>
              </a:rPr>
              <a:t>(1.24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8520" y="213192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Median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60520" y="2367000"/>
            <a:ext cx="988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6,2%</a:t>
            </a:r>
            <a:r>
              <a:rPr b="1" lang="es-MX" sz="1300" spc="-1" strike="noStrike">
                <a:solidFill>
                  <a:srgbClr val="000000"/>
                </a:solidFill>
                <a:latin typeface="Arial"/>
              </a:rPr>
              <a:t>  (1.54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5520" y="1978200"/>
            <a:ext cx="814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Medianos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0000" y="2125800"/>
            <a:ext cx="52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ch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53760" y="2319480"/>
            <a:ext cx="94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1,8%</a:t>
            </a:r>
            <a:r>
              <a:rPr b="1" lang="es-MX" sz="1300" spc="-1" strike="noStrike">
                <a:solidFill>
                  <a:srgbClr val="000000"/>
                </a:solidFill>
                <a:latin typeface="Arial"/>
              </a:rPr>
              <a:t> (1.914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83680" y="200196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Pequeñ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43080" y="2203560"/>
            <a:ext cx="52200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0,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Arial"/>
              </a:rPr>
              <a:t>(2.91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942160"/>
            <a:ext cx="914400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3f6e8b"/>
                </a:solidFill>
                <a:latin typeface="Tahoma"/>
              </a:rPr>
              <a:t>* Se consideran micro exportadores a las empresas con ventas externas de entre U$$ 10.000 y U$$ 20.000 promedio anual para el trienio 2000/2, pequeños exportadores a los que regsitran operaciones de entre u$S 20.000 y U$S 100.000, medianos-chicos a los exportan entre U$S 100.000 y U$S 400.000, medianos a los de entre U$S 400.000 y $ 3.000.000 y grandes a los que superaron ese monto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67240" y="6357960"/>
            <a:ext cx="28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3f6e8b"/>
                </a:solidFill>
                <a:latin typeface="Tahoma"/>
              </a:rPr>
              <a:t>Fuente: Sepyme en base a datos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100" spc="-1" strike="noStrike">
                <a:solidFill>
                  <a:srgbClr val="3f6e8b"/>
                </a:solidFill>
                <a:latin typeface="Tahoma"/>
              </a:rPr>
              <a:t>Adua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3160" y="14400"/>
            <a:ext cx="89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Las ventas externas argentinas se concentran “desde siempre” en unas pocas fir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0620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754280"/>
            <a:ext cx="9144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Participación PyMes en las exportaciones to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f6e8b"/>
                </a:solidFill>
                <a:latin typeface="Tahoma"/>
              </a:rPr>
              <a:t>como % del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12880" y="2608200"/>
            <a:ext cx="788652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880" y="5975280"/>
            <a:ext cx="7886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12880" y="4853160"/>
            <a:ext cx="7886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2880" y="3730680"/>
            <a:ext cx="7886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2880" y="2608200"/>
            <a:ext cx="7886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05040" y="2608200"/>
            <a:ext cx="1440" cy="336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81360" y="2608200"/>
            <a:ext cx="1440" cy="336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72080" y="2608200"/>
            <a:ext cx="1440" cy="336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64240" y="2608200"/>
            <a:ext cx="1440" cy="336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40560" y="2608200"/>
            <a:ext cx="1440" cy="336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09040" y="2608200"/>
            <a:ext cx="1440" cy="336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699400" y="2608200"/>
            <a:ext cx="1800" cy="3367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12880" y="2608200"/>
            <a:ext cx="7886520" cy="33670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14480" y="2838600"/>
            <a:ext cx="588960" cy="3136680"/>
          </a:xfrm>
          <a:prstGeom prst="rect">
            <a:avLst/>
          </a:prstGeom>
          <a:solidFill>
            <a:srgbClr val="ffcc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04840" y="3024360"/>
            <a:ext cx="574920" cy="2950920"/>
          </a:xfrm>
          <a:prstGeom prst="rect">
            <a:avLst/>
          </a:prstGeom>
          <a:solidFill>
            <a:srgbClr val="ffcc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82960" y="3730680"/>
            <a:ext cx="588960" cy="2244600"/>
          </a:xfrm>
          <a:prstGeom prst="rect">
            <a:avLst/>
          </a:prstGeom>
          <a:solidFill>
            <a:srgbClr val="ffcc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73680" y="4514760"/>
            <a:ext cx="588960" cy="1460520"/>
          </a:xfrm>
          <a:prstGeom prst="rect">
            <a:avLst/>
          </a:prstGeom>
          <a:solidFill>
            <a:srgbClr val="ffcc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64040" y="5361120"/>
            <a:ext cx="574920" cy="614160"/>
          </a:xfrm>
          <a:prstGeom prst="rect">
            <a:avLst/>
          </a:prstGeom>
          <a:solidFill>
            <a:srgbClr val="ffcc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2160" y="5421240"/>
            <a:ext cx="588960" cy="554040"/>
          </a:xfrm>
          <a:prstGeom prst="rect">
            <a:avLst/>
          </a:prstGeom>
          <a:solidFill>
            <a:srgbClr val="ffcc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32520" y="5421240"/>
            <a:ext cx="574920" cy="5540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10640" y="5467320"/>
            <a:ext cx="588960" cy="507960"/>
          </a:xfrm>
          <a:prstGeom prst="rect">
            <a:avLst/>
          </a:prstGeom>
          <a:solidFill>
            <a:srgbClr val="ffcc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2880" y="2608200"/>
            <a:ext cx="1440" cy="336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0040" y="597528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0040" y="48531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0040" y="37306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0040" y="26082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38400" y="253224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16160" y="271620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62240" y="336708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54400" y="414972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43680" y="504360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34040" y="511488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26200" y="511488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04320" y="5119560"/>
            <a:ext cx="183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7920" y="5867280"/>
            <a:ext cx="183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7720" y="474516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7720" y="362268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7720" y="229392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08440" y="6037200"/>
            <a:ext cx="45792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"/>
              </a:rPr>
              <a:t>TAIWÁ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44160" y="6037200"/>
            <a:ext cx="36936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"/>
              </a:rPr>
              <a:t>ITAL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0480" y="6037200"/>
            <a:ext cx="41220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"/>
              </a:rPr>
              <a:t>CO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46400" y="6037200"/>
            <a:ext cx="51444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"/>
              </a:rPr>
              <a:t>FRA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160" y="6037200"/>
            <a:ext cx="38160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"/>
              </a:rPr>
              <a:t>EE.UU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63760" y="6037200"/>
            <a:ext cx="61632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"/>
              </a:rPr>
              <a:t>TAILAND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15960" y="6037200"/>
            <a:ext cx="67896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25120" y="6037200"/>
            <a:ext cx="45792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"/>
              </a:rPr>
              <a:t>BRAS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631188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f6e8b"/>
                </a:solidFill>
                <a:latin typeface="Tahoma"/>
              </a:rPr>
              <a:t>Fuente: SEPYME en base a datos de INDEC, OECD y fuentes nacion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03920" y="2630520"/>
            <a:ext cx="1800" cy="336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5600" y="17928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fenómeno que contrasta fuertemente con el perfil que se observa en economías exito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6002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Valor Promedio Exportaciones, por Tipo Empre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f6e8b"/>
                </a:solidFill>
                <a:latin typeface="Tahoma"/>
              </a:rPr>
              <a:t>medido en dólares por tonelada, promedio 2000/200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2111400"/>
            <a:ext cx="9144000" cy="4554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152280"/>
            <a:ext cx="918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En promedio, el valor agregado que generan las pymes es mas alto al de las grandes expor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4018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6291360"/>
            <a:ext cx="571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3f6e8b"/>
                </a:solidFill>
                <a:latin typeface="Tahoma"/>
              </a:rPr>
              <a:t>Fuente: SEPY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0520" y="1552680"/>
            <a:ext cx="9144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Empleo y Exportaciones según tipo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f6e8b"/>
                </a:solidFill>
                <a:latin typeface="Tahoma"/>
              </a:rPr>
              <a:t>puestos de trabajo por millón de dólares de exportaciones, promedio 2001/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291360"/>
            <a:ext cx="571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3f6e8b"/>
                </a:solidFill>
                <a:latin typeface="Tahoma"/>
              </a:rPr>
              <a:t>Fuente: SEPY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840" y="152280"/>
            <a:ext cx="897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al tiempo que dichos flujos revelan una mayor capacidad para generar emple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19200" y="5151600"/>
            <a:ext cx="6626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19200" y="4459320"/>
            <a:ext cx="6626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19200" y="3755880"/>
            <a:ext cx="6626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19200" y="3065400"/>
            <a:ext cx="6626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19200" y="2374920"/>
            <a:ext cx="6626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74840" y="2374920"/>
            <a:ext cx="1800" cy="346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32280" y="2374920"/>
            <a:ext cx="1800" cy="346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88280" y="2374920"/>
            <a:ext cx="1440" cy="346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145360" y="2374920"/>
            <a:ext cx="1800" cy="346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2560" y="4102200"/>
            <a:ext cx="978120" cy="17398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8200" y="4245120"/>
            <a:ext cx="978120" cy="15969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65640" y="5222880"/>
            <a:ext cx="978120" cy="619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21640" y="5151600"/>
            <a:ext cx="977760" cy="690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52560" y="2838600"/>
            <a:ext cx="978120" cy="1263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8200" y="2970360"/>
            <a:ext cx="978120" cy="1274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65640" y="4043520"/>
            <a:ext cx="978120" cy="1179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21640" y="3959280"/>
            <a:ext cx="977760" cy="1192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9200" y="2374920"/>
            <a:ext cx="1800" cy="346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71680" y="584208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71680" y="515160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71680" y="445932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71680" y="375588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71680" y="306540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71680" y="237492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19200" y="5842080"/>
            <a:ext cx="6626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519200" y="5842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174840" y="5842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832280" y="5842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488280" y="5842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145360" y="5842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96720" y="256536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3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12840" y="26845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1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33920" y="377676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5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02160" y="355428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7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15440" y="5746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32640" y="5056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32640" y="4363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32640" y="3660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32640" y="29703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32640" y="2300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4280" y="5891040"/>
            <a:ext cx="1076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Micro y Pequeñ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85320" y="5891040"/>
            <a:ext cx="58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Median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7680" y="5891040"/>
            <a:ext cx="51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Gran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26160" y="5891040"/>
            <a:ext cx="1276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Total de la Econom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87880" y="6111720"/>
            <a:ext cx="4878360" cy="26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81560" y="6207120"/>
            <a:ext cx="107640" cy="106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55160" y="6146640"/>
            <a:ext cx="1184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Empleos Direc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30960" y="6207120"/>
            <a:ext cx="106200" cy="106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60640" y="6146640"/>
            <a:ext cx="1294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Empleos Indirec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c3"/>
            </a:gs>
            <a:gs pos="100000">
              <a:srgbClr val="fef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4335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Cadenas Productivas y Empresas Expor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Cantidad empresas Exportadoras*, por Tramos de la Cad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23800" y="2230560"/>
            <a:ext cx="7977240" cy="4376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76120" y="179280"/>
            <a:ext cx="890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Un importante número de exportadores (pymes) se concentra en torno del último eslabón 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6302520"/>
            <a:ext cx="571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3f6e8b"/>
                </a:solidFill>
                <a:latin typeface="Tahoma"/>
              </a:rPr>
              <a:t>Fuente: SEPY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16:10:00Z</dcterms:created>
  <dc:creator>Marcelo Marzocchini</dc:creator>
  <dc:description/>
  <dc:language>en-US</dc:language>
  <cp:lastModifiedBy>C.P.C.E.C.A.B.A.</cp:lastModifiedBy>
  <dcterms:modified xsi:type="dcterms:W3CDTF">2004-11-19T19:11:27Z</dcterms:modified>
  <cp:revision>278</cp:revision>
  <dc:subject/>
  <dc:title>Sin título de diapositiva</dc:title>
</cp:coreProperties>
</file>