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951A-F0F3-4944-9B28-2BAAA67D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36D-2817-4BCF-B5E5-0D8AD4A9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3E5-A551-4160-BC7B-E293A833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B1D-ABCF-47BF-916D-A4F28818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4BA6-A057-4409-86E0-41A56C46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5EDE-19A6-4342-8644-81835690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6C9B-E572-4E6B-8462-65DA9FF2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9118-0D2A-4D9B-AC74-A1CB29E9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812E-FF08-460A-910B-CE825EE8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BF9F-A053-4522-BE28-D2F8B5CB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80F0-353C-441B-8078-0F0FA65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8AA-6E7B-489C-832D-0F75A4B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8060-595A-4541-89F7-38E407B8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18B4-45B3-4A47-BAE2-774F163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6B4C-92F7-40B7-BB54-E3E031E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D997-248A-429F-AC36-F4E2DEA2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30F0-C5CC-4C3B-BBB4-8644D323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469-F856-4540-80D8-47E29026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94D-912F-4BFE-8A68-B1BE5F9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E4E-DF97-483C-8795-2CED9B01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881-4DB2-4B05-87F1-6BB4FE2D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298-5048-49D9-AC8E-EDE1C343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5A2-5E6B-4338-9BC6-3A986B3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727-4D13-4D21-8EE2-DBCE8B0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F52A-8419-4D09-8A68-53B189A49A1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C84D-9D00-4AB1-8385-599E68487E5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SERVICI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imes New Roman"/>
              </a:rPr>
              <a:t>REGLAS DE ORIGEN PARA SERVICI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REFEXIONES Y COMENTARI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I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c) Fabricados por una empresa brasiler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d) La fábrica esta organizada bajo conceptos japone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e)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Operación financiada por un banco suiz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 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f)  Los cueros son de origen argentin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g)  Los avíos son de origen asiátic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h)  La maquinaria fabricada en Alemani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i)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Normas de calidad ISO  9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j) El zapato de empaca en cajas suec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k) Se transporta en un barco holandé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)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a tripulación es malay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ll) La Cia. de Seguros es ingles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m)  Destino final los EE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n)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Etapas de la cadena de comercialización en los EE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o)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Una señora compra el producto por la información publicitaria ideada por una firma franc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q)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Abona la compra con una tarjeta dorada (pago electrónico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q) El banco envía el resumen fin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I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Internacionalización de bienes y S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Problemas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: a) Producir un Servicios en un país y consumirlo en otro: comunicacion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b) Concentrar actividades: marketing, diseño, ingeniería, investigación, distribución, et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Comercio Internacional de Servici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Definición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: Dificultades para establecer el  “factor internacional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V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Enfoque restrictiv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Todo Servicio prestado dentro de un país, correspondería a la  actividad doméstica, cualesquiera fueren los participant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V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Enfoque amplio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e superaría el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lugar de prestación”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del Servicio para centrarse en las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personas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”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que intervienen en la transacción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V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Si una de las Partes es extranjera, la transacc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será considerada internacion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I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Los Servicios s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El resultado de una actividad o proceso económico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I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Empres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Enfoque restrictivo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: el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de una filial extranjera a una empresa del  país no sería internacional pues se realiza dentro de la frontera del paí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Enfoque amplio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: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el resultado sería un Servicio extranjer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El GATS  delimitó el ámbito  de aplicación del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Comercio de 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Definición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: la prestación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de un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a)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del territorio de un Miembro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al territorio de cualquier otro Miembr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(uso de medios electrónicos)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XI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b)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en el territorio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de un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a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un consumidor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de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S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. de otro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M;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c)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por un proveedor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de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S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. de un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a través de una 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presencia comercial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 en el territorio de otro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XX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  <a:ea typeface="Arial"/>
              </a:rPr>
              <a:t>d) por </a:t>
            </a:r>
            <a:r>
              <a:rPr b="0" lang="es-E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un proveedor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  <a:ea typeface="Arial"/>
              </a:rPr>
              <a:t> de Servicios de un Miembro mediante la </a:t>
            </a:r>
            <a:r>
              <a:rPr b="0" lang="es-E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presencia de personas físicas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  <a:ea typeface="Arial"/>
              </a:rPr>
              <a:t> de un Miembro en el territorio de otro Miembr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Locales o estudios profesionales. Es mas resistido,  afecta trabajo loc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APLICABILIDAD DE LAS REGLAS DE ORIGEN  XX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Posibilidad de aplicar las Reglas de Origen de los Bien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entrarse en la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producción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el Servicio, en su proceso de creación y no tanto en sus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resultado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APLICABILIDAD DE LAS REGLAS DE ORIGEN    XXI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D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ificultades de la 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“prueba”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ant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la falta de resultados tangibl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En menor grado el problema es  similar en los bienes (certificado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APLICABILIDAD DE LAS REGLAS DE ORIGEN    XX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Reglas de Orig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A) 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Preferenciales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: formulaciones mas ampli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B) 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No Preferenciales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: formulaciones más estrict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APLICABILIDAD DE LAS REGLAS DE ORIGEN   XXV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Criterios Generales y Específicos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aplicables a los Servicio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Elección según el 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grado de complejidad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a ser aceptado para la determinación del Origen de los Servicio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Arial"/>
              </a:rPr>
              <a:t>Criterios de Origen</a:t>
            </a: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I)  Lugar de Produc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II)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Obtenido o Producid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III)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Criterio Person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IV)  Criterio Económ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V)  Operaciones Específic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VI) Cambio de Posi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XV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I) El Lugar de Produc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El Servicio es una actividad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Debería  establecerse 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“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quién presto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”  o “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quién ha producido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”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el Servicio, con preferencia a   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“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donde fue producido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”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el Servicio</a:t>
            </a:r>
            <a:r>
              <a:rPr b="0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Definición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Cambio en la condición de una persona o de un bien de una unidad económica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logrado por la actividad de otra unidad económica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XV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l Lugar de Producción co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mbos enfoques serian dos expresiones de un mismo propósito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Reflejar un vínculo económico con un país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jemplo: automóviles  producidos por empresas japonesas  en los EEUU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XXI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El Lugar de Producción co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l Origen de un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S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 debería basarse en “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quién esta encargado de su producción y NO en el lugar de producción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”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blecer quién se  beneficia con la producción del Servici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X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l Lugar de Producción cont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La referencia d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quién produce un Servicio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resulta un “proxy” alternativo d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donde fue producid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   “</a:t>
            </a: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Criterio de Origen Personal”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XX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II)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Obtenido o Producido en un solo paí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Cuando todos los factores de producción de un Servicio estén relacionados con un país, </a:t>
            </a: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él Servicio será originario de ese paí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XX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III)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)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ersonas a consider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inculo que une a la persona que presta el Servicio con un determinado paí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Problema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:  varias  personas participan en el Servici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XXX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1) Considerar la nacionalidad de </a:t>
            </a: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Todos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los que participan en el Servici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-Aplicable si son pocas persona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- Importancia relativa de las persona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XXXI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Alternativa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nacionalidad del individuo y no la empresa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La realidad es que la persona actúa como parte de una empresa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XXX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Criterio Personal co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2)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Selección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( alternativa)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eleccionar 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personas que resulten relevantes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Cinematografía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. Canadá estableció la participación de cada persona en la prestación del </a:t>
            </a: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Servicio. Puntaj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XXXV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Criterio Personal co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3)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ontrol  (Direcció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e enfoque apunta a la persona (física o jurídica), que controla la producción del Servici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XXV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Ejemplos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En TV, el producto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En la ind. naviera, el transportista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Establecer quién ejerce el control según el Servicio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La esencia del Servicio es una actividad o prestac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Servicios XXXV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La Propiedad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Enfoque alternativo al del Control o Dirección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Servicios XXXI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El Origen del Servicio viene determinado en función de la </a:t>
            </a: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nacionalidad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(o lugar del establecimiento), </a:t>
            </a: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del propietario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de la entidad que presta el Servicio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 Servicios  X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</a:t>
            </a: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B)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Nacionalidad y Establecimien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l considerar el vinculo de las personas que prestan el Servicio con un determinado país a fin de determinar el Origen del Servicio, varios criterios pueden ser analizado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 Servicios  XL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s-E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C)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Personas Jurídic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NACIONALIDA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Lugar de constitución o sede re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 Servicios  XL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riterio Personal cont</a:t>
            </a:r>
            <a:r>
              <a:rPr b="1" lang="es-E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STABLECIMIENT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lternativa a considerar la nacionalidad de la sociedad es considerar el país de establecimient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L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IV)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riterio Económico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Alternativa al Criterio Person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l Origen de los Servicios seria en función de los diferentes factores implicados en la producción</a:t>
            </a: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LI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Criterio Económico con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El Origen sería conferido por el país en el que se incorporo un porcentaje significativo de val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L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V)</a:t>
            </a: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Operaciones Específic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Determinar uno o varios factores específicos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de cada Servicio, de modo de que el país al cual dicho factor se halle vinculado determine el origen en su totalidad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XLV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Operaciones Específicas co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Ir a la esencia del servicio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. Analizar cada Servici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Regla compleja y arbitraria pero que otorga cierto grado de certez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riterios de Origen: Servicios  XLV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Operaciones Específicas co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cc"/>
                </a:solidFill>
                <a:latin typeface="Times New Roman"/>
              </a:rPr>
              <a:t>Ejemplo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País de registro del naví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Nacionalidad de la tripulación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Localización del Capital que garantiza determinados servici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El control efectivo. Et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I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Situación: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Bienes y Servicios adquiridos simultáneamente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ffcc"/>
                </a:solidFill>
                <a:uFillTx/>
                <a:latin typeface="Times New Roman"/>
              </a:rPr>
              <a:t>Tratamiento:</a:t>
            </a:r>
            <a:r>
              <a:rPr b="0" lang="es-ES" sz="4000" spc="-1" strike="noStrike">
                <a:solidFill>
                  <a:srgbClr val="ffffcc"/>
                </a:solidFill>
                <a:latin typeface="Times New Roman"/>
              </a:rPr>
              <a:t> como una unidad o separadamente. Sistemas informáticos: cinta y programa se valoran por separado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V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Problema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: cuando productos tangibles sirven para obtener productos intangibl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Ejemplo</a:t>
            </a:r>
            <a:r>
              <a:rPr b="0" lang="es-ES" sz="3600" spc="-1" strike="noStrike" u="sng">
                <a:solidFill>
                  <a:srgbClr val="ffffcc"/>
                </a:solidFill>
                <a:uFillTx/>
                <a:latin typeface="Times New Roman"/>
              </a:rPr>
              <a:t>: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los productos culturales como la cinematografía, l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canciones gravadas, et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V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Problemas para su 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delimit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s-ES" sz="3600" spc="-1" strike="noStrike" u="sng">
                <a:solidFill>
                  <a:srgbClr val="ffffcc"/>
                </a:solidFill>
                <a:uFillTx/>
                <a:latin typeface="Arial"/>
              </a:rPr>
              <a:t>Ejemplo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: Sistema de Tarjetas de Crédito, que implica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stemas de telecomunicaciones para el registro de operaciones  +  el sistema bancari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V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Un bien incorpora bienes y trabaj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os Servicios engloban un componente material y otro de trabajo. Se enfatiza el Trabajo (Servicio)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En el Origen de los bienes se enfatiza el elemento Mater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cc66"/>
                </a:solidFill>
                <a:latin typeface="Times New Roman"/>
              </a:rPr>
              <a:t>Comercio de Servicios VIII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Times New Roman"/>
              </a:rPr>
              <a:t>Cadena Global de Val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Ejemplo: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Zapatos de Dam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a)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Estudio de tendencias hecho por una empresa de US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b)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Contratan diseñador italiano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13:38:41Z</dcterms:created>
  <dc:creator>Frat</dc:creator>
  <dc:description/>
  <dc:language>en-US</dc:language>
  <cp:lastModifiedBy>C.P.C.E.C.A.B.A.</cp:lastModifiedBy>
  <dcterms:modified xsi:type="dcterms:W3CDTF">2004-11-19T19:09:55Z</dcterms:modified>
  <cp:revision>27</cp:revision>
  <dc:subject/>
  <dc:title>Criterios de Origen: Servicios I</dc:title>
</cp:coreProperties>
</file>