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1AC-B43C-481C-A3CE-AE3D67C9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47E-063A-40C0-B348-063EC4E2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11F-EEE3-4CE2-AFCA-F157DC4A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9F7-3D75-462A-8C05-B16BD192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46D4-F886-4585-AA15-351023BA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FED1-F3DA-4403-8383-10D8A753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07A0-25B5-400C-B9C9-84C02792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43BF-927C-421A-8683-8EFBB9AA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53E6-3383-46D1-ABAA-471931F3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62EC-AC33-47E3-B36A-416B616B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E92-BF38-48D5-B471-8C88AD8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DEF-A8EF-42E2-B29B-61D74136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46A6-D3B6-4EF9-83C6-EBD5BA2C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587A-C53C-4E5B-A900-3A595EC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FB9E-E2D0-4BD2-960C-2113794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14C5-D764-4CE5-B6C3-9DBA6F87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6677-54F5-4CE4-BA2B-186CD711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F6B-F3CB-468E-8FEA-244FEB1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CDF-BDE3-4E3D-A8A2-3E54F473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80F-9388-4D22-A6D1-2DE25AF4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615-3249-4BC8-97E5-EEDEF616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E2C-D8E2-44FB-8733-680F76D3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47E-FADA-4231-A6B8-23704DC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CAF-2C49-452B-A21E-EE6B823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F432-C82F-4C98-B2B6-E15EC9CD27DB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A9E4-D9A9-41E0-A557-CD4C85F2F536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ALIDAD Y CERTIFICACION EN LA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PORT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3080" y="343080"/>
            <a:ext cx="8420040" cy="617220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DIRECCION NACIONAL DE FISCALIZACION AGROALIMEN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SEN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SERVICIO NACIONAL DE SANIDAD Y CALIDAD AGROALIMEN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65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OGRAMAS DE CALIDAD DE CARNE BOVINA DESTINO U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65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3080" y="343080"/>
            <a:ext cx="8420040" cy="617220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RGENTINE ANGUS BEEF” (RES. SENASA N°278/99 Y N° 228/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RGENTINE HEREFORD BEEF” (RES. SENASA N° 1311/99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ATRIBUTO GARANTIZADO POR POL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TICAS Y PROCEDIMIENTOS ASOCIADOS DE ELABORA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Y CONTROL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CONTROL A CARGO DE LAS RESPECTIVAS ASOCIACIONES, AUDITORÍA Y CERTIFICACIÓN A CARGO DE SENASA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AUDITADOS Y APROBADOS POR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ETIQUETA: “USDA VERIFICED PROGRAM”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XPORTACIONES CARNE BOVINA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CON DESTINO A LA U.E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0680" indent="-3002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BASE COMUNITARIA NORMATIVA “REGLAMENTO (C.E.) 1760/2000.” DEL PARLAMENTO EUROPEO Y DEL CONSEJO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002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CONTENIDO DE EXIGENCIAS Y REQUISITOS PARA LA IDENTIFICA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ANIMAL, TRAZABILIDAD- ETIQUETADO OBLIGATORIO- ETIQUETADO FACULTATIVO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002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IDENTIFICA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ANIMAL Y TRAZABILIDAD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002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CUMPLIMIENTO DE LAS EXIGENCIAS SANITARIAS, SISTEMAS DE IDENTIFICA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DE LOS ANIMALES, REGISTROS Y CONTROLES QUE SUSTENTAN LA TRAZABILIDAD DESDE ORIGEN DE LOS ANIMALES AL PRODUCTO FINAL PARA EL CONSUMIDOR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990720"/>
            <a:ext cx="8420040" cy="552456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XPORTACIONES CARNE BOVINA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CON DESTINO A LA U.E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01600" indent="-111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ETIQUETADO OBLIGATO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SISTEMA PARA EL ETIQUETADO CON INDICADORES QUE EXPRESEN LA INFORMACIÓN ANTERIOR Y CONTENGA SOLO DEFINICIÓN GENÉRICA DEL PRODUCTO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-111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ETIQUETADO FACULTATIVO (VOLUNTARI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DEBE CUMPLIR LOS DOS PUNTOS ANTERIORES (OBLIGATORIOS).  POSIBILIDAD DE AGREGAR CONDICIONES FACULTATIVAS AL PRODUCTO (ATRIBUTO).  SUSTENTADA EN CERTIFICACIÓN DE TERCERA PARTE.  AUDITTADO POR SENA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080" y="990720"/>
            <a:ext cx="8420040" cy="552456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24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ROGRAMA NACIONAL DE CERTIFICACION DE CALIDAD EN ALIMENTOS</a:t>
            </a:r>
            <a:br>
              <a:rPr sz="3000"/>
            </a:br>
            <a:br>
              <a:rPr sz="36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585720" indent="-293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RESOLU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SENASA N° 280/01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CERTIFICA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DE PRODUCTO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 EN BASE A CONTROL DE ATRIBUTOS O PROCESOS DE CALIDAD EN ALIMENTOS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CARACTER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STICA: VOLUN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BASE: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TERCERA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ALCANCE: 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1-CERTIFICA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PRIVADA DE CALIDAD POR ENTIDADES CERTIFICAD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2-CERTIFICACI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N OFICIAL POR EL SEN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RESPONSABILIDAD PRIMARIA: PRODUCTOR /ELABORADOR.  CUMPLIMIENTO</a:t>
            </a:r>
            <a:r>
              <a:rPr b="1" lang="es-AR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DE PROCEDIMIENTOS ESPEC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s-AR" sz="2400" spc="-1" strike="noStrike">
                <a:solidFill>
                  <a:srgbClr val="ffcc66"/>
                </a:solidFill>
                <a:latin typeface="Arial"/>
              </a:rPr>
              <a:t>FICOS, REGISTROS, PROTOCOLOS Y NORMAS</a:t>
            </a: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1600200"/>
            <a:ext cx="8420040" cy="491508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rial"/>
              </a:rPr>
              <a:t>INSCRIPCION: OBLIGACIONES Y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rial"/>
              </a:rPr>
              <a:t>CERTIFICACION: PRESENTACION PROTOCOLOS DE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rial"/>
              </a:rPr>
              <a:t>CONTROL SENASA: AUDITORIA TECNICA D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rial"/>
              </a:rPr>
              <a:t>ATRIBUTO O CONDICION DIFERENCIAL: LA SOLICITANTE SÓLO PODRA UTILIZAR EL TEXTO ACORDADO CON SEN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rial"/>
              </a:rPr>
              <a:t>LA UTILIZACION PODRA SER EN LA ETIQUETA DEL PRODUCTO, EN MEDIOS DE COMUNICACIÓN Y EN TRÁMITES OFICI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304920"/>
            <a:ext cx="8420040" cy="617220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ROGRAMA NACIONAL DE CERTIFICACION DE CALIDAD EN ALIMENTOS</a:t>
            </a:r>
            <a:br>
              <a:rPr sz="3000"/>
            </a:br>
            <a:r>
              <a:rPr b="1" lang="es-ES" sz="2800" spc="-1" strike="noStrike">
                <a:solidFill>
                  <a:srgbClr val="ffcc66"/>
                </a:solidFill>
                <a:latin typeface="Arial"/>
              </a:rPr>
              <a:t>CERTIFICACION PRIVADA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ffcc66"/>
                </a:solidFill>
                <a:latin typeface="Arial"/>
              </a:rPr>
              <a:t>MUCHAS   GRACI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c66"/>
                </a:solidFill>
                <a:latin typeface="Arial"/>
              </a:rPr>
              <a:t>POR   SU   ATENCI</a:t>
            </a:r>
            <a:r>
              <a:rPr b="1" lang="es-MX" sz="36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3600" spc="-1" strike="noStrike">
                <a:solidFill>
                  <a:srgbClr val="ffcc66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343080"/>
            <a:ext cx="8420040" cy="617220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CERTIFICACIONES </a:t>
            </a:r>
            <a:br>
              <a:rPr sz="4400"/>
            </a:br>
            <a:r>
              <a:rPr b="1" lang="es-ES" sz="4800" spc="-1" strike="noStrike">
                <a:solidFill>
                  <a:srgbClr val="ffcc66"/>
                </a:solidFill>
                <a:latin typeface="Arial"/>
              </a:rPr>
              <a:t>¿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QUE SE CERTIFICA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ANIMALES VIV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MATERIAL REPRODUCTIVO ANIM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MATERIAL REPRODUCTIVO VEGE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ALI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MEDICAMENTOS VETERINAR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AGROQUÍM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CERTIFICACIONES OBLIGATOR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25142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ZOOSANITARI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FITOSANITARI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DE INOCU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DE IDENTIFICAC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DE CALIDAD OBLIGATORI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ERTIFICACIONES III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PRODUCCIONES ECOLOG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CARNES DIFERENCIADAS POR RAZA A  U.S.A. Y U.E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PROGRAMA NACIONAL DE CERTIFICACIONES DE CALIDAD EN ALIMENTOS.  </a:t>
            </a:r>
            <a:br>
              <a:rPr sz="3200"/>
            </a:br>
            <a:br>
              <a:rPr sz="3200"/>
            </a:br>
            <a:r>
              <a:rPr b="1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CERTIFICACION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</a:rPr>
              <a:t>FACULTATIV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ERTIFICACIONES INTERNACIONALES I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9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COMPONENTE ZOOSANITA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COMPONENTE INOCU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COMPONENTE DE CALIDAD.</a:t>
            </a:r>
            <a:br>
              <a:rPr sz="3200"/>
            </a:br>
            <a:r>
              <a:rPr b="1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OT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ERTIFICACIONES INTERNA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ALIMENTOS DE ORIGEN ANIM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ERTIFICACIONES INTERNACIONALES ALIMENTOS DE ORIGEN VEGETAL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228564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COMPONENTE FITOSANITA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COMPONENTE INOCU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COMPONENTE DE CALIDAD.</a:t>
            </a:r>
            <a:br>
              <a:rPr sz="3200"/>
            </a:br>
            <a:r>
              <a:rPr b="1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CONVENCI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N INTERNACIONAL DE PROTECCI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N FITOSANITARIA (FA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AN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LISIS DE RIESGO PA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S IMPORTA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IDENTIFICACI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N PLAGAS CUARENTENA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SATISFACCI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N DE REQUISITOS POR PA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S PROVEEDOR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EMISI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1" lang="es-AR" sz="2800" spc="-1" strike="noStrike">
                <a:solidFill>
                  <a:srgbClr val="ffcc66"/>
                </a:solidFill>
                <a:latin typeface="Arial"/>
              </a:rPr>
              <a:t>N DE CERTIFICADO FITOSANIT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343080"/>
            <a:ext cx="8420040" cy="617220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560" y="45720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Arial"/>
              </a:rPr>
              <a:t>CERTIFICACIONES SANITARI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Arial"/>
              </a:rPr>
              <a:t>SANIDAD VEGE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ERTIFICACIONES DE CALIDAD</a:t>
            </a:r>
            <a:br>
              <a:rPr sz="36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RODUCTOS ORGANIC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66"/>
                </a:solidFill>
                <a:latin typeface="Arial"/>
              </a:rPr>
              <a:t>ES AQUEL QUE GARANTIZA LOS REQUISITOS DE LAS REGULACIONES VIGENTES EN LA MATE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66"/>
                </a:solidFill>
                <a:latin typeface="Arial"/>
              </a:rPr>
              <a:t>ES UNA CERTIFICACION DE TERCERA PARTE: ESTA INDEPENDENCIA GARANTIZA AL CONSUMIDOR LA CALIDAD ORGÁNICA DEL PRODUCTO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600200"/>
            <a:ext cx="8420040" cy="525780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SISTEMA ARGENTINO DE CERTIFICACION Y CONTRO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RECONOCIMIENTO INTERNACIONAL: UNION EUROPEA, SUIZA (EQUIVALENCIA), EEUU Y  QUEBEC (CANAD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JAPON  Y COREA DEL SUR: TRAMITE AVANZADO DE RECONOCIMIENTO DE LA EQUIVAL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AYUDA AL RECONOCIMIENTO Y PRESTIGIO DE LOS PRODUCTOS ORGANICOS ARGENTINO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66"/>
                </a:solidFill>
                <a:latin typeface="Arial"/>
              </a:rPr>
              <a:t>POSIBILIDADES DEL DESARROLLO DE MARCA ARGENTINA</a:t>
            </a:r>
            <a:r>
              <a:rPr b="1" lang="es-MX" sz="2800" spc="-1" strike="noStrike">
                <a:solidFill>
                  <a:srgbClr val="ffcc66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1447920"/>
            <a:ext cx="8420040" cy="5067360"/>
          </a:xfrm>
          <a:prstGeom prst="roundRect">
            <a:avLst>
              <a:gd name="adj" fmla="val 494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9:09:29Z</dcterms:created>
  <dc:creator>jose</dc:creator>
  <dc:description/>
  <dc:language>en-US</dc:language>
  <cp:lastModifiedBy>C.P.C.E.C.A.B.A.</cp:lastModifiedBy>
  <cp:lastPrinted>2002-10-25T21:27:31Z</cp:lastPrinted>
  <dcterms:modified xsi:type="dcterms:W3CDTF">2004-11-19T19:09:08Z</dcterms:modified>
  <cp:revision>62</cp:revision>
  <dc:subject/>
  <dc:title>PROGRAMA NACIONAL DE ENTIDADES CERTIFICADORAS DE CALIDAD EN ALIMENTOS</dc:title>
</cp:coreProperties>
</file>