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0D6-C906-4C1D-B8DF-5AD09146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7D9-6B28-4AED-8184-79B18366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413-6A67-4D1D-B8D0-8518176C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FE7-A80E-452F-B5BA-F0619587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6A96-0970-40B8-A892-20BB169B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FB4D-0AC8-4FAC-BF25-7E772FFB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43ED-3FE7-4BAD-B202-CD0B2323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738D-257F-4CC2-8F4E-AD3249F0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5184-1243-422E-995A-44A17BAC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250E-EC89-4631-8470-BCCCBEE3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36F1-A9A0-457D-9F18-0756FCE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FC7-C7FD-4830-81F0-42DC3FDE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4AA6-4054-4E61-AB7B-CF379F56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7519-9225-41DB-BB7B-5BB7C6A5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EADD-380D-4725-9F28-C784A350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3813-73E6-49C3-90E1-C262D347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BBC4-B411-4156-91FB-B6F94C43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55D-DE20-45E7-9B99-E8581E0A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A45-A21F-4F4F-8069-20C16E7D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3B9-EA71-4D75-98F4-8F616732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65A-6038-4043-BD53-6389E241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78B-2B94-4D32-9616-4D5D8E1F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20A-DC74-4E5F-B3C2-991AEC41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3BA-AC4C-4577-A527-25234E6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A17-23F5-4B5C-941F-84D980971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319B-8F97-45E6-A711-FD05E28F2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8.png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8.png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8.png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8.png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7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9.wmf"/><Relationship Id="rId11" Type="http://schemas.openxmlformats.org/officeDocument/2006/relationships/image" Target="../media/image5.wmf"/><Relationship Id="rId12" Type="http://schemas.openxmlformats.org/officeDocument/2006/relationships/image" Target="../media/image9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3124080"/>
            <a:ext cx="784836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99"/>
                </a:solidFill>
                <a:latin typeface="Verdana"/>
                <a:ea typeface="HG Mincho Light J"/>
              </a:rPr>
              <a:t>Las Firmas Digitales en l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99"/>
                </a:solidFill>
                <a:latin typeface="Verdana"/>
                <a:ea typeface="HG Mincho Light J"/>
              </a:rPr>
              <a:t>Negocios Electró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99"/>
                </a:solidFill>
                <a:latin typeface="Verdana"/>
                <a:ea typeface="HG Mincho Light J"/>
              </a:rPr>
              <a:t>Dra. Patricia Prand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99"/>
                </a:solidFill>
                <a:latin typeface="Verdana"/>
                <a:ea typeface="HG Mincho Light J"/>
              </a:rPr>
              <a:t>Julio de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38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8380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99"/>
                </a:solidFill>
                <a:latin typeface="Arial"/>
              </a:rPr>
              <a:t>III Jornadas sobre Comercio Electró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CPCE" descr=""/>
          <p:cNvPicPr/>
          <p:nvPr/>
        </p:nvPicPr>
        <p:blipFill>
          <a:blip r:embed="rId1"/>
          <a:stretch/>
        </p:blipFill>
        <p:spPr>
          <a:xfrm>
            <a:off x="2743200" y="1619280"/>
            <a:ext cx="65736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CPCE2" descr=""/>
          <p:cNvPicPr/>
          <p:nvPr/>
        </p:nvPicPr>
        <p:blipFill>
          <a:blip r:embed="rId2"/>
          <a:stretch/>
        </p:blipFill>
        <p:spPr>
          <a:xfrm>
            <a:off x="3352680" y="1619280"/>
            <a:ext cx="1247760" cy="514440"/>
          </a:xfrm>
          <a:prstGeom prst="rect">
            <a:avLst/>
          </a:prstGeom>
          <a:ln w="0">
            <a:noFill/>
          </a:ln>
        </p:spPr>
      </p:pic>
      <p:pic>
        <p:nvPicPr>
          <p:cNvPr id="127" name="CPCECF3" descr=""/>
          <p:cNvPicPr/>
          <p:nvPr/>
        </p:nvPicPr>
        <p:blipFill>
          <a:blip r:embed="rId3"/>
          <a:stretch/>
        </p:blipFill>
        <p:spPr>
          <a:xfrm>
            <a:off x="4572000" y="1619280"/>
            <a:ext cx="190512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371600" y="1954080"/>
            <a:ext cx="7543800" cy="41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Es función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601"/>
              </a:spcBef>
              <a:buClr>
                <a:srgbClr val="ff9999"/>
              </a:buClr>
              <a:buFont typeface="Monotype Sorts" charset="2"/>
              <a:buChar char="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La credibilidad del certific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601"/>
              </a:spcBef>
              <a:buClr>
                <a:srgbClr val="ff9999"/>
              </a:buClr>
              <a:buFont typeface="Monotype Sorts" charset="2"/>
              <a:buChar char="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Cómo fue emitido - Política de Cert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601"/>
              </a:spcBef>
              <a:buClr>
                <a:srgbClr val="ff9999"/>
              </a:buClr>
              <a:buFont typeface="Monotype Sorts" charset="2"/>
              <a:buChar char="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Ámbito de recono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18320" y="20304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Transaccion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HG Mincho Light J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digi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62120" y="838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Certificado Digital - Confiabilida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838080" y="2057040"/>
            <a:ext cx="228600" cy="228960"/>
            <a:chOff x="838080" y="2057040"/>
            <a:chExt cx="228600" cy="228960"/>
          </a:xfrm>
        </p:grpSpPr>
        <p:sp>
          <p:nvSpPr>
            <p:cNvPr id="810" name=""/>
            <p:cNvSpPr/>
            <p:nvPr/>
          </p:nvSpPr>
          <p:spPr>
            <a:xfrm>
              <a:off x="838080" y="20574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20520" y="22816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1320" y="21060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55000" y="20761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79480" y="20638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3680" y="20588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952200" y="20570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52200" y="20588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952200" y="20638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52200" y="20761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52200" y="21060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21240" y="22816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92440" y="22662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67960" y="22392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49600" y="22028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39880" y="21636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38080" y="21243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46360" y="20919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65440" y="20692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97840" y="20588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2971800" y="1820880"/>
            <a:ext cx="342900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utentic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Integ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No rep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Confidenci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8320" y="20304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Transaccion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HG Mincho Light J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digi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2120" y="838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Certificado Digital - Apor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286000" y="1904760"/>
            <a:ext cx="228600" cy="228960"/>
            <a:chOff x="2286000" y="1904760"/>
            <a:chExt cx="228600" cy="228960"/>
          </a:xfrm>
        </p:grpSpPr>
        <p:sp>
          <p:nvSpPr>
            <p:cNvPr id="834" name=""/>
            <p:cNvSpPr/>
            <p:nvPr/>
          </p:nvSpPr>
          <p:spPr>
            <a:xfrm>
              <a:off x="228600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68440" y="21294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8924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0292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2740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61600" y="19065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400120" y="19047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00120" y="19065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0012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0012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0012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369160" y="21294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340360" y="21139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15880" y="20869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297520" y="20505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287800" y="20113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86000" y="19720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94280" y="19396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13360" y="19170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5760" y="19065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2286000" y="2666520"/>
            <a:ext cx="228600" cy="228960"/>
            <a:chOff x="2286000" y="2666520"/>
            <a:chExt cx="228600" cy="228960"/>
          </a:xfrm>
        </p:grpSpPr>
        <p:sp>
          <p:nvSpPr>
            <p:cNvPr id="855" name=""/>
            <p:cNvSpPr/>
            <p:nvPr/>
          </p:nvSpPr>
          <p:spPr>
            <a:xfrm>
              <a:off x="2286000" y="2666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368440" y="28911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289240" y="27154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302920" y="26856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327400" y="26733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61600" y="26683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2400120" y="26665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00120" y="26683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00120" y="26733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400120" y="26856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400120" y="27154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69160" y="28911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40360" y="28756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15880" y="28486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97520" y="28123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287800" y="27730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86000" y="27338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94280" y="27014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13360" y="26787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45760" y="26683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2286000" y="3428640"/>
            <a:ext cx="228600" cy="228960"/>
            <a:chOff x="2286000" y="3428640"/>
            <a:chExt cx="228600" cy="228960"/>
          </a:xfrm>
        </p:grpSpPr>
        <p:sp>
          <p:nvSpPr>
            <p:cNvPr id="876" name=""/>
            <p:cNvSpPr/>
            <p:nvPr/>
          </p:nvSpPr>
          <p:spPr>
            <a:xfrm>
              <a:off x="2286000" y="34290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68440" y="36532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9240" y="34776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02920" y="34477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27400" y="34354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61600" y="34304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2400120" y="34286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0120" y="34304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400120" y="34354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400120" y="34477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00120" y="34776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9160" y="36532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40360" y="36378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15880" y="36108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97520" y="35744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87800" y="35352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86000" y="34959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94280" y="34635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13360" y="34408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45760" y="34304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2286000" y="4647960"/>
            <a:ext cx="228600" cy="228960"/>
            <a:chOff x="2286000" y="4647960"/>
            <a:chExt cx="228600" cy="228960"/>
          </a:xfrm>
        </p:grpSpPr>
        <p:sp>
          <p:nvSpPr>
            <p:cNvPr id="897" name=""/>
            <p:cNvSpPr/>
            <p:nvPr/>
          </p:nvSpPr>
          <p:spPr>
            <a:xfrm>
              <a:off x="2286000" y="4648320"/>
              <a:ext cx="228600" cy="2286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68440" y="48726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89240" y="4696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02920" y="4667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27400" y="4654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61600" y="46497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400120" y="4647960"/>
              <a:ext cx="0" cy="228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00120" y="46497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400120" y="4654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00120" y="4667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400120" y="4696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69160" y="48726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40360" y="48571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15880" y="48301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297520" y="47937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287800" y="47545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286000" y="47152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294280" y="46828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13360" y="46602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45760" y="46497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838080" y="1752480"/>
            <a:ext cx="7772400" cy="48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La Entidad de Certificación da fe de que el Sr. Juan López es titular de la clave públ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3081 8902 8181 00ED 254C B8AD D8D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F35B 4A35 D885 1876 9BA9 DD10 6F2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33FC A825 BE50 4976 03C2 07B4 5A1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7C1A 2943 72BF 165B 8B02 0301 0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Válido entre: 01/01/1999 y 31/12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No. de serie: 1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(firma digital del Certificador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18320" y="20304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Transaccion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HG Mincho Light J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digi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62120" y="838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Certificado Digital - Conteni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6477120" y="38098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838080" y="1752480"/>
            <a:ext cx="77724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Terceras partes confiables que dan fe de la veracidad de la información incluida en los certificados que emi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8320" y="20304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Transaccion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HG Mincho Light J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digi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62120" y="838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Entidad de Certificación o Certificad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838080" y="1752480"/>
            <a:ext cx="777240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na Infraestructura de Clave Pública permite brindar el marco legal y tecnológico apropiado para las transacciones electrónicas en un entorno seguro, de modo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buClr>
                <a:srgbClr val="ff9966"/>
              </a:buClr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favorecer el comercio electrónico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buClr>
                <a:srgbClr val="ff9966"/>
              </a:buClr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proveer servicios en formato digital,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buClr>
                <a:srgbClr val="ff9966"/>
              </a:buClr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esarrollar acciones de gobierno electrón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18320" y="20304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Transaccion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HG Mincho Light J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digi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2120" y="838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Infraestructura de Claves Públic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838080" y="1752480"/>
            <a:ext cx="777240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  <a:ea typeface="Arial"/>
              </a:rPr>
              <a:t>Sistema compuesto de hardware, software, canales de comunicación, procedimientos y recursos humanos entrenados, que provee un marco de seguridad y confianza a los documentos electrónicos mediante la realización de actividades vinculadas con la creación, administración, almacenamiento, distribución y revocación de certificados digitales de clave pública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8320" y="20304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Transaccion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HG Mincho Light J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digi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2120" y="838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Infraestructura de Clave Públ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Firma Digital 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Defin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066680" y="1447920"/>
            <a:ext cx="769644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junto de datos expresados en formato digital, utilizados como método de identificación de un firmante y de verificación de la integridad del contenido de un documento digital, que cumpla con los siguientes requisi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066680" y="9144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40960" y="871560"/>
            <a:ext cx="77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Firma Digital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Definición 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Firma Digital 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066680" y="1600200"/>
            <a:ext cx="7925040" cy="36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ertenecer únicamente a su tit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ncontrarse bajo su absoluto y exclusivo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er susceptible de ver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star vinculada a los datos del documento digital poniendo en evidencia su alt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30000"/>
              </a:lnSpc>
              <a:buClr>
                <a:srgbClr val="ffffff"/>
              </a:buClr>
              <a:buFont typeface="Symbol" charset="2"/>
              <a:buChar char=""/>
              <a:tabLst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914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Firma Digital 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Definición I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914400" y="2285640"/>
            <a:ext cx="228600" cy="228960"/>
            <a:chOff x="914400" y="2285640"/>
            <a:chExt cx="228600" cy="228960"/>
          </a:xfrm>
        </p:grpSpPr>
        <p:sp>
          <p:nvSpPr>
            <p:cNvPr id="938" name=""/>
            <p:cNvSpPr/>
            <p:nvPr/>
          </p:nvSpPr>
          <p:spPr>
            <a:xfrm>
              <a:off x="914400" y="22860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96840" y="25102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17640" y="23346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31320" y="23047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955800" y="22924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90000" y="22874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1028520" y="22856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28520" y="22874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28520" y="22924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28520" y="23047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28520" y="23346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97560" y="25102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68760" y="24948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44280" y="24678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25920" y="24314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16200" y="23922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14400" y="23529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22680" y="23205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941760" y="22978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974160" y="22874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914400" y="3352320"/>
            <a:ext cx="228600" cy="228960"/>
            <a:chOff x="914400" y="3352320"/>
            <a:chExt cx="228600" cy="228960"/>
          </a:xfrm>
        </p:grpSpPr>
        <p:sp>
          <p:nvSpPr>
            <p:cNvPr id="959" name=""/>
            <p:cNvSpPr/>
            <p:nvPr/>
          </p:nvSpPr>
          <p:spPr>
            <a:xfrm>
              <a:off x="914400" y="33526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96840" y="35769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17640" y="34012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31320" y="33714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55800" y="33591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90000" y="33541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1028520" y="33523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28520" y="33541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28520" y="33591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28520" y="33714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028520" y="34012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97560" y="35769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68760" y="35614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944280" y="35344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25920" y="34981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16200" y="34588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14400" y="34196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22680" y="33872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41760" y="33645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74160" y="33541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914400" y="2819160"/>
            <a:ext cx="228600" cy="228960"/>
            <a:chOff x="914400" y="2819160"/>
            <a:chExt cx="228600" cy="228960"/>
          </a:xfrm>
        </p:grpSpPr>
        <p:sp>
          <p:nvSpPr>
            <p:cNvPr id="980" name=""/>
            <p:cNvSpPr/>
            <p:nvPr/>
          </p:nvSpPr>
          <p:spPr>
            <a:xfrm>
              <a:off x="914400" y="28195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96840" y="30438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17640" y="2868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31320" y="2838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55800" y="2826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90000" y="28209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1028520" y="28191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028520" y="28209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28520" y="2826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28520" y="2838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028520" y="2868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97560" y="30438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68760" y="30283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44280" y="30013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25920" y="29649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16200" y="29257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914400" y="28864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22680" y="28540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41760" y="28314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74160" y="28209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914400" y="3885840"/>
            <a:ext cx="228600" cy="228960"/>
            <a:chOff x="914400" y="3885840"/>
            <a:chExt cx="228600" cy="228960"/>
          </a:xfrm>
        </p:grpSpPr>
        <p:sp>
          <p:nvSpPr>
            <p:cNvPr id="1001" name=""/>
            <p:cNvSpPr/>
            <p:nvPr/>
          </p:nvSpPr>
          <p:spPr>
            <a:xfrm>
              <a:off x="914400" y="38862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96840" y="41104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17640" y="39348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931320" y="39049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55800" y="38926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90000" y="38876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1028520" y="38858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28520" y="38876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28520" y="38926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8520" y="39049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28520" y="39348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97560" y="41104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68760" y="40950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944280" y="40680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925920" y="40316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916200" y="39924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914400" y="39531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22680" y="39207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941760" y="38980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74160" y="38876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Firma Digital 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66680" y="1600200"/>
            <a:ext cx="792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Se entiende por firma digital al resultado de aplicar a un documento digital un procedimiento matemático  que requiere información de exclusivo conocimiento  del firmante encontrándose esta bajo su absoluto contro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 algn="r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Art. 2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62120" y="8380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Firma Digital 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Definición I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Firma Digital 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66680" y="1600200"/>
            <a:ext cx="792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firma digital debe ser susceptible de verificación por terceras partes, tal que dicha verificación simultáneamente permita identificar al firmante y detectar cualquier alteración del documento digital posterior a su fir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 algn="r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Art. 2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62120" y="8380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Firma Digital 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Definición I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47600" y="5889600"/>
            <a:ext cx="18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79360"/>
            <a:ext cx="7772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1960" y="888840"/>
            <a:ext cx="64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Negocios Electrónicos - Modal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905120"/>
            <a:ext cx="7619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514600"/>
            <a:ext cx="1676160" cy="762120"/>
          </a:xfrm>
          <a:prstGeom prst="rect">
            <a:avLst/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4800600"/>
            <a:ext cx="1676520" cy="762120"/>
          </a:xfrm>
          <a:prstGeom prst="rect">
            <a:avLst/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2514600"/>
            <a:ext cx="1676520" cy="762120"/>
          </a:xfrm>
          <a:prstGeom prst="rect">
            <a:avLst/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952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2666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3352680"/>
            <a:ext cx="1371600" cy="17528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8" idx="0"/>
            <a:endCxn id="138" idx="1"/>
          </p:cNvCxnSpPr>
          <p:nvPr/>
        </p:nvCxnSpPr>
        <p:spPr>
          <a:xfrm>
            <a:off x="1981080" y="3352320"/>
            <a:ext cx="1372320" cy="175356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34" idx="2"/>
            <a:endCxn id="133" idx="3"/>
          </p:cNvCxnSpPr>
          <p:nvPr/>
        </p:nvCxnSpPr>
        <p:spPr>
          <a:xfrm flipH="1">
            <a:off x="5105160" y="3276360"/>
            <a:ext cx="1676880" cy="19054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3124080" y="2895120"/>
            <a:ext cx="282024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838080" y="2514600"/>
            <a:ext cx="609840" cy="838080"/>
          </a:xfrm>
          <a:custGeom>
            <a:avLst/>
            <a:gdLst>
              <a:gd name="textAreaLeft" fmla="*/ 81720 w 609840"/>
              <a:gd name="textAreaRight" fmla="*/ 528120 w 60984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794600">
            <a:off x="7627680" y="2496960"/>
            <a:ext cx="601560" cy="703440"/>
          </a:xfrm>
          <a:custGeom>
            <a:avLst/>
            <a:gdLst>
              <a:gd name="textAreaLeft" fmla="*/ 80640 w 601560"/>
              <a:gd name="textAreaRight" fmla="*/ 520920 w 601560"/>
              <a:gd name="textAreaTop" fmla="*/ 123120 h 703440"/>
              <a:gd name="textAreaBottom" fmla="*/ 510120 h 70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5982200">
            <a:off x="3924360" y="544752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4038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2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5943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2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2286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2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2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059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2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Firma Digital 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914400" y="1523880"/>
            <a:ext cx="79246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procedimientos de firma y verificación a ser utilizados para tales fines serán los determinados por la Autoridad de Aplicación en consonancia con estándares tecnológicos internacionales vig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 algn="r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Art. 2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30000"/>
              </a:lnSpc>
              <a:tabLst>
                <a:tab algn="l" pos="0"/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30000"/>
              </a:lnSpc>
              <a:buClr>
                <a:srgbClr val="ffffff"/>
              </a:buClr>
              <a:buFont typeface="Symbol" charset="2"/>
              <a:buChar char=""/>
              <a:tabLst>
                <a:tab algn="r" pos="75214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14400" y="838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62120" y="838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Firma Digital 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Definición II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riptografía Simé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2767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riptografía Asimé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581280" y="5410080"/>
            <a:ext cx="1981080" cy="762120"/>
            <a:chOff x="3581280" y="5410080"/>
            <a:chExt cx="1981080" cy="762120"/>
          </a:xfrm>
        </p:grpSpPr>
        <p:grpSp>
          <p:nvGrpSpPr>
            <p:cNvPr id="1034" name=""/>
            <p:cNvGrpSpPr/>
            <p:nvPr/>
          </p:nvGrpSpPr>
          <p:grpSpPr>
            <a:xfrm>
              <a:off x="4572000" y="5410080"/>
              <a:ext cx="990360" cy="762120"/>
              <a:chOff x="4572000" y="5410080"/>
              <a:chExt cx="990360" cy="762120"/>
            </a:xfrm>
          </p:grpSpPr>
          <p:pic>
            <p:nvPicPr>
              <p:cNvPr id="10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76560" y="5715000"/>
                <a:ext cx="3812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6" name=""/>
              <p:cNvSpPr/>
              <p:nvPr/>
            </p:nvSpPr>
            <p:spPr>
              <a:xfrm>
                <a:off x="4572000" y="541008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úbli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3581280" y="5410080"/>
              <a:ext cx="990720" cy="762120"/>
              <a:chOff x="3581280" y="5410080"/>
              <a:chExt cx="990720" cy="762120"/>
            </a:xfrm>
          </p:grpSpPr>
          <p:sp>
            <p:nvSpPr>
              <p:cNvPr id="1038" name=""/>
              <p:cNvSpPr/>
              <p:nvPr/>
            </p:nvSpPr>
            <p:spPr>
              <a:xfrm>
                <a:off x="3581280" y="5410080"/>
                <a:ext cx="990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rivad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86200" y="5715000"/>
                <a:ext cx="38088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Criptografía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¿ Cómo Funciona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914400" y="2362320"/>
            <a:ext cx="7620120" cy="780840"/>
            <a:chOff x="914400" y="2362320"/>
            <a:chExt cx="7620120" cy="780840"/>
          </a:xfrm>
        </p:grpSpPr>
        <p:pic>
          <p:nvPicPr>
            <p:cNvPr id="1042" name="" descr=""/>
            <p:cNvPicPr/>
            <p:nvPr/>
          </p:nvPicPr>
          <p:blipFill>
            <a:blip r:embed="rId3"/>
            <a:stretch/>
          </p:blipFill>
          <p:spPr>
            <a:xfrm>
              <a:off x="914400" y="2514600"/>
              <a:ext cx="7621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" descr=""/>
            <p:cNvPicPr/>
            <p:nvPr/>
          </p:nvPicPr>
          <p:blipFill>
            <a:blip r:embed="rId4"/>
            <a:stretch/>
          </p:blipFill>
          <p:spPr>
            <a:xfrm>
              <a:off x="7772400" y="2514600"/>
              <a:ext cx="7621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>
              <a:off x="1565280" y="2895480"/>
              <a:ext cx="720720" cy="1800"/>
            </a:xfrm>
            <a:custGeom>
              <a:avLst/>
              <a:gdLst/>
              <a:ahLst/>
              <a:rect l="l" t="t" r="r" b="b"/>
              <a:pathLst>
                <a:path w="454" h="1">
                  <a:moveTo>
                    <a:pt x="0" y="0"/>
                  </a:moveTo>
                  <a:lnTo>
                    <a:pt x="454" y="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71840" y="2895480"/>
              <a:ext cx="1771560" cy="1800"/>
            </a:xfrm>
            <a:custGeom>
              <a:avLst/>
              <a:gdLst/>
              <a:ahLst/>
              <a:rect l="l" t="t" r="r" b="b"/>
              <a:pathLst>
                <a:path w="1116" h="1">
                  <a:moveTo>
                    <a:pt x="0" y="0"/>
                  </a:moveTo>
                  <a:lnTo>
                    <a:pt x="1116" y="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29200" y="2895480"/>
              <a:ext cx="1549440" cy="1800"/>
            </a:xfrm>
            <a:custGeom>
              <a:avLst/>
              <a:gdLst/>
              <a:ahLst/>
              <a:rect l="l" t="t" r="r" b="b"/>
              <a:pathLst>
                <a:path w="976" h="1">
                  <a:moveTo>
                    <a:pt x="0" y="0"/>
                  </a:moveTo>
                  <a:lnTo>
                    <a:pt x="97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61240" y="2897280"/>
              <a:ext cx="911160" cy="1440"/>
            </a:xfrm>
            <a:custGeom>
              <a:avLst/>
              <a:gdLst/>
              <a:ahLst/>
              <a:rect l="l" t="t" r="r" b="b"/>
              <a:pathLst>
                <a:path w="574" h="1">
                  <a:moveTo>
                    <a:pt x="0" y="1"/>
                  </a:moveTo>
                  <a:lnTo>
                    <a:pt x="57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48" name="encrip" descr=""/>
            <p:cNvPicPr/>
            <p:nvPr/>
          </p:nvPicPr>
          <p:blipFill>
            <a:blip r:embed="rId5"/>
            <a:stretch/>
          </p:blipFill>
          <p:spPr>
            <a:xfrm>
              <a:off x="4343400" y="251460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9" name=""/>
            <p:cNvGrpSpPr/>
            <p:nvPr/>
          </p:nvGrpSpPr>
          <p:grpSpPr>
            <a:xfrm>
              <a:off x="6248520" y="2362320"/>
              <a:ext cx="990360" cy="761400"/>
              <a:chOff x="6248520" y="2362320"/>
              <a:chExt cx="990360" cy="761400"/>
            </a:xfrm>
          </p:grpSpPr>
          <p:pic>
            <p:nvPicPr>
              <p:cNvPr id="10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53080" y="2666880"/>
                <a:ext cx="380520" cy="4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"/>
              <p:cNvSpPr/>
              <p:nvPr/>
            </p:nvSpPr>
            <p:spPr>
              <a:xfrm>
                <a:off x="6248520" y="236232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Cla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1905120" y="2362320"/>
              <a:ext cx="990360" cy="761400"/>
              <a:chOff x="1905120" y="2362320"/>
              <a:chExt cx="990360" cy="761400"/>
            </a:xfrm>
          </p:grpSpPr>
          <p:pic>
            <p:nvPicPr>
              <p:cNvPr id="105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209680" y="2666880"/>
                <a:ext cx="380520" cy="4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>
                <a:off x="1905120" y="236232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Cla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5" name=""/>
          <p:cNvGrpSpPr/>
          <p:nvPr/>
        </p:nvGrpSpPr>
        <p:grpSpPr>
          <a:xfrm>
            <a:off x="914400" y="3886200"/>
            <a:ext cx="7620120" cy="781200"/>
            <a:chOff x="914400" y="3886200"/>
            <a:chExt cx="7620120" cy="781200"/>
          </a:xfrm>
        </p:grpSpPr>
        <p:pic>
          <p:nvPicPr>
            <p:cNvPr id="1056" name="" descr=""/>
            <p:cNvPicPr/>
            <p:nvPr/>
          </p:nvPicPr>
          <p:blipFill>
            <a:blip r:embed="rId8"/>
            <a:stretch/>
          </p:blipFill>
          <p:spPr>
            <a:xfrm>
              <a:off x="914400" y="4038480"/>
              <a:ext cx="76212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9"/>
            <a:stretch/>
          </p:blipFill>
          <p:spPr>
            <a:xfrm>
              <a:off x="7772400" y="4038480"/>
              <a:ext cx="7621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"/>
            <p:cNvSpPr/>
            <p:nvPr/>
          </p:nvSpPr>
          <p:spPr>
            <a:xfrm>
              <a:off x="1565280" y="4419720"/>
              <a:ext cx="720720" cy="1440"/>
            </a:xfrm>
            <a:custGeom>
              <a:avLst/>
              <a:gdLst/>
              <a:ahLst/>
              <a:rect l="l" t="t" r="r" b="b"/>
              <a:pathLst>
                <a:path w="454" h="1">
                  <a:moveTo>
                    <a:pt x="0" y="0"/>
                  </a:moveTo>
                  <a:lnTo>
                    <a:pt x="454" y="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71840" y="4419720"/>
              <a:ext cx="1771560" cy="1440"/>
            </a:xfrm>
            <a:custGeom>
              <a:avLst/>
              <a:gdLst/>
              <a:ahLst/>
              <a:rect l="l" t="t" r="r" b="b"/>
              <a:pathLst>
                <a:path w="1116" h="1">
                  <a:moveTo>
                    <a:pt x="0" y="0"/>
                  </a:moveTo>
                  <a:lnTo>
                    <a:pt x="1116" y="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861240" y="4421160"/>
              <a:ext cx="911160" cy="1440"/>
            </a:xfrm>
            <a:custGeom>
              <a:avLst/>
              <a:gdLst/>
              <a:ahLst/>
              <a:rect l="l" t="t" r="r" b="b"/>
              <a:pathLst>
                <a:path w="574" h="1">
                  <a:moveTo>
                    <a:pt x="0" y="1"/>
                  </a:moveTo>
                  <a:lnTo>
                    <a:pt x="57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1" name="encrip" descr=""/>
            <p:cNvPicPr/>
            <p:nvPr/>
          </p:nvPicPr>
          <p:blipFill>
            <a:blip r:embed="rId10"/>
            <a:stretch/>
          </p:blipFill>
          <p:spPr>
            <a:xfrm>
              <a:off x="4343400" y="4038480"/>
              <a:ext cx="762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5029200" y="4419720"/>
              <a:ext cx="1523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1905120" y="3886200"/>
              <a:ext cx="990360" cy="762120"/>
              <a:chOff x="1905120" y="3886200"/>
              <a:chExt cx="990360" cy="762120"/>
            </a:xfrm>
          </p:grpSpPr>
          <p:sp>
            <p:nvSpPr>
              <p:cNvPr id="1064" name=""/>
              <p:cNvSpPr/>
              <p:nvPr/>
            </p:nvSpPr>
            <p:spPr>
              <a:xfrm>
                <a:off x="1905120" y="388620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rivad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6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09680" y="4191120"/>
                <a:ext cx="38052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6" name=""/>
            <p:cNvGrpSpPr/>
            <p:nvPr/>
          </p:nvGrpSpPr>
          <p:grpSpPr>
            <a:xfrm>
              <a:off x="6248520" y="3886200"/>
              <a:ext cx="990360" cy="762120"/>
              <a:chOff x="6248520" y="3886200"/>
              <a:chExt cx="990360" cy="762120"/>
            </a:xfrm>
          </p:grpSpPr>
          <p:pic>
            <p:nvPicPr>
              <p:cNvPr id="10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4191120"/>
                <a:ext cx="3812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"/>
              <p:cNvSpPr/>
              <p:nvPr/>
            </p:nvSpPr>
            <p:spPr>
              <a:xfrm>
                <a:off x="6248520" y="388620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úbli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9" name=""/>
          <p:cNvGrpSpPr/>
          <p:nvPr/>
        </p:nvGrpSpPr>
        <p:grpSpPr>
          <a:xfrm>
            <a:off x="5029200" y="4495680"/>
            <a:ext cx="3505320" cy="914400"/>
            <a:chOff x="5029200" y="4495680"/>
            <a:chExt cx="3505320" cy="914400"/>
          </a:xfrm>
        </p:grpSpPr>
        <p:sp>
          <p:nvSpPr>
            <p:cNvPr id="1070" name=""/>
            <p:cNvSpPr/>
            <p:nvPr/>
          </p:nvSpPr>
          <p:spPr>
            <a:xfrm>
              <a:off x="5794200" y="5181480"/>
              <a:ext cx="784440" cy="1800"/>
            </a:xfrm>
            <a:custGeom>
              <a:avLst/>
              <a:gdLst/>
              <a:ahLst/>
              <a:rect l="l" t="t" r="r" b="b"/>
              <a:pathLst>
                <a:path w="494" h="1">
                  <a:moveTo>
                    <a:pt x="0" y="0"/>
                  </a:moveTo>
                  <a:lnTo>
                    <a:pt x="49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61240" y="5183280"/>
              <a:ext cx="911160" cy="1440"/>
            </a:xfrm>
            <a:custGeom>
              <a:avLst/>
              <a:gdLst/>
              <a:ahLst/>
              <a:rect l="l" t="t" r="r" b="b"/>
              <a:pathLst>
                <a:path w="574" h="1">
                  <a:moveTo>
                    <a:pt x="0" y="1"/>
                  </a:moveTo>
                  <a:lnTo>
                    <a:pt x="57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2" name="encrip" descr=""/>
            <p:cNvPicPr/>
            <p:nvPr/>
          </p:nvPicPr>
          <p:blipFill>
            <a:blip r:embed="rId13"/>
            <a:stretch/>
          </p:blipFill>
          <p:spPr>
            <a:xfrm>
              <a:off x="7772400" y="480060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5029200" y="4495680"/>
              <a:ext cx="765000" cy="1800"/>
            </a:xfrm>
            <a:custGeom>
              <a:avLst/>
              <a:gdLst/>
              <a:ahLst/>
              <a:rect l="l" t="t" r="r" b="b"/>
              <a:pathLst>
                <a:path w="482" h="1">
                  <a:moveTo>
                    <a:pt x="0" y="0"/>
                  </a:moveTo>
                  <a:lnTo>
                    <a:pt x="48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91320" y="4495680"/>
              <a:ext cx="0" cy="685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6248520" y="4648320"/>
              <a:ext cx="990360" cy="761400"/>
              <a:chOff x="6248520" y="4648320"/>
              <a:chExt cx="990360" cy="761400"/>
            </a:xfrm>
          </p:grpSpPr>
          <p:sp>
            <p:nvSpPr>
              <p:cNvPr id="1076" name=""/>
              <p:cNvSpPr/>
              <p:nvPr/>
            </p:nvSpPr>
            <p:spPr>
              <a:xfrm>
                <a:off x="6248520" y="464832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rivad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7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553080" y="4952880"/>
                <a:ext cx="380520" cy="45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8" name=""/>
            <p:cNvGrpSpPr/>
            <p:nvPr/>
          </p:nvGrpSpPr>
          <p:grpSpPr>
            <a:xfrm>
              <a:off x="7831080" y="4848840"/>
              <a:ext cx="402480" cy="408960"/>
              <a:chOff x="7831080" y="4848840"/>
              <a:chExt cx="402480" cy="408960"/>
            </a:xfrm>
          </p:grpSpPr>
          <p:sp>
            <p:nvSpPr>
              <p:cNvPr id="1079" name=""/>
              <p:cNvSpPr/>
              <p:nvPr/>
            </p:nvSpPr>
            <p:spPr>
              <a:xfrm>
                <a:off x="7831080" y="4878360"/>
                <a:ext cx="392040" cy="379440"/>
              </a:xfrm>
              <a:custGeom>
                <a:avLst/>
                <a:gdLst/>
                <a:ahLst/>
                <a:rect l="l" t="t" r="r" b="b"/>
                <a:pathLst>
                  <a:path w="247" h="239">
                    <a:moveTo>
                      <a:pt x="4" y="5"/>
                    </a:moveTo>
                    <a:cubicBezTo>
                      <a:pt x="17" y="7"/>
                      <a:pt x="20" y="8"/>
                      <a:pt x="30" y="12"/>
                    </a:cubicBezTo>
                    <a:cubicBezTo>
                      <a:pt x="34" y="14"/>
                      <a:pt x="42" y="17"/>
                      <a:pt x="42" y="17"/>
                    </a:cubicBezTo>
                    <a:cubicBezTo>
                      <a:pt x="70" y="53"/>
                      <a:pt x="116" y="83"/>
                      <a:pt x="141" y="119"/>
                    </a:cubicBezTo>
                    <a:cubicBezTo>
                      <a:pt x="153" y="136"/>
                      <a:pt x="158" y="143"/>
                      <a:pt x="173" y="155"/>
                    </a:cubicBezTo>
                    <a:cubicBezTo>
                      <a:pt x="182" y="174"/>
                      <a:pt x="197" y="196"/>
                      <a:pt x="217" y="201"/>
                    </a:cubicBezTo>
                    <a:cubicBezTo>
                      <a:pt x="225" y="204"/>
                      <a:pt x="237" y="220"/>
                      <a:pt x="237" y="220"/>
                    </a:cubicBezTo>
                    <a:cubicBezTo>
                      <a:pt x="240" y="219"/>
                      <a:pt x="247" y="239"/>
                      <a:pt x="245" y="237"/>
                    </a:cubicBezTo>
                    <a:cubicBezTo>
                      <a:pt x="243" y="235"/>
                      <a:pt x="193" y="228"/>
                      <a:pt x="190" y="226"/>
                    </a:cubicBezTo>
                    <a:cubicBezTo>
                      <a:pt x="166" y="216"/>
                      <a:pt x="154" y="194"/>
                      <a:pt x="133" y="180"/>
                    </a:cubicBezTo>
                    <a:cubicBezTo>
                      <a:pt x="121" y="173"/>
                      <a:pt x="113" y="155"/>
                      <a:pt x="106" y="143"/>
                    </a:cubicBezTo>
                    <a:cubicBezTo>
                      <a:pt x="93" y="117"/>
                      <a:pt x="73" y="93"/>
                      <a:pt x="53" y="71"/>
                    </a:cubicBezTo>
                    <a:cubicBezTo>
                      <a:pt x="42" y="59"/>
                      <a:pt x="22" y="48"/>
                      <a:pt x="13" y="37"/>
                    </a:cubicBezTo>
                    <a:cubicBezTo>
                      <a:pt x="12" y="36"/>
                      <a:pt x="0" y="0"/>
                      <a:pt x="4" y="5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16270800">
                <a:off x="7843680" y="4858920"/>
                <a:ext cx="392040" cy="379440"/>
              </a:xfrm>
              <a:custGeom>
                <a:avLst/>
                <a:gdLst/>
                <a:ahLst/>
                <a:rect l="l" t="t" r="r" b="b"/>
                <a:pathLst>
                  <a:path w="247" h="239">
                    <a:moveTo>
                      <a:pt x="4" y="5"/>
                    </a:moveTo>
                    <a:cubicBezTo>
                      <a:pt x="17" y="7"/>
                      <a:pt x="20" y="8"/>
                      <a:pt x="30" y="12"/>
                    </a:cubicBezTo>
                    <a:cubicBezTo>
                      <a:pt x="34" y="14"/>
                      <a:pt x="42" y="17"/>
                      <a:pt x="42" y="17"/>
                    </a:cubicBezTo>
                    <a:cubicBezTo>
                      <a:pt x="70" y="53"/>
                      <a:pt x="116" y="83"/>
                      <a:pt x="141" y="119"/>
                    </a:cubicBezTo>
                    <a:cubicBezTo>
                      <a:pt x="153" y="136"/>
                      <a:pt x="158" y="143"/>
                      <a:pt x="173" y="155"/>
                    </a:cubicBezTo>
                    <a:cubicBezTo>
                      <a:pt x="182" y="174"/>
                      <a:pt x="197" y="196"/>
                      <a:pt x="217" y="201"/>
                    </a:cubicBezTo>
                    <a:cubicBezTo>
                      <a:pt x="225" y="204"/>
                      <a:pt x="237" y="220"/>
                      <a:pt x="237" y="220"/>
                    </a:cubicBezTo>
                    <a:cubicBezTo>
                      <a:pt x="240" y="219"/>
                      <a:pt x="247" y="239"/>
                      <a:pt x="245" y="237"/>
                    </a:cubicBezTo>
                    <a:cubicBezTo>
                      <a:pt x="243" y="235"/>
                      <a:pt x="193" y="228"/>
                      <a:pt x="190" y="226"/>
                    </a:cubicBezTo>
                    <a:cubicBezTo>
                      <a:pt x="166" y="216"/>
                      <a:pt x="154" y="194"/>
                      <a:pt x="133" y="180"/>
                    </a:cubicBezTo>
                    <a:cubicBezTo>
                      <a:pt x="121" y="173"/>
                      <a:pt x="113" y="155"/>
                      <a:pt x="106" y="143"/>
                    </a:cubicBezTo>
                    <a:cubicBezTo>
                      <a:pt x="93" y="117"/>
                      <a:pt x="73" y="93"/>
                      <a:pt x="53" y="71"/>
                    </a:cubicBezTo>
                    <a:cubicBezTo>
                      <a:pt x="42" y="59"/>
                      <a:pt x="22" y="48"/>
                      <a:pt x="13" y="37"/>
                    </a:cubicBezTo>
                    <a:cubicBezTo>
                      <a:pt x="12" y="36"/>
                      <a:pt x="0" y="0"/>
                      <a:pt x="4" y="5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1" name=""/>
          <p:cNvSpPr/>
          <p:nvPr/>
        </p:nvSpPr>
        <p:spPr>
          <a:xfrm>
            <a:off x="838080" y="838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212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Nociones de Criptograf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riptografía Simé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5800" y="32767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riptografía Asimé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3581280" y="5410080"/>
            <a:ext cx="1981080" cy="762120"/>
            <a:chOff x="3581280" y="5410080"/>
            <a:chExt cx="1981080" cy="762120"/>
          </a:xfrm>
        </p:grpSpPr>
        <p:grpSp>
          <p:nvGrpSpPr>
            <p:cNvPr id="1086" name=""/>
            <p:cNvGrpSpPr/>
            <p:nvPr/>
          </p:nvGrpSpPr>
          <p:grpSpPr>
            <a:xfrm>
              <a:off x="4572000" y="5410080"/>
              <a:ext cx="990360" cy="762120"/>
              <a:chOff x="4572000" y="5410080"/>
              <a:chExt cx="990360" cy="762120"/>
            </a:xfrm>
          </p:grpSpPr>
          <p:pic>
            <p:nvPicPr>
              <p:cNvPr id="10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76560" y="5715000"/>
                <a:ext cx="3812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572000" y="541008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úbli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3581280" y="5410080"/>
              <a:ext cx="990720" cy="762120"/>
              <a:chOff x="3581280" y="5410080"/>
              <a:chExt cx="990720" cy="762120"/>
            </a:xfrm>
          </p:grpSpPr>
          <p:sp>
            <p:nvSpPr>
              <p:cNvPr id="1090" name=""/>
              <p:cNvSpPr/>
              <p:nvPr/>
            </p:nvSpPr>
            <p:spPr>
              <a:xfrm>
                <a:off x="3581280" y="5410080"/>
                <a:ext cx="990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rivad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86200" y="5715000"/>
                <a:ext cx="38088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Criptografía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¿ Cómo Funciona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914400" y="2362320"/>
            <a:ext cx="7620120" cy="780840"/>
            <a:chOff x="914400" y="2362320"/>
            <a:chExt cx="7620120" cy="780840"/>
          </a:xfrm>
        </p:grpSpPr>
        <p:pic>
          <p:nvPicPr>
            <p:cNvPr id="1094" name="" descr=""/>
            <p:cNvPicPr/>
            <p:nvPr/>
          </p:nvPicPr>
          <p:blipFill>
            <a:blip r:embed="rId3"/>
            <a:stretch/>
          </p:blipFill>
          <p:spPr>
            <a:xfrm>
              <a:off x="914400" y="2514600"/>
              <a:ext cx="7621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4"/>
            <a:stretch/>
          </p:blipFill>
          <p:spPr>
            <a:xfrm>
              <a:off x="7772400" y="2514600"/>
              <a:ext cx="7621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/>
            <p:cNvSpPr/>
            <p:nvPr/>
          </p:nvSpPr>
          <p:spPr>
            <a:xfrm>
              <a:off x="1565280" y="2895480"/>
              <a:ext cx="720720" cy="1800"/>
            </a:xfrm>
            <a:custGeom>
              <a:avLst/>
              <a:gdLst/>
              <a:ahLst/>
              <a:rect l="l" t="t" r="r" b="b"/>
              <a:pathLst>
                <a:path w="454" h="1">
                  <a:moveTo>
                    <a:pt x="0" y="0"/>
                  </a:moveTo>
                  <a:lnTo>
                    <a:pt x="454" y="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571840" y="2895480"/>
              <a:ext cx="1771560" cy="1800"/>
            </a:xfrm>
            <a:custGeom>
              <a:avLst/>
              <a:gdLst/>
              <a:ahLst/>
              <a:rect l="l" t="t" r="r" b="b"/>
              <a:pathLst>
                <a:path w="1116" h="1">
                  <a:moveTo>
                    <a:pt x="0" y="0"/>
                  </a:moveTo>
                  <a:lnTo>
                    <a:pt x="1116" y="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029200" y="2895480"/>
              <a:ext cx="1549440" cy="1800"/>
            </a:xfrm>
            <a:custGeom>
              <a:avLst/>
              <a:gdLst/>
              <a:ahLst/>
              <a:rect l="l" t="t" r="r" b="b"/>
              <a:pathLst>
                <a:path w="976" h="1">
                  <a:moveTo>
                    <a:pt x="0" y="0"/>
                  </a:moveTo>
                  <a:lnTo>
                    <a:pt x="97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61240" y="2897280"/>
              <a:ext cx="911160" cy="1440"/>
            </a:xfrm>
            <a:custGeom>
              <a:avLst/>
              <a:gdLst/>
              <a:ahLst/>
              <a:rect l="l" t="t" r="r" b="b"/>
              <a:pathLst>
                <a:path w="574" h="1">
                  <a:moveTo>
                    <a:pt x="0" y="1"/>
                  </a:moveTo>
                  <a:lnTo>
                    <a:pt x="57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encrip" descr=""/>
            <p:cNvPicPr/>
            <p:nvPr/>
          </p:nvPicPr>
          <p:blipFill>
            <a:blip r:embed="rId5"/>
            <a:stretch/>
          </p:blipFill>
          <p:spPr>
            <a:xfrm>
              <a:off x="4343400" y="251460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1" name=""/>
            <p:cNvGrpSpPr/>
            <p:nvPr/>
          </p:nvGrpSpPr>
          <p:grpSpPr>
            <a:xfrm>
              <a:off x="6248520" y="2362320"/>
              <a:ext cx="990360" cy="761400"/>
              <a:chOff x="6248520" y="2362320"/>
              <a:chExt cx="990360" cy="761400"/>
            </a:xfrm>
          </p:grpSpPr>
          <p:pic>
            <p:nvPicPr>
              <p:cNvPr id="110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53080" y="2666880"/>
                <a:ext cx="380520" cy="4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3" name=""/>
              <p:cNvSpPr/>
              <p:nvPr/>
            </p:nvSpPr>
            <p:spPr>
              <a:xfrm>
                <a:off x="6248520" y="236232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Cla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1905120" y="2362320"/>
              <a:ext cx="990360" cy="761400"/>
              <a:chOff x="1905120" y="2362320"/>
              <a:chExt cx="990360" cy="761400"/>
            </a:xfrm>
          </p:grpSpPr>
          <p:pic>
            <p:nvPicPr>
              <p:cNvPr id="110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209680" y="2666880"/>
                <a:ext cx="380520" cy="4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"/>
              <p:cNvSpPr/>
              <p:nvPr/>
            </p:nvSpPr>
            <p:spPr>
              <a:xfrm>
                <a:off x="1905120" y="236232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Cla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7" name=""/>
          <p:cNvGrpSpPr/>
          <p:nvPr/>
        </p:nvGrpSpPr>
        <p:grpSpPr>
          <a:xfrm>
            <a:off x="914400" y="3886200"/>
            <a:ext cx="7620120" cy="781200"/>
            <a:chOff x="914400" y="3886200"/>
            <a:chExt cx="7620120" cy="781200"/>
          </a:xfrm>
        </p:grpSpPr>
        <p:pic>
          <p:nvPicPr>
            <p:cNvPr id="1108" name="" descr=""/>
            <p:cNvPicPr/>
            <p:nvPr/>
          </p:nvPicPr>
          <p:blipFill>
            <a:blip r:embed="rId8"/>
            <a:stretch/>
          </p:blipFill>
          <p:spPr>
            <a:xfrm>
              <a:off x="914400" y="4038480"/>
              <a:ext cx="76212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9"/>
            <a:stretch/>
          </p:blipFill>
          <p:spPr>
            <a:xfrm>
              <a:off x="7772400" y="4038480"/>
              <a:ext cx="7621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1565280" y="4419720"/>
              <a:ext cx="720720" cy="1440"/>
            </a:xfrm>
            <a:custGeom>
              <a:avLst/>
              <a:gdLst/>
              <a:ahLst/>
              <a:rect l="l" t="t" r="r" b="b"/>
              <a:pathLst>
                <a:path w="454" h="1">
                  <a:moveTo>
                    <a:pt x="0" y="0"/>
                  </a:moveTo>
                  <a:lnTo>
                    <a:pt x="454" y="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71840" y="4419720"/>
              <a:ext cx="1771560" cy="1440"/>
            </a:xfrm>
            <a:custGeom>
              <a:avLst/>
              <a:gdLst/>
              <a:ahLst/>
              <a:rect l="l" t="t" r="r" b="b"/>
              <a:pathLst>
                <a:path w="1116" h="1">
                  <a:moveTo>
                    <a:pt x="0" y="0"/>
                  </a:moveTo>
                  <a:lnTo>
                    <a:pt x="1116" y="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029200" y="4419720"/>
              <a:ext cx="1549440" cy="1440"/>
            </a:xfrm>
            <a:custGeom>
              <a:avLst/>
              <a:gdLst/>
              <a:ahLst/>
              <a:rect l="l" t="t" r="r" b="b"/>
              <a:pathLst>
                <a:path w="976" h="1">
                  <a:moveTo>
                    <a:pt x="0" y="0"/>
                  </a:moveTo>
                  <a:lnTo>
                    <a:pt x="97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61240" y="4421160"/>
              <a:ext cx="911160" cy="1440"/>
            </a:xfrm>
            <a:custGeom>
              <a:avLst/>
              <a:gdLst/>
              <a:ahLst/>
              <a:rect l="l" t="t" r="r" b="b"/>
              <a:pathLst>
                <a:path w="574" h="1">
                  <a:moveTo>
                    <a:pt x="0" y="1"/>
                  </a:moveTo>
                  <a:lnTo>
                    <a:pt x="57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14" name="encrip" descr=""/>
            <p:cNvPicPr/>
            <p:nvPr/>
          </p:nvPicPr>
          <p:blipFill>
            <a:blip r:embed="rId10"/>
            <a:stretch/>
          </p:blipFill>
          <p:spPr>
            <a:xfrm>
              <a:off x="4343400" y="4038480"/>
              <a:ext cx="762120" cy="60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5" name=""/>
            <p:cNvGrpSpPr/>
            <p:nvPr/>
          </p:nvGrpSpPr>
          <p:grpSpPr>
            <a:xfrm>
              <a:off x="6248520" y="3886200"/>
              <a:ext cx="990360" cy="762120"/>
              <a:chOff x="6248520" y="3886200"/>
              <a:chExt cx="990360" cy="762120"/>
            </a:xfrm>
          </p:grpSpPr>
          <p:pic>
            <p:nvPicPr>
              <p:cNvPr id="11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53080" y="4191120"/>
                <a:ext cx="3812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"/>
              <p:cNvSpPr/>
              <p:nvPr/>
            </p:nvSpPr>
            <p:spPr>
              <a:xfrm>
                <a:off x="6248520" y="388620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úbli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1905120" y="3886200"/>
              <a:ext cx="990360" cy="762120"/>
              <a:chOff x="1905120" y="3886200"/>
              <a:chExt cx="990360" cy="762120"/>
            </a:xfrm>
          </p:grpSpPr>
          <p:sp>
            <p:nvSpPr>
              <p:cNvPr id="1119" name=""/>
              <p:cNvSpPr/>
              <p:nvPr/>
            </p:nvSpPr>
            <p:spPr>
              <a:xfrm>
                <a:off x="1905120" y="388620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rivad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12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209680" y="4191120"/>
                <a:ext cx="38052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21" name=""/>
          <p:cNvGrpSpPr/>
          <p:nvPr/>
        </p:nvGrpSpPr>
        <p:grpSpPr>
          <a:xfrm>
            <a:off x="914400" y="4495680"/>
            <a:ext cx="3435480" cy="914400"/>
            <a:chOff x="914400" y="4495680"/>
            <a:chExt cx="3435480" cy="914400"/>
          </a:xfrm>
        </p:grpSpPr>
        <p:pic>
          <p:nvPicPr>
            <p:cNvPr id="1122" name="encrip" descr=""/>
            <p:cNvPicPr/>
            <p:nvPr/>
          </p:nvPicPr>
          <p:blipFill>
            <a:blip r:embed="rId13"/>
            <a:stretch/>
          </p:blipFill>
          <p:spPr>
            <a:xfrm>
              <a:off x="914400" y="480060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"/>
            <p:cNvSpPr/>
            <p:nvPr/>
          </p:nvSpPr>
          <p:spPr>
            <a:xfrm>
              <a:off x="3362400" y="4495680"/>
              <a:ext cx="987480" cy="1800"/>
            </a:xfrm>
            <a:custGeom>
              <a:avLst/>
              <a:gdLst/>
              <a:ahLst/>
              <a:rect l="l" t="t" r="r" b="b"/>
              <a:pathLst>
                <a:path w="622" h="1">
                  <a:moveTo>
                    <a:pt x="0" y="0"/>
                  </a:moveTo>
                  <a:lnTo>
                    <a:pt x="6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65640" y="4495680"/>
              <a:ext cx="0" cy="685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1905120" y="4648320"/>
              <a:ext cx="990360" cy="761400"/>
              <a:chOff x="1905120" y="4648320"/>
              <a:chExt cx="990360" cy="761400"/>
            </a:xfrm>
          </p:grpSpPr>
          <p:pic>
            <p:nvPicPr>
              <p:cNvPr id="112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209680" y="4952880"/>
                <a:ext cx="381240" cy="4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7" name=""/>
              <p:cNvSpPr/>
              <p:nvPr/>
            </p:nvSpPr>
            <p:spPr>
              <a:xfrm>
                <a:off x="1905120" y="464832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úbli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1584360" y="5181480"/>
              <a:ext cx="720720" cy="1800"/>
            </a:xfrm>
            <a:custGeom>
              <a:avLst/>
              <a:gdLst/>
              <a:ahLst/>
              <a:rect l="l" t="t" r="r" b="b"/>
              <a:pathLst>
                <a:path w="454" h="1">
                  <a:moveTo>
                    <a:pt x="0" y="0"/>
                  </a:moveTo>
                  <a:lnTo>
                    <a:pt x="454" y="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90920" y="5181480"/>
              <a:ext cx="774720" cy="1800"/>
            </a:xfrm>
            <a:custGeom>
              <a:avLst/>
              <a:gdLst/>
              <a:ahLst/>
              <a:rect l="l" t="t" r="r" b="b"/>
              <a:pathLst>
                <a:path w="488" h="1">
                  <a:moveTo>
                    <a:pt x="0" y="0"/>
                  </a:moveTo>
                  <a:lnTo>
                    <a:pt x="48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973080" y="4872600"/>
              <a:ext cx="402480" cy="408960"/>
              <a:chOff x="973080" y="4872600"/>
              <a:chExt cx="402480" cy="408960"/>
            </a:xfrm>
          </p:grpSpPr>
          <p:sp>
            <p:nvSpPr>
              <p:cNvPr id="1131" name=""/>
              <p:cNvSpPr/>
              <p:nvPr/>
            </p:nvSpPr>
            <p:spPr>
              <a:xfrm>
                <a:off x="973080" y="4902120"/>
                <a:ext cx="392040" cy="379440"/>
              </a:xfrm>
              <a:custGeom>
                <a:avLst/>
                <a:gdLst/>
                <a:ahLst/>
                <a:rect l="l" t="t" r="r" b="b"/>
                <a:pathLst>
                  <a:path w="247" h="239">
                    <a:moveTo>
                      <a:pt x="4" y="5"/>
                    </a:moveTo>
                    <a:cubicBezTo>
                      <a:pt x="17" y="7"/>
                      <a:pt x="20" y="8"/>
                      <a:pt x="30" y="12"/>
                    </a:cubicBezTo>
                    <a:cubicBezTo>
                      <a:pt x="34" y="14"/>
                      <a:pt x="42" y="17"/>
                      <a:pt x="42" y="17"/>
                    </a:cubicBezTo>
                    <a:cubicBezTo>
                      <a:pt x="70" y="53"/>
                      <a:pt x="116" y="83"/>
                      <a:pt x="141" y="119"/>
                    </a:cubicBezTo>
                    <a:cubicBezTo>
                      <a:pt x="153" y="136"/>
                      <a:pt x="158" y="143"/>
                      <a:pt x="173" y="155"/>
                    </a:cubicBezTo>
                    <a:cubicBezTo>
                      <a:pt x="182" y="174"/>
                      <a:pt x="197" y="196"/>
                      <a:pt x="217" y="201"/>
                    </a:cubicBezTo>
                    <a:cubicBezTo>
                      <a:pt x="225" y="204"/>
                      <a:pt x="237" y="220"/>
                      <a:pt x="237" y="220"/>
                    </a:cubicBezTo>
                    <a:cubicBezTo>
                      <a:pt x="240" y="219"/>
                      <a:pt x="247" y="239"/>
                      <a:pt x="245" y="237"/>
                    </a:cubicBezTo>
                    <a:cubicBezTo>
                      <a:pt x="243" y="235"/>
                      <a:pt x="193" y="228"/>
                      <a:pt x="190" y="226"/>
                    </a:cubicBezTo>
                    <a:cubicBezTo>
                      <a:pt x="166" y="216"/>
                      <a:pt x="154" y="194"/>
                      <a:pt x="133" y="180"/>
                    </a:cubicBezTo>
                    <a:cubicBezTo>
                      <a:pt x="121" y="173"/>
                      <a:pt x="113" y="155"/>
                      <a:pt x="106" y="143"/>
                    </a:cubicBezTo>
                    <a:cubicBezTo>
                      <a:pt x="93" y="117"/>
                      <a:pt x="73" y="93"/>
                      <a:pt x="53" y="71"/>
                    </a:cubicBezTo>
                    <a:cubicBezTo>
                      <a:pt x="42" y="59"/>
                      <a:pt x="22" y="48"/>
                      <a:pt x="13" y="37"/>
                    </a:cubicBezTo>
                    <a:cubicBezTo>
                      <a:pt x="12" y="36"/>
                      <a:pt x="0" y="0"/>
                      <a:pt x="4" y="5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6270800">
                <a:off x="985680" y="4882680"/>
                <a:ext cx="392040" cy="379440"/>
              </a:xfrm>
              <a:custGeom>
                <a:avLst/>
                <a:gdLst/>
                <a:ahLst/>
                <a:rect l="l" t="t" r="r" b="b"/>
                <a:pathLst>
                  <a:path w="247" h="239">
                    <a:moveTo>
                      <a:pt x="4" y="5"/>
                    </a:moveTo>
                    <a:cubicBezTo>
                      <a:pt x="17" y="7"/>
                      <a:pt x="20" y="8"/>
                      <a:pt x="30" y="12"/>
                    </a:cubicBezTo>
                    <a:cubicBezTo>
                      <a:pt x="34" y="14"/>
                      <a:pt x="42" y="17"/>
                      <a:pt x="42" y="17"/>
                    </a:cubicBezTo>
                    <a:cubicBezTo>
                      <a:pt x="70" y="53"/>
                      <a:pt x="116" y="83"/>
                      <a:pt x="141" y="119"/>
                    </a:cubicBezTo>
                    <a:cubicBezTo>
                      <a:pt x="153" y="136"/>
                      <a:pt x="158" y="143"/>
                      <a:pt x="173" y="155"/>
                    </a:cubicBezTo>
                    <a:cubicBezTo>
                      <a:pt x="182" y="174"/>
                      <a:pt x="197" y="196"/>
                      <a:pt x="217" y="201"/>
                    </a:cubicBezTo>
                    <a:cubicBezTo>
                      <a:pt x="225" y="204"/>
                      <a:pt x="237" y="220"/>
                      <a:pt x="237" y="220"/>
                    </a:cubicBezTo>
                    <a:cubicBezTo>
                      <a:pt x="240" y="219"/>
                      <a:pt x="247" y="239"/>
                      <a:pt x="245" y="237"/>
                    </a:cubicBezTo>
                    <a:cubicBezTo>
                      <a:pt x="243" y="235"/>
                      <a:pt x="193" y="228"/>
                      <a:pt x="190" y="226"/>
                    </a:cubicBezTo>
                    <a:cubicBezTo>
                      <a:pt x="166" y="216"/>
                      <a:pt x="154" y="194"/>
                      <a:pt x="133" y="180"/>
                    </a:cubicBezTo>
                    <a:cubicBezTo>
                      <a:pt x="121" y="173"/>
                      <a:pt x="113" y="155"/>
                      <a:pt x="106" y="143"/>
                    </a:cubicBezTo>
                    <a:cubicBezTo>
                      <a:pt x="93" y="117"/>
                      <a:pt x="73" y="93"/>
                      <a:pt x="53" y="71"/>
                    </a:cubicBezTo>
                    <a:cubicBezTo>
                      <a:pt x="42" y="59"/>
                      <a:pt x="22" y="48"/>
                      <a:pt x="13" y="37"/>
                    </a:cubicBezTo>
                    <a:cubicBezTo>
                      <a:pt x="12" y="36"/>
                      <a:pt x="0" y="0"/>
                      <a:pt x="4" y="5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3" name=""/>
          <p:cNvSpPr/>
          <p:nvPr/>
        </p:nvSpPr>
        <p:spPr>
          <a:xfrm>
            <a:off x="76212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Nociones de Criptograf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6320" y="1447920"/>
            <a:ext cx="8991360" cy="4952880"/>
          </a:xfrm>
          <a:prstGeom prst="rect">
            <a:avLst/>
          </a:prstGeom>
          <a:solidFill>
            <a:srgbClr val="9ae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= 130693224021006554603729058609554711255565557220279182714004968205432307099953619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264497263426673522981355324446575560717217090794993464072811858862103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= 1154329170630485499128205326655648234534038128324936193803563507212314076761987994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557941781558788310769886218818788832735309305386367311381911622872283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ublic Ke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= p*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508630008911927413198409146685444644675143717844390704505767449193295926119127954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290348151510881966475744276056713725950587892510033530853501868579592504144361617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32992415497267529654818176915052568550945498569688334837087443627547192152419453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7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=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ivateKe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= e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mod ((p-1)(q-1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6034520035647709652793636586741778578700574871377562818023069796773183704476511816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61392606043527865902977104226854903802351570040134123414007474318370006732400824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911551595790705018141133871782730063112573616833477632693490669900513965319921633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74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Criptografía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¿ Cómo Funciona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6212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Par de cl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uando se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2286000" y="3581280"/>
            <a:ext cx="1599840" cy="366840"/>
            <a:chOff x="2286000" y="3581280"/>
            <a:chExt cx="1599840" cy="366840"/>
          </a:xfrm>
        </p:grpSpPr>
        <p:pic>
          <p:nvPicPr>
            <p:cNvPr id="1139" name="encrip" descr=""/>
            <p:cNvPicPr/>
            <p:nvPr/>
          </p:nvPicPr>
          <p:blipFill>
            <a:blip r:embed="rId1"/>
            <a:srcRect l="0" t="0" r="40044" b="63796"/>
            <a:stretch/>
          </p:blipFill>
          <p:spPr>
            <a:xfrm>
              <a:off x="2286000" y="3657600"/>
              <a:ext cx="5050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"/>
            <p:cNvSpPr/>
            <p:nvPr/>
          </p:nvSpPr>
          <p:spPr>
            <a:xfrm>
              <a:off x="2791080" y="3581280"/>
              <a:ext cx="109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800" spc="-1" strike="noStrike">
                  <a:solidFill>
                    <a:srgbClr val="ffffff"/>
                  </a:solidFill>
                  <a:latin typeface="Times New Roman"/>
                </a:rPr>
                <a:t>Has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2286000" y="4572000"/>
            <a:ext cx="1447920" cy="380880"/>
            <a:chOff x="2286000" y="4572000"/>
            <a:chExt cx="1447920" cy="380880"/>
          </a:xfrm>
        </p:grpSpPr>
        <p:pic>
          <p:nvPicPr>
            <p:cNvPr id="1142" name="encrip" descr=""/>
            <p:cNvPicPr/>
            <p:nvPr/>
          </p:nvPicPr>
          <p:blipFill>
            <a:blip r:embed="rId2"/>
            <a:srcRect l="0" t="0" r="40044" b="63796"/>
            <a:stretch/>
          </p:blipFill>
          <p:spPr>
            <a:xfrm>
              <a:off x="2286000" y="4724280"/>
              <a:ext cx="4572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>
              <a:off x="2743200" y="4572000"/>
              <a:ext cx="99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800" spc="-1" strike="noStrike">
                  <a:solidFill>
                    <a:srgbClr val="ffffff"/>
                  </a:solidFill>
                  <a:latin typeface="Times New Roman"/>
                </a:rPr>
                <a:t>Fir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400800" y="3581280"/>
            <a:ext cx="1600200" cy="366840"/>
            <a:chOff x="6400800" y="3581280"/>
            <a:chExt cx="1600200" cy="366840"/>
          </a:xfrm>
        </p:grpSpPr>
        <p:pic>
          <p:nvPicPr>
            <p:cNvPr id="1145" name="encrip" descr=""/>
            <p:cNvPicPr/>
            <p:nvPr/>
          </p:nvPicPr>
          <p:blipFill>
            <a:blip r:embed="rId3"/>
            <a:srcRect l="0" t="0" r="40044" b="63796"/>
            <a:stretch/>
          </p:blipFill>
          <p:spPr>
            <a:xfrm>
              <a:off x="6400800" y="3657600"/>
              <a:ext cx="4572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6858000" y="358128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800" spc="-1" strike="noStrike">
                  <a:solidFill>
                    <a:srgbClr val="ffffff"/>
                  </a:solidFill>
                  <a:latin typeface="Times New Roman"/>
                </a:rPr>
                <a:t>Has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486400" y="2209680"/>
            <a:ext cx="2362320" cy="3657600"/>
            <a:chOff x="5486400" y="2209680"/>
            <a:chExt cx="2362320" cy="3657600"/>
          </a:xfrm>
        </p:grpSpPr>
        <p:grpSp>
          <p:nvGrpSpPr>
            <p:cNvPr id="1148" name=""/>
            <p:cNvGrpSpPr/>
            <p:nvPr/>
          </p:nvGrpSpPr>
          <p:grpSpPr>
            <a:xfrm>
              <a:off x="5486400" y="5105160"/>
              <a:ext cx="990360" cy="762120"/>
              <a:chOff x="5486400" y="5105160"/>
              <a:chExt cx="990360" cy="762120"/>
            </a:xfrm>
          </p:grpSpPr>
          <p:pic>
            <p:nvPicPr>
              <p:cNvPr id="11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90960" y="5410080"/>
                <a:ext cx="3812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0" name=""/>
              <p:cNvSpPr/>
              <p:nvPr/>
            </p:nvSpPr>
            <p:spPr>
              <a:xfrm>
                <a:off x="5486400" y="510516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úbli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151" name="" descr=""/>
            <p:cNvPicPr/>
            <p:nvPr/>
          </p:nvPicPr>
          <p:blipFill>
            <a:blip r:embed="rId5"/>
            <a:stretch/>
          </p:blipFill>
          <p:spPr>
            <a:xfrm>
              <a:off x="6400800" y="2209680"/>
              <a:ext cx="7621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encrip" descr=""/>
            <p:cNvPicPr/>
            <p:nvPr/>
          </p:nvPicPr>
          <p:blipFill>
            <a:blip r:embed="rId6"/>
            <a:srcRect l="0" t="0" r="40044" b="63796"/>
            <a:stretch/>
          </p:blipFill>
          <p:spPr>
            <a:xfrm>
              <a:off x="6400800" y="4724280"/>
              <a:ext cx="4572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3" name=""/>
            <p:cNvSpPr/>
            <p:nvPr/>
          </p:nvSpPr>
          <p:spPr>
            <a:xfrm>
              <a:off x="6858000" y="4572000"/>
              <a:ext cx="99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800" spc="-1" strike="noStrike">
                  <a:solidFill>
                    <a:srgbClr val="ffffff"/>
                  </a:solidFill>
                  <a:latin typeface="Times New Roman"/>
                </a:rPr>
                <a:t>Fir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4952880" y="1523880"/>
            <a:ext cx="3810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uando se Verif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77240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Times New Roman"/>
              </a:rPr>
              <a:t>¿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371600" y="2209680"/>
            <a:ext cx="1676520" cy="3657600"/>
            <a:chOff x="1371600" y="2209680"/>
            <a:chExt cx="1676520" cy="3657600"/>
          </a:xfrm>
        </p:grpSpPr>
        <p:pic>
          <p:nvPicPr>
            <p:cNvPr id="1157" name="" descr=""/>
            <p:cNvPicPr/>
            <p:nvPr/>
          </p:nvPicPr>
          <p:blipFill>
            <a:blip r:embed="rId7"/>
            <a:stretch/>
          </p:blipFill>
          <p:spPr>
            <a:xfrm>
              <a:off x="2286000" y="2209680"/>
              <a:ext cx="762120" cy="62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8" name=""/>
            <p:cNvGrpSpPr/>
            <p:nvPr/>
          </p:nvGrpSpPr>
          <p:grpSpPr>
            <a:xfrm>
              <a:off x="1371600" y="3809880"/>
              <a:ext cx="990720" cy="762120"/>
              <a:chOff x="1371600" y="3809880"/>
              <a:chExt cx="990720" cy="762120"/>
            </a:xfrm>
          </p:grpSpPr>
          <p:sp>
            <p:nvSpPr>
              <p:cNvPr id="1159" name=""/>
              <p:cNvSpPr/>
              <p:nvPr/>
            </p:nvSpPr>
            <p:spPr>
              <a:xfrm>
                <a:off x="1371600" y="3809880"/>
                <a:ext cx="990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rivad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1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676520" y="4114800"/>
                <a:ext cx="38088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"/>
            <p:cNvGrpSpPr/>
            <p:nvPr/>
          </p:nvGrpSpPr>
          <p:grpSpPr>
            <a:xfrm>
              <a:off x="1371600" y="5105160"/>
              <a:ext cx="990360" cy="762120"/>
              <a:chOff x="1371600" y="5105160"/>
              <a:chExt cx="990360" cy="762120"/>
            </a:xfrm>
          </p:grpSpPr>
          <p:pic>
            <p:nvPicPr>
              <p:cNvPr id="116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76160" y="5410080"/>
                <a:ext cx="3812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"/>
              <p:cNvSpPr/>
              <p:nvPr/>
            </p:nvSpPr>
            <p:spPr>
              <a:xfrm>
                <a:off x="1371600" y="5105160"/>
                <a:ext cx="990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800" spc="-1" strike="noStrike">
                    <a:solidFill>
                      <a:srgbClr val="ffffff"/>
                    </a:solidFill>
                    <a:latin typeface="Times New Roman"/>
                  </a:rPr>
                  <a:t>Públi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4" name=""/>
          <p:cNvGrpSpPr/>
          <p:nvPr/>
        </p:nvGrpSpPr>
        <p:grpSpPr>
          <a:xfrm>
            <a:off x="2438280" y="2819520"/>
            <a:ext cx="152280" cy="914400"/>
            <a:chOff x="2438280" y="2819520"/>
            <a:chExt cx="152280" cy="914400"/>
          </a:xfrm>
        </p:grpSpPr>
        <p:sp>
          <p:nvSpPr>
            <p:cNvPr id="1165" name=""/>
            <p:cNvSpPr/>
            <p:nvPr/>
          </p:nvSpPr>
          <p:spPr>
            <a:xfrm>
              <a:off x="2438280" y="3200760"/>
              <a:ext cx="152280" cy="1522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14240" y="2819520"/>
              <a:ext cx="0" cy="381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514240" y="335304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1981080" y="3886200"/>
            <a:ext cx="609480" cy="914400"/>
            <a:chOff x="1981080" y="3886200"/>
            <a:chExt cx="609480" cy="914400"/>
          </a:xfrm>
        </p:grpSpPr>
        <p:sp>
          <p:nvSpPr>
            <p:cNvPr id="1169" name=""/>
            <p:cNvSpPr/>
            <p:nvPr/>
          </p:nvSpPr>
          <p:spPr>
            <a:xfrm>
              <a:off x="1981080" y="4343400"/>
              <a:ext cx="480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0" name=""/>
            <p:cNvGrpSpPr/>
            <p:nvPr/>
          </p:nvGrpSpPr>
          <p:grpSpPr>
            <a:xfrm>
              <a:off x="2438280" y="3886200"/>
              <a:ext cx="152280" cy="914400"/>
              <a:chOff x="2438280" y="3886200"/>
              <a:chExt cx="152280" cy="914400"/>
            </a:xfrm>
          </p:grpSpPr>
          <p:sp>
            <p:nvSpPr>
              <p:cNvPr id="1171" name=""/>
              <p:cNvSpPr/>
              <p:nvPr/>
            </p:nvSpPr>
            <p:spPr>
              <a:xfrm>
                <a:off x="2438280" y="4267440"/>
                <a:ext cx="152280" cy="152280"/>
              </a:xfrm>
              <a:prstGeom prst="ellipse">
                <a:avLst/>
              </a:prstGeom>
              <a:solidFill>
                <a:srgbClr val="0099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514240" y="3886200"/>
                <a:ext cx="0" cy="381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514240" y="4419720"/>
                <a:ext cx="0" cy="380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4" name=""/>
          <p:cNvGrpSpPr/>
          <p:nvPr/>
        </p:nvGrpSpPr>
        <p:grpSpPr>
          <a:xfrm>
            <a:off x="6553080" y="2819520"/>
            <a:ext cx="152280" cy="914400"/>
            <a:chOff x="6553080" y="2819520"/>
            <a:chExt cx="152280" cy="914400"/>
          </a:xfrm>
        </p:grpSpPr>
        <p:sp>
          <p:nvSpPr>
            <p:cNvPr id="1175" name=""/>
            <p:cNvSpPr/>
            <p:nvPr/>
          </p:nvSpPr>
          <p:spPr>
            <a:xfrm>
              <a:off x="6553080" y="3200760"/>
              <a:ext cx="152280" cy="1522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629040" y="2819520"/>
              <a:ext cx="0" cy="381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629040" y="335304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943600" y="3886200"/>
            <a:ext cx="762120" cy="1295280"/>
            <a:chOff x="5943600" y="3886200"/>
            <a:chExt cx="762120" cy="1295280"/>
          </a:xfrm>
        </p:grpSpPr>
        <p:sp>
          <p:nvSpPr>
            <p:cNvPr id="1179" name=""/>
            <p:cNvSpPr/>
            <p:nvPr/>
          </p:nvSpPr>
          <p:spPr>
            <a:xfrm>
              <a:off x="5943600" y="4343400"/>
              <a:ext cx="633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553080" y="4267080"/>
              <a:ext cx="152640" cy="1522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5943600" y="4343400"/>
              <a:ext cx="0" cy="838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6629400" y="4419000"/>
              <a:ext cx="0" cy="381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642000" y="38862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Criptografía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¿ Cómo Funciona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1295280" y="4876920"/>
            <a:ext cx="5216400" cy="1295280"/>
            <a:chOff x="1295280" y="4876920"/>
            <a:chExt cx="5216400" cy="1295280"/>
          </a:xfrm>
        </p:grpSpPr>
        <p:grpSp>
          <p:nvGrpSpPr>
            <p:cNvPr id="1186" name=""/>
            <p:cNvGrpSpPr/>
            <p:nvPr/>
          </p:nvGrpSpPr>
          <p:grpSpPr>
            <a:xfrm>
              <a:off x="1295280" y="4876920"/>
              <a:ext cx="1101600" cy="1295280"/>
              <a:chOff x="1295280" y="4876920"/>
              <a:chExt cx="1101600" cy="1295280"/>
            </a:xfrm>
          </p:grpSpPr>
          <p:pic>
            <p:nvPicPr>
              <p:cNvPr id="118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95280" y="4876920"/>
                <a:ext cx="110160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8" name=""/>
              <p:cNvSpPr/>
              <p:nvPr/>
            </p:nvSpPr>
            <p:spPr>
              <a:xfrm>
                <a:off x="1396080" y="5029200"/>
                <a:ext cx="83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Nombre y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Apelli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18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22160" y="5562720"/>
                <a:ext cx="38124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"/>
            <p:cNvGrpSpPr/>
            <p:nvPr/>
          </p:nvGrpSpPr>
          <p:grpSpPr>
            <a:xfrm>
              <a:off x="5410080" y="4876920"/>
              <a:ext cx="1101600" cy="1295280"/>
              <a:chOff x="5410080" y="4876920"/>
              <a:chExt cx="1101600" cy="1295280"/>
            </a:xfrm>
          </p:grpSpPr>
          <p:pic>
            <p:nvPicPr>
              <p:cNvPr id="119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0080" y="4876920"/>
                <a:ext cx="110160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5510880" y="5029200"/>
                <a:ext cx="83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Nombre y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Apelli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19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736960" y="5562720"/>
                <a:ext cx="38124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4" name=""/>
          <p:cNvSpPr/>
          <p:nvPr/>
        </p:nvSpPr>
        <p:spPr>
          <a:xfrm>
            <a:off x="76212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Cómo se firma digit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Firma Digital 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914400" y="838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62120" y="838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Transacciones firmadas digit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62120" y="1843200"/>
            <a:ext cx="80010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ctores princip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ién firma (el suscrip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ién(es) necesita(n) verificar la fir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ién testimonia que una firma di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tenece a una cierta perso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ién controla y audita el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1905120" y="4876560"/>
            <a:ext cx="228600" cy="228960"/>
            <a:chOff x="1905120" y="4876560"/>
            <a:chExt cx="228600" cy="228960"/>
          </a:xfrm>
        </p:grpSpPr>
        <p:sp>
          <p:nvSpPr>
            <p:cNvPr id="1200" name=""/>
            <p:cNvSpPr/>
            <p:nvPr/>
          </p:nvSpPr>
          <p:spPr>
            <a:xfrm>
              <a:off x="1905120" y="48769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87560" y="51012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08360" y="49255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922040" y="48956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46520" y="48834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980720" y="48783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2019240" y="48765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019240" y="48783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019240" y="48834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019240" y="48956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019240" y="49255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988280" y="51012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59480" y="50857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35000" y="50587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916640" y="50223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06920" y="49831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905120" y="49438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13400" y="49114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932480" y="48888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64880" y="48783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1905120" y="3962160"/>
            <a:ext cx="228600" cy="228960"/>
            <a:chOff x="1905120" y="3962160"/>
            <a:chExt cx="228600" cy="228960"/>
          </a:xfrm>
        </p:grpSpPr>
        <p:sp>
          <p:nvSpPr>
            <p:cNvPr id="1221" name=""/>
            <p:cNvSpPr/>
            <p:nvPr/>
          </p:nvSpPr>
          <p:spPr>
            <a:xfrm>
              <a:off x="1905120" y="39625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987560" y="41868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908360" y="4011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922040" y="3981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946520" y="3969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980720" y="39639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2019240" y="39621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019240" y="39639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19240" y="3969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19240" y="3981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19240" y="4011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988280" y="41868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959480" y="41713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935000" y="41443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916640" y="41079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06920" y="40687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905120" y="40294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13400" y="39970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932480" y="39744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964880" y="39639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1905120" y="3504960"/>
            <a:ext cx="228600" cy="228960"/>
            <a:chOff x="1905120" y="3504960"/>
            <a:chExt cx="228600" cy="228960"/>
          </a:xfrm>
        </p:grpSpPr>
        <p:sp>
          <p:nvSpPr>
            <p:cNvPr id="1242" name=""/>
            <p:cNvSpPr/>
            <p:nvPr/>
          </p:nvSpPr>
          <p:spPr>
            <a:xfrm>
              <a:off x="1905120" y="35053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987560" y="37296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08360" y="3553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922040" y="3524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46520" y="3511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980720" y="35067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2019240" y="35049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019240" y="35067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019240" y="3511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019240" y="3524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019240" y="3553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988280" y="37296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59480" y="37141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935000" y="36871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916640" y="36507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906920" y="36115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905120" y="35722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13400" y="35398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932480" y="35172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964880" y="35067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1905120" y="3047760"/>
            <a:ext cx="228600" cy="228960"/>
            <a:chOff x="1905120" y="3047760"/>
            <a:chExt cx="228600" cy="228960"/>
          </a:xfrm>
        </p:grpSpPr>
        <p:sp>
          <p:nvSpPr>
            <p:cNvPr id="1263" name=""/>
            <p:cNvSpPr/>
            <p:nvPr/>
          </p:nvSpPr>
          <p:spPr>
            <a:xfrm>
              <a:off x="1905120" y="304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987560" y="32724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908360" y="3096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922040" y="3066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946520" y="3054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980720" y="30495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2019240" y="30477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019240" y="30495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019240" y="3054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19240" y="3066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019240" y="3096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88280" y="32724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59480" y="32569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35000" y="32299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16640" y="31935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906920" y="31543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905120" y="31150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913400" y="30826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932480" y="30600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964880" y="30495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Situ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600200" y="1295280"/>
            <a:ext cx="70102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r">
              <a:lnSpc>
                <a:spcPct val="16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1295280"/>
            <a:ext cx="70102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r">
              <a:lnSpc>
                <a:spcPct val="16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600200" y="1295280"/>
            <a:ext cx="70102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r">
              <a:lnSpc>
                <a:spcPct val="16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295280"/>
            <a:ext cx="70102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r">
              <a:lnSpc>
                <a:spcPct val="16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8" name="Mapa1996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763040" cy="3824280"/>
          </a:xfrm>
          <a:prstGeom prst="rect">
            <a:avLst/>
          </a:prstGeom>
          <a:ln w="0">
            <a:noFill/>
          </a:ln>
        </p:spPr>
      </p:pic>
      <p:pic>
        <p:nvPicPr>
          <p:cNvPr id="1289" name="Mapa1997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763040" cy="3824280"/>
          </a:xfrm>
          <a:prstGeom prst="rect">
            <a:avLst/>
          </a:prstGeom>
          <a:ln w="0">
            <a:noFill/>
          </a:ln>
        </p:spPr>
      </p:pic>
      <p:pic>
        <p:nvPicPr>
          <p:cNvPr id="1290" name="Mapa1998" descr=""/>
          <p:cNvPicPr/>
          <p:nvPr/>
        </p:nvPicPr>
        <p:blipFill>
          <a:blip r:embed="rId3"/>
          <a:stretch/>
        </p:blipFill>
        <p:spPr>
          <a:xfrm>
            <a:off x="914400" y="1905120"/>
            <a:ext cx="7763040" cy="3824280"/>
          </a:xfrm>
          <a:prstGeom prst="rect">
            <a:avLst/>
          </a:prstGeom>
          <a:ln w="0">
            <a:noFill/>
          </a:ln>
        </p:spPr>
      </p:pic>
      <p:pic>
        <p:nvPicPr>
          <p:cNvPr id="1291" name="Mapa2000" descr=""/>
          <p:cNvPicPr/>
          <p:nvPr/>
        </p:nvPicPr>
        <p:blipFill>
          <a:blip r:embed="rId4"/>
          <a:stretch/>
        </p:blipFill>
        <p:spPr>
          <a:xfrm>
            <a:off x="914400" y="1905120"/>
            <a:ext cx="7763040" cy="3824280"/>
          </a:xfrm>
          <a:prstGeom prst="rect">
            <a:avLst/>
          </a:prstGeom>
          <a:ln w="0">
            <a:noFill/>
          </a:ln>
        </p:spPr>
      </p:pic>
      <p:pic>
        <p:nvPicPr>
          <p:cNvPr id="1292" name="Mapa2002" descr=""/>
          <p:cNvPicPr/>
          <p:nvPr/>
        </p:nvPicPr>
        <p:blipFill>
          <a:blip r:embed="rId5"/>
          <a:stretch/>
        </p:blipFill>
        <p:spPr>
          <a:xfrm>
            <a:off x="914400" y="1905120"/>
            <a:ext cx="7763040" cy="382428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>
            <a:off x="76212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Derecho compa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Ley N° 25.506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Principales compon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1752480"/>
            <a:ext cx="7315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93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93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spectos necesarios para dar validez legal a las transacciones electró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93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93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Organización institucional de la ICP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93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93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Despapelización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93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62120" y="9144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Ley Nº 25.506 - Conten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838080" y="2437920"/>
            <a:ext cx="228600" cy="228960"/>
            <a:chOff x="838080" y="2437920"/>
            <a:chExt cx="228600" cy="228960"/>
          </a:xfrm>
        </p:grpSpPr>
        <p:sp>
          <p:nvSpPr>
            <p:cNvPr id="1298" name=""/>
            <p:cNvSpPr/>
            <p:nvPr/>
          </p:nvSpPr>
          <p:spPr>
            <a:xfrm>
              <a:off x="838080" y="2438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920520" y="26625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41320" y="24868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55000" y="24570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79480" y="24447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913680" y="24397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952200" y="24379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52200" y="24397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52200" y="24447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952200" y="24570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952200" y="24868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921240" y="26625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92440" y="26470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67960" y="26200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49600" y="25837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39880" y="25444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38080" y="25052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46360" y="24728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65440" y="24501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97840" y="24397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838080" y="3733560"/>
            <a:ext cx="228600" cy="228960"/>
            <a:chOff x="838080" y="3733560"/>
            <a:chExt cx="228600" cy="228960"/>
          </a:xfrm>
        </p:grpSpPr>
        <p:sp>
          <p:nvSpPr>
            <p:cNvPr id="1319" name=""/>
            <p:cNvSpPr/>
            <p:nvPr/>
          </p:nvSpPr>
          <p:spPr>
            <a:xfrm>
              <a:off x="838080" y="37339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920520" y="39582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41320" y="37825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55000" y="37526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79480" y="37404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13680" y="37353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952200" y="37335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52200" y="37353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52200" y="37404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52200" y="37526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52200" y="37825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21240" y="39582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92440" y="39427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67960" y="39157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49600" y="38793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9880" y="38401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38080" y="38008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46360" y="37684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65440" y="37458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97840" y="37353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838080" y="4647960"/>
            <a:ext cx="228600" cy="228960"/>
            <a:chOff x="838080" y="4647960"/>
            <a:chExt cx="228600" cy="228960"/>
          </a:xfrm>
        </p:grpSpPr>
        <p:sp>
          <p:nvSpPr>
            <p:cNvPr id="1340" name=""/>
            <p:cNvSpPr/>
            <p:nvPr/>
          </p:nvSpPr>
          <p:spPr>
            <a:xfrm>
              <a:off x="838080" y="46483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20520" y="48726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41320" y="4696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55000" y="4667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79480" y="4654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913680" y="46497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952200" y="46479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952200" y="46497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952200" y="4654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52200" y="4667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52200" y="4696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921240" y="48726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92440" y="48571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67960" y="48301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49600" y="47937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39880" y="47545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8080" y="47152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46360" y="46828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65440" y="46602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97840" y="46497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1447920" y="175248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RTICULO 1. - Obje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Se reconoce el empleo de la firma electrónica y de la firma digital y su eficacia jurídica en las condiciones que establece la le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Ley N° 25.506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Consideracione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4191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99"/>
                </a:solidFill>
                <a:latin typeface="Verdana"/>
                <a:ea typeface="HG Mincho Light J"/>
              </a:rPr>
              <a:t>V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6212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Ley Nº 25.5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762120" y="1596960"/>
            <a:ext cx="8001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r" pos="695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RTICULO 5. - Firma electrónic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6951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695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Se entiende por firma electrónica al conjunto de datos electrónicos integrados, ligados o asociados de manera lógica a otros datos electrónicos, utilizado por el signatario como su medio de identificación,  que carezca de alguno de los requisitos legales  para ser considerada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firma digital. En caso  de ser desconocida la firma electrónica  corresponde a quien la invoca acreditar su valide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Ley N° 25.506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Consideracione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447920" y="5791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99"/>
                </a:solidFill>
                <a:latin typeface="Verdana"/>
                <a:ea typeface="HG Mincho Light J"/>
              </a:rPr>
              <a:t>V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212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Ley Nº 25.5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47600" y="5889600"/>
            <a:ext cx="18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79360"/>
            <a:ext cx="7772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1960" y="88884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Negocios Electrónicos - Transa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1752480"/>
            <a:ext cx="7315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Operaciones de alto mo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Transacciones frecu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Interacciones con 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ctividades con implicancia leg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cceso a base de datos confiden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Transacciones banc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Gestión de información sensible o cr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90720" y="5181120"/>
            <a:ext cx="228600" cy="228960"/>
            <a:chOff x="990720" y="5181120"/>
            <a:chExt cx="228600" cy="228960"/>
          </a:xfrm>
        </p:grpSpPr>
        <p:sp>
          <p:nvSpPr>
            <p:cNvPr id="155" name=""/>
            <p:cNvSpPr/>
            <p:nvPr/>
          </p:nvSpPr>
          <p:spPr>
            <a:xfrm>
              <a:off x="990720" y="518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3160" y="54057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3960" y="52300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07640" y="52002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32120" y="51879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66320" y="51829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104840" y="51811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04840" y="51829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04840" y="51879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04840" y="52002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04840" y="52300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73880" y="54057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5080" y="53902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20600" y="53632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02240" y="53269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2520" y="52876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2484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99000" y="52160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18080" y="51933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50480" y="51829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90720" y="3809520"/>
            <a:ext cx="228600" cy="228960"/>
            <a:chOff x="990720" y="3809520"/>
            <a:chExt cx="228600" cy="228960"/>
          </a:xfrm>
        </p:grpSpPr>
        <p:sp>
          <p:nvSpPr>
            <p:cNvPr id="176" name=""/>
            <p:cNvSpPr/>
            <p:nvPr/>
          </p:nvSpPr>
          <p:spPr>
            <a:xfrm>
              <a:off x="990720" y="3809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73160" y="40341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93960" y="38584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07640" y="38286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32120" y="38163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66320" y="38113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104840" y="38095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04840" y="38113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04840" y="38163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04840" y="38286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4840" y="38584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73880" y="40341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45080" y="40186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20600" y="39916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02240" y="39553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92520" y="39160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0720" y="38768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9000" y="38444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18080" y="38217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50480" y="38113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990720" y="2895120"/>
            <a:ext cx="228600" cy="228960"/>
            <a:chOff x="990720" y="2895120"/>
            <a:chExt cx="228600" cy="228960"/>
          </a:xfrm>
        </p:grpSpPr>
        <p:sp>
          <p:nvSpPr>
            <p:cNvPr id="197" name=""/>
            <p:cNvSpPr/>
            <p:nvPr/>
          </p:nvSpPr>
          <p:spPr>
            <a:xfrm>
              <a:off x="990720" y="2895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73160" y="31197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93960" y="29440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07640" y="29142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32120" y="29019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66320" y="28969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104840" y="28951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04840" y="28969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04840" y="29019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04840" y="29142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04840" y="29440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73880" y="31197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45080" y="31042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20600" y="30772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2240" y="30409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2520" y="30016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720" y="29624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99000" y="29300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18080" y="29073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50480" y="28969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990720" y="1904760"/>
            <a:ext cx="228600" cy="228960"/>
            <a:chOff x="990720" y="1904760"/>
            <a:chExt cx="228600" cy="228960"/>
          </a:xfrm>
        </p:grpSpPr>
        <p:sp>
          <p:nvSpPr>
            <p:cNvPr id="218" name=""/>
            <p:cNvSpPr/>
            <p:nvPr/>
          </p:nvSpPr>
          <p:spPr>
            <a:xfrm>
              <a:off x="99072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73160" y="21294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396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0764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3212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6320" y="19065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104840" y="19047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04840" y="19065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0484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0484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0484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73880" y="21294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45080" y="21139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20600" y="20869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02240" y="20505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92520" y="20113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90720" y="19720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99000" y="19396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18080" y="19170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50480" y="19065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990720" y="4266720"/>
            <a:ext cx="228600" cy="228960"/>
            <a:chOff x="990720" y="4266720"/>
            <a:chExt cx="228600" cy="228960"/>
          </a:xfrm>
        </p:grpSpPr>
        <p:sp>
          <p:nvSpPr>
            <p:cNvPr id="239" name=""/>
            <p:cNvSpPr/>
            <p:nvPr/>
          </p:nvSpPr>
          <p:spPr>
            <a:xfrm>
              <a:off x="990720" y="4267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73160" y="44913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3960" y="43156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07640" y="42858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32120" y="42735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66320" y="42685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104840" y="42667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04840" y="42685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04840" y="42735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04840" y="42858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04840" y="43156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73880" y="44913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45080" y="44758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20600" y="44488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02240" y="44125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92520" y="43732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90720" y="43340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99000" y="43016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18080" y="42789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50480" y="42685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990720" y="3352320"/>
            <a:ext cx="228600" cy="228960"/>
            <a:chOff x="990720" y="3352320"/>
            <a:chExt cx="228600" cy="228960"/>
          </a:xfrm>
        </p:grpSpPr>
        <p:sp>
          <p:nvSpPr>
            <p:cNvPr id="260" name=""/>
            <p:cNvSpPr/>
            <p:nvPr/>
          </p:nvSpPr>
          <p:spPr>
            <a:xfrm>
              <a:off x="990720" y="33526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73160" y="35769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93960" y="34012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07640" y="33714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32120" y="33591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66320" y="33541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104840" y="33523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04840" y="33541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4840" y="33591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04840" y="33714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04840" y="34012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73880" y="35769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45080" y="35614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20600" y="35344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02240" y="34981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92520" y="34588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90720" y="34196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9000" y="33872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18080" y="33645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50480" y="33541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990720" y="2361960"/>
            <a:ext cx="228600" cy="228960"/>
            <a:chOff x="990720" y="2361960"/>
            <a:chExt cx="228600" cy="228960"/>
          </a:xfrm>
        </p:grpSpPr>
        <p:sp>
          <p:nvSpPr>
            <p:cNvPr id="281" name=""/>
            <p:cNvSpPr/>
            <p:nvPr/>
          </p:nvSpPr>
          <p:spPr>
            <a:xfrm>
              <a:off x="990720" y="23623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73160" y="25866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3960" y="2410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07640" y="2381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32120" y="2368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6320" y="23637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104840" y="23619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4840" y="23637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04840" y="2368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4840" y="2381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04840" y="2410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73880" y="25866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45080" y="25711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20600" y="25441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02240" y="25077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92520" y="24685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90720" y="24292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9000" y="23968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18080" y="23742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0480" y="23637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990720" y="4723920"/>
            <a:ext cx="228600" cy="228960"/>
            <a:chOff x="990720" y="4723920"/>
            <a:chExt cx="228600" cy="228960"/>
          </a:xfrm>
        </p:grpSpPr>
        <p:sp>
          <p:nvSpPr>
            <p:cNvPr id="302" name=""/>
            <p:cNvSpPr/>
            <p:nvPr/>
          </p:nvSpPr>
          <p:spPr>
            <a:xfrm>
              <a:off x="990720" y="472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73160" y="49485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3960" y="47728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07640" y="47430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32120" y="47307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66320" y="47257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104840" y="47239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04840" y="47257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04840" y="47307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04840" y="47430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04840" y="47728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73880" y="49485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45080" y="49330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20600" y="49060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02240" y="48697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92520" y="48304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90720" y="47912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99000" y="47588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18080" y="47361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50480" y="47257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447920" y="1596960"/>
            <a:ext cx="73152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r" pos="695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RTICULO 6. - Documento digit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6951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695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Se entiende por documento digital a la representación digital de actos o hechos, con independencia del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soporte utilizado para su fijación, almacenamiento o archiv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6951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695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Un documento digital también satisface el requerimiento de escritura.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Ley N° 25.506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Consideracione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47920" y="5791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99"/>
                </a:solidFill>
                <a:latin typeface="Verdana"/>
                <a:ea typeface="HG Mincho Light J"/>
              </a:rPr>
              <a:t>Vi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6212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Ley Nº 25.5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1447920" y="1752480"/>
            <a:ext cx="7315200" cy="48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Neutralidad Tecnoló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Sistema de acreditación volun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Infraestructura de Firma Di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utoridad de Aplic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Jefatura de Gabinete de Minis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Reconocimiento de certificados extranj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Protección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Despapelización del Estado en 5 añ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13000"/>
              </a:lnSpc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Secreto clave priv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Ley N° 25.506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Principales caracterís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Ley Nº 25.5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1066680" y="1904760"/>
            <a:ext cx="228600" cy="228960"/>
            <a:chOff x="1066680" y="1904760"/>
            <a:chExt cx="228600" cy="228960"/>
          </a:xfrm>
        </p:grpSpPr>
        <p:sp>
          <p:nvSpPr>
            <p:cNvPr id="1376" name=""/>
            <p:cNvSpPr/>
            <p:nvPr/>
          </p:nvSpPr>
          <p:spPr>
            <a:xfrm>
              <a:off x="1066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149120" y="21294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06992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08360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10808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142280" y="19065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1180800" y="19047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180800" y="19065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18080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18080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18080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149840" y="21294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121040" y="21139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096560" y="20869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78200" y="20505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068480" y="20113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66680" y="19720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074960" y="19396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094040" y="19170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126440" y="19065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1066680" y="2819160"/>
            <a:ext cx="228600" cy="228960"/>
            <a:chOff x="1066680" y="2819160"/>
            <a:chExt cx="228600" cy="228960"/>
          </a:xfrm>
        </p:grpSpPr>
        <p:sp>
          <p:nvSpPr>
            <p:cNvPr id="1397" name=""/>
            <p:cNvSpPr/>
            <p:nvPr/>
          </p:nvSpPr>
          <p:spPr>
            <a:xfrm>
              <a:off x="1066680" y="28195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149120" y="30438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069920" y="2868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83600" y="2838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108080" y="2826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142280" y="28209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180800" y="28191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180800" y="28209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180800" y="2826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180800" y="2838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180800" y="2868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149840" y="30438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121040" y="30283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096560" y="30013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078200" y="29649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068480" y="29257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066680" y="28864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074960" y="28540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094040" y="28314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126440" y="28209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1066680" y="4266720"/>
            <a:ext cx="228600" cy="228960"/>
            <a:chOff x="1066680" y="4266720"/>
            <a:chExt cx="228600" cy="228960"/>
          </a:xfrm>
        </p:grpSpPr>
        <p:sp>
          <p:nvSpPr>
            <p:cNvPr id="1418" name=""/>
            <p:cNvSpPr/>
            <p:nvPr/>
          </p:nvSpPr>
          <p:spPr>
            <a:xfrm>
              <a:off x="1066680" y="4267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9120" y="44913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69920" y="43156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083600" y="42858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108080" y="42735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42280" y="42685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1180800" y="42667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180800" y="42685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180800" y="42735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180800" y="42858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180800" y="43156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9840" y="44913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121040" y="44758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096560" y="44488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78200" y="44125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68480" y="43732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66680" y="43340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74960" y="43016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94040" y="42789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26440" y="42685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1066680" y="5257440"/>
            <a:ext cx="228600" cy="228960"/>
            <a:chOff x="1066680" y="5257440"/>
            <a:chExt cx="228600" cy="228960"/>
          </a:xfrm>
        </p:grpSpPr>
        <p:sp>
          <p:nvSpPr>
            <p:cNvPr id="1439" name=""/>
            <p:cNvSpPr/>
            <p:nvPr/>
          </p:nvSpPr>
          <p:spPr>
            <a:xfrm>
              <a:off x="1066680" y="52578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149120" y="54820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69920" y="53064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83600" y="52765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108080" y="52642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142280" y="52592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1180800" y="52574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180800" y="52592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180800" y="52642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180800" y="52765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180800" y="53064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49840" y="54820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121040" y="54666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96560" y="54396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078200" y="54032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068480" y="53640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066680" y="53247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074960" y="52923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094040" y="52696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26440" y="52592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1066680" y="5714640"/>
            <a:ext cx="228600" cy="228960"/>
            <a:chOff x="1066680" y="5714640"/>
            <a:chExt cx="228600" cy="228960"/>
          </a:xfrm>
        </p:grpSpPr>
        <p:sp>
          <p:nvSpPr>
            <p:cNvPr id="1460" name=""/>
            <p:cNvSpPr/>
            <p:nvPr/>
          </p:nvSpPr>
          <p:spPr>
            <a:xfrm>
              <a:off x="1066680" y="57150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149120" y="59392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069920" y="57636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083600" y="57337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108080" y="57214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142280" y="57164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1180800" y="57146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180800" y="57164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80800" y="57214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180800" y="57337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180800" y="57636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49840" y="59392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121040" y="59238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096560" y="58968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078200" y="58604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68480" y="58212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66680" y="57819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74960" y="57495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094040" y="57268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126440" y="57164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1066680" y="4723920"/>
            <a:ext cx="228600" cy="228960"/>
            <a:chOff x="1066680" y="4723920"/>
            <a:chExt cx="228600" cy="228960"/>
          </a:xfrm>
        </p:grpSpPr>
        <p:sp>
          <p:nvSpPr>
            <p:cNvPr id="1481" name=""/>
            <p:cNvSpPr/>
            <p:nvPr/>
          </p:nvSpPr>
          <p:spPr>
            <a:xfrm>
              <a:off x="1066680" y="472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49120" y="49485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069920" y="47728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083600" y="47430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08080" y="47307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42280" y="47257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1180800" y="47239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180800" y="47257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180800" y="47307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180800" y="47430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180800" y="47728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149840" y="49485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121040" y="49330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096560" y="49060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078200" y="48697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068480" y="48304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066680" y="47912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74960" y="47588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094040" y="47361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26440" y="47257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1066680" y="3352320"/>
            <a:ext cx="228600" cy="228960"/>
            <a:chOff x="1066680" y="3352320"/>
            <a:chExt cx="228600" cy="228960"/>
          </a:xfrm>
        </p:grpSpPr>
        <p:sp>
          <p:nvSpPr>
            <p:cNvPr id="1502" name=""/>
            <p:cNvSpPr/>
            <p:nvPr/>
          </p:nvSpPr>
          <p:spPr>
            <a:xfrm>
              <a:off x="1066680" y="33526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49120" y="35769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069920" y="34012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083600" y="33714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08080" y="33591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42280" y="33541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1180800" y="33523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80800" y="33541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80800" y="33591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80800" y="33714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80800" y="34012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149840" y="35769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121040" y="35614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96560" y="35344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78200" y="34981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68480" y="34588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66680" y="34196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74960" y="33872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94040" y="33645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126440" y="33541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1066680" y="2361960"/>
            <a:ext cx="228600" cy="228960"/>
            <a:chOff x="1066680" y="2361960"/>
            <a:chExt cx="228600" cy="228960"/>
          </a:xfrm>
        </p:grpSpPr>
        <p:sp>
          <p:nvSpPr>
            <p:cNvPr id="1523" name=""/>
            <p:cNvSpPr/>
            <p:nvPr/>
          </p:nvSpPr>
          <p:spPr>
            <a:xfrm>
              <a:off x="1066680" y="23623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49120" y="25866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69920" y="2410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083600" y="2381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108080" y="2368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42280" y="23637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1180800" y="23619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180800" y="23637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180800" y="2368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180800" y="2381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180800" y="2410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149840" y="25866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21040" y="25711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096560" y="25441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78200" y="25077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068480" y="24685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066680" y="24292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74960" y="23968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94040" y="23742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126440" y="23637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1371600" y="1752480"/>
            <a:ext cx="7391520" cy="33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5000"/>
              </a:lnSpc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Delegación facultades regulatorias en JG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25000"/>
              </a:lnSpc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Ente Administr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25000"/>
              </a:lnSpc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Sistema de auditoría - Precal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25000"/>
              </a:lnSpc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utoridades de 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25000"/>
              </a:lnSpc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Disposiciones para 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40000"/>
              </a:lnSpc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25000"/>
              </a:lnSpc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75808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Ley N° 25.506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	</a:t>
            </a:r>
            <a:r>
              <a:rPr b="1" lang="es-AR" sz="2400" spc="-1" strike="noStrike">
                <a:solidFill>
                  <a:srgbClr val="0066cc"/>
                </a:solidFill>
                <a:latin typeface="Verdana"/>
              </a:rPr>
              <a:t>Composición de la P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6212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Decreto Nº 2628/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914400" y="2361960"/>
            <a:ext cx="228600" cy="228960"/>
            <a:chOff x="914400" y="2361960"/>
            <a:chExt cx="228600" cy="228960"/>
          </a:xfrm>
        </p:grpSpPr>
        <p:sp>
          <p:nvSpPr>
            <p:cNvPr id="1547" name=""/>
            <p:cNvSpPr/>
            <p:nvPr/>
          </p:nvSpPr>
          <p:spPr>
            <a:xfrm>
              <a:off x="914400" y="23623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996840" y="25866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917640" y="2410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931320" y="2381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955800" y="2368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990000" y="23637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1028520" y="23619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028520" y="23637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028520" y="23688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028520" y="23810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028520" y="24109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997560" y="25866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968760" y="25711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944280" y="25441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925920" y="25077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916200" y="24685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914400" y="24292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22680" y="23968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41760" y="23742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974160" y="23637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914400" y="2895120"/>
            <a:ext cx="228600" cy="228960"/>
            <a:chOff x="914400" y="2895120"/>
            <a:chExt cx="228600" cy="228960"/>
          </a:xfrm>
        </p:grpSpPr>
        <p:sp>
          <p:nvSpPr>
            <p:cNvPr id="1568" name=""/>
            <p:cNvSpPr/>
            <p:nvPr/>
          </p:nvSpPr>
          <p:spPr>
            <a:xfrm>
              <a:off x="914400" y="2895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996840" y="31197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917640" y="29440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31320" y="29142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55800" y="29019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90000" y="28969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1028520" y="28951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028520" y="28969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028520" y="29019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028520" y="29142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028520" y="29440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97560" y="31197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68760" y="31042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44280" y="30772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925920" y="30409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16200" y="30016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14400" y="29624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22680" y="29300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941760" y="29073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974160" y="28969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914400" y="3352320"/>
            <a:ext cx="228600" cy="228960"/>
            <a:chOff x="914400" y="3352320"/>
            <a:chExt cx="228600" cy="228960"/>
          </a:xfrm>
        </p:grpSpPr>
        <p:sp>
          <p:nvSpPr>
            <p:cNvPr id="1589" name=""/>
            <p:cNvSpPr/>
            <p:nvPr/>
          </p:nvSpPr>
          <p:spPr>
            <a:xfrm>
              <a:off x="914400" y="33526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996840" y="35769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917640" y="34012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931320" y="33714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955800" y="33591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990000" y="33541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1028520" y="33523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028520" y="33541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028520" y="33591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028520" y="33714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028520" y="34012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997560" y="35769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968760" y="35614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944280" y="35344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925920" y="34981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916200" y="34588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914400" y="34196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922680" y="33872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41760" y="33645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974160" y="33541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914400" y="3809520"/>
            <a:ext cx="228600" cy="228960"/>
            <a:chOff x="914400" y="3809520"/>
            <a:chExt cx="228600" cy="228960"/>
          </a:xfrm>
        </p:grpSpPr>
        <p:sp>
          <p:nvSpPr>
            <p:cNvPr id="1610" name=""/>
            <p:cNvSpPr/>
            <p:nvPr/>
          </p:nvSpPr>
          <p:spPr>
            <a:xfrm>
              <a:off x="914400" y="3809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996840" y="40341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917640" y="38584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931320" y="38286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955800" y="38163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990000" y="38113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1028520" y="38095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028520" y="38113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028520" y="38163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028520" y="38286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028520" y="38584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997560" y="40341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968760" y="40186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944280" y="39916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925920" y="39553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916200" y="39160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914400" y="38768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922680" y="38444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941760" y="38217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974160" y="38113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914400" y="1904760"/>
            <a:ext cx="228600" cy="228960"/>
            <a:chOff x="914400" y="1904760"/>
            <a:chExt cx="228600" cy="228960"/>
          </a:xfrm>
        </p:grpSpPr>
        <p:sp>
          <p:nvSpPr>
            <p:cNvPr id="1631" name=""/>
            <p:cNvSpPr/>
            <p:nvPr/>
          </p:nvSpPr>
          <p:spPr>
            <a:xfrm>
              <a:off x="91440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996840" y="21294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91764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93132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95580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990000" y="19065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1028520" y="19047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028520" y="19065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02852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02852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02852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997560" y="21294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968760" y="21139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944280" y="20869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25920" y="20505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16200" y="20113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14400" y="19720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22680" y="19396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41760" y="19170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974160" y="19065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1047600" y="5889600"/>
            <a:ext cx="18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143000" y="279360"/>
            <a:ext cx="7772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919800" y="888840"/>
            <a:ext cx="65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Negocios Electrónicos – Pendiente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523880" y="1752480"/>
            <a:ext cx="7315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40" indent="-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Fecha y hora cierta – Time Stam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-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-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rchivo y conservación de documentos electró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-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-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Reconocimiento de certificados extranj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-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-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Gestión de c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-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-3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Otros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990720" y="4190760"/>
            <a:ext cx="228600" cy="228960"/>
            <a:chOff x="990720" y="4190760"/>
            <a:chExt cx="228600" cy="228960"/>
          </a:xfrm>
        </p:grpSpPr>
        <p:sp>
          <p:nvSpPr>
            <p:cNvPr id="1656" name=""/>
            <p:cNvSpPr/>
            <p:nvPr/>
          </p:nvSpPr>
          <p:spPr>
            <a:xfrm>
              <a:off x="990720" y="41911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73160" y="44154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993960" y="4239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007640" y="4209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032120" y="4197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066320" y="41925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1104840" y="41907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104840" y="41925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104840" y="4197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104840" y="4209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104840" y="4239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073880" y="44154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045080" y="43999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20600" y="43729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002240" y="43365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992520" y="42973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990720" y="42580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999000" y="42256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018080" y="42030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050480" y="41925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990720" y="2819160"/>
            <a:ext cx="228600" cy="228960"/>
            <a:chOff x="990720" y="2819160"/>
            <a:chExt cx="228600" cy="228960"/>
          </a:xfrm>
        </p:grpSpPr>
        <p:sp>
          <p:nvSpPr>
            <p:cNvPr id="1677" name=""/>
            <p:cNvSpPr/>
            <p:nvPr/>
          </p:nvSpPr>
          <p:spPr>
            <a:xfrm>
              <a:off x="990720" y="28195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73160" y="30438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993960" y="2868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007640" y="2838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32120" y="2826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066320" y="28209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1104840" y="28191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104840" y="28209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104840" y="2826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04840" y="2838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104840" y="2868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073880" y="30438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45080" y="30283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020600" y="30013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02240" y="29649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992520" y="29257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990720" y="28864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999000" y="28540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018080" y="28314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050480" y="28209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990720" y="1904760"/>
            <a:ext cx="228600" cy="228960"/>
            <a:chOff x="990720" y="1904760"/>
            <a:chExt cx="228600" cy="228960"/>
          </a:xfrm>
        </p:grpSpPr>
        <p:sp>
          <p:nvSpPr>
            <p:cNvPr id="1698" name=""/>
            <p:cNvSpPr/>
            <p:nvPr/>
          </p:nvSpPr>
          <p:spPr>
            <a:xfrm>
              <a:off x="99072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73160" y="21294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99396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0764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03212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66320" y="19065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1104840" y="19047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104840" y="19065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10484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10484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10484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73880" y="21294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045080" y="21139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020600" y="20869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002240" y="20505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992520" y="20113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990720" y="19720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999000" y="19396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018080" y="19170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050480" y="19065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990720" y="5105160"/>
            <a:ext cx="228600" cy="228960"/>
            <a:chOff x="990720" y="5105160"/>
            <a:chExt cx="228600" cy="228960"/>
          </a:xfrm>
        </p:grpSpPr>
        <p:sp>
          <p:nvSpPr>
            <p:cNvPr id="1719" name=""/>
            <p:cNvSpPr/>
            <p:nvPr/>
          </p:nvSpPr>
          <p:spPr>
            <a:xfrm>
              <a:off x="990720" y="51055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73160" y="53298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993960" y="5154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07640" y="5124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32120" y="5112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66320" y="51069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1104840" y="51051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104840" y="51069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104840" y="5112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104840" y="5124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04840" y="5154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73880" y="53298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045080" y="53143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020600" y="52873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002240" y="52509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992520" y="52117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990720" y="51724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999000" y="51400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018080" y="51174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050480" y="51069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9" name=""/>
          <p:cNvGrpSpPr/>
          <p:nvPr/>
        </p:nvGrpSpPr>
        <p:grpSpPr>
          <a:xfrm>
            <a:off x="990720" y="6095520"/>
            <a:ext cx="228600" cy="228960"/>
            <a:chOff x="990720" y="6095520"/>
            <a:chExt cx="228600" cy="228960"/>
          </a:xfrm>
        </p:grpSpPr>
        <p:sp>
          <p:nvSpPr>
            <p:cNvPr id="1740" name=""/>
            <p:cNvSpPr/>
            <p:nvPr/>
          </p:nvSpPr>
          <p:spPr>
            <a:xfrm>
              <a:off x="990720" y="6095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73160" y="63201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993960" y="61444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007640" y="61146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32120" y="61023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066320" y="60973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1104840" y="60955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104840" y="60973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104840" y="61023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104840" y="61146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104840" y="61444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073880" y="63201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045080" y="63046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020600" y="62776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02240" y="62413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992520" y="62020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990720" y="61628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999000" y="61304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018080" y="61077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50480" y="60973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047600" y="5889600"/>
            <a:ext cx="18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410080" y="175248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sentimiento por la transacción: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rma Di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410080" y="37339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cibo: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rma Di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4" name="A2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765" name="B1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1979640" cy="2598480"/>
          </a:xfrm>
          <a:prstGeom prst="rect">
            <a:avLst/>
          </a:prstGeom>
          <a:ln w="0">
            <a:noFill/>
          </a:ln>
        </p:spPr>
      </p:pic>
      <p:pic>
        <p:nvPicPr>
          <p:cNvPr id="1766" name="B2a" descr=""/>
          <p:cNvPicPr/>
          <p:nvPr/>
        </p:nvPicPr>
        <p:blipFill>
          <a:blip r:embed="rId3"/>
          <a:stretch/>
        </p:blipFill>
        <p:spPr>
          <a:xfrm>
            <a:off x="3276720" y="3048120"/>
            <a:ext cx="1979640" cy="2597040"/>
          </a:xfrm>
          <a:prstGeom prst="rect">
            <a:avLst/>
          </a:prstGeom>
          <a:ln w="0">
            <a:noFill/>
          </a:ln>
        </p:spPr>
      </p:pic>
      <p:pic>
        <p:nvPicPr>
          <p:cNvPr id="1767" name="A1" descr=""/>
          <p:cNvPicPr/>
          <p:nvPr/>
        </p:nvPicPr>
        <p:blipFill>
          <a:blip r:embed="rId4"/>
          <a:stretch/>
        </p:blipFill>
        <p:spPr>
          <a:xfrm>
            <a:off x="1219320" y="1676520"/>
            <a:ext cx="1979640" cy="1295280"/>
          </a:xfrm>
          <a:prstGeom prst="rect">
            <a:avLst/>
          </a:prstGeom>
          <a:ln w="0">
            <a:noFill/>
          </a:ln>
        </p:spPr>
      </p:pic>
      <p:sp>
        <p:nvSpPr>
          <p:cNvPr id="1768" name=""/>
          <p:cNvSpPr/>
          <p:nvPr/>
        </p:nvSpPr>
        <p:spPr>
          <a:xfrm>
            <a:off x="842760" y="76212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99"/>
                </a:solidFill>
                <a:latin typeface="Arial"/>
              </a:rPr>
              <a:t>Un ejemplo paté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"/>
          <p:cNvSpPr/>
          <p:nvPr/>
        </p:nvSpPr>
        <p:spPr>
          <a:xfrm>
            <a:off x="1047600" y="5889600"/>
            <a:ext cx="18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42760" y="77004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99"/>
                </a:solidFill>
                <a:latin typeface="Arial"/>
              </a:rPr>
              <a:t>Un ejemplo paté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410080" y="198108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Identificación:</a:t>
            </a:r>
            <a:br>
              <a:rPr sz="2400"/>
            </a:br>
            <a:r>
              <a:rPr b="1" lang="es-ES_tradnl" sz="2400" spc="-1" strike="noStrike">
                <a:solidFill>
                  <a:srgbClr val="0066cc"/>
                </a:solidFill>
                <a:latin typeface="Arial"/>
              </a:rPr>
              <a:t>Certificado Di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2" name="1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979640" cy="1830600"/>
          </a:xfrm>
          <a:prstGeom prst="rect">
            <a:avLst/>
          </a:prstGeom>
          <a:ln w="0">
            <a:noFill/>
          </a:ln>
        </p:spPr>
      </p:pic>
      <p:pic>
        <p:nvPicPr>
          <p:cNvPr id="1773" name="4" descr=""/>
          <p:cNvPicPr/>
          <p:nvPr/>
        </p:nvPicPr>
        <p:blipFill>
          <a:blip r:embed="rId2"/>
          <a:stretch/>
        </p:blipFill>
        <p:spPr>
          <a:xfrm>
            <a:off x="3276720" y="3581280"/>
            <a:ext cx="1979640" cy="1833840"/>
          </a:xfrm>
          <a:prstGeom prst="rect">
            <a:avLst/>
          </a:prstGeom>
          <a:ln w="0">
            <a:noFill/>
          </a:ln>
        </p:spPr>
      </p:pic>
      <p:pic>
        <p:nvPicPr>
          <p:cNvPr id="1774" name="2a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1979640" cy="1788840"/>
          </a:xfrm>
          <a:prstGeom prst="rect">
            <a:avLst/>
          </a:prstGeom>
          <a:ln w="0">
            <a:noFill/>
          </a:ln>
        </p:spPr>
      </p:pic>
      <p:pic>
        <p:nvPicPr>
          <p:cNvPr id="1775" name="3b" descr=""/>
          <p:cNvPicPr/>
          <p:nvPr/>
        </p:nvPicPr>
        <p:blipFill>
          <a:blip r:embed="rId4"/>
          <a:stretch/>
        </p:blipFill>
        <p:spPr>
          <a:xfrm>
            <a:off x="3278160" y="1676520"/>
            <a:ext cx="1979640" cy="1765080"/>
          </a:xfrm>
          <a:prstGeom prst="rect">
            <a:avLst/>
          </a:prstGeom>
          <a:ln w="0">
            <a:noFill/>
          </a:ln>
        </p:spPr>
      </p:pic>
      <p:sp>
        <p:nvSpPr>
          <p:cNvPr id="1776" name=""/>
          <p:cNvSpPr/>
          <p:nvPr/>
        </p:nvSpPr>
        <p:spPr>
          <a:xfrm>
            <a:off x="5410080" y="198108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dentificación: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ertificado Di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410080" y="388620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ivacidad: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S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/>
          <p:nvPr/>
        </p:nvSpPr>
        <p:spPr>
          <a:xfrm>
            <a:off x="838080" y="457200"/>
            <a:ext cx="79250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99"/>
                </a:solidFill>
                <a:latin typeface="Arial"/>
              </a:rPr>
              <a:t>¡MUCHAS GRACIAS ...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66cc"/>
                </a:solidFill>
                <a:latin typeface="Arial"/>
              </a:rPr>
              <a:t>Estamos a su dis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600200" y="2286000"/>
            <a:ext cx="647712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Sugerencias y Consultas 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www.pki.gov.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9999"/>
                </a:solidFill>
                <a:latin typeface="Arial"/>
              </a:rPr>
              <a:t>pprandin@pki.gov.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047600" y="5889600"/>
            <a:ext cx="18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279360"/>
            <a:ext cx="7772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20880" y="888840"/>
            <a:ext cx="61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Negocios Electrónicos - Benef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1752480"/>
            <a:ext cx="7620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Efecto transformador – Mayor al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9999"/>
              </a:buClr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Dimensión geográ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9999"/>
              </a:buClr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Dimensión tem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9999"/>
              </a:buClr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Dimensión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parición de nuevas formas de relacion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Mayor integración de los sis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90720" y="5181120"/>
            <a:ext cx="228600" cy="228960"/>
            <a:chOff x="990720" y="5181120"/>
            <a:chExt cx="228600" cy="228960"/>
          </a:xfrm>
        </p:grpSpPr>
        <p:sp>
          <p:nvSpPr>
            <p:cNvPr id="327" name=""/>
            <p:cNvSpPr/>
            <p:nvPr/>
          </p:nvSpPr>
          <p:spPr>
            <a:xfrm>
              <a:off x="990720" y="518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73160" y="54057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93960" y="52300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07640" y="52002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32120" y="51879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320" y="51829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1104840" y="51811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04840" y="51829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04840" y="51879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04840" y="52002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04840" y="52300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73880" y="54057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45080" y="53902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20600" y="53632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2240" y="53269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92520" y="52876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0720" y="52484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99000" y="52160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18080" y="51933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50480" y="51829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90720" y="4343040"/>
            <a:ext cx="228600" cy="228960"/>
            <a:chOff x="990720" y="4343040"/>
            <a:chExt cx="228600" cy="228960"/>
          </a:xfrm>
        </p:grpSpPr>
        <p:sp>
          <p:nvSpPr>
            <p:cNvPr id="348" name=""/>
            <p:cNvSpPr/>
            <p:nvPr/>
          </p:nvSpPr>
          <p:spPr>
            <a:xfrm>
              <a:off x="990720" y="434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73160" y="45676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93960" y="43920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07640" y="43621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32120" y="43498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66320" y="43448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104840" y="43430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04840" y="43448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04840" y="43498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4840" y="43621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04840" y="43920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73880" y="45676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45080" y="45522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20600" y="45252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02240" y="44888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92520" y="44496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90720" y="44103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99000" y="43779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18080" y="43552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50480" y="43448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990720" y="1904760"/>
            <a:ext cx="228600" cy="228960"/>
            <a:chOff x="990720" y="1904760"/>
            <a:chExt cx="228600" cy="228960"/>
          </a:xfrm>
        </p:grpSpPr>
        <p:sp>
          <p:nvSpPr>
            <p:cNvPr id="369" name=""/>
            <p:cNvSpPr/>
            <p:nvPr/>
          </p:nvSpPr>
          <p:spPr>
            <a:xfrm>
              <a:off x="99072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73160" y="21294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396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0764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3212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66320" y="19065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104840" y="19047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04840" y="19065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484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0484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0484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73880" y="21294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45080" y="21139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20600" y="20869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2240" y="20505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92520" y="20113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90720" y="19720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99000" y="19396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18080" y="19170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50480" y="19065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047600" y="5889600"/>
            <a:ext cx="18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279360"/>
            <a:ext cx="7772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1752480"/>
            <a:ext cx="7620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5440" indent="-55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Posibilidad de compartir recursos y mejorar la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" indent="-55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" indent="-55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Nuevos ca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" indent="-55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" indent="-55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Misma seguridad que el comercio tra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990720" y="3276360"/>
            <a:ext cx="228600" cy="228960"/>
            <a:chOff x="990720" y="3276360"/>
            <a:chExt cx="228600" cy="228960"/>
          </a:xfrm>
        </p:grpSpPr>
        <p:sp>
          <p:nvSpPr>
            <p:cNvPr id="393" name=""/>
            <p:cNvSpPr/>
            <p:nvPr/>
          </p:nvSpPr>
          <p:spPr>
            <a:xfrm>
              <a:off x="990720" y="32767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3160" y="35010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93960" y="33253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07640" y="32954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32120" y="32832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66320" y="32781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104840" y="32763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04840" y="32781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04840" y="32832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04840" y="32954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04840" y="33253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73880" y="35010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45080" y="34855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20600" y="34585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02240" y="34221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2520" y="33829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90720" y="33436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99000" y="33112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18080" y="32886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50480" y="32781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990720" y="1904760"/>
            <a:ext cx="228600" cy="228960"/>
            <a:chOff x="990720" y="1904760"/>
            <a:chExt cx="228600" cy="228960"/>
          </a:xfrm>
        </p:grpSpPr>
        <p:sp>
          <p:nvSpPr>
            <p:cNvPr id="414" name=""/>
            <p:cNvSpPr/>
            <p:nvPr/>
          </p:nvSpPr>
          <p:spPr>
            <a:xfrm>
              <a:off x="99072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73160" y="21294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9396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0764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3212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66320" y="19065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104840" y="19047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4840" y="19065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0484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0484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0484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73880" y="21294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45080" y="21139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20600" y="20869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02240" y="20505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92520" y="20113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90720" y="19720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99000" y="19396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18080" y="19170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50480" y="19065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990720" y="4190760"/>
            <a:ext cx="228600" cy="228960"/>
            <a:chOff x="990720" y="4190760"/>
            <a:chExt cx="228600" cy="228960"/>
          </a:xfrm>
        </p:grpSpPr>
        <p:sp>
          <p:nvSpPr>
            <p:cNvPr id="435" name=""/>
            <p:cNvSpPr/>
            <p:nvPr/>
          </p:nvSpPr>
          <p:spPr>
            <a:xfrm>
              <a:off x="990720" y="41911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73160" y="44154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3960" y="4239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07640" y="4209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32120" y="4197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66320" y="41925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104840" y="41907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04840" y="41925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04840" y="4197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04840" y="4209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04840" y="4239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73880" y="44154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45080" y="43999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20600" y="43729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02240" y="43365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2520" y="42973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90720" y="42580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9000" y="42256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18080" y="42030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50480" y="41925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920880" y="888840"/>
            <a:ext cx="61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Negocios Electrónicos - Benef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047600" y="5889600"/>
            <a:ext cx="18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43000" y="279360"/>
            <a:ext cx="7772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3880" y="1752480"/>
            <a:ext cx="7620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Falta de confianza en los mecanismos electró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Anonimato de las transacciones electró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Dudas sobre la integridad de la inform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Necesidad de evitar el no rep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Falta de un marco leg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990720" y="3809520"/>
            <a:ext cx="228600" cy="228960"/>
            <a:chOff x="990720" y="3809520"/>
            <a:chExt cx="228600" cy="228960"/>
          </a:xfrm>
        </p:grpSpPr>
        <p:sp>
          <p:nvSpPr>
            <p:cNvPr id="460" name=""/>
            <p:cNvSpPr/>
            <p:nvPr/>
          </p:nvSpPr>
          <p:spPr>
            <a:xfrm>
              <a:off x="990720" y="3809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73160" y="40341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93960" y="38584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07640" y="38286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32120" y="38163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66320" y="38113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1104840" y="38095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04840" y="38113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04840" y="38163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04840" y="38286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04840" y="38584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073880" y="40341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45080" y="40186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20600" y="39916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02240" y="39553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92520" y="39160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38768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99000" y="38444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18080" y="38217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50480" y="38113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990720" y="1904760"/>
            <a:ext cx="228600" cy="228960"/>
            <a:chOff x="990720" y="1904760"/>
            <a:chExt cx="228600" cy="228960"/>
          </a:xfrm>
        </p:grpSpPr>
        <p:sp>
          <p:nvSpPr>
            <p:cNvPr id="481" name=""/>
            <p:cNvSpPr/>
            <p:nvPr/>
          </p:nvSpPr>
          <p:spPr>
            <a:xfrm>
              <a:off x="99072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73160" y="21294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396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0764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3212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66320" y="19065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104840" y="19047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04840" y="19065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04840" y="19116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04840" y="19238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04840" y="19537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73880" y="21294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45080" y="21139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20600" y="20869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02240" y="20505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2520" y="20113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0720" y="19720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99000" y="19396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18080" y="19170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50480" y="19065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990720" y="4723920"/>
            <a:ext cx="228600" cy="228960"/>
            <a:chOff x="990720" y="4723920"/>
            <a:chExt cx="228600" cy="228960"/>
          </a:xfrm>
        </p:grpSpPr>
        <p:sp>
          <p:nvSpPr>
            <p:cNvPr id="502" name=""/>
            <p:cNvSpPr/>
            <p:nvPr/>
          </p:nvSpPr>
          <p:spPr>
            <a:xfrm>
              <a:off x="990720" y="472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73160" y="49485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3960" y="47728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07640" y="47430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32120" y="47307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66320" y="47257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104840" y="47239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104840" y="47257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04840" y="47307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04840" y="47430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04840" y="47728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73880" y="49485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045080" y="49330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20600" y="49060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02240" y="48697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92520" y="48304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90720" y="47912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99000" y="47588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18080" y="47361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50480" y="47257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921240" y="8888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Negocios Electrónicos - Obstácu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990720" y="5714640"/>
            <a:ext cx="228600" cy="228960"/>
            <a:chOff x="990720" y="5714640"/>
            <a:chExt cx="228600" cy="228960"/>
          </a:xfrm>
        </p:grpSpPr>
        <p:sp>
          <p:nvSpPr>
            <p:cNvPr id="524" name=""/>
            <p:cNvSpPr/>
            <p:nvPr/>
          </p:nvSpPr>
          <p:spPr>
            <a:xfrm>
              <a:off x="990720" y="57150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73160" y="59392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93960" y="57636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07640" y="57337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32120" y="57214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66320" y="57164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1104840" y="57146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04840" y="57164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04840" y="57214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04840" y="57337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04840" y="57636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73880" y="59392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45080" y="59238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20600" y="58968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02240" y="58604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92520" y="58212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90720" y="57819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99000" y="57495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018080" y="57268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50480" y="57164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990720" y="2895120"/>
            <a:ext cx="228600" cy="228960"/>
            <a:chOff x="990720" y="2895120"/>
            <a:chExt cx="228600" cy="228960"/>
          </a:xfrm>
        </p:grpSpPr>
        <p:sp>
          <p:nvSpPr>
            <p:cNvPr id="545" name=""/>
            <p:cNvSpPr/>
            <p:nvPr/>
          </p:nvSpPr>
          <p:spPr>
            <a:xfrm>
              <a:off x="990720" y="2895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73160" y="31197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93960" y="29440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07640" y="29142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32120" y="29019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066320" y="28969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104840" y="28951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04840" y="28969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04840" y="29019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04840" y="29142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04840" y="29440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073880" y="31197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45080" y="31042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20600" y="30772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02240" y="30409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92520" y="30016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90720" y="29624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99000" y="29300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18080" y="29073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50480" y="28969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47600" y="5889600"/>
            <a:ext cx="18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43000" y="279360"/>
            <a:ext cx="7772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23880" y="1752480"/>
            <a:ext cx="7315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5440" indent="-55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La tecnología permite otorgar seguridad a las transacciones electró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" indent="-55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440" indent="-55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Existe en nuestro país un marco normativo para el empleo de mecanismos de segu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90720" y="3276360"/>
            <a:ext cx="228600" cy="228960"/>
            <a:chOff x="990720" y="3276360"/>
            <a:chExt cx="228600" cy="228960"/>
          </a:xfrm>
        </p:grpSpPr>
        <p:sp>
          <p:nvSpPr>
            <p:cNvPr id="569" name=""/>
            <p:cNvSpPr/>
            <p:nvPr/>
          </p:nvSpPr>
          <p:spPr>
            <a:xfrm>
              <a:off x="990720" y="32767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73160" y="35010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3960" y="33253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07640" y="32954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2120" y="32832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66320" y="32781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1104840" y="32763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04840" y="32781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04840" y="32832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04840" y="32954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04840" y="33253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073880" y="35010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45080" y="34855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20600" y="34585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02240" y="34221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992520" y="33829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90720" y="33436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99000" y="33112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18080" y="32886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50480" y="32781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990720" y="1980720"/>
            <a:ext cx="228600" cy="228960"/>
            <a:chOff x="990720" y="1980720"/>
            <a:chExt cx="228600" cy="228960"/>
          </a:xfrm>
        </p:grpSpPr>
        <p:sp>
          <p:nvSpPr>
            <p:cNvPr id="590" name=""/>
            <p:cNvSpPr/>
            <p:nvPr/>
          </p:nvSpPr>
          <p:spPr>
            <a:xfrm>
              <a:off x="990720" y="1981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73160" y="22053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93960" y="20296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07640" y="19998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032120" y="19875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66320" y="19825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1104840" y="19807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04840" y="19825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04840" y="19875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04840" y="19998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4840" y="20296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73880" y="22053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45080" y="21898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20600" y="21628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02240" y="21265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92520" y="20872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90720" y="20480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99000" y="20156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18080" y="19929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50480" y="19825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919440" y="888840"/>
            <a:ext cx="40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Negocios Electró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371600" y="1752480"/>
            <a:ext cx="723888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Documento digital que permite verificar la identidad de una pers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Similar a un Documento de Identidad, un pasaporte, el carnet de una empresa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Emitido por un Certificador que garantiza la veracidad de los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Previene la suplantación de identidad en la 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Clave para la identificación de las partes en una transacción electró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8320" y="20304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Transaccion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HG Mincho Light J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digi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62120" y="838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Certificado Digita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1828440"/>
            <a:ext cx="228600" cy="228960"/>
            <a:chOff x="838080" y="1828440"/>
            <a:chExt cx="228600" cy="228960"/>
          </a:xfrm>
        </p:grpSpPr>
        <p:sp>
          <p:nvSpPr>
            <p:cNvPr id="615" name=""/>
            <p:cNvSpPr/>
            <p:nvPr/>
          </p:nvSpPr>
          <p:spPr>
            <a:xfrm>
              <a:off x="838080" y="18288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20520" y="20530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1320" y="18774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55000" y="18475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79480" y="18352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13680" y="18302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952200" y="18284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52200" y="18302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52200" y="18352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52200" y="18475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52200" y="18774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21240" y="20530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92440" y="20376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67960" y="20106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49600" y="19742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39880" y="19350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38080" y="18957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46360" y="18633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65440" y="18406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97840" y="18302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838080" y="2742840"/>
            <a:ext cx="228600" cy="228960"/>
            <a:chOff x="838080" y="2742840"/>
            <a:chExt cx="228600" cy="228960"/>
          </a:xfrm>
        </p:grpSpPr>
        <p:sp>
          <p:nvSpPr>
            <p:cNvPr id="636" name=""/>
            <p:cNvSpPr/>
            <p:nvPr/>
          </p:nvSpPr>
          <p:spPr>
            <a:xfrm>
              <a:off x="838080" y="27432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20520" y="29674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1320" y="27918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55000" y="27619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79480" y="27496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13680" y="27446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952200" y="27428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52200" y="27446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52200" y="27496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52200" y="27619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52200" y="27918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21240" y="29674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92440" y="29520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67960" y="29250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49600" y="28886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9880" y="28494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8080" y="28101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46360" y="27777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5440" y="27550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97840" y="27446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838080" y="3657240"/>
            <a:ext cx="228600" cy="228960"/>
            <a:chOff x="838080" y="3657240"/>
            <a:chExt cx="228600" cy="228960"/>
          </a:xfrm>
        </p:grpSpPr>
        <p:sp>
          <p:nvSpPr>
            <p:cNvPr id="657" name=""/>
            <p:cNvSpPr/>
            <p:nvPr/>
          </p:nvSpPr>
          <p:spPr>
            <a:xfrm>
              <a:off x="838080" y="36576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20520" y="38818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1320" y="37062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55000" y="36763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79480" y="36640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13680" y="36590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952200" y="36572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52200" y="36590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52200" y="36640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52200" y="36763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52200" y="37062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21240" y="38818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92440" y="38664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7960" y="38394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49600" y="38030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9880" y="37638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8080" y="37245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6360" y="36921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65440" y="36694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97840" y="36590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838080" y="4495320"/>
            <a:ext cx="228600" cy="228960"/>
            <a:chOff x="838080" y="4495320"/>
            <a:chExt cx="228600" cy="228960"/>
          </a:xfrm>
        </p:grpSpPr>
        <p:sp>
          <p:nvSpPr>
            <p:cNvPr id="678" name=""/>
            <p:cNvSpPr/>
            <p:nvPr/>
          </p:nvSpPr>
          <p:spPr>
            <a:xfrm>
              <a:off x="838080" y="44956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20520" y="471996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41320" y="45442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55000" y="45144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79480" y="45021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13680" y="449712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952200" y="449532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52200" y="449712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52200" y="450216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52200" y="451440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52200" y="454428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21240" y="471996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92440" y="470448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67960" y="467748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49600" y="464112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39880" y="460188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8080" y="456264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46360" y="453024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5440" y="450756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97840" y="449712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838080" y="5105160"/>
            <a:ext cx="228600" cy="228960"/>
            <a:chOff x="838080" y="5105160"/>
            <a:chExt cx="228600" cy="228960"/>
          </a:xfrm>
        </p:grpSpPr>
        <p:sp>
          <p:nvSpPr>
            <p:cNvPr id="699" name=""/>
            <p:cNvSpPr/>
            <p:nvPr/>
          </p:nvSpPr>
          <p:spPr>
            <a:xfrm>
              <a:off x="838080" y="51055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20520" y="53298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1320" y="5154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55000" y="5124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79480" y="5112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913680" y="51069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952200" y="51051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952200" y="51069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52200" y="51120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52200" y="51242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52200" y="51541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21240" y="53298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92440" y="53143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67960" y="52873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600" y="52509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39880" y="52117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080" y="51724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6360" y="51400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65440" y="51174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97840" y="51069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371600" y="1752480"/>
            <a:ext cx="723888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Un certificado digital es una porción de información SEG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Una firma digital lo protege contra cualquier manipulación de sus conten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Muestra información en claro (datos del suscriptor, clave pública, datos del Certificador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No contiene información CONFID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8320" y="20304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Transaccion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HG Mincho Light J"/>
              </a:rPr>
              <a:t> </a:t>
            </a: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digi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838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99"/>
                </a:solidFill>
                <a:latin typeface="Arial"/>
              </a:rPr>
              <a:t>Certificado Digita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838080" y="1828440"/>
            <a:ext cx="228600" cy="228960"/>
            <a:chOff x="838080" y="1828440"/>
            <a:chExt cx="228600" cy="228960"/>
          </a:xfrm>
        </p:grpSpPr>
        <p:sp>
          <p:nvSpPr>
            <p:cNvPr id="723" name=""/>
            <p:cNvSpPr/>
            <p:nvPr/>
          </p:nvSpPr>
          <p:spPr>
            <a:xfrm>
              <a:off x="838080" y="18288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20520" y="20530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41320" y="18774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55000" y="18475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79480" y="18352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13680" y="18302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952200" y="18284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52200" y="18302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52200" y="18352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52200" y="18475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52200" y="18774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21240" y="20530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92440" y="20376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67960" y="20106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49600" y="19742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9880" y="19350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8080" y="18957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6360" y="18633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65440" y="18406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97840" y="18302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838080" y="2742840"/>
            <a:ext cx="228600" cy="228960"/>
            <a:chOff x="838080" y="2742840"/>
            <a:chExt cx="228600" cy="228960"/>
          </a:xfrm>
        </p:grpSpPr>
        <p:sp>
          <p:nvSpPr>
            <p:cNvPr id="744" name=""/>
            <p:cNvSpPr/>
            <p:nvPr/>
          </p:nvSpPr>
          <p:spPr>
            <a:xfrm>
              <a:off x="838080" y="27432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920520" y="29674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1320" y="27918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55000" y="27619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79480" y="27496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13680" y="27446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952200" y="27428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52200" y="27446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52200" y="27496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52200" y="27619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52200" y="27918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21240" y="29674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92440" y="29520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67960" y="29250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00" y="28886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39880" y="28494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8080" y="28101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46360" y="27777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65440" y="27550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97840" y="27446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838080" y="3657240"/>
            <a:ext cx="228600" cy="228960"/>
            <a:chOff x="838080" y="3657240"/>
            <a:chExt cx="228600" cy="228960"/>
          </a:xfrm>
        </p:grpSpPr>
        <p:sp>
          <p:nvSpPr>
            <p:cNvPr id="765" name=""/>
            <p:cNvSpPr/>
            <p:nvPr/>
          </p:nvSpPr>
          <p:spPr>
            <a:xfrm>
              <a:off x="838080" y="36576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20520" y="388188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41320" y="37062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55000" y="36763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79480" y="36640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13680" y="365904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952200" y="365724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52200" y="365904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52200" y="366408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52200" y="367632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52200" y="370620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921240" y="388188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92440" y="386640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67960" y="383940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49600" y="380304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9880" y="376380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38080" y="372456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46360" y="369216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65440" y="366948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97840" y="365904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838080" y="4876560"/>
            <a:ext cx="228600" cy="228960"/>
            <a:chOff x="838080" y="4876560"/>
            <a:chExt cx="228600" cy="228960"/>
          </a:xfrm>
        </p:grpSpPr>
        <p:sp>
          <p:nvSpPr>
            <p:cNvPr id="786" name=""/>
            <p:cNvSpPr/>
            <p:nvPr/>
          </p:nvSpPr>
          <p:spPr>
            <a:xfrm>
              <a:off x="838080" y="4876920"/>
              <a:ext cx="228600" cy="22860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20520" y="5101200"/>
              <a:ext cx="31320" cy="4320"/>
            </a:xfrm>
            <a:custGeom>
              <a:avLst/>
              <a:gdLst/>
              <a:ahLst/>
              <a:rect l="l" t="t" r="r" b="b"/>
              <a:pathLst>
                <a:path w="348" h="48">
                  <a:moveTo>
                    <a:pt x="348" y="48"/>
                  </a:moveTo>
                  <a:lnTo>
                    <a:pt x="258" y="42"/>
                  </a:lnTo>
                  <a:lnTo>
                    <a:pt x="252" y="42"/>
                  </a:lnTo>
                  <a:lnTo>
                    <a:pt x="228" y="42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38" y="36"/>
                  </a:lnTo>
                  <a:lnTo>
                    <a:pt x="114" y="30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72" y="18"/>
                  </a:lnTo>
                  <a:lnTo>
                    <a:pt x="48" y="12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1320" y="49255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1224" y="1992"/>
                  </a:moveTo>
                  <a:lnTo>
                    <a:pt x="1206" y="1992"/>
                  </a:lnTo>
                  <a:lnTo>
                    <a:pt x="1170" y="1986"/>
                  </a:lnTo>
                  <a:lnTo>
                    <a:pt x="1152" y="1986"/>
                  </a:lnTo>
                  <a:lnTo>
                    <a:pt x="1134" y="1986"/>
                  </a:lnTo>
                  <a:lnTo>
                    <a:pt x="1104" y="1980"/>
                  </a:lnTo>
                  <a:lnTo>
                    <a:pt x="1086" y="1980"/>
                  </a:lnTo>
                  <a:lnTo>
                    <a:pt x="1080" y="1980"/>
                  </a:lnTo>
                  <a:lnTo>
                    <a:pt x="1062" y="1974"/>
                  </a:lnTo>
                  <a:lnTo>
                    <a:pt x="1050" y="1974"/>
                  </a:lnTo>
                  <a:lnTo>
                    <a:pt x="1044" y="1974"/>
                  </a:lnTo>
                  <a:lnTo>
                    <a:pt x="1038" y="1974"/>
                  </a:lnTo>
                  <a:lnTo>
                    <a:pt x="1020" y="1968"/>
                  </a:lnTo>
                  <a:lnTo>
                    <a:pt x="1002" y="1962"/>
                  </a:lnTo>
                  <a:lnTo>
                    <a:pt x="984" y="1962"/>
                  </a:lnTo>
                  <a:lnTo>
                    <a:pt x="966" y="1956"/>
                  </a:lnTo>
                  <a:lnTo>
                    <a:pt x="954" y="1956"/>
                  </a:lnTo>
                  <a:lnTo>
                    <a:pt x="918" y="1944"/>
                  </a:lnTo>
                  <a:lnTo>
                    <a:pt x="882" y="1932"/>
                  </a:lnTo>
                  <a:lnTo>
                    <a:pt x="852" y="1920"/>
                  </a:lnTo>
                  <a:lnTo>
                    <a:pt x="828" y="1908"/>
                  </a:lnTo>
                  <a:lnTo>
                    <a:pt x="816" y="1902"/>
                  </a:lnTo>
                  <a:lnTo>
                    <a:pt x="792" y="1890"/>
                  </a:lnTo>
                  <a:lnTo>
                    <a:pt x="768" y="1878"/>
                  </a:lnTo>
                  <a:lnTo>
                    <a:pt x="744" y="1866"/>
                  </a:lnTo>
                  <a:lnTo>
                    <a:pt x="708" y="1848"/>
                  </a:lnTo>
                  <a:lnTo>
                    <a:pt x="678" y="1830"/>
                  </a:lnTo>
                  <a:lnTo>
                    <a:pt x="648" y="1812"/>
                  </a:lnTo>
                  <a:lnTo>
                    <a:pt x="606" y="1788"/>
                  </a:lnTo>
                  <a:lnTo>
                    <a:pt x="582" y="1776"/>
                  </a:lnTo>
                  <a:lnTo>
                    <a:pt x="564" y="1764"/>
                  </a:lnTo>
                  <a:lnTo>
                    <a:pt x="522" y="1734"/>
                  </a:lnTo>
                  <a:lnTo>
                    <a:pt x="480" y="1698"/>
                  </a:lnTo>
                  <a:lnTo>
                    <a:pt x="432" y="1656"/>
                  </a:lnTo>
                  <a:lnTo>
                    <a:pt x="396" y="1614"/>
                  </a:lnTo>
                  <a:lnTo>
                    <a:pt x="354" y="1566"/>
                  </a:lnTo>
                  <a:lnTo>
                    <a:pt x="312" y="1512"/>
                  </a:lnTo>
                  <a:lnTo>
                    <a:pt x="270" y="1452"/>
                  </a:lnTo>
                  <a:lnTo>
                    <a:pt x="246" y="1416"/>
                  </a:lnTo>
                  <a:lnTo>
                    <a:pt x="222" y="1380"/>
                  </a:lnTo>
                  <a:lnTo>
                    <a:pt x="186" y="1320"/>
                  </a:lnTo>
                  <a:lnTo>
                    <a:pt x="150" y="1254"/>
                  </a:lnTo>
                  <a:lnTo>
                    <a:pt x="120" y="1200"/>
                  </a:lnTo>
                  <a:lnTo>
                    <a:pt x="96" y="1152"/>
                  </a:lnTo>
                  <a:lnTo>
                    <a:pt x="72" y="1092"/>
                  </a:lnTo>
                  <a:lnTo>
                    <a:pt x="60" y="1050"/>
                  </a:lnTo>
                  <a:lnTo>
                    <a:pt x="48" y="1002"/>
                  </a:lnTo>
                  <a:lnTo>
                    <a:pt x="42" y="978"/>
                  </a:lnTo>
                  <a:lnTo>
                    <a:pt x="36" y="954"/>
                  </a:lnTo>
                  <a:lnTo>
                    <a:pt x="30" y="912"/>
                  </a:lnTo>
                  <a:lnTo>
                    <a:pt x="24" y="876"/>
                  </a:lnTo>
                  <a:lnTo>
                    <a:pt x="18" y="846"/>
                  </a:lnTo>
                  <a:lnTo>
                    <a:pt x="18" y="828"/>
                  </a:lnTo>
                  <a:lnTo>
                    <a:pt x="12" y="798"/>
                  </a:lnTo>
                  <a:lnTo>
                    <a:pt x="12" y="786"/>
                  </a:lnTo>
                  <a:lnTo>
                    <a:pt x="6" y="762"/>
                  </a:lnTo>
                  <a:lnTo>
                    <a:pt x="6" y="73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0"/>
                  </a:lnTo>
                  <a:lnTo>
                    <a:pt x="6" y="612"/>
                  </a:lnTo>
                  <a:lnTo>
                    <a:pt x="6" y="594"/>
                  </a:lnTo>
                  <a:lnTo>
                    <a:pt x="6" y="570"/>
                  </a:lnTo>
                  <a:lnTo>
                    <a:pt x="6" y="528"/>
                  </a:lnTo>
                  <a:lnTo>
                    <a:pt x="6" y="504"/>
                  </a:lnTo>
                  <a:lnTo>
                    <a:pt x="6" y="492"/>
                  </a:lnTo>
                  <a:lnTo>
                    <a:pt x="6" y="480"/>
                  </a:lnTo>
                  <a:lnTo>
                    <a:pt x="6" y="462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2" y="432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24" y="384"/>
                  </a:lnTo>
                  <a:lnTo>
                    <a:pt x="30" y="366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42" y="318"/>
                  </a:lnTo>
                  <a:lnTo>
                    <a:pt x="54" y="276"/>
                  </a:lnTo>
                  <a:lnTo>
                    <a:pt x="66" y="240"/>
                  </a:lnTo>
                  <a:lnTo>
                    <a:pt x="84" y="198"/>
                  </a:lnTo>
                  <a:lnTo>
                    <a:pt x="96" y="174"/>
                  </a:lnTo>
                  <a:lnTo>
                    <a:pt x="108" y="150"/>
                  </a:lnTo>
                  <a:lnTo>
                    <a:pt x="126" y="102"/>
                  </a:lnTo>
                  <a:lnTo>
                    <a:pt x="150" y="60"/>
                  </a:lnTo>
                  <a:lnTo>
                    <a:pt x="174" y="18"/>
                  </a:lnTo>
                  <a:lnTo>
                    <a:pt x="186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5000" y="48956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1074" y="2322"/>
                  </a:moveTo>
                  <a:lnTo>
                    <a:pt x="1062" y="2322"/>
                  </a:lnTo>
                  <a:lnTo>
                    <a:pt x="1032" y="2316"/>
                  </a:lnTo>
                  <a:lnTo>
                    <a:pt x="1020" y="2316"/>
                  </a:lnTo>
                  <a:lnTo>
                    <a:pt x="996" y="2310"/>
                  </a:lnTo>
                  <a:lnTo>
                    <a:pt x="978" y="2310"/>
                  </a:lnTo>
                  <a:lnTo>
                    <a:pt x="966" y="2310"/>
                  </a:lnTo>
                  <a:lnTo>
                    <a:pt x="948" y="2304"/>
                  </a:lnTo>
                  <a:lnTo>
                    <a:pt x="936" y="2304"/>
                  </a:lnTo>
                  <a:lnTo>
                    <a:pt x="918" y="2298"/>
                  </a:lnTo>
                  <a:lnTo>
                    <a:pt x="906" y="2298"/>
                  </a:lnTo>
                  <a:lnTo>
                    <a:pt x="888" y="2292"/>
                  </a:lnTo>
                  <a:lnTo>
                    <a:pt x="870" y="2286"/>
                  </a:lnTo>
                  <a:lnTo>
                    <a:pt x="840" y="2274"/>
                  </a:lnTo>
                  <a:lnTo>
                    <a:pt x="816" y="2268"/>
                  </a:lnTo>
                  <a:lnTo>
                    <a:pt x="786" y="2256"/>
                  </a:lnTo>
                  <a:lnTo>
                    <a:pt x="768" y="2250"/>
                  </a:lnTo>
                  <a:lnTo>
                    <a:pt x="750" y="2244"/>
                  </a:lnTo>
                  <a:lnTo>
                    <a:pt x="714" y="2226"/>
                  </a:lnTo>
                  <a:lnTo>
                    <a:pt x="678" y="2208"/>
                  </a:lnTo>
                  <a:lnTo>
                    <a:pt x="642" y="2184"/>
                  </a:lnTo>
                  <a:lnTo>
                    <a:pt x="612" y="2160"/>
                  </a:lnTo>
                  <a:lnTo>
                    <a:pt x="570" y="2130"/>
                  </a:lnTo>
                  <a:lnTo>
                    <a:pt x="534" y="2094"/>
                  </a:lnTo>
                  <a:lnTo>
                    <a:pt x="492" y="2058"/>
                  </a:lnTo>
                  <a:lnTo>
                    <a:pt x="468" y="2034"/>
                  </a:lnTo>
                  <a:lnTo>
                    <a:pt x="450" y="2016"/>
                  </a:lnTo>
                  <a:lnTo>
                    <a:pt x="408" y="1968"/>
                  </a:lnTo>
                  <a:lnTo>
                    <a:pt x="366" y="1920"/>
                  </a:lnTo>
                  <a:lnTo>
                    <a:pt x="330" y="1872"/>
                  </a:lnTo>
                  <a:lnTo>
                    <a:pt x="300" y="1830"/>
                  </a:lnTo>
                  <a:lnTo>
                    <a:pt x="264" y="1770"/>
                  </a:lnTo>
                  <a:lnTo>
                    <a:pt x="234" y="1722"/>
                  </a:lnTo>
                  <a:lnTo>
                    <a:pt x="204" y="1668"/>
                  </a:lnTo>
                  <a:lnTo>
                    <a:pt x="192" y="1644"/>
                  </a:lnTo>
                  <a:lnTo>
                    <a:pt x="180" y="1620"/>
                  </a:lnTo>
                  <a:lnTo>
                    <a:pt x="156" y="1566"/>
                  </a:lnTo>
                  <a:lnTo>
                    <a:pt x="132" y="1512"/>
                  </a:lnTo>
                  <a:lnTo>
                    <a:pt x="108" y="1458"/>
                  </a:lnTo>
                  <a:lnTo>
                    <a:pt x="90" y="1404"/>
                  </a:lnTo>
                  <a:lnTo>
                    <a:pt x="72" y="1350"/>
                  </a:lnTo>
                  <a:lnTo>
                    <a:pt x="60" y="1308"/>
                  </a:lnTo>
                  <a:lnTo>
                    <a:pt x="48" y="1260"/>
                  </a:lnTo>
                  <a:lnTo>
                    <a:pt x="42" y="1230"/>
                  </a:lnTo>
                  <a:lnTo>
                    <a:pt x="30" y="1176"/>
                  </a:lnTo>
                  <a:lnTo>
                    <a:pt x="18" y="1086"/>
                  </a:lnTo>
                  <a:lnTo>
                    <a:pt x="6" y="996"/>
                  </a:lnTo>
                  <a:lnTo>
                    <a:pt x="0" y="906"/>
                  </a:lnTo>
                  <a:lnTo>
                    <a:pt x="0" y="864"/>
                  </a:lnTo>
                  <a:lnTo>
                    <a:pt x="0" y="822"/>
                  </a:lnTo>
                  <a:lnTo>
                    <a:pt x="6" y="738"/>
                  </a:lnTo>
                  <a:lnTo>
                    <a:pt x="12" y="660"/>
                  </a:lnTo>
                  <a:lnTo>
                    <a:pt x="30" y="570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72" y="414"/>
                  </a:lnTo>
                  <a:lnTo>
                    <a:pt x="102" y="336"/>
                  </a:lnTo>
                  <a:lnTo>
                    <a:pt x="138" y="264"/>
                  </a:lnTo>
                  <a:lnTo>
                    <a:pt x="156" y="234"/>
                  </a:lnTo>
                  <a:lnTo>
                    <a:pt x="168" y="216"/>
                  </a:lnTo>
                  <a:lnTo>
                    <a:pt x="192" y="180"/>
                  </a:lnTo>
                  <a:lnTo>
                    <a:pt x="216" y="144"/>
                  </a:lnTo>
                  <a:lnTo>
                    <a:pt x="240" y="114"/>
                  </a:lnTo>
                  <a:lnTo>
                    <a:pt x="264" y="90"/>
                  </a:lnTo>
                  <a:lnTo>
                    <a:pt x="294" y="60"/>
                  </a:lnTo>
                  <a:lnTo>
                    <a:pt x="324" y="36"/>
                  </a:lnTo>
                  <a:lnTo>
                    <a:pt x="354" y="12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79480" y="48834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804" y="2460"/>
                  </a:moveTo>
                  <a:lnTo>
                    <a:pt x="798" y="2460"/>
                  </a:lnTo>
                  <a:lnTo>
                    <a:pt x="774" y="2454"/>
                  </a:lnTo>
                  <a:lnTo>
                    <a:pt x="768" y="2454"/>
                  </a:lnTo>
                  <a:lnTo>
                    <a:pt x="756" y="2454"/>
                  </a:lnTo>
                  <a:lnTo>
                    <a:pt x="738" y="2448"/>
                  </a:lnTo>
                  <a:lnTo>
                    <a:pt x="732" y="2448"/>
                  </a:lnTo>
                  <a:lnTo>
                    <a:pt x="726" y="2448"/>
                  </a:lnTo>
                  <a:lnTo>
                    <a:pt x="720" y="2448"/>
                  </a:lnTo>
                  <a:lnTo>
                    <a:pt x="708" y="2442"/>
                  </a:lnTo>
                  <a:lnTo>
                    <a:pt x="690" y="2436"/>
                  </a:lnTo>
                  <a:lnTo>
                    <a:pt x="672" y="2430"/>
                  </a:lnTo>
                  <a:lnTo>
                    <a:pt x="660" y="2424"/>
                  </a:lnTo>
                  <a:lnTo>
                    <a:pt x="648" y="2418"/>
                  </a:lnTo>
                  <a:lnTo>
                    <a:pt x="624" y="2406"/>
                  </a:lnTo>
                  <a:lnTo>
                    <a:pt x="594" y="2388"/>
                  </a:lnTo>
                  <a:lnTo>
                    <a:pt x="558" y="2364"/>
                  </a:lnTo>
                  <a:lnTo>
                    <a:pt x="546" y="2352"/>
                  </a:lnTo>
                  <a:lnTo>
                    <a:pt x="528" y="2340"/>
                  </a:lnTo>
                  <a:lnTo>
                    <a:pt x="486" y="2304"/>
                  </a:lnTo>
                  <a:lnTo>
                    <a:pt x="450" y="2268"/>
                  </a:lnTo>
                  <a:lnTo>
                    <a:pt x="414" y="2226"/>
                  </a:lnTo>
                  <a:lnTo>
                    <a:pt x="396" y="2202"/>
                  </a:lnTo>
                  <a:lnTo>
                    <a:pt x="378" y="2178"/>
                  </a:lnTo>
                  <a:lnTo>
                    <a:pt x="336" y="2124"/>
                  </a:lnTo>
                  <a:lnTo>
                    <a:pt x="294" y="2052"/>
                  </a:lnTo>
                  <a:lnTo>
                    <a:pt x="258" y="1986"/>
                  </a:lnTo>
                  <a:lnTo>
                    <a:pt x="240" y="1950"/>
                  </a:lnTo>
                  <a:lnTo>
                    <a:pt x="222" y="1914"/>
                  </a:lnTo>
                  <a:lnTo>
                    <a:pt x="186" y="1836"/>
                  </a:lnTo>
                  <a:lnTo>
                    <a:pt x="156" y="1758"/>
                  </a:lnTo>
                  <a:lnTo>
                    <a:pt x="132" y="1686"/>
                  </a:lnTo>
                  <a:lnTo>
                    <a:pt x="120" y="1650"/>
                  </a:lnTo>
                  <a:lnTo>
                    <a:pt x="108" y="1614"/>
                  </a:lnTo>
                  <a:lnTo>
                    <a:pt x="90" y="1542"/>
                  </a:lnTo>
                  <a:lnTo>
                    <a:pt x="72" y="1476"/>
                  </a:lnTo>
                  <a:lnTo>
                    <a:pt x="54" y="1404"/>
                  </a:lnTo>
                  <a:lnTo>
                    <a:pt x="48" y="1374"/>
                  </a:lnTo>
                  <a:lnTo>
                    <a:pt x="42" y="1356"/>
                  </a:lnTo>
                  <a:lnTo>
                    <a:pt x="36" y="1326"/>
                  </a:lnTo>
                  <a:lnTo>
                    <a:pt x="30" y="1296"/>
                  </a:lnTo>
                  <a:lnTo>
                    <a:pt x="24" y="1266"/>
                  </a:lnTo>
                  <a:lnTo>
                    <a:pt x="24" y="1248"/>
                  </a:lnTo>
                  <a:lnTo>
                    <a:pt x="18" y="1218"/>
                  </a:lnTo>
                  <a:lnTo>
                    <a:pt x="18" y="1200"/>
                  </a:lnTo>
                  <a:lnTo>
                    <a:pt x="12" y="1170"/>
                  </a:lnTo>
                  <a:lnTo>
                    <a:pt x="12" y="1164"/>
                  </a:lnTo>
                  <a:lnTo>
                    <a:pt x="12" y="1146"/>
                  </a:lnTo>
                  <a:lnTo>
                    <a:pt x="6" y="1104"/>
                  </a:lnTo>
                  <a:lnTo>
                    <a:pt x="6" y="1074"/>
                  </a:lnTo>
                  <a:lnTo>
                    <a:pt x="6" y="1050"/>
                  </a:lnTo>
                  <a:lnTo>
                    <a:pt x="6" y="1038"/>
                  </a:lnTo>
                  <a:lnTo>
                    <a:pt x="6" y="1032"/>
                  </a:lnTo>
                  <a:lnTo>
                    <a:pt x="0" y="996"/>
                  </a:lnTo>
                  <a:lnTo>
                    <a:pt x="0" y="966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2"/>
                  </a:lnTo>
                  <a:lnTo>
                    <a:pt x="0" y="846"/>
                  </a:lnTo>
                  <a:lnTo>
                    <a:pt x="0" y="810"/>
                  </a:lnTo>
                  <a:lnTo>
                    <a:pt x="6" y="780"/>
                  </a:lnTo>
                  <a:lnTo>
                    <a:pt x="6" y="768"/>
                  </a:lnTo>
                  <a:lnTo>
                    <a:pt x="6" y="756"/>
                  </a:lnTo>
                  <a:lnTo>
                    <a:pt x="6" y="738"/>
                  </a:lnTo>
                  <a:lnTo>
                    <a:pt x="6" y="720"/>
                  </a:lnTo>
                  <a:lnTo>
                    <a:pt x="12" y="708"/>
                  </a:lnTo>
                  <a:lnTo>
                    <a:pt x="12" y="696"/>
                  </a:lnTo>
                  <a:lnTo>
                    <a:pt x="12" y="684"/>
                  </a:lnTo>
                  <a:lnTo>
                    <a:pt x="18" y="666"/>
                  </a:lnTo>
                  <a:lnTo>
                    <a:pt x="18" y="660"/>
                  </a:lnTo>
                  <a:lnTo>
                    <a:pt x="18" y="648"/>
                  </a:lnTo>
                  <a:lnTo>
                    <a:pt x="18" y="636"/>
                  </a:lnTo>
                  <a:lnTo>
                    <a:pt x="18" y="624"/>
                  </a:lnTo>
                  <a:lnTo>
                    <a:pt x="24" y="606"/>
                  </a:lnTo>
                  <a:lnTo>
                    <a:pt x="24" y="600"/>
                  </a:lnTo>
                  <a:lnTo>
                    <a:pt x="24" y="594"/>
                  </a:lnTo>
                  <a:lnTo>
                    <a:pt x="30" y="576"/>
                  </a:lnTo>
                  <a:lnTo>
                    <a:pt x="30" y="564"/>
                  </a:lnTo>
                  <a:lnTo>
                    <a:pt x="30" y="558"/>
                  </a:lnTo>
                  <a:lnTo>
                    <a:pt x="36" y="534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8" y="486"/>
                  </a:lnTo>
                  <a:lnTo>
                    <a:pt x="54" y="450"/>
                  </a:lnTo>
                  <a:lnTo>
                    <a:pt x="66" y="402"/>
                  </a:lnTo>
                  <a:lnTo>
                    <a:pt x="84" y="354"/>
                  </a:lnTo>
                  <a:lnTo>
                    <a:pt x="96" y="324"/>
                  </a:lnTo>
                  <a:lnTo>
                    <a:pt x="108" y="294"/>
                  </a:lnTo>
                  <a:lnTo>
                    <a:pt x="132" y="240"/>
                  </a:lnTo>
                  <a:lnTo>
                    <a:pt x="162" y="192"/>
                  </a:lnTo>
                  <a:lnTo>
                    <a:pt x="192" y="150"/>
                  </a:lnTo>
                  <a:lnTo>
                    <a:pt x="210" y="126"/>
                  </a:lnTo>
                  <a:lnTo>
                    <a:pt x="216" y="120"/>
                  </a:lnTo>
                  <a:lnTo>
                    <a:pt x="234" y="96"/>
                  </a:lnTo>
                  <a:lnTo>
                    <a:pt x="252" y="78"/>
                  </a:lnTo>
                  <a:lnTo>
                    <a:pt x="270" y="60"/>
                  </a:lnTo>
                  <a:lnTo>
                    <a:pt x="288" y="42"/>
                  </a:lnTo>
                  <a:lnTo>
                    <a:pt x="312" y="30"/>
                  </a:lnTo>
                  <a:lnTo>
                    <a:pt x="336" y="18"/>
                  </a:lnTo>
                  <a:lnTo>
                    <a:pt x="360" y="6"/>
                  </a:ln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13680" y="4878360"/>
              <a:ext cx="38520" cy="226800"/>
            </a:xfrm>
            <a:custGeom>
              <a:avLst/>
              <a:gdLst/>
              <a:ahLst/>
              <a:rect l="l" t="t" r="r" b="b"/>
              <a:pathLst>
                <a:path w="426" h="2514">
                  <a:moveTo>
                    <a:pt x="426" y="2514"/>
                  </a:moveTo>
                  <a:lnTo>
                    <a:pt x="414" y="2508"/>
                  </a:lnTo>
                  <a:lnTo>
                    <a:pt x="396" y="2502"/>
                  </a:lnTo>
                  <a:lnTo>
                    <a:pt x="384" y="2496"/>
                  </a:lnTo>
                  <a:lnTo>
                    <a:pt x="372" y="2496"/>
                  </a:lnTo>
                  <a:lnTo>
                    <a:pt x="354" y="2484"/>
                  </a:lnTo>
                  <a:lnTo>
                    <a:pt x="348" y="2478"/>
                  </a:lnTo>
                  <a:lnTo>
                    <a:pt x="342" y="2472"/>
                  </a:lnTo>
                  <a:lnTo>
                    <a:pt x="318" y="2448"/>
                  </a:lnTo>
                  <a:lnTo>
                    <a:pt x="306" y="2430"/>
                  </a:lnTo>
                  <a:lnTo>
                    <a:pt x="294" y="2418"/>
                  </a:lnTo>
                  <a:lnTo>
                    <a:pt x="270" y="2382"/>
                  </a:lnTo>
                  <a:lnTo>
                    <a:pt x="258" y="2358"/>
                  </a:lnTo>
                  <a:lnTo>
                    <a:pt x="252" y="2346"/>
                  </a:lnTo>
                  <a:lnTo>
                    <a:pt x="240" y="2322"/>
                  </a:lnTo>
                  <a:lnTo>
                    <a:pt x="222" y="2280"/>
                  </a:lnTo>
                  <a:lnTo>
                    <a:pt x="210" y="2244"/>
                  </a:lnTo>
                  <a:lnTo>
                    <a:pt x="198" y="2220"/>
                  </a:lnTo>
                  <a:lnTo>
                    <a:pt x="192" y="2202"/>
                  </a:lnTo>
                  <a:lnTo>
                    <a:pt x="174" y="2148"/>
                  </a:lnTo>
                  <a:lnTo>
                    <a:pt x="156" y="2094"/>
                  </a:lnTo>
                  <a:lnTo>
                    <a:pt x="138" y="2028"/>
                  </a:lnTo>
                  <a:lnTo>
                    <a:pt x="126" y="1992"/>
                  </a:lnTo>
                  <a:lnTo>
                    <a:pt x="108" y="1926"/>
                  </a:lnTo>
                  <a:lnTo>
                    <a:pt x="78" y="1788"/>
                  </a:lnTo>
                  <a:lnTo>
                    <a:pt x="66" y="1716"/>
                  </a:lnTo>
                  <a:lnTo>
                    <a:pt x="60" y="1680"/>
                  </a:lnTo>
                  <a:lnTo>
                    <a:pt x="48" y="1608"/>
                  </a:lnTo>
                  <a:lnTo>
                    <a:pt x="42" y="1548"/>
                  </a:lnTo>
                  <a:lnTo>
                    <a:pt x="36" y="1482"/>
                  </a:lnTo>
                  <a:lnTo>
                    <a:pt x="30" y="1452"/>
                  </a:lnTo>
                  <a:lnTo>
                    <a:pt x="24" y="1422"/>
                  </a:lnTo>
                  <a:lnTo>
                    <a:pt x="18" y="1368"/>
                  </a:lnTo>
                  <a:lnTo>
                    <a:pt x="12" y="1320"/>
                  </a:lnTo>
                  <a:lnTo>
                    <a:pt x="6" y="1278"/>
                  </a:lnTo>
                  <a:lnTo>
                    <a:pt x="6" y="1260"/>
                  </a:lnTo>
                  <a:lnTo>
                    <a:pt x="6" y="1254"/>
                  </a:lnTo>
                  <a:lnTo>
                    <a:pt x="6" y="1236"/>
                  </a:lnTo>
                  <a:lnTo>
                    <a:pt x="0" y="1212"/>
                  </a:lnTo>
                  <a:lnTo>
                    <a:pt x="0" y="1200"/>
                  </a:lnTo>
                  <a:lnTo>
                    <a:pt x="0" y="1188"/>
                  </a:lnTo>
                  <a:lnTo>
                    <a:pt x="0" y="1176"/>
                  </a:lnTo>
                  <a:lnTo>
                    <a:pt x="0" y="1164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34"/>
                  </a:lnTo>
                  <a:lnTo>
                    <a:pt x="0" y="1122"/>
                  </a:lnTo>
                  <a:lnTo>
                    <a:pt x="0" y="1110"/>
                  </a:lnTo>
                  <a:lnTo>
                    <a:pt x="0" y="1098"/>
                  </a:lnTo>
                  <a:lnTo>
                    <a:pt x="0" y="1086"/>
                  </a:lnTo>
                  <a:lnTo>
                    <a:pt x="0" y="1068"/>
                  </a:lnTo>
                  <a:lnTo>
                    <a:pt x="0" y="1050"/>
                  </a:lnTo>
                  <a:lnTo>
                    <a:pt x="0" y="1026"/>
                  </a:lnTo>
                  <a:lnTo>
                    <a:pt x="0" y="1008"/>
                  </a:lnTo>
                  <a:lnTo>
                    <a:pt x="0" y="984"/>
                  </a:lnTo>
                  <a:lnTo>
                    <a:pt x="0" y="960"/>
                  </a:lnTo>
                  <a:lnTo>
                    <a:pt x="0" y="930"/>
                  </a:lnTo>
                  <a:lnTo>
                    <a:pt x="0" y="906"/>
                  </a:lnTo>
                  <a:lnTo>
                    <a:pt x="0" y="888"/>
                  </a:lnTo>
                  <a:lnTo>
                    <a:pt x="0" y="870"/>
                  </a:lnTo>
                  <a:lnTo>
                    <a:pt x="0" y="846"/>
                  </a:lnTo>
                  <a:lnTo>
                    <a:pt x="0" y="816"/>
                  </a:lnTo>
                  <a:lnTo>
                    <a:pt x="0" y="792"/>
                  </a:lnTo>
                  <a:lnTo>
                    <a:pt x="0" y="768"/>
                  </a:lnTo>
                  <a:lnTo>
                    <a:pt x="0" y="750"/>
                  </a:lnTo>
                  <a:lnTo>
                    <a:pt x="0" y="726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78"/>
                  </a:lnTo>
                  <a:lnTo>
                    <a:pt x="0" y="666"/>
                  </a:lnTo>
                  <a:lnTo>
                    <a:pt x="0" y="660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36"/>
                  </a:lnTo>
                  <a:lnTo>
                    <a:pt x="0" y="630"/>
                  </a:lnTo>
                  <a:lnTo>
                    <a:pt x="6" y="612"/>
                  </a:lnTo>
                  <a:lnTo>
                    <a:pt x="6" y="606"/>
                  </a:lnTo>
                  <a:lnTo>
                    <a:pt x="6" y="594"/>
                  </a:lnTo>
                  <a:lnTo>
                    <a:pt x="12" y="570"/>
                  </a:lnTo>
                  <a:lnTo>
                    <a:pt x="12" y="558"/>
                  </a:lnTo>
                  <a:lnTo>
                    <a:pt x="12" y="546"/>
                  </a:lnTo>
                  <a:lnTo>
                    <a:pt x="18" y="510"/>
                  </a:lnTo>
                  <a:lnTo>
                    <a:pt x="18" y="498"/>
                  </a:lnTo>
                  <a:lnTo>
                    <a:pt x="18" y="492"/>
                  </a:lnTo>
                  <a:lnTo>
                    <a:pt x="18" y="480"/>
                  </a:lnTo>
                  <a:lnTo>
                    <a:pt x="18" y="468"/>
                  </a:lnTo>
                  <a:lnTo>
                    <a:pt x="18" y="462"/>
                  </a:lnTo>
                  <a:lnTo>
                    <a:pt x="18" y="450"/>
                  </a:lnTo>
                  <a:lnTo>
                    <a:pt x="24" y="432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372"/>
                  </a:lnTo>
                  <a:lnTo>
                    <a:pt x="42" y="342"/>
                  </a:lnTo>
                  <a:lnTo>
                    <a:pt x="48" y="312"/>
                  </a:lnTo>
                  <a:lnTo>
                    <a:pt x="54" y="294"/>
                  </a:lnTo>
                  <a:lnTo>
                    <a:pt x="60" y="276"/>
                  </a:lnTo>
                  <a:lnTo>
                    <a:pt x="66" y="240"/>
                  </a:lnTo>
                  <a:lnTo>
                    <a:pt x="72" y="216"/>
                  </a:lnTo>
                  <a:lnTo>
                    <a:pt x="84" y="180"/>
                  </a:lnTo>
                  <a:lnTo>
                    <a:pt x="90" y="168"/>
                  </a:lnTo>
                  <a:lnTo>
                    <a:pt x="96" y="150"/>
                  </a:lnTo>
                  <a:lnTo>
                    <a:pt x="102" y="132"/>
                  </a:lnTo>
                  <a:lnTo>
                    <a:pt x="114" y="108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44" y="54"/>
                  </a:lnTo>
                  <a:lnTo>
                    <a:pt x="156" y="42"/>
                  </a:lnTo>
                  <a:lnTo>
                    <a:pt x="168" y="30"/>
                  </a:lnTo>
                  <a:lnTo>
                    <a:pt x="174" y="24"/>
                  </a:lnTo>
                  <a:lnTo>
                    <a:pt x="180" y="18"/>
                  </a:lnTo>
                  <a:lnTo>
                    <a:pt x="192" y="12"/>
                  </a:lnTo>
                  <a:lnTo>
                    <a:pt x="204" y="6"/>
                  </a:lnTo>
                  <a:lnTo>
                    <a:pt x="216" y="0"/>
                  </a:lnTo>
                  <a:lnTo>
                    <a:pt x="22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952200" y="4876560"/>
              <a:ext cx="0" cy="228600"/>
            </a:xfrm>
            <a:prstGeom prst="line">
              <a:avLst/>
            </a:prstGeom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52200" y="4878360"/>
              <a:ext cx="38880" cy="226800"/>
            </a:xfrm>
            <a:custGeom>
              <a:avLst/>
              <a:gdLst/>
              <a:ahLst/>
              <a:rect l="l" t="t" r="r" b="b"/>
              <a:pathLst>
                <a:path w="432" h="2514">
                  <a:moveTo>
                    <a:pt x="0" y="2514"/>
                  </a:moveTo>
                  <a:lnTo>
                    <a:pt x="12" y="2508"/>
                  </a:lnTo>
                  <a:lnTo>
                    <a:pt x="36" y="2502"/>
                  </a:lnTo>
                  <a:lnTo>
                    <a:pt x="48" y="2496"/>
                  </a:lnTo>
                  <a:lnTo>
                    <a:pt x="54" y="2496"/>
                  </a:lnTo>
                  <a:lnTo>
                    <a:pt x="78" y="2484"/>
                  </a:lnTo>
                  <a:lnTo>
                    <a:pt x="84" y="2478"/>
                  </a:lnTo>
                  <a:lnTo>
                    <a:pt x="90" y="2472"/>
                  </a:lnTo>
                  <a:lnTo>
                    <a:pt x="108" y="2448"/>
                  </a:lnTo>
                  <a:lnTo>
                    <a:pt x="120" y="2430"/>
                  </a:lnTo>
                  <a:lnTo>
                    <a:pt x="132" y="2418"/>
                  </a:lnTo>
                  <a:lnTo>
                    <a:pt x="156" y="2382"/>
                  </a:lnTo>
                  <a:lnTo>
                    <a:pt x="168" y="2358"/>
                  </a:lnTo>
                  <a:lnTo>
                    <a:pt x="174" y="2346"/>
                  </a:lnTo>
                  <a:lnTo>
                    <a:pt x="186" y="2322"/>
                  </a:lnTo>
                  <a:lnTo>
                    <a:pt x="204" y="2280"/>
                  </a:lnTo>
                  <a:lnTo>
                    <a:pt x="222" y="2238"/>
                  </a:lnTo>
                  <a:lnTo>
                    <a:pt x="228" y="2220"/>
                  </a:lnTo>
                  <a:lnTo>
                    <a:pt x="240" y="2196"/>
                  </a:lnTo>
                  <a:lnTo>
                    <a:pt x="258" y="2142"/>
                  </a:lnTo>
                  <a:lnTo>
                    <a:pt x="276" y="2088"/>
                  </a:lnTo>
                  <a:lnTo>
                    <a:pt x="294" y="2022"/>
                  </a:lnTo>
                  <a:lnTo>
                    <a:pt x="300" y="1992"/>
                  </a:lnTo>
                  <a:lnTo>
                    <a:pt x="318" y="1926"/>
                  </a:lnTo>
                  <a:lnTo>
                    <a:pt x="348" y="1788"/>
                  </a:lnTo>
                  <a:lnTo>
                    <a:pt x="360" y="1716"/>
                  </a:lnTo>
                  <a:lnTo>
                    <a:pt x="366" y="1680"/>
                  </a:lnTo>
                  <a:lnTo>
                    <a:pt x="378" y="1608"/>
                  </a:lnTo>
                  <a:lnTo>
                    <a:pt x="390" y="1548"/>
                  </a:lnTo>
                  <a:lnTo>
                    <a:pt x="396" y="1494"/>
                  </a:lnTo>
                  <a:lnTo>
                    <a:pt x="402" y="1464"/>
                  </a:lnTo>
                  <a:lnTo>
                    <a:pt x="408" y="1434"/>
                  </a:lnTo>
                  <a:lnTo>
                    <a:pt x="408" y="1392"/>
                  </a:lnTo>
                  <a:lnTo>
                    <a:pt x="414" y="1350"/>
                  </a:lnTo>
                  <a:lnTo>
                    <a:pt x="420" y="1302"/>
                  </a:lnTo>
                  <a:lnTo>
                    <a:pt x="420" y="1290"/>
                  </a:lnTo>
                  <a:lnTo>
                    <a:pt x="420" y="1272"/>
                  </a:lnTo>
                  <a:lnTo>
                    <a:pt x="420" y="1236"/>
                  </a:lnTo>
                  <a:lnTo>
                    <a:pt x="420" y="1194"/>
                  </a:lnTo>
                  <a:lnTo>
                    <a:pt x="426" y="1146"/>
                  </a:lnTo>
                  <a:lnTo>
                    <a:pt x="426" y="1122"/>
                  </a:lnTo>
                  <a:lnTo>
                    <a:pt x="432" y="1068"/>
                  </a:lnTo>
                  <a:lnTo>
                    <a:pt x="432" y="954"/>
                  </a:lnTo>
                  <a:lnTo>
                    <a:pt x="432" y="894"/>
                  </a:lnTo>
                  <a:lnTo>
                    <a:pt x="432" y="882"/>
                  </a:lnTo>
                  <a:lnTo>
                    <a:pt x="432" y="852"/>
                  </a:lnTo>
                  <a:lnTo>
                    <a:pt x="432" y="822"/>
                  </a:lnTo>
                  <a:lnTo>
                    <a:pt x="432" y="798"/>
                  </a:lnTo>
                  <a:lnTo>
                    <a:pt x="432" y="774"/>
                  </a:lnTo>
                  <a:lnTo>
                    <a:pt x="432" y="756"/>
                  </a:lnTo>
                  <a:lnTo>
                    <a:pt x="432" y="732"/>
                  </a:lnTo>
                  <a:lnTo>
                    <a:pt x="432" y="714"/>
                  </a:lnTo>
                  <a:lnTo>
                    <a:pt x="432" y="708"/>
                  </a:lnTo>
                  <a:lnTo>
                    <a:pt x="432" y="702"/>
                  </a:lnTo>
                  <a:lnTo>
                    <a:pt x="432" y="690"/>
                  </a:lnTo>
                  <a:lnTo>
                    <a:pt x="426" y="672"/>
                  </a:lnTo>
                  <a:lnTo>
                    <a:pt x="426" y="660"/>
                  </a:lnTo>
                  <a:lnTo>
                    <a:pt x="426" y="648"/>
                  </a:lnTo>
                  <a:lnTo>
                    <a:pt x="426" y="642"/>
                  </a:lnTo>
                  <a:lnTo>
                    <a:pt x="426" y="636"/>
                  </a:lnTo>
                  <a:lnTo>
                    <a:pt x="426" y="630"/>
                  </a:lnTo>
                  <a:lnTo>
                    <a:pt x="426" y="618"/>
                  </a:lnTo>
                  <a:lnTo>
                    <a:pt x="426" y="606"/>
                  </a:lnTo>
                  <a:lnTo>
                    <a:pt x="426" y="594"/>
                  </a:lnTo>
                  <a:lnTo>
                    <a:pt x="420" y="570"/>
                  </a:lnTo>
                  <a:lnTo>
                    <a:pt x="420" y="558"/>
                  </a:lnTo>
                  <a:lnTo>
                    <a:pt x="420" y="546"/>
                  </a:lnTo>
                  <a:lnTo>
                    <a:pt x="414" y="516"/>
                  </a:lnTo>
                  <a:lnTo>
                    <a:pt x="414" y="498"/>
                  </a:lnTo>
                  <a:lnTo>
                    <a:pt x="414" y="492"/>
                  </a:lnTo>
                  <a:lnTo>
                    <a:pt x="408" y="474"/>
                  </a:lnTo>
                  <a:lnTo>
                    <a:pt x="408" y="468"/>
                  </a:lnTo>
                  <a:lnTo>
                    <a:pt x="408" y="462"/>
                  </a:lnTo>
                  <a:lnTo>
                    <a:pt x="408" y="450"/>
                  </a:lnTo>
                  <a:lnTo>
                    <a:pt x="408" y="438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402"/>
                  </a:lnTo>
                  <a:lnTo>
                    <a:pt x="396" y="378"/>
                  </a:lnTo>
                  <a:lnTo>
                    <a:pt x="390" y="348"/>
                  </a:lnTo>
                  <a:lnTo>
                    <a:pt x="384" y="312"/>
                  </a:lnTo>
                  <a:lnTo>
                    <a:pt x="378" y="294"/>
                  </a:lnTo>
                  <a:lnTo>
                    <a:pt x="372" y="276"/>
                  </a:lnTo>
                  <a:lnTo>
                    <a:pt x="366" y="246"/>
                  </a:lnTo>
                  <a:lnTo>
                    <a:pt x="354" y="210"/>
                  </a:lnTo>
                  <a:lnTo>
                    <a:pt x="348" y="186"/>
                  </a:lnTo>
                  <a:lnTo>
                    <a:pt x="342" y="168"/>
                  </a:lnTo>
                  <a:lnTo>
                    <a:pt x="336" y="156"/>
                  </a:lnTo>
                  <a:lnTo>
                    <a:pt x="324" y="126"/>
                  </a:lnTo>
                  <a:lnTo>
                    <a:pt x="312" y="102"/>
                  </a:lnTo>
                  <a:lnTo>
                    <a:pt x="306" y="90"/>
                  </a:lnTo>
                  <a:lnTo>
                    <a:pt x="300" y="78"/>
                  </a:lnTo>
                  <a:lnTo>
                    <a:pt x="294" y="72"/>
                  </a:lnTo>
                  <a:lnTo>
                    <a:pt x="282" y="48"/>
                  </a:lnTo>
                  <a:lnTo>
                    <a:pt x="270" y="36"/>
                  </a:lnTo>
                  <a:lnTo>
                    <a:pt x="264" y="30"/>
                  </a:lnTo>
                  <a:lnTo>
                    <a:pt x="258" y="24"/>
                  </a:lnTo>
                  <a:lnTo>
                    <a:pt x="252" y="18"/>
                  </a:lnTo>
                  <a:lnTo>
                    <a:pt x="240" y="12"/>
                  </a:lnTo>
                  <a:lnTo>
                    <a:pt x="228" y="6"/>
                  </a:lnTo>
                  <a:lnTo>
                    <a:pt x="210" y="0"/>
                  </a:lnTo>
                  <a:lnTo>
                    <a:pt x="20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952200" y="4883400"/>
              <a:ext cx="72360" cy="222120"/>
            </a:xfrm>
            <a:custGeom>
              <a:avLst/>
              <a:gdLst/>
              <a:ahLst/>
              <a:rect l="l" t="t" r="r" b="b"/>
              <a:pathLst>
                <a:path w="804" h="2460">
                  <a:moveTo>
                    <a:pt x="0" y="2460"/>
                  </a:moveTo>
                  <a:lnTo>
                    <a:pt x="6" y="2460"/>
                  </a:lnTo>
                  <a:lnTo>
                    <a:pt x="30" y="2454"/>
                  </a:lnTo>
                  <a:lnTo>
                    <a:pt x="36" y="2454"/>
                  </a:lnTo>
                  <a:lnTo>
                    <a:pt x="48" y="2454"/>
                  </a:lnTo>
                  <a:lnTo>
                    <a:pt x="66" y="2448"/>
                  </a:lnTo>
                  <a:lnTo>
                    <a:pt x="72" y="2448"/>
                  </a:lnTo>
                  <a:lnTo>
                    <a:pt x="78" y="2448"/>
                  </a:lnTo>
                  <a:lnTo>
                    <a:pt x="84" y="2448"/>
                  </a:lnTo>
                  <a:lnTo>
                    <a:pt x="96" y="2442"/>
                  </a:lnTo>
                  <a:lnTo>
                    <a:pt x="114" y="2436"/>
                  </a:lnTo>
                  <a:lnTo>
                    <a:pt x="132" y="2430"/>
                  </a:lnTo>
                  <a:lnTo>
                    <a:pt x="144" y="2424"/>
                  </a:lnTo>
                  <a:lnTo>
                    <a:pt x="156" y="2418"/>
                  </a:lnTo>
                  <a:lnTo>
                    <a:pt x="186" y="2406"/>
                  </a:lnTo>
                  <a:lnTo>
                    <a:pt x="216" y="2388"/>
                  </a:lnTo>
                  <a:lnTo>
                    <a:pt x="246" y="2364"/>
                  </a:lnTo>
                  <a:lnTo>
                    <a:pt x="264" y="2352"/>
                  </a:lnTo>
                  <a:lnTo>
                    <a:pt x="276" y="2340"/>
                  </a:lnTo>
                  <a:lnTo>
                    <a:pt x="318" y="2304"/>
                  </a:lnTo>
                  <a:lnTo>
                    <a:pt x="354" y="2268"/>
                  </a:lnTo>
                  <a:lnTo>
                    <a:pt x="396" y="2226"/>
                  </a:lnTo>
                  <a:lnTo>
                    <a:pt x="414" y="2202"/>
                  </a:lnTo>
                  <a:lnTo>
                    <a:pt x="432" y="2178"/>
                  </a:lnTo>
                  <a:lnTo>
                    <a:pt x="474" y="2118"/>
                  </a:lnTo>
                  <a:lnTo>
                    <a:pt x="510" y="2058"/>
                  </a:lnTo>
                  <a:lnTo>
                    <a:pt x="552" y="1986"/>
                  </a:lnTo>
                  <a:lnTo>
                    <a:pt x="570" y="1950"/>
                  </a:lnTo>
                  <a:lnTo>
                    <a:pt x="588" y="1914"/>
                  </a:lnTo>
                  <a:lnTo>
                    <a:pt x="624" y="1836"/>
                  </a:lnTo>
                  <a:lnTo>
                    <a:pt x="654" y="1758"/>
                  </a:lnTo>
                  <a:lnTo>
                    <a:pt x="678" y="1686"/>
                  </a:lnTo>
                  <a:lnTo>
                    <a:pt x="690" y="1650"/>
                  </a:lnTo>
                  <a:lnTo>
                    <a:pt x="702" y="1608"/>
                  </a:lnTo>
                  <a:lnTo>
                    <a:pt x="720" y="1542"/>
                  </a:lnTo>
                  <a:lnTo>
                    <a:pt x="738" y="1470"/>
                  </a:lnTo>
                  <a:lnTo>
                    <a:pt x="756" y="1404"/>
                  </a:lnTo>
                  <a:lnTo>
                    <a:pt x="762" y="1374"/>
                  </a:lnTo>
                  <a:lnTo>
                    <a:pt x="768" y="1356"/>
                  </a:lnTo>
                  <a:lnTo>
                    <a:pt x="768" y="1332"/>
                  </a:lnTo>
                  <a:lnTo>
                    <a:pt x="774" y="1302"/>
                  </a:lnTo>
                  <a:lnTo>
                    <a:pt x="780" y="1266"/>
                  </a:lnTo>
                  <a:lnTo>
                    <a:pt x="786" y="1242"/>
                  </a:lnTo>
                  <a:lnTo>
                    <a:pt x="786" y="1218"/>
                  </a:lnTo>
                  <a:lnTo>
                    <a:pt x="792" y="1194"/>
                  </a:lnTo>
                  <a:lnTo>
                    <a:pt x="792" y="1170"/>
                  </a:lnTo>
                  <a:lnTo>
                    <a:pt x="792" y="1164"/>
                  </a:lnTo>
                  <a:lnTo>
                    <a:pt x="792" y="1158"/>
                  </a:lnTo>
                  <a:lnTo>
                    <a:pt x="792" y="1140"/>
                  </a:lnTo>
                  <a:lnTo>
                    <a:pt x="798" y="1122"/>
                  </a:lnTo>
                  <a:lnTo>
                    <a:pt x="798" y="1104"/>
                  </a:lnTo>
                  <a:lnTo>
                    <a:pt x="798" y="1098"/>
                  </a:lnTo>
                  <a:lnTo>
                    <a:pt x="798" y="1086"/>
                  </a:lnTo>
                  <a:lnTo>
                    <a:pt x="798" y="1080"/>
                  </a:lnTo>
                  <a:lnTo>
                    <a:pt x="798" y="1068"/>
                  </a:lnTo>
                  <a:lnTo>
                    <a:pt x="798" y="1056"/>
                  </a:lnTo>
                  <a:lnTo>
                    <a:pt x="804" y="1038"/>
                  </a:lnTo>
                  <a:lnTo>
                    <a:pt x="804" y="1032"/>
                  </a:lnTo>
                  <a:lnTo>
                    <a:pt x="804" y="1020"/>
                  </a:lnTo>
                  <a:lnTo>
                    <a:pt x="804" y="996"/>
                  </a:lnTo>
                  <a:lnTo>
                    <a:pt x="804" y="960"/>
                  </a:lnTo>
                  <a:lnTo>
                    <a:pt x="804" y="924"/>
                  </a:lnTo>
                  <a:lnTo>
                    <a:pt x="804" y="900"/>
                  </a:lnTo>
                  <a:lnTo>
                    <a:pt x="804" y="888"/>
                  </a:lnTo>
                  <a:lnTo>
                    <a:pt x="804" y="864"/>
                  </a:lnTo>
                  <a:lnTo>
                    <a:pt x="804" y="846"/>
                  </a:lnTo>
                  <a:lnTo>
                    <a:pt x="804" y="828"/>
                  </a:lnTo>
                  <a:lnTo>
                    <a:pt x="804" y="810"/>
                  </a:lnTo>
                  <a:lnTo>
                    <a:pt x="804" y="792"/>
                  </a:lnTo>
                  <a:lnTo>
                    <a:pt x="804" y="780"/>
                  </a:lnTo>
                  <a:lnTo>
                    <a:pt x="804" y="768"/>
                  </a:lnTo>
                  <a:lnTo>
                    <a:pt x="804" y="762"/>
                  </a:lnTo>
                  <a:lnTo>
                    <a:pt x="804" y="750"/>
                  </a:lnTo>
                  <a:lnTo>
                    <a:pt x="798" y="726"/>
                  </a:lnTo>
                  <a:lnTo>
                    <a:pt x="798" y="714"/>
                  </a:lnTo>
                  <a:lnTo>
                    <a:pt x="798" y="708"/>
                  </a:lnTo>
                  <a:lnTo>
                    <a:pt x="798" y="696"/>
                  </a:lnTo>
                  <a:lnTo>
                    <a:pt x="798" y="684"/>
                  </a:lnTo>
                  <a:lnTo>
                    <a:pt x="792" y="666"/>
                  </a:lnTo>
                  <a:lnTo>
                    <a:pt x="792" y="660"/>
                  </a:lnTo>
                  <a:lnTo>
                    <a:pt x="792" y="654"/>
                  </a:lnTo>
                  <a:lnTo>
                    <a:pt x="786" y="630"/>
                  </a:lnTo>
                  <a:lnTo>
                    <a:pt x="786" y="618"/>
                  </a:lnTo>
                  <a:lnTo>
                    <a:pt x="786" y="612"/>
                  </a:lnTo>
                  <a:lnTo>
                    <a:pt x="786" y="606"/>
                  </a:lnTo>
                  <a:lnTo>
                    <a:pt x="786" y="600"/>
                  </a:lnTo>
                  <a:lnTo>
                    <a:pt x="780" y="588"/>
                  </a:lnTo>
                  <a:lnTo>
                    <a:pt x="780" y="582"/>
                  </a:lnTo>
                  <a:lnTo>
                    <a:pt x="780" y="570"/>
                  </a:lnTo>
                  <a:lnTo>
                    <a:pt x="774" y="552"/>
                  </a:lnTo>
                  <a:lnTo>
                    <a:pt x="774" y="540"/>
                  </a:lnTo>
                  <a:lnTo>
                    <a:pt x="768" y="516"/>
                  </a:lnTo>
                  <a:lnTo>
                    <a:pt x="768" y="510"/>
                  </a:lnTo>
                  <a:lnTo>
                    <a:pt x="762" y="486"/>
                  </a:lnTo>
                  <a:lnTo>
                    <a:pt x="750" y="444"/>
                  </a:lnTo>
                  <a:lnTo>
                    <a:pt x="738" y="402"/>
                  </a:lnTo>
                  <a:lnTo>
                    <a:pt x="720" y="354"/>
                  </a:lnTo>
                  <a:lnTo>
                    <a:pt x="708" y="324"/>
                  </a:lnTo>
                  <a:lnTo>
                    <a:pt x="696" y="294"/>
                  </a:lnTo>
                  <a:lnTo>
                    <a:pt x="672" y="240"/>
                  </a:lnTo>
                  <a:lnTo>
                    <a:pt x="648" y="198"/>
                  </a:lnTo>
                  <a:lnTo>
                    <a:pt x="618" y="150"/>
                  </a:lnTo>
                  <a:lnTo>
                    <a:pt x="600" y="126"/>
                  </a:lnTo>
                  <a:lnTo>
                    <a:pt x="594" y="120"/>
                  </a:lnTo>
                  <a:lnTo>
                    <a:pt x="570" y="90"/>
                  </a:lnTo>
                  <a:lnTo>
                    <a:pt x="552" y="72"/>
                  </a:lnTo>
                  <a:lnTo>
                    <a:pt x="534" y="60"/>
                  </a:lnTo>
                  <a:lnTo>
                    <a:pt x="516" y="42"/>
                  </a:lnTo>
                  <a:lnTo>
                    <a:pt x="492" y="30"/>
                  </a:lnTo>
                  <a:lnTo>
                    <a:pt x="468" y="18"/>
                  </a:lnTo>
                  <a:lnTo>
                    <a:pt x="444" y="6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52200" y="4895640"/>
              <a:ext cx="96840" cy="209520"/>
            </a:xfrm>
            <a:custGeom>
              <a:avLst/>
              <a:gdLst/>
              <a:ahLst/>
              <a:rect l="l" t="t" r="r" b="b"/>
              <a:pathLst>
                <a:path w="1074" h="2322">
                  <a:moveTo>
                    <a:pt x="0" y="2322"/>
                  </a:moveTo>
                  <a:lnTo>
                    <a:pt x="12" y="2322"/>
                  </a:lnTo>
                  <a:lnTo>
                    <a:pt x="42" y="2316"/>
                  </a:lnTo>
                  <a:lnTo>
                    <a:pt x="54" y="2316"/>
                  </a:lnTo>
                  <a:lnTo>
                    <a:pt x="78" y="2310"/>
                  </a:lnTo>
                  <a:lnTo>
                    <a:pt x="96" y="2310"/>
                  </a:lnTo>
                  <a:lnTo>
                    <a:pt x="108" y="2310"/>
                  </a:lnTo>
                  <a:lnTo>
                    <a:pt x="126" y="2304"/>
                  </a:lnTo>
                  <a:lnTo>
                    <a:pt x="138" y="2304"/>
                  </a:lnTo>
                  <a:lnTo>
                    <a:pt x="156" y="2298"/>
                  </a:lnTo>
                  <a:lnTo>
                    <a:pt x="168" y="2298"/>
                  </a:lnTo>
                  <a:lnTo>
                    <a:pt x="186" y="2292"/>
                  </a:lnTo>
                  <a:lnTo>
                    <a:pt x="204" y="2286"/>
                  </a:lnTo>
                  <a:lnTo>
                    <a:pt x="234" y="2274"/>
                  </a:lnTo>
                  <a:lnTo>
                    <a:pt x="258" y="2268"/>
                  </a:lnTo>
                  <a:lnTo>
                    <a:pt x="288" y="2256"/>
                  </a:lnTo>
                  <a:lnTo>
                    <a:pt x="306" y="2250"/>
                  </a:lnTo>
                  <a:lnTo>
                    <a:pt x="324" y="2244"/>
                  </a:lnTo>
                  <a:lnTo>
                    <a:pt x="360" y="2226"/>
                  </a:lnTo>
                  <a:lnTo>
                    <a:pt x="396" y="2208"/>
                  </a:lnTo>
                  <a:lnTo>
                    <a:pt x="432" y="2184"/>
                  </a:lnTo>
                  <a:lnTo>
                    <a:pt x="462" y="2160"/>
                  </a:lnTo>
                  <a:lnTo>
                    <a:pt x="504" y="2130"/>
                  </a:lnTo>
                  <a:lnTo>
                    <a:pt x="540" y="2094"/>
                  </a:lnTo>
                  <a:lnTo>
                    <a:pt x="582" y="2058"/>
                  </a:lnTo>
                  <a:lnTo>
                    <a:pt x="606" y="2034"/>
                  </a:lnTo>
                  <a:lnTo>
                    <a:pt x="630" y="2010"/>
                  </a:lnTo>
                  <a:lnTo>
                    <a:pt x="666" y="1968"/>
                  </a:lnTo>
                  <a:lnTo>
                    <a:pt x="708" y="1920"/>
                  </a:lnTo>
                  <a:lnTo>
                    <a:pt x="744" y="1872"/>
                  </a:lnTo>
                  <a:lnTo>
                    <a:pt x="774" y="1830"/>
                  </a:lnTo>
                  <a:lnTo>
                    <a:pt x="810" y="1770"/>
                  </a:lnTo>
                  <a:lnTo>
                    <a:pt x="840" y="1722"/>
                  </a:lnTo>
                  <a:lnTo>
                    <a:pt x="870" y="1668"/>
                  </a:lnTo>
                  <a:lnTo>
                    <a:pt x="882" y="1644"/>
                  </a:lnTo>
                  <a:lnTo>
                    <a:pt x="894" y="1620"/>
                  </a:lnTo>
                  <a:lnTo>
                    <a:pt x="918" y="1566"/>
                  </a:lnTo>
                  <a:lnTo>
                    <a:pt x="942" y="1512"/>
                  </a:lnTo>
                  <a:lnTo>
                    <a:pt x="966" y="1458"/>
                  </a:lnTo>
                  <a:lnTo>
                    <a:pt x="984" y="1404"/>
                  </a:lnTo>
                  <a:lnTo>
                    <a:pt x="1002" y="1350"/>
                  </a:lnTo>
                  <a:lnTo>
                    <a:pt x="1014" y="1308"/>
                  </a:lnTo>
                  <a:lnTo>
                    <a:pt x="1026" y="1260"/>
                  </a:lnTo>
                  <a:lnTo>
                    <a:pt x="1032" y="1230"/>
                  </a:lnTo>
                  <a:lnTo>
                    <a:pt x="1044" y="1176"/>
                  </a:lnTo>
                  <a:lnTo>
                    <a:pt x="1056" y="1086"/>
                  </a:lnTo>
                  <a:lnTo>
                    <a:pt x="1068" y="996"/>
                  </a:lnTo>
                  <a:lnTo>
                    <a:pt x="1074" y="906"/>
                  </a:lnTo>
                  <a:lnTo>
                    <a:pt x="1074" y="864"/>
                  </a:lnTo>
                  <a:lnTo>
                    <a:pt x="1074" y="822"/>
                  </a:lnTo>
                  <a:lnTo>
                    <a:pt x="1068" y="738"/>
                  </a:lnTo>
                  <a:lnTo>
                    <a:pt x="1062" y="660"/>
                  </a:lnTo>
                  <a:lnTo>
                    <a:pt x="1050" y="576"/>
                  </a:lnTo>
                  <a:lnTo>
                    <a:pt x="1038" y="534"/>
                  </a:lnTo>
                  <a:lnTo>
                    <a:pt x="1032" y="498"/>
                  </a:lnTo>
                  <a:lnTo>
                    <a:pt x="1008" y="420"/>
                  </a:lnTo>
                  <a:lnTo>
                    <a:pt x="978" y="342"/>
                  </a:lnTo>
                  <a:lnTo>
                    <a:pt x="942" y="270"/>
                  </a:lnTo>
                  <a:lnTo>
                    <a:pt x="918" y="234"/>
                  </a:lnTo>
                  <a:lnTo>
                    <a:pt x="906" y="216"/>
                  </a:lnTo>
                  <a:lnTo>
                    <a:pt x="888" y="186"/>
                  </a:lnTo>
                  <a:lnTo>
                    <a:pt x="864" y="150"/>
                  </a:lnTo>
                  <a:lnTo>
                    <a:pt x="834" y="114"/>
                  </a:lnTo>
                  <a:lnTo>
                    <a:pt x="810" y="90"/>
                  </a:lnTo>
                  <a:lnTo>
                    <a:pt x="780" y="60"/>
                  </a:lnTo>
                  <a:lnTo>
                    <a:pt x="750" y="36"/>
                  </a:lnTo>
                  <a:lnTo>
                    <a:pt x="720" y="12"/>
                  </a:ln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952200" y="4925520"/>
              <a:ext cx="110520" cy="179640"/>
            </a:xfrm>
            <a:custGeom>
              <a:avLst/>
              <a:gdLst/>
              <a:ahLst/>
              <a:rect l="l" t="t" r="r" b="b"/>
              <a:pathLst>
                <a:path w="1224" h="1992">
                  <a:moveTo>
                    <a:pt x="0" y="1992"/>
                  </a:moveTo>
                  <a:lnTo>
                    <a:pt x="18" y="1992"/>
                  </a:lnTo>
                  <a:lnTo>
                    <a:pt x="60" y="1986"/>
                  </a:lnTo>
                  <a:lnTo>
                    <a:pt x="78" y="1986"/>
                  </a:lnTo>
                  <a:lnTo>
                    <a:pt x="90" y="1986"/>
                  </a:lnTo>
                  <a:lnTo>
                    <a:pt x="126" y="1980"/>
                  </a:lnTo>
                  <a:lnTo>
                    <a:pt x="144" y="1980"/>
                  </a:lnTo>
                  <a:lnTo>
                    <a:pt x="156" y="1980"/>
                  </a:lnTo>
                  <a:lnTo>
                    <a:pt x="186" y="1974"/>
                  </a:lnTo>
                  <a:lnTo>
                    <a:pt x="192" y="1974"/>
                  </a:lnTo>
                  <a:lnTo>
                    <a:pt x="210" y="1968"/>
                  </a:lnTo>
                  <a:lnTo>
                    <a:pt x="228" y="1962"/>
                  </a:lnTo>
                  <a:lnTo>
                    <a:pt x="246" y="1962"/>
                  </a:lnTo>
                  <a:lnTo>
                    <a:pt x="264" y="1956"/>
                  </a:lnTo>
                  <a:lnTo>
                    <a:pt x="276" y="1956"/>
                  </a:lnTo>
                  <a:lnTo>
                    <a:pt x="306" y="1944"/>
                  </a:lnTo>
                  <a:lnTo>
                    <a:pt x="342" y="1932"/>
                  </a:lnTo>
                  <a:lnTo>
                    <a:pt x="372" y="1920"/>
                  </a:lnTo>
                  <a:lnTo>
                    <a:pt x="396" y="1908"/>
                  </a:lnTo>
                  <a:lnTo>
                    <a:pt x="408" y="1902"/>
                  </a:lnTo>
                  <a:lnTo>
                    <a:pt x="432" y="1890"/>
                  </a:lnTo>
                  <a:lnTo>
                    <a:pt x="456" y="1878"/>
                  </a:lnTo>
                  <a:lnTo>
                    <a:pt x="480" y="1866"/>
                  </a:lnTo>
                  <a:lnTo>
                    <a:pt x="516" y="1848"/>
                  </a:lnTo>
                  <a:lnTo>
                    <a:pt x="552" y="1830"/>
                  </a:lnTo>
                  <a:lnTo>
                    <a:pt x="582" y="1812"/>
                  </a:lnTo>
                  <a:lnTo>
                    <a:pt x="624" y="1788"/>
                  </a:lnTo>
                  <a:lnTo>
                    <a:pt x="648" y="1776"/>
                  </a:lnTo>
                  <a:lnTo>
                    <a:pt x="666" y="1764"/>
                  </a:lnTo>
                  <a:lnTo>
                    <a:pt x="708" y="1734"/>
                  </a:lnTo>
                  <a:lnTo>
                    <a:pt x="750" y="1698"/>
                  </a:lnTo>
                  <a:lnTo>
                    <a:pt x="798" y="1656"/>
                  </a:lnTo>
                  <a:lnTo>
                    <a:pt x="840" y="1608"/>
                  </a:lnTo>
                  <a:lnTo>
                    <a:pt x="882" y="1560"/>
                  </a:lnTo>
                  <a:lnTo>
                    <a:pt x="924" y="1512"/>
                  </a:lnTo>
                  <a:lnTo>
                    <a:pt x="966" y="1452"/>
                  </a:lnTo>
                  <a:lnTo>
                    <a:pt x="990" y="1416"/>
                  </a:lnTo>
                  <a:lnTo>
                    <a:pt x="1014" y="1380"/>
                  </a:lnTo>
                  <a:lnTo>
                    <a:pt x="1050" y="1314"/>
                  </a:lnTo>
                  <a:lnTo>
                    <a:pt x="1080" y="1260"/>
                  </a:lnTo>
                  <a:lnTo>
                    <a:pt x="1110" y="1206"/>
                  </a:lnTo>
                  <a:lnTo>
                    <a:pt x="1134" y="1152"/>
                  </a:lnTo>
                  <a:lnTo>
                    <a:pt x="1158" y="1092"/>
                  </a:lnTo>
                  <a:lnTo>
                    <a:pt x="1170" y="1050"/>
                  </a:lnTo>
                  <a:lnTo>
                    <a:pt x="1182" y="1002"/>
                  </a:lnTo>
                  <a:lnTo>
                    <a:pt x="1188" y="978"/>
                  </a:lnTo>
                  <a:lnTo>
                    <a:pt x="1194" y="954"/>
                  </a:lnTo>
                  <a:lnTo>
                    <a:pt x="1200" y="912"/>
                  </a:lnTo>
                  <a:lnTo>
                    <a:pt x="1206" y="876"/>
                  </a:lnTo>
                  <a:lnTo>
                    <a:pt x="1212" y="846"/>
                  </a:lnTo>
                  <a:lnTo>
                    <a:pt x="1212" y="828"/>
                  </a:lnTo>
                  <a:lnTo>
                    <a:pt x="1218" y="798"/>
                  </a:lnTo>
                  <a:lnTo>
                    <a:pt x="1224" y="780"/>
                  </a:lnTo>
                  <a:lnTo>
                    <a:pt x="1224" y="762"/>
                  </a:lnTo>
                  <a:lnTo>
                    <a:pt x="1224" y="738"/>
                  </a:lnTo>
                  <a:lnTo>
                    <a:pt x="1224" y="696"/>
                  </a:lnTo>
                  <a:lnTo>
                    <a:pt x="1224" y="678"/>
                  </a:lnTo>
                  <a:lnTo>
                    <a:pt x="1224" y="660"/>
                  </a:lnTo>
                  <a:lnTo>
                    <a:pt x="1224" y="618"/>
                  </a:lnTo>
                  <a:lnTo>
                    <a:pt x="1224" y="594"/>
                  </a:lnTo>
                  <a:lnTo>
                    <a:pt x="1224" y="570"/>
                  </a:lnTo>
                  <a:lnTo>
                    <a:pt x="1218" y="528"/>
                  </a:lnTo>
                  <a:lnTo>
                    <a:pt x="1218" y="504"/>
                  </a:lnTo>
                  <a:lnTo>
                    <a:pt x="1218" y="492"/>
                  </a:lnTo>
                  <a:lnTo>
                    <a:pt x="1218" y="474"/>
                  </a:lnTo>
                  <a:lnTo>
                    <a:pt x="1218" y="462"/>
                  </a:lnTo>
                  <a:lnTo>
                    <a:pt x="1218" y="450"/>
                  </a:lnTo>
                  <a:lnTo>
                    <a:pt x="1218" y="444"/>
                  </a:lnTo>
                  <a:lnTo>
                    <a:pt x="1218" y="438"/>
                  </a:lnTo>
                  <a:lnTo>
                    <a:pt x="1212" y="426"/>
                  </a:lnTo>
                  <a:lnTo>
                    <a:pt x="1212" y="420"/>
                  </a:lnTo>
                  <a:lnTo>
                    <a:pt x="1206" y="402"/>
                  </a:lnTo>
                  <a:lnTo>
                    <a:pt x="1206" y="390"/>
                  </a:lnTo>
                  <a:lnTo>
                    <a:pt x="1200" y="366"/>
                  </a:lnTo>
                  <a:lnTo>
                    <a:pt x="1194" y="348"/>
                  </a:lnTo>
                  <a:lnTo>
                    <a:pt x="1194" y="342"/>
                  </a:lnTo>
                  <a:lnTo>
                    <a:pt x="1182" y="300"/>
                  </a:lnTo>
                  <a:lnTo>
                    <a:pt x="1152" y="216"/>
                  </a:lnTo>
                  <a:lnTo>
                    <a:pt x="1134" y="174"/>
                  </a:lnTo>
                  <a:lnTo>
                    <a:pt x="1116" y="132"/>
                  </a:lnTo>
                  <a:lnTo>
                    <a:pt x="1068" y="42"/>
                  </a:lnTo>
                  <a:lnTo>
                    <a:pt x="1038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21240" y="5101200"/>
              <a:ext cx="61560" cy="36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54" y="0"/>
                  </a:lnTo>
                  <a:lnTo>
                    <a:pt x="684" y="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92440" y="5085720"/>
              <a:ext cx="119880" cy="2520"/>
            </a:xfrm>
            <a:custGeom>
              <a:avLst/>
              <a:gdLst/>
              <a:ahLst/>
              <a:rect l="l" t="t" r="r" b="b"/>
              <a:pathLst>
                <a:path w="1326" h="30">
                  <a:moveTo>
                    <a:pt x="0" y="30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2" y="6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6" y="0"/>
                  </a:lnTo>
                  <a:lnTo>
                    <a:pt x="408" y="0"/>
                  </a:lnTo>
                  <a:lnTo>
                    <a:pt x="450" y="0"/>
                  </a:lnTo>
                  <a:lnTo>
                    <a:pt x="492" y="0"/>
                  </a:lnTo>
                  <a:lnTo>
                    <a:pt x="540" y="0"/>
                  </a:lnTo>
                  <a:lnTo>
                    <a:pt x="594" y="0"/>
                  </a:lnTo>
                  <a:lnTo>
                    <a:pt x="648" y="0"/>
                  </a:lnTo>
                  <a:lnTo>
                    <a:pt x="678" y="0"/>
                  </a:lnTo>
                  <a:lnTo>
                    <a:pt x="708" y="0"/>
                  </a:lnTo>
                  <a:lnTo>
                    <a:pt x="762" y="0"/>
                  </a:lnTo>
                  <a:lnTo>
                    <a:pt x="816" y="0"/>
                  </a:lnTo>
                  <a:lnTo>
                    <a:pt x="864" y="0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90" y="0"/>
                  </a:lnTo>
                  <a:lnTo>
                    <a:pt x="1020" y="0"/>
                  </a:lnTo>
                  <a:lnTo>
                    <a:pt x="1056" y="0"/>
                  </a:lnTo>
                  <a:lnTo>
                    <a:pt x="1080" y="0"/>
                  </a:lnTo>
                  <a:lnTo>
                    <a:pt x="1104" y="0"/>
                  </a:lnTo>
                  <a:lnTo>
                    <a:pt x="1122" y="0"/>
                  </a:lnTo>
                  <a:lnTo>
                    <a:pt x="1140" y="0"/>
                  </a:lnTo>
                  <a:lnTo>
                    <a:pt x="1152" y="0"/>
                  </a:lnTo>
                  <a:lnTo>
                    <a:pt x="1164" y="0"/>
                  </a:lnTo>
                  <a:lnTo>
                    <a:pt x="1170" y="0"/>
                  </a:lnTo>
                  <a:lnTo>
                    <a:pt x="1176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12" y="6"/>
                  </a:lnTo>
                  <a:lnTo>
                    <a:pt x="1218" y="6"/>
                  </a:lnTo>
                  <a:lnTo>
                    <a:pt x="1236" y="12"/>
                  </a:lnTo>
                  <a:lnTo>
                    <a:pt x="1266" y="18"/>
                  </a:lnTo>
                  <a:lnTo>
                    <a:pt x="1278" y="18"/>
                  </a:lnTo>
                  <a:lnTo>
                    <a:pt x="1290" y="18"/>
                  </a:lnTo>
                  <a:lnTo>
                    <a:pt x="1308" y="18"/>
                  </a:lnTo>
                  <a:lnTo>
                    <a:pt x="1314" y="18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20" y="3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67960" y="5058720"/>
              <a:ext cx="168480" cy="9720"/>
            </a:xfrm>
            <a:custGeom>
              <a:avLst/>
              <a:gdLst/>
              <a:ahLst/>
              <a:rect l="l" t="t" r="r" b="b"/>
              <a:pathLst>
                <a:path w="1866" h="108">
                  <a:moveTo>
                    <a:pt x="0" y="108"/>
                  </a:moveTo>
                  <a:lnTo>
                    <a:pt x="0" y="102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24" y="78"/>
                  </a:lnTo>
                  <a:lnTo>
                    <a:pt x="30" y="72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72" y="60"/>
                  </a:lnTo>
                  <a:lnTo>
                    <a:pt x="78" y="60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32" y="48"/>
                  </a:lnTo>
                  <a:lnTo>
                    <a:pt x="150" y="42"/>
                  </a:lnTo>
                  <a:lnTo>
                    <a:pt x="162" y="42"/>
                  </a:lnTo>
                  <a:lnTo>
                    <a:pt x="186" y="36"/>
                  </a:lnTo>
                  <a:lnTo>
                    <a:pt x="222" y="30"/>
                  </a:lnTo>
                  <a:lnTo>
                    <a:pt x="270" y="24"/>
                  </a:lnTo>
                  <a:lnTo>
                    <a:pt x="288" y="24"/>
                  </a:lnTo>
                  <a:lnTo>
                    <a:pt x="306" y="24"/>
                  </a:lnTo>
                  <a:lnTo>
                    <a:pt x="348" y="18"/>
                  </a:lnTo>
                  <a:lnTo>
                    <a:pt x="39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92" y="6"/>
                  </a:lnTo>
                  <a:lnTo>
                    <a:pt x="528" y="6"/>
                  </a:lnTo>
                  <a:lnTo>
                    <a:pt x="570" y="6"/>
                  </a:lnTo>
                  <a:lnTo>
                    <a:pt x="594" y="6"/>
                  </a:lnTo>
                  <a:lnTo>
                    <a:pt x="618" y="6"/>
                  </a:lnTo>
                  <a:lnTo>
                    <a:pt x="666" y="0"/>
                  </a:lnTo>
                  <a:lnTo>
                    <a:pt x="702" y="0"/>
                  </a:lnTo>
                  <a:lnTo>
                    <a:pt x="738" y="0"/>
                  </a:lnTo>
                  <a:lnTo>
                    <a:pt x="750" y="0"/>
                  </a:lnTo>
                  <a:lnTo>
                    <a:pt x="780" y="0"/>
                  </a:lnTo>
                  <a:lnTo>
                    <a:pt x="846" y="0"/>
                  </a:lnTo>
                  <a:lnTo>
                    <a:pt x="882" y="0"/>
                  </a:lnTo>
                  <a:lnTo>
                    <a:pt x="900" y="0"/>
                  </a:lnTo>
                  <a:lnTo>
                    <a:pt x="930" y="0"/>
                  </a:lnTo>
                  <a:lnTo>
                    <a:pt x="954" y="0"/>
                  </a:lnTo>
                  <a:lnTo>
                    <a:pt x="978" y="0"/>
                  </a:lnTo>
                  <a:lnTo>
                    <a:pt x="984" y="0"/>
                  </a:lnTo>
                  <a:lnTo>
                    <a:pt x="996" y="0"/>
                  </a:lnTo>
                  <a:lnTo>
                    <a:pt x="1014" y="0"/>
                  </a:lnTo>
                  <a:lnTo>
                    <a:pt x="1044" y="0"/>
                  </a:lnTo>
                  <a:lnTo>
                    <a:pt x="1080" y="0"/>
                  </a:lnTo>
                  <a:lnTo>
                    <a:pt x="1098" y="0"/>
                  </a:lnTo>
                  <a:lnTo>
                    <a:pt x="1134" y="0"/>
                  </a:lnTo>
                  <a:lnTo>
                    <a:pt x="1212" y="6"/>
                  </a:lnTo>
                  <a:lnTo>
                    <a:pt x="1254" y="6"/>
                  </a:lnTo>
                  <a:lnTo>
                    <a:pt x="1278" y="6"/>
                  </a:lnTo>
                  <a:lnTo>
                    <a:pt x="1308" y="6"/>
                  </a:lnTo>
                  <a:lnTo>
                    <a:pt x="1344" y="6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22" y="12"/>
                  </a:lnTo>
                  <a:lnTo>
                    <a:pt x="1452" y="12"/>
                  </a:lnTo>
                  <a:lnTo>
                    <a:pt x="1494" y="18"/>
                  </a:lnTo>
                  <a:lnTo>
                    <a:pt x="1512" y="18"/>
                  </a:lnTo>
                  <a:lnTo>
                    <a:pt x="1548" y="24"/>
                  </a:lnTo>
                  <a:lnTo>
                    <a:pt x="1626" y="30"/>
                  </a:lnTo>
                  <a:lnTo>
                    <a:pt x="1662" y="36"/>
                  </a:lnTo>
                  <a:lnTo>
                    <a:pt x="1680" y="36"/>
                  </a:lnTo>
                  <a:lnTo>
                    <a:pt x="1716" y="42"/>
                  </a:lnTo>
                  <a:lnTo>
                    <a:pt x="1734" y="42"/>
                  </a:lnTo>
                  <a:lnTo>
                    <a:pt x="1764" y="48"/>
                  </a:lnTo>
                  <a:lnTo>
                    <a:pt x="1770" y="48"/>
                  </a:lnTo>
                  <a:lnTo>
                    <a:pt x="1788" y="54"/>
                  </a:lnTo>
                  <a:lnTo>
                    <a:pt x="1812" y="60"/>
                  </a:lnTo>
                  <a:lnTo>
                    <a:pt x="1824" y="66"/>
                  </a:lnTo>
                  <a:lnTo>
                    <a:pt x="1836" y="72"/>
                  </a:lnTo>
                  <a:lnTo>
                    <a:pt x="1854" y="84"/>
                  </a:lnTo>
                  <a:lnTo>
                    <a:pt x="1860" y="84"/>
                  </a:lnTo>
                  <a:lnTo>
                    <a:pt x="1866" y="90"/>
                  </a:lnTo>
                  <a:lnTo>
                    <a:pt x="1866" y="96"/>
                  </a:lnTo>
                  <a:lnTo>
                    <a:pt x="1866" y="102"/>
                  </a:lnTo>
                  <a:lnTo>
                    <a:pt x="1860" y="108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49600" y="5022360"/>
              <a:ext cx="204840" cy="19800"/>
            </a:xfrm>
            <a:custGeom>
              <a:avLst/>
              <a:gdLst/>
              <a:ahLst/>
              <a:rect l="l" t="t" r="r" b="b"/>
              <a:pathLst>
                <a:path w="2268" h="222">
                  <a:moveTo>
                    <a:pt x="6" y="222"/>
                  </a:moveTo>
                  <a:lnTo>
                    <a:pt x="0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6" y="186"/>
                  </a:lnTo>
                  <a:lnTo>
                    <a:pt x="12" y="180"/>
                  </a:lnTo>
                  <a:lnTo>
                    <a:pt x="24" y="168"/>
                  </a:lnTo>
                  <a:lnTo>
                    <a:pt x="30" y="162"/>
                  </a:lnTo>
                  <a:lnTo>
                    <a:pt x="36" y="156"/>
                  </a:lnTo>
                  <a:lnTo>
                    <a:pt x="54" y="144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90" y="126"/>
                  </a:lnTo>
                  <a:lnTo>
                    <a:pt x="108" y="120"/>
                  </a:lnTo>
                  <a:lnTo>
                    <a:pt x="126" y="114"/>
                  </a:lnTo>
                  <a:lnTo>
                    <a:pt x="144" y="108"/>
                  </a:lnTo>
                  <a:lnTo>
                    <a:pt x="156" y="102"/>
                  </a:lnTo>
                  <a:lnTo>
                    <a:pt x="180" y="96"/>
                  </a:lnTo>
                  <a:lnTo>
                    <a:pt x="210" y="90"/>
                  </a:lnTo>
                  <a:lnTo>
                    <a:pt x="246" y="84"/>
                  </a:lnTo>
                  <a:lnTo>
                    <a:pt x="270" y="78"/>
                  </a:lnTo>
                  <a:lnTo>
                    <a:pt x="306" y="72"/>
                  </a:lnTo>
                  <a:lnTo>
                    <a:pt x="396" y="54"/>
                  </a:lnTo>
                  <a:lnTo>
                    <a:pt x="438" y="48"/>
                  </a:lnTo>
                  <a:lnTo>
                    <a:pt x="456" y="48"/>
                  </a:lnTo>
                  <a:lnTo>
                    <a:pt x="498" y="42"/>
                  </a:lnTo>
                  <a:lnTo>
                    <a:pt x="546" y="36"/>
                  </a:lnTo>
                  <a:lnTo>
                    <a:pt x="594" y="30"/>
                  </a:lnTo>
                  <a:lnTo>
                    <a:pt x="624" y="24"/>
                  </a:lnTo>
                  <a:lnTo>
                    <a:pt x="648" y="24"/>
                  </a:lnTo>
                  <a:lnTo>
                    <a:pt x="696" y="18"/>
                  </a:lnTo>
                  <a:lnTo>
                    <a:pt x="750" y="12"/>
                  </a:lnTo>
                  <a:lnTo>
                    <a:pt x="810" y="6"/>
                  </a:lnTo>
                  <a:lnTo>
                    <a:pt x="840" y="6"/>
                  </a:lnTo>
                  <a:lnTo>
                    <a:pt x="894" y="6"/>
                  </a:lnTo>
                  <a:lnTo>
                    <a:pt x="1014" y="0"/>
                  </a:lnTo>
                  <a:lnTo>
                    <a:pt x="1074" y="0"/>
                  </a:lnTo>
                  <a:lnTo>
                    <a:pt x="1134" y="0"/>
                  </a:lnTo>
                  <a:lnTo>
                    <a:pt x="1248" y="6"/>
                  </a:lnTo>
                  <a:lnTo>
                    <a:pt x="1302" y="6"/>
                  </a:lnTo>
                  <a:lnTo>
                    <a:pt x="1326" y="6"/>
                  </a:lnTo>
                  <a:lnTo>
                    <a:pt x="1386" y="12"/>
                  </a:lnTo>
                  <a:lnTo>
                    <a:pt x="1428" y="12"/>
                  </a:lnTo>
                  <a:lnTo>
                    <a:pt x="1482" y="18"/>
                  </a:lnTo>
                  <a:lnTo>
                    <a:pt x="1500" y="18"/>
                  </a:lnTo>
                  <a:lnTo>
                    <a:pt x="1506" y="18"/>
                  </a:lnTo>
                  <a:lnTo>
                    <a:pt x="1524" y="18"/>
                  </a:lnTo>
                  <a:lnTo>
                    <a:pt x="1548" y="24"/>
                  </a:lnTo>
                  <a:lnTo>
                    <a:pt x="1566" y="24"/>
                  </a:lnTo>
                  <a:lnTo>
                    <a:pt x="1578" y="24"/>
                  </a:lnTo>
                  <a:lnTo>
                    <a:pt x="1590" y="24"/>
                  </a:lnTo>
                  <a:lnTo>
                    <a:pt x="1596" y="24"/>
                  </a:lnTo>
                  <a:lnTo>
                    <a:pt x="1602" y="24"/>
                  </a:lnTo>
                  <a:lnTo>
                    <a:pt x="1608" y="24"/>
                  </a:lnTo>
                  <a:lnTo>
                    <a:pt x="1614" y="24"/>
                  </a:lnTo>
                  <a:lnTo>
                    <a:pt x="1632" y="24"/>
                  </a:lnTo>
                  <a:lnTo>
                    <a:pt x="1656" y="30"/>
                  </a:lnTo>
                  <a:lnTo>
                    <a:pt x="1668" y="30"/>
                  </a:lnTo>
                  <a:lnTo>
                    <a:pt x="1680" y="30"/>
                  </a:lnTo>
                  <a:lnTo>
                    <a:pt x="1710" y="36"/>
                  </a:lnTo>
                  <a:lnTo>
                    <a:pt x="1728" y="36"/>
                  </a:lnTo>
                  <a:lnTo>
                    <a:pt x="1740" y="36"/>
                  </a:lnTo>
                  <a:lnTo>
                    <a:pt x="1746" y="36"/>
                  </a:lnTo>
                  <a:lnTo>
                    <a:pt x="1752" y="36"/>
                  </a:lnTo>
                  <a:lnTo>
                    <a:pt x="1758" y="36"/>
                  </a:lnTo>
                  <a:lnTo>
                    <a:pt x="1770" y="36"/>
                  </a:lnTo>
                  <a:lnTo>
                    <a:pt x="1788" y="42"/>
                  </a:lnTo>
                  <a:lnTo>
                    <a:pt x="1800" y="42"/>
                  </a:lnTo>
                  <a:lnTo>
                    <a:pt x="1806" y="42"/>
                  </a:lnTo>
                  <a:lnTo>
                    <a:pt x="1830" y="48"/>
                  </a:lnTo>
                  <a:lnTo>
                    <a:pt x="1836" y="48"/>
                  </a:lnTo>
                  <a:lnTo>
                    <a:pt x="1854" y="54"/>
                  </a:lnTo>
                  <a:lnTo>
                    <a:pt x="1884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0" y="72"/>
                  </a:lnTo>
                  <a:lnTo>
                    <a:pt x="2034" y="84"/>
                  </a:lnTo>
                  <a:lnTo>
                    <a:pt x="2064" y="90"/>
                  </a:lnTo>
                  <a:lnTo>
                    <a:pt x="2094" y="96"/>
                  </a:lnTo>
                  <a:lnTo>
                    <a:pt x="2148" y="114"/>
                  </a:lnTo>
                  <a:lnTo>
                    <a:pt x="2172" y="126"/>
                  </a:lnTo>
                  <a:lnTo>
                    <a:pt x="2184" y="132"/>
                  </a:lnTo>
                  <a:lnTo>
                    <a:pt x="2202" y="138"/>
                  </a:lnTo>
                  <a:lnTo>
                    <a:pt x="2226" y="150"/>
                  </a:lnTo>
                  <a:lnTo>
                    <a:pt x="2238" y="156"/>
                  </a:lnTo>
                  <a:lnTo>
                    <a:pt x="2244" y="162"/>
                  </a:lnTo>
                  <a:lnTo>
                    <a:pt x="2250" y="168"/>
                  </a:lnTo>
                  <a:lnTo>
                    <a:pt x="2256" y="174"/>
                  </a:lnTo>
                  <a:lnTo>
                    <a:pt x="2268" y="186"/>
                  </a:lnTo>
                  <a:lnTo>
                    <a:pt x="2268" y="192"/>
                  </a:lnTo>
                  <a:lnTo>
                    <a:pt x="2268" y="198"/>
                  </a:lnTo>
                  <a:lnTo>
                    <a:pt x="2268" y="204"/>
                  </a:lnTo>
                  <a:lnTo>
                    <a:pt x="2268" y="216"/>
                  </a:lnTo>
                  <a:lnTo>
                    <a:pt x="2268" y="22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9880" y="4983120"/>
              <a:ext cx="225000" cy="29160"/>
            </a:xfrm>
            <a:custGeom>
              <a:avLst/>
              <a:gdLst/>
              <a:ahLst/>
              <a:rect l="l" t="t" r="r" b="b"/>
              <a:pathLst>
                <a:path w="2490" h="324">
                  <a:moveTo>
                    <a:pt x="0" y="324"/>
                  </a:moveTo>
                  <a:lnTo>
                    <a:pt x="0" y="312"/>
                  </a:lnTo>
                  <a:lnTo>
                    <a:pt x="6" y="288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12" y="258"/>
                  </a:lnTo>
                  <a:lnTo>
                    <a:pt x="18" y="246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8" y="222"/>
                  </a:lnTo>
                  <a:lnTo>
                    <a:pt x="66" y="210"/>
                  </a:lnTo>
                  <a:lnTo>
                    <a:pt x="84" y="198"/>
                  </a:lnTo>
                  <a:lnTo>
                    <a:pt x="108" y="186"/>
                  </a:lnTo>
                  <a:lnTo>
                    <a:pt x="120" y="180"/>
                  </a:lnTo>
                  <a:lnTo>
                    <a:pt x="126" y="174"/>
                  </a:lnTo>
                  <a:lnTo>
                    <a:pt x="156" y="156"/>
                  </a:lnTo>
                  <a:lnTo>
                    <a:pt x="186" y="144"/>
                  </a:lnTo>
                  <a:lnTo>
                    <a:pt x="222" y="132"/>
                  </a:lnTo>
                  <a:lnTo>
                    <a:pt x="240" y="126"/>
                  </a:lnTo>
                  <a:lnTo>
                    <a:pt x="258" y="120"/>
                  </a:lnTo>
                  <a:lnTo>
                    <a:pt x="294" y="108"/>
                  </a:lnTo>
                  <a:lnTo>
                    <a:pt x="330" y="96"/>
                  </a:lnTo>
                  <a:lnTo>
                    <a:pt x="360" y="90"/>
                  </a:lnTo>
                  <a:lnTo>
                    <a:pt x="378" y="84"/>
                  </a:lnTo>
                  <a:lnTo>
                    <a:pt x="408" y="78"/>
                  </a:lnTo>
                  <a:lnTo>
                    <a:pt x="450" y="72"/>
                  </a:lnTo>
                  <a:lnTo>
                    <a:pt x="474" y="66"/>
                  </a:lnTo>
                  <a:lnTo>
                    <a:pt x="492" y="66"/>
                  </a:lnTo>
                  <a:lnTo>
                    <a:pt x="528" y="60"/>
                  </a:lnTo>
                  <a:lnTo>
                    <a:pt x="546" y="54"/>
                  </a:lnTo>
                  <a:lnTo>
                    <a:pt x="564" y="54"/>
                  </a:lnTo>
                  <a:lnTo>
                    <a:pt x="600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54" y="36"/>
                  </a:lnTo>
                  <a:lnTo>
                    <a:pt x="672" y="36"/>
                  </a:lnTo>
                  <a:lnTo>
                    <a:pt x="702" y="30"/>
                  </a:lnTo>
                  <a:lnTo>
                    <a:pt x="714" y="30"/>
                  </a:lnTo>
                  <a:lnTo>
                    <a:pt x="738" y="30"/>
                  </a:lnTo>
                  <a:lnTo>
                    <a:pt x="792" y="24"/>
                  </a:lnTo>
                  <a:lnTo>
                    <a:pt x="822" y="18"/>
                  </a:lnTo>
                  <a:lnTo>
                    <a:pt x="846" y="18"/>
                  </a:lnTo>
                  <a:lnTo>
                    <a:pt x="906" y="12"/>
                  </a:lnTo>
                  <a:lnTo>
                    <a:pt x="936" y="12"/>
                  </a:lnTo>
                  <a:lnTo>
                    <a:pt x="948" y="12"/>
                  </a:lnTo>
                  <a:lnTo>
                    <a:pt x="990" y="6"/>
                  </a:lnTo>
                  <a:lnTo>
                    <a:pt x="1026" y="6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22" y="6"/>
                  </a:lnTo>
                  <a:lnTo>
                    <a:pt x="1146" y="0"/>
                  </a:lnTo>
                  <a:lnTo>
                    <a:pt x="1164" y="0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6" y="0"/>
                  </a:lnTo>
                  <a:lnTo>
                    <a:pt x="1212" y="0"/>
                  </a:lnTo>
                  <a:lnTo>
                    <a:pt x="1218" y="0"/>
                  </a:lnTo>
                  <a:lnTo>
                    <a:pt x="1230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66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302" y="0"/>
                  </a:lnTo>
                  <a:lnTo>
                    <a:pt x="1308" y="0"/>
                  </a:lnTo>
                  <a:lnTo>
                    <a:pt x="1314" y="0"/>
                  </a:lnTo>
                  <a:lnTo>
                    <a:pt x="1320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74" y="0"/>
                  </a:lnTo>
                  <a:lnTo>
                    <a:pt x="1398" y="6"/>
                  </a:lnTo>
                  <a:lnTo>
                    <a:pt x="1422" y="6"/>
                  </a:lnTo>
                  <a:lnTo>
                    <a:pt x="1428" y="6"/>
                  </a:lnTo>
                  <a:lnTo>
                    <a:pt x="1452" y="6"/>
                  </a:lnTo>
                  <a:lnTo>
                    <a:pt x="1488" y="6"/>
                  </a:lnTo>
                  <a:lnTo>
                    <a:pt x="1530" y="6"/>
                  </a:lnTo>
                  <a:lnTo>
                    <a:pt x="1572" y="12"/>
                  </a:lnTo>
                  <a:lnTo>
                    <a:pt x="1584" y="12"/>
                  </a:lnTo>
                  <a:lnTo>
                    <a:pt x="1614" y="12"/>
                  </a:lnTo>
                  <a:lnTo>
                    <a:pt x="1674" y="18"/>
                  </a:lnTo>
                  <a:lnTo>
                    <a:pt x="1704" y="18"/>
                  </a:lnTo>
                  <a:lnTo>
                    <a:pt x="1716" y="18"/>
                  </a:lnTo>
                  <a:lnTo>
                    <a:pt x="1746" y="24"/>
                  </a:lnTo>
                  <a:lnTo>
                    <a:pt x="1764" y="24"/>
                  </a:lnTo>
                  <a:lnTo>
                    <a:pt x="1788" y="30"/>
                  </a:lnTo>
                  <a:lnTo>
                    <a:pt x="1794" y="30"/>
                  </a:lnTo>
                  <a:lnTo>
                    <a:pt x="1806" y="30"/>
                  </a:lnTo>
                  <a:lnTo>
                    <a:pt x="1824" y="36"/>
                  </a:lnTo>
                  <a:lnTo>
                    <a:pt x="1830" y="36"/>
                  </a:lnTo>
                  <a:lnTo>
                    <a:pt x="1854" y="42"/>
                  </a:lnTo>
                  <a:lnTo>
                    <a:pt x="1866" y="42"/>
                  </a:lnTo>
                  <a:lnTo>
                    <a:pt x="1890" y="48"/>
                  </a:lnTo>
                  <a:lnTo>
                    <a:pt x="1908" y="54"/>
                  </a:lnTo>
                  <a:lnTo>
                    <a:pt x="1920" y="54"/>
                  </a:lnTo>
                  <a:lnTo>
                    <a:pt x="1968" y="60"/>
                  </a:lnTo>
                  <a:lnTo>
                    <a:pt x="2052" y="78"/>
                  </a:lnTo>
                  <a:lnTo>
                    <a:pt x="2094" y="84"/>
                  </a:lnTo>
                  <a:lnTo>
                    <a:pt x="2136" y="96"/>
                  </a:lnTo>
                  <a:lnTo>
                    <a:pt x="2214" y="114"/>
                  </a:lnTo>
                  <a:lnTo>
                    <a:pt x="2250" y="126"/>
                  </a:lnTo>
                  <a:lnTo>
                    <a:pt x="2286" y="138"/>
                  </a:lnTo>
                  <a:lnTo>
                    <a:pt x="2352" y="168"/>
                  </a:lnTo>
                  <a:lnTo>
                    <a:pt x="2382" y="186"/>
                  </a:lnTo>
                  <a:lnTo>
                    <a:pt x="2394" y="192"/>
                  </a:lnTo>
                  <a:lnTo>
                    <a:pt x="2424" y="210"/>
                  </a:lnTo>
                  <a:lnTo>
                    <a:pt x="2442" y="222"/>
                  </a:lnTo>
                  <a:lnTo>
                    <a:pt x="2460" y="240"/>
                  </a:lnTo>
                  <a:lnTo>
                    <a:pt x="2466" y="246"/>
                  </a:lnTo>
                  <a:lnTo>
                    <a:pt x="2472" y="252"/>
                  </a:lnTo>
                  <a:lnTo>
                    <a:pt x="2484" y="270"/>
                  </a:lnTo>
                  <a:lnTo>
                    <a:pt x="2490" y="282"/>
                  </a:lnTo>
                  <a:lnTo>
                    <a:pt x="2490" y="294"/>
                  </a:lnTo>
                  <a:lnTo>
                    <a:pt x="2490" y="300"/>
                  </a:lnTo>
                  <a:lnTo>
                    <a:pt x="2490" y="312"/>
                  </a:lnTo>
                  <a:lnTo>
                    <a:pt x="2490" y="318"/>
                  </a:lnTo>
                  <a:lnTo>
                    <a:pt x="2484" y="324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8080" y="4943880"/>
              <a:ext cx="227520" cy="35640"/>
            </a:xfrm>
            <a:custGeom>
              <a:avLst/>
              <a:gdLst/>
              <a:ahLst/>
              <a:rect l="l" t="t" r="r" b="b"/>
              <a:pathLst>
                <a:path w="2520" h="396">
                  <a:moveTo>
                    <a:pt x="0" y="396"/>
                  </a:moveTo>
                  <a:lnTo>
                    <a:pt x="0" y="390"/>
                  </a:lnTo>
                  <a:lnTo>
                    <a:pt x="6" y="372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42"/>
                  </a:lnTo>
                  <a:lnTo>
                    <a:pt x="24" y="330"/>
                  </a:lnTo>
                  <a:lnTo>
                    <a:pt x="30" y="318"/>
                  </a:lnTo>
                  <a:lnTo>
                    <a:pt x="36" y="306"/>
                  </a:lnTo>
                  <a:lnTo>
                    <a:pt x="48" y="294"/>
                  </a:lnTo>
                  <a:lnTo>
                    <a:pt x="66" y="276"/>
                  </a:lnTo>
                  <a:lnTo>
                    <a:pt x="90" y="258"/>
                  </a:lnTo>
                  <a:lnTo>
                    <a:pt x="108" y="246"/>
                  </a:lnTo>
                  <a:lnTo>
                    <a:pt x="132" y="228"/>
                  </a:lnTo>
                  <a:lnTo>
                    <a:pt x="192" y="192"/>
                  </a:lnTo>
                  <a:lnTo>
                    <a:pt x="228" y="174"/>
                  </a:lnTo>
                  <a:lnTo>
                    <a:pt x="240" y="168"/>
                  </a:lnTo>
                  <a:lnTo>
                    <a:pt x="270" y="156"/>
                  </a:lnTo>
                  <a:lnTo>
                    <a:pt x="300" y="144"/>
                  </a:lnTo>
                  <a:lnTo>
                    <a:pt x="330" y="138"/>
                  </a:lnTo>
                  <a:lnTo>
                    <a:pt x="342" y="132"/>
                  </a:lnTo>
                  <a:lnTo>
                    <a:pt x="354" y="126"/>
                  </a:lnTo>
                  <a:lnTo>
                    <a:pt x="372" y="120"/>
                  </a:lnTo>
                  <a:lnTo>
                    <a:pt x="390" y="114"/>
                  </a:lnTo>
                  <a:lnTo>
                    <a:pt x="408" y="108"/>
                  </a:lnTo>
                  <a:lnTo>
                    <a:pt x="426" y="102"/>
                  </a:lnTo>
                  <a:lnTo>
                    <a:pt x="444" y="96"/>
                  </a:lnTo>
                  <a:lnTo>
                    <a:pt x="456" y="96"/>
                  </a:lnTo>
                  <a:lnTo>
                    <a:pt x="474" y="90"/>
                  </a:lnTo>
                  <a:lnTo>
                    <a:pt x="486" y="90"/>
                  </a:lnTo>
                  <a:lnTo>
                    <a:pt x="516" y="78"/>
                  </a:lnTo>
                  <a:lnTo>
                    <a:pt x="546" y="72"/>
                  </a:lnTo>
                  <a:lnTo>
                    <a:pt x="576" y="66"/>
                  </a:lnTo>
                  <a:lnTo>
                    <a:pt x="600" y="60"/>
                  </a:lnTo>
                  <a:lnTo>
                    <a:pt x="636" y="54"/>
                  </a:lnTo>
                  <a:lnTo>
                    <a:pt x="714" y="42"/>
                  </a:lnTo>
                  <a:lnTo>
                    <a:pt x="750" y="36"/>
                  </a:lnTo>
                  <a:lnTo>
                    <a:pt x="786" y="30"/>
                  </a:lnTo>
                  <a:lnTo>
                    <a:pt x="852" y="24"/>
                  </a:lnTo>
                  <a:lnTo>
                    <a:pt x="888" y="18"/>
                  </a:lnTo>
                  <a:lnTo>
                    <a:pt x="900" y="18"/>
                  </a:lnTo>
                  <a:lnTo>
                    <a:pt x="936" y="12"/>
                  </a:lnTo>
                  <a:lnTo>
                    <a:pt x="966" y="12"/>
                  </a:lnTo>
                  <a:lnTo>
                    <a:pt x="1008" y="6"/>
                  </a:lnTo>
                  <a:lnTo>
                    <a:pt x="1026" y="6"/>
                  </a:lnTo>
                  <a:lnTo>
                    <a:pt x="1044" y="6"/>
                  </a:lnTo>
                  <a:lnTo>
                    <a:pt x="1092" y="0"/>
                  </a:lnTo>
                  <a:lnTo>
                    <a:pt x="1134" y="0"/>
                  </a:lnTo>
                  <a:lnTo>
                    <a:pt x="1182" y="0"/>
                  </a:lnTo>
                  <a:lnTo>
                    <a:pt x="1206" y="0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0" y="0"/>
                  </a:lnTo>
                  <a:lnTo>
                    <a:pt x="1368" y="6"/>
                  </a:lnTo>
                  <a:lnTo>
                    <a:pt x="1386" y="6"/>
                  </a:lnTo>
                  <a:lnTo>
                    <a:pt x="1422" y="6"/>
                  </a:lnTo>
                  <a:lnTo>
                    <a:pt x="1494" y="12"/>
                  </a:lnTo>
                  <a:lnTo>
                    <a:pt x="1530" y="12"/>
                  </a:lnTo>
                  <a:lnTo>
                    <a:pt x="1548" y="12"/>
                  </a:lnTo>
                  <a:lnTo>
                    <a:pt x="1572" y="12"/>
                  </a:lnTo>
                  <a:lnTo>
                    <a:pt x="1596" y="12"/>
                  </a:lnTo>
                  <a:lnTo>
                    <a:pt x="1620" y="18"/>
                  </a:lnTo>
                  <a:lnTo>
                    <a:pt x="1626" y="18"/>
                  </a:lnTo>
                  <a:lnTo>
                    <a:pt x="1644" y="24"/>
                  </a:lnTo>
                  <a:lnTo>
                    <a:pt x="1680" y="30"/>
                  </a:lnTo>
                  <a:lnTo>
                    <a:pt x="1698" y="30"/>
                  </a:lnTo>
                  <a:lnTo>
                    <a:pt x="1722" y="30"/>
                  </a:lnTo>
                  <a:lnTo>
                    <a:pt x="1764" y="36"/>
                  </a:lnTo>
                  <a:lnTo>
                    <a:pt x="1788" y="36"/>
                  </a:lnTo>
                  <a:lnTo>
                    <a:pt x="1794" y="36"/>
                  </a:lnTo>
                  <a:lnTo>
                    <a:pt x="1806" y="36"/>
                  </a:lnTo>
                  <a:lnTo>
                    <a:pt x="1830" y="42"/>
                  </a:lnTo>
                  <a:lnTo>
                    <a:pt x="1842" y="42"/>
                  </a:lnTo>
                  <a:lnTo>
                    <a:pt x="1860" y="48"/>
                  </a:lnTo>
                  <a:lnTo>
                    <a:pt x="1890" y="54"/>
                  </a:lnTo>
                  <a:lnTo>
                    <a:pt x="1914" y="60"/>
                  </a:lnTo>
                  <a:lnTo>
                    <a:pt x="1944" y="66"/>
                  </a:lnTo>
                  <a:lnTo>
                    <a:pt x="1956" y="66"/>
                  </a:lnTo>
                  <a:lnTo>
                    <a:pt x="1986" y="72"/>
                  </a:lnTo>
                  <a:lnTo>
                    <a:pt x="2040" y="84"/>
                  </a:lnTo>
                  <a:lnTo>
                    <a:pt x="2100" y="102"/>
                  </a:lnTo>
                  <a:lnTo>
                    <a:pt x="2160" y="120"/>
                  </a:lnTo>
                  <a:lnTo>
                    <a:pt x="2190" y="132"/>
                  </a:lnTo>
                  <a:lnTo>
                    <a:pt x="2220" y="144"/>
                  </a:lnTo>
                  <a:lnTo>
                    <a:pt x="2274" y="162"/>
                  </a:lnTo>
                  <a:lnTo>
                    <a:pt x="2322" y="180"/>
                  </a:lnTo>
                  <a:lnTo>
                    <a:pt x="2364" y="204"/>
                  </a:lnTo>
                  <a:lnTo>
                    <a:pt x="2382" y="216"/>
                  </a:lnTo>
                  <a:lnTo>
                    <a:pt x="2400" y="228"/>
                  </a:lnTo>
                  <a:lnTo>
                    <a:pt x="2430" y="252"/>
                  </a:lnTo>
                  <a:lnTo>
                    <a:pt x="2454" y="276"/>
                  </a:lnTo>
                  <a:lnTo>
                    <a:pt x="2472" y="294"/>
                  </a:lnTo>
                  <a:lnTo>
                    <a:pt x="2484" y="306"/>
                  </a:lnTo>
                  <a:lnTo>
                    <a:pt x="2490" y="312"/>
                  </a:lnTo>
                  <a:lnTo>
                    <a:pt x="2502" y="336"/>
                  </a:lnTo>
                  <a:lnTo>
                    <a:pt x="2514" y="366"/>
                  </a:lnTo>
                  <a:lnTo>
                    <a:pt x="2520" y="384"/>
                  </a:lnTo>
                  <a:lnTo>
                    <a:pt x="2520" y="39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46360" y="4911480"/>
              <a:ext cx="211320" cy="34920"/>
            </a:xfrm>
            <a:custGeom>
              <a:avLst/>
              <a:gdLst/>
              <a:ahLst/>
              <a:rect l="l" t="t" r="r" b="b"/>
              <a:pathLst>
                <a:path w="2340" h="390">
                  <a:moveTo>
                    <a:pt x="0" y="390"/>
                  </a:moveTo>
                  <a:lnTo>
                    <a:pt x="6" y="384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8"/>
                  </a:lnTo>
                  <a:lnTo>
                    <a:pt x="36" y="336"/>
                  </a:lnTo>
                  <a:lnTo>
                    <a:pt x="48" y="324"/>
                  </a:lnTo>
                  <a:lnTo>
                    <a:pt x="60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90" y="276"/>
                  </a:lnTo>
                  <a:lnTo>
                    <a:pt x="114" y="258"/>
                  </a:lnTo>
                  <a:lnTo>
                    <a:pt x="144" y="240"/>
                  </a:lnTo>
                  <a:lnTo>
                    <a:pt x="162" y="228"/>
                  </a:lnTo>
                  <a:lnTo>
                    <a:pt x="180" y="216"/>
                  </a:lnTo>
                  <a:lnTo>
                    <a:pt x="216" y="192"/>
                  </a:lnTo>
                  <a:lnTo>
                    <a:pt x="252" y="174"/>
                  </a:lnTo>
                  <a:lnTo>
                    <a:pt x="288" y="156"/>
                  </a:lnTo>
                  <a:lnTo>
                    <a:pt x="306" y="150"/>
                  </a:lnTo>
                  <a:lnTo>
                    <a:pt x="342" y="138"/>
                  </a:lnTo>
                  <a:lnTo>
                    <a:pt x="420" y="114"/>
                  </a:lnTo>
                  <a:lnTo>
                    <a:pt x="456" y="102"/>
                  </a:lnTo>
                  <a:lnTo>
                    <a:pt x="492" y="90"/>
                  </a:lnTo>
                  <a:lnTo>
                    <a:pt x="564" y="72"/>
                  </a:lnTo>
                  <a:lnTo>
                    <a:pt x="600" y="66"/>
                  </a:lnTo>
                  <a:lnTo>
                    <a:pt x="618" y="60"/>
                  </a:lnTo>
                  <a:lnTo>
                    <a:pt x="654" y="54"/>
                  </a:lnTo>
                  <a:lnTo>
                    <a:pt x="684" y="48"/>
                  </a:lnTo>
                  <a:lnTo>
                    <a:pt x="714" y="42"/>
                  </a:lnTo>
                  <a:lnTo>
                    <a:pt x="726" y="42"/>
                  </a:lnTo>
                  <a:lnTo>
                    <a:pt x="750" y="36"/>
                  </a:lnTo>
                  <a:lnTo>
                    <a:pt x="804" y="30"/>
                  </a:lnTo>
                  <a:lnTo>
                    <a:pt x="834" y="24"/>
                  </a:lnTo>
                  <a:lnTo>
                    <a:pt x="846" y="24"/>
                  </a:lnTo>
                  <a:lnTo>
                    <a:pt x="882" y="18"/>
                  </a:lnTo>
                  <a:lnTo>
                    <a:pt x="918" y="18"/>
                  </a:lnTo>
                  <a:lnTo>
                    <a:pt x="966" y="12"/>
                  </a:lnTo>
                  <a:lnTo>
                    <a:pt x="990" y="12"/>
                  </a:lnTo>
                  <a:lnTo>
                    <a:pt x="1014" y="12"/>
                  </a:lnTo>
                  <a:lnTo>
                    <a:pt x="1062" y="6"/>
                  </a:lnTo>
                  <a:lnTo>
                    <a:pt x="1110" y="0"/>
                  </a:lnTo>
                  <a:lnTo>
                    <a:pt x="1152" y="0"/>
                  </a:lnTo>
                  <a:lnTo>
                    <a:pt x="1170" y="0"/>
                  </a:lnTo>
                  <a:lnTo>
                    <a:pt x="1188" y="0"/>
                  </a:lnTo>
                  <a:lnTo>
                    <a:pt x="1218" y="0"/>
                  </a:lnTo>
                  <a:lnTo>
                    <a:pt x="1248" y="0"/>
                  </a:lnTo>
                  <a:lnTo>
                    <a:pt x="1278" y="6"/>
                  </a:lnTo>
                  <a:lnTo>
                    <a:pt x="1290" y="6"/>
                  </a:lnTo>
                  <a:lnTo>
                    <a:pt x="1302" y="6"/>
                  </a:lnTo>
                  <a:lnTo>
                    <a:pt x="1320" y="6"/>
                  </a:lnTo>
                  <a:lnTo>
                    <a:pt x="1344" y="6"/>
                  </a:lnTo>
                  <a:lnTo>
                    <a:pt x="1380" y="12"/>
                  </a:lnTo>
                  <a:lnTo>
                    <a:pt x="1392" y="12"/>
                  </a:lnTo>
                  <a:lnTo>
                    <a:pt x="1422" y="18"/>
                  </a:lnTo>
                  <a:lnTo>
                    <a:pt x="1482" y="24"/>
                  </a:lnTo>
                  <a:lnTo>
                    <a:pt x="1512" y="24"/>
                  </a:lnTo>
                  <a:lnTo>
                    <a:pt x="1542" y="30"/>
                  </a:lnTo>
                  <a:lnTo>
                    <a:pt x="1602" y="36"/>
                  </a:lnTo>
                  <a:lnTo>
                    <a:pt x="1632" y="42"/>
                  </a:lnTo>
                  <a:lnTo>
                    <a:pt x="1644" y="42"/>
                  </a:lnTo>
                  <a:lnTo>
                    <a:pt x="1674" y="48"/>
                  </a:lnTo>
                  <a:lnTo>
                    <a:pt x="1710" y="54"/>
                  </a:lnTo>
                  <a:lnTo>
                    <a:pt x="1758" y="66"/>
                  </a:lnTo>
                  <a:lnTo>
                    <a:pt x="1782" y="72"/>
                  </a:lnTo>
                  <a:lnTo>
                    <a:pt x="1806" y="78"/>
                  </a:lnTo>
                  <a:lnTo>
                    <a:pt x="1860" y="90"/>
                  </a:lnTo>
                  <a:lnTo>
                    <a:pt x="1908" y="102"/>
                  </a:lnTo>
                  <a:lnTo>
                    <a:pt x="1962" y="120"/>
                  </a:lnTo>
                  <a:lnTo>
                    <a:pt x="1992" y="132"/>
                  </a:lnTo>
                  <a:lnTo>
                    <a:pt x="2022" y="144"/>
                  </a:lnTo>
                  <a:lnTo>
                    <a:pt x="2070" y="162"/>
                  </a:lnTo>
                  <a:lnTo>
                    <a:pt x="2112" y="180"/>
                  </a:lnTo>
                  <a:lnTo>
                    <a:pt x="2154" y="204"/>
                  </a:lnTo>
                  <a:lnTo>
                    <a:pt x="2172" y="216"/>
                  </a:lnTo>
                  <a:lnTo>
                    <a:pt x="2190" y="228"/>
                  </a:lnTo>
                  <a:lnTo>
                    <a:pt x="2220" y="252"/>
                  </a:lnTo>
                  <a:lnTo>
                    <a:pt x="2250" y="276"/>
                  </a:lnTo>
                  <a:lnTo>
                    <a:pt x="2268" y="294"/>
                  </a:lnTo>
                  <a:lnTo>
                    <a:pt x="2280" y="306"/>
                  </a:lnTo>
                  <a:lnTo>
                    <a:pt x="2298" y="324"/>
                  </a:lnTo>
                  <a:lnTo>
                    <a:pt x="2328" y="366"/>
                  </a:lnTo>
                  <a:lnTo>
                    <a:pt x="2340" y="390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65440" y="4888800"/>
              <a:ext cx="173520" cy="27360"/>
            </a:xfrm>
            <a:custGeom>
              <a:avLst/>
              <a:gdLst/>
              <a:ahLst/>
              <a:rect l="l" t="t" r="r" b="b"/>
              <a:pathLst>
                <a:path w="1920" h="306">
                  <a:moveTo>
                    <a:pt x="0" y="306"/>
                  </a:moveTo>
                  <a:lnTo>
                    <a:pt x="18" y="288"/>
                  </a:lnTo>
                  <a:lnTo>
                    <a:pt x="48" y="258"/>
                  </a:lnTo>
                  <a:lnTo>
                    <a:pt x="90" y="228"/>
                  </a:lnTo>
                  <a:lnTo>
                    <a:pt x="138" y="198"/>
                  </a:lnTo>
                  <a:lnTo>
                    <a:pt x="162" y="186"/>
                  </a:lnTo>
                  <a:lnTo>
                    <a:pt x="180" y="174"/>
                  </a:lnTo>
                  <a:lnTo>
                    <a:pt x="228" y="150"/>
                  </a:lnTo>
                  <a:lnTo>
                    <a:pt x="282" y="126"/>
                  </a:lnTo>
                  <a:lnTo>
                    <a:pt x="330" y="108"/>
                  </a:lnTo>
                  <a:lnTo>
                    <a:pt x="354" y="102"/>
                  </a:lnTo>
                  <a:lnTo>
                    <a:pt x="378" y="96"/>
                  </a:lnTo>
                  <a:lnTo>
                    <a:pt x="420" y="84"/>
                  </a:lnTo>
                  <a:lnTo>
                    <a:pt x="462" y="72"/>
                  </a:lnTo>
                  <a:lnTo>
                    <a:pt x="504" y="66"/>
                  </a:lnTo>
                  <a:lnTo>
                    <a:pt x="522" y="60"/>
                  </a:lnTo>
                  <a:lnTo>
                    <a:pt x="540" y="54"/>
                  </a:lnTo>
                  <a:lnTo>
                    <a:pt x="570" y="48"/>
                  </a:lnTo>
                  <a:lnTo>
                    <a:pt x="594" y="42"/>
                  </a:lnTo>
                  <a:lnTo>
                    <a:pt x="612" y="42"/>
                  </a:lnTo>
                  <a:lnTo>
                    <a:pt x="618" y="42"/>
                  </a:lnTo>
                  <a:lnTo>
                    <a:pt x="636" y="36"/>
                  </a:lnTo>
                  <a:lnTo>
                    <a:pt x="648" y="36"/>
                  </a:lnTo>
                  <a:lnTo>
                    <a:pt x="672" y="30"/>
                  </a:lnTo>
                  <a:lnTo>
                    <a:pt x="678" y="30"/>
                  </a:lnTo>
                  <a:lnTo>
                    <a:pt x="684" y="30"/>
                  </a:lnTo>
                  <a:lnTo>
                    <a:pt x="714" y="24"/>
                  </a:lnTo>
                  <a:lnTo>
                    <a:pt x="744" y="18"/>
                  </a:lnTo>
                  <a:lnTo>
                    <a:pt x="774" y="18"/>
                  </a:lnTo>
                  <a:lnTo>
                    <a:pt x="798" y="12"/>
                  </a:lnTo>
                  <a:lnTo>
                    <a:pt x="840" y="6"/>
                  </a:lnTo>
                  <a:lnTo>
                    <a:pt x="912" y="0"/>
                  </a:lnTo>
                  <a:lnTo>
                    <a:pt x="948" y="0"/>
                  </a:lnTo>
                  <a:lnTo>
                    <a:pt x="966" y="0"/>
                  </a:lnTo>
                  <a:lnTo>
                    <a:pt x="996" y="0"/>
                  </a:lnTo>
                  <a:lnTo>
                    <a:pt x="1026" y="0"/>
                  </a:lnTo>
                  <a:lnTo>
                    <a:pt x="1056" y="6"/>
                  </a:lnTo>
                  <a:lnTo>
                    <a:pt x="1068" y="6"/>
                  </a:lnTo>
                  <a:lnTo>
                    <a:pt x="1074" y="6"/>
                  </a:lnTo>
                  <a:lnTo>
                    <a:pt x="1104" y="12"/>
                  </a:lnTo>
                  <a:lnTo>
                    <a:pt x="1134" y="18"/>
                  </a:lnTo>
                  <a:lnTo>
                    <a:pt x="1164" y="24"/>
                  </a:lnTo>
                  <a:lnTo>
                    <a:pt x="1176" y="24"/>
                  </a:lnTo>
                  <a:lnTo>
                    <a:pt x="1206" y="30"/>
                  </a:lnTo>
                  <a:lnTo>
                    <a:pt x="1260" y="36"/>
                  </a:lnTo>
                  <a:lnTo>
                    <a:pt x="1284" y="36"/>
                  </a:lnTo>
                  <a:lnTo>
                    <a:pt x="1308" y="42"/>
                  </a:lnTo>
                  <a:lnTo>
                    <a:pt x="1350" y="48"/>
                  </a:lnTo>
                  <a:lnTo>
                    <a:pt x="1368" y="48"/>
                  </a:lnTo>
                  <a:lnTo>
                    <a:pt x="1374" y="48"/>
                  </a:lnTo>
                  <a:lnTo>
                    <a:pt x="1398" y="54"/>
                  </a:lnTo>
                  <a:lnTo>
                    <a:pt x="1422" y="60"/>
                  </a:lnTo>
                  <a:lnTo>
                    <a:pt x="1452" y="66"/>
                  </a:lnTo>
                  <a:lnTo>
                    <a:pt x="1470" y="72"/>
                  </a:lnTo>
                  <a:lnTo>
                    <a:pt x="1488" y="78"/>
                  </a:lnTo>
                  <a:lnTo>
                    <a:pt x="1530" y="90"/>
                  </a:lnTo>
                  <a:lnTo>
                    <a:pt x="1572" y="102"/>
                  </a:lnTo>
                  <a:lnTo>
                    <a:pt x="1614" y="120"/>
                  </a:lnTo>
                  <a:lnTo>
                    <a:pt x="1632" y="126"/>
                  </a:lnTo>
                  <a:lnTo>
                    <a:pt x="1650" y="132"/>
                  </a:lnTo>
                  <a:lnTo>
                    <a:pt x="1692" y="150"/>
                  </a:lnTo>
                  <a:lnTo>
                    <a:pt x="1734" y="168"/>
                  </a:lnTo>
                  <a:lnTo>
                    <a:pt x="1776" y="192"/>
                  </a:lnTo>
                  <a:lnTo>
                    <a:pt x="1794" y="204"/>
                  </a:lnTo>
                  <a:lnTo>
                    <a:pt x="1812" y="216"/>
                  </a:lnTo>
                  <a:lnTo>
                    <a:pt x="1848" y="240"/>
                  </a:lnTo>
                  <a:lnTo>
                    <a:pt x="1878" y="264"/>
                  </a:lnTo>
                  <a:lnTo>
                    <a:pt x="1908" y="294"/>
                  </a:lnTo>
                  <a:lnTo>
                    <a:pt x="1920" y="306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97840" y="4878360"/>
              <a:ext cx="108360" cy="11880"/>
            </a:xfrm>
            <a:custGeom>
              <a:avLst/>
              <a:gdLst/>
              <a:ahLst/>
              <a:rect l="l" t="t" r="r" b="b"/>
              <a:pathLst>
                <a:path w="1200" h="132">
                  <a:moveTo>
                    <a:pt x="0" y="132"/>
                  </a:moveTo>
                  <a:lnTo>
                    <a:pt x="24" y="120"/>
                  </a:lnTo>
                  <a:lnTo>
                    <a:pt x="72" y="96"/>
                  </a:lnTo>
                  <a:lnTo>
                    <a:pt x="120" y="78"/>
                  </a:lnTo>
                  <a:lnTo>
                    <a:pt x="174" y="60"/>
                  </a:lnTo>
                  <a:lnTo>
                    <a:pt x="198" y="54"/>
                  </a:lnTo>
                  <a:lnTo>
                    <a:pt x="222" y="48"/>
                  </a:lnTo>
                  <a:lnTo>
                    <a:pt x="270" y="36"/>
                  </a:lnTo>
                  <a:lnTo>
                    <a:pt x="318" y="24"/>
                  </a:lnTo>
                  <a:lnTo>
                    <a:pt x="354" y="18"/>
                  </a:lnTo>
                  <a:lnTo>
                    <a:pt x="372" y="18"/>
                  </a:lnTo>
                  <a:lnTo>
                    <a:pt x="390" y="18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2" y="12"/>
                  </a:lnTo>
                  <a:lnTo>
                    <a:pt x="468" y="12"/>
                  </a:lnTo>
                  <a:lnTo>
                    <a:pt x="486" y="6"/>
                  </a:lnTo>
                  <a:lnTo>
                    <a:pt x="504" y="6"/>
                  </a:lnTo>
                  <a:lnTo>
                    <a:pt x="516" y="6"/>
                  </a:lnTo>
                  <a:lnTo>
                    <a:pt x="528" y="6"/>
                  </a:lnTo>
                  <a:lnTo>
                    <a:pt x="534" y="6"/>
                  </a:lnTo>
                  <a:lnTo>
                    <a:pt x="558" y="0"/>
                  </a:lnTo>
                  <a:lnTo>
                    <a:pt x="570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54" y="0"/>
                  </a:lnTo>
                  <a:lnTo>
                    <a:pt x="672" y="0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8" y="24"/>
                  </a:lnTo>
                  <a:lnTo>
                    <a:pt x="846" y="24"/>
                  </a:lnTo>
                  <a:lnTo>
                    <a:pt x="864" y="24"/>
                  </a:lnTo>
                  <a:lnTo>
                    <a:pt x="900" y="30"/>
                  </a:lnTo>
                  <a:lnTo>
                    <a:pt x="948" y="42"/>
                  </a:lnTo>
                  <a:lnTo>
                    <a:pt x="996" y="54"/>
                  </a:lnTo>
                  <a:lnTo>
                    <a:pt x="1020" y="60"/>
                  </a:lnTo>
                  <a:lnTo>
                    <a:pt x="1068" y="78"/>
                  </a:lnTo>
                  <a:lnTo>
                    <a:pt x="1158" y="114"/>
                  </a:lnTo>
                  <a:lnTo>
                    <a:pt x="1200" y="132"/>
                  </a:lnTo>
                </a:path>
              </a:pathLst>
            </a:custGeom>
            <a:noFill/>
            <a:ln w="936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cp:lastPrinted>2002-03-04T15:59:53Z</cp:lastPrinted>
  <dcterms:modified xsi:type="dcterms:W3CDTF">2003-06-30T23:11:43Z</dcterms:modified>
  <cp:revision>184</cp:revision>
  <dc:subject/>
  <dc:title>Sin título de diapositiva</dc:title>
</cp:coreProperties>
</file>