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43.png" ContentType="image/png"/>
  <Override PartName="/ppt/media/image53.jpeg" ContentType="image/jpeg"/>
  <Override PartName="/ppt/media/image49.wmf" ContentType="image/x-wmf"/>
  <Override PartName="/ppt/media/image50.png" ContentType="image/png"/>
  <Override PartName="/ppt/media/image48.wmf" ContentType="image/x-wmf"/>
  <Override PartName="/ppt/media/image33.jpeg" ContentType="image/jpeg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39.wmf" ContentType="image/x-wmf"/>
  <Override PartName="/ppt/media/image38.wmf" ContentType="image/x-wmf"/>
  <Override PartName="/ppt/media/image32.jpeg" ContentType="image/jpeg"/>
  <Override PartName="/ppt/media/image37.wmf" ContentType="image/x-wmf"/>
  <Override PartName="/ppt/media/image36.wmf" ContentType="image/x-wmf"/>
  <Override PartName="/ppt/media/image4.png" ContentType="image/png"/>
  <Override PartName="/ppt/media/image34.png" ContentType="image/png"/>
  <Override PartName="/ppt/media/image18.wmf" ContentType="image/x-wmf"/>
  <Override PartName="/ppt/media/image12.png" ContentType="image/png"/>
  <Override PartName="/ppt/media/image57.png" ContentType="image/png"/>
  <Override PartName="/ppt/media/image2.wmf" ContentType="image/x-wmf"/>
  <Override PartName="/ppt/media/image69.wmf" ContentType="image/x-wmf"/>
  <Override PartName="/ppt/media/image71.png" ContentType="image/png"/>
  <Override PartName="/ppt/media/image42.png" ContentType="image/png"/>
  <Override PartName="/ppt/media/image26.jpeg" ContentType="image/jpeg"/>
  <Override PartName="/ppt/media/image19.wmf" ContentType="image/x-wmf"/>
  <Override PartName="/ppt/media/image21.wmf" ContentType="image/x-wmf"/>
  <Override PartName="/ppt/media/image60.png" ContentType="image/png"/>
  <Override PartName="/ppt/media/image24.jpeg" ContentType="image/jpeg"/>
  <Override PartName="/ppt/media/image74.png" ContentType="image/png"/>
  <Override PartName="/ppt/media/image35.wmf" ContentType="image/x-wmf"/>
  <Override PartName="/ppt/media/image25.jpeg" ContentType="image/jpeg"/>
  <Override PartName="/ppt/media/image62.png" ContentType="image/png"/>
  <Override PartName="/ppt/media/image14.png" ContentType="image/png"/>
  <Override PartName="/ppt/media/image63.png" ContentType="image/png"/>
  <Override PartName="/ppt/media/image20.wmf" ContentType="image/x-wmf"/>
  <Override PartName="/ppt/media/image72.png" ContentType="image/png"/>
  <Override PartName="/ppt/media/image70.png" ContentType="image/png"/>
  <Override PartName="/ppt/media/image64.jpeg" ContentType="image/jpe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73.jpeg" ContentType="image/jpeg"/>
  <Override PartName="/ppt/media/image65.png" ContentType="image/png"/>
  <Override PartName="/ppt/media/image61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29.png" ContentType="image/png"/>
  <Override PartName="/ppt/media/image51.wmf" ContentType="image/x-wmf"/>
  <Override PartName="/ppt/media/image75.png" ContentType="image/png"/>
  <Override PartName="/ppt/media/image22.jpeg" ContentType="image/jpeg"/>
  <Override PartName="/ppt/media/image9.png" ContentType="image/png"/>
  <Override PartName="/ppt/media/image58.png" ContentType="image/png"/>
  <Override PartName="/ppt/media/image3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59.png" ContentType="image/png"/>
  <Override PartName="/ppt/media/image16.wmf" ContentType="image/x-wmf"/>
  <Override PartName="/ppt/media/image23.jpeg" ContentType="image/jpeg"/>
  <Override PartName="/ppt/media/image8.png" ContentType="image/png"/>
  <Override PartName="/ppt/media/image7.png" ContentType="image/png"/>
  <Override PartName="/ppt/media/image41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7.jpeg" ContentType="image/jpeg"/>
  <Override PartName="/ppt/media/image17.wmf" ContentType="image/x-wmf"/>
  <Override PartName="/ppt/media/image5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32588" cy="9853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2000" cy="985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p>
            <a:pPr marL="216000"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1132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5840" y="747360"/>
            <a:ext cx="4902480" cy="367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93596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11320" y="93596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19800" rIns="198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fld id="{658E6772-B694-4BB5-B4DC-2132357EEF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4400" y="762120"/>
            <a:ext cx="4902120" cy="3676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Difusión de las intranets corporativa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Administración del conocimiento interno basado en modelos de 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Posibilidad de comunicaciones instantáneas utilizando productos de mensajería y vid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istemas de back-office basados en tecnología web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Oracle 11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MySAP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PeopleSoft v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incronización con bases de conocimiento global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itios web corporativos conectados a la 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oluciones de back-office conectadas a la 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implificación para el empleado: único punto de contacto y acceso a la inform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Posibilidad de satisfacer necesidades personales y laborales al mismo tiempo (ejemplo: homebank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recimiento rápido de Internet hasta mediados del 2001 y estancamiento posterior por impacto de la crisis económ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Uso hogareño bajo y concentrado en Buenos Aires; aceleración del acceso desde el trabaj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8744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cceso telefónico todavía dominante, creciente interés en banda ancha fuertemente ligado a la evolución de los prec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cceso wireless muy incipiente, crecimiento potencial interesante dada la amplia base instalada de telefonía celular, pero fuertemente ligado a la evolución de los prec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Colapso de las dotcoms (las sobrevivientes son en su mayoría subsidiarias de compañías más grandes, con negocios previamente establecido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rgentina vivió un surgimiento de dotcoms comparable al de USA. En el boom, 50%  de las dotcoms de LatinoAmérica eran argentinas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Concentración de los proveedores de servicios de conexión a internet en grandes compañías de telecomunicaciones y me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Mercado de comercio electrónico a consumidores (B2C) relativamente reducido, obstaculizado por resistencias culturales, fuertemente impactado por la crisis económica y sin perspectivas florecientes para el corto plaz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Esfuerzos para resolver las preocupaciones alrededor de la seguridad digi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e desarrollaron métodos de pago on line, alternativos a la tarjeta de crédito (Digicuenta, Novacash, PrintedPay, PagoFaci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e integró el comercio electrónico con modalidades de pago off 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El gobierno argentino dio pasos para fortalecer el marco legal: Ley de Protección de Información Personal y Ley de Firma Digit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Algunos sectores tradicionales muestran experiencias exitosas de B2C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Supermercados: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Disco pudo superar barreras culturales aprovechando su servicio tradicional de entrega a domicilio y permitiendo el pago en efectivo al momento de la recepción de la mercaderí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Bancos: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el homebanking tuvo un enorme crecimiento, fuertemente estimulado por los bancos para reducir costos y potenciado en su momento por las medidas del gobierno que pusieron trabas al manejo de efectiv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Desarrollo interesante de la interacción electrónica entre compañías (B2B), aunque con grandes diferencias según el segmento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La mayoría de la actividad de comercio electrónico de tipo B2B es realizado por </a:t>
            </a: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grandes compañías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que buscan reducir costos o incrementar competitivida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PYMES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en general no lo utilizan, excepto cuando son forzadas por grandes compañías clientes (caso Carrefour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sector agropecuario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mostró interés en el comercio electrónico a partir de 2001. Se estima que más del 10% del sector agropecuario utiliza internet en la administración de su negoci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Progreso muy limitado del E-Government (aprovechamiento de internet por parte del gobiern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En de 1997 se lanzó el Plan de Modernización del Estado que perseguía: administración sin papeles, acceso remoto las 24 hs.  a los servicios del gobierno y portales para acceder a la información del gobierno. Se vio seriamente afectado por la crisis económ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4912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lgunas administraciones están avanzando en los portales de compras para dar transparenci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Soporte de compañías o entidades con liderazgo en la industr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Visión común entre los fund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Poder de compra y volumen de transacciones garantizado por los fund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Los fundadores estimulan la incorporación de sus principales proveedores (“on-boarding”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Integración con los sistemas de back offi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Ingreso de nuevos participantes sujeto a aprobación de los fundador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Capacidad financiera para actualizar y potenciar la tecnolog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Modelo de ingresos orientado a precio por transacción o util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Reglas de funcionamiento compartid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Mecanismos de contro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plicación de estándares internacion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Acpeptación del mercado y los entes de contro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Times New Roman"/>
              </a:rPr>
              <a:t>Toda la soluciónn está basada en el estándar HL7 Estándar EDI específico de salu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Reducción de Costos de Abastecimiento:  iniciados por compañías con grandes volúmenes de compra para obtener ahorros vía reducción de precios de proveedores  y reducción de costos administrativ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olaboración entre compañías horizontal (misma función:Adquira, que junta a Telefónica, Repsol YPF, BBVA e Iberia) o vertical (misma industria: eSteel; PlasticsN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Servicios compartidos: a través de la colaboración entre las compañías se reducen costos de hardware, de proyecto, et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onocimiento compartido: se replican mejores prácticas de abastecimiento entre compañí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Eficiencia y transparencia: por ejemplo, para el gobierno es una herramienta para dar transparencia a sus compr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Integración de las cadenas de valor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6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Relaciones </a:t>
            </a:r>
            <a:r>
              <a:rPr b="0" i="1" lang="es-ES_tradnl" sz="1300" spc="-1" strike="noStrike">
                <a:solidFill>
                  <a:srgbClr val="000000"/>
                </a:solidFill>
                <a:latin typeface="Times New Roman"/>
              </a:rPr>
              <a:t>end to end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 de clientes a provee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6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Una cadena de valor integrada genera más valor que dos cadenas cliente - proveedor desconectad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Difusión de estándare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6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Tecnológicos (XML, SOA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226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Industriales (en salud: HL7, formatos de EDI de cada industri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77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4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cimiento continuo de la u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tilización de internet fomentada por el sector público y priv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Difusión de la banda ancha (cable, ADSL) y wirel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Aparición de nuevos dispositivos de acceso a internet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onvergencia de Teléfono, TV, Stereo, Home Compu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POS, Kioskos, Hand-Helds basados en 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Incorporación de IP browsers en electrodomésticos y otros bienes de consum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Integración de nuevos mercados a la web (Asia, Europa Orienta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Viabilidad técnica y económica d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Generar grandes bases de datos con información de clie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Hacer marketing personaliz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80800">
              <a:spcBef>
                <a:spcPts val="488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Poner más información a disposición 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consumidor (catálogos en 3 D, manuales y especificaciones técnicas, experiencias de otros consumidor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0">
              <a:spcBef>
                <a:spcPts val="488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488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9000" y="369216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732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74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58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90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74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58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89000" y="1063800"/>
            <a:ext cx="871992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871992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4640" y="271440"/>
            <a:ext cx="67453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9000" y="1063800"/>
            <a:ext cx="871992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732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89000" y="369216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732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74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5800" y="106380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890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74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5800" y="3692160"/>
            <a:ext cx="2807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871992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640" y="271440"/>
            <a:ext cx="6745320" cy="24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7320" y="369216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900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063800"/>
            <a:ext cx="425520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9000" y="3692160"/>
            <a:ext cx="87199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9000" y="1063800"/>
            <a:ext cx="871992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3920"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3920">
              <a:spcBef>
                <a:spcPts val="1125"/>
              </a:spcBef>
              <a:buClr>
                <a:srgbClr val="d0a66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87280">
              <a:spcBef>
                <a:spcPts val="1125"/>
              </a:spcBef>
              <a:buClr>
                <a:srgbClr val="cea7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69560">
              <a:spcBef>
                <a:spcPts val="1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69560">
              <a:spcBef>
                <a:spcPts val="1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69560">
              <a:spcBef>
                <a:spcPts val="112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© 2003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80200" y="6302520"/>
            <a:ext cx="2565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fld id="{9C6C3CFA-5608-4F66-9D36-8BC35A3133B9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7080" y="906480"/>
            <a:ext cx="670536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66000" y="33480"/>
            <a:ext cx="1903320" cy="103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9720" y="19839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04920" y="6407280"/>
            <a:ext cx="313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and Systems Aligned. Business Empowered.</a:t>
            </a:r>
            <a:r>
              <a:rPr b="0" lang="en-US" sz="800" spc="-1" strike="noStrike" baseline="5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5293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200" y="31273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7720" y="204624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96120" y="652320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607080" y="231840"/>
            <a:ext cx="2143080" cy="116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001"/>
              </a:spcBef>
              <a:buClr>
                <a:srgbClr val="cea700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4.png"/><Relationship Id="rId3" Type="http://schemas.openxmlformats.org/officeDocument/2006/relationships/image" Target="../media/image44.wmf"/><Relationship Id="rId4" Type="http://schemas.openxmlformats.org/officeDocument/2006/relationships/image" Target="../media/image14.png"/><Relationship Id="rId5" Type="http://schemas.openxmlformats.org/officeDocument/2006/relationships/image" Target="../media/image45.wmf"/><Relationship Id="rId6" Type="http://schemas.openxmlformats.org/officeDocument/2006/relationships/image" Target="../media/image14.png"/><Relationship Id="rId7" Type="http://schemas.openxmlformats.org/officeDocument/2006/relationships/image" Target="../media/image46.wmf"/><Relationship Id="rId8" Type="http://schemas.openxmlformats.org/officeDocument/2006/relationships/image" Target="../media/image14.png"/><Relationship Id="rId9" Type="http://schemas.openxmlformats.org/officeDocument/2006/relationships/image" Target="../media/image47.wmf"/><Relationship Id="rId10" Type="http://schemas.openxmlformats.org/officeDocument/2006/relationships/image" Target="../media/image14.png"/><Relationship Id="rId11" Type="http://schemas.openxmlformats.org/officeDocument/2006/relationships/image" Target="../media/image48.wmf"/><Relationship Id="rId12" Type="http://schemas.openxmlformats.org/officeDocument/2006/relationships/image" Target="../media/image14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hyperlink" Target="http://www.eficentrum.com/" TargetMode="External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4.png"/><Relationship Id="rId8" Type="http://schemas.openxmlformats.org/officeDocument/2006/relationships/image" Target="../media/image18.wmf"/><Relationship Id="rId9" Type="http://schemas.openxmlformats.org/officeDocument/2006/relationships/image" Target="../media/image14.png"/><Relationship Id="rId10" Type="http://schemas.openxmlformats.org/officeDocument/2006/relationships/image" Target="../media/image19.wmf"/><Relationship Id="rId11" Type="http://schemas.openxmlformats.org/officeDocument/2006/relationships/image" Target="../media/image14.png"/><Relationship Id="rId12" Type="http://schemas.openxmlformats.org/officeDocument/2006/relationships/image" Target="../media/image20.wmf"/><Relationship Id="rId13" Type="http://schemas.openxmlformats.org/officeDocument/2006/relationships/image" Target="../media/image14.png"/><Relationship Id="rId14" Type="http://schemas.openxmlformats.org/officeDocument/2006/relationships/image" Target="../media/image21.wmf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image" Target="../media/image35.wmf"/><Relationship Id="rId4" Type="http://schemas.openxmlformats.org/officeDocument/2006/relationships/image" Target="../media/image14.png"/><Relationship Id="rId5" Type="http://schemas.openxmlformats.org/officeDocument/2006/relationships/image" Target="../media/image36.wmf"/><Relationship Id="rId6" Type="http://schemas.openxmlformats.org/officeDocument/2006/relationships/image" Target="../media/image14.png"/><Relationship Id="rId7" Type="http://schemas.openxmlformats.org/officeDocument/2006/relationships/image" Target="../media/image37.wmf"/><Relationship Id="rId8" Type="http://schemas.openxmlformats.org/officeDocument/2006/relationships/image" Target="../media/image14.png"/><Relationship Id="rId9" Type="http://schemas.openxmlformats.org/officeDocument/2006/relationships/image" Target="../media/image38.wmf"/><Relationship Id="rId10" Type="http://schemas.openxmlformats.org/officeDocument/2006/relationships/image" Target="../media/image14.png"/><Relationship Id="rId11" Type="http://schemas.openxmlformats.org/officeDocument/2006/relationships/image" Target="../media/image39.wmf"/><Relationship Id="rId12" Type="http://schemas.openxmlformats.org/officeDocument/2006/relationships/image" Target="../media/image14.png"/><Relationship Id="rId13" Type="http://schemas.openxmlformats.org/officeDocument/2006/relationships/image" Target="../media/image40.wmf"/><Relationship Id="rId14" Type="http://schemas.openxmlformats.org/officeDocument/2006/relationships/image" Target="../media/image14.png"/><Relationship Id="rId15" Type="http://schemas.openxmlformats.org/officeDocument/2006/relationships/image" Target="../media/image41.wmf"/><Relationship Id="rId16" Type="http://schemas.openxmlformats.org/officeDocument/2006/relationships/image" Target="../media/image35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9720" y="19839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ctualidad y Perspectiva </a:t>
            </a:r>
            <a:br>
              <a:rPr sz="3000"/>
            </a:b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el Negocio Electrón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575640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ulio de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40040" y="3309840"/>
            <a:ext cx="343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34560" y="271440"/>
            <a:ext cx="5945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es E-Knowled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06520" y="1089000"/>
            <a:ext cx="8053200" cy="5505480"/>
            <a:chOff x="506520" y="1089000"/>
            <a:chExt cx="8053200" cy="55054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06520" y="1089000"/>
              <a:ext cx="8043840" cy="55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776040" y="3225960"/>
              <a:ext cx="15523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Portal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Conoci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Arial"/>
                </a:rPr>
                <a:t>Interno Glob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00480" y="1652760"/>
              <a:ext cx="787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Acceso Intra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78080" y="2125800"/>
              <a:ext cx="14029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de Da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01760" y="2919240"/>
              <a:ext cx="1018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Adm.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Conten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0040" y="4033800"/>
              <a:ext cx="10540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Bases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16320" y="4775040"/>
              <a:ext cx="1121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Servicios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Compart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0160" y="5295960"/>
              <a:ext cx="834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Fin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0240" y="4863960"/>
              <a:ext cx="1249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Entrena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a Dista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21560" y="4044960"/>
              <a:ext cx="1240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Adm.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73760" y="2913120"/>
              <a:ext cx="9961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Benef.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Emple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22840" y="2055960"/>
              <a:ext cx="10494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Self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99"/>
                  </a:solidFill>
                  <a:latin typeface="Arial"/>
                </a:rPr>
                <a:t>Emple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441600"/>
              <a:ext cx="124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35686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000000"/>
                  </a:solidFill>
                  <a:latin typeface="Arial"/>
                </a:rPr>
                <a:t>EMPLE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66680" y="1003320"/>
            <a:ext cx="383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Espacio virtual personalizado para cada emplead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49400" y="0"/>
            <a:ext cx="738000" cy="87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2320" y="271440"/>
            <a:ext cx="5958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Impulsa el E-Knowled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9400" y="0"/>
            <a:ext cx="738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744480" y="1933560"/>
            <a:ext cx="6755040" cy="830160"/>
            <a:chOff x="744480" y="1933560"/>
            <a:chExt cx="6755040" cy="830160"/>
          </a:xfrm>
        </p:grpSpPr>
        <p:sp>
          <p:nvSpPr>
            <p:cNvPr id="311" name=""/>
            <p:cNvSpPr/>
            <p:nvPr/>
          </p:nvSpPr>
          <p:spPr>
            <a:xfrm>
              <a:off x="1593720" y="215892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unicación Instantán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j0237162" descr=""/>
            <p:cNvPicPr/>
            <p:nvPr/>
          </p:nvPicPr>
          <p:blipFill>
            <a:blip r:embed="rId3"/>
            <a:stretch/>
          </p:blipFill>
          <p:spPr>
            <a:xfrm>
              <a:off x="744480" y="1933560"/>
              <a:ext cx="80316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3" name=""/>
          <p:cNvGrpSpPr/>
          <p:nvPr/>
        </p:nvGrpSpPr>
        <p:grpSpPr>
          <a:xfrm>
            <a:off x="735120" y="1176480"/>
            <a:ext cx="6764400" cy="763560"/>
            <a:chOff x="735120" y="1176480"/>
            <a:chExt cx="6764400" cy="763560"/>
          </a:xfrm>
        </p:grpSpPr>
        <p:sp>
          <p:nvSpPr>
            <p:cNvPr id="314" name=""/>
            <p:cNvSpPr/>
            <p:nvPr/>
          </p:nvSpPr>
          <p:spPr>
            <a:xfrm>
              <a:off x="1593720" y="135900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ranet Corpor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j0294350" descr=""/>
            <p:cNvPicPr/>
            <p:nvPr/>
          </p:nvPicPr>
          <p:blipFill>
            <a:blip r:embed="rId5"/>
            <a:stretch/>
          </p:blipFill>
          <p:spPr>
            <a:xfrm>
              <a:off x="735120" y="1176480"/>
              <a:ext cx="755640" cy="69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806400" y="2781360"/>
            <a:ext cx="6693120" cy="803160"/>
            <a:chOff x="806400" y="2781360"/>
            <a:chExt cx="6693120" cy="803160"/>
          </a:xfrm>
        </p:grpSpPr>
        <p:sp>
          <p:nvSpPr>
            <p:cNvPr id="317" name=""/>
            <p:cNvSpPr/>
            <p:nvPr/>
          </p:nvSpPr>
          <p:spPr>
            <a:xfrm>
              <a:off x="1593720" y="300348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istemas Web 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BD06496_" descr=""/>
            <p:cNvPicPr/>
            <p:nvPr/>
          </p:nvPicPr>
          <p:blipFill>
            <a:blip r:embed="rId7"/>
            <a:stretch/>
          </p:blipFill>
          <p:spPr>
            <a:xfrm>
              <a:off x="806400" y="2781360"/>
              <a:ext cx="735120" cy="77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800280" y="3573360"/>
            <a:ext cx="6699240" cy="776520"/>
            <a:chOff x="800280" y="3573360"/>
            <a:chExt cx="6699240" cy="776520"/>
          </a:xfrm>
        </p:grpSpPr>
        <p:sp>
          <p:nvSpPr>
            <p:cNvPr id="320" name=""/>
            <p:cNvSpPr/>
            <p:nvPr/>
          </p:nvSpPr>
          <p:spPr>
            <a:xfrm>
              <a:off x="1593720" y="376884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cceso a Bases de Cono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ED00015_" descr=""/>
            <p:cNvPicPr/>
            <p:nvPr/>
          </p:nvPicPr>
          <p:blipFill>
            <a:blip r:embed="rId9"/>
            <a:stretch/>
          </p:blipFill>
          <p:spPr>
            <a:xfrm>
              <a:off x="800280" y="3573360"/>
              <a:ext cx="795240" cy="76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673200" y="4235400"/>
            <a:ext cx="6826320" cy="866880"/>
            <a:chOff x="673200" y="4235400"/>
            <a:chExt cx="6826320" cy="866880"/>
          </a:xfrm>
        </p:grpSpPr>
        <p:sp>
          <p:nvSpPr>
            <p:cNvPr id="323" name=""/>
            <p:cNvSpPr/>
            <p:nvPr/>
          </p:nvSpPr>
          <p:spPr>
            <a:xfrm>
              <a:off x="1593720" y="449100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implificación del Trabajo Administr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j0238094" descr=""/>
            <p:cNvPicPr/>
            <p:nvPr/>
          </p:nvPicPr>
          <p:blipFill>
            <a:blip r:embed="rId11"/>
            <a:stretch/>
          </p:blipFill>
          <p:spPr>
            <a:xfrm>
              <a:off x="673200" y="4235400"/>
              <a:ext cx="933480" cy="8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"/>
          <p:cNvGrpSpPr/>
          <p:nvPr/>
        </p:nvGrpSpPr>
        <p:grpSpPr>
          <a:xfrm>
            <a:off x="660240" y="5114880"/>
            <a:ext cx="6839280" cy="738360"/>
            <a:chOff x="660240" y="5114880"/>
            <a:chExt cx="6839280" cy="738360"/>
          </a:xfrm>
        </p:grpSpPr>
        <p:sp>
          <p:nvSpPr>
            <p:cNvPr id="326" name=""/>
            <p:cNvSpPr/>
            <p:nvPr/>
          </p:nvSpPr>
          <p:spPr>
            <a:xfrm>
              <a:off x="1593720" y="527220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rvicio al Emple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j0090563" descr=""/>
            <p:cNvPicPr/>
            <p:nvPr/>
          </p:nvPicPr>
          <p:blipFill>
            <a:blip r:embed="rId13"/>
            <a:stretch/>
          </p:blipFill>
          <p:spPr>
            <a:xfrm>
              <a:off x="660240" y="5114880"/>
              <a:ext cx="9115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9720" y="19839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Tendencias de Internet en Argent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rcRect l="49630" t="47948" r="14340" b="0"/>
          <a:stretch/>
        </p:blipFill>
        <p:spPr>
          <a:xfrm>
            <a:off x="3801960" y="3929040"/>
            <a:ext cx="1540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55640" y="1924200"/>
            <a:ext cx="7607160" cy="43527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rcado Mundial de E-Business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280" y="1139760"/>
            <a:ext cx="8720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ortante crecimiento esperado del mercado de E-Business Services en el mundo y en Latinoam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43480" y="3695760"/>
            <a:ext cx="1015920" cy="16488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97680" y="3594240"/>
            <a:ext cx="1015920" cy="164880"/>
          </a:xfrm>
          <a:prstGeom prst="rect">
            <a:avLst/>
          </a:prstGeom>
          <a:noFill/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9040" y="271440"/>
            <a:ext cx="58309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o d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40920" y="3292560"/>
            <a:ext cx="872028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9960" indent="-223920"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o hogareño bajo y concentrado en Buenos 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30560" y="3719520"/>
            <a:ext cx="4836960" cy="2689200"/>
            <a:chOff x="2230560" y="3719520"/>
            <a:chExt cx="4836960" cy="2689200"/>
          </a:xfrm>
        </p:grpSpPr>
        <p:graphicFrame>
          <p:nvGraphicFramePr>
            <p:cNvPr id="339" name=""/>
            <p:cNvGraphicFramePr/>
            <p:nvPr/>
          </p:nvGraphicFramePr>
          <p:xfrm>
            <a:off x="2230560" y="3719520"/>
            <a:ext cx="4836960" cy="2689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30560" y="3719520"/>
                      <a:ext cx="4836960" cy="26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4041720" y="4286160"/>
              <a:ext cx="1114560" cy="276480"/>
            </a:xfrm>
            <a:prstGeom prst="rect">
              <a:avLst/>
            </a:prstGeom>
            <a:solidFill>
              <a:srgbClr val="d1a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otal: 1,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65240" y="61920"/>
            <a:ext cx="760320" cy="760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00200" y="1803240"/>
            <a:ext cx="7761240" cy="10782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antidad de usuarios de Internet (2001): 2,5 millones (Gartner Gro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antidad de usuarios de internet (2002): 4,0 millones (Carrier y Aso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Cantidad de usuarios de internet (2003): 5,2 millones (Carrier y Aso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1280" y="1216080"/>
            <a:ext cx="87202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cimiento rápido de Internet en Argentina en los último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38320" y="271440"/>
            <a:ext cx="57420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nexión a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65240" y="61920"/>
            <a:ext cx="760320" cy="7603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31720" y="5251320"/>
            <a:ext cx="807876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10.000 usuarios de WAP (Wireless Application Protocol) hasta el momento (Teleco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360" y="4849920"/>
            <a:ext cx="87202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ceso wireless muy incip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9200" y="1616040"/>
            <a:ext cx="801828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Sólo el 29% de las empresas argentinas tienen acceso a conexiones rápidas a Internet, comparado con el 40% en México (Harte-Hank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360" y="1130400"/>
            <a:ext cx="85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ceso telefónico todavía 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360" y="2376360"/>
            <a:ext cx="85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ipos de accesos (2002 – 2003) (Carrier &amp; Aso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523880" y="2951280"/>
          <a:ext cx="6096240" cy="1544400"/>
        </p:xfrm>
        <a:graphic>
          <a:graphicData uri="http://schemas.openxmlformats.org/drawingml/2006/table">
            <a:tbl>
              <a:tblPr/>
              <a:tblGrid>
                <a:gridCol w="1789200"/>
                <a:gridCol w="1473120"/>
                <a:gridCol w="1400400"/>
                <a:gridCol w="1433520"/>
              </a:tblGrid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ab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ónico pa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ónico gratu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a An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85680" y="271440"/>
            <a:ext cx="58946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otComs e I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5240" y="61920"/>
            <a:ext cx="760320" cy="760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31720" y="3786120"/>
            <a:ext cx="807876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Más del 50% del mercado de proveedores de conexión a Internet está en manos del Grupo Clarín, Telecom y Telefónica (Gartner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9000" y="3147840"/>
            <a:ext cx="87199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centración de los proveedores de servicios de conexión a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0280" y="1668600"/>
            <a:ext cx="807876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Arial"/>
              </a:rPr>
              <a:t>En 2000 había 485 compañías que empleaban a 6.000 personas. Actualmente existen menos de 100 (ebusinessforum.com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9360" y="1066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lapso de las dotc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8640" y="271440"/>
            <a:ext cx="58816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mercio Electrónico B2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helpline" descr=""/>
          <p:cNvPicPr/>
          <p:nvPr/>
        </p:nvPicPr>
        <p:blipFill>
          <a:blip r:embed="rId1"/>
          <a:stretch/>
        </p:blipFill>
        <p:spPr>
          <a:xfrm>
            <a:off x="173160" y="54000"/>
            <a:ext cx="784080" cy="8175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36560" y="1670040"/>
            <a:ext cx="790092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Se estima que el volumen de compras de bienes y servicios on line por consumidores finales fue de $ 236 M en 2002 (Prince &amp; Cook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2538360"/>
            <a:ext cx="7900920" cy="8240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El 71% de los usuarios visita comercios on line pero sólo el 33% efectúa alguna compra. Este porcentaje es muy superior en países como Estados Unidos o Brasil (D’Alessio Iro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3040" y="1101600"/>
            <a:ext cx="8720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9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ado de comercio electrónico a consumidores (B2C) relativamente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040" y="4722840"/>
            <a:ext cx="87202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9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fuerzos para resolver las preocupaciones alrededor de la seguridad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9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étodos de pago on line alterna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9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gración del comercio electrónico con pago off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9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ortalecimiento del marco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3624120"/>
            <a:ext cx="7900920" cy="8240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El 90% de las Pymes en Argentina posee un acceso a Internet, de las cuales sólo el 39% posee un sitio web y nada mas que el 29% de estas realizan ventas on-line por medio de sus sitios web (Prince &amp; Cooke – Enero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8640" y="271440"/>
            <a:ext cx="58816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ercio Electrónico B2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280" y="1216080"/>
            <a:ext cx="872028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unos sectores tradicionales muestran experiencias exitosas de B2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uper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ncos/Home Ba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17720" y="2890800"/>
            <a:ext cx="759276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En diciembre de 2001 PagoMisCuentas registró un aumento del 500% en su volumen de pagos electrónicos (Banelc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helpline" descr=""/>
          <p:cNvPicPr/>
          <p:nvPr/>
        </p:nvPicPr>
        <p:blipFill>
          <a:blip r:embed="rId1"/>
          <a:stretch/>
        </p:blipFill>
        <p:spPr>
          <a:xfrm>
            <a:off x="173160" y="54000"/>
            <a:ext cx="784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36800" y="271440"/>
            <a:ext cx="5843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ercio Electrónico B2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1280" y="1216080"/>
            <a:ext cx="872028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125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interesante de la interacción electrónica entre compañías (B2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mayoría es realizado por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andes compañ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YM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general no lo utiliz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-223920">
              <a:lnSpc>
                <a:spcPct val="100000"/>
              </a:lnSpc>
              <a:spcBef>
                <a:spcPts val="1001"/>
              </a:spcBef>
              <a:buClr>
                <a:srgbClr val="d0a6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ctor agropecu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tá mostrando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960" y="1797120"/>
            <a:ext cx="7805520" cy="5806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Se estima que el volumen de compras de bienes y servicios on line entre compañías fue de U$S 450 M en 2001 (Secretaría de Comunicacion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65240" y="61920"/>
            <a:ext cx="760320" cy="760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80880" y="4238640"/>
            <a:ext cx="87202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1800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greso muy limitado del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60240" y="1181160"/>
            <a:ext cx="768852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399960" indent="-223920">
              <a:lnSpc>
                <a:spcPct val="100000"/>
              </a:lnSpc>
              <a:spcBef>
                <a:spcPts val="2500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que Integral de E-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23920">
              <a:lnSpc>
                <a:spcPct val="100000"/>
              </a:lnSpc>
              <a:spcBef>
                <a:spcPts val="2500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s de Internet en Argen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23920">
              <a:lnSpc>
                <a:spcPct val="100000"/>
              </a:lnSpc>
              <a:spcBef>
                <a:spcPts val="2500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s Seleccionados en Latinoa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 indent="-223920">
              <a:lnSpc>
                <a:spcPct val="100000"/>
              </a:lnSpc>
              <a:spcBef>
                <a:spcPts val="2500"/>
              </a:spcBef>
              <a:buClr>
                <a:srgbClr val="d0a6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9720" y="19839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asos Seleccionados en Latinoamé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53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ntel Chile - Merc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mex - Eficentr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S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braer / ATR - AeroCh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ectividad en la Industria de Salu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efónica de España - Adqui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49630" t="47948" r="14340" b="0"/>
          <a:stretch/>
        </p:blipFill>
        <p:spPr>
          <a:xfrm>
            <a:off x="5948280" y="3548160"/>
            <a:ext cx="15400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de Exi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8280" y="189216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Grupo de fundadores con liderazgo en la industria y poder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8280" y="267192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tegración del marketplace con los sistemas de back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8280" y="345132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apacidad financiera para actualizar y potenciar l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280" y="423072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delo de ingresos orientado a precio por transacción o uti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79132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ecanismos de control y ambiente de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5680" y="5010120"/>
            <a:ext cx="795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22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erramientas worl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440" y="1015920"/>
            <a:ext cx="86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990033"/>
                </a:solidFill>
                <a:latin typeface="Arial"/>
              </a:rPr>
              <a:t>Los casos más exitosos de E-Business están en el área de B2B y reúnen las siguientes característica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5000" y="271440"/>
            <a:ext cx="72547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el Chile - Merco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98360" y="1082520"/>
          <a:ext cx="6631200" cy="4788000"/>
        </p:xfrm>
        <a:graphic>
          <a:graphicData uri="http://schemas.openxmlformats.org/drawingml/2006/table">
            <a:tbl>
              <a:tblPr/>
              <a:tblGrid>
                <a:gridCol w="1309680"/>
                <a:gridCol w="532152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l Chile es una de las principales operadoras de telefonía y comunicaciones de Chile, con operaciones en Centroamérica y los EEU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, Diseño e implementación de un mercado digital MRO. Merconet es un sitio de comercio electrónico creado por Entel Chile dedicado al intercambio comercial de bienes y servicios a través de la web, formando así una amplia red de abastecimiento que permite la interacción de socios comerciales e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que brinda el mercado digi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s por catá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los catálo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astas y Lici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y seguimiento de los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rcado digital fue inaugurado el 20 de abril de 2001, registrando transacciones por valor de U$S500.000 durante el primer día de op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ión record en 10 sem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merconet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961320" y="1467000"/>
          <a:ext cx="1912680" cy="33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1320" y="1467000"/>
                    <a:ext cx="191268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950160" y="2359080"/>
            <a:ext cx="1982880" cy="148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lmex - Eficent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98360" y="1082520"/>
          <a:ext cx="6548400" cy="4658040"/>
        </p:xfrm>
        <a:graphic>
          <a:graphicData uri="http://schemas.openxmlformats.org/drawingml/2006/table">
            <a:tbl>
              <a:tblPr/>
              <a:tblGrid>
                <a:gridCol w="1285920"/>
                <a:gridCol w="5262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mex es la principal empresa de telecomunicaciones de Latinoamé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, diseño e implementación de un mercado digital MRO para el grupo Telm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entrum es un mercado electrónico para la compra/venta, inicialmente de insumos indirectos, basado en tecnología Internet que une a vendedores, compradores y proveedores de servicios de valor agrega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que brinda el mercado digi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s por catá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los catálo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astas y Lici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y seguimiento de los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ción con el sistema SAP R/3 de Telm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eses de plazo, proyecto finaliz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R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ficentrum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7264440" y="1217520"/>
          <a:ext cx="11620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4440" y="1217520"/>
                    <a:ext cx="1162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header_01a" descr="">
            <a:hlinkClick r:id="rId3"/>
          </p:cNvPr>
          <p:cNvPicPr/>
          <p:nvPr/>
        </p:nvPicPr>
        <p:blipFill>
          <a:blip r:embed="rId4"/>
          <a:srcRect l="0" t="0" r="0" b="22020"/>
          <a:stretch/>
        </p:blipFill>
        <p:spPr>
          <a:xfrm>
            <a:off x="6826320" y="1968480"/>
            <a:ext cx="2251080" cy="927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rcRect l="10336" t="12502" r="11573" b="3125"/>
          <a:stretch/>
        </p:blipFill>
        <p:spPr>
          <a:xfrm>
            <a:off x="7047000" y="3236760"/>
            <a:ext cx="19033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S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98360" y="1182600"/>
          <a:ext cx="6548400" cy="4759560"/>
        </p:xfrm>
        <a:graphic>
          <a:graphicData uri="http://schemas.openxmlformats.org/drawingml/2006/table">
            <a:tbl>
              <a:tblPr/>
              <a:tblGrid>
                <a:gridCol w="1392480"/>
                <a:gridCol w="5155920"/>
              </a:tblGrid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N es la principal siderurgia de Latinoamérica, con más de 9.000 empleados y una facturación de más de U$S3.000 millones en el año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ar, construir e integrar la nueva plataforma de e-Business con el objetivo de soportar la transformación de CSN en una empresa global, focalizada en las necesidades de sus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proyecto comprende tres soluciones diferen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urcha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odelo de implementación se basa en un consorcio liderado por BearingPoint con participación de Oracle, Optiglobe y We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cu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Intercon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R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csn.com.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logo_entrada" descr=""/>
          <p:cNvPicPr/>
          <p:nvPr/>
        </p:nvPicPr>
        <p:blipFill>
          <a:blip r:embed="rId1"/>
          <a:stretch/>
        </p:blipFill>
        <p:spPr>
          <a:xfrm>
            <a:off x="6905520" y="1306440"/>
            <a:ext cx="1889280" cy="5428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894360" y="2120760"/>
            <a:ext cx="1916280" cy="1436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braer / ATR - Aero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98360" y="1082520"/>
          <a:ext cx="6548400" cy="4997520"/>
        </p:xfrm>
        <a:graphic>
          <a:graphicData uri="http://schemas.openxmlformats.org/drawingml/2006/table">
            <a:tbl>
              <a:tblPr/>
              <a:tblGrid>
                <a:gridCol w="1309680"/>
                <a:gridCol w="5238720"/>
              </a:tblGrid>
              <a:tr h="11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er es una de las principales proveedores de aviones del mundo. Localizado en San Pablo, Brasil, la compañía se focaliza en la producción de aviones regionales, militares y para ejecutiv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 es una empresa francesa dedicada a la producción de aviones regionales con base en Toulou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, diseño e implementación de un mercado digit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oChain es un sitio de comercio electrónico creado p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er/ATR dedicado al intercambio comercial de bienes y servicios a través de la web, formando así una amplia red de abastecimiento que permite la interacción de socios comerciales e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que brinda el mercado digit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s por catálo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ción de los catálo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astas y Licit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y seguimiento de los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cu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cle Ex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aerochain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3" name="" descr=""/>
          <p:cNvPicPr/>
          <p:nvPr/>
        </p:nvPicPr>
        <p:blipFill>
          <a:blip r:embed="rId1"/>
          <a:srcRect l="0" t="0" r="22397" b="21445"/>
          <a:stretch/>
        </p:blipFill>
        <p:spPr>
          <a:xfrm>
            <a:off x="6927840" y="2633760"/>
            <a:ext cx="2060640" cy="1565280"/>
          </a:xfrm>
          <a:prstGeom prst="rect">
            <a:avLst/>
          </a:prstGeom>
          <a:ln w="0">
            <a:noFill/>
          </a:ln>
        </p:spPr>
      </p:pic>
      <p:pic>
        <p:nvPicPr>
          <p:cNvPr id="404" name="header_bg6" descr=""/>
          <p:cNvPicPr/>
          <p:nvPr/>
        </p:nvPicPr>
        <p:blipFill>
          <a:blip r:embed="rId2"/>
          <a:srcRect l="1459" t="1039" r="79781" b="97167"/>
          <a:stretch/>
        </p:blipFill>
        <p:spPr>
          <a:xfrm>
            <a:off x="6973920" y="1523880"/>
            <a:ext cx="187164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ectividad en la Industria de Sal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98360" y="1082520"/>
          <a:ext cx="6548400" cy="3819600"/>
        </p:xfrm>
        <a:graphic>
          <a:graphicData uri="http://schemas.openxmlformats.org/drawingml/2006/table">
            <a:tbl>
              <a:tblPr/>
              <a:tblGrid>
                <a:gridCol w="1309680"/>
                <a:gridCol w="52387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 de trabajo formado por las seis compañías privadas de salud más importantes del mercado argenti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y formalización de reglas de funcionamiento del grupo de trabaj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solución compartida para la conectividad con los prestadores médicos basada en estándares internacionales de tecnología, comunicaciones e industria; e integrada por diferentes canales de comunicación de transaccion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ntegración de Aplicaciones de Back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S (lector de banda magné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plicación en P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IVR (Interactive Voice Recogni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ión en cur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88240" y="4165560"/>
            <a:ext cx="1865160" cy="349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6888240" y="3218040"/>
            <a:ext cx="644400" cy="7174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rcRect l="18326" t="4801" r="0" b="0"/>
          <a:stretch/>
        </p:blipFill>
        <p:spPr>
          <a:xfrm>
            <a:off x="6888240" y="1481040"/>
            <a:ext cx="743040" cy="7336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6888240" y="1030320"/>
            <a:ext cx="1971360" cy="399600"/>
            <a:chOff x="6888240" y="1030320"/>
            <a:chExt cx="1971360" cy="399600"/>
          </a:xfrm>
        </p:grpSpPr>
        <p:pic>
          <p:nvPicPr>
            <p:cNvPr id="411" name="" descr=""/>
            <p:cNvPicPr/>
            <p:nvPr/>
          </p:nvPicPr>
          <p:blipFill>
            <a:blip r:embed="rId4"/>
            <a:srcRect l="0" t="0" r="36254" b="0"/>
            <a:stretch/>
          </p:blipFill>
          <p:spPr>
            <a:xfrm>
              <a:off x="6888240" y="1053720"/>
              <a:ext cx="78192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5"/>
            <a:srcRect l="62912" t="0" r="0" b="0"/>
            <a:stretch/>
          </p:blipFill>
          <p:spPr>
            <a:xfrm>
              <a:off x="8404920" y="1053720"/>
              <a:ext cx="45468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6"/>
            <a:stretch/>
          </p:blipFill>
          <p:spPr>
            <a:xfrm>
              <a:off x="7639200" y="1030320"/>
              <a:ext cx="812880" cy="394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14" name=""/>
          <p:cNvGraphicFramePr/>
          <p:nvPr/>
        </p:nvGraphicFramePr>
        <p:xfrm>
          <a:off x="6888240" y="2419200"/>
          <a:ext cx="1828800" cy="57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88240" y="2419200"/>
                    <a:ext cx="1828800" cy="5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logo_consolidarsalud" descr=""/>
          <p:cNvPicPr/>
          <p:nvPr/>
        </p:nvPicPr>
        <p:blipFill>
          <a:blip r:embed="rId9"/>
          <a:stretch/>
        </p:blipFill>
        <p:spPr>
          <a:xfrm>
            <a:off x="6878520" y="4694400"/>
            <a:ext cx="200340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lefónica de España - Adqui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98360" y="1082520"/>
          <a:ext cx="6548400" cy="5337360"/>
        </p:xfrm>
        <a:graphic>
          <a:graphicData uri="http://schemas.openxmlformats.org/drawingml/2006/table">
            <a:tbl>
              <a:tblPr/>
              <a:tblGrid>
                <a:gridCol w="1309680"/>
                <a:gridCol w="5238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A es una iniciativa empresarial (B2B) de Grupo Telefónica creada con el objetivo de brindar soluciones electrónicas especializadas en optimizar los procesos de negociación, compra y venta de bienes y servicios entre empres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ión de la plataforma de e-procurement (Arib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que compradores y proveedores puedan comercializar insumos obteniendo ahorros en sus compras y reducción en sus costos operativ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es para Comprador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a Trade: subastas, licitaciones y negociaciones electrón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a MarketPlace: automatización de procesos de gestión de comp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quira Procurement: mejora de las compras planificadas de bienes y servicios indirectos (pensada para grandes empres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es para Proveedor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i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ación de Inven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es Privadas de Venta o Dis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Catalog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45960" indent="-1699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d0a66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Promoción y Publi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nogr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ba (plataforma de e-procur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ethods (plataforma de integraci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adquira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9" name="adquira_logo" descr=""/>
          <p:cNvPicPr/>
          <p:nvPr/>
        </p:nvPicPr>
        <p:blipFill>
          <a:blip r:embed="rId1"/>
          <a:stretch/>
        </p:blipFill>
        <p:spPr>
          <a:xfrm>
            <a:off x="7203960" y="1077840"/>
            <a:ext cx="1486080" cy="857160"/>
          </a:xfrm>
          <a:prstGeom prst="rect">
            <a:avLst/>
          </a:prstGeom>
          <a:ln w="0">
            <a:noFill/>
          </a:ln>
        </p:spPr>
      </p:pic>
      <p:pic>
        <p:nvPicPr>
          <p:cNvPr id="420" name="logo_tasa" descr=""/>
          <p:cNvPicPr/>
          <p:nvPr/>
        </p:nvPicPr>
        <p:blipFill>
          <a:blip r:embed="rId2"/>
          <a:stretch/>
        </p:blipFill>
        <p:spPr>
          <a:xfrm>
            <a:off x="6807240" y="2120760"/>
            <a:ext cx="2279520" cy="487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6786720" y="2801880"/>
            <a:ext cx="2322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1146240" y="1809720"/>
            <a:ext cx="6886440" cy="3268800"/>
            <a:chOff x="1146240" y="1809720"/>
            <a:chExt cx="6886440" cy="3268800"/>
          </a:xfrm>
        </p:grpSpPr>
        <p:pic>
          <p:nvPicPr>
            <p:cNvPr id="423" name="" descr=""/>
            <p:cNvPicPr/>
            <p:nvPr/>
          </p:nvPicPr>
          <p:blipFill>
            <a:blip r:embed="rId1"/>
            <a:stretch/>
          </p:blipFill>
          <p:spPr>
            <a:xfrm>
              <a:off x="1146240" y="1809720"/>
              <a:ext cx="688644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224320" y="4208400"/>
              <a:ext cx="280224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9720" y="19839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nfoque Integral de E-Bus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49630" t="47948" r="14340" b="0"/>
          <a:stretch/>
        </p:blipFill>
        <p:spPr>
          <a:xfrm>
            <a:off x="3801960" y="3941640"/>
            <a:ext cx="1540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271440"/>
            <a:ext cx="6745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Integral de E-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3960" y="1236600"/>
            <a:ext cx="26067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usiness To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33"/>
                </a:solidFill>
                <a:latin typeface="Arial"/>
              </a:rPr>
              <a:t>Aplicación de Internet para facilitar la integración entre diferentes compañí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920" y="1236600"/>
            <a:ext cx="26067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usiness To 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33"/>
                </a:solidFill>
                <a:latin typeface="Arial"/>
              </a:rPr>
              <a:t>Aplicación de Internet para vender o entregar bienes, servicios o contenido a consumidores fi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7640" y="4527720"/>
            <a:ext cx="26067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usiness To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0033"/>
                </a:solidFill>
                <a:latin typeface="Arial"/>
              </a:rPr>
              <a:t>Aplicación de Internet para interactuar con el personal y administrar conocimiento acumulado</a:t>
            </a:r>
            <a:r>
              <a:rPr b="0" i="1" lang="es-ES_tradnl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39960" y="1236600"/>
            <a:ext cx="3641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00160" y="271440"/>
            <a:ext cx="57801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es E-Marke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23880" y="1230480"/>
            <a:ext cx="7505640" cy="5217120"/>
            <a:chOff x="623880" y="1230480"/>
            <a:chExt cx="7505640" cy="5217120"/>
          </a:xfrm>
        </p:grpSpPr>
        <p:sp>
          <p:nvSpPr>
            <p:cNvPr id="110" name=""/>
            <p:cNvSpPr/>
            <p:nvPr/>
          </p:nvSpPr>
          <p:spPr>
            <a:xfrm>
              <a:off x="6054840" y="2911320"/>
              <a:ext cx="725400" cy="320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82560" y="5736960"/>
              <a:ext cx="8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ste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6800" y="2911320"/>
              <a:ext cx="725400" cy="320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2160" y="5636880"/>
              <a:ext cx="91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Recurs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Huma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95720" y="2911320"/>
              <a:ext cx="725400" cy="320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1000" y="573696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6960" y="2911320"/>
              <a:ext cx="862200" cy="320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7080" y="5636880"/>
              <a:ext cx="129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inanzas 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5800" y="2911320"/>
              <a:ext cx="725400" cy="320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79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5640" y="5636880"/>
              <a:ext cx="94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icio 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3271680" y="2386080"/>
              <a:ext cx="224028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151160" y="1878120"/>
              <a:ext cx="487440" cy="511200"/>
            </a:xfrm>
            <a:prstGeom prst="upArrow">
              <a:avLst>
                <a:gd name="adj1" fmla="val 40963"/>
                <a:gd name="adj2" fmla="val 43455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151160" y="4298400"/>
              <a:ext cx="489240" cy="556920"/>
            </a:xfrm>
            <a:prstGeom prst="upArrow">
              <a:avLst>
                <a:gd name="adj1" fmla="val 40963"/>
                <a:gd name="adj2" fmla="val 47167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092240" y="2987640"/>
              <a:ext cx="115236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3852720" y="4859280"/>
              <a:ext cx="115416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3844800" y="1230480"/>
              <a:ext cx="115416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971960" y="1917720"/>
              <a:ext cx="1658880" cy="1141560"/>
            </a:xfrm>
            <a:prstGeom prst="line">
              <a:avLst/>
            </a:prstGeom>
            <a:ln w="28440">
              <a:solidFill>
                <a:srgbClr val="ffb3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881240" y="3592440"/>
              <a:ext cx="1655640" cy="1514520"/>
            </a:xfrm>
            <a:prstGeom prst="line">
              <a:avLst/>
            </a:prstGeom>
            <a:ln w="28440">
              <a:solidFill>
                <a:srgbClr val="ffb3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2035080" y="3628800"/>
              <a:ext cx="1720800" cy="1454040"/>
            </a:xfrm>
            <a:prstGeom prst="line">
              <a:avLst/>
            </a:prstGeom>
            <a:ln w="28440">
              <a:solidFill>
                <a:srgbClr val="ffb3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78200" y="1930320"/>
              <a:ext cx="1777680" cy="997200"/>
            </a:xfrm>
            <a:prstGeom prst="line">
              <a:avLst/>
            </a:prstGeom>
            <a:ln w="28440">
              <a:solidFill>
                <a:srgbClr val="ffb3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4000" y="3181320"/>
              <a:ext cx="1733760" cy="291960"/>
            </a:xfrm>
            <a:prstGeom prst="rightArrow">
              <a:avLst>
                <a:gd name="adj1" fmla="val 50000"/>
                <a:gd name="adj2" fmla="val 148459"/>
              </a:avLst>
            </a:prstGeom>
            <a:solidFill>
              <a:srgbClr val="ffc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Cotizar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egociar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Comp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957200" y="3179880"/>
              <a:ext cx="1662120" cy="293400"/>
            </a:xfrm>
            <a:prstGeom prst="rightArrow">
              <a:avLst>
                <a:gd name="adj1" fmla="val 50000"/>
                <a:gd name="adj2" fmla="val 141626"/>
              </a:avLst>
            </a:prstGeom>
            <a:solidFill>
              <a:srgbClr val="ffc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Promover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Negociar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Ven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5"/>
            <a:srcRect l="0" t="0" r="0" b="11709"/>
            <a:stretch/>
          </p:blipFill>
          <p:spPr>
            <a:xfrm>
              <a:off x="2682720" y="4067280"/>
              <a:ext cx="5112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6"/>
            <a:srcRect l="0" t="0" r="0" b="11709"/>
            <a:stretch/>
          </p:blipFill>
          <p:spPr>
            <a:xfrm>
              <a:off x="5553000" y="4067280"/>
              <a:ext cx="5130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5400000">
              <a:off x="4105440" y="1895400"/>
              <a:ext cx="396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138560" y="4322520"/>
              <a:ext cx="352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661080" y="2981160"/>
              <a:ext cx="1152720" cy="6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79000" y="6110280"/>
              <a:ext cx="94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Dot.Co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2640" y="2560680"/>
              <a:ext cx="9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Dot.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6720" y="2108160"/>
              <a:ext cx="984240" cy="27648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O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4120" y="4317840"/>
              <a:ext cx="985680" cy="276480"/>
            </a:xfrm>
            <a:prstGeom prst="rect">
              <a:avLst/>
            </a:pr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O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880" y="6110280"/>
              <a:ext cx="4686120" cy="337320"/>
            </a:xfrm>
            <a:prstGeom prst="rect">
              <a:avLst/>
            </a:prstGeom>
            <a:solidFill>
              <a:srgbClr val="d1a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RAESTRUC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880" y="2028960"/>
              <a:ext cx="363600" cy="2770920"/>
            </a:xfrm>
            <a:prstGeom prst="rect">
              <a:avLst/>
            </a:prstGeom>
            <a:solidFill>
              <a:srgbClr val="d1a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VEE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35760" y="2381400"/>
              <a:ext cx="293760" cy="2040840"/>
            </a:xfrm>
            <a:prstGeom prst="rect">
              <a:avLst/>
            </a:prstGeom>
            <a:solidFill>
              <a:srgbClr val="d1a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5359320" y="2238480"/>
              <a:ext cx="708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9"/>
            <a:stretch/>
          </p:blipFill>
          <p:spPr>
            <a:xfrm>
              <a:off x="2298600" y="2238480"/>
              <a:ext cx="709560" cy="48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66680" y="1003320"/>
            <a:ext cx="38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Espacio virtual en el que se encuentran oferentes y demandant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54080" y="31680"/>
            <a:ext cx="1058760" cy="846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080" y="271440"/>
            <a:ext cx="56278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de E-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63280" y="1362240"/>
            <a:ext cx="7548840" cy="4962240"/>
            <a:chOff x="863280" y="1362240"/>
            <a:chExt cx="7548840" cy="4962240"/>
          </a:xfrm>
        </p:grpSpPr>
        <p:grpSp>
          <p:nvGrpSpPr>
            <p:cNvPr id="150" name=""/>
            <p:cNvGrpSpPr/>
            <p:nvPr/>
          </p:nvGrpSpPr>
          <p:grpSpPr>
            <a:xfrm>
              <a:off x="863280" y="1362240"/>
              <a:ext cx="7548840" cy="4962240"/>
              <a:chOff x="863280" y="1362240"/>
              <a:chExt cx="7548840" cy="496224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98640" y="1362240"/>
                <a:ext cx="5348160" cy="49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1116720" y="1808640"/>
                <a:ext cx="1463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ADMINISTRAC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DE CLIEN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21400" y="1808280"/>
                <a:ext cx="189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ADMINISTRAC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DE OFERTA 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DEMAN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36880" y="5623200"/>
                <a:ext cx="1236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LOGISTICA 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DISTRIBUC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63280" y="5410440"/>
                <a:ext cx="16941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ADMINISTRAC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Y CUMPLIMIENTO 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400" spc="-1" strike="noStrike">
                    <a:solidFill>
                      <a:srgbClr val="325498"/>
                    </a:solidFill>
                    <a:latin typeface="Arial Narrow"/>
                  </a:rPr>
                  <a:t>PEDID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624200" y="3580560"/>
              <a:ext cx="47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Arial Narrow"/>
                </a:rPr>
                <a:t>Da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98640" y="3869640"/>
              <a:ext cx="68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Arial Narrow"/>
                </a:rPr>
                <a:t>Segur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38320" y="384912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Arial Narrow"/>
                </a:rPr>
                <a:t>Integ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2240" y="4134600"/>
              <a:ext cx="101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Arial Narrow"/>
                </a:rPr>
                <a:t>Comunic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62400" y="4727520"/>
              <a:ext cx="658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71800" y="3942000"/>
              <a:ext cx="1231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Motor d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Transac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60800" y="3112920"/>
              <a:ext cx="1127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Comu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nida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6120" y="4155840"/>
              <a:ext cx="123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Catálog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49720" y="3206520"/>
              <a:ext cx="1086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71920" y="4704480"/>
              <a:ext cx="106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Factu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1120" y="31042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Call 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79960" y="532836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Pag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6640" y="5552280"/>
              <a:ext cx="134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Administración de Créd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1720" y="266616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Conta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842640"/>
              <a:ext cx="9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Despac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339360"/>
              <a:ext cx="10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4520" y="3971160"/>
              <a:ext cx="6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Ped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4440" y="4204440"/>
              <a:ext cx="77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Cumpl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mient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Ped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07040" y="4209480"/>
              <a:ext cx="1230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Cadena de Distrib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080" y="2907720"/>
              <a:ext cx="103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Planeamien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de 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7880" y="1712880"/>
              <a:ext cx="1171440" cy="109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8800" y="1712880"/>
              <a:ext cx="1111320" cy="10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4770360"/>
              <a:ext cx="984240" cy="10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808360" y="4807080"/>
              <a:ext cx="941400" cy="10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02480" y="3762360"/>
              <a:ext cx="160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30520" y="3724200"/>
              <a:ext cx="156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0200" y="2694960"/>
              <a:ext cx="94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Conten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42120" y="4633200"/>
              <a:ext cx="100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76720" y="5404680"/>
              <a:ext cx="1106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Impuestos, Tarifas y Adua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31920" y="2581200"/>
              <a:ext cx="88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Análisis d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ff"/>
                  </a:solidFill>
                  <a:latin typeface="Arial Narrow"/>
                </a:rPr>
                <a:t>Cl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91040" y="498708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Repor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43320" y="5041800"/>
              <a:ext cx="787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35320" y="3452040"/>
              <a:ext cx="113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Pub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92040" y="35744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00"/>
                  </a:solidFill>
                  <a:latin typeface="Arial Narrow"/>
                </a:rPr>
                <a:t>Proc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52800" y="4619160"/>
              <a:ext cx="123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000000"/>
                  </a:solidFill>
                  <a:latin typeface="Arial Narrow"/>
                </a:rPr>
                <a:t>Motor de  Finanz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41600" y="498708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 Narrow"/>
                </a:rPr>
                <a:t>Cob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6680" y="1015920"/>
            <a:ext cx="29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990033"/>
                </a:solidFill>
                <a:latin typeface="Arial"/>
              </a:rPr>
              <a:t>Niveles de un Mercado Electrónic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4080" y="31680"/>
            <a:ext cx="10587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8720" y="271440"/>
            <a:ext cx="5513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Impulsa el E-Marke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4080" y="31680"/>
            <a:ext cx="1058760" cy="8463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836640" y="1028880"/>
            <a:ext cx="6662880" cy="707400"/>
            <a:chOff x="836640" y="1028880"/>
            <a:chExt cx="6662880" cy="707400"/>
          </a:xfrm>
        </p:grpSpPr>
        <p:sp>
          <p:nvSpPr>
            <p:cNvPr id="197" name=""/>
            <p:cNvSpPr/>
            <p:nvPr/>
          </p:nvSpPr>
          <p:spPr>
            <a:xfrm>
              <a:off x="1594080" y="1155600"/>
              <a:ext cx="590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ducción de Costos de Abaste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10479_" descr=""/>
            <p:cNvPicPr/>
            <p:nvPr/>
          </p:nvPicPr>
          <p:blipFill>
            <a:blip r:embed="rId3"/>
            <a:stretch/>
          </p:blipFill>
          <p:spPr>
            <a:xfrm>
              <a:off x="836640" y="1028880"/>
              <a:ext cx="743040" cy="63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120600" y="1819440"/>
            <a:ext cx="7378560" cy="717480"/>
            <a:chOff x="120600" y="1819440"/>
            <a:chExt cx="7378560" cy="717480"/>
          </a:xfrm>
        </p:grpSpPr>
        <p:sp>
          <p:nvSpPr>
            <p:cNvPr id="200" name=""/>
            <p:cNvSpPr/>
            <p:nvPr/>
          </p:nvSpPr>
          <p:spPr>
            <a:xfrm>
              <a:off x="1593720" y="195588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laboración Horizontal y Vert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BD06682_" descr=""/>
            <p:cNvPicPr/>
            <p:nvPr/>
          </p:nvPicPr>
          <p:blipFill>
            <a:blip r:embed="rId5"/>
            <a:stretch/>
          </p:blipFill>
          <p:spPr>
            <a:xfrm>
              <a:off x="120600" y="1819440"/>
              <a:ext cx="145872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853920" y="2619360"/>
            <a:ext cx="6645240" cy="762120"/>
            <a:chOff x="853920" y="2619360"/>
            <a:chExt cx="6645240" cy="762120"/>
          </a:xfrm>
        </p:grpSpPr>
        <p:pic>
          <p:nvPicPr>
            <p:cNvPr id="203" name="BS00648_" descr=""/>
            <p:cNvPicPr/>
            <p:nvPr/>
          </p:nvPicPr>
          <p:blipFill>
            <a:blip r:embed="rId6"/>
            <a:stretch/>
          </p:blipFill>
          <p:spPr>
            <a:xfrm>
              <a:off x="853920" y="26193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593720" y="280044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rvicios Compart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906480" y="3463920"/>
            <a:ext cx="6593040" cy="712800"/>
            <a:chOff x="906480" y="3463920"/>
            <a:chExt cx="6593040" cy="712800"/>
          </a:xfrm>
        </p:grpSpPr>
        <p:pic>
          <p:nvPicPr>
            <p:cNvPr id="206" name="ED00013_" descr=""/>
            <p:cNvPicPr/>
            <p:nvPr/>
          </p:nvPicPr>
          <p:blipFill>
            <a:blip r:embed="rId8"/>
            <a:stretch/>
          </p:blipFill>
          <p:spPr>
            <a:xfrm>
              <a:off x="906480" y="3463920"/>
              <a:ext cx="6732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594080" y="356544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nocimiento Compart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35120" y="4259160"/>
            <a:ext cx="6764400" cy="609480"/>
            <a:chOff x="735120" y="4259160"/>
            <a:chExt cx="6764400" cy="609480"/>
          </a:xfrm>
        </p:grpSpPr>
        <p:pic>
          <p:nvPicPr>
            <p:cNvPr id="209" name="j0139135" descr=""/>
            <p:cNvPicPr/>
            <p:nvPr/>
          </p:nvPicPr>
          <p:blipFill>
            <a:blip r:embed="rId10"/>
            <a:stretch/>
          </p:blipFill>
          <p:spPr>
            <a:xfrm>
              <a:off x="735120" y="4259160"/>
              <a:ext cx="8445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594080" y="428760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ficiencia y Transpar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68240" y="4951440"/>
            <a:ext cx="6730920" cy="698400"/>
            <a:chOff x="768240" y="4951440"/>
            <a:chExt cx="6730920" cy="698400"/>
          </a:xfrm>
        </p:grpSpPr>
        <p:pic>
          <p:nvPicPr>
            <p:cNvPr id="212" name="j0149719" descr=""/>
            <p:cNvPicPr/>
            <p:nvPr/>
          </p:nvPicPr>
          <p:blipFill>
            <a:blip r:embed="rId12"/>
            <a:stretch/>
          </p:blipFill>
          <p:spPr>
            <a:xfrm>
              <a:off x="768240" y="4951440"/>
              <a:ext cx="8110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593720" y="506880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usión de Estánd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826920" y="5732640"/>
            <a:ext cx="6672240" cy="728640"/>
            <a:chOff x="826920" y="5732640"/>
            <a:chExt cx="6672240" cy="728640"/>
          </a:xfrm>
        </p:grpSpPr>
        <p:pic>
          <p:nvPicPr>
            <p:cNvPr id="215" name="IN00634_" descr=""/>
            <p:cNvPicPr/>
            <p:nvPr/>
          </p:nvPicPr>
          <p:blipFill>
            <a:blip r:embed="rId14"/>
            <a:stretch/>
          </p:blipFill>
          <p:spPr>
            <a:xfrm>
              <a:off x="826920" y="5732640"/>
              <a:ext cx="75240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593720" y="5880240"/>
              <a:ext cx="59054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gración de Cadenas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6480" y="271440"/>
            <a:ext cx="57038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Qué es E-Experie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1054080"/>
            <a:ext cx="8894880" cy="5491080"/>
            <a:chOff x="0" y="1054080"/>
            <a:chExt cx="8894880" cy="5491080"/>
          </a:xfrm>
        </p:grpSpPr>
        <p:pic>
          <p:nvPicPr>
            <p:cNvPr id="219" name="travel_icon" descr=""/>
            <p:cNvPicPr/>
            <p:nvPr/>
          </p:nvPicPr>
          <p:blipFill>
            <a:blip r:embed="rId1"/>
            <a:stretch/>
          </p:blipFill>
          <p:spPr>
            <a:xfrm>
              <a:off x="4091040" y="5829480"/>
              <a:ext cx="723960" cy="7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kiosk" descr=""/>
            <p:cNvPicPr/>
            <p:nvPr/>
          </p:nvPicPr>
          <p:blipFill>
            <a:blip r:embed="rId2"/>
            <a:stretch/>
          </p:blipFill>
          <p:spPr>
            <a:xfrm>
              <a:off x="1528920" y="3505320"/>
              <a:ext cx="70632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web@" descr=""/>
            <p:cNvPicPr/>
            <p:nvPr/>
          </p:nvPicPr>
          <p:blipFill>
            <a:blip r:embed="rId3"/>
            <a:stretch/>
          </p:blipFill>
          <p:spPr>
            <a:xfrm>
              <a:off x="4119480" y="1066680"/>
              <a:ext cx="62712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e-mail" descr=""/>
            <p:cNvPicPr/>
            <p:nvPr/>
          </p:nvPicPr>
          <p:blipFill>
            <a:blip r:embed="rId4"/>
            <a:stretch/>
          </p:blipFill>
          <p:spPr>
            <a:xfrm>
              <a:off x="6176880" y="1981080"/>
              <a:ext cx="58572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mail" descr=""/>
            <p:cNvPicPr/>
            <p:nvPr/>
          </p:nvPicPr>
          <p:blipFill>
            <a:blip r:embed="rId5"/>
            <a:stretch/>
          </p:blipFill>
          <p:spPr>
            <a:xfrm>
              <a:off x="2062080" y="1981080"/>
              <a:ext cx="649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media" descr=""/>
            <p:cNvPicPr/>
            <p:nvPr/>
          </p:nvPicPr>
          <p:blipFill>
            <a:blip r:embed="rId6"/>
            <a:stretch/>
          </p:blipFill>
          <p:spPr>
            <a:xfrm>
              <a:off x="6024600" y="5181480"/>
              <a:ext cx="6858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14720" y="1676520"/>
              <a:ext cx="4405320" cy="4154400"/>
            </a:xfrm>
            <a:prstGeom prst="donut">
              <a:avLst>
                <a:gd name="adj" fmla="val 25000"/>
              </a:avLst>
            </a:prstGeom>
            <a:solidFill>
              <a:srgbClr val="003366"/>
            </a:solidFill>
            <a:ln w="0">
              <a:noFill/>
            </a:ln>
            <a:effectLst>
              <a:outerShdw dist="17819" dir="2700000" blurRad="0" rotWithShape="0">
                <a:srgbClr val="001e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6600" y="2114640"/>
              <a:ext cx="3504960" cy="3268440"/>
            </a:xfrm>
            <a:prstGeom prst="donut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52840" y="2581200"/>
              <a:ext cx="1257480" cy="1209600"/>
            </a:xfrm>
            <a:prstGeom prst="rect">
              <a:avLst/>
            </a:prstGeom>
            <a:solidFill>
              <a:srgbClr val="c5d8d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95720" y="2581200"/>
              <a:ext cx="1257120" cy="1209600"/>
            </a:xfrm>
            <a:prstGeom prst="rect">
              <a:avLst/>
            </a:prstGeom>
            <a:solidFill>
              <a:srgbClr val="cceac2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2840" y="3790800"/>
              <a:ext cx="1257480" cy="1208160"/>
            </a:xfrm>
            <a:prstGeom prst="rect">
              <a:avLst/>
            </a:prstGeom>
            <a:solidFill>
              <a:srgbClr val="c6ad84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95720" y="3790800"/>
              <a:ext cx="1257120" cy="1208160"/>
            </a:xfrm>
            <a:prstGeom prst="rect">
              <a:avLst/>
            </a:prstGeom>
            <a:solidFill>
              <a:srgbClr val="dcc8c8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3200" y="2655720"/>
              <a:ext cx="14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38800" y="2655720"/>
              <a:ext cx="14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62480" y="4456080"/>
              <a:ext cx="14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70080" y="4460760"/>
              <a:ext cx="14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rchandi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900000">
              <a:off x="3697200" y="3073320"/>
              <a:ext cx="682560" cy="60804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stretch/>
            </a:blip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 rot="18900000">
              <a:off x="4631760" y="3861720"/>
              <a:ext cx="682560" cy="60804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stretch/>
            </a:blip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 rot="2503800">
              <a:off x="3757320" y="3898800"/>
              <a:ext cx="684000" cy="607680"/>
            </a:xfrm>
            <a:prstGeom prst="triangle">
              <a:avLst>
                <a:gd name="adj" fmla="val 50000"/>
              </a:avLst>
            </a:prstGeom>
            <a:blipFill rotWithShape="0">
              <a:blip r:embed="rId9"/>
              <a:srcRect/>
              <a:stretch/>
            </a:blip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751600">
              <a:off x="4669200" y="3085200"/>
              <a:ext cx="682560" cy="60804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stretch/>
            </a:blip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5160" y="5472000"/>
              <a:ext cx="21747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29200" y="1739880"/>
              <a:ext cx="6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Rounded MT Bold"/>
                </a:rPr>
                <a:t>WW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9120" y="5486400"/>
              <a:ext cx="651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Tien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5680" y="3174840"/>
              <a:ext cx="51516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Call Center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Servicio Catálog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0731000">
              <a:off x="2336400" y="3544200"/>
              <a:ext cx="34776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Kiosk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2829200">
              <a:off x="2646360" y="2147760"/>
              <a:ext cx="36288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Rounded MT Bold"/>
                </a:rPr>
                <a:t>Mail Dire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9446600">
              <a:off x="5772600" y="2373480"/>
              <a:ext cx="362880" cy="5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Rounded MT Bold"/>
                </a:rPr>
                <a:t>E-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3468200">
              <a:off x="5706000" y="4785480"/>
              <a:ext cx="34776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Med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822000">
              <a:off x="2838960" y="4823640"/>
              <a:ext cx="347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Arial Rounded MT Bold"/>
                </a:rPr>
                <a:t>Ca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4447440" y="2171880"/>
              <a:ext cx="10800" cy="1139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48520" y="4246560"/>
              <a:ext cx="8640" cy="113976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2739960" y="3773520"/>
              <a:ext cx="113976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7280" y="3773520"/>
              <a:ext cx="11397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49480" y="1054080"/>
              <a:ext cx="138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xperi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ersonaliz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03760" y="5943600"/>
              <a:ext cx="270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untos de venta / servi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erson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helpline" descr=""/>
            <p:cNvPicPr/>
            <p:nvPr/>
          </p:nvPicPr>
          <p:blipFill>
            <a:blip r:embed="rId11"/>
            <a:stretch/>
          </p:blipFill>
          <p:spPr>
            <a:xfrm>
              <a:off x="6710400" y="3494160"/>
              <a:ext cx="6062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967200" y="3429000"/>
              <a:ext cx="990720" cy="838080"/>
            </a:xfrm>
            <a:prstGeom prst="flowChartMagneticDisk">
              <a:avLst/>
            </a:prstGeom>
            <a:solidFill>
              <a:srgbClr val="0947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Consumi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1982880"/>
              <a:ext cx="20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-Mails Person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4080" y="510552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arketing y Publicidad Person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680" y="5130720"/>
              <a:ext cx="1739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tios Personalizados para Canales Diferenci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travel_partner" descr=""/>
            <p:cNvPicPr/>
            <p:nvPr/>
          </p:nvPicPr>
          <p:blipFill>
            <a:blip r:embed="rId12"/>
            <a:stretch/>
          </p:blipFill>
          <p:spPr>
            <a:xfrm>
              <a:off x="2214720" y="5257800"/>
              <a:ext cx="685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0760" y="3544920"/>
              <a:ext cx="147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lf Service Personaliz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94680" y="339084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tenido y Ofertas Person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10400" y="196848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ensajes Personaliz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66680" y="1003320"/>
            <a:ext cx="383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Espacio virtual personalizado para cada consumidor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166680" y="27000"/>
            <a:ext cx="1009800" cy="84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8720" y="271440"/>
            <a:ext cx="569124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Impulsa la E-Experie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6680" y="27000"/>
            <a:ext cx="1009800" cy="846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752400" y="1044720"/>
            <a:ext cx="6747120" cy="691920"/>
            <a:chOff x="752400" y="1044720"/>
            <a:chExt cx="6747120" cy="691920"/>
          </a:xfrm>
        </p:grpSpPr>
        <p:sp>
          <p:nvSpPr>
            <p:cNvPr id="268" name=""/>
            <p:cNvSpPr/>
            <p:nvPr/>
          </p:nvSpPr>
          <p:spPr>
            <a:xfrm>
              <a:off x="1593720" y="115560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recimiento de 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j0237886" descr=""/>
            <p:cNvPicPr/>
            <p:nvPr/>
          </p:nvPicPr>
          <p:blipFill>
            <a:blip r:embed="rId3"/>
            <a:stretch/>
          </p:blipFill>
          <p:spPr>
            <a:xfrm>
              <a:off x="752400" y="1044720"/>
              <a:ext cx="75564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749160" y="1722600"/>
            <a:ext cx="6750360" cy="798480"/>
            <a:chOff x="749160" y="1722600"/>
            <a:chExt cx="6750360" cy="798480"/>
          </a:xfrm>
        </p:grpSpPr>
        <p:sp>
          <p:nvSpPr>
            <p:cNvPr id="271" name=""/>
            <p:cNvSpPr/>
            <p:nvPr/>
          </p:nvSpPr>
          <p:spPr>
            <a:xfrm>
              <a:off x="1593720" y="194004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anda Ancha y Wirel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j0233595" descr=""/>
            <p:cNvPicPr/>
            <p:nvPr/>
          </p:nvPicPr>
          <p:blipFill>
            <a:blip r:embed="rId5"/>
            <a:stretch/>
          </p:blipFill>
          <p:spPr>
            <a:xfrm>
              <a:off x="749160" y="1722600"/>
              <a:ext cx="758880" cy="74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830160" y="3375000"/>
            <a:ext cx="6669360" cy="717480"/>
            <a:chOff x="830160" y="3375000"/>
            <a:chExt cx="6669360" cy="717480"/>
          </a:xfrm>
        </p:grpSpPr>
        <p:sp>
          <p:nvSpPr>
            <p:cNvPr id="274" name=""/>
            <p:cNvSpPr/>
            <p:nvPr/>
          </p:nvSpPr>
          <p:spPr>
            <a:xfrm>
              <a:off x="1593720" y="351144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uevos Merc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j0202660" descr=""/>
            <p:cNvPicPr/>
            <p:nvPr/>
          </p:nvPicPr>
          <p:blipFill>
            <a:blip r:embed="rId7"/>
            <a:stretch/>
          </p:blipFill>
          <p:spPr>
            <a:xfrm>
              <a:off x="830160" y="3375000"/>
              <a:ext cx="67788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781200" y="4118040"/>
            <a:ext cx="6718320" cy="758880"/>
            <a:chOff x="781200" y="4118040"/>
            <a:chExt cx="6718320" cy="758880"/>
          </a:xfrm>
        </p:grpSpPr>
        <p:sp>
          <p:nvSpPr>
            <p:cNvPr id="277" name=""/>
            <p:cNvSpPr/>
            <p:nvPr/>
          </p:nvSpPr>
          <p:spPr>
            <a:xfrm>
              <a:off x="1593720" y="429588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ases de Datos de Cl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BS01177_" descr=""/>
            <p:cNvPicPr/>
            <p:nvPr/>
          </p:nvPicPr>
          <p:blipFill>
            <a:blip r:embed="rId9"/>
            <a:stretch/>
          </p:blipFill>
          <p:spPr>
            <a:xfrm>
              <a:off x="781200" y="4118040"/>
              <a:ext cx="726840" cy="61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425520" y="4835520"/>
            <a:ext cx="7074000" cy="826920"/>
            <a:chOff x="425520" y="4835520"/>
            <a:chExt cx="7074000" cy="826920"/>
          </a:xfrm>
        </p:grpSpPr>
        <p:sp>
          <p:nvSpPr>
            <p:cNvPr id="280" name=""/>
            <p:cNvSpPr/>
            <p:nvPr/>
          </p:nvSpPr>
          <p:spPr>
            <a:xfrm>
              <a:off x="1593720" y="5081760"/>
              <a:ext cx="590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rketing Personal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j0230372" descr=""/>
            <p:cNvPicPr/>
            <p:nvPr/>
          </p:nvPicPr>
          <p:blipFill>
            <a:blip r:embed="rId11"/>
            <a:stretch/>
          </p:blipFill>
          <p:spPr>
            <a:xfrm>
              <a:off x="425520" y="4835520"/>
              <a:ext cx="1082520" cy="7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1060560" y="5680080"/>
            <a:ext cx="6438960" cy="768240"/>
            <a:chOff x="1060560" y="5680080"/>
            <a:chExt cx="6438960" cy="768240"/>
          </a:xfrm>
        </p:grpSpPr>
        <p:sp>
          <p:nvSpPr>
            <p:cNvPr id="283" name=""/>
            <p:cNvSpPr/>
            <p:nvPr/>
          </p:nvSpPr>
          <p:spPr>
            <a:xfrm>
              <a:off x="1593720" y="5867280"/>
              <a:ext cx="590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ervicio al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j0188237" descr=""/>
            <p:cNvPicPr/>
            <p:nvPr/>
          </p:nvPicPr>
          <p:blipFill>
            <a:blip r:embed="rId13"/>
            <a:stretch/>
          </p:blipFill>
          <p:spPr>
            <a:xfrm>
              <a:off x="1060560" y="5680080"/>
              <a:ext cx="44748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1006560" y="2571840"/>
            <a:ext cx="6492960" cy="734760"/>
            <a:chOff x="1006560" y="2571840"/>
            <a:chExt cx="6492960" cy="734760"/>
          </a:xfrm>
        </p:grpSpPr>
        <p:grpSp>
          <p:nvGrpSpPr>
            <p:cNvPr id="286" name=""/>
            <p:cNvGrpSpPr/>
            <p:nvPr/>
          </p:nvGrpSpPr>
          <p:grpSpPr>
            <a:xfrm>
              <a:off x="1006560" y="2571840"/>
              <a:ext cx="6492960" cy="734760"/>
              <a:chOff x="1006560" y="2571840"/>
              <a:chExt cx="6492960" cy="734760"/>
            </a:xfrm>
          </p:grpSpPr>
          <p:sp>
            <p:nvSpPr>
              <p:cNvPr id="287" name=""/>
              <p:cNvSpPr/>
              <p:nvPr/>
            </p:nvSpPr>
            <p:spPr>
              <a:xfrm>
                <a:off x="1593720" y="2725560"/>
                <a:ext cx="590580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225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s Dispositivos de Acce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8" name="HH02333_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06560" y="2571840"/>
                <a:ext cx="50148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9" name="j0237886" descr=""/>
            <p:cNvPicPr/>
            <p:nvPr/>
          </p:nvPicPr>
          <p:blipFill>
            <a:blip r:embed="rId16"/>
            <a:stretch/>
          </p:blipFill>
          <p:spPr>
            <a:xfrm>
              <a:off x="1103400" y="2962440"/>
              <a:ext cx="172800" cy="13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21:44:28Z</dcterms:created>
  <dc:creator>Michael</dc:creator>
  <dc:description/>
  <dc:language>en-US</dc:language>
  <cp:lastModifiedBy>Dr. Marcelo Artana</cp:lastModifiedBy>
  <cp:lastPrinted>2002-12-11T14:39:02Z</cp:lastPrinted>
  <dcterms:modified xsi:type="dcterms:W3CDTF">2003-07-10T14:13:04Z</dcterms:modified>
  <cp:revision>510</cp:revision>
  <dc:subject/>
  <dc:title>Configure to fit Presentation</dc:title>
</cp:coreProperties>
</file>