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758D-E391-4A9B-87D4-194045E3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8436-75CC-4891-8AC9-4C026AF3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CDD-D19D-403A-9D3A-C9E90492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7BB-29AF-4C32-89F7-DDA3F11A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8C1-4188-41D2-9FAF-BB9C2322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422-153B-48F7-952E-32406095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8E6-E063-44C4-BB4B-4A77EF44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496-4E4C-49B8-A2F8-BB3DBB3C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91A-E793-4F83-AC61-11517468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7DE-C88E-44E7-B70F-18F0E101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A11-1D54-43B7-8B96-F8259D8E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5C9-F3FC-4F44-8B0C-B47D9A36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6075-2615-46C0-A384-EA5BFA8F5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II  JORNADA DE COMERCIO ELECTRONICO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L GERENCIAMIENTO Y LOS NEGOCIOS ELECTRONICOS</a:t>
            </a:r>
            <a:br>
              <a:rPr sz="2400"/>
            </a:br>
            <a:br>
              <a:rPr sz="1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. Armando Bertagnin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3124080"/>
            <a:ext cx="640080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nuevas demanda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mpactos en el perfil de negocios empr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Impactos en el perfil de gestión empr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Nuevos roles y oportunidades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Nuevas demandas de actitudes y capa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El caso argent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 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DEB-1A87-44A9-8EB6-6DCAC72BF6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EL CASO ARGEN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58291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Py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nvertirse en empresas adaptadas al cliente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uy rápida respue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Agrupamiento por sector y negocio, incluye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obierno, ONG y universida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Formación de “clusters” especializados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exportad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evos negocios desde la Argentin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Soft y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Call centers integ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Centros de Servicios compar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Exportación de servicios profesionales/tele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Formación de comunidades virtu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T de G. de Nicolás Mejí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62D-87C4-4DEE-9867-4CC564DC04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58291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  De las nuevas demandas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a los nuevos perfil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gocios y de gestión empres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  De los nuevos roles profesionales a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uevas demandas de actitude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 El caso argentino: desafío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portunidades para las instituciones y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fes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326-DC38-436C-910B-45934F4344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5829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LAS NUEVAS DEMANDA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. La revolución de los consumidores (Patricia Seyb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El cliente tiene poder y control creci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Valor de las empresas: definido por s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 para generar consumidores le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on esenciales: la experiencia d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y la información sobre el mism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. Acceso total: el marketing y la nueva economía interconectada   (Regis Mc Ken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Los consumidores quieren interactuar en 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mento y desde todo lugar con los provee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El marketing pasa de “empujar” producto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arrollar estructuras que permitan intera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manentemente con 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empresa aprende de sus clientes y mer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actual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5DA-E3E7-40CD-9E08-E15ADB84C5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5829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LAS NUEVAS DEMANDA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152352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. Marketing de convergencia: una nueva estrateg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un nuevo consumidor  (Mahajan y ot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No hay un paradigma de internet separad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undo real:  el nuevo consumidor es un “centauro” (mitad real  y mitad virtua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Nuevos enfoques del marketing estratégi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ustomización, comunidades virtuales,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nales de distribución y nuevas formas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r valor al consumi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mbios en el manejo de las variables (4P): m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námico,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igente, individualizado y variado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l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empresas deberán adaptar su perfil de negocios y, consecuentemente, su perfil de gestión, a las nuevas circunstancias del consumidor y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1C1-7B65-4481-B76C-50C0DF6C9A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MPACTOS EN EL PERFIL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58291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Nuevos modelos de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de la concep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subastas (e-ba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remate.com),  productos a medida (Del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r reconfiguración de las cadenas de 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apacidades digitalizadas como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uanto menores los costos de transacción, may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probabilidad de independizar partes d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mpresa.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arrollo de los modelos de negocio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arrollo de marca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mediante amplificació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ferenciación e integración vía inter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celencia opera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n los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ctrónicos para mejorar el desempeño come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financiero con clientes y provee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A6D-B270-4896-AB8F-F225FD8547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IMPACTOS EN EL PERFIL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58291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levancia de la cooperación competitiva en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e-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Marketing de afiliación: ej Amaz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Reconfiguración de las cadenas de val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ociación de terceros al neg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Importancia de los “innomediarios” para gene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acciones indirectas con los cl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Redes de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munidades de cl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ercados de inno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Necesidad de manejar una “cartera de mer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ctrónicos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riv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atrocinados por industrias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Mercados comercial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41E-5805-4623-846E-F158C12870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IMPACTOS EN EL PERFIL DE G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5829120" cy="66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Actitudes: innovación, entrepreneurship indiv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corpo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Capacidades: sociales, de negocios y tecnológ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Competencias interculturales: ej individualism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unitar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Como plantear los nuevos nego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Bubble-in, bubble-out, trans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La reconfiguración de procesos permite escind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gunos eslabones “autonomizabl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DELOS DE 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Tendencia a integrar la DpO con la DpP hacia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agement basado en el valor  (VB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FORMATIC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Sistemas crecientemente integrados para la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nego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Del B2B y el B2C hacia el B2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59CA-C833-4ADB-B080-4136CFE22C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NUEVOS ROLES Y OPORTUNIDADES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01360"/>
            <a:ext cx="5829120" cy="66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empresas grandes y medianas 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tablecid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Como integradores/organizador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ye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Como entrepreneur corpor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 PyMEs y nuevos emprendimien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Como entrepreneur o consul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ros campos important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Estudios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Gobi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 O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280-2473-4D5D-8246-C766F043B4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NUEVAS DEMANDAS DE ACTITUDES Y CAPA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58291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 Desarrollo de un enfoque sistémico e inte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asado e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delos descriptivos de la instit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Modelos normativos del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Lógica de los procesos de camb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Perfiles integrados de los negocios y de la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 Dominio de las claves estratégicas interfun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Calidad y tim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Innovación y emu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Internacionalización y cooperación competi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 Desarrollo de las nuevas capacidades crí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“Entrepreneurship” (individual y corporativ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Tarea en equipo y gestión de proyectos interdis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iplinar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Análisis de problemas y negoci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605-8953-4266-B173-3475B3A36C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EL CASO ARGEN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582948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ituación general de las empresas después de la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2001/0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Principales impactos de la cr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El modelo de tres velocidades para la superviv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Los principales movimientos estratégicos realiz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Los problemas de las PyMEs ante los recursos informá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s nuevos enfoques desde el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analizar la energía hacia la innov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ratég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Definir rutas estratégicas para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naciona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Grandes empres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Inversión en marcas y en RRH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Privilegiar las alianzas dinámicas y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trepreneurship corpor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A60-FD2B-4BD2-8A5B-D189BB2550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3:31:07Z</dcterms:created>
  <dc:creator>Compaq</dc:creator>
  <dc:description/>
  <dc:language>en-US</dc:language>
  <cp:lastModifiedBy>C.P.C.E.C.A.B.A.</cp:lastModifiedBy>
  <cp:lastPrinted>2003-06-30T22:36:47Z</cp:lastPrinted>
  <dcterms:modified xsi:type="dcterms:W3CDTF">2003-07-01T14:29:17Z</dcterms:modified>
  <cp:revision>1</cp:revision>
  <dc:subject/>
  <dc:title>III  JORNADA DE COMERCIO ELECTRONICO  EL GERENCIAMIENTO Y LOS NEGOCIOS ELECTRONICOS                                            Dr. Armando Bertagnini </dc:title>
</cp:coreProperties>
</file>