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825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0020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47840" y="149832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5256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0020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47840" y="3693960"/>
            <a:ext cx="233064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2560" y="456840"/>
            <a:ext cx="723888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0" y="369396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498320"/>
            <a:ext cx="353232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560" y="3693960"/>
            <a:ext cx="7238880" cy="20048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9960" y="6118200"/>
            <a:ext cx="104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s-AR" sz="17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857160" indent="-28548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2" marL="1333440" indent="-28584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3" marL="1905120" indent="-28116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Univers 55"/>
              <a:buChar char="-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4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5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6" marL="2243160" indent="-147600">
              <a:lnSpc>
                <a:spcPct val="105000"/>
              </a:lnSpc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3" name=""/>
          <p:cNvSpPr/>
          <p:nvPr/>
        </p:nvSpPr>
        <p:spPr>
          <a:xfrm>
            <a:off x="8162640" y="314280"/>
            <a:ext cx="63252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ABB-217A-40EF-9E4D-105DDFD9838C}" type="slidenum">
              <a:rPr b="1" lang="en-US" sz="700" spc="-1" strike="noStrike">
                <a:solidFill>
                  <a:srgbClr val="fafd00"/>
                </a:solidFill>
                <a:latin typeface="Univers 45 Light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86840" y="6089760"/>
            <a:ext cx="1585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700" spc="-1" strike="noStrike">
                <a:solidFill>
                  <a:srgbClr val="fafd00"/>
                </a:solidFill>
                <a:latin typeface="Univers 55"/>
              </a:rPr>
              <a:t>Seminario Comercio Electrónic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75720" y="6089760"/>
            <a:ext cx="7840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00" spc="-1" strike="noStrike">
                <a:solidFill>
                  <a:srgbClr val="fafd00"/>
                </a:solidFill>
                <a:latin typeface="Univers 55"/>
              </a:rPr>
              <a:t>© 2000 KPMG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45 Light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lvl="1" marL="457200" indent="0" algn="ctr"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  <a:p>
            <a:pPr lvl="2" marL="914400" indent="133200" algn="ctr">
              <a:lnSpc>
                <a:spcPct val="105000"/>
              </a:lnSpc>
              <a:spcBef>
                <a:spcPts val="374"/>
              </a:spcBef>
              <a:buClr>
                <a:srgbClr val="ffffff"/>
              </a:buClr>
              <a:buFont typeface="Univers 55"/>
              <a:buChar char="-"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  <a:p>
            <a:pPr lvl="3" marL="1371600" indent="252360" algn="ctr">
              <a:lnSpc>
                <a:spcPct val="105000"/>
              </a:lnSpc>
              <a:spcBef>
                <a:spcPts val="374"/>
              </a:spcBef>
              <a:buClr>
                <a:srgbClr val="ffffff"/>
              </a:buClr>
              <a:buFont typeface="Univers 55"/>
              <a:buChar char="-"/>
              <a:tabLst>
                <a:tab algn="l" pos="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55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Univers 55"/>
            </a:endParaRPr>
          </a:p>
          <a:p>
            <a:pPr lvl="4" marL="1828800" indent="26676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600" spc="-1" strike="noStrike">
                <a:solidFill>
                  <a:srgbClr val="fafd00"/>
                </a:solidFill>
                <a:latin typeface="Univers 45 Light"/>
              </a:rPr>
              <a:t>Comercio Electrónico</a:t>
            </a:r>
            <a:endParaRPr b="1" lang="en-US" sz="36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Autofit/>
          </a:bodyPr>
          <a:p>
            <a:pPr indent="0" algn="ctr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Univers 45 Light"/>
              </a:rPr>
              <a:t>Aspectos tributarios</a:t>
            </a:r>
            <a:endParaRPr b="1" lang="en-US" sz="28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ctr" anchorCtr="1">
            <a:noAutofit/>
          </a:bodyPr>
          <a:p>
            <a:pPr algn="ctr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Univers 45 Light"/>
              </a:rPr>
              <a:t>Expositor:   Dr. Jorge H. Asi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?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onstituye el lugar de radicación del server un establecimiento permanente?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spectos técnico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spectos negociale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Univers 45 Light"/>
              </a:rPr>
              <a:t>CONCEPTOS BASICOS SOBRE EL TEMA (Convenio OCDE)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anancias empresariales ( art.7 )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galías ( art. 12 )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Ganancias empresariales: Ganancias obtenidas por empresas no constituídas en el país: NO SUJETAS A RETENCION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galías: Ganancias obtenidas por empresas no constituídas en el país:SUJETAS A RETENCION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premisa básica de discusión es examinar las características de varios tipos de pagos por operaciones efectuadas a través del comercio electrónico en negocios desarrollados entre países con tratados para evitar la doble imposición internacional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Univers 45 Light"/>
              </a:rPr>
              <a:t>CASO 1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: El cliente selecciona un item de un catálogo on-line de software o de otro producto digital y ordena el producto electrónicamente al proveedor. No hay cargo adicional por el uso del catálogo. El producto digital es bajado al disco rígido de la computadora del cliente o algún otro vehículo similar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Univers 45 Light"/>
              </a:rPr>
              <a:t>CASO 2</a:t>
            </a: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: Idem anterior pero el cliente adquiere el derecho de explotar comercialmente las copias que produzca (copyright)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 proveedor obtiene una licencia de uso de una aplicación de software para su negocio o para ser aplicada a la provisión de servicios.El proveedor no provee los bienes y servicios.Solamente provee al cliente los medios para automatizar y manejar la interacción con terceros proveedores de dichos bienes.El cliente no tiene derecho sobre el software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onsultoría u otro servicio profesional que es provisto como asesoramiento a clientes a través de e-mail, video conferencia y otro remoto medio de comunicación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1. Asesoramiento técnico, financiero o de otra índole prestado desde el exterior. 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rtículo 93, inc.a) ap.1 de la ley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lícuota de retención: 21%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esión de derechos de explotación de patentes, marcas u otros bienes intangibles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rt.93, inc.a), apartado 2 de la ley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lícuota de retención: 28%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Retención en la fu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       </a:t>
            </a: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Definición</a:t>
            </a: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571500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oda operación conducida vía internet que comprenda la venta, alquiler, licencia, oferta o envío de propiedades, mercaderías, servicios o información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10280" y="40384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Tratados para evitar la doble imposición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AIS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lemania: 15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ustralia: 10%: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Austria: 15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Bélgica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Bolivia: 21-28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Brasil: 21-28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anada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Chile: 21-28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Dinamarca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spaña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Finlandia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Francia: 18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talia: 18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Países bajos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Reino Unido: 10%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Suecia: 15% 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VA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NDIRECT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s cuando a la orden efectuada por vía electrónica sigue la entrega del bien por la vía tradicional, es decir física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328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DIRECTO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Es cuando a la orden efectuada por la vía electrónica le sigue la entrega del bien o del servicio también por dicha vía.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VA-Hecho imponibl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Directo: Importación definitiva de cosas muebles(Ley art.1, inc.c)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Indirecto:Importación de servicios(Ley art.1|, inc.d)?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s patrimoniale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Univers 45 Light"/>
              </a:rPr>
              <a:t>Impuesto a la ganancia mínima presunta.-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Quedan alcanzados los sujetos no residentes únicamente si a través de la ubicación y utilización de los bienes se configura un establecimiento permanente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s patrimoniale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 u="sng">
                <a:solidFill>
                  <a:srgbClr val="ffffff"/>
                </a:solidFill>
                <a:uFillTx/>
                <a:latin typeface="Univers 45 Light"/>
              </a:rPr>
              <a:t>Impuesto sobre los bienes personales.-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Personas físicas radicadas en el exterior que tengan bienes en el país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Pagan a través de un responsable sustituto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lícuota: 0,75%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 a las ganancia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os sujetos residentes en el país tributan sobre la totalidad de sus ganancias obtenidas en el país o en el exterior, pudiendo computar como pago a cuenta del impuesto, las sumas efectivamente abonadas por gravámenes análogos sobre sus actividades en el exterior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 a la ganancia mínima presunta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 objeto del impuesto es gravar los bienes pertenecientes a los entes jurídicos constituídos o radicados en el país, cualquiera sea el lugar en que dichos bienes se encuentren, en el país o en el exterior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lícuota: 1%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VA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 objeto del gravamen alcanza a las ventas de cosas muebles y prestaciones llevadas a cabo en el territorio nacional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No están alcanzadas por el gravamen las prestaciones realizadas en el territorio nacional, cuya utilización o explotación efectiva se lleve a cabo en el exterior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Alícuota: 21%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 sobre los ingresos bruto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ste impuesto rige en todas las Provincias que componen el sistema federal de gobierno de la Argentina, incluyendo el Gobierno Autónomo de la Ciudad de Buenos Aires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uando la actividad abarca más de una jurisdicción la  base imponible debe dividirse entre ellas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 sobre los ingresos bruto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523520"/>
            <a:ext cx="59817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Operaciones entre ausentes. Lugar de asignación del ingreso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Diferencias en el comercio electrónico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3840" y="15235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RADICIONAL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Sólo entre empresa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0" y="1066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VIA INTERNET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mpresa-Consumidor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mpresa-Empresa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mpresa-Administración pública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Usuario-usuario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Impuestos municipale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asa de seguridad e higiene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Tasa al comercio e industria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stablecimiento radicado en la jurisdicción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Necesidad o no de presencia física en el lugar que se genera la actividad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Diferencias en el Comercio Electrónico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3840" y="144756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Círculos cerrados, a menudo específicos de un sector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Número limitado de participante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328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Mercado mundial abierto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Número limitado de participantes empresariale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Diferencias en el Comercio Electrónico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des cerradas propia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Participantes conocidos y dignos de confianza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328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Redes abiertas, no protegida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Participantes conocidos y desconocido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Diferencias en el Comercio Electrónico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seguridad forma parte del diseño de la red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 mercado es un círculo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0" y="1447920"/>
            <a:ext cx="3548160" cy="3898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seguridad y autentificación son necesarias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0">
              <a:lnSpc>
                <a:spcPct val="105000"/>
              </a:lnSpc>
              <a:spcBef>
                <a:spcPts val="825"/>
              </a:spcBef>
              <a:buNone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a red es el mercado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Temas principales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354816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NTERNACIONAL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)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Impuesto a las ganancias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.1) Establecimiento permanente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.2) Retención en la fuente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I) </a:t>
            </a: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IVA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III)Impuestos patrimo-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niales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3548160" cy="3263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LOCAL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Impuesto a las ganancias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IVA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Ingresos brutos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751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000" spc="-1" strike="noStrike" u="sng">
                <a:solidFill>
                  <a:srgbClr val="ffffff"/>
                </a:solidFill>
                <a:uFillTx/>
                <a:latin typeface="Univers 45 Light"/>
              </a:rPr>
              <a:t>Tasas municipales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Univers 45 Light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3000" spc="-1" strike="noStrike">
                <a:solidFill>
                  <a:srgbClr val="fafd00"/>
                </a:solidFill>
                <a:latin typeface="Univers 45 Light"/>
              </a:rPr>
              <a:t>Establecimiento permanente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Definición del art. 5° del convenio modelo de la O.C.D.E.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LUGAR FIJO DE NEGOCIOS MEDIANTE EL CUAL UNA EMPRESA REALIZA TODA O PARTE DE SU ACTIVIDAD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560" y="456840"/>
            <a:ext cx="7238880" cy="4906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Univers 45 Light"/>
              </a:rPr>
              <a:t>?</a:t>
            </a:r>
            <a:endParaRPr b="1" lang="en-US" sz="3000" spc="-1" strike="noStrike">
              <a:solidFill>
                <a:srgbClr val="fafd00"/>
              </a:solidFill>
              <a:latin typeface="Univers 45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2560" y="1498320"/>
            <a:ext cx="7238880" cy="420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 anchorCtr="1">
            <a:normAutofit/>
          </a:bodyPr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El actual concepto de establecimiento permanente provee un apropiado encuadre para la asignación de recursos impositivos entre la fuente y el país de residencia?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  <a:p>
            <a:pPr marL="380880" indent="-380880">
              <a:lnSpc>
                <a:spcPct val="105000"/>
              </a:lnSpc>
              <a:spcBef>
                <a:spcPts val="825"/>
              </a:spcBef>
              <a:buClr>
                <a:srgbClr val="fafd00"/>
              </a:buClr>
              <a:buSzPct val="80000"/>
              <a:buFont typeface="Wingdings" charset="2"/>
              <a:buChar char=""/>
              <a:tabLst>
                <a:tab algn="l" pos="785880"/>
                <a:tab algn="l" pos="1571760"/>
                <a:tab algn="l" pos="2357280"/>
                <a:tab algn="l" pos="3143160"/>
                <a:tab algn="l" pos="3929040"/>
                <a:tab algn="l" pos="4714920"/>
                <a:tab algn="l" pos="5500800"/>
                <a:tab algn="l" pos="6286680"/>
                <a:tab algn="l" pos="7072200"/>
                <a:tab algn="l" pos="7858080"/>
                <a:tab algn="l" pos="8643960"/>
                <a:tab algn="l" pos="9429840"/>
                <a:tab algn="l" pos="1021572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Univers 45 Light"/>
              </a:rPr>
              <a:t>Hay necesidad de dictar normas especiales y serían éstas una alternativa viable para las normas internacionales existentes?</a:t>
            </a:r>
            <a:endParaRPr b="1" lang="en-US" sz="2200" spc="-1" strike="noStrike">
              <a:solidFill>
                <a:srgbClr val="ffffff"/>
              </a:solidFill>
              <a:latin typeface="Univers 45 Light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7:47:12Z</dcterms:created>
  <dc:creator>Compaq</dc:creator>
  <dc:description/>
  <dc:language>en-US</dc:language>
  <cp:lastModifiedBy>C.P.C.E.C.A.B.A.</cp:lastModifiedBy>
  <dcterms:modified xsi:type="dcterms:W3CDTF">2003-06-30T23:10:36Z</dcterms:modified>
  <cp:revision>1</cp:revision>
  <dc:subject/>
  <dc:title>Comercio Electrónico</dc:title>
</cp:coreProperties>
</file>