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4CF-33B0-4D19-987C-091C6FEB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0AC-C5CB-463F-ACBF-A914800E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4463-F429-4E57-A505-CB858E52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B6CC-C540-4675-84C3-8D2A53C8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FA48-A9D0-4DC6-ACEB-BA8EC639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0828-5CDC-4047-B56B-772BE16B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235C-0C23-488E-9A50-2C6173A2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9106-9D26-455A-8636-2EF6D5B6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A732-5EBC-4909-B3FC-3961892B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EAC3-DE78-402B-9CA3-3EA2F718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D8A1-3995-40A9-87F9-648C606E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C04-9232-4CD4-A200-A9B60733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FBD4-9ED5-4D90-8072-09B66EC5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258E-E238-4FF3-AF38-E3E695E1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0155-A612-460C-B7B9-B1D31997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6657-A090-4743-9F0B-846374EB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CF01-BFE5-4277-B0B6-BF9F9DAE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92E9-4293-4FAA-B54E-0567561C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11C-DD13-4877-ADCB-5E4CA6C7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0AF-4DA8-4CA6-B5A1-4472D323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D60-6577-435E-9EFC-FD66BE6F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CE1-A63C-464A-B613-2CDEF31F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5BD7-2065-40DD-81B7-0B87B262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DD06-A131-4EE9-8FA3-34AA243F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781B-8C82-477A-8221-5614A23082DA}" type="slidenum">
              <a:rPr b="0" lang="es-MX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5FAE-512F-4663-AEEF-D32BACA3F8CC}" type="slidenum">
              <a:rPr b="0" lang="es-MX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84692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SITUACIÓN DE LA NEGOCIACIÓN Y MEDIACIÓN EN ARGENTINA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Pcia de Chubu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lan Social de Asistencia Jurídica a la Comunidad del Ministerio de Justicia y Derechos Human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Pcia de La Rioja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lan Social de Asistencia Jurídica a la Comunidad del Ministerio de Justicia y Derechos Human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Pcia de Tierra del Fuego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lan Social de Asistencia Jurídica a la Comunidad del Ministerio de Justicia y Derechos Human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MEDIACIÓN COMUNITARIA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Pcia de Buenos Aire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Centro de Mediación Comunitaria de Castela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Mediando-Metálogos Asociación Civi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Centro Comunitario de Resolución Alternativa de Conflictos de la Municipalidad de Mor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Centro de Mediación Municipalidad de Zár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Centro de Mediación Municipalidad de Tig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Centro de Mediación Municipalidad de Hurlingha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Centro de Mediación Comunitaria y de Res.de Conflictos de la Municipalidad de Bolíva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Oficina de Mediación de la Procuración General de la Suprema Corte de Justicia de la Pcia de Buenos Aires – La Plat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Pcia de Buenos Aire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Centro de Mediación Comunitaria de la Defensoría del Pueblo de Pilar – de Isidro Casanova y de La Matanz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Centro de Mediación Comunitaria de la Defensoría de Vicente López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Centro de Mediación Comunitaria de Quilm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Centro de Jubilados y Pensionados 25 de May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AMIBO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Pcia de Córdoba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AMEREC Centro de Mediación del Colegio de Escriban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ro de Mediación Concerta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ro de Mediación Comunitaria del Defensor del Pueblo Río I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ensoría del Pueblo de Corral de Bus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Pcia de Chaco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ro de Mediación de la Fundación Instituto de Mediación – Resistencia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ro Público de Mediación – Conexo al Poder Judici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Pcia de Formosa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ro de Mediación Comunitaria de Formos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Pcia de Juju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Centro de Mediación Comunitaria de Palpalá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MEDIACION ESCOLAR EN ARGENTINA</a:t>
            </a: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OGRAM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Pcia de Mendoza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ro de Mediación Comunitaria – Municipalidad de Luján de Cuy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ro de Mediación SALDA – Plan Agua y Energí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es Alternativas – Centro de Medi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Pcia de Misione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ociación Misionera de Mediación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Pcia de Salta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ro de Mediación – Colegio de Abogados de Sal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ograma piloto de Mediación del Poder Judicial de Sal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Pcia de Neuqué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ensoría del Pueblo de la Ciudad de Neuqué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Pcia de Santa F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stituto de Resolución de Conflictos de la Unión del Personal Civil de la Nación – Seccional Santa F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ro de Mediación de la Defensoría del Puebl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stitución Vínculo – Rosar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EPUSFE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Pcia de Tucumá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ro de Mediación Comunitaria de la Defensoría del Puebl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ro de Mediación y Negociación del Colegio de Aboga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PROGRAMAS DE MEDIACIÓN EN ORGANIZACIONES</a:t>
            </a: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ONSEJO NACIONAL DE NIÑEZ, ADOLESCENCIA Y FAMILIA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OGRAMA DE MEDIACIÓN COMUNITARIA EN INFANCIA Y ADOLESCENCI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apacitación a las personas que forman parte de organizaciones del CONA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SOCIACIÓN ARGENTINA DE MEDICINA INTEGRATIVA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OGRAMA DE PARTICIPACIÓN ACTIVA DEL PACIE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LACIÓN MÉDICO-PACIENTE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SPE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CONOCIMIEN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R ESCUCH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4076640"/>
            <a:ext cx="71280" cy="1800360"/>
          </a:xfrm>
          <a:custGeom>
            <a:avLst/>
            <a:gdLst>
              <a:gd name="textAreaLeft" fmla="*/ 45720 w 71280"/>
              <a:gd name="textAreaRight" fmla="*/ 71640 w 71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ÁMARA ARGENTINA DE COMERCIO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 DE CENTROS DE ARBITRAJE COMERCIAL Y MEDI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o Mundial de Inversiones – FOMI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anco Interamericano de Desarroll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Pcia de Buenos Aire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Colegio San Martín de Tours e Instituciones educativas de San Isidro y San Fernan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Fundación Serpaj en Gral Rodríguez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Colegios de la Municipalidad de Mor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Casa de la Contención de Tandil en convenio con la Universidad del Centr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AMIBO: capacitación a través de CETER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Mediando-Metálogos: docentes del Centro de Investigaciones Educativ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Escuela Normal Lenguas Viv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ooperativas de Trabajo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areas de facilit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ransformación de la gest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satar la palabr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Nuevos emprendimientos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area de transformación de la gestión, capacitación en desarrollo de proyectos y creación de diálogo para el consens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Economía social y desarrollo local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sarrollo y formación en diálogo y nuevas formas de gest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Pcia. de Río Negro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undación Alternativa San Carlos de Bariloch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ograma de Prevención de Violencia con 12 escuelas y cerca de 400 docentes que han recibido formación y 250 alumnos mediado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Pcia de Santa F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ociación Profesional de Mediadores de Rosario en la Escuela de Enseñanza Media No.43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misión Escolar Centro de Mediación – Colegio de Abogados de Rosario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cuela de Enseñanza Media No.8117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ro Educativo Santafesino No.1313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undación Fraternit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legio María Auxiliadora de Rosar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Pcia de Chaco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Equipo Interdisciplinario Capacitador de Mediación Educativ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Más de 700 docentes forma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Fundación Instituto de Medi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Más de 1500 doc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Pcia de Catamarca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lan Social de Asistencia Jurídica a la Comunida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l Ministerio de Justicia y Derechos Human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46 docentes capacitados que están entrenando a más de 200 alumnos mediado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Pcia de Mendoza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lan Social de Asistencia Jurídica a la Comunidad del Ministerio de Justicia y Derechos Human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undación Educa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Pcia de Corriente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lan Social de Asistencia Jurídica a la Comunidad del Ministerio de Justicia y Derechos Human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ás de 160 alumnos mediado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4:47:38Z</dcterms:created>
  <dc:creator>Nora</dc:creator>
  <dc:description/>
  <dc:language>en-US</dc:language>
  <cp:lastModifiedBy>pagina</cp:lastModifiedBy>
  <dcterms:modified xsi:type="dcterms:W3CDTF">2003-08-28T19:11:03Z</dcterms:modified>
  <cp:revision>4</cp:revision>
  <dc:subject/>
  <dc:title>MEDIACION ESCOLAR EN ARGENTINA</dc:title>
</cp:coreProperties>
</file>