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5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533520"/>
            <a:ext cx="9144000" cy="2286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32227" t="0" r="32227" b="0"/>
          <a:stretch/>
        </p:blipFill>
        <p:spPr>
          <a:xfrm>
            <a:off x="114480" y="6218280"/>
            <a:ext cx="1066680" cy="3826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95280" y="6410160"/>
            <a:ext cx="74678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www.rivier.edu/images_karen/Accelerate/business%2520meeting.jpg&amp;imgrefurl=http://www.rivier.edu/academics/business/default.htm&amp;h=349&amp;w=432&amp;prev=/images%3Fq%3Dbusiness%2Bmeeting%26start%3D20%26svnum%3D10%26hl%3Des%26lr%25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019920" cy="412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5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29000" y="1219320"/>
            <a:ext cx="497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  <a:ea typeface="Arial"/>
              </a:rPr>
              <a:t>El proyecto educ.ar como herramienta de inclusión social</a:t>
            </a:r>
            <a:r>
              <a:rPr b="1" lang="es-ES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6410160"/>
            <a:ext cx="74678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33520"/>
            <a:ext cx="9144000" cy="2286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562720" y="5105520"/>
            <a:ext cx="3019320" cy="715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5943600"/>
            <a:ext cx="7924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99"/>
                </a:solidFill>
                <a:latin typeface="Verdana"/>
                <a:ea typeface="Arial"/>
              </a:rPr>
              <a:t>2° Congreso de Tecnología de la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1484280"/>
            <a:ext cx="7759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El papel de la educación es cruci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Es necesario formar a la sociedad para que no sea consumidora pasiva de la Red, sino parte activ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Es necesario formar a la sociedad para que cree contenidos ricos y accesibl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Y es fundamental que los contenidos educativos puedan llegar a TO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14080"/>
            <a:ext cx="8763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a nueva agenda de preocup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520200"/>
            <a:ext cx="87627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Brechas en la edu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8388360" cy="50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05040" indent="0"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Deterioro de condiciones de educ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810440" indent="-452520">
              <a:buClr>
                <a:srgbClr val="000000"/>
              </a:buClr>
              <a:buFont typeface="Verdan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810440" indent="-452520">
              <a:buClr>
                <a:srgbClr val="000000"/>
              </a:buClr>
              <a:buFont typeface="Verdan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810440" indent="-452520">
              <a:buClr>
                <a:srgbClr val="000000"/>
              </a:buClr>
              <a:buFont typeface="Verdan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miliar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810440" indent="-452520">
              <a:buClr>
                <a:srgbClr val="000000"/>
              </a:buClr>
              <a:buFont typeface="Verdan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ioro de las condiciones de los doc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cuación de su metodología pedagógica a la nueva re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o y aplicación de las TIC en la docenc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ioro de sus condiciones de v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43560" y="1341360"/>
            <a:ext cx="2800440" cy="1724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705800" y="63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98320" y="2957400"/>
            <a:ext cx="755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duc.ar como medio para lograr mayor equidad y homogeneidad en la calidad educativa a nivel nacion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52388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Reconocimiento de nombre, que permite abrir puertas en Argentina y en el exter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60.000 usuarios registr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300.000 páginas únicas mensuales visi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Bases de datos y relaciones construidas (con instituciones y gobier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ctividades implemen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Concursos </a:t>
            </a:r>
            <a:br>
              <a:rPr sz="1800"/>
            </a:b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(Think Quest, Olimpíadas de Internet, Aulas Hermana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Herramienta de Campus Virt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Red Educ.ar: conectividad y servicios a escuelas rur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90600" y="83808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cc"/>
                </a:solidFill>
                <a:latin typeface="Verdana"/>
              </a:rPr>
              <a:t>Logros histór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 rot="17633400">
            <a:off x="5836680" y="4347000"/>
            <a:ext cx="1920600" cy="2065320"/>
          </a:xfrm>
          <a:custGeom>
            <a:avLst/>
            <a:gdLst>
              <a:gd name="textAreaLeft" fmla="*/ 0 w 1920600"/>
              <a:gd name="textAreaRight" fmla="*/ 1920960 w 1920600"/>
              <a:gd name="textAreaTop" fmla="*/ 0 h 2065320"/>
              <a:gd name="textAreaBottom" fmla="*/ 2065680 h 2065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382768"/>
                <a:lnTo>
                  <a:pt x="17206" y="19495"/>
                </a:lnTo>
                <a:arcTo wR="10800" hR="10800" stAng="3217232" swAng="1838276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99cc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4729320"/>
            <a:ext cx="370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Educar como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red de creación de val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cc"/>
                </a:solidFill>
                <a:latin typeface="Verdana"/>
              </a:rPr>
              <a:t>Dua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Necesidad de un análisis dialéctico que apunte a evaluar correctamente el alcance de lo que es nuevo, mientras se examina si lo nuevo no reproduce lo viejo e incluso lo muy viej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tecnología no tiene sig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62320" y="1935000"/>
            <a:ext cx="4604760" cy="52056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Generación de Conten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6048720" y="1600200"/>
            <a:ext cx="2335680" cy="52056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onectiv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3089880" y="3276720"/>
            <a:ext cx="3792600" cy="52056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apacitación Doc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2196720" y="3886200"/>
            <a:ext cx="5577120" cy="52056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Finalización del Ciclo Secundar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020040" y="4495680"/>
            <a:ext cx="3932640" cy="52056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Formación Profe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78760" y="1701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562760" y="5602320"/>
            <a:ext cx="6846840" cy="58140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Verdana"/>
              </a:rPr>
              <a:t>Democratización de la Educ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037200" y="2290680"/>
            <a:ext cx="2511000" cy="52056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Equip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986360" y="5037120"/>
            <a:ext cx="0" cy="647640"/>
          </a:xfrm>
          <a:prstGeom prst="line">
            <a:avLst/>
          </a:prstGeom>
          <a:ln w="1144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83808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cc"/>
                </a:solidFill>
                <a:latin typeface="Verdana"/>
              </a:rPr>
              <a:t>Agenda pública para la alfabetización tecnológ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990720"/>
            <a:ext cx="9144000" cy="55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Reducción de la brecha digit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Incorporación de las Tecnologías de la Información y la Comunicación en la edu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Creación de redes entre gobierno, sector privado y tercer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Unidad ejecutora de proyectos del Ministerio de Educación para la integración de las TICs en el sistema educa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Referente del sector para temas de educación en lín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Descentralización educativa: recuperar el valor de lo local y las realidades regionales sin perder de vista el rol central del MECyT como promotor y orientador de políticas educati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914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3382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Posicionam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5143680" cy="2173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6320" y="914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Cambios inter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886200"/>
            <a:ext cx="815328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ducar como pool de capitales físicos y humanos que pueden recombinarse de diferentes mane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uchas ideas necesitan ser elaboradas contando con información de varias áre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264280" y="2454120"/>
            <a:ext cx="32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Ambigü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Innovación cons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538200" y="1371600"/>
            <a:ext cx="202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Er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Indust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559480" y="1371600"/>
            <a:ext cx="28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Era d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Conocim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195640"/>
            <a:ext cx="144792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97720" y="2454120"/>
            <a:ext cx="31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Paradigmas est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Predict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1992960" y="409104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Verdana"/>
              </a:rPr>
              <a:t>Rol del trabaja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5263560" y="4740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Adaptación al camb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Generación de camb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Velocidad de respues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251280" y="4738680"/>
            <a:ext cx="20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Repeti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5332320"/>
            <a:ext cx="144792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Resilienc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res formas fundamentales de innov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Revol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Renov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Resili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apacidad de reconstrucción continu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17600" y="2349360"/>
            <a:ext cx="17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WW Si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4136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utadoras Host en Internet (en mill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541440" y="2900520"/>
            <a:ext cx="1663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50720" y="259704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ch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26161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62240" y="3002040"/>
            <a:ext cx="7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e. 9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e. 9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e. 9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1468440" y="3002040"/>
            <a:ext cx="87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0.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400.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60840" y="2176560"/>
            <a:ext cx="4970160" cy="396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79480" y="476892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1611"/>
                </a:solidFill>
                <a:latin typeface="Verdana"/>
              </a:rPr>
              <a:t>5.000.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6324840" y="283860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1611"/>
                </a:solidFill>
                <a:latin typeface="Verdana"/>
              </a:rPr>
              <a:t>20.000.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6486840" y="195912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1611"/>
                </a:solidFill>
                <a:latin typeface="Verdana"/>
              </a:rPr>
              <a:t>25.000.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2540520" y="1906560"/>
            <a:ext cx="354600" cy="38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2803680" y="570564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69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3596040" y="5713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JUL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89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4800960" y="60166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EP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1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5089680" y="56926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JUL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2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5591160" y="601668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OCT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3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6111720" y="60166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NER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6674040" y="60166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B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6980400" y="60166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EB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7376040" y="6016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NOV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5790240" y="570240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AR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4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6313680" y="57024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JUL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6764760" y="57024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EP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7125120" y="57024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JUL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3705840" y="51418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1611"/>
                </a:solidFill>
                <a:latin typeface="Verdana"/>
              </a:rPr>
              <a:t>130.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52182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1611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acimiento de una 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¿La tecnología es estrategi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"Una herramienta más" o "un canal más" denota una profunda falta de comprensión del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oder de la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oder ver más allá de la causa y el ef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Incrementalismo rad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¿La tecnología es estrategi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Herramientas vs. Estrate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dicionantes vs. Decis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prendizaje Generativo frente al Reto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ación de Futu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440" y="2172960"/>
            <a:ext cx="800100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just">
              <a:spcBef>
                <a:spcPts val="125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pacitación Doc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 algn="just">
              <a:spcBef>
                <a:spcPts val="125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rmación Labo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 algn="just">
              <a:spcBef>
                <a:spcPts val="125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erminalidad de la escuela me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 algn="just">
              <a:spcBef>
                <a:spcPts val="125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ceso a la Conectividad y Equip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 algn="just">
              <a:spcBef>
                <a:spcPts val="125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ulación con el MECyT y otras  dependencias gubernament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 algn="just">
              <a:spcBef>
                <a:spcPts val="125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inculación con el sector privado, el sector civil y organismos internacio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Líneas de Ac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1945440" y="5715000"/>
            <a:ext cx="650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educar como  multiplicador</a:t>
            </a:r>
            <a:br>
              <a:rPr sz="2000"/>
            </a:br>
            <a:r>
              <a:rPr b="0" i="1" lang="es-AR" sz="1600" spc="-1" strike="noStrike">
                <a:solidFill>
                  <a:srgbClr val="000000"/>
                </a:solidFill>
                <a:latin typeface="Verdana"/>
              </a:rPr>
              <a:t>articulación de proyectos existentes para potenciar su efectivid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2640" y="1523520"/>
            <a:ext cx="8001000" cy="49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)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d Escolar Puentes.A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onación de PCs. Sun - Teleco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diseño del Portal Educ.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Jornadas de E-Learning Educ.Ar - Edutic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dquisición de 10.000 PC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ejo Asesor Priv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icitación Procefha – Redefini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nzamiento de Plataforma de Educación a Distanc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d-Rom de Alfabetización Digital Bás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Utilización de CTCs para Capacitación Doc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lianza con Ministerio de Trabajo, Empleo y Seguridad Soc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Jornada de Escuelas Innovad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ectividad de Escuelas Rur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operación con el Gobierno De Canadá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apa de Conectivid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99"/>
              </a:spcBef>
              <a:spcAft>
                <a:spcPts val="400"/>
              </a:spcAft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udanz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914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Plan de Trabaj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52280" y="558720"/>
            <a:ext cx="8914320" cy="5638680"/>
            <a:chOff x="152280" y="558720"/>
            <a:chExt cx="8914320" cy="5638680"/>
          </a:xfrm>
        </p:grpSpPr>
        <p:grpSp>
          <p:nvGrpSpPr>
            <p:cNvPr id="166" name=""/>
            <p:cNvGrpSpPr/>
            <p:nvPr/>
          </p:nvGrpSpPr>
          <p:grpSpPr>
            <a:xfrm>
              <a:off x="152280" y="558720"/>
              <a:ext cx="2679120" cy="777600"/>
              <a:chOff x="152280" y="558720"/>
              <a:chExt cx="2679120" cy="777600"/>
            </a:xfrm>
          </p:grpSpPr>
          <p:sp>
            <p:nvSpPr>
              <p:cNvPr id="167" name=""/>
              <p:cNvSpPr/>
              <p:nvPr/>
            </p:nvSpPr>
            <p:spPr>
              <a:xfrm>
                <a:off x="174240" y="563040"/>
                <a:ext cx="2635200" cy="7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558720"/>
                <a:ext cx="2679120" cy="77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831760" y="558720"/>
              <a:ext cx="1038960" cy="777600"/>
              <a:chOff x="2831760" y="558720"/>
              <a:chExt cx="1038960" cy="77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2853720" y="563040"/>
                <a:ext cx="995040" cy="7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Capacit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br>
                  <a:rPr sz="1100"/>
                </a:b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ocente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31760" y="558720"/>
                <a:ext cx="1038960" cy="77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871080" y="558720"/>
              <a:ext cx="1038240" cy="777600"/>
              <a:chOff x="3871080" y="558720"/>
              <a:chExt cx="1038240" cy="777600"/>
            </a:xfrm>
          </p:grpSpPr>
          <p:sp>
            <p:nvSpPr>
              <p:cNvPr id="173" name=""/>
              <p:cNvSpPr/>
              <p:nvPr/>
            </p:nvSpPr>
            <p:spPr>
              <a:xfrm>
                <a:off x="3893040" y="563040"/>
                <a:ext cx="994320" cy="7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Formac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br>
                  <a:rPr sz="1100"/>
                </a:b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Laboral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71080" y="558720"/>
                <a:ext cx="1038240" cy="77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910040" y="558720"/>
              <a:ext cx="1038960" cy="777600"/>
              <a:chOff x="4910040" y="558720"/>
              <a:chExt cx="1038960" cy="77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4932360" y="563040"/>
                <a:ext cx="994320" cy="7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ermin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</a:t>
                </a:r>
                <a:br>
                  <a:rPr sz="1100"/>
                </a:b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Secund.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10040" y="558720"/>
                <a:ext cx="1038960" cy="77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949360" y="558720"/>
              <a:ext cx="1038960" cy="777600"/>
              <a:chOff x="5949360" y="558720"/>
              <a:chExt cx="1038960" cy="777600"/>
            </a:xfrm>
          </p:grpSpPr>
          <p:sp>
            <p:nvSpPr>
              <p:cNvPr id="179" name=""/>
              <p:cNvSpPr/>
              <p:nvPr/>
            </p:nvSpPr>
            <p:spPr>
              <a:xfrm>
                <a:off x="5971320" y="563040"/>
                <a:ext cx="995040" cy="7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Conectiv </a:t>
                </a:r>
                <a:br>
                  <a:rPr sz="1100"/>
                </a:b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y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E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quip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49360" y="558720"/>
                <a:ext cx="1038960" cy="77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989040" y="558720"/>
              <a:ext cx="1038240" cy="777600"/>
              <a:chOff x="6989040" y="558720"/>
              <a:chExt cx="1038240" cy="777600"/>
            </a:xfrm>
          </p:grpSpPr>
          <p:sp>
            <p:nvSpPr>
              <p:cNvPr id="182" name=""/>
              <p:cNvSpPr/>
              <p:nvPr/>
            </p:nvSpPr>
            <p:spPr>
              <a:xfrm>
                <a:off x="7011000" y="563040"/>
                <a:ext cx="994320" cy="7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Articul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 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Con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c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ob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89040" y="558720"/>
                <a:ext cx="1038240" cy="77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8027640" y="558720"/>
              <a:ext cx="1038960" cy="777600"/>
              <a:chOff x="8027640" y="558720"/>
              <a:chExt cx="1038960" cy="777600"/>
            </a:xfrm>
          </p:grpSpPr>
          <p:sp>
            <p:nvSpPr>
              <p:cNvPr id="185" name=""/>
              <p:cNvSpPr/>
              <p:nvPr/>
            </p:nvSpPr>
            <p:spPr>
              <a:xfrm>
                <a:off x="8049960" y="563040"/>
                <a:ext cx="994320" cy="7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Vinc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 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con priv, 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s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y org. Int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027640" y="558720"/>
                <a:ext cx="1038960" cy="77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152280" y="1341000"/>
              <a:ext cx="2679120" cy="274680"/>
              <a:chOff x="152280" y="1341000"/>
              <a:chExt cx="2679120" cy="274680"/>
            </a:xfrm>
          </p:grpSpPr>
          <p:sp>
            <p:nvSpPr>
              <p:cNvPr id="188" name=""/>
              <p:cNvSpPr/>
              <p:nvPr/>
            </p:nvSpPr>
            <p:spPr>
              <a:xfrm>
                <a:off x="174240" y="1345320"/>
                <a:ext cx="26352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Red Escolar Puentes.Ar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2280" y="1341000"/>
                <a:ext cx="267912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831760" y="1341000"/>
              <a:ext cx="1038960" cy="274680"/>
              <a:chOff x="2831760" y="1341000"/>
              <a:chExt cx="1038960" cy="274680"/>
            </a:xfrm>
          </p:grpSpPr>
          <p:sp>
            <p:nvSpPr>
              <p:cNvPr id="191" name=""/>
              <p:cNvSpPr/>
              <p:nvPr/>
            </p:nvSpPr>
            <p:spPr>
              <a:xfrm>
                <a:off x="2853720" y="1345320"/>
                <a:ext cx="99504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31760" y="134100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871080" y="1341000"/>
              <a:ext cx="1038240" cy="274680"/>
              <a:chOff x="3871080" y="1341000"/>
              <a:chExt cx="1038240" cy="274680"/>
            </a:xfrm>
          </p:grpSpPr>
          <p:sp>
            <p:nvSpPr>
              <p:cNvPr id="194" name=""/>
              <p:cNvSpPr/>
              <p:nvPr/>
            </p:nvSpPr>
            <p:spPr>
              <a:xfrm>
                <a:off x="3893040" y="134532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71080" y="1341000"/>
                <a:ext cx="103824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910040" y="1341000"/>
              <a:ext cx="1038960" cy="274680"/>
              <a:chOff x="4910040" y="1341000"/>
              <a:chExt cx="1038960" cy="274680"/>
            </a:xfrm>
          </p:grpSpPr>
          <p:sp>
            <p:nvSpPr>
              <p:cNvPr id="197" name=""/>
              <p:cNvSpPr/>
              <p:nvPr/>
            </p:nvSpPr>
            <p:spPr>
              <a:xfrm>
                <a:off x="4932360" y="134532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10040" y="134100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5949360" y="1341000"/>
              <a:ext cx="1038960" cy="284040"/>
              <a:chOff x="5949360" y="1341000"/>
              <a:chExt cx="1038960" cy="284040"/>
            </a:xfrm>
          </p:grpSpPr>
          <p:sp>
            <p:nvSpPr>
              <p:cNvPr id="200" name=""/>
              <p:cNvSpPr/>
              <p:nvPr/>
            </p:nvSpPr>
            <p:spPr>
              <a:xfrm>
                <a:off x="5949360" y="13410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949360" y="1341000"/>
                <a:ext cx="1038600" cy="274680"/>
                <a:chOff x="5949360" y="1341000"/>
                <a:chExt cx="1038600" cy="2746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971320" y="134532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49360" y="13410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6989040" y="1341000"/>
              <a:ext cx="1038240" cy="284040"/>
              <a:chOff x="6989040" y="1341000"/>
              <a:chExt cx="1038240" cy="284040"/>
            </a:xfrm>
          </p:grpSpPr>
          <p:sp>
            <p:nvSpPr>
              <p:cNvPr id="205" name=""/>
              <p:cNvSpPr/>
              <p:nvPr/>
            </p:nvSpPr>
            <p:spPr>
              <a:xfrm>
                <a:off x="6989040" y="134100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6989040" y="1341000"/>
                <a:ext cx="1037880" cy="274680"/>
                <a:chOff x="6989040" y="1341000"/>
                <a:chExt cx="1037880" cy="2746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011000" y="134532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989040" y="134100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8027640" y="1341000"/>
              <a:ext cx="1038960" cy="284040"/>
              <a:chOff x="8027640" y="1341000"/>
              <a:chExt cx="1038960" cy="284040"/>
            </a:xfrm>
          </p:grpSpPr>
          <p:sp>
            <p:nvSpPr>
              <p:cNvPr id="210" name=""/>
              <p:cNvSpPr/>
              <p:nvPr/>
            </p:nvSpPr>
            <p:spPr>
              <a:xfrm>
                <a:off x="8027640" y="13410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8027640" y="1341000"/>
                <a:ext cx="1038600" cy="274680"/>
                <a:chOff x="8027640" y="1341000"/>
                <a:chExt cx="1038600" cy="2746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8049960" y="134532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027640" y="13410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152280" y="1620360"/>
              <a:ext cx="2679120" cy="330480"/>
              <a:chOff x="152280" y="1620360"/>
              <a:chExt cx="2679120" cy="3304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4240" y="1625040"/>
                <a:ext cx="26352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Cd-Rom de Alfab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Digital Básic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2280" y="1620360"/>
                <a:ext cx="267912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31760" y="1620360"/>
              <a:ext cx="1038960" cy="339840"/>
              <a:chOff x="2831760" y="1620360"/>
              <a:chExt cx="1038960" cy="339840"/>
            </a:xfrm>
          </p:grpSpPr>
          <p:sp>
            <p:nvSpPr>
              <p:cNvPr id="218" name=""/>
              <p:cNvSpPr/>
              <p:nvPr/>
            </p:nvSpPr>
            <p:spPr>
              <a:xfrm>
                <a:off x="2831760" y="1620360"/>
                <a:ext cx="103896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831760" y="1620360"/>
                <a:ext cx="1038600" cy="330480"/>
                <a:chOff x="2831760" y="1620360"/>
                <a:chExt cx="1038600" cy="330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853720" y="1625040"/>
                  <a:ext cx="99468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831760" y="1620360"/>
                  <a:ext cx="103860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3871080" y="1620360"/>
              <a:ext cx="1038240" cy="330480"/>
              <a:chOff x="3871080" y="1620360"/>
              <a:chExt cx="1038240" cy="330480"/>
            </a:xfrm>
          </p:grpSpPr>
          <p:sp>
            <p:nvSpPr>
              <p:cNvPr id="223" name=""/>
              <p:cNvSpPr/>
              <p:nvPr/>
            </p:nvSpPr>
            <p:spPr>
              <a:xfrm>
                <a:off x="3893040" y="1625040"/>
                <a:ext cx="99432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71080" y="1620360"/>
                <a:ext cx="103824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910040" y="1620360"/>
              <a:ext cx="1038960" cy="330480"/>
              <a:chOff x="4910040" y="1620360"/>
              <a:chExt cx="1038960" cy="330480"/>
            </a:xfrm>
          </p:grpSpPr>
          <p:sp>
            <p:nvSpPr>
              <p:cNvPr id="226" name=""/>
              <p:cNvSpPr/>
              <p:nvPr/>
            </p:nvSpPr>
            <p:spPr>
              <a:xfrm>
                <a:off x="4932360" y="1625040"/>
                <a:ext cx="99432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10040" y="1620360"/>
                <a:ext cx="103896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949360" y="1620360"/>
              <a:ext cx="1038960" cy="330480"/>
              <a:chOff x="5949360" y="1620360"/>
              <a:chExt cx="1038960" cy="330480"/>
            </a:xfrm>
          </p:grpSpPr>
          <p:sp>
            <p:nvSpPr>
              <p:cNvPr id="229" name=""/>
              <p:cNvSpPr/>
              <p:nvPr/>
            </p:nvSpPr>
            <p:spPr>
              <a:xfrm>
                <a:off x="5971320" y="1625040"/>
                <a:ext cx="9950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49360" y="1620360"/>
                <a:ext cx="103896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989040" y="1620360"/>
              <a:ext cx="1038240" cy="339840"/>
              <a:chOff x="6989040" y="1620360"/>
              <a:chExt cx="1038240" cy="339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989040" y="1620360"/>
                <a:ext cx="103824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6989040" y="1620360"/>
                <a:ext cx="1037880" cy="330480"/>
                <a:chOff x="6989040" y="1620360"/>
                <a:chExt cx="1037880" cy="330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011000" y="1625040"/>
                  <a:ext cx="99396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89040" y="1620360"/>
                  <a:ext cx="103788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8027640" y="1620360"/>
              <a:ext cx="1038960" cy="339840"/>
              <a:chOff x="8027640" y="1620360"/>
              <a:chExt cx="1038960" cy="339840"/>
            </a:xfrm>
          </p:grpSpPr>
          <p:sp>
            <p:nvSpPr>
              <p:cNvPr id="237" name=""/>
              <p:cNvSpPr/>
              <p:nvPr/>
            </p:nvSpPr>
            <p:spPr>
              <a:xfrm>
                <a:off x="8027640" y="1620360"/>
                <a:ext cx="103896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8027640" y="1620360"/>
                <a:ext cx="1038600" cy="330480"/>
                <a:chOff x="8027640" y="1620360"/>
                <a:chExt cx="1038600" cy="330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8049960" y="1625040"/>
                  <a:ext cx="99396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027640" y="1620360"/>
                  <a:ext cx="103860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152280" y="1955520"/>
              <a:ext cx="2679120" cy="386280"/>
              <a:chOff x="152280" y="1955520"/>
              <a:chExt cx="2679120" cy="386280"/>
            </a:xfrm>
          </p:grpSpPr>
          <p:sp>
            <p:nvSpPr>
              <p:cNvPr id="242" name=""/>
              <p:cNvSpPr/>
              <p:nvPr/>
            </p:nvSpPr>
            <p:spPr>
              <a:xfrm>
                <a:off x="174240" y="1960200"/>
                <a:ext cx="263520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Relanzamiento de Plataforma de Educación a Distancia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2280" y="1955520"/>
                <a:ext cx="2679120" cy="38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831760" y="1955520"/>
              <a:ext cx="1038960" cy="395640"/>
              <a:chOff x="2831760" y="1955520"/>
              <a:chExt cx="1038960" cy="395640"/>
            </a:xfrm>
          </p:grpSpPr>
          <p:sp>
            <p:nvSpPr>
              <p:cNvPr id="245" name=""/>
              <p:cNvSpPr/>
              <p:nvPr/>
            </p:nvSpPr>
            <p:spPr>
              <a:xfrm>
                <a:off x="2831760" y="1955520"/>
                <a:ext cx="1038960" cy="3956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2831760" y="1955520"/>
                <a:ext cx="1038600" cy="386280"/>
                <a:chOff x="2831760" y="1955520"/>
                <a:chExt cx="1038600" cy="3862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853720" y="1960200"/>
                  <a:ext cx="994680" cy="381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31760" y="1955520"/>
                  <a:ext cx="103860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3871080" y="1955520"/>
              <a:ext cx="1038240" cy="395640"/>
              <a:chOff x="3871080" y="1955520"/>
              <a:chExt cx="1038240" cy="395640"/>
            </a:xfrm>
          </p:grpSpPr>
          <p:sp>
            <p:nvSpPr>
              <p:cNvPr id="250" name=""/>
              <p:cNvSpPr/>
              <p:nvPr/>
            </p:nvSpPr>
            <p:spPr>
              <a:xfrm>
                <a:off x="3871080" y="1955520"/>
                <a:ext cx="1038240" cy="3956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3871080" y="1955520"/>
                <a:ext cx="1037880" cy="386280"/>
                <a:chOff x="3871080" y="1955520"/>
                <a:chExt cx="1037880" cy="386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893040" y="1960200"/>
                  <a:ext cx="993960" cy="381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871080" y="1955520"/>
                  <a:ext cx="103788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4910040" y="1955520"/>
              <a:ext cx="1038960" cy="395640"/>
              <a:chOff x="4910040" y="1955520"/>
              <a:chExt cx="1038960" cy="395640"/>
            </a:xfrm>
          </p:grpSpPr>
          <p:sp>
            <p:nvSpPr>
              <p:cNvPr id="255" name=""/>
              <p:cNvSpPr/>
              <p:nvPr/>
            </p:nvSpPr>
            <p:spPr>
              <a:xfrm>
                <a:off x="4910040" y="1955520"/>
                <a:ext cx="1038960" cy="3956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4910040" y="1955520"/>
                <a:ext cx="1038600" cy="386280"/>
                <a:chOff x="4910040" y="1955520"/>
                <a:chExt cx="1038600" cy="3862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932360" y="1960200"/>
                  <a:ext cx="993960" cy="381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910040" y="1955520"/>
                  <a:ext cx="103860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5949360" y="1955520"/>
              <a:ext cx="1038960" cy="386280"/>
              <a:chOff x="5949360" y="1955520"/>
              <a:chExt cx="1038960" cy="386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971320" y="1960200"/>
                <a:ext cx="9950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49360" y="1955520"/>
                <a:ext cx="1038960" cy="38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89040" y="1955520"/>
              <a:ext cx="1038240" cy="395640"/>
              <a:chOff x="6989040" y="1955520"/>
              <a:chExt cx="1038240" cy="395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89040" y="1955520"/>
                <a:ext cx="1038240" cy="3956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989040" y="1955520"/>
                <a:ext cx="1037880" cy="386280"/>
                <a:chOff x="6989040" y="1955520"/>
                <a:chExt cx="1037880" cy="386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11000" y="1960200"/>
                  <a:ext cx="993960" cy="381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89040" y="1955520"/>
                  <a:ext cx="103788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8027640" y="1955520"/>
              <a:ext cx="1038960" cy="395640"/>
              <a:chOff x="8027640" y="1955520"/>
              <a:chExt cx="1038960" cy="395640"/>
            </a:xfrm>
          </p:grpSpPr>
          <p:sp>
            <p:nvSpPr>
              <p:cNvPr id="268" name=""/>
              <p:cNvSpPr/>
              <p:nvPr/>
            </p:nvSpPr>
            <p:spPr>
              <a:xfrm>
                <a:off x="8027640" y="1955520"/>
                <a:ext cx="1038960" cy="3956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8027640" y="1955520"/>
                <a:ext cx="1038600" cy="386280"/>
                <a:chOff x="8027640" y="1955520"/>
                <a:chExt cx="1038600" cy="386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8049960" y="1960200"/>
                  <a:ext cx="993960" cy="381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27640" y="1955520"/>
                  <a:ext cx="103860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152280" y="2346840"/>
              <a:ext cx="2679120" cy="274680"/>
              <a:chOff x="152280" y="2346840"/>
              <a:chExt cx="2679120" cy="274680"/>
            </a:xfrm>
          </p:grpSpPr>
          <p:sp>
            <p:nvSpPr>
              <p:cNvPr id="273" name=""/>
              <p:cNvSpPr/>
              <p:nvPr/>
            </p:nvSpPr>
            <p:spPr>
              <a:xfrm>
                <a:off x="174240" y="2351160"/>
                <a:ext cx="26352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Rediseño del Portal Educ.Ar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2280" y="2346840"/>
                <a:ext cx="267912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831760" y="2346840"/>
              <a:ext cx="1038960" cy="284040"/>
              <a:chOff x="2831760" y="2346840"/>
              <a:chExt cx="1038960" cy="284040"/>
            </a:xfrm>
          </p:grpSpPr>
          <p:sp>
            <p:nvSpPr>
              <p:cNvPr id="276" name=""/>
              <p:cNvSpPr/>
              <p:nvPr/>
            </p:nvSpPr>
            <p:spPr>
              <a:xfrm>
                <a:off x="2831760" y="234684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2831760" y="2346840"/>
                <a:ext cx="1038600" cy="274680"/>
                <a:chOff x="2831760" y="2346840"/>
                <a:chExt cx="1038600" cy="2746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853720" y="235116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831760" y="234684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80" name=""/>
            <p:cNvGrpSpPr/>
            <p:nvPr/>
          </p:nvGrpSpPr>
          <p:grpSpPr>
            <a:xfrm>
              <a:off x="3871080" y="2346840"/>
              <a:ext cx="1038240" cy="284040"/>
              <a:chOff x="3871080" y="2346840"/>
              <a:chExt cx="1038240" cy="284040"/>
            </a:xfrm>
          </p:grpSpPr>
          <p:sp>
            <p:nvSpPr>
              <p:cNvPr id="281" name=""/>
              <p:cNvSpPr/>
              <p:nvPr/>
            </p:nvSpPr>
            <p:spPr>
              <a:xfrm>
                <a:off x="3871080" y="234684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3871080" y="2346840"/>
                <a:ext cx="1037880" cy="274680"/>
                <a:chOff x="3871080" y="2346840"/>
                <a:chExt cx="1037880" cy="2746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893040" y="235116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71080" y="234684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85" name=""/>
            <p:cNvGrpSpPr/>
            <p:nvPr/>
          </p:nvGrpSpPr>
          <p:grpSpPr>
            <a:xfrm>
              <a:off x="4910040" y="2346840"/>
              <a:ext cx="1038960" cy="284040"/>
              <a:chOff x="4910040" y="2346840"/>
              <a:chExt cx="1038960" cy="284040"/>
            </a:xfrm>
          </p:grpSpPr>
          <p:sp>
            <p:nvSpPr>
              <p:cNvPr id="286" name=""/>
              <p:cNvSpPr/>
              <p:nvPr/>
            </p:nvSpPr>
            <p:spPr>
              <a:xfrm>
                <a:off x="4910040" y="234684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4910040" y="2346840"/>
                <a:ext cx="1038600" cy="274680"/>
                <a:chOff x="4910040" y="2346840"/>
                <a:chExt cx="1038600" cy="2746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932360" y="235116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910040" y="234684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5949360" y="2346840"/>
              <a:ext cx="1038960" cy="274680"/>
              <a:chOff x="5949360" y="2346840"/>
              <a:chExt cx="1038960" cy="274680"/>
            </a:xfrm>
          </p:grpSpPr>
          <p:sp>
            <p:nvSpPr>
              <p:cNvPr id="291" name=""/>
              <p:cNvSpPr/>
              <p:nvPr/>
            </p:nvSpPr>
            <p:spPr>
              <a:xfrm>
                <a:off x="5971320" y="2351160"/>
                <a:ext cx="99504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49360" y="234684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989040" y="2346840"/>
              <a:ext cx="1038240" cy="284040"/>
              <a:chOff x="6989040" y="2346840"/>
              <a:chExt cx="1038240" cy="284040"/>
            </a:xfrm>
          </p:grpSpPr>
          <p:sp>
            <p:nvSpPr>
              <p:cNvPr id="294" name=""/>
              <p:cNvSpPr/>
              <p:nvPr/>
            </p:nvSpPr>
            <p:spPr>
              <a:xfrm>
                <a:off x="6989040" y="234684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6989040" y="2346840"/>
                <a:ext cx="1037880" cy="274680"/>
                <a:chOff x="6989040" y="2346840"/>
                <a:chExt cx="1037880" cy="2746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7011000" y="235116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989040" y="234684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8027640" y="2346840"/>
              <a:ext cx="1038960" cy="284040"/>
              <a:chOff x="8027640" y="2346840"/>
              <a:chExt cx="1038960" cy="284040"/>
            </a:xfrm>
          </p:grpSpPr>
          <p:sp>
            <p:nvSpPr>
              <p:cNvPr id="299" name=""/>
              <p:cNvSpPr/>
              <p:nvPr/>
            </p:nvSpPr>
            <p:spPr>
              <a:xfrm>
                <a:off x="8027640" y="234684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8027640" y="2346840"/>
                <a:ext cx="1038600" cy="274680"/>
                <a:chOff x="8027640" y="2346840"/>
                <a:chExt cx="1038600" cy="274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049960" y="235116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027640" y="234684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03" name=""/>
            <p:cNvGrpSpPr/>
            <p:nvPr/>
          </p:nvGrpSpPr>
          <p:grpSpPr>
            <a:xfrm>
              <a:off x="152280" y="2626200"/>
              <a:ext cx="2679120" cy="274680"/>
              <a:chOff x="152280" y="2626200"/>
              <a:chExt cx="2679120" cy="274680"/>
            </a:xfrm>
          </p:grpSpPr>
          <p:sp>
            <p:nvSpPr>
              <p:cNvPr id="304" name=""/>
              <p:cNvSpPr/>
              <p:nvPr/>
            </p:nvSpPr>
            <p:spPr>
              <a:xfrm>
                <a:off x="174240" y="2630880"/>
                <a:ext cx="26352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Licitación Procefha - Redefinición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52280" y="2626200"/>
                <a:ext cx="267912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831760" y="2626200"/>
              <a:ext cx="1038960" cy="274680"/>
              <a:chOff x="2831760" y="2626200"/>
              <a:chExt cx="1038960" cy="274680"/>
            </a:xfrm>
          </p:grpSpPr>
          <p:sp>
            <p:nvSpPr>
              <p:cNvPr id="307" name=""/>
              <p:cNvSpPr/>
              <p:nvPr/>
            </p:nvSpPr>
            <p:spPr>
              <a:xfrm>
                <a:off x="2853720" y="2630880"/>
                <a:ext cx="99504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1760" y="262620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871080" y="2626200"/>
              <a:ext cx="1038240" cy="284040"/>
              <a:chOff x="3871080" y="2626200"/>
              <a:chExt cx="1038240" cy="284040"/>
            </a:xfrm>
          </p:grpSpPr>
          <p:sp>
            <p:nvSpPr>
              <p:cNvPr id="310" name=""/>
              <p:cNvSpPr/>
              <p:nvPr/>
            </p:nvSpPr>
            <p:spPr>
              <a:xfrm>
                <a:off x="3871080" y="262620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3871080" y="2626200"/>
                <a:ext cx="1037880" cy="274680"/>
                <a:chOff x="3871080" y="2626200"/>
                <a:chExt cx="1037880" cy="2746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893040" y="263088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871080" y="262620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4910040" y="2626200"/>
              <a:ext cx="1038960" cy="284040"/>
              <a:chOff x="4910040" y="2626200"/>
              <a:chExt cx="1038960" cy="284040"/>
            </a:xfrm>
          </p:grpSpPr>
          <p:sp>
            <p:nvSpPr>
              <p:cNvPr id="315" name=""/>
              <p:cNvSpPr/>
              <p:nvPr/>
            </p:nvSpPr>
            <p:spPr>
              <a:xfrm>
                <a:off x="4910040" y="26262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4910040" y="2626200"/>
                <a:ext cx="1038600" cy="274680"/>
                <a:chOff x="4910040" y="2626200"/>
                <a:chExt cx="1038600" cy="2746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932360" y="263088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910040" y="26262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5949360" y="2626200"/>
              <a:ext cx="1038960" cy="284040"/>
              <a:chOff x="5949360" y="2626200"/>
              <a:chExt cx="1038960" cy="284040"/>
            </a:xfrm>
          </p:grpSpPr>
          <p:sp>
            <p:nvSpPr>
              <p:cNvPr id="320" name=""/>
              <p:cNvSpPr/>
              <p:nvPr/>
            </p:nvSpPr>
            <p:spPr>
              <a:xfrm>
                <a:off x="5949360" y="26262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949360" y="2626200"/>
                <a:ext cx="1038600" cy="274680"/>
                <a:chOff x="5949360" y="2626200"/>
                <a:chExt cx="1038600" cy="2746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971320" y="263088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949360" y="26262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6989040" y="2626200"/>
              <a:ext cx="1038240" cy="284040"/>
              <a:chOff x="6989040" y="2626200"/>
              <a:chExt cx="1038240" cy="284040"/>
            </a:xfrm>
          </p:grpSpPr>
          <p:sp>
            <p:nvSpPr>
              <p:cNvPr id="325" name=""/>
              <p:cNvSpPr/>
              <p:nvPr/>
            </p:nvSpPr>
            <p:spPr>
              <a:xfrm>
                <a:off x="6989040" y="262620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6989040" y="2626200"/>
                <a:ext cx="1037880" cy="274680"/>
                <a:chOff x="6989040" y="2626200"/>
                <a:chExt cx="1037880" cy="2746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011000" y="263088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989040" y="262620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8027640" y="2626200"/>
              <a:ext cx="1038960" cy="284040"/>
              <a:chOff x="8027640" y="2626200"/>
              <a:chExt cx="1038960" cy="284040"/>
            </a:xfrm>
          </p:grpSpPr>
          <p:sp>
            <p:nvSpPr>
              <p:cNvPr id="330" name=""/>
              <p:cNvSpPr/>
              <p:nvPr/>
            </p:nvSpPr>
            <p:spPr>
              <a:xfrm>
                <a:off x="8027640" y="26262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8027640" y="2626200"/>
                <a:ext cx="1038600" cy="274680"/>
                <a:chOff x="8027640" y="2626200"/>
                <a:chExt cx="1038600" cy="274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049960" y="263088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027640" y="26262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34" name=""/>
            <p:cNvGrpSpPr/>
            <p:nvPr/>
          </p:nvGrpSpPr>
          <p:grpSpPr>
            <a:xfrm>
              <a:off x="152280" y="2905560"/>
              <a:ext cx="2679120" cy="274680"/>
              <a:chOff x="152280" y="2905560"/>
              <a:chExt cx="2679120" cy="274680"/>
            </a:xfrm>
          </p:grpSpPr>
          <p:sp>
            <p:nvSpPr>
              <p:cNvPr id="335" name=""/>
              <p:cNvSpPr/>
              <p:nvPr/>
            </p:nvSpPr>
            <p:spPr>
              <a:xfrm>
                <a:off x="174240" y="2909880"/>
                <a:ext cx="26352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Uso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de CTCs para Capacitació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52280" y="2905560"/>
                <a:ext cx="267912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831760" y="2905560"/>
              <a:ext cx="1038960" cy="284040"/>
              <a:chOff x="2831760" y="2905560"/>
              <a:chExt cx="1038960" cy="284040"/>
            </a:xfrm>
          </p:grpSpPr>
          <p:sp>
            <p:nvSpPr>
              <p:cNvPr id="338" name=""/>
              <p:cNvSpPr/>
              <p:nvPr/>
            </p:nvSpPr>
            <p:spPr>
              <a:xfrm>
                <a:off x="2831760" y="290556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2831760" y="2905560"/>
                <a:ext cx="1038600" cy="274680"/>
                <a:chOff x="2831760" y="2905560"/>
                <a:chExt cx="1038600" cy="274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853720" y="290988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831760" y="290556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3871080" y="2905560"/>
              <a:ext cx="1038240" cy="284040"/>
              <a:chOff x="3871080" y="2905560"/>
              <a:chExt cx="1038240" cy="284040"/>
            </a:xfrm>
          </p:grpSpPr>
          <p:sp>
            <p:nvSpPr>
              <p:cNvPr id="343" name=""/>
              <p:cNvSpPr/>
              <p:nvPr/>
            </p:nvSpPr>
            <p:spPr>
              <a:xfrm>
                <a:off x="3871080" y="290556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3871080" y="2905560"/>
                <a:ext cx="1037880" cy="274680"/>
                <a:chOff x="3871080" y="2905560"/>
                <a:chExt cx="1037880" cy="2746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893040" y="290988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71080" y="290556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4910040" y="2905560"/>
              <a:ext cx="1038960" cy="284040"/>
              <a:chOff x="4910040" y="2905560"/>
              <a:chExt cx="1038960" cy="284040"/>
            </a:xfrm>
          </p:grpSpPr>
          <p:sp>
            <p:nvSpPr>
              <p:cNvPr id="348" name=""/>
              <p:cNvSpPr/>
              <p:nvPr/>
            </p:nvSpPr>
            <p:spPr>
              <a:xfrm>
                <a:off x="4910040" y="290556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4910040" y="2905560"/>
                <a:ext cx="1038600" cy="274680"/>
                <a:chOff x="4910040" y="2905560"/>
                <a:chExt cx="1038600" cy="2746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932360" y="290988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910040" y="290556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5949360" y="2905560"/>
              <a:ext cx="1038960" cy="284040"/>
              <a:chOff x="5949360" y="2905560"/>
              <a:chExt cx="1038960" cy="284040"/>
            </a:xfrm>
          </p:grpSpPr>
          <p:sp>
            <p:nvSpPr>
              <p:cNvPr id="353" name=""/>
              <p:cNvSpPr/>
              <p:nvPr/>
            </p:nvSpPr>
            <p:spPr>
              <a:xfrm>
                <a:off x="5949360" y="290556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5949360" y="2905560"/>
                <a:ext cx="1038600" cy="274680"/>
                <a:chOff x="5949360" y="2905560"/>
                <a:chExt cx="1038600" cy="2746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971320" y="290988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949360" y="290556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6989040" y="2905560"/>
              <a:ext cx="1038240" cy="284040"/>
              <a:chOff x="6989040" y="2905560"/>
              <a:chExt cx="1038240" cy="284040"/>
            </a:xfrm>
          </p:grpSpPr>
          <p:sp>
            <p:nvSpPr>
              <p:cNvPr id="358" name=""/>
              <p:cNvSpPr/>
              <p:nvPr/>
            </p:nvSpPr>
            <p:spPr>
              <a:xfrm>
                <a:off x="6989040" y="290556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989040" y="2905560"/>
                <a:ext cx="1037880" cy="274680"/>
                <a:chOff x="6989040" y="2905560"/>
                <a:chExt cx="1037880" cy="2746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011000" y="290988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989040" y="290556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62" name=""/>
            <p:cNvGrpSpPr/>
            <p:nvPr/>
          </p:nvGrpSpPr>
          <p:grpSpPr>
            <a:xfrm>
              <a:off x="8027640" y="2905560"/>
              <a:ext cx="1038960" cy="284040"/>
              <a:chOff x="8027640" y="2905560"/>
              <a:chExt cx="1038960" cy="284040"/>
            </a:xfrm>
          </p:grpSpPr>
          <p:sp>
            <p:nvSpPr>
              <p:cNvPr id="363" name=""/>
              <p:cNvSpPr/>
              <p:nvPr/>
            </p:nvSpPr>
            <p:spPr>
              <a:xfrm>
                <a:off x="8027640" y="290556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8027640" y="2905560"/>
                <a:ext cx="1038600" cy="274680"/>
                <a:chOff x="8027640" y="2905560"/>
                <a:chExt cx="1038600" cy="2746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8049960" y="290988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27640" y="290556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152280" y="3184920"/>
              <a:ext cx="2679120" cy="386280"/>
              <a:chOff x="152280" y="3184920"/>
              <a:chExt cx="2679120" cy="386280"/>
            </a:xfrm>
          </p:grpSpPr>
          <p:sp>
            <p:nvSpPr>
              <p:cNvPr id="368" name=""/>
              <p:cNvSpPr/>
              <p:nvPr/>
            </p:nvSpPr>
            <p:spPr>
              <a:xfrm>
                <a:off x="174240" y="3189240"/>
                <a:ext cx="263520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Alianza con Ministerio de Trabajo, Empleo y Seguridad Social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3184920"/>
                <a:ext cx="2679120" cy="38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831760" y="3184920"/>
              <a:ext cx="1038960" cy="386280"/>
              <a:chOff x="2831760" y="3184920"/>
              <a:chExt cx="1038960" cy="386280"/>
            </a:xfrm>
          </p:grpSpPr>
          <p:sp>
            <p:nvSpPr>
              <p:cNvPr id="371" name=""/>
              <p:cNvSpPr/>
              <p:nvPr/>
            </p:nvSpPr>
            <p:spPr>
              <a:xfrm>
                <a:off x="2853720" y="3189240"/>
                <a:ext cx="9950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831760" y="3184920"/>
                <a:ext cx="1038960" cy="38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871080" y="3184920"/>
              <a:ext cx="1038240" cy="395640"/>
              <a:chOff x="3871080" y="3184920"/>
              <a:chExt cx="1038240" cy="395640"/>
            </a:xfrm>
          </p:grpSpPr>
          <p:sp>
            <p:nvSpPr>
              <p:cNvPr id="374" name=""/>
              <p:cNvSpPr/>
              <p:nvPr/>
            </p:nvSpPr>
            <p:spPr>
              <a:xfrm>
                <a:off x="3871080" y="3184920"/>
                <a:ext cx="1038240" cy="3956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871080" y="3184920"/>
                <a:ext cx="1037880" cy="386280"/>
                <a:chOff x="3871080" y="3184920"/>
                <a:chExt cx="1037880" cy="3862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893040" y="3189240"/>
                  <a:ext cx="993960" cy="381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871080" y="3184920"/>
                  <a:ext cx="103788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78" name=""/>
            <p:cNvGrpSpPr/>
            <p:nvPr/>
          </p:nvGrpSpPr>
          <p:grpSpPr>
            <a:xfrm>
              <a:off x="4910040" y="3184920"/>
              <a:ext cx="1038960" cy="395640"/>
              <a:chOff x="4910040" y="3184920"/>
              <a:chExt cx="1038960" cy="395640"/>
            </a:xfrm>
          </p:grpSpPr>
          <p:sp>
            <p:nvSpPr>
              <p:cNvPr id="379" name=""/>
              <p:cNvSpPr/>
              <p:nvPr/>
            </p:nvSpPr>
            <p:spPr>
              <a:xfrm>
                <a:off x="4910040" y="3184920"/>
                <a:ext cx="1038960" cy="3956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910040" y="3184920"/>
                <a:ext cx="1038600" cy="386280"/>
                <a:chOff x="4910040" y="3184920"/>
                <a:chExt cx="1038600" cy="3862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932360" y="3189240"/>
                  <a:ext cx="993960" cy="381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910040" y="3184920"/>
                  <a:ext cx="103860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5949360" y="3184920"/>
              <a:ext cx="1038960" cy="386280"/>
              <a:chOff x="5949360" y="3184920"/>
              <a:chExt cx="1038960" cy="386280"/>
            </a:xfrm>
          </p:grpSpPr>
          <p:sp>
            <p:nvSpPr>
              <p:cNvPr id="384" name=""/>
              <p:cNvSpPr/>
              <p:nvPr/>
            </p:nvSpPr>
            <p:spPr>
              <a:xfrm>
                <a:off x="5971320" y="3189240"/>
                <a:ext cx="9950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949360" y="3184920"/>
                <a:ext cx="1038960" cy="38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989040" y="3184920"/>
              <a:ext cx="1038240" cy="395640"/>
              <a:chOff x="6989040" y="3184920"/>
              <a:chExt cx="1038240" cy="395640"/>
            </a:xfrm>
          </p:grpSpPr>
          <p:sp>
            <p:nvSpPr>
              <p:cNvPr id="387" name=""/>
              <p:cNvSpPr/>
              <p:nvPr/>
            </p:nvSpPr>
            <p:spPr>
              <a:xfrm>
                <a:off x="6989040" y="3184920"/>
                <a:ext cx="1038240" cy="3956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6989040" y="3184920"/>
                <a:ext cx="1037880" cy="386280"/>
                <a:chOff x="6989040" y="3184920"/>
                <a:chExt cx="1037880" cy="3862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011000" y="3189240"/>
                  <a:ext cx="993960" cy="381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89040" y="3184920"/>
                  <a:ext cx="103788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8027640" y="3184920"/>
              <a:ext cx="1038960" cy="386280"/>
              <a:chOff x="8027640" y="3184920"/>
              <a:chExt cx="1038960" cy="386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049960" y="3189240"/>
                <a:ext cx="99432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7640" y="3184920"/>
                <a:ext cx="1038960" cy="38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52280" y="3576240"/>
              <a:ext cx="2679120" cy="274680"/>
              <a:chOff x="152280" y="3576240"/>
              <a:chExt cx="2679120" cy="274680"/>
            </a:xfrm>
          </p:grpSpPr>
          <p:sp>
            <p:nvSpPr>
              <p:cNvPr id="395" name=""/>
              <p:cNvSpPr/>
              <p:nvPr/>
            </p:nvSpPr>
            <p:spPr>
              <a:xfrm>
                <a:off x="174240" y="3580560"/>
                <a:ext cx="26352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Consejo Asesor Privado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2280" y="3576240"/>
                <a:ext cx="267912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2831760" y="3576240"/>
              <a:ext cx="1038960" cy="274680"/>
              <a:chOff x="2831760" y="3576240"/>
              <a:chExt cx="1038960" cy="274680"/>
            </a:xfrm>
          </p:grpSpPr>
          <p:sp>
            <p:nvSpPr>
              <p:cNvPr id="398" name=""/>
              <p:cNvSpPr/>
              <p:nvPr/>
            </p:nvSpPr>
            <p:spPr>
              <a:xfrm>
                <a:off x="2853720" y="3580560"/>
                <a:ext cx="99504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31760" y="357624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871080" y="3576240"/>
              <a:ext cx="1038240" cy="274680"/>
              <a:chOff x="3871080" y="3576240"/>
              <a:chExt cx="1038240" cy="274680"/>
            </a:xfrm>
          </p:grpSpPr>
          <p:sp>
            <p:nvSpPr>
              <p:cNvPr id="401" name=""/>
              <p:cNvSpPr/>
              <p:nvPr/>
            </p:nvSpPr>
            <p:spPr>
              <a:xfrm>
                <a:off x="3893040" y="358056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71080" y="3576240"/>
                <a:ext cx="103824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4910040" y="3576240"/>
              <a:ext cx="1038960" cy="274680"/>
              <a:chOff x="4910040" y="3576240"/>
              <a:chExt cx="1038960" cy="274680"/>
            </a:xfrm>
          </p:grpSpPr>
          <p:sp>
            <p:nvSpPr>
              <p:cNvPr id="404" name=""/>
              <p:cNvSpPr/>
              <p:nvPr/>
            </p:nvSpPr>
            <p:spPr>
              <a:xfrm>
                <a:off x="4932360" y="358056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10040" y="357624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949360" y="3576240"/>
              <a:ext cx="1038960" cy="284040"/>
              <a:chOff x="5949360" y="3576240"/>
              <a:chExt cx="1038960" cy="284040"/>
            </a:xfrm>
          </p:grpSpPr>
          <p:sp>
            <p:nvSpPr>
              <p:cNvPr id="407" name=""/>
              <p:cNvSpPr/>
              <p:nvPr/>
            </p:nvSpPr>
            <p:spPr>
              <a:xfrm>
                <a:off x="5949360" y="357624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5949360" y="3576240"/>
                <a:ext cx="1038600" cy="274680"/>
                <a:chOff x="5949360" y="3576240"/>
                <a:chExt cx="1038600" cy="2746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971320" y="358056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49360" y="357624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11" name=""/>
            <p:cNvGrpSpPr/>
            <p:nvPr/>
          </p:nvGrpSpPr>
          <p:grpSpPr>
            <a:xfrm>
              <a:off x="6989040" y="3576240"/>
              <a:ext cx="1038240" cy="274680"/>
              <a:chOff x="6989040" y="3576240"/>
              <a:chExt cx="1038240" cy="274680"/>
            </a:xfrm>
          </p:grpSpPr>
          <p:sp>
            <p:nvSpPr>
              <p:cNvPr id="412" name=""/>
              <p:cNvSpPr/>
              <p:nvPr/>
            </p:nvSpPr>
            <p:spPr>
              <a:xfrm>
                <a:off x="7011000" y="358056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89040" y="3576240"/>
                <a:ext cx="103824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8027640" y="3576240"/>
              <a:ext cx="1038960" cy="284040"/>
              <a:chOff x="8027640" y="3576240"/>
              <a:chExt cx="1038960" cy="284040"/>
            </a:xfrm>
          </p:grpSpPr>
          <p:sp>
            <p:nvSpPr>
              <p:cNvPr id="415" name=""/>
              <p:cNvSpPr/>
              <p:nvPr/>
            </p:nvSpPr>
            <p:spPr>
              <a:xfrm>
                <a:off x="8027640" y="357624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8027640" y="3576240"/>
                <a:ext cx="1038600" cy="274680"/>
                <a:chOff x="8027640" y="3576240"/>
                <a:chExt cx="1038600" cy="2746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049960" y="358056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027640" y="357624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152280" y="3855600"/>
              <a:ext cx="2679120" cy="274680"/>
              <a:chOff x="152280" y="3855600"/>
              <a:chExt cx="2679120" cy="274680"/>
            </a:xfrm>
          </p:grpSpPr>
          <p:sp>
            <p:nvSpPr>
              <p:cNvPr id="420" name=""/>
              <p:cNvSpPr/>
              <p:nvPr/>
            </p:nvSpPr>
            <p:spPr>
              <a:xfrm>
                <a:off x="174240" y="3859920"/>
                <a:ext cx="26352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Jornada de Escuelas Innovadoras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2280" y="3855600"/>
                <a:ext cx="267912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2831760" y="3855600"/>
              <a:ext cx="1038960" cy="284040"/>
              <a:chOff x="2831760" y="3855600"/>
              <a:chExt cx="1038960" cy="284040"/>
            </a:xfrm>
          </p:grpSpPr>
          <p:sp>
            <p:nvSpPr>
              <p:cNvPr id="423" name=""/>
              <p:cNvSpPr/>
              <p:nvPr/>
            </p:nvSpPr>
            <p:spPr>
              <a:xfrm>
                <a:off x="2831760" y="38556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2831760" y="3855600"/>
                <a:ext cx="1038600" cy="274680"/>
                <a:chOff x="2831760" y="3855600"/>
                <a:chExt cx="1038600" cy="274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853720" y="385992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831760" y="38556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27" name=""/>
            <p:cNvGrpSpPr/>
            <p:nvPr/>
          </p:nvGrpSpPr>
          <p:grpSpPr>
            <a:xfrm>
              <a:off x="3871080" y="3855600"/>
              <a:ext cx="1038240" cy="274680"/>
              <a:chOff x="3871080" y="3855600"/>
              <a:chExt cx="1038240" cy="274680"/>
            </a:xfrm>
          </p:grpSpPr>
          <p:sp>
            <p:nvSpPr>
              <p:cNvPr id="428" name=""/>
              <p:cNvSpPr/>
              <p:nvPr/>
            </p:nvSpPr>
            <p:spPr>
              <a:xfrm>
                <a:off x="3893040" y="385992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1080" y="3855600"/>
                <a:ext cx="103824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4910040" y="3855600"/>
              <a:ext cx="1038960" cy="274680"/>
              <a:chOff x="4910040" y="3855600"/>
              <a:chExt cx="1038960" cy="274680"/>
            </a:xfrm>
          </p:grpSpPr>
          <p:sp>
            <p:nvSpPr>
              <p:cNvPr id="431" name=""/>
              <p:cNvSpPr/>
              <p:nvPr/>
            </p:nvSpPr>
            <p:spPr>
              <a:xfrm>
                <a:off x="4932360" y="385992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10040" y="385560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5949360" y="3855600"/>
              <a:ext cx="1038960" cy="274680"/>
              <a:chOff x="5949360" y="3855600"/>
              <a:chExt cx="1038960" cy="274680"/>
            </a:xfrm>
          </p:grpSpPr>
          <p:sp>
            <p:nvSpPr>
              <p:cNvPr id="434" name=""/>
              <p:cNvSpPr/>
              <p:nvPr/>
            </p:nvSpPr>
            <p:spPr>
              <a:xfrm>
                <a:off x="5971320" y="3859920"/>
                <a:ext cx="99504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49360" y="385560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6989040" y="3855600"/>
              <a:ext cx="1038240" cy="284040"/>
              <a:chOff x="6989040" y="3855600"/>
              <a:chExt cx="1038240" cy="284040"/>
            </a:xfrm>
          </p:grpSpPr>
          <p:sp>
            <p:nvSpPr>
              <p:cNvPr id="437" name=""/>
              <p:cNvSpPr/>
              <p:nvPr/>
            </p:nvSpPr>
            <p:spPr>
              <a:xfrm>
                <a:off x="6989040" y="385560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6989040" y="3855600"/>
                <a:ext cx="1037880" cy="274680"/>
                <a:chOff x="6989040" y="3855600"/>
                <a:chExt cx="1037880" cy="2746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011000" y="385992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989040" y="385560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8027640" y="3855600"/>
              <a:ext cx="1038960" cy="284040"/>
              <a:chOff x="8027640" y="3855600"/>
              <a:chExt cx="1038960" cy="284040"/>
            </a:xfrm>
          </p:grpSpPr>
          <p:sp>
            <p:nvSpPr>
              <p:cNvPr id="442" name=""/>
              <p:cNvSpPr/>
              <p:nvPr/>
            </p:nvSpPr>
            <p:spPr>
              <a:xfrm>
                <a:off x="8027640" y="38556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8027640" y="3855600"/>
                <a:ext cx="1038600" cy="274680"/>
                <a:chOff x="8027640" y="3855600"/>
                <a:chExt cx="1038600" cy="2746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8049960" y="385992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027640" y="38556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152280" y="4134960"/>
              <a:ext cx="2679120" cy="330480"/>
              <a:chOff x="152280" y="4134960"/>
              <a:chExt cx="2679120" cy="330480"/>
            </a:xfrm>
          </p:grpSpPr>
          <p:sp>
            <p:nvSpPr>
              <p:cNvPr id="447" name=""/>
              <p:cNvSpPr/>
              <p:nvPr/>
            </p:nvSpPr>
            <p:spPr>
              <a:xfrm>
                <a:off x="174240" y="4139640"/>
                <a:ext cx="26352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Jornadas de E-Learning</a:t>
                </a:r>
                <a:br>
                  <a:rPr sz="1100"/>
                </a:b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Educ.Ar - Edutic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2280" y="4134960"/>
                <a:ext cx="267912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2831760" y="4134960"/>
              <a:ext cx="1038960" cy="330480"/>
              <a:chOff x="2831760" y="4134960"/>
              <a:chExt cx="1038960" cy="330480"/>
            </a:xfrm>
          </p:grpSpPr>
          <p:sp>
            <p:nvSpPr>
              <p:cNvPr id="450" name=""/>
              <p:cNvSpPr/>
              <p:nvPr/>
            </p:nvSpPr>
            <p:spPr>
              <a:xfrm>
                <a:off x="2853720" y="4139640"/>
                <a:ext cx="9950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31760" y="4134960"/>
                <a:ext cx="103896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3871080" y="4134960"/>
              <a:ext cx="1038240" cy="330480"/>
              <a:chOff x="3871080" y="4134960"/>
              <a:chExt cx="1038240" cy="330480"/>
            </a:xfrm>
          </p:grpSpPr>
          <p:sp>
            <p:nvSpPr>
              <p:cNvPr id="453" name=""/>
              <p:cNvSpPr/>
              <p:nvPr/>
            </p:nvSpPr>
            <p:spPr>
              <a:xfrm>
                <a:off x="3893040" y="4139640"/>
                <a:ext cx="99432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71080" y="4134960"/>
                <a:ext cx="103824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910040" y="4134960"/>
              <a:ext cx="1038960" cy="330480"/>
              <a:chOff x="4910040" y="4134960"/>
              <a:chExt cx="1038960" cy="330480"/>
            </a:xfrm>
          </p:grpSpPr>
          <p:sp>
            <p:nvSpPr>
              <p:cNvPr id="456" name=""/>
              <p:cNvSpPr/>
              <p:nvPr/>
            </p:nvSpPr>
            <p:spPr>
              <a:xfrm>
                <a:off x="4932360" y="4139640"/>
                <a:ext cx="99432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10040" y="4134960"/>
                <a:ext cx="103896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949360" y="4134960"/>
              <a:ext cx="1038960" cy="330480"/>
              <a:chOff x="5949360" y="4134960"/>
              <a:chExt cx="1038960" cy="330480"/>
            </a:xfrm>
          </p:grpSpPr>
          <p:sp>
            <p:nvSpPr>
              <p:cNvPr id="459" name=""/>
              <p:cNvSpPr/>
              <p:nvPr/>
            </p:nvSpPr>
            <p:spPr>
              <a:xfrm>
                <a:off x="5971320" y="4139640"/>
                <a:ext cx="9950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49360" y="4134960"/>
                <a:ext cx="103896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6989040" y="4134960"/>
              <a:ext cx="1038240" cy="339840"/>
              <a:chOff x="6989040" y="4134960"/>
              <a:chExt cx="1038240" cy="339840"/>
            </a:xfrm>
          </p:grpSpPr>
          <p:sp>
            <p:nvSpPr>
              <p:cNvPr id="462" name=""/>
              <p:cNvSpPr/>
              <p:nvPr/>
            </p:nvSpPr>
            <p:spPr>
              <a:xfrm>
                <a:off x="6989040" y="4134960"/>
                <a:ext cx="103824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6989040" y="4134960"/>
                <a:ext cx="1037880" cy="330480"/>
                <a:chOff x="6989040" y="4134960"/>
                <a:chExt cx="1037880" cy="3304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7011000" y="4139640"/>
                  <a:ext cx="99396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89040" y="4134960"/>
                  <a:ext cx="103788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8027640" y="4134960"/>
              <a:ext cx="1038960" cy="339840"/>
              <a:chOff x="8027640" y="4134960"/>
              <a:chExt cx="1038960" cy="339840"/>
            </a:xfrm>
          </p:grpSpPr>
          <p:sp>
            <p:nvSpPr>
              <p:cNvPr id="467" name=""/>
              <p:cNvSpPr/>
              <p:nvPr/>
            </p:nvSpPr>
            <p:spPr>
              <a:xfrm>
                <a:off x="8027640" y="4134960"/>
                <a:ext cx="103896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8027640" y="4134960"/>
                <a:ext cx="1038600" cy="330480"/>
                <a:chOff x="8027640" y="4134960"/>
                <a:chExt cx="1038600" cy="3304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8049960" y="4139640"/>
                  <a:ext cx="99396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027640" y="4134960"/>
                  <a:ext cx="103860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71" name=""/>
            <p:cNvGrpSpPr/>
            <p:nvPr/>
          </p:nvGrpSpPr>
          <p:grpSpPr>
            <a:xfrm>
              <a:off x="152280" y="4470120"/>
              <a:ext cx="2679120" cy="274680"/>
              <a:chOff x="152280" y="4470120"/>
              <a:chExt cx="2679120" cy="274680"/>
            </a:xfrm>
          </p:grpSpPr>
          <p:sp>
            <p:nvSpPr>
              <p:cNvPr id="472" name=""/>
              <p:cNvSpPr/>
              <p:nvPr/>
            </p:nvSpPr>
            <p:spPr>
              <a:xfrm>
                <a:off x="174240" y="4474800"/>
                <a:ext cx="26352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Conectividad de Escuelas Rurales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52280" y="4470120"/>
                <a:ext cx="267912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831760" y="4470120"/>
              <a:ext cx="1038960" cy="284040"/>
              <a:chOff x="2831760" y="4470120"/>
              <a:chExt cx="1038960" cy="284040"/>
            </a:xfrm>
          </p:grpSpPr>
          <p:sp>
            <p:nvSpPr>
              <p:cNvPr id="475" name=""/>
              <p:cNvSpPr/>
              <p:nvPr/>
            </p:nvSpPr>
            <p:spPr>
              <a:xfrm>
                <a:off x="2831760" y="447012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2831760" y="4470120"/>
                <a:ext cx="1038600" cy="274680"/>
                <a:chOff x="2831760" y="4470120"/>
                <a:chExt cx="1038600" cy="2746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853720" y="447480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831760" y="447012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3871080" y="4470120"/>
              <a:ext cx="1038240" cy="274680"/>
              <a:chOff x="3871080" y="4470120"/>
              <a:chExt cx="1038240" cy="274680"/>
            </a:xfrm>
          </p:grpSpPr>
          <p:sp>
            <p:nvSpPr>
              <p:cNvPr id="480" name=""/>
              <p:cNvSpPr/>
              <p:nvPr/>
            </p:nvSpPr>
            <p:spPr>
              <a:xfrm>
                <a:off x="3893040" y="447480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71080" y="4470120"/>
                <a:ext cx="103824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910040" y="4470120"/>
              <a:ext cx="1038960" cy="274680"/>
              <a:chOff x="4910040" y="4470120"/>
              <a:chExt cx="1038960" cy="274680"/>
            </a:xfrm>
          </p:grpSpPr>
          <p:sp>
            <p:nvSpPr>
              <p:cNvPr id="483" name=""/>
              <p:cNvSpPr/>
              <p:nvPr/>
            </p:nvSpPr>
            <p:spPr>
              <a:xfrm>
                <a:off x="4932360" y="447480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10040" y="447012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5949360" y="4470120"/>
              <a:ext cx="1038960" cy="284040"/>
              <a:chOff x="5949360" y="4470120"/>
              <a:chExt cx="1038960" cy="284040"/>
            </a:xfrm>
          </p:grpSpPr>
          <p:sp>
            <p:nvSpPr>
              <p:cNvPr id="486" name=""/>
              <p:cNvSpPr/>
              <p:nvPr/>
            </p:nvSpPr>
            <p:spPr>
              <a:xfrm>
                <a:off x="5949360" y="447012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5949360" y="4470120"/>
                <a:ext cx="1038600" cy="274680"/>
                <a:chOff x="5949360" y="4470120"/>
                <a:chExt cx="1038600" cy="2746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5971320" y="447480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949360" y="447012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90" name=""/>
            <p:cNvGrpSpPr/>
            <p:nvPr/>
          </p:nvGrpSpPr>
          <p:grpSpPr>
            <a:xfrm>
              <a:off x="6989040" y="4470120"/>
              <a:ext cx="1038240" cy="274680"/>
              <a:chOff x="6989040" y="4470120"/>
              <a:chExt cx="1038240" cy="274680"/>
            </a:xfrm>
          </p:grpSpPr>
          <p:sp>
            <p:nvSpPr>
              <p:cNvPr id="491" name=""/>
              <p:cNvSpPr/>
              <p:nvPr/>
            </p:nvSpPr>
            <p:spPr>
              <a:xfrm>
                <a:off x="7011000" y="447480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89040" y="4470120"/>
                <a:ext cx="103824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8027640" y="4470120"/>
              <a:ext cx="1038960" cy="284040"/>
              <a:chOff x="8027640" y="4470120"/>
              <a:chExt cx="1038960" cy="284040"/>
            </a:xfrm>
          </p:grpSpPr>
          <p:sp>
            <p:nvSpPr>
              <p:cNvPr id="494" name=""/>
              <p:cNvSpPr/>
              <p:nvPr/>
            </p:nvSpPr>
            <p:spPr>
              <a:xfrm>
                <a:off x="8027640" y="447012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8027640" y="4470120"/>
                <a:ext cx="1038600" cy="274680"/>
                <a:chOff x="8027640" y="4470120"/>
                <a:chExt cx="1038600" cy="2746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8049960" y="447480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027640" y="447012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152280" y="4749480"/>
              <a:ext cx="2679120" cy="330480"/>
              <a:chOff x="152280" y="4749480"/>
              <a:chExt cx="2679120" cy="330480"/>
            </a:xfrm>
          </p:grpSpPr>
          <p:sp>
            <p:nvSpPr>
              <p:cNvPr id="499" name=""/>
              <p:cNvSpPr/>
              <p:nvPr/>
            </p:nvSpPr>
            <p:spPr>
              <a:xfrm>
                <a:off x="174240" y="4753800"/>
                <a:ext cx="26352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Conv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de Coop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con Gob</a:t>
                </a:r>
                <a:r>
                  <a:rPr b="0" lang="es-AR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.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Canadá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52280" y="4749480"/>
                <a:ext cx="267912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2831760" y="4749480"/>
              <a:ext cx="1038960" cy="339840"/>
              <a:chOff x="2831760" y="4749480"/>
              <a:chExt cx="1038960" cy="339840"/>
            </a:xfrm>
          </p:grpSpPr>
          <p:sp>
            <p:nvSpPr>
              <p:cNvPr id="502" name=""/>
              <p:cNvSpPr/>
              <p:nvPr/>
            </p:nvSpPr>
            <p:spPr>
              <a:xfrm>
                <a:off x="2831760" y="4749480"/>
                <a:ext cx="103896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2831760" y="4749480"/>
                <a:ext cx="1038600" cy="330480"/>
                <a:chOff x="2831760" y="4749480"/>
                <a:chExt cx="1038600" cy="3304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853720" y="4753800"/>
                  <a:ext cx="99468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831760" y="4749480"/>
                  <a:ext cx="103860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06" name=""/>
            <p:cNvGrpSpPr/>
            <p:nvPr/>
          </p:nvGrpSpPr>
          <p:grpSpPr>
            <a:xfrm>
              <a:off x="3871080" y="4749480"/>
              <a:ext cx="1038240" cy="339840"/>
              <a:chOff x="3871080" y="4749480"/>
              <a:chExt cx="1038240" cy="339840"/>
            </a:xfrm>
          </p:grpSpPr>
          <p:sp>
            <p:nvSpPr>
              <p:cNvPr id="507" name=""/>
              <p:cNvSpPr/>
              <p:nvPr/>
            </p:nvSpPr>
            <p:spPr>
              <a:xfrm>
                <a:off x="3871080" y="4749480"/>
                <a:ext cx="103824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3871080" y="4749480"/>
                <a:ext cx="1037880" cy="330480"/>
                <a:chOff x="3871080" y="4749480"/>
                <a:chExt cx="1037880" cy="330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3893040" y="4753800"/>
                  <a:ext cx="99396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871080" y="4749480"/>
                  <a:ext cx="103788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4910040" y="4749480"/>
              <a:ext cx="1038960" cy="339840"/>
              <a:chOff x="4910040" y="4749480"/>
              <a:chExt cx="1038960" cy="339840"/>
            </a:xfrm>
          </p:grpSpPr>
          <p:sp>
            <p:nvSpPr>
              <p:cNvPr id="512" name=""/>
              <p:cNvSpPr/>
              <p:nvPr/>
            </p:nvSpPr>
            <p:spPr>
              <a:xfrm>
                <a:off x="4910040" y="4749480"/>
                <a:ext cx="103896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4910040" y="4749480"/>
                <a:ext cx="1038600" cy="330480"/>
                <a:chOff x="4910040" y="4749480"/>
                <a:chExt cx="1038600" cy="330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932360" y="4753800"/>
                  <a:ext cx="99396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910040" y="4749480"/>
                  <a:ext cx="103860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5949360" y="4749480"/>
              <a:ext cx="1038960" cy="339840"/>
              <a:chOff x="5949360" y="4749480"/>
              <a:chExt cx="1038960" cy="339840"/>
            </a:xfrm>
          </p:grpSpPr>
          <p:sp>
            <p:nvSpPr>
              <p:cNvPr id="517" name=""/>
              <p:cNvSpPr/>
              <p:nvPr/>
            </p:nvSpPr>
            <p:spPr>
              <a:xfrm>
                <a:off x="5949360" y="4749480"/>
                <a:ext cx="103896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5949360" y="4749480"/>
                <a:ext cx="1038600" cy="330480"/>
                <a:chOff x="5949360" y="4749480"/>
                <a:chExt cx="1038600" cy="3304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971320" y="4753800"/>
                  <a:ext cx="99468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949360" y="4749480"/>
                  <a:ext cx="103860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6989040" y="4749480"/>
              <a:ext cx="1038240" cy="339840"/>
              <a:chOff x="6989040" y="4749480"/>
              <a:chExt cx="1038240" cy="339840"/>
            </a:xfrm>
          </p:grpSpPr>
          <p:sp>
            <p:nvSpPr>
              <p:cNvPr id="522" name=""/>
              <p:cNvSpPr/>
              <p:nvPr/>
            </p:nvSpPr>
            <p:spPr>
              <a:xfrm>
                <a:off x="6989040" y="4749480"/>
                <a:ext cx="103824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6989040" y="4749480"/>
                <a:ext cx="1037880" cy="330480"/>
                <a:chOff x="6989040" y="4749480"/>
                <a:chExt cx="1037880" cy="330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011000" y="4753800"/>
                  <a:ext cx="99396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989040" y="4749480"/>
                  <a:ext cx="103788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26" name=""/>
            <p:cNvGrpSpPr/>
            <p:nvPr/>
          </p:nvGrpSpPr>
          <p:grpSpPr>
            <a:xfrm>
              <a:off x="8027640" y="4749480"/>
              <a:ext cx="1038960" cy="339840"/>
              <a:chOff x="8027640" y="4749480"/>
              <a:chExt cx="1038960" cy="339840"/>
            </a:xfrm>
          </p:grpSpPr>
          <p:sp>
            <p:nvSpPr>
              <p:cNvPr id="527" name=""/>
              <p:cNvSpPr/>
              <p:nvPr/>
            </p:nvSpPr>
            <p:spPr>
              <a:xfrm>
                <a:off x="8027640" y="4749480"/>
                <a:ext cx="103896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8027640" y="4749480"/>
                <a:ext cx="1038600" cy="330480"/>
                <a:chOff x="8027640" y="4749480"/>
                <a:chExt cx="1038600" cy="3304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8049960" y="4753800"/>
                  <a:ext cx="99396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027640" y="4749480"/>
                  <a:ext cx="103860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152280" y="5085000"/>
              <a:ext cx="2679120" cy="274680"/>
              <a:chOff x="152280" y="5085000"/>
              <a:chExt cx="2679120" cy="274680"/>
            </a:xfrm>
          </p:grpSpPr>
          <p:sp>
            <p:nvSpPr>
              <p:cNvPr id="532" name=""/>
              <p:cNvSpPr/>
              <p:nvPr/>
            </p:nvSpPr>
            <p:spPr>
              <a:xfrm>
                <a:off x="174240" y="5089320"/>
                <a:ext cx="26352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Mapa de Conectividad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2280" y="5085000"/>
                <a:ext cx="267912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831760" y="5085000"/>
              <a:ext cx="1038960" cy="284040"/>
              <a:chOff x="2831760" y="5085000"/>
              <a:chExt cx="1038960" cy="284040"/>
            </a:xfrm>
          </p:grpSpPr>
          <p:sp>
            <p:nvSpPr>
              <p:cNvPr id="535" name=""/>
              <p:cNvSpPr/>
              <p:nvPr/>
            </p:nvSpPr>
            <p:spPr>
              <a:xfrm>
                <a:off x="2831760" y="50850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2831760" y="5085000"/>
                <a:ext cx="1038600" cy="274680"/>
                <a:chOff x="2831760" y="5085000"/>
                <a:chExt cx="1038600" cy="2746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853720" y="508932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31760" y="50850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39" name=""/>
            <p:cNvGrpSpPr/>
            <p:nvPr/>
          </p:nvGrpSpPr>
          <p:grpSpPr>
            <a:xfrm>
              <a:off x="3871080" y="5085000"/>
              <a:ext cx="1038240" cy="274680"/>
              <a:chOff x="3871080" y="5085000"/>
              <a:chExt cx="1038240" cy="274680"/>
            </a:xfrm>
          </p:grpSpPr>
          <p:sp>
            <p:nvSpPr>
              <p:cNvPr id="540" name=""/>
              <p:cNvSpPr/>
              <p:nvPr/>
            </p:nvSpPr>
            <p:spPr>
              <a:xfrm>
                <a:off x="3893040" y="508932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871080" y="5085000"/>
                <a:ext cx="103824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4910040" y="5085000"/>
              <a:ext cx="1038960" cy="274680"/>
              <a:chOff x="4910040" y="5085000"/>
              <a:chExt cx="1038960" cy="274680"/>
            </a:xfrm>
          </p:grpSpPr>
          <p:sp>
            <p:nvSpPr>
              <p:cNvPr id="543" name=""/>
              <p:cNvSpPr/>
              <p:nvPr/>
            </p:nvSpPr>
            <p:spPr>
              <a:xfrm>
                <a:off x="4932360" y="508932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910040" y="508500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949360" y="5085000"/>
              <a:ext cx="1038960" cy="284040"/>
              <a:chOff x="5949360" y="5085000"/>
              <a:chExt cx="1038960" cy="284040"/>
            </a:xfrm>
          </p:grpSpPr>
          <p:sp>
            <p:nvSpPr>
              <p:cNvPr id="546" name=""/>
              <p:cNvSpPr/>
              <p:nvPr/>
            </p:nvSpPr>
            <p:spPr>
              <a:xfrm>
                <a:off x="5949360" y="50850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5949360" y="5085000"/>
                <a:ext cx="1038600" cy="274680"/>
                <a:chOff x="5949360" y="5085000"/>
                <a:chExt cx="1038600" cy="2746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5971320" y="508932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49360" y="50850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50" name=""/>
            <p:cNvGrpSpPr/>
            <p:nvPr/>
          </p:nvGrpSpPr>
          <p:grpSpPr>
            <a:xfrm>
              <a:off x="6989040" y="5085000"/>
              <a:ext cx="1038240" cy="284040"/>
              <a:chOff x="6989040" y="5085000"/>
              <a:chExt cx="1038240" cy="284040"/>
            </a:xfrm>
          </p:grpSpPr>
          <p:sp>
            <p:nvSpPr>
              <p:cNvPr id="551" name=""/>
              <p:cNvSpPr/>
              <p:nvPr/>
            </p:nvSpPr>
            <p:spPr>
              <a:xfrm>
                <a:off x="6989040" y="508500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6989040" y="5085000"/>
                <a:ext cx="1037880" cy="274680"/>
                <a:chOff x="6989040" y="5085000"/>
                <a:chExt cx="1037880" cy="2746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7011000" y="508932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989040" y="508500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55" name=""/>
            <p:cNvGrpSpPr/>
            <p:nvPr/>
          </p:nvGrpSpPr>
          <p:grpSpPr>
            <a:xfrm>
              <a:off x="8027640" y="5085000"/>
              <a:ext cx="1038960" cy="284040"/>
              <a:chOff x="8027640" y="5085000"/>
              <a:chExt cx="1038960" cy="284040"/>
            </a:xfrm>
          </p:grpSpPr>
          <p:sp>
            <p:nvSpPr>
              <p:cNvPr id="556" name=""/>
              <p:cNvSpPr/>
              <p:nvPr/>
            </p:nvSpPr>
            <p:spPr>
              <a:xfrm>
                <a:off x="8027640" y="508500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8027640" y="5085000"/>
                <a:ext cx="1038600" cy="274680"/>
                <a:chOff x="8027640" y="5085000"/>
                <a:chExt cx="1038600" cy="2746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8049960" y="508932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027640" y="508500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0" name=""/>
            <p:cNvGrpSpPr/>
            <p:nvPr/>
          </p:nvGrpSpPr>
          <p:grpSpPr>
            <a:xfrm>
              <a:off x="152280" y="5364360"/>
              <a:ext cx="2679120" cy="274680"/>
              <a:chOff x="152280" y="5364360"/>
              <a:chExt cx="2679120" cy="274680"/>
            </a:xfrm>
          </p:grpSpPr>
          <p:sp>
            <p:nvSpPr>
              <p:cNvPr id="561" name=""/>
              <p:cNvSpPr/>
              <p:nvPr/>
            </p:nvSpPr>
            <p:spPr>
              <a:xfrm>
                <a:off x="174240" y="5368680"/>
                <a:ext cx="26352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Adquisición de 10.000 PCs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2280" y="5364360"/>
                <a:ext cx="267912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31760" y="5364360"/>
              <a:ext cx="1038960" cy="274680"/>
              <a:chOff x="2831760" y="5364360"/>
              <a:chExt cx="1038960" cy="274680"/>
            </a:xfrm>
          </p:grpSpPr>
          <p:sp>
            <p:nvSpPr>
              <p:cNvPr id="564" name=""/>
              <p:cNvSpPr/>
              <p:nvPr/>
            </p:nvSpPr>
            <p:spPr>
              <a:xfrm>
                <a:off x="2853720" y="5368680"/>
                <a:ext cx="99504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31760" y="536436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3871080" y="5364360"/>
              <a:ext cx="1038240" cy="274680"/>
              <a:chOff x="3871080" y="5364360"/>
              <a:chExt cx="1038240" cy="274680"/>
            </a:xfrm>
          </p:grpSpPr>
          <p:sp>
            <p:nvSpPr>
              <p:cNvPr id="567" name=""/>
              <p:cNvSpPr/>
              <p:nvPr/>
            </p:nvSpPr>
            <p:spPr>
              <a:xfrm>
                <a:off x="3893040" y="536868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71080" y="5364360"/>
                <a:ext cx="103824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910040" y="5364360"/>
              <a:ext cx="1038960" cy="274680"/>
              <a:chOff x="4910040" y="5364360"/>
              <a:chExt cx="1038960" cy="274680"/>
            </a:xfrm>
          </p:grpSpPr>
          <p:sp>
            <p:nvSpPr>
              <p:cNvPr id="570" name=""/>
              <p:cNvSpPr/>
              <p:nvPr/>
            </p:nvSpPr>
            <p:spPr>
              <a:xfrm>
                <a:off x="4932360" y="536868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10040" y="536436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949360" y="5364360"/>
              <a:ext cx="1038960" cy="284040"/>
              <a:chOff x="5949360" y="5364360"/>
              <a:chExt cx="1038960" cy="284040"/>
            </a:xfrm>
          </p:grpSpPr>
          <p:sp>
            <p:nvSpPr>
              <p:cNvPr id="573" name=""/>
              <p:cNvSpPr/>
              <p:nvPr/>
            </p:nvSpPr>
            <p:spPr>
              <a:xfrm>
                <a:off x="5949360" y="5364360"/>
                <a:ext cx="103896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5949360" y="5364360"/>
                <a:ext cx="1038600" cy="274680"/>
                <a:chOff x="5949360" y="5364360"/>
                <a:chExt cx="1038600" cy="2746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5971320" y="5368680"/>
                  <a:ext cx="99468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949360" y="5364360"/>
                  <a:ext cx="1038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77" name=""/>
            <p:cNvGrpSpPr/>
            <p:nvPr/>
          </p:nvGrpSpPr>
          <p:grpSpPr>
            <a:xfrm>
              <a:off x="6989040" y="5364360"/>
              <a:ext cx="1038240" cy="284040"/>
              <a:chOff x="6989040" y="5364360"/>
              <a:chExt cx="1038240" cy="284040"/>
            </a:xfrm>
          </p:grpSpPr>
          <p:sp>
            <p:nvSpPr>
              <p:cNvPr id="578" name=""/>
              <p:cNvSpPr/>
              <p:nvPr/>
            </p:nvSpPr>
            <p:spPr>
              <a:xfrm>
                <a:off x="6989040" y="5364360"/>
                <a:ext cx="1038240" cy="284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6989040" y="5364360"/>
                <a:ext cx="1037880" cy="274680"/>
                <a:chOff x="6989040" y="5364360"/>
                <a:chExt cx="1037880" cy="274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011000" y="5368680"/>
                  <a:ext cx="993960" cy="2700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989040" y="5364360"/>
                  <a:ext cx="10378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82" name=""/>
            <p:cNvGrpSpPr/>
            <p:nvPr/>
          </p:nvGrpSpPr>
          <p:grpSpPr>
            <a:xfrm>
              <a:off x="8027640" y="5364360"/>
              <a:ext cx="1038960" cy="274680"/>
              <a:chOff x="8027640" y="5364360"/>
              <a:chExt cx="1038960" cy="274680"/>
            </a:xfrm>
          </p:grpSpPr>
          <p:sp>
            <p:nvSpPr>
              <p:cNvPr id="583" name=""/>
              <p:cNvSpPr/>
              <p:nvPr/>
            </p:nvSpPr>
            <p:spPr>
              <a:xfrm>
                <a:off x="8049960" y="5368680"/>
                <a:ext cx="994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027640" y="5364360"/>
                <a:ext cx="1038960" cy="2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52280" y="5643720"/>
              <a:ext cx="2679120" cy="330480"/>
              <a:chOff x="152280" y="5643720"/>
              <a:chExt cx="2679120" cy="330480"/>
            </a:xfrm>
          </p:grpSpPr>
          <p:sp>
            <p:nvSpPr>
              <p:cNvPr id="586" name=""/>
              <p:cNvSpPr/>
              <p:nvPr/>
            </p:nvSpPr>
            <p:spPr>
              <a:xfrm>
                <a:off x="174240" y="5648400"/>
                <a:ext cx="26352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onación de PCs. Sun - Telecom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2280" y="5643720"/>
                <a:ext cx="267912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831760" y="5643720"/>
              <a:ext cx="1038960" cy="330480"/>
              <a:chOff x="2831760" y="5643720"/>
              <a:chExt cx="1038960" cy="330480"/>
            </a:xfrm>
          </p:grpSpPr>
          <p:sp>
            <p:nvSpPr>
              <p:cNvPr id="589" name=""/>
              <p:cNvSpPr/>
              <p:nvPr/>
            </p:nvSpPr>
            <p:spPr>
              <a:xfrm>
                <a:off x="2853720" y="5648400"/>
                <a:ext cx="9950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31760" y="5643720"/>
                <a:ext cx="103896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871080" y="5643720"/>
              <a:ext cx="1038240" cy="330480"/>
              <a:chOff x="3871080" y="5643720"/>
              <a:chExt cx="1038240" cy="330480"/>
            </a:xfrm>
          </p:grpSpPr>
          <p:sp>
            <p:nvSpPr>
              <p:cNvPr id="592" name=""/>
              <p:cNvSpPr/>
              <p:nvPr/>
            </p:nvSpPr>
            <p:spPr>
              <a:xfrm>
                <a:off x="3893040" y="5648400"/>
                <a:ext cx="99432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871080" y="5643720"/>
                <a:ext cx="103824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4910040" y="5643720"/>
              <a:ext cx="1038960" cy="330480"/>
              <a:chOff x="4910040" y="5643720"/>
              <a:chExt cx="1038960" cy="330480"/>
            </a:xfrm>
          </p:grpSpPr>
          <p:sp>
            <p:nvSpPr>
              <p:cNvPr id="595" name=""/>
              <p:cNvSpPr/>
              <p:nvPr/>
            </p:nvSpPr>
            <p:spPr>
              <a:xfrm>
                <a:off x="4932360" y="5648400"/>
                <a:ext cx="99432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910040" y="5643720"/>
                <a:ext cx="103896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5949360" y="5643720"/>
              <a:ext cx="1038960" cy="339840"/>
              <a:chOff x="5949360" y="5643720"/>
              <a:chExt cx="1038960" cy="339840"/>
            </a:xfrm>
          </p:grpSpPr>
          <p:sp>
            <p:nvSpPr>
              <p:cNvPr id="598" name=""/>
              <p:cNvSpPr/>
              <p:nvPr/>
            </p:nvSpPr>
            <p:spPr>
              <a:xfrm>
                <a:off x="5949360" y="5643720"/>
                <a:ext cx="103896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5949360" y="5643720"/>
                <a:ext cx="1038600" cy="330480"/>
                <a:chOff x="5949360" y="5643720"/>
                <a:chExt cx="1038600" cy="3304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971320" y="5648400"/>
                  <a:ext cx="99468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49360" y="5643720"/>
                  <a:ext cx="103860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2" name=""/>
            <p:cNvGrpSpPr/>
            <p:nvPr/>
          </p:nvGrpSpPr>
          <p:grpSpPr>
            <a:xfrm>
              <a:off x="6989040" y="5643720"/>
              <a:ext cx="1038240" cy="330480"/>
              <a:chOff x="6989040" y="5643720"/>
              <a:chExt cx="1038240" cy="330480"/>
            </a:xfrm>
          </p:grpSpPr>
          <p:sp>
            <p:nvSpPr>
              <p:cNvPr id="603" name=""/>
              <p:cNvSpPr/>
              <p:nvPr/>
            </p:nvSpPr>
            <p:spPr>
              <a:xfrm>
                <a:off x="7011000" y="5648400"/>
                <a:ext cx="99432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989040" y="5643720"/>
                <a:ext cx="1038240" cy="33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8027640" y="5643720"/>
              <a:ext cx="1038960" cy="339840"/>
              <a:chOff x="8027640" y="5643720"/>
              <a:chExt cx="1038960" cy="339840"/>
            </a:xfrm>
          </p:grpSpPr>
          <p:sp>
            <p:nvSpPr>
              <p:cNvPr id="606" name=""/>
              <p:cNvSpPr/>
              <p:nvPr/>
            </p:nvSpPr>
            <p:spPr>
              <a:xfrm>
                <a:off x="8027640" y="5643720"/>
                <a:ext cx="1038960" cy="339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8027640" y="5643720"/>
                <a:ext cx="1038600" cy="330480"/>
                <a:chOff x="8027640" y="5643720"/>
                <a:chExt cx="1038600" cy="3304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8049960" y="5648400"/>
                  <a:ext cx="993960" cy="325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027640" y="5643720"/>
                  <a:ext cx="1038600" cy="3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10" name=""/>
            <p:cNvGrpSpPr/>
            <p:nvPr/>
          </p:nvGrpSpPr>
          <p:grpSpPr>
            <a:xfrm>
              <a:off x="152280" y="5978880"/>
              <a:ext cx="2679120" cy="218520"/>
              <a:chOff x="152280" y="5978880"/>
              <a:chExt cx="2679120" cy="218520"/>
            </a:xfrm>
          </p:grpSpPr>
          <p:sp>
            <p:nvSpPr>
              <p:cNvPr id="611" name=""/>
              <p:cNvSpPr/>
              <p:nvPr/>
            </p:nvSpPr>
            <p:spPr>
              <a:xfrm>
                <a:off x="174240" y="5983560"/>
                <a:ext cx="2635200" cy="2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52280" y="5978880"/>
                <a:ext cx="2679120" cy="21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831760" y="5978880"/>
              <a:ext cx="1038960" cy="218520"/>
              <a:chOff x="2831760" y="5978880"/>
              <a:chExt cx="1038960" cy="218520"/>
            </a:xfrm>
          </p:grpSpPr>
          <p:sp>
            <p:nvSpPr>
              <p:cNvPr id="614" name=""/>
              <p:cNvSpPr/>
              <p:nvPr/>
            </p:nvSpPr>
            <p:spPr>
              <a:xfrm>
                <a:off x="2853720" y="5983560"/>
                <a:ext cx="995040" cy="2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31760" y="5978880"/>
                <a:ext cx="1038960" cy="21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871080" y="5978880"/>
              <a:ext cx="1038240" cy="218520"/>
              <a:chOff x="3871080" y="5978880"/>
              <a:chExt cx="1038240" cy="218520"/>
            </a:xfrm>
          </p:grpSpPr>
          <p:sp>
            <p:nvSpPr>
              <p:cNvPr id="617" name=""/>
              <p:cNvSpPr/>
              <p:nvPr/>
            </p:nvSpPr>
            <p:spPr>
              <a:xfrm>
                <a:off x="3893040" y="5983560"/>
                <a:ext cx="994320" cy="2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71080" y="5978880"/>
                <a:ext cx="1038240" cy="21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4910040" y="5978880"/>
              <a:ext cx="1038960" cy="218520"/>
              <a:chOff x="4910040" y="5978880"/>
              <a:chExt cx="1038960" cy="218520"/>
            </a:xfrm>
          </p:grpSpPr>
          <p:sp>
            <p:nvSpPr>
              <p:cNvPr id="620" name=""/>
              <p:cNvSpPr/>
              <p:nvPr/>
            </p:nvSpPr>
            <p:spPr>
              <a:xfrm>
                <a:off x="4932360" y="5983560"/>
                <a:ext cx="994320" cy="2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910040" y="5978880"/>
                <a:ext cx="1038960" cy="21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949360" y="5978880"/>
              <a:ext cx="1038960" cy="218520"/>
              <a:chOff x="5949360" y="5978880"/>
              <a:chExt cx="1038960" cy="218520"/>
            </a:xfrm>
          </p:grpSpPr>
          <p:sp>
            <p:nvSpPr>
              <p:cNvPr id="623" name=""/>
              <p:cNvSpPr/>
              <p:nvPr/>
            </p:nvSpPr>
            <p:spPr>
              <a:xfrm>
                <a:off x="5971320" y="5983560"/>
                <a:ext cx="995040" cy="2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49360" y="5978880"/>
                <a:ext cx="1038960" cy="21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6989040" y="5978880"/>
              <a:ext cx="1038240" cy="218520"/>
              <a:chOff x="6989040" y="5978880"/>
              <a:chExt cx="1038240" cy="218520"/>
            </a:xfrm>
          </p:grpSpPr>
          <p:sp>
            <p:nvSpPr>
              <p:cNvPr id="626" name=""/>
              <p:cNvSpPr/>
              <p:nvPr/>
            </p:nvSpPr>
            <p:spPr>
              <a:xfrm>
                <a:off x="7011000" y="5983560"/>
                <a:ext cx="994320" cy="2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89040" y="5978880"/>
                <a:ext cx="1038240" cy="21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8027640" y="5978880"/>
              <a:ext cx="1038960" cy="218520"/>
              <a:chOff x="8027640" y="5978880"/>
              <a:chExt cx="1038960" cy="218520"/>
            </a:xfrm>
          </p:grpSpPr>
          <p:sp>
            <p:nvSpPr>
              <p:cNvPr id="629" name=""/>
              <p:cNvSpPr/>
              <p:nvPr/>
            </p:nvSpPr>
            <p:spPr>
              <a:xfrm>
                <a:off x="8049960" y="5983560"/>
                <a:ext cx="994320" cy="2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027640" y="5978880"/>
                <a:ext cx="1038960" cy="21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80880" y="567684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"/>
          <p:cNvSpPr/>
          <p:nvPr/>
        </p:nvSpPr>
        <p:spPr>
          <a:xfrm>
            <a:off x="224316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596916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"/>
          <p:cNvSpPr/>
          <p:nvPr/>
        </p:nvSpPr>
        <p:spPr>
          <a:xfrm>
            <a:off x="317484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"/>
          <p:cNvSpPr/>
          <p:nvPr/>
        </p:nvSpPr>
        <p:spPr>
          <a:xfrm>
            <a:off x="78310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"/>
          <p:cNvSpPr/>
          <p:nvPr/>
        </p:nvSpPr>
        <p:spPr>
          <a:xfrm>
            <a:off x="76320" y="914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Implemen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-98640" y="4462200"/>
            <a:ext cx="181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Rediseño del Portal Educ.A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 rot="16200000">
            <a:off x="938880" y="4278240"/>
            <a:ext cx="214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Jornada de Escuelas Innovadora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1094400" y="4290120"/>
            <a:ext cx="214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Licitación Procefha - Redefinició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"/>
          <p:cNvSpPr/>
          <p:nvPr/>
        </p:nvSpPr>
        <p:spPr>
          <a:xfrm rot="16200000">
            <a:off x="-269640" y="460404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Red Escolar Puentes.A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-533880" y="3587760"/>
            <a:ext cx="344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nzamiento de Plataforma de Educación a Distanci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3488760" y="4070160"/>
            <a:ext cx="253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Cd-Rom de Alfabetización Digital Básic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-1232640" y="3388680"/>
            <a:ext cx="377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Alianza con Ministerio de Trabajo, Empleo y Seguridad Soci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1088640" y="4595760"/>
            <a:ext cx="157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ejo Asesor Privado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"/>
          <p:cNvSpPr/>
          <p:nvPr/>
        </p:nvSpPr>
        <p:spPr>
          <a:xfrm rot="16200000">
            <a:off x="-501840" y="3859920"/>
            <a:ext cx="292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Utilización de CTCs para Capacitación Docen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"/>
          <p:cNvSpPr/>
          <p:nvPr/>
        </p:nvSpPr>
        <p:spPr>
          <a:xfrm rot="16200000">
            <a:off x="5050440" y="449964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Adquisición de 10.000 PC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3366720" y="4278600"/>
            <a:ext cx="21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ectividad de Escuelas Rural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425880" y="4054680"/>
            <a:ext cx="25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Jornadas de E-Learning Educ.Ar - Eduti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6520680" y="4645800"/>
            <a:ext cx="149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Mapa de Conectivida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"/>
          <p:cNvSpPr/>
          <p:nvPr/>
        </p:nvSpPr>
        <p:spPr>
          <a:xfrm rot="16200000">
            <a:off x="1366920" y="4301280"/>
            <a:ext cx="20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Donación de PCs. Sun - Tele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"/>
          <p:cNvSpPr/>
          <p:nvPr/>
        </p:nvSpPr>
        <p:spPr>
          <a:xfrm>
            <a:off x="605520" y="58975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"/>
          <p:cNvSpPr/>
          <p:nvPr/>
        </p:nvSpPr>
        <p:spPr>
          <a:xfrm>
            <a:off x="1518480" y="5897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"/>
          <p:cNvSpPr/>
          <p:nvPr/>
        </p:nvSpPr>
        <p:spPr>
          <a:xfrm>
            <a:off x="2501280" y="589752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3421440" y="5897520"/>
            <a:ext cx="4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E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"/>
          <p:cNvSpPr/>
          <p:nvPr/>
        </p:nvSpPr>
        <p:spPr>
          <a:xfrm>
            <a:off x="5282640" y="58975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Mz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"/>
          <p:cNvSpPr/>
          <p:nvPr/>
        </p:nvSpPr>
        <p:spPr>
          <a:xfrm>
            <a:off x="4358520" y="58975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Fe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"/>
          <p:cNvSpPr/>
          <p:nvPr/>
        </p:nvSpPr>
        <p:spPr>
          <a:xfrm>
            <a:off x="50371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"/>
          <p:cNvSpPr/>
          <p:nvPr/>
        </p:nvSpPr>
        <p:spPr>
          <a:xfrm>
            <a:off x="13111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"/>
          <p:cNvSpPr/>
          <p:nvPr/>
        </p:nvSpPr>
        <p:spPr>
          <a:xfrm>
            <a:off x="68994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"/>
          <p:cNvSpPr/>
          <p:nvPr/>
        </p:nvSpPr>
        <p:spPr>
          <a:xfrm>
            <a:off x="410544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"/>
          <p:cNvSpPr/>
          <p:nvPr/>
        </p:nvSpPr>
        <p:spPr>
          <a:xfrm>
            <a:off x="6248520" y="58975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Ab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"/>
          <p:cNvSpPr/>
          <p:nvPr/>
        </p:nvSpPr>
        <p:spPr>
          <a:xfrm>
            <a:off x="8152200" y="589752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"/>
          <p:cNvSpPr/>
          <p:nvPr/>
        </p:nvSpPr>
        <p:spPr>
          <a:xfrm>
            <a:off x="7167960" y="5897520"/>
            <a:ext cx="5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My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"/>
          <p:cNvSpPr/>
          <p:nvPr/>
        </p:nvSpPr>
        <p:spPr>
          <a:xfrm>
            <a:off x="87631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-516240" y="3518640"/>
            <a:ext cx="38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venio de Cooperación con el Gobierno De Canadá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638680" y="4038480"/>
            <a:ext cx="1828800" cy="13716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2217600"/>
            <a:ext cx="87631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Red Escolar PUENTES.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iculación de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escuelas y redes escolares que estén trabajando en la aplicación de TIC en el ámbito educa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5.400 escuel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81.000 doc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1.350.000 alumn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"/>
          <p:cNvSpPr/>
          <p:nvPr/>
        </p:nvSpPr>
        <p:spPr>
          <a:xfrm>
            <a:off x="76320" y="91440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Creación de redes entre gobierno, sector privado y tercer s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"/>
          <p:cNvSpPr/>
          <p:nvPr/>
        </p:nvSpPr>
        <p:spPr>
          <a:xfrm>
            <a:off x="6019920" y="3657600"/>
            <a:ext cx="114300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"/>
          <p:cNvSpPr/>
          <p:nvPr/>
        </p:nvSpPr>
        <p:spPr>
          <a:xfrm>
            <a:off x="7162920" y="4648320"/>
            <a:ext cx="114300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Conectiv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"/>
          <p:cNvSpPr/>
          <p:nvPr/>
        </p:nvSpPr>
        <p:spPr>
          <a:xfrm>
            <a:off x="4800600" y="4648320"/>
            <a:ext cx="114300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Equip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52280" y="2217600"/>
            <a:ext cx="87631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Donación SUN TELE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Reciclaje de P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Licencias de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visión de laboratorios de informática para 200 escuel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76320" y="91440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Creación de redes entre gobierno, sector privado y tercer s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"/>
          <p:cNvGraphicFramePr/>
          <p:nvPr/>
        </p:nvGraphicFramePr>
        <p:xfrm>
          <a:off x="0" y="681120"/>
          <a:ext cx="914400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1120"/>
                    <a:ext cx="914400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76320" y="91440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Capacitación Doc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"/>
          <p:cNvSpPr/>
          <p:nvPr/>
        </p:nvSpPr>
        <p:spPr>
          <a:xfrm>
            <a:off x="1676520" y="240660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¿Qué?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Propuesta de capacitación: CD – R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676520" y="2787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¿Para qué?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Artículos de especialistas: fascícul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"/>
          <p:cNvSpPr/>
          <p:nvPr/>
        </p:nvSpPr>
        <p:spPr>
          <a:xfrm>
            <a:off x="1295280" y="32004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361476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Pub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"/>
          <p:cNvSpPr/>
          <p:nvPr/>
        </p:nvSpPr>
        <p:spPr>
          <a:xfrm>
            <a:off x="3505320" y="3187800"/>
            <a:ext cx="5105160" cy="32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Relato de experiencia ául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Generar identificación con situaciones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Mostrar usos concretos de 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nálisis teórico de la experi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portar herramientas conceptu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nmarcar la incorporación de las TIC en una propuesta pedagógica más ampl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Manual de us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Proporcionar instrucciones y recomendaciones para el uso de las herramientas involucrad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"/>
          <p:cNvSpPr/>
          <p:nvPr/>
        </p:nvSpPr>
        <p:spPr>
          <a:xfrm>
            <a:off x="27432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"/>
          <p:cNvSpPr/>
          <p:nvPr/>
        </p:nvSpPr>
        <p:spPr>
          <a:xfrm>
            <a:off x="274320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990720" y="240660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066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7" name="creacionpag" descr=""/>
          <p:cNvPicPr/>
          <p:nvPr/>
        </p:nvPicPr>
        <p:blipFill>
          <a:blip r:embed="rId3"/>
          <a:stretch/>
        </p:blipFill>
        <p:spPr>
          <a:xfrm>
            <a:off x="1066680" y="5181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30920" y="191916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Uso de las TIC en la edu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335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ás acceso a la información a menor cos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88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280" y="2217600"/>
            <a:ext cx="861084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operación con el Gobierno de Canad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ransferencia de conocimiento del Gobierno de Canad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en la implementación de políticas de inclus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y reducción de la brecha dig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"/>
          <p:cNvSpPr/>
          <p:nvPr/>
        </p:nvSpPr>
        <p:spPr>
          <a:xfrm>
            <a:off x="76320" y="91440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Creación de redes entre gobierno, sector privado y tercer s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52280" y="2217600"/>
            <a:ext cx="87631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oluciones de E-learning, la experiencia en Empresas , Gobierno e Instituciones Educativa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ganizada conjuntamente con Eduti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entro Cultural Borges 21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/1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Ej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gubernamen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Eje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corporativ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Eje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educa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"/>
          <p:cNvSpPr/>
          <p:nvPr/>
        </p:nvSpPr>
        <p:spPr>
          <a:xfrm>
            <a:off x="76320" y="91440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Jornada de e-lear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2217600"/>
            <a:ext cx="87631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nsejo Asesor Priv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reación de redes entre el gobierno, el sector privado y el tercer sector, que permita potenciar esfuerz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Desarroll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o de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una política de puertas abiertas a través de la cual recibir opiniones y  canalizar la responsabilidad social del empresariado argenti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mitir que distintos actores del sistema económico, vinculados con el mundo educativo, puedan participar, sumar experiencias y aportar a las decisiones estratégicas del portal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"/>
          <p:cNvSpPr/>
          <p:nvPr/>
        </p:nvSpPr>
        <p:spPr>
          <a:xfrm>
            <a:off x="76320" y="91440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99cc"/>
                </a:solidFill>
                <a:latin typeface="Verdana"/>
              </a:rPr>
              <a:t>Creación de redes entre gobierno, sector privado y tercer s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600200"/>
            <a:ext cx="1622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724280" cy="463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7080" y="27558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455616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1444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 Convergencia Tecnológ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275580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378000" y="167328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Pinturas rupest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77840" y="196056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Invención del pap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25160" y="224964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Impr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259640" y="25002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Diari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5653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493280" y="275256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701760" y="170820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Señales de hu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945120" y="19591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Cuern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731640" y="224964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Telégra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517520" y="2465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851520" y="2637000"/>
            <a:ext cx="16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810920" y="289728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Celul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2055240" y="473400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Ábac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2349000" y="498636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Compá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2143800" y="52372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Calculado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976360" y="466236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Computad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267240" y="48769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Transisto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6046920" y="5092560"/>
            <a:ext cx="20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Microprocesado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118920" y="530856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162680" y="350676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Verdana"/>
              </a:rPr>
              <a:t>TI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da día más y más personas, empresas y gobiernos se conectan entre sí compartiendo información, experiencias, conocimientos y tecnologí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emendo cambio cualitativo en la organización de la información en los ámbitos social, económico y cultu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ambio a un ritmo vertiginoso nos muestra un futuro lleno de incertidumbres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nuevo paradigma socio-económico sin marcha atrá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e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terdepend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operación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des de cono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 creciente de la virtualización de la 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apel de la información y d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alidación del modelo clásico (smithiano) de división del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multaneidad de lo global y lo lo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parición de barreras de tiempo y distancia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341360"/>
            <a:ext cx="8991720" cy="40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Las consecuencias de la Brecha Digital apenas comienzan a intuirse, pero están relacionadas con el valor de la información como materia prima para avanzar hacia el desarroll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No basta con enchufar una computadora en una escuela para superar la Brecha Digital. También hay que superar la falta de contenidos y el aprender a usarlos.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La tecnología como medio, la educación como f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514080"/>
            <a:ext cx="8763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a nueva agenda de preocup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2205000"/>
            <a:ext cx="689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ultura de la imagen y de la tecnología pone en crisis las formas anteriores de transmitir conoc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514080"/>
            <a:ext cx="8763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a nueva agenda de preocup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11280" y="2205000"/>
            <a:ext cx="7759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A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AR" sz="2400" spc="-1" strike="noStrike">
                <a:solidFill>
                  <a:srgbClr val="000000"/>
                </a:solidFill>
                <a:latin typeface="Verdana"/>
              </a:rPr>
              <a:t>El poder de la Web está en su universalidad. Que todo el mundo pueda acceder, a pesar de la discapacidad, es un aspecto esen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Verdana"/>
              </a:rPr>
              <a:t>Tim Berners-L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514080"/>
            <a:ext cx="8763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a nueva agenda de preocup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3:51:54Z</dcterms:created>
  <dc:creator>florenciaa</dc:creator>
  <dc:description/>
  <dc:language>en-US</dc:language>
  <cp:lastModifiedBy>pagina</cp:lastModifiedBy>
  <dcterms:modified xsi:type="dcterms:W3CDTF">2003-11-18T21:07:10Z</dcterms:modified>
  <cp:revision>35</cp:revision>
  <dc:subject/>
  <dc:title>Presentación de PowerPoint</dc:title>
</cp:coreProperties>
</file>