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32.wmf" ContentType="image/x-wmf"/>
  <Override PartName="/ppt/media/image28.jpeg" ContentType="image/jpeg"/>
  <Override PartName="/ppt/media/image5.wmf" ContentType="image/x-wmf"/>
  <Override PartName="/ppt/media/image11.png" ContentType="image/png"/>
  <Override PartName="/ppt/media/image6.wmf" ContentType="image/x-wmf"/>
  <Override PartName="/ppt/media/image31.wmf" ContentType="image/x-wmf"/>
  <Override PartName="/ppt/media/image1.jpeg" ContentType="image/jpeg"/>
  <Override PartName="/ppt/media/image7.png" ContentType="image/png"/>
  <Override PartName="/ppt/media/image12.png" ContentType="image/png"/>
  <Override PartName="/ppt/media/image16.wmf" ContentType="image/x-wmf"/>
  <Override PartName="/ppt/media/image8.png" ContentType="image/png"/>
  <Override PartName="/ppt/media/image13.png" ContentType="image/png"/>
  <Override PartName="/ppt/media/image17.wmf" ContentType="image/x-wmf"/>
  <Override PartName="/ppt/media/image9.png" ContentType="image/png"/>
  <Override PartName="/ppt/media/image30.png" ContentType="image/png"/>
  <Override PartName="/ppt/media/image3.png" ContentType="image/png"/>
  <Override PartName="/ppt/media/image26.png" ContentType="image/png"/>
  <Override PartName="/ppt/media/image4.wmf" ContentType="image/x-wmf"/>
  <Override PartName="/ppt/media/image27.wmf" ContentType="image/x-wmf"/>
  <Override PartName="/ppt/media/image10.jpeg" ContentType="image/jpeg"/>
  <Override PartName="/ppt/media/image14.png" ContentType="image/png"/>
  <Override PartName="/ppt/media/image15.jpeg" ContentType="image/jpeg"/>
  <Override PartName="/ppt/media/image2.jpeg" ContentType="image/jpeg"/>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png" ContentType="image/png"/>
  <Override PartName="/ppt/media/image24.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1480" y="25560"/>
            <a:ext cx="7772400" cy="9950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7" name="PlaceHolder 2"/>
          <p:cNvSpPr>
            <a:spLocks noGrp="1"/>
          </p:cNvSpPr>
          <p:nvPr>
            <p:ph/>
          </p:nvPr>
        </p:nvSpPr>
        <p:spPr>
          <a:xfrm>
            <a:off x="1041480" y="1727280"/>
            <a:ext cx="7772400" cy="196272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28" name="PlaceHolder 3"/>
          <p:cNvSpPr>
            <a:spLocks noGrp="1"/>
          </p:cNvSpPr>
          <p:nvPr>
            <p:ph/>
          </p:nvPr>
        </p:nvSpPr>
        <p:spPr>
          <a:xfrm>
            <a:off x="1041480" y="3876840"/>
            <a:ext cx="7772400" cy="196272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1480" y="25560"/>
            <a:ext cx="7772400" cy="9950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0" name="PlaceHolder 2"/>
          <p:cNvSpPr>
            <a:spLocks noGrp="1"/>
          </p:cNvSpPr>
          <p:nvPr>
            <p:ph/>
          </p:nvPr>
        </p:nvSpPr>
        <p:spPr>
          <a:xfrm>
            <a:off x="1041480" y="1727280"/>
            <a:ext cx="3792600" cy="196272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31" name="PlaceHolder 3"/>
          <p:cNvSpPr>
            <a:spLocks noGrp="1"/>
          </p:cNvSpPr>
          <p:nvPr>
            <p:ph/>
          </p:nvPr>
        </p:nvSpPr>
        <p:spPr>
          <a:xfrm>
            <a:off x="5024160" y="1727280"/>
            <a:ext cx="3792600" cy="196272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32" name="PlaceHolder 4"/>
          <p:cNvSpPr>
            <a:spLocks noGrp="1"/>
          </p:cNvSpPr>
          <p:nvPr>
            <p:ph/>
          </p:nvPr>
        </p:nvSpPr>
        <p:spPr>
          <a:xfrm>
            <a:off x="1041480" y="3876840"/>
            <a:ext cx="3792600" cy="196272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33" name="PlaceHolder 5"/>
          <p:cNvSpPr>
            <a:spLocks noGrp="1"/>
          </p:cNvSpPr>
          <p:nvPr>
            <p:ph/>
          </p:nvPr>
        </p:nvSpPr>
        <p:spPr>
          <a:xfrm>
            <a:off x="5024160" y="3876840"/>
            <a:ext cx="3792600" cy="196272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1480" y="25560"/>
            <a:ext cx="7772400" cy="9950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5" name="PlaceHolder 2"/>
          <p:cNvSpPr>
            <a:spLocks noGrp="1"/>
          </p:cNvSpPr>
          <p:nvPr>
            <p:ph/>
          </p:nvPr>
        </p:nvSpPr>
        <p:spPr>
          <a:xfrm>
            <a:off x="1041480" y="1727280"/>
            <a:ext cx="2502360" cy="196272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36" name="PlaceHolder 3"/>
          <p:cNvSpPr>
            <a:spLocks noGrp="1"/>
          </p:cNvSpPr>
          <p:nvPr>
            <p:ph/>
          </p:nvPr>
        </p:nvSpPr>
        <p:spPr>
          <a:xfrm>
            <a:off x="3669480" y="1727280"/>
            <a:ext cx="2502360" cy="196272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37" name="PlaceHolder 4"/>
          <p:cNvSpPr>
            <a:spLocks noGrp="1"/>
          </p:cNvSpPr>
          <p:nvPr>
            <p:ph/>
          </p:nvPr>
        </p:nvSpPr>
        <p:spPr>
          <a:xfrm>
            <a:off x="6297120" y="1727280"/>
            <a:ext cx="2502360" cy="196272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38" name="PlaceHolder 5"/>
          <p:cNvSpPr>
            <a:spLocks noGrp="1"/>
          </p:cNvSpPr>
          <p:nvPr>
            <p:ph/>
          </p:nvPr>
        </p:nvSpPr>
        <p:spPr>
          <a:xfrm>
            <a:off x="1041480" y="3876840"/>
            <a:ext cx="2502360" cy="196272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39" name="PlaceHolder 6"/>
          <p:cNvSpPr>
            <a:spLocks noGrp="1"/>
          </p:cNvSpPr>
          <p:nvPr>
            <p:ph/>
          </p:nvPr>
        </p:nvSpPr>
        <p:spPr>
          <a:xfrm>
            <a:off x="3669480" y="3876840"/>
            <a:ext cx="2502360" cy="196272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40" name="PlaceHolder 7"/>
          <p:cNvSpPr>
            <a:spLocks noGrp="1"/>
          </p:cNvSpPr>
          <p:nvPr>
            <p:ph/>
          </p:nvPr>
        </p:nvSpPr>
        <p:spPr>
          <a:xfrm>
            <a:off x="6297120" y="3876840"/>
            <a:ext cx="2502360" cy="196272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2F3A58-BFE3-43A0-BD84-75EDBAD53B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041480" y="25560"/>
            <a:ext cx="7772400" cy="9950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5" name="PlaceHolder 2"/>
          <p:cNvSpPr>
            <a:spLocks noGrp="1"/>
          </p:cNvSpPr>
          <p:nvPr>
            <p:ph type="subTitle"/>
          </p:nvPr>
        </p:nvSpPr>
        <p:spPr>
          <a:xfrm>
            <a:off x="1041480" y="1727280"/>
            <a:ext cx="7772400" cy="4114800"/>
          </a:xfrm>
          <a:prstGeom prst="rect">
            <a:avLst/>
          </a:prstGeom>
          <a:noFill/>
          <a:ln w="0">
            <a:noFill/>
          </a:ln>
        </p:spPr>
        <p:txBody>
          <a:bodyPr lIns="0" rIns="0" tIns="0" bIns="0" anchor="ctr">
            <a:noAutofit/>
          </a:bodyPr>
          <a:p>
            <a:pPr indent="0" algn="r">
              <a:lnSpc>
                <a:spcPct val="8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Garamond"/>
            </a:endParaRPr>
          </a:p>
        </p:txBody>
      </p:sp>
      <p:sp>
        <p:nvSpPr>
          <p:cNvPr id="4" name="PlaceHolder 3"/>
          <p:cNvSpPr>
            <a:spLocks noGrp="1"/>
          </p:cNvSpPr>
          <p:nvPr>
            <p:ph type="sldNum" idx="2"/>
          </p:nvPr>
        </p:nvSpPr>
        <p:spPr/>
        <p:txBody>
          <a:bodyPr/>
          <a:p>
            <a:fld id="{1D06E274-3F1B-4AEB-9825-4073D850CE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041480" y="25560"/>
            <a:ext cx="7772400" cy="9950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7" name="PlaceHolder 2"/>
          <p:cNvSpPr>
            <a:spLocks noGrp="1"/>
          </p:cNvSpPr>
          <p:nvPr>
            <p:ph/>
          </p:nvPr>
        </p:nvSpPr>
        <p:spPr>
          <a:xfrm>
            <a:off x="1041480" y="1727280"/>
            <a:ext cx="7772400" cy="411480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4" name="PlaceHolder 3"/>
          <p:cNvSpPr>
            <a:spLocks noGrp="1"/>
          </p:cNvSpPr>
          <p:nvPr>
            <p:ph type="sldNum" idx="2"/>
          </p:nvPr>
        </p:nvSpPr>
        <p:spPr/>
        <p:txBody>
          <a:bodyPr/>
          <a:p>
            <a:fld id="{C3E27AAE-090E-484A-BDEC-69E76B9D9A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41480" y="25560"/>
            <a:ext cx="7772400" cy="9950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9" name="PlaceHolder 2"/>
          <p:cNvSpPr>
            <a:spLocks noGrp="1"/>
          </p:cNvSpPr>
          <p:nvPr>
            <p:ph/>
          </p:nvPr>
        </p:nvSpPr>
        <p:spPr>
          <a:xfrm>
            <a:off x="1041480" y="1727280"/>
            <a:ext cx="3792600" cy="411480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50" name="PlaceHolder 3"/>
          <p:cNvSpPr>
            <a:spLocks noGrp="1"/>
          </p:cNvSpPr>
          <p:nvPr>
            <p:ph/>
          </p:nvPr>
        </p:nvSpPr>
        <p:spPr>
          <a:xfrm>
            <a:off x="5024160" y="1727280"/>
            <a:ext cx="3792600" cy="411480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5" name="PlaceHolder 4"/>
          <p:cNvSpPr>
            <a:spLocks noGrp="1"/>
          </p:cNvSpPr>
          <p:nvPr>
            <p:ph type="sldNum" idx="2"/>
          </p:nvPr>
        </p:nvSpPr>
        <p:spPr/>
        <p:txBody>
          <a:bodyPr/>
          <a:p>
            <a:fld id="{67B15D2A-CF91-4029-A0A7-DA4AD6E608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041480" y="25560"/>
            <a:ext cx="7772400" cy="9950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sldNum" idx="2"/>
          </p:nvPr>
        </p:nvSpPr>
        <p:spPr/>
        <p:txBody>
          <a:bodyPr/>
          <a:p>
            <a:fld id="{F94D0408-8828-4FDD-9BBE-2B4E78B0E0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041480" y="25560"/>
            <a:ext cx="7772400" cy="4613760"/>
          </a:xfrm>
          <a:prstGeom prst="rect">
            <a:avLst/>
          </a:prstGeom>
          <a:noFill/>
          <a:ln w="0">
            <a:noFill/>
          </a:ln>
        </p:spPr>
        <p:txBody>
          <a:bodyPr lIns="0" rIns="0" tIns="0" bIns="0" anchor="ctr">
            <a:noAutofit/>
          </a:bodyPr>
          <a:p>
            <a:pPr algn="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Garamond"/>
            </a:endParaRPr>
          </a:p>
        </p:txBody>
      </p:sp>
      <p:sp>
        <p:nvSpPr>
          <p:cNvPr id="3" name="PlaceHolder 2"/>
          <p:cNvSpPr>
            <a:spLocks noGrp="1"/>
          </p:cNvSpPr>
          <p:nvPr>
            <p:ph type="sldNum" idx="2"/>
          </p:nvPr>
        </p:nvSpPr>
        <p:spPr/>
        <p:txBody>
          <a:bodyPr/>
          <a:p>
            <a:fld id="{14023080-97F7-49EE-BE0E-477C23837B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41480" y="25560"/>
            <a:ext cx="7772400" cy="9950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54" name="PlaceHolder 2"/>
          <p:cNvSpPr>
            <a:spLocks noGrp="1"/>
          </p:cNvSpPr>
          <p:nvPr>
            <p:ph/>
          </p:nvPr>
        </p:nvSpPr>
        <p:spPr>
          <a:xfrm>
            <a:off x="1041480" y="1727280"/>
            <a:ext cx="3792600" cy="196272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55" name="PlaceHolder 3"/>
          <p:cNvSpPr>
            <a:spLocks noGrp="1"/>
          </p:cNvSpPr>
          <p:nvPr>
            <p:ph/>
          </p:nvPr>
        </p:nvSpPr>
        <p:spPr>
          <a:xfrm>
            <a:off x="5024160" y="1727280"/>
            <a:ext cx="3792600" cy="411480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56" name="PlaceHolder 4"/>
          <p:cNvSpPr>
            <a:spLocks noGrp="1"/>
          </p:cNvSpPr>
          <p:nvPr>
            <p:ph/>
          </p:nvPr>
        </p:nvSpPr>
        <p:spPr>
          <a:xfrm>
            <a:off x="1041480" y="3876840"/>
            <a:ext cx="3792600" cy="196272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6" name="PlaceHolder 5"/>
          <p:cNvSpPr>
            <a:spLocks noGrp="1"/>
          </p:cNvSpPr>
          <p:nvPr>
            <p:ph type="sldNum" idx="2"/>
          </p:nvPr>
        </p:nvSpPr>
        <p:spPr/>
        <p:txBody>
          <a:bodyPr/>
          <a:p>
            <a:fld id="{AB87EDAF-8962-4829-88A8-A4E5F753ED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1480" y="25560"/>
            <a:ext cx="7772400" cy="9950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 name="PlaceHolder 2"/>
          <p:cNvSpPr>
            <a:spLocks noGrp="1"/>
          </p:cNvSpPr>
          <p:nvPr>
            <p:ph type="subTitle"/>
          </p:nvPr>
        </p:nvSpPr>
        <p:spPr>
          <a:xfrm>
            <a:off x="1041480" y="1727280"/>
            <a:ext cx="7772400" cy="4114800"/>
          </a:xfrm>
          <a:prstGeom prst="rect">
            <a:avLst/>
          </a:prstGeom>
          <a:noFill/>
          <a:ln w="0">
            <a:noFill/>
          </a:ln>
        </p:spPr>
        <p:txBody>
          <a:bodyPr lIns="0" rIns="0" tIns="0" bIns="0" anchor="ctr">
            <a:noAutofit/>
          </a:bodyPr>
          <a:p>
            <a:pPr indent="0" algn="r">
              <a:lnSpc>
                <a:spcPct val="8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Garamond"/>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41480" y="25560"/>
            <a:ext cx="7772400" cy="9950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58" name="PlaceHolder 2"/>
          <p:cNvSpPr>
            <a:spLocks noGrp="1"/>
          </p:cNvSpPr>
          <p:nvPr>
            <p:ph/>
          </p:nvPr>
        </p:nvSpPr>
        <p:spPr>
          <a:xfrm>
            <a:off x="1041480" y="1727280"/>
            <a:ext cx="3792600" cy="411480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59" name="PlaceHolder 3"/>
          <p:cNvSpPr>
            <a:spLocks noGrp="1"/>
          </p:cNvSpPr>
          <p:nvPr>
            <p:ph/>
          </p:nvPr>
        </p:nvSpPr>
        <p:spPr>
          <a:xfrm>
            <a:off x="5024160" y="1727280"/>
            <a:ext cx="3792600" cy="196272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60" name="PlaceHolder 4"/>
          <p:cNvSpPr>
            <a:spLocks noGrp="1"/>
          </p:cNvSpPr>
          <p:nvPr>
            <p:ph/>
          </p:nvPr>
        </p:nvSpPr>
        <p:spPr>
          <a:xfrm>
            <a:off x="5024160" y="3876840"/>
            <a:ext cx="3792600" cy="196272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6" name="PlaceHolder 5"/>
          <p:cNvSpPr>
            <a:spLocks noGrp="1"/>
          </p:cNvSpPr>
          <p:nvPr>
            <p:ph type="sldNum" idx="2"/>
          </p:nvPr>
        </p:nvSpPr>
        <p:spPr/>
        <p:txBody>
          <a:bodyPr/>
          <a:p>
            <a:fld id="{C8711090-7AF6-4F0E-A43F-C3EB0C196C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41480" y="25560"/>
            <a:ext cx="7772400" cy="9950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2" name="PlaceHolder 2"/>
          <p:cNvSpPr>
            <a:spLocks noGrp="1"/>
          </p:cNvSpPr>
          <p:nvPr>
            <p:ph/>
          </p:nvPr>
        </p:nvSpPr>
        <p:spPr>
          <a:xfrm>
            <a:off x="1041480" y="1727280"/>
            <a:ext cx="3792600" cy="196272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63" name="PlaceHolder 3"/>
          <p:cNvSpPr>
            <a:spLocks noGrp="1"/>
          </p:cNvSpPr>
          <p:nvPr>
            <p:ph/>
          </p:nvPr>
        </p:nvSpPr>
        <p:spPr>
          <a:xfrm>
            <a:off x="5024160" y="1727280"/>
            <a:ext cx="3792600" cy="196272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64" name="PlaceHolder 4"/>
          <p:cNvSpPr>
            <a:spLocks noGrp="1"/>
          </p:cNvSpPr>
          <p:nvPr>
            <p:ph/>
          </p:nvPr>
        </p:nvSpPr>
        <p:spPr>
          <a:xfrm>
            <a:off x="1041480" y="3876840"/>
            <a:ext cx="7772400" cy="196272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6" name="PlaceHolder 5"/>
          <p:cNvSpPr>
            <a:spLocks noGrp="1"/>
          </p:cNvSpPr>
          <p:nvPr>
            <p:ph type="sldNum" idx="2"/>
          </p:nvPr>
        </p:nvSpPr>
        <p:spPr/>
        <p:txBody>
          <a:bodyPr/>
          <a:p>
            <a:fld id="{1FBC3863-3A8F-4ACD-B14D-28930E3C2F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41480" y="25560"/>
            <a:ext cx="7772400" cy="9950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6" name="PlaceHolder 2"/>
          <p:cNvSpPr>
            <a:spLocks noGrp="1"/>
          </p:cNvSpPr>
          <p:nvPr>
            <p:ph/>
          </p:nvPr>
        </p:nvSpPr>
        <p:spPr>
          <a:xfrm>
            <a:off x="1041480" y="1727280"/>
            <a:ext cx="7772400" cy="196272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67" name="PlaceHolder 3"/>
          <p:cNvSpPr>
            <a:spLocks noGrp="1"/>
          </p:cNvSpPr>
          <p:nvPr>
            <p:ph/>
          </p:nvPr>
        </p:nvSpPr>
        <p:spPr>
          <a:xfrm>
            <a:off x="1041480" y="3876840"/>
            <a:ext cx="7772400" cy="196272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5" name="PlaceHolder 4"/>
          <p:cNvSpPr>
            <a:spLocks noGrp="1"/>
          </p:cNvSpPr>
          <p:nvPr>
            <p:ph type="sldNum" idx="2"/>
          </p:nvPr>
        </p:nvSpPr>
        <p:spPr/>
        <p:txBody>
          <a:bodyPr/>
          <a:p>
            <a:fld id="{09EEE3C3-4E36-4704-8BF8-7CD3005146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1480" y="25560"/>
            <a:ext cx="7772400" cy="9950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9" name="PlaceHolder 2"/>
          <p:cNvSpPr>
            <a:spLocks noGrp="1"/>
          </p:cNvSpPr>
          <p:nvPr>
            <p:ph/>
          </p:nvPr>
        </p:nvSpPr>
        <p:spPr>
          <a:xfrm>
            <a:off x="1041480" y="1727280"/>
            <a:ext cx="3792600" cy="196272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70" name="PlaceHolder 3"/>
          <p:cNvSpPr>
            <a:spLocks noGrp="1"/>
          </p:cNvSpPr>
          <p:nvPr>
            <p:ph/>
          </p:nvPr>
        </p:nvSpPr>
        <p:spPr>
          <a:xfrm>
            <a:off x="5024160" y="1727280"/>
            <a:ext cx="3792600" cy="196272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71" name="PlaceHolder 4"/>
          <p:cNvSpPr>
            <a:spLocks noGrp="1"/>
          </p:cNvSpPr>
          <p:nvPr>
            <p:ph/>
          </p:nvPr>
        </p:nvSpPr>
        <p:spPr>
          <a:xfrm>
            <a:off x="1041480" y="3876840"/>
            <a:ext cx="3792600" cy="196272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72" name="PlaceHolder 5"/>
          <p:cNvSpPr>
            <a:spLocks noGrp="1"/>
          </p:cNvSpPr>
          <p:nvPr>
            <p:ph/>
          </p:nvPr>
        </p:nvSpPr>
        <p:spPr>
          <a:xfrm>
            <a:off x="5024160" y="3876840"/>
            <a:ext cx="3792600" cy="196272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7" name="PlaceHolder 6"/>
          <p:cNvSpPr>
            <a:spLocks noGrp="1"/>
          </p:cNvSpPr>
          <p:nvPr>
            <p:ph type="sldNum" idx="2"/>
          </p:nvPr>
        </p:nvSpPr>
        <p:spPr/>
        <p:txBody>
          <a:bodyPr/>
          <a:p>
            <a:fld id="{AC6B2C49-6724-4DAA-9145-6A07F2BA48B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41480" y="25560"/>
            <a:ext cx="7772400" cy="9950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4" name="PlaceHolder 2"/>
          <p:cNvSpPr>
            <a:spLocks noGrp="1"/>
          </p:cNvSpPr>
          <p:nvPr>
            <p:ph/>
          </p:nvPr>
        </p:nvSpPr>
        <p:spPr>
          <a:xfrm>
            <a:off x="1041480" y="1727280"/>
            <a:ext cx="2502360" cy="196272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75" name="PlaceHolder 3"/>
          <p:cNvSpPr>
            <a:spLocks noGrp="1"/>
          </p:cNvSpPr>
          <p:nvPr>
            <p:ph/>
          </p:nvPr>
        </p:nvSpPr>
        <p:spPr>
          <a:xfrm>
            <a:off x="3669480" y="1727280"/>
            <a:ext cx="2502360" cy="196272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76" name="PlaceHolder 4"/>
          <p:cNvSpPr>
            <a:spLocks noGrp="1"/>
          </p:cNvSpPr>
          <p:nvPr>
            <p:ph/>
          </p:nvPr>
        </p:nvSpPr>
        <p:spPr>
          <a:xfrm>
            <a:off x="6297120" y="1727280"/>
            <a:ext cx="2502360" cy="196272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77" name="PlaceHolder 5"/>
          <p:cNvSpPr>
            <a:spLocks noGrp="1"/>
          </p:cNvSpPr>
          <p:nvPr>
            <p:ph/>
          </p:nvPr>
        </p:nvSpPr>
        <p:spPr>
          <a:xfrm>
            <a:off x="1041480" y="3876840"/>
            <a:ext cx="2502360" cy="196272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78" name="PlaceHolder 6"/>
          <p:cNvSpPr>
            <a:spLocks noGrp="1"/>
          </p:cNvSpPr>
          <p:nvPr>
            <p:ph/>
          </p:nvPr>
        </p:nvSpPr>
        <p:spPr>
          <a:xfrm>
            <a:off x="3669480" y="3876840"/>
            <a:ext cx="2502360" cy="196272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79" name="PlaceHolder 7"/>
          <p:cNvSpPr>
            <a:spLocks noGrp="1"/>
          </p:cNvSpPr>
          <p:nvPr>
            <p:ph/>
          </p:nvPr>
        </p:nvSpPr>
        <p:spPr>
          <a:xfrm>
            <a:off x="6297120" y="3876840"/>
            <a:ext cx="2502360" cy="196272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9" name="PlaceHolder 8"/>
          <p:cNvSpPr>
            <a:spLocks noGrp="1"/>
          </p:cNvSpPr>
          <p:nvPr>
            <p:ph type="sldNum" idx="2"/>
          </p:nvPr>
        </p:nvSpPr>
        <p:spPr/>
        <p:txBody>
          <a:bodyPr/>
          <a:p>
            <a:fld id="{F9E7548F-8F97-42BD-87F1-45249654CE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1480" y="25560"/>
            <a:ext cx="7772400" cy="9950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8" name="PlaceHolder 2"/>
          <p:cNvSpPr>
            <a:spLocks noGrp="1"/>
          </p:cNvSpPr>
          <p:nvPr>
            <p:ph/>
          </p:nvPr>
        </p:nvSpPr>
        <p:spPr>
          <a:xfrm>
            <a:off x="1041480" y="1727280"/>
            <a:ext cx="7772400" cy="411480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1480" y="25560"/>
            <a:ext cx="7772400" cy="9950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0" name="PlaceHolder 2"/>
          <p:cNvSpPr>
            <a:spLocks noGrp="1"/>
          </p:cNvSpPr>
          <p:nvPr>
            <p:ph/>
          </p:nvPr>
        </p:nvSpPr>
        <p:spPr>
          <a:xfrm>
            <a:off x="1041480" y="1727280"/>
            <a:ext cx="3792600" cy="411480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11" name="PlaceHolder 3"/>
          <p:cNvSpPr>
            <a:spLocks noGrp="1"/>
          </p:cNvSpPr>
          <p:nvPr>
            <p:ph/>
          </p:nvPr>
        </p:nvSpPr>
        <p:spPr>
          <a:xfrm>
            <a:off x="5024160" y="1727280"/>
            <a:ext cx="3792600" cy="411480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1480" y="25560"/>
            <a:ext cx="7772400" cy="9950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1480" y="25560"/>
            <a:ext cx="7772400" cy="4613760"/>
          </a:xfrm>
          <a:prstGeom prst="rect">
            <a:avLst/>
          </a:prstGeom>
          <a:noFill/>
          <a:ln w="0">
            <a:noFill/>
          </a:ln>
        </p:spPr>
        <p:txBody>
          <a:bodyPr lIns="0" rIns="0" tIns="0" bIns="0" anchor="ctr">
            <a:noAutofit/>
          </a:bodyPr>
          <a:p>
            <a:pPr algn="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1480" y="25560"/>
            <a:ext cx="7772400" cy="9950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5" name="PlaceHolder 2"/>
          <p:cNvSpPr>
            <a:spLocks noGrp="1"/>
          </p:cNvSpPr>
          <p:nvPr>
            <p:ph/>
          </p:nvPr>
        </p:nvSpPr>
        <p:spPr>
          <a:xfrm>
            <a:off x="1041480" y="1727280"/>
            <a:ext cx="3792600" cy="196272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16" name="PlaceHolder 3"/>
          <p:cNvSpPr>
            <a:spLocks noGrp="1"/>
          </p:cNvSpPr>
          <p:nvPr>
            <p:ph/>
          </p:nvPr>
        </p:nvSpPr>
        <p:spPr>
          <a:xfrm>
            <a:off x="5024160" y="1727280"/>
            <a:ext cx="3792600" cy="411480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17" name="PlaceHolder 4"/>
          <p:cNvSpPr>
            <a:spLocks noGrp="1"/>
          </p:cNvSpPr>
          <p:nvPr>
            <p:ph/>
          </p:nvPr>
        </p:nvSpPr>
        <p:spPr>
          <a:xfrm>
            <a:off x="1041480" y="3876840"/>
            <a:ext cx="3792600" cy="196272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1480" y="25560"/>
            <a:ext cx="7772400" cy="9950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9" name="PlaceHolder 2"/>
          <p:cNvSpPr>
            <a:spLocks noGrp="1"/>
          </p:cNvSpPr>
          <p:nvPr>
            <p:ph/>
          </p:nvPr>
        </p:nvSpPr>
        <p:spPr>
          <a:xfrm>
            <a:off x="1041480" y="1727280"/>
            <a:ext cx="3792600" cy="411480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20" name="PlaceHolder 3"/>
          <p:cNvSpPr>
            <a:spLocks noGrp="1"/>
          </p:cNvSpPr>
          <p:nvPr>
            <p:ph/>
          </p:nvPr>
        </p:nvSpPr>
        <p:spPr>
          <a:xfrm>
            <a:off x="5024160" y="1727280"/>
            <a:ext cx="3792600" cy="196272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21" name="PlaceHolder 4"/>
          <p:cNvSpPr>
            <a:spLocks noGrp="1"/>
          </p:cNvSpPr>
          <p:nvPr>
            <p:ph/>
          </p:nvPr>
        </p:nvSpPr>
        <p:spPr>
          <a:xfrm>
            <a:off x="5024160" y="3876840"/>
            <a:ext cx="3792600" cy="196272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1480" y="25560"/>
            <a:ext cx="7772400" cy="9950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3" name="PlaceHolder 2"/>
          <p:cNvSpPr>
            <a:spLocks noGrp="1"/>
          </p:cNvSpPr>
          <p:nvPr>
            <p:ph/>
          </p:nvPr>
        </p:nvSpPr>
        <p:spPr>
          <a:xfrm>
            <a:off x="1041480" y="1727280"/>
            <a:ext cx="3792600" cy="196272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24" name="PlaceHolder 3"/>
          <p:cNvSpPr>
            <a:spLocks noGrp="1"/>
          </p:cNvSpPr>
          <p:nvPr>
            <p:ph/>
          </p:nvPr>
        </p:nvSpPr>
        <p:spPr>
          <a:xfrm>
            <a:off x="5024160" y="1727280"/>
            <a:ext cx="3792600" cy="196272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25" name="PlaceHolder 4"/>
          <p:cNvSpPr>
            <a:spLocks noGrp="1"/>
          </p:cNvSpPr>
          <p:nvPr>
            <p:ph/>
          </p:nvPr>
        </p:nvSpPr>
        <p:spPr>
          <a:xfrm>
            <a:off x="1041480" y="3876840"/>
            <a:ext cx="7772400" cy="196272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pic>
        <p:nvPicPr>
          <p:cNvPr id="0" name="CS-Template-Part1.4"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041480" y="25560"/>
            <a:ext cx="7772400" cy="9950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title text format</a:t>
            </a:r>
            <a:endParaRPr b="1" lang="en-US" sz="2800" spc="-1" strike="noStrike">
              <a:solidFill>
                <a:srgbClr val="ffffff"/>
              </a:solidFill>
              <a:latin typeface="Tahoma"/>
            </a:endParaRPr>
          </a:p>
        </p:txBody>
      </p:sp>
      <p:sp>
        <p:nvSpPr>
          <p:cNvPr id="2" name="PlaceHolder 2"/>
          <p:cNvSpPr>
            <a:spLocks noGrp="1"/>
          </p:cNvSpPr>
          <p:nvPr>
            <p:ph type="body"/>
          </p:nvPr>
        </p:nvSpPr>
        <p:spPr>
          <a:xfrm>
            <a:off x="1041480" y="1727280"/>
            <a:ext cx="7772400" cy="4114800"/>
          </a:xfrm>
          <a:prstGeom prst="rect">
            <a:avLst/>
          </a:prstGeom>
          <a:noFill/>
          <a:ln w="0">
            <a:noFill/>
          </a:ln>
        </p:spPr>
        <p:txBody>
          <a:bodyPr lIns="90000" rIns="90000" tIns="46800" bIns="46800" anchor="t">
            <a:normAutofit/>
          </a:bodyPr>
          <a:p>
            <a:pPr marL="343080" indent="-343080">
              <a:lnSpc>
                <a:spcPct val="85000"/>
              </a:lnSpc>
              <a:spcBef>
                <a:spcPts val="1950"/>
              </a:spcBef>
              <a:buClr>
                <a:srgbClr val="ffcc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lick to edit the outline text format</a:t>
            </a:r>
            <a:endParaRPr b="1" lang="en-US" sz="2400" spc="-1" strike="noStrike">
              <a:solidFill>
                <a:srgbClr val="ffffff"/>
              </a:solidFill>
              <a:latin typeface="Garamond"/>
            </a:endParaRPr>
          </a:p>
          <a:p>
            <a:pPr lvl="1" marL="743040" indent="-285840">
              <a:lnSpc>
                <a:spcPct val="85000"/>
              </a:lnSpc>
              <a:spcBef>
                <a:spcPts val="1950"/>
              </a:spcBef>
              <a:buClr>
                <a:srgbClr val="ffcc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econd Outline Level</a:t>
            </a:r>
            <a:endParaRPr b="1" lang="en-US" sz="2400" spc="-1" strike="noStrike">
              <a:solidFill>
                <a:srgbClr val="ffffff"/>
              </a:solidFill>
              <a:latin typeface="Garamond"/>
            </a:endParaRPr>
          </a:p>
          <a:p>
            <a:pPr lvl="2" marL="1143000" indent="-228600">
              <a:lnSpc>
                <a:spcPct val="85000"/>
              </a:lnSpc>
              <a:spcBef>
                <a:spcPts val="1950"/>
              </a:spcBef>
              <a:buClr>
                <a:srgbClr val="ffcc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hird Outline Level</a:t>
            </a:r>
            <a:endParaRPr b="1" lang="en-US" sz="2400" spc="-1" strike="noStrike">
              <a:solidFill>
                <a:srgbClr val="ffffff"/>
              </a:solidFill>
              <a:latin typeface="Garamond"/>
            </a:endParaRPr>
          </a:p>
          <a:p>
            <a:pPr lvl="3" marL="1600200" indent="-228600">
              <a:lnSpc>
                <a:spcPct val="85000"/>
              </a:lnSpc>
              <a:spcBef>
                <a:spcPts val="1950"/>
              </a:spcBef>
              <a:buClr>
                <a:srgbClr val="00fff2"/>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Fourth Outline Level</a:t>
            </a:r>
            <a:endParaRPr b="1" lang="en-US" sz="2400" spc="-1" strike="noStrike">
              <a:solidFill>
                <a:srgbClr val="ffffff"/>
              </a:solidFill>
              <a:latin typeface="Garamond"/>
            </a:endParaRPr>
          </a:p>
          <a:p>
            <a:pPr lvl="4" marL="2057400" indent="-228600">
              <a:lnSpc>
                <a:spcPct val="85000"/>
              </a:lnSpc>
              <a:spcBef>
                <a:spcPts val="1950"/>
              </a:spcBef>
              <a:buClr>
                <a:srgbClr val="00fff2"/>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Fifth Outline Level</a:t>
            </a:r>
            <a:endParaRPr b="1" lang="en-US" sz="2400" spc="-1" strike="noStrike">
              <a:solidFill>
                <a:srgbClr val="ffffff"/>
              </a:solidFill>
              <a:latin typeface="Garamond"/>
            </a:endParaRPr>
          </a:p>
          <a:p>
            <a:pPr lvl="5" marL="2057400" indent="-228600">
              <a:lnSpc>
                <a:spcPct val="85000"/>
              </a:lnSpc>
              <a:spcBef>
                <a:spcPts val="1950"/>
              </a:spcBef>
              <a:buClr>
                <a:srgbClr val="fffff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ixth Outline Level</a:t>
            </a:r>
            <a:endParaRPr b="1" lang="en-US" sz="2400" spc="-1" strike="noStrike">
              <a:solidFill>
                <a:srgbClr val="ffffff"/>
              </a:solidFill>
              <a:latin typeface="Garamond"/>
            </a:endParaRPr>
          </a:p>
          <a:p>
            <a:pPr lvl="6" marL="2057400" indent="-228600">
              <a:lnSpc>
                <a:spcPct val="85000"/>
              </a:lnSpc>
              <a:spcBef>
                <a:spcPts val="1950"/>
              </a:spcBef>
              <a:buClr>
                <a:srgbClr val="fffff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eventh Outline Level</a:t>
            </a:r>
            <a:endParaRPr b="1" lang="en-US" sz="2400" spc="-1" strike="noStrike">
              <a:solidFill>
                <a:srgbClr val="ffffff"/>
              </a:solidFill>
              <a:latin typeface="Garamond"/>
            </a:endParaRPr>
          </a:p>
        </p:txBody>
      </p:sp>
      <p:sp>
        <p:nvSpPr>
          <p:cNvPr id="3" name=""/>
          <p:cNvSpPr/>
          <p:nvPr/>
        </p:nvSpPr>
        <p:spPr>
          <a:xfrm>
            <a:off x="165240" y="6486480"/>
            <a:ext cx="447480" cy="22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72E98-7505-497F-9282-BF7D9BACC419}" type="slidenum">
              <a:rPr b="0" lang="en-US" sz="1000" spc="-1" strike="noStrike">
                <a:solidFill>
                  <a:srgbClr val="57a0ff"/>
                </a:solidFill>
                <a:latin typeface="Times New Roman"/>
              </a:rPr>
              <a:t>&lt;number&gt;</a:t>
            </a:fld>
            <a:endParaRPr b="0" lang="en-US" sz="1000" spc="-1" strike="noStrike">
              <a:solidFill>
                <a:srgbClr val="ffffff"/>
              </a:solidFill>
              <a:latin typeface="Times New Roman"/>
            </a:endParaRPr>
          </a:p>
        </p:txBody>
      </p:sp>
      <p:sp>
        <p:nvSpPr>
          <p:cNvPr id="4" name="PlaceHolder 3"/>
          <p:cNvSpPr>
            <a:spLocks noGrp="1"/>
          </p:cNvSpPr>
          <p:nvPr>
            <p:ph type="ftr" idx="1"/>
          </p:nvPr>
        </p:nvSpPr>
        <p:spPr>
          <a:xfrm>
            <a:off x="787320" y="6659280"/>
            <a:ext cx="7569360" cy="1983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57a0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57a0ff"/>
                </a:solidFill>
                <a:latin typeface="Times New Roman"/>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pic>
        <p:nvPicPr>
          <p:cNvPr id="41" name="CS-Template-Part3"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1358640" y="3074760"/>
            <a:ext cx="7427880" cy="114300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Click to edit the title text format</a:t>
            </a:r>
            <a:endParaRPr b="1" lang="en-US" sz="2600" spc="-1" strike="noStrike">
              <a:solidFill>
                <a:srgbClr val="ffffff"/>
              </a:solidFill>
              <a:latin typeface="Tahoma"/>
            </a:endParaRPr>
          </a:p>
        </p:txBody>
      </p:sp>
      <p:sp>
        <p:nvSpPr>
          <p:cNvPr id="43" name="PlaceHolder 2"/>
          <p:cNvSpPr>
            <a:spLocks noGrp="1"/>
          </p:cNvSpPr>
          <p:nvPr>
            <p:ph type="sldNum" idx="2"/>
          </p:nvPr>
        </p:nvSpPr>
        <p:spPr>
          <a:xfrm>
            <a:off x="583920" y="6486120"/>
            <a:ext cx="447480" cy="22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7a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29FC3-3D00-4CC9-8559-98416A5FFCF1}" type="slidenum">
              <a:rPr b="0" lang="en-US" sz="1000" spc="-1" strike="noStrike">
                <a:solidFill>
                  <a:srgbClr val="57a0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9.wmf"/><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20.wmf"/><Relationship Id="rId7" Type="http://schemas.openxmlformats.org/officeDocument/2006/relationships/image" Target="../media/image21.wmf"/><Relationship Id="rId8" Type="http://schemas.openxmlformats.org/officeDocument/2006/relationships/image" Target="../media/image22.wmf"/><Relationship Id="rId9" Type="http://schemas.openxmlformats.org/officeDocument/2006/relationships/oleObject" Target="../embeddings/oleObject1.bin"/><Relationship Id="rId10" Type="http://schemas.openxmlformats.org/officeDocument/2006/relationships/image" Target="../media/image14.png"/><Relationship Id="rId1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oleObject" Target="../embeddings/oleObject1.bin"/><Relationship Id="rId4" Type="http://schemas.openxmlformats.org/officeDocument/2006/relationships/image" Target="../media/image14.pn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oleObject" Target="../embeddings/oleObject2.bin"/><Relationship Id="rId6" Type="http://schemas.openxmlformats.org/officeDocument/2006/relationships/image" Target="../media/image14.png"/><Relationship Id="rId7"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wmf"/><Relationship Id="rId5" Type="http://schemas.openxmlformats.org/officeDocument/2006/relationships/image" Target="../media/image32.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oleObject" Target="../embeddings/oleObject1.bin"/><Relationship Id="rId6" Type="http://schemas.openxmlformats.org/officeDocument/2006/relationships/image" Target="../media/image14.png"/><Relationship Id="rId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7.wmf"/><Relationship Id="rId6" Type="http://schemas.openxmlformats.org/officeDocument/2006/relationships/image" Target="../media/image19.wmf"/><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6.wmf"/><Relationship Id="rId1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41480" y="25560"/>
            <a:ext cx="7772400" cy="9950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Status legal en Argentina</a:t>
            </a:r>
            <a:endParaRPr b="1" lang="en-US" sz="2800" spc="-1" strike="noStrike">
              <a:solidFill>
                <a:srgbClr val="ffffff"/>
              </a:solidFill>
              <a:latin typeface="Tahoma"/>
            </a:endParaRPr>
          </a:p>
        </p:txBody>
      </p:sp>
      <p:sp>
        <p:nvSpPr>
          <p:cNvPr id="81" name="PlaceHolder 2"/>
          <p:cNvSpPr>
            <a:spLocks noGrp="1"/>
          </p:cNvSpPr>
          <p:nvPr>
            <p:ph/>
          </p:nvPr>
        </p:nvSpPr>
        <p:spPr>
          <a:xfrm>
            <a:off x="1041480" y="1727280"/>
            <a:ext cx="7772400" cy="4114800"/>
          </a:xfrm>
          <a:prstGeom prst="rect">
            <a:avLst/>
          </a:prstGeom>
          <a:noFill/>
          <a:ln w="0">
            <a:noFill/>
          </a:ln>
        </p:spPr>
        <p:txBody>
          <a:bodyPr lIns="90000" rIns="90000" tIns="46800" bIns="46800" anchor="t">
            <a:normAutofit fontScale="97000"/>
          </a:bodyPr>
          <a:p>
            <a:pPr marL="332640" indent="-332640">
              <a:lnSpc>
                <a:spcPct val="85000"/>
              </a:lnSpc>
              <a:spcBef>
                <a:spcPts val="1463"/>
              </a:spcBef>
              <a:buClr>
                <a:srgbClr val="ffcc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Ley de firma digital </a:t>
            </a:r>
            <a:r>
              <a:rPr b="1" lang="es-ES_tradnl" sz="1800" spc="-1" strike="noStrike">
                <a:solidFill>
                  <a:srgbClr val="ffffff"/>
                </a:solidFill>
                <a:latin typeface="Garamond"/>
              </a:rPr>
              <a:t>(Nro. 25.506 – BO 14/12/2001)</a:t>
            </a:r>
            <a:endParaRPr b="1" lang="en-US" sz="1800" spc="-1" strike="noStrike">
              <a:solidFill>
                <a:srgbClr val="ffffff"/>
              </a:solidFill>
              <a:latin typeface="Garamond"/>
            </a:endParaRPr>
          </a:p>
          <a:p>
            <a:pPr marL="332640" indent="-332640">
              <a:lnSpc>
                <a:spcPct val="85000"/>
              </a:lnSpc>
              <a:spcBef>
                <a:spcPts val="1463"/>
              </a:spcBef>
              <a:buClr>
                <a:srgbClr val="ffcc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Decreto reglamentario </a:t>
            </a:r>
            <a:r>
              <a:rPr b="1" lang="es-ES_tradnl" sz="1800" spc="-1" strike="noStrike">
                <a:solidFill>
                  <a:srgbClr val="ffffff"/>
                </a:solidFill>
                <a:latin typeface="Garamond"/>
              </a:rPr>
              <a:t>(Nro. 26218/02 – BO 20/12/2002)</a:t>
            </a:r>
            <a:endParaRPr b="1" lang="en-US" sz="1800" spc="-1" strike="noStrike">
              <a:solidFill>
                <a:srgbClr val="ffffff"/>
              </a:solidFill>
              <a:latin typeface="Garamond"/>
            </a:endParaRPr>
          </a:p>
          <a:p>
            <a:pPr marL="332640" indent="-332640">
              <a:lnSpc>
                <a:spcPct val="85000"/>
              </a:lnSpc>
              <a:spcBef>
                <a:spcPts val="1950"/>
              </a:spcBef>
              <a:buClr>
                <a:srgbClr val="ffcc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Designación del Ente Administrador</a:t>
            </a:r>
            <a:endParaRPr b="1" lang="en-US" sz="2400" spc="-1" strike="noStrike">
              <a:solidFill>
                <a:srgbClr val="ffffff"/>
              </a:solidFill>
              <a:latin typeface="Garamond"/>
            </a:endParaRPr>
          </a:p>
          <a:p>
            <a:pPr lvl="1" marL="720720" indent="-277200">
              <a:lnSpc>
                <a:spcPct val="85000"/>
              </a:lnSpc>
              <a:spcBef>
                <a:spcPts val="825"/>
              </a:spcBef>
              <a:buClr>
                <a:srgbClr val="ffcc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Garamond"/>
              </a:rPr>
              <a:t>Jefatura de Gabinete de Ministros</a:t>
            </a:r>
            <a:endParaRPr b="0" lang="en-US" sz="2200" spc="-1" strike="noStrike">
              <a:solidFill>
                <a:srgbClr val="ffffff"/>
              </a:solidFill>
              <a:latin typeface="Garamond"/>
            </a:endParaRPr>
          </a:p>
          <a:p>
            <a:pPr marL="332640" indent="-332640">
              <a:lnSpc>
                <a:spcPct val="85000"/>
              </a:lnSpc>
              <a:spcBef>
                <a:spcPts val="1950"/>
              </a:spcBef>
              <a:buClr>
                <a:srgbClr val="ffcc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Procedimiento de licenciamiento en curso de desarrollo</a:t>
            </a:r>
            <a:endParaRPr b="1" lang="en-US" sz="2400" spc="-1" strike="noStrike">
              <a:solidFill>
                <a:srgbClr val="ffffff"/>
              </a:solidFill>
              <a:latin typeface="Garamond"/>
            </a:endParaRPr>
          </a:p>
          <a:p>
            <a:pPr lvl="1" marL="720720" indent="-277200">
              <a:lnSpc>
                <a:spcPct val="85000"/>
              </a:lnSpc>
              <a:spcBef>
                <a:spcPts val="825"/>
              </a:spcBef>
              <a:buClr>
                <a:srgbClr val="ffcc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Garamond"/>
              </a:rPr>
              <a:t>Beneficio básico:  inversión de la carga de la prueba.</a:t>
            </a:r>
            <a:endParaRPr b="0" lang="en-US" sz="2200" spc="-1" strike="noStrike">
              <a:solidFill>
                <a:srgbClr val="ffffff"/>
              </a:solidFill>
              <a:latin typeface="Garamond"/>
            </a:endParaRPr>
          </a:p>
          <a:p>
            <a:pPr lvl="1" marL="720720" indent="-277200">
              <a:lnSpc>
                <a:spcPct val="85000"/>
              </a:lnSpc>
              <a:spcBef>
                <a:spcPts val="825"/>
              </a:spcBef>
              <a:buClr>
                <a:srgbClr val="ffcc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Garamond"/>
              </a:rPr>
              <a:t>Consecuencias:  vinculadas con el nivel de litigios de la aplicación</a:t>
            </a:r>
            <a:endParaRPr b="0" lang="en-US" sz="2200" spc="-1" strike="noStrike">
              <a:solidFill>
                <a:srgbClr val="ffffff"/>
              </a:solidFill>
              <a:latin typeface="Garamond"/>
            </a:endParaRPr>
          </a:p>
          <a:p>
            <a:pPr lvl="1" marL="720720" indent="-277200">
              <a:lnSpc>
                <a:spcPct val="85000"/>
              </a:lnSpc>
              <a:spcBef>
                <a:spcPts val="825"/>
              </a:spcBef>
              <a:buClr>
                <a:srgbClr val="ffcc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Garamond"/>
              </a:rPr>
              <a:t>Costos: desconocidos al día de hoy</a:t>
            </a:r>
            <a:endParaRPr b="0" lang="en-US" sz="2200" spc="-1" strike="noStrike">
              <a:solidFill>
                <a:srgbClr val="ffffff"/>
              </a:solidFill>
              <a:latin typeface="Garamond"/>
            </a:endParaRPr>
          </a:p>
          <a:p>
            <a:pPr marL="332640" indent="0">
              <a:lnSpc>
                <a:spcPct val="85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pic>
        <p:nvPicPr>
          <p:cNvPr id="82" name="foto_elektronische_signatur" descr=""/>
          <p:cNvPicPr/>
          <p:nvPr/>
        </p:nvPicPr>
        <p:blipFill>
          <a:blip r:embed="rId1"/>
          <a:stretch/>
        </p:blipFill>
        <p:spPr>
          <a:xfrm>
            <a:off x="7315200" y="5715000"/>
            <a:ext cx="1828800" cy="91440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pic>
        <p:nvPicPr>
          <p:cNvPr id="470" name="CS-Template-Part1.Complement06" descr=""/>
          <p:cNvPicPr/>
          <p:nvPr/>
        </p:nvPicPr>
        <p:blipFill>
          <a:blip r:embed="rId1"/>
          <a:stretch/>
        </p:blipFill>
        <p:spPr>
          <a:xfrm>
            <a:off x="0" y="0"/>
            <a:ext cx="9144000" cy="6858000"/>
          </a:xfrm>
          <a:prstGeom prst="rect">
            <a:avLst/>
          </a:prstGeom>
          <a:ln w="0">
            <a:noFill/>
          </a:ln>
        </p:spPr>
      </p:pic>
      <p:grpSp>
        <p:nvGrpSpPr>
          <p:cNvPr id="471" name=""/>
          <p:cNvGrpSpPr/>
          <p:nvPr/>
        </p:nvGrpSpPr>
        <p:grpSpPr>
          <a:xfrm>
            <a:off x="574560" y="1766880"/>
            <a:ext cx="338400" cy="4572000"/>
            <a:chOff x="574560" y="1766880"/>
            <a:chExt cx="338400" cy="4572000"/>
          </a:xfrm>
        </p:grpSpPr>
        <p:sp>
          <p:nvSpPr>
            <p:cNvPr id="472" name=""/>
            <p:cNvSpPr/>
            <p:nvPr/>
          </p:nvSpPr>
          <p:spPr>
            <a:xfrm>
              <a:off x="912960" y="1766880"/>
              <a:ext cx="0" cy="4572000"/>
            </a:xfrm>
            <a:prstGeom prst="line">
              <a:avLst/>
            </a:prstGeom>
            <a:ln w="316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rot="16199400">
              <a:off x="228240" y="3733200"/>
              <a:ext cx="102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Tahoma"/>
                </a:rPr>
                <a:t>2/3 DIAS</a:t>
              </a:r>
              <a:endParaRPr b="0" lang="en-US" sz="1600" spc="-1" strike="noStrike">
                <a:solidFill>
                  <a:srgbClr val="ffffff"/>
                </a:solidFill>
                <a:latin typeface="Times New Roman"/>
              </a:endParaRPr>
            </a:p>
          </p:txBody>
        </p:sp>
      </p:grpSp>
      <p:pic>
        <p:nvPicPr>
          <p:cNvPr id="474" name="BS00994_" descr=""/>
          <p:cNvPicPr/>
          <p:nvPr/>
        </p:nvPicPr>
        <p:blipFill>
          <a:blip r:embed="rId2"/>
          <a:stretch/>
        </p:blipFill>
        <p:spPr>
          <a:xfrm>
            <a:off x="1608120" y="4572000"/>
            <a:ext cx="746280" cy="819000"/>
          </a:xfrm>
          <a:prstGeom prst="rect">
            <a:avLst/>
          </a:prstGeom>
          <a:ln w="0">
            <a:noFill/>
          </a:ln>
        </p:spPr>
      </p:pic>
      <p:grpSp>
        <p:nvGrpSpPr>
          <p:cNvPr id="475" name=""/>
          <p:cNvGrpSpPr/>
          <p:nvPr/>
        </p:nvGrpSpPr>
        <p:grpSpPr>
          <a:xfrm>
            <a:off x="1066680" y="1219320"/>
            <a:ext cx="7620120" cy="5029200"/>
            <a:chOff x="1066680" y="1219320"/>
            <a:chExt cx="7620120" cy="5029200"/>
          </a:xfrm>
        </p:grpSpPr>
        <p:sp>
          <p:nvSpPr>
            <p:cNvPr id="476" name=""/>
            <p:cNvSpPr/>
            <p:nvPr/>
          </p:nvSpPr>
          <p:spPr>
            <a:xfrm>
              <a:off x="6858000" y="1295280"/>
              <a:ext cx="175248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7a0ff"/>
                  </a:solidFill>
                  <a:latin typeface="Arial"/>
                </a:rPr>
                <a:t>Vendedor</a:t>
              </a:r>
              <a:endParaRPr b="0" lang="en-US" sz="1600" spc="-1" strike="noStrike">
                <a:solidFill>
                  <a:srgbClr val="ffffff"/>
                </a:solidFill>
                <a:latin typeface="Times New Roman"/>
              </a:endParaRPr>
            </a:p>
          </p:txBody>
        </p:sp>
        <p:sp>
          <p:nvSpPr>
            <p:cNvPr id="477" name=""/>
            <p:cNvSpPr/>
            <p:nvPr/>
          </p:nvSpPr>
          <p:spPr>
            <a:xfrm>
              <a:off x="4952880" y="1295280"/>
              <a:ext cx="1752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7a0ff"/>
                  </a:solidFill>
                  <a:latin typeface="Arial"/>
                </a:rPr>
                <a:t>Broker</a:t>
              </a:r>
              <a:endParaRPr b="0" lang="en-US" sz="1600" spc="-1" strike="noStrike">
                <a:solidFill>
                  <a:srgbClr val="ffffff"/>
                </a:solidFill>
                <a:latin typeface="Times New Roman"/>
              </a:endParaRPr>
            </a:p>
          </p:txBody>
        </p:sp>
        <p:sp>
          <p:nvSpPr>
            <p:cNvPr id="478" name=""/>
            <p:cNvSpPr/>
            <p:nvPr/>
          </p:nvSpPr>
          <p:spPr>
            <a:xfrm>
              <a:off x="3048120" y="1295280"/>
              <a:ext cx="175248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57a0ff"/>
                  </a:solidFill>
                  <a:latin typeface="Arial"/>
                </a:rPr>
                <a:t>Comprador</a:t>
              </a:r>
              <a:endParaRPr b="0" lang="en-US" sz="1600" spc="-1" strike="noStrike">
                <a:solidFill>
                  <a:srgbClr val="ffffff"/>
                </a:solidFill>
                <a:latin typeface="Times New Roman"/>
              </a:endParaRPr>
            </a:p>
          </p:txBody>
        </p:sp>
        <p:sp>
          <p:nvSpPr>
            <p:cNvPr id="479" name=""/>
            <p:cNvSpPr/>
            <p:nvPr/>
          </p:nvSpPr>
          <p:spPr>
            <a:xfrm>
              <a:off x="1066680" y="1219320"/>
              <a:ext cx="762012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1066680" y="1676520"/>
              <a:ext cx="7620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1" name=""/>
            <p:cNvGrpSpPr/>
            <p:nvPr/>
          </p:nvGrpSpPr>
          <p:grpSpPr>
            <a:xfrm>
              <a:off x="1371600" y="1447920"/>
              <a:ext cx="1066320" cy="228600"/>
              <a:chOff x="1371600" y="1447920"/>
              <a:chExt cx="1066320" cy="228600"/>
            </a:xfrm>
          </p:grpSpPr>
          <p:pic>
            <p:nvPicPr>
              <p:cNvPr id="482" name="logo_cereales_bb" descr=""/>
              <p:cNvPicPr/>
              <p:nvPr/>
            </p:nvPicPr>
            <p:blipFill>
              <a:blip r:embed="rId3"/>
              <a:stretch/>
            </p:blipFill>
            <p:spPr>
              <a:xfrm>
                <a:off x="1371600" y="1447920"/>
                <a:ext cx="294840" cy="228600"/>
              </a:xfrm>
              <a:prstGeom prst="rect">
                <a:avLst/>
              </a:prstGeom>
              <a:ln w="0">
                <a:noFill/>
              </a:ln>
            </p:spPr>
          </p:pic>
          <p:pic>
            <p:nvPicPr>
              <p:cNvPr id="483" name="logo_cereales_bsas" descr=""/>
              <p:cNvPicPr/>
              <p:nvPr/>
            </p:nvPicPr>
            <p:blipFill>
              <a:blip r:embed="rId4"/>
              <a:stretch/>
            </p:blipFill>
            <p:spPr>
              <a:xfrm>
                <a:off x="2143080" y="1447920"/>
                <a:ext cx="294840" cy="228600"/>
              </a:xfrm>
              <a:prstGeom prst="rect">
                <a:avLst/>
              </a:prstGeom>
              <a:ln w="0">
                <a:noFill/>
              </a:ln>
            </p:spPr>
          </p:pic>
          <p:pic>
            <p:nvPicPr>
              <p:cNvPr id="484" name="logo_comercio" descr=""/>
              <p:cNvPicPr/>
              <p:nvPr/>
            </p:nvPicPr>
            <p:blipFill>
              <a:blip r:embed="rId5"/>
              <a:stretch/>
            </p:blipFill>
            <p:spPr>
              <a:xfrm>
                <a:off x="1757520" y="1447920"/>
                <a:ext cx="294840" cy="228600"/>
              </a:xfrm>
              <a:prstGeom prst="rect">
                <a:avLst/>
              </a:prstGeom>
              <a:ln w="0">
                <a:noFill/>
              </a:ln>
            </p:spPr>
          </p:pic>
        </p:grpSp>
        <p:sp>
          <p:nvSpPr>
            <p:cNvPr id="485" name=""/>
            <p:cNvSpPr/>
            <p:nvPr/>
          </p:nvSpPr>
          <p:spPr>
            <a:xfrm>
              <a:off x="1066680" y="1295280"/>
              <a:ext cx="182880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7a0ff"/>
                  </a:solidFill>
                  <a:latin typeface="Arial"/>
                </a:rPr>
                <a:t>Bolsa</a:t>
              </a:r>
              <a:endParaRPr b="0" lang="en-US" sz="1600" spc="-1" strike="noStrike">
                <a:solidFill>
                  <a:srgbClr val="ffffff"/>
                </a:solidFill>
                <a:latin typeface="Times New Roman"/>
              </a:endParaRPr>
            </a:p>
          </p:txBody>
        </p:sp>
        <p:sp>
          <p:nvSpPr>
            <p:cNvPr id="486" name=""/>
            <p:cNvSpPr/>
            <p:nvPr/>
          </p:nvSpPr>
          <p:spPr>
            <a:xfrm>
              <a:off x="1066680" y="1676520"/>
              <a:ext cx="0" cy="4572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2971800" y="1676520"/>
              <a:ext cx="0" cy="4572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a:off x="4876920" y="1676520"/>
              <a:ext cx="0" cy="4572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6781680" y="1676520"/>
              <a:ext cx="0" cy="4572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8686800" y="1676520"/>
              <a:ext cx="0" cy="4572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91" name=""/>
          <p:cNvGrpSpPr/>
          <p:nvPr/>
        </p:nvGrpSpPr>
        <p:grpSpPr>
          <a:xfrm>
            <a:off x="1981080" y="5333760"/>
            <a:ext cx="5181840" cy="762120"/>
            <a:chOff x="1981080" y="5333760"/>
            <a:chExt cx="5181840" cy="762120"/>
          </a:xfrm>
        </p:grpSpPr>
        <p:sp>
          <p:nvSpPr>
            <p:cNvPr id="492" name=""/>
            <p:cNvSpPr/>
            <p:nvPr/>
          </p:nvSpPr>
          <p:spPr>
            <a:xfrm>
              <a:off x="1981080" y="5486400"/>
              <a:ext cx="1371600" cy="0"/>
            </a:xfrm>
            <a:prstGeom prst="line">
              <a:avLst/>
            </a:prstGeom>
            <a:ln w="9360">
              <a:solidFill>
                <a:srgbClr val="57a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flipV="1">
              <a:off x="1981080" y="5333760"/>
              <a:ext cx="0" cy="152280"/>
            </a:xfrm>
            <a:prstGeom prst="line">
              <a:avLst/>
            </a:prstGeom>
            <a:ln w="9360">
              <a:solidFill>
                <a:srgbClr val="57a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1986120" y="5791320"/>
              <a:ext cx="3197160" cy="0"/>
            </a:xfrm>
            <a:prstGeom prst="line">
              <a:avLst/>
            </a:prstGeom>
            <a:ln w="9360">
              <a:solidFill>
                <a:srgbClr val="57a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flipV="1">
              <a:off x="1981080" y="5486040"/>
              <a:ext cx="0" cy="304920"/>
            </a:xfrm>
            <a:prstGeom prst="line">
              <a:avLst/>
            </a:prstGeom>
            <a:ln w="9360">
              <a:solidFill>
                <a:srgbClr val="57a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1981080" y="6095880"/>
              <a:ext cx="5181840" cy="0"/>
            </a:xfrm>
            <a:prstGeom prst="line">
              <a:avLst/>
            </a:prstGeom>
            <a:ln w="9360">
              <a:solidFill>
                <a:srgbClr val="57a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flipV="1">
              <a:off x="1981080" y="5791320"/>
              <a:ext cx="0" cy="304560"/>
            </a:xfrm>
            <a:prstGeom prst="line">
              <a:avLst/>
            </a:prstGeom>
            <a:ln w="9360">
              <a:solidFill>
                <a:srgbClr val="57a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98" name="PlaceHolder 1"/>
          <p:cNvSpPr>
            <a:spLocks noGrp="1"/>
          </p:cNvSpPr>
          <p:nvPr>
            <p:ph type="title"/>
          </p:nvPr>
        </p:nvSpPr>
        <p:spPr>
          <a:xfrm>
            <a:off x="1041480" y="25560"/>
            <a:ext cx="7772400" cy="9950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Tahoma"/>
              </a:rPr>
              <a:t>Proceso Digital</a:t>
            </a:r>
            <a:endParaRPr b="1" lang="en-US" sz="2800" spc="-1" strike="noStrike">
              <a:solidFill>
                <a:srgbClr val="ffffff"/>
              </a:solidFill>
              <a:latin typeface="Tahoma"/>
            </a:endParaRPr>
          </a:p>
        </p:txBody>
      </p:sp>
      <p:pic>
        <p:nvPicPr>
          <p:cNvPr id="499" name="PE01722_" descr=""/>
          <p:cNvPicPr/>
          <p:nvPr/>
        </p:nvPicPr>
        <p:blipFill>
          <a:blip r:embed="rId6"/>
          <a:stretch/>
        </p:blipFill>
        <p:spPr>
          <a:xfrm>
            <a:off x="5257800" y="1981080"/>
            <a:ext cx="1066680" cy="816120"/>
          </a:xfrm>
          <a:prstGeom prst="rect">
            <a:avLst/>
          </a:prstGeom>
          <a:ln w="0">
            <a:noFill/>
          </a:ln>
        </p:spPr>
      </p:pic>
      <p:grpSp>
        <p:nvGrpSpPr>
          <p:cNvPr id="500" name=""/>
          <p:cNvGrpSpPr/>
          <p:nvPr/>
        </p:nvGrpSpPr>
        <p:grpSpPr>
          <a:xfrm>
            <a:off x="1625760" y="1905120"/>
            <a:ext cx="709560" cy="672840"/>
            <a:chOff x="1625760" y="1905120"/>
            <a:chExt cx="709560" cy="672840"/>
          </a:xfrm>
        </p:grpSpPr>
        <p:sp>
          <p:nvSpPr>
            <p:cNvPr id="501" name=""/>
            <p:cNvSpPr/>
            <p:nvPr/>
          </p:nvSpPr>
          <p:spPr>
            <a:xfrm>
              <a:off x="1625760" y="2447640"/>
              <a:ext cx="636480" cy="118440"/>
            </a:xfrm>
            <a:custGeom>
              <a:avLst/>
              <a:gdLst/>
              <a:ahLst/>
              <a:rect l="l" t="t" r="r" b="b"/>
              <a:pathLst>
                <a:path w="2006" h="420">
                  <a:moveTo>
                    <a:pt x="80" y="34"/>
                  </a:moveTo>
                  <a:lnTo>
                    <a:pt x="217" y="19"/>
                  </a:lnTo>
                  <a:lnTo>
                    <a:pt x="641" y="0"/>
                  </a:lnTo>
                  <a:lnTo>
                    <a:pt x="1100" y="15"/>
                  </a:lnTo>
                  <a:lnTo>
                    <a:pt x="1538" y="27"/>
                  </a:lnTo>
                  <a:lnTo>
                    <a:pt x="1646" y="42"/>
                  </a:lnTo>
                  <a:lnTo>
                    <a:pt x="1767" y="34"/>
                  </a:lnTo>
                  <a:lnTo>
                    <a:pt x="1847" y="64"/>
                  </a:lnTo>
                  <a:lnTo>
                    <a:pt x="1931" y="224"/>
                  </a:lnTo>
                  <a:lnTo>
                    <a:pt x="2006" y="351"/>
                  </a:lnTo>
                  <a:lnTo>
                    <a:pt x="1947" y="420"/>
                  </a:lnTo>
                  <a:lnTo>
                    <a:pt x="983" y="406"/>
                  </a:lnTo>
                  <a:lnTo>
                    <a:pt x="115" y="351"/>
                  </a:lnTo>
                  <a:lnTo>
                    <a:pt x="0" y="282"/>
                  </a:lnTo>
                  <a:lnTo>
                    <a:pt x="80" y="34"/>
                  </a:lnTo>
                  <a:lnTo>
                    <a:pt x="80" y="34"/>
                  </a:lnTo>
                  <a:close/>
                </a:path>
              </a:pathLst>
            </a:custGeom>
            <a:solidFill>
              <a:srgbClr val="ff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1758240" y="1994040"/>
              <a:ext cx="388800" cy="285120"/>
            </a:xfrm>
            <a:custGeom>
              <a:avLst/>
              <a:gdLst/>
              <a:ahLst/>
              <a:rect l="l" t="t" r="r" b="b"/>
              <a:pathLst>
                <a:path w="1226" h="1009">
                  <a:moveTo>
                    <a:pt x="78" y="29"/>
                  </a:moveTo>
                  <a:lnTo>
                    <a:pt x="0" y="129"/>
                  </a:lnTo>
                  <a:lnTo>
                    <a:pt x="4" y="330"/>
                  </a:lnTo>
                  <a:lnTo>
                    <a:pt x="35" y="569"/>
                  </a:lnTo>
                  <a:lnTo>
                    <a:pt x="84" y="856"/>
                  </a:lnTo>
                  <a:lnTo>
                    <a:pt x="168" y="952"/>
                  </a:lnTo>
                  <a:lnTo>
                    <a:pt x="334" y="998"/>
                  </a:lnTo>
                  <a:lnTo>
                    <a:pt x="615" y="1009"/>
                  </a:lnTo>
                  <a:lnTo>
                    <a:pt x="933" y="1005"/>
                  </a:lnTo>
                  <a:lnTo>
                    <a:pt x="1093" y="986"/>
                  </a:lnTo>
                  <a:lnTo>
                    <a:pt x="1174" y="944"/>
                  </a:lnTo>
                  <a:lnTo>
                    <a:pt x="1226" y="212"/>
                  </a:lnTo>
                  <a:lnTo>
                    <a:pt x="1187" y="71"/>
                  </a:lnTo>
                  <a:lnTo>
                    <a:pt x="888" y="7"/>
                  </a:lnTo>
                  <a:lnTo>
                    <a:pt x="338" y="0"/>
                  </a:lnTo>
                  <a:lnTo>
                    <a:pt x="78" y="29"/>
                  </a:lnTo>
                  <a:lnTo>
                    <a:pt x="78" y="29"/>
                  </a:lnTo>
                  <a:close/>
                </a:path>
              </a:pathLst>
            </a:custGeom>
            <a:solidFill>
              <a:srgbClr val="8fc28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1793160" y="2386080"/>
              <a:ext cx="321840" cy="51840"/>
            </a:xfrm>
            <a:custGeom>
              <a:avLst/>
              <a:gdLst/>
              <a:ahLst/>
              <a:rect l="l" t="t" r="r" b="b"/>
              <a:pathLst>
                <a:path w="1015" h="185">
                  <a:moveTo>
                    <a:pt x="40" y="46"/>
                  </a:moveTo>
                  <a:lnTo>
                    <a:pt x="122" y="38"/>
                  </a:lnTo>
                  <a:lnTo>
                    <a:pt x="204" y="37"/>
                  </a:lnTo>
                  <a:lnTo>
                    <a:pt x="416" y="13"/>
                  </a:lnTo>
                  <a:lnTo>
                    <a:pt x="627" y="0"/>
                  </a:lnTo>
                  <a:lnTo>
                    <a:pt x="859" y="6"/>
                  </a:lnTo>
                  <a:lnTo>
                    <a:pt x="880" y="44"/>
                  </a:lnTo>
                  <a:lnTo>
                    <a:pt x="895" y="93"/>
                  </a:lnTo>
                  <a:lnTo>
                    <a:pt x="911" y="108"/>
                  </a:lnTo>
                  <a:lnTo>
                    <a:pt x="935" y="124"/>
                  </a:lnTo>
                  <a:lnTo>
                    <a:pt x="962" y="140"/>
                  </a:lnTo>
                  <a:lnTo>
                    <a:pt x="987" y="154"/>
                  </a:lnTo>
                  <a:lnTo>
                    <a:pt x="1015" y="178"/>
                  </a:lnTo>
                  <a:lnTo>
                    <a:pt x="987" y="185"/>
                  </a:lnTo>
                  <a:lnTo>
                    <a:pt x="786" y="172"/>
                  </a:lnTo>
                  <a:lnTo>
                    <a:pt x="616" y="171"/>
                  </a:lnTo>
                  <a:lnTo>
                    <a:pt x="411" y="155"/>
                  </a:lnTo>
                  <a:lnTo>
                    <a:pt x="315" y="147"/>
                  </a:lnTo>
                  <a:lnTo>
                    <a:pt x="207" y="150"/>
                  </a:lnTo>
                  <a:lnTo>
                    <a:pt x="120" y="144"/>
                  </a:lnTo>
                  <a:lnTo>
                    <a:pt x="34" y="144"/>
                  </a:lnTo>
                  <a:lnTo>
                    <a:pt x="7" y="135"/>
                  </a:lnTo>
                  <a:lnTo>
                    <a:pt x="0" y="104"/>
                  </a:lnTo>
                  <a:lnTo>
                    <a:pt x="11" y="68"/>
                  </a:lnTo>
                  <a:lnTo>
                    <a:pt x="24" y="54"/>
                  </a:lnTo>
                  <a:lnTo>
                    <a:pt x="40" y="46"/>
                  </a:lnTo>
                  <a:lnTo>
                    <a:pt x="40" y="46"/>
                  </a:lnTo>
                  <a:close/>
                </a:path>
              </a:pathLst>
            </a:custGeom>
            <a:solidFill>
              <a:srgbClr val="a38c8c"/>
            </a:solidFill>
            <a:ln w="0">
              <a:noFill/>
            </a:ln>
          </p:spPr>
          <p:style>
            <a:lnRef idx="0"/>
            <a:fillRef idx="0"/>
            <a:effectRef idx="0"/>
            <a:fontRef idx="minor"/>
          </p:style>
          <p:txBody>
            <a:bodyPr lIns="90000" rIns="90000" tIns="5040" bIns="5040" anchor="t">
              <a:noAutofit/>
            </a:bodyPr>
            <a:p>
              <a:endParaRPr b="0" lang="en-US" sz="2400" spc="-1" strike="noStrike">
                <a:solidFill>
                  <a:srgbClr val="ffffff"/>
                </a:solidFill>
                <a:latin typeface="Times New Roman"/>
              </a:endParaRPr>
            </a:p>
          </p:txBody>
        </p:sp>
        <p:sp>
          <p:nvSpPr>
            <p:cNvPr id="504" name=""/>
            <p:cNvSpPr/>
            <p:nvPr/>
          </p:nvSpPr>
          <p:spPr>
            <a:xfrm>
              <a:off x="1770840" y="2297880"/>
              <a:ext cx="50040" cy="40680"/>
            </a:xfrm>
            <a:custGeom>
              <a:avLst/>
              <a:gdLst/>
              <a:ahLst/>
              <a:rect l="l" t="t" r="r" b="b"/>
              <a:pathLst>
                <a:path w="157" h="144">
                  <a:moveTo>
                    <a:pt x="23" y="79"/>
                  </a:moveTo>
                  <a:lnTo>
                    <a:pt x="0" y="53"/>
                  </a:lnTo>
                  <a:lnTo>
                    <a:pt x="2" y="21"/>
                  </a:lnTo>
                  <a:lnTo>
                    <a:pt x="24" y="0"/>
                  </a:lnTo>
                  <a:lnTo>
                    <a:pt x="58" y="1"/>
                  </a:lnTo>
                  <a:lnTo>
                    <a:pt x="131" y="34"/>
                  </a:lnTo>
                  <a:lnTo>
                    <a:pt x="157" y="73"/>
                  </a:lnTo>
                  <a:lnTo>
                    <a:pt x="154" y="116"/>
                  </a:lnTo>
                  <a:lnTo>
                    <a:pt x="143" y="134"/>
                  </a:lnTo>
                  <a:lnTo>
                    <a:pt x="129" y="144"/>
                  </a:lnTo>
                  <a:lnTo>
                    <a:pt x="91" y="139"/>
                  </a:lnTo>
                  <a:lnTo>
                    <a:pt x="57" y="107"/>
                  </a:lnTo>
                  <a:lnTo>
                    <a:pt x="23" y="79"/>
                  </a:lnTo>
                  <a:lnTo>
                    <a:pt x="23" y="79"/>
                  </a:lnTo>
                  <a:close/>
                </a:path>
              </a:pathLst>
            </a:custGeom>
            <a:solidFill>
              <a:srgbClr val="ff000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505" name=""/>
            <p:cNvSpPr/>
            <p:nvPr/>
          </p:nvSpPr>
          <p:spPr>
            <a:xfrm>
              <a:off x="1750680" y="1948320"/>
              <a:ext cx="444240" cy="321120"/>
            </a:xfrm>
            <a:custGeom>
              <a:avLst/>
              <a:gdLst/>
              <a:ahLst/>
              <a:rect l="l" t="t" r="r" b="b"/>
              <a:pathLst>
                <a:path w="1400" h="1139">
                  <a:moveTo>
                    <a:pt x="0" y="275"/>
                  </a:moveTo>
                  <a:lnTo>
                    <a:pt x="15" y="222"/>
                  </a:lnTo>
                  <a:lnTo>
                    <a:pt x="33" y="175"/>
                  </a:lnTo>
                  <a:lnTo>
                    <a:pt x="53" y="135"/>
                  </a:lnTo>
                  <a:lnTo>
                    <a:pt x="77" y="102"/>
                  </a:lnTo>
                  <a:lnTo>
                    <a:pt x="106" y="77"/>
                  </a:lnTo>
                  <a:lnTo>
                    <a:pt x="142" y="58"/>
                  </a:lnTo>
                  <a:lnTo>
                    <a:pt x="186" y="47"/>
                  </a:lnTo>
                  <a:lnTo>
                    <a:pt x="239" y="43"/>
                  </a:lnTo>
                  <a:lnTo>
                    <a:pt x="361" y="21"/>
                  </a:lnTo>
                  <a:lnTo>
                    <a:pt x="483" y="6"/>
                  </a:lnTo>
                  <a:lnTo>
                    <a:pt x="778" y="0"/>
                  </a:lnTo>
                  <a:lnTo>
                    <a:pt x="1068" y="44"/>
                  </a:lnTo>
                  <a:lnTo>
                    <a:pt x="1164" y="58"/>
                  </a:lnTo>
                  <a:lnTo>
                    <a:pt x="1248" y="86"/>
                  </a:lnTo>
                  <a:lnTo>
                    <a:pt x="1284" y="107"/>
                  </a:lnTo>
                  <a:lnTo>
                    <a:pt x="1318" y="133"/>
                  </a:lnTo>
                  <a:lnTo>
                    <a:pt x="1349" y="166"/>
                  </a:lnTo>
                  <a:lnTo>
                    <a:pt x="1377" y="206"/>
                  </a:lnTo>
                  <a:lnTo>
                    <a:pt x="1400" y="283"/>
                  </a:lnTo>
                  <a:lnTo>
                    <a:pt x="1395" y="369"/>
                  </a:lnTo>
                  <a:lnTo>
                    <a:pt x="1378" y="505"/>
                  </a:lnTo>
                  <a:lnTo>
                    <a:pt x="1357" y="641"/>
                  </a:lnTo>
                  <a:lnTo>
                    <a:pt x="1339" y="739"/>
                  </a:lnTo>
                  <a:lnTo>
                    <a:pt x="1317" y="836"/>
                  </a:lnTo>
                  <a:lnTo>
                    <a:pt x="1293" y="940"/>
                  </a:lnTo>
                  <a:lnTo>
                    <a:pt x="1277" y="975"/>
                  </a:lnTo>
                  <a:lnTo>
                    <a:pt x="1246" y="1038"/>
                  </a:lnTo>
                  <a:lnTo>
                    <a:pt x="1231" y="1065"/>
                  </a:lnTo>
                  <a:lnTo>
                    <a:pt x="1211" y="1090"/>
                  </a:lnTo>
                  <a:lnTo>
                    <a:pt x="1189" y="1112"/>
                  </a:lnTo>
                  <a:lnTo>
                    <a:pt x="1168" y="1129"/>
                  </a:lnTo>
                  <a:lnTo>
                    <a:pt x="1138" y="1139"/>
                  </a:lnTo>
                  <a:lnTo>
                    <a:pt x="1141" y="1109"/>
                  </a:lnTo>
                  <a:lnTo>
                    <a:pt x="1164" y="1035"/>
                  </a:lnTo>
                  <a:lnTo>
                    <a:pt x="1171" y="963"/>
                  </a:lnTo>
                  <a:lnTo>
                    <a:pt x="1181" y="812"/>
                  </a:lnTo>
                  <a:lnTo>
                    <a:pt x="1203" y="719"/>
                  </a:lnTo>
                  <a:lnTo>
                    <a:pt x="1223" y="625"/>
                  </a:lnTo>
                  <a:lnTo>
                    <a:pt x="1245" y="491"/>
                  </a:lnTo>
                  <a:lnTo>
                    <a:pt x="1266" y="357"/>
                  </a:lnTo>
                  <a:lnTo>
                    <a:pt x="1265" y="273"/>
                  </a:lnTo>
                  <a:lnTo>
                    <a:pt x="1245" y="246"/>
                  </a:lnTo>
                  <a:lnTo>
                    <a:pt x="1224" y="226"/>
                  </a:lnTo>
                  <a:lnTo>
                    <a:pt x="1199" y="211"/>
                  </a:lnTo>
                  <a:lnTo>
                    <a:pt x="1172" y="199"/>
                  </a:lnTo>
                  <a:lnTo>
                    <a:pt x="1112" y="185"/>
                  </a:lnTo>
                  <a:lnTo>
                    <a:pt x="1045" y="178"/>
                  </a:lnTo>
                  <a:lnTo>
                    <a:pt x="970" y="161"/>
                  </a:lnTo>
                  <a:lnTo>
                    <a:pt x="901" y="149"/>
                  </a:lnTo>
                  <a:lnTo>
                    <a:pt x="771" y="137"/>
                  </a:lnTo>
                  <a:lnTo>
                    <a:pt x="491" y="142"/>
                  </a:lnTo>
                  <a:lnTo>
                    <a:pt x="311" y="152"/>
                  </a:lnTo>
                  <a:lnTo>
                    <a:pt x="234" y="160"/>
                  </a:lnTo>
                  <a:lnTo>
                    <a:pt x="163" y="186"/>
                  </a:lnTo>
                  <a:lnTo>
                    <a:pt x="108" y="230"/>
                  </a:lnTo>
                  <a:lnTo>
                    <a:pt x="74" y="296"/>
                  </a:lnTo>
                  <a:lnTo>
                    <a:pt x="67" y="312"/>
                  </a:lnTo>
                  <a:lnTo>
                    <a:pt x="55" y="321"/>
                  </a:lnTo>
                  <a:lnTo>
                    <a:pt x="27" y="323"/>
                  </a:lnTo>
                  <a:lnTo>
                    <a:pt x="4" y="307"/>
                  </a:lnTo>
                  <a:lnTo>
                    <a:pt x="0" y="275"/>
                  </a:lnTo>
                  <a:lnTo>
                    <a:pt x="0" y="275"/>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1629360" y="2512080"/>
              <a:ext cx="610560" cy="60120"/>
            </a:xfrm>
            <a:custGeom>
              <a:avLst/>
              <a:gdLst/>
              <a:ahLst/>
              <a:rect l="l" t="t" r="r" b="b"/>
              <a:pathLst>
                <a:path w="1925" h="212">
                  <a:moveTo>
                    <a:pt x="32" y="69"/>
                  </a:moveTo>
                  <a:lnTo>
                    <a:pt x="67" y="35"/>
                  </a:lnTo>
                  <a:lnTo>
                    <a:pt x="88" y="22"/>
                  </a:lnTo>
                  <a:lnTo>
                    <a:pt x="113" y="14"/>
                  </a:lnTo>
                  <a:lnTo>
                    <a:pt x="184" y="3"/>
                  </a:lnTo>
                  <a:lnTo>
                    <a:pt x="290" y="0"/>
                  </a:lnTo>
                  <a:lnTo>
                    <a:pt x="387" y="13"/>
                  </a:lnTo>
                  <a:lnTo>
                    <a:pt x="510" y="31"/>
                  </a:lnTo>
                  <a:lnTo>
                    <a:pt x="635" y="49"/>
                  </a:lnTo>
                  <a:lnTo>
                    <a:pt x="730" y="60"/>
                  </a:lnTo>
                  <a:lnTo>
                    <a:pt x="948" y="74"/>
                  </a:lnTo>
                  <a:lnTo>
                    <a:pt x="1141" y="80"/>
                  </a:lnTo>
                  <a:lnTo>
                    <a:pt x="1551" y="68"/>
                  </a:lnTo>
                  <a:lnTo>
                    <a:pt x="1707" y="69"/>
                  </a:lnTo>
                  <a:lnTo>
                    <a:pt x="1864" y="75"/>
                  </a:lnTo>
                  <a:lnTo>
                    <a:pt x="1910" y="90"/>
                  </a:lnTo>
                  <a:lnTo>
                    <a:pt x="1925" y="123"/>
                  </a:lnTo>
                  <a:lnTo>
                    <a:pt x="1921" y="141"/>
                  </a:lnTo>
                  <a:lnTo>
                    <a:pt x="1908" y="156"/>
                  </a:lnTo>
                  <a:lnTo>
                    <a:pt x="1888" y="168"/>
                  </a:lnTo>
                  <a:lnTo>
                    <a:pt x="1860" y="171"/>
                  </a:lnTo>
                  <a:lnTo>
                    <a:pt x="1709" y="183"/>
                  </a:lnTo>
                  <a:lnTo>
                    <a:pt x="1558" y="198"/>
                  </a:lnTo>
                  <a:lnTo>
                    <a:pt x="1336" y="209"/>
                  </a:lnTo>
                  <a:lnTo>
                    <a:pt x="1140" y="212"/>
                  </a:lnTo>
                  <a:lnTo>
                    <a:pt x="721" y="195"/>
                  </a:lnTo>
                  <a:lnTo>
                    <a:pt x="474" y="176"/>
                  </a:lnTo>
                  <a:lnTo>
                    <a:pt x="253" y="162"/>
                  </a:lnTo>
                  <a:lnTo>
                    <a:pt x="151" y="151"/>
                  </a:lnTo>
                  <a:lnTo>
                    <a:pt x="32" y="147"/>
                  </a:lnTo>
                  <a:lnTo>
                    <a:pt x="6" y="141"/>
                  </a:lnTo>
                  <a:lnTo>
                    <a:pt x="0" y="123"/>
                  </a:lnTo>
                  <a:lnTo>
                    <a:pt x="11" y="98"/>
                  </a:lnTo>
                  <a:lnTo>
                    <a:pt x="32" y="69"/>
                  </a:lnTo>
                  <a:lnTo>
                    <a:pt x="32" y="69"/>
                  </a:lnTo>
                  <a:close/>
                </a:path>
              </a:pathLst>
            </a:custGeom>
            <a:solidFill>
              <a:srgbClr val="a38c8c"/>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07" name=""/>
            <p:cNvSpPr/>
            <p:nvPr/>
          </p:nvSpPr>
          <p:spPr>
            <a:xfrm>
              <a:off x="2102400" y="2294640"/>
              <a:ext cx="37080" cy="41040"/>
            </a:xfrm>
            <a:custGeom>
              <a:avLst/>
              <a:gdLst/>
              <a:ahLst/>
              <a:rect l="l" t="t" r="r" b="b"/>
              <a:pathLst>
                <a:path w="116" h="146">
                  <a:moveTo>
                    <a:pt x="13" y="67"/>
                  </a:moveTo>
                  <a:lnTo>
                    <a:pt x="0" y="26"/>
                  </a:lnTo>
                  <a:lnTo>
                    <a:pt x="6" y="11"/>
                  </a:lnTo>
                  <a:lnTo>
                    <a:pt x="19" y="2"/>
                  </a:lnTo>
                  <a:lnTo>
                    <a:pt x="56" y="0"/>
                  </a:lnTo>
                  <a:lnTo>
                    <a:pt x="96" y="30"/>
                  </a:lnTo>
                  <a:lnTo>
                    <a:pt x="113" y="79"/>
                  </a:lnTo>
                  <a:lnTo>
                    <a:pt x="116" y="116"/>
                  </a:lnTo>
                  <a:lnTo>
                    <a:pt x="108" y="130"/>
                  </a:lnTo>
                  <a:lnTo>
                    <a:pt x="95" y="140"/>
                  </a:lnTo>
                  <a:lnTo>
                    <a:pt x="62" y="146"/>
                  </a:lnTo>
                  <a:lnTo>
                    <a:pt x="34" y="123"/>
                  </a:lnTo>
                  <a:lnTo>
                    <a:pt x="13" y="67"/>
                  </a:lnTo>
                  <a:lnTo>
                    <a:pt x="13" y="67"/>
                  </a:lnTo>
                  <a:close/>
                </a:path>
              </a:pathLst>
            </a:custGeom>
            <a:solidFill>
              <a:srgbClr val="a38c8c"/>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08" name=""/>
            <p:cNvSpPr/>
            <p:nvPr/>
          </p:nvSpPr>
          <p:spPr>
            <a:xfrm>
              <a:off x="2046600" y="2308680"/>
              <a:ext cx="40320" cy="39240"/>
            </a:xfrm>
            <a:custGeom>
              <a:avLst/>
              <a:gdLst/>
              <a:ahLst/>
              <a:rect l="l" t="t" r="r" b="b"/>
              <a:pathLst>
                <a:path w="128" h="139">
                  <a:moveTo>
                    <a:pt x="8" y="73"/>
                  </a:moveTo>
                  <a:lnTo>
                    <a:pt x="0" y="40"/>
                  </a:lnTo>
                  <a:lnTo>
                    <a:pt x="7" y="25"/>
                  </a:lnTo>
                  <a:lnTo>
                    <a:pt x="18" y="12"/>
                  </a:lnTo>
                  <a:lnTo>
                    <a:pt x="50" y="0"/>
                  </a:lnTo>
                  <a:lnTo>
                    <a:pt x="83" y="16"/>
                  </a:lnTo>
                  <a:lnTo>
                    <a:pt x="116" y="53"/>
                  </a:lnTo>
                  <a:lnTo>
                    <a:pt x="128" y="90"/>
                  </a:lnTo>
                  <a:lnTo>
                    <a:pt x="117" y="123"/>
                  </a:lnTo>
                  <a:lnTo>
                    <a:pt x="105" y="134"/>
                  </a:lnTo>
                  <a:lnTo>
                    <a:pt x="91" y="139"/>
                  </a:lnTo>
                  <a:lnTo>
                    <a:pt x="63" y="122"/>
                  </a:lnTo>
                  <a:lnTo>
                    <a:pt x="36" y="97"/>
                  </a:lnTo>
                  <a:lnTo>
                    <a:pt x="8" y="73"/>
                  </a:lnTo>
                  <a:lnTo>
                    <a:pt x="8" y="73"/>
                  </a:lnTo>
                  <a:close/>
                </a:path>
              </a:pathLst>
            </a:custGeom>
            <a:solidFill>
              <a:srgbClr val="a38c8c"/>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509" name=""/>
            <p:cNvSpPr/>
            <p:nvPr/>
          </p:nvSpPr>
          <p:spPr>
            <a:xfrm>
              <a:off x="1985760" y="2310120"/>
              <a:ext cx="46800" cy="42840"/>
            </a:xfrm>
            <a:custGeom>
              <a:avLst/>
              <a:gdLst/>
              <a:ahLst/>
              <a:rect l="l" t="t" r="r" b="b"/>
              <a:pathLst>
                <a:path w="148" h="150">
                  <a:moveTo>
                    <a:pt x="18" y="70"/>
                  </a:moveTo>
                  <a:lnTo>
                    <a:pt x="0" y="44"/>
                  </a:lnTo>
                  <a:lnTo>
                    <a:pt x="7" y="17"/>
                  </a:lnTo>
                  <a:lnTo>
                    <a:pt x="17" y="7"/>
                  </a:lnTo>
                  <a:lnTo>
                    <a:pt x="30" y="0"/>
                  </a:lnTo>
                  <a:lnTo>
                    <a:pt x="60" y="6"/>
                  </a:lnTo>
                  <a:lnTo>
                    <a:pt x="131" y="51"/>
                  </a:lnTo>
                  <a:lnTo>
                    <a:pt x="148" y="91"/>
                  </a:lnTo>
                  <a:lnTo>
                    <a:pt x="139" y="130"/>
                  </a:lnTo>
                  <a:lnTo>
                    <a:pt x="112" y="150"/>
                  </a:lnTo>
                  <a:lnTo>
                    <a:pt x="79" y="137"/>
                  </a:lnTo>
                  <a:lnTo>
                    <a:pt x="48" y="102"/>
                  </a:lnTo>
                  <a:lnTo>
                    <a:pt x="18" y="70"/>
                  </a:lnTo>
                  <a:lnTo>
                    <a:pt x="18" y="70"/>
                  </a:lnTo>
                  <a:close/>
                </a:path>
              </a:pathLst>
            </a:custGeom>
            <a:solidFill>
              <a:srgbClr val="a38c8c"/>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0" name=""/>
            <p:cNvSpPr/>
            <p:nvPr/>
          </p:nvSpPr>
          <p:spPr>
            <a:xfrm>
              <a:off x="1917000" y="2307600"/>
              <a:ext cx="50040" cy="40680"/>
            </a:xfrm>
            <a:custGeom>
              <a:avLst/>
              <a:gdLst/>
              <a:ahLst/>
              <a:rect l="l" t="t" r="r" b="b"/>
              <a:pathLst>
                <a:path w="157" h="145">
                  <a:moveTo>
                    <a:pt x="24" y="79"/>
                  </a:moveTo>
                  <a:lnTo>
                    <a:pt x="0" y="53"/>
                  </a:lnTo>
                  <a:lnTo>
                    <a:pt x="4" y="22"/>
                  </a:lnTo>
                  <a:lnTo>
                    <a:pt x="25" y="0"/>
                  </a:lnTo>
                  <a:lnTo>
                    <a:pt x="60" y="1"/>
                  </a:lnTo>
                  <a:lnTo>
                    <a:pt x="133" y="35"/>
                  </a:lnTo>
                  <a:lnTo>
                    <a:pt x="157" y="74"/>
                  </a:lnTo>
                  <a:lnTo>
                    <a:pt x="154" y="117"/>
                  </a:lnTo>
                  <a:lnTo>
                    <a:pt x="144" y="134"/>
                  </a:lnTo>
                  <a:lnTo>
                    <a:pt x="130" y="145"/>
                  </a:lnTo>
                  <a:lnTo>
                    <a:pt x="93" y="139"/>
                  </a:lnTo>
                  <a:lnTo>
                    <a:pt x="59" y="107"/>
                  </a:lnTo>
                  <a:lnTo>
                    <a:pt x="24" y="79"/>
                  </a:lnTo>
                  <a:lnTo>
                    <a:pt x="24" y="79"/>
                  </a:lnTo>
                  <a:close/>
                </a:path>
              </a:pathLst>
            </a:custGeom>
            <a:solidFill>
              <a:srgbClr val="a38c8c"/>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511" name=""/>
            <p:cNvSpPr/>
            <p:nvPr/>
          </p:nvSpPr>
          <p:spPr>
            <a:xfrm>
              <a:off x="1689120" y="1976760"/>
              <a:ext cx="79200" cy="413280"/>
            </a:xfrm>
            <a:custGeom>
              <a:avLst/>
              <a:gdLst/>
              <a:ahLst/>
              <a:rect l="l" t="t" r="r" b="b"/>
              <a:pathLst>
                <a:path w="252" h="1463">
                  <a:moveTo>
                    <a:pt x="80" y="33"/>
                  </a:moveTo>
                  <a:lnTo>
                    <a:pt x="101" y="128"/>
                  </a:lnTo>
                  <a:lnTo>
                    <a:pt x="124" y="211"/>
                  </a:lnTo>
                  <a:lnTo>
                    <a:pt x="153" y="389"/>
                  </a:lnTo>
                  <a:lnTo>
                    <a:pt x="155" y="461"/>
                  </a:lnTo>
                  <a:lnTo>
                    <a:pt x="152" y="524"/>
                  </a:lnTo>
                  <a:lnTo>
                    <a:pt x="151" y="589"/>
                  </a:lnTo>
                  <a:lnTo>
                    <a:pt x="153" y="660"/>
                  </a:lnTo>
                  <a:lnTo>
                    <a:pt x="176" y="854"/>
                  </a:lnTo>
                  <a:lnTo>
                    <a:pt x="202" y="1023"/>
                  </a:lnTo>
                  <a:lnTo>
                    <a:pt x="228" y="1191"/>
                  </a:lnTo>
                  <a:lnTo>
                    <a:pt x="252" y="1385"/>
                  </a:lnTo>
                  <a:lnTo>
                    <a:pt x="248" y="1416"/>
                  </a:lnTo>
                  <a:lnTo>
                    <a:pt x="235" y="1441"/>
                  </a:lnTo>
                  <a:lnTo>
                    <a:pt x="213" y="1456"/>
                  </a:lnTo>
                  <a:lnTo>
                    <a:pt x="187" y="1463"/>
                  </a:lnTo>
                  <a:lnTo>
                    <a:pt x="135" y="1451"/>
                  </a:lnTo>
                  <a:lnTo>
                    <a:pt x="108" y="1399"/>
                  </a:lnTo>
                  <a:lnTo>
                    <a:pt x="86" y="1205"/>
                  </a:lnTo>
                  <a:lnTo>
                    <a:pt x="63" y="1036"/>
                  </a:lnTo>
                  <a:lnTo>
                    <a:pt x="40" y="866"/>
                  </a:lnTo>
                  <a:lnTo>
                    <a:pt x="18" y="673"/>
                  </a:lnTo>
                  <a:lnTo>
                    <a:pt x="19" y="599"/>
                  </a:lnTo>
                  <a:lnTo>
                    <a:pt x="28" y="533"/>
                  </a:lnTo>
                  <a:lnTo>
                    <a:pt x="41" y="395"/>
                  </a:lnTo>
                  <a:lnTo>
                    <a:pt x="27" y="221"/>
                  </a:lnTo>
                  <a:lnTo>
                    <a:pt x="17" y="140"/>
                  </a:lnTo>
                  <a:lnTo>
                    <a:pt x="0" y="46"/>
                  </a:lnTo>
                  <a:lnTo>
                    <a:pt x="7" y="14"/>
                  </a:lnTo>
                  <a:lnTo>
                    <a:pt x="19" y="5"/>
                  </a:lnTo>
                  <a:lnTo>
                    <a:pt x="33" y="0"/>
                  </a:lnTo>
                  <a:lnTo>
                    <a:pt x="63" y="5"/>
                  </a:lnTo>
                  <a:lnTo>
                    <a:pt x="80" y="33"/>
                  </a:lnTo>
                  <a:lnTo>
                    <a:pt x="80" y="3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1744200" y="2356560"/>
              <a:ext cx="383040" cy="46800"/>
            </a:xfrm>
            <a:custGeom>
              <a:avLst/>
              <a:gdLst/>
              <a:ahLst/>
              <a:rect l="l" t="t" r="r" b="b"/>
              <a:pathLst>
                <a:path w="1209" h="167">
                  <a:moveTo>
                    <a:pt x="73" y="0"/>
                  </a:moveTo>
                  <a:lnTo>
                    <a:pt x="265" y="9"/>
                  </a:lnTo>
                  <a:lnTo>
                    <a:pt x="417" y="26"/>
                  </a:lnTo>
                  <a:lnTo>
                    <a:pt x="570" y="38"/>
                  </a:lnTo>
                  <a:lnTo>
                    <a:pt x="761" y="28"/>
                  </a:lnTo>
                  <a:lnTo>
                    <a:pt x="933" y="26"/>
                  </a:lnTo>
                  <a:lnTo>
                    <a:pt x="1104" y="22"/>
                  </a:lnTo>
                  <a:lnTo>
                    <a:pt x="1156" y="18"/>
                  </a:lnTo>
                  <a:lnTo>
                    <a:pt x="1191" y="25"/>
                  </a:lnTo>
                  <a:lnTo>
                    <a:pt x="1209" y="53"/>
                  </a:lnTo>
                  <a:lnTo>
                    <a:pt x="1204" y="86"/>
                  </a:lnTo>
                  <a:lnTo>
                    <a:pt x="1192" y="99"/>
                  </a:lnTo>
                  <a:lnTo>
                    <a:pt x="1174" y="107"/>
                  </a:lnTo>
                  <a:lnTo>
                    <a:pt x="1121" y="123"/>
                  </a:lnTo>
                  <a:lnTo>
                    <a:pt x="844" y="154"/>
                  </a:lnTo>
                  <a:lnTo>
                    <a:pt x="638" y="167"/>
                  </a:lnTo>
                  <a:lnTo>
                    <a:pt x="458" y="162"/>
                  </a:lnTo>
                  <a:lnTo>
                    <a:pt x="277" y="150"/>
                  </a:lnTo>
                  <a:lnTo>
                    <a:pt x="73" y="144"/>
                  </a:lnTo>
                  <a:lnTo>
                    <a:pt x="41" y="139"/>
                  </a:lnTo>
                  <a:lnTo>
                    <a:pt x="19" y="122"/>
                  </a:lnTo>
                  <a:lnTo>
                    <a:pt x="0" y="73"/>
                  </a:lnTo>
                  <a:lnTo>
                    <a:pt x="5" y="46"/>
                  </a:lnTo>
                  <a:lnTo>
                    <a:pt x="19" y="24"/>
                  </a:lnTo>
                  <a:lnTo>
                    <a:pt x="41" y="7"/>
                  </a:lnTo>
                  <a:lnTo>
                    <a:pt x="73" y="0"/>
                  </a:lnTo>
                  <a:lnTo>
                    <a:pt x="73" y="0"/>
                  </a:lnTo>
                  <a:close/>
                </a:path>
              </a:pathLst>
            </a:custGeom>
            <a:solidFill>
              <a:srgbClr val="a38c8c"/>
            </a:solidFill>
            <a:ln w="0">
              <a:no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513" name=""/>
            <p:cNvSpPr/>
            <p:nvPr/>
          </p:nvSpPr>
          <p:spPr>
            <a:xfrm>
              <a:off x="1680840" y="2423160"/>
              <a:ext cx="594000" cy="132480"/>
            </a:xfrm>
            <a:custGeom>
              <a:avLst/>
              <a:gdLst/>
              <a:ahLst/>
              <a:rect l="l" t="t" r="r" b="b"/>
              <a:pathLst>
                <a:path w="1873" h="471">
                  <a:moveTo>
                    <a:pt x="18" y="24"/>
                  </a:moveTo>
                  <a:lnTo>
                    <a:pt x="161" y="8"/>
                  </a:lnTo>
                  <a:lnTo>
                    <a:pt x="305" y="0"/>
                  </a:lnTo>
                  <a:lnTo>
                    <a:pt x="744" y="14"/>
                  </a:lnTo>
                  <a:lnTo>
                    <a:pt x="948" y="24"/>
                  </a:lnTo>
                  <a:lnTo>
                    <a:pt x="1182" y="28"/>
                  </a:lnTo>
                  <a:lnTo>
                    <a:pt x="1425" y="27"/>
                  </a:lnTo>
                  <a:lnTo>
                    <a:pt x="1669" y="42"/>
                  </a:lnTo>
                  <a:lnTo>
                    <a:pt x="1726" y="61"/>
                  </a:lnTo>
                  <a:lnTo>
                    <a:pt x="1767" y="100"/>
                  </a:lnTo>
                  <a:lnTo>
                    <a:pt x="1797" y="153"/>
                  </a:lnTo>
                  <a:lnTo>
                    <a:pt x="1823" y="213"/>
                  </a:lnTo>
                  <a:lnTo>
                    <a:pt x="1860" y="322"/>
                  </a:lnTo>
                  <a:lnTo>
                    <a:pt x="1873" y="436"/>
                  </a:lnTo>
                  <a:lnTo>
                    <a:pt x="1862" y="462"/>
                  </a:lnTo>
                  <a:lnTo>
                    <a:pt x="1837" y="471"/>
                  </a:lnTo>
                  <a:lnTo>
                    <a:pt x="1814" y="462"/>
                  </a:lnTo>
                  <a:lnTo>
                    <a:pt x="1802" y="436"/>
                  </a:lnTo>
                  <a:lnTo>
                    <a:pt x="1793" y="334"/>
                  </a:lnTo>
                  <a:lnTo>
                    <a:pt x="1780" y="288"/>
                  </a:lnTo>
                  <a:lnTo>
                    <a:pt x="1761" y="237"/>
                  </a:lnTo>
                  <a:lnTo>
                    <a:pt x="1729" y="141"/>
                  </a:lnTo>
                  <a:lnTo>
                    <a:pt x="1719" y="122"/>
                  </a:lnTo>
                  <a:lnTo>
                    <a:pt x="1705" y="106"/>
                  </a:lnTo>
                  <a:lnTo>
                    <a:pt x="1687" y="94"/>
                  </a:lnTo>
                  <a:lnTo>
                    <a:pt x="1663" y="88"/>
                  </a:lnTo>
                  <a:lnTo>
                    <a:pt x="1423" y="71"/>
                  </a:lnTo>
                  <a:lnTo>
                    <a:pt x="1182" y="68"/>
                  </a:lnTo>
                  <a:lnTo>
                    <a:pt x="744" y="54"/>
                  </a:lnTo>
                  <a:lnTo>
                    <a:pt x="538" y="45"/>
                  </a:lnTo>
                  <a:lnTo>
                    <a:pt x="305" y="40"/>
                  </a:lnTo>
                  <a:lnTo>
                    <a:pt x="22" y="62"/>
                  </a:lnTo>
                  <a:lnTo>
                    <a:pt x="0" y="45"/>
                  </a:lnTo>
                  <a:lnTo>
                    <a:pt x="4" y="31"/>
                  </a:lnTo>
                  <a:lnTo>
                    <a:pt x="18" y="24"/>
                  </a:lnTo>
                  <a:lnTo>
                    <a:pt x="18"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1656000" y="2545200"/>
              <a:ext cx="597240" cy="32760"/>
            </a:xfrm>
            <a:custGeom>
              <a:avLst/>
              <a:gdLst/>
              <a:ahLst/>
              <a:rect l="l" t="t" r="r" b="b"/>
              <a:pathLst>
                <a:path w="1883" h="116">
                  <a:moveTo>
                    <a:pt x="20" y="6"/>
                  </a:moveTo>
                  <a:lnTo>
                    <a:pt x="155" y="0"/>
                  </a:lnTo>
                  <a:lnTo>
                    <a:pt x="291" y="9"/>
                  </a:lnTo>
                  <a:lnTo>
                    <a:pt x="492" y="16"/>
                  </a:lnTo>
                  <a:lnTo>
                    <a:pt x="692" y="33"/>
                  </a:lnTo>
                  <a:lnTo>
                    <a:pt x="914" y="46"/>
                  </a:lnTo>
                  <a:lnTo>
                    <a:pt x="1109" y="48"/>
                  </a:lnTo>
                  <a:lnTo>
                    <a:pt x="1528" y="42"/>
                  </a:lnTo>
                  <a:lnTo>
                    <a:pt x="1636" y="35"/>
                  </a:lnTo>
                  <a:lnTo>
                    <a:pt x="1743" y="19"/>
                  </a:lnTo>
                  <a:lnTo>
                    <a:pt x="1840" y="4"/>
                  </a:lnTo>
                  <a:lnTo>
                    <a:pt x="1868" y="9"/>
                  </a:lnTo>
                  <a:lnTo>
                    <a:pt x="1883" y="33"/>
                  </a:lnTo>
                  <a:lnTo>
                    <a:pt x="1878" y="60"/>
                  </a:lnTo>
                  <a:lnTo>
                    <a:pt x="1867" y="69"/>
                  </a:lnTo>
                  <a:lnTo>
                    <a:pt x="1852" y="75"/>
                  </a:lnTo>
                  <a:lnTo>
                    <a:pt x="1756" y="94"/>
                  </a:lnTo>
                  <a:lnTo>
                    <a:pt x="1642" y="110"/>
                  </a:lnTo>
                  <a:lnTo>
                    <a:pt x="1528" y="116"/>
                  </a:lnTo>
                  <a:lnTo>
                    <a:pt x="1106" y="115"/>
                  </a:lnTo>
                  <a:lnTo>
                    <a:pt x="687" y="92"/>
                  </a:lnTo>
                  <a:lnTo>
                    <a:pt x="473" y="76"/>
                  </a:lnTo>
                  <a:lnTo>
                    <a:pt x="258" y="69"/>
                  </a:lnTo>
                  <a:lnTo>
                    <a:pt x="142" y="53"/>
                  </a:lnTo>
                  <a:lnTo>
                    <a:pt x="26" y="52"/>
                  </a:lnTo>
                  <a:lnTo>
                    <a:pt x="8" y="47"/>
                  </a:lnTo>
                  <a:lnTo>
                    <a:pt x="0" y="32"/>
                  </a:lnTo>
                  <a:lnTo>
                    <a:pt x="3" y="15"/>
                  </a:lnTo>
                  <a:lnTo>
                    <a:pt x="20" y="6"/>
                  </a:lnTo>
                  <a:lnTo>
                    <a:pt x="20"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515" name=""/>
            <p:cNvSpPr/>
            <p:nvPr/>
          </p:nvSpPr>
          <p:spPr>
            <a:xfrm>
              <a:off x="1657440" y="2502360"/>
              <a:ext cx="509760" cy="45000"/>
            </a:xfrm>
            <a:custGeom>
              <a:avLst/>
              <a:gdLst/>
              <a:ahLst/>
              <a:rect l="l" t="t" r="r" b="b"/>
              <a:pathLst>
                <a:path w="1607" h="159">
                  <a:moveTo>
                    <a:pt x="16" y="34"/>
                  </a:moveTo>
                  <a:lnTo>
                    <a:pt x="87" y="17"/>
                  </a:lnTo>
                  <a:lnTo>
                    <a:pt x="153" y="7"/>
                  </a:lnTo>
                  <a:lnTo>
                    <a:pt x="278" y="0"/>
                  </a:lnTo>
                  <a:lnTo>
                    <a:pt x="544" y="29"/>
                  </a:lnTo>
                  <a:lnTo>
                    <a:pt x="732" y="48"/>
                  </a:lnTo>
                  <a:lnTo>
                    <a:pt x="919" y="63"/>
                  </a:lnTo>
                  <a:lnTo>
                    <a:pt x="1096" y="85"/>
                  </a:lnTo>
                  <a:lnTo>
                    <a:pt x="1252" y="96"/>
                  </a:lnTo>
                  <a:lnTo>
                    <a:pt x="1587" y="101"/>
                  </a:lnTo>
                  <a:lnTo>
                    <a:pt x="1607" y="121"/>
                  </a:lnTo>
                  <a:lnTo>
                    <a:pt x="1602" y="134"/>
                  </a:lnTo>
                  <a:lnTo>
                    <a:pt x="1587" y="141"/>
                  </a:lnTo>
                  <a:lnTo>
                    <a:pt x="1249" y="156"/>
                  </a:lnTo>
                  <a:lnTo>
                    <a:pt x="1090" y="159"/>
                  </a:lnTo>
                  <a:lnTo>
                    <a:pt x="911" y="143"/>
                  </a:lnTo>
                  <a:lnTo>
                    <a:pt x="534" y="109"/>
                  </a:lnTo>
                  <a:lnTo>
                    <a:pt x="397" y="82"/>
                  </a:lnTo>
                  <a:lnTo>
                    <a:pt x="336" y="69"/>
                  </a:lnTo>
                  <a:lnTo>
                    <a:pt x="276" y="60"/>
                  </a:lnTo>
                  <a:lnTo>
                    <a:pt x="158" y="53"/>
                  </a:lnTo>
                  <a:lnTo>
                    <a:pt x="25" y="71"/>
                  </a:lnTo>
                  <a:lnTo>
                    <a:pt x="9" y="69"/>
                  </a:lnTo>
                  <a:lnTo>
                    <a:pt x="0" y="57"/>
                  </a:lnTo>
                  <a:lnTo>
                    <a:pt x="3" y="43"/>
                  </a:lnTo>
                  <a:lnTo>
                    <a:pt x="16" y="34"/>
                  </a:lnTo>
                  <a:lnTo>
                    <a:pt x="16" y="34"/>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516" name=""/>
            <p:cNvSpPr/>
            <p:nvPr/>
          </p:nvSpPr>
          <p:spPr>
            <a:xfrm>
              <a:off x="1709280" y="2479680"/>
              <a:ext cx="392400" cy="28080"/>
            </a:xfrm>
            <a:custGeom>
              <a:avLst/>
              <a:gdLst/>
              <a:ahLst/>
              <a:rect l="l" t="t" r="r" b="b"/>
              <a:pathLst>
                <a:path w="1237" h="100">
                  <a:moveTo>
                    <a:pt x="20" y="0"/>
                  </a:moveTo>
                  <a:lnTo>
                    <a:pt x="271" y="1"/>
                  </a:lnTo>
                  <a:lnTo>
                    <a:pt x="561" y="19"/>
                  </a:lnTo>
                  <a:lnTo>
                    <a:pt x="697" y="30"/>
                  </a:lnTo>
                  <a:lnTo>
                    <a:pt x="853" y="35"/>
                  </a:lnTo>
                  <a:lnTo>
                    <a:pt x="1218" y="39"/>
                  </a:lnTo>
                  <a:lnTo>
                    <a:pt x="1237" y="60"/>
                  </a:lnTo>
                  <a:lnTo>
                    <a:pt x="1231" y="73"/>
                  </a:lnTo>
                  <a:lnTo>
                    <a:pt x="1215" y="79"/>
                  </a:lnTo>
                  <a:lnTo>
                    <a:pt x="1028" y="86"/>
                  </a:lnTo>
                  <a:lnTo>
                    <a:pt x="938" y="95"/>
                  </a:lnTo>
                  <a:lnTo>
                    <a:pt x="841" y="100"/>
                  </a:lnTo>
                  <a:lnTo>
                    <a:pt x="687" y="91"/>
                  </a:lnTo>
                  <a:lnTo>
                    <a:pt x="555" y="74"/>
                  </a:lnTo>
                  <a:lnTo>
                    <a:pt x="423" y="56"/>
                  </a:lnTo>
                  <a:lnTo>
                    <a:pt x="270" y="47"/>
                  </a:lnTo>
                  <a:lnTo>
                    <a:pt x="20" y="39"/>
                  </a:lnTo>
                  <a:lnTo>
                    <a:pt x="0" y="20"/>
                  </a:lnTo>
                  <a:lnTo>
                    <a:pt x="6" y="6"/>
                  </a:lnTo>
                  <a:lnTo>
                    <a:pt x="20" y="0"/>
                  </a:lnTo>
                  <a:lnTo>
                    <a:pt x="20"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517" name=""/>
            <p:cNvSpPr/>
            <p:nvPr/>
          </p:nvSpPr>
          <p:spPr>
            <a:xfrm>
              <a:off x="1713240" y="2442960"/>
              <a:ext cx="356040" cy="33480"/>
            </a:xfrm>
            <a:custGeom>
              <a:avLst/>
              <a:gdLst/>
              <a:ahLst/>
              <a:rect l="l" t="t" r="r" b="b"/>
              <a:pathLst>
                <a:path w="1122" h="120">
                  <a:moveTo>
                    <a:pt x="16" y="17"/>
                  </a:moveTo>
                  <a:lnTo>
                    <a:pt x="129" y="3"/>
                  </a:lnTo>
                  <a:lnTo>
                    <a:pt x="227" y="0"/>
                  </a:lnTo>
                  <a:lnTo>
                    <a:pt x="439" y="21"/>
                  </a:lnTo>
                  <a:lnTo>
                    <a:pt x="592" y="45"/>
                  </a:lnTo>
                  <a:lnTo>
                    <a:pt x="663" y="58"/>
                  </a:lnTo>
                  <a:lnTo>
                    <a:pt x="744" y="67"/>
                  </a:lnTo>
                  <a:lnTo>
                    <a:pt x="1101" y="57"/>
                  </a:lnTo>
                  <a:lnTo>
                    <a:pt x="1122" y="76"/>
                  </a:lnTo>
                  <a:lnTo>
                    <a:pt x="1118" y="90"/>
                  </a:lnTo>
                  <a:lnTo>
                    <a:pt x="1104" y="97"/>
                  </a:lnTo>
                  <a:lnTo>
                    <a:pt x="923" y="110"/>
                  </a:lnTo>
                  <a:lnTo>
                    <a:pt x="742" y="120"/>
                  </a:lnTo>
                  <a:lnTo>
                    <a:pt x="587" y="98"/>
                  </a:lnTo>
                  <a:lnTo>
                    <a:pt x="515" y="85"/>
                  </a:lnTo>
                  <a:lnTo>
                    <a:pt x="433" y="73"/>
                  </a:lnTo>
                  <a:lnTo>
                    <a:pt x="324" y="58"/>
                  </a:lnTo>
                  <a:lnTo>
                    <a:pt x="227" y="46"/>
                  </a:lnTo>
                  <a:lnTo>
                    <a:pt x="23" y="56"/>
                  </a:lnTo>
                  <a:lnTo>
                    <a:pt x="7" y="53"/>
                  </a:lnTo>
                  <a:lnTo>
                    <a:pt x="0" y="40"/>
                  </a:lnTo>
                  <a:lnTo>
                    <a:pt x="3" y="26"/>
                  </a:lnTo>
                  <a:lnTo>
                    <a:pt x="16" y="17"/>
                  </a:lnTo>
                  <a:lnTo>
                    <a:pt x="16" y="1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18" name=""/>
            <p:cNvSpPr/>
            <p:nvPr/>
          </p:nvSpPr>
          <p:spPr>
            <a:xfrm>
              <a:off x="2108160" y="2459880"/>
              <a:ext cx="50400" cy="51120"/>
            </a:xfrm>
            <a:custGeom>
              <a:avLst/>
              <a:gdLst/>
              <a:ahLst/>
              <a:rect l="l" t="t" r="r" b="b"/>
              <a:pathLst>
                <a:path w="159" h="181">
                  <a:moveTo>
                    <a:pt x="49" y="7"/>
                  </a:moveTo>
                  <a:lnTo>
                    <a:pt x="121" y="93"/>
                  </a:lnTo>
                  <a:lnTo>
                    <a:pt x="156" y="146"/>
                  </a:lnTo>
                  <a:lnTo>
                    <a:pt x="159" y="173"/>
                  </a:lnTo>
                  <a:lnTo>
                    <a:pt x="146" y="181"/>
                  </a:lnTo>
                  <a:lnTo>
                    <a:pt x="131" y="177"/>
                  </a:lnTo>
                  <a:lnTo>
                    <a:pt x="63" y="138"/>
                  </a:lnTo>
                  <a:lnTo>
                    <a:pt x="41" y="93"/>
                  </a:lnTo>
                  <a:lnTo>
                    <a:pt x="28" y="72"/>
                  </a:lnTo>
                  <a:lnTo>
                    <a:pt x="10" y="53"/>
                  </a:lnTo>
                  <a:lnTo>
                    <a:pt x="0" y="32"/>
                  </a:lnTo>
                  <a:lnTo>
                    <a:pt x="7" y="12"/>
                  </a:lnTo>
                  <a:lnTo>
                    <a:pt x="25" y="0"/>
                  </a:lnTo>
                  <a:lnTo>
                    <a:pt x="49" y="7"/>
                  </a:lnTo>
                  <a:lnTo>
                    <a:pt x="49" y="7"/>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519" name=""/>
            <p:cNvSpPr/>
            <p:nvPr/>
          </p:nvSpPr>
          <p:spPr>
            <a:xfrm>
              <a:off x="2161440" y="2461680"/>
              <a:ext cx="56880" cy="59040"/>
            </a:xfrm>
            <a:custGeom>
              <a:avLst/>
              <a:gdLst/>
              <a:ahLst/>
              <a:rect l="l" t="t" r="r" b="b"/>
              <a:pathLst>
                <a:path w="180" h="210">
                  <a:moveTo>
                    <a:pt x="56" y="16"/>
                  </a:moveTo>
                  <a:lnTo>
                    <a:pt x="72" y="43"/>
                  </a:lnTo>
                  <a:lnTo>
                    <a:pt x="91" y="63"/>
                  </a:lnTo>
                  <a:lnTo>
                    <a:pt x="131" y="107"/>
                  </a:lnTo>
                  <a:lnTo>
                    <a:pt x="173" y="176"/>
                  </a:lnTo>
                  <a:lnTo>
                    <a:pt x="180" y="191"/>
                  </a:lnTo>
                  <a:lnTo>
                    <a:pt x="173" y="203"/>
                  </a:lnTo>
                  <a:lnTo>
                    <a:pt x="160" y="210"/>
                  </a:lnTo>
                  <a:lnTo>
                    <a:pt x="146" y="203"/>
                  </a:lnTo>
                  <a:lnTo>
                    <a:pt x="74" y="158"/>
                  </a:lnTo>
                  <a:lnTo>
                    <a:pt x="3" y="45"/>
                  </a:lnTo>
                  <a:lnTo>
                    <a:pt x="0" y="21"/>
                  </a:lnTo>
                  <a:lnTo>
                    <a:pt x="14" y="4"/>
                  </a:lnTo>
                  <a:lnTo>
                    <a:pt x="36" y="0"/>
                  </a:lnTo>
                  <a:lnTo>
                    <a:pt x="56" y="16"/>
                  </a:lnTo>
                  <a:lnTo>
                    <a:pt x="56" y="16"/>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520" name=""/>
            <p:cNvSpPr/>
            <p:nvPr/>
          </p:nvSpPr>
          <p:spPr>
            <a:xfrm>
              <a:off x="2234520" y="2452680"/>
              <a:ext cx="60840" cy="19440"/>
            </a:xfrm>
            <a:custGeom>
              <a:avLst/>
              <a:gdLst/>
              <a:ahLst/>
              <a:rect l="l" t="t" r="r" b="b"/>
              <a:pathLst>
                <a:path w="191" h="71">
                  <a:moveTo>
                    <a:pt x="24" y="0"/>
                  </a:moveTo>
                  <a:lnTo>
                    <a:pt x="84" y="0"/>
                  </a:lnTo>
                  <a:lnTo>
                    <a:pt x="178" y="33"/>
                  </a:lnTo>
                  <a:lnTo>
                    <a:pt x="191" y="58"/>
                  </a:lnTo>
                  <a:lnTo>
                    <a:pt x="182" y="70"/>
                  </a:lnTo>
                  <a:lnTo>
                    <a:pt x="166" y="71"/>
                  </a:lnTo>
                  <a:lnTo>
                    <a:pt x="77" y="49"/>
                  </a:lnTo>
                  <a:lnTo>
                    <a:pt x="24" y="50"/>
                  </a:lnTo>
                  <a:lnTo>
                    <a:pt x="6" y="42"/>
                  </a:lnTo>
                  <a:lnTo>
                    <a:pt x="0" y="25"/>
                  </a:lnTo>
                  <a:lnTo>
                    <a:pt x="6" y="7"/>
                  </a:lnTo>
                  <a:lnTo>
                    <a:pt x="24" y="0"/>
                  </a:lnTo>
                  <a:lnTo>
                    <a:pt x="24"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521" name=""/>
            <p:cNvSpPr/>
            <p:nvPr/>
          </p:nvSpPr>
          <p:spPr>
            <a:xfrm>
              <a:off x="2133360" y="2388240"/>
              <a:ext cx="17640" cy="54000"/>
            </a:xfrm>
            <a:custGeom>
              <a:avLst/>
              <a:gdLst/>
              <a:ahLst/>
              <a:rect l="l" t="t" r="r" b="b"/>
              <a:pathLst>
                <a:path w="58" h="192">
                  <a:moveTo>
                    <a:pt x="58" y="21"/>
                  </a:moveTo>
                  <a:lnTo>
                    <a:pt x="57" y="69"/>
                  </a:lnTo>
                  <a:lnTo>
                    <a:pt x="58" y="117"/>
                  </a:lnTo>
                  <a:lnTo>
                    <a:pt x="57" y="178"/>
                  </a:lnTo>
                  <a:lnTo>
                    <a:pt x="52" y="191"/>
                  </a:lnTo>
                  <a:lnTo>
                    <a:pt x="39" y="192"/>
                  </a:lnTo>
                  <a:lnTo>
                    <a:pt x="18" y="166"/>
                  </a:lnTo>
                  <a:lnTo>
                    <a:pt x="5" y="122"/>
                  </a:lnTo>
                  <a:lnTo>
                    <a:pt x="0" y="29"/>
                  </a:lnTo>
                  <a:lnTo>
                    <a:pt x="11" y="9"/>
                  </a:lnTo>
                  <a:lnTo>
                    <a:pt x="31" y="0"/>
                  </a:lnTo>
                  <a:lnTo>
                    <a:pt x="51" y="3"/>
                  </a:lnTo>
                  <a:lnTo>
                    <a:pt x="58" y="21"/>
                  </a:lnTo>
                  <a:lnTo>
                    <a:pt x="58"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22" name=""/>
            <p:cNvSpPr/>
            <p:nvPr/>
          </p:nvSpPr>
          <p:spPr>
            <a:xfrm>
              <a:off x="1694160" y="1905120"/>
              <a:ext cx="532440" cy="51120"/>
            </a:xfrm>
            <a:custGeom>
              <a:avLst/>
              <a:gdLst/>
              <a:ahLst/>
              <a:rect l="l" t="t" r="r" b="b"/>
              <a:pathLst>
                <a:path w="1677" h="184">
                  <a:moveTo>
                    <a:pt x="12" y="147"/>
                  </a:moveTo>
                  <a:lnTo>
                    <a:pt x="70" y="123"/>
                  </a:lnTo>
                  <a:lnTo>
                    <a:pt x="126" y="101"/>
                  </a:lnTo>
                  <a:lnTo>
                    <a:pt x="178" y="84"/>
                  </a:lnTo>
                  <a:lnTo>
                    <a:pt x="229" y="70"/>
                  </a:lnTo>
                  <a:lnTo>
                    <a:pt x="336" y="50"/>
                  </a:lnTo>
                  <a:lnTo>
                    <a:pt x="458" y="37"/>
                  </a:lnTo>
                  <a:lnTo>
                    <a:pt x="635" y="22"/>
                  </a:lnTo>
                  <a:lnTo>
                    <a:pt x="790" y="8"/>
                  </a:lnTo>
                  <a:lnTo>
                    <a:pt x="945" y="0"/>
                  </a:lnTo>
                  <a:lnTo>
                    <a:pt x="1121" y="5"/>
                  </a:lnTo>
                  <a:lnTo>
                    <a:pt x="1253" y="0"/>
                  </a:lnTo>
                  <a:lnTo>
                    <a:pt x="1314" y="6"/>
                  </a:lnTo>
                  <a:lnTo>
                    <a:pt x="1439" y="31"/>
                  </a:lnTo>
                  <a:lnTo>
                    <a:pt x="1484" y="39"/>
                  </a:lnTo>
                  <a:lnTo>
                    <a:pt x="1583" y="64"/>
                  </a:lnTo>
                  <a:lnTo>
                    <a:pt x="1651" y="85"/>
                  </a:lnTo>
                  <a:lnTo>
                    <a:pt x="1673" y="101"/>
                  </a:lnTo>
                  <a:lnTo>
                    <a:pt x="1677" y="127"/>
                  </a:lnTo>
                  <a:lnTo>
                    <a:pt x="1663" y="148"/>
                  </a:lnTo>
                  <a:lnTo>
                    <a:pt x="1635" y="153"/>
                  </a:lnTo>
                  <a:lnTo>
                    <a:pt x="1564" y="136"/>
                  </a:lnTo>
                  <a:lnTo>
                    <a:pt x="1468" y="111"/>
                  </a:lnTo>
                  <a:lnTo>
                    <a:pt x="1422" y="99"/>
                  </a:lnTo>
                  <a:lnTo>
                    <a:pt x="1306" y="76"/>
                  </a:lnTo>
                  <a:lnTo>
                    <a:pt x="1252" y="73"/>
                  </a:lnTo>
                  <a:lnTo>
                    <a:pt x="1121" y="78"/>
                  </a:lnTo>
                  <a:lnTo>
                    <a:pt x="793" y="78"/>
                  </a:lnTo>
                  <a:lnTo>
                    <a:pt x="464" y="104"/>
                  </a:lnTo>
                  <a:lnTo>
                    <a:pt x="241" y="123"/>
                  </a:lnTo>
                  <a:lnTo>
                    <a:pt x="138" y="143"/>
                  </a:lnTo>
                  <a:lnTo>
                    <a:pt x="84" y="160"/>
                  </a:lnTo>
                  <a:lnTo>
                    <a:pt x="27" y="184"/>
                  </a:lnTo>
                  <a:lnTo>
                    <a:pt x="12" y="184"/>
                  </a:lnTo>
                  <a:lnTo>
                    <a:pt x="1" y="173"/>
                  </a:lnTo>
                  <a:lnTo>
                    <a:pt x="0" y="159"/>
                  </a:lnTo>
                  <a:lnTo>
                    <a:pt x="12" y="147"/>
                  </a:lnTo>
                  <a:lnTo>
                    <a:pt x="12" y="147"/>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523" name=""/>
            <p:cNvSpPr/>
            <p:nvPr/>
          </p:nvSpPr>
          <p:spPr>
            <a:xfrm>
              <a:off x="1685880" y="1960200"/>
              <a:ext cx="55800" cy="431640"/>
            </a:xfrm>
            <a:custGeom>
              <a:avLst/>
              <a:gdLst/>
              <a:ahLst/>
              <a:rect l="l" t="t" r="r" b="b"/>
              <a:pathLst>
                <a:path w="176" h="1530">
                  <a:moveTo>
                    <a:pt x="40" y="19"/>
                  </a:moveTo>
                  <a:lnTo>
                    <a:pt x="54" y="346"/>
                  </a:lnTo>
                  <a:lnTo>
                    <a:pt x="57" y="499"/>
                  </a:lnTo>
                  <a:lnTo>
                    <a:pt x="73" y="673"/>
                  </a:lnTo>
                  <a:lnTo>
                    <a:pt x="80" y="799"/>
                  </a:lnTo>
                  <a:lnTo>
                    <a:pt x="91" y="911"/>
                  </a:lnTo>
                  <a:lnTo>
                    <a:pt x="107" y="1021"/>
                  </a:lnTo>
                  <a:lnTo>
                    <a:pt x="124" y="1148"/>
                  </a:lnTo>
                  <a:lnTo>
                    <a:pt x="136" y="1270"/>
                  </a:lnTo>
                  <a:lnTo>
                    <a:pt x="144" y="1327"/>
                  </a:lnTo>
                  <a:lnTo>
                    <a:pt x="162" y="1389"/>
                  </a:lnTo>
                  <a:lnTo>
                    <a:pt x="176" y="1493"/>
                  </a:lnTo>
                  <a:lnTo>
                    <a:pt x="170" y="1519"/>
                  </a:lnTo>
                  <a:lnTo>
                    <a:pt x="150" y="1530"/>
                  </a:lnTo>
                  <a:lnTo>
                    <a:pt x="128" y="1526"/>
                  </a:lnTo>
                  <a:lnTo>
                    <a:pt x="114" y="1504"/>
                  </a:lnTo>
                  <a:lnTo>
                    <a:pt x="99" y="1404"/>
                  </a:lnTo>
                  <a:lnTo>
                    <a:pt x="73" y="1282"/>
                  </a:lnTo>
                  <a:lnTo>
                    <a:pt x="62" y="1156"/>
                  </a:lnTo>
                  <a:lnTo>
                    <a:pt x="35" y="917"/>
                  </a:lnTo>
                  <a:lnTo>
                    <a:pt x="23" y="676"/>
                  </a:lnTo>
                  <a:lnTo>
                    <a:pt x="9" y="350"/>
                  </a:lnTo>
                  <a:lnTo>
                    <a:pt x="0" y="22"/>
                  </a:lnTo>
                  <a:lnTo>
                    <a:pt x="5" y="7"/>
                  </a:lnTo>
                  <a:lnTo>
                    <a:pt x="17" y="0"/>
                  </a:lnTo>
                  <a:lnTo>
                    <a:pt x="40" y="19"/>
                  </a:lnTo>
                  <a:lnTo>
                    <a:pt x="4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1727280" y="2378520"/>
              <a:ext cx="409320" cy="24480"/>
            </a:xfrm>
            <a:custGeom>
              <a:avLst/>
              <a:gdLst/>
              <a:ahLst/>
              <a:rect l="l" t="t" r="r" b="b"/>
              <a:pathLst>
                <a:path w="1290" h="87">
                  <a:moveTo>
                    <a:pt x="38" y="2"/>
                  </a:moveTo>
                  <a:lnTo>
                    <a:pt x="189" y="15"/>
                  </a:lnTo>
                  <a:lnTo>
                    <a:pt x="362" y="27"/>
                  </a:lnTo>
                  <a:lnTo>
                    <a:pt x="483" y="33"/>
                  </a:lnTo>
                  <a:lnTo>
                    <a:pt x="590" y="28"/>
                  </a:lnTo>
                  <a:lnTo>
                    <a:pt x="698" y="16"/>
                  </a:lnTo>
                  <a:lnTo>
                    <a:pt x="820" y="8"/>
                  </a:lnTo>
                  <a:lnTo>
                    <a:pt x="968" y="9"/>
                  </a:lnTo>
                  <a:lnTo>
                    <a:pt x="1267" y="0"/>
                  </a:lnTo>
                  <a:lnTo>
                    <a:pt x="1290" y="16"/>
                  </a:lnTo>
                  <a:lnTo>
                    <a:pt x="1286" y="30"/>
                  </a:lnTo>
                  <a:lnTo>
                    <a:pt x="1272" y="38"/>
                  </a:lnTo>
                  <a:lnTo>
                    <a:pt x="1121" y="58"/>
                  </a:lnTo>
                  <a:lnTo>
                    <a:pt x="969" y="73"/>
                  </a:lnTo>
                  <a:lnTo>
                    <a:pt x="821" y="71"/>
                  </a:lnTo>
                  <a:lnTo>
                    <a:pt x="576" y="87"/>
                  </a:lnTo>
                  <a:lnTo>
                    <a:pt x="331" y="82"/>
                  </a:lnTo>
                  <a:lnTo>
                    <a:pt x="162" y="73"/>
                  </a:lnTo>
                  <a:lnTo>
                    <a:pt x="11" y="48"/>
                  </a:lnTo>
                  <a:lnTo>
                    <a:pt x="0" y="36"/>
                  </a:lnTo>
                  <a:lnTo>
                    <a:pt x="5" y="22"/>
                  </a:lnTo>
                  <a:lnTo>
                    <a:pt x="19" y="9"/>
                  </a:lnTo>
                  <a:lnTo>
                    <a:pt x="38" y="2"/>
                  </a:lnTo>
                  <a:lnTo>
                    <a:pt x="38" y="2"/>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525" name=""/>
            <p:cNvSpPr/>
            <p:nvPr/>
          </p:nvSpPr>
          <p:spPr>
            <a:xfrm>
              <a:off x="1758240" y="1978920"/>
              <a:ext cx="400320" cy="287640"/>
            </a:xfrm>
            <a:custGeom>
              <a:avLst/>
              <a:gdLst/>
              <a:ahLst/>
              <a:rect l="l" t="t" r="r" b="b"/>
              <a:pathLst>
                <a:path w="1262" h="1020">
                  <a:moveTo>
                    <a:pt x="0" y="183"/>
                  </a:moveTo>
                  <a:lnTo>
                    <a:pt x="14" y="158"/>
                  </a:lnTo>
                  <a:lnTo>
                    <a:pt x="29" y="137"/>
                  </a:lnTo>
                  <a:lnTo>
                    <a:pt x="64" y="101"/>
                  </a:lnTo>
                  <a:lnTo>
                    <a:pt x="83" y="85"/>
                  </a:lnTo>
                  <a:lnTo>
                    <a:pt x="104" y="71"/>
                  </a:lnTo>
                  <a:lnTo>
                    <a:pt x="127" y="58"/>
                  </a:lnTo>
                  <a:lnTo>
                    <a:pt x="152" y="45"/>
                  </a:lnTo>
                  <a:lnTo>
                    <a:pt x="258" y="28"/>
                  </a:lnTo>
                  <a:lnTo>
                    <a:pt x="428" y="9"/>
                  </a:lnTo>
                  <a:lnTo>
                    <a:pt x="579" y="0"/>
                  </a:lnTo>
                  <a:lnTo>
                    <a:pt x="901" y="11"/>
                  </a:lnTo>
                  <a:lnTo>
                    <a:pt x="1134" y="54"/>
                  </a:lnTo>
                  <a:lnTo>
                    <a:pt x="1220" y="109"/>
                  </a:lnTo>
                  <a:lnTo>
                    <a:pt x="1247" y="150"/>
                  </a:lnTo>
                  <a:lnTo>
                    <a:pt x="1260" y="203"/>
                  </a:lnTo>
                  <a:lnTo>
                    <a:pt x="1262" y="325"/>
                  </a:lnTo>
                  <a:lnTo>
                    <a:pt x="1253" y="433"/>
                  </a:lnTo>
                  <a:lnTo>
                    <a:pt x="1222" y="662"/>
                  </a:lnTo>
                  <a:lnTo>
                    <a:pt x="1205" y="830"/>
                  </a:lnTo>
                  <a:lnTo>
                    <a:pt x="1193" y="910"/>
                  </a:lnTo>
                  <a:lnTo>
                    <a:pt x="1174" y="998"/>
                  </a:lnTo>
                  <a:lnTo>
                    <a:pt x="1160" y="1018"/>
                  </a:lnTo>
                  <a:lnTo>
                    <a:pt x="1138" y="1020"/>
                  </a:lnTo>
                  <a:lnTo>
                    <a:pt x="1115" y="984"/>
                  </a:lnTo>
                  <a:lnTo>
                    <a:pt x="1145" y="820"/>
                  </a:lnTo>
                  <a:lnTo>
                    <a:pt x="1159" y="656"/>
                  </a:lnTo>
                  <a:lnTo>
                    <a:pt x="1175" y="433"/>
                  </a:lnTo>
                  <a:lnTo>
                    <a:pt x="1169" y="211"/>
                  </a:lnTo>
                  <a:lnTo>
                    <a:pt x="1159" y="173"/>
                  </a:lnTo>
                  <a:lnTo>
                    <a:pt x="1138" y="146"/>
                  </a:lnTo>
                  <a:lnTo>
                    <a:pt x="1107" y="130"/>
                  </a:lnTo>
                  <a:lnTo>
                    <a:pt x="1070" y="118"/>
                  </a:lnTo>
                  <a:lnTo>
                    <a:pt x="891" y="105"/>
                  </a:lnTo>
                  <a:lnTo>
                    <a:pt x="727" y="93"/>
                  </a:lnTo>
                  <a:lnTo>
                    <a:pt x="580" y="93"/>
                  </a:lnTo>
                  <a:lnTo>
                    <a:pt x="267" y="122"/>
                  </a:lnTo>
                  <a:lnTo>
                    <a:pt x="182" y="135"/>
                  </a:lnTo>
                  <a:lnTo>
                    <a:pt x="98" y="157"/>
                  </a:lnTo>
                  <a:lnTo>
                    <a:pt x="62" y="171"/>
                  </a:lnTo>
                  <a:lnTo>
                    <a:pt x="34" y="202"/>
                  </a:lnTo>
                  <a:lnTo>
                    <a:pt x="21" y="211"/>
                  </a:lnTo>
                  <a:lnTo>
                    <a:pt x="7" y="210"/>
                  </a:lnTo>
                  <a:lnTo>
                    <a:pt x="0" y="183"/>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1758960" y="2115720"/>
              <a:ext cx="244440" cy="169200"/>
            </a:xfrm>
            <a:custGeom>
              <a:avLst/>
              <a:gdLst/>
              <a:ahLst/>
              <a:rect l="l" t="t" r="r" b="b"/>
              <a:pathLst>
                <a:path w="771" h="599">
                  <a:moveTo>
                    <a:pt x="40" y="19"/>
                  </a:moveTo>
                  <a:lnTo>
                    <a:pt x="59" y="186"/>
                  </a:lnTo>
                  <a:lnTo>
                    <a:pt x="74" y="263"/>
                  </a:lnTo>
                  <a:lnTo>
                    <a:pt x="96" y="349"/>
                  </a:lnTo>
                  <a:lnTo>
                    <a:pt x="115" y="425"/>
                  </a:lnTo>
                  <a:lnTo>
                    <a:pt x="129" y="457"/>
                  </a:lnTo>
                  <a:lnTo>
                    <a:pt x="156" y="485"/>
                  </a:lnTo>
                  <a:lnTo>
                    <a:pt x="187" y="504"/>
                  </a:lnTo>
                  <a:lnTo>
                    <a:pt x="216" y="518"/>
                  </a:lnTo>
                  <a:lnTo>
                    <a:pt x="276" y="531"/>
                  </a:lnTo>
                  <a:lnTo>
                    <a:pt x="411" y="535"/>
                  </a:lnTo>
                  <a:lnTo>
                    <a:pt x="523" y="536"/>
                  </a:lnTo>
                  <a:lnTo>
                    <a:pt x="637" y="542"/>
                  </a:lnTo>
                  <a:lnTo>
                    <a:pt x="751" y="545"/>
                  </a:lnTo>
                  <a:lnTo>
                    <a:pt x="771" y="565"/>
                  </a:lnTo>
                  <a:lnTo>
                    <a:pt x="767" y="578"/>
                  </a:lnTo>
                  <a:lnTo>
                    <a:pt x="752" y="585"/>
                  </a:lnTo>
                  <a:lnTo>
                    <a:pt x="524" y="599"/>
                  </a:lnTo>
                  <a:lnTo>
                    <a:pt x="408" y="598"/>
                  </a:lnTo>
                  <a:lnTo>
                    <a:pt x="262" y="580"/>
                  </a:lnTo>
                  <a:lnTo>
                    <a:pt x="197" y="557"/>
                  </a:lnTo>
                  <a:lnTo>
                    <a:pt x="166" y="539"/>
                  </a:lnTo>
                  <a:lnTo>
                    <a:pt x="133" y="517"/>
                  </a:lnTo>
                  <a:lnTo>
                    <a:pt x="101" y="484"/>
                  </a:lnTo>
                  <a:lnTo>
                    <a:pt x="82" y="448"/>
                  </a:lnTo>
                  <a:lnTo>
                    <a:pt x="58" y="361"/>
                  </a:lnTo>
                  <a:lnTo>
                    <a:pt x="20" y="193"/>
                  </a:lnTo>
                  <a:lnTo>
                    <a:pt x="0" y="23"/>
                  </a:lnTo>
                  <a:lnTo>
                    <a:pt x="5" y="7"/>
                  </a:lnTo>
                  <a:lnTo>
                    <a:pt x="18" y="0"/>
                  </a:lnTo>
                  <a:lnTo>
                    <a:pt x="40" y="19"/>
                  </a:lnTo>
                  <a:lnTo>
                    <a:pt x="4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a:off x="2108160" y="2292120"/>
              <a:ext cx="36360" cy="42120"/>
            </a:xfrm>
            <a:custGeom>
              <a:avLst/>
              <a:gdLst/>
              <a:ahLst/>
              <a:rect l="l" t="t" r="r" b="b"/>
              <a:pathLst>
                <a:path w="116" h="152">
                  <a:moveTo>
                    <a:pt x="105" y="132"/>
                  </a:moveTo>
                  <a:lnTo>
                    <a:pt x="99" y="147"/>
                  </a:lnTo>
                  <a:lnTo>
                    <a:pt x="85" y="152"/>
                  </a:lnTo>
                  <a:lnTo>
                    <a:pt x="65" y="133"/>
                  </a:lnTo>
                  <a:lnTo>
                    <a:pt x="64" y="61"/>
                  </a:lnTo>
                  <a:lnTo>
                    <a:pt x="20" y="49"/>
                  </a:lnTo>
                  <a:lnTo>
                    <a:pt x="3" y="38"/>
                  </a:lnTo>
                  <a:lnTo>
                    <a:pt x="0" y="20"/>
                  </a:lnTo>
                  <a:lnTo>
                    <a:pt x="9" y="5"/>
                  </a:lnTo>
                  <a:lnTo>
                    <a:pt x="29" y="0"/>
                  </a:lnTo>
                  <a:lnTo>
                    <a:pt x="90" y="6"/>
                  </a:lnTo>
                  <a:lnTo>
                    <a:pt x="113" y="22"/>
                  </a:lnTo>
                  <a:lnTo>
                    <a:pt x="116" y="75"/>
                  </a:lnTo>
                  <a:lnTo>
                    <a:pt x="105" y="132"/>
                  </a:lnTo>
                  <a:lnTo>
                    <a:pt x="105" y="132"/>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sp>
          <p:nvSpPr>
            <p:cNvPr id="528" name=""/>
            <p:cNvSpPr/>
            <p:nvPr/>
          </p:nvSpPr>
          <p:spPr>
            <a:xfrm>
              <a:off x="2047680" y="2307600"/>
              <a:ext cx="45000" cy="44640"/>
            </a:xfrm>
            <a:custGeom>
              <a:avLst/>
              <a:gdLst/>
              <a:ahLst/>
              <a:rect l="l" t="t" r="r" b="b"/>
              <a:pathLst>
                <a:path w="142" h="160">
                  <a:moveTo>
                    <a:pt x="134" y="141"/>
                  </a:moveTo>
                  <a:lnTo>
                    <a:pt x="127" y="155"/>
                  </a:lnTo>
                  <a:lnTo>
                    <a:pt x="113" y="160"/>
                  </a:lnTo>
                  <a:lnTo>
                    <a:pt x="94" y="139"/>
                  </a:lnTo>
                  <a:lnTo>
                    <a:pt x="100" y="53"/>
                  </a:lnTo>
                  <a:lnTo>
                    <a:pt x="18" y="39"/>
                  </a:lnTo>
                  <a:lnTo>
                    <a:pt x="4" y="31"/>
                  </a:lnTo>
                  <a:lnTo>
                    <a:pt x="0" y="17"/>
                  </a:lnTo>
                  <a:lnTo>
                    <a:pt x="7" y="4"/>
                  </a:lnTo>
                  <a:lnTo>
                    <a:pt x="22" y="0"/>
                  </a:lnTo>
                  <a:lnTo>
                    <a:pt x="121" y="8"/>
                  </a:lnTo>
                  <a:lnTo>
                    <a:pt x="139" y="38"/>
                  </a:lnTo>
                  <a:lnTo>
                    <a:pt x="142" y="69"/>
                  </a:lnTo>
                  <a:lnTo>
                    <a:pt x="134" y="141"/>
                  </a:lnTo>
                  <a:lnTo>
                    <a:pt x="134" y="14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29" name=""/>
            <p:cNvSpPr/>
            <p:nvPr/>
          </p:nvSpPr>
          <p:spPr>
            <a:xfrm>
              <a:off x="1992600" y="2305440"/>
              <a:ext cx="45720" cy="46080"/>
            </a:xfrm>
            <a:custGeom>
              <a:avLst/>
              <a:gdLst/>
              <a:ahLst/>
              <a:rect l="l" t="t" r="r" b="b"/>
              <a:pathLst>
                <a:path w="146" h="164">
                  <a:moveTo>
                    <a:pt x="121" y="149"/>
                  </a:moveTo>
                  <a:lnTo>
                    <a:pt x="112" y="162"/>
                  </a:lnTo>
                  <a:lnTo>
                    <a:pt x="98" y="164"/>
                  </a:lnTo>
                  <a:lnTo>
                    <a:pt x="82" y="141"/>
                  </a:lnTo>
                  <a:lnTo>
                    <a:pt x="92" y="61"/>
                  </a:lnTo>
                  <a:lnTo>
                    <a:pt x="17" y="39"/>
                  </a:lnTo>
                  <a:lnTo>
                    <a:pt x="3" y="29"/>
                  </a:lnTo>
                  <a:lnTo>
                    <a:pt x="0" y="15"/>
                  </a:lnTo>
                  <a:lnTo>
                    <a:pt x="9" y="4"/>
                  </a:lnTo>
                  <a:lnTo>
                    <a:pt x="24" y="0"/>
                  </a:lnTo>
                  <a:lnTo>
                    <a:pt x="122" y="9"/>
                  </a:lnTo>
                  <a:lnTo>
                    <a:pt x="146" y="34"/>
                  </a:lnTo>
                  <a:lnTo>
                    <a:pt x="139" y="92"/>
                  </a:lnTo>
                  <a:lnTo>
                    <a:pt x="121" y="149"/>
                  </a:lnTo>
                  <a:lnTo>
                    <a:pt x="121" y="14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30" name=""/>
            <p:cNvSpPr/>
            <p:nvPr/>
          </p:nvSpPr>
          <p:spPr>
            <a:xfrm>
              <a:off x="1922760" y="2302920"/>
              <a:ext cx="52560" cy="43920"/>
            </a:xfrm>
            <a:custGeom>
              <a:avLst/>
              <a:gdLst/>
              <a:ahLst/>
              <a:rect l="l" t="t" r="r" b="b"/>
              <a:pathLst>
                <a:path w="164" h="155">
                  <a:moveTo>
                    <a:pt x="150" y="134"/>
                  </a:moveTo>
                  <a:lnTo>
                    <a:pt x="145" y="149"/>
                  </a:lnTo>
                  <a:lnTo>
                    <a:pt x="133" y="155"/>
                  </a:lnTo>
                  <a:lnTo>
                    <a:pt x="111" y="137"/>
                  </a:lnTo>
                  <a:lnTo>
                    <a:pt x="101" y="60"/>
                  </a:lnTo>
                  <a:lnTo>
                    <a:pt x="61" y="49"/>
                  </a:lnTo>
                  <a:lnTo>
                    <a:pt x="16" y="39"/>
                  </a:lnTo>
                  <a:lnTo>
                    <a:pt x="2" y="31"/>
                  </a:lnTo>
                  <a:lnTo>
                    <a:pt x="0" y="16"/>
                  </a:lnTo>
                  <a:lnTo>
                    <a:pt x="6" y="4"/>
                  </a:lnTo>
                  <a:lnTo>
                    <a:pt x="22" y="0"/>
                  </a:lnTo>
                  <a:lnTo>
                    <a:pt x="135" y="1"/>
                  </a:lnTo>
                  <a:lnTo>
                    <a:pt x="158" y="12"/>
                  </a:lnTo>
                  <a:lnTo>
                    <a:pt x="164" y="35"/>
                  </a:lnTo>
                  <a:lnTo>
                    <a:pt x="150" y="134"/>
                  </a:lnTo>
                  <a:lnTo>
                    <a:pt x="150" y="13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31" name=""/>
            <p:cNvSpPr/>
            <p:nvPr/>
          </p:nvSpPr>
          <p:spPr>
            <a:xfrm>
              <a:off x="1772280" y="2292840"/>
              <a:ext cx="53640" cy="44280"/>
            </a:xfrm>
            <a:custGeom>
              <a:avLst/>
              <a:gdLst/>
              <a:ahLst/>
              <a:rect l="l" t="t" r="r" b="b"/>
              <a:pathLst>
                <a:path w="172" h="159">
                  <a:moveTo>
                    <a:pt x="167" y="132"/>
                  </a:moveTo>
                  <a:lnTo>
                    <a:pt x="160" y="152"/>
                  </a:lnTo>
                  <a:lnTo>
                    <a:pt x="142" y="159"/>
                  </a:lnTo>
                  <a:lnTo>
                    <a:pt x="114" y="133"/>
                  </a:lnTo>
                  <a:lnTo>
                    <a:pt x="108" y="77"/>
                  </a:lnTo>
                  <a:lnTo>
                    <a:pt x="93" y="66"/>
                  </a:lnTo>
                  <a:lnTo>
                    <a:pt x="74" y="64"/>
                  </a:lnTo>
                  <a:lnTo>
                    <a:pt x="32" y="66"/>
                  </a:lnTo>
                  <a:lnTo>
                    <a:pt x="7" y="54"/>
                  </a:lnTo>
                  <a:lnTo>
                    <a:pt x="0" y="31"/>
                  </a:lnTo>
                  <a:lnTo>
                    <a:pt x="11" y="9"/>
                  </a:lnTo>
                  <a:lnTo>
                    <a:pt x="37" y="0"/>
                  </a:lnTo>
                  <a:lnTo>
                    <a:pt x="107" y="5"/>
                  </a:lnTo>
                  <a:lnTo>
                    <a:pt x="161" y="38"/>
                  </a:lnTo>
                  <a:lnTo>
                    <a:pt x="172" y="81"/>
                  </a:lnTo>
                  <a:lnTo>
                    <a:pt x="167" y="132"/>
                  </a:lnTo>
                  <a:lnTo>
                    <a:pt x="167" y="13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32" name=""/>
            <p:cNvSpPr/>
            <p:nvPr/>
          </p:nvSpPr>
          <p:spPr>
            <a:xfrm>
              <a:off x="1775880" y="2389320"/>
              <a:ext cx="29160" cy="45000"/>
            </a:xfrm>
            <a:custGeom>
              <a:avLst/>
              <a:gdLst/>
              <a:ahLst/>
              <a:rect l="l" t="t" r="r" b="b"/>
              <a:pathLst>
                <a:path w="93" h="160">
                  <a:moveTo>
                    <a:pt x="88" y="17"/>
                  </a:moveTo>
                  <a:lnTo>
                    <a:pt x="93" y="61"/>
                  </a:lnTo>
                  <a:lnTo>
                    <a:pt x="88" y="106"/>
                  </a:lnTo>
                  <a:lnTo>
                    <a:pt x="59" y="133"/>
                  </a:lnTo>
                  <a:lnTo>
                    <a:pt x="27" y="156"/>
                  </a:lnTo>
                  <a:lnTo>
                    <a:pt x="12" y="160"/>
                  </a:lnTo>
                  <a:lnTo>
                    <a:pt x="0" y="152"/>
                  </a:lnTo>
                  <a:lnTo>
                    <a:pt x="5" y="124"/>
                  </a:lnTo>
                  <a:lnTo>
                    <a:pt x="44" y="81"/>
                  </a:lnTo>
                  <a:lnTo>
                    <a:pt x="48" y="23"/>
                  </a:lnTo>
                  <a:lnTo>
                    <a:pt x="53" y="6"/>
                  </a:lnTo>
                  <a:lnTo>
                    <a:pt x="66" y="0"/>
                  </a:lnTo>
                  <a:lnTo>
                    <a:pt x="88" y="17"/>
                  </a:lnTo>
                  <a:lnTo>
                    <a:pt x="88" y="17"/>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533" name=""/>
            <p:cNvSpPr/>
            <p:nvPr/>
          </p:nvSpPr>
          <p:spPr>
            <a:xfrm>
              <a:off x="2061000" y="2382480"/>
              <a:ext cx="65880" cy="55080"/>
            </a:xfrm>
            <a:custGeom>
              <a:avLst/>
              <a:gdLst/>
              <a:ahLst/>
              <a:rect l="l" t="t" r="r" b="b"/>
              <a:pathLst>
                <a:path w="206" h="195">
                  <a:moveTo>
                    <a:pt x="69" y="30"/>
                  </a:moveTo>
                  <a:lnTo>
                    <a:pt x="77" y="104"/>
                  </a:lnTo>
                  <a:lnTo>
                    <a:pt x="105" y="123"/>
                  </a:lnTo>
                  <a:lnTo>
                    <a:pt x="138" y="142"/>
                  </a:lnTo>
                  <a:lnTo>
                    <a:pt x="171" y="158"/>
                  </a:lnTo>
                  <a:lnTo>
                    <a:pt x="203" y="172"/>
                  </a:lnTo>
                  <a:lnTo>
                    <a:pt x="206" y="182"/>
                  </a:lnTo>
                  <a:lnTo>
                    <a:pt x="190" y="191"/>
                  </a:lnTo>
                  <a:lnTo>
                    <a:pt x="142" y="195"/>
                  </a:lnTo>
                  <a:lnTo>
                    <a:pt x="36" y="130"/>
                  </a:lnTo>
                  <a:lnTo>
                    <a:pt x="17" y="78"/>
                  </a:lnTo>
                  <a:lnTo>
                    <a:pt x="0" y="26"/>
                  </a:lnTo>
                  <a:lnTo>
                    <a:pt x="3" y="6"/>
                  </a:lnTo>
                  <a:lnTo>
                    <a:pt x="24" y="0"/>
                  </a:lnTo>
                  <a:lnTo>
                    <a:pt x="50" y="8"/>
                  </a:lnTo>
                  <a:lnTo>
                    <a:pt x="69" y="30"/>
                  </a:lnTo>
                  <a:lnTo>
                    <a:pt x="69" y="3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534" name=""/>
            <p:cNvSpPr/>
            <p:nvPr/>
          </p:nvSpPr>
          <p:spPr>
            <a:xfrm>
              <a:off x="2147040" y="1931400"/>
              <a:ext cx="88560" cy="450720"/>
            </a:xfrm>
            <a:custGeom>
              <a:avLst/>
              <a:gdLst/>
              <a:ahLst/>
              <a:rect l="l" t="t" r="r" b="b"/>
              <a:pathLst>
                <a:path w="279" h="1599">
                  <a:moveTo>
                    <a:pt x="266" y="15"/>
                  </a:moveTo>
                  <a:lnTo>
                    <a:pt x="279" y="152"/>
                  </a:lnTo>
                  <a:lnTo>
                    <a:pt x="274" y="328"/>
                  </a:lnTo>
                  <a:lnTo>
                    <a:pt x="263" y="495"/>
                  </a:lnTo>
                  <a:lnTo>
                    <a:pt x="253" y="604"/>
                  </a:lnTo>
                  <a:lnTo>
                    <a:pt x="239" y="726"/>
                  </a:lnTo>
                  <a:lnTo>
                    <a:pt x="221" y="834"/>
                  </a:lnTo>
                  <a:lnTo>
                    <a:pt x="189" y="1064"/>
                  </a:lnTo>
                  <a:lnTo>
                    <a:pt x="174" y="1189"/>
                  </a:lnTo>
                  <a:lnTo>
                    <a:pt x="163" y="1246"/>
                  </a:lnTo>
                  <a:lnTo>
                    <a:pt x="149" y="1311"/>
                  </a:lnTo>
                  <a:lnTo>
                    <a:pt x="128" y="1388"/>
                  </a:lnTo>
                  <a:lnTo>
                    <a:pt x="103" y="1455"/>
                  </a:lnTo>
                  <a:lnTo>
                    <a:pt x="89" y="1487"/>
                  </a:lnTo>
                  <a:lnTo>
                    <a:pt x="72" y="1519"/>
                  </a:lnTo>
                  <a:lnTo>
                    <a:pt x="55" y="1553"/>
                  </a:lnTo>
                  <a:lnTo>
                    <a:pt x="34" y="1589"/>
                  </a:lnTo>
                  <a:lnTo>
                    <a:pt x="21" y="1599"/>
                  </a:lnTo>
                  <a:lnTo>
                    <a:pt x="7" y="1596"/>
                  </a:lnTo>
                  <a:lnTo>
                    <a:pt x="0" y="1569"/>
                  </a:lnTo>
                  <a:lnTo>
                    <a:pt x="30" y="1501"/>
                  </a:lnTo>
                  <a:lnTo>
                    <a:pt x="46" y="1435"/>
                  </a:lnTo>
                  <a:lnTo>
                    <a:pt x="70" y="1292"/>
                  </a:lnTo>
                  <a:lnTo>
                    <a:pt x="116" y="1057"/>
                  </a:lnTo>
                  <a:lnTo>
                    <a:pt x="132" y="935"/>
                  </a:lnTo>
                  <a:lnTo>
                    <a:pt x="153" y="828"/>
                  </a:lnTo>
                  <a:lnTo>
                    <a:pt x="190" y="599"/>
                  </a:lnTo>
                  <a:lnTo>
                    <a:pt x="204" y="491"/>
                  </a:lnTo>
                  <a:lnTo>
                    <a:pt x="224" y="328"/>
                  </a:lnTo>
                  <a:lnTo>
                    <a:pt x="237" y="158"/>
                  </a:lnTo>
                  <a:lnTo>
                    <a:pt x="227" y="24"/>
                  </a:lnTo>
                  <a:lnTo>
                    <a:pt x="230" y="7"/>
                  </a:lnTo>
                  <a:lnTo>
                    <a:pt x="241" y="0"/>
                  </a:lnTo>
                  <a:lnTo>
                    <a:pt x="266" y="15"/>
                  </a:lnTo>
                  <a:lnTo>
                    <a:pt x="266"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a:off x="2260080" y="2466360"/>
              <a:ext cx="75240" cy="73080"/>
            </a:xfrm>
            <a:custGeom>
              <a:avLst/>
              <a:gdLst/>
              <a:ahLst/>
              <a:rect l="l" t="t" r="r" b="b"/>
              <a:pathLst>
                <a:path w="238" h="260">
                  <a:moveTo>
                    <a:pt x="202" y="1"/>
                  </a:moveTo>
                  <a:lnTo>
                    <a:pt x="223" y="0"/>
                  </a:lnTo>
                  <a:lnTo>
                    <a:pt x="237" y="14"/>
                  </a:lnTo>
                  <a:lnTo>
                    <a:pt x="238" y="32"/>
                  </a:lnTo>
                  <a:lnTo>
                    <a:pt x="224" y="49"/>
                  </a:lnTo>
                  <a:lnTo>
                    <a:pt x="162" y="84"/>
                  </a:lnTo>
                  <a:lnTo>
                    <a:pt x="160" y="113"/>
                  </a:lnTo>
                  <a:lnTo>
                    <a:pt x="167" y="146"/>
                  </a:lnTo>
                  <a:lnTo>
                    <a:pt x="152" y="179"/>
                  </a:lnTo>
                  <a:lnTo>
                    <a:pt x="125" y="205"/>
                  </a:lnTo>
                  <a:lnTo>
                    <a:pt x="110" y="214"/>
                  </a:lnTo>
                  <a:lnTo>
                    <a:pt x="88" y="225"/>
                  </a:lnTo>
                  <a:lnTo>
                    <a:pt x="50" y="246"/>
                  </a:lnTo>
                  <a:lnTo>
                    <a:pt x="21" y="260"/>
                  </a:lnTo>
                  <a:lnTo>
                    <a:pt x="2" y="252"/>
                  </a:lnTo>
                  <a:lnTo>
                    <a:pt x="0" y="229"/>
                  </a:lnTo>
                  <a:lnTo>
                    <a:pt x="5" y="214"/>
                  </a:lnTo>
                  <a:lnTo>
                    <a:pt x="18" y="199"/>
                  </a:lnTo>
                  <a:lnTo>
                    <a:pt x="37" y="184"/>
                  </a:lnTo>
                  <a:lnTo>
                    <a:pt x="64" y="165"/>
                  </a:lnTo>
                  <a:lnTo>
                    <a:pt x="98" y="138"/>
                  </a:lnTo>
                  <a:lnTo>
                    <a:pt x="116" y="50"/>
                  </a:lnTo>
                  <a:lnTo>
                    <a:pt x="155" y="20"/>
                  </a:lnTo>
                  <a:lnTo>
                    <a:pt x="202" y="1"/>
                  </a:lnTo>
                  <a:lnTo>
                    <a:pt x="202" y="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36" name=""/>
            <p:cNvSpPr/>
            <p:nvPr/>
          </p:nvSpPr>
          <p:spPr>
            <a:xfrm>
              <a:off x="1798920" y="2084400"/>
              <a:ext cx="204120" cy="154440"/>
            </a:xfrm>
            <a:custGeom>
              <a:avLst/>
              <a:gdLst/>
              <a:ahLst/>
              <a:rect l="l" t="t" r="r" b="b"/>
              <a:pathLst>
                <a:path w="643" h="547">
                  <a:moveTo>
                    <a:pt x="76" y="30"/>
                  </a:moveTo>
                  <a:lnTo>
                    <a:pt x="96" y="110"/>
                  </a:lnTo>
                  <a:lnTo>
                    <a:pt x="121" y="211"/>
                  </a:lnTo>
                  <a:lnTo>
                    <a:pt x="136" y="261"/>
                  </a:lnTo>
                  <a:lnTo>
                    <a:pt x="152" y="305"/>
                  </a:lnTo>
                  <a:lnTo>
                    <a:pt x="171" y="342"/>
                  </a:lnTo>
                  <a:lnTo>
                    <a:pt x="190" y="365"/>
                  </a:lnTo>
                  <a:lnTo>
                    <a:pt x="211" y="378"/>
                  </a:lnTo>
                  <a:lnTo>
                    <a:pt x="235" y="385"/>
                  </a:lnTo>
                  <a:lnTo>
                    <a:pt x="282" y="387"/>
                  </a:lnTo>
                  <a:lnTo>
                    <a:pt x="379" y="386"/>
                  </a:lnTo>
                  <a:lnTo>
                    <a:pt x="437" y="403"/>
                  </a:lnTo>
                  <a:lnTo>
                    <a:pt x="488" y="424"/>
                  </a:lnTo>
                  <a:lnTo>
                    <a:pt x="541" y="443"/>
                  </a:lnTo>
                  <a:lnTo>
                    <a:pt x="602" y="452"/>
                  </a:lnTo>
                  <a:lnTo>
                    <a:pt x="632" y="464"/>
                  </a:lnTo>
                  <a:lnTo>
                    <a:pt x="643" y="488"/>
                  </a:lnTo>
                  <a:lnTo>
                    <a:pt x="634" y="514"/>
                  </a:lnTo>
                  <a:lnTo>
                    <a:pt x="622" y="524"/>
                  </a:lnTo>
                  <a:lnTo>
                    <a:pt x="606" y="530"/>
                  </a:lnTo>
                  <a:lnTo>
                    <a:pt x="484" y="544"/>
                  </a:lnTo>
                  <a:lnTo>
                    <a:pt x="344" y="547"/>
                  </a:lnTo>
                  <a:lnTo>
                    <a:pt x="209" y="530"/>
                  </a:lnTo>
                  <a:lnTo>
                    <a:pt x="100" y="478"/>
                  </a:lnTo>
                  <a:lnTo>
                    <a:pt x="54" y="398"/>
                  </a:lnTo>
                  <a:lnTo>
                    <a:pt x="26" y="277"/>
                  </a:lnTo>
                  <a:lnTo>
                    <a:pt x="0" y="46"/>
                  </a:lnTo>
                  <a:lnTo>
                    <a:pt x="7" y="14"/>
                  </a:lnTo>
                  <a:lnTo>
                    <a:pt x="17" y="5"/>
                  </a:lnTo>
                  <a:lnTo>
                    <a:pt x="30" y="0"/>
                  </a:lnTo>
                  <a:lnTo>
                    <a:pt x="57" y="5"/>
                  </a:lnTo>
                  <a:lnTo>
                    <a:pt x="76" y="30"/>
                  </a:lnTo>
                  <a:lnTo>
                    <a:pt x="76" y="30"/>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1926360" y="2025360"/>
              <a:ext cx="180720" cy="135360"/>
            </a:xfrm>
            <a:custGeom>
              <a:avLst/>
              <a:gdLst/>
              <a:ahLst/>
              <a:rect l="l" t="t" r="r" b="b"/>
              <a:pathLst>
                <a:path w="571" h="479">
                  <a:moveTo>
                    <a:pt x="454" y="459"/>
                  </a:moveTo>
                  <a:lnTo>
                    <a:pt x="436" y="211"/>
                  </a:lnTo>
                  <a:lnTo>
                    <a:pt x="416" y="196"/>
                  </a:lnTo>
                  <a:lnTo>
                    <a:pt x="395" y="185"/>
                  </a:lnTo>
                  <a:lnTo>
                    <a:pt x="347" y="178"/>
                  </a:lnTo>
                  <a:lnTo>
                    <a:pt x="251" y="168"/>
                  </a:lnTo>
                  <a:lnTo>
                    <a:pt x="195" y="146"/>
                  </a:lnTo>
                  <a:lnTo>
                    <a:pt x="146" y="120"/>
                  </a:lnTo>
                  <a:lnTo>
                    <a:pt x="121" y="106"/>
                  </a:lnTo>
                  <a:lnTo>
                    <a:pt x="96" y="94"/>
                  </a:lnTo>
                  <a:lnTo>
                    <a:pt x="37" y="77"/>
                  </a:lnTo>
                  <a:lnTo>
                    <a:pt x="9" y="62"/>
                  </a:lnTo>
                  <a:lnTo>
                    <a:pt x="0" y="36"/>
                  </a:lnTo>
                  <a:lnTo>
                    <a:pt x="12" y="12"/>
                  </a:lnTo>
                  <a:lnTo>
                    <a:pt x="42" y="0"/>
                  </a:lnTo>
                  <a:lnTo>
                    <a:pt x="303" y="12"/>
                  </a:lnTo>
                  <a:lnTo>
                    <a:pt x="436" y="46"/>
                  </a:lnTo>
                  <a:lnTo>
                    <a:pt x="492" y="74"/>
                  </a:lnTo>
                  <a:lnTo>
                    <a:pt x="538" y="110"/>
                  </a:lnTo>
                  <a:lnTo>
                    <a:pt x="570" y="171"/>
                  </a:lnTo>
                  <a:lnTo>
                    <a:pt x="571" y="245"/>
                  </a:lnTo>
                  <a:lnTo>
                    <a:pt x="552" y="405"/>
                  </a:lnTo>
                  <a:lnTo>
                    <a:pt x="538" y="443"/>
                  </a:lnTo>
                  <a:lnTo>
                    <a:pt x="507" y="471"/>
                  </a:lnTo>
                  <a:lnTo>
                    <a:pt x="473" y="479"/>
                  </a:lnTo>
                  <a:lnTo>
                    <a:pt x="454" y="459"/>
                  </a:lnTo>
                  <a:lnTo>
                    <a:pt x="454" y="459"/>
                  </a:lnTo>
                  <a:close/>
                </a:path>
              </a:pathLst>
            </a:custGeom>
            <a:solidFill>
              <a:srgbClr val="52855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38" name=""/>
          <p:cNvGrpSpPr/>
          <p:nvPr/>
        </p:nvGrpSpPr>
        <p:grpSpPr>
          <a:xfrm>
            <a:off x="1828800" y="1981080"/>
            <a:ext cx="3352680" cy="762120"/>
            <a:chOff x="1828800" y="1981080"/>
            <a:chExt cx="3352680" cy="762120"/>
          </a:xfrm>
        </p:grpSpPr>
        <p:sp>
          <p:nvSpPr>
            <p:cNvPr id="539" name=""/>
            <p:cNvSpPr/>
            <p:nvPr/>
          </p:nvSpPr>
          <p:spPr>
            <a:xfrm flipH="1">
              <a:off x="2590920" y="2438280"/>
              <a:ext cx="2590560" cy="0"/>
            </a:xfrm>
            <a:prstGeom prst="line">
              <a:avLst/>
            </a:prstGeom>
            <a:ln w="9360">
              <a:solidFill>
                <a:srgbClr val="57a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40" name=""/>
            <p:cNvGrpSpPr/>
            <p:nvPr/>
          </p:nvGrpSpPr>
          <p:grpSpPr>
            <a:xfrm>
              <a:off x="1828800" y="1981080"/>
              <a:ext cx="609480" cy="762120"/>
              <a:chOff x="1828800" y="1981080"/>
              <a:chExt cx="609480" cy="762120"/>
            </a:xfrm>
          </p:grpSpPr>
          <p:sp>
            <p:nvSpPr>
              <p:cNvPr id="541" name=""/>
              <p:cNvSpPr/>
              <p:nvPr/>
            </p:nvSpPr>
            <p:spPr>
              <a:xfrm>
                <a:off x="1828800" y="1986480"/>
                <a:ext cx="607320" cy="698400"/>
              </a:xfrm>
              <a:custGeom>
                <a:avLst/>
                <a:gdLst/>
                <a:ahLst/>
                <a:rect l="l" t="t" r="r" b="b"/>
                <a:pathLst>
                  <a:path w="2270" h="2734">
                    <a:moveTo>
                      <a:pt x="61" y="238"/>
                    </a:moveTo>
                    <a:lnTo>
                      <a:pt x="766" y="126"/>
                    </a:lnTo>
                    <a:lnTo>
                      <a:pt x="1753" y="67"/>
                    </a:lnTo>
                    <a:lnTo>
                      <a:pt x="2150" y="0"/>
                    </a:lnTo>
                    <a:lnTo>
                      <a:pt x="2230" y="56"/>
                    </a:lnTo>
                    <a:lnTo>
                      <a:pt x="2270" y="698"/>
                    </a:lnTo>
                    <a:lnTo>
                      <a:pt x="2161" y="2318"/>
                    </a:lnTo>
                    <a:lnTo>
                      <a:pt x="2203" y="2700"/>
                    </a:lnTo>
                    <a:lnTo>
                      <a:pt x="1895" y="2734"/>
                    </a:lnTo>
                    <a:lnTo>
                      <a:pt x="357" y="2658"/>
                    </a:lnTo>
                    <a:lnTo>
                      <a:pt x="171" y="2641"/>
                    </a:lnTo>
                    <a:lnTo>
                      <a:pt x="0" y="1457"/>
                    </a:lnTo>
                    <a:lnTo>
                      <a:pt x="38" y="316"/>
                    </a:lnTo>
                    <a:lnTo>
                      <a:pt x="61" y="238"/>
                    </a:lnTo>
                    <a:lnTo>
                      <a:pt x="61" y="238"/>
                    </a:lnTo>
                    <a:lnTo>
                      <a:pt x="61" y="2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1838880" y="2014200"/>
                <a:ext cx="579600" cy="714960"/>
              </a:xfrm>
              <a:custGeom>
                <a:avLst/>
                <a:gdLst/>
                <a:ahLst/>
                <a:rect l="l" t="t" r="r" b="b"/>
                <a:pathLst>
                  <a:path w="2165" h="2800">
                    <a:moveTo>
                      <a:pt x="82" y="198"/>
                    </a:moveTo>
                    <a:lnTo>
                      <a:pt x="574" y="156"/>
                    </a:lnTo>
                    <a:lnTo>
                      <a:pt x="1161" y="112"/>
                    </a:lnTo>
                    <a:lnTo>
                      <a:pt x="1715" y="85"/>
                    </a:lnTo>
                    <a:lnTo>
                      <a:pt x="2004" y="0"/>
                    </a:lnTo>
                    <a:lnTo>
                      <a:pt x="2097" y="9"/>
                    </a:lnTo>
                    <a:lnTo>
                      <a:pt x="2123" y="112"/>
                    </a:lnTo>
                    <a:lnTo>
                      <a:pt x="2106" y="1262"/>
                    </a:lnTo>
                    <a:lnTo>
                      <a:pt x="2080" y="2133"/>
                    </a:lnTo>
                    <a:lnTo>
                      <a:pt x="2165" y="2591"/>
                    </a:lnTo>
                    <a:lnTo>
                      <a:pt x="1909" y="2659"/>
                    </a:lnTo>
                    <a:lnTo>
                      <a:pt x="1289" y="2648"/>
                    </a:lnTo>
                    <a:lnTo>
                      <a:pt x="779" y="2659"/>
                    </a:lnTo>
                    <a:lnTo>
                      <a:pt x="201" y="2800"/>
                    </a:lnTo>
                    <a:lnTo>
                      <a:pt x="173" y="2534"/>
                    </a:lnTo>
                    <a:lnTo>
                      <a:pt x="64" y="1340"/>
                    </a:lnTo>
                    <a:lnTo>
                      <a:pt x="64" y="435"/>
                    </a:lnTo>
                    <a:lnTo>
                      <a:pt x="0" y="207"/>
                    </a:lnTo>
                    <a:lnTo>
                      <a:pt x="82" y="198"/>
                    </a:lnTo>
                    <a:lnTo>
                      <a:pt x="82" y="198"/>
                    </a:lnTo>
                    <a:lnTo>
                      <a:pt x="82" y="198"/>
                    </a:lnTo>
                    <a:close/>
                  </a:path>
                </a:pathLst>
              </a:custGeom>
              <a:solidFill>
                <a:srgbClr val="ffe0d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1933560" y="2517480"/>
                <a:ext cx="218160" cy="78120"/>
              </a:xfrm>
              <a:custGeom>
                <a:avLst/>
                <a:gdLst/>
                <a:ahLst/>
                <a:rect l="l" t="t" r="r" b="b"/>
                <a:pathLst>
                  <a:path w="816" h="306">
                    <a:moveTo>
                      <a:pt x="0" y="69"/>
                    </a:moveTo>
                    <a:lnTo>
                      <a:pt x="740" y="0"/>
                    </a:lnTo>
                    <a:lnTo>
                      <a:pt x="816" y="306"/>
                    </a:lnTo>
                    <a:lnTo>
                      <a:pt x="18" y="299"/>
                    </a:lnTo>
                    <a:lnTo>
                      <a:pt x="0" y="69"/>
                    </a:lnTo>
                    <a:lnTo>
                      <a:pt x="0" y="69"/>
                    </a:lnTo>
                    <a:lnTo>
                      <a:pt x="0" y="69"/>
                    </a:lnTo>
                    <a:close/>
                  </a:path>
                </a:pathLst>
              </a:custGeom>
              <a:solidFill>
                <a:srgbClr val="b2f4ff"/>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44" name=""/>
              <p:cNvSpPr/>
              <p:nvPr/>
            </p:nvSpPr>
            <p:spPr>
              <a:xfrm>
                <a:off x="1913400" y="2147400"/>
                <a:ext cx="429840" cy="354240"/>
              </a:xfrm>
              <a:custGeom>
                <a:avLst/>
                <a:gdLst/>
                <a:ahLst/>
                <a:rect l="l" t="t" r="r" b="b"/>
                <a:pathLst>
                  <a:path w="1607" h="1387">
                    <a:moveTo>
                      <a:pt x="0" y="167"/>
                    </a:moveTo>
                    <a:lnTo>
                      <a:pt x="0" y="1387"/>
                    </a:lnTo>
                    <a:lnTo>
                      <a:pt x="1607" y="1210"/>
                    </a:lnTo>
                    <a:lnTo>
                      <a:pt x="1557" y="0"/>
                    </a:lnTo>
                    <a:lnTo>
                      <a:pt x="0" y="167"/>
                    </a:lnTo>
                    <a:lnTo>
                      <a:pt x="0" y="167"/>
                    </a:lnTo>
                    <a:lnTo>
                      <a:pt x="0" y="167"/>
                    </a:lnTo>
                    <a:close/>
                  </a:path>
                </a:pathLst>
              </a:custGeom>
              <a:solidFill>
                <a:srgbClr val="f5f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1896480" y="2060640"/>
                <a:ext cx="452520" cy="94680"/>
              </a:xfrm>
              <a:custGeom>
                <a:avLst/>
                <a:gdLst/>
                <a:ahLst/>
                <a:rect l="l" t="t" r="r" b="b"/>
                <a:pathLst>
                  <a:path w="1692" h="373">
                    <a:moveTo>
                      <a:pt x="9" y="101"/>
                    </a:moveTo>
                    <a:lnTo>
                      <a:pt x="0" y="373"/>
                    </a:lnTo>
                    <a:lnTo>
                      <a:pt x="1692" y="272"/>
                    </a:lnTo>
                    <a:lnTo>
                      <a:pt x="1652" y="0"/>
                    </a:lnTo>
                    <a:lnTo>
                      <a:pt x="1030" y="35"/>
                    </a:lnTo>
                    <a:lnTo>
                      <a:pt x="452" y="50"/>
                    </a:lnTo>
                    <a:lnTo>
                      <a:pt x="9" y="101"/>
                    </a:lnTo>
                    <a:lnTo>
                      <a:pt x="9" y="101"/>
                    </a:lnTo>
                    <a:lnTo>
                      <a:pt x="9" y="101"/>
                    </a:lnTo>
                    <a:close/>
                  </a:path>
                </a:pathLst>
              </a:custGeom>
              <a:solidFill>
                <a:srgbClr val="ff99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1923840" y="2568960"/>
                <a:ext cx="415800" cy="119880"/>
              </a:xfrm>
              <a:custGeom>
                <a:avLst/>
                <a:gdLst/>
                <a:ahLst/>
                <a:rect l="l" t="t" r="r" b="b"/>
                <a:pathLst>
                  <a:path w="1555" h="471">
                    <a:moveTo>
                      <a:pt x="0" y="167"/>
                    </a:moveTo>
                    <a:lnTo>
                      <a:pt x="42" y="471"/>
                    </a:lnTo>
                    <a:lnTo>
                      <a:pt x="1514" y="275"/>
                    </a:lnTo>
                    <a:lnTo>
                      <a:pt x="1555" y="0"/>
                    </a:lnTo>
                    <a:lnTo>
                      <a:pt x="0" y="167"/>
                    </a:lnTo>
                    <a:lnTo>
                      <a:pt x="0" y="167"/>
                    </a:lnTo>
                    <a:lnTo>
                      <a:pt x="0" y="167"/>
                    </a:lnTo>
                    <a:close/>
                  </a:path>
                </a:pathLst>
              </a:custGeom>
              <a:solidFill>
                <a:srgbClr val="f5f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1847880" y="1981080"/>
                <a:ext cx="563400" cy="75600"/>
              </a:xfrm>
              <a:custGeom>
                <a:avLst/>
                <a:gdLst/>
                <a:ahLst/>
                <a:rect l="l" t="t" r="r" b="b"/>
                <a:pathLst>
                  <a:path w="2107" h="296">
                    <a:moveTo>
                      <a:pt x="17" y="254"/>
                    </a:moveTo>
                    <a:lnTo>
                      <a:pt x="101" y="224"/>
                    </a:lnTo>
                    <a:lnTo>
                      <a:pt x="183" y="199"/>
                    </a:lnTo>
                    <a:lnTo>
                      <a:pt x="281" y="175"/>
                    </a:lnTo>
                    <a:lnTo>
                      <a:pt x="384" y="163"/>
                    </a:lnTo>
                    <a:lnTo>
                      <a:pt x="605" y="123"/>
                    </a:lnTo>
                    <a:lnTo>
                      <a:pt x="764" y="108"/>
                    </a:lnTo>
                    <a:lnTo>
                      <a:pt x="985" y="78"/>
                    </a:lnTo>
                    <a:lnTo>
                      <a:pt x="1177" y="72"/>
                    </a:lnTo>
                    <a:lnTo>
                      <a:pt x="1588" y="66"/>
                    </a:lnTo>
                    <a:lnTo>
                      <a:pt x="1835" y="36"/>
                    </a:lnTo>
                    <a:lnTo>
                      <a:pt x="2080" y="0"/>
                    </a:lnTo>
                    <a:lnTo>
                      <a:pt x="2107" y="17"/>
                    </a:lnTo>
                    <a:lnTo>
                      <a:pt x="2101" y="34"/>
                    </a:lnTo>
                    <a:lnTo>
                      <a:pt x="2088" y="42"/>
                    </a:lnTo>
                    <a:lnTo>
                      <a:pt x="1838" y="97"/>
                    </a:lnTo>
                    <a:lnTo>
                      <a:pt x="1726" y="125"/>
                    </a:lnTo>
                    <a:lnTo>
                      <a:pt x="1593" y="142"/>
                    </a:lnTo>
                    <a:lnTo>
                      <a:pt x="1188" y="159"/>
                    </a:lnTo>
                    <a:lnTo>
                      <a:pt x="781" y="203"/>
                    </a:lnTo>
                    <a:lnTo>
                      <a:pt x="618" y="218"/>
                    </a:lnTo>
                    <a:lnTo>
                      <a:pt x="392" y="258"/>
                    </a:lnTo>
                    <a:lnTo>
                      <a:pt x="198" y="296"/>
                    </a:lnTo>
                    <a:lnTo>
                      <a:pt x="27" y="296"/>
                    </a:lnTo>
                    <a:lnTo>
                      <a:pt x="0" y="281"/>
                    </a:lnTo>
                    <a:lnTo>
                      <a:pt x="17" y="254"/>
                    </a:lnTo>
                    <a:lnTo>
                      <a:pt x="17" y="254"/>
                    </a:lnTo>
                    <a:lnTo>
                      <a:pt x="17" y="254"/>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548" name=""/>
              <p:cNvSpPr/>
              <p:nvPr/>
            </p:nvSpPr>
            <p:spPr>
              <a:xfrm>
                <a:off x="1837080" y="2066400"/>
                <a:ext cx="54000" cy="676800"/>
              </a:xfrm>
              <a:custGeom>
                <a:avLst/>
                <a:gdLst/>
                <a:ahLst/>
                <a:rect l="l" t="t" r="r" b="b"/>
                <a:pathLst>
                  <a:path w="202" h="2650">
                    <a:moveTo>
                      <a:pt x="59" y="21"/>
                    </a:moveTo>
                    <a:lnTo>
                      <a:pt x="89" y="200"/>
                    </a:lnTo>
                    <a:lnTo>
                      <a:pt x="93" y="380"/>
                    </a:lnTo>
                    <a:lnTo>
                      <a:pt x="86" y="542"/>
                    </a:lnTo>
                    <a:lnTo>
                      <a:pt x="70" y="882"/>
                    </a:lnTo>
                    <a:lnTo>
                      <a:pt x="78" y="1211"/>
                    </a:lnTo>
                    <a:lnTo>
                      <a:pt x="105" y="1540"/>
                    </a:lnTo>
                    <a:lnTo>
                      <a:pt x="143" y="1855"/>
                    </a:lnTo>
                    <a:lnTo>
                      <a:pt x="147" y="1920"/>
                    </a:lnTo>
                    <a:lnTo>
                      <a:pt x="164" y="2011"/>
                    </a:lnTo>
                    <a:lnTo>
                      <a:pt x="179" y="2281"/>
                    </a:lnTo>
                    <a:lnTo>
                      <a:pt x="179" y="2331"/>
                    </a:lnTo>
                    <a:lnTo>
                      <a:pt x="192" y="2454"/>
                    </a:lnTo>
                    <a:lnTo>
                      <a:pt x="202" y="2620"/>
                    </a:lnTo>
                    <a:lnTo>
                      <a:pt x="196" y="2640"/>
                    </a:lnTo>
                    <a:lnTo>
                      <a:pt x="177" y="2650"/>
                    </a:lnTo>
                    <a:lnTo>
                      <a:pt x="148" y="2623"/>
                    </a:lnTo>
                    <a:lnTo>
                      <a:pt x="112" y="2464"/>
                    </a:lnTo>
                    <a:lnTo>
                      <a:pt x="97" y="2334"/>
                    </a:lnTo>
                    <a:lnTo>
                      <a:pt x="97" y="2281"/>
                    </a:lnTo>
                    <a:lnTo>
                      <a:pt x="82" y="2019"/>
                    </a:lnTo>
                    <a:lnTo>
                      <a:pt x="69" y="1928"/>
                    </a:lnTo>
                    <a:lnTo>
                      <a:pt x="63" y="1861"/>
                    </a:lnTo>
                    <a:lnTo>
                      <a:pt x="32" y="1546"/>
                    </a:lnTo>
                    <a:lnTo>
                      <a:pt x="0" y="882"/>
                    </a:lnTo>
                    <a:lnTo>
                      <a:pt x="8" y="702"/>
                    </a:lnTo>
                    <a:lnTo>
                      <a:pt x="25" y="542"/>
                    </a:lnTo>
                    <a:lnTo>
                      <a:pt x="38" y="202"/>
                    </a:lnTo>
                    <a:lnTo>
                      <a:pt x="15" y="25"/>
                    </a:lnTo>
                    <a:lnTo>
                      <a:pt x="21" y="8"/>
                    </a:lnTo>
                    <a:lnTo>
                      <a:pt x="34" y="0"/>
                    </a:lnTo>
                    <a:lnTo>
                      <a:pt x="59" y="21"/>
                    </a:lnTo>
                    <a:lnTo>
                      <a:pt x="59" y="21"/>
                    </a:lnTo>
                    <a:lnTo>
                      <a:pt x="59"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a:off x="1888560" y="2680200"/>
                <a:ext cx="504000" cy="60120"/>
              </a:xfrm>
              <a:custGeom>
                <a:avLst/>
                <a:gdLst/>
                <a:ahLst/>
                <a:rect l="l" t="t" r="r" b="b"/>
                <a:pathLst>
                  <a:path w="1884" h="235">
                    <a:moveTo>
                      <a:pt x="15" y="192"/>
                    </a:moveTo>
                    <a:lnTo>
                      <a:pt x="112" y="163"/>
                    </a:lnTo>
                    <a:lnTo>
                      <a:pt x="194" y="137"/>
                    </a:lnTo>
                    <a:lnTo>
                      <a:pt x="276" y="112"/>
                    </a:lnTo>
                    <a:lnTo>
                      <a:pt x="367" y="87"/>
                    </a:lnTo>
                    <a:lnTo>
                      <a:pt x="481" y="64"/>
                    </a:lnTo>
                    <a:lnTo>
                      <a:pt x="593" y="51"/>
                    </a:lnTo>
                    <a:lnTo>
                      <a:pt x="1430" y="32"/>
                    </a:lnTo>
                    <a:lnTo>
                      <a:pt x="1671" y="17"/>
                    </a:lnTo>
                    <a:lnTo>
                      <a:pt x="1764" y="17"/>
                    </a:lnTo>
                    <a:lnTo>
                      <a:pt x="1856" y="0"/>
                    </a:lnTo>
                    <a:lnTo>
                      <a:pt x="1884" y="9"/>
                    </a:lnTo>
                    <a:lnTo>
                      <a:pt x="1875" y="40"/>
                    </a:lnTo>
                    <a:lnTo>
                      <a:pt x="1823" y="63"/>
                    </a:lnTo>
                    <a:lnTo>
                      <a:pt x="1778" y="80"/>
                    </a:lnTo>
                    <a:lnTo>
                      <a:pt x="1675" y="99"/>
                    </a:lnTo>
                    <a:lnTo>
                      <a:pt x="1430" y="108"/>
                    </a:lnTo>
                    <a:lnTo>
                      <a:pt x="1013" y="101"/>
                    </a:lnTo>
                    <a:lnTo>
                      <a:pt x="597" y="102"/>
                    </a:lnTo>
                    <a:lnTo>
                      <a:pt x="378" y="137"/>
                    </a:lnTo>
                    <a:lnTo>
                      <a:pt x="205" y="182"/>
                    </a:lnTo>
                    <a:lnTo>
                      <a:pt x="124" y="207"/>
                    </a:lnTo>
                    <a:lnTo>
                      <a:pt x="31" y="235"/>
                    </a:lnTo>
                    <a:lnTo>
                      <a:pt x="0" y="220"/>
                    </a:lnTo>
                    <a:lnTo>
                      <a:pt x="15" y="192"/>
                    </a:lnTo>
                    <a:lnTo>
                      <a:pt x="15" y="192"/>
                    </a:lnTo>
                    <a:lnTo>
                      <a:pt x="15" y="19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50" name=""/>
              <p:cNvSpPr/>
              <p:nvPr/>
            </p:nvSpPr>
            <p:spPr>
              <a:xfrm>
                <a:off x="2397240" y="1997640"/>
                <a:ext cx="41040" cy="695520"/>
              </a:xfrm>
              <a:custGeom>
                <a:avLst/>
                <a:gdLst/>
                <a:ahLst/>
                <a:rect l="l" t="t" r="r" b="b"/>
                <a:pathLst>
                  <a:path w="154" h="2724">
                    <a:moveTo>
                      <a:pt x="107" y="12"/>
                    </a:moveTo>
                    <a:lnTo>
                      <a:pt x="141" y="150"/>
                    </a:lnTo>
                    <a:lnTo>
                      <a:pt x="143" y="219"/>
                    </a:lnTo>
                    <a:lnTo>
                      <a:pt x="141" y="295"/>
                    </a:lnTo>
                    <a:lnTo>
                      <a:pt x="154" y="681"/>
                    </a:lnTo>
                    <a:lnTo>
                      <a:pt x="128" y="1492"/>
                    </a:lnTo>
                    <a:lnTo>
                      <a:pt x="105" y="1836"/>
                    </a:lnTo>
                    <a:lnTo>
                      <a:pt x="82" y="2380"/>
                    </a:lnTo>
                    <a:lnTo>
                      <a:pt x="95" y="2699"/>
                    </a:lnTo>
                    <a:lnTo>
                      <a:pt x="80" y="2724"/>
                    </a:lnTo>
                    <a:lnTo>
                      <a:pt x="56" y="2705"/>
                    </a:lnTo>
                    <a:lnTo>
                      <a:pt x="0" y="2380"/>
                    </a:lnTo>
                    <a:lnTo>
                      <a:pt x="25" y="1829"/>
                    </a:lnTo>
                    <a:lnTo>
                      <a:pt x="57" y="1489"/>
                    </a:lnTo>
                    <a:lnTo>
                      <a:pt x="92" y="681"/>
                    </a:lnTo>
                    <a:lnTo>
                      <a:pt x="92" y="667"/>
                    </a:lnTo>
                    <a:lnTo>
                      <a:pt x="92" y="654"/>
                    </a:lnTo>
                    <a:lnTo>
                      <a:pt x="92" y="641"/>
                    </a:lnTo>
                    <a:lnTo>
                      <a:pt x="92" y="627"/>
                    </a:lnTo>
                    <a:lnTo>
                      <a:pt x="92" y="601"/>
                    </a:lnTo>
                    <a:lnTo>
                      <a:pt x="92" y="597"/>
                    </a:lnTo>
                    <a:lnTo>
                      <a:pt x="92" y="589"/>
                    </a:lnTo>
                    <a:lnTo>
                      <a:pt x="92" y="580"/>
                    </a:lnTo>
                    <a:lnTo>
                      <a:pt x="94" y="489"/>
                    </a:lnTo>
                    <a:lnTo>
                      <a:pt x="95" y="397"/>
                    </a:lnTo>
                    <a:lnTo>
                      <a:pt x="95" y="386"/>
                    </a:lnTo>
                    <a:lnTo>
                      <a:pt x="95" y="380"/>
                    </a:lnTo>
                    <a:lnTo>
                      <a:pt x="95" y="377"/>
                    </a:lnTo>
                    <a:lnTo>
                      <a:pt x="95" y="377"/>
                    </a:lnTo>
                    <a:lnTo>
                      <a:pt x="95" y="375"/>
                    </a:lnTo>
                    <a:lnTo>
                      <a:pt x="95" y="375"/>
                    </a:lnTo>
                    <a:lnTo>
                      <a:pt x="95" y="348"/>
                    </a:lnTo>
                    <a:lnTo>
                      <a:pt x="95" y="337"/>
                    </a:lnTo>
                    <a:lnTo>
                      <a:pt x="95" y="323"/>
                    </a:lnTo>
                    <a:lnTo>
                      <a:pt x="95" y="295"/>
                    </a:lnTo>
                    <a:lnTo>
                      <a:pt x="99" y="160"/>
                    </a:lnTo>
                    <a:lnTo>
                      <a:pt x="90" y="97"/>
                    </a:lnTo>
                    <a:lnTo>
                      <a:pt x="67" y="31"/>
                    </a:lnTo>
                    <a:lnTo>
                      <a:pt x="80" y="0"/>
                    </a:lnTo>
                    <a:lnTo>
                      <a:pt x="107" y="12"/>
                    </a:lnTo>
                    <a:lnTo>
                      <a:pt x="107" y="12"/>
                    </a:lnTo>
                    <a:lnTo>
                      <a:pt x="107"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1914840" y="2154240"/>
                <a:ext cx="434160" cy="35640"/>
              </a:xfrm>
              <a:custGeom>
                <a:avLst/>
                <a:gdLst/>
                <a:ahLst/>
                <a:rect l="l" t="t" r="r" b="b"/>
                <a:pathLst>
                  <a:path w="1624" h="139">
                    <a:moveTo>
                      <a:pt x="19" y="95"/>
                    </a:moveTo>
                    <a:lnTo>
                      <a:pt x="435" y="59"/>
                    </a:lnTo>
                    <a:lnTo>
                      <a:pt x="848" y="50"/>
                    </a:lnTo>
                    <a:lnTo>
                      <a:pt x="1069" y="29"/>
                    </a:lnTo>
                    <a:lnTo>
                      <a:pt x="1428" y="10"/>
                    </a:lnTo>
                    <a:lnTo>
                      <a:pt x="1597" y="0"/>
                    </a:lnTo>
                    <a:lnTo>
                      <a:pt x="1624" y="14"/>
                    </a:lnTo>
                    <a:lnTo>
                      <a:pt x="1607" y="40"/>
                    </a:lnTo>
                    <a:lnTo>
                      <a:pt x="1430" y="54"/>
                    </a:lnTo>
                    <a:lnTo>
                      <a:pt x="1074" y="73"/>
                    </a:lnTo>
                    <a:lnTo>
                      <a:pt x="848" y="95"/>
                    </a:lnTo>
                    <a:lnTo>
                      <a:pt x="437" y="105"/>
                    </a:lnTo>
                    <a:lnTo>
                      <a:pt x="25" y="139"/>
                    </a:lnTo>
                    <a:lnTo>
                      <a:pt x="0" y="118"/>
                    </a:lnTo>
                    <a:lnTo>
                      <a:pt x="4" y="103"/>
                    </a:lnTo>
                    <a:lnTo>
                      <a:pt x="19" y="95"/>
                    </a:lnTo>
                    <a:lnTo>
                      <a:pt x="19" y="95"/>
                    </a:lnTo>
                    <a:lnTo>
                      <a:pt x="19" y="95"/>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552" name=""/>
              <p:cNvSpPr/>
              <p:nvPr/>
            </p:nvSpPr>
            <p:spPr>
              <a:xfrm>
                <a:off x="1919160" y="2216880"/>
                <a:ext cx="442080" cy="29520"/>
              </a:xfrm>
              <a:custGeom>
                <a:avLst/>
                <a:gdLst/>
                <a:ahLst/>
                <a:rect l="l" t="t" r="r" b="b"/>
                <a:pathLst>
                  <a:path w="1652" h="116">
                    <a:moveTo>
                      <a:pt x="19" y="73"/>
                    </a:moveTo>
                    <a:lnTo>
                      <a:pt x="219" y="56"/>
                    </a:lnTo>
                    <a:lnTo>
                      <a:pt x="418" y="56"/>
                    </a:lnTo>
                    <a:lnTo>
                      <a:pt x="740" y="56"/>
                    </a:lnTo>
                    <a:lnTo>
                      <a:pt x="1025" y="39"/>
                    </a:lnTo>
                    <a:lnTo>
                      <a:pt x="1308" y="12"/>
                    </a:lnTo>
                    <a:lnTo>
                      <a:pt x="1631" y="0"/>
                    </a:lnTo>
                    <a:lnTo>
                      <a:pt x="1652" y="21"/>
                    </a:lnTo>
                    <a:lnTo>
                      <a:pt x="1631" y="44"/>
                    </a:lnTo>
                    <a:lnTo>
                      <a:pt x="1308" y="56"/>
                    </a:lnTo>
                    <a:lnTo>
                      <a:pt x="1025" y="80"/>
                    </a:lnTo>
                    <a:lnTo>
                      <a:pt x="738" y="101"/>
                    </a:lnTo>
                    <a:lnTo>
                      <a:pt x="417" y="97"/>
                    </a:lnTo>
                    <a:lnTo>
                      <a:pt x="219" y="97"/>
                    </a:lnTo>
                    <a:lnTo>
                      <a:pt x="23" y="116"/>
                    </a:lnTo>
                    <a:lnTo>
                      <a:pt x="0" y="97"/>
                    </a:lnTo>
                    <a:lnTo>
                      <a:pt x="4" y="82"/>
                    </a:lnTo>
                    <a:lnTo>
                      <a:pt x="19" y="73"/>
                    </a:lnTo>
                    <a:lnTo>
                      <a:pt x="19" y="73"/>
                    </a:lnTo>
                    <a:lnTo>
                      <a:pt x="19" y="7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553" name=""/>
              <p:cNvSpPr/>
              <p:nvPr/>
            </p:nvSpPr>
            <p:spPr>
              <a:xfrm>
                <a:off x="1914840" y="2211840"/>
                <a:ext cx="28080" cy="275400"/>
              </a:xfrm>
              <a:custGeom>
                <a:avLst/>
                <a:gdLst/>
                <a:ahLst/>
                <a:rect l="l" t="t" r="r" b="b"/>
                <a:pathLst>
                  <a:path w="107" h="1078">
                    <a:moveTo>
                      <a:pt x="44" y="23"/>
                    </a:moveTo>
                    <a:lnTo>
                      <a:pt x="61" y="415"/>
                    </a:lnTo>
                    <a:lnTo>
                      <a:pt x="91" y="805"/>
                    </a:lnTo>
                    <a:lnTo>
                      <a:pt x="107" y="1055"/>
                    </a:lnTo>
                    <a:lnTo>
                      <a:pt x="86" y="1078"/>
                    </a:lnTo>
                    <a:lnTo>
                      <a:pt x="61" y="1057"/>
                    </a:lnTo>
                    <a:lnTo>
                      <a:pt x="46" y="806"/>
                    </a:lnTo>
                    <a:lnTo>
                      <a:pt x="0" y="23"/>
                    </a:lnTo>
                    <a:lnTo>
                      <a:pt x="21" y="0"/>
                    </a:lnTo>
                    <a:lnTo>
                      <a:pt x="44" y="23"/>
                    </a:lnTo>
                    <a:lnTo>
                      <a:pt x="44" y="23"/>
                    </a:lnTo>
                    <a:lnTo>
                      <a:pt x="4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1962360" y="2175480"/>
                <a:ext cx="24480" cy="309960"/>
              </a:xfrm>
              <a:custGeom>
                <a:avLst/>
                <a:gdLst/>
                <a:ahLst/>
                <a:rect l="l" t="t" r="r" b="b"/>
                <a:pathLst>
                  <a:path w="93" h="1215">
                    <a:moveTo>
                      <a:pt x="42" y="19"/>
                    </a:moveTo>
                    <a:lnTo>
                      <a:pt x="68" y="276"/>
                    </a:lnTo>
                    <a:lnTo>
                      <a:pt x="89" y="1017"/>
                    </a:lnTo>
                    <a:lnTo>
                      <a:pt x="93" y="1194"/>
                    </a:lnTo>
                    <a:lnTo>
                      <a:pt x="70" y="1215"/>
                    </a:lnTo>
                    <a:lnTo>
                      <a:pt x="49" y="1190"/>
                    </a:lnTo>
                    <a:lnTo>
                      <a:pt x="44" y="1017"/>
                    </a:lnTo>
                    <a:lnTo>
                      <a:pt x="25" y="277"/>
                    </a:lnTo>
                    <a:lnTo>
                      <a:pt x="0" y="25"/>
                    </a:lnTo>
                    <a:lnTo>
                      <a:pt x="6" y="8"/>
                    </a:lnTo>
                    <a:lnTo>
                      <a:pt x="17" y="0"/>
                    </a:lnTo>
                    <a:lnTo>
                      <a:pt x="42" y="19"/>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2026800" y="2176560"/>
                <a:ext cx="20880" cy="321120"/>
              </a:xfrm>
              <a:custGeom>
                <a:avLst/>
                <a:gdLst/>
                <a:ahLst/>
                <a:rect l="l" t="t" r="r" b="b"/>
                <a:pathLst>
                  <a:path w="78" h="1258">
                    <a:moveTo>
                      <a:pt x="46" y="24"/>
                    </a:moveTo>
                    <a:lnTo>
                      <a:pt x="50" y="230"/>
                    </a:lnTo>
                    <a:lnTo>
                      <a:pt x="59" y="433"/>
                    </a:lnTo>
                    <a:lnTo>
                      <a:pt x="54" y="722"/>
                    </a:lnTo>
                    <a:lnTo>
                      <a:pt x="59" y="1013"/>
                    </a:lnTo>
                    <a:lnTo>
                      <a:pt x="78" y="1237"/>
                    </a:lnTo>
                    <a:lnTo>
                      <a:pt x="73" y="1254"/>
                    </a:lnTo>
                    <a:lnTo>
                      <a:pt x="59" y="1258"/>
                    </a:lnTo>
                    <a:lnTo>
                      <a:pt x="36" y="1237"/>
                    </a:lnTo>
                    <a:lnTo>
                      <a:pt x="17" y="1015"/>
                    </a:lnTo>
                    <a:lnTo>
                      <a:pt x="12" y="724"/>
                    </a:lnTo>
                    <a:lnTo>
                      <a:pt x="17" y="433"/>
                    </a:lnTo>
                    <a:lnTo>
                      <a:pt x="0" y="21"/>
                    </a:lnTo>
                    <a:lnTo>
                      <a:pt x="25" y="0"/>
                    </a:lnTo>
                    <a:lnTo>
                      <a:pt x="46" y="24"/>
                    </a:lnTo>
                    <a:lnTo>
                      <a:pt x="46" y="24"/>
                    </a:lnTo>
                    <a:lnTo>
                      <a:pt x="46"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a:off x="2085480" y="2172600"/>
                <a:ext cx="18720" cy="311400"/>
              </a:xfrm>
              <a:custGeom>
                <a:avLst/>
                <a:gdLst/>
                <a:ahLst/>
                <a:rect l="l" t="t" r="r" b="b"/>
                <a:pathLst>
                  <a:path w="70" h="1220">
                    <a:moveTo>
                      <a:pt x="44" y="22"/>
                    </a:moveTo>
                    <a:lnTo>
                      <a:pt x="63" y="821"/>
                    </a:lnTo>
                    <a:lnTo>
                      <a:pt x="70" y="1195"/>
                    </a:lnTo>
                    <a:lnTo>
                      <a:pt x="65" y="1212"/>
                    </a:lnTo>
                    <a:lnTo>
                      <a:pt x="49" y="1220"/>
                    </a:lnTo>
                    <a:lnTo>
                      <a:pt x="27" y="1201"/>
                    </a:lnTo>
                    <a:lnTo>
                      <a:pt x="19" y="821"/>
                    </a:lnTo>
                    <a:lnTo>
                      <a:pt x="0" y="22"/>
                    </a:lnTo>
                    <a:lnTo>
                      <a:pt x="21" y="0"/>
                    </a:lnTo>
                    <a:lnTo>
                      <a:pt x="44" y="22"/>
                    </a:lnTo>
                    <a:lnTo>
                      <a:pt x="44" y="22"/>
                    </a:lnTo>
                    <a:lnTo>
                      <a:pt x="44"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2143440" y="2174040"/>
                <a:ext cx="22680" cy="304920"/>
              </a:xfrm>
              <a:custGeom>
                <a:avLst/>
                <a:gdLst/>
                <a:ahLst/>
                <a:rect l="l" t="t" r="r" b="b"/>
                <a:pathLst>
                  <a:path w="85" h="1194">
                    <a:moveTo>
                      <a:pt x="43" y="23"/>
                    </a:moveTo>
                    <a:lnTo>
                      <a:pt x="59" y="409"/>
                    </a:lnTo>
                    <a:lnTo>
                      <a:pt x="76" y="795"/>
                    </a:lnTo>
                    <a:lnTo>
                      <a:pt x="85" y="1167"/>
                    </a:lnTo>
                    <a:lnTo>
                      <a:pt x="68" y="1194"/>
                    </a:lnTo>
                    <a:lnTo>
                      <a:pt x="43" y="1177"/>
                    </a:lnTo>
                    <a:lnTo>
                      <a:pt x="22" y="985"/>
                    </a:lnTo>
                    <a:lnTo>
                      <a:pt x="30" y="795"/>
                    </a:lnTo>
                    <a:lnTo>
                      <a:pt x="15" y="409"/>
                    </a:lnTo>
                    <a:lnTo>
                      <a:pt x="0" y="23"/>
                    </a:lnTo>
                    <a:lnTo>
                      <a:pt x="22" y="0"/>
                    </a:lnTo>
                    <a:lnTo>
                      <a:pt x="43" y="23"/>
                    </a:lnTo>
                    <a:lnTo>
                      <a:pt x="43" y="23"/>
                    </a:lnTo>
                    <a:lnTo>
                      <a:pt x="43"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2275560" y="2161440"/>
                <a:ext cx="20880" cy="324360"/>
              </a:xfrm>
              <a:custGeom>
                <a:avLst/>
                <a:gdLst/>
                <a:ahLst/>
                <a:rect l="l" t="t" r="r" b="b"/>
                <a:pathLst>
                  <a:path w="80" h="1270">
                    <a:moveTo>
                      <a:pt x="44" y="19"/>
                    </a:moveTo>
                    <a:lnTo>
                      <a:pt x="48" y="308"/>
                    </a:lnTo>
                    <a:lnTo>
                      <a:pt x="65" y="530"/>
                    </a:lnTo>
                    <a:lnTo>
                      <a:pt x="80" y="1247"/>
                    </a:lnTo>
                    <a:lnTo>
                      <a:pt x="57" y="1270"/>
                    </a:lnTo>
                    <a:lnTo>
                      <a:pt x="36" y="1247"/>
                    </a:lnTo>
                    <a:lnTo>
                      <a:pt x="19" y="530"/>
                    </a:lnTo>
                    <a:lnTo>
                      <a:pt x="4" y="313"/>
                    </a:lnTo>
                    <a:lnTo>
                      <a:pt x="0" y="25"/>
                    </a:lnTo>
                    <a:lnTo>
                      <a:pt x="4" y="5"/>
                    </a:lnTo>
                    <a:lnTo>
                      <a:pt x="19" y="0"/>
                    </a:lnTo>
                    <a:lnTo>
                      <a:pt x="44" y="19"/>
                    </a:lnTo>
                    <a:lnTo>
                      <a:pt x="44" y="19"/>
                    </a:lnTo>
                    <a:lnTo>
                      <a:pt x="44"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2337840" y="2175480"/>
                <a:ext cx="14400" cy="311400"/>
              </a:xfrm>
              <a:custGeom>
                <a:avLst/>
                <a:gdLst/>
                <a:ahLst/>
                <a:rect l="l" t="t" r="r" b="b"/>
                <a:pathLst>
                  <a:path w="53" h="1220">
                    <a:moveTo>
                      <a:pt x="42" y="19"/>
                    </a:moveTo>
                    <a:lnTo>
                      <a:pt x="53" y="264"/>
                    </a:lnTo>
                    <a:lnTo>
                      <a:pt x="42" y="1197"/>
                    </a:lnTo>
                    <a:lnTo>
                      <a:pt x="19" y="1220"/>
                    </a:lnTo>
                    <a:lnTo>
                      <a:pt x="0" y="1197"/>
                    </a:lnTo>
                    <a:lnTo>
                      <a:pt x="11" y="264"/>
                    </a:lnTo>
                    <a:lnTo>
                      <a:pt x="0" y="25"/>
                    </a:lnTo>
                    <a:lnTo>
                      <a:pt x="4" y="8"/>
                    </a:lnTo>
                    <a:lnTo>
                      <a:pt x="17" y="0"/>
                    </a:lnTo>
                    <a:lnTo>
                      <a:pt x="42" y="19"/>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1968840" y="2602080"/>
                <a:ext cx="342000" cy="14760"/>
              </a:xfrm>
              <a:custGeom>
                <a:avLst/>
                <a:gdLst/>
                <a:ahLst/>
                <a:rect l="l" t="t" r="r" b="b"/>
                <a:pathLst>
                  <a:path w="1277" h="57">
                    <a:moveTo>
                      <a:pt x="22" y="9"/>
                    </a:moveTo>
                    <a:lnTo>
                      <a:pt x="481" y="13"/>
                    </a:lnTo>
                    <a:lnTo>
                      <a:pt x="935" y="0"/>
                    </a:lnTo>
                    <a:lnTo>
                      <a:pt x="1256" y="13"/>
                    </a:lnTo>
                    <a:lnTo>
                      <a:pt x="1277" y="36"/>
                    </a:lnTo>
                    <a:lnTo>
                      <a:pt x="1254" y="57"/>
                    </a:lnTo>
                    <a:lnTo>
                      <a:pt x="935" y="43"/>
                    </a:lnTo>
                    <a:lnTo>
                      <a:pt x="479" y="57"/>
                    </a:lnTo>
                    <a:lnTo>
                      <a:pt x="19" y="53"/>
                    </a:lnTo>
                    <a:lnTo>
                      <a:pt x="0" y="28"/>
                    </a:lnTo>
                    <a:lnTo>
                      <a:pt x="22" y="9"/>
                    </a:lnTo>
                    <a:lnTo>
                      <a:pt x="22" y="9"/>
                    </a:lnTo>
                    <a:lnTo>
                      <a:pt x="22" y="9"/>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561" name=""/>
              <p:cNvSpPr/>
              <p:nvPr/>
            </p:nvSpPr>
            <p:spPr>
              <a:xfrm>
                <a:off x="1964160" y="2639160"/>
                <a:ext cx="349560" cy="20880"/>
              </a:xfrm>
              <a:custGeom>
                <a:avLst/>
                <a:gdLst/>
                <a:ahLst/>
                <a:rect l="l" t="t" r="r" b="b"/>
                <a:pathLst>
                  <a:path w="1306" h="84">
                    <a:moveTo>
                      <a:pt x="17" y="40"/>
                    </a:moveTo>
                    <a:lnTo>
                      <a:pt x="190" y="14"/>
                    </a:lnTo>
                    <a:lnTo>
                      <a:pt x="342" y="0"/>
                    </a:lnTo>
                    <a:lnTo>
                      <a:pt x="667" y="4"/>
                    </a:lnTo>
                    <a:lnTo>
                      <a:pt x="789" y="21"/>
                    </a:lnTo>
                    <a:lnTo>
                      <a:pt x="908" y="36"/>
                    </a:lnTo>
                    <a:lnTo>
                      <a:pt x="1285" y="16"/>
                    </a:lnTo>
                    <a:lnTo>
                      <a:pt x="1306" y="38"/>
                    </a:lnTo>
                    <a:lnTo>
                      <a:pt x="1285" y="59"/>
                    </a:lnTo>
                    <a:lnTo>
                      <a:pt x="1096" y="73"/>
                    </a:lnTo>
                    <a:lnTo>
                      <a:pt x="906" y="80"/>
                    </a:lnTo>
                    <a:lnTo>
                      <a:pt x="787" y="65"/>
                    </a:lnTo>
                    <a:lnTo>
                      <a:pt x="663" y="50"/>
                    </a:lnTo>
                    <a:lnTo>
                      <a:pt x="344" y="46"/>
                    </a:lnTo>
                    <a:lnTo>
                      <a:pt x="22" y="84"/>
                    </a:lnTo>
                    <a:lnTo>
                      <a:pt x="0" y="67"/>
                    </a:lnTo>
                    <a:lnTo>
                      <a:pt x="17" y="40"/>
                    </a:lnTo>
                    <a:lnTo>
                      <a:pt x="17" y="40"/>
                    </a:lnTo>
                    <a:lnTo>
                      <a:pt x="17" y="4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62" name=""/>
              <p:cNvSpPr/>
              <p:nvPr/>
            </p:nvSpPr>
            <p:spPr>
              <a:xfrm>
                <a:off x="1964520" y="2481120"/>
                <a:ext cx="356760" cy="18720"/>
              </a:xfrm>
              <a:custGeom>
                <a:avLst/>
                <a:gdLst/>
                <a:ahLst/>
                <a:rect l="l" t="t" r="r" b="b"/>
                <a:pathLst>
                  <a:path w="1335" h="74">
                    <a:moveTo>
                      <a:pt x="25" y="26"/>
                    </a:moveTo>
                    <a:lnTo>
                      <a:pt x="441" y="32"/>
                    </a:lnTo>
                    <a:lnTo>
                      <a:pt x="860" y="13"/>
                    </a:lnTo>
                    <a:lnTo>
                      <a:pt x="1088" y="0"/>
                    </a:lnTo>
                    <a:lnTo>
                      <a:pt x="1316" y="19"/>
                    </a:lnTo>
                    <a:lnTo>
                      <a:pt x="1335" y="41"/>
                    </a:lnTo>
                    <a:lnTo>
                      <a:pt x="1310" y="62"/>
                    </a:lnTo>
                    <a:lnTo>
                      <a:pt x="1088" y="41"/>
                    </a:lnTo>
                    <a:lnTo>
                      <a:pt x="864" y="57"/>
                    </a:lnTo>
                    <a:lnTo>
                      <a:pt x="443" y="74"/>
                    </a:lnTo>
                    <a:lnTo>
                      <a:pt x="25" y="68"/>
                    </a:lnTo>
                    <a:lnTo>
                      <a:pt x="0" y="49"/>
                    </a:lnTo>
                    <a:lnTo>
                      <a:pt x="25" y="26"/>
                    </a:lnTo>
                    <a:lnTo>
                      <a:pt x="25" y="26"/>
                    </a:lnTo>
                    <a:lnTo>
                      <a:pt x="25" y="26"/>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563" name=""/>
              <p:cNvSpPr/>
              <p:nvPr/>
            </p:nvSpPr>
            <p:spPr>
              <a:xfrm>
                <a:off x="2210400" y="2169360"/>
                <a:ext cx="21240" cy="309600"/>
              </a:xfrm>
              <a:custGeom>
                <a:avLst/>
                <a:gdLst/>
                <a:ahLst/>
                <a:rect l="l" t="t" r="r" b="b"/>
                <a:pathLst>
                  <a:path w="80" h="1213">
                    <a:moveTo>
                      <a:pt x="45" y="21"/>
                    </a:moveTo>
                    <a:lnTo>
                      <a:pt x="55" y="259"/>
                    </a:lnTo>
                    <a:lnTo>
                      <a:pt x="76" y="493"/>
                    </a:lnTo>
                    <a:lnTo>
                      <a:pt x="80" y="677"/>
                    </a:lnTo>
                    <a:lnTo>
                      <a:pt x="76" y="840"/>
                    </a:lnTo>
                    <a:lnTo>
                      <a:pt x="80" y="1190"/>
                    </a:lnTo>
                    <a:lnTo>
                      <a:pt x="74" y="1207"/>
                    </a:lnTo>
                    <a:lnTo>
                      <a:pt x="59" y="1213"/>
                    </a:lnTo>
                    <a:lnTo>
                      <a:pt x="36" y="1192"/>
                    </a:lnTo>
                    <a:lnTo>
                      <a:pt x="32" y="844"/>
                    </a:lnTo>
                    <a:lnTo>
                      <a:pt x="36" y="679"/>
                    </a:lnTo>
                    <a:lnTo>
                      <a:pt x="32" y="494"/>
                    </a:lnTo>
                    <a:lnTo>
                      <a:pt x="0" y="21"/>
                    </a:lnTo>
                    <a:lnTo>
                      <a:pt x="22" y="0"/>
                    </a:lnTo>
                    <a:lnTo>
                      <a:pt x="45" y="21"/>
                    </a:lnTo>
                    <a:lnTo>
                      <a:pt x="45" y="21"/>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64" name=""/>
          <p:cNvGrpSpPr/>
          <p:nvPr/>
        </p:nvGrpSpPr>
        <p:grpSpPr>
          <a:xfrm>
            <a:off x="1676520" y="2819520"/>
            <a:ext cx="6781680" cy="879480"/>
            <a:chOff x="1676520" y="2819520"/>
            <a:chExt cx="6781680" cy="879480"/>
          </a:xfrm>
        </p:grpSpPr>
        <p:pic>
          <p:nvPicPr>
            <p:cNvPr id="565" name="PE01737_" descr=""/>
            <p:cNvPicPr/>
            <p:nvPr/>
          </p:nvPicPr>
          <p:blipFill>
            <a:blip r:embed="rId7"/>
            <a:stretch/>
          </p:blipFill>
          <p:spPr>
            <a:xfrm>
              <a:off x="7162920" y="2895480"/>
              <a:ext cx="1295280" cy="803520"/>
            </a:xfrm>
            <a:prstGeom prst="rect">
              <a:avLst/>
            </a:prstGeom>
            <a:ln w="0">
              <a:noFill/>
            </a:ln>
          </p:spPr>
        </p:pic>
        <p:grpSp>
          <p:nvGrpSpPr>
            <p:cNvPr id="566" name=""/>
            <p:cNvGrpSpPr/>
            <p:nvPr/>
          </p:nvGrpSpPr>
          <p:grpSpPr>
            <a:xfrm>
              <a:off x="1676520" y="2819520"/>
              <a:ext cx="609480" cy="761760"/>
              <a:chOff x="1676520" y="2819520"/>
              <a:chExt cx="609480" cy="761760"/>
            </a:xfrm>
          </p:grpSpPr>
          <p:sp>
            <p:nvSpPr>
              <p:cNvPr id="567" name=""/>
              <p:cNvSpPr/>
              <p:nvPr/>
            </p:nvSpPr>
            <p:spPr>
              <a:xfrm>
                <a:off x="1676520" y="2824920"/>
                <a:ext cx="607320" cy="698040"/>
              </a:xfrm>
              <a:custGeom>
                <a:avLst/>
                <a:gdLst/>
                <a:ahLst/>
                <a:rect l="l" t="t" r="r" b="b"/>
                <a:pathLst>
                  <a:path w="2270" h="2734">
                    <a:moveTo>
                      <a:pt x="61" y="238"/>
                    </a:moveTo>
                    <a:lnTo>
                      <a:pt x="766" y="126"/>
                    </a:lnTo>
                    <a:lnTo>
                      <a:pt x="1753" y="67"/>
                    </a:lnTo>
                    <a:lnTo>
                      <a:pt x="2150" y="0"/>
                    </a:lnTo>
                    <a:lnTo>
                      <a:pt x="2230" y="56"/>
                    </a:lnTo>
                    <a:lnTo>
                      <a:pt x="2270" y="698"/>
                    </a:lnTo>
                    <a:lnTo>
                      <a:pt x="2161" y="2318"/>
                    </a:lnTo>
                    <a:lnTo>
                      <a:pt x="2203" y="2700"/>
                    </a:lnTo>
                    <a:lnTo>
                      <a:pt x="1895" y="2734"/>
                    </a:lnTo>
                    <a:lnTo>
                      <a:pt x="357" y="2658"/>
                    </a:lnTo>
                    <a:lnTo>
                      <a:pt x="171" y="2641"/>
                    </a:lnTo>
                    <a:lnTo>
                      <a:pt x="0" y="1457"/>
                    </a:lnTo>
                    <a:lnTo>
                      <a:pt x="38" y="316"/>
                    </a:lnTo>
                    <a:lnTo>
                      <a:pt x="61" y="238"/>
                    </a:lnTo>
                    <a:lnTo>
                      <a:pt x="61" y="238"/>
                    </a:lnTo>
                    <a:lnTo>
                      <a:pt x="61" y="2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a:off x="1686600" y="2852640"/>
                <a:ext cx="579600" cy="714600"/>
              </a:xfrm>
              <a:custGeom>
                <a:avLst/>
                <a:gdLst/>
                <a:ahLst/>
                <a:rect l="l" t="t" r="r" b="b"/>
                <a:pathLst>
                  <a:path w="2165" h="2800">
                    <a:moveTo>
                      <a:pt x="82" y="198"/>
                    </a:moveTo>
                    <a:lnTo>
                      <a:pt x="574" y="156"/>
                    </a:lnTo>
                    <a:lnTo>
                      <a:pt x="1161" y="112"/>
                    </a:lnTo>
                    <a:lnTo>
                      <a:pt x="1715" y="85"/>
                    </a:lnTo>
                    <a:lnTo>
                      <a:pt x="2004" y="0"/>
                    </a:lnTo>
                    <a:lnTo>
                      <a:pt x="2097" y="9"/>
                    </a:lnTo>
                    <a:lnTo>
                      <a:pt x="2123" y="112"/>
                    </a:lnTo>
                    <a:lnTo>
                      <a:pt x="2106" y="1262"/>
                    </a:lnTo>
                    <a:lnTo>
                      <a:pt x="2080" y="2133"/>
                    </a:lnTo>
                    <a:lnTo>
                      <a:pt x="2165" y="2591"/>
                    </a:lnTo>
                    <a:lnTo>
                      <a:pt x="1909" y="2659"/>
                    </a:lnTo>
                    <a:lnTo>
                      <a:pt x="1289" y="2648"/>
                    </a:lnTo>
                    <a:lnTo>
                      <a:pt x="779" y="2659"/>
                    </a:lnTo>
                    <a:lnTo>
                      <a:pt x="201" y="2800"/>
                    </a:lnTo>
                    <a:lnTo>
                      <a:pt x="173" y="2534"/>
                    </a:lnTo>
                    <a:lnTo>
                      <a:pt x="64" y="1340"/>
                    </a:lnTo>
                    <a:lnTo>
                      <a:pt x="64" y="435"/>
                    </a:lnTo>
                    <a:lnTo>
                      <a:pt x="0" y="207"/>
                    </a:lnTo>
                    <a:lnTo>
                      <a:pt x="82" y="198"/>
                    </a:lnTo>
                    <a:lnTo>
                      <a:pt x="82" y="198"/>
                    </a:lnTo>
                    <a:lnTo>
                      <a:pt x="82" y="198"/>
                    </a:lnTo>
                    <a:close/>
                  </a:path>
                </a:pathLst>
              </a:custGeom>
              <a:solidFill>
                <a:srgbClr val="ffe0d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1781280" y="3355560"/>
                <a:ext cx="218160" cy="78120"/>
              </a:xfrm>
              <a:custGeom>
                <a:avLst/>
                <a:gdLst/>
                <a:ahLst/>
                <a:rect l="l" t="t" r="r" b="b"/>
                <a:pathLst>
                  <a:path w="816" h="306">
                    <a:moveTo>
                      <a:pt x="0" y="69"/>
                    </a:moveTo>
                    <a:lnTo>
                      <a:pt x="740" y="0"/>
                    </a:lnTo>
                    <a:lnTo>
                      <a:pt x="816" y="306"/>
                    </a:lnTo>
                    <a:lnTo>
                      <a:pt x="18" y="299"/>
                    </a:lnTo>
                    <a:lnTo>
                      <a:pt x="0" y="69"/>
                    </a:lnTo>
                    <a:lnTo>
                      <a:pt x="0" y="69"/>
                    </a:lnTo>
                    <a:lnTo>
                      <a:pt x="0" y="69"/>
                    </a:lnTo>
                    <a:close/>
                  </a:path>
                </a:pathLst>
              </a:custGeom>
              <a:solidFill>
                <a:srgbClr val="b2f4ff"/>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70" name=""/>
              <p:cNvSpPr/>
              <p:nvPr/>
            </p:nvSpPr>
            <p:spPr>
              <a:xfrm>
                <a:off x="1761120" y="2985840"/>
                <a:ext cx="429840" cy="354240"/>
              </a:xfrm>
              <a:custGeom>
                <a:avLst/>
                <a:gdLst/>
                <a:ahLst/>
                <a:rect l="l" t="t" r="r" b="b"/>
                <a:pathLst>
                  <a:path w="1607" h="1387">
                    <a:moveTo>
                      <a:pt x="0" y="167"/>
                    </a:moveTo>
                    <a:lnTo>
                      <a:pt x="0" y="1387"/>
                    </a:lnTo>
                    <a:lnTo>
                      <a:pt x="1607" y="1210"/>
                    </a:lnTo>
                    <a:lnTo>
                      <a:pt x="1557" y="0"/>
                    </a:lnTo>
                    <a:lnTo>
                      <a:pt x="0" y="167"/>
                    </a:lnTo>
                    <a:lnTo>
                      <a:pt x="0" y="167"/>
                    </a:lnTo>
                    <a:lnTo>
                      <a:pt x="0" y="167"/>
                    </a:lnTo>
                    <a:close/>
                  </a:path>
                </a:pathLst>
              </a:custGeom>
              <a:solidFill>
                <a:srgbClr val="f5f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1744200" y="2899080"/>
                <a:ext cx="452520" cy="94680"/>
              </a:xfrm>
              <a:custGeom>
                <a:avLst/>
                <a:gdLst/>
                <a:ahLst/>
                <a:rect l="l" t="t" r="r" b="b"/>
                <a:pathLst>
                  <a:path w="1692" h="373">
                    <a:moveTo>
                      <a:pt x="9" y="101"/>
                    </a:moveTo>
                    <a:lnTo>
                      <a:pt x="0" y="373"/>
                    </a:lnTo>
                    <a:lnTo>
                      <a:pt x="1692" y="272"/>
                    </a:lnTo>
                    <a:lnTo>
                      <a:pt x="1652" y="0"/>
                    </a:lnTo>
                    <a:lnTo>
                      <a:pt x="1030" y="35"/>
                    </a:lnTo>
                    <a:lnTo>
                      <a:pt x="452" y="50"/>
                    </a:lnTo>
                    <a:lnTo>
                      <a:pt x="9" y="101"/>
                    </a:lnTo>
                    <a:lnTo>
                      <a:pt x="9" y="101"/>
                    </a:lnTo>
                    <a:lnTo>
                      <a:pt x="9" y="101"/>
                    </a:lnTo>
                    <a:close/>
                  </a:path>
                </a:pathLst>
              </a:custGeom>
              <a:solidFill>
                <a:srgbClr val="ff99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1771560" y="3407040"/>
                <a:ext cx="415800" cy="119880"/>
              </a:xfrm>
              <a:custGeom>
                <a:avLst/>
                <a:gdLst/>
                <a:ahLst/>
                <a:rect l="l" t="t" r="r" b="b"/>
                <a:pathLst>
                  <a:path w="1555" h="471">
                    <a:moveTo>
                      <a:pt x="0" y="167"/>
                    </a:moveTo>
                    <a:lnTo>
                      <a:pt x="42" y="471"/>
                    </a:lnTo>
                    <a:lnTo>
                      <a:pt x="1514" y="275"/>
                    </a:lnTo>
                    <a:lnTo>
                      <a:pt x="1555" y="0"/>
                    </a:lnTo>
                    <a:lnTo>
                      <a:pt x="0" y="167"/>
                    </a:lnTo>
                    <a:lnTo>
                      <a:pt x="0" y="167"/>
                    </a:lnTo>
                    <a:lnTo>
                      <a:pt x="0" y="167"/>
                    </a:lnTo>
                    <a:close/>
                  </a:path>
                </a:pathLst>
              </a:custGeom>
              <a:solidFill>
                <a:srgbClr val="f5f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1695600" y="2819520"/>
                <a:ext cx="563400" cy="75600"/>
              </a:xfrm>
              <a:custGeom>
                <a:avLst/>
                <a:gdLst/>
                <a:ahLst/>
                <a:rect l="l" t="t" r="r" b="b"/>
                <a:pathLst>
                  <a:path w="2107" h="296">
                    <a:moveTo>
                      <a:pt x="17" y="254"/>
                    </a:moveTo>
                    <a:lnTo>
                      <a:pt x="101" y="224"/>
                    </a:lnTo>
                    <a:lnTo>
                      <a:pt x="183" y="199"/>
                    </a:lnTo>
                    <a:lnTo>
                      <a:pt x="281" y="175"/>
                    </a:lnTo>
                    <a:lnTo>
                      <a:pt x="384" y="163"/>
                    </a:lnTo>
                    <a:lnTo>
                      <a:pt x="605" y="123"/>
                    </a:lnTo>
                    <a:lnTo>
                      <a:pt x="764" y="108"/>
                    </a:lnTo>
                    <a:lnTo>
                      <a:pt x="985" y="78"/>
                    </a:lnTo>
                    <a:lnTo>
                      <a:pt x="1177" y="72"/>
                    </a:lnTo>
                    <a:lnTo>
                      <a:pt x="1588" y="66"/>
                    </a:lnTo>
                    <a:lnTo>
                      <a:pt x="1835" y="36"/>
                    </a:lnTo>
                    <a:lnTo>
                      <a:pt x="2080" y="0"/>
                    </a:lnTo>
                    <a:lnTo>
                      <a:pt x="2107" y="17"/>
                    </a:lnTo>
                    <a:lnTo>
                      <a:pt x="2101" y="34"/>
                    </a:lnTo>
                    <a:lnTo>
                      <a:pt x="2088" y="42"/>
                    </a:lnTo>
                    <a:lnTo>
                      <a:pt x="1838" y="97"/>
                    </a:lnTo>
                    <a:lnTo>
                      <a:pt x="1726" y="125"/>
                    </a:lnTo>
                    <a:lnTo>
                      <a:pt x="1593" y="142"/>
                    </a:lnTo>
                    <a:lnTo>
                      <a:pt x="1188" y="159"/>
                    </a:lnTo>
                    <a:lnTo>
                      <a:pt x="781" y="203"/>
                    </a:lnTo>
                    <a:lnTo>
                      <a:pt x="618" y="218"/>
                    </a:lnTo>
                    <a:lnTo>
                      <a:pt x="392" y="258"/>
                    </a:lnTo>
                    <a:lnTo>
                      <a:pt x="198" y="296"/>
                    </a:lnTo>
                    <a:lnTo>
                      <a:pt x="27" y="296"/>
                    </a:lnTo>
                    <a:lnTo>
                      <a:pt x="0" y="281"/>
                    </a:lnTo>
                    <a:lnTo>
                      <a:pt x="17" y="254"/>
                    </a:lnTo>
                    <a:lnTo>
                      <a:pt x="17" y="254"/>
                    </a:lnTo>
                    <a:lnTo>
                      <a:pt x="17" y="254"/>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574" name=""/>
              <p:cNvSpPr/>
              <p:nvPr/>
            </p:nvSpPr>
            <p:spPr>
              <a:xfrm>
                <a:off x="1684800" y="2904840"/>
                <a:ext cx="54000" cy="676440"/>
              </a:xfrm>
              <a:custGeom>
                <a:avLst/>
                <a:gdLst/>
                <a:ahLst/>
                <a:rect l="l" t="t" r="r" b="b"/>
                <a:pathLst>
                  <a:path w="202" h="2650">
                    <a:moveTo>
                      <a:pt x="59" y="21"/>
                    </a:moveTo>
                    <a:lnTo>
                      <a:pt x="89" y="200"/>
                    </a:lnTo>
                    <a:lnTo>
                      <a:pt x="93" y="380"/>
                    </a:lnTo>
                    <a:lnTo>
                      <a:pt x="86" y="542"/>
                    </a:lnTo>
                    <a:lnTo>
                      <a:pt x="70" y="882"/>
                    </a:lnTo>
                    <a:lnTo>
                      <a:pt x="78" y="1211"/>
                    </a:lnTo>
                    <a:lnTo>
                      <a:pt x="105" y="1540"/>
                    </a:lnTo>
                    <a:lnTo>
                      <a:pt x="143" y="1855"/>
                    </a:lnTo>
                    <a:lnTo>
                      <a:pt x="147" y="1920"/>
                    </a:lnTo>
                    <a:lnTo>
                      <a:pt x="164" y="2011"/>
                    </a:lnTo>
                    <a:lnTo>
                      <a:pt x="179" y="2281"/>
                    </a:lnTo>
                    <a:lnTo>
                      <a:pt x="179" y="2331"/>
                    </a:lnTo>
                    <a:lnTo>
                      <a:pt x="192" y="2454"/>
                    </a:lnTo>
                    <a:lnTo>
                      <a:pt x="202" y="2620"/>
                    </a:lnTo>
                    <a:lnTo>
                      <a:pt x="196" y="2640"/>
                    </a:lnTo>
                    <a:lnTo>
                      <a:pt x="177" y="2650"/>
                    </a:lnTo>
                    <a:lnTo>
                      <a:pt x="148" y="2623"/>
                    </a:lnTo>
                    <a:lnTo>
                      <a:pt x="112" y="2464"/>
                    </a:lnTo>
                    <a:lnTo>
                      <a:pt x="97" y="2334"/>
                    </a:lnTo>
                    <a:lnTo>
                      <a:pt x="97" y="2281"/>
                    </a:lnTo>
                    <a:lnTo>
                      <a:pt x="82" y="2019"/>
                    </a:lnTo>
                    <a:lnTo>
                      <a:pt x="69" y="1928"/>
                    </a:lnTo>
                    <a:lnTo>
                      <a:pt x="63" y="1861"/>
                    </a:lnTo>
                    <a:lnTo>
                      <a:pt x="32" y="1546"/>
                    </a:lnTo>
                    <a:lnTo>
                      <a:pt x="0" y="882"/>
                    </a:lnTo>
                    <a:lnTo>
                      <a:pt x="8" y="702"/>
                    </a:lnTo>
                    <a:lnTo>
                      <a:pt x="25" y="542"/>
                    </a:lnTo>
                    <a:lnTo>
                      <a:pt x="38" y="202"/>
                    </a:lnTo>
                    <a:lnTo>
                      <a:pt x="15" y="25"/>
                    </a:lnTo>
                    <a:lnTo>
                      <a:pt x="21" y="8"/>
                    </a:lnTo>
                    <a:lnTo>
                      <a:pt x="34" y="0"/>
                    </a:lnTo>
                    <a:lnTo>
                      <a:pt x="59" y="21"/>
                    </a:lnTo>
                    <a:lnTo>
                      <a:pt x="59" y="21"/>
                    </a:lnTo>
                    <a:lnTo>
                      <a:pt x="59"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5" name=""/>
              <p:cNvSpPr/>
              <p:nvPr/>
            </p:nvSpPr>
            <p:spPr>
              <a:xfrm>
                <a:off x="1736280" y="3518640"/>
                <a:ext cx="504000" cy="60120"/>
              </a:xfrm>
              <a:custGeom>
                <a:avLst/>
                <a:gdLst/>
                <a:ahLst/>
                <a:rect l="l" t="t" r="r" b="b"/>
                <a:pathLst>
                  <a:path w="1884" h="235">
                    <a:moveTo>
                      <a:pt x="15" y="192"/>
                    </a:moveTo>
                    <a:lnTo>
                      <a:pt x="112" y="163"/>
                    </a:lnTo>
                    <a:lnTo>
                      <a:pt x="194" y="137"/>
                    </a:lnTo>
                    <a:lnTo>
                      <a:pt x="276" y="112"/>
                    </a:lnTo>
                    <a:lnTo>
                      <a:pt x="367" y="87"/>
                    </a:lnTo>
                    <a:lnTo>
                      <a:pt x="481" y="64"/>
                    </a:lnTo>
                    <a:lnTo>
                      <a:pt x="593" y="51"/>
                    </a:lnTo>
                    <a:lnTo>
                      <a:pt x="1430" y="32"/>
                    </a:lnTo>
                    <a:lnTo>
                      <a:pt x="1671" y="17"/>
                    </a:lnTo>
                    <a:lnTo>
                      <a:pt x="1764" y="17"/>
                    </a:lnTo>
                    <a:lnTo>
                      <a:pt x="1856" y="0"/>
                    </a:lnTo>
                    <a:lnTo>
                      <a:pt x="1884" y="9"/>
                    </a:lnTo>
                    <a:lnTo>
                      <a:pt x="1875" y="40"/>
                    </a:lnTo>
                    <a:lnTo>
                      <a:pt x="1823" y="63"/>
                    </a:lnTo>
                    <a:lnTo>
                      <a:pt x="1778" y="80"/>
                    </a:lnTo>
                    <a:lnTo>
                      <a:pt x="1675" y="99"/>
                    </a:lnTo>
                    <a:lnTo>
                      <a:pt x="1430" y="108"/>
                    </a:lnTo>
                    <a:lnTo>
                      <a:pt x="1013" y="101"/>
                    </a:lnTo>
                    <a:lnTo>
                      <a:pt x="597" y="102"/>
                    </a:lnTo>
                    <a:lnTo>
                      <a:pt x="378" y="137"/>
                    </a:lnTo>
                    <a:lnTo>
                      <a:pt x="205" y="182"/>
                    </a:lnTo>
                    <a:lnTo>
                      <a:pt x="124" y="207"/>
                    </a:lnTo>
                    <a:lnTo>
                      <a:pt x="31" y="235"/>
                    </a:lnTo>
                    <a:lnTo>
                      <a:pt x="0" y="220"/>
                    </a:lnTo>
                    <a:lnTo>
                      <a:pt x="15" y="192"/>
                    </a:lnTo>
                    <a:lnTo>
                      <a:pt x="15" y="192"/>
                    </a:lnTo>
                    <a:lnTo>
                      <a:pt x="15" y="19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76" name=""/>
              <p:cNvSpPr/>
              <p:nvPr/>
            </p:nvSpPr>
            <p:spPr>
              <a:xfrm>
                <a:off x="2244960" y="2836080"/>
                <a:ext cx="41040" cy="695520"/>
              </a:xfrm>
              <a:custGeom>
                <a:avLst/>
                <a:gdLst/>
                <a:ahLst/>
                <a:rect l="l" t="t" r="r" b="b"/>
                <a:pathLst>
                  <a:path w="154" h="2724">
                    <a:moveTo>
                      <a:pt x="107" y="12"/>
                    </a:moveTo>
                    <a:lnTo>
                      <a:pt x="141" y="150"/>
                    </a:lnTo>
                    <a:lnTo>
                      <a:pt x="143" y="219"/>
                    </a:lnTo>
                    <a:lnTo>
                      <a:pt x="141" y="295"/>
                    </a:lnTo>
                    <a:lnTo>
                      <a:pt x="154" y="681"/>
                    </a:lnTo>
                    <a:lnTo>
                      <a:pt x="128" y="1492"/>
                    </a:lnTo>
                    <a:lnTo>
                      <a:pt x="105" y="1836"/>
                    </a:lnTo>
                    <a:lnTo>
                      <a:pt x="82" y="2380"/>
                    </a:lnTo>
                    <a:lnTo>
                      <a:pt x="95" y="2699"/>
                    </a:lnTo>
                    <a:lnTo>
                      <a:pt x="80" y="2724"/>
                    </a:lnTo>
                    <a:lnTo>
                      <a:pt x="56" y="2705"/>
                    </a:lnTo>
                    <a:lnTo>
                      <a:pt x="0" y="2380"/>
                    </a:lnTo>
                    <a:lnTo>
                      <a:pt x="25" y="1829"/>
                    </a:lnTo>
                    <a:lnTo>
                      <a:pt x="57" y="1489"/>
                    </a:lnTo>
                    <a:lnTo>
                      <a:pt x="92" y="681"/>
                    </a:lnTo>
                    <a:lnTo>
                      <a:pt x="92" y="667"/>
                    </a:lnTo>
                    <a:lnTo>
                      <a:pt x="92" y="654"/>
                    </a:lnTo>
                    <a:lnTo>
                      <a:pt x="92" y="641"/>
                    </a:lnTo>
                    <a:lnTo>
                      <a:pt x="92" y="627"/>
                    </a:lnTo>
                    <a:lnTo>
                      <a:pt x="92" y="601"/>
                    </a:lnTo>
                    <a:lnTo>
                      <a:pt x="92" y="597"/>
                    </a:lnTo>
                    <a:lnTo>
                      <a:pt x="92" y="589"/>
                    </a:lnTo>
                    <a:lnTo>
                      <a:pt x="92" y="580"/>
                    </a:lnTo>
                    <a:lnTo>
                      <a:pt x="94" y="489"/>
                    </a:lnTo>
                    <a:lnTo>
                      <a:pt x="95" y="397"/>
                    </a:lnTo>
                    <a:lnTo>
                      <a:pt x="95" y="386"/>
                    </a:lnTo>
                    <a:lnTo>
                      <a:pt x="95" y="380"/>
                    </a:lnTo>
                    <a:lnTo>
                      <a:pt x="95" y="377"/>
                    </a:lnTo>
                    <a:lnTo>
                      <a:pt x="95" y="377"/>
                    </a:lnTo>
                    <a:lnTo>
                      <a:pt x="95" y="375"/>
                    </a:lnTo>
                    <a:lnTo>
                      <a:pt x="95" y="375"/>
                    </a:lnTo>
                    <a:lnTo>
                      <a:pt x="95" y="348"/>
                    </a:lnTo>
                    <a:lnTo>
                      <a:pt x="95" y="337"/>
                    </a:lnTo>
                    <a:lnTo>
                      <a:pt x="95" y="323"/>
                    </a:lnTo>
                    <a:lnTo>
                      <a:pt x="95" y="295"/>
                    </a:lnTo>
                    <a:lnTo>
                      <a:pt x="99" y="160"/>
                    </a:lnTo>
                    <a:lnTo>
                      <a:pt x="90" y="97"/>
                    </a:lnTo>
                    <a:lnTo>
                      <a:pt x="67" y="31"/>
                    </a:lnTo>
                    <a:lnTo>
                      <a:pt x="80" y="0"/>
                    </a:lnTo>
                    <a:lnTo>
                      <a:pt x="107" y="12"/>
                    </a:lnTo>
                    <a:lnTo>
                      <a:pt x="107" y="12"/>
                    </a:lnTo>
                    <a:lnTo>
                      <a:pt x="107"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1762560" y="2992320"/>
                <a:ext cx="434160" cy="35640"/>
              </a:xfrm>
              <a:custGeom>
                <a:avLst/>
                <a:gdLst/>
                <a:ahLst/>
                <a:rect l="l" t="t" r="r" b="b"/>
                <a:pathLst>
                  <a:path w="1624" h="139">
                    <a:moveTo>
                      <a:pt x="19" y="95"/>
                    </a:moveTo>
                    <a:lnTo>
                      <a:pt x="435" y="59"/>
                    </a:lnTo>
                    <a:lnTo>
                      <a:pt x="848" y="50"/>
                    </a:lnTo>
                    <a:lnTo>
                      <a:pt x="1069" y="29"/>
                    </a:lnTo>
                    <a:lnTo>
                      <a:pt x="1428" y="10"/>
                    </a:lnTo>
                    <a:lnTo>
                      <a:pt x="1597" y="0"/>
                    </a:lnTo>
                    <a:lnTo>
                      <a:pt x="1624" y="14"/>
                    </a:lnTo>
                    <a:lnTo>
                      <a:pt x="1607" y="40"/>
                    </a:lnTo>
                    <a:lnTo>
                      <a:pt x="1430" y="54"/>
                    </a:lnTo>
                    <a:lnTo>
                      <a:pt x="1074" y="73"/>
                    </a:lnTo>
                    <a:lnTo>
                      <a:pt x="848" y="95"/>
                    </a:lnTo>
                    <a:lnTo>
                      <a:pt x="437" y="105"/>
                    </a:lnTo>
                    <a:lnTo>
                      <a:pt x="25" y="139"/>
                    </a:lnTo>
                    <a:lnTo>
                      <a:pt x="0" y="118"/>
                    </a:lnTo>
                    <a:lnTo>
                      <a:pt x="4" y="103"/>
                    </a:lnTo>
                    <a:lnTo>
                      <a:pt x="19" y="95"/>
                    </a:lnTo>
                    <a:lnTo>
                      <a:pt x="19" y="95"/>
                    </a:lnTo>
                    <a:lnTo>
                      <a:pt x="19" y="95"/>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578" name=""/>
              <p:cNvSpPr/>
              <p:nvPr/>
            </p:nvSpPr>
            <p:spPr>
              <a:xfrm>
                <a:off x="1766880" y="3055320"/>
                <a:ext cx="442080" cy="29520"/>
              </a:xfrm>
              <a:custGeom>
                <a:avLst/>
                <a:gdLst/>
                <a:ahLst/>
                <a:rect l="l" t="t" r="r" b="b"/>
                <a:pathLst>
                  <a:path w="1652" h="116">
                    <a:moveTo>
                      <a:pt x="19" y="73"/>
                    </a:moveTo>
                    <a:lnTo>
                      <a:pt x="219" y="56"/>
                    </a:lnTo>
                    <a:lnTo>
                      <a:pt x="418" y="56"/>
                    </a:lnTo>
                    <a:lnTo>
                      <a:pt x="740" y="56"/>
                    </a:lnTo>
                    <a:lnTo>
                      <a:pt x="1025" y="39"/>
                    </a:lnTo>
                    <a:lnTo>
                      <a:pt x="1308" y="12"/>
                    </a:lnTo>
                    <a:lnTo>
                      <a:pt x="1631" y="0"/>
                    </a:lnTo>
                    <a:lnTo>
                      <a:pt x="1652" y="21"/>
                    </a:lnTo>
                    <a:lnTo>
                      <a:pt x="1631" y="44"/>
                    </a:lnTo>
                    <a:lnTo>
                      <a:pt x="1308" y="56"/>
                    </a:lnTo>
                    <a:lnTo>
                      <a:pt x="1025" y="80"/>
                    </a:lnTo>
                    <a:lnTo>
                      <a:pt x="738" y="101"/>
                    </a:lnTo>
                    <a:lnTo>
                      <a:pt x="417" y="97"/>
                    </a:lnTo>
                    <a:lnTo>
                      <a:pt x="219" y="97"/>
                    </a:lnTo>
                    <a:lnTo>
                      <a:pt x="23" y="116"/>
                    </a:lnTo>
                    <a:lnTo>
                      <a:pt x="0" y="97"/>
                    </a:lnTo>
                    <a:lnTo>
                      <a:pt x="4" y="82"/>
                    </a:lnTo>
                    <a:lnTo>
                      <a:pt x="19" y="73"/>
                    </a:lnTo>
                    <a:lnTo>
                      <a:pt x="19" y="73"/>
                    </a:lnTo>
                    <a:lnTo>
                      <a:pt x="19" y="7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579" name=""/>
              <p:cNvSpPr/>
              <p:nvPr/>
            </p:nvSpPr>
            <p:spPr>
              <a:xfrm>
                <a:off x="1762560" y="3050280"/>
                <a:ext cx="28080" cy="275040"/>
              </a:xfrm>
              <a:custGeom>
                <a:avLst/>
                <a:gdLst/>
                <a:ahLst/>
                <a:rect l="l" t="t" r="r" b="b"/>
                <a:pathLst>
                  <a:path w="107" h="1078">
                    <a:moveTo>
                      <a:pt x="44" y="23"/>
                    </a:moveTo>
                    <a:lnTo>
                      <a:pt x="61" y="415"/>
                    </a:lnTo>
                    <a:lnTo>
                      <a:pt x="91" y="805"/>
                    </a:lnTo>
                    <a:lnTo>
                      <a:pt x="107" y="1055"/>
                    </a:lnTo>
                    <a:lnTo>
                      <a:pt x="86" y="1078"/>
                    </a:lnTo>
                    <a:lnTo>
                      <a:pt x="61" y="1057"/>
                    </a:lnTo>
                    <a:lnTo>
                      <a:pt x="46" y="806"/>
                    </a:lnTo>
                    <a:lnTo>
                      <a:pt x="0" y="23"/>
                    </a:lnTo>
                    <a:lnTo>
                      <a:pt x="21" y="0"/>
                    </a:lnTo>
                    <a:lnTo>
                      <a:pt x="44" y="23"/>
                    </a:lnTo>
                    <a:lnTo>
                      <a:pt x="44" y="23"/>
                    </a:lnTo>
                    <a:lnTo>
                      <a:pt x="4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1810080" y="3013920"/>
                <a:ext cx="24480" cy="309960"/>
              </a:xfrm>
              <a:custGeom>
                <a:avLst/>
                <a:gdLst/>
                <a:ahLst/>
                <a:rect l="l" t="t" r="r" b="b"/>
                <a:pathLst>
                  <a:path w="93" h="1215">
                    <a:moveTo>
                      <a:pt x="42" y="19"/>
                    </a:moveTo>
                    <a:lnTo>
                      <a:pt x="68" y="276"/>
                    </a:lnTo>
                    <a:lnTo>
                      <a:pt x="89" y="1017"/>
                    </a:lnTo>
                    <a:lnTo>
                      <a:pt x="93" y="1194"/>
                    </a:lnTo>
                    <a:lnTo>
                      <a:pt x="70" y="1215"/>
                    </a:lnTo>
                    <a:lnTo>
                      <a:pt x="49" y="1190"/>
                    </a:lnTo>
                    <a:lnTo>
                      <a:pt x="44" y="1017"/>
                    </a:lnTo>
                    <a:lnTo>
                      <a:pt x="25" y="277"/>
                    </a:lnTo>
                    <a:lnTo>
                      <a:pt x="0" y="25"/>
                    </a:lnTo>
                    <a:lnTo>
                      <a:pt x="6" y="8"/>
                    </a:lnTo>
                    <a:lnTo>
                      <a:pt x="17" y="0"/>
                    </a:lnTo>
                    <a:lnTo>
                      <a:pt x="42" y="19"/>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1874520" y="3015000"/>
                <a:ext cx="20880" cy="321120"/>
              </a:xfrm>
              <a:custGeom>
                <a:avLst/>
                <a:gdLst/>
                <a:ahLst/>
                <a:rect l="l" t="t" r="r" b="b"/>
                <a:pathLst>
                  <a:path w="78" h="1258">
                    <a:moveTo>
                      <a:pt x="46" y="24"/>
                    </a:moveTo>
                    <a:lnTo>
                      <a:pt x="50" y="230"/>
                    </a:lnTo>
                    <a:lnTo>
                      <a:pt x="59" y="433"/>
                    </a:lnTo>
                    <a:lnTo>
                      <a:pt x="54" y="722"/>
                    </a:lnTo>
                    <a:lnTo>
                      <a:pt x="59" y="1013"/>
                    </a:lnTo>
                    <a:lnTo>
                      <a:pt x="78" y="1237"/>
                    </a:lnTo>
                    <a:lnTo>
                      <a:pt x="73" y="1254"/>
                    </a:lnTo>
                    <a:lnTo>
                      <a:pt x="59" y="1258"/>
                    </a:lnTo>
                    <a:lnTo>
                      <a:pt x="36" y="1237"/>
                    </a:lnTo>
                    <a:lnTo>
                      <a:pt x="17" y="1015"/>
                    </a:lnTo>
                    <a:lnTo>
                      <a:pt x="12" y="724"/>
                    </a:lnTo>
                    <a:lnTo>
                      <a:pt x="17" y="433"/>
                    </a:lnTo>
                    <a:lnTo>
                      <a:pt x="0" y="21"/>
                    </a:lnTo>
                    <a:lnTo>
                      <a:pt x="25" y="0"/>
                    </a:lnTo>
                    <a:lnTo>
                      <a:pt x="46" y="24"/>
                    </a:lnTo>
                    <a:lnTo>
                      <a:pt x="46" y="24"/>
                    </a:lnTo>
                    <a:lnTo>
                      <a:pt x="46"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1933200" y="3011040"/>
                <a:ext cx="18720" cy="311400"/>
              </a:xfrm>
              <a:custGeom>
                <a:avLst/>
                <a:gdLst/>
                <a:ahLst/>
                <a:rect l="l" t="t" r="r" b="b"/>
                <a:pathLst>
                  <a:path w="70" h="1220">
                    <a:moveTo>
                      <a:pt x="44" y="22"/>
                    </a:moveTo>
                    <a:lnTo>
                      <a:pt x="63" y="821"/>
                    </a:lnTo>
                    <a:lnTo>
                      <a:pt x="70" y="1195"/>
                    </a:lnTo>
                    <a:lnTo>
                      <a:pt x="65" y="1212"/>
                    </a:lnTo>
                    <a:lnTo>
                      <a:pt x="49" y="1220"/>
                    </a:lnTo>
                    <a:lnTo>
                      <a:pt x="27" y="1201"/>
                    </a:lnTo>
                    <a:lnTo>
                      <a:pt x="19" y="821"/>
                    </a:lnTo>
                    <a:lnTo>
                      <a:pt x="0" y="22"/>
                    </a:lnTo>
                    <a:lnTo>
                      <a:pt x="21" y="0"/>
                    </a:lnTo>
                    <a:lnTo>
                      <a:pt x="44" y="22"/>
                    </a:lnTo>
                    <a:lnTo>
                      <a:pt x="44" y="22"/>
                    </a:lnTo>
                    <a:lnTo>
                      <a:pt x="44"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a:off x="1991160" y="3012480"/>
                <a:ext cx="22680" cy="304560"/>
              </a:xfrm>
              <a:custGeom>
                <a:avLst/>
                <a:gdLst/>
                <a:ahLst/>
                <a:rect l="l" t="t" r="r" b="b"/>
                <a:pathLst>
                  <a:path w="85" h="1194">
                    <a:moveTo>
                      <a:pt x="43" y="23"/>
                    </a:moveTo>
                    <a:lnTo>
                      <a:pt x="59" y="409"/>
                    </a:lnTo>
                    <a:lnTo>
                      <a:pt x="76" y="795"/>
                    </a:lnTo>
                    <a:lnTo>
                      <a:pt x="85" y="1167"/>
                    </a:lnTo>
                    <a:lnTo>
                      <a:pt x="68" y="1194"/>
                    </a:lnTo>
                    <a:lnTo>
                      <a:pt x="43" y="1177"/>
                    </a:lnTo>
                    <a:lnTo>
                      <a:pt x="22" y="985"/>
                    </a:lnTo>
                    <a:lnTo>
                      <a:pt x="30" y="795"/>
                    </a:lnTo>
                    <a:lnTo>
                      <a:pt x="15" y="409"/>
                    </a:lnTo>
                    <a:lnTo>
                      <a:pt x="0" y="23"/>
                    </a:lnTo>
                    <a:lnTo>
                      <a:pt x="22" y="0"/>
                    </a:lnTo>
                    <a:lnTo>
                      <a:pt x="43" y="23"/>
                    </a:lnTo>
                    <a:lnTo>
                      <a:pt x="43" y="23"/>
                    </a:lnTo>
                    <a:lnTo>
                      <a:pt x="43"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2123280" y="2999520"/>
                <a:ext cx="20880" cy="324000"/>
              </a:xfrm>
              <a:custGeom>
                <a:avLst/>
                <a:gdLst/>
                <a:ahLst/>
                <a:rect l="l" t="t" r="r" b="b"/>
                <a:pathLst>
                  <a:path w="80" h="1270">
                    <a:moveTo>
                      <a:pt x="44" y="19"/>
                    </a:moveTo>
                    <a:lnTo>
                      <a:pt x="48" y="308"/>
                    </a:lnTo>
                    <a:lnTo>
                      <a:pt x="65" y="530"/>
                    </a:lnTo>
                    <a:lnTo>
                      <a:pt x="80" y="1247"/>
                    </a:lnTo>
                    <a:lnTo>
                      <a:pt x="57" y="1270"/>
                    </a:lnTo>
                    <a:lnTo>
                      <a:pt x="36" y="1247"/>
                    </a:lnTo>
                    <a:lnTo>
                      <a:pt x="19" y="530"/>
                    </a:lnTo>
                    <a:lnTo>
                      <a:pt x="4" y="313"/>
                    </a:lnTo>
                    <a:lnTo>
                      <a:pt x="0" y="25"/>
                    </a:lnTo>
                    <a:lnTo>
                      <a:pt x="4" y="5"/>
                    </a:lnTo>
                    <a:lnTo>
                      <a:pt x="19" y="0"/>
                    </a:lnTo>
                    <a:lnTo>
                      <a:pt x="44" y="19"/>
                    </a:lnTo>
                    <a:lnTo>
                      <a:pt x="44" y="19"/>
                    </a:lnTo>
                    <a:lnTo>
                      <a:pt x="44"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2185560" y="3013920"/>
                <a:ext cx="14400" cy="311400"/>
              </a:xfrm>
              <a:custGeom>
                <a:avLst/>
                <a:gdLst/>
                <a:ahLst/>
                <a:rect l="l" t="t" r="r" b="b"/>
                <a:pathLst>
                  <a:path w="53" h="1220">
                    <a:moveTo>
                      <a:pt x="42" y="19"/>
                    </a:moveTo>
                    <a:lnTo>
                      <a:pt x="53" y="264"/>
                    </a:lnTo>
                    <a:lnTo>
                      <a:pt x="42" y="1197"/>
                    </a:lnTo>
                    <a:lnTo>
                      <a:pt x="19" y="1220"/>
                    </a:lnTo>
                    <a:lnTo>
                      <a:pt x="0" y="1197"/>
                    </a:lnTo>
                    <a:lnTo>
                      <a:pt x="11" y="264"/>
                    </a:lnTo>
                    <a:lnTo>
                      <a:pt x="0" y="25"/>
                    </a:lnTo>
                    <a:lnTo>
                      <a:pt x="4" y="8"/>
                    </a:lnTo>
                    <a:lnTo>
                      <a:pt x="17" y="0"/>
                    </a:lnTo>
                    <a:lnTo>
                      <a:pt x="42" y="19"/>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a:off x="1816560" y="3440160"/>
                <a:ext cx="342000" cy="14760"/>
              </a:xfrm>
              <a:custGeom>
                <a:avLst/>
                <a:gdLst/>
                <a:ahLst/>
                <a:rect l="l" t="t" r="r" b="b"/>
                <a:pathLst>
                  <a:path w="1277" h="57">
                    <a:moveTo>
                      <a:pt x="22" y="9"/>
                    </a:moveTo>
                    <a:lnTo>
                      <a:pt x="481" y="13"/>
                    </a:lnTo>
                    <a:lnTo>
                      <a:pt x="935" y="0"/>
                    </a:lnTo>
                    <a:lnTo>
                      <a:pt x="1256" y="13"/>
                    </a:lnTo>
                    <a:lnTo>
                      <a:pt x="1277" y="36"/>
                    </a:lnTo>
                    <a:lnTo>
                      <a:pt x="1254" y="57"/>
                    </a:lnTo>
                    <a:lnTo>
                      <a:pt x="935" y="43"/>
                    </a:lnTo>
                    <a:lnTo>
                      <a:pt x="479" y="57"/>
                    </a:lnTo>
                    <a:lnTo>
                      <a:pt x="19" y="53"/>
                    </a:lnTo>
                    <a:lnTo>
                      <a:pt x="0" y="28"/>
                    </a:lnTo>
                    <a:lnTo>
                      <a:pt x="22" y="9"/>
                    </a:lnTo>
                    <a:lnTo>
                      <a:pt x="22" y="9"/>
                    </a:lnTo>
                    <a:lnTo>
                      <a:pt x="22" y="9"/>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587" name=""/>
              <p:cNvSpPr/>
              <p:nvPr/>
            </p:nvSpPr>
            <p:spPr>
              <a:xfrm>
                <a:off x="1811880" y="3477240"/>
                <a:ext cx="349560" cy="20880"/>
              </a:xfrm>
              <a:custGeom>
                <a:avLst/>
                <a:gdLst/>
                <a:ahLst/>
                <a:rect l="l" t="t" r="r" b="b"/>
                <a:pathLst>
                  <a:path w="1306" h="84">
                    <a:moveTo>
                      <a:pt x="17" y="40"/>
                    </a:moveTo>
                    <a:lnTo>
                      <a:pt x="190" y="14"/>
                    </a:lnTo>
                    <a:lnTo>
                      <a:pt x="342" y="0"/>
                    </a:lnTo>
                    <a:lnTo>
                      <a:pt x="667" y="4"/>
                    </a:lnTo>
                    <a:lnTo>
                      <a:pt x="789" y="21"/>
                    </a:lnTo>
                    <a:lnTo>
                      <a:pt x="908" y="36"/>
                    </a:lnTo>
                    <a:lnTo>
                      <a:pt x="1285" y="16"/>
                    </a:lnTo>
                    <a:lnTo>
                      <a:pt x="1306" y="38"/>
                    </a:lnTo>
                    <a:lnTo>
                      <a:pt x="1285" y="59"/>
                    </a:lnTo>
                    <a:lnTo>
                      <a:pt x="1096" y="73"/>
                    </a:lnTo>
                    <a:lnTo>
                      <a:pt x="906" y="80"/>
                    </a:lnTo>
                    <a:lnTo>
                      <a:pt x="787" y="65"/>
                    </a:lnTo>
                    <a:lnTo>
                      <a:pt x="663" y="50"/>
                    </a:lnTo>
                    <a:lnTo>
                      <a:pt x="344" y="46"/>
                    </a:lnTo>
                    <a:lnTo>
                      <a:pt x="22" y="84"/>
                    </a:lnTo>
                    <a:lnTo>
                      <a:pt x="0" y="67"/>
                    </a:lnTo>
                    <a:lnTo>
                      <a:pt x="17" y="40"/>
                    </a:lnTo>
                    <a:lnTo>
                      <a:pt x="17" y="40"/>
                    </a:lnTo>
                    <a:lnTo>
                      <a:pt x="17" y="4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88" name=""/>
              <p:cNvSpPr/>
              <p:nvPr/>
            </p:nvSpPr>
            <p:spPr>
              <a:xfrm>
                <a:off x="1812240" y="3319200"/>
                <a:ext cx="356760" cy="18720"/>
              </a:xfrm>
              <a:custGeom>
                <a:avLst/>
                <a:gdLst/>
                <a:ahLst/>
                <a:rect l="l" t="t" r="r" b="b"/>
                <a:pathLst>
                  <a:path w="1335" h="74">
                    <a:moveTo>
                      <a:pt x="25" y="26"/>
                    </a:moveTo>
                    <a:lnTo>
                      <a:pt x="441" y="32"/>
                    </a:lnTo>
                    <a:lnTo>
                      <a:pt x="860" y="13"/>
                    </a:lnTo>
                    <a:lnTo>
                      <a:pt x="1088" y="0"/>
                    </a:lnTo>
                    <a:lnTo>
                      <a:pt x="1316" y="19"/>
                    </a:lnTo>
                    <a:lnTo>
                      <a:pt x="1335" y="41"/>
                    </a:lnTo>
                    <a:lnTo>
                      <a:pt x="1310" y="62"/>
                    </a:lnTo>
                    <a:lnTo>
                      <a:pt x="1088" y="41"/>
                    </a:lnTo>
                    <a:lnTo>
                      <a:pt x="864" y="57"/>
                    </a:lnTo>
                    <a:lnTo>
                      <a:pt x="443" y="74"/>
                    </a:lnTo>
                    <a:lnTo>
                      <a:pt x="25" y="68"/>
                    </a:lnTo>
                    <a:lnTo>
                      <a:pt x="0" y="49"/>
                    </a:lnTo>
                    <a:lnTo>
                      <a:pt x="25" y="26"/>
                    </a:lnTo>
                    <a:lnTo>
                      <a:pt x="25" y="26"/>
                    </a:lnTo>
                    <a:lnTo>
                      <a:pt x="25" y="26"/>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589" name=""/>
              <p:cNvSpPr/>
              <p:nvPr/>
            </p:nvSpPr>
            <p:spPr>
              <a:xfrm>
                <a:off x="2058120" y="3007800"/>
                <a:ext cx="21240" cy="309240"/>
              </a:xfrm>
              <a:custGeom>
                <a:avLst/>
                <a:gdLst/>
                <a:ahLst/>
                <a:rect l="l" t="t" r="r" b="b"/>
                <a:pathLst>
                  <a:path w="80" h="1213">
                    <a:moveTo>
                      <a:pt x="45" y="21"/>
                    </a:moveTo>
                    <a:lnTo>
                      <a:pt x="55" y="259"/>
                    </a:lnTo>
                    <a:lnTo>
                      <a:pt x="76" y="493"/>
                    </a:lnTo>
                    <a:lnTo>
                      <a:pt x="80" y="677"/>
                    </a:lnTo>
                    <a:lnTo>
                      <a:pt x="76" y="840"/>
                    </a:lnTo>
                    <a:lnTo>
                      <a:pt x="80" y="1190"/>
                    </a:lnTo>
                    <a:lnTo>
                      <a:pt x="74" y="1207"/>
                    </a:lnTo>
                    <a:lnTo>
                      <a:pt x="59" y="1213"/>
                    </a:lnTo>
                    <a:lnTo>
                      <a:pt x="36" y="1192"/>
                    </a:lnTo>
                    <a:lnTo>
                      <a:pt x="32" y="844"/>
                    </a:lnTo>
                    <a:lnTo>
                      <a:pt x="36" y="679"/>
                    </a:lnTo>
                    <a:lnTo>
                      <a:pt x="32" y="494"/>
                    </a:lnTo>
                    <a:lnTo>
                      <a:pt x="0" y="21"/>
                    </a:lnTo>
                    <a:lnTo>
                      <a:pt x="22" y="0"/>
                    </a:lnTo>
                    <a:lnTo>
                      <a:pt x="45" y="21"/>
                    </a:lnTo>
                    <a:lnTo>
                      <a:pt x="45" y="21"/>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90" name=""/>
          <p:cNvGrpSpPr/>
          <p:nvPr/>
        </p:nvGrpSpPr>
        <p:grpSpPr>
          <a:xfrm>
            <a:off x="1676520" y="3657600"/>
            <a:ext cx="2754360" cy="870120"/>
            <a:chOff x="1676520" y="3657600"/>
            <a:chExt cx="2754360" cy="870120"/>
          </a:xfrm>
        </p:grpSpPr>
        <p:pic>
          <p:nvPicPr>
            <p:cNvPr id="591" name="PE01744_" descr=""/>
            <p:cNvPicPr/>
            <p:nvPr/>
          </p:nvPicPr>
          <p:blipFill>
            <a:blip r:embed="rId8"/>
            <a:stretch/>
          </p:blipFill>
          <p:spPr>
            <a:xfrm>
              <a:off x="3429000" y="3809880"/>
              <a:ext cx="1001880" cy="717840"/>
            </a:xfrm>
            <a:prstGeom prst="rect">
              <a:avLst/>
            </a:prstGeom>
            <a:ln w="0">
              <a:noFill/>
            </a:ln>
          </p:spPr>
        </p:pic>
        <p:grpSp>
          <p:nvGrpSpPr>
            <p:cNvPr id="592" name=""/>
            <p:cNvGrpSpPr/>
            <p:nvPr/>
          </p:nvGrpSpPr>
          <p:grpSpPr>
            <a:xfrm>
              <a:off x="1676520" y="3657600"/>
              <a:ext cx="609480" cy="762120"/>
              <a:chOff x="1676520" y="3657600"/>
              <a:chExt cx="609480" cy="762120"/>
            </a:xfrm>
          </p:grpSpPr>
          <p:sp>
            <p:nvSpPr>
              <p:cNvPr id="593" name=""/>
              <p:cNvSpPr/>
              <p:nvPr/>
            </p:nvSpPr>
            <p:spPr>
              <a:xfrm>
                <a:off x="1676520" y="3663000"/>
                <a:ext cx="607320" cy="698400"/>
              </a:xfrm>
              <a:custGeom>
                <a:avLst/>
                <a:gdLst/>
                <a:ahLst/>
                <a:rect l="l" t="t" r="r" b="b"/>
                <a:pathLst>
                  <a:path w="2270" h="2734">
                    <a:moveTo>
                      <a:pt x="61" y="238"/>
                    </a:moveTo>
                    <a:lnTo>
                      <a:pt x="766" y="126"/>
                    </a:lnTo>
                    <a:lnTo>
                      <a:pt x="1753" y="67"/>
                    </a:lnTo>
                    <a:lnTo>
                      <a:pt x="2150" y="0"/>
                    </a:lnTo>
                    <a:lnTo>
                      <a:pt x="2230" y="56"/>
                    </a:lnTo>
                    <a:lnTo>
                      <a:pt x="2270" y="698"/>
                    </a:lnTo>
                    <a:lnTo>
                      <a:pt x="2161" y="2318"/>
                    </a:lnTo>
                    <a:lnTo>
                      <a:pt x="2203" y="2700"/>
                    </a:lnTo>
                    <a:lnTo>
                      <a:pt x="1895" y="2734"/>
                    </a:lnTo>
                    <a:lnTo>
                      <a:pt x="357" y="2658"/>
                    </a:lnTo>
                    <a:lnTo>
                      <a:pt x="171" y="2641"/>
                    </a:lnTo>
                    <a:lnTo>
                      <a:pt x="0" y="1457"/>
                    </a:lnTo>
                    <a:lnTo>
                      <a:pt x="38" y="316"/>
                    </a:lnTo>
                    <a:lnTo>
                      <a:pt x="61" y="238"/>
                    </a:lnTo>
                    <a:lnTo>
                      <a:pt x="61" y="238"/>
                    </a:lnTo>
                    <a:lnTo>
                      <a:pt x="61" y="2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a:off x="1686600" y="3690720"/>
                <a:ext cx="579600" cy="714960"/>
              </a:xfrm>
              <a:custGeom>
                <a:avLst/>
                <a:gdLst/>
                <a:ahLst/>
                <a:rect l="l" t="t" r="r" b="b"/>
                <a:pathLst>
                  <a:path w="2165" h="2800">
                    <a:moveTo>
                      <a:pt x="82" y="198"/>
                    </a:moveTo>
                    <a:lnTo>
                      <a:pt x="574" y="156"/>
                    </a:lnTo>
                    <a:lnTo>
                      <a:pt x="1161" y="112"/>
                    </a:lnTo>
                    <a:lnTo>
                      <a:pt x="1715" y="85"/>
                    </a:lnTo>
                    <a:lnTo>
                      <a:pt x="2004" y="0"/>
                    </a:lnTo>
                    <a:lnTo>
                      <a:pt x="2097" y="9"/>
                    </a:lnTo>
                    <a:lnTo>
                      <a:pt x="2123" y="112"/>
                    </a:lnTo>
                    <a:lnTo>
                      <a:pt x="2106" y="1262"/>
                    </a:lnTo>
                    <a:lnTo>
                      <a:pt x="2080" y="2133"/>
                    </a:lnTo>
                    <a:lnTo>
                      <a:pt x="2165" y="2591"/>
                    </a:lnTo>
                    <a:lnTo>
                      <a:pt x="1909" y="2659"/>
                    </a:lnTo>
                    <a:lnTo>
                      <a:pt x="1289" y="2648"/>
                    </a:lnTo>
                    <a:lnTo>
                      <a:pt x="779" y="2659"/>
                    </a:lnTo>
                    <a:lnTo>
                      <a:pt x="201" y="2800"/>
                    </a:lnTo>
                    <a:lnTo>
                      <a:pt x="173" y="2534"/>
                    </a:lnTo>
                    <a:lnTo>
                      <a:pt x="64" y="1340"/>
                    </a:lnTo>
                    <a:lnTo>
                      <a:pt x="64" y="435"/>
                    </a:lnTo>
                    <a:lnTo>
                      <a:pt x="0" y="207"/>
                    </a:lnTo>
                    <a:lnTo>
                      <a:pt x="82" y="198"/>
                    </a:lnTo>
                    <a:lnTo>
                      <a:pt x="82" y="198"/>
                    </a:lnTo>
                    <a:lnTo>
                      <a:pt x="82" y="198"/>
                    </a:lnTo>
                    <a:close/>
                  </a:path>
                </a:pathLst>
              </a:custGeom>
              <a:solidFill>
                <a:srgbClr val="ffe0d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1781280" y="4194000"/>
                <a:ext cx="218160" cy="78120"/>
              </a:xfrm>
              <a:custGeom>
                <a:avLst/>
                <a:gdLst/>
                <a:ahLst/>
                <a:rect l="l" t="t" r="r" b="b"/>
                <a:pathLst>
                  <a:path w="816" h="306">
                    <a:moveTo>
                      <a:pt x="0" y="69"/>
                    </a:moveTo>
                    <a:lnTo>
                      <a:pt x="740" y="0"/>
                    </a:lnTo>
                    <a:lnTo>
                      <a:pt x="816" y="306"/>
                    </a:lnTo>
                    <a:lnTo>
                      <a:pt x="18" y="299"/>
                    </a:lnTo>
                    <a:lnTo>
                      <a:pt x="0" y="69"/>
                    </a:lnTo>
                    <a:lnTo>
                      <a:pt x="0" y="69"/>
                    </a:lnTo>
                    <a:lnTo>
                      <a:pt x="0" y="69"/>
                    </a:lnTo>
                    <a:close/>
                  </a:path>
                </a:pathLst>
              </a:custGeom>
              <a:solidFill>
                <a:srgbClr val="b2f4ff"/>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96" name=""/>
              <p:cNvSpPr/>
              <p:nvPr/>
            </p:nvSpPr>
            <p:spPr>
              <a:xfrm>
                <a:off x="1761120" y="3823920"/>
                <a:ext cx="429840" cy="354240"/>
              </a:xfrm>
              <a:custGeom>
                <a:avLst/>
                <a:gdLst/>
                <a:ahLst/>
                <a:rect l="l" t="t" r="r" b="b"/>
                <a:pathLst>
                  <a:path w="1607" h="1387">
                    <a:moveTo>
                      <a:pt x="0" y="167"/>
                    </a:moveTo>
                    <a:lnTo>
                      <a:pt x="0" y="1387"/>
                    </a:lnTo>
                    <a:lnTo>
                      <a:pt x="1607" y="1210"/>
                    </a:lnTo>
                    <a:lnTo>
                      <a:pt x="1557" y="0"/>
                    </a:lnTo>
                    <a:lnTo>
                      <a:pt x="0" y="167"/>
                    </a:lnTo>
                    <a:lnTo>
                      <a:pt x="0" y="167"/>
                    </a:lnTo>
                    <a:lnTo>
                      <a:pt x="0" y="167"/>
                    </a:lnTo>
                    <a:close/>
                  </a:path>
                </a:pathLst>
              </a:custGeom>
              <a:solidFill>
                <a:srgbClr val="f5f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1744200" y="3737160"/>
                <a:ext cx="452520" cy="94680"/>
              </a:xfrm>
              <a:custGeom>
                <a:avLst/>
                <a:gdLst/>
                <a:ahLst/>
                <a:rect l="l" t="t" r="r" b="b"/>
                <a:pathLst>
                  <a:path w="1692" h="373">
                    <a:moveTo>
                      <a:pt x="9" y="101"/>
                    </a:moveTo>
                    <a:lnTo>
                      <a:pt x="0" y="373"/>
                    </a:lnTo>
                    <a:lnTo>
                      <a:pt x="1692" y="272"/>
                    </a:lnTo>
                    <a:lnTo>
                      <a:pt x="1652" y="0"/>
                    </a:lnTo>
                    <a:lnTo>
                      <a:pt x="1030" y="35"/>
                    </a:lnTo>
                    <a:lnTo>
                      <a:pt x="452" y="50"/>
                    </a:lnTo>
                    <a:lnTo>
                      <a:pt x="9" y="101"/>
                    </a:lnTo>
                    <a:lnTo>
                      <a:pt x="9" y="101"/>
                    </a:lnTo>
                    <a:lnTo>
                      <a:pt x="9" y="101"/>
                    </a:lnTo>
                    <a:close/>
                  </a:path>
                </a:pathLst>
              </a:custGeom>
              <a:solidFill>
                <a:srgbClr val="ff99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a:off x="1771560" y="4245480"/>
                <a:ext cx="415800" cy="119880"/>
              </a:xfrm>
              <a:custGeom>
                <a:avLst/>
                <a:gdLst/>
                <a:ahLst/>
                <a:rect l="l" t="t" r="r" b="b"/>
                <a:pathLst>
                  <a:path w="1555" h="471">
                    <a:moveTo>
                      <a:pt x="0" y="167"/>
                    </a:moveTo>
                    <a:lnTo>
                      <a:pt x="42" y="471"/>
                    </a:lnTo>
                    <a:lnTo>
                      <a:pt x="1514" y="275"/>
                    </a:lnTo>
                    <a:lnTo>
                      <a:pt x="1555" y="0"/>
                    </a:lnTo>
                    <a:lnTo>
                      <a:pt x="0" y="167"/>
                    </a:lnTo>
                    <a:lnTo>
                      <a:pt x="0" y="167"/>
                    </a:lnTo>
                    <a:lnTo>
                      <a:pt x="0" y="167"/>
                    </a:lnTo>
                    <a:close/>
                  </a:path>
                </a:pathLst>
              </a:custGeom>
              <a:solidFill>
                <a:srgbClr val="f5f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1695600" y="3657600"/>
                <a:ext cx="563400" cy="75600"/>
              </a:xfrm>
              <a:custGeom>
                <a:avLst/>
                <a:gdLst/>
                <a:ahLst/>
                <a:rect l="l" t="t" r="r" b="b"/>
                <a:pathLst>
                  <a:path w="2107" h="296">
                    <a:moveTo>
                      <a:pt x="17" y="254"/>
                    </a:moveTo>
                    <a:lnTo>
                      <a:pt x="101" y="224"/>
                    </a:lnTo>
                    <a:lnTo>
                      <a:pt x="183" y="199"/>
                    </a:lnTo>
                    <a:lnTo>
                      <a:pt x="281" y="175"/>
                    </a:lnTo>
                    <a:lnTo>
                      <a:pt x="384" y="163"/>
                    </a:lnTo>
                    <a:lnTo>
                      <a:pt x="605" y="123"/>
                    </a:lnTo>
                    <a:lnTo>
                      <a:pt x="764" y="108"/>
                    </a:lnTo>
                    <a:lnTo>
                      <a:pt x="985" y="78"/>
                    </a:lnTo>
                    <a:lnTo>
                      <a:pt x="1177" y="72"/>
                    </a:lnTo>
                    <a:lnTo>
                      <a:pt x="1588" y="66"/>
                    </a:lnTo>
                    <a:lnTo>
                      <a:pt x="1835" y="36"/>
                    </a:lnTo>
                    <a:lnTo>
                      <a:pt x="2080" y="0"/>
                    </a:lnTo>
                    <a:lnTo>
                      <a:pt x="2107" y="17"/>
                    </a:lnTo>
                    <a:lnTo>
                      <a:pt x="2101" y="34"/>
                    </a:lnTo>
                    <a:lnTo>
                      <a:pt x="2088" y="42"/>
                    </a:lnTo>
                    <a:lnTo>
                      <a:pt x="1838" y="97"/>
                    </a:lnTo>
                    <a:lnTo>
                      <a:pt x="1726" y="125"/>
                    </a:lnTo>
                    <a:lnTo>
                      <a:pt x="1593" y="142"/>
                    </a:lnTo>
                    <a:lnTo>
                      <a:pt x="1188" y="159"/>
                    </a:lnTo>
                    <a:lnTo>
                      <a:pt x="781" y="203"/>
                    </a:lnTo>
                    <a:lnTo>
                      <a:pt x="618" y="218"/>
                    </a:lnTo>
                    <a:lnTo>
                      <a:pt x="392" y="258"/>
                    </a:lnTo>
                    <a:lnTo>
                      <a:pt x="198" y="296"/>
                    </a:lnTo>
                    <a:lnTo>
                      <a:pt x="27" y="296"/>
                    </a:lnTo>
                    <a:lnTo>
                      <a:pt x="0" y="281"/>
                    </a:lnTo>
                    <a:lnTo>
                      <a:pt x="17" y="254"/>
                    </a:lnTo>
                    <a:lnTo>
                      <a:pt x="17" y="254"/>
                    </a:lnTo>
                    <a:lnTo>
                      <a:pt x="17" y="254"/>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600" name=""/>
              <p:cNvSpPr/>
              <p:nvPr/>
            </p:nvSpPr>
            <p:spPr>
              <a:xfrm>
                <a:off x="1684800" y="3742920"/>
                <a:ext cx="54000" cy="676800"/>
              </a:xfrm>
              <a:custGeom>
                <a:avLst/>
                <a:gdLst/>
                <a:ahLst/>
                <a:rect l="l" t="t" r="r" b="b"/>
                <a:pathLst>
                  <a:path w="202" h="2650">
                    <a:moveTo>
                      <a:pt x="59" y="21"/>
                    </a:moveTo>
                    <a:lnTo>
                      <a:pt x="89" y="200"/>
                    </a:lnTo>
                    <a:lnTo>
                      <a:pt x="93" y="380"/>
                    </a:lnTo>
                    <a:lnTo>
                      <a:pt x="86" y="542"/>
                    </a:lnTo>
                    <a:lnTo>
                      <a:pt x="70" y="882"/>
                    </a:lnTo>
                    <a:lnTo>
                      <a:pt x="78" y="1211"/>
                    </a:lnTo>
                    <a:lnTo>
                      <a:pt x="105" y="1540"/>
                    </a:lnTo>
                    <a:lnTo>
                      <a:pt x="143" y="1855"/>
                    </a:lnTo>
                    <a:lnTo>
                      <a:pt x="147" y="1920"/>
                    </a:lnTo>
                    <a:lnTo>
                      <a:pt x="164" y="2011"/>
                    </a:lnTo>
                    <a:lnTo>
                      <a:pt x="179" y="2281"/>
                    </a:lnTo>
                    <a:lnTo>
                      <a:pt x="179" y="2331"/>
                    </a:lnTo>
                    <a:lnTo>
                      <a:pt x="192" y="2454"/>
                    </a:lnTo>
                    <a:lnTo>
                      <a:pt x="202" y="2620"/>
                    </a:lnTo>
                    <a:lnTo>
                      <a:pt x="196" y="2640"/>
                    </a:lnTo>
                    <a:lnTo>
                      <a:pt x="177" y="2650"/>
                    </a:lnTo>
                    <a:lnTo>
                      <a:pt x="148" y="2623"/>
                    </a:lnTo>
                    <a:lnTo>
                      <a:pt x="112" y="2464"/>
                    </a:lnTo>
                    <a:lnTo>
                      <a:pt x="97" y="2334"/>
                    </a:lnTo>
                    <a:lnTo>
                      <a:pt x="97" y="2281"/>
                    </a:lnTo>
                    <a:lnTo>
                      <a:pt x="82" y="2019"/>
                    </a:lnTo>
                    <a:lnTo>
                      <a:pt x="69" y="1928"/>
                    </a:lnTo>
                    <a:lnTo>
                      <a:pt x="63" y="1861"/>
                    </a:lnTo>
                    <a:lnTo>
                      <a:pt x="32" y="1546"/>
                    </a:lnTo>
                    <a:lnTo>
                      <a:pt x="0" y="882"/>
                    </a:lnTo>
                    <a:lnTo>
                      <a:pt x="8" y="702"/>
                    </a:lnTo>
                    <a:lnTo>
                      <a:pt x="25" y="542"/>
                    </a:lnTo>
                    <a:lnTo>
                      <a:pt x="38" y="202"/>
                    </a:lnTo>
                    <a:lnTo>
                      <a:pt x="15" y="25"/>
                    </a:lnTo>
                    <a:lnTo>
                      <a:pt x="21" y="8"/>
                    </a:lnTo>
                    <a:lnTo>
                      <a:pt x="34" y="0"/>
                    </a:lnTo>
                    <a:lnTo>
                      <a:pt x="59" y="21"/>
                    </a:lnTo>
                    <a:lnTo>
                      <a:pt x="59" y="21"/>
                    </a:lnTo>
                    <a:lnTo>
                      <a:pt x="59"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a:off x="1736280" y="4356720"/>
                <a:ext cx="504000" cy="60120"/>
              </a:xfrm>
              <a:custGeom>
                <a:avLst/>
                <a:gdLst/>
                <a:ahLst/>
                <a:rect l="l" t="t" r="r" b="b"/>
                <a:pathLst>
                  <a:path w="1884" h="235">
                    <a:moveTo>
                      <a:pt x="15" y="192"/>
                    </a:moveTo>
                    <a:lnTo>
                      <a:pt x="112" y="163"/>
                    </a:lnTo>
                    <a:lnTo>
                      <a:pt x="194" y="137"/>
                    </a:lnTo>
                    <a:lnTo>
                      <a:pt x="276" y="112"/>
                    </a:lnTo>
                    <a:lnTo>
                      <a:pt x="367" y="87"/>
                    </a:lnTo>
                    <a:lnTo>
                      <a:pt x="481" y="64"/>
                    </a:lnTo>
                    <a:lnTo>
                      <a:pt x="593" y="51"/>
                    </a:lnTo>
                    <a:lnTo>
                      <a:pt x="1430" y="32"/>
                    </a:lnTo>
                    <a:lnTo>
                      <a:pt x="1671" y="17"/>
                    </a:lnTo>
                    <a:lnTo>
                      <a:pt x="1764" y="17"/>
                    </a:lnTo>
                    <a:lnTo>
                      <a:pt x="1856" y="0"/>
                    </a:lnTo>
                    <a:lnTo>
                      <a:pt x="1884" y="9"/>
                    </a:lnTo>
                    <a:lnTo>
                      <a:pt x="1875" y="40"/>
                    </a:lnTo>
                    <a:lnTo>
                      <a:pt x="1823" y="63"/>
                    </a:lnTo>
                    <a:lnTo>
                      <a:pt x="1778" y="80"/>
                    </a:lnTo>
                    <a:lnTo>
                      <a:pt x="1675" y="99"/>
                    </a:lnTo>
                    <a:lnTo>
                      <a:pt x="1430" y="108"/>
                    </a:lnTo>
                    <a:lnTo>
                      <a:pt x="1013" y="101"/>
                    </a:lnTo>
                    <a:lnTo>
                      <a:pt x="597" y="102"/>
                    </a:lnTo>
                    <a:lnTo>
                      <a:pt x="378" y="137"/>
                    </a:lnTo>
                    <a:lnTo>
                      <a:pt x="205" y="182"/>
                    </a:lnTo>
                    <a:lnTo>
                      <a:pt x="124" y="207"/>
                    </a:lnTo>
                    <a:lnTo>
                      <a:pt x="31" y="235"/>
                    </a:lnTo>
                    <a:lnTo>
                      <a:pt x="0" y="220"/>
                    </a:lnTo>
                    <a:lnTo>
                      <a:pt x="15" y="192"/>
                    </a:lnTo>
                    <a:lnTo>
                      <a:pt x="15" y="192"/>
                    </a:lnTo>
                    <a:lnTo>
                      <a:pt x="15" y="19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02" name=""/>
              <p:cNvSpPr/>
              <p:nvPr/>
            </p:nvSpPr>
            <p:spPr>
              <a:xfrm>
                <a:off x="2244960" y="3674160"/>
                <a:ext cx="41040" cy="695520"/>
              </a:xfrm>
              <a:custGeom>
                <a:avLst/>
                <a:gdLst/>
                <a:ahLst/>
                <a:rect l="l" t="t" r="r" b="b"/>
                <a:pathLst>
                  <a:path w="154" h="2724">
                    <a:moveTo>
                      <a:pt x="107" y="12"/>
                    </a:moveTo>
                    <a:lnTo>
                      <a:pt x="141" y="150"/>
                    </a:lnTo>
                    <a:lnTo>
                      <a:pt x="143" y="219"/>
                    </a:lnTo>
                    <a:lnTo>
                      <a:pt x="141" y="295"/>
                    </a:lnTo>
                    <a:lnTo>
                      <a:pt x="154" y="681"/>
                    </a:lnTo>
                    <a:lnTo>
                      <a:pt x="128" y="1492"/>
                    </a:lnTo>
                    <a:lnTo>
                      <a:pt x="105" y="1836"/>
                    </a:lnTo>
                    <a:lnTo>
                      <a:pt x="82" y="2380"/>
                    </a:lnTo>
                    <a:lnTo>
                      <a:pt x="95" y="2699"/>
                    </a:lnTo>
                    <a:lnTo>
                      <a:pt x="80" y="2724"/>
                    </a:lnTo>
                    <a:lnTo>
                      <a:pt x="56" y="2705"/>
                    </a:lnTo>
                    <a:lnTo>
                      <a:pt x="0" y="2380"/>
                    </a:lnTo>
                    <a:lnTo>
                      <a:pt x="25" y="1829"/>
                    </a:lnTo>
                    <a:lnTo>
                      <a:pt x="57" y="1489"/>
                    </a:lnTo>
                    <a:lnTo>
                      <a:pt x="92" y="681"/>
                    </a:lnTo>
                    <a:lnTo>
                      <a:pt x="92" y="667"/>
                    </a:lnTo>
                    <a:lnTo>
                      <a:pt x="92" y="654"/>
                    </a:lnTo>
                    <a:lnTo>
                      <a:pt x="92" y="641"/>
                    </a:lnTo>
                    <a:lnTo>
                      <a:pt x="92" y="627"/>
                    </a:lnTo>
                    <a:lnTo>
                      <a:pt x="92" y="601"/>
                    </a:lnTo>
                    <a:lnTo>
                      <a:pt x="92" y="597"/>
                    </a:lnTo>
                    <a:lnTo>
                      <a:pt x="92" y="589"/>
                    </a:lnTo>
                    <a:lnTo>
                      <a:pt x="92" y="580"/>
                    </a:lnTo>
                    <a:lnTo>
                      <a:pt x="94" y="489"/>
                    </a:lnTo>
                    <a:lnTo>
                      <a:pt x="95" y="397"/>
                    </a:lnTo>
                    <a:lnTo>
                      <a:pt x="95" y="386"/>
                    </a:lnTo>
                    <a:lnTo>
                      <a:pt x="95" y="380"/>
                    </a:lnTo>
                    <a:lnTo>
                      <a:pt x="95" y="377"/>
                    </a:lnTo>
                    <a:lnTo>
                      <a:pt x="95" y="377"/>
                    </a:lnTo>
                    <a:lnTo>
                      <a:pt x="95" y="375"/>
                    </a:lnTo>
                    <a:lnTo>
                      <a:pt x="95" y="375"/>
                    </a:lnTo>
                    <a:lnTo>
                      <a:pt x="95" y="348"/>
                    </a:lnTo>
                    <a:lnTo>
                      <a:pt x="95" y="337"/>
                    </a:lnTo>
                    <a:lnTo>
                      <a:pt x="95" y="323"/>
                    </a:lnTo>
                    <a:lnTo>
                      <a:pt x="95" y="295"/>
                    </a:lnTo>
                    <a:lnTo>
                      <a:pt x="99" y="160"/>
                    </a:lnTo>
                    <a:lnTo>
                      <a:pt x="90" y="97"/>
                    </a:lnTo>
                    <a:lnTo>
                      <a:pt x="67" y="31"/>
                    </a:lnTo>
                    <a:lnTo>
                      <a:pt x="80" y="0"/>
                    </a:lnTo>
                    <a:lnTo>
                      <a:pt x="107" y="12"/>
                    </a:lnTo>
                    <a:lnTo>
                      <a:pt x="107" y="12"/>
                    </a:lnTo>
                    <a:lnTo>
                      <a:pt x="107"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a:off x="1762560" y="3830760"/>
                <a:ext cx="434160" cy="35640"/>
              </a:xfrm>
              <a:custGeom>
                <a:avLst/>
                <a:gdLst/>
                <a:ahLst/>
                <a:rect l="l" t="t" r="r" b="b"/>
                <a:pathLst>
                  <a:path w="1624" h="139">
                    <a:moveTo>
                      <a:pt x="19" y="95"/>
                    </a:moveTo>
                    <a:lnTo>
                      <a:pt x="435" y="59"/>
                    </a:lnTo>
                    <a:lnTo>
                      <a:pt x="848" y="50"/>
                    </a:lnTo>
                    <a:lnTo>
                      <a:pt x="1069" y="29"/>
                    </a:lnTo>
                    <a:lnTo>
                      <a:pt x="1428" y="10"/>
                    </a:lnTo>
                    <a:lnTo>
                      <a:pt x="1597" y="0"/>
                    </a:lnTo>
                    <a:lnTo>
                      <a:pt x="1624" y="14"/>
                    </a:lnTo>
                    <a:lnTo>
                      <a:pt x="1607" y="40"/>
                    </a:lnTo>
                    <a:lnTo>
                      <a:pt x="1430" y="54"/>
                    </a:lnTo>
                    <a:lnTo>
                      <a:pt x="1074" y="73"/>
                    </a:lnTo>
                    <a:lnTo>
                      <a:pt x="848" y="95"/>
                    </a:lnTo>
                    <a:lnTo>
                      <a:pt x="437" y="105"/>
                    </a:lnTo>
                    <a:lnTo>
                      <a:pt x="25" y="139"/>
                    </a:lnTo>
                    <a:lnTo>
                      <a:pt x="0" y="118"/>
                    </a:lnTo>
                    <a:lnTo>
                      <a:pt x="4" y="103"/>
                    </a:lnTo>
                    <a:lnTo>
                      <a:pt x="19" y="95"/>
                    </a:lnTo>
                    <a:lnTo>
                      <a:pt x="19" y="95"/>
                    </a:lnTo>
                    <a:lnTo>
                      <a:pt x="19" y="95"/>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604" name=""/>
              <p:cNvSpPr/>
              <p:nvPr/>
            </p:nvSpPr>
            <p:spPr>
              <a:xfrm>
                <a:off x="1766880" y="3893400"/>
                <a:ext cx="442080" cy="29520"/>
              </a:xfrm>
              <a:custGeom>
                <a:avLst/>
                <a:gdLst/>
                <a:ahLst/>
                <a:rect l="l" t="t" r="r" b="b"/>
                <a:pathLst>
                  <a:path w="1652" h="116">
                    <a:moveTo>
                      <a:pt x="19" y="73"/>
                    </a:moveTo>
                    <a:lnTo>
                      <a:pt x="219" y="56"/>
                    </a:lnTo>
                    <a:lnTo>
                      <a:pt x="418" y="56"/>
                    </a:lnTo>
                    <a:lnTo>
                      <a:pt x="740" y="56"/>
                    </a:lnTo>
                    <a:lnTo>
                      <a:pt x="1025" y="39"/>
                    </a:lnTo>
                    <a:lnTo>
                      <a:pt x="1308" y="12"/>
                    </a:lnTo>
                    <a:lnTo>
                      <a:pt x="1631" y="0"/>
                    </a:lnTo>
                    <a:lnTo>
                      <a:pt x="1652" y="21"/>
                    </a:lnTo>
                    <a:lnTo>
                      <a:pt x="1631" y="44"/>
                    </a:lnTo>
                    <a:lnTo>
                      <a:pt x="1308" y="56"/>
                    </a:lnTo>
                    <a:lnTo>
                      <a:pt x="1025" y="80"/>
                    </a:lnTo>
                    <a:lnTo>
                      <a:pt x="738" y="101"/>
                    </a:lnTo>
                    <a:lnTo>
                      <a:pt x="417" y="97"/>
                    </a:lnTo>
                    <a:lnTo>
                      <a:pt x="219" y="97"/>
                    </a:lnTo>
                    <a:lnTo>
                      <a:pt x="23" y="116"/>
                    </a:lnTo>
                    <a:lnTo>
                      <a:pt x="0" y="97"/>
                    </a:lnTo>
                    <a:lnTo>
                      <a:pt x="4" y="82"/>
                    </a:lnTo>
                    <a:lnTo>
                      <a:pt x="19" y="73"/>
                    </a:lnTo>
                    <a:lnTo>
                      <a:pt x="19" y="73"/>
                    </a:lnTo>
                    <a:lnTo>
                      <a:pt x="19" y="7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605" name=""/>
              <p:cNvSpPr/>
              <p:nvPr/>
            </p:nvSpPr>
            <p:spPr>
              <a:xfrm>
                <a:off x="1762560" y="3888360"/>
                <a:ext cx="28080" cy="275400"/>
              </a:xfrm>
              <a:custGeom>
                <a:avLst/>
                <a:gdLst/>
                <a:ahLst/>
                <a:rect l="l" t="t" r="r" b="b"/>
                <a:pathLst>
                  <a:path w="107" h="1078">
                    <a:moveTo>
                      <a:pt x="44" y="23"/>
                    </a:moveTo>
                    <a:lnTo>
                      <a:pt x="61" y="415"/>
                    </a:lnTo>
                    <a:lnTo>
                      <a:pt x="91" y="805"/>
                    </a:lnTo>
                    <a:lnTo>
                      <a:pt x="107" y="1055"/>
                    </a:lnTo>
                    <a:lnTo>
                      <a:pt x="86" y="1078"/>
                    </a:lnTo>
                    <a:lnTo>
                      <a:pt x="61" y="1057"/>
                    </a:lnTo>
                    <a:lnTo>
                      <a:pt x="46" y="806"/>
                    </a:lnTo>
                    <a:lnTo>
                      <a:pt x="0" y="23"/>
                    </a:lnTo>
                    <a:lnTo>
                      <a:pt x="21" y="0"/>
                    </a:lnTo>
                    <a:lnTo>
                      <a:pt x="44" y="23"/>
                    </a:lnTo>
                    <a:lnTo>
                      <a:pt x="44" y="23"/>
                    </a:lnTo>
                    <a:lnTo>
                      <a:pt x="4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a:off x="1810080" y="3852000"/>
                <a:ext cx="24480" cy="309960"/>
              </a:xfrm>
              <a:custGeom>
                <a:avLst/>
                <a:gdLst/>
                <a:ahLst/>
                <a:rect l="l" t="t" r="r" b="b"/>
                <a:pathLst>
                  <a:path w="93" h="1215">
                    <a:moveTo>
                      <a:pt x="42" y="19"/>
                    </a:moveTo>
                    <a:lnTo>
                      <a:pt x="68" y="276"/>
                    </a:lnTo>
                    <a:lnTo>
                      <a:pt x="89" y="1017"/>
                    </a:lnTo>
                    <a:lnTo>
                      <a:pt x="93" y="1194"/>
                    </a:lnTo>
                    <a:lnTo>
                      <a:pt x="70" y="1215"/>
                    </a:lnTo>
                    <a:lnTo>
                      <a:pt x="49" y="1190"/>
                    </a:lnTo>
                    <a:lnTo>
                      <a:pt x="44" y="1017"/>
                    </a:lnTo>
                    <a:lnTo>
                      <a:pt x="25" y="277"/>
                    </a:lnTo>
                    <a:lnTo>
                      <a:pt x="0" y="25"/>
                    </a:lnTo>
                    <a:lnTo>
                      <a:pt x="6" y="8"/>
                    </a:lnTo>
                    <a:lnTo>
                      <a:pt x="17" y="0"/>
                    </a:lnTo>
                    <a:lnTo>
                      <a:pt x="42" y="19"/>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1874520" y="3853080"/>
                <a:ext cx="20880" cy="321120"/>
              </a:xfrm>
              <a:custGeom>
                <a:avLst/>
                <a:gdLst/>
                <a:ahLst/>
                <a:rect l="l" t="t" r="r" b="b"/>
                <a:pathLst>
                  <a:path w="78" h="1258">
                    <a:moveTo>
                      <a:pt x="46" y="24"/>
                    </a:moveTo>
                    <a:lnTo>
                      <a:pt x="50" y="230"/>
                    </a:lnTo>
                    <a:lnTo>
                      <a:pt x="59" y="433"/>
                    </a:lnTo>
                    <a:lnTo>
                      <a:pt x="54" y="722"/>
                    </a:lnTo>
                    <a:lnTo>
                      <a:pt x="59" y="1013"/>
                    </a:lnTo>
                    <a:lnTo>
                      <a:pt x="78" y="1237"/>
                    </a:lnTo>
                    <a:lnTo>
                      <a:pt x="73" y="1254"/>
                    </a:lnTo>
                    <a:lnTo>
                      <a:pt x="59" y="1258"/>
                    </a:lnTo>
                    <a:lnTo>
                      <a:pt x="36" y="1237"/>
                    </a:lnTo>
                    <a:lnTo>
                      <a:pt x="17" y="1015"/>
                    </a:lnTo>
                    <a:lnTo>
                      <a:pt x="12" y="724"/>
                    </a:lnTo>
                    <a:lnTo>
                      <a:pt x="17" y="433"/>
                    </a:lnTo>
                    <a:lnTo>
                      <a:pt x="0" y="21"/>
                    </a:lnTo>
                    <a:lnTo>
                      <a:pt x="25" y="0"/>
                    </a:lnTo>
                    <a:lnTo>
                      <a:pt x="46" y="24"/>
                    </a:lnTo>
                    <a:lnTo>
                      <a:pt x="46" y="24"/>
                    </a:lnTo>
                    <a:lnTo>
                      <a:pt x="46"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
              <p:cNvSpPr/>
              <p:nvPr/>
            </p:nvSpPr>
            <p:spPr>
              <a:xfrm>
                <a:off x="1933200" y="3849120"/>
                <a:ext cx="18720" cy="311400"/>
              </a:xfrm>
              <a:custGeom>
                <a:avLst/>
                <a:gdLst/>
                <a:ahLst/>
                <a:rect l="l" t="t" r="r" b="b"/>
                <a:pathLst>
                  <a:path w="70" h="1220">
                    <a:moveTo>
                      <a:pt x="44" y="22"/>
                    </a:moveTo>
                    <a:lnTo>
                      <a:pt x="63" y="821"/>
                    </a:lnTo>
                    <a:lnTo>
                      <a:pt x="70" y="1195"/>
                    </a:lnTo>
                    <a:lnTo>
                      <a:pt x="65" y="1212"/>
                    </a:lnTo>
                    <a:lnTo>
                      <a:pt x="49" y="1220"/>
                    </a:lnTo>
                    <a:lnTo>
                      <a:pt x="27" y="1201"/>
                    </a:lnTo>
                    <a:lnTo>
                      <a:pt x="19" y="821"/>
                    </a:lnTo>
                    <a:lnTo>
                      <a:pt x="0" y="22"/>
                    </a:lnTo>
                    <a:lnTo>
                      <a:pt x="21" y="0"/>
                    </a:lnTo>
                    <a:lnTo>
                      <a:pt x="44" y="22"/>
                    </a:lnTo>
                    <a:lnTo>
                      <a:pt x="44" y="22"/>
                    </a:lnTo>
                    <a:lnTo>
                      <a:pt x="44"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
              <p:cNvSpPr/>
              <p:nvPr/>
            </p:nvSpPr>
            <p:spPr>
              <a:xfrm>
                <a:off x="1991160" y="3850560"/>
                <a:ext cx="22680" cy="304920"/>
              </a:xfrm>
              <a:custGeom>
                <a:avLst/>
                <a:gdLst/>
                <a:ahLst/>
                <a:rect l="l" t="t" r="r" b="b"/>
                <a:pathLst>
                  <a:path w="85" h="1194">
                    <a:moveTo>
                      <a:pt x="43" y="23"/>
                    </a:moveTo>
                    <a:lnTo>
                      <a:pt x="59" y="409"/>
                    </a:lnTo>
                    <a:lnTo>
                      <a:pt x="76" y="795"/>
                    </a:lnTo>
                    <a:lnTo>
                      <a:pt x="85" y="1167"/>
                    </a:lnTo>
                    <a:lnTo>
                      <a:pt x="68" y="1194"/>
                    </a:lnTo>
                    <a:lnTo>
                      <a:pt x="43" y="1177"/>
                    </a:lnTo>
                    <a:lnTo>
                      <a:pt x="22" y="985"/>
                    </a:lnTo>
                    <a:lnTo>
                      <a:pt x="30" y="795"/>
                    </a:lnTo>
                    <a:lnTo>
                      <a:pt x="15" y="409"/>
                    </a:lnTo>
                    <a:lnTo>
                      <a:pt x="0" y="23"/>
                    </a:lnTo>
                    <a:lnTo>
                      <a:pt x="22" y="0"/>
                    </a:lnTo>
                    <a:lnTo>
                      <a:pt x="43" y="23"/>
                    </a:lnTo>
                    <a:lnTo>
                      <a:pt x="43" y="23"/>
                    </a:lnTo>
                    <a:lnTo>
                      <a:pt x="43"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0" name=""/>
              <p:cNvSpPr/>
              <p:nvPr/>
            </p:nvSpPr>
            <p:spPr>
              <a:xfrm>
                <a:off x="2123280" y="3837960"/>
                <a:ext cx="20880" cy="324360"/>
              </a:xfrm>
              <a:custGeom>
                <a:avLst/>
                <a:gdLst/>
                <a:ahLst/>
                <a:rect l="l" t="t" r="r" b="b"/>
                <a:pathLst>
                  <a:path w="80" h="1270">
                    <a:moveTo>
                      <a:pt x="44" y="19"/>
                    </a:moveTo>
                    <a:lnTo>
                      <a:pt x="48" y="308"/>
                    </a:lnTo>
                    <a:lnTo>
                      <a:pt x="65" y="530"/>
                    </a:lnTo>
                    <a:lnTo>
                      <a:pt x="80" y="1247"/>
                    </a:lnTo>
                    <a:lnTo>
                      <a:pt x="57" y="1270"/>
                    </a:lnTo>
                    <a:lnTo>
                      <a:pt x="36" y="1247"/>
                    </a:lnTo>
                    <a:lnTo>
                      <a:pt x="19" y="530"/>
                    </a:lnTo>
                    <a:lnTo>
                      <a:pt x="4" y="313"/>
                    </a:lnTo>
                    <a:lnTo>
                      <a:pt x="0" y="25"/>
                    </a:lnTo>
                    <a:lnTo>
                      <a:pt x="4" y="5"/>
                    </a:lnTo>
                    <a:lnTo>
                      <a:pt x="19" y="0"/>
                    </a:lnTo>
                    <a:lnTo>
                      <a:pt x="44" y="19"/>
                    </a:lnTo>
                    <a:lnTo>
                      <a:pt x="44" y="19"/>
                    </a:lnTo>
                    <a:lnTo>
                      <a:pt x="44"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2185560" y="3852000"/>
                <a:ext cx="14400" cy="311400"/>
              </a:xfrm>
              <a:custGeom>
                <a:avLst/>
                <a:gdLst/>
                <a:ahLst/>
                <a:rect l="l" t="t" r="r" b="b"/>
                <a:pathLst>
                  <a:path w="53" h="1220">
                    <a:moveTo>
                      <a:pt x="42" y="19"/>
                    </a:moveTo>
                    <a:lnTo>
                      <a:pt x="53" y="264"/>
                    </a:lnTo>
                    <a:lnTo>
                      <a:pt x="42" y="1197"/>
                    </a:lnTo>
                    <a:lnTo>
                      <a:pt x="19" y="1220"/>
                    </a:lnTo>
                    <a:lnTo>
                      <a:pt x="0" y="1197"/>
                    </a:lnTo>
                    <a:lnTo>
                      <a:pt x="11" y="264"/>
                    </a:lnTo>
                    <a:lnTo>
                      <a:pt x="0" y="25"/>
                    </a:lnTo>
                    <a:lnTo>
                      <a:pt x="4" y="8"/>
                    </a:lnTo>
                    <a:lnTo>
                      <a:pt x="17" y="0"/>
                    </a:lnTo>
                    <a:lnTo>
                      <a:pt x="42" y="19"/>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1816560" y="4278600"/>
                <a:ext cx="342000" cy="14760"/>
              </a:xfrm>
              <a:custGeom>
                <a:avLst/>
                <a:gdLst/>
                <a:ahLst/>
                <a:rect l="l" t="t" r="r" b="b"/>
                <a:pathLst>
                  <a:path w="1277" h="57">
                    <a:moveTo>
                      <a:pt x="22" y="9"/>
                    </a:moveTo>
                    <a:lnTo>
                      <a:pt x="481" y="13"/>
                    </a:lnTo>
                    <a:lnTo>
                      <a:pt x="935" y="0"/>
                    </a:lnTo>
                    <a:lnTo>
                      <a:pt x="1256" y="13"/>
                    </a:lnTo>
                    <a:lnTo>
                      <a:pt x="1277" y="36"/>
                    </a:lnTo>
                    <a:lnTo>
                      <a:pt x="1254" y="57"/>
                    </a:lnTo>
                    <a:lnTo>
                      <a:pt x="935" y="43"/>
                    </a:lnTo>
                    <a:lnTo>
                      <a:pt x="479" y="57"/>
                    </a:lnTo>
                    <a:lnTo>
                      <a:pt x="19" y="53"/>
                    </a:lnTo>
                    <a:lnTo>
                      <a:pt x="0" y="28"/>
                    </a:lnTo>
                    <a:lnTo>
                      <a:pt x="22" y="9"/>
                    </a:lnTo>
                    <a:lnTo>
                      <a:pt x="22" y="9"/>
                    </a:lnTo>
                    <a:lnTo>
                      <a:pt x="22" y="9"/>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613" name=""/>
              <p:cNvSpPr/>
              <p:nvPr/>
            </p:nvSpPr>
            <p:spPr>
              <a:xfrm>
                <a:off x="1811880" y="4315680"/>
                <a:ext cx="349560" cy="20880"/>
              </a:xfrm>
              <a:custGeom>
                <a:avLst/>
                <a:gdLst/>
                <a:ahLst/>
                <a:rect l="l" t="t" r="r" b="b"/>
                <a:pathLst>
                  <a:path w="1306" h="84">
                    <a:moveTo>
                      <a:pt x="17" y="40"/>
                    </a:moveTo>
                    <a:lnTo>
                      <a:pt x="190" y="14"/>
                    </a:lnTo>
                    <a:lnTo>
                      <a:pt x="342" y="0"/>
                    </a:lnTo>
                    <a:lnTo>
                      <a:pt x="667" y="4"/>
                    </a:lnTo>
                    <a:lnTo>
                      <a:pt x="789" y="21"/>
                    </a:lnTo>
                    <a:lnTo>
                      <a:pt x="908" y="36"/>
                    </a:lnTo>
                    <a:lnTo>
                      <a:pt x="1285" y="16"/>
                    </a:lnTo>
                    <a:lnTo>
                      <a:pt x="1306" y="38"/>
                    </a:lnTo>
                    <a:lnTo>
                      <a:pt x="1285" y="59"/>
                    </a:lnTo>
                    <a:lnTo>
                      <a:pt x="1096" y="73"/>
                    </a:lnTo>
                    <a:lnTo>
                      <a:pt x="906" y="80"/>
                    </a:lnTo>
                    <a:lnTo>
                      <a:pt x="787" y="65"/>
                    </a:lnTo>
                    <a:lnTo>
                      <a:pt x="663" y="50"/>
                    </a:lnTo>
                    <a:lnTo>
                      <a:pt x="344" y="46"/>
                    </a:lnTo>
                    <a:lnTo>
                      <a:pt x="22" y="84"/>
                    </a:lnTo>
                    <a:lnTo>
                      <a:pt x="0" y="67"/>
                    </a:lnTo>
                    <a:lnTo>
                      <a:pt x="17" y="40"/>
                    </a:lnTo>
                    <a:lnTo>
                      <a:pt x="17" y="40"/>
                    </a:lnTo>
                    <a:lnTo>
                      <a:pt x="17" y="4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14" name=""/>
              <p:cNvSpPr/>
              <p:nvPr/>
            </p:nvSpPr>
            <p:spPr>
              <a:xfrm>
                <a:off x="1812240" y="4157640"/>
                <a:ext cx="356760" cy="18720"/>
              </a:xfrm>
              <a:custGeom>
                <a:avLst/>
                <a:gdLst/>
                <a:ahLst/>
                <a:rect l="l" t="t" r="r" b="b"/>
                <a:pathLst>
                  <a:path w="1335" h="74">
                    <a:moveTo>
                      <a:pt x="25" y="26"/>
                    </a:moveTo>
                    <a:lnTo>
                      <a:pt x="441" y="32"/>
                    </a:lnTo>
                    <a:lnTo>
                      <a:pt x="860" y="13"/>
                    </a:lnTo>
                    <a:lnTo>
                      <a:pt x="1088" y="0"/>
                    </a:lnTo>
                    <a:lnTo>
                      <a:pt x="1316" y="19"/>
                    </a:lnTo>
                    <a:lnTo>
                      <a:pt x="1335" y="41"/>
                    </a:lnTo>
                    <a:lnTo>
                      <a:pt x="1310" y="62"/>
                    </a:lnTo>
                    <a:lnTo>
                      <a:pt x="1088" y="41"/>
                    </a:lnTo>
                    <a:lnTo>
                      <a:pt x="864" y="57"/>
                    </a:lnTo>
                    <a:lnTo>
                      <a:pt x="443" y="74"/>
                    </a:lnTo>
                    <a:lnTo>
                      <a:pt x="25" y="68"/>
                    </a:lnTo>
                    <a:lnTo>
                      <a:pt x="0" y="49"/>
                    </a:lnTo>
                    <a:lnTo>
                      <a:pt x="25" y="26"/>
                    </a:lnTo>
                    <a:lnTo>
                      <a:pt x="25" y="26"/>
                    </a:lnTo>
                    <a:lnTo>
                      <a:pt x="25" y="26"/>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15" name=""/>
              <p:cNvSpPr/>
              <p:nvPr/>
            </p:nvSpPr>
            <p:spPr>
              <a:xfrm>
                <a:off x="2058120" y="3845880"/>
                <a:ext cx="21240" cy="309600"/>
              </a:xfrm>
              <a:custGeom>
                <a:avLst/>
                <a:gdLst/>
                <a:ahLst/>
                <a:rect l="l" t="t" r="r" b="b"/>
                <a:pathLst>
                  <a:path w="80" h="1213">
                    <a:moveTo>
                      <a:pt x="45" y="21"/>
                    </a:moveTo>
                    <a:lnTo>
                      <a:pt x="55" y="259"/>
                    </a:lnTo>
                    <a:lnTo>
                      <a:pt x="76" y="493"/>
                    </a:lnTo>
                    <a:lnTo>
                      <a:pt x="80" y="677"/>
                    </a:lnTo>
                    <a:lnTo>
                      <a:pt x="76" y="840"/>
                    </a:lnTo>
                    <a:lnTo>
                      <a:pt x="80" y="1190"/>
                    </a:lnTo>
                    <a:lnTo>
                      <a:pt x="74" y="1207"/>
                    </a:lnTo>
                    <a:lnTo>
                      <a:pt x="59" y="1213"/>
                    </a:lnTo>
                    <a:lnTo>
                      <a:pt x="36" y="1192"/>
                    </a:lnTo>
                    <a:lnTo>
                      <a:pt x="32" y="844"/>
                    </a:lnTo>
                    <a:lnTo>
                      <a:pt x="36" y="679"/>
                    </a:lnTo>
                    <a:lnTo>
                      <a:pt x="32" y="494"/>
                    </a:lnTo>
                    <a:lnTo>
                      <a:pt x="0" y="21"/>
                    </a:lnTo>
                    <a:lnTo>
                      <a:pt x="22" y="0"/>
                    </a:lnTo>
                    <a:lnTo>
                      <a:pt x="45" y="21"/>
                    </a:lnTo>
                    <a:lnTo>
                      <a:pt x="45" y="21"/>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16" name=""/>
          <p:cNvGrpSpPr/>
          <p:nvPr/>
        </p:nvGrpSpPr>
        <p:grpSpPr>
          <a:xfrm>
            <a:off x="3505320" y="5029200"/>
            <a:ext cx="4592520" cy="1375920"/>
            <a:chOff x="3505320" y="5029200"/>
            <a:chExt cx="4592520" cy="1375920"/>
          </a:xfrm>
        </p:grpSpPr>
        <p:grpSp>
          <p:nvGrpSpPr>
            <p:cNvPr id="617" name=""/>
            <p:cNvGrpSpPr/>
            <p:nvPr/>
          </p:nvGrpSpPr>
          <p:grpSpPr>
            <a:xfrm>
              <a:off x="3505320" y="5029200"/>
              <a:ext cx="706320" cy="843120"/>
              <a:chOff x="3505320" y="5029200"/>
              <a:chExt cx="706320" cy="843120"/>
            </a:xfrm>
          </p:grpSpPr>
          <p:grpSp>
            <p:nvGrpSpPr>
              <p:cNvPr id="618" name=""/>
              <p:cNvGrpSpPr/>
              <p:nvPr/>
            </p:nvGrpSpPr>
            <p:grpSpPr>
              <a:xfrm>
                <a:off x="3505320" y="5029200"/>
                <a:ext cx="609480" cy="762120"/>
                <a:chOff x="3505320" y="5029200"/>
                <a:chExt cx="609480" cy="762120"/>
              </a:xfrm>
            </p:grpSpPr>
            <p:sp>
              <p:nvSpPr>
                <p:cNvPr id="619" name=""/>
                <p:cNvSpPr/>
                <p:nvPr/>
              </p:nvSpPr>
              <p:spPr>
                <a:xfrm>
                  <a:off x="3505320" y="5034600"/>
                  <a:ext cx="607320" cy="698400"/>
                </a:xfrm>
                <a:custGeom>
                  <a:avLst/>
                  <a:gdLst/>
                  <a:ahLst/>
                  <a:rect l="l" t="t" r="r" b="b"/>
                  <a:pathLst>
                    <a:path w="2270" h="2734">
                      <a:moveTo>
                        <a:pt x="61" y="238"/>
                      </a:moveTo>
                      <a:lnTo>
                        <a:pt x="766" y="126"/>
                      </a:lnTo>
                      <a:lnTo>
                        <a:pt x="1753" y="67"/>
                      </a:lnTo>
                      <a:lnTo>
                        <a:pt x="2150" y="0"/>
                      </a:lnTo>
                      <a:lnTo>
                        <a:pt x="2230" y="56"/>
                      </a:lnTo>
                      <a:lnTo>
                        <a:pt x="2270" y="698"/>
                      </a:lnTo>
                      <a:lnTo>
                        <a:pt x="2161" y="2318"/>
                      </a:lnTo>
                      <a:lnTo>
                        <a:pt x="2203" y="2700"/>
                      </a:lnTo>
                      <a:lnTo>
                        <a:pt x="1895" y="2734"/>
                      </a:lnTo>
                      <a:lnTo>
                        <a:pt x="357" y="2658"/>
                      </a:lnTo>
                      <a:lnTo>
                        <a:pt x="171" y="2641"/>
                      </a:lnTo>
                      <a:lnTo>
                        <a:pt x="0" y="1457"/>
                      </a:lnTo>
                      <a:lnTo>
                        <a:pt x="38" y="316"/>
                      </a:lnTo>
                      <a:lnTo>
                        <a:pt x="61" y="238"/>
                      </a:lnTo>
                      <a:lnTo>
                        <a:pt x="61" y="238"/>
                      </a:lnTo>
                      <a:lnTo>
                        <a:pt x="61" y="2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a:off x="3515400" y="5062320"/>
                  <a:ext cx="579600" cy="714960"/>
                </a:xfrm>
                <a:custGeom>
                  <a:avLst/>
                  <a:gdLst/>
                  <a:ahLst/>
                  <a:rect l="l" t="t" r="r" b="b"/>
                  <a:pathLst>
                    <a:path w="2165" h="2800">
                      <a:moveTo>
                        <a:pt x="82" y="198"/>
                      </a:moveTo>
                      <a:lnTo>
                        <a:pt x="574" y="156"/>
                      </a:lnTo>
                      <a:lnTo>
                        <a:pt x="1161" y="112"/>
                      </a:lnTo>
                      <a:lnTo>
                        <a:pt x="1715" y="85"/>
                      </a:lnTo>
                      <a:lnTo>
                        <a:pt x="2004" y="0"/>
                      </a:lnTo>
                      <a:lnTo>
                        <a:pt x="2097" y="9"/>
                      </a:lnTo>
                      <a:lnTo>
                        <a:pt x="2123" y="112"/>
                      </a:lnTo>
                      <a:lnTo>
                        <a:pt x="2106" y="1262"/>
                      </a:lnTo>
                      <a:lnTo>
                        <a:pt x="2080" y="2133"/>
                      </a:lnTo>
                      <a:lnTo>
                        <a:pt x="2165" y="2591"/>
                      </a:lnTo>
                      <a:lnTo>
                        <a:pt x="1909" y="2659"/>
                      </a:lnTo>
                      <a:lnTo>
                        <a:pt x="1289" y="2648"/>
                      </a:lnTo>
                      <a:lnTo>
                        <a:pt x="779" y="2659"/>
                      </a:lnTo>
                      <a:lnTo>
                        <a:pt x="201" y="2800"/>
                      </a:lnTo>
                      <a:lnTo>
                        <a:pt x="173" y="2534"/>
                      </a:lnTo>
                      <a:lnTo>
                        <a:pt x="64" y="1340"/>
                      </a:lnTo>
                      <a:lnTo>
                        <a:pt x="64" y="435"/>
                      </a:lnTo>
                      <a:lnTo>
                        <a:pt x="0" y="207"/>
                      </a:lnTo>
                      <a:lnTo>
                        <a:pt x="82" y="198"/>
                      </a:lnTo>
                      <a:lnTo>
                        <a:pt x="82" y="198"/>
                      </a:lnTo>
                      <a:lnTo>
                        <a:pt x="82" y="198"/>
                      </a:lnTo>
                      <a:close/>
                    </a:path>
                  </a:pathLst>
                </a:custGeom>
                <a:solidFill>
                  <a:srgbClr val="ffe0d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a:off x="3610080" y="5565600"/>
                  <a:ext cx="218160" cy="78120"/>
                </a:xfrm>
                <a:custGeom>
                  <a:avLst/>
                  <a:gdLst/>
                  <a:ahLst/>
                  <a:rect l="l" t="t" r="r" b="b"/>
                  <a:pathLst>
                    <a:path w="816" h="306">
                      <a:moveTo>
                        <a:pt x="0" y="69"/>
                      </a:moveTo>
                      <a:lnTo>
                        <a:pt x="740" y="0"/>
                      </a:lnTo>
                      <a:lnTo>
                        <a:pt x="816" y="306"/>
                      </a:lnTo>
                      <a:lnTo>
                        <a:pt x="18" y="299"/>
                      </a:lnTo>
                      <a:lnTo>
                        <a:pt x="0" y="69"/>
                      </a:lnTo>
                      <a:lnTo>
                        <a:pt x="0" y="69"/>
                      </a:lnTo>
                      <a:lnTo>
                        <a:pt x="0" y="69"/>
                      </a:lnTo>
                      <a:close/>
                    </a:path>
                  </a:pathLst>
                </a:custGeom>
                <a:solidFill>
                  <a:srgbClr val="b2f4ff"/>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22" name=""/>
                <p:cNvSpPr/>
                <p:nvPr/>
              </p:nvSpPr>
              <p:spPr>
                <a:xfrm>
                  <a:off x="3589920" y="5195520"/>
                  <a:ext cx="429840" cy="354240"/>
                </a:xfrm>
                <a:custGeom>
                  <a:avLst/>
                  <a:gdLst/>
                  <a:ahLst/>
                  <a:rect l="l" t="t" r="r" b="b"/>
                  <a:pathLst>
                    <a:path w="1607" h="1387">
                      <a:moveTo>
                        <a:pt x="0" y="167"/>
                      </a:moveTo>
                      <a:lnTo>
                        <a:pt x="0" y="1387"/>
                      </a:lnTo>
                      <a:lnTo>
                        <a:pt x="1607" y="1210"/>
                      </a:lnTo>
                      <a:lnTo>
                        <a:pt x="1557" y="0"/>
                      </a:lnTo>
                      <a:lnTo>
                        <a:pt x="0" y="167"/>
                      </a:lnTo>
                      <a:lnTo>
                        <a:pt x="0" y="167"/>
                      </a:lnTo>
                      <a:lnTo>
                        <a:pt x="0" y="167"/>
                      </a:lnTo>
                      <a:close/>
                    </a:path>
                  </a:pathLst>
                </a:custGeom>
                <a:solidFill>
                  <a:srgbClr val="f5f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3" name=""/>
                <p:cNvSpPr/>
                <p:nvPr/>
              </p:nvSpPr>
              <p:spPr>
                <a:xfrm>
                  <a:off x="3573000" y="5108760"/>
                  <a:ext cx="452520" cy="94680"/>
                </a:xfrm>
                <a:custGeom>
                  <a:avLst/>
                  <a:gdLst/>
                  <a:ahLst/>
                  <a:rect l="l" t="t" r="r" b="b"/>
                  <a:pathLst>
                    <a:path w="1692" h="373">
                      <a:moveTo>
                        <a:pt x="9" y="101"/>
                      </a:moveTo>
                      <a:lnTo>
                        <a:pt x="0" y="373"/>
                      </a:lnTo>
                      <a:lnTo>
                        <a:pt x="1692" y="272"/>
                      </a:lnTo>
                      <a:lnTo>
                        <a:pt x="1652" y="0"/>
                      </a:lnTo>
                      <a:lnTo>
                        <a:pt x="1030" y="35"/>
                      </a:lnTo>
                      <a:lnTo>
                        <a:pt x="452" y="50"/>
                      </a:lnTo>
                      <a:lnTo>
                        <a:pt x="9" y="101"/>
                      </a:lnTo>
                      <a:lnTo>
                        <a:pt x="9" y="101"/>
                      </a:lnTo>
                      <a:lnTo>
                        <a:pt x="9" y="101"/>
                      </a:lnTo>
                      <a:close/>
                    </a:path>
                  </a:pathLst>
                </a:custGeom>
                <a:solidFill>
                  <a:srgbClr val="ff99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4" name=""/>
                <p:cNvSpPr/>
                <p:nvPr/>
              </p:nvSpPr>
              <p:spPr>
                <a:xfrm>
                  <a:off x="3600360" y="5617080"/>
                  <a:ext cx="415800" cy="119880"/>
                </a:xfrm>
                <a:custGeom>
                  <a:avLst/>
                  <a:gdLst/>
                  <a:ahLst/>
                  <a:rect l="l" t="t" r="r" b="b"/>
                  <a:pathLst>
                    <a:path w="1555" h="471">
                      <a:moveTo>
                        <a:pt x="0" y="167"/>
                      </a:moveTo>
                      <a:lnTo>
                        <a:pt x="42" y="471"/>
                      </a:lnTo>
                      <a:lnTo>
                        <a:pt x="1514" y="275"/>
                      </a:lnTo>
                      <a:lnTo>
                        <a:pt x="1555" y="0"/>
                      </a:lnTo>
                      <a:lnTo>
                        <a:pt x="0" y="167"/>
                      </a:lnTo>
                      <a:lnTo>
                        <a:pt x="0" y="167"/>
                      </a:lnTo>
                      <a:lnTo>
                        <a:pt x="0" y="167"/>
                      </a:lnTo>
                      <a:close/>
                    </a:path>
                  </a:pathLst>
                </a:custGeom>
                <a:solidFill>
                  <a:srgbClr val="f5f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5" name=""/>
                <p:cNvSpPr/>
                <p:nvPr/>
              </p:nvSpPr>
              <p:spPr>
                <a:xfrm>
                  <a:off x="3524400" y="5029200"/>
                  <a:ext cx="563400" cy="75600"/>
                </a:xfrm>
                <a:custGeom>
                  <a:avLst/>
                  <a:gdLst/>
                  <a:ahLst/>
                  <a:rect l="l" t="t" r="r" b="b"/>
                  <a:pathLst>
                    <a:path w="2107" h="296">
                      <a:moveTo>
                        <a:pt x="17" y="254"/>
                      </a:moveTo>
                      <a:lnTo>
                        <a:pt x="101" y="224"/>
                      </a:lnTo>
                      <a:lnTo>
                        <a:pt x="183" y="199"/>
                      </a:lnTo>
                      <a:lnTo>
                        <a:pt x="281" y="175"/>
                      </a:lnTo>
                      <a:lnTo>
                        <a:pt x="384" y="163"/>
                      </a:lnTo>
                      <a:lnTo>
                        <a:pt x="605" y="123"/>
                      </a:lnTo>
                      <a:lnTo>
                        <a:pt x="764" y="108"/>
                      </a:lnTo>
                      <a:lnTo>
                        <a:pt x="985" y="78"/>
                      </a:lnTo>
                      <a:lnTo>
                        <a:pt x="1177" y="72"/>
                      </a:lnTo>
                      <a:lnTo>
                        <a:pt x="1588" y="66"/>
                      </a:lnTo>
                      <a:lnTo>
                        <a:pt x="1835" y="36"/>
                      </a:lnTo>
                      <a:lnTo>
                        <a:pt x="2080" y="0"/>
                      </a:lnTo>
                      <a:lnTo>
                        <a:pt x="2107" y="17"/>
                      </a:lnTo>
                      <a:lnTo>
                        <a:pt x="2101" y="34"/>
                      </a:lnTo>
                      <a:lnTo>
                        <a:pt x="2088" y="42"/>
                      </a:lnTo>
                      <a:lnTo>
                        <a:pt x="1838" y="97"/>
                      </a:lnTo>
                      <a:lnTo>
                        <a:pt x="1726" y="125"/>
                      </a:lnTo>
                      <a:lnTo>
                        <a:pt x="1593" y="142"/>
                      </a:lnTo>
                      <a:lnTo>
                        <a:pt x="1188" y="159"/>
                      </a:lnTo>
                      <a:lnTo>
                        <a:pt x="781" y="203"/>
                      </a:lnTo>
                      <a:lnTo>
                        <a:pt x="618" y="218"/>
                      </a:lnTo>
                      <a:lnTo>
                        <a:pt x="392" y="258"/>
                      </a:lnTo>
                      <a:lnTo>
                        <a:pt x="198" y="296"/>
                      </a:lnTo>
                      <a:lnTo>
                        <a:pt x="27" y="296"/>
                      </a:lnTo>
                      <a:lnTo>
                        <a:pt x="0" y="281"/>
                      </a:lnTo>
                      <a:lnTo>
                        <a:pt x="17" y="254"/>
                      </a:lnTo>
                      <a:lnTo>
                        <a:pt x="17" y="254"/>
                      </a:lnTo>
                      <a:lnTo>
                        <a:pt x="17" y="254"/>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626" name=""/>
                <p:cNvSpPr/>
                <p:nvPr/>
              </p:nvSpPr>
              <p:spPr>
                <a:xfrm>
                  <a:off x="3513600" y="5114520"/>
                  <a:ext cx="54000" cy="676800"/>
                </a:xfrm>
                <a:custGeom>
                  <a:avLst/>
                  <a:gdLst/>
                  <a:ahLst/>
                  <a:rect l="l" t="t" r="r" b="b"/>
                  <a:pathLst>
                    <a:path w="202" h="2650">
                      <a:moveTo>
                        <a:pt x="59" y="21"/>
                      </a:moveTo>
                      <a:lnTo>
                        <a:pt x="89" y="200"/>
                      </a:lnTo>
                      <a:lnTo>
                        <a:pt x="93" y="380"/>
                      </a:lnTo>
                      <a:lnTo>
                        <a:pt x="86" y="542"/>
                      </a:lnTo>
                      <a:lnTo>
                        <a:pt x="70" y="882"/>
                      </a:lnTo>
                      <a:lnTo>
                        <a:pt x="78" y="1211"/>
                      </a:lnTo>
                      <a:lnTo>
                        <a:pt x="105" y="1540"/>
                      </a:lnTo>
                      <a:lnTo>
                        <a:pt x="143" y="1855"/>
                      </a:lnTo>
                      <a:lnTo>
                        <a:pt x="147" y="1920"/>
                      </a:lnTo>
                      <a:lnTo>
                        <a:pt x="164" y="2011"/>
                      </a:lnTo>
                      <a:lnTo>
                        <a:pt x="179" y="2281"/>
                      </a:lnTo>
                      <a:lnTo>
                        <a:pt x="179" y="2331"/>
                      </a:lnTo>
                      <a:lnTo>
                        <a:pt x="192" y="2454"/>
                      </a:lnTo>
                      <a:lnTo>
                        <a:pt x="202" y="2620"/>
                      </a:lnTo>
                      <a:lnTo>
                        <a:pt x="196" y="2640"/>
                      </a:lnTo>
                      <a:lnTo>
                        <a:pt x="177" y="2650"/>
                      </a:lnTo>
                      <a:lnTo>
                        <a:pt x="148" y="2623"/>
                      </a:lnTo>
                      <a:lnTo>
                        <a:pt x="112" y="2464"/>
                      </a:lnTo>
                      <a:lnTo>
                        <a:pt x="97" y="2334"/>
                      </a:lnTo>
                      <a:lnTo>
                        <a:pt x="97" y="2281"/>
                      </a:lnTo>
                      <a:lnTo>
                        <a:pt x="82" y="2019"/>
                      </a:lnTo>
                      <a:lnTo>
                        <a:pt x="69" y="1928"/>
                      </a:lnTo>
                      <a:lnTo>
                        <a:pt x="63" y="1861"/>
                      </a:lnTo>
                      <a:lnTo>
                        <a:pt x="32" y="1546"/>
                      </a:lnTo>
                      <a:lnTo>
                        <a:pt x="0" y="882"/>
                      </a:lnTo>
                      <a:lnTo>
                        <a:pt x="8" y="702"/>
                      </a:lnTo>
                      <a:lnTo>
                        <a:pt x="25" y="542"/>
                      </a:lnTo>
                      <a:lnTo>
                        <a:pt x="38" y="202"/>
                      </a:lnTo>
                      <a:lnTo>
                        <a:pt x="15" y="25"/>
                      </a:lnTo>
                      <a:lnTo>
                        <a:pt x="21" y="8"/>
                      </a:lnTo>
                      <a:lnTo>
                        <a:pt x="34" y="0"/>
                      </a:lnTo>
                      <a:lnTo>
                        <a:pt x="59" y="21"/>
                      </a:lnTo>
                      <a:lnTo>
                        <a:pt x="59" y="21"/>
                      </a:lnTo>
                      <a:lnTo>
                        <a:pt x="59"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a:off x="3565080" y="5728320"/>
                  <a:ext cx="504000" cy="60120"/>
                </a:xfrm>
                <a:custGeom>
                  <a:avLst/>
                  <a:gdLst/>
                  <a:ahLst/>
                  <a:rect l="l" t="t" r="r" b="b"/>
                  <a:pathLst>
                    <a:path w="1884" h="235">
                      <a:moveTo>
                        <a:pt x="15" y="192"/>
                      </a:moveTo>
                      <a:lnTo>
                        <a:pt x="112" y="163"/>
                      </a:lnTo>
                      <a:lnTo>
                        <a:pt x="194" y="137"/>
                      </a:lnTo>
                      <a:lnTo>
                        <a:pt x="276" y="112"/>
                      </a:lnTo>
                      <a:lnTo>
                        <a:pt x="367" y="87"/>
                      </a:lnTo>
                      <a:lnTo>
                        <a:pt x="481" y="64"/>
                      </a:lnTo>
                      <a:lnTo>
                        <a:pt x="593" y="51"/>
                      </a:lnTo>
                      <a:lnTo>
                        <a:pt x="1430" y="32"/>
                      </a:lnTo>
                      <a:lnTo>
                        <a:pt x="1671" y="17"/>
                      </a:lnTo>
                      <a:lnTo>
                        <a:pt x="1764" y="17"/>
                      </a:lnTo>
                      <a:lnTo>
                        <a:pt x="1856" y="0"/>
                      </a:lnTo>
                      <a:lnTo>
                        <a:pt x="1884" y="9"/>
                      </a:lnTo>
                      <a:lnTo>
                        <a:pt x="1875" y="40"/>
                      </a:lnTo>
                      <a:lnTo>
                        <a:pt x="1823" y="63"/>
                      </a:lnTo>
                      <a:lnTo>
                        <a:pt x="1778" y="80"/>
                      </a:lnTo>
                      <a:lnTo>
                        <a:pt x="1675" y="99"/>
                      </a:lnTo>
                      <a:lnTo>
                        <a:pt x="1430" y="108"/>
                      </a:lnTo>
                      <a:lnTo>
                        <a:pt x="1013" y="101"/>
                      </a:lnTo>
                      <a:lnTo>
                        <a:pt x="597" y="102"/>
                      </a:lnTo>
                      <a:lnTo>
                        <a:pt x="378" y="137"/>
                      </a:lnTo>
                      <a:lnTo>
                        <a:pt x="205" y="182"/>
                      </a:lnTo>
                      <a:lnTo>
                        <a:pt x="124" y="207"/>
                      </a:lnTo>
                      <a:lnTo>
                        <a:pt x="31" y="235"/>
                      </a:lnTo>
                      <a:lnTo>
                        <a:pt x="0" y="220"/>
                      </a:lnTo>
                      <a:lnTo>
                        <a:pt x="15" y="192"/>
                      </a:lnTo>
                      <a:lnTo>
                        <a:pt x="15" y="192"/>
                      </a:lnTo>
                      <a:lnTo>
                        <a:pt x="15" y="19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28" name=""/>
                <p:cNvSpPr/>
                <p:nvPr/>
              </p:nvSpPr>
              <p:spPr>
                <a:xfrm>
                  <a:off x="4073760" y="5045760"/>
                  <a:ext cx="41040" cy="695520"/>
                </a:xfrm>
                <a:custGeom>
                  <a:avLst/>
                  <a:gdLst/>
                  <a:ahLst/>
                  <a:rect l="l" t="t" r="r" b="b"/>
                  <a:pathLst>
                    <a:path w="154" h="2724">
                      <a:moveTo>
                        <a:pt x="107" y="12"/>
                      </a:moveTo>
                      <a:lnTo>
                        <a:pt x="141" y="150"/>
                      </a:lnTo>
                      <a:lnTo>
                        <a:pt x="143" y="219"/>
                      </a:lnTo>
                      <a:lnTo>
                        <a:pt x="141" y="295"/>
                      </a:lnTo>
                      <a:lnTo>
                        <a:pt x="154" y="681"/>
                      </a:lnTo>
                      <a:lnTo>
                        <a:pt x="128" y="1492"/>
                      </a:lnTo>
                      <a:lnTo>
                        <a:pt x="105" y="1836"/>
                      </a:lnTo>
                      <a:lnTo>
                        <a:pt x="82" y="2380"/>
                      </a:lnTo>
                      <a:lnTo>
                        <a:pt x="95" y="2699"/>
                      </a:lnTo>
                      <a:lnTo>
                        <a:pt x="80" y="2724"/>
                      </a:lnTo>
                      <a:lnTo>
                        <a:pt x="56" y="2705"/>
                      </a:lnTo>
                      <a:lnTo>
                        <a:pt x="0" y="2380"/>
                      </a:lnTo>
                      <a:lnTo>
                        <a:pt x="25" y="1829"/>
                      </a:lnTo>
                      <a:lnTo>
                        <a:pt x="57" y="1489"/>
                      </a:lnTo>
                      <a:lnTo>
                        <a:pt x="92" y="681"/>
                      </a:lnTo>
                      <a:lnTo>
                        <a:pt x="92" y="667"/>
                      </a:lnTo>
                      <a:lnTo>
                        <a:pt x="92" y="654"/>
                      </a:lnTo>
                      <a:lnTo>
                        <a:pt x="92" y="641"/>
                      </a:lnTo>
                      <a:lnTo>
                        <a:pt x="92" y="627"/>
                      </a:lnTo>
                      <a:lnTo>
                        <a:pt x="92" y="601"/>
                      </a:lnTo>
                      <a:lnTo>
                        <a:pt x="92" y="597"/>
                      </a:lnTo>
                      <a:lnTo>
                        <a:pt x="92" y="589"/>
                      </a:lnTo>
                      <a:lnTo>
                        <a:pt x="92" y="580"/>
                      </a:lnTo>
                      <a:lnTo>
                        <a:pt x="94" y="489"/>
                      </a:lnTo>
                      <a:lnTo>
                        <a:pt x="95" y="397"/>
                      </a:lnTo>
                      <a:lnTo>
                        <a:pt x="95" y="386"/>
                      </a:lnTo>
                      <a:lnTo>
                        <a:pt x="95" y="380"/>
                      </a:lnTo>
                      <a:lnTo>
                        <a:pt x="95" y="377"/>
                      </a:lnTo>
                      <a:lnTo>
                        <a:pt x="95" y="377"/>
                      </a:lnTo>
                      <a:lnTo>
                        <a:pt x="95" y="375"/>
                      </a:lnTo>
                      <a:lnTo>
                        <a:pt x="95" y="375"/>
                      </a:lnTo>
                      <a:lnTo>
                        <a:pt x="95" y="348"/>
                      </a:lnTo>
                      <a:lnTo>
                        <a:pt x="95" y="337"/>
                      </a:lnTo>
                      <a:lnTo>
                        <a:pt x="95" y="323"/>
                      </a:lnTo>
                      <a:lnTo>
                        <a:pt x="95" y="295"/>
                      </a:lnTo>
                      <a:lnTo>
                        <a:pt x="99" y="160"/>
                      </a:lnTo>
                      <a:lnTo>
                        <a:pt x="90" y="97"/>
                      </a:lnTo>
                      <a:lnTo>
                        <a:pt x="67" y="31"/>
                      </a:lnTo>
                      <a:lnTo>
                        <a:pt x="80" y="0"/>
                      </a:lnTo>
                      <a:lnTo>
                        <a:pt x="107" y="12"/>
                      </a:lnTo>
                      <a:lnTo>
                        <a:pt x="107" y="12"/>
                      </a:lnTo>
                      <a:lnTo>
                        <a:pt x="107"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a:off x="3591360" y="5202360"/>
                  <a:ext cx="434160" cy="35640"/>
                </a:xfrm>
                <a:custGeom>
                  <a:avLst/>
                  <a:gdLst/>
                  <a:ahLst/>
                  <a:rect l="l" t="t" r="r" b="b"/>
                  <a:pathLst>
                    <a:path w="1624" h="139">
                      <a:moveTo>
                        <a:pt x="19" y="95"/>
                      </a:moveTo>
                      <a:lnTo>
                        <a:pt x="435" y="59"/>
                      </a:lnTo>
                      <a:lnTo>
                        <a:pt x="848" y="50"/>
                      </a:lnTo>
                      <a:lnTo>
                        <a:pt x="1069" y="29"/>
                      </a:lnTo>
                      <a:lnTo>
                        <a:pt x="1428" y="10"/>
                      </a:lnTo>
                      <a:lnTo>
                        <a:pt x="1597" y="0"/>
                      </a:lnTo>
                      <a:lnTo>
                        <a:pt x="1624" y="14"/>
                      </a:lnTo>
                      <a:lnTo>
                        <a:pt x="1607" y="40"/>
                      </a:lnTo>
                      <a:lnTo>
                        <a:pt x="1430" y="54"/>
                      </a:lnTo>
                      <a:lnTo>
                        <a:pt x="1074" y="73"/>
                      </a:lnTo>
                      <a:lnTo>
                        <a:pt x="848" y="95"/>
                      </a:lnTo>
                      <a:lnTo>
                        <a:pt x="437" y="105"/>
                      </a:lnTo>
                      <a:lnTo>
                        <a:pt x="25" y="139"/>
                      </a:lnTo>
                      <a:lnTo>
                        <a:pt x="0" y="118"/>
                      </a:lnTo>
                      <a:lnTo>
                        <a:pt x="4" y="103"/>
                      </a:lnTo>
                      <a:lnTo>
                        <a:pt x="19" y="95"/>
                      </a:lnTo>
                      <a:lnTo>
                        <a:pt x="19" y="95"/>
                      </a:lnTo>
                      <a:lnTo>
                        <a:pt x="19" y="95"/>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630" name=""/>
                <p:cNvSpPr/>
                <p:nvPr/>
              </p:nvSpPr>
              <p:spPr>
                <a:xfrm>
                  <a:off x="3595680" y="5265000"/>
                  <a:ext cx="442080" cy="29520"/>
                </a:xfrm>
                <a:custGeom>
                  <a:avLst/>
                  <a:gdLst/>
                  <a:ahLst/>
                  <a:rect l="l" t="t" r="r" b="b"/>
                  <a:pathLst>
                    <a:path w="1652" h="116">
                      <a:moveTo>
                        <a:pt x="19" y="73"/>
                      </a:moveTo>
                      <a:lnTo>
                        <a:pt x="219" y="56"/>
                      </a:lnTo>
                      <a:lnTo>
                        <a:pt x="418" y="56"/>
                      </a:lnTo>
                      <a:lnTo>
                        <a:pt x="740" y="56"/>
                      </a:lnTo>
                      <a:lnTo>
                        <a:pt x="1025" y="39"/>
                      </a:lnTo>
                      <a:lnTo>
                        <a:pt x="1308" y="12"/>
                      </a:lnTo>
                      <a:lnTo>
                        <a:pt x="1631" y="0"/>
                      </a:lnTo>
                      <a:lnTo>
                        <a:pt x="1652" y="21"/>
                      </a:lnTo>
                      <a:lnTo>
                        <a:pt x="1631" y="44"/>
                      </a:lnTo>
                      <a:lnTo>
                        <a:pt x="1308" y="56"/>
                      </a:lnTo>
                      <a:lnTo>
                        <a:pt x="1025" y="80"/>
                      </a:lnTo>
                      <a:lnTo>
                        <a:pt x="738" y="101"/>
                      </a:lnTo>
                      <a:lnTo>
                        <a:pt x="417" y="97"/>
                      </a:lnTo>
                      <a:lnTo>
                        <a:pt x="219" y="97"/>
                      </a:lnTo>
                      <a:lnTo>
                        <a:pt x="23" y="116"/>
                      </a:lnTo>
                      <a:lnTo>
                        <a:pt x="0" y="97"/>
                      </a:lnTo>
                      <a:lnTo>
                        <a:pt x="4" y="82"/>
                      </a:lnTo>
                      <a:lnTo>
                        <a:pt x="19" y="73"/>
                      </a:lnTo>
                      <a:lnTo>
                        <a:pt x="19" y="73"/>
                      </a:lnTo>
                      <a:lnTo>
                        <a:pt x="19" y="7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631" name=""/>
                <p:cNvSpPr/>
                <p:nvPr/>
              </p:nvSpPr>
              <p:spPr>
                <a:xfrm>
                  <a:off x="3591360" y="5259960"/>
                  <a:ext cx="28080" cy="275400"/>
                </a:xfrm>
                <a:custGeom>
                  <a:avLst/>
                  <a:gdLst/>
                  <a:ahLst/>
                  <a:rect l="l" t="t" r="r" b="b"/>
                  <a:pathLst>
                    <a:path w="107" h="1078">
                      <a:moveTo>
                        <a:pt x="44" y="23"/>
                      </a:moveTo>
                      <a:lnTo>
                        <a:pt x="61" y="415"/>
                      </a:lnTo>
                      <a:lnTo>
                        <a:pt x="91" y="805"/>
                      </a:lnTo>
                      <a:lnTo>
                        <a:pt x="107" y="1055"/>
                      </a:lnTo>
                      <a:lnTo>
                        <a:pt x="86" y="1078"/>
                      </a:lnTo>
                      <a:lnTo>
                        <a:pt x="61" y="1057"/>
                      </a:lnTo>
                      <a:lnTo>
                        <a:pt x="46" y="806"/>
                      </a:lnTo>
                      <a:lnTo>
                        <a:pt x="0" y="23"/>
                      </a:lnTo>
                      <a:lnTo>
                        <a:pt x="21" y="0"/>
                      </a:lnTo>
                      <a:lnTo>
                        <a:pt x="44" y="23"/>
                      </a:lnTo>
                      <a:lnTo>
                        <a:pt x="44" y="23"/>
                      </a:lnTo>
                      <a:lnTo>
                        <a:pt x="4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a:off x="3638880" y="5223600"/>
                  <a:ext cx="24480" cy="309960"/>
                </a:xfrm>
                <a:custGeom>
                  <a:avLst/>
                  <a:gdLst/>
                  <a:ahLst/>
                  <a:rect l="l" t="t" r="r" b="b"/>
                  <a:pathLst>
                    <a:path w="93" h="1215">
                      <a:moveTo>
                        <a:pt x="42" y="19"/>
                      </a:moveTo>
                      <a:lnTo>
                        <a:pt x="68" y="276"/>
                      </a:lnTo>
                      <a:lnTo>
                        <a:pt x="89" y="1017"/>
                      </a:lnTo>
                      <a:lnTo>
                        <a:pt x="93" y="1194"/>
                      </a:lnTo>
                      <a:lnTo>
                        <a:pt x="70" y="1215"/>
                      </a:lnTo>
                      <a:lnTo>
                        <a:pt x="49" y="1190"/>
                      </a:lnTo>
                      <a:lnTo>
                        <a:pt x="44" y="1017"/>
                      </a:lnTo>
                      <a:lnTo>
                        <a:pt x="25" y="277"/>
                      </a:lnTo>
                      <a:lnTo>
                        <a:pt x="0" y="25"/>
                      </a:lnTo>
                      <a:lnTo>
                        <a:pt x="6" y="8"/>
                      </a:lnTo>
                      <a:lnTo>
                        <a:pt x="17" y="0"/>
                      </a:lnTo>
                      <a:lnTo>
                        <a:pt x="42" y="19"/>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3" name=""/>
                <p:cNvSpPr/>
                <p:nvPr/>
              </p:nvSpPr>
              <p:spPr>
                <a:xfrm>
                  <a:off x="3703320" y="5224680"/>
                  <a:ext cx="20880" cy="321120"/>
                </a:xfrm>
                <a:custGeom>
                  <a:avLst/>
                  <a:gdLst/>
                  <a:ahLst/>
                  <a:rect l="l" t="t" r="r" b="b"/>
                  <a:pathLst>
                    <a:path w="78" h="1258">
                      <a:moveTo>
                        <a:pt x="46" y="24"/>
                      </a:moveTo>
                      <a:lnTo>
                        <a:pt x="50" y="230"/>
                      </a:lnTo>
                      <a:lnTo>
                        <a:pt x="59" y="433"/>
                      </a:lnTo>
                      <a:lnTo>
                        <a:pt x="54" y="722"/>
                      </a:lnTo>
                      <a:lnTo>
                        <a:pt x="59" y="1013"/>
                      </a:lnTo>
                      <a:lnTo>
                        <a:pt x="78" y="1237"/>
                      </a:lnTo>
                      <a:lnTo>
                        <a:pt x="73" y="1254"/>
                      </a:lnTo>
                      <a:lnTo>
                        <a:pt x="59" y="1258"/>
                      </a:lnTo>
                      <a:lnTo>
                        <a:pt x="36" y="1237"/>
                      </a:lnTo>
                      <a:lnTo>
                        <a:pt x="17" y="1015"/>
                      </a:lnTo>
                      <a:lnTo>
                        <a:pt x="12" y="724"/>
                      </a:lnTo>
                      <a:lnTo>
                        <a:pt x="17" y="433"/>
                      </a:lnTo>
                      <a:lnTo>
                        <a:pt x="0" y="21"/>
                      </a:lnTo>
                      <a:lnTo>
                        <a:pt x="25" y="0"/>
                      </a:lnTo>
                      <a:lnTo>
                        <a:pt x="46" y="24"/>
                      </a:lnTo>
                      <a:lnTo>
                        <a:pt x="46" y="24"/>
                      </a:lnTo>
                      <a:lnTo>
                        <a:pt x="46"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a:off x="3762000" y="5220720"/>
                  <a:ext cx="18720" cy="311400"/>
                </a:xfrm>
                <a:custGeom>
                  <a:avLst/>
                  <a:gdLst/>
                  <a:ahLst/>
                  <a:rect l="l" t="t" r="r" b="b"/>
                  <a:pathLst>
                    <a:path w="70" h="1220">
                      <a:moveTo>
                        <a:pt x="44" y="22"/>
                      </a:moveTo>
                      <a:lnTo>
                        <a:pt x="63" y="821"/>
                      </a:lnTo>
                      <a:lnTo>
                        <a:pt x="70" y="1195"/>
                      </a:lnTo>
                      <a:lnTo>
                        <a:pt x="65" y="1212"/>
                      </a:lnTo>
                      <a:lnTo>
                        <a:pt x="49" y="1220"/>
                      </a:lnTo>
                      <a:lnTo>
                        <a:pt x="27" y="1201"/>
                      </a:lnTo>
                      <a:lnTo>
                        <a:pt x="19" y="821"/>
                      </a:lnTo>
                      <a:lnTo>
                        <a:pt x="0" y="22"/>
                      </a:lnTo>
                      <a:lnTo>
                        <a:pt x="21" y="0"/>
                      </a:lnTo>
                      <a:lnTo>
                        <a:pt x="44" y="22"/>
                      </a:lnTo>
                      <a:lnTo>
                        <a:pt x="44" y="22"/>
                      </a:lnTo>
                      <a:lnTo>
                        <a:pt x="44"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5" name=""/>
                <p:cNvSpPr/>
                <p:nvPr/>
              </p:nvSpPr>
              <p:spPr>
                <a:xfrm>
                  <a:off x="3819960" y="5222160"/>
                  <a:ext cx="22680" cy="304920"/>
                </a:xfrm>
                <a:custGeom>
                  <a:avLst/>
                  <a:gdLst/>
                  <a:ahLst/>
                  <a:rect l="l" t="t" r="r" b="b"/>
                  <a:pathLst>
                    <a:path w="85" h="1194">
                      <a:moveTo>
                        <a:pt x="43" y="23"/>
                      </a:moveTo>
                      <a:lnTo>
                        <a:pt x="59" y="409"/>
                      </a:lnTo>
                      <a:lnTo>
                        <a:pt x="76" y="795"/>
                      </a:lnTo>
                      <a:lnTo>
                        <a:pt x="85" y="1167"/>
                      </a:lnTo>
                      <a:lnTo>
                        <a:pt x="68" y="1194"/>
                      </a:lnTo>
                      <a:lnTo>
                        <a:pt x="43" y="1177"/>
                      </a:lnTo>
                      <a:lnTo>
                        <a:pt x="22" y="985"/>
                      </a:lnTo>
                      <a:lnTo>
                        <a:pt x="30" y="795"/>
                      </a:lnTo>
                      <a:lnTo>
                        <a:pt x="15" y="409"/>
                      </a:lnTo>
                      <a:lnTo>
                        <a:pt x="0" y="23"/>
                      </a:lnTo>
                      <a:lnTo>
                        <a:pt x="22" y="0"/>
                      </a:lnTo>
                      <a:lnTo>
                        <a:pt x="43" y="23"/>
                      </a:lnTo>
                      <a:lnTo>
                        <a:pt x="43" y="23"/>
                      </a:lnTo>
                      <a:lnTo>
                        <a:pt x="43"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a:off x="3952080" y="5209560"/>
                  <a:ext cx="20880" cy="324360"/>
                </a:xfrm>
                <a:custGeom>
                  <a:avLst/>
                  <a:gdLst/>
                  <a:ahLst/>
                  <a:rect l="l" t="t" r="r" b="b"/>
                  <a:pathLst>
                    <a:path w="80" h="1270">
                      <a:moveTo>
                        <a:pt x="44" y="19"/>
                      </a:moveTo>
                      <a:lnTo>
                        <a:pt x="48" y="308"/>
                      </a:lnTo>
                      <a:lnTo>
                        <a:pt x="65" y="530"/>
                      </a:lnTo>
                      <a:lnTo>
                        <a:pt x="80" y="1247"/>
                      </a:lnTo>
                      <a:lnTo>
                        <a:pt x="57" y="1270"/>
                      </a:lnTo>
                      <a:lnTo>
                        <a:pt x="36" y="1247"/>
                      </a:lnTo>
                      <a:lnTo>
                        <a:pt x="19" y="530"/>
                      </a:lnTo>
                      <a:lnTo>
                        <a:pt x="4" y="313"/>
                      </a:lnTo>
                      <a:lnTo>
                        <a:pt x="0" y="25"/>
                      </a:lnTo>
                      <a:lnTo>
                        <a:pt x="4" y="5"/>
                      </a:lnTo>
                      <a:lnTo>
                        <a:pt x="19" y="0"/>
                      </a:lnTo>
                      <a:lnTo>
                        <a:pt x="44" y="19"/>
                      </a:lnTo>
                      <a:lnTo>
                        <a:pt x="44" y="19"/>
                      </a:lnTo>
                      <a:lnTo>
                        <a:pt x="44"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a:off x="4014360" y="5223600"/>
                  <a:ext cx="14400" cy="311400"/>
                </a:xfrm>
                <a:custGeom>
                  <a:avLst/>
                  <a:gdLst/>
                  <a:ahLst/>
                  <a:rect l="l" t="t" r="r" b="b"/>
                  <a:pathLst>
                    <a:path w="53" h="1220">
                      <a:moveTo>
                        <a:pt x="42" y="19"/>
                      </a:moveTo>
                      <a:lnTo>
                        <a:pt x="53" y="264"/>
                      </a:lnTo>
                      <a:lnTo>
                        <a:pt x="42" y="1197"/>
                      </a:lnTo>
                      <a:lnTo>
                        <a:pt x="19" y="1220"/>
                      </a:lnTo>
                      <a:lnTo>
                        <a:pt x="0" y="1197"/>
                      </a:lnTo>
                      <a:lnTo>
                        <a:pt x="11" y="264"/>
                      </a:lnTo>
                      <a:lnTo>
                        <a:pt x="0" y="25"/>
                      </a:lnTo>
                      <a:lnTo>
                        <a:pt x="4" y="8"/>
                      </a:lnTo>
                      <a:lnTo>
                        <a:pt x="17" y="0"/>
                      </a:lnTo>
                      <a:lnTo>
                        <a:pt x="42" y="19"/>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a:off x="3645360" y="5650200"/>
                  <a:ext cx="342000" cy="14760"/>
                </a:xfrm>
                <a:custGeom>
                  <a:avLst/>
                  <a:gdLst/>
                  <a:ahLst/>
                  <a:rect l="l" t="t" r="r" b="b"/>
                  <a:pathLst>
                    <a:path w="1277" h="57">
                      <a:moveTo>
                        <a:pt x="22" y="9"/>
                      </a:moveTo>
                      <a:lnTo>
                        <a:pt x="481" y="13"/>
                      </a:lnTo>
                      <a:lnTo>
                        <a:pt x="935" y="0"/>
                      </a:lnTo>
                      <a:lnTo>
                        <a:pt x="1256" y="13"/>
                      </a:lnTo>
                      <a:lnTo>
                        <a:pt x="1277" y="36"/>
                      </a:lnTo>
                      <a:lnTo>
                        <a:pt x="1254" y="57"/>
                      </a:lnTo>
                      <a:lnTo>
                        <a:pt x="935" y="43"/>
                      </a:lnTo>
                      <a:lnTo>
                        <a:pt x="479" y="57"/>
                      </a:lnTo>
                      <a:lnTo>
                        <a:pt x="19" y="53"/>
                      </a:lnTo>
                      <a:lnTo>
                        <a:pt x="0" y="28"/>
                      </a:lnTo>
                      <a:lnTo>
                        <a:pt x="22" y="9"/>
                      </a:lnTo>
                      <a:lnTo>
                        <a:pt x="22" y="9"/>
                      </a:lnTo>
                      <a:lnTo>
                        <a:pt x="22" y="9"/>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639" name=""/>
                <p:cNvSpPr/>
                <p:nvPr/>
              </p:nvSpPr>
              <p:spPr>
                <a:xfrm>
                  <a:off x="3640680" y="5687280"/>
                  <a:ext cx="349560" cy="20880"/>
                </a:xfrm>
                <a:custGeom>
                  <a:avLst/>
                  <a:gdLst/>
                  <a:ahLst/>
                  <a:rect l="l" t="t" r="r" b="b"/>
                  <a:pathLst>
                    <a:path w="1306" h="84">
                      <a:moveTo>
                        <a:pt x="17" y="40"/>
                      </a:moveTo>
                      <a:lnTo>
                        <a:pt x="190" y="14"/>
                      </a:lnTo>
                      <a:lnTo>
                        <a:pt x="342" y="0"/>
                      </a:lnTo>
                      <a:lnTo>
                        <a:pt x="667" y="4"/>
                      </a:lnTo>
                      <a:lnTo>
                        <a:pt x="789" y="21"/>
                      </a:lnTo>
                      <a:lnTo>
                        <a:pt x="908" y="36"/>
                      </a:lnTo>
                      <a:lnTo>
                        <a:pt x="1285" y="16"/>
                      </a:lnTo>
                      <a:lnTo>
                        <a:pt x="1306" y="38"/>
                      </a:lnTo>
                      <a:lnTo>
                        <a:pt x="1285" y="59"/>
                      </a:lnTo>
                      <a:lnTo>
                        <a:pt x="1096" y="73"/>
                      </a:lnTo>
                      <a:lnTo>
                        <a:pt x="906" y="80"/>
                      </a:lnTo>
                      <a:lnTo>
                        <a:pt x="787" y="65"/>
                      </a:lnTo>
                      <a:lnTo>
                        <a:pt x="663" y="50"/>
                      </a:lnTo>
                      <a:lnTo>
                        <a:pt x="344" y="46"/>
                      </a:lnTo>
                      <a:lnTo>
                        <a:pt x="22" y="84"/>
                      </a:lnTo>
                      <a:lnTo>
                        <a:pt x="0" y="67"/>
                      </a:lnTo>
                      <a:lnTo>
                        <a:pt x="17" y="40"/>
                      </a:lnTo>
                      <a:lnTo>
                        <a:pt x="17" y="40"/>
                      </a:lnTo>
                      <a:lnTo>
                        <a:pt x="17" y="4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40" name=""/>
                <p:cNvSpPr/>
                <p:nvPr/>
              </p:nvSpPr>
              <p:spPr>
                <a:xfrm>
                  <a:off x="3641040" y="5529240"/>
                  <a:ext cx="356760" cy="18720"/>
                </a:xfrm>
                <a:custGeom>
                  <a:avLst/>
                  <a:gdLst/>
                  <a:ahLst/>
                  <a:rect l="l" t="t" r="r" b="b"/>
                  <a:pathLst>
                    <a:path w="1335" h="74">
                      <a:moveTo>
                        <a:pt x="25" y="26"/>
                      </a:moveTo>
                      <a:lnTo>
                        <a:pt x="441" y="32"/>
                      </a:lnTo>
                      <a:lnTo>
                        <a:pt x="860" y="13"/>
                      </a:lnTo>
                      <a:lnTo>
                        <a:pt x="1088" y="0"/>
                      </a:lnTo>
                      <a:lnTo>
                        <a:pt x="1316" y="19"/>
                      </a:lnTo>
                      <a:lnTo>
                        <a:pt x="1335" y="41"/>
                      </a:lnTo>
                      <a:lnTo>
                        <a:pt x="1310" y="62"/>
                      </a:lnTo>
                      <a:lnTo>
                        <a:pt x="1088" y="41"/>
                      </a:lnTo>
                      <a:lnTo>
                        <a:pt x="864" y="57"/>
                      </a:lnTo>
                      <a:lnTo>
                        <a:pt x="443" y="74"/>
                      </a:lnTo>
                      <a:lnTo>
                        <a:pt x="25" y="68"/>
                      </a:lnTo>
                      <a:lnTo>
                        <a:pt x="0" y="49"/>
                      </a:lnTo>
                      <a:lnTo>
                        <a:pt x="25" y="26"/>
                      </a:lnTo>
                      <a:lnTo>
                        <a:pt x="25" y="26"/>
                      </a:lnTo>
                      <a:lnTo>
                        <a:pt x="25" y="26"/>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41" name=""/>
                <p:cNvSpPr/>
                <p:nvPr/>
              </p:nvSpPr>
              <p:spPr>
                <a:xfrm>
                  <a:off x="3886920" y="5217480"/>
                  <a:ext cx="21240" cy="309600"/>
                </a:xfrm>
                <a:custGeom>
                  <a:avLst/>
                  <a:gdLst/>
                  <a:ahLst/>
                  <a:rect l="l" t="t" r="r" b="b"/>
                  <a:pathLst>
                    <a:path w="80" h="1213">
                      <a:moveTo>
                        <a:pt x="45" y="21"/>
                      </a:moveTo>
                      <a:lnTo>
                        <a:pt x="55" y="259"/>
                      </a:lnTo>
                      <a:lnTo>
                        <a:pt x="76" y="493"/>
                      </a:lnTo>
                      <a:lnTo>
                        <a:pt x="80" y="677"/>
                      </a:lnTo>
                      <a:lnTo>
                        <a:pt x="76" y="840"/>
                      </a:lnTo>
                      <a:lnTo>
                        <a:pt x="80" y="1190"/>
                      </a:lnTo>
                      <a:lnTo>
                        <a:pt x="74" y="1207"/>
                      </a:lnTo>
                      <a:lnTo>
                        <a:pt x="59" y="1213"/>
                      </a:lnTo>
                      <a:lnTo>
                        <a:pt x="36" y="1192"/>
                      </a:lnTo>
                      <a:lnTo>
                        <a:pt x="32" y="844"/>
                      </a:lnTo>
                      <a:lnTo>
                        <a:pt x="36" y="679"/>
                      </a:lnTo>
                      <a:lnTo>
                        <a:pt x="32" y="494"/>
                      </a:lnTo>
                      <a:lnTo>
                        <a:pt x="0" y="21"/>
                      </a:lnTo>
                      <a:lnTo>
                        <a:pt x="22" y="0"/>
                      </a:lnTo>
                      <a:lnTo>
                        <a:pt x="45" y="21"/>
                      </a:lnTo>
                      <a:lnTo>
                        <a:pt x="45" y="21"/>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42" name=""/>
              <p:cNvGrpSpPr/>
              <p:nvPr/>
            </p:nvGrpSpPr>
            <p:grpSpPr>
              <a:xfrm>
                <a:off x="3886200" y="5410440"/>
                <a:ext cx="325440" cy="461880"/>
                <a:chOff x="3886200" y="5410440"/>
                <a:chExt cx="325440" cy="461880"/>
              </a:xfrm>
            </p:grpSpPr>
            <p:sp>
              <p:nvSpPr>
                <p:cNvPr id="643" name=""/>
                <p:cNvSpPr/>
                <p:nvPr/>
              </p:nvSpPr>
              <p:spPr>
                <a:xfrm>
                  <a:off x="3889440" y="5543640"/>
                  <a:ext cx="57600" cy="76680"/>
                </a:xfrm>
                <a:custGeom>
                  <a:avLst/>
                  <a:gdLst/>
                  <a:ahLst/>
                  <a:rect l="l" t="t" r="r" b="b"/>
                  <a:pathLst>
                    <a:path w="443" h="626">
                      <a:moveTo>
                        <a:pt x="0" y="0"/>
                      </a:moveTo>
                      <a:lnTo>
                        <a:pt x="19" y="276"/>
                      </a:lnTo>
                      <a:lnTo>
                        <a:pt x="114" y="498"/>
                      </a:lnTo>
                      <a:lnTo>
                        <a:pt x="340" y="626"/>
                      </a:lnTo>
                      <a:lnTo>
                        <a:pt x="443" y="550"/>
                      </a:lnTo>
                      <a:lnTo>
                        <a:pt x="353" y="417"/>
                      </a:lnTo>
                      <a:lnTo>
                        <a:pt x="201" y="396"/>
                      </a:lnTo>
                      <a:lnTo>
                        <a:pt x="101" y="306"/>
                      </a:lnTo>
                      <a:lnTo>
                        <a:pt x="0" y="0"/>
                      </a:lnTo>
                      <a:lnTo>
                        <a:pt x="0" y="0"/>
                      </a:lnTo>
                      <a:close/>
                    </a:path>
                  </a:pathLst>
                </a:custGeom>
                <a:solidFill>
                  <a:srgbClr val="ffd9d9"/>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644" name=""/>
                <p:cNvSpPr/>
                <p:nvPr/>
              </p:nvSpPr>
              <p:spPr>
                <a:xfrm>
                  <a:off x="4013640" y="5625000"/>
                  <a:ext cx="149760" cy="47160"/>
                </a:xfrm>
                <a:custGeom>
                  <a:avLst/>
                  <a:gdLst/>
                  <a:ahLst/>
                  <a:rect l="l" t="t" r="r" b="b"/>
                  <a:pathLst>
                    <a:path w="1156" h="384">
                      <a:moveTo>
                        <a:pt x="0" y="306"/>
                      </a:moveTo>
                      <a:lnTo>
                        <a:pt x="139" y="268"/>
                      </a:lnTo>
                      <a:lnTo>
                        <a:pt x="304" y="121"/>
                      </a:lnTo>
                      <a:lnTo>
                        <a:pt x="493" y="273"/>
                      </a:lnTo>
                      <a:lnTo>
                        <a:pt x="443" y="116"/>
                      </a:lnTo>
                      <a:lnTo>
                        <a:pt x="607" y="230"/>
                      </a:lnTo>
                      <a:lnTo>
                        <a:pt x="734" y="165"/>
                      </a:lnTo>
                      <a:lnTo>
                        <a:pt x="840" y="70"/>
                      </a:lnTo>
                      <a:lnTo>
                        <a:pt x="854" y="19"/>
                      </a:lnTo>
                      <a:lnTo>
                        <a:pt x="979" y="0"/>
                      </a:lnTo>
                      <a:lnTo>
                        <a:pt x="1156" y="26"/>
                      </a:lnTo>
                      <a:lnTo>
                        <a:pt x="854" y="205"/>
                      </a:lnTo>
                      <a:lnTo>
                        <a:pt x="498" y="363"/>
                      </a:lnTo>
                      <a:lnTo>
                        <a:pt x="95" y="384"/>
                      </a:lnTo>
                      <a:lnTo>
                        <a:pt x="0" y="306"/>
                      </a:lnTo>
                      <a:lnTo>
                        <a:pt x="0" y="306"/>
                      </a:lnTo>
                      <a:close/>
                    </a:path>
                  </a:pathLst>
                </a:custGeom>
                <a:solidFill>
                  <a:srgbClr val="ffd9d9"/>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45" name=""/>
                <p:cNvSpPr/>
                <p:nvPr/>
              </p:nvSpPr>
              <p:spPr>
                <a:xfrm>
                  <a:off x="3907800" y="5432400"/>
                  <a:ext cx="224640" cy="219240"/>
                </a:xfrm>
                <a:custGeom>
                  <a:avLst/>
                  <a:gdLst/>
                  <a:ahLst/>
                  <a:rect l="l" t="t" r="r" b="b"/>
                  <a:pathLst>
                    <a:path w="1731" h="1779">
                      <a:moveTo>
                        <a:pt x="557" y="0"/>
                      </a:moveTo>
                      <a:lnTo>
                        <a:pt x="233" y="314"/>
                      </a:lnTo>
                      <a:lnTo>
                        <a:pt x="43" y="485"/>
                      </a:lnTo>
                      <a:lnTo>
                        <a:pt x="100" y="740"/>
                      </a:lnTo>
                      <a:lnTo>
                        <a:pt x="0" y="875"/>
                      </a:lnTo>
                      <a:lnTo>
                        <a:pt x="95" y="1091"/>
                      </a:lnTo>
                      <a:lnTo>
                        <a:pt x="138" y="1200"/>
                      </a:lnTo>
                      <a:lnTo>
                        <a:pt x="290" y="1283"/>
                      </a:lnTo>
                      <a:lnTo>
                        <a:pt x="595" y="829"/>
                      </a:lnTo>
                      <a:lnTo>
                        <a:pt x="1005" y="652"/>
                      </a:lnTo>
                      <a:lnTo>
                        <a:pt x="600" y="1053"/>
                      </a:lnTo>
                      <a:lnTo>
                        <a:pt x="366" y="1346"/>
                      </a:lnTo>
                      <a:lnTo>
                        <a:pt x="328" y="1538"/>
                      </a:lnTo>
                      <a:lnTo>
                        <a:pt x="606" y="1487"/>
                      </a:lnTo>
                      <a:lnTo>
                        <a:pt x="688" y="1492"/>
                      </a:lnTo>
                      <a:lnTo>
                        <a:pt x="752" y="1563"/>
                      </a:lnTo>
                      <a:lnTo>
                        <a:pt x="1188" y="1295"/>
                      </a:lnTo>
                      <a:lnTo>
                        <a:pt x="834" y="1679"/>
                      </a:lnTo>
                      <a:lnTo>
                        <a:pt x="847" y="1779"/>
                      </a:lnTo>
                      <a:lnTo>
                        <a:pt x="1062" y="1601"/>
                      </a:lnTo>
                      <a:lnTo>
                        <a:pt x="1302" y="1500"/>
                      </a:lnTo>
                      <a:lnTo>
                        <a:pt x="1707" y="1072"/>
                      </a:lnTo>
                      <a:lnTo>
                        <a:pt x="1731" y="696"/>
                      </a:lnTo>
                      <a:lnTo>
                        <a:pt x="1174" y="300"/>
                      </a:lnTo>
                      <a:lnTo>
                        <a:pt x="650" y="333"/>
                      </a:lnTo>
                      <a:lnTo>
                        <a:pt x="557" y="0"/>
                      </a:lnTo>
                      <a:lnTo>
                        <a:pt x="557" y="0"/>
                      </a:lnTo>
                      <a:close/>
                    </a:path>
                  </a:pathLst>
                </a:custGeom>
                <a:solidFill>
                  <a:srgbClr val="ff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 name=""/>
                <p:cNvSpPr/>
                <p:nvPr/>
              </p:nvSpPr>
              <p:spPr>
                <a:xfrm>
                  <a:off x="3896280" y="5589720"/>
                  <a:ext cx="136800" cy="82800"/>
                </a:xfrm>
                <a:custGeom>
                  <a:avLst/>
                  <a:gdLst/>
                  <a:ahLst/>
                  <a:rect l="l" t="t" r="r" b="b"/>
                  <a:pathLst>
                    <a:path w="1053" h="673">
                      <a:moveTo>
                        <a:pt x="0" y="0"/>
                      </a:moveTo>
                      <a:lnTo>
                        <a:pt x="120" y="80"/>
                      </a:lnTo>
                      <a:lnTo>
                        <a:pt x="255" y="173"/>
                      </a:lnTo>
                      <a:lnTo>
                        <a:pt x="375" y="144"/>
                      </a:lnTo>
                      <a:lnTo>
                        <a:pt x="437" y="43"/>
                      </a:lnTo>
                      <a:lnTo>
                        <a:pt x="388" y="294"/>
                      </a:lnTo>
                      <a:lnTo>
                        <a:pt x="510" y="351"/>
                      </a:lnTo>
                      <a:lnTo>
                        <a:pt x="665" y="380"/>
                      </a:lnTo>
                      <a:lnTo>
                        <a:pt x="749" y="351"/>
                      </a:lnTo>
                      <a:lnTo>
                        <a:pt x="793" y="479"/>
                      </a:lnTo>
                      <a:lnTo>
                        <a:pt x="1053" y="673"/>
                      </a:lnTo>
                      <a:lnTo>
                        <a:pt x="749" y="608"/>
                      </a:lnTo>
                      <a:lnTo>
                        <a:pt x="260" y="336"/>
                      </a:lnTo>
                      <a:lnTo>
                        <a:pt x="105" y="173"/>
                      </a:lnTo>
                      <a:lnTo>
                        <a:pt x="0" y="0"/>
                      </a:lnTo>
                      <a:lnTo>
                        <a:pt x="0" y="0"/>
                      </a:lnTo>
                      <a:close/>
                    </a:path>
                  </a:pathLst>
                </a:custGeom>
                <a:solidFill>
                  <a:srgbClr val="ff9999"/>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47" name=""/>
                <p:cNvSpPr/>
                <p:nvPr/>
              </p:nvSpPr>
              <p:spPr>
                <a:xfrm>
                  <a:off x="3893400" y="5659920"/>
                  <a:ext cx="258120" cy="199080"/>
                </a:xfrm>
                <a:custGeom>
                  <a:avLst/>
                  <a:gdLst/>
                  <a:ahLst/>
                  <a:rect l="l" t="t" r="r" b="b"/>
                  <a:pathLst>
                    <a:path w="1991" h="1616">
                      <a:moveTo>
                        <a:pt x="405" y="0"/>
                      </a:moveTo>
                      <a:lnTo>
                        <a:pt x="377" y="152"/>
                      </a:lnTo>
                      <a:lnTo>
                        <a:pt x="242" y="274"/>
                      </a:lnTo>
                      <a:lnTo>
                        <a:pt x="411" y="217"/>
                      </a:lnTo>
                      <a:lnTo>
                        <a:pt x="341" y="473"/>
                      </a:lnTo>
                      <a:lnTo>
                        <a:pt x="348" y="623"/>
                      </a:lnTo>
                      <a:lnTo>
                        <a:pt x="333" y="973"/>
                      </a:lnTo>
                      <a:lnTo>
                        <a:pt x="234" y="1230"/>
                      </a:lnTo>
                      <a:lnTo>
                        <a:pt x="744" y="838"/>
                      </a:lnTo>
                      <a:lnTo>
                        <a:pt x="561" y="1095"/>
                      </a:lnTo>
                      <a:lnTo>
                        <a:pt x="156" y="1374"/>
                      </a:lnTo>
                      <a:lnTo>
                        <a:pt x="0" y="1530"/>
                      </a:lnTo>
                      <a:lnTo>
                        <a:pt x="164" y="1551"/>
                      </a:lnTo>
                      <a:lnTo>
                        <a:pt x="510" y="1281"/>
                      </a:lnTo>
                      <a:lnTo>
                        <a:pt x="624" y="1281"/>
                      </a:lnTo>
                      <a:lnTo>
                        <a:pt x="715" y="1481"/>
                      </a:lnTo>
                      <a:lnTo>
                        <a:pt x="850" y="1616"/>
                      </a:lnTo>
                      <a:lnTo>
                        <a:pt x="892" y="1294"/>
                      </a:lnTo>
                      <a:lnTo>
                        <a:pt x="780" y="1188"/>
                      </a:lnTo>
                      <a:lnTo>
                        <a:pt x="858" y="895"/>
                      </a:lnTo>
                      <a:lnTo>
                        <a:pt x="985" y="608"/>
                      </a:lnTo>
                      <a:lnTo>
                        <a:pt x="1154" y="745"/>
                      </a:lnTo>
                      <a:lnTo>
                        <a:pt x="1339" y="1051"/>
                      </a:lnTo>
                      <a:lnTo>
                        <a:pt x="1424" y="1494"/>
                      </a:lnTo>
                      <a:lnTo>
                        <a:pt x="1609" y="1144"/>
                      </a:lnTo>
                      <a:lnTo>
                        <a:pt x="1955" y="1408"/>
                      </a:lnTo>
                      <a:lnTo>
                        <a:pt x="1778" y="1045"/>
                      </a:lnTo>
                      <a:lnTo>
                        <a:pt x="1983" y="1273"/>
                      </a:lnTo>
                      <a:lnTo>
                        <a:pt x="1827" y="595"/>
                      </a:lnTo>
                      <a:lnTo>
                        <a:pt x="1820" y="380"/>
                      </a:lnTo>
                      <a:lnTo>
                        <a:pt x="1991" y="367"/>
                      </a:lnTo>
                      <a:lnTo>
                        <a:pt x="1975" y="230"/>
                      </a:lnTo>
                      <a:lnTo>
                        <a:pt x="1877" y="274"/>
                      </a:lnTo>
                      <a:lnTo>
                        <a:pt x="1614" y="160"/>
                      </a:lnTo>
                      <a:lnTo>
                        <a:pt x="1523" y="217"/>
                      </a:lnTo>
                      <a:lnTo>
                        <a:pt x="772" y="137"/>
                      </a:lnTo>
                      <a:lnTo>
                        <a:pt x="405" y="0"/>
                      </a:lnTo>
                      <a:lnTo>
                        <a:pt x="405"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3900960" y="5415480"/>
                  <a:ext cx="299520" cy="266400"/>
                </a:xfrm>
                <a:custGeom>
                  <a:avLst/>
                  <a:gdLst/>
                  <a:ahLst/>
                  <a:rect l="l" t="t" r="r" b="b"/>
                  <a:pathLst>
                    <a:path w="2308" h="2164">
                      <a:moveTo>
                        <a:pt x="299" y="863"/>
                      </a:moveTo>
                      <a:lnTo>
                        <a:pt x="681" y="628"/>
                      </a:lnTo>
                      <a:lnTo>
                        <a:pt x="1289" y="571"/>
                      </a:lnTo>
                      <a:lnTo>
                        <a:pt x="1346" y="728"/>
                      </a:lnTo>
                      <a:lnTo>
                        <a:pt x="736" y="1264"/>
                      </a:lnTo>
                      <a:lnTo>
                        <a:pt x="595" y="1485"/>
                      </a:lnTo>
                      <a:lnTo>
                        <a:pt x="1707" y="1034"/>
                      </a:lnTo>
                      <a:lnTo>
                        <a:pt x="1063" y="1764"/>
                      </a:lnTo>
                      <a:lnTo>
                        <a:pt x="1190" y="1700"/>
                      </a:lnTo>
                      <a:lnTo>
                        <a:pt x="1295" y="1785"/>
                      </a:lnTo>
                      <a:lnTo>
                        <a:pt x="1494" y="1935"/>
                      </a:lnTo>
                      <a:lnTo>
                        <a:pt x="1700" y="1627"/>
                      </a:lnTo>
                      <a:lnTo>
                        <a:pt x="1975" y="1586"/>
                      </a:lnTo>
                      <a:lnTo>
                        <a:pt x="1926" y="1356"/>
                      </a:lnTo>
                      <a:lnTo>
                        <a:pt x="2171" y="1169"/>
                      </a:lnTo>
                      <a:lnTo>
                        <a:pt x="2036" y="909"/>
                      </a:lnTo>
                      <a:lnTo>
                        <a:pt x="2173" y="736"/>
                      </a:lnTo>
                      <a:lnTo>
                        <a:pt x="2223" y="928"/>
                      </a:lnTo>
                      <a:lnTo>
                        <a:pt x="2223" y="1228"/>
                      </a:lnTo>
                      <a:lnTo>
                        <a:pt x="2053" y="1399"/>
                      </a:lnTo>
                      <a:lnTo>
                        <a:pt x="2061" y="1542"/>
                      </a:lnTo>
                      <a:lnTo>
                        <a:pt x="1975" y="1728"/>
                      </a:lnTo>
                      <a:lnTo>
                        <a:pt x="1778" y="1749"/>
                      </a:lnTo>
                      <a:lnTo>
                        <a:pt x="1629" y="1892"/>
                      </a:lnTo>
                      <a:lnTo>
                        <a:pt x="1523" y="2000"/>
                      </a:lnTo>
                      <a:lnTo>
                        <a:pt x="1339" y="2049"/>
                      </a:lnTo>
                      <a:lnTo>
                        <a:pt x="1175" y="1850"/>
                      </a:lnTo>
                      <a:lnTo>
                        <a:pt x="1006" y="2034"/>
                      </a:lnTo>
                      <a:lnTo>
                        <a:pt x="759" y="2049"/>
                      </a:lnTo>
                      <a:lnTo>
                        <a:pt x="1091" y="2164"/>
                      </a:lnTo>
                      <a:lnTo>
                        <a:pt x="1629" y="2091"/>
                      </a:lnTo>
                      <a:lnTo>
                        <a:pt x="1820" y="2063"/>
                      </a:lnTo>
                      <a:lnTo>
                        <a:pt x="1848" y="1943"/>
                      </a:lnTo>
                      <a:lnTo>
                        <a:pt x="2124" y="1793"/>
                      </a:lnTo>
                      <a:lnTo>
                        <a:pt x="2295" y="1420"/>
                      </a:lnTo>
                      <a:lnTo>
                        <a:pt x="2308" y="972"/>
                      </a:lnTo>
                      <a:lnTo>
                        <a:pt x="2181" y="400"/>
                      </a:lnTo>
                      <a:lnTo>
                        <a:pt x="1905" y="420"/>
                      </a:lnTo>
                      <a:lnTo>
                        <a:pt x="1331" y="213"/>
                      </a:lnTo>
                      <a:lnTo>
                        <a:pt x="736" y="107"/>
                      </a:lnTo>
                      <a:lnTo>
                        <a:pt x="546" y="0"/>
                      </a:lnTo>
                      <a:lnTo>
                        <a:pt x="341" y="149"/>
                      </a:lnTo>
                      <a:lnTo>
                        <a:pt x="198" y="293"/>
                      </a:lnTo>
                      <a:lnTo>
                        <a:pt x="221" y="449"/>
                      </a:lnTo>
                      <a:lnTo>
                        <a:pt x="128" y="472"/>
                      </a:lnTo>
                      <a:lnTo>
                        <a:pt x="42" y="592"/>
                      </a:lnTo>
                      <a:lnTo>
                        <a:pt x="42" y="770"/>
                      </a:lnTo>
                      <a:lnTo>
                        <a:pt x="99" y="899"/>
                      </a:lnTo>
                      <a:lnTo>
                        <a:pt x="8" y="956"/>
                      </a:lnTo>
                      <a:lnTo>
                        <a:pt x="0" y="1107"/>
                      </a:lnTo>
                      <a:lnTo>
                        <a:pt x="99" y="1221"/>
                      </a:lnTo>
                      <a:lnTo>
                        <a:pt x="242" y="1122"/>
                      </a:lnTo>
                      <a:lnTo>
                        <a:pt x="226" y="936"/>
                      </a:lnTo>
                      <a:lnTo>
                        <a:pt x="299" y="863"/>
                      </a:lnTo>
                      <a:lnTo>
                        <a:pt x="299" y="863"/>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
                <p:cNvSpPr/>
                <p:nvPr/>
              </p:nvSpPr>
              <p:spPr>
                <a:xfrm>
                  <a:off x="3904560" y="5410440"/>
                  <a:ext cx="279360" cy="164520"/>
                </a:xfrm>
                <a:custGeom>
                  <a:avLst/>
                  <a:gdLst/>
                  <a:ahLst/>
                  <a:rect l="l" t="t" r="r" b="b"/>
                  <a:pathLst>
                    <a:path w="2152" h="1334">
                      <a:moveTo>
                        <a:pt x="135" y="1334"/>
                      </a:moveTo>
                      <a:lnTo>
                        <a:pt x="247" y="1148"/>
                      </a:lnTo>
                      <a:lnTo>
                        <a:pt x="197" y="977"/>
                      </a:lnTo>
                      <a:lnTo>
                        <a:pt x="247" y="777"/>
                      </a:lnTo>
                      <a:lnTo>
                        <a:pt x="389" y="676"/>
                      </a:lnTo>
                      <a:lnTo>
                        <a:pt x="382" y="562"/>
                      </a:lnTo>
                      <a:lnTo>
                        <a:pt x="467" y="363"/>
                      </a:lnTo>
                      <a:lnTo>
                        <a:pt x="673" y="277"/>
                      </a:lnTo>
                      <a:lnTo>
                        <a:pt x="857" y="441"/>
                      </a:lnTo>
                      <a:lnTo>
                        <a:pt x="1091" y="306"/>
                      </a:lnTo>
                      <a:lnTo>
                        <a:pt x="1260" y="420"/>
                      </a:lnTo>
                      <a:lnTo>
                        <a:pt x="1372" y="547"/>
                      </a:lnTo>
                      <a:lnTo>
                        <a:pt x="1479" y="534"/>
                      </a:lnTo>
                      <a:lnTo>
                        <a:pt x="1642" y="448"/>
                      </a:lnTo>
                      <a:lnTo>
                        <a:pt x="1720" y="484"/>
                      </a:lnTo>
                      <a:lnTo>
                        <a:pt x="1671" y="690"/>
                      </a:lnTo>
                      <a:lnTo>
                        <a:pt x="1791" y="798"/>
                      </a:lnTo>
                      <a:lnTo>
                        <a:pt x="1954" y="868"/>
                      </a:lnTo>
                      <a:lnTo>
                        <a:pt x="2102" y="769"/>
                      </a:lnTo>
                      <a:lnTo>
                        <a:pt x="1889" y="669"/>
                      </a:lnTo>
                      <a:lnTo>
                        <a:pt x="2061" y="570"/>
                      </a:lnTo>
                      <a:lnTo>
                        <a:pt x="2152" y="441"/>
                      </a:lnTo>
                      <a:lnTo>
                        <a:pt x="1848" y="397"/>
                      </a:lnTo>
                      <a:lnTo>
                        <a:pt x="1656" y="212"/>
                      </a:lnTo>
                      <a:lnTo>
                        <a:pt x="1486" y="262"/>
                      </a:lnTo>
                      <a:lnTo>
                        <a:pt x="1239" y="205"/>
                      </a:lnTo>
                      <a:lnTo>
                        <a:pt x="1182" y="87"/>
                      </a:lnTo>
                      <a:lnTo>
                        <a:pt x="1013" y="155"/>
                      </a:lnTo>
                      <a:lnTo>
                        <a:pt x="707" y="148"/>
                      </a:lnTo>
                      <a:lnTo>
                        <a:pt x="547" y="0"/>
                      </a:lnTo>
                      <a:lnTo>
                        <a:pt x="439" y="41"/>
                      </a:lnTo>
                      <a:lnTo>
                        <a:pt x="502" y="133"/>
                      </a:lnTo>
                      <a:lnTo>
                        <a:pt x="369" y="233"/>
                      </a:lnTo>
                      <a:lnTo>
                        <a:pt x="283" y="368"/>
                      </a:lnTo>
                      <a:lnTo>
                        <a:pt x="325" y="591"/>
                      </a:lnTo>
                      <a:lnTo>
                        <a:pt x="148" y="648"/>
                      </a:lnTo>
                      <a:lnTo>
                        <a:pt x="70" y="690"/>
                      </a:lnTo>
                      <a:lnTo>
                        <a:pt x="57" y="790"/>
                      </a:lnTo>
                      <a:lnTo>
                        <a:pt x="127" y="897"/>
                      </a:lnTo>
                      <a:lnTo>
                        <a:pt x="120" y="997"/>
                      </a:lnTo>
                      <a:lnTo>
                        <a:pt x="7" y="1112"/>
                      </a:lnTo>
                      <a:lnTo>
                        <a:pt x="0" y="1220"/>
                      </a:lnTo>
                      <a:lnTo>
                        <a:pt x="135" y="1334"/>
                      </a:lnTo>
                      <a:lnTo>
                        <a:pt x="135" y="1334"/>
                      </a:lnTo>
                      <a:close/>
                    </a:path>
                  </a:pathLst>
                </a:custGeom>
                <a:solidFill>
                  <a:srgbClr val="c9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3902040" y="5575680"/>
                  <a:ext cx="298440" cy="118080"/>
                </a:xfrm>
                <a:custGeom>
                  <a:avLst/>
                  <a:gdLst/>
                  <a:ahLst/>
                  <a:rect l="l" t="t" r="r" b="b"/>
                  <a:pathLst>
                    <a:path w="2300" h="958">
                      <a:moveTo>
                        <a:pt x="346" y="579"/>
                      </a:moveTo>
                      <a:lnTo>
                        <a:pt x="312" y="722"/>
                      </a:lnTo>
                      <a:lnTo>
                        <a:pt x="616" y="885"/>
                      </a:lnTo>
                      <a:lnTo>
                        <a:pt x="1047" y="958"/>
                      </a:lnTo>
                      <a:lnTo>
                        <a:pt x="1409" y="958"/>
                      </a:lnTo>
                      <a:lnTo>
                        <a:pt x="1755" y="836"/>
                      </a:lnTo>
                      <a:lnTo>
                        <a:pt x="1903" y="878"/>
                      </a:lnTo>
                      <a:lnTo>
                        <a:pt x="1848" y="678"/>
                      </a:lnTo>
                      <a:lnTo>
                        <a:pt x="2137" y="437"/>
                      </a:lnTo>
                      <a:lnTo>
                        <a:pt x="2300" y="0"/>
                      </a:lnTo>
                      <a:lnTo>
                        <a:pt x="2123" y="308"/>
                      </a:lnTo>
                      <a:lnTo>
                        <a:pt x="1840" y="536"/>
                      </a:lnTo>
                      <a:lnTo>
                        <a:pt x="1515" y="701"/>
                      </a:lnTo>
                      <a:lnTo>
                        <a:pt x="1232" y="800"/>
                      </a:lnTo>
                      <a:lnTo>
                        <a:pt x="962" y="764"/>
                      </a:lnTo>
                      <a:lnTo>
                        <a:pt x="587" y="616"/>
                      </a:lnTo>
                      <a:lnTo>
                        <a:pt x="283" y="437"/>
                      </a:lnTo>
                      <a:lnTo>
                        <a:pt x="0" y="173"/>
                      </a:lnTo>
                      <a:lnTo>
                        <a:pt x="167" y="462"/>
                      </a:lnTo>
                      <a:lnTo>
                        <a:pt x="346" y="579"/>
                      </a:lnTo>
                      <a:lnTo>
                        <a:pt x="346" y="579"/>
                      </a:lnTo>
                      <a:close/>
                    </a:path>
                  </a:pathLst>
                </a:custGeom>
                <a:solidFill>
                  <a:srgbClr val="c9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3933360" y="5682240"/>
                  <a:ext cx="251640" cy="190080"/>
                </a:xfrm>
                <a:custGeom>
                  <a:avLst/>
                  <a:gdLst/>
                  <a:ahLst/>
                  <a:rect l="l" t="t" r="r" b="b"/>
                  <a:pathLst>
                    <a:path w="1939" h="1543">
                      <a:moveTo>
                        <a:pt x="42" y="77"/>
                      </a:moveTo>
                      <a:lnTo>
                        <a:pt x="0" y="271"/>
                      </a:lnTo>
                      <a:lnTo>
                        <a:pt x="105" y="243"/>
                      </a:lnTo>
                      <a:lnTo>
                        <a:pt x="190" y="463"/>
                      </a:lnTo>
                      <a:lnTo>
                        <a:pt x="247" y="572"/>
                      </a:lnTo>
                      <a:lnTo>
                        <a:pt x="331" y="543"/>
                      </a:lnTo>
                      <a:lnTo>
                        <a:pt x="409" y="421"/>
                      </a:lnTo>
                      <a:lnTo>
                        <a:pt x="515" y="393"/>
                      </a:lnTo>
                      <a:lnTo>
                        <a:pt x="559" y="585"/>
                      </a:lnTo>
                      <a:lnTo>
                        <a:pt x="622" y="629"/>
                      </a:lnTo>
                      <a:lnTo>
                        <a:pt x="552" y="935"/>
                      </a:lnTo>
                      <a:lnTo>
                        <a:pt x="559" y="1243"/>
                      </a:lnTo>
                      <a:lnTo>
                        <a:pt x="552" y="1399"/>
                      </a:lnTo>
                      <a:lnTo>
                        <a:pt x="580" y="1463"/>
                      </a:lnTo>
                      <a:lnTo>
                        <a:pt x="622" y="1406"/>
                      </a:lnTo>
                      <a:lnTo>
                        <a:pt x="715" y="642"/>
                      </a:lnTo>
                      <a:lnTo>
                        <a:pt x="793" y="556"/>
                      </a:lnTo>
                      <a:lnTo>
                        <a:pt x="877" y="785"/>
                      </a:lnTo>
                      <a:lnTo>
                        <a:pt x="991" y="1507"/>
                      </a:lnTo>
                      <a:lnTo>
                        <a:pt x="1046" y="1543"/>
                      </a:lnTo>
                      <a:lnTo>
                        <a:pt x="1139" y="1463"/>
                      </a:lnTo>
                      <a:lnTo>
                        <a:pt x="1337" y="1250"/>
                      </a:lnTo>
                      <a:lnTo>
                        <a:pt x="1755" y="1478"/>
                      </a:lnTo>
                      <a:lnTo>
                        <a:pt x="1939" y="1456"/>
                      </a:lnTo>
                      <a:lnTo>
                        <a:pt x="1846" y="1349"/>
                      </a:lnTo>
                      <a:lnTo>
                        <a:pt x="1529" y="1178"/>
                      </a:lnTo>
                      <a:lnTo>
                        <a:pt x="1331" y="1077"/>
                      </a:lnTo>
                      <a:lnTo>
                        <a:pt x="1217" y="1113"/>
                      </a:lnTo>
                      <a:lnTo>
                        <a:pt x="1090" y="1279"/>
                      </a:lnTo>
                      <a:lnTo>
                        <a:pt x="970" y="978"/>
                      </a:lnTo>
                      <a:lnTo>
                        <a:pt x="877" y="585"/>
                      </a:lnTo>
                      <a:lnTo>
                        <a:pt x="983" y="600"/>
                      </a:lnTo>
                      <a:lnTo>
                        <a:pt x="1069" y="536"/>
                      </a:lnTo>
                      <a:lnTo>
                        <a:pt x="1139" y="427"/>
                      </a:lnTo>
                      <a:lnTo>
                        <a:pt x="1308" y="549"/>
                      </a:lnTo>
                      <a:lnTo>
                        <a:pt x="1458" y="613"/>
                      </a:lnTo>
                      <a:lnTo>
                        <a:pt x="1514" y="543"/>
                      </a:lnTo>
                      <a:lnTo>
                        <a:pt x="1578" y="364"/>
                      </a:lnTo>
                      <a:lnTo>
                        <a:pt x="1557" y="228"/>
                      </a:lnTo>
                      <a:lnTo>
                        <a:pt x="1337" y="134"/>
                      </a:lnTo>
                      <a:lnTo>
                        <a:pt x="1380" y="399"/>
                      </a:lnTo>
                      <a:lnTo>
                        <a:pt x="1019" y="222"/>
                      </a:lnTo>
                      <a:lnTo>
                        <a:pt x="877" y="393"/>
                      </a:lnTo>
                      <a:lnTo>
                        <a:pt x="728" y="163"/>
                      </a:lnTo>
                      <a:lnTo>
                        <a:pt x="565" y="336"/>
                      </a:lnTo>
                      <a:lnTo>
                        <a:pt x="432" y="77"/>
                      </a:lnTo>
                      <a:lnTo>
                        <a:pt x="198" y="313"/>
                      </a:lnTo>
                      <a:lnTo>
                        <a:pt x="219" y="13"/>
                      </a:lnTo>
                      <a:lnTo>
                        <a:pt x="162" y="0"/>
                      </a:lnTo>
                      <a:lnTo>
                        <a:pt x="42" y="77"/>
                      </a:lnTo>
                      <a:lnTo>
                        <a:pt x="42" y="77"/>
                      </a:lnTo>
                      <a:close/>
                    </a:path>
                  </a:pathLst>
                </a:custGeom>
                <a:solidFill>
                  <a:srgbClr val="c9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
                <p:cNvSpPr/>
                <p:nvPr/>
              </p:nvSpPr>
              <p:spPr>
                <a:xfrm>
                  <a:off x="3890880" y="5800320"/>
                  <a:ext cx="101160" cy="58680"/>
                </a:xfrm>
                <a:custGeom>
                  <a:avLst/>
                  <a:gdLst/>
                  <a:ahLst/>
                  <a:rect l="l" t="t" r="r" b="b"/>
                  <a:pathLst>
                    <a:path w="780" h="477">
                      <a:moveTo>
                        <a:pt x="0" y="435"/>
                      </a:moveTo>
                      <a:lnTo>
                        <a:pt x="143" y="326"/>
                      </a:lnTo>
                      <a:lnTo>
                        <a:pt x="344" y="161"/>
                      </a:lnTo>
                      <a:lnTo>
                        <a:pt x="559" y="0"/>
                      </a:lnTo>
                      <a:lnTo>
                        <a:pt x="673" y="34"/>
                      </a:lnTo>
                      <a:lnTo>
                        <a:pt x="723" y="249"/>
                      </a:lnTo>
                      <a:lnTo>
                        <a:pt x="780" y="363"/>
                      </a:lnTo>
                      <a:lnTo>
                        <a:pt x="666" y="277"/>
                      </a:lnTo>
                      <a:lnTo>
                        <a:pt x="554" y="106"/>
                      </a:lnTo>
                      <a:lnTo>
                        <a:pt x="426" y="292"/>
                      </a:lnTo>
                      <a:lnTo>
                        <a:pt x="177" y="441"/>
                      </a:lnTo>
                      <a:lnTo>
                        <a:pt x="78" y="477"/>
                      </a:lnTo>
                      <a:lnTo>
                        <a:pt x="0" y="435"/>
                      </a:lnTo>
                      <a:lnTo>
                        <a:pt x="0" y="435"/>
                      </a:lnTo>
                      <a:close/>
                    </a:path>
                  </a:pathLst>
                </a:custGeom>
                <a:solidFill>
                  <a:srgbClr val="c94d4d"/>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3" name=""/>
                <p:cNvSpPr/>
                <p:nvPr/>
              </p:nvSpPr>
              <p:spPr>
                <a:xfrm>
                  <a:off x="4141440" y="5535360"/>
                  <a:ext cx="43920" cy="36000"/>
                </a:xfrm>
                <a:custGeom>
                  <a:avLst/>
                  <a:gdLst/>
                  <a:ahLst/>
                  <a:rect l="l" t="t" r="r" b="b"/>
                  <a:pathLst>
                    <a:path w="340" h="293">
                      <a:moveTo>
                        <a:pt x="55" y="0"/>
                      </a:moveTo>
                      <a:lnTo>
                        <a:pt x="289" y="99"/>
                      </a:lnTo>
                      <a:lnTo>
                        <a:pt x="340" y="160"/>
                      </a:lnTo>
                      <a:lnTo>
                        <a:pt x="327" y="200"/>
                      </a:lnTo>
                      <a:lnTo>
                        <a:pt x="205" y="293"/>
                      </a:lnTo>
                      <a:lnTo>
                        <a:pt x="224" y="208"/>
                      </a:lnTo>
                      <a:lnTo>
                        <a:pt x="40" y="154"/>
                      </a:lnTo>
                      <a:lnTo>
                        <a:pt x="0" y="75"/>
                      </a:lnTo>
                      <a:lnTo>
                        <a:pt x="55" y="0"/>
                      </a:lnTo>
                      <a:lnTo>
                        <a:pt x="55" y="0"/>
                      </a:lnTo>
                      <a:close/>
                    </a:path>
                  </a:pathLst>
                </a:custGeom>
                <a:solidFill>
                  <a:srgbClr val="c94d4d"/>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654" name=""/>
                <p:cNvSpPr/>
                <p:nvPr/>
              </p:nvSpPr>
              <p:spPr>
                <a:xfrm>
                  <a:off x="3913560" y="5649480"/>
                  <a:ext cx="252360" cy="92160"/>
                </a:xfrm>
                <a:custGeom>
                  <a:avLst/>
                  <a:gdLst/>
                  <a:ahLst/>
                  <a:rect l="l" t="t" r="r" b="b"/>
                  <a:pathLst>
                    <a:path w="1945" h="749">
                      <a:moveTo>
                        <a:pt x="287" y="36"/>
                      </a:moveTo>
                      <a:lnTo>
                        <a:pt x="264" y="80"/>
                      </a:lnTo>
                      <a:lnTo>
                        <a:pt x="244" y="120"/>
                      </a:lnTo>
                      <a:lnTo>
                        <a:pt x="221" y="158"/>
                      </a:lnTo>
                      <a:lnTo>
                        <a:pt x="198" y="194"/>
                      </a:lnTo>
                      <a:lnTo>
                        <a:pt x="152" y="265"/>
                      </a:lnTo>
                      <a:lnTo>
                        <a:pt x="103" y="337"/>
                      </a:lnTo>
                      <a:lnTo>
                        <a:pt x="181" y="310"/>
                      </a:lnTo>
                      <a:lnTo>
                        <a:pt x="268" y="263"/>
                      </a:lnTo>
                      <a:lnTo>
                        <a:pt x="308" y="242"/>
                      </a:lnTo>
                      <a:lnTo>
                        <a:pt x="360" y="238"/>
                      </a:lnTo>
                      <a:lnTo>
                        <a:pt x="382" y="272"/>
                      </a:lnTo>
                      <a:lnTo>
                        <a:pt x="407" y="287"/>
                      </a:lnTo>
                      <a:lnTo>
                        <a:pt x="409" y="316"/>
                      </a:lnTo>
                      <a:lnTo>
                        <a:pt x="394" y="542"/>
                      </a:lnTo>
                      <a:lnTo>
                        <a:pt x="432" y="496"/>
                      </a:lnTo>
                      <a:lnTo>
                        <a:pt x="470" y="451"/>
                      </a:lnTo>
                      <a:lnTo>
                        <a:pt x="508" y="399"/>
                      </a:lnTo>
                      <a:lnTo>
                        <a:pt x="553" y="342"/>
                      </a:lnTo>
                      <a:lnTo>
                        <a:pt x="584" y="323"/>
                      </a:lnTo>
                      <a:lnTo>
                        <a:pt x="616" y="342"/>
                      </a:lnTo>
                      <a:lnTo>
                        <a:pt x="643" y="417"/>
                      </a:lnTo>
                      <a:lnTo>
                        <a:pt x="669" y="517"/>
                      </a:lnTo>
                      <a:lnTo>
                        <a:pt x="696" y="605"/>
                      </a:lnTo>
                      <a:lnTo>
                        <a:pt x="723" y="552"/>
                      </a:lnTo>
                      <a:lnTo>
                        <a:pt x="749" y="498"/>
                      </a:lnTo>
                      <a:lnTo>
                        <a:pt x="778" y="443"/>
                      </a:lnTo>
                      <a:lnTo>
                        <a:pt x="808" y="380"/>
                      </a:lnTo>
                      <a:lnTo>
                        <a:pt x="821" y="363"/>
                      </a:lnTo>
                      <a:lnTo>
                        <a:pt x="837" y="356"/>
                      </a:lnTo>
                      <a:lnTo>
                        <a:pt x="869" y="371"/>
                      </a:lnTo>
                      <a:lnTo>
                        <a:pt x="905" y="420"/>
                      </a:lnTo>
                      <a:lnTo>
                        <a:pt x="924" y="472"/>
                      </a:lnTo>
                      <a:lnTo>
                        <a:pt x="943" y="527"/>
                      </a:lnTo>
                      <a:lnTo>
                        <a:pt x="972" y="582"/>
                      </a:lnTo>
                      <a:lnTo>
                        <a:pt x="1034" y="654"/>
                      </a:lnTo>
                      <a:lnTo>
                        <a:pt x="1074" y="550"/>
                      </a:lnTo>
                      <a:lnTo>
                        <a:pt x="1097" y="498"/>
                      </a:lnTo>
                      <a:lnTo>
                        <a:pt x="1129" y="445"/>
                      </a:lnTo>
                      <a:lnTo>
                        <a:pt x="1154" y="426"/>
                      </a:lnTo>
                      <a:lnTo>
                        <a:pt x="1183" y="434"/>
                      </a:lnTo>
                      <a:lnTo>
                        <a:pt x="1230" y="464"/>
                      </a:lnTo>
                      <a:lnTo>
                        <a:pt x="1272" y="493"/>
                      </a:lnTo>
                      <a:lnTo>
                        <a:pt x="1312" y="519"/>
                      </a:lnTo>
                      <a:lnTo>
                        <a:pt x="1348" y="546"/>
                      </a:lnTo>
                      <a:lnTo>
                        <a:pt x="1386" y="569"/>
                      </a:lnTo>
                      <a:lnTo>
                        <a:pt x="1424" y="593"/>
                      </a:lnTo>
                      <a:lnTo>
                        <a:pt x="1466" y="616"/>
                      </a:lnTo>
                      <a:lnTo>
                        <a:pt x="1512" y="639"/>
                      </a:lnTo>
                      <a:lnTo>
                        <a:pt x="1498" y="540"/>
                      </a:lnTo>
                      <a:lnTo>
                        <a:pt x="1462" y="441"/>
                      </a:lnTo>
                      <a:lnTo>
                        <a:pt x="1458" y="409"/>
                      </a:lnTo>
                      <a:lnTo>
                        <a:pt x="1477" y="384"/>
                      </a:lnTo>
                      <a:lnTo>
                        <a:pt x="1565" y="373"/>
                      </a:lnTo>
                      <a:lnTo>
                        <a:pt x="1629" y="403"/>
                      </a:lnTo>
                      <a:lnTo>
                        <a:pt x="1698" y="428"/>
                      </a:lnTo>
                      <a:lnTo>
                        <a:pt x="1766" y="445"/>
                      </a:lnTo>
                      <a:lnTo>
                        <a:pt x="1835" y="445"/>
                      </a:lnTo>
                      <a:lnTo>
                        <a:pt x="1806" y="323"/>
                      </a:lnTo>
                      <a:lnTo>
                        <a:pt x="1791" y="265"/>
                      </a:lnTo>
                      <a:lnTo>
                        <a:pt x="1770" y="198"/>
                      </a:lnTo>
                      <a:lnTo>
                        <a:pt x="1780" y="177"/>
                      </a:lnTo>
                      <a:lnTo>
                        <a:pt x="1801" y="187"/>
                      </a:lnTo>
                      <a:lnTo>
                        <a:pt x="1837" y="263"/>
                      </a:lnTo>
                      <a:lnTo>
                        <a:pt x="1875" y="329"/>
                      </a:lnTo>
                      <a:lnTo>
                        <a:pt x="1945" y="472"/>
                      </a:lnTo>
                      <a:lnTo>
                        <a:pt x="1943" y="517"/>
                      </a:lnTo>
                      <a:lnTo>
                        <a:pt x="1905" y="536"/>
                      </a:lnTo>
                      <a:lnTo>
                        <a:pt x="1785" y="533"/>
                      </a:lnTo>
                      <a:lnTo>
                        <a:pt x="1675" y="493"/>
                      </a:lnTo>
                      <a:lnTo>
                        <a:pt x="1591" y="474"/>
                      </a:lnTo>
                      <a:lnTo>
                        <a:pt x="1607" y="582"/>
                      </a:lnTo>
                      <a:lnTo>
                        <a:pt x="1589" y="704"/>
                      </a:lnTo>
                      <a:lnTo>
                        <a:pt x="1572" y="738"/>
                      </a:lnTo>
                      <a:lnTo>
                        <a:pt x="1534" y="736"/>
                      </a:lnTo>
                      <a:lnTo>
                        <a:pt x="1215" y="584"/>
                      </a:lnTo>
                      <a:lnTo>
                        <a:pt x="1181" y="624"/>
                      </a:lnTo>
                      <a:lnTo>
                        <a:pt x="1143" y="652"/>
                      </a:lnTo>
                      <a:lnTo>
                        <a:pt x="1069" y="728"/>
                      </a:lnTo>
                      <a:lnTo>
                        <a:pt x="1044" y="749"/>
                      </a:lnTo>
                      <a:lnTo>
                        <a:pt x="1015" y="732"/>
                      </a:lnTo>
                      <a:lnTo>
                        <a:pt x="972" y="675"/>
                      </a:lnTo>
                      <a:lnTo>
                        <a:pt x="928" y="614"/>
                      </a:lnTo>
                      <a:lnTo>
                        <a:pt x="869" y="521"/>
                      </a:lnTo>
                      <a:lnTo>
                        <a:pt x="831" y="572"/>
                      </a:lnTo>
                      <a:lnTo>
                        <a:pt x="789" y="610"/>
                      </a:lnTo>
                      <a:lnTo>
                        <a:pt x="711" y="711"/>
                      </a:lnTo>
                      <a:lnTo>
                        <a:pt x="696" y="730"/>
                      </a:lnTo>
                      <a:lnTo>
                        <a:pt x="679" y="732"/>
                      </a:lnTo>
                      <a:lnTo>
                        <a:pt x="654" y="702"/>
                      </a:lnTo>
                      <a:lnTo>
                        <a:pt x="637" y="637"/>
                      </a:lnTo>
                      <a:lnTo>
                        <a:pt x="612" y="593"/>
                      </a:lnTo>
                      <a:lnTo>
                        <a:pt x="563" y="483"/>
                      </a:lnTo>
                      <a:lnTo>
                        <a:pt x="515" y="538"/>
                      </a:lnTo>
                      <a:lnTo>
                        <a:pt x="475" y="576"/>
                      </a:lnTo>
                      <a:lnTo>
                        <a:pt x="434" y="614"/>
                      </a:lnTo>
                      <a:lnTo>
                        <a:pt x="409" y="639"/>
                      </a:lnTo>
                      <a:lnTo>
                        <a:pt x="379" y="671"/>
                      </a:lnTo>
                      <a:lnTo>
                        <a:pt x="356" y="686"/>
                      </a:lnTo>
                      <a:lnTo>
                        <a:pt x="333" y="685"/>
                      </a:lnTo>
                      <a:lnTo>
                        <a:pt x="314" y="641"/>
                      </a:lnTo>
                      <a:lnTo>
                        <a:pt x="333" y="314"/>
                      </a:lnTo>
                      <a:lnTo>
                        <a:pt x="270" y="344"/>
                      </a:lnTo>
                      <a:lnTo>
                        <a:pt x="240" y="365"/>
                      </a:lnTo>
                      <a:lnTo>
                        <a:pt x="204" y="382"/>
                      </a:lnTo>
                      <a:lnTo>
                        <a:pt x="118" y="407"/>
                      </a:lnTo>
                      <a:lnTo>
                        <a:pt x="31" y="411"/>
                      </a:lnTo>
                      <a:lnTo>
                        <a:pt x="0" y="403"/>
                      </a:lnTo>
                      <a:lnTo>
                        <a:pt x="12" y="377"/>
                      </a:lnTo>
                      <a:lnTo>
                        <a:pt x="44" y="327"/>
                      </a:lnTo>
                      <a:lnTo>
                        <a:pt x="72" y="282"/>
                      </a:lnTo>
                      <a:lnTo>
                        <a:pt x="101" y="236"/>
                      </a:lnTo>
                      <a:lnTo>
                        <a:pt x="128" y="192"/>
                      </a:lnTo>
                      <a:lnTo>
                        <a:pt x="152" y="147"/>
                      </a:lnTo>
                      <a:lnTo>
                        <a:pt x="179" y="101"/>
                      </a:lnTo>
                      <a:lnTo>
                        <a:pt x="230" y="0"/>
                      </a:lnTo>
                      <a:lnTo>
                        <a:pt x="266" y="4"/>
                      </a:lnTo>
                      <a:lnTo>
                        <a:pt x="287" y="36"/>
                      </a:lnTo>
                      <a:lnTo>
                        <a:pt x="287" y="36"/>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5" name=""/>
                <p:cNvSpPr/>
                <p:nvPr/>
              </p:nvSpPr>
              <p:spPr>
                <a:xfrm>
                  <a:off x="3886920" y="5685840"/>
                  <a:ext cx="61200" cy="164520"/>
                </a:xfrm>
                <a:custGeom>
                  <a:avLst/>
                  <a:gdLst/>
                  <a:ahLst/>
                  <a:rect l="l" t="t" r="r" b="b"/>
                  <a:pathLst>
                    <a:path w="473" h="1334">
                      <a:moveTo>
                        <a:pt x="473" y="53"/>
                      </a:moveTo>
                      <a:lnTo>
                        <a:pt x="460" y="103"/>
                      </a:lnTo>
                      <a:lnTo>
                        <a:pt x="437" y="198"/>
                      </a:lnTo>
                      <a:lnTo>
                        <a:pt x="414" y="300"/>
                      </a:lnTo>
                      <a:lnTo>
                        <a:pt x="401" y="367"/>
                      </a:lnTo>
                      <a:lnTo>
                        <a:pt x="369" y="481"/>
                      </a:lnTo>
                      <a:lnTo>
                        <a:pt x="342" y="578"/>
                      </a:lnTo>
                      <a:lnTo>
                        <a:pt x="300" y="739"/>
                      </a:lnTo>
                      <a:lnTo>
                        <a:pt x="277" y="817"/>
                      </a:lnTo>
                      <a:lnTo>
                        <a:pt x="253" y="899"/>
                      </a:lnTo>
                      <a:lnTo>
                        <a:pt x="219" y="992"/>
                      </a:lnTo>
                      <a:lnTo>
                        <a:pt x="198" y="1043"/>
                      </a:lnTo>
                      <a:lnTo>
                        <a:pt x="175" y="1102"/>
                      </a:lnTo>
                      <a:lnTo>
                        <a:pt x="142" y="1165"/>
                      </a:lnTo>
                      <a:lnTo>
                        <a:pt x="106" y="1216"/>
                      </a:lnTo>
                      <a:lnTo>
                        <a:pt x="68" y="1268"/>
                      </a:lnTo>
                      <a:lnTo>
                        <a:pt x="28" y="1329"/>
                      </a:lnTo>
                      <a:lnTo>
                        <a:pt x="6" y="1334"/>
                      </a:lnTo>
                      <a:lnTo>
                        <a:pt x="0" y="1311"/>
                      </a:lnTo>
                      <a:lnTo>
                        <a:pt x="106" y="1068"/>
                      </a:lnTo>
                      <a:lnTo>
                        <a:pt x="150" y="954"/>
                      </a:lnTo>
                      <a:lnTo>
                        <a:pt x="184" y="848"/>
                      </a:lnTo>
                      <a:lnTo>
                        <a:pt x="232" y="648"/>
                      </a:lnTo>
                      <a:lnTo>
                        <a:pt x="253" y="549"/>
                      </a:lnTo>
                      <a:lnTo>
                        <a:pt x="276" y="447"/>
                      </a:lnTo>
                      <a:lnTo>
                        <a:pt x="300" y="338"/>
                      </a:lnTo>
                      <a:lnTo>
                        <a:pt x="334" y="220"/>
                      </a:lnTo>
                      <a:lnTo>
                        <a:pt x="365" y="82"/>
                      </a:lnTo>
                      <a:lnTo>
                        <a:pt x="378" y="53"/>
                      </a:lnTo>
                      <a:lnTo>
                        <a:pt x="397" y="25"/>
                      </a:lnTo>
                      <a:lnTo>
                        <a:pt x="420" y="0"/>
                      </a:lnTo>
                      <a:lnTo>
                        <a:pt x="450" y="0"/>
                      </a:lnTo>
                      <a:lnTo>
                        <a:pt x="473" y="21"/>
                      </a:lnTo>
                      <a:lnTo>
                        <a:pt x="473" y="53"/>
                      </a:lnTo>
                      <a:lnTo>
                        <a:pt x="473"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 name=""/>
                <p:cNvSpPr/>
                <p:nvPr/>
              </p:nvSpPr>
              <p:spPr>
                <a:xfrm>
                  <a:off x="3898440" y="5809320"/>
                  <a:ext cx="73800" cy="50760"/>
                </a:xfrm>
                <a:custGeom>
                  <a:avLst/>
                  <a:gdLst/>
                  <a:ahLst/>
                  <a:rect l="l" t="t" r="r" b="b"/>
                  <a:pathLst>
                    <a:path w="571" h="410">
                      <a:moveTo>
                        <a:pt x="15" y="376"/>
                      </a:moveTo>
                      <a:lnTo>
                        <a:pt x="67" y="365"/>
                      </a:lnTo>
                      <a:lnTo>
                        <a:pt x="105" y="334"/>
                      </a:lnTo>
                      <a:lnTo>
                        <a:pt x="139" y="296"/>
                      </a:lnTo>
                      <a:lnTo>
                        <a:pt x="160" y="277"/>
                      </a:lnTo>
                      <a:lnTo>
                        <a:pt x="181" y="258"/>
                      </a:lnTo>
                      <a:lnTo>
                        <a:pt x="240" y="213"/>
                      </a:lnTo>
                      <a:lnTo>
                        <a:pt x="301" y="169"/>
                      </a:lnTo>
                      <a:lnTo>
                        <a:pt x="329" y="144"/>
                      </a:lnTo>
                      <a:lnTo>
                        <a:pt x="358" y="125"/>
                      </a:lnTo>
                      <a:lnTo>
                        <a:pt x="409" y="89"/>
                      </a:lnTo>
                      <a:lnTo>
                        <a:pt x="458" y="51"/>
                      </a:lnTo>
                      <a:lnTo>
                        <a:pt x="512" y="0"/>
                      </a:lnTo>
                      <a:lnTo>
                        <a:pt x="529" y="7"/>
                      </a:lnTo>
                      <a:lnTo>
                        <a:pt x="550" y="40"/>
                      </a:lnTo>
                      <a:lnTo>
                        <a:pt x="571" y="102"/>
                      </a:lnTo>
                      <a:lnTo>
                        <a:pt x="548" y="137"/>
                      </a:lnTo>
                      <a:lnTo>
                        <a:pt x="527" y="161"/>
                      </a:lnTo>
                      <a:lnTo>
                        <a:pt x="481" y="192"/>
                      </a:lnTo>
                      <a:lnTo>
                        <a:pt x="371" y="260"/>
                      </a:lnTo>
                      <a:lnTo>
                        <a:pt x="308" y="308"/>
                      </a:lnTo>
                      <a:lnTo>
                        <a:pt x="249" y="353"/>
                      </a:lnTo>
                      <a:lnTo>
                        <a:pt x="192" y="384"/>
                      </a:lnTo>
                      <a:lnTo>
                        <a:pt x="137" y="401"/>
                      </a:lnTo>
                      <a:lnTo>
                        <a:pt x="15" y="410"/>
                      </a:lnTo>
                      <a:lnTo>
                        <a:pt x="0" y="393"/>
                      </a:lnTo>
                      <a:lnTo>
                        <a:pt x="4" y="382"/>
                      </a:lnTo>
                      <a:lnTo>
                        <a:pt x="15" y="376"/>
                      </a:lnTo>
                      <a:lnTo>
                        <a:pt x="15" y="37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57" name=""/>
                <p:cNvSpPr/>
                <p:nvPr/>
              </p:nvSpPr>
              <p:spPr>
                <a:xfrm>
                  <a:off x="3962880" y="5809320"/>
                  <a:ext cx="44640" cy="51480"/>
                </a:xfrm>
                <a:custGeom>
                  <a:avLst/>
                  <a:gdLst/>
                  <a:ahLst/>
                  <a:rect l="l" t="t" r="r" b="b"/>
                  <a:pathLst>
                    <a:path w="345" h="420">
                      <a:moveTo>
                        <a:pt x="65" y="13"/>
                      </a:moveTo>
                      <a:lnTo>
                        <a:pt x="120" y="89"/>
                      </a:lnTo>
                      <a:lnTo>
                        <a:pt x="189" y="192"/>
                      </a:lnTo>
                      <a:lnTo>
                        <a:pt x="230" y="245"/>
                      </a:lnTo>
                      <a:lnTo>
                        <a:pt x="263" y="298"/>
                      </a:lnTo>
                      <a:lnTo>
                        <a:pt x="297" y="348"/>
                      </a:lnTo>
                      <a:lnTo>
                        <a:pt x="318" y="370"/>
                      </a:lnTo>
                      <a:lnTo>
                        <a:pt x="343" y="395"/>
                      </a:lnTo>
                      <a:lnTo>
                        <a:pt x="345" y="418"/>
                      </a:lnTo>
                      <a:lnTo>
                        <a:pt x="322" y="420"/>
                      </a:lnTo>
                      <a:lnTo>
                        <a:pt x="293" y="397"/>
                      </a:lnTo>
                      <a:lnTo>
                        <a:pt x="267" y="378"/>
                      </a:lnTo>
                      <a:lnTo>
                        <a:pt x="213" y="340"/>
                      </a:lnTo>
                      <a:lnTo>
                        <a:pt x="160" y="302"/>
                      </a:lnTo>
                      <a:lnTo>
                        <a:pt x="111" y="252"/>
                      </a:lnTo>
                      <a:lnTo>
                        <a:pt x="31" y="129"/>
                      </a:lnTo>
                      <a:lnTo>
                        <a:pt x="4" y="49"/>
                      </a:lnTo>
                      <a:lnTo>
                        <a:pt x="0" y="21"/>
                      </a:lnTo>
                      <a:lnTo>
                        <a:pt x="16" y="0"/>
                      </a:lnTo>
                      <a:lnTo>
                        <a:pt x="65" y="13"/>
                      </a:lnTo>
                      <a:lnTo>
                        <a:pt x="65" y="13"/>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sp>
              <p:nvSpPr>
                <p:cNvPr id="658" name=""/>
                <p:cNvSpPr/>
                <p:nvPr/>
              </p:nvSpPr>
              <p:spPr>
                <a:xfrm>
                  <a:off x="4011840" y="5713200"/>
                  <a:ext cx="27360" cy="145800"/>
                </a:xfrm>
                <a:custGeom>
                  <a:avLst/>
                  <a:gdLst/>
                  <a:ahLst/>
                  <a:rect l="l" t="t" r="r" b="b"/>
                  <a:pathLst>
                    <a:path w="213" h="1183">
                      <a:moveTo>
                        <a:pt x="213" y="137"/>
                      </a:moveTo>
                      <a:lnTo>
                        <a:pt x="186" y="295"/>
                      </a:lnTo>
                      <a:lnTo>
                        <a:pt x="156" y="434"/>
                      </a:lnTo>
                      <a:lnTo>
                        <a:pt x="99" y="730"/>
                      </a:lnTo>
                      <a:lnTo>
                        <a:pt x="36" y="1145"/>
                      </a:lnTo>
                      <a:lnTo>
                        <a:pt x="28" y="1171"/>
                      </a:lnTo>
                      <a:lnTo>
                        <a:pt x="15" y="1183"/>
                      </a:lnTo>
                      <a:lnTo>
                        <a:pt x="0" y="1156"/>
                      </a:lnTo>
                      <a:lnTo>
                        <a:pt x="13" y="715"/>
                      </a:lnTo>
                      <a:lnTo>
                        <a:pt x="40" y="542"/>
                      </a:lnTo>
                      <a:lnTo>
                        <a:pt x="74" y="367"/>
                      </a:lnTo>
                      <a:lnTo>
                        <a:pt x="108" y="192"/>
                      </a:lnTo>
                      <a:lnTo>
                        <a:pt x="137" y="19"/>
                      </a:lnTo>
                      <a:lnTo>
                        <a:pt x="152" y="0"/>
                      </a:lnTo>
                      <a:lnTo>
                        <a:pt x="180" y="27"/>
                      </a:lnTo>
                      <a:lnTo>
                        <a:pt x="213" y="137"/>
                      </a:lnTo>
                      <a:lnTo>
                        <a:pt x="213"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4028040" y="5734440"/>
                  <a:ext cx="34920" cy="133560"/>
                </a:xfrm>
                <a:custGeom>
                  <a:avLst/>
                  <a:gdLst/>
                  <a:ahLst/>
                  <a:rect l="l" t="t" r="r" b="b"/>
                  <a:pathLst>
                    <a:path w="270" h="1084">
                      <a:moveTo>
                        <a:pt x="65" y="33"/>
                      </a:moveTo>
                      <a:lnTo>
                        <a:pt x="88" y="97"/>
                      </a:lnTo>
                      <a:lnTo>
                        <a:pt x="209" y="456"/>
                      </a:lnTo>
                      <a:lnTo>
                        <a:pt x="247" y="759"/>
                      </a:lnTo>
                      <a:lnTo>
                        <a:pt x="270" y="1067"/>
                      </a:lnTo>
                      <a:lnTo>
                        <a:pt x="255" y="1084"/>
                      </a:lnTo>
                      <a:lnTo>
                        <a:pt x="238" y="1069"/>
                      </a:lnTo>
                      <a:lnTo>
                        <a:pt x="219" y="907"/>
                      </a:lnTo>
                      <a:lnTo>
                        <a:pt x="190" y="768"/>
                      </a:lnTo>
                      <a:lnTo>
                        <a:pt x="160" y="628"/>
                      </a:lnTo>
                      <a:lnTo>
                        <a:pt x="131" y="470"/>
                      </a:lnTo>
                      <a:lnTo>
                        <a:pt x="111" y="375"/>
                      </a:lnTo>
                      <a:lnTo>
                        <a:pt x="84" y="295"/>
                      </a:lnTo>
                      <a:lnTo>
                        <a:pt x="52" y="215"/>
                      </a:lnTo>
                      <a:lnTo>
                        <a:pt x="12" y="126"/>
                      </a:lnTo>
                      <a:lnTo>
                        <a:pt x="0" y="33"/>
                      </a:lnTo>
                      <a:lnTo>
                        <a:pt x="12" y="8"/>
                      </a:lnTo>
                      <a:lnTo>
                        <a:pt x="33" y="0"/>
                      </a:lnTo>
                      <a:lnTo>
                        <a:pt x="55" y="8"/>
                      </a:lnTo>
                      <a:lnTo>
                        <a:pt x="65" y="33"/>
                      </a:lnTo>
                      <a:lnTo>
                        <a:pt x="65"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a:off x="4075920" y="5823720"/>
                  <a:ext cx="104400" cy="45720"/>
                </a:xfrm>
                <a:custGeom>
                  <a:avLst/>
                  <a:gdLst/>
                  <a:ahLst/>
                  <a:rect l="l" t="t" r="r" b="b"/>
                  <a:pathLst>
                    <a:path w="804" h="370">
                      <a:moveTo>
                        <a:pt x="0" y="347"/>
                      </a:moveTo>
                      <a:lnTo>
                        <a:pt x="21" y="313"/>
                      </a:lnTo>
                      <a:lnTo>
                        <a:pt x="48" y="275"/>
                      </a:lnTo>
                      <a:lnTo>
                        <a:pt x="80" y="235"/>
                      </a:lnTo>
                      <a:lnTo>
                        <a:pt x="112" y="193"/>
                      </a:lnTo>
                      <a:lnTo>
                        <a:pt x="146" y="150"/>
                      </a:lnTo>
                      <a:lnTo>
                        <a:pt x="179" y="110"/>
                      </a:lnTo>
                      <a:lnTo>
                        <a:pt x="226" y="38"/>
                      </a:lnTo>
                      <a:lnTo>
                        <a:pt x="249" y="9"/>
                      </a:lnTo>
                      <a:lnTo>
                        <a:pt x="276" y="0"/>
                      </a:lnTo>
                      <a:lnTo>
                        <a:pt x="300" y="11"/>
                      </a:lnTo>
                      <a:lnTo>
                        <a:pt x="321" y="41"/>
                      </a:lnTo>
                      <a:lnTo>
                        <a:pt x="342" y="76"/>
                      </a:lnTo>
                      <a:lnTo>
                        <a:pt x="371" y="98"/>
                      </a:lnTo>
                      <a:lnTo>
                        <a:pt x="441" y="142"/>
                      </a:lnTo>
                      <a:lnTo>
                        <a:pt x="485" y="169"/>
                      </a:lnTo>
                      <a:lnTo>
                        <a:pt x="527" y="190"/>
                      </a:lnTo>
                      <a:lnTo>
                        <a:pt x="618" y="224"/>
                      </a:lnTo>
                      <a:lnTo>
                        <a:pt x="702" y="268"/>
                      </a:lnTo>
                      <a:lnTo>
                        <a:pt x="742" y="287"/>
                      </a:lnTo>
                      <a:lnTo>
                        <a:pt x="789" y="294"/>
                      </a:lnTo>
                      <a:lnTo>
                        <a:pt x="804" y="311"/>
                      </a:lnTo>
                      <a:lnTo>
                        <a:pt x="800" y="323"/>
                      </a:lnTo>
                      <a:lnTo>
                        <a:pt x="789" y="327"/>
                      </a:lnTo>
                      <a:lnTo>
                        <a:pt x="683" y="344"/>
                      </a:lnTo>
                      <a:lnTo>
                        <a:pt x="578" y="340"/>
                      </a:lnTo>
                      <a:lnTo>
                        <a:pt x="373" y="243"/>
                      </a:lnTo>
                      <a:lnTo>
                        <a:pt x="316" y="201"/>
                      </a:lnTo>
                      <a:lnTo>
                        <a:pt x="270" y="157"/>
                      </a:lnTo>
                      <a:lnTo>
                        <a:pt x="249" y="174"/>
                      </a:lnTo>
                      <a:lnTo>
                        <a:pt x="221" y="199"/>
                      </a:lnTo>
                      <a:lnTo>
                        <a:pt x="183" y="226"/>
                      </a:lnTo>
                      <a:lnTo>
                        <a:pt x="145" y="254"/>
                      </a:lnTo>
                      <a:lnTo>
                        <a:pt x="105" y="285"/>
                      </a:lnTo>
                      <a:lnTo>
                        <a:pt x="70" y="313"/>
                      </a:lnTo>
                      <a:lnTo>
                        <a:pt x="25" y="365"/>
                      </a:lnTo>
                      <a:lnTo>
                        <a:pt x="4" y="370"/>
                      </a:lnTo>
                      <a:lnTo>
                        <a:pt x="0" y="347"/>
                      </a:lnTo>
                      <a:lnTo>
                        <a:pt x="0" y="347"/>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61" name=""/>
                <p:cNvSpPr/>
                <p:nvPr/>
              </p:nvSpPr>
              <p:spPr>
                <a:xfrm>
                  <a:off x="4131360" y="5707080"/>
                  <a:ext cx="52920" cy="144360"/>
                </a:xfrm>
                <a:custGeom>
                  <a:avLst/>
                  <a:gdLst/>
                  <a:ahLst/>
                  <a:rect l="l" t="t" r="r" b="b"/>
                  <a:pathLst>
                    <a:path w="410" h="1173">
                      <a:moveTo>
                        <a:pt x="28" y="8"/>
                      </a:moveTo>
                      <a:lnTo>
                        <a:pt x="80" y="112"/>
                      </a:lnTo>
                      <a:lnTo>
                        <a:pt x="118" y="220"/>
                      </a:lnTo>
                      <a:lnTo>
                        <a:pt x="141" y="297"/>
                      </a:lnTo>
                      <a:lnTo>
                        <a:pt x="165" y="365"/>
                      </a:lnTo>
                      <a:lnTo>
                        <a:pt x="209" y="489"/>
                      </a:lnTo>
                      <a:lnTo>
                        <a:pt x="251" y="612"/>
                      </a:lnTo>
                      <a:lnTo>
                        <a:pt x="287" y="758"/>
                      </a:lnTo>
                      <a:lnTo>
                        <a:pt x="340" y="907"/>
                      </a:lnTo>
                      <a:lnTo>
                        <a:pt x="371" y="1030"/>
                      </a:lnTo>
                      <a:lnTo>
                        <a:pt x="382" y="1089"/>
                      </a:lnTo>
                      <a:lnTo>
                        <a:pt x="410" y="1150"/>
                      </a:lnTo>
                      <a:lnTo>
                        <a:pt x="405" y="1173"/>
                      </a:lnTo>
                      <a:lnTo>
                        <a:pt x="382" y="1167"/>
                      </a:lnTo>
                      <a:lnTo>
                        <a:pt x="344" y="1110"/>
                      </a:lnTo>
                      <a:lnTo>
                        <a:pt x="306" y="1059"/>
                      </a:lnTo>
                      <a:lnTo>
                        <a:pt x="270" y="1009"/>
                      </a:lnTo>
                      <a:lnTo>
                        <a:pt x="237" y="949"/>
                      </a:lnTo>
                      <a:lnTo>
                        <a:pt x="182" y="789"/>
                      </a:lnTo>
                      <a:lnTo>
                        <a:pt x="148" y="642"/>
                      </a:lnTo>
                      <a:lnTo>
                        <a:pt x="114" y="515"/>
                      </a:lnTo>
                      <a:lnTo>
                        <a:pt x="78" y="388"/>
                      </a:lnTo>
                      <a:lnTo>
                        <a:pt x="57" y="319"/>
                      </a:lnTo>
                      <a:lnTo>
                        <a:pt x="36" y="243"/>
                      </a:lnTo>
                      <a:lnTo>
                        <a:pt x="0" y="23"/>
                      </a:lnTo>
                      <a:lnTo>
                        <a:pt x="7" y="0"/>
                      </a:lnTo>
                      <a:lnTo>
                        <a:pt x="28" y="8"/>
                      </a:lnTo>
                      <a:lnTo>
                        <a:pt x="2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
                <p:cNvSpPr/>
                <p:nvPr/>
              </p:nvSpPr>
              <p:spPr>
                <a:xfrm>
                  <a:off x="4076640" y="5461560"/>
                  <a:ext cx="135000" cy="216720"/>
                </a:xfrm>
                <a:custGeom>
                  <a:avLst/>
                  <a:gdLst/>
                  <a:ahLst/>
                  <a:rect l="l" t="t" r="r" b="b"/>
                  <a:pathLst>
                    <a:path w="1040" h="1758">
                      <a:moveTo>
                        <a:pt x="861" y="2"/>
                      </a:moveTo>
                      <a:lnTo>
                        <a:pt x="907" y="101"/>
                      </a:lnTo>
                      <a:lnTo>
                        <a:pt x="945" y="194"/>
                      </a:lnTo>
                      <a:lnTo>
                        <a:pt x="1000" y="370"/>
                      </a:lnTo>
                      <a:lnTo>
                        <a:pt x="1030" y="555"/>
                      </a:lnTo>
                      <a:lnTo>
                        <a:pt x="1040" y="766"/>
                      </a:lnTo>
                      <a:lnTo>
                        <a:pt x="1026" y="933"/>
                      </a:lnTo>
                      <a:lnTo>
                        <a:pt x="1009" y="1011"/>
                      </a:lnTo>
                      <a:lnTo>
                        <a:pt x="983" y="1097"/>
                      </a:lnTo>
                      <a:lnTo>
                        <a:pt x="948" y="1195"/>
                      </a:lnTo>
                      <a:lnTo>
                        <a:pt x="907" y="1279"/>
                      </a:lnTo>
                      <a:lnTo>
                        <a:pt x="882" y="1317"/>
                      </a:lnTo>
                      <a:lnTo>
                        <a:pt x="855" y="1351"/>
                      </a:lnTo>
                      <a:lnTo>
                        <a:pt x="798" y="1414"/>
                      </a:lnTo>
                      <a:lnTo>
                        <a:pt x="766" y="1443"/>
                      </a:lnTo>
                      <a:lnTo>
                        <a:pt x="732" y="1471"/>
                      </a:lnTo>
                      <a:lnTo>
                        <a:pt x="696" y="1496"/>
                      </a:lnTo>
                      <a:lnTo>
                        <a:pt x="658" y="1520"/>
                      </a:lnTo>
                      <a:lnTo>
                        <a:pt x="618" y="1543"/>
                      </a:lnTo>
                      <a:lnTo>
                        <a:pt x="574" y="1568"/>
                      </a:lnTo>
                      <a:lnTo>
                        <a:pt x="530" y="1591"/>
                      </a:lnTo>
                      <a:lnTo>
                        <a:pt x="485" y="1612"/>
                      </a:lnTo>
                      <a:lnTo>
                        <a:pt x="422" y="1640"/>
                      </a:lnTo>
                      <a:lnTo>
                        <a:pt x="365" y="1661"/>
                      </a:lnTo>
                      <a:lnTo>
                        <a:pt x="255" y="1693"/>
                      </a:lnTo>
                      <a:lnTo>
                        <a:pt x="21" y="1758"/>
                      </a:lnTo>
                      <a:lnTo>
                        <a:pt x="0" y="1749"/>
                      </a:lnTo>
                      <a:lnTo>
                        <a:pt x="9" y="1728"/>
                      </a:lnTo>
                      <a:lnTo>
                        <a:pt x="127" y="1680"/>
                      </a:lnTo>
                      <a:lnTo>
                        <a:pt x="178" y="1657"/>
                      </a:lnTo>
                      <a:lnTo>
                        <a:pt x="228" y="1633"/>
                      </a:lnTo>
                      <a:lnTo>
                        <a:pt x="277" y="1606"/>
                      </a:lnTo>
                      <a:lnTo>
                        <a:pt x="327" y="1579"/>
                      </a:lnTo>
                      <a:lnTo>
                        <a:pt x="382" y="1551"/>
                      </a:lnTo>
                      <a:lnTo>
                        <a:pt x="441" y="1522"/>
                      </a:lnTo>
                      <a:lnTo>
                        <a:pt x="521" y="1482"/>
                      </a:lnTo>
                      <a:lnTo>
                        <a:pt x="593" y="1441"/>
                      </a:lnTo>
                      <a:lnTo>
                        <a:pt x="658" y="1395"/>
                      </a:lnTo>
                      <a:lnTo>
                        <a:pt x="716" y="1346"/>
                      </a:lnTo>
                      <a:lnTo>
                        <a:pt x="768" y="1289"/>
                      </a:lnTo>
                      <a:lnTo>
                        <a:pt x="812" y="1224"/>
                      </a:lnTo>
                      <a:lnTo>
                        <a:pt x="878" y="1062"/>
                      </a:lnTo>
                      <a:lnTo>
                        <a:pt x="918" y="916"/>
                      </a:lnTo>
                      <a:lnTo>
                        <a:pt x="929" y="766"/>
                      </a:lnTo>
                      <a:lnTo>
                        <a:pt x="924" y="562"/>
                      </a:lnTo>
                      <a:lnTo>
                        <a:pt x="903" y="384"/>
                      </a:lnTo>
                      <a:lnTo>
                        <a:pt x="882" y="298"/>
                      </a:lnTo>
                      <a:lnTo>
                        <a:pt x="857" y="213"/>
                      </a:lnTo>
                      <a:lnTo>
                        <a:pt x="823" y="121"/>
                      </a:lnTo>
                      <a:lnTo>
                        <a:pt x="779" y="26"/>
                      </a:lnTo>
                      <a:lnTo>
                        <a:pt x="787" y="13"/>
                      </a:lnTo>
                      <a:lnTo>
                        <a:pt x="813" y="0"/>
                      </a:lnTo>
                      <a:lnTo>
                        <a:pt x="861" y="2"/>
                      </a:lnTo>
                      <a:lnTo>
                        <a:pt x="86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a:off x="3898080" y="5590800"/>
                  <a:ext cx="142920" cy="87480"/>
                </a:xfrm>
                <a:custGeom>
                  <a:avLst/>
                  <a:gdLst/>
                  <a:ahLst/>
                  <a:rect l="l" t="t" r="r" b="b"/>
                  <a:pathLst>
                    <a:path w="1103" h="713">
                      <a:moveTo>
                        <a:pt x="29" y="8"/>
                      </a:moveTo>
                      <a:lnTo>
                        <a:pt x="54" y="61"/>
                      </a:lnTo>
                      <a:lnTo>
                        <a:pt x="78" y="110"/>
                      </a:lnTo>
                      <a:lnTo>
                        <a:pt x="107" y="156"/>
                      </a:lnTo>
                      <a:lnTo>
                        <a:pt x="135" y="198"/>
                      </a:lnTo>
                      <a:lnTo>
                        <a:pt x="166" y="236"/>
                      </a:lnTo>
                      <a:lnTo>
                        <a:pt x="198" y="272"/>
                      </a:lnTo>
                      <a:lnTo>
                        <a:pt x="232" y="304"/>
                      </a:lnTo>
                      <a:lnTo>
                        <a:pt x="268" y="337"/>
                      </a:lnTo>
                      <a:lnTo>
                        <a:pt x="307" y="365"/>
                      </a:lnTo>
                      <a:lnTo>
                        <a:pt x="346" y="392"/>
                      </a:lnTo>
                      <a:lnTo>
                        <a:pt x="388" y="416"/>
                      </a:lnTo>
                      <a:lnTo>
                        <a:pt x="432" y="439"/>
                      </a:lnTo>
                      <a:lnTo>
                        <a:pt x="478" y="462"/>
                      </a:lnTo>
                      <a:lnTo>
                        <a:pt x="527" y="485"/>
                      </a:lnTo>
                      <a:lnTo>
                        <a:pt x="576" y="506"/>
                      </a:lnTo>
                      <a:lnTo>
                        <a:pt x="630" y="527"/>
                      </a:lnTo>
                      <a:lnTo>
                        <a:pt x="717" y="567"/>
                      </a:lnTo>
                      <a:lnTo>
                        <a:pt x="810" y="593"/>
                      </a:lnTo>
                      <a:lnTo>
                        <a:pt x="883" y="618"/>
                      </a:lnTo>
                      <a:lnTo>
                        <a:pt x="945" y="645"/>
                      </a:lnTo>
                      <a:lnTo>
                        <a:pt x="1010" y="665"/>
                      </a:lnTo>
                      <a:lnTo>
                        <a:pt x="1086" y="673"/>
                      </a:lnTo>
                      <a:lnTo>
                        <a:pt x="1103" y="690"/>
                      </a:lnTo>
                      <a:lnTo>
                        <a:pt x="1097" y="702"/>
                      </a:lnTo>
                      <a:lnTo>
                        <a:pt x="1086" y="705"/>
                      </a:lnTo>
                      <a:lnTo>
                        <a:pt x="932" y="713"/>
                      </a:lnTo>
                      <a:lnTo>
                        <a:pt x="782" y="694"/>
                      </a:lnTo>
                      <a:lnTo>
                        <a:pt x="586" y="624"/>
                      </a:lnTo>
                      <a:lnTo>
                        <a:pt x="480" y="576"/>
                      </a:lnTo>
                      <a:lnTo>
                        <a:pt x="430" y="551"/>
                      </a:lnTo>
                      <a:lnTo>
                        <a:pt x="384" y="523"/>
                      </a:lnTo>
                      <a:lnTo>
                        <a:pt x="343" y="494"/>
                      </a:lnTo>
                      <a:lnTo>
                        <a:pt x="303" y="464"/>
                      </a:lnTo>
                      <a:lnTo>
                        <a:pt x="265" y="430"/>
                      </a:lnTo>
                      <a:lnTo>
                        <a:pt x="229" y="396"/>
                      </a:lnTo>
                      <a:lnTo>
                        <a:pt x="164" y="318"/>
                      </a:lnTo>
                      <a:lnTo>
                        <a:pt x="134" y="276"/>
                      </a:lnTo>
                      <a:lnTo>
                        <a:pt x="105" y="230"/>
                      </a:lnTo>
                      <a:lnTo>
                        <a:pt x="76" y="183"/>
                      </a:lnTo>
                      <a:lnTo>
                        <a:pt x="50" y="131"/>
                      </a:lnTo>
                      <a:lnTo>
                        <a:pt x="0" y="21"/>
                      </a:lnTo>
                      <a:lnTo>
                        <a:pt x="8" y="0"/>
                      </a:lnTo>
                      <a:lnTo>
                        <a:pt x="29" y="8"/>
                      </a:lnTo>
                      <a:lnTo>
                        <a:pt x="29"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64" name=""/>
                <p:cNvSpPr/>
                <p:nvPr/>
              </p:nvSpPr>
              <p:spPr>
                <a:xfrm>
                  <a:off x="3906720" y="5438160"/>
                  <a:ext cx="83880" cy="191160"/>
                </a:xfrm>
                <a:custGeom>
                  <a:avLst/>
                  <a:gdLst/>
                  <a:ahLst/>
                  <a:rect l="l" t="t" r="r" b="b"/>
                  <a:pathLst>
                    <a:path w="648" h="1553">
                      <a:moveTo>
                        <a:pt x="555" y="28"/>
                      </a:moveTo>
                      <a:lnTo>
                        <a:pt x="485" y="62"/>
                      </a:lnTo>
                      <a:lnTo>
                        <a:pt x="424" y="93"/>
                      </a:lnTo>
                      <a:lnTo>
                        <a:pt x="365" y="125"/>
                      </a:lnTo>
                      <a:lnTo>
                        <a:pt x="304" y="167"/>
                      </a:lnTo>
                      <a:lnTo>
                        <a:pt x="346" y="365"/>
                      </a:lnTo>
                      <a:lnTo>
                        <a:pt x="300" y="422"/>
                      </a:lnTo>
                      <a:lnTo>
                        <a:pt x="276" y="446"/>
                      </a:lnTo>
                      <a:lnTo>
                        <a:pt x="253" y="469"/>
                      </a:lnTo>
                      <a:lnTo>
                        <a:pt x="203" y="511"/>
                      </a:lnTo>
                      <a:lnTo>
                        <a:pt x="148" y="555"/>
                      </a:lnTo>
                      <a:lnTo>
                        <a:pt x="184" y="629"/>
                      </a:lnTo>
                      <a:lnTo>
                        <a:pt x="213" y="699"/>
                      </a:lnTo>
                      <a:lnTo>
                        <a:pt x="224" y="851"/>
                      </a:lnTo>
                      <a:lnTo>
                        <a:pt x="192" y="897"/>
                      </a:lnTo>
                      <a:lnTo>
                        <a:pt x="160" y="939"/>
                      </a:lnTo>
                      <a:lnTo>
                        <a:pt x="129" y="981"/>
                      </a:lnTo>
                      <a:lnTo>
                        <a:pt x="95" y="1022"/>
                      </a:lnTo>
                      <a:lnTo>
                        <a:pt x="112" y="1060"/>
                      </a:lnTo>
                      <a:lnTo>
                        <a:pt x="133" y="1093"/>
                      </a:lnTo>
                      <a:lnTo>
                        <a:pt x="160" y="1123"/>
                      </a:lnTo>
                      <a:lnTo>
                        <a:pt x="192" y="1152"/>
                      </a:lnTo>
                      <a:lnTo>
                        <a:pt x="268" y="1190"/>
                      </a:lnTo>
                      <a:lnTo>
                        <a:pt x="338" y="1231"/>
                      </a:lnTo>
                      <a:lnTo>
                        <a:pt x="378" y="1275"/>
                      </a:lnTo>
                      <a:lnTo>
                        <a:pt x="386" y="1332"/>
                      </a:lnTo>
                      <a:lnTo>
                        <a:pt x="376" y="1397"/>
                      </a:lnTo>
                      <a:lnTo>
                        <a:pt x="361" y="1467"/>
                      </a:lnTo>
                      <a:lnTo>
                        <a:pt x="470" y="1446"/>
                      </a:lnTo>
                      <a:lnTo>
                        <a:pt x="587" y="1429"/>
                      </a:lnTo>
                      <a:lnTo>
                        <a:pt x="610" y="1427"/>
                      </a:lnTo>
                      <a:lnTo>
                        <a:pt x="639" y="1437"/>
                      </a:lnTo>
                      <a:lnTo>
                        <a:pt x="648" y="1465"/>
                      </a:lnTo>
                      <a:lnTo>
                        <a:pt x="639" y="1492"/>
                      </a:lnTo>
                      <a:lnTo>
                        <a:pt x="610" y="1501"/>
                      </a:lnTo>
                      <a:lnTo>
                        <a:pt x="591" y="1500"/>
                      </a:lnTo>
                      <a:lnTo>
                        <a:pt x="325" y="1553"/>
                      </a:lnTo>
                      <a:lnTo>
                        <a:pt x="289" y="1547"/>
                      </a:lnTo>
                      <a:lnTo>
                        <a:pt x="279" y="1513"/>
                      </a:lnTo>
                      <a:lnTo>
                        <a:pt x="298" y="1444"/>
                      </a:lnTo>
                      <a:lnTo>
                        <a:pt x="327" y="1378"/>
                      </a:lnTo>
                      <a:lnTo>
                        <a:pt x="340" y="1321"/>
                      </a:lnTo>
                      <a:lnTo>
                        <a:pt x="333" y="1298"/>
                      </a:lnTo>
                      <a:lnTo>
                        <a:pt x="312" y="1279"/>
                      </a:lnTo>
                      <a:lnTo>
                        <a:pt x="241" y="1235"/>
                      </a:lnTo>
                      <a:lnTo>
                        <a:pt x="207" y="1214"/>
                      </a:lnTo>
                      <a:lnTo>
                        <a:pt x="167" y="1192"/>
                      </a:lnTo>
                      <a:lnTo>
                        <a:pt x="114" y="1155"/>
                      </a:lnTo>
                      <a:lnTo>
                        <a:pt x="67" y="1123"/>
                      </a:lnTo>
                      <a:lnTo>
                        <a:pt x="0" y="1024"/>
                      </a:lnTo>
                      <a:lnTo>
                        <a:pt x="8" y="982"/>
                      </a:lnTo>
                      <a:lnTo>
                        <a:pt x="47" y="939"/>
                      </a:lnTo>
                      <a:lnTo>
                        <a:pt x="82" y="903"/>
                      </a:lnTo>
                      <a:lnTo>
                        <a:pt x="152" y="821"/>
                      </a:lnTo>
                      <a:lnTo>
                        <a:pt x="150" y="749"/>
                      </a:lnTo>
                      <a:lnTo>
                        <a:pt x="122" y="690"/>
                      </a:lnTo>
                      <a:lnTo>
                        <a:pt x="82" y="631"/>
                      </a:lnTo>
                      <a:lnTo>
                        <a:pt x="44" y="562"/>
                      </a:lnTo>
                      <a:lnTo>
                        <a:pt x="40" y="534"/>
                      </a:lnTo>
                      <a:lnTo>
                        <a:pt x="55" y="507"/>
                      </a:lnTo>
                      <a:lnTo>
                        <a:pt x="89" y="481"/>
                      </a:lnTo>
                      <a:lnTo>
                        <a:pt x="124" y="464"/>
                      </a:lnTo>
                      <a:lnTo>
                        <a:pt x="192" y="439"/>
                      </a:lnTo>
                      <a:lnTo>
                        <a:pt x="259" y="410"/>
                      </a:lnTo>
                      <a:lnTo>
                        <a:pt x="316" y="357"/>
                      </a:lnTo>
                      <a:lnTo>
                        <a:pt x="302" y="304"/>
                      </a:lnTo>
                      <a:lnTo>
                        <a:pt x="279" y="260"/>
                      </a:lnTo>
                      <a:lnTo>
                        <a:pt x="230" y="167"/>
                      </a:lnTo>
                      <a:lnTo>
                        <a:pt x="241" y="129"/>
                      </a:lnTo>
                      <a:lnTo>
                        <a:pt x="278" y="102"/>
                      </a:lnTo>
                      <a:lnTo>
                        <a:pt x="314" y="81"/>
                      </a:lnTo>
                      <a:lnTo>
                        <a:pt x="386" y="55"/>
                      </a:lnTo>
                      <a:lnTo>
                        <a:pt x="542" y="0"/>
                      </a:lnTo>
                      <a:lnTo>
                        <a:pt x="563" y="7"/>
                      </a:lnTo>
                      <a:lnTo>
                        <a:pt x="555" y="28"/>
                      </a:lnTo>
                      <a:lnTo>
                        <a:pt x="55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a:off x="4001040" y="5624280"/>
                  <a:ext cx="51120" cy="34920"/>
                </a:xfrm>
                <a:custGeom>
                  <a:avLst/>
                  <a:gdLst/>
                  <a:ahLst/>
                  <a:rect l="l" t="t" r="r" b="b"/>
                  <a:pathLst>
                    <a:path w="396" h="287">
                      <a:moveTo>
                        <a:pt x="71" y="23"/>
                      </a:moveTo>
                      <a:lnTo>
                        <a:pt x="107" y="108"/>
                      </a:lnTo>
                      <a:lnTo>
                        <a:pt x="143" y="184"/>
                      </a:lnTo>
                      <a:lnTo>
                        <a:pt x="190" y="148"/>
                      </a:lnTo>
                      <a:lnTo>
                        <a:pt x="234" y="110"/>
                      </a:lnTo>
                      <a:lnTo>
                        <a:pt x="280" y="72"/>
                      </a:lnTo>
                      <a:lnTo>
                        <a:pt x="329" y="29"/>
                      </a:lnTo>
                      <a:lnTo>
                        <a:pt x="359" y="19"/>
                      </a:lnTo>
                      <a:lnTo>
                        <a:pt x="386" y="34"/>
                      </a:lnTo>
                      <a:lnTo>
                        <a:pt x="396" y="63"/>
                      </a:lnTo>
                      <a:lnTo>
                        <a:pt x="380" y="91"/>
                      </a:lnTo>
                      <a:lnTo>
                        <a:pt x="350" y="118"/>
                      </a:lnTo>
                      <a:lnTo>
                        <a:pt x="321" y="143"/>
                      </a:lnTo>
                      <a:lnTo>
                        <a:pt x="293" y="167"/>
                      </a:lnTo>
                      <a:lnTo>
                        <a:pt x="268" y="188"/>
                      </a:lnTo>
                      <a:lnTo>
                        <a:pt x="240" y="211"/>
                      </a:lnTo>
                      <a:lnTo>
                        <a:pt x="213" y="232"/>
                      </a:lnTo>
                      <a:lnTo>
                        <a:pt x="183" y="255"/>
                      </a:lnTo>
                      <a:lnTo>
                        <a:pt x="148" y="278"/>
                      </a:lnTo>
                      <a:lnTo>
                        <a:pt x="114" y="287"/>
                      </a:lnTo>
                      <a:lnTo>
                        <a:pt x="90" y="262"/>
                      </a:lnTo>
                      <a:lnTo>
                        <a:pt x="44" y="156"/>
                      </a:lnTo>
                      <a:lnTo>
                        <a:pt x="0" y="50"/>
                      </a:lnTo>
                      <a:lnTo>
                        <a:pt x="2" y="19"/>
                      </a:lnTo>
                      <a:lnTo>
                        <a:pt x="23" y="0"/>
                      </a:lnTo>
                      <a:lnTo>
                        <a:pt x="71" y="23"/>
                      </a:lnTo>
                      <a:lnTo>
                        <a:pt x="71" y="2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66" name=""/>
                <p:cNvSpPr/>
                <p:nvPr/>
              </p:nvSpPr>
              <p:spPr>
                <a:xfrm>
                  <a:off x="4063680" y="5468760"/>
                  <a:ext cx="122040" cy="189360"/>
                </a:xfrm>
                <a:custGeom>
                  <a:avLst/>
                  <a:gdLst/>
                  <a:ahLst/>
                  <a:rect l="l" t="t" r="r" b="b"/>
                  <a:pathLst>
                    <a:path w="943" h="1538">
                      <a:moveTo>
                        <a:pt x="67" y="1319"/>
                      </a:moveTo>
                      <a:lnTo>
                        <a:pt x="122" y="1387"/>
                      </a:lnTo>
                      <a:lnTo>
                        <a:pt x="146" y="1420"/>
                      </a:lnTo>
                      <a:lnTo>
                        <a:pt x="184" y="1444"/>
                      </a:lnTo>
                      <a:lnTo>
                        <a:pt x="230" y="1463"/>
                      </a:lnTo>
                      <a:lnTo>
                        <a:pt x="272" y="1393"/>
                      </a:lnTo>
                      <a:lnTo>
                        <a:pt x="316" y="1319"/>
                      </a:lnTo>
                      <a:lnTo>
                        <a:pt x="344" y="1268"/>
                      </a:lnTo>
                      <a:lnTo>
                        <a:pt x="375" y="1222"/>
                      </a:lnTo>
                      <a:lnTo>
                        <a:pt x="394" y="1205"/>
                      </a:lnTo>
                      <a:lnTo>
                        <a:pt x="413" y="1188"/>
                      </a:lnTo>
                      <a:lnTo>
                        <a:pt x="466" y="1171"/>
                      </a:lnTo>
                      <a:lnTo>
                        <a:pt x="576" y="1155"/>
                      </a:lnTo>
                      <a:lnTo>
                        <a:pt x="675" y="1146"/>
                      </a:lnTo>
                      <a:lnTo>
                        <a:pt x="643" y="1074"/>
                      </a:lnTo>
                      <a:lnTo>
                        <a:pt x="608" y="998"/>
                      </a:lnTo>
                      <a:lnTo>
                        <a:pt x="618" y="946"/>
                      </a:lnTo>
                      <a:lnTo>
                        <a:pt x="643" y="908"/>
                      </a:lnTo>
                      <a:lnTo>
                        <a:pt x="677" y="876"/>
                      </a:lnTo>
                      <a:lnTo>
                        <a:pt x="721" y="851"/>
                      </a:lnTo>
                      <a:lnTo>
                        <a:pt x="768" y="827"/>
                      </a:lnTo>
                      <a:lnTo>
                        <a:pt x="816" y="802"/>
                      </a:lnTo>
                      <a:lnTo>
                        <a:pt x="901" y="733"/>
                      </a:lnTo>
                      <a:lnTo>
                        <a:pt x="903" y="745"/>
                      </a:lnTo>
                      <a:lnTo>
                        <a:pt x="916" y="732"/>
                      </a:lnTo>
                      <a:lnTo>
                        <a:pt x="876" y="705"/>
                      </a:lnTo>
                      <a:lnTo>
                        <a:pt x="831" y="688"/>
                      </a:lnTo>
                      <a:lnTo>
                        <a:pt x="740" y="667"/>
                      </a:lnTo>
                      <a:lnTo>
                        <a:pt x="656" y="638"/>
                      </a:lnTo>
                      <a:lnTo>
                        <a:pt x="595" y="572"/>
                      </a:lnTo>
                      <a:lnTo>
                        <a:pt x="599" y="541"/>
                      </a:lnTo>
                      <a:lnTo>
                        <a:pt x="625" y="513"/>
                      </a:lnTo>
                      <a:lnTo>
                        <a:pt x="652" y="488"/>
                      </a:lnTo>
                      <a:lnTo>
                        <a:pt x="679" y="465"/>
                      </a:lnTo>
                      <a:lnTo>
                        <a:pt x="707" y="437"/>
                      </a:lnTo>
                      <a:lnTo>
                        <a:pt x="738" y="389"/>
                      </a:lnTo>
                      <a:lnTo>
                        <a:pt x="774" y="350"/>
                      </a:lnTo>
                      <a:lnTo>
                        <a:pt x="806" y="310"/>
                      </a:lnTo>
                      <a:lnTo>
                        <a:pt x="504" y="218"/>
                      </a:lnTo>
                      <a:lnTo>
                        <a:pt x="475" y="177"/>
                      </a:lnTo>
                      <a:lnTo>
                        <a:pt x="491" y="127"/>
                      </a:lnTo>
                      <a:lnTo>
                        <a:pt x="521" y="91"/>
                      </a:lnTo>
                      <a:lnTo>
                        <a:pt x="582" y="9"/>
                      </a:lnTo>
                      <a:lnTo>
                        <a:pt x="603" y="0"/>
                      </a:lnTo>
                      <a:lnTo>
                        <a:pt x="612" y="21"/>
                      </a:lnTo>
                      <a:lnTo>
                        <a:pt x="565" y="150"/>
                      </a:lnTo>
                      <a:lnTo>
                        <a:pt x="643" y="178"/>
                      </a:lnTo>
                      <a:lnTo>
                        <a:pt x="715" y="205"/>
                      </a:lnTo>
                      <a:lnTo>
                        <a:pt x="787" y="234"/>
                      </a:lnTo>
                      <a:lnTo>
                        <a:pt x="871" y="260"/>
                      </a:lnTo>
                      <a:lnTo>
                        <a:pt x="895" y="281"/>
                      </a:lnTo>
                      <a:lnTo>
                        <a:pt x="886" y="311"/>
                      </a:lnTo>
                      <a:lnTo>
                        <a:pt x="850" y="350"/>
                      </a:lnTo>
                      <a:lnTo>
                        <a:pt x="812" y="386"/>
                      </a:lnTo>
                      <a:lnTo>
                        <a:pt x="745" y="465"/>
                      </a:lnTo>
                      <a:lnTo>
                        <a:pt x="721" y="492"/>
                      </a:lnTo>
                      <a:lnTo>
                        <a:pt x="698" y="515"/>
                      </a:lnTo>
                      <a:lnTo>
                        <a:pt x="652" y="564"/>
                      </a:lnTo>
                      <a:lnTo>
                        <a:pt x="677" y="595"/>
                      </a:lnTo>
                      <a:lnTo>
                        <a:pt x="709" y="616"/>
                      </a:lnTo>
                      <a:lnTo>
                        <a:pt x="785" y="638"/>
                      </a:lnTo>
                      <a:lnTo>
                        <a:pt x="943" y="697"/>
                      </a:lnTo>
                      <a:lnTo>
                        <a:pt x="937" y="714"/>
                      </a:lnTo>
                      <a:lnTo>
                        <a:pt x="928" y="737"/>
                      </a:lnTo>
                      <a:lnTo>
                        <a:pt x="926" y="754"/>
                      </a:lnTo>
                      <a:lnTo>
                        <a:pt x="894" y="787"/>
                      </a:lnTo>
                      <a:lnTo>
                        <a:pt x="859" y="811"/>
                      </a:lnTo>
                      <a:lnTo>
                        <a:pt x="787" y="855"/>
                      </a:lnTo>
                      <a:lnTo>
                        <a:pt x="728" y="905"/>
                      </a:lnTo>
                      <a:lnTo>
                        <a:pt x="703" y="979"/>
                      </a:lnTo>
                      <a:lnTo>
                        <a:pt x="783" y="1193"/>
                      </a:lnTo>
                      <a:lnTo>
                        <a:pt x="776" y="1241"/>
                      </a:lnTo>
                      <a:lnTo>
                        <a:pt x="728" y="1247"/>
                      </a:lnTo>
                      <a:lnTo>
                        <a:pt x="601" y="1220"/>
                      </a:lnTo>
                      <a:lnTo>
                        <a:pt x="472" y="1218"/>
                      </a:lnTo>
                      <a:lnTo>
                        <a:pt x="432" y="1235"/>
                      </a:lnTo>
                      <a:lnTo>
                        <a:pt x="403" y="1266"/>
                      </a:lnTo>
                      <a:lnTo>
                        <a:pt x="363" y="1346"/>
                      </a:lnTo>
                      <a:lnTo>
                        <a:pt x="337" y="1391"/>
                      </a:lnTo>
                      <a:lnTo>
                        <a:pt x="314" y="1433"/>
                      </a:lnTo>
                      <a:lnTo>
                        <a:pt x="291" y="1473"/>
                      </a:lnTo>
                      <a:lnTo>
                        <a:pt x="266" y="1520"/>
                      </a:lnTo>
                      <a:lnTo>
                        <a:pt x="245" y="1538"/>
                      </a:lnTo>
                      <a:lnTo>
                        <a:pt x="221" y="1528"/>
                      </a:lnTo>
                      <a:lnTo>
                        <a:pt x="171" y="1475"/>
                      </a:lnTo>
                      <a:lnTo>
                        <a:pt x="17" y="1384"/>
                      </a:lnTo>
                      <a:lnTo>
                        <a:pt x="0" y="1355"/>
                      </a:lnTo>
                      <a:lnTo>
                        <a:pt x="10" y="1327"/>
                      </a:lnTo>
                      <a:lnTo>
                        <a:pt x="34" y="1311"/>
                      </a:lnTo>
                      <a:lnTo>
                        <a:pt x="67" y="1319"/>
                      </a:lnTo>
                      <a:lnTo>
                        <a:pt x="67" y="1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a:off x="3993840" y="5425920"/>
                  <a:ext cx="49680" cy="35640"/>
                </a:xfrm>
                <a:custGeom>
                  <a:avLst/>
                  <a:gdLst/>
                  <a:ahLst/>
                  <a:rect l="l" t="t" r="r" b="b"/>
                  <a:pathLst>
                    <a:path w="384" h="291">
                      <a:moveTo>
                        <a:pt x="29" y="76"/>
                      </a:moveTo>
                      <a:lnTo>
                        <a:pt x="205" y="165"/>
                      </a:lnTo>
                      <a:lnTo>
                        <a:pt x="249" y="99"/>
                      </a:lnTo>
                      <a:lnTo>
                        <a:pt x="276" y="70"/>
                      </a:lnTo>
                      <a:lnTo>
                        <a:pt x="304" y="49"/>
                      </a:lnTo>
                      <a:lnTo>
                        <a:pt x="359" y="2"/>
                      </a:lnTo>
                      <a:lnTo>
                        <a:pt x="382" y="0"/>
                      </a:lnTo>
                      <a:lnTo>
                        <a:pt x="384" y="23"/>
                      </a:lnTo>
                      <a:lnTo>
                        <a:pt x="325" y="150"/>
                      </a:lnTo>
                      <a:lnTo>
                        <a:pt x="251" y="264"/>
                      </a:lnTo>
                      <a:lnTo>
                        <a:pt x="234" y="283"/>
                      </a:lnTo>
                      <a:lnTo>
                        <a:pt x="215" y="291"/>
                      </a:lnTo>
                      <a:lnTo>
                        <a:pt x="177" y="266"/>
                      </a:lnTo>
                      <a:lnTo>
                        <a:pt x="137" y="218"/>
                      </a:lnTo>
                      <a:lnTo>
                        <a:pt x="99" y="178"/>
                      </a:lnTo>
                      <a:lnTo>
                        <a:pt x="59" y="146"/>
                      </a:lnTo>
                      <a:lnTo>
                        <a:pt x="8" y="114"/>
                      </a:lnTo>
                      <a:lnTo>
                        <a:pt x="0" y="85"/>
                      </a:lnTo>
                      <a:lnTo>
                        <a:pt x="29" y="76"/>
                      </a:lnTo>
                      <a:lnTo>
                        <a:pt x="29" y="7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668" name=""/>
                <p:cNvSpPr/>
                <p:nvPr/>
              </p:nvSpPr>
              <p:spPr>
                <a:xfrm>
                  <a:off x="4071600" y="5439600"/>
                  <a:ext cx="48240" cy="30960"/>
                </a:xfrm>
                <a:custGeom>
                  <a:avLst/>
                  <a:gdLst/>
                  <a:ahLst/>
                  <a:rect l="l" t="t" r="r" b="b"/>
                  <a:pathLst>
                    <a:path w="374" h="253">
                      <a:moveTo>
                        <a:pt x="30" y="10"/>
                      </a:moveTo>
                      <a:lnTo>
                        <a:pt x="66" y="86"/>
                      </a:lnTo>
                      <a:lnTo>
                        <a:pt x="87" y="120"/>
                      </a:lnTo>
                      <a:lnTo>
                        <a:pt x="112" y="152"/>
                      </a:lnTo>
                      <a:lnTo>
                        <a:pt x="171" y="124"/>
                      </a:lnTo>
                      <a:lnTo>
                        <a:pt x="228" y="101"/>
                      </a:lnTo>
                      <a:lnTo>
                        <a:pt x="353" y="57"/>
                      </a:lnTo>
                      <a:lnTo>
                        <a:pt x="374" y="67"/>
                      </a:lnTo>
                      <a:lnTo>
                        <a:pt x="365" y="88"/>
                      </a:lnTo>
                      <a:lnTo>
                        <a:pt x="298" y="120"/>
                      </a:lnTo>
                      <a:lnTo>
                        <a:pt x="243" y="158"/>
                      </a:lnTo>
                      <a:lnTo>
                        <a:pt x="192" y="198"/>
                      </a:lnTo>
                      <a:lnTo>
                        <a:pt x="163" y="221"/>
                      </a:lnTo>
                      <a:lnTo>
                        <a:pt x="133" y="243"/>
                      </a:lnTo>
                      <a:lnTo>
                        <a:pt x="104" y="253"/>
                      </a:lnTo>
                      <a:lnTo>
                        <a:pt x="78" y="240"/>
                      </a:lnTo>
                      <a:lnTo>
                        <a:pt x="44" y="190"/>
                      </a:lnTo>
                      <a:lnTo>
                        <a:pt x="28" y="137"/>
                      </a:lnTo>
                      <a:lnTo>
                        <a:pt x="0" y="23"/>
                      </a:lnTo>
                      <a:lnTo>
                        <a:pt x="9" y="0"/>
                      </a:lnTo>
                      <a:lnTo>
                        <a:pt x="30" y="10"/>
                      </a:lnTo>
                      <a:lnTo>
                        <a:pt x="30" y="1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669" name=""/>
                <p:cNvSpPr/>
                <p:nvPr/>
              </p:nvSpPr>
              <p:spPr>
                <a:xfrm>
                  <a:off x="3886200" y="5411160"/>
                  <a:ext cx="90360" cy="136800"/>
                </a:xfrm>
                <a:custGeom>
                  <a:avLst/>
                  <a:gdLst/>
                  <a:ahLst/>
                  <a:rect l="l" t="t" r="r" b="b"/>
                  <a:pathLst>
                    <a:path w="696" h="1112">
                      <a:moveTo>
                        <a:pt x="679" y="33"/>
                      </a:moveTo>
                      <a:lnTo>
                        <a:pt x="603" y="46"/>
                      </a:lnTo>
                      <a:lnTo>
                        <a:pt x="540" y="80"/>
                      </a:lnTo>
                      <a:lnTo>
                        <a:pt x="481" y="128"/>
                      </a:lnTo>
                      <a:lnTo>
                        <a:pt x="451" y="152"/>
                      </a:lnTo>
                      <a:lnTo>
                        <a:pt x="417" y="177"/>
                      </a:lnTo>
                      <a:lnTo>
                        <a:pt x="348" y="226"/>
                      </a:lnTo>
                      <a:lnTo>
                        <a:pt x="320" y="253"/>
                      </a:lnTo>
                      <a:lnTo>
                        <a:pt x="293" y="282"/>
                      </a:lnTo>
                      <a:lnTo>
                        <a:pt x="247" y="341"/>
                      </a:lnTo>
                      <a:lnTo>
                        <a:pt x="209" y="403"/>
                      </a:lnTo>
                      <a:lnTo>
                        <a:pt x="179" y="472"/>
                      </a:lnTo>
                      <a:lnTo>
                        <a:pt x="150" y="544"/>
                      </a:lnTo>
                      <a:lnTo>
                        <a:pt x="124" y="624"/>
                      </a:lnTo>
                      <a:lnTo>
                        <a:pt x="97" y="705"/>
                      </a:lnTo>
                      <a:lnTo>
                        <a:pt x="46" y="1095"/>
                      </a:lnTo>
                      <a:lnTo>
                        <a:pt x="31" y="1112"/>
                      </a:lnTo>
                      <a:lnTo>
                        <a:pt x="13" y="1099"/>
                      </a:lnTo>
                      <a:lnTo>
                        <a:pt x="0" y="681"/>
                      </a:lnTo>
                      <a:lnTo>
                        <a:pt x="31" y="588"/>
                      </a:lnTo>
                      <a:lnTo>
                        <a:pt x="61" y="502"/>
                      </a:lnTo>
                      <a:lnTo>
                        <a:pt x="93" y="420"/>
                      </a:lnTo>
                      <a:lnTo>
                        <a:pt x="129" y="344"/>
                      </a:lnTo>
                      <a:lnTo>
                        <a:pt x="150" y="310"/>
                      </a:lnTo>
                      <a:lnTo>
                        <a:pt x="171" y="274"/>
                      </a:lnTo>
                      <a:lnTo>
                        <a:pt x="196" y="242"/>
                      </a:lnTo>
                      <a:lnTo>
                        <a:pt x="223" y="209"/>
                      </a:lnTo>
                      <a:lnTo>
                        <a:pt x="253" y="179"/>
                      </a:lnTo>
                      <a:lnTo>
                        <a:pt x="285" y="149"/>
                      </a:lnTo>
                      <a:lnTo>
                        <a:pt x="321" y="120"/>
                      </a:lnTo>
                      <a:lnTo>
                        <a:pt x="361" y="93"/>
                      </a:lnTo>
                      <a:lnTo>
                        <a:pt x="401" y="69"/>
                      </a:lnTo>
                      <a:lnTo>
                        <a:pt x="437" y="48"/>
                      </a:lnTo>
                      <a:lnTo>
                        <a:pt x="512" y="19"/>
                      </a:lnTo>
                      <a:lnTo>
                        <a:pt x="679" y="0"/>
                      </a:lnTo>
                      <a:lnTo>
                        <a:pt x="696" y="15"/>
                      </a:lnTo>
                      <a:lnTo>
                        <a:pt x="692" y="27"/>
                      </a:lnTo>
                      <a:lnTo>
                        <a:pt x="679" y="33"/>
                      </a:lnTo>
                      <a:lnTo>
                        <a:pt x="679"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70" name=""/>
            <p:cNvGrpSpPr/>
            <p:nvPr/>
          </p:nvGrpSpPr>
          <p:grpSpPr>
            <a:xfrm>
              <a:off x="5410080" y="5334120"/>
              <a:ext cx="706320" cy="842400"/>
              <a:chOff x="5410080" y="5334120"/>
              <a:chExt cx="706320" cy="842400"/>
            </a:xfrm>
          </p:grpSpPr>
          <p:grpSp>
            <p:nvGrpSpPr>
              <p:cNvPr id="671" name=""/>
              <p:cNvGrpSpPr/>
              <p:nvPr/>
            </p:nvGrpSpPr>
            <p:grpSpPr>
              <a:xfrm>
                <a:off x="5410080" y="5334120"/>
                <a:ext cx="609480" cy="761760"/>
                <a:chOff x="5410080" y="5334120"/>
                <a:chExt cx="609480" cy="761760"/>
              </a:xfrm>
            </p:grpSpPr>
            <p:sp>
              <p:nvSpPr>
                <p:cNvPr id="672" name=""/>
                <p:cNvSpPr/>
                <p:nvPr/>
              </p:nvSpPr>
              <p:spPr>
                <a:xfrm>
                  <a:off x="5410080" y="5339520"/>
                  <a:ext cx="607320" cy="698040"/>
                </a:xfrm>
                <a:custGeom>
                  <a:avLst/>
                  <a:gdLst/>
                  <a:ahLst/>
                  <a:rect l="l" t="t" r="r" b="b"/>
                  <a:pathLst>
                    <a:path w="2270" h="2734">
                      <a:moveTo>
                        <a:pt x="61" y="238"/>
                      </a:moveTo>
                      <a:lnTo>
                        <a:pt x="766" y="126"/>
                      </a:lnTo>
                      <a:lnTo>
                        <a:pt x="1753" y="67"/>
                      </a:lnTo>
                      <a:lnTo>
                        <a:pt x="2150" y="0"/>
                      </a:lnTo>
                      <a:lnTo>
                        <a:pt x="2230" y="56"/>
                      </a:lnTo>
                      <a:lnTo>
                        <a:pt x="2270" y="698"/>
                      </a:lnTo>
                      <a:lnTo>
                        <a:pt x="2161" y="2318"/>
                      </a:lnTo>
                      <a:lnTo>
                        <a:pt x="2203" y="2700"/>
                      </a:lnTo>
                      <a:lnTo>
                        <a:pt x="1895" y="2734"/>
                      </a:lnTo>
                      <a:lnTo>
                        <a:pt x="357" y="2658"/>
                      </a:lnTo>
                      <a:lnTo>
                        <a:pt x="171" y="2641"/>
                      </a:lnTo>
                      <a:lnTo>
                        <a:pt x="0" y="1457"/>
                      </a:lnTo>
                      <a:lnTo>
                        <a:pt x="38" y="316"/>
                      </a:lnTo>
                      <a:lnTo>
                        <a:pt x="61" y="238"/>
                      </a:lnTo>
                      <a:lnTo>
                        <a:pt x="61" y="238"/>
                      </a:lnTo>
                      <a:lnTo>
                        <a:pt x="61" y="2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 name=""/>
                <p:cNvSpPr/>
                <p:nvPr/>
              </p:nvSpPr>
              <p:spPr>
                <a:xfrm>
                  <a:off x="5420160" y="5367240"/>
                  <a:ext cx="579600" cy="714600"/>
                </a:xfrm>
                <a:custGeom>
                  <a:avLst/>
                  <a:gdLst/>
                  <a:ahLst/>
                  <a:rect l="l" t="t" r="r" b="b"/>
                  <a:pathLst>
                    <a:path w="2165" h="2800">
                      <a:moveTo>
                        <a:pt x="82" y="198"/>
                      </a:moveTo>
                      <a:lnTo>
                        <a:pt x="574" y="156"/>
                      </a:lnTo>
                      <a:lnTo>
                        <a:pt x="1161" y="112"/>
                      </a:lnTo>
                      <a:lnTo>
                        <a:pt x="1715" y="85"/>
                      </a:lnTo>
                      <a:lnTo>
                        <a:pt x="2004" y="0"/>
                      </a:lnTo>
                      <a:lnTo>
                        <a:pt x="2097" y="9"/>
                      </a:lnTo>
                      <a:lnTo>
                        <a:pt x="2123" y="112"/>
                      </a:lnTo>
                      <a:lnTo>
                        <a:pt x="2106" y="1262"/>
                      </a:lnTo>
                      <a:lnTo>
                        <a:pt x="2080" y="2133"/>
                      </a:lnTo>
                      <a:lnTo>
                        <a:pt x="2165" y="2591"/>
                      </a:lnTo>
                      <a:lnTo>
                        <a:pt x="1909" y="2659"/>
                      </a:lnTo>
                      <a:lnTo>
                        <a:pt x="1289" y="2648"/>
                      </a:lnTo>
                      <a:lnTo>
                        <a:pt x="779" y="2659"/>
                      </a:lnTo>
                      <a:lnTo>
                        <a:pt x="201" y="2800"/>
                      </a:lnTo>
                      <a:lnTo>
                        <a:pt x="173" y="2534"/>
                      </a:lnTo>
                      <a:lnTo>
                        <a:pt x="64" y="1340"/>
                      </a:lnTo>
                      <a:lnTo>
                        <a:pt x="64" y="435"/>
                      </a:lnTo>
                      <a:lnTo>
                        <a:pt x="0" y="207"/>
                      </a:lnTo>
                      <a:lnTo>
                        <a:pt x="82" y="198"/>
                      </a:lnTo>
                      <a:lnTo>
                        <a:pt x="82" y="198"/>
                      </a:lnTo>
                      <a:lnTo>
                        <a:pt x="82" y="198"/>
                      </a:lnTo>
                      <a:close/>
                    </a:path>
                  </a:pathLst>
                </a:custGeom>
                <a:solidFill>
                  <a:srgbClr val="ffe0d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 name=""/>
                <p:cNvSpPr/>
                <p:nvPr/>
              </p:nvSpPr>
              <p:spPr>
                <a:xfrm>
                  <a:off x="5514840" y="5870160"/>
                  <a:ext cx="218160" cy="78120"/>
                </a:xfrm>
                <a:custGeom>
                  <a:avLst/>
                  <a:gdLst/>
                  <a:ahLst/>
                  <a:rect l="l" t="t" r="r" b="b"/>
                  <a:pathLst>
                    <a:path w="816" h="306">
                      <a:moveTo>
                        <a:pt x="0" y="69"/>
                      </a:moveTo>
                      <a:lnTo>
                        <a:pt x="740" y="0"/>
                      </a:lnTo>
                      <a:lnTo>
                        <a:pt x="816" y="306"/>
                      </a:lnTo>
                      <a:lnTo>
                        <a:pt x="18" y="299"/>
                      </a:lnTo>
                      <a:lnTo>
                        <a:pt x="0" y="69"/>
                      </a:lnTo>
                      <a:lnTo>
                        <a:pt x="0" y="69"/>
                      </a:lnTo>
                      <a:lnTo>
                        <a:pt x="0" y="69"/>
                      </a:lnTo>
                      <a:close/>
                    </a:path>
                  </a:pathLst>
                </a:custGeom>
                <a:solidFill>
                  <a:srgbClr val="b2f4ff"/>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5" name=""/>
                <p:cNvSpPr/>
                <p:nvPr/>
              </p:nvSpPr>
              <p:spPr>
                <a:xfrm>
                  <a:off x="5494680" y="5500440"/>
                  <a:ext cx="429840" cy="354240"/>
                </a:xfrm>
                <a:custGeom>
                  <a:avLst/>
                  <a:gdLst/>
                  <a:ahLst/>
                  <a:rect l="l" t="t" r="r" b="b"/>
                  <a:pathLst>
                    <a:path w="1607" h="1387">
                      <a:moveTo>
                        <a:pt x="0" y="167"/>
                      </a:moveTo>
                      <a:lnTo>
                        <a:pt x="0" y="1387"/>
                      </a:lnTo>
                      <a:lnTo>
                        <a:pt x="1607" y="1210"/>
                      </a:lnTo>
                      <a:lnTo>
                        <a:pt x="1557" y="0"/>
                      </a:lnTo>
                      <a:lnTo>
                        <a:pt x="0" y="167"/>
                      </a:lnTo>
                      <a:lnTo>
                        <a:pt x="0" y="167"/>
                      </a:lnTo>
                      <a:lnTo>
                        <a:pt x="0" y="167"/>
                      </a:lnTo>
                      <a:close/>
                    </a:path>
                  </a:pathLst>
                </a:custGeom>
                <a:solidFill>
                  <a:srgbClr val="f5f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6" name=""/>
                <p:cNvSpPr/>
                <p:nvPr/>
              </p:nvSpPr>
              <p:spPr>
                <a:xfrm>
                  <a:off x="5477760" y="5413680"/>
                  <a:ext cx="452520" cy="94680"/>
                </a:xfrm>
                <a:custGeom>
                  <a:avLst/>
                  <a:gdLst/>
                  <a:ahLst/>
                  <a:rect l="l" t="t" r="r" b="b"/>
                  <a:pathLst>
                    <a:path w="1692" h="373">
                      <a:moveTo>
                        <a:pt x="9" y="101"/>
                      </a:moveTo>
                      <a:lnTo>
                        <a:pt x="0" y="373"/>
                      </a:lnTo>
                      <a:lnTo>
                        <a:pt x="1692" y="272"/>
                      </a:lnTo>
                      <a:lnTo>
                        <a:pt x="1652" y="0"/>
                      </a:lnTo>
                      <a:lnTo>
                        <a:pt x="1030" y="35"/>
                      </a:lnTo>
                      <a:lnTo>
                        <a:pt x="452" y="50"/>
                      </a:lnTo>
                      <a:lnTo>
                        <a:pt x="9" y="101"/>
                      </a:lnTo>
                      <a:lnTo>
                        <a:pt x="9" y="101"/>
                      </a:lnTo>
                      <a:lnTo>
                        <a:pt x="9" y="101"/>
                      </a:lnTo>
                      <a:close/>
                    </a:path>
                  </a:pathLst>
                </a:custGeom>
                <a:solidFill>
                  <a:srgbClr val="ff99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 name=""/>
                <p:cNvSpPr/>
                <p:nvPr/>
              </p:nvSpPr>
              <p:spPr>
                <a:xfrm>
                  <a:off x="5505120" y="5921640"/>
                  <a:ext cx="415800" cy="119880"/>
                </a:xfrm>
                <a:custGeom>
                  <a:avLst/>
                  <a:gdLst/>
                  <a:ahLst/>
                  <a:rect l="l" t="t" r="r" b="b"/>
                  <a:pathLst>
                    <a:path w="1555" h="471">
                      <a:moveTo>
                        <a:pt x="0" y="167"/>
                      </a:moveTo>
                      <a:lnTo>
                        <a:pt x="42" y="471"/>
                      </a:lnTo>
                      <a:lnTo>
                        <a:pt x="1514" y="275"/>
                      </a:lnTo>
                      <a:lnTo>
                        <a:pt x="1555" y="0"/>
                      </a:lnTo>
                      <a:lnTo>
                        <a:pt x="0" y="167"/>
                      </a:lnTo>
                      <a:lnTo>
                        <a:pt x="0" y="167"/>
                      </a:lnTo>
                      <a:lnTo>
                        <a:pt x="0" y="167"/>
                      </a:lnTo>
                      <a:close/>
                    </a:path>
                  </a:pathLst>
                </a:custGeom>
                <a:solidFill>
                  <a:srgbClr val="f5f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5429160" y="5334120"/>
                  <a:ext cx="563400" cy="75600"/>
                </a:xfrm>
                <a:custGeom>
                  <a:avLst/>
                  <a:gdLst/>
                  <a:ahLst/>
                  <a:rect l="l" t="t" r="r" b="b"/>
                  <a:pathLst>
                    <a:path w="2107" h="296">
                      <a:moveTo>
                        <a:pt x="17" y="254"/>
                      </a:moveTo>
                      <a:lnTo>
                        <a:pt x="101" y="224"/>
                      </a:lnTo>
                      <a:lnTo>
                        <a:pt x="183" y="199"/>
                      </a:lnTo>
                      <a:lnTo>
                        <a:pt x="281" y="175"/>
                      </a:lnTo>
                      <a:lnTo>
                        <a:pt x="384" y="163"/>
                      </a:lnTo>
                      <a:lnTo>
                        <a:pt x="605" y="123"/>
                      </a:lnTo>
                      <a:lnTo>
                        <a:pt x="764" y="108"/>
                      </a:lnTo>
                      <a:lnTo>
                        <a:pt x="985" y="78"/>
                      </a:lnTo>
                      <a:lnTo>
                        <a:pt x="1177" y="72"/>
                      </a:lnTo>
                      <a:lnTo>
                        <a:pt x="1588" y="66"/>
                      </a:lnTo>
                      <a:lnTo>
                        <a:pt x="1835" y="36"/>
                      </a:lnTo>
                      <a:lnTo>
                        <a:pt x="2080" y="0"/>
                      </a:lnTo>
                      <a:lnTo>
                        <a:pt x="2107" y="17"/>
                      </a:lnTo>
                      <a:lnTo>
                        <a:pt x="2101" y="34"/>
                      </a:lnTo>
                      <a:lnTo>
                        <a:pt x="2088" y="42"/>
                      </a:lnTo>
                      <a:lnTo>
                        <a:pt x="1838" y="97"/>
                      </a:lnTo>
                      <a:lnTo>
                        <a:pt x="1726" y="125"/>
                      </a:lnTo>
                      <a:lnTo>
                        <a:pt x="1593" y="142"/>
                      </a:lnTo>
                      <a:lnTo>
                        <a:pt x="1188" y="159"/>
                      </a:lnTo>
                      <a:lnTo>
                        <a:pt x="781" y="203"/>
                      </a:lnTo>
                      <a:lnTo>
                        <a:pt x="618" y="218"/>
                      </a:lnTo>
                      <a:lnTo>
                        <a:pt x="392" y="258"/>
                      </a:lnTo>
                      <a:lnTo>
                        <a:pt x="198" y="296"/>
                      </a:lnTo>
                      <a:lnTo>
                        <a:pt x="27" y="296"/>
                      </a:lnTo>
                      <a:lnTo>
                        <a:pt x="0" y="281"/>
                      </a:lnTo>
                      <a:lnTo>
                        <a:pt x="17" y="254"/>
                      </a:lnTo>
                      <a:lnTo>
                        <a:pt x="17" y="254"/>
                      </a:lnTo>
                      <a:lnTo>
                        <a:pt x="17" y="254"/>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679" name=""/>
                <p:cNvSpPr/>
                <p:nvPr/>
              </p:nvSpPr>
              <p:spPr>
                <a:xfrm>
                  <a:off x="5418360" y="5419440"/>
                  <a:ext cx="54000" cy="676440"/>
                </a:xfrm>
                <a:custGeom>
                  <a:avLst/>
                  <a:gdLst/>
                  <a:ahLst/>
                  <a:rect l="l" t="t" r="r" b="b"/>
                  <a:pathLst>
                    <a:path w="202" h="2650">
                      <a:moveTo>
                        <a:pt x="59" y="21"/>
                      </a:moveTo>
                      <a:lnTo>
                        <a:pt x="89" y="200"/>
                      </a:lnTo>
                      <a:lnTo>
                        <a:pt x="93" y="380"/>
                      </a:lnTo>
                      <a:lnTo>
                        <a:pt x="86" y="542"/>
                      </a:lnTo>
                      <a:lnTo>
                        <a:pt x="70" y="882"/>
                      </a:lnTo>
                      <a:lnTo>
                        <a:pt x="78" y="1211"/>
                      </a:lnTo>
                      <a:lnTo>
                        <a:pt x="105" y="1540"/>
                      </a:lnTo>
                      <a:lnTo>
                        <a:pt x="143" y="1855"/>
                      </a:lnTo>
                      <a:lnTo>
                        <a:pt x="147" y="1920"/>
                      </a:lnTo>
                      <a:lnTo>
                        <a:pt x="164" y="2011"/>
                      </a:lnTo>
                      <a:lnTo>
                        <a:pt x="179" y="2281"/>
                      </a:lnTo>
                      <a:lnTo>
                        <a:pt x="179" y="2331"/>
                      </a:lnTo>
                      <a:lnTo>
                        <a:pt x="192" y="2454"/>
                      </a:lnTo>
                      <a:lnTo>
                        <a:pt x="202" y="2620"/>
                      </a:lnTo>
                      <a:lnTo>
                        <a:pt x="196" y="2640"/>
                      </a:lnTo>
                      <a:lnTo>
                        <a:pt x="177" y="2650"/>
                      </a:lnTo>
                      <a:lnTo>
                        <a:pt x="148" y="2623"/>
                      </a:lnTo>
                      <a:lnTo>
                        <a:pt x="112" y="2464"/>
                      </a:lnTo>
                      <a:lnTo>
                        <a:pt x="97" y="2334"/>
                      </a:lnTo>
                      <a:lnTo>
                        <a:pt x="97" y="2281"/>
                      </a:lnTo>
                      <a:lnTo>
                        <a:pt x="82" y="2019"/>
                      </a:lnTo>
                      <a:lnTo>
                        <a:pt x="69" y="1928"/>
                      </a:lnTo>
                      <a:lnTo>
                        <a:pt x="63" y="1861"/>
                      </a:lnTo>
                      <a:lnTo>
                        <a:pt x="32" y="1546"/>
                      </a:lnTo>
                      <a:lnTo>
                        <a:pt x="0" y="882"/>
                      </a:lnTo>
                      <a:lnTo>
                        <a:pt x="8" y="702"/>
                      </a:lnTo>
                      <a:lnTo>
                        <a:pt x="25" y="542"/>
                      </a:lnTo>
                      <a:lnTo>
                        <a:pt x="38" y="202"/>
                      </a:lnTo>
                      <a:lnTo>
                        <a:pt x="15" y="25"/>
                      </a:lnTo>
                      <a:lnTo>
                        <a:pt x="21" y="8"/>
                      </a:lnTo>
                      <a:lnTo>
                        <a:pt x="34" y="0"/>
                      </a:lnTo>
                      <a:lnTo>
                        <a:pt x="59" y="21"/>
                      </a:lnTo>
                      <a:lnTo>
                        <a:pt x="59" y="21"/>
                      </a:lnTo>
                      <a:lnTo>
                        <a:pt x="59"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a:off x="5469840" y="6033240"/>
                  <a:ext cx="504000" cy="60120"/>
                </a:xfrm>
                <a:custGeom>
                  <a:avLst/>
                  <a:gdLst/>
                  <a:ahLst/>
                  <a:rect l="l" t="t" r="r" b="b"/>
                  <a:pathLst>
                    <a:path w="1884" h="235">
                      <a:moveTo>
                        <a:pt x="15" y="192"/>
                      </a:moveTo>
                      <a:lnTo>
                        <a:pt x="112" y="163"/>
                      </a:lnTo>
                      <a:lnTo>
                        <a:pt x="194" y="137"/>
                      </a:lnTo>
                      <a:lnTo>
                        <a:pt x="276" y="112"/>
                      </a:lnTo>
                      <a:lnTo>
                        <a:pt x="367" y="87"/>
                      </a:lnTo>
                      <a:lnTo>
                        <a:pt x="481" y="64"/>
                      </a:lnTo>
                      <a:lnTo>
                        <a:pt x="593" y="51"/>
                      </a:lnTo>
                      <a:lnTo>
                        <a:pt x="1430" y="32"/>
                      </a:lnTo>
                      <a:lnTo>
                        <a:pt x="1671" y="17"/>
                      </a:lnTo>
                      <a:lnTo>
                        <a:pt x="1764" y="17"/>
                      </a:lnTo>
                      <a:lnTo>
                        <a:pt x="1856" y="0"/>
                      </a:lnTo>
                      <a:lnTo>
                        <a:pt x="1884" y="9"/>
                      </a:lnTo>
                      <a:lnTo>
                        <a:pt x="1875" y="40"/>
                      </a:lnTo>
                      <a:lnTo>
                        <a:pt x="1823" y="63"/>
                      </a:lnTo>
                      <a:lnTo>
                        <a:pt x="1778" y="80"/>
                      </a:lnTo>
                      <a:lnTo>
                        <a:pt x="1675" y="99"/>
                      </a:lnTo>
                      <a:lnTo>
                        <a:pt x="1430" y="108"/>
                      </a:lnTo>
                      <a:lnTo>
                        <a:pt x="1013" y="101"/>
                      </a:lnTo>
                      <a:lnTo>
                        <a:pt x="597" y="102"/>
                      </a:lnTo>
                      <a:lnTo>
                        <a:pt x="378" y="137"/>
                      </a:lnTo>
                      <a:lnTo>
                        <a:pt x="205" y="182"/>
                      </a:lnTo>
                      <a:lnTo>
                        <a:pt x="124" y="207"/>
                      </a:lnTo>
                      <a:lnTo>
                        <a:pt x="31" y="235"/>
                      </a:lnTo>
                      <a:lnTo>
                        <a:pt x="0" y="220"/>
                      </a:lnTo>
                      <a:lnTo>
                        <a:pt x="15" y="192"/>
                      </a:lnTo>
                      <a:lnTo>
                        <a:pt x="15" y="192"/>
                      </a:lnTo>
                      <a:lnTo>
                        <a:pt x="15" y="19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81" name=""/>
                <p:cNvSpPr/>
                <p:nvPr/>
              </p:nvSpPr>
              <p:spPr>
                <a:xfrm>
                  <a:off x="5978520" y="5350680"/>
                  <a:ext cx="41040" cy="695520"/>
                </a:xfrm>
                <a:custGeom>
                  <a:avLst/>
                  <a:gdLst/>
                  <a:ahLst/>
                  <a:rect l="l" t="t" r="r" b="b"/>
                  <a:pathLst>
                    <a:path w="154" h="2724">
                      <a:moveTo>
                        <a:pt x="107" y="12"/>
                      </a:moveTo>
                      <a:lnTo>
                        <a:pt x="141" y="150"/>
                      </a:lnTo>
                      <a:lnTo>
                        <a:pt x="143" y="219"/>
                      </a:lnTo>
                      <a:lnTo>
                        <a:pt x="141" y="295"/>
                      </a:lnTo>
                      <a:lnTo>
                        <a:pt x="154" y="681"/>
                      </a:lnTo>
                      <a:lnTo>
                        <a:pt x="128" y="1492"/>
                      </a:lnTo>
                      <a:lnTo>
                        <a:pt x="105" y="1836"/>
                      </a:lnTo>
                      <a:lnTo>
                        <a:pt x="82" y="2380"/>
                      </a:lnTo>
                      <a:lnTo>
                        <a:pt x="95" y="2699"/>
                      </a:lnTo>
                      <a:lnTo>
                        <a:pt x="80" y="2724"/>
                      </a:lnTo>
                      <a:lnTo>
                        <a:pt x="56" y="2705"/>
                      </a:lnTo>
                      <a:lnTo>
                        <a:pt x="0" y="2380"/>
                      </a:lnTo>
                      <a:lnTo>
                        <a:pt x="25" y="1829"/>
                      </a:lnTo>
                      <a:lnTo>
                        <a:pt x="57" y="1489"/>
                      </a:lnTo>
                      <a:lnTo>
                        <a:pt x="92" y="681"/>
                      </a:lnTo>
                      <a:lnTo>
                        <a:pt x="92" y="667"/>
                      </a:lnTo>
                      <a:lnTo>
                        <a:pt x="92" y="654"/>
                      </a:lnTo>
                      <a:lnTo>
                        <a:pt x="92" y="641"/>
                      </a:lnTo>
                      <a:lnTo>
                        <a:pt x="92" y="627"/>
                      </a:lnTo>
                      <a:lnTo>
                        <a:pt x="92" y="601"/>
                      </a:lnTo>
                      <a:lnTo>
                        <a:pt x="92" y="597"/>
                      </a:lnTo>
                      <a:lnTo>
                        <a:pt x="92" y="589"/>
                      </a:lnTo>
                      <a:lnTo>
                        <a:pt x="92" y="580"/>
                      </a:lnTo>
                      <a:lnTo>
                        <a:pt x="94" y="489"/>
                      </a:lnTo>
                      <a:lnTo>
                        <a:pt x="95" y="397"/>
                      </a:lnTo>
                      <a:lnTo>
                        <a:pt x="95" y="386"/>
                      </a:lnTo>
                      <a:lnTo>
                        <a:pt x="95" y="380"/>
                      </a:lnTo>
                      <a:lnTo>
                        <a:pt x="95" y="377"/>
                      </a:lnTo>
                      <a:lnTo>
                        <a:pt x="95" y="377"/>
                      </a:lnTo>
                      <a:lnTo>
                        <a:pt x="95" y="375"/>
                      </a:lnTo>
                      <a:lnTo>
                        <a:pt x="95" y="375"/>
                      </a:lnTo>
                      <a:lnTo>
                        <a:pt x="95" y="348"/>
                      </a:lnTo>
                      <a:lnTo>
                        <a:pt x="95" y="337"/>
                      </a:lnTo>
                      <a:lnTo>
                        <a:pt x="95" y="323"/>
                      </a:lnTo>
                      <a:lnTo>
                        <a:pt x="95" y="295"/>
                      </a:lnTo>
                      <a:lnTo>
                        <a:pt x="99" y="160"/>
                      </a:lnTo>
                      <a:lnTo>
                        <a:pt x="90" y="97"/>
                      </a:lnTo>
                      <a:lnTo>
                        <a:pt x="67" y="31"/>
                      </a:lnTo>
                      <a:lnTo>
                        <a:pt x="80" y="0"/>
                      </a:lnTo>
                      <a:lnTo>
                        <a:pt x="107" y="12"/>
                      </a:lnTo>
                      <a:lnTo>
                        <a:pt x="107" y="12"/>
                      </a:lnTo>
                      <a:lnTo>
                        <a:pt x="107"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a:off x="5496120" y="5506920"/>
                  <a:ext cx="434160" cy="35640"/>
                </a:xfrm>
                <a:custGeom>
                  <a:avLst/>
                  <a:gdLst/>
                  <a:ahLst/>
                  <a:rect l="l" t="t" r="r" b="b"/>
                  <a:pathLst>
                    <a:path w="1624" h="139">
                      <a:moveTo>
                        <a:pt x="19" y="95"/>
                      </a:moveTo>
                      <a:lnTo>
                        <a:pt x="435" y="59"/>
                      </a:lnTo>
                      <a:lnTo>
                        <a:pt x="848" y="50"/>
                      </a:lnTo>
                      <a:lnTo>
                        <a:pt x="1069" y="29"/>
                      </a:lnTo>
                      <a:lnTo>
                        <a:pt x="1428" y="10"/>
                      </a:lnTo>
                      <a:lnTo>
                        <a:pt x="1597" y="0"/>
                      </a:lnTo>
                      <a:lnTo>
                        <a:pt x="1624" y="14"/>
                      </a:lnTo>
                      <a:lnTo>
                        <a:pt x="1607" y="40"/>
                      </a:lnTo>
                      <a:lnTo>
                        <a:pt x="1430" y="54"/>
                      </a:lnTo>
                      <a:lnTo>
                        <a:pt x="1074" y="73"/>
                      </a:lnTo>
                      <a:lnTo>
                        <a:pt x="848" y="95"/>
                      </a:lnTo>
                      <a:lnTo>
                        <a:pt x="437" y="105"/>
                      </a:lnTo>
                      <a:lnTo>
                        <a:pt x="25" y="139"/>
                      </a:lnTo>
                      <a:lnTo>
                        <a:pt x="0" y="118"/>
                      </a:lnTo>
                      <a:lnTo>
                        <a:pt x="4" y="103"/>
                      </a:lnTo>
                      <a:lnTo>
                        <a:pt x="19" y="95"/>
                      </a:lnTo>
                      <a:lnTo>
                        <a:pt x="19" y="95"/>
                      </a:lnTo>
                      <a:lnTo>
                        <a:pt x="19" y="95"/>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683" name=""/>
                <p:cNvSpPr/>
                <p:nvPr/>
              </p:nvSpPr>
              <p:spPr>
                <a:xfrm>
                  <a:off x="5500440" y="5569920"/>
                  <a:ext cx="442080" cy="29520"/>
                </a:xfrm>
                <a:custGeom>
                  <a:avLst/>
                  <a:gdLst/>
                  <a:ahLst/>
                  <a:rect l="l" t="t" r="r" b="b"/>
                  <a:pathLst>
                    <a:path w="1652" h="116">
                      <a:moveTo>
                        <a:pt x="19" y="73"/>
                      </a:moveTo>
                      <a:lnTo>
                        <a:pt x="219" y="56"/>
                      </a:lnTo>
                      <a:lnTo>
                        <a:pt x="418" y="56"/>
                      </a:lnTo>
                      <a:lnTo>
                        <a:pt x="740" y="56"/>
                      </a:lnTo>
                      <a:lnTo>
                        <a:pt x="1025" y="39"/>
                      </a:lnTo>
                      <a:lnTo>
                        <a:pt x="1308" y="12"/>
                      </a:lnTo>
                      <a:lnTo>
                        <a:pt x="1631" y="0"/>
                      </a:lnTo>
                      <a:lnTo>
                        <a:pt x="1652" y="21"/>
                      </a:lnTo>
                      <a:lnTo>
                        <a:pt x="1631" y="44"/>
                      </a:lnTo>
                      <a:lnTo>
                        <a:pt x="1308" y="56"/>
                      </a:lnTo>
                      <a:lnTo>
                        <a:pt x="1025" y="80"/>
                      </a:lnTo>
                      <a:lnTo>
                        <a:pt x="738" y="101"/>
                      </a:lnTo>
                      <a:lnTo>
                        <a:pt x="417" y="97"/>
                      </a:lnTo>
                      <a:lnTo>
                        <a:pt x="219" y="97"/>
                      </a:lnTo>
                      <a:lnTo>
                        <a:pt x="23" y="116"/>
                      </a:lnTo>
                      <a:lnTo>
                        <a:pt x="0" y="97"/>
                      </a:lnTo>
                      <a:lnTo>
                        <a:pt x="4" y="82"/>
                      </a:lnTo>
                      <a:lnTo>
                        <a:pt x="19" y="73"/>
                      </a:lnTo>
                      <a:lnTo>
                        <a:pt x="19" y="73"/>
                      </a:lnTo>
                      <a:lnTo>
                        <a:pt x="19" y="7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684" name=""/>
                <p:cNvSpPr/>
                <p:nvPr/>
              </p:nvSpPr>
              <p:spPr>
                <a:xfrm>
                  <a:off x="5496120" y="5564880"/>
                  <a:ext cx="28080" cy="275040"/>
                </a:xfrm>
                <a:custGeom>
                  <a:avLst/>
                  <a:gdLst/>
                  <a:ahLst/>
                  <a:rect l="l" t="t" r="r" b="b"/>
                  <a:pathLst>
                    <a:path w="107" h="1078">
                      <a:moveTo>
                        <a:pt x="44" y="23"/>
                      </a:moveTo>
                      <a:lnTo>
                        <a:pt x="61" y="415"/>
                      </a:lnTo>
                      <a:lnTo>
                        <a:pt x="91" y="805"/>
                      </a:lnTo>
                      <a:lnTo>
                        <a:pt x="107" y="1055"/>
                      </a:lnTo>
                      <a:lnTo>
                        <a:pt x="86" y="1078"/>
                      </a:lnTo>
                      <a:lnTo>
                        <a:pt x="61" y="1057"/>
                      </a:lnTo>
                      <a:lnTo>
                        <a:pt x="46" y="806"/>
                      </a:lnTo>
                      <a:lnTo>
                        <a:pt x="0" y="23"/>
                      </a:lnTo>
                      <a:lnTo>
                        <a:pt x="21" y="0"/>
                      </a:lnTo>
                      <a:lnTo>
                        <a:pt x="44" y="23"/>
                      </a:lnTo>
                      <a:lnTo>
                        <a:pt x="44" y="23"/>
                      </a:lnTo>
                      <a:lnTo>
                        <a:pt x="4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 name=""/>
                <p:cNvSpPr/>
                <p:nvPr/>
              </p:nvSpPr>
              <p:spPr>
                <a:xfrm>
                  <a:off x="5543640" y="5528520"/>
                  <a:ext cx="24480" cy="309960"/>
                </a:xfrm>
                <a:custGeom>
                  <a:avLst/>
                  <a:gdLst/>
                  <a:ahLst/>
                  <a:rect l="l" t="t" r="r" b="b"/>
                  <a:pathLst>
                    <a:path w="93" h="1215">
                      <a:moveTo>
                        <a:pt x="42" y="19"/>
                      </a:moveTo>
                      <a:lnTo>
                        <a:pt x="68" y="276"/>
                      </a:lnTo>
                      <a:lnTo>
                        <a:pt x="89" y="1017"/>
                      </a:lnTo>
                      <a:lnTo>
                        <a:pt x="93" y="1194"/>
                      </a:lnTo>
                      <a:lnTo>
                        <a:pt x="70" y="1215"/>
                      </a:lnTo>
                      <a:lnTo>
                        <a:pt x="49" y="1190"/>
                      </a:lnTo>
                      <a:lnTo>
                        <a:pt x="44" y="1017"/>
                      </a:lnTo>
                      <a:lnTo>
                        <a:pt x="25" y="277"/>
                      </a:lnTo>
                      <a:lnTo>
                        <a:pt x="0" y="25"/>
                      </a:lnTo>
                      <a:lnTo>
                        <a:pt x="6" y="8"/>
                      </a:lnTo>
                      <a:lnTo>
                        <a:pt x="17" y="0"/>
                      </a:lnTo>
                      <a:lnTo>
                        <a:pt x="42" y="19"/>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6" name=""/>
                <p:cNvSpPr/>
                <p:nvPr/>
              </p:nvSpPr>
              <p:spPr>
                <a:xfrm>
                  <a:off x="5608080" y="5529600"/>
                  <a:ext cx="20880" cy="321120"/>
                </a:xfrm>
                <a:custGeom>
                  <a:avLst/>
                  <a:gdLst/>
                  <a:ahLst/>
                  <a:rect l="l" t="t" r="r" b="b"/>
                  <a:pathLst>
                    <a:path w="78" h="1258">
                      <a:moveTo>
                        <a:pt x="46" y="24"/>
                      </a:moveTo>
                      <a:lnTo>
                        <a:pt x="50" y="230"/>
                      </a:lnTo>
                      <a:lnTo>
                        <a:pt x="59" y="433"/>
                      </a:lnTo>
                      <a:lnTo>
                        <a:pt x="54" y="722"/>
                      </a:lnTo>
                      <a:lnTo>
                        <a:pt x="59" y="1013"/>
                      </a:lnTo>
                      <a:lnTo>
                        <a:pt x="78" y="1237"/>
                      </a:lnTo>
                      <a:lnTo>
                        <a:pt x="73" y="1254"/>
                      </a:lnTo>
                      <a:lnTo>
                        <a:pt x="59" y="1258"/>
                      </a:lnTo>
                      <a:lnTo>
                        <a:pt x="36" y="1237"/>
                      </a:lnTo>
                      <a:lnTo>
                        <a:pt x="17" y="1015"/>
                      </a:lnTo>
                      <a:lnTo>
                        <a:pt x="12" y="724"/>
                      </a:lnTo>
                      <a:lnTo>
                        <a:pt x="17" y="433"/>
                      </a:lnTo>
                      <a:lnTo>
                        <a:pt x="0" y="21"/>
                      </a:lnTo>
                      <a:lnTo>
                        <a:pt x="25" y="0"/>
                      </a:lnTo>
                      <a:lnTo>
                        <a:pt x="46" y="24"/>
                      </a:lnTo>
                      <a:lnTo>
                        <a:pt x="46" y="24"/>
                      </a:lnTo>
                      <a:lnTo>
                        <a:pt x="46"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5666760" y="5525640"/>
                  <a:ext cx="18720" cy="311400"/>
                </a:xfrm>
                <a:custGeom>
                  <a:avLst/>
                  <a:gdLst/>
                  <a:ahLst/>
                  <a:rect l="l" t="t" r="r" b="b"/>
                  <a:pathLst>
                    <a:path w="70" h="1220">
                      <a:moveTo>
                        <a:pt x="44" y="22"/>
                      </a:moveTo>
                      <a:lnTo>
                        <a:pt x="63" y="821"/>
                      </a:lnTo>
                      <a:lnTo>
                        <a:pt x="70" y="1195"/>
                      </a:lnTo>
                      <a:lnTo>
                        <a:pt x="65" y="1212"/>
                      </a:lnTo>
                      <a:lnTo>
                        <a:pt x="49" y="1220"/>
                      </a:lnTo>
                      <a:lnTo>
                        <a:pt x="27" y="1201"/>
                      </a:lnTo>
                      <a:lnTo>
                        <a:pt x="19" y="821"/>
                      </a:lnTo>
                      <a:lnTo>
                        <a:pt x="0" y="22"/>
                      </a:lnTo>
                      <a:lnTo>
                        <a:pt x="21" y="0"/>
                      </a:lnTo>
                      <a:lnTo>
                        <a:pt x="44" y="22"/>
                      </a:lnTo>
                      <a:lnTo>
                        <a:pt x="44" y="22"/>
                      </a:lnTo>
                      <a:lnTo>
                        <a:pt x="44"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
                <p:cNvSpPr/>
                <p:nvPr/>
              </p:nvSpPr>
              <p:spPr>
                <a:xfrm>
                  <a:off x="5724720" y="5527080"/>
                  <a:ext cx="22680" cy="304560"/>
                </a:xfrm>
                <a:custGeom>
                  <a:avLst/>
                  <a:gdLst/>
                  <a:ahLst/>
                  <a:rect l="l" t="t" r="r" b="b"/>
                  <a:pathLst>
                    <a:path w="85" h="1194">
                      <a:moveTo>
                        <a:pt x="43" y="23"/>
                      </a:moveTo>
                      <a:lnTo>
                        <a:pt x="59" y="409"/>
                      </a:lnTo>
                      <a:lnTo>
                        <a:pt x="76" y="795"/>
                      </a:lnTo>
                      <a:lnTo>
                        <a:pt x="85" y="1167"/>
                      </a:lnTo>
                      <a:lnTo>
                        <a:pt x="68" y="1194"/>
                      </a:lnTo>
                      <a:lnTo>
                        <a:pt x="43" y="1177"/>
                      </a:lnTo>
                      <a:lnTo>
                        <a:pt x="22" y="985"/>
                      </a:lnTo>
                      <a:lnTo>
                        <a:pt x="30" y="795"/>
                      </a:lnTo>
                      <a:lnTo>
                        <a:pt x="15" y="409"/>
                      </a:lnTo>
                      <a:lnTo>
                        <a:pt x="0" y="23"/>
                      </a:lnTo>
                      <a:lnTo>
                        <a:pt x="22" y="0"/>
                      </a:lnTo>
                      <a:lnTo>
                        <a:pt x="43" y="23"/>
                      </a:lnTo>
                      <a:lnTo>
                        <a:pt x="43" y="23"/>
                      </a:lnTo>
                      <a:lnTo>
                        <a:pt x="43"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a:off x="5856840" y="5514120"/>
                  <a:ext cx="20880" cy="324000"/>
                </a:xfrm>
                <a:custGeom>
                  <a:avLst/>
                  <a:gdLst/>
                  <a:ahLst/>
                  <a:rect l="l" t="t" r="r" b="b"/>
                  <a:pathLst>
                    <a:path w="80" h="1270">
                      <a:moveTo>
                        <a:pt x="44" y="19"/>
                      </a:moveTo>
                      <a:lnTo>
                        <a:pt x="48" y="308"/>
                      </a:lnTo>
                      <a:lnTo>
                        <a:pt x="65" y="530"/>
                      </a:lnTo>
                      <a:lnTo>
                        <a:pt x="80" y="1247"/>
                      </a:lnTo>
                      <a:lnTo>
                        <a:pt x="57" y="1270"/>
                      </a:lnTo>
                      <a:lnTo>
                        <a:pt x="36" y="1247"/>
                      </a:lnTo>
                      <a:lnTo>
                        <a:pt x="19" y="530"/>
                      </a:lnTo>
                      <a:lnTo>
                        <a:pt x="4" y="313"/>
                      </a:lnTo>
                      <a:lnTo>
                        <a:pt x="0" y="25"/>
                      </a:lnTo>
                      <a:lnTo>
                        <a:pt x="4" y="5"/>
                      </a:lnTo>
                      <a:lnTo>
                        <a:pt x="19" y="0"/>
                      </a:lnTo>
                      <a:lnTo>
                        <a:pt x="44" y="19"/>
                      </a:lnTo>
                      <a:lnTo>
                        <a:pt x="44" y="19"/>
                      </a:lnTo>
                      <a:lnTo>
                        <a:pt x="44"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a:off x="5919120" y="5528520"/>
                  <a:ext cx="14400" cy="311400"/>
                </a:xfrm>
                <a:custGeom>
                  <a:avLst/>
                  <a:gdLst/>
                  <a:ahLst/>
                  <a:rect l="l" t="t" r="r" b="b"/>
                  <a:pathLst>
                    <a:path w="53" h="1220">
                      <a:moveTo>
                        <a:pt x="42" y="19"/>
                      </a:moveTo>
                      <a:lnTo>
                        <a:pt x="53" y="264"/>
                      </a:lnTo>
                      <a:lnTo>
                        <a:pt x="42" y="1197"/>
                      </a:lnTo>
                      <a:lnTo>
                        <a:pt x="19" y="1220"/>
                      </a:lnTo>
                      <a:lnTo>
                        <a:pt x="0" y="1197"/>
                      </a:lnTo>
                      <a:lnTo>
                        <a:pt x="11" y="264"/>
                      </a:lnTo>
                      <a:lnTo>
                        <a:pt x="0" y="25"/>
                      </a:lnTo>
                      <a:lnTo>
                        <a:pt x="4" y="8"/>
                      </a:lnTo>
                      <a:lnTo>
                        <a:pt x="17" y="0"/>
                      </a:lnTo>
                      <a:lnTo>
                        <a:pt x="42" y="19"/>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5550120" y="5954760"/>
                  <a:ext cx="342000" cy="14760"/>
                </a:xfrm>
                <a:custGeom>
                  <a:avLst/>
                  <a:gdLst/>
                  <a:ahLst/>
                  <a:rect l="l" t="t" r="r" b="b"/>
                  <a:pathLst>
                    <a:path w="1277" h="57">
                      <a:moveTo>
                        <a:pt x="22" y="9"/>
                      </a:moveTo>
                      <a:lnTo>
                        <a:pt x="481" y="13"/>
                      </a:lnTo>
                      <a:lnTo>
                        <a:pt x="935" y="0"/>
                      </a:lnTo>
                      <a:lnTo>
                        <a:pt x="1256" y="13"/>
                      </a:lnTo>
                      <a:lnTo>
                        <a:pt x="1277" y="36"/>
                      </a:lnTo>
                      <a:lnTo>
                        <a:pt x="1254" y="57"/>
                      </a:lnTo>
                      <a:lnTo>
                        <a:pt x="935" y="43"/>
                      </a:lnTo>
                      <a:lnTo>
                        <a:pt x="479" y="57"/>
                      </a:lnTo>
                      <a:lnTo>
                        <a:pt x="19" y="53"/>
                      </a:lnTo>
                      <a:lnTo>
                        <a:pt x="0" y="28"/>
                      </a:lnTo>
                      <a:lnTo>
                        <a:pt x="22" y="9"/>
                      </a:lnTo>
                      <a:lnTo>
                        <a:pt x="22" y="9"/>
                      </a:lnTo>
                      <a:lnTo>
                        <a:pt x="22" y="9"/>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692" name=""/>
                <p:cNvSpPr/>
                <p:nvPr/>
              </p:nvSpPr>
              <p:spPr>
                <a:xfrm>
                  <a:off x="5545440" y="5991840"/>
                  <a:ext cx="349560" cy="20880"/>
                </a:xfrm>
                <a:custGeom>
                  <a:avLst/>
                  <a:gdLst/>
                  <a:ahLst/>
                  <a:rect l="l" t="t" r="r" b="b"/>
                  <a:pathLst>
                    <a:path w="1306" h="84">
                      <a:moveTo>
                        <a:pt x="17" y="40"/>
                      </a:moveTo>
                      <a:lnTo>
                        <a:pt x="190" y="14"/>
                      </a:lnTo>
                      <a:lnTo>
                        <a:pt x="342" y="0"/>
                      </a:lnTo>
                      <a:lnTo>
                        <a:pt x="667" y="4"/>
                      </a:lnTo>
                      <a:lnTo>
                        <a:pt x="789" y="21"/>
                      </a:lnTo>
                      <a:lnTo>
                        <a:pt x="908" y="36"/>
                      </a:lnTo>
                      <a:lnTo>
                        <a:pt x="1285" y="16"/>
                      </a:lnTo>
                      <a:lnTo>
                        <a:pt x="1306" y="38"/>
                      </a:lnTo>
                      <a:lnTo>
                        <a:pt x="1285" y="59"/>
                      </a:lnTo>
                      <a:lnTo>
                        <a:pt x="1096" y="73"/>
                      </a:lnTo>
                      <a:lnTo>
                        <a:pt x="906" y="80"/>
                      </a:lnTo>
                      <a:lnTo>
                        <a:pt x="787" y="65"/>
                      </a:lnTo>
                      <a:lnTo>
                        <a:pt x="663" y="50"/>
                      </a:lnTo>
                      <a:lnTo>
                        <a:pt x="344" y="46"/>
                      </a:lnTo>
                      <a:lnTo>
                        <a:pt x="22" y="84"/>
                      </a:lnTo>
                      <a:lnTo>
                        <a:pt x="0" y="67"/>
                      </a:lnTo>
                      <a:lnTo>
                        <a:pt x="17" y="40"/>
                      </a:lnTo>
                      <a:lnTo>
                        <a:pt x="17" y="40"/>
                      </a:lnTo>
                      <a:lnTo>
                        <a:pt x="17" y="4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93" name=""/>
                <p:cNvSpPr/>
                <p:nvPr/>
              </p:nvSpPr>
              <p:spPr>
                <a:xfrm>
                  <a:off x="5545800" y="5833800"/>
                  <a:ext cx="356760" cy="18720"/>
                </a:xfrm>
                <a:custGeom>
                  <a:avLst/>
                  <a:gdLst/>
                  <a:ahLst/>
                  <a:rect l="l" t="t" r="r" b="b"/>
                  <a:pathLst>
                    <a:path w="1335" h="74">
                      <a:moveTo>
                        <a:pt x="25" y="26"/>
                      </a:moveTo>
                      <a:lnTo>
                        <a:pt x="441" y="32"/>
                      </a:lnTo>
                      <a:lnTo>
                        <a:pt x="860" y="13"/>
                      </a:lnTo>
                      <a:lnTo>
                        <a:pt x="1088" y="0"/>
                      </a:lnTo>
                      <a:lnTo>
                        <a:pt x="1316" y="19"/>
                      </a:lnTo>
                      <a:lnTo>
                        <a:pt x="1335" y="41"/>
                      </a:lnTo>
                      <a:lnTo>
                        <a:pt x="1310" y="62"/>
                      </a:lnTo>
                      <a:lnTo>
                        <a:pt x="1088" y="41"/>
                      </a:lnTo>
                      <a:lnTo>
                        <a:pt x="864" y="57"/>
                      </a:lnTo>
                      <a:lnTo>
                        <a:pt x="443" y="74"/>
                      </a:lnTo>
                      <a:lnTo>
                        <a:pt x="25" y="68"/>
                      </a:lnTo>
                      <a:lnTo>
                        <a:pt x="0" y="49"/>
                      </a:lnTo>
                      <a:lnTo>
                        <a:pt x="25" y="26"/>
                      </a:lnTo>
                      <a:lnTo>
                        <a:pt x="25" y="26"/>
                      </a:lnTo>
                      <a:lnTo>
                        <a:pt x="25" y="26"/>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94" name=""/>
                <p:cNvSpPr/>
                <p:nvPr/>
              </p:nvSpPr>
              <p:spPr>
                <a:xfrm>
                  <a:off x="5791680" y="5522400"/>
                  <a:ext cx="21240" cy="309240"/>
                </a:xfrm>
                <a:custGeom>
                  <a:avLst/>
                  <a:gdLst/>
                  <a:ahLst/>
                  <a:rect l="l" t="t" r="r" b="b"/>
                  <a:pathLst>
                    <a:path w="80" h="1213">
                      <a:moveTo>
                        <a:pt x="45" y="21"/>
                      </a:moveTo>
                      <a:lnTo>
                        <a:pt x="55" y="259"/>
                      </a:lnTo>
                      <a:lnTo>
                        <a:pt x="76" y="493"/>
                      </a:lnTo>
                      <a:lnTo>
                        <a:pt x="80" y="677"/>
                      </a:lnTo>
                      <a:lnTo>
                        <a:pt x="76" y="840"/>
                      </a:lnTo>
                      <a:lnTo>
                        <a:pt x="80" y="1190"/>
                      </a:lnTo>
                      <a:lnTo>
                        <a:pt x="74" y="1207"/>
                      </a:lnTo>
                      <a:lnTo>
                        <a:pt x="59" y="1213"/>
                      </a:lnTo>
                      <a:lnTo>
                        <a:pt x="36" y="1192"/>
                      </a:lnTo>
                      <a:lnTo>
                        <a:pt x="32" y="844"/>
                      </a:lnTo>
                      <a:lnTo>
                        <a:pt x="36" y="679"/>
                      </a:lnTo>
                      <a:lnTo>
                        <a:pt x="32" y="494"/>
                      </a:lnTo>
                      <a:lnTo>
                        <a:pt x="0" y="21"/>
                      </a:lnTo>
                      <a:lnTo>
                        <a:pt x="22" y="0"/>
                      </a:lnTo>
                      <a:lnTo>
                        <a:pt x="45" y="21"/>
                      </a:lnTo>
                      <a:lnTo>
                        <a:pt x="45" y="21"/>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95" name=""/>
              <p:cNvGrpSpPr/>
              <p:nvPr/>
            </p:nvGrpSpPr>
            <p:grpSpPr>
              <a:xfrm>
                <a:off x="5790960" y="5715000"/>
                <a:ext cx="325440" cy="461520"/>
                <a:chOff x="5790960" y="5715000"/>
                <a:chExt cx="325440" cy="461520"/>
              </a:xfrm>
            </p:grpSpPr>
            <p:sp>
              <p:nvSpPr>
                <p:cNvPr id="696" name=""/>
                <p:cNvSpPr/>
                <p:nvPr/>
              </p:nvSpPr>
              <p:spPr>
                <a:xfrm>
                  <a:off x="5794200" y="5847840"/>
                  <a:ext cx="57600" cy="76680"/>
                </a:xfrm>
                <a:custGeom>
                  <a:avLst/>
                  <a:gdLst/>
                  <a:ahLst/>
                  <a:rect l="l" t="t" r="r" b="b"/>
                  <a:pathLst>
                    <a:path w="443" h="626">
                      <a:moveTo>
                        <a:pt x="0" y="0"/>
                      </a:moveTo>
                      <a:lnTo>
                        <a:pt x="19" y="276"/>
                      </a:lnTo>
                      <a:lnTo>
                        <a:pt x="114" y="498"/>
                      </a:lnTo>
                      <a:lnTo>
                        <a:pt x="340" y="626"/>
                      </a:lnTo>
                      <a:lnTo>
                        <a:pt x="443" y="550"/>
                      </a:lnTo>
                      <a:lnTo>
                        <a:pt x="353" y="417"/>
                      </a:lnTo>
                      <a:lnTo>
                        <a:pt x="201" y="396"/>
                      </a:lnTo>
                      <a:lnTo>
                        <a:pt x="101" y="306"/>
                      </a:lnTo>
                      <a:lnTo>
                        <a:pt x="0" y="0"/>
                      </a:lnTo>
                      <a:lnTo>
                        <a:pt x="0" y="0"/>
                      </a:lnTo>
                      <a:close/>
                    </a:path>
                  </a:pathLst>
                </a:custGeom>
                <a:solidFill>
                  <a:srgbClr val="ffd9d9"/>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697" name=""/>
                <p:cNvSpPr/>
                <p:nvPr/>
              </p:nvSpPr>
              <p:spPr>
                <a:xfrm>
                  <a:off x="5918400" y="5929560"/>
                  <a:ext cx="149760" cy="47160"/>
                </a:xfrm>
                <a:custGeom>
                  <a:avLst/>
                  <a:gdLst/>
                  <a:ahLst/>
                  <a:rect l="l" t="t" r="r" b="b"/>
                  <a:pathLst>
                    <a:path w="1156" h="384">
                      <a:moveTo>
                        <a:pt x="0" y="306"/>
                      </a:moveTo>
                      <a:lnTo>
                        <a:pt x="139" y="268"/>
                      </a:lnTo>
                      <a:lnTo>
                        <a:pt x="304" y="121"/>
                      </a:lnTo>
                      <a:lnTo>
                        <a:pt x="493" y="273"/>
                      </a:lnTo>
                      <a:lnTo>
                        <a:pt x="443" y="116"/>
                      </a:lnTo>
                      <a:lnTo>
                        <a:pt x="607" y="230"/>
                      </a:lnTo>
                      <a:lnTo>
                        <a:pt x="734" y="165"/>
                      </a:lnTo>
                      <a:lnTo>
                        <a:pt x="840" y="70"/>
                      </a:lnTo>
                      <a:lnTo>
                        <a:pt x="854" y="19"/>
                      </a:lnTo>
                      <a:lnTo>
                        <a:pt x="979" y="0"/>
                      </a:lnTo>
                      <a:lnTo>
                        <a:pt x="1156" y="26"/>
                      </a:lnTo>
                      <a:lnTo>
                        <a:pt x="854" y="205"/>
                      </a:lnTo>
                      <a:lnTo>
                        <a:pt x="498" y="363"/>
                      </a:lnTo>
                      <a:lnTo>
                        <a:pt x="95" y="384"/>
                      </a:lnTo>
                      <a:lnTo>
                        <a:pt x="0" y="306"/>
                      </a:lnTo>
                      <a:lnTo>
                        <a:pt x="0" y="306"/>
                      </a:lnTo>
                      <a:close/>
                    </a:path>
                  </a:pathLst>
                </a:custGeom>
                <a:solidFill>
                  <a:srgbClr val="ffd9d9"/>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98" name=""/>
                <p:cNvSpPr/>
                <p:nvPr/>
              </p:nvSpPr>
              <p:spPr>
                <a:xfrm>
                  <a:off x="5812560" y="5736960"/>
                  <a:ext cx="224640" cy="219240"/>
                </a:xfrm>
                <a:custGeom>
                  <a:avLst/>
                  <a:gdLst/>
                  <a:ahLst/>
                  <a:rect l="l" t="t" r="r" b="b"/>
                  <a:pathLst>
                    <a:path w="1731" h="1779">
                      <a:moveTo>
                        <a:pt x="557" y="0"/>
                      </a:moveTo>
                      <a:lnTo>
                        <a:pt x="233" y="314"/>
                      </a:lnTo>
                      <a:lnTo>
                        <a:pt x="43" y="485"/>
                      </a:lnTo>
                      <a:lnTo>
                        <a:pt x="100" y="740"/>
                      </a:lnTo>
                      <a:lnTo>
                        <a:pt x="0" y="875"/>
                      </a:lnTo>
                      <a:lnTo>
                        <a:pt x="95" y="1091"/>
                      </a:lnTo>
                      <a:lnTo>
                        <a:pt x="138" y="1200"/>
                      </a:lnTo>
                      <a:lnTo>
                        <a:pt x="290" y="1283"/>
                      </a:lnTo>
                      <a:lnTo>
                        <a:pt x="595" y="829"/>
                      </a:lnTo>
                      <a:lnTo>
                        <a:pt x="1005" y="652"/>
                      </a:lnTo>
                      <a:lnTo>
                        <a:pt x="600" y="1053"/>
                      </a:lnTo>
                      <a:lnTo>
                        <a:pt x="366" y="1346"/>
                      </a:lnTo>
                      <a:lnTo>
                        <a:pt x="328" y="1538"/>
                      </a:lnTo>
                      <a:lnTo>
                        <a:pt x="606" y="1487"/>
                      </a:lnTo>
                      <a:lnTo>
                        <a:pt x="688" y="1492"/>
                      </a:lnTo>
                      <a:lnTo>
                        <a:pt x="752" y="1563"/>
                      </a:lnTo>
                      <a:lnTo>
                        <a:pt x="1188" y="1295"/>
                      </a:lnTo>
                      <a:lnTo>
                        <a:pt x="834" y="1679"/>
                      </a:lnTo>
                      <a:lnTo>
                        <a:pt x="847" y="1779"/>
                      </a:lnTo>
                      <a:lnTo>
                        <a:pt x="1062" y="1601"/>
                      </a:lnTo>
                      <a:lnTo>
                        <a:pt x="1302" y="1500"/>
                      </a:lnTo>
                      <a:lnTo>
                        <a:pt x="1707" y="1072"/>
                      </a:lnTo>
                      <a:lnTo>
                        <a:pt x="1731" y="696"/>
                      </a:lnTo>
                      <a:lnTo>
                        <a:pt x="1174" y="300"/>
                      </a:lnTo>
                      <a:lnTo>
                        <a:pt x="650" y="333"/>
                      </a:lnTo>
                      <a:lnTo>
                        <a:pt x="557" y="0"/>
                      </a:lnTo>
                      <a:lnTo>
                        <a:pt x="557" y="0"/>
                      </a:lnTo>
                      <a:close/>
                    </a:path>
                  </a:pathLst>
                </a:custGeom>
                <a:solidFill>
                  <a:srgbClr val="ff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5801040" y="5893920"/>
                  <a:ext cx="136800" cy="82800"/>
                </a:xfrm>
                <a:custGeom>
                  <a:avLst/>
                  <a:gdLst/>
                  <a:ahLst/>
                  <a:rect l="l" t="t" r="r" b="b"/>
                  <a:pathLst>
                    <a:path w="1053" h="673">
                      <a:moveTo>
                        <a:pt x="0" y="0"/>
                      </a:moveTo>
                      <a:lnTo>
                        <a:pt x="120" y="80"/>
                      </a:lnTo>
                      <a:lnTo>
                        <a:pt x="255" y="173"/>
                      </a:lnTo>
                      <a:lnTo>
                        <a:pt x="375" y="144"/>
                      </a:lnTo>
                      <a:lnTo>
                        <a:pt x="437" y="43"/>
                      </a:lnTo>
                      <a:lnTo>
                        <a:pt x="388" y="294"/>
                      </a:lnTo>
                      <a:lnTo>
                        <a:pt x="510" y="351"/>
                      </a:lnTo>
                      <a:lnTo>
                        <a:pt x="665" y="380"/>
                      </a:lnTo>
                      <a:lnTo>
                        <a:pt x="749" y="351"/>
                      </a:lnTo>
                      <a:lnTo>
                        <a:pt x="793" y="479"/>
                      </a:lnTo>
                      <a:lnTo>
                        <a:pt x="1053" y="673"/>
                      </a:lnTo>
                      <a:lnTo>
                        <a:pt x="749" y="608"/>
                      </a:lnTo>
                      <a:lnTo>
                        <a:pt x="260" y="336"/>
                      </a:lnTo>
                      <a:lnTo>
                        <a:pt x="105" y="173"/>
                      </a:lnTo>
                      <a:lnTo>
                        <a:pt x="0" y="0"/>
                      </a:lnTo>
                      <a:lnTo>
                        <a:pt x="0" y="0"/>
                      </a:lnTo>
                      <a:close/>
                    </a:path>
                  </a:pathLst>
                </a:custGeom>
                <a:solidFill>
                  <a:srgbClr val="ff9999"/>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00" name=""/>
                <p:cNvSpPr/>
                <p:nvPr/>
              </p:nvSpPr>
              <p:spPr>
                <a:xfrm>
                  <a:off x="5798160" y="5964120"/>
                  <a:ext cx="258120" cy="199080"/>
                </a:xfrm>
                <a:custGeom>
                  <a:avLst/>
                  <a:gdLst/>
                  <a:ahLst/>
                  <a:rect l="l" t="t" r="r" b="b"/>
                  <a:pathLst>
                    <a:path w="1991" h="1616">
                      <a:moveTo>
                        <a:pt x="405" y="0"/>
                      </a:moveTo>
                      <a:lnTo>
                        <a:pt x="377" y="152"/>
                      </a:lnTo>
                      <a:lnTo>
                        <a:pt x="242" y="274"/>
                      </a:lnTo>
                      <a:lnTo>
                        <a:pt x="411" y="217"/>
                      </a:lnTo>
                      <a:lnTo>
                        <a:pt x="341" y="473"/>
                      </a:lnTo>
                      <a:lnTo>
                        <a:pt x="348" y="623"/>
                      </a:lnTo>
                      <a:lnTo>
                        <a:pt x="333" y="973"/>
                      </a:lnTo>
                      <a:lnTo>
                        <a:pt x="234" y="1230"/>
                      </a:lnTo>
                      <a:lnTo>
                        <a:pt x="744" y="838"/>
                      </a:lnTo>
                      <a:lnTo>
                        <a:pt x="561" y="1095"/>
                      </a:lnTo>
                      <a:lnTo>
                        <a:pt x="156" y="1374"/>
                      </a:lnTo>
                      <a:lnTo>
                        <a:pt x="0" y="1530"/>
                      </a:lnTo>
                      <a:lnTo>
                        <a:pt x="164" y="1551"/>
                      </a:lnTo>
                      <a:lnTo>
                        <a:pt x="510" y="1281"/>
                      </a:lnTo>
                      <a:lnTo>
                        <a:pt x="624" y="1281"/>
                      </a:lnTo>
                      <a:lnTo>
                        <a:pt x="715" y="1481"/>
                      </a:lnTo>
                      <a:lnTo>
                        <a:pt x="850" y="1616"/>
                      </a:lnTo>
                      <a:lnTo>
                        <a:pt x="892" y="1294"/>
                      </a:lnTo>
                      <a:lnTo>
                        <a:pt x="780" y="1188"/>
                      </a:lnTo>
                      <a:lnTo>
                        <a:pt x="858" y="895"/>
                      </a:lnTo>
                      <a:lnTo>
                        <a:pt x="985" y="608"/>
                      </a:lnTo>
                      <a:lnTo>
                        <a:pt x="1154" y="745"/>
                      </a:lnTo>
                      <a:lnTo>
                        <a:pt x="1339" y="1051"/>
                      </a:lnTo>
                      <a:lnTo>
                        <a:pt x="1424" y="1494"/>
                      </a:lnTo>
                      <a:lnTo>
                        <a:pt x="1609" y="1144"/>
                      </a:lnTo>
                      <a:lnTo>
                        <a:pt x="1955" y="1408"/>
                      </a:lnTo>
                      <a:lnTo>
                        <a:pt x="1778" y="1045"/>
                      </a:lnTo>
                      <a:lnTo>
                        <a:pt x="1983" y="1273"/>
                      </a:lnTo>
                      <a:lnTo>
                        <a:pt x="1827" y="595"/>
                      </a:lnTo>
                      <a:lnTo>
                        <a:pt x="1820" y="380"/>
                      </a:lnTo>
                      <a:lnTo>
                        <a:pt x="1991" y="367"/>
                      </a:lnTo>
                      <a:lnTo>
                        <a:pt x="1975" y="230"/>
                      </a:lnTo>
                      <a:lnTo>
                        <a:pt x="1877" y="274"/>
                      </a:lnTo>
                      <a:lnTo>
                        <a:pt x="1614" y="160"/>
                      </a:lnTo>
                      <a:lnTo>
                        <a:pt x="1523" y="217"/>
                      </a:lnTo>
                      <a:lnTo>
                        <a:pt x="772" y="137"/>
                      </a:lnTo>
                      <a:lnTo>
                        <a:pt x="405" y="0"/>
                      </a:lnTo>
                      <a:lnTo>
                        <a:pt x="405"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5805720" y="5720040"/>
                  <a:ext cx="299520" cy="266040"/>
                </a:xfrm>
                <a:custGeom>
                  <a:avLst/>
                  <a:gdLst/>
                  <a:ahLst/>
                  <a:rect l="l" t="t" r="r" b="b"/>
                  <a:pathLst>
                    <a:path w="2308" h="2164">
                      <a:moveTo>
                        <a:pt x="299" y="863"/>
                      </a:moveTo>
                      <a:lnTo>
                        <a:pt x="681" y="628"/>
                      </a:lnTo>
                      <a:lnTo>
                        <a:pt x="1289" y="571"/>
                      </a:lnTo>
                      <a:lnTo>
                        <a:pt x="1346" y="728"/>
                      </a:lnTo>
                      <a:lnTo>
                        <a:pt x="736" y="1264"/>
                      </a:lnTo>
                      <a:lnTo>
                        <a:pt x="595" y="1485"/>
                      </a:lnTo>
                      <a:lnTo>
                        <a:pt x="1707" y="1034"/>
                      </a:lnTo>
                      <a:lnTo>
                        <a:pt x="1063" y="1764"/>
                      </a:lnTo>
                      <a:lnTo>
                        <a:pt x="1190" y="1700"/>
                      </a:lnTo>
                      <a:lnTo>
                        <a:pt x="1295" y="1785"/>
                      </a:lnTo>
                      <a:lnTo>
                        <a:pt x="1494" y="1935"/>
                      </a:lnTo>
                      <a:lnTo>
                        <a:pt x="1700" y="1627"/>
                      </a:lnTo>
                      <a:lnTo>
                        <a:pt x="1975" y="1586"/>
                      </a:lnTo>
                      <a:lnTo>
                        <a:pt x="1926" y="1356"/>
                      </a:lnTo>
                      <a:lnTo>
                        <a:pt x="2171" y="1169"/>
                      </a:lnTo>
                      <a:lnTo>
                        <a:pt x="2036" y="909"/>
                      </a:lnTo>
                      <a:lnTo>
                        <a:pt x="2173" y="736"/>
                      </a:lnTo>
                      <a:lnTo>
                        <a:pt x="2223" y="928"/>
                      </a:lnTo>
                      <a:lnTo>
                        <a:pt x="2223" y="1228"/>
                      </a:lnTo>
                      <a:lnTo>
                        <a:pt x="2053" y="1399"/>
                      </a:lnTo>
                      <a:lnTo>
                        <a:pt x="2061" y="1542"/>
                      </a:lnTo>
                      <a:lnTo>
                        <a:pt x="1975" y="1728"/>
                      </a:lnTo>
                      <a:lnTo>
                        <a:pt x="1778" y="1749"/>
                      </a:lnTo>
                      <a:lnTo>
                        <a:pt x="1629" y="1892"/>
                      </a:lnTo>
                      <a:lnTo>
                        <a:pt x="1523" y="2000"/>
                      </a:lnTo>
                      <a:lnTo>
                        <a:pt x="1339" y="2049"/>
                      </a:lnTo>
                      <a:lnTo>
                        <a:pt x="1175" y="1850"/>
                      </a:lnTo>
                      <a:lnTo>
                        <a:pt x="1006" y="2034"/>
                      </a:lnTo>
                      <a:lnTo>
                        <a:pt x="759" y="2049"/>
                      </a:lnTo>
                      <a:lnTo>
                        <a:pt x="1091" y="2164"/>
                      </a:lnTo>
                      <a:lnTo>
                        <a:pt x="1629" y="2091"/>
                      </a:lnTo>
                      <a:lnTo>
                        <a:pt x="1820" y="2063"/>
                      </a:lnTo>
                      <a:lnTo>
                        <a:pt x="1848" y="1943"/>
                      </a:lnTo>
                      <a:lnTo>
                        <a:pt x="2124" y="1793"/>
                      </a:lnTo>
                      <a:lnTo>
                        <a:pt x="2295" y="1420"/>
                      </a:lnTo>
                      <a:lnTo>
                        <a:pt x="2308" y="972"/>
                      </a:lnTo>
                      <a:lnTo>
                        <a:pt x="2181" y="400"/>
                      </a:lnTo>
                      <a:lnTo>
                        <a:pt x="1905" y="420"/>
                      </a:lnTo>
                      <a:lnTo>
                        <a:pt x="1331" y="213"/>
                      </a:lnTo>
                      <a:lnTo>
                        <a:pt x="736" y="107"/>
                      </a:lnTo>
                      <a:lnTo>
                        <a:pt x="546" y="0"/>
                      </a:lnTo>
                      <a:lnTo>
                        <a:pt x="341" y="149"/>
                      </a:lnTo>
                      <a:lnTo>
                        <a:pt x="198" y="293"/>
                      </a:lnTo>
                      <a:lnTo>
                        <a:pt x="221" y="449"/>
                      </a:lnTo>
                      <a:lnTo>
                        <a:pt x="128" y="472"/>
                      </a:lnTo>
                      <a:lnTo>
                        <a:pt x="42" y="592"/>
                      </a:lnTo>
                      <a:lnTo>
                        <a:pt x="42" y="770"/>
                      </a:lnTo>
                      <a:lnTo>
                        <a:pt x="99" y="899"/>
                      </a:lnTo>
                      <a:lnTo>
                        <a:pt x="8" y="956"/>
                      </a:lnTo>
                      <a:lnTo>
                        <a:pt x="0" y="1107"/>
                      </a:lnTo>
                      <a:lnTo>
                        <a:pt x="99" y="1221"/>
                      </a:lnTo>
                      <a:lnTo>
                        <a:pt x="242" y="1122"/>
                      </a:lnTo>
                      <a:lnTo>
                        <a:pt x="226" y="936"/>
                      </a:lnTo>
                      <a:lnTo>
                        <a:pt x="299" y="863"/>
                      </a:lnTo>
                      <a:lnTo>
                        <a:pt x="299" y="863"/>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5809320" y="5715000"/>
                  <a:ext cx="279360" cy="164160"/>
                </a:xfrm>
                <a:custGeom>
                  <a:avLst/>
                  <a:gdLst/>
                  <a:ahLst/>
                  <a:rect l="l" t="t" r="r" b="b"/>
                  <a:pathLst>
                    <a:path w="2152" h="1334">
                      <a:moveTo>
                        <a:pt x="135" y="1334"/>
                      </a:moveTo>
                      <a:lnTo>
                        <a:pt x="247" y="1148"/>
                      </a:lnTo>
                      <a:lnTo>
                        <a:pt x="197" y="977"/>
                      </a:lnTo>
                      <a:lnTo>
                        <a:pt x="247" y="777"/>
                      </a:lnTo>
                      <a:lnTo>
                        <a:pt x="389" y="676"/>
                      </a:lnTo>
                      <a:lnTo>
                        <a:pt x="382" y="562"/>
                      </a:lnTo>
                      <a:lnTo>
                        <a:pt x="467" y="363"/>
                      </a:lnTo>
                      <a:lnTo>
                        <a:pt x="673" y="277"/>
                      </a:lnTo>
                      <a:lnTo>
                        <a:pt x="857" y="441"/>
                      </a:lnTo>
                      <a:lnTo>
                        <a:pt x="1091" y="306"/>
                      </a:lnTo>
                      <a:lnTo>
                        <a:pt x="1260" y="420"/>
                      </a:lnTo>
                      <a:lnTo>
                        <a:pt x="1372" y="547"/>
                      </a:lnTo>
                      <a:lnTo>
                        <a:pt x="1479" y="534"/>
                      </a:lnTo>
                      <a:lnTo>
                        <a:pt x="1642" y="448"/>
                      </a:lnTo>
                      <a:lnTo>
                        <a:pt x="1720" y="484"/>
                      </a:lnTo>
                      <a:lnTo>
                        <a:pt x="1671" y="690"/>
                      </a:lnTo>
                      <a:lnTo>
                        <a:pt x="1791" y="798"/>
                      </a:lnTo>
                      <a:lnTo>
                        <a:pt x="1954" y="868"/>
                      </a:lnTo>
                      <a:lnTo>
                        <a:pt x="2102" y="769"/>
                      </a:lnTo>
                      <a:lnTo>
                        <a:pt x="1889" y="669"/>
                      </a:lnTo>
                      <a:lnTo>
                        <a:pt x="2061" y="570"/>
                      </a:lnTo>
                      <a:lnTo>
                        <a:pt x="2152" y="441"/>
                      </a:lnTo>
                      <a:lnTo>
                        <a:pt x="1848" y="397"/>
                      </a:lnTo>
                      <a:lnTo>
                        <a:pt x="1656" y="212"/>
                      </a:lnTo>
                      <a:lnTo>
                        <a:pt x="1486" y="262"/>
                      </a:lnTo>
                      <a:lnTo>
                        <a:pt x="1239" y="205"/>
                      </a:lnTo>
                      <a:lnTo>
                        <a:pt x="1182" y="87"/>
                      </a:lnTo>
                      <a:lnTo>
                        <a:pt x="1013" y="155"/>
                      </a:lnTo>
                      <a:lnTo>
                        <a:pt x="707" y="148"/>
                      </a:lnTo>
                      <a:lnTo>
                        <a:pt x="547" y="0"/>
                      </a:lnTo>
                      <a:lnTo>
                        <a:pt x="439" y="41"/>
                      </a:lnTo>
                      <a:lnTo>
                        <a:pt x="502" y="133"/>
                      </a:lnTo>
                      <a:lnTo>
                        <a:pt x="369" y="233"/>
                      </a:lnTo>
                      <a:lnTo>
                        <a:pt x="283" y="368"/>
                      </a:lnTo>
                      <a:lnTo>
                        <a:pt x="325" y="591"/>
                      </a:lnTo>
                      <a:lnTo>
                        <a:pt x="148" y="648"/>
                      </a:lnTo>
                      <a:lnTo>
                        <a:pt x="70" y="690"/>
                      </a:lnTo>
                      <a:lnTo>
                        <a:pt x="57" y="790"/>
                      </a:lnTo>
                      <a:lnTo>
                        <a:pt x="127" y="897"/>
                      </a:lnTo>
                      <a:lnTo>
                        <a:pt x="120" y="997"/>
                      </a:lnTo>
                      <a:lnTo>
                        <a:pt x="7" y="1112"/>
                      </a:lnTo>
                      <a:lnTo>
                        <a:pt x="0" y="1220"/>
                      </a:lnTo>
                      <a:lnTo>
                        <a:pt x="135" y="1334"/>
                      </a:lnTo>
                      <a:lnTo>
                        <a:pt x="135" y="1334"/>
                      </a:lnTo>
                      <a:close/>
                    </a:path>
                  </a:pathLst>
                </a:custGeom>
                <a:solidFill>
                  <a:srgbClr val="c9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5806800" y="5879880"/>
                  <a:ext cx="298440" cy="117720"/>
                </a:xfrm>
                <a:custGeom>
                  <a:avLst/>
                  <a:gdLst/>
                  <a:ahLst/>
                  <a:rect l="l" t="t" r="r" b="b"/>
                  <a:pathLst>
                    <a:path w="2300" h="958">
                      <a:moveTo>
                        <a:pt x="346" y="579"/>
                      </a:moveTo>
                      <a:lnTo>
                        <a:pt x="312" y="722"/>
                      </a:lnTo>
                      <a:lnTo>
                        <a:pt x="616" y="885"/>
                      </a:lnTo>
                      <a:lnTo>
                        <a:pt x="1047" y="958"/>
                      </a:lnTo>
                      <a:lnTo>
                        <a:pt x="1409" y="958"/>
                      </a:lnTo>
                      <a:lnTo>
                        <a:pt x="1755" y="836"/>
                      </a:lnTo>
                      <a:lnTo>
                        <a:pt x="1903" y="878"/>
                      </a:lnTo>
                      <a:lnTo>
                        <a:pt x="1848" y="678"/>
                      </a:lnTo>
                      <a:lnTo>
                        <a:pt x="2137" y="437"/>
                      </a:lnTo>
                      <a:lnTo>
                        <a:pt x="2300" y="0"/>
                      </a:lnTo>
                      <a:lnTo>
                        <a:pt x="2123" y="308"/>
                      </a:lnTo>
                      <a:lnTo>
                        <a:pt x="1840" y="536"/>
                      </a:lnTo>
                      <a:lnTo>
                        <a:pt x="1515" y="701"/>
                      </a:lnTo>
                      <a:lnTo>
                        <a:pt x="1232" y="800"/>
                      </a:lnTo>
                      <a:lnTo>
                        <a:pt x="962" y="764"/>
                      </a:lnTo>
                      <a:lnTo>
                        <a:pt x="587" y="616"/>
                      </a:lnTo>
                      <a:lnTo>
                        <a:pt x="283" y="437"/>
                      </a:lnTo>
                      <a:lnTo>
                        <a:pt x="0" y="173"/>
                      </a:lnTo>
                      <a:lnTo>
                        <a:pt x="167" y="462"/>
                      </a:lnTo>
                      <a:lnTo>
                        <a:pt x="346" y="579"/>
                      </a:lnTo>
                      <a:lnTo>
                        <a:pt x="346" y="579"/>
                      </a:lnTo>
                      <a:close/>
                    </a:path>
                  </a:pathLst>
                </a:custGeom>
                <a:solidFill>
                  <a:srgbClr val="c9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5838120" y="5986440"/>
                  <a:ext cx="251640" cy="190080"/>
                </a:xfrm>
                <a:custGeom>
                  <a:avLst/>
                  <a:gdLst/>
                  <a:ahLst/>
                  <a:rect l="l" t="t" r="r" b="b"/>
                  <a:pathLst>
                    <a:path w="1939" h="1543">
                      <a:moveTo>
                        <a:pt x="42" y="77"/>
                      </a:moveTo>
                      <a:lnTo>
                        <a:pt x="0" y="271"/>
                      </a:lnTo>
                      <a:lnTo>
                        <a:pt x="105" y="243"/>
                      </a:lnTo>
                      <a:lnTo>
                        <a:pt x="190" y="463"/>
                      </a:lnTo>
                      <a:lnTo>
                        <a:pt x="247" y="572"/>
                      </a:lnTo>
                      <a:lnTo>
                        <a:pt x="331" y="543"/>
                      </a:lnTo>
                      <a:lnTo>
                        <a:pt x="409" y="421"/>
                      </a:lnTo>
                      <a:lnTo>
                        <a:pt x="515" y="393"/>
                      </a:lnTo>
                      <a:lnTo>
                        <a:pt x="559" y="585"/>
                      </a:lnTo>
                      <a:lnTo>
                        <a:pt x="622" y="629"/>
                      </a:lnTo>
                      <a:lnTo>
                        <a:pt x="552" y="935"/>
                      </a:lnTo>
                      <a:lnTo>
                        <a:pt x="559" y="1243"/>
                      </a:lnTo>
                      <a:lnTo>
                        <a:pt x="552" y="1399"/>
                      </a:lnTo>
                      <a:lnTo>
                        <a:pt x="580" y="1463"/>
                      </a:lnTo>
                      <a:lnTo>
                        <a:pt x="622" y="1406"/>
                      </a:lnTo>
                      <a:lnTo>
                        <a:pt x="715" y="642"/>
                      </a:lnTo>
                      <a:lnTo>
                        <a:pt x="793" y="556"/>
                      </a:lnTo>
                      <a:lnTo>
                        <a:pt x="877" y="785"/>
                      </a:lnTo>
                      <a:lnTo>
                        <a:pt x="991" y="1507"/>
                      </a:lnTo>
                      <a:lnTo>
                        <a:pt x="1046" y="1543"/>
                      </a:lnTo>
                      <a:lnTo>
                        <a:pt x="1139" y="1463"/>
                      </a:lnTo>
                      <a:lnTo>
                        <a:pt x="1337" y="1250"/>
                      </a:lnTo>
                      <a:lnTo>
                        <a:pt x="1755" y="1478"/>
                      </a:lnTo>
                      <a:lnTo>
                        <a:pt x="1939" y="1456"/>
                      </a:lnTo>
                      <a:lnTo>
                        <a:pt x="1846" y="1349"/>
                      </a:lnTo>
                      <a:lnTo>
                        <a:pt x="1529" y="1178"/>
                      </a:lnTo>
                      <a:lnTo>
                        <a:pt x="1331" y="1077"/>
                      </a:lnTo>
                      <a:lnTo>
                        <a:pt x="1217" y="1113"/>
                      </a:lnTo>
                      <a:lnTo>
                        <a:pt x="1090" y="1279"/>
                      </a:lnTo>
                      <a:lnTo>
                        <a:pt x="970" y="978"/>
                      </a:lnTo>
                      <a:lnTo>
                        <a:pt x="877" y="585"/>
                      </a:lnTo>
                      <a:lnTo>
                        <a:pt x="983" y="600"/>
                      </a:lnTo>
                      <a:lnTo>
                        <a:pt x="1069" y="536"/>
                      </a:lnTo>
                      <a:lnTo>
                        <a:pt x="1139" y="427"/>
                      </a:lnTo>
                      <a:lnTo>
                        <a:pt x="1308" y="549"/>
                      </a:lnTo>
                      <a:lnTo>
                        <a:pt x="1458" y="613"/>
                      </a:lnTo>
                      <a:lnTo>
                        <a:pt x="1514" y="543"/>
                      </a:lnTo>
                      <a:lnTo>
                        <a:pt x="1578" y="364"/>
                      </a:lnTo>
                      <a:lnTo>
                        <a:pt x="1557" y="228"/>
                      </a:lnTo>
                      <a:lnTo>
                        <a:pt x="1337" y="134"/>
                      </a:lnTo>
                      <a:lnTo>
                        <a:pt x="1380" y="399"/>
                      </a:lnTo>
                      <a:lnTo>
                        <a:pt x="1019" y="222"/>
                      </a:lnTo>
                      <a:lnTo>
                        <a:pt x="877" y="393"/>
                      </a:lnTo>
                      <a:lnTo>
                        <a:pt x="728" y="163"/>
                      </a:lnTo>
                      <a:lnTo>
                        <a:pt x="565" y="336"/>
                      </a:lnTo>
                      <a:lnTo>
                        <a:pt x="432" y="77"/>
                      </a:lnTo>
                      <a:lnTo>
                        <a:pt x="198" y="313"/>
                      </a:lnTo>
                      <a:lnTo>
                        <a:pt x="219" y="13"/>
                      </a:lnTo>
                      <a:lnTo>
                        <a:pt x="162" y="0"/>
                      </a:lnTo>
                      <a:lnTo>
                        <a:pt x="42" y="77"/>
                      </a:lnTo>
                      <a:lnTo>
                        <a:pt x="42" y="77"/>
                      </a:lnTo>
                      <a:close/>
                    </a:path>
                  </a:pathLst>
                </a:custGeom>
                <a:solidFill>
                  <a:srgbClr val="c9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5795640" y="6104520"/>
                  <a:ext cx="101160" cy="58680"/>
                </a:xfrm>
                <a:custGeom>
                  <a:avLst/>
                  <a:gdLst/>
                  <a:ahLst/>
                  <a:rect l="l" t="t" r="r" b="b"/>
                  <a:pathLst>
                    <a:path w="780" h="477">
                      <a:moveTo>
                        <a:pt x="0" y="435"/>
                      </a:moveTo>
                      <a:lnTo>
                        <a:pt x="143" y="326"/>
                      </a:lnTo>
                      <a:lnTo>
                        <a:pt x="344" y="161"/>
                      </a:lnTo>
                      <a:lnTo>
                        <a:pt x="559" y="0"/>
                      </a:lnTo>
                      <a:lnTo>
                        <a:pt x="673" y="34"/>
                      </a:lnTo>
                      <a:lnTo>
                        <a:pt x="723" y="249"/>
                      </a:lnTo>
                      <a:lnTo>
                        <a:pt x="780" y="363"/>
                      </a:lnTo>
                      <a:lnTo>
                        <a:pt x="666" y="277"/>
                      </a:lnTo>
                      <a:lnTo>
                        <a:pt x="554" y="106"/>
                      </a:lnTo>
                      <a:lnTo>
                        <a:pt x="426" y="292"/>
                      </a:lnTo>
                      <a:lnTo>
                        <a:pt x="177" y="441"/>
                      </a:lnTo>
                      <a:lnTo>
                        <a:pt x="78" y="477"/>
                      </a:lnTo>
                      <a:lnTo>
                        <a:pt x="0" y="435"/>
                      </a:lnTo>
                      <a:lnTo>
                        <a:pt x="0" y="435"/>
                      </a:lnTo>
                      <a:close/>
                    </a:path>
                  </a:pathLst>
                </a:custGeom>
                <a:solidFill>
                  <a:srgbClr val="c94d4d"/>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06" name=""/>
                <p:cNvSpPr/>
                <p:nvPr/>
              </p:nvSpPr>
              <p:spPr>
                <a:xfrm>
                  <a:off x="6046200" y="5839920"/>
                  <a:ext cx="43920" cy="36000"/>
                </a:xfrm>
                <a:custGeom>
                  <a:avLst/>
                  <a:gdLst/>
                  <a:ahLst/>
                  <a:rect l="l" t="t" r="r" b="b"/>
                  <a:pathLst>
                    <a:path w="340" h="293">
                      <a:moveTo>
                        <a:pt x="55" y="0"/>
                      </a:moveTo>
                      <a:lnTo>
                        <a:pt x="289" y="99"/>
                      </a:lnTo>
                      <a:lnTo>
                        <a:pt x="340" y="160"/>
                      </a:lnTo>
                      <a:lnTo>
                        <a:pt x="327" y="200"/>
                      </a:lnTo>
                      <a:lnTo>
                        <a:pt x="205" y="293"/>
                      </a:lnTo>
                      <a:lnTo>
                        <a:pt x="224" y="208"/>
                      </a:lnTo>
                      <a:lnTo>
                        <a:pt x="40" y="154"/>
                      </a:lnTo>
                      <a:lnTo>
                        <a:pt x="0" y="75"/>
                      </a:lnTo>
                      <a:lnTo>
                        <a:pt x="55" y="0"/>
                      </a:lnTo>
                      <a:lnTo>
                        <a:pt x="55" y="0"/>
                      </a:lnTo>
                      <a:close/>
                    </a:path>
                  </a:pathLst>
                </a:custGeom>
                <a:solidFill>
                  <a:srgbClr val="c94d4d"/>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707" name=""/>
                <p:cNvSpPr/>
                <p:nvPr/>
              </p:nvSpPr>
              <p:spPr>
                <a:xfrm>
                  <a:off x="5818320" y="5954040"/>
                  <a:ext cx="252360" cy="92160"/>
                </a:xfrm>
                <a:custGeom>
                  <a:avLst/>
                  <a:gdLst/>
                  <a:ahLst/>
                  <a:rect l="l" t="t" r="r" b="b"/>
                  <a:pathLst>
                    <a:path w="1945" h="749">
                      <a:moveTo>
                        <a:pt x="287" y="36"/>
                      </a:moveTo>
                      <a:lnTo>
                        <a:pt x="264" y="80"/>
                      </a:lnTo>
                      <a:lnTo>
                        <a:pt x="244" y="120"/>
                      </a:lnTo>
                      <a:lnTo>
                        <a:pt x="221" y="158"/>
                      </a:lnTo>
                      <a:lnTo>
                        <a:pt x="198" y="194"/>
                      </a:lnTo>
                      <a:lnTo>
                        <a:pt x="152" y="265"/>
                      </a:lnTo>
                      <a:lnTo>
                        <a:pt x="103" y="337"/>
                      </a:lnTo>
                      <a:lnTo>
                        <a:pt x="181" y="310"/>
                      </a:lnTo>
                      <a:lnTo>
                        <a:pt x="268" y="263"/>
                      </a:lnTo>
                      <a:lnTo>
                        <a:pt x="308" y="242"/>
                      </a:lnTo>
                      <a:lnTo>
                        <a:pt x="360" y="238"/>
                      </a:lnTo>
                      <a:lnTo>
                        <a:pt x="382" y="272"/>
                      </a:lnTo>
                      <a:lnTo>
                        <a:pt x="407" y="287"/>
                      </a:lnTo>
                      <a:lnTo>
                        <a:pt x="409" y="316"/>
                      </a:lnTo>
                      <a:lnTo>
                        <a:pt x="394" y="542"/>
                      </a:lnTo>
                      <a:lnTo>
                        <a:pt x="432" y="496"/>
                      </a:lnTo>
                      <a:lnTo>
                        <a:pt x="470" y="451"/>
                      </a:lnTo>
                      <a:lnTo>
                        <a:pt x="508" y="399"/>
                      </a:lnTo>
                      <a:lnTo>
                        <a:pt x="553" y="342"/>
                      </a:lnTo>
                      <a:lnTo>
                        <a:pt x="584" y="323"/>
                      </a:lnTo>
                      <a:lnTo>
                        <a:pt x="616" y="342"/>
                      </a:lnTo>
                      <a:lnTo>
                        <a:pt x="643" y="417"/>
                      </a:lnTo>
                      <a:lnTo>
                        <a:pt x="669" y="517"/>
                      </a:lnTo>
                      <a:lnTo>
                        <a:pt x="696" y="605"/>
                      </a:lnTo>
                      <a:lnTo>
                        <a:pt x="723" y="552"/>
                      </a:lnTo>
                      <a:lnTo>
                        <a:pt x="749" y="498"/>
                      </a:lnTo>
                      <a:lnTo>
                        <a:pt x="778" y="443"/>
                      </a:lnTo>
                      <a:lnTo>
                        <a:pt x="808" y="380"/>
                      </a:lnTo>
                      <a:lnTo>
                        <a:pt x="821" y="363"/>
                      </a:lnTo>
                      <a:lnTo>
                        <a:pt x="837" y="356"/>
                      </a:lnTo>
                      <a:lnTo>
                        <a:pt x="869" y="371"/>
                      </a:lnTo>
                      <a:lnTo>
                        <a:pt x="905" y="420"/>
                      </a:lnTo>
                      <a:lnTo>
                        <a:pt x="924" y="472"/>
                      </a:lnTo>
                      <a:lnTo>
                        <a:pt x="943" y="527"/>
                      </a:lnTo>
                      <a:lnTo>
                        <a:pt x="972" y="582"/>
                      </a:lnTo>
                      <a:lnTo>
                        <a:pt x="1034" y="654"/>
                      </a:lnTo>
                      <a:lnTo>
                        <a:pt x="1074" y="550"/>
                      </a:lnTo>
                      <a:lnTo>
                        <a:pt x="1097" y="498"/>
                      </a:lnTo>
                      <a:lnTo>
                        <a:pt x="1129" y="445"/>
                      </a:lnTo>
                      <a:lnTo>
                        <a:pt x="1154" y="426"/>
                      </a:lnTo>
                      <a:lnTo>
                        <a:pt x="1183" y="434"/>
                      </a:lnTo>
                      <a:lnTo>
                        <a:pt x="1230" y="464"/>
                      </a:lnTo>
                      <a:lnTo>
                        <a:pt x="1272" y="493"/>
                      </a:lnTo>
                      <a:lnTo>
                        <a:pt x="1312" y="519"/>
                      </a:lnTo>
                      <a:lnTo>
                        <a:pt x="1348" y="546"/>
                      </a:lnTo>
                      <a:lnTo>
                        <a:pt x="1386" y="569"/>
                      </a:lnTo>
                      <a:lnTo>
                        <a:pt x="1424" y="593"/>
                      </a:lnTo>
                      <a:lnTo>
                        <a:pt x="1466" y="616"/>
                      </a:lnTo>
                      <a:lnTo>
                        <a:pt x="1512" y="639"/>
                      </a:lnTo>
                      <a:lnTo>
                        <a:pt x="1498" y="540"/>
                      </a:lnTo>
                      <a:lnTo>
                        <a:pt x="1462" y="441"/>
                      </a:lnTo>
                      <a:lnTo>
                        <a:pt x="1458" y="409"/>
                      </a:lnTo>
                      <a:lnTo>
                        <a:pt x="1477" y="384"/>
                      </a:lnTo>
                      <a:lnTo>
                        <a:pt x="1565" y="373"/>
                      </a:lnTo>
                      <a:lnTo>
                        <a:pt x="1629" y="403"/>
                      </a:lnTo>
                      <a:lnTo>
                        <a:pt x="1698" y="428"/>
                      </a:lnTo>
                      <a:lnTo>
                        <a:pt x="1766" y="445"/>
                      </a:lnTo>
                      <a:lnTo>
                        <a:pt x="1835" y="445"/>
                      </a:lnTo>
                      <a:lnTo>
                        <a:pt x="1806" y="323"/>
                      </a:lnTo>
                      <a:lnTo>
                        <a:pt x="1791" y="265"/>
                      </a:lnTo>
                      <a:lnTo>
                        <a:pt x="1770" y="198"/>
                      </a:lnTo>
                      <a:lnTo>
                        <a:pt x="1780" y="177"/>
                      </a:lnTo>
                      <a:lnTo>
                        <a:pt x="1801" y="187"/>
                      </a:lnTo>
                      <a:lnTo>
                        <a:pt x="1837" y="263"/>
                      </a:lnTo>
                      <a:lnTo>
                        <a:pt x="1875" y="329"/>
                      </a:lnTo>
                      <a:lnTo>
                        <a:pt x="1945" y="472"/>
                      </a:lnTo>
                      <a:lnTo>
                        <a:pt x="1943" y="517"/>
                      </a:lnTo>
                      <a:lnTo>
                        <a:pt x="1905" y="536"/>
                      </a:lnTo>
                      <a:lnTo>
                        <a:pt x="1785" y="533"/>
                      </a:lnTo>
                      <a:lnTo>
                        <a:pt x="1675" y="493"/>
                      </a:lnTo>
                      <a:lnTo>
                        <a:pt x="1591" y="474"/>
                      </a:lnTo>
                      <a:lnTo>
                        <a:pt x="1607" y="582"/>
                      </a:lnTo>
                      <a:lnTo>
                        <a:pt x="1589" y="704"/>
                      </a:lnTo>
                      <a:lnTo>
                        <a:pt x="1572" y="738"/>
                      </a:lnTo>
                      <a:lnTo>
                        <a:pt x="1534" y="736"/>
                      </a:lnTo>
                      <a:lnTo>
                        <a:pt x="1215" y="584"/>
                      </a:lnTo>
                      <a:lnTo>
                        <a:pt x="1181" y="624"/>
                      </a:lnTo>
                      <a:lnTo>
                        <a:pt x="1143" y="652"/>
                      </a:lnTo>
                      <a:lnTo>
                        <a:pt x="1069" y="728"/>
                      </a:lnTo>
                      <a:lnTo>
                        <a:pt x="1044" y="749"/>
                      </a:lnTo>
                      <a:lnTo>
                        <a:pt x="1015" y="732"/>
                      </a:lnTo>
                      <a:lnTo>
                        <a:pt x="972" y="675"/>
                      </a:lnTo>
                      <a:lnTo>
                        <a:pt x="928" y="614"/>
                      </a:lnTo>
                      <a:lnTo>
                        <a:pt x="869" y="521"/>
                      </a:lnTo>
                      <a:lnTo>
                        <a:pt x="831" y="572"/>
                      </a:lnTo>
                      <a:lnTo>
                        <a:pt x="789" y="610"/>
                      </a:lnTo>
                      <a:lnTo>
                        <a:pt x="711" y="711"/>
                      </a:lnTo>
                      <a:lnTo>
                        <a:pt x="696" y="730"/>
                      </a:lnTo>
                      <a:lnTo>
                        <a:pt x="679" y="732"/>
                      </a:lnTo>
                      <a:lnTo>
                        <a:pt x="654" y="702"/>
                      </a:lnTo>
                      <a:lnTo>
                        <a:pt x="637" y="637"/>
                      </a:lnTo>
                      <a:lnTo>
                        <a:pt x="612" y="593"/>
                      </a:lnTo>
                      <a:lnTo>
                        <a:pt x="563" y="483"/>
                      </a:lnTo>
                      <a:lnTo>
                        <a:pt x="515" y="538"/>
                      </a:lnTo>
                      <a:lnTo>
                        <a:pt x="475" y="576"/>
                      </a:lnTo>
                      <a:lnTo>
                        <a:pt x="434" y="614"/>
                      </a:lnTo>
                      <a:lnTo>
                        <a:pt x="409" y="639"/>
                      </a:lnTo>
                      <a:lnTo>
                        <a:pt x="379" y="671"/>
                      </a:lnTo>
                      <a:lnTo>
                        <a:pt x="356" y="686"/>
                      </a:lnTo>
                      <a:lnTo>
                        <a:pt x="333" y="685"/>
                      </a:lnTo>
                      <a:lnTo>
                        <a:pt x="314" y="641"/>
                      </a:lnTo>
                      <a:lnTo>
                        <a:pt x="333" y="314"/>
                      </a:lnTo>
                      <a:lnTo>
                        <a:pt x="270" y="344"/>
                      </a:lnTo>
                      <a:lnTo>
                        <a:pt x="240" y="365"/>
                      </a:lnTo>
                      <a:lnTo>
                        <a:pt x="204" y="382"/>
                      </a:lnTo>
                      <a:lnTo>
                        <a:pt x="118" y="407"/>
                      </a:lnTo>
                      <a:lnTo>
                        <a:pt x="31" y="411"/>
                      </a:lnTo>
                      <a:lnTo>
                        <a:pt x="0" y="403"/>
                      </a:lnTo>
                      <a:lnTo>
                        <a:pt x="12" y="377"/>
                      </a:lnTo>
                      <a:lnTo>
                        <a:pt x="44" y="327"/>
                      </a:lnTo>
                      <a:lnTo>
                        <a:pt x="72" y="282"/>
                      </a:lnTo>
                      <a:lnTo>
                        <a:pt x="101" y="236"/>
                      </a:lnTo>
                      <a:lnTo>
                        <a:pt x="128" y="192"/>
                      </a:lnTo>
                      <a:lnTo>
                        <a:pt x="152" y="147"/>
                      </a:lnTo>
                      <a:lnTo>
                        <a:pt x="179" y="101"/>
                      </a:lnTo>
                      <a:lnTo>
                        <a:pt x="230" y="0"/>
                      </a:lnTo>
                      <a:lnTo>
                        <a:pt x="266" y="4"/>
                      </a:lnTo>
                      <a:lnTo>
                        <a:pt x="287" y="36"/>
                      </a:lnTo>
                      <a:lnTo>
                        <a:pt x="287" y="36"/>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8" name=""/>
                <p:cNvSpPr/>
                <p:nvPr/>
              </p:nvSpPr>
              <p:spPr>
                <a:xfrm>
                  <a:off x="5791680" y="5990040"/>
                  <a:ext cx="61200" cy="164520"/>
                </a:xfrm>
                <a:custGeom>
                  <a:avLst/>
                  <a:gdLst/>
                  <a:ahLst/>
                  <a:rect l="l" t="t" r="r" b="b"/>
                  <a:pathLst>
                    <a:path w="473" h="1334">
                      <a:moveTo>
                        <a:pt x="473" y="53"/>
                      </a:moveTo>
                      <a:lnTo>
                        <a:pt x="460" y="103"/>
                      </a:lnTo>
                      <a:lnTo>
                        <a:pt x="437" y="198"/>
                      </a:lnTo>
                      <a:lnTo>
                        <a:pt x="414" y="300"/>
                      </a:lnTo>
                      <a:lnTo>
                        <a:pt x="401" y="367"/>
                      </a:lnTo>
                      <a:lnTo>
                        <a:pt x="369" y="481"/>
                      </a:lnTo>
                      <a:lnTo>
                        <a:pt x="342" y="578"/>
                      </a:lnTo>
                      <a:lnTo>
                        <a:pt x="300" y="739"/>
                      </a:lnTo>
                      <a:lnTo>
                        <a:pt x="277" y="817"/>
                      </a:lnTo>
                      <a:lnTo>
                        <a:pt x="253" y="899"/>
                      </a:lnTo>
                      <a:lnTo>
                        <a:pt x="219" y="992"/>
                      </a:lnTo>
                      <a:lnTo>
                        <a:pt x="198" y="1043"/>
                      </a:lnTo>
                      <a:lnTo>
                        <a:pt x="175" y="1102"/>
                      </a:lnTo>
                      <a:lnTo>
                        <a:pt x="142" y="1165"/>
                      </a:lnTo>
                      <a:lnTo>
                        <a:pt x="106" y="1216"/>
                      </a:lnTo>
                      <a:lnTo>
                        <a:pt x="68" y="1268"/>
                      </a:lnTo>
                      <a:lnTo>
                        <a:pt x="28" y="1329"/>
                      </a:lnTo>
                      <a:lnTo>
                        <a:pt x="6" y="1334"/>
                      </a:lnTo>
                      <a:lnTo>
                        <a:pt x="0" y="1311"/>
                      </a:lnTo>
                      <a:lnTo>
                        <a:pt x="106" y="1068"/>
                      </a:lnTo>
                      <a:lnTo>
                        <a:pt x="150" y="954"/>
                      </a:lnTo>
                      <a:lnTo>
                        <a:pt x="184" y="848"/>
                      </a:lnTo>
                      <a:lnTo>
                        <a:pt x="232" y="648"/>
                      </a:lnTo>
                      <a:lnTo>
                        <a:pt x="253" y="549"/>
                      </a:lnTo>
                      <a:lnTo>
                        <a:pt x="276" y="447"/>
                      </a:lnTo>
                      <a:lnTo>
                        <a:pt x="300" y="338"/>
                      </a:lnTo>
                      <a:lnTo>
                        <a:pt x="334" y="220"/>
                      </a:lnTo>
                      <a:lnTo>
                        <a:pt x="365" y="82"/>
                      </a:lnTo>
                      <a:lnTo>
                        <a:pt x="378" y="53"/>
                      </a:lnTo>
                      <a:lnTo>
                        <a:pt x="397" y="25"/>
                      </a:lnTo>
                      <a:lnTo>
                        <a:pt x="420" y="0"/>
                      </a:lnTo>
                      <a:lnTo>
                        <a:pt x="450" y="0"/>
                      </a:lnTo>
                      <a:lnTo>
                        <a:pt x="473" y="21"/>
                      </a:lnTo>
                      <a:lnTo>
                        <a:pt x="473" y="53"/>
                      </a:lnTo>
                      <a:lnTo>
                        <a:pt x="473"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5803200" y="6113520"/>
                  <a:ext cx="73800" cy="50760"/>
                </a:xfrm>
                <a:custGeom>
                  <a:avLst/>
                  <a:gdLst/>
                  <a:ahLst/>
                  <a:rect l="l" t="t" r="r" b="b"/>
                  <a:pathLst>
                    <a:path w="571" h="410">
                      <a:moveTo>
                        <a:pt x="15" y="376"/>
                      </a:moveTo>
                      <a:lnTo>
                        <a:pt x="67" y="365"/>
                      </a:lnTo>
                      <a:lnTo>
                        <a:pt x="105" y="334"/>
                      </a:lnTo>
                      <a:lnTo>
                        <a:pt x="139" y="296"/>
                      </a:lnTo>
                      <a:lnTo>
                        <a:pt x="160" y="277"/>
                      </a:lnTo>
                      <a:lnTo>
                        <a:pt x="181" y="258"/>
                      </a:lnTo>
                      <a:lnTo>
                        <a:pt x="240" y="213"/>
                      </a:lnTo>
                      <a:lnTo>
                        <a:pt x="301" y="169"/>
                      </a:lnTo>
                      <a:lnTo>
                        <a:pt x="329" y="144"/>
                      </a:lnTo>
                      <a:lnTo>
                        <a:pt x="358" y="125"/>
                      </a:lnTo>
                      <a:lnTo>
                        <a:pt x="409" y="89"/>
                      </a:lnTo>
                      <a:lnTo>
                        <a:pt x="458" y="51"/>
                      </a:lnTo>
                      <a:lnTo>
                        <a:pt x="512" y="0"/>
                      </a:lnTo>
                      <a:lnTo>
                        <a:pt x="529" y="7"/>
                      </a:lnTo>
                      <a:lnTo>
                        <a:pt x="550" y="40"/>
                      </a:lnTo>
                      <a:lnTo>
                        <a:pt x="571" y="102"/>
                      </a:lnTo>
                      <a:lnTo>
                        <a:pt x="548" y="137"/>
                      </a:lnTo>
                      <a:lnTo>
                        <a:pt x="527" y="161"/>
                      </a:lnTo>
                      <a:lnTo>
                        <a:pt x="481" y="192"/>
                      </a:lnTo>
                      <a:lnTo>
                        <a:pt x="371" y="260"/>
                      </a:lnTo>
                      <a:lnTo>
                        <a:pt x="308" y="308"/>
                      </a:lnTo>
                      <a:lnTo>
                        <a:pt x="249" y="353"/>
                      </a:lnTo>
                      <a:lnTo>
                        <a:pt x="192" y="384"/>
                      </a:lnTo>
                      <a:lnTo>
                        <a:pt x="137" y="401"/>
                      </a:lnTo>
                      <a:lnTo>
                        <a:pt x="15" y="410"/>
                      </a:lnTo>
                      <a:lnTo>
                        <a:pt x="0" y="393"/>
                      </a:lnTo>
                      <a:lnTo>
                        <a:pt x="4" y="382"/>
                      </a:lnTo>
                      <a:lnTo>
                        <a:pt x="15" y="376"/>
                      </a:lnTo>
                      <a:lnTo>
                        <a:pt x="15" y="37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10" name=""/>
                <p:cNvSpPr/>
                <p:nvPr/>
              </p:nvSpPr>
              <p:spPr>
                <a:xfrm>
                  <a:off x="5867640" y="6113520"/>
                  <a:ext cx="44640" cy="51480"/>
                </a:xfrm>
                <a:custGeom>
                  <a:avLst/>
                  <a:gdLst/>
                  <a:ahLst/>
                  <a:rect l="l" t="t" r="r" b="b"/>
                  <a:pathLst>
                    <a:path w="345" h="420">
                      <a:moveTo>
                        <a:pt x="65" y="13"/>
                      </a:moveTo>
                      <a:lnTo>
                        <a:pt x="120" y="89"/>
                      </a:lnTo>
                      <a:lnTo>
                        <a:pt x="189" y="192"/>
                      </a:lnTo>
                      <a:lnTo>
                        <a:pt x="230" y="245"/>
                      </a:lnTo>
                      <a:lnTo>
                        <a:pt x="263" y="298"/>
                      </a:lnTo>
                      <a:lnTo>
                        <a:pt x="297" y="348"/>
                      </a:lnTo>
                      <a:lnTo>
                        <a:pt x="318" y="370"/>
                      </a:lnTo>
                      <a:lnTo>
                        <a:pt x="343" y="395"/>
                      </a:lnTo>
                      <a:lnTo>
                        <a:pt x="345" y="418"/>
                      </a:lnTo>
                      <a:lnTo>
                        <a:pt x="322" y="420"/>
                      </a:lnTo>
                      <a:lnTo>
                        <a:pt x="293" y="397"/>
                      </a:lnTo>
                      <a:lnTo>
                        <a:pt x="267" y="378"/>
                      </a:lnTo>
                      <a:lnTo>
                        <a:pt x="213" y="340"/>
                      </a:lnTo>
                      <a:lnTo>
                        <a:pt x="160" y="302"/>
                      </a:lnTo>
                      <a:lnTo>
                        <a:pt x="111" y="252"/>
                      </a:lnTo>
                      <a:lnTo>
                        <a:pt x="31" y="129"/>
                      </a:lnTo>
                      <a:lnTo>
                        <a:pt x="4" y="49"/>
                      </a:lnTo>
                      <a:lnTo>
                        <a:pt x="0" y="21"/>
                      </a:lnTo>
                      <a:lnTo>
                        <a:pt x="16" y="0"/>
                      </a:lnTo>
                      <a:lnTo>
                        <a:pt x="65" y="13"/>
                      </a:lnTo>
                      <a:lnTo>
                        <a:pt x="65" y="13"/>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sp>
              <p:nvSpPr>
                <p:cNvPr id="711" name=""/>
                <p:cNvSpPr/>
                <p:nvPr/>
              </p:nvSpPr>
              <p:spPr>
                <a:xfrm>
                  <a:off x="5916600" y="6017400"/>
                  <a:ext cx="27360" cy="145440"/>
                </a:xfrm>
                <a:custGeom>
                  <a:avLst/>
                  <a:gdLst/>
                  <a:ahLst/>
                  <a:rect l="l" t="t" r="r" b="b"/>
                  <a:pathLst>
                    <a:path w="213" h="1183">
                      <a:moveTo>
                        <a:pt x="213" y="137"/>
                      </a:moveTo>
                      <a:lnTo>
                        <a:pt x="186" y="295"/>
                      </a:lnTo>
                      <a:lnTo>
                        <a:pt x="156" y="434"/>
                      </a:lnTo>
                      <a:lnTo>
                        <a:pt x="99" y="730"/>
                      </a:lnTo>
                      <a:lnTo>
                        <a:pt x="36" y="1145"/>
                      </a:lnTo>
                      <a:lnTo>
                        <a:pt x="28" y="1171"/>
                      </a:lnTo>
                      <a:lnTo>
                        <a:pt x="15" y="1183"/>
                      </a:lnTo>
                      <a:lnTo>
                        <a:pt x="0" y="1156"/>
                      </a:lnTo>
                      <a:lnTo>
                        <a:pt x="13" y="715"/>
                      </a:lnTo>
                      <a:lnTo>
                        <a:pt x="40" y="542"/>
                      </a:lnTo>
                      <a:lnTo>
                        <a:pt x="74" y="367"/>
                      </a:lnTo>
                      <a:lnTo>
                        <a:pt x="108" y="192"/>
                      </a:lnTo>
                      <a:lnTo>
                        <a:pt x="137" y="19"/>
                      </a:lnTo>
                      <a:lnTo>
                        <a:pt x="152" y="0"/>
                      </a:lnTo>
                      <a:lnTo>
                        <a:pt x="180" y="27"/>
                      </a:lnTo>
                      <a:lnTo>
                        <a:pt x="213" y="137"/>
                      </a:lnTo>
                      <a:lnTo>
                        <a:pt x="213"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a:off x="5932800" y="6039000"/>
                  <a:ext cx="34920" cy="133560"/>
                </a:xfrm>
                <a:custGeom>
                  <a:avLst/>
                  <a:gdLst/>
                  <a:ahLst/>
                  <a:rect l="l" t="t" r="r" b="b"/>
                  <a:pathLst>
                    <a:path w="270" h="1084">
                      <a:moveTo>
                        <a:pt x="65" y="33"/>
                      </a:moveTo>
                      <a:lnTo>
                        <a:pt x="88" y="97"/>
                      </a:lnTo>
                      <a:lnTo>
                        <a:pt x="209" y="456"/>
                      </a:lnTo>
                      <a:lnTo>
                        <a:pt x="247" y="759"/>
                      </a:lnTo>
                      <a:lnTo>
                        <a:pt x="270" y="1067"/>
                      </a:lnTo>
                      <a:lnTo>
                        <a:pt x="255" y="1084"/>
                      </a:lnTo>
                      <a:lnTo>
                        <a:pt x="238" y="1069"/>
                      </a:lnTo>
                      <a:lnTo>
                        <a:pt x="219" y="907"/>
                      </a:lnTo>
                      <a:lnTo>
                        <a:pt x="190" y="768"/>
                      </a:lnTo>
                      <a:lnTo>
                        <a:pt x="160" y="628"/>
                      </a:lnTo>
                      <a:lnTo>
                        <a:pt x="131" y="470"/>
                      </a:lnTo>
                      <a:lnTo>
                        <a:pt x="111" y="375"/>
                      </a:lnTo>
                      <a:lnTo>
                        <a:pt x="84" y="295"/>
                      </a:lnTo>
                      <a:lnTo>
                        <a:pt x="52" y="215"/>
                      </a:lnTo>
                      <a:lnTo>
                        <a:pt x="12" y="126"/>
                      </a:lnTo>
                      <a:lnTo>
                        <a:pt x="0" y="33"/>
                      </a:lnTo>
                      <a:lnTo>
                        <a:pt x="12" y="8"/>
                      </a:lnTo>
                      <a:lnTo>
                        <a:pt x="33" y="0"/>
                      </a:lnTo>
                      <a:lnTo>
                        <a:pt x="55" y="8"/>
                      </a:lnTo>
                      <a:lnTo>
                        <a:pt x="65" y="33"/>
                      </a:lnTo>
                      <a:lnTo>
                        <a:pt x="65"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a:off x="5980680" y="6127920"/>
                  <a:ext cx="104400" cy="45720"/>
                </a:xfrm>
                <a:custGeom>
                  <a:avLst/>
                  <a:gdLst/>
                  <a:ahLst/>
                  <a:rect l="l" t="t" r="r" b="b"/>
                  <a:pathLst>
                    <a:path w="804" h="370">
                      <a:moveTo>
                        <a:pt x="0" y="347"/>
                      </a:moveTo>
                      <a:lnTo>
                        <a:pt x="21" y="313"/>
                      </a:lnTo>
                      <a:lnTo>
                        <a:pt x="48" y="275"/>
                      </a:lnTo>
                      <a:lnTo>
                        <a:pt x="80" y="235"/>
                      </a:lnTo>
                      <a:lnTo>
                        <a:pt x="112" y="193"/>
                      </a:lnTo>
                      <a:lnTo>
                        <a:pt x="146" y="150"/>
                      </a:lnTo>
                      <a:lnTo>
                        <a:pt x="179" y="110"/>
                      </a:lnTo>
                      <a:lnTo>
                        <a:pt x="226" y="38"/>
                      </a:lnTo>
                      <a:lnTo>
                        <a:pt x="249" y="9"/>
                      </a:lnTo>
                      <a:lnTo>
                        <a:pt x="276" y="0"/>
                      </a:lnTo>
                      <a:lnTo>
                        <a:pt x="300" y="11"/>
                      </a:lnTo>
                      <a:lnTo>
                        <a:pt x="321" y="41"/>
                      </a:lnTo>
                      <a:lnTo>
                        <a:pt x="342" y="76"/>
                      </a:lnTo>
                      <a:lnTo>
                        <a:pt x="371" y="98"/>
                      </a:lnTo>
                      <a:lnTo>
                        <a:pt x="441" y="142"/>
                      </a:lnTo>
                      <a:lnTo>
                        <a:pt x="485" y="169"/>
                      </a:lnTo>
                      <a:lnTo>
                        <a:pt x="527" y="190"/>
                      </a:lnTo>
                      <a:lnTo>
                        <a:pt x="618" y="224"/>
                      </a:lnTo>
                      <a:lnTo>
                        <a:pt x="702" y="268"/>
                      </a:lnTo>
                      <a:lnTo>
                        <a:pt x="742" y="287"/>
                      </a:lnTo>
                      <a:lnTo>
                        <a:pt x="789" y="294"/>
                      </a:lnTo>
                      <a:lnTo>
                        <a:pt x="804" y="311"/>
                      </a:lnTo>
                      <a:lnTo>
                        <a:pt x="800" y="323"/>
                      </a:lnTo>
                      <a:lnTo>
                        <a:pt x="789" y="327"/>
                      </a:lnTo>
                      <a:lnTo>
                        <a:pt x="683" y="344"/>
                      </a:lnTo>
                      <a:lnTo>
                        <a:pt x="578" y="340"/>
                      </a:lnTo>
                      <a:lnTo>
                        <a:pt x="373" y="243"/>
                      </a:lnTo>
                      <a:lnTo>
                        <a:pt x="316" y="201"/>
                      </a:lnTo>
                      <a:lnTo>
                        <a:pt x="270" y="157"/>
                      </a:lnTo>
                      <a:lnTo>
                        <a:pt x="249" y="174"/>
                      </a:lnTo>
                      <a:lnTo>
                        <a:pt x="221" y="199"/>
                      </a:lnTo>
                      <a:lnTo>
                        <a:pt x="183" y="226"/>
                      </a:lnTo>
                      <a:lnTo>
                        <a:pt x="145" y="254"/>
                      </a:lnTo>
                      <a:lnTo>
                        <a:pt x="105" y="285"/>
                      </a:lnTo>
                      <a:lnTo>
                        <a:pt x="70" y="313"/>
                      </a:lnTo>
                      <a:lnTo>
                        <a:pt x="25" y="365"/>
                      </a:lnTo>
                      <a:lnTo>
                        <a:pt x="4" y="370"/>
                      </a:lnTo>
                      <a:lnTo>
                        <a:pt x="0" y="347"/>
                      </a:lnTo>
                      <a:lnTo>
                        <a:pt x="0" y="347"/>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714" name=""/>
                <p:cNvSpPr/>
                <p:nvPr/>
              </p:nvSpPr>
              <p:spPr>
                <a:xfrm>
                  <a:off x="6036120" y="6011280"/>
                  <a:ext cx="52920" cy="144360"/>
                </a:xfrm>
                <a:custGeom>
                  <a:avLst/>
                  <a:gdLst/>
                  <a:ahLst/>
                  <a:rect l="l" t="t" r="r" b="b"/>
                  <a:pathLst>
                    <a:path w="410" h="1173">
                      <a:moveTo>
                        <a:pt x="28" y="8"/>
                      </a:moveTo>
                      <a:lnTo>
                        <a:pt x="80" y="112"/>
                      </a:lnTo>
                      <a:lnTo>
                        <a:pt x="118" y="220"/>
                      </a:lnTo>
                      <a:lnTo>
                        <a:pt x="141" y="297"/>
                      </a:lnTo>
                      <a:lnTo>
                        <a:pt x="165" y="365"/>
                      </a:lnTo>
                      <a:lnTo>
                        <a:pt x="209" y="489"/>
                      </a:lnTo>
                      <a:lnTo>
                        <a:pt x="251" y="612"/>
                      </a:lnTo>
                      <a:lnTo>
                        <a:pt x="287" y="758"/>
                      </a:lnTo>
                      <a:lnTo>
                        <a:pt x="340" y="907"/>
                      </a:lnTo>
                      <a:lnTo>
                        <a:pt x="371" y="1030"/>
                      </a:lnTo>
                      <a:lnTo>
                        <a:pt x="382" y="1089"/>
                      </a:lnTo>
                      <a:lnTo>
                        <a:pt x="410" y="1150"/>
                      </a:lnTo>
                      <a:lnTo>
                        <a:pt x="405" y="1173"/>
                      </a:lnTo>
                      <a:lnTo>
                        <a:pt x="382" y="1167"/>
                      </a:lnTo>
                      <a:lnTo>
                        <a:pt x="344" y="1110"/>
                      </a:lnTo>
                      <a:lnTo>
                        <a:pt x="306" y="1059"/>
                      </a:lnTo>
                      <a:lnTo>
                        <a:pt x="270" y="1009"/>
                      </a:lnTo>
                      <a:lnTo>
                        <a:pt x="237" y="949"/>
                      </a:lnTo>
                      <a:lnTo>
                        <a:pt x="182" y="789"/>
                      </a:lnTo>
                      <a:lnTo>
                        <a:pt x="148" y="642"/>
                      </a:lnTo>
                      <a:lnTo>
                        <a:pt x="114" y="515"/>
                      </a:lnTo>
                      <a:lnTo>
                        <a:pt x="78" y="388"/>
                      </a:lnTo>
                      <a:lnTo>
                        <a:pt x="57" y="319"/>
                      </a:lnTo>
                      <a:lnTo>
                        <a:pt x="36" y="243"/>
                      </a:lnTo>
                      <a:lnTo>
                        <a:pt x="0" y="23"/>
                      </a:lnTo>
                      <a:lnTo>
                        <a:pt x="7" y="0"/>
                      </a:lnTo>
                      <a:lnTo>
                        <a:pt x="28" y="8"/>
                      </a:lnTo>
                      <a:lnTo>
                        <a:pt x="2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5981400" y="5766120"/>
                  <a:ext cx="135000" cy="216360"/>
                </a:xfrm>
                <a:custGeom>
                  <a:avLst/>
                  <a:gdLst/>
                  <a:ahLst/>
                  <a:rect l="l" t="t" r="r" b="b"/>
                  <a:pathLst>
                    <a:path w="1040" h="1758">
                      <a:moveTo>
                        <a:pt x="861" y="2"/>
                      </a:moveTo>
                      <a:lnTo>
                        <a:pt x="907" y="101"/>
                      </a:lnTo>
                      <a:lnTo>
                        <a:pt x="945" y="194"/>
                      </a:lnTo>
                      <a:lnTo>
                        <a:pt x="1000" y="370"/>
                      </a:lnTo>
                      <a:lnTo>
                        <a:pt x="1030" y="555"/>
                      </a:lnTo>
                      <a:lnTo>
                        <a:pt x="1040" y="766"/>
                      </a:lnTo>
                      <a:lnTo>
                        <a:pt x="1026" y="933"/>
                      </a:lnTo>
                      <a:lnTo>
                        <a:pt x="1009" y="1011"/>
                      </a:lnTo>
                      <a:lnTo>
                        <a:pt x="983" y="1097"/>
                      </a:lnTo>
                      <a:lnTo>
                        <a:pt x="948" y="1195"/>
                      </a:lnTo>
                      <a:lnTo>
                        <a:pt x="907" y="1279"/>
                      </a:lnTo>
                      <a:lnTo>
                        <a:pt x="882" y="1317"/>
                      </a:lnTo>
                      <a:lnTo>
                        <a:pt x="855" y="1351"/>
                      </a:lnTo>
                      <a:lnTo>
                        <a:pt x="798" y="1414"/>
                      </a:lnTo>
                      <a:lnTo>
                        <a:pt x="766" y="1443"/>
                      </a:lnTo>
                      <a:lnTo>
                        <a:pt x="732" y="1471"/>
                      </a:lnTo>
                      <a:lnTo>
                        <a:pt x="696" y="1496"/>
                      </a:lnTo>
                      <a:lnTo>
                        <a:pt x="658" y="1520"/>
                      </a:lnTo>
                      <a:lnTo>
                        <a:pt x="618" y="1543"/>
                      </a:lnTo>
                      <a:lnTo>
                        <a:pt x="574" y="1568"/>
                      </a:lnTo>
                      <a:lnTo>
                        <a:pt x="530" y="1591"/>
                      </a:lnTo>
                      <a:lnTo>
                        <a:pt x="485" y="1612"/>
                      </a:lnTo>
                      <a:lnTo>
                        <a:pt x="422" y="1640"/>
                      </a:lnTo>
                      <a:lnTo>
                        <a:pt x="365" y="1661"/>
                      </a:lnTo>
                      <a:lnTo>
                        <a:pt x="255" y="1693"/>
                      </a:lnTo>
                      <a:lnTo>
                        <a:pt x="21" y="1758"/>
                      </a:lnTo>
                      <a:lnTo>
                        <a:pt x="0" y="1749"/>
                      </a:lnTo>
                      <a:lnTo>
                        <a:pt x="9" y="1728"/>
                      </a:lnTo>
                      <a:lnTo>
                        <a:pt x="127" y="1680"/>
                      </a:lnTo>
                      <a:lnTo>
                        <a:pt x="178" y="1657"/>
                      </a:lnTo>
                      <a:lnTo>
                        <a:pt x="228" y="1633"/>
                      </a:lnTo>
                      <a:lnTo>
                        <a:pt x="277" y="1606"/>
                      </a:lnTo>
                      <a:lnTo>
                        <a:pt x="327" y="1579"/>
                      </a:lnTo>
                      <a:lnTo>
                        <a:pt x="382" y="1551"/>
                      </a:lnTo>
                      <a:lnTo>
                        <a:pt x="441" y="1522"/>
                      </a:lnTo>
                      <a:lnTo>
                        <a:pt x="521" y="1482"/>
                      </a:lnTo>
                      <a:lnTo>
                        <a:pt x="593" y="1441"/>
                      </a:lnTo>
                      <a:lnTo>
                        <a:pt x="658" y="1395"/>
                      </a:lnTo>
                      <a:lnTo>
                        <a:pt x="716" y="1346"/>
                      </a:lnTo>
                      <a:lnTo>
                        <a:pt x="768" y="1289"/>
                      </a:lnTo>
                      <a:lnTo>
                        <a:pt x="812" y="1224"/>
                      </a:lnTo>
                      <a:lnTo>
                        <a:pt x="878" y="1062"/>
                      </a:lnTo>
                      <a:lnTo>
                        <a:pt x="918" y="916"/>
                      </a:lnTo>
                      <a:lnTo>
                        <a:pt x="929" y="766"/>
                      </a:lnTo>
                      <a:lnTo>
                        <a:pt x="924" y="562"/>
                      </a:lnTo>
                      <a:lnTo>
                        <a:pt x="903" y="384"/>
                      </a:lnTo>
                      <a:lnTo>
                        <a:pt x="882" y="298"/>
                      </a:lnTo>
                      <a:lnTo>
                        <a:pt x="857" y="213"/>
                      </a:lnTo>
                      <a:lnTo>
                        <a:pt x="823" y="121"/>
                      </a:lnTo>
                      <a:lnTo>
                        <a:pt x="779" y="26"/>
                      </a:lnTo>
                      <a:lnTo>
                        <a:pt x="787" y="13"/>
                      </a:lnTo>
                      <a:lnTo>
                        <a:pt x="813" y="0"/>
                      </a:lnTo>
                      <a:lnTo>
                        <a:pt x="861" y="2"/>
                      </a:lnTo>
                      <a:lnTo>
                        <a:pt x="86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5802840" y="5895360"/>
                  <a:ext cx="142920" cy="87480"/>
                </a:xfrm>
                <a:custGeom>
                  <a:avLst/>
                  <a:gdLst/>
                  <a:ahLst/>
                  <a:rect l="l" t="t" r="r" b="b"/>
                  <a:pathLst>
                    <a:path w="1103" h="713">
                      <a:moveTo>
                        <a:pt x="29" y="8"/>
                      </a:moveTo>
                      <a:lnTo>
                        <a:pt x="54" y="61"/>
                      </a:lnTo>
                      <a:lnTo>
                        <a:pt x="78" y="110"/>
                      </a:lnTo>
                      <a:lnTo>
                        <a:pt x="107" y="156"/>
                      </a:lnTo>
                      <a:lnTo>
                        <a:pt x="135" y="198"/>
                      </a:lnTo>
                      <a:lnTo>
                        <a:pt x="166" y="236"/>
                      </a:lnTo>
                      <a:lnTo>
                        <a:pt x="198" y="272"/>
                      </a:lnTo>
                      <a:lnTo>
                        <a:pt x="232" y="304"/>
                      </a:lnTo>
                      <a:lnTo>
                        <a:pt x="268" y="337"/>
                      </a:lnTo>
                      <a:lnTo>
                        <a:pt x="307" y="365"/>
                      </a:lnTo>
                      <a:lnTo>
                        <a:pt x="346" y="392"/>
                      </a:lnTo>
                      <a:lnTo>
                        <a:pt x="388" y="416"/>
                      </a:lnTo>
                      <a:lnTo>
                        <a:pt x="432" y="439"/>
                      </a:lnTo>
                      <a:lnTo>
                        <a:pt x="478" y="462"/>
                      </a:lnTo>
                      <a:lnTo>
                        <a:pt x="527" y="485"/>
                      </a:lnTo>
                      <a:lnTo>
                        <a:pt x="576" y="506"/>
                      </a:lnTo>
                      <a:lnTo>
                        <a:pt x="630" y="527"/>
                      </a:lnTo>
                      <a:lnTo>
                        <a:pt x="717" y="567"/>
                      </a:lnTo>
                      <a:lnTo>
                        <a:pt x="810" y="593"/>
                      </a:lnTo>
                      <a:lnTo>
                        <a:pt x="883" y="618"/>
                      </a:lnTo>
                      <a:lnTo>
                        <a:pt x="945" y="645"/>
                      </a:lnTo>
                      <a:lnTo>
                        <a:pt x="1010" y="665"/>
                      </a:lnTo>
                      <a:lnTo>
                        <a:pt x="1086" y="673"/>
                      </a:lnTo>
                      <a:lnTo>
                        <a:pt x="1103" y="690"/>
                      </a:lnTo>
                      <a:lnTo>
                        <a:pt x="1097" y="702"/>
                      </a:lnTo>
                      <a:lnTo>
                        <a:pt x="1086" y="705"/>
                      </a:lnTo>
                      <a:lnTo>
                        <a:pt x="932" y="713"/>
                      </a:lnTo>
                      <a:lnTo>
                        <a:pt x="782" y="694"/>
                      </a:lnTo>
                      <a:lnTo>
                        <a:pt x="586" y="624"/>
                      </a:lnTo>
                      <a:lnTo>
                        <a:pt x="480" y="576"/>
                      </a:lnTo>
                      <a:lnTo>
                        <a:pt x="430" y="551"/>
                      </a:lnTo>
                      <a:lnTo>
                        <a:pt x="384" y="523"/>
                      </a:lnTo>
                      <a:lnTo>
                        <a:pt x="343" y="494"/>
                      </a:lnTo>
                      <a:lnTo>
                        <a:pt x="303" y="464"/>
                      </a:lnTo>
                      <a:lnTo>
                        <a:pt x="265" y="430"/>
                      </a:lnTo>
                      <a:lnTo>
                        <a:pt x="229" y="396"/>
                      </a:lnTo>
                      <a:lnTo>
                        <a:pt x="164" y="318"/>
                      </a:lnTo>
                      <a:lnTo>
                        <a:pt x="134" y="276"/>
                      </a:lnTo>
                      <a:lnTo>
                        <a:pt x="105" y="230"/>
                      </a:lnTo>
                      <a:lnTo>
                        <a:pt x="76" y="183"/>
                      </a:lnTo>
                      <a:lnTo>
                        <a:pt x="50" y="131"/>
                      </a:lnTo>
                      <a:lnTo>
                        <a:pt x="0" y="21"/>
                      </a:lnTo>
                      <a:lnTo>
                        <a:pt x="8" y="0"/>
                      </a:lnTo>
                      <a:lnTo>
                        <a:pt x="29" y="8"/>
                      </a:lnTo>
                      <a:lnTo>
                        <a:pt x="29"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17" name=""/>
                <p:cNvSpPr/>
                <p:nvPr/>
              </p:nvSpPr>
              <p:spPr>
                <a:xfrm>
                  <a:off x="5811480" y="5742720"/>
                  <a:ext cx="83880" cy="191160"/>
                </a:xfrm>
                <a:custGeom>
                  <a:avLst/>
                  <a:gdLst/>
                  <a:ahLst/>
                  <a:rect l="l" t="t" r="r" b="b"/>
                  <a:pathLst>
                    <a:path w="648" h="1553">
                      <a:moveTo>
                        <a:pt x="555" y="28"/>
                      </a:moveTo>
                      <a:lnTo>
                        <a:pt x="485" y="62"/>
                      </a:lnTo>
                      <a:lnTo>
                        <a:pt x="424" y="93"/>
                      </a:lnTo>
                      <a:lnTo>
                        <a:pt x="365" y="125"/>
                      </a:lnTo>
                      <a:lnTo>
                        <a:pt x="304" y="167"/>
                      </a:lnTo>
                      <a:lnTo>
                        <a:pt x="346" y="365"/>
                      </a:lnTo>
                      <a:lnTo>
                        <a:pt x="300" y="422"/>
                      </a:lnTo>
                      <a:lnTo>
                        <a:pt x="276" y="446"/>
                      </a:lnTo>
                      <a:lnTo>
                        <a:pt x="253" y="469"/>
                      </a:lnTo>
                      <a:lnTo>
                        <a:pt x="203" y="511"/>
                      </a:lnTo>
                      <a:lnTo>
                        <a:pt x="148" y="555"/>
                      </a:lnTo>
                      <a:lnTo>
                        <a:pt x="184" y="629"/>
                      </a:lnTo>
                      <a:lnTo>
                        <a:pt x="213" y="699"/>
                      </a:lnTo>
                      <a:lnTo>
                        <a:pt x="224" y="851"/>
                      </a:lnTo>
                      <a:lnTo>
                        <a:pt x="192" y="897"/>
                      </a:lnTo>
                      <a:lnTo>
                        <a:pt x="160" y="939"/>
                      </a:lnTo>
                      <a:lnTo>
                        <a:pt x="129" y="981"/>
                      </a:lnTo>
                      <a:lnTo>
                        <a:pt x="95" y="1022"/>
                      </a:lnTo>
                      <a:lnTo>
                        <a:pt x="112" y="1060"/>
                      </a:lnTo>
                      <a:lnTo>
                        <a:pt x="133" y="1093"/>
                      </a:lnTo>
                      <a:lnTo>
                        <a:pt x="160" y="1123"/>
                      </a:lnTo>
                      <a:lnTo>
                        <a:pt x="192" y="1152"/>
                      </a:lnTo>
                      <a:lnTo>
                        <a:pt x="268" y="1190"/>
                      </a:lnTo>
                      <a:lnTo>
                        <a:pt x="338" y="1231"/>
                      </a:lnTo>
                      <a:lnTo>
                        <a:pt x="378" y="1275"/>
                      </a:lnTo>
                      <a:lnTo>
                        <a:pt x="386" y="1332"/>
                      </a:lnTo>
                      <a:lnTo>
                        <a:pt x="376" y="1397"/>
                      </a:lnTo>
                      <a:lnTo>
                        <a:pt x="361" y="1467"/>
                      </a:lnTo>
                      <a:lnTo>
                        <a:pt x="470" y="1446"/>
                      </a:lnTo>
                      <a:lnTo>
                        <a:pt x="587" y="1429"/>
                      </a:lnTo>
                      <a:lnTo>
                        <a:pt x="610" y="1427"/>
                      </a:lnTo>
                      <a:lnTo>
                        <a:pt x="639" y="1437"/>
                      </a:lnTo>
                      <a:lnTo>
                        <a:pt x="648" y="1465"/>
                      </a:lnTo>
                      <a:lnTo>
                        <a:pt x="639" y="1492"/>
                      </a:lnTo>
                      <a:lnTo>
                        <a:pt x="610" y="1501"/>
                      </a:lnTo>
                      <a:lnTo>
                        <a:pt x="591" y="1500"/>
                      </a:lnTo>
                      <a:lnTo>
                        <a:pt x="325" y="1553"/>
                      </a:lnTo>
                      <a:lnTo>
                        <a:pt x="289" y="1547"/>
                      </a:lnTo>
                      <a:lnTo>
                        <a:pt x="279" y="1513"/>
                      </a:lnTo>
                      <a:lnTo>
                        <a:pt x="298" y="1444"/>
                      </a:lnTo>
                      <a:lnTo>
                        <a:pt x="327" y="1378"/>
                      </a:lnTo>
                      <a:lnTo>
                        <a:pt x="340" y="1321"/>
                      </a:lnTo>
                      <a:lnTo>
                        <a:pt x="333" y="1298"/>
                      </a:lnTo>
                      <a:lnTo>
                        <a:pt x="312" y="1279"/>
                      </a:lnTo>
                      <a:lnTo>
                        <a:pt x="241" y="1235"/>
                      </a:lnTo>
                      <a:lnTo>
                        <a:pt x="207" y="1214"/>
                      </a:lnTo>
                      <a:lnTo>
                        <a:pt x="167" y="1192"/>
                      </a:lnTo>
                      <a:lnTo>
                        <a:pt x="114" y="1155"/>
                      </a:lnTo>
                      <a:lnTo>
                        <a:pt x="67" y="1123"/>
                      </a:lnTo>
                      <a:lnTo>
                        <a:pt x="0" y="1024"/>
                      </a:lnTo>
                      <a:lnTo>
                        <a:pt x="8" y="982"/>
                      </a:lnTo>
                      <a:lnTo>
                        <a:pt x="47" y="939"/>
                      </a:lnTo>
                      <a:lnTo>
                        <a:pt x="82" y="903"/>
                      </a:lnTo>
                      <a:lnTo>
                        <a:pt x="152" y="821"/>
                      </a:lnTo>
                      <a:lnTo>
                        <a:pt x="150" y="749"/>
                      </a:lnTo>
                      <a:lnTo>
                        <a:pt x="122" y="690"/>
                      </a:lnTo>
                      <a:lnTo>
                        <a:pt x="82" y="631"/>
                      </a:lnTo>
                      <a:lnTo>
                        <a:pt x="44" y="562"/>
                      </a:lnTo>
                      <a:lnTo>
                        <a:pt x="40" y="534"/>
                      </a:lnTo>
                      <a:lnTo>
                        <a:pt x="55" y="507"/>
                      </a:lnTo>
                      <a:lnTo>
                        <a:pt x="89" y="481"/>
                      </a:lnTo>
                      <a:lnTo>
                        <a:pt x="124" y="464"/>
                      </a:lnTo>
                      <a:lnTo>
                        <a:pt x="192" y="439"/>
                      </a:lnTo>
                      <a:lnTo>
                        <a:pt x="259" y="410"/>
                      </a:lnTo>
                      <a:lnTo>
                        <a:pt x="316" y="357"/>
                      </a:lnTo>
                      <a:lnTo>
                        <a:pt x="302" y="304"/>
                      </a:lnTo>
                      <a:lnTo>
                        <a:pt x="279" y="260"/>
                      </a:lnTo>
                      <a:lnTo>
                        <a:pt x="230" y="167"/>
                      </a:lnTo>
                      <a:lnTo>
                        <a:pt x="241" y="129"/>
                      </a:lnTo>
                      <a:lnTo>
                        <a:pt x="278" y="102"/>
                      </a:lnTo>
                      <a:lnTo>
                        <a:pt x="314" y="81"/>
                      </a:lnTo>
                      <a:lnTo>
                        <a:pt x="386" y="55"/>
                      </a:lnTo>
                      <a:lnTo>
                        <a:pt x="542" y="0"/>
                      </a:lnTo>
                      <a:lnTo>
                        <a:pt x="563" y="7"/>
                      </a:lnTo>
                      <a:lnTo>
                        <a:pt x="555" y="28"/>
                      </a:lnTo>
                      <a:lnTo>
                        <a:pt x="55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5905800" y="5928480"/>
                  <a:ext cx="51120" cy="34920"/>
                </a:xfrm>
                <a:custGeom>
                  <a:avLst/>
                  <a:gdLst/>
                  <a:ahLst/>
                  <a:rect l="l" t="t" r="r" b="b"/>
                  <a:pathLst>
                    <a:path w="396" h="287">
                      <a:moveTo>
                        <a:pt x="71" y="23"/>
                      </a:moveTo>
                      <a:lnTo>
                        <a:pt x="107" y="108"/>
                      </a:lnTo>
                      <a:lnTo>
                        <a:pt x="143" y="184"/>
                      </a:lnTo>
                      <a:lnTo>
                        <a:pt x="190" y="148"/>
                      </a:lnTo>
                      <a:lnTo>
                        <a:pt x="234" y="110"/>
                      </a:lnTo>
                      <a:lnTo>
                        <a:pt x="280" y="72"/>
                      </a:lnTo>
                      <a:lnTo>
                        <a:pt x="329" y="29"/>
                      </a:lnTo>
                      <a:lnTo>
                        <a:pt x="359" y="19"/>
                      </a:lnTo>
                      <a:lnTo>
                        <a:pt x="386" y="34"/>
                      </a:lnTo>
                      <a:lnTo>
                        <a:pt x="396" y="63"/>
                      </a:lnTo>
                      <a:lnTo>
                        <a:pt x="380" y="91"/>
                      </a:lnTo>
                      <a:lnTo>
                        <a:pt x="350" y="118"/>
                      </a:lnTo>
                      <a:lnTo>
                        <a:pt x="321" y="143"/>
                      </a:lnTo>
                      <a:lnTo>
                        <a:pt x="293" y="167"/>
                      </a:lnTo>
                      <a:lnTo>
                        <a:pt x="268" y="188"/>
                      </a:lnTo>
                      <a:lnTo>
                        <a:pt x="240" y="211"/>
                      </a:lnTo>
                      <a:lnTo>
                        <a:pt x="213" y="232"/>
                      </a:lnTo>
                      <a:lnTo>
                        <a:pt x="183" y="255"/>
                      </a:lnTo>
                      <a:lnTo>
                        <a:pt x="148" y="278"/>
                      </a:lnTo>
                      <a:lnTo>
                        <a:pt x="114" y="287"/>
                      </a:lnTo>
                      <a:lnTo>
                        <a:pt x="90" y="262"/>
                      </a:lnTo>
                      <a:lnTo>
                        <a:pt x="44" y="156"/>
                      </a:lnTo>
                      <a:lnTo>
                        <a:pt x="0" y="50"/>
                      </a:lnTo>
                      <a:lnTo>
                        <a:pt x="2" y="19"/>
                      </a:lnTo>
                      <a:lnTo>
                        <a:pt x="23" y="0"/>
                      </a:lnTo>
                      <a:lnTo>
                        <a:pt x="71" y="23"/>
                      </a:lnTo>
                      <a:lnTo>
                        <a:pt x="71" y="2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9" name=""/>
                <p:cNvSpPr/>
                <p:nvPr/>
              </p:nvSpPr>
              <p:spPr>
                <a:xfrm>
                  <a:off x="5968440" y="5773320"/>
                  <a:ext cx="122040" cy="189360"/>
                </a:xfrm>
                <a:custGeom>
                  <a:avLst/>
                  <a:gdLst/>
                  <a:ahLst/>
                  <a:rect l="l" t="t" r="r" b="b"/>
                  <a:pathLst>
                    <a:path w="943" h="1538">
                      <a:moveTo>
                        <a:pt x="67" y="1319"/>
                      </a:moveTo>
                      <a:lnTo>
                        <a:pt x="122" y="1387"/>
                      </a:lnTo>
                      <a:lnTo>
                        <a:pt x="146" y="1420"/>
                      </a:lnTo>
                      <a:lnTo>
                        <a:pt x="184" y="1444"/>
                      </a:lnTo>
                      <a:lnTo>
                        <a:pt x="230" y="1463"/>
                      </a:lnTo>
                      <a:lnTo>
                        <a:pt x="272" y="1393"/>
                      </a:lnTo>
                      <a:lnTo>
                        <a:pt x="316" y="1319"/>
                      </a:lnTo>
                      <a:lnTo>
                        <a:pt x="344" y="1268"/>
                      </a:lnTo>
                      <a:lnTo>
                        <a:pt x="375" y="1222"/>
                      </a:lnTo>
                      <a:lnTo>
                        <a:pt x="394" y="1205"/>
                      </a:lnTo>
                      <a:lnTo>
                        <a:pt x="413" y="1188"/>
                      </a:lnTo>
                      <a:lnTo>
                        <a:pt x="466" y="1171"/>
                      </a:lnTo>
                      <a:lnTo>
                        <a:pt x="576" y="1155"/>
                      </a:lnTo>
                      <a:lnTo>
                        <a:pt x="675" y="1146"/>
                      </a:lnTo>
                      <a:lnTo>
                        <a:pt x="643" y="1074"/>
                      </a:lnTo>
                      <a:lnTo>
                        <a:pt x="608" y="998"/>
                      </a:lnTo>
                      <a:lnTo>
                        <a:pt x="618" y="946"/>
                      </a:lnTo>
                      <a:lnTo>
                        <a:pt x="643" y="908"/>
                      </a:lnTo>
                      <a:lnTo>
                        <a:pt x="677" y="876"/>
                      </a:lnTo>
                      <a:lnTo>
                        <a:pt x="721" y="851"/>
                      </a:lnTo>
                      <a:lnTo>
                        <a:pt x="768" y="827"/>
                      </a:lnTo>
                      <a:lnTo>
                        <a:pt x="816" y="802"/>
                      </a:lnTo>
                      <a:lnTo>
                        <a:pt x="901" y="733"/>
                      </a:lnTo>
                      <a:lnTo>
                        <a:pt x="903" y="745"/>
                      </a:lnTo>
                      <a:lnTo>
                        <a:pt x="916" y="732"/>
                      </a:lnTo>
                      <a:lnTo>
                        <a:pt x="876" y="705"/>
                      </a:lnTo>
                      <a:lnTo>
                        <a:pt x="831" y="688"/>
                      </a:lnTo>
                      <a:lnTo>
                        <a:pt x="740" y="667"/>
                      </a:lnTo>
                      <a:lnTo>
                        <a:pt x="656" y="638"/>
                      </a:lnTo>
                      <a:lnTo>
                        <a:pt x="595" y="572"/>
                      </a:lnTo>
                      <a:lnTo>
                        <a:pt x="599" y="541"/>
                      </a:lnTo>
                      <a:lnTo>
                        <a:pt x="625" y="513"/>
                      </a:lnTo>
                      <a:lnTo>
                        <a:pt x="652" y="488"/>
                      </a:lnTo>
                      <a:lnTo>
                        <a:pt x="679" y="465"/>
                      </a:lnTo>
                      <a:lnTo>
                        <a:pt x="707" y="437"/>
                      </a:lnTo>
                      <a:lnTo>
                        <a:pt x="738" y="389"/>
                      </a:lnTo>
                      <a:lnTo>
                        <a:pt x="774" y="350"/>
                      </a:lnTo>
                      <a:lnTo>
                        <a:pt x="806" y="310"/>
                      </a:lnTo>
                      <a:lnTo>
                        <a:pt x="504" y="218"/>
                      </a:lnTo>
                      <a:lnTo>
                        <a:pt x="475" y="177"/>
                      </a:lnTo>
                      <a:lnTo>
                        <a:pt x="491" y="127"/>
                      </a:lnTo>
                      <a:lnTo>
                        <a:pt x="521" y="91"/>
                      </a:lnTo>
                      <a:lnTo>
                        <a:pt x="582" y="9"/>
                      </a:lnTo>
                      <a:lnTo>
                        <a:pt x="603" y="0"/>
                      </a:lnTo>
                      <a:lnTo>
                        <a:pt x="612" y="21"/>
                      </a:lnTo>
                      <a:lnTo>
                        <a:pt x="565" y="150"/>
                      </a:lnTo>
                      <a:lnTo>
                        <a:pt x="643" y="178"/>
                      </a:lnTo>
                      <a:lnTo>
                        <a:pt x="715" y="205"/>
                      </a:lnTo>
                      <a:lnTo>
                        <a:pt x="787" y="234"/>
                      </a:lnTo>
                      <a:lnTo>
                        <a:pt x="871" y="260"/>
                      </a:lnTo>
                      <a:lnTo>
                        <a:pt x="895" y="281"/>
                      </a:lnTo>
                      <a:lnTo>
                        <a:pt x="886" y="311"/>
                      </a:lnTo>
                      <a:lnTo>
                        <a:pt x="850" y="350"/>
                      </a:lnTo>
                      <a:lnTo>
                        <a:pt x="812" y="386"/>
                      </a:lnTo>
                      <a:lnTo>
                        <a:pt x="745" y="465"/>
                      </a:lnTo>
                      <a:lnTo>
                        <a:pt x="721" y="492"/>
                      </a:lnTo>
                      <a:lnTo>
                        <a:pt x="698" y="515"/>
                      </a:lnTo>
                      <a:lnTo>
                        <a:pt x="652" y="564"/>
                      </a:lnTo>
                      <a:lnTo>
                        <a:pt x="677" y="595"/>
                      </a:lnTo>
                      <a:lnTo>
                        <a:pt x="709" y="616"/>
                      </a:lnTo>
                      <a:lnTo>
                        <a:pt x="785" y="638"/>
                      </a:lnTo>
                      <a:lnTo>
                        <a:pt x="943" y="697"/>
                      </a:lnTo>
                      <a:lnTo>
                        <a:pt x="937" y="714"/>
                      </a:lnTo>
                      <a:lnTo>
                        <a:pt x="928" y="737"/>
                      </a:lnTo>
                      <a:lnTo>
                        <a:pt x="926" y="754"/>
                      </a:lnTo>
                      <a:lnTo>
                        <a:pt x="894" y="787"/>
                      </a:lnTo>
                      <a:lnTo>
                        <a:pt x="859" y="811"/>
                      </a:lnTo>
                      <a:lnTo>
                        <a:pt x="787" y="855"/>
                      </a:lnTo>
                      <a:lnTo>
                        <a:pt x="728" y="905"/>
                      </a:lnTo>
                      <a:lnTo>
                        <a:pt x="703" y="979"/>
                      </a:lnTo>
                      <a:lnTo>
                        <a:pt x="783" y="1193"/>
                      </a:lnTo>
                      <a:lnTo>
                        <a:pt x="776" y="1241"/>
                      </a:lnTo>
                      <a:lnTo>
                        <a:pt x="728" y="1247"/>
                      </a:lnTo>
                      <a:lnTo>
                        <a:pt x="601" y="1220"/>
                      </a:lnTo>
                      <a:lnTo>
                        <a:pt x="472" y="1218"/>
                      </a:lnTo>
                      <a:lnTo>
                        <a:pt x="432" y="1235"/>
                      </a:lnTo>
                      <a:lnTo>
                        <a:pt x="403" y="1266"/>
                      </a:lnTo>
                      <a:lnTo>
                        <a:pt x="363" y="1346"/>
                      </a:lnTo>
                      <a:lnTo>
                        <a:pt x="337" y="1391"/>
                      </a:lnTo>
                      <a:lnTo>
                        <a:pt x="314" y="1433"/>
                      </a:lnTo>
                      <a:lnTo>
                        <a:pt x="291" y="1473"/>
                      </a:lnTo>
                      <a:lnTo>
                        <a:pt x="266" y="1520"/>
                      </a:lnTo>
                      <a:lnTo>
                        <a:pt x="245" y="1538"/>
                      </a:lnTo>
                      <a:lnTo>
                        <a:pt x="221" y="1528"/>
                      </a:lnTo>
                      <a:lnTo>
                        <a:pt x="171" y="1475"/>
                      </a:lnTo>
                      <a:lnTo>
                        <a:pt x="17" y="1384"/>
                      </a:lnTo>
                      <a:lnTo>
                        <a:pt x="0" y="1355"/>
                      </a:lnTo>
                      <a:lnTo>
                        <a:pt x="10" y="1327"/>
                      </a:lnTo>
                      <a:lnTo>
                        <a:pt x="34" y="1311"/>
                      </a:lnTo>
                      <a:lnTo>
                        <a:pt x="67" y="1319"/>
                      </a:lnTo>
                      <a:lnTo>
                        <a:pt x="67" y="1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5898600" y="5730480"/>
                  <a:ext cx="49680" cy="35640"/>
                </a:xfrm>
                <a:custGeom>
                  <a:avLst/>
                  <a:gdLst/>
                  <a:ahLst/>
                  <a:rect l="l" t="t" r="r" b="b"/>
                  <a:pathLst>
                    <a:path w="384" h="291">
                      <a:moveTo>
                        <a:pt x="29" y="76"/>
                      </a:moveTo>
                      <a:lnTo>
                        <a:pt x="205" y="165"/>
                      </a:lnTo>
                      <a:lnTo>
                        <a:pt x="249" y="99"/>
                      </a:lnTo>
                      <a:lnTo>
                        <a:pt x="276" y="70"/>
                      </a:lnTo>
                      <a:lnTo>
                        <a:pt x="304" y="49"/>
                      </a:lnTo>
                      <a:lnTo>
                        <a:pt x="359" y="2"/>
                      </a:lnTo>
                      <a:lnTo>
                        <a:pt x="382" y="0"/>
                      </a:lnTo>
                      <a:lnTo>
                        <a:pt x="384" y="23"/>
                      </a:lnTo>
                      <a:lnTo>
                        <a:pt x="325" y="150"/>
                      </a:lnTo>
                      <a:lnTo>
                        <a:pt x="251" y="264"/>
                      </a:lnTo>
                      <a:lnTo>
                        <a:pt x="234" y="283"/>
                      </a:lnTo>
                      <a:lnTo>
                        <a:pt x="215" y="291"/>
                      </a:lnTo>
                      <a:lnTo>
                        <a:pt x="177" y="266"/>
                      </a:lnTo>
                      <a:lnTo>
                        <a:pt x="137" y="218"/>
                      </a:lnTo>
                      <a:lnTo>
                        <a:pt x="99" y="178"/>
                      </a:lnTo>
                      <a:lnTo>
                        <a:pt x="59" y="146"/>
                      </a:lnTo>
                      <a:lnTo>
                        <a:pt x="8" y="114"/>
                      </a:lnTo>
                      <a:lnTo>
                        <a:pt x="0" y="85"/>
                      </a:lnTo>
                      <a:lnTo>
                        <a:pt x="29" y="76"/>
                      </a:lnTo>
                      <a:lnTo>
                        <a:pt x="29" y="7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721" name=""/>
                <p:cNvSpPr/>
                <p:nvPr/>
              </p:nvSpPr>
              <p:spPr>
                <a:xfrm>
                  <a:off x="5976360" y="5744160"/>
                  <a:ext cx="48240" cy="30960"/>
                </a:xfrm>
                <a:custGeom>
                  <a:avLst/>
                  <a:gdLst/>
                  <a:ahLst/>
                  <a:rect l="l" t="t" r="r" b="b"/>
                  <a:pathLst>
                    <a:path w="374" h="253">
                      <a:moveTo>
                        <a:pt x="30" y="10"/>
                      </a:moveTo>
                      <a:lnTo>
                        <a:pt x="66" y="86"/>
                      </a:lnTo>
                      <a:lnTo>
                        <a:pt x="87" y="120"/>
                      </a:lnTo>
                      <a:lnTo>
                        <a:pt x="112" y="152"/>
                      </a:lnTo>
                      <a:lnTo>
                        <a:pt x="171" y="124"/>
                      </a:lnTo>
                      <a:lnTo>
                        <a:pt x="228" y="101"/>
                      </a:lnTo>
                      <a:lnTo>
                        <a:pt x="353" y="57"/>
                      </a:lnTo>
                      <a:lnTo>
                        <a:pt x="374" y="67"/>
                      </a:lnTo>
                      <a:lnTo>
                        <a:pt x="365" y="88"/>
                      </a:lnTo>
                      <a:lnTo>
                        <a:pt x="298" y="120"/>
                      </a:lnTo>
                      <a:lnTo>
                        <a:pt x="243" y="158"/>
                      </a:lnTo>
                      <a:lnTo>
                        <a:pt x="192" y="198"/>
                      </a:lnTo>
                      <a:lnTo>
                        <a:pt x="163" y="221"/>
                      </a:lnTo>
                      <a:lnTo>
                        <a:pt x="133" y="243"/>
                      </a:lnTo>
                      <a:lnTo>
                        <a:pt x="104" y="253"/>
                      </a:lnTo>
                      <a:lnTo>
                        <a:pt x="78" y="240"/>
                      </a:lnTo>
                      <a:lnTo>
                        <a:pt x="44" y="190"/>
                      </a:lnTo>
                      <a:lnTo>
                        <a:pt x="28" y="137"/>
                      </a:lnTo>
                      <a:lnTo>
                        <a:pt x="0" y="23"/>
                      </a:lnTo>
                      <a:lnTo>
                        <a:pt x="9" y="0"/>
                      </a:lnTo>
                      <a:lnTo>
                        <a:pt x="30" y="10"/>
                      </a:lnTo>
                      <a:lnTo>
                        <a:pt x="30" y="1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722" name=""/>
                <p:cNvSpPr/>
                <p:nvPr/>
              </p:nvSpPr>
              <p:spPr>
                <a:xfrm>
                  <a:off x="5790960" y="5715720"/>
                  <a:ext cx="90360" cy="136800"/>
                </a:xfrm>
                <a:custGeom>
                  <a:avLst/>
                  <a:gdLst/>
                  <a:ahLst/>
                  <a:rect l="l" t="t" r="r" b="b"/>
                  <a:pathLst>
                    <a:path w="696" h="1112">
                      <a:moveTo>
                        <a:pt x="679" y="33"/>
                      </a:moveTo>
                      <a:lnTo>
                        <a:pt x="603" y="46"/>
                      </a:lnTo>
                      <a:lnTo>
                        <a:pt x="540" y="80"/>
                      </a:lnTo>
                      <a:lnTo>
                        <a:pt x="481" y="128"/>
                      </a:lnTo>
                      <a:lnTo>
                        <a:pt x="451" y="152"/>
                      </a:lnTo>
                      <a:lnTo>
                        <a:pt x="417" y="177"/>
                      </a:lnTo>
                      <a:lnTo>
                        <a:pt x="348" y="226"/>
                      </a:lnTo>
                      <a:lnTo>
                        <a:pt x="320" y="253"/>
                      </a:lnTo>
                      <a:lnTo>
                        <a:pt x="293" y="282"/>
                      </a:lnTo>
                      <a:lnTo>
                        <a:pt x="247" y="341"/>
                      </a:lnTo>
                      <a:lnTo>
                        <a:pt x="209" y="403"/>
                      </a:lnTo>
                      <a:lnTo>
                        <a:pt x="179" y="472"/>
                      </a:lnTo>
                      <a:lnTo>
                        <a:pt x="150" y="544"/>
                      </a:lnTo>
                      <a:lnTo>
                        <a:pt x="124" y="624"/>
                      </a:lnTo>
                      <a:lnTo>
                        <a:pt x="97" y="705"/>
                      </a:lnTo>
                      <a:lnTo>
                        <a:pt x="46" y="1095"/>
                      </a:lnTo>
                      <a:lnTo>
                        <a:pt x="31" y="1112"/>
                      </a:lnTo>
                      <a:lnTo>
                        <a:pt x="13" y="1099"/>
                      </a:lnTo>
                      <a:lnTo>
                        <a:pt x="0" y="681"/>
                      </a:lnTo>
                      <a:lnTo>
                        <a:pt x="31" y="588"/>
                      </a:lnTo>
                      <a:lnTo>
                        <a:pt x="61" y="502"/>
                      </a:lnTo>
                      <a:lnTo>
                        <a:pt x="93" y="420"/>
                      </a:lnTo>
                      <a:lnTo>
                        <a:pt x="129" y="344"/>
                      </a:lnTo>
                      <a:lnTo>
                        <a:pt x="150" y="310"/>
                      </a:lnTo>
                      <a:lnTo>
                        <a:pt x="171" y="274"/>
                      </a:lnTo>
                      <a:lnTo>
                        <a:pt x="196" y="242"/>
                      </a:lnTo>
                      <a:lnTo>
                        <a:pt x="223" y="209"/>
                      </a:lnTo>
                      <a:lnTo>
                        <a:pt x="253" y="179"/>
                      </a:lnTo>
                      <a:lnTo>
                        <a:pt x="285" y="149"/>
                      </a:lnTo>
                      <a:lnTo>
                        <a:pt x="321" y="120"/>
                      </a:lnTo>
                      <a:lnTo>
                        <a:pt x="361" y="93"/>
                      </a:lnTo>
                      <a:lnTo>
                        <a:pt x="401" y="69"/>
                      </a:lnTo>
                      <a:lnTo>
                        <a:pt x="437" y="48"/>
                      </a:lnTo>
                      <a:lnTo>
                        <a:pt x="512" y="19"/>
                      </a:lnTo>
                      <a:lnTo>
                        <a:pt x="679" y="0"/>
                      </a:lnTo>
                      <a:lnTo>
                        <a:pt x="696" y="15"/>
                      </a:lnTo>
                      <a:lnTo>
                        <a:pt x="692" y="27"/>
                      </a:lnTo>
                      <a:lnTo>
                        <a:pt x="679" y="33"/>
                      </a:lnTo>
                      <a:lnTo>
                        <a:pt x="679"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23" name=""/>
            <p:cNvGrpSpPr/>
            <p:nvPr/>
          </p:nvGrpSpPr>
          <p:grpSpPr>
            <a:xfrm>
              <a:off x="7391520" y="5562720"/>
              <a:ext cx="706320" cy="842400"/>
              <a:chOff x="7391520" y="5562720"/>
              <a:chExt cx="706320" cy="842400"/>
            </a:xfrm>
          </p:grpSpPr>
          <p:grpSp>
            <p:nvGrpSpPr>
              <p:cNvPr id="724" name=""/>
              <p:cNvGrpSpPr/>
              <p:nvPr/>
            </p:nvGrpSpPr>
            <p:grpSpPr>
              <a:xfrm>
                <a:off x="7391520" y="5562720"/>
                <a:ext cx="609480" cy="761760"/>
                <a:chOff x="7391520" y="5562720"/>
                <a:chExt cx="609480" cy="761760"/>
              </a:xfrm>
            </p:grpSpPr>
            <p:sp>
              <p:nvSpPr>
                <p:cNvPr id="725" name=""/>
                <p:cNvSpPr/>
                <p:nvPr/>
              </p:nvSpPr>
              <p:spPr>
                <a:xfrm>
                  <a:off x="7391520" y="5568120"/>
                  <a:ext cx="607320" cy="698040"/>
                </a:xfrm>
                <a:custGeom>
                  <a:avLst/>
                  <a:gdLst/>
                  <a:ahLst/>
                  <a:rect l="l" t="t" r="r" b="b"/>
                  <a:pathLst>
                    <a:path w="2270" h="2734">
                      <a:moveTo>
                        <a:pt x="61" y="238"/>
                      </a:moveTo>
                      <a:lnTo>
                        <a:pt x="766" y="126"/>
                      </a:lnTo>
                      <a:lnTo>
                        <a:pt x="1753" y="67"/>
                      </a:lnTo>
                      <a:lnTo>
                        <a:pt x="2150" y="0"/>
                      </a:lnTo>
                      <a:lnTo>
                        <a:pt x="2230" y="56"/>
                      </a:lnTo>
                      <a:lnTo>
                        <a:pt x="2270" y="698"/>
                      </a:lnTo>
                      <a:lnTo>
                        <a:pt x="2161" y="2318"/>
                      </a:lnTo>
                      <a:lnTo>
                        <a:pt x="2203" y="2700"/>
                      </a:lnTo>
                      <a:lnTo>
                        <a:pt x="1895" y="2734"/>
                      </a:lnTo>
                      <a:lnTo>
                        <a:pt x="357" y="2658"/>
                      </a:lnTo>
                      <a:lnTo>
                        <a:pt x="171" y="2641"/>
                      </a:lnTo>
                      <a:lnTo>
                        <a:pt x="0" y="1457"/>
                      </a:lnTo>
                      <a:lnTo>
                        <a:pt x="38" y="316"/>
                      </a:lnTo>
                      <a:lnTo>
                        <a:pt x="61" y="238"/>
                      </a:lnTo>
                      <a:lnTo>
                        <a:pt x="61" y="238"/>
                      </a:lnTo>
                      <a:lnTo>
                        <a:pt x="61" y="2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7401600" y="5595840"/>
                  <a:ext cx="579600" cy="714600"/>
                </a:xfrm>
                <a:custGeom>
                  <a:avLst/>
                  <a:gdLst/>
                  <a:ahLst/>
                  <a:rect l="l" t="t" r="r" b="b"/>
                  <a:pathLst>
                    <a:path w="2165" h="2800">
                      <a:moveTo>
                        <a:pt x="82" y="198"/>
                      </a:moveTo>
                      <a:lnTo>
                        <a:pt x="574" y="156"/>
                      </a:lnTo>
                      <a:lnTo>
                        <a:pt x="1161" y="112"/>
                      </a:lnTo>
                      <a:lnTo>
                        <a:pt x="1715" y="85"/>
                      </a:lnTo>
                      <a:lnTo>
                        <a:pt x="2004" y="0"/>
                      </a:lnTo>
                      <a:lnTo>
                        <a:pt x="2097" y="9"/>
                      </a:lnTo>
                      <a:lnTo>
                        <a:pt x="2123" y="112"/>
                      </a:lnTo>
                      <a:lnTo>
                        <a:pt x="2106" y="1262"/>
                      </a:lnTo>
                      <a:lnTo>
                        <a:pt x="2080" y="2133"/>
                      </a:lnTo>
                      <a:lnTo>
                        <a:pt x="2165" y="2591"/>
                      </a:lnTo>
                      <a:lnTo>
                        <a:pt x="1909" y="2659"/>
                      </a:lnTo>
                      <a:lnTo>
                        <a:pt x="1289" y="2648"/>
                      </a:lnTo>
                      <a:lnTo>
                        <a:pt x="779" y="2659"/>
                      </a:lnTo>
                      <a:lnTo>
                        <a:pt x="201" y="2800"/>
                      </a:lnTo>
                      <a:lnTo>
                        <a:pt x="173" y="2534"/>
                      </a:lnTo>
                      <a:lnTo>
                        <a:pt x="64" y="1340"/>
                      </a:lnTo>
                      <a:lnTo>
                        <a:pt x="64" y="435"/>
                      </a:lnTo>
                      <a:lnTo>
                        <a:pt x="0" y="207"/>
                      </a:lnTo>
                      <a:lnTo>
                        <a:pt x="82" y="198"/>
                      </a:lnTo>
                      <a:lnTo>
                        <a:pt x="82" y="198"/>
                      </a:lnTo>
                      <a:lnTo>
                        <a:pt x="82" y="198"/>
                      </a:lnTo>
                      <a:close/>
                    </a:path>
                  </a:pathLst>
                </a:custGeom>
                <a:solidFill>
                  <a:srgbClr val="ffe0d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7496280" y="6098760"/>
                  <a:ext cx="218160" cy="78120"/>
                </a:xfrm>
                <a:custGeom>
                  <a:avLst/>
                  <a:gdLst/>
                  <a:ahLst/>
                  <a:rect l="l" t="t" r="r" b="b"/>
                  <a:pathLst>
                    <a:path w="816" h="306">
                      <a:moveTo>
                        <a:pt x="0" y="69"/>
                      </a:moveTo>
                      <a:lnTo>
                        <a:pt x="740" y="0"/>
                      </a:lnTo>
                      <a:lnTo>
                        <a:pt x="816" y="306"/>
                      </a:lnTo>
                      <a:lnTo>
                        <a:pt x="18" y="299"/>
                      </a:lnTo>
                      <a:lnTo>
                        <a:pt x="0" y="69"/>
                      </a:lnTo>
                      <a:lnTo>
                        <a:pt x="0" y="69"/>
                      </a:lnTo>
                      <a:lnTo>
                        <a:pt x="0" y="69"/>
                      </a:lnTo>
                      <a:close/>
                    </a:path>
                  </a:pathLst>
                </a:custGeom>
                <a:solidFill>
                  <a:srgbClr val="b2f4ff"/>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728" name=""/>
                <p:cNvSpPr/>
                <p:nvPr/>
              </p:nvSpPr>
              <p:spPr>
                <a:xfrm>
                  <a:off x="7476120" y="5729040"/>
                  <a:ext cx="429840" cy="354240"/>
                </a:xfrm>
                <a:custGeom>
                  <a:avLst/>
                  <a:gdLst/>
                  <a:ahLst/>
                  <a:rect l="l" t="t" r="r" b="b"/>
                  <a:pathLst>
                    <a:path w="1607" h="1387">
                      <a:moveTo>
                        <a:pt x="0" y="167"/>
                      </a:moveTo>
                      <a:lnTo>
                        <a:pt x="0" y="1387"/>
                      </a:lnTo>
                      <a:lnTo>
                        <a:pt x="1607" y="1210"/>
                      </a:lnTo>
                      <a:lnTo>
                        <a:pt x="1557" y="0"/>
                      </a:lnTo>
                      <a:lnTo>
                        <a:pt x="0" y="167"/>
                      </a:lnTo>
                      <a:lnTo>
                        <a:pt x="0" y="167"/>
                      </a:lnTo>
                      <a:lnTo>
                        <a:pt x="0" y="167"/>
                      </a:lnTo>
                      <a:close/>
                    </a:path>
                  </a:pathLst>
                </a:custGeom>
                <a:solidFill>
                  <a:srgbClr val="f5f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 name=""/>
                <p:cNvSpPr/>
                <p:nvPr/>
              </p:nvSpPr>
              <p:spPr>
                <a:xfrm>
                  <a:off x="7459200" y="5642280"/>
                  <a:ext cx="452520" cy="94680"/>
                </a:xfrm>
                <a:custGeom>
                  <a:avLst/>
                  <a:gdLst/>
                  <a:ahLst/>
                  <a:rect l="l" t="t" r="r" b="b"/>
                  <a:pathLst>
                    <a:path w="1692" h="373">
                      <a:moveTo>
                        <a:pt x="9" y="101"/>
                      </a:moveTo>
                      <a:lnTo>
                        <a:pt x="0" y="373"/>
                      </a:lnTo>
                      <a:lnTo>
                        <a:pt x="1692" y="272"/>
                      </a:lnTo>
                      <a:lnTo>
                        <a:pt x="1652" y="0"/>
                      </a:lnTo>
                      <a:lnTo>
                        <a:pt x="1030" y="35"/>
                      </a:lnTo>
                      <a:lnTo>
                        <a:pt x="452" y="50"/>
                      </a:lnTo>
                      <a:lnTo>
                        <a:pt x="9" y="101"/>
                      </a:lnTo>
                      <a:lnTo>
                        <a:pt x="9" y="101"/>
                      </a:lnTo>
                      <a:lnTo>
                        <a:pt x="9" y="101"/>
                      </a:lnTo>
                      <a:close/>
                    </a:path>
                  </a:pathLst>
                </a:custGeom>
                <a:solidFill>
                  <a:srgbClr val="ff99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7486560" y="6150240"/>
                  <a:ext cx="415800" cy="119880"/>
                </a:xfrm>
                <a:custGeom>
                  <a:avLst/>
                  <a:gdLst/>
                  <a:ahLst/>
                  <a:rect l="l" t="t" r="r" b="b"/>
                  <a:pathLst>
                    <a:path w="1555" h="471">
                      <a:moveTo>
                        <a:pt x="0" y="167"/>
                      </a:moveTo>
                      <a:lnTo>
                        <a:pt x="42" y="471"/>
                      </a:lnTo>
                      <a:lnTo>
                        <a:pt x="1514" y="275"/>
                      </a:lnTo>
                      <a:lnTo>
                        <a:pt x="1555" y="0"/>
                      </a:lnTo>
                      <a:lnTo>
                        <a:pt x="0" y="167"/>
                      </a:lnTo>
                      <a:lnTo>
                        <a:pt x="0" y="167"/>
                      </a:lnTo>
                      <a:lnTo>
                        <a:pt x="0" y="167"/>
                      </a:lnTo>
                      <a:close/>
                    </a:path>
                  </a:pathLst>
                </a:custGeom>
                <a:solidFill>
                  <a:srgbClr val="f5f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7410600" y="5562720"/>
                  <a:ext cx="563400" cy="75600"/>
                </a:xfrm>
                <a:custGeom>
                  <a:avLst/>
                  <a:gdLst/>
                  <a:ahLst/>
                  <a:rect l="l" t="t" r="r" b="b"/>
                  <a:pathLst>
                    <a:path w="2107" h="296">
                      <a:moveTo>
                        <a:pt x="17" y="254"/>
                      </a:moveTo>
                      <a:lnTo>
                        <a:pt x="101" y="224"/>
                      </a:lnTo>
                      <a:lnTo>
                        <a:pt x="183" y="199"/>
                      </a:lnTo>
                      <a:lnTo>
                        <a:pt x="281" y="175"/>
                      </a:lnTo>
                      <a:lnTo>
                        <a:pt x="384" y="163"/>
                      </a:lnTo>
                      <a:lnTo>
                        <a:pt x="605" y="123"/>
                      </a:lnTo>
                      <a:lnTo>
                        <a:pt x="764" y="108"/>
                      </a:lnTo>
                      <a:lnTo>
                        <a:pt x="985" y="78"/>
                      </a:lnTo>
                      <a:lnTo>
                        <a:pt x="1177" y="72"/>
                      </a:lnTo>
                      <a:lnTo>
                        <a:pt x="1588" y="66"/>
                      </a:lnTo>
                      <a:lnTo>
                        <a:pt x="1835" y="36"/>
                      </a:lnTo>
                      <a:lnTo>
                        <a:pt x="2080" y="0"/>
                      </a:lnTo>
                      <a:lnTo>
                        <a:pt x="2107" y="17"/>
                      </a:lnTo>
                      <a:lnTo>
                        <a:pt x="2101" y="34"/>
                      </a:lnTo>
                      <a:lnTo>
                        <a:pt x="2088" y="42"/>
                      </a:lnTo>
                      <a:lnTo>
                        <a:pt x="1838" y="97"/>
                      </a:lnTo>
                      <a:lnTo>
                        <a:pt x="1726" y="125"/>
                      </a:lnTo>
                      <a:lnTo>
                        <a:pt x="1593" y="142"/>
                      </a:lnTo>
                      <a:lnTo>
                        <a:pt x="1188" y="159"/>
                      </a:lnTo>
                      <a:lnTo>
                        <a:pt x="781" y="203"/>
                      </a:lnTo>
                      <a:lnTo>
                        <a:pt x="618" y="218"/>
                      </a:lnTo>
                      <a:lnTo>
                        <a:pt x="392" y="258"/>
                      </a:lnTo>
                      <a:lnTo>
                        <a:pt x="198" y="296"/>
                      </a:lnTo>
                      <a:lnTo>
                        <a:pt x="27" y="296"/>
                      </a:lnTo>
                      <a:lnTo>
                        <a:pt x="0" y="281"/>
                      </a:lnTo>
                      <a:lnTo>
                        <a:pt x="17" y="254"/>
                      </a:lnTo>
                      <a:lnTo>
                        <a:pt x="17" y="254"/>
                      </a:lnTo>
                      <a:lnTo>
                        <a:pt x="17" y="254"/>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732" name=""/>
                <p:cNvSpPr/>
                <p:nvPr/>
              </p:nvSpPr>
              <p:spPr>
                <a:xfrm>
                  <a:off x="7399800" y="5648040"/>
                  <a:ext cx="54000" cy="676440"/>
                </a:xfrm>
                <a:custGeom>
                  <a:avLst/>
                  <a:gdLst/>
                  <a:ahLst/>
                  <a:rect l="l" t="t" r="r" b="b"/>
                  <a:pathLst>
                    <a:path w="202" h="2650">
                      <a:moveTo>
                        <a:pt x="59" y="21"/>
                      </a:moveTo>
                      <a:lnTo>
                        <a:pt x="89" y="200"/>
                      </a:lnTo>
                      <a:lnTo>
                        <a:pt x="93" y="380"/>
                      </a:lnTo>
                      <a:lnTo>
                        <a:pt x="86" y="542"/>
                      </a:lnTo>
                      <a:lnTo>
                        <a:pt x="70" y="882"/>
                      </a:lnTo>
                      <a:lnTo>
                        <a:pt x="78" y="1211"/>
                      </a:lnTo>
                      <a:lnTo>
                        <a:pt x="105" y="1540"/>
                      </a:lnTo>
                      <a:lnTo>
                        <a:pt x="143" y="1855"/>
                      </a:lnTo>
                      <a:lnTo>
                        <a:pt x="147" y="1920"/>
                      </a:lnTo>
                      <a:lnTo>
                        <a:pt x="164" y="2011"/>
                      </a:lnTo>
                      <a:lnTo>
                        <a:pt x="179" y="2281"/>
                      </a:lnTo>
                      <a:lnTo>
                        <a:pt x="179" y="2331"/>
                      </a:lnTo>
                      <a:lnTo>
                        <a:pt x="192" y="2454"/>
                      </a:lnTo>
                      <a:lnTo>
                        <a:pt x="202" y="2620"/>
                      </a:lnTo>
                      <a:lnTo>
                        <a:pt x="196" y="2640"/>
                      </a:lnTo>
                      <a:lnTo>
                        <a:pt x="177" y="2650"/>
                      </a:lnTo>
                      <a:lnTo>
                        <a:pt x="148" y="2623"/>
                      </a:lnTo>
                      <a:lnTo>
                        <a:pt x="112" y="2464"/>
                      </a:lnTo>
                      <a:lnTo>
                        <a:pt x="97" y="2334"/>
                      </a:lnTo>
                      <a:lnTo>
                        <a:pt x="97" y="2281"/>
                      </a:lnTo>
                      <a:lnTo>
                        <a:pt x="82" y="2019"/>
                      </a:lnTo>
                      <a:lnTo>
                        <a:pt x="69" y="1928"/>
                      </a:lnTo>
                      <a:lnTo>
                        <a:pt x="63" y="1861"/>
                      </a:lnTo>
                      <a:lnTo>
                        <a:pt x="32" y="1546"/>
                      </a:lnTo>
                      <a:lnTo>
                        <a:pt x="0" y="882"/>
                      </a:lnTo>
                      <a:lnTo>
                        <a:pt x="8" y="702"/>
                      </a:lnTo>
                      <a:lnTo>
                        <a:pt x="25" y="542"/>
                      </a:lnTo>
                      <a:lnTo>
                        <a:pt x="38" y="202"/>
                      </a:lnTo>
                      <a:lnTo>
                        <a:pt x="15" y="25"/>
                      </a:lnTo>
                      <a:lnTo>
                        <a:pt x="21" y="8"/>
                      </a:lnTo>
                      <a:lnTo>
                        <a:pt x="34" y="0"/>
                      </a:lnTo>
                      <a:lnTo>
                        <a:pt x="59" y="21"/>
                      </a:lnTo>
                      <a:lnTo>
                        <a:pt x="59" y="21"/>
                      </a:lnTo>
                      <a:lnTo>
                        <a:pt x="59"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7451280" y="6261840"/>
                  <a:ext cx="504000" cy="60120"/>
                </a:xfrm>
                <a:custGeom>
                  <a:avLst/>
                  <a:gdLst/>
                  <a:ahLst/>
                  <a:rect l="l" t="t" r="r" b="b"/>
                  <a:pathLst>
                    <a:path w="1884" h="235">
                      <a:moveTo>
                        <a:pt x="15" y="192"/>
                      </a:moveTo>
                      <a:lnTo>
                        <a:pt x="112" y="163"/>
                      </a:lnTo>
                      <a:lnTo>
                        <a:pt x="194" y="137"/>
                      </a:lnTo>
                      <a:lnTo>
                        <a:pt x="276" y="112"/>
                      </a:lnTo>
                      <a:lnTo>
                        <a:pt x="367" y="87"/>
                      </a:lnTo>
                      <a:lnTo>
                        <a:pt x="481" y="64"/>
                      </a:lnTo>
                      <a:lnTo>
                        <a:pt x="593" y="51"/>
                      </a:lnTo>
                      <a:lnTo>
                        <a:pt x="1430" y="32"/>
                      </a:lnTo>
                      <a:lnTo>
                        <a:pt x="1671" y="17"/>
                      </a:lnTo>
                      <a:lnTo>
                        <a:pt x="1764" y="17"/>
                      </a:lnTo>
                      <a:lnTo>
                        <a:pt x="1856" y="0"/>
                      </a:lnTo>
                      <a:lnTo>
                        <a:pt x="1884" y="9"/>
                      </a:lnTo>
                      <a:lnTo>
                        <a:pt x="1875" y="40"/>
                      </a:lnTo>
                      <a:lnTo>
                        <a:pt x="1823" y="63"/>
                      </a:lnTo>
                      <a:lnTo>
                        <a:pt x="1778" y="80"/>
                      </a:lnTo>
                      <a:lnTo>
                        <a:pt x="1675" y="99"/>
                      </a:lnTo>
                      <a:lnTo>
                        <a:pt x="1430" y="108"/>
                      </a:lnTo>
                      <a:lnTo>
                        <a:pt x="1013" y="101"/>
                      </a:lnTo>
                      <a:lnTo>
                        <a:pt x="597" y="102"/>
                      </a:lnTo>
                      <a:lnTo>
                        <a:pt x="378" y="137"/>
                      </a:lnTo>
                      <a:lnTo>
                        <a:pt x="205" y="182"/>
                      </a:lnTo>
                      <a:lnTo>
                        <a:pt x="124" y="207"/>
                      </a:lnTo>
                      <a:lnTo>
                        <a:pt x="31" y="235"/>
                      </a:lnTo>
                      <a:lnTo>
                        <a:pt x="0" y="220"/>
                      </a:lnTo>
                      <a:lnTo>
                        <a:pt x="15" y="192"/>
                      </a:lnTo>
                      <a:lnTo>
                        <a:pt x="15" y="192"/>
                      </a:lnTo>
                      <a:lnTo>
                        <a:pt x="15" y="19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34" name=""/>
                <p:cNvSpPr/>
                <p:nvPr/>
              </p:nvSpPr>
              <p:spPr>
                <a:xfrm>
                  <a:off x="7959960" y="5579280"/>
                  <a:ext cx="41040" cy="695520"/>
                </a:xfrm>
                <a:custGeom>
                  <a:avLst/>
                  <a:gdLst/>
                  <a:ahLst/>
                  <a:rect l="l" t="t" r="r" b="b"/>
                  <a:pathLst>
                    <a:path w="154" h="2724">
                      <a:moveTo>
                        <a:pt x="107" y="12"/>
                      </a:moveTo>
                      <a:lnTo>
                        <a:pt x="141" y="150"/>
                      </a:lnTo>
                      <a:lnTo>
                        <a:pt x="143" y="219"/>
                      </a:lnTo>
                      <a:lnTo>
                        <a:pt x="141" y="295"/>
                      </a:lnTo>
                      <a:lnTo>
                        <a:pt x="154" y="681"/>
                      </a:lnTo>
                      <a:lnTo>
                        <a:pt x="128" y="1492"/>
                      </a:lnTo>
                      <a:lnTo>
                        <a:pt x="105" y="1836"/>
                      </a:lnTo>
                      <a:lnTo>
                        <a:pt x="82" y="2380"/>
                      </a:lnTo>
                      <a:lnTo>
                        <a:pt x="95" y="2699"/>
                      </a:lnTo>
                      <a:lnTo>
                        <a:pt x="80" y="2724"/>
                      </a:lnTo>
                      <a:lnTo>
                        <a:pt x="56" y="2705"/>
                      </a:lnTo>
                      <a:lnTo>
                        <a:pt x="0" y="2380"/>
                      </a:lnTo>
                      <a:lnTo>
                        <a:pt x="25" y="1829"/>
                      </a:lnTo>
                      <a:lnTo>
                        <a:pt x="57" y="1489"/>
                      </a:lnTo>
                      <a:lnTo>
                        <a:pt x="92" y="681"/>
                      </a:lnTo>
                      <a:lnTo>
                        <a:pt x="92" y="667"/>
                      </a:lnTo>
                      <a:lnTo>
                        <a:pt x="92" y="654"/>
                      </a:lnTo>
                      <a:lnTo>
                        <a:pt x="92" y="641"/>
                      </a:lnTo>
                      <a:lnTo>
                        <a:pt x="92" y="627"/>
                      </a:lnTo>
                      <a:lnTo>
                        <a:pt x="92" y="601"/>
                      </a:lnTo>
                      <a:lnTo>
                        <a:pt x="92" y="597"/>
                      </a:lnTo>
                      <a:lnTo>
                        <a:pt x="92" y="589"/>
                      </a:lnTo>
                      <a:lnTo>
                        <a:pt x="92" y="580"/>
                      </a:lnTo>
                      <a:lnTo>
                        <a:pt x="94" y="489"/>
                      </a:lnTo>
                      <a:lnTo>
                        <a:pt x="95" y="397"/>
                      </a:lnTo>
                      <a:lnTo>
                        <a:pt x="95" y="386"/>
                      </a:lnTo>
                      <a:lnTo>
                        <a:pt x="95" y="380"/>
                      </a:lnTo>
                      <a:lnTo>
                        <a:pt x="95" y="377"/>
                      </a:lnTo>
                      <a:lnTo>
                        <a:pt x="95" y="377"/>
                      </a:lnTo>
                      <a:lnTo>
                        <a:pt x="95" y="375"/>
                      </a:lnTo>
                      <a:lnTo>
                        <a:pt x="95" y="375"/>
                      </a:lnTo>
                      <a:lnTo>
                        <a:pt x="95" y="348"/>
                      </a:lnTo>
                      <a:lnTo>
                        <a:pt x="95" y="337"/>
                      </a:lnTo>
                      <a:lnTo>
                        <a:pt x="95" y="323"/>
                      </a:lnTo>
                      <a:lnTo>
                        <a:pt x="95" y="295"/>
                      </a:lnTo>
                      <a:lnTo>
                        <a:pt x="99" y="160"/>
                      </a:lnTo>
                      <a:lnTo>
                        <a:pt x="90" y="97"/>
                      </a:lnTo>
                      <a:lnTo>
                        <a:pt x="67" y="31"/>
                      </a:lnTo>
                      <a:lnTo>
                        <a:pt x="80" y="0"/>
                      </a:lnTo>
                      <a:lnTo>
                        <a:pt x="107" y="12"/>
                      </a:lnTo>
                      <a:lnTo>
                        <a:pt x="107" y="12"/>
                      </a:lnTo>
                      <a:lnTo>
                        <a:pt x="107"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7477560" y="5735520"/>
                  <a:ext cx="434160" cy="35640"/>
                </a:xfrm>
                <a:custGeom>
                  <a:avLst/>
                  <a:gdLst/>
                  <a:ahLst/>
                  <a:rect l="l" t="t" r="r" b="b"/>
                  <a:pathLst>
                    <a:path w="1624" h="139">
                      <a:moveTo>
                        <a:pt x="19" y="95"/>
                      </a:moveTo>
                      <a:lnTo>
                        <a:pt x="435" y="59"/>
                      </a:lnTo>
                      <a:lnTo>
                        <a:pt x="848" y="50"/>
                      </a:lnTo>
                      <a:lnTo>
                        <a:pt x="1069" y="29"/>
                      </a:lnTo>
                      <a:lnTo>
                        <a:pt x="1428" y="10"/>
                      </a:lnTo>
                      <a:lnTo>
                        <a:pt x="1597" y="0"/>
                      </a:lnTo>
                      <a:lnTo>
                        <a:pt x="1624" y="14"/>
                      </a:lnTo>
                      <a:lnTo>
                        <a:pt x="1607" y="40"/>
                      </a:lnTo>
                      <a:lnTo>
                        <a:pt x="1430" y="54"/>
                      </a:lnTo>
                      <a:lnTo>
                        <a:pt x="1074" y="73"/>
                      </a:lnTo>
                      <a:lnTo>
                        <a:pt x="848" y="95"/>
                      </a:lnTo>
                      <a:lnTo>
                        <a:pt x="437" y="105"/>
                      </a:lnTo>
                      <a:lnTo>
                        <a:pt x="25" y="139"/>
                      </a:lnTo>
                      <a:lnTo>
                        <a:pt x="0" y="118"/>
                      </a:lnTo>
                      <a:lnTo>
                        <a:pt x="4" y="103"/>
                      </a:lnTo>
                      <a:lnTo>
                        <a:pt x="19" y="95"/>
                      </a:lnTo>
                      <a:lnTo>
                        <a:pt x="19" y="95"/>
                      </a:lnTo>
                      <a:lnTo>
                        <a:pt x="19" y="95"/>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736" name=""/>
                <p:cNvSpPr/>
                <p:nvPr/>
              </p:nvSpPr>
              <p:spPr>
                <a:xfrm>
                  <a:off x="7481880" y="5798520"/>
                  <a:ext cx="442080" cy="29520"/>
                </a:xfrm>
                <a:custGeom>
                  <a:avLst/>
                  <a:gdLst/>
                  <a:ahLst/>
                  <a:rect l="l" t="t" r="r" b="b"/>
                  <a:pathLst>
                    <a:path w="1652" h="116">
                      <a:moveTo>
                        <a:pt x="19" y="73"/>
                      </a:moveTo>
                      <a:lnTo>
                        <a:pt x="219" y="56"/>
                      </a:lnTo>
                      <a:lnTo>
                        <a:pt x="418" y="56"/>
                      </a:lnTo>
                      <a:lnTo>
                        <a:pt x="740" y="56"/>
                      </a:lnTo>
                      <a:lnTo>
                        <a:pt x="1025" y="39"/>
                      </a:lnTo>
                      <a:lnTo>
                        <a:pt x="1308" y="12"/>
                      </a:lnTo>
                      <a:lnTo>
                        <a:pt x="1631" y="0"/>
                      </a:lnTo>
                      <a:lnTo>
                        <a:pt x="1652" y="21"/>
                      </a:lnTo>
                      <a:lnTo>
                        <a:pt x="1631" y="44"/>
                      </a:lnTo>
                      <a:lnTo>
                        <a:pt x="1308" y="56"/>
                      </a:lnTo>
                      <a:lnTo>
                        <a:pt x="1025" y="80"/>
                      </a:lnTo>
                      <a:lnTo>
                        <a:pt x="738" y="101"/>
                      </a:lnTo>
                      <a:lnTo>
                        <a:pt x="417" y="97"/>
                      </a:lnTo>
                      <a:lnTo>
                        <a:pt x="219" y="97"/>
                      </a:lnTo>
                      <a:lnTo>
                        <a:pt x="23" y="116"/>
                      </a:lnTo>
                      <a:lnTo>
                        <a:pt x="0" y="97"/>
                      </a:lnTo>
                      <a:lnTo>
                        <a:pt x="4" y="82"/>
                      </a:lnTo>
                      <a:lnTo>
                        <a:pt x="19" y="73"/>
                      </a:lnTo>
                      <a:lnTo>
                        <a:pt x="19" y="73"/>
                      </a:lnTo>
                      <a:lnTo>
                        <a:pt x="19" y="7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737" name=""/>
                <p:cNvSpPr/>
                <p:nvPr/>
              </p:nvSpPr>
              <p:spPr>
                <a:xfrm>
                  <a:off x="7477560" y="5793480"/>
                  <a:ext cx="28080" cy="275040"/>
                </a:xfrm>
                <a:custGeom>
                  <a:avLst/>
                  <a:gdLst/>
                  <a:ahLst/>
                  <a:rect l="l" t="t" r="r" b="b"/>
                  <a:pathLst>
                    <a:path w="107" h="1078">
                      <a:moveTo>
                        <a:pt x="44" y="23"/>
                      </a:moveTo>
                      <a:lnTo>
                        <a:pt x="61" y="415"/>
                      </a:lnTo>
                      <a:lnTo>
                        <a:pt x="91" y="805"/>
                      </a:lnTo>
                      <a:lnTo>
                        <a:pt x="107" y="1055"/>
                      </a:lnTo>
                      <a:lnTo>
                        <a:pt x="86" y="1078"/>
                      </a:lnTo>
                      <a:lnTo>
                        <a:pt x="61" y="1057"/>
                      </a:lnTo>
                      <a:lnTo>
                        <a:pt x="46" y="806"/>
                      </a:lnTo>
                      <a:lnTo>
                        <a:pt x="0" y="23"/>
                      </a:lnTo>
                      <a:lnTo>
                        <a:pt x="21" y="0"/>
                      </a:lnTo>
                      <a:lnTo>
                        <a:pt x="44" y="23"/>
                      </a:lnTo>
                      <a:lnTo>
                        <a:pt x="44" y="23"/>
                      </a:lnTo>
                      <a:lnTo>
                        <a:pt x="4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a:off x="7525080" y="5757120"/>
                  <a:ext cx="24480" cy="309960"/>
                </a:xfrm>
                <a:custGeom>
                  <a:avLst/>
                  <a:gdLst/>
                  <a:ahLst/>
                  <a:rect l="l" t="t" r="r" b="b"/>
                  <a:pathLst>
                    <a:path w="93" h="1215">
                      <a:moveTo>
                        <a:pt x="42" y="19"/>
                      </a:moveTo>
                      <a:lnTo>
                        <a:pt x="68" y="276"/>
                      </a:lnTo>
                      <a:lnTo>
                        <a:pt x="89" y="1017"/>
                      </a:lnTo>
                      <a:lnTo>
                        <a:pt x="93" y="1194"/>
                      </a:lnTo>
                      <a:lnTo>
                        <a:pt x="70" y="1215"/>
                      </a:lnTo>
                      <a:lnTo>
                        <a:pt x="49" y="1190"/>
                      </a:lnTo>
                      <a:lnTo>
                        <a:pt x="44" y="1017"/>
                      </a:lnTo>
                      <a:lnTo>
                        <a:pt x="25" y="277"/>
                      </a:lnTo>
                      <a:lnTo>
                        <a:pt x="0" y="25"/>
                      </a:lnTo>
                      <a:lnTo>
                        <a:pt x="6" y="8"/>
                      </a:lnTo>
                      <a:lnTo>
                        <a:pt x="17" y="0"/>
                      </a:lnTo>
                      <a:lnTo>
                        <a:pt x="42" y="19"/>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7589520" y="5758200"/>
                  <a:ext cx="20880" cy="321120"/>
                </a:xfrm>
                <a:custGeom>
                  <a:avLst/>
                  <a:gdLst/>
                  <a:ahLst/>
                  <a:rect l="l" t="t" r="r" b="b"/>
                  <a:pathLst>
                    <a:path w="78" h="1258">
                      <a:moveTo>
                        <a:pt x="46" y="24"/>
                      </a:moveTo>
                      <a:lnTo>
                        <a:pt x="50" y="230"/>
                      </a:lnTo>
                      <a:lnTo>
                        <a:pt x="59" y="433"/>
                      </a:lnTo>
                      <a:lnTo>
                        <a:pt x="54" y="722"/>
                      </a:lnTo>
                      <a:lnTo>
                        <a:pt x="59" y="1013"/>
                      </a:lnTo>
                      <a:lnTo>
                        <a:pt x="78" y="1237"/>
                      </a:lnTo>
                      <a:lnTo>
                        <a:pt x="73" y="1254"/>
                      </a:lnTo>
                      <a:lnTo>
                        <a:pt x="59" y="1258"/>
                      </a:lnTo>
                      <a:lnTo>
                        <a:pt x="36" y="1237"/>
                      </a:lnTo>
                      <a:lnTo>
                        <a:pt x="17" y="1015"/>
                      </a:lnTo>
                      <a:lnTo>
                        <a:pt x="12" y="724"/>
                      </a:lnTo>
                      <a:lnTo>
                        <a:pt x="17" y="433"/>
                      </a:lnTo>
                      <a:lnTo>
                        <a:pt x="0" y="21"/>
                      </a:lnTo>
                      <a:lnTo>
                        <a:pt x="25" y="0"/>
                      </a:lnTo>
                      <a:lnTo>
                        <a:pt x="46" y="24"/>
                      </a:lnTo>
                      <a:lnTo>
                        <a:pt x="46" y="24"/>
                      </a:lnTo>
                      <a:lnTo>
                        <a:pt x="46"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0" name=""/>
                <p:cNvSpPr/>
                <p:nvPr/>
              </p:nvSpPr>
              <p:spPr>
                <a:xfrm>
                  <a:off x="7648200" y="5754240"/>
                  <a:ext cx="18720" cy="311400"/>
                </a:xfrm>
                <a:custGeom>
                  <a:avLst/>
                  <a:gdLst/>
                  <a:ahLst/>
                  <a:rect l="l" t="t" r="r" b="b"/>
                  <a:pathLst>
                    <a:path w="70" h="1220">
                      <a:moveTo>
                        <a:pt x="44" y="22"/>
                      </a:moveTo>
                      <a:lnTo>
                        <a:pt x="63" y="821"/>
                      </a:lnTo>
                      <a:lnTo>
                        <a:pt x="70" y="1195"/>
                      </a:lnTo>
                      <a:lnTo>
                        <a:pt x="65" y="1212"/>
                      </a:lnTo>
                      <a:lnTo>
                        <a:pt x="49" y="1220"/>
                      </a:lnTo>
                      <a:lnTo>
                        <a:pt x="27" y="1201"/>
                      </a:lnTo>
                      <a:lnTo>
                        <a:pt x="19" y="821"/>
                      </a:lnTo>
                      <a:lnTo>
                        <a:pt x="0" y="22"/>
                      </a:lnTo>
                      <a:lnTo>
                        <a:pt x="21" y="0"/>
                      </a:lnTo>
                      <a:lnTo>
                        <a:pt x="44" y="22"/>
                      </a:lnTo>
                      <a:lnTo>
                        <a:pt x="44" y="22"/>
                      </a:lnTo>
                      <a:lnTo>
                        <a:pt x="44"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1" name=""/>
                <p:cNvSpPr/>
                <p:nvPr/>
              </p:nvSpPr>
              <p:spPr>
                <a:xfrm>
                  <a:off x="7706160" y="5755680"/>
                  <a:ext cx="22680" cy="304560"/>
                </a:xfrm>
                <a:custGeom>
                  <a:avLst/>
                  <a:gdLst/>
                  <a:ahLst/>
                  <a:rect l="l" t="t" r="r" b="b"/>
                  <a:pathLst>
                    <a:path w="85" h="1194">
                      <a:moveTo>
                        <a:pt x="43" y="23"/>
                      </a:moveTo>
                      <a:lnTo>
                        <a:pt x="59" y="409"/>
                      </a:lnTo>
                      <a:lnTo>
                        <a:pt x="76" y="795"/>
                      </a:lnTo>
                      <a:lnTo>
                        <a:pt x="85" y="1167"/>
                      </a:lnTo>
                      <a:lnTo>
                        <a:pt x="68" y="1194"/>
                      </a:lnTo>
                      <a:lnTo>
                        <a:pt x="43" y="1177"/>
                      </a:lnTo>
                      <a:lnTo>
                        <a:pt x="22" y="985"/>
                      </a:lnTo>
                      <a:lnTo>
                        <a:pt x="30" y="795"/>
                      </a:lnTo>
                      <a:lnTo>
                        <a:pt x="15" y="409"/>
                      </a:lnTo>
                      <a:lnTo>
                        <a:pt x="0" y="23"/>
                      </a:lnTo>
                      <a:lnTo>
                        <a:pt x="22" y="0"/>
                      </a:lnTo>
                      <a:lnTo>
                        <a:pt x="43" y="23"/>
                      </a:lnTo>
                      <a:lnTo>
                        <a:pt x="43" y="23"/>
                      </a:lnTo>
                      <a:lnTo>
                        <a:pt x="43"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7838280" y="5742720"/>
                  <a:ext cx="20880" cy="324000"/>
                </a:xfrm>
                <a:custGeom>
                  <a:avLst/>
                  <a:gdLst/>
                  <a:ahLst/>
                  <a:rect l="l" t="t" r="r" b="b"/>
                  <a:pathLst>
                    <a:path w="80" h="1270">
                      <a:moveTo>
                        <a:pt x="44" y="19"/>
                      </a:moveTo>
                      <a:lnTo>
                        <a:pt x="48" y="308"/>
                      </a:lnTo>
                      <a:lnTo>
                        <a:pt x="65" y="530"/>
                      </a:lnTo>
                      <a:lnTo>
                        <a:pt x="80" y="1247"/>
                      </a:lnTo>
                      <a:lnTo>
                        <a:pt x="57" y="1270"/>
                      </a:lnTo>
                      <a:lnTo>
                        <a:pt x="36" y="1247"/>
                      </a:lnTo>
                      <a:lnTo>
                        <a:pt x="19" y="530"/>
                      </a:lnTo>
                      <a:lnTo>
                        <a:pt x="4" y="313"/>
                      </a:lnTo>
                      <a:lnTo>
                        <a:pt x="0" y="25"/>
                      </a:lnTo>
                      <a:lnTo>
                        <a:pt x="4" y="5"/>
                      </a:lnTo>
                      <a:lnTo>
                        <a:pt x="19" y="0"/>
                      </a:lnTo>
                      <a:lnTo>
                        <a:pt x="44" y="19"/>
                      </a:lnTo>
                      <a:lnTo>
                        <a:pt x="44" y="19"/>
                      </a:lnTo>
                      <a:lnTo>
                        <a:pt x="44"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7900560" y="5757120"/>
                  <a:ext cx="14400" cy="311400"/>
                </a:xfrm>
                <a:custGeom>
                  <a:avLst/>
                  <a:gdLst/>
                  <a:ahLst/>
                  <a:rect l="l" t="t" r="r" b="b"/>
                  <a:pathLst>
                    <a:path w="53" h="1220">
                      <a:moveTo>
                        <a:pt x="42" y="19"/>
                      </a:moveTo>
                      <a:lnTo>
                        <a:pt x="53" y="264"/>
                      </a:lnTo>
                      <a:lnTo>
                        <a:pt x="42" y="1197"/>
                      </a:lnTo>
                      <a:lnTo>
                        <a:pt x="19" y="1220"/>
                      </a:lnTo>
                      <a:lnTo>
                        <a:pt x="0" y="1197"/>
                      </a:lnTo>
                      <a:lnTo>
                        <a:pt x="11" y="264"/>
                      </a:lnTo>
                      <a:lnTo>
                        <a:pt x="0" y="25"/>
                      </a:lnTo>
                      <a:lnTo>
                        <a:pt x="4" y="8"/>
                      </a:lnTo>
                      <a:lnTo>
                        <a:pt x="17" y="0"/>
                      </a:lnTo>
                      <a:lnTo>
                        <a:pt x="42" y="19"/>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7531560" y="6183360"/>
                  <a:ext cx="342000" cy="14760"/>
                </a:xfrm>
                <a:custGeom>
                  <a:avLst/>
                  <a:gdLst/>
                  <a:ahLst/>
                  <a:rect l="l" t="t" r="r" b="b"/>
                  <a:pathLst>
                    <a:path w="1277" h="57">
                      <a:moveTo>
                        <a:pt x="22" y="9"/>
                      </a:moveTo>
                      <a:lnTo>
                        <a:pt x="481" y="13"/>
                      </a:lnTo>
                      <a:lnTo>
                        <a:pt x="935" y="0"/>
                      </a:lnTo>
                      <a:lnTo>
                        <a:pt x="1256" y="13"/>
                      </a:lnTo>
                      <a:lnTo>
                        <a:pt x="1277" y="36"/>
                      </a:lnTo>
                      <a:lnTo>
                        <a:pt x="1254" y="57"/>
                      </a:lnTo>
                      <a:lnTo>
                        <a:pt x="935" y="43"/>
                      </a:lnTo>
                      <a:lnTo>
                        <a:pt x="479" y="57"/>
                      </a:lnTo>
                      <a:lnTo>
                        <a:pt x="19" y="53"/>
                      </a:lnTo>
                      <a:lnTo>
                        <a:pt x="0" y="28"/>
                      </a:lnTo>
                      <a:lnTo>
                        <a:pt x="22" y="9"/>
                      </a:lnTo>
                      <a:lnTo>
                        <a:pt x="22" y="9"/>
                      </a:lnTo>
                      <a:lnTo>
                        <a:pt x="22" y="9"/>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745" name=""/>
                <p:cNvSpPr/>
                <p:nvPr/>
              </p:nvSpPr>
              <p:spPr>
                <a:xfrm>
                  <a:off x="7526880" y="6220440"/>
                  <a:ext cx="349560" cy="20880"/>
                </a:xfrm>
                <a:custGeom>
                  <a:avLst/>
                  <a:gdLst/>
                  <a:ahLst/>
                  <a:rect l="l" t="t" r="r" b="b"/>
                  <a:pathLst>
                    <a:path w="1306" h="84">
                      <a:moveTo>
                        <a:pt x="17" y="40"/>
                      </a:moveTo>
                      <a:lnTo>
                        <a:pt x="190" y="14"/>
                      </a:lnTo>
                      <a:lnTo>
                        <a:pt x="342" y="0"/>
                      </a:lnTo>
                      <a:lnTo>
                        <a:pt x="667" y="4"/>
                      </a:lnTo>
                      <a:lnTo>
                        <a:pt x="789" y="21"/>
                      </a:lnTo>
                      <a:lnTo>
                        <a:pt x="908" y="36"/>
                      </a:lnTo>
                      <a:lnTo>
                        <a:pt x="1285" y="16"/>
                      </a:lnTo>
                      <a:lnTo>
                        <a:pt x="1306" y="38"/>
                      </a:lnTo>
                      <a:lnTo>
                        <a:pt x="1285" y="59"/>
                      </a:lnTo>
                      <a:lnTo>
                        <a:pt x="1096" y="73"/>
                      </a:lnTo>
                      <a:lnTo>
                        <a:pt x="906" y="80"/>
                      </a:lnTo>
                      <a:lnTo>
                        <a:pt x="787" y="65"/>
                      </a:lnTo>
                      <a:lnTo>
                        <a:pt x="663" y="50"/>
                      </a:lnTo>
                      <a:lnTo>
                        <a:pt x="344" y="46"/>
                      </a:lnTo>
                      <a:lnTo>
                        <a:pt x="22" y="84"/>
                      </a:lnTo>
                      <a:lnTo>
                        <a:pt x="0" y="67"/>
                      </a:lnTo>
                      <a:lnTo>
                        <a:pt x="17" y="40"/>
                      </a:lnTo>
                      <a:lnTo>
                        <a:pt x="17" y="40"/>
                      </a:lnTo>
                      <a:lnTo>
                        <a:pt x="17" y="4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46" name=""/>
                <p:cNvSpPr/>
                <p:nvPr/>
              </p:nvSpPr>
              <p:spPr>
                <a:xfrm>
                  <a:off x="7527240" y="6062400"/>
                  <a:ext cx="356760" cy="18720"/>
                </a:xfrm>
                <a:custGeom>
                  <a:avLst/>
                  <a:gdLst/>
                  <a:ahLst/>
                  <a:rect l="l" t="t" r="r" b="b"/>
                  <a:pathLst>
                    <a:path w="1335" h="74">
                      <a:moveTo>
                        <a:pt x="25" y="26"/>
                      </a:moveTo>
                      <a:lnTo>
                        <a:pt x="441" y="32"/>
                      </a:lnTo>
                      <a:lnTo>
                        <a:pt x="860" y="13"/>
                      </a:lnTo>
                      <a:lnTo>
                        <a:pt x="1088" y="0"/>
                      </a:lnTo>
                      <a:lnTo>
                        <a:pt x="1316" y="19"/>
                      </a:lnTo>
                      <a:lnTo>
                        <a:pt x="1335" y="41"/>
                      </a:lnTo>
                      <a:lnTo>
                        <a:pt x="1310" y="62"/>
                      </a:lnTo>
                      <a:lnTo>
                        <a:pt x="1088" y="41"/>
                      </a:lnTo>
                      <a:lnTo>
                        <a:pt x="864" y="57"/>
                      </a:lnTo>
                      <a:lnTo>
                        <a:pt x="443" y="74"/>
                      </a:lnTo>
                      <a:lnTo>
                        <a:pt x="25" y="68"/>
                      </a:lnTo>
                      <a:lnTo>
                        <a:pt x="0" y="49"/>
                      </a:lnTo>
                      <a:lnTo>
                        <a:pt x="25" y="26"/>
                      </a:lnTo>
                      <a:lnTo>
                        <a:pt x="25" y="26"/>
                      </a:lnTo>
                      <a:lnTo>
                        <a:pt x="25" y="26"/>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747" name=""/>
                <p:cNvSpPr/>
                <p:nvPr/>
              </p:nvSpPr>
              <p:spPr>
                <a:xfrm>
                  <a:off x="7773120" y="5751000"/>
                  <a:ext cx="21240" cy="309240"/>
                </a:xfrm>
                <a:custGeom>
                  <a:avLst/>
                  <a:gdLst/>
                  <a:ahLst/>
                  <a:rect l="l" t="t" r="r" b="b"/>
                  <a:pathLst>
                    <a:path w="80" h="1213">
                      <a:moveTo>
                        <a:pt x="45" y="21"/>
                      </a:moveTo>
                      <a:lnTo>
                        <a:pt x="55" y="259"/>
                      </a:lnTo>
                      <a:lnTo>
                        <a:pt x="76" y="493"/>
                      </a:lnTo>
                      <a:lnTo>
                        <a:pt x="80" y="677"/>
                      </a:lnTo>
                      <a:lnTo>
                        <a:pt x="76" y="840"/>
                      </a:lnTo>
                      <a:lnTo>
                        <a:pt x="80" y="1190"/>
                      </a:lnTo>
                      <a:lnTo>
                        <a:pt x="74" y="1207"/>
                      </a:lnTo>
                      <a:lnTo>
                        <a:pt x="59" y="1213"/>
                      </a:lnTo>
                      <a:lnTo>
                        <a:pt x="36" y="1192"/>
                      </a:lnTo>
                      <a:lnTo>
                        <a:pt x="32" y="844"/>
                      </a:lnTo>
                      <a:lnTo>
                        <a:pt x="36" y="679"/>
                      </a:lnTo>
                      <a:lnTo>
                        <a:pt x="32" y="494"/>
                      </a:lnTo>
                      <a:lnTo>
                        <a:pt x="0" y="21"/>
                      </a:lnTo>
                      <a:lnTo>
                        <a:pt x="22" y="0"/>
                      </a:lnTo>
                      <a:lnTo>
                        <a:pt x="45" y="21"/>
                      </a:lnTo>
                      <a:lnTo>
                        <a:pt x="45" y="21"/>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8" name=""/>
              <p:cNvGrpSpPr/>
              <p:nvPr/>
            </p:nvGrpSpPr>
            <p:grpSpPr>
              <a:xfrm>
                <a:off x="7772400" y="5943600"/>
                <a:ext cx="325440" cy="461520"/>
                <a:chOff x="7772400" y="5943600"/>
                <a:chExt cx="325440" cy="461520"/>
              </a:xfrm>
            </p:grpSpPr>
            <p:sp>
              <p:nvSpPr>
                <p:cNvPr id="749" name=""/>
                <p:cNvSpPr/>
                <p:nvPr/>
              </p:nvSpPr>
              <p:spPr>
                <a:xfrm>
                  <a:off x="7775640" y="6076440"/>
                  <a:ext cx="57600" cy="76680"/>
                </a:xfrm>
                <a:custGeom>
                  <a:avLst/>
                  <a:gdLst/>
                  <a:ahLst/>
                  <a:rect l="l" t="t" r="r" b="b"/>
                  <a:pathLst>
                    <a:path w="443" h="626">
                      <a:moveTo>
                        <a:pt x="0" y="0"/>
                      </a:moveTo>
                      <a:lnTo>
                        <a:pt x="19" y="276"/>
                      </a:lnTo>
                      <a:lnTo>
                        <a:pt x="114" y="498"/>
                      </a:lnTo>
                      <a:lnTo>
                        <a:pt x="340" y="626"/>
                      </a:lnTo>
                      <a:lnTo>
                        <a:pt x="443" y="550"/>
                      </a:lnTo>
                      <a:lnTo>
                        <a:pt x="353" y="417"/>
                      </a:lnTo>
                      <a:lnTo>
                        <a:pt x="201" y="396"/>
                      </a:lnTo>
                      <a:lnTo>
                        <a:pt x="101" y="306"/>
                      </a:lnTo>
                      <a:lnTo>
                        <a:pt x="0" y="0"/>
                      </a:lnTo>
                      <a:lnTo>
                        <a:pt x="0" y="0"/>
                      </a:lnTo>
                      <a:close/>
                    </a:path>
                  </a:pathLst>
                </a:custGeom>
                <a:solidFill>
                  <a:srgbClr val="ffd9d9"/>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750" name=""/>
                <p:cNvSpPr/>
                <p:nvPr/>
              </p:nvSpPr>
              <p:spPr>
                <a:xfrm>
                  <a:off x="7899840" y="6158160"/>
                  <a:ext cx="149760" cy="47160"/>
                </a:xfrm>
                <a:custGeom>
                  <a:avLst/>
                  <a:gdLst/>
                  <a:ahLst/>
                  <a:rect l="l" t="t" r="r" b="b"/>
                  <a:pathLst>
                    <a:path w="1156" h="384">
                      <a:moveTo>
                        <a:pt x="0" y="306"/>
                      </a:moveTo>
                      <a:lnTo>
                        <a:pt x="139" y="268"/>
                      </a:lnTo>
                      <a:lnTo>
                        <a:pt x="304" y="121"/>
                      </a:lnTo>
                      <a:lnTo>
                        <a:pt x="493" y="273"/>
                      </a:lnTo>
                      <a:lnTo>
                        <a:pt x="443" y="116"/>
                      </a:lnTo>
                      <a:lnTo>
                        <a:pt x="607" y="230"/>
                      </a:lnTo>
                      <a:lnTo>
                        <a:pt x="734" y="165"/>
                      </a:lnTo>
                      <a:lnTo>
                        <a:pt x="840" y="70"/>
                      </a:lnTo>
                      <a:lnTo>
                        <a:pt x="854" y="19"/>
                      </a:lnTo>
                      <a:lnTo>
                        <a:pt x="979" y="0"/>
                      </a:lnTo>
                      <a:lnTo>
                        <a:pt x="1156" y="26"/>
                      </a:lnTo>
                      <a:lnTo>
                        <a:pt x="854" y="205"/>
                      </a:lnTo>
                      <a:lnTo>
                        <a:pt x="498" y="363"/>
                      </a:lnTo>
                      <a:lnTo>
                        <a:pt x="95" y="384"/>
                      </a:lnTo>
                      <a:lnTo>
                        <a:pt x="0" y="306"/>
                      </a:lnTo>
                      <a:lnTo>
                        <a:pt x="0" y="306"/>
                      </a:lnTo>
                      <a:close/>
                    </a:path>
                  </a:pathLst>
                </a:custGeom>
                <a:solidFill>
                  <a:srgbClr val="ffd9d9"/>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51" name=""/>
                <p:cNvSpPr/>
                <p:nvPr/>
              </p:nvSpPr>
              <p:spPr>
                <a:xfrm>
                  <a:off x="7794000" y="5965560"/>
                  <a:ext cx="224640" cy="219240"/>
                </a:xfrm>
                <a:custGeom>
                  <a:avLst/>
                  <a:gdLst/>
                  <a:ahLst/>
                  <a:rect l="l" t="t" r="r" b="b"/>
                  <a:pathLst>
                    <a:path w="1731" h="1779">
                      <a:moveTo>
                        <a:pt x="557" y="0"/>
                      </a:moveTo>
                      <a:lnTo>
                        <a:pt x="233" y="314"/>
                      </a:lnTo>
                      <a:lnTo>
                        <a:pt x="43" y="485"/>
                      </a:lnTo>
                      <a:lnTo>
                        <a:pt x="100" y="740"/>
                      </a:lnTo>
                      <a:lnTo>
                        <a:pt x="0" y="875"/>
                      </a:lnTo>
                      <a:lnTo>
                        <a:pt x="95" y="1091"/>
                      </a:lnTo>
                      <a:lnTo>
                        <a:pt x="138" y="1200"/>
                      </a:lnTo>
                      <a:lnTo>
                        <a:pt x="290" y="1283"/>
                      </a:lnTo>
                      <a:lnTo>
                        <a:pt x="595" y="829"/>
                      </a:lnTo>
                      <a:lnTo>
                        <a:pt x="1005" y="652"/>
                      </a:lnTo>
                      <a:lnTo>
                        <a:pt x="600" y="1053"/>
                      </a:lnTo>
                      <a:lnTo>
                        <a:pt x="366" y="1346"/>
                      </a:lnTo>
                      <a:lnTo>
                        <a:pt x="328" y="1538"/>
                      </a:lnTo>
                      <a:lnTo>
                        <a:pt x="606" y="1487"/>
                      </a:lnTo>
                      <a:lnTo>
                        <a:pt x="688" y="1492"/>
                      </a:lnTo>
                      <a:lnTo>
                        <a:pt x="752" y="1563"/>
                      </a:lnTo>
                      <a:lnTo>
                        <a:pt x="1188" y="1295"/>
                      </a:lnTo>
                      <a:lnTo>
                        <a:pt x="834" y="1679"/>
                      </a:lnTo>
                      <a:lnTo>
                        <a:pt x="847" y="1779"/>
                      </a:lnTo>
                      <a:lnTo>
                        <a:pt x="1062" y="1601"/>
                      </a:lnTo>
                      <a:lnTo>
                        <a:pt x="1302" y="1500"/>
                      </a:lnTo>
                      <a:lnTo>
                        <a:pt x="1707" y="1072"/>
                      </a:lnTo>
                      <a:lnTo>
                        <a:pt x="1731" y="696"/>
                      </a:lnTo>
                      <a:lnTo>
                        <a:pt x="1174" y="300"/>
                      </a:lnTo>
                      <a:lnTo>
                        <a:pt x="650" y="333"/>
                      </a:lnTo>
                      <a:lnTo>
                        <a:pt x="557" y="0"/>
                      </a:lnTo>
                      <a:lnTo>
                        <a:pt x="557" y="0"/>
                      </a:lnTo>
                      <a:close/>
                    </a:path>
                  </a:pathLst>
                </a:custGeom>
                <a:solidFill>
                  <a:srgbClr val="ff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782480" y="6122520"/>
                  <a:ext cx="136800" cy="82800"/>
                </a:xfrm>
                <a:custGeom>
                  <a:avLst/>
                  <a:gdLst/>
                  <a:ahLst/>
                  <a:rect l="l" t="t" r="r" b="b"/>
                  <a:pathLst>
                    <a:path w="1053" h="673">
                      <a:moveTo>
                        <a:pt x="0" y="0"/>
                      </a:moveTo>
                      <a:lnTo>
                        <a:pt x="120" y="80"/>
                      </a:lnTo>
                      <a:lnTo>
                        <a:pt x="255" y="173"/>
                      </a:lnTo>
                      <a:lnTo>
                        <a:pt x="375" y="144"/>
                      </a:lnTo>
                      <a:lnTo>
                        <a:pt x="437" y="43"/>
                      </a:lnTo>
                      <a:lnTo>
                        <a:pt x="388" y="294"/>
                      </a:lnTo>
                      <a:lnTo>
                        <a:pt x="510" y="351"/>
                      </a:lnTo>
                      <a:lnTo>
                        <a:pt x="665" y="380"/>
                      </a:lnTo>
                      <a:lnTo>
                        <a:pt x="749" y="351"/>
                      </a:lnTo>
                      <a:lnTo>
                        <a:pt x="793" y="479"/>
                      </a:lnTo>
                      <a:lnTo>
                        <a:pt x="1053" y="673"/>
                      </a:lnTo>
                      <a:lnTo>
                        <a:pt x="749" y="608"/>
                      </a:lnTo>
                      <a:lnTo>
                        <a:pt x="260" y="336"/>
                      </a:lnTo>
                      <a:lnTo>
                        <a:pt x="105" y="173"/>
                      </a:lnTo>
                      <a:lnTo>
                        <a:pt x="0" y="0"/>
                      </a:lnTo>
                      <a:lnTo>
                        <a:pt x="0" y="0"/>
                      </a:lnTo>
                      <a:close/>
                    </a:path>
                  </a:pathLst>
                </a:custGeom>
                <a:solidFill>
                  <a:srgbClr val="ff9999"/>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53" name=""/>
                <p:cNvSpPr/>
                <p:nvPr/>
              </p:nvSpPr>
              <p:spPr>
                <a:xfrm>
                  <a:off x="7779600" y="6192720"/>
                  <a:ext cx="258120" cy="199080"/>
                </a:xfrm>
                <a:custGeom>
                  <a:avLst/>
                  <a:gdLst/>
                  <a:ahLst/>
                  <a:rect l="l" t="t" r="r" b="b"/>
                  <a:pathLst>
                    <a:path w="1991" h="1616">
                      <a:moveTo>
                        <a:pt x="405" y="0"/>
                      </a:moveTo>
                      <a:lnTo>
                        <a:pt x="377" y="152"/>
                      </a:lnTo>
                      <a:lnTo>
                        <a:pt x="242" y="274"/>
                      </a:lnTo>
                      <a:lnTo>
                        <a:pt x="411" y="217"/>
                      </a:lnTo>
                      <a:lnTo>
                        <a:pt x="341" y="473"/>
                      </a:lnTo>
                      <a:lnTo>
                        <a:pt x="348" y="623"/>
                      </a:lnTo>
                      <a:lnTo>
                        <a:pt x="333" y="973"/>
                      </a:lnTo>
                      <a:lnTo>
                        <a:pt x="234" y="1230"/>
                      </a:lnTo>
                      <a:lnTo>
                        <a:pt x="744" y="838"/>
                      </a:lnTo>
                      <a:lnTo>
                        <a:pt x="561" y="1095"/>
                      </a:lnTo>
                      <a:lnTo>
                        <a:pt x="156" y="1374"/>
                      </a:lnTo>
                      <a:lnTo>
                        <a:pt x="0" y="1530"/>
                      </a:lnTo>
                      <a:lnTo>
                        <a:pt x="164" y="1551"/>
                      </a:lnTo>
                      <a:lnTo>
                        <a:pt x="510" y="1281"/>
                      </a:lnTo>
                      <a:lnTo>
                        <a:pt x="624" y="1281"/>
                      </a:lnTo>
                      <a:lnTo>
                        <a:pt x="715" y="1481"/>
                      </a:lnTo>
                      <a:lnTo>
                        <a:pt x="850" y="1616"/>
                      </a:lnTo>
                      <a:lnTo>
                        <a:pt x="892" y="1294"/>
                      </a:lnTo>
                      <a:lnTo>
                        <a:pt x="780" y="1188"/>
                      </a:lnTo>
                      <a:lnTo>
                        <a:pt x="858" y="895"/>
                      </a:lnTo>
                      <a:lnTo>
                        <a:pt x="985" y="608"/>
                      </a:lnTo>
                      <a:lnTo>
                        <a:pt x="1154" y="745"/>
                      </a:lnTo>
                      <a:lnTo>
                        <a:pt x="1339" y="1051"/>
                      </a:lnTo>
                      <a:lnTo>
                        <a:pt x="1424" y="1494"/>
                      </a:lnTo>
                      <a:lnTo>
                        <a:pt x="1609" y="1144"/>
                      </a:lnTo>
                      <a:lnTo>
                        <a:pt x="1955" y="1408"/>
                      </a:lnTo>
                      <a:lnTo>
                        <a:pt x="1778" y="1045"/>
                      </a:lnTo>
                      <a:lnTo>
                        <a:pt x="1983" y="1273"/>
                      </a:lnTo>
                      <a:lnTo>
                        <a:pt x="1827" y="595"/>
                      </a:lnTo>
                      <a:lnTo>
                        <a:pt x="1820" y="380"/>
                      </a:lnTo>
                      <a:lnTo>
                        <a:pt x="1991" y="367"/>
                      </a:lnTo>
                      <a:lnTo>
                        <a:pt x="1975" y="230"/>
                      </a:lnTo>
                      <a:lnTo>
                        <a:pt x="1877" y="274"/>
                      </a:lnTo>
                      <a:lnTo>
                        <a:pt x="1614" y="160"/>
                      </a:lnTo>
                      <a:lnTo>
                        <a:pt x="1523" y="217"/>
                      </a:lnTo>
                      <a:lnTo>
                        <a:pt x="772" y="137"/>
                      </a:lnTo>
                      <a:lnTo>
                        <a:pt x="405" y="0"/>
                      </a:lnTo>
                      <a:lnTo>
                        <a:pt x="405"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7787160" y="5948640"/>
                  <a:ext cx="299520" cy="266040"/>
                </a:xfrm>
                <a:custGeom>
                  <a:avLst/>
                  <a:gdLst/>
                  <a:ahLst/>
                  <a:rect l="l" t="t" r="r" b="b"/>
                  <a:pathLst>
                    <a:path w="2308" h="2164">
                      <a:moveTo>
                        <a:pt x="299" y="863"/>
                      </a:moveTo>
                      <a:lnTo>
                        <a:pt x="681" y="628"/>
                      </a:lnTo>
                      <a:lnTo>
                        <a:pt x="1289" y="571"/>
                      </a:lnTo>
                      <a:lnTo>
                        <a:pt x="1346" y="728"/>
                      </a:lnTo>
                      <a:lnTo>
                        <a:pt x="736" y="1264"/>
                      </a:lnTo>
                      <a:lnTo>
                        <a:pt x="595" y="1485"/>
                      </a:lnTo>
                      <a:lnTo>
                        <a:pt x="1707" y="1034"/>
                      </a:lnTo>
                      <a:lnTo>
                        <a:pt x="1063" y="1764"/>
                      </a:lnTo>
                      <a:lnTo>
                        <a:pt x="1190" y="1700"/>
                      </a:lnTo>
                      <a:lnTo>
                        <a:pt x="1295" y="1785"/>
                      </a:lnTo>
                      <a:lnTo>
                        <a:pt x="1494" y="1935"/>
                      </a:lnTo>
                      <a:lnTo>
                        <a:pt x="1700" y="1627"/>
                      </a:lnTo>
                      <a:lnTo>
                        <a:pt x="1975" y="1586"/>
                      </a:lnTo>
                      <a:lnTo>
                        <a:pt x="1926" y="1356"/>
                      </a:lnTo>
                      <a:lnTo>
                        <a:pt x="2171" y="1169"/>
                      </a:lnTo>
                      <a:lnTo>
                        <a:pt x="2036" y="909"/>
                      </a:lnTo>
                      <a:lnTo>
                        <a:pt x="2173" y="736"/>
                      </a:lnTo>
                      <a:lnTo>
                        <a:pt x="2223" y="928"/>
                      </a:lnTo>
                      <a:lnTo>
                        <a:pt x="2223" y="1228"/>
                      </a:lnTo>
                      <a:lnTo>
                        <a:pt x="2053" y="1399"/>
                      </a:lnTo>
                      <a:lnTo>
                        <a:pt x="2061" y="1542"/>
                      </a:lnTo>
                      <a:lnTo>
                        <a:pt x="1975" y="1728"/>
                      </a:lnTo>
                      <a:lnTo>
                        <a:pt x="1778" y="1749"/>
                      </a:lnTo>
                      <a:lnTo>
                        <a:pt x="1629" y="1892"/>
                      </a:lnTo>
                      <a:lnTo>
                        <a:pt x="1523" y="2000"/>
                      </a:lnTo>
                      <a:lnTo>
                        <a:pt x="1339" y="2049"/>
                      </a:lnTo>
                      <a:lnTo>
                        <a:pt x="1175" y="1850"/>
                      </a:lnTo>
                      <a:lnTo>
                        <a:pt x="1006" y="2034"/>
                      </a:lnTo>
                      <a:lnTo>
                        <a:pt x="759" y="2049"/>
                      </a:lnTo>
                      <a:lnTo>
                        <a:pt x="1091" y="2164"/>
                      </a:lnTo>
                      <a:lnTo>
                        <a:pt x="1629" y="2091"/>
                      </a:lnTo>
                      <a:lnTo>
                        <a:pt x="1820" y="2063"/>
                      </a:lnTo>
                      <a:lnTo>
                        <a:pt x="1848" y="1943"/>
                      </a:lnTo>
                      <a:lnTo>
                        <a:pt x="2124" y="1793"/>
                      </a:lnTo>
                      <a:lnTo>
                        <a:pt x="2295" y="1420"/>
                      </a:lnTo>
                      <a:lnTo>
                        <a:pt x="2308" y="972"/>
                      </a:lnTo>
                      <a:lnTo>
                        <a:pt x="2181" y="400"/>
                      </a:lnTo>
                      <a:lnTo>
                        <a:pt x="1905" y="420"/>
                      </a:lnTo>
                      <a:lnTo>
                        <a:pt x="1331" y="213"/>
                      </a:lnTo>
                      <a:lnTo>
                        <a:pt x="736" y="107"/>
                      </a:lnTo>
                      <a:lnTo>
                        <a:pt x="546" y="0"/>
                      </a:lnTo>
                      <a:lnTo>
                        <a:pt x="341" y="149"/>
                      </a:lnTo>
                      <a:lnTo>
                        <a:pt x="198" y="293"/>
                      </a:lnTo>
                      <a:lnTo>
                        <a:pt x="221" y="449"/>
                      </a:lnTo>
                      <a:lnTo>
                        <a:pt x="128" y="472"/>
                      </a:lnTo>
                      <a:lnTo>
                        <a:pt x="42" y="592"/>
                      </a:lnTo>
                      <a:lnTo>
                        <a:pt x="42" y="770"/>
                      </a:lnTo>
                      <a:lnTo>
                        <a:pt x="99" y="899"/>
                      </a:lnTo>
                      <a:lnTo>
                        <a:pt x="8" y="956"/>
                      </a:lnTo>
                      <a:lnTo>
                        <a:pt x="0" y="1107"/>
                      </a:lnTo>
                      <a:lnTo>
                        <a:pt x="99" y="1221"/>
                      </a:lnTo>
                      <a:lnTo>
                        <a:pt x="242" y="1122"/>
                      </a:lnTo>
                      <a:lnTo>
                        <a:pt x="226" y="936"/>
                      </a:lnTo>
                      <a:lnTo>
                        <a:pt x="299" y="863"/>
                      </a:lnTo>
                      <a:lnTo>
                        <a:pt x="299" y="863"/>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7790760" y="5943600"/>
                  <a:ext cx="279360" cy="164160"/>
                </a:xfrm>
                <a:custGeom>
                  <a:avLst/>
                  <a:gdLst/>
                  <a:ahLst/>
                  <a:rect l="l" t="t" r="r" b="b"/>
                  <a:pathLst>
                    <a:path w="2152" h="1334">
                      <a:moveTo>
                        <a:pt x="135" y="1334"/>
                      </a:moveTo>
                      <a:lnTo>
                        <a:pt x="247" y="1148"/>
                      </a:lnTo>
                      <a:lnTo>
                        <a:pt x="197" y="977"/>
                      </a:lnTo>
                      <a:lnTo>
                        <a:pt x="247" y="777"/>
                      </a:lnTo>
                      <a:lnTo>
                        <a:pt x="389" y="676"/>
                      </a:lnTo>
                      <a:lnTo>
                        <a:pt x="382" y="562"/>
                      </a:lnTo>
                      <a:lnTo>
                        <a:pt x="467" y="363"/>
                      </a:lnTo>
                      <a:lnTo>
                        <a:pt x="673" y="277"/>
                      </a:lnTo>
                      <a:lnTo>
                        <a:pt x="857" y="441"/>
                      </a:lnTo>
                      <a:lnTo>
                        <a:pt x="1091" y="306"/>
                      </a:lnTo>
                      <a:lnTo>
                        <a:pt x="1260" y="420"/>
                      </a:lnTo>
                      <a:lnTo>
                        <a:pt x="1372" y="547"/>
                      </a:lnTo>
                      <a:lnTo>
                        <a:pt x="1479" y="534"/>
                      </a:lnTo>
                      <a:lnTo>
                        <a:pt x="1642" y="448"/>
                      </a:lnTo>
                      <a:lnTo>
                        <a:pt x="1720" y="484"/>
                      </a:lnTo>
                      <a:lnTo>
                        <a:pt x="1671" y="690"/>
                      </a:lnTo>
                      <a:lnTo>
                        <a:pt x="1791" y="798"/>
                      </a:lnTo>
                      <a:lnTo>
                        <a:pt x="1954" y="868"/>
                      </a:lnTo>
                      <a:lnTo>
                        <a:pt x="2102" y="769"/>
                      </a:lnTo>
                      <a:lnTo>
                        <a:pt x="1889" y="669"/>
                      </a:lnTo>
                      <a:lnTo>
                        <a:pt x="2061" y="570"/>
                      </a:lnTo>
                      <a:lnTo>
                        <a:pt x="2152" y="441"/>
                      </a:lnTo>
                      <a:lnTo>
                        <a:pt x="1848" y="397"/>
                      </a:lnTo>
                      <a:lnTo>
                        <a:pt x="1656" y="212"/>
                      </a:lnTo>
                      <a:lnTo>
                        <a:pt x="1486" y="262"/>
                      </a:lnTo>
                      <a:lnTo>
                        <a:pt x="1239" y="205"/>
                      </a:lnTo>
                      <a:lnTo>
                        <a:pt x="1182" y="87"/>
                      </a:lnTo>
                      <a:lnTo>
                        <a:pt x="1013" y="155"/>
                      </a:lnTo>
                      <a:lnTo>
                        <a:pt x="707" y="148"/>
                      </a:lnTo>
                      <a:lnTo>
                        <a:pt x="547" y="0"/>
                      </a:lnTo>
                      <a:lnTo>
                        <a:pt x="439" y="41"/>
                      </a:lnTo>
                      <a:lnTo>
                        <a:pt x="502" y="133"/>
                      </a:lnTo>
                      <a:lnTo>
                        <a:pt x="369" y="233"/>
                      </a:lnTo>
                      <a:lnTo>
                        <a:pt x="283" y="368"/>
                      </a:lnTo>
                      <a:lnTo>
                        <a:pt x="325" y="591"/>
                      </a:lnTo>
                      <a:lnTo>
                        <a:pt x="148" y="648"/>
                      </a:lnTo>
                      <a:lnTo>
                        <a:pt x="70" y="690"/>
                      </a:lnTo>
                      <a:lnTo>
                        <a:pt x="57" y="790"/>
                      </a:lnTo>
                      <a:lnTo>
                        <a:pt x="127" y="897"/>
                      </a:lnTo>
                      <a:lnTo>
                        <a:pt x="120" y="997"/>
                      </a:lnTo>
                      <a:lnTo>
                        <a:pt x="7" y="1112"/>
                      </a:lnTo>
                      <a:lnTo>
                        <a:pt x="0" y="1220"/>
                      </a:lnTo>
                      <a:lnTo>
                        <a:pt x="135" y="1334"/>
                      </a:lnTo>
                      <a:lnTo>
                        <a:pt x="135" y="1334"/>
                      </a:lnTo>
                      <a:close/>
                    </a:path>
                  </a:pathLst>
                </a:custGeom>
                <a:solidFill>
                  <a:srgbClr val="c9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7788240" y="6108480"/>
                  <a:ext cx="298440" cy="117720"/>
                </a:xfrm>
                <a:custGeom>
                  <a:avLst/>
                  <a:gdLst/>
                  <a:ahLst/>
                  <a:rect l="l" t="t" r="r" b="b"/>
                  <a:pathLst>
                    <a:path w="2300" h="958">
                      <a:moveTo>
                        <a:pt x="346" y="579"/>
                      </a:moveTo>
                      <a:lnTo>
                        <a:pt x="312" y="722"/>
                      </a:lnTo>
                      <a:lnTo>
                        <a:pt x="616" y="885"/>
                      </a:lnTo>
                      <a:lnTo>
                        <a:pt x="1047" y="958"/>
                      </a:lnTo>
                      <a:lnTo>
                        <a:pt x="1409" y="958"/>
                      </a:lnTo>
                      <a:lnTo>
                        <a:pt x="1755" y="836"/>
                      </a:lnTo>
                      <a:lnTo>
                        <a:pt x="1903" y="878"/>
                      </a:lnTo>
                      <a:lnTo>
                        <a:pt x="1848" y="678"/>
                      </a:lnTo>
                      <a:lnTo>
                        <a:pt x="2137" y="437"/>
                      </a:lnTo>
                      <a:lnTo>
                        <a:pt x="2300" y="0"/>
                      </a:lnTo>
                      <a:lnTo>
                        <a:pt x="2123" y="308"/>
                      </a:lnTo>
                      <a:lnTo>
                        <a:pt x="1840" y="536"/>
                      </a:lnTo>
                      <a:lnTo>
                        <a:pt x="1515" y="701"/>
                      </a:lnTo>
                      <a:lnTo>
                        <a:pt x="1232" y="800"/>
                      </a:lnTo>
                      <a:lnTo>
                        <a:pt x="962" y="764"/>
                      </a:lnTo>
                      <a:lnTo>
                        <a:pt x="587" y="616"/>
                      </a:lnTo>
                      <a:lnTo>
                        <a:pt x="283" y="437"/>
                      </a:lnTo>
                      <a:lnTo>
                        <a:pt x="0" y="173"/>
                      </a:lnTo>
                      <a:lnTo>
                        <a:pt x="167" y="462"/>
                      </a:lnTo>
                      <a:lnTo>
                        <a:pt x="346" y="579"/>
                      </a:lnTo>
                      <a:lnTo>
                        <a:pt x="346" y="579"/>
                      </a:lnTo>
                      <a:close/>
                    </a:path>
                  </a:pathLst>
                </a:custGeom>
                <a:solidFill>
                  <a:srgbClr val="c9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7819560" y="6215040"/>
                  <a:ext cx="251640" cy="190080"/>
                </a:xfrm>
                <a:custGeom>
                  <a:avLst/>
                  <a:gdLst/>
                  <a:ahLst/>
                  <a:rect l="l" t="t" r="r" b="b"/>
                  <a:pathLst>
                    <a:path w="1939" h="1543">
                      <a:moveTo>
                        <a:pt x="42" y="77"/>
                      </a:moveTo>
                      <a:lnTo>
                        <a:pt x="0" y="271"/>
                      </a:lnTo>
                      <a:lnTo>
                        <a:pt x="105" y="243"/>
                      </a:lnTo>
                      <a:lnTo>
                        <a:pt x="190" y="463"/>
                      </a:lnTo>
                      <a:lnTo>
                        <a:pt x="247" y="572"/>
                      </a:lnTo>
                      <a:lnTo>
                        <a:pt x="331" y="543"/>
                      </a:lnTo>
                      <a:lnTo>
                        <a:pt x="409" y="421"/>
                      </a:lnTo>
                      <a:lnTo>
                        <a:pt x="515" y="393"/>
                      </a:lnTo>
                      <a:lnTo>
                        <a:pt x="559" y="585"/>
                      </a:lnTo>
                      <a:lnTo>
                        <a:pt x="622" y="629"/>
                      </a:lnTo>
                      <a:lnTo>
                        <a:pt x="552" y="935"/>
                      </a:lnTo>
                      <a:lnTo>
                        <a:pt x="559" y="1243"/>
                      </a:lnTo>
                      <a:lnTo>
                        <a:pt x="552" y="1399"/>
                      </a:lnTo>
                      <a:lnTo>
                        <a:pt x="580" y="1463"/>
                      </a:lnTo>
                      <a:lnTo>
                        <a:pt x="622" y="1406"/>
                      </a:lnTo>
                      <a:lnTo>
                        <a:pt x="715" y="642"/>
                      </a:lnTo>
                      <a:lnTo>
                        <a:pt x="793" y="556"/>
                      </a:lnTo>
                      <a:lnTo>
                        <a:pt x="877" y="785"/>
                      </a:lnTo>
                      <a:lnTo>
                        <a:pt x="991" y="1507"/>
                      </a:lnTo>
                      <a:lnTo>
                        <a:pt x="1046" y="1543"/>
                      </a:lnTo>
                      <a:lnTo>
                        <a:pt x="1139" y="1463"/>
                      </a:lnTo>
                      <a:lnTo>
                        <a:pt x="1337" y="1250"/>
                      </a:lnTo>
                      <a:lnTo>
                        <a:pt x="1755" y="1478"/>
                      </a:lnTo>
                      <a:lnTo>
                        <a:pt x="1939" y="1456"/>
                      </a:lnTo>
                      <a:lnTo>
                        <a:pt x="1846" y="1349"/>
                      </a:lnTo>
                      <a:lnTo>
                        <a:pt x="1529" y="1178"/>
                      </a:lnTo>
                      <a:lnTo>
                        <a:pt x="1331" y="1077"/>
                      </a:lnTo>
                      <a:lnTo>
                        <a:pt x="1217" y="1113"/>
                      </a:lnTo>
                      <a:lnTo>
                        <a:pt x="1090" y="1279"/>
                      </a:lnTo>
                      <a:lnTo>
                        <a:pt x="970" y="978"/>
                      </a:lnTo>
                      <a:lnTo>
                        <a:pt x="877" y="585"/>
                      </a:lnTo>
                      <a:lnTo>
                        <a:pt x="983" y="600"/>
                      </a:lnTo>
                      <a:lnTo>
                        <a:pt x="1069" y="536"/>
                      </a:lnTo>
                      <a:lnTo>
                        <a:pt x="1139" y="427"/>
                      </a:lnTo>
                      <a:lnTo>
                        <a:pt x="1308" y="549"/>
                      </a:lnTo>
                      <a:lnTo>
                        <a:pt x="1458" y="613"/>
                      </a:lnTo>
                      <a:lnTo>
                        <a:pt x="1514" y="543"/>
                      </a:lnTo>
                      <a:lnTo>
                        <a:pt x="1578" y="364"/>
                      </a:lnTo>
                      <a:lnTo>
                        <a:pt x="1557" y="228"/>
                      </a:lnTo>
                      <a:lnTo>
                        <a:pt x="1337" y="134"/>
                      </a:lnTo>
                      <a:lnTo>
                        <a:pt x="1380" y="399"/>
                      </a:lnTo>
                      <a:lnTo>
                        <a:pt x="1019" y="222"/>
                      </a:lnTo>
                      <a:lnTo>
                        <a:pt x="877" y="393"/>
                      </a:lnTo>
                      <a:lnTo>
                        <a:pt x="728" y="163"/>
                      </a:lnTo>
                      <a:lnTo>
                        <a:pt x="565" y="336"/>
                      </a:lnTo>
                      <a:lnTo>
                        <a:pt x="432" y="77"/>
                      </a:lnTo>
                      <a:lnTo>
                        <a:pt x="198" y="313"/>
                      </a:lnTo>
                      <a:lnTo>
                        <a:pt x="219" y="13"/>
                      </a:lnTo>
                      <a:lnTo>
                        <a:pt x="162" y="0"/>
                      </a:lnTo>
                      <a:lnTo>
                        <a:pt x="42" y="77"/>
                      </a:lnTo>
                      <a:lnTo>
                        <a:pt x="42" y="77"/>
                      </a:lnTo>
                      <a:close/>
                    </a:path>
                  </a:pathLst>
                </a:custGeom>
                <a:solidFill>
                  <a:srgbClr val="c9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7777080" y="6333120"/>
                  <a:ext cx="101160" cy="58680"/>
                </a:xfrm>
                <a:custGeom>
                  <a:avLst/>
                  <a:gdLst/>
                  <a:ahLst/>
                  <a:rect l="l" t="t" r="r" b="b"/>
                  <a:pathLst>
                    <a:path w="780" h="477">
                      <a:moveTo>
                        <a:pt x="0" y="435"/>
                      </a:moveTo>
                      <a:lnTo>
                        <a:pt x="143" y="326"/>
                      </a:lnTo>
                      <a:lnTo>
                        <a:pt x="344" y="161"/>
                      </a:lnTo>
                      <a:lnTo>
                        <a:pt x="559" y="0"/>
                      </a:lnTo>
                      <a:lnTo>
                        <a:pt x="673" y="34"/>
                      </a:lnTo>
                      <a:lnTo>
                        <a:pt x="723" y="249"/>
                      </a:lnTo>
                      <a:lnTo>
                        <a:pt x="780" y="363"/>
                      </a:lnTo>
                      <a:lnTo>
                        <a:pt x="666" y="277"/>
                      </a:lnTo>
                      <a:lnTo>
                        <a:pt x="554" y="106"/>
                      </a:lnTo>
                      <a:lnTo>
                        <a:pt x="426" y="292"/>
                      </a:lnTo>
                      <a:lnTo>
                        <a:pt x="177" y="441"/>
                      </a:lnTo>
                      <a:lnTo>
                        <a:pt x="78" y="477"/>
                      </a:lnTo>
                      <a:lnTo>
                        <a:pt x="0" y="435"/>
                      </a:lnTo>
                      <a:lnTo>
                        <a:pt x="0" y="435"/>
                      </a:lnTo>
                      <a:close/>
                    </a:path>
                  </a:pathLst>
                </a:custGeom>
                <a:solidFill>
                  <a:srgbClr val="c94d4d"/>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59" name=""/>
                <p:cNvSpPr/>
                <p:nvPr/>
              </p:nvSpPr>
              <p:spPr>
                <a:xfrm>
                  <a:off x="8027640" y="6068520"/>
                  <a:ext cx="43920" cy="36000"/>
                </a:xfrm>
                <a:custGeom>
                  <a:avLst/>
                  <a:gdLst/>
                  <a:ahLst/>
                  <a:rect l="l" t="t" r="r" b="b"/>
                  <a:pathLst>
                    <a:path w="340" h="293">
                      <a:moveTo>
                        <a:pt x="55" y="0"/>
                      </a:moveTo>
                      <a:lnTo>
                        <a:pt x="289" y="99"/>
                      </a:lnTo>
                      <a:lnTo>
                        <a:pt x="340" y="160"/>
                      </a:lnTo>
                      <a:lnTo>
                        <a:pt x="327" y="200"/>
                      </a:lnTo>
                      <a:lnTo>
                        <a:pt x="205" y="293"/>
                      </a:lnTo>
                      <a:lnTo>
                        <a:pt x="224" y="208"/>
                      </a:lnTo>
                      <a:lnTo>
                        <a:pt x="40" y="154"/>
                      </a:lnTo>
                      <a:lnTo>
                        <a:pt x="0" y="75"/>
                      </a:lnTo>
                      <a:lnTo>
                        <a:pt x="55" y="0"/>
                      </a:lnTo>
                      <a:lnTo>
                        <a:pt x="55" y="0"/>
                      </a:lnTo>
                      <a:close/>
                    </a:path>
                  </a:pathLst>
                </a:custGeom>
                <a:solidFill>
                  <a:srgbClr val="c94d4d"/>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760" name=""/>
                <p:cNvSpPr/>
                <p:nvPr/>
              </p:nvSpPr>
              <p:spPr>
                <a:xfrm>
                  <a:off x="7799760" y="6182640"/>
                  <a:ext cx="252360" cy="92160"/>
                </a:xfrm>
                <a:custGeom>
                  <a:avLst/>
                  <a:gdLst/>
                  <a:ahLst/>
                  <a:rect l="l" t="t" r="r" b="b"/>
                  <a:pathLst>
                    <a:path w="1945" h="749">
                      <a:moveTo>
                        <a:pt x="287" y="36"/>
                      </a:moveTo>
                      <a:lnTo>
                        <a:pt x="264" y="80"/>
                      </a:lnTo>
                      <a:lnTo>
                        <a:pt x="244" y="120"/>
                      </a:lnTo>
                      <a:lnTo>
                        <a:pt x="221" y="158"/>
                      </a:lnTo>
                      <a:lnTo>
                        <a:pt x="198" y="194"/>
                      </a:lnTo>
                      <a:lnTo>
                        <a:pt x="152" y="265"/>
                      </a:lnTo>
                      <a:lnTo>
                        <a:pt x="103" y="337"/>
                      </a:lnTo>
                      <a:lnTo>
                        <a:pt x="181" y="310"/>
                      </a:lnTo>
                      <a:lnTo>
                        <a:pt x="268" y="263"/>
                      </a:lnTo>
                      <a:lnTo>
                        <a:pt x="308" y="242"/>
                      </a:lnTo>
                      <a:lnTo>
                        <a:pt x="360" y="238"/>
                      </a:lnTo>
                      <a:lnTo>
                        <a:pt x="382" y="272"/>
                      </a:lnTo>
                      <a:lnTo>
                        <a:pt x="407" y="287"/>
                      </a:lnTo>
                      <a:lnTo>
                        <a:pt x="409" y="316"/>
                      </a:lnTo>
                      <a:lnTo>
                        <a:pt x="394" y="542"/>
                      </a:lnTo>
                      <a:lnTo>
                        <a:pt x="432" y="496"/>
                      </a:lnTo>
                      <a:lnTo>
                        <a:pt x="470" y="451"/>
                      </a:lnTo>
                      <a:lnTo>
                        <a:pt x="508" y="399"/>
                      </a:lnTo>
                      <a:lnTo>
                        <a:pt x="553" y="342"/>
                      </a:lnTo>
                      <a:lnTo>
                        <a:pt x="584" y="323"/>
                      </a:lnTo>
                      <a:lnTo>
                        <a:pt x="616" y="342"/>
                      </a:lnTo>
                      <a:lnTo>
                        <a:pt x="643" y="417"/>
                      </a:lnTo>
                      <a:lnTo>
                        <a:pt x="669" y="517"/>
                      </a:lnTo>
                      <a:lnTo>
                        <a:pt x="696" y="605"/>
                      </a:lnTo>
                      <a:lnTo>
                        <a:pt x="723" y="552"/>
                      </a:lnTo>
                      <a:lnTo>
                        <a:pt x="749" y="498"/>
                      </a:lnTo>
                      <a:lnTo>
                        <a:pt x="778" y="443"/>
                      </a:lnTo>
                      <a:lnTo>
                        <a:pt x="808" y="380"/>
                      </a:lnTo>
                      <a:lnTo>
                        <a:pt x="821" y="363"/>
                      </a:lnTo>
                      <a:lnTo>
                        <a:pt x="837" y="356"/>
                      </a:lnTo>
                      <a:lnTo>
                        <a:pt x="869" y="371"/>
                      </a:lnTo>
                      <a:lnTo>
                        <a:pt x="905" y="420"/>
                      </a:lnTo>
                      <a:lnTo>
                        <a:pt x="924" y="472"/>
                      </a:lnTo>
                      <a:lnTo>
                        <a:pt x="943" y="527"/>
                      </a:lnTo>
                      <a:lnTo>
                        <a:pt x="972" y="582"/>
                      </a:lnTo>
                      <a:lnTo>
                        <a:pt x="1034" y="654"/>
                      </a:lnTo>
                      <a:lnTo>
                        <a:pt x="1074" y="550"/>
                      </a:lnTo>
                      <a:lnTo>
                        <a:pt x="1097" y="498"/>
                      </a:lnTo>
                      <a:lnTo>
                        <a:pt x="1129" y="445"/>
                      </a:lnTo>
                      <a:lnTo>
                        <a:pt x="1154" y="426"/>
                      </a:lnTo>
                      <a:lnTo>
                        <a:pt x="1183" y="434"/>
                      </a:lnTo>
                      <a:lnTo>
                        <a:pt x="1230" y="464"/>
                      </a:lnTo>
                      <a:lnTo>
                        <a:pt x="1272" y="493"/>
                      </a:lnTo>
                      <a:lnTo>
                        <a:pt x="1312" y="519"/>
                      </a:lnTo>
                      <a:lnTo>
                        <a:pt x="1348" y="546"/>
                      </a:lnTo>
                      <a:lnTo>
                        <a:pt x="1386" y="569"/>
                      </a:lnTo>
                      <a:lnTo>
                        <a:pt x="1424" y="593"/>
                      </a:lnTo>
                      <a:lnTo>
                        <a:pt x="1466" y="616"/>
                      </a:lnTo>
                      <a:lnTo>
                        <a:pt x="1512" y="639"/>
                      </a:lnTo>
                      <a:lnTo>
                        <a:pt x="1498" y="540"/>
                      </a:lnTo>
                      <a:lnTo>
                        <a:pt x="1462" y="441"/>
                      </a:lnTo>
                      <a:lnTo>
                        <a:pt x="1458" y="409"/>
                      </a:lnTo>
                      <a:lnTo>
                        <a:pt x="1477" y="384"/>
                      </a:lnTo>
                      <a:lnTo>
                        <a:pt x="1565" y="373"/>
                      </a:lnTo>
                      <a:lnTo>
                        <a:pt x="1629" y="403"/>
                      </a:lnTo>
                      <a:lnTo>
                        <a:pt x="1698" y="428"/>
                      </a:lnTo>
                      <a:lnTo>
                        <a:pt x="1766" y="445"/>
                      </a:lnTo>
                      <a:lnTo>
                        <a:pt x="1835" y="445"/>
                      </a:lnTo>
                      <a:lnTo>
                        <a:pt x="1806" y="323"/>
                      </a:lnTo>
                      <a:lnTo>
                        <a:pt x="1791" y="265"/>
                      </a:lnTo>
                      <a:lnTo>
                        <a:pt x="1770" y="198"/>
                      </a:lnTo>
                      <a:lnTo>
                        <a:pt x="1780" y="177"/>
                      </a:lnTo>
                      <a:lnTo>
                        <a:pt x="1801" y="187"/>
                      </a:lnTo>
                      <a:lnTo>
                        <a:pt x="1837" y="263"/>
                      </a:lnTo>
                      <a:lnTo>
                        <a:pt x="1875" y="329"/>
                      </a:lnTo>
                      <a:lnTo>
                        <a:pt x="1945" y="472"/>
                      </a:lnTo>
                      <a:lnTo>
                        <a:pt x="1943" y="517"/>
                      </a:lnTo>
                      <a:lnTo>
                        <a:pt x="1905" y="536"/>
                      </a:lnTo>
                      <a:lnTo>
                        <a:pt x="1785" y="533"/>
                      </a:lnTo>
                      <a:lnTo>
                        <a:pt x="1675" y="493"/>
                      </a:lnTo>
                      <a:lnTo>
                        <a:pt x="1591" y="474"/>
                      </a:lnTo>
                      <a:lnTo>
                        <a:pt x="1607" y="582"/>
                      </a:lnTo>
                      <a:lnTo>
                        <a:pt x="1589" y="704"/>
                      </a:lnTo>
                      <a:lnTo>
                        <a:pt x="1572" y="738"/>
                      </a:lnTo>
                      <a:lnTo>
                        <a:pt x="1534" y="736"/>
                      </a:lnTo>
                      <a:lnTo>
                        <a:pt x="1215" y="584"/>
                      </a:lnTo>
                      <a:lnTo>
                        <a:pt x="1181" y="624"/>
                      </a:lnTo>
                      <a:lnTo>
                        <a:pt x="1143" y="652"/>
                      </a:lnTo>
                      <a:lnTo>
                        <a:pt x="1069" y="728"/>
                      </a:lnTo>
                      <a:lnTo>
                        <a:pt x="1044" y="749"/>
                      </a:lnTo>
                      <a:lnTo>
                        <a:pt x="1015" y="732"/>
                      </a:lnTo>
                      <a:lnTo>
                        <a:pt x="972" y="675"/>
                      </a:lnTo>
                      <a:lnTo>
                        <a:pt x="928" y="614"/>
                      </a:lnTo>
                      <a:lnTo>
                        <a:pt x="869" y="521"/>
                      </a:lnTo>
                      <a:lnTo>
                        <a:pt x="831" y="572"/>
                      </a:lnTo>
                      <a:lnTo>
                        <a:pt x="789" y="610"/>
                      </a:lnTo>
                      <a:lnTo>
                        <a:pt x="711" y="711"/>
                      </a:lnTo>
                      <a:lnTo>
                        <a:pt x="696" y="730"/>
                      </a:lnTo>
                      <a:lnTo>
                        <a:pt x="679" y="732"/>
                      </a:lnTo>
                      <a:lnTo>
                        <a:pt x="654" y="702"/>
                      </a:lnTo>
                      <a:lnTo>
                        <a:pt x="637" y="637"/>
                      </a:lnTo>
                      <a:lnTo>
                        <a:pt x="612" y="593"/>
                      </a:lnTo>
                      <a:lnTo>
                        <a:pt x="563" y="483"/>
                      </a:lnTo>
                      <a:lnTo>
                        <a:pt x="515" y="538"/>
                      </a:lnTo>
                      <a:lnTo>
                        <a:pt x="475" y="576"/>
                      </a:lnTo>
                      <a:lnTo>
                        <a:pt x="434" y="614"/>
                      </a:lnTo>
                      <a:lnTo>
                        <a:pt x="409" y="639"/>
                      </a:lnTo>
                      <a:lnTo>
                        <a:pt x="379" y="671"/>
                      </a:lnTo>
                      <a:lnTo>
                        <a:pt x="356" y="686"/>
                      </a:lnTo>
                      <a:lnTo>
                        <a:pt x="333" y="685"/>
                      </a:lnTo>
                      <a:lnTo>
                        <a:pt x="314" y="641"/>
                      </a:lnTo>
                      <a:lnTo>
                        <a:pt x="333" y="314"/>
                      </a:lnTo>
                      <a:lnTo>
                        <a:pt x="270" y="344"/>
                      </a:lnTo>
                      <a:lnTo>
                        <a:pt x="240" y="365"/>
                      </a:lnTo>
                      <a:lnTo>
                        <a:pt x="204" y="382"/>
                      </a:lnTo>
                      <a:lnTo>
                        <a:pt x="118" y="407"/>
                      </a:lnTo>
                      <a:lnTo>
                        <a:pt x="31" y="411"/>
                      </a:lnTo>
                      <a:lnTo>
                        <a:pt x="0" y="403"/>
                      </a:lnTo>
                      <a:lnTo>
                        <a:pt x="12" y="377"/>
                      </a:lnTo>
                      <a:lnTo>
                        <a:pt x="44" y="327"/>
                      </a:lnTo>
                      <a:lnTo>
                        <a:pt x="72" y="282"/>
                      </a:lnTo>
                      <a:lnTo>
                        <a:pt x="101" y="236"/>
                      </a:lnTo>
                      <a:lnTo>
                        <a:pt x="128" y="192"/>
                      </a:lnTo>
                      <a:lnTo>
                        <a:pt x="152" y="147"/>
                      </a:lnTo>
                      <a:lnTo>
                        <a:pt x="179" y="101"/>
                      </a:lnTo>
                      <a:lnTo>
                        <a:pt x="230" y="0"/>
                      </a:lnTo>
                      <a:lnTo>
                        <a:pt x="266" y="4"/>
                      </a:lnTo>
                      <a:lnTo>
                        <a:pt x="287" y="36"/>
                      </a:lnTo>
                      <a:lnTo>
                        <a:pt x="287" y="36"/>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1" name=""/>
                <p:cNvSpPr/>
                <p:nvPr/>
              </p:nvSpPr>
              <p:spPr>
                <a:xfrm>
                  <a:off x="7773120" y="6218640"/>
                  <a:ext cx="61200" cy="164520"/>
                </a:xfrm>
                <a:custGeom>
                  <a:avLst/>
                  <a:gdLst/>
                  <a:ahLst/>
                  <a:rect l="l" t="t" r="r" b="b"/>
                  <a:pathLst>
                    <a:path w="473" h="1334">
                      <a:moveTo>
                        <a:pt x="473" y="53"/>
                      </a:moveTo>
                      <a:lnTo>
                        <a:pt x="460" y="103"/>
                      </a:lnTo>
                      <a:lnTo>
                        <a:pt x="437" y="198"/>
                      </a:lnTo>
                      <a:lnTo>
                        <a:pt x="414" y="300"/>
                      </a:lnTo>
                      <a:lnTo>
                        <a:pt x="401" y="367"/>
                      </a:lnTo>
                      <a:lnTo>
                        <a:pt x="369" y="481"/>
                      </a:lnTo>
                      <a:lnTo>
                        <a:pt x="342" y="578"/>
                      </a:lnTo>
                      <a:lnTo>
                        <a:pt x="300" y="739"/>
                      </a:lnTo>
                      <a:lnTo>
                        <a:pt x="277" y="817"/>
                      </a:lnTo>
                      <a:lnTo>
                        <a:pt x="253" y="899"/>
                      </a:lnTo>
                      <a:lnTo>
                        <a:pt x="219" y="992"/>
                      </a:lnTo>
                      <a:lnTo>
                        <a:pt x="198" y="1043"/>
                      </a:lnTo>
                      <a:lnTo>
                        <a:pt x="175" y="1102"/>
                      </a:lnTo>
                      <a:lnTo>
                        <a:pt x="142" y="1165"/>
                      </a:lnTo>
                      <a:lnTo>
                        <a:pt x="106" y="1216"/>
                      </a:lnTo>
                      <a:lnTo>
                        <a:pt x="68" y="1268"/>
                      </a:lnTo>
                      <a:lnTo>
                        <a:pt x="28" y="1329"/>
                      </a:lnTo>
                      <a:lnTo>
                        <a:pt x="6" y="1334"/>
                      </a:lnTo>
                      <a:lnTo>
                        <a:pt x="0" y="1311"/>
                      </a:lnTo>
                      <a:lnTo>
                        <a:pt x="106" y="1068"/>
                      </a:lnTo>
                      <a:lnTo>
                        <a:pt x="150" y="954"/>
                      </a:lnTo>
                      <a:lnTo>
                        <a:pt x="184" y="848"/>
                      </a:lnTo>
                      <a:lnTo>
                        <a:pt x="232" y="648"/>
                      </a:lnTo>
                      <a:lnTo>
                        <a:pt x="253" y="549"/>
                      </a:lnTo>
                      <a:lnTo>
                        <a:pt x="276" y="447"/>
                      </a:lnTo>
                      <a:lnTo>
                        <a:pt x="300" y="338"/>
                      </a:lnTo>
                      <a:lnTo>
                        <a:pt x="334" y="220"/>
                      </a:lnTo>
                      <a:lnTo>
                        <a:pt x="365" y="82"/>
                      </a:lnTo>
                      <a:lnTo>
                        <a:pt x="378" y="53"/>
                      </a:lnTo>
                      <a:lnTo>
                        <a:pt x="397" y="25"/>
                      </a:lnTo>
                      <a:lnTo>
                        <a:pt x="420" y="0"/>
                      </a:lnTo>
                      <a:lnTo>
                        <a:pt x="450" y="0"/>
                      </a:lnTo>
                      <a:lnTo>
                        <a:pt x="473" y="21"/>
                      </a:lnTo>
                      <a:lnTo>
                        <a:pt x="473" y="53"/>
                      </a:lnTo>
                      <a:lnTo>
                        <a:pt x="473"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7784640" y="6342120"/>
                  <a:ext cx="73800" cy="50760"/>
                </a:xfrm>
                <a:custGeom>
                  <a:avLst/>
                  <a:gdLst/>
                  <a:ahLst/>
                  <a:rect l="l" t="t" r="r" b="b"/>
                  <a:pathLst>
                    <a:path w="571" h="410">
                      <a:moveTo>
                        <a:pt x="15" y="376"/>
                      </a:moveTo>
                      <a:lnTo>
                        <a:pt x="67" y="365"/>
                      </a:lnTo>
                      <a:lnTo>
                        <a:pt x="105" y="334"/>
                      </a:lnTo>
                      <a:lnTo>
                        <a:pt x="139" y="296"/>
                      </a:lnTo>
                      <a:lnTo>
                        <a:pt x="160" y="277"/>
                      </a:lnTo>
                      <a:lnTo>
                        <a:pt x="181" y="258"/>
                      </a:lnTo>
                      <a:lnTo>
                        <a:pt x="240" y="213"/>
                      </a:lnTo>
                      <a:lnTo>
                        <a:pt x="301" y="169"/>
                      </a:lnTo>
                      <a:lnTo>
                        <a:pt x="329" y="144"/>
                      </a:lnTo>
                      <a:lnTo>
                        <a:pt x="358" y="125"/>
                      </a:lnTo>
                      <a:lnTo>
                        <a:pt x="409" y="89"/>
                      </a:lnTo>
                      <a:lnTo>
                        <a:pt x="458" y="51"/>
                      </a:lnTo>
                      <a:lnTo>
                        <a:pt x="512" y="0"/>
                      </a:lnTo>
                      <a:lnTo>
                        <a:pt x="529" y="7"/>
                      </a:lnTo>
                      <a:lnTo>
                        <a:pt x="550" y="40"/>
                      </a:lnTo>
                      <a:lnTo>
                        <a:pt x="571" y="102"/>
                      </a:lnTo>
                      <a:lnTo>
                        <a:pt x="548" y="137"/>
                      </a:lnTo>
                      <a:lnTo>
                        <a:pt x="527" y="161"/>
                      </a:lnTo>
                      <a:lnTo>
                        <a:pt x="481" y="192"/>
                      </a:lnTo>
                      <a:lnTo>
                        <a:pt x="371" y="260"/>
                      </a:lnTo>
                      <a:lnTo>
                        <a:pt x="308" y="308"/>
                      </a:lnTo>
                      <a:lnTo>
                        <a:pt x="249" y="353"/>
                      </a:lnTo>
                      <a:lnTo>
                        <a:pt x="192" y="384"/>
                      </a:lnTo>
                      <a:lnTo>
                        <a:pt x="137" y="401"/>
                      </a:lnTo>
                      <a:lnTo>
                        <a:pt x="15" y="410"/>
                      </a:lnTo>
                      <a:lnTo>
                        <a:pt x="0" y="393"/>
                      </a:lnTo>
                      <a:lnTo>
                        <a:pt x="4" y="382"/>
                      </a:lnTo>
                      <a:lnTo>
                        <a:pt x="15" y="376"/>
                      </a:lnTo>
                      <a:lnTo>
                        <a:pt x="15" y="37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63" name=""/>
                <p:cNvSpPr/>
                <p:nvPr/>
              </p:nvSpPr>
              <p:spPr>
                <a:xfrm>
                  <a:off x="7849080" y="6342120"/>
                  <a:ext cx="44640" cy="51480"/>
                </a:xfrm>
                <a:custGeom>
                  <a:avLst/>
                  <a:gdLst/>
                  <a:ahLst/>
                  <a:rect l="l" t="t" r="r" b="b"/>
                  <a:pathLst>
                    <a:path w="345" h="420">
                      <a:moveTo>
                        <a:pt x="65" y="13"/>
                      </a:moveTo>
                      <a:lnTo>
                        <a:pt x="120" y="89"/>
                      </a:lnTo>
                      <a:lnTo>
                        <a:pt x="189" y="192"/>
                      </a:lnTo>
                      <a:lnTo>
                        <a:pt x="230" y="245"/>
                      </a:lnTo>
                      <a:lnTo>
                        <a:pt x="263" y="298"/>
                      </a:lnTo>
                      <a:lnTo>
                        <a:pt x="297" y="348"/>
                      </a:lnTo>
                      <a:lnTo>
                        <a:pt x="318" y="370"/>
                      </a:lnTo>
                      <a:lnTo>
                        <a:pt x="343" y="395"/>
                      </a:lnTo>
                      <a:lnTo>
                        <a:pt x="345" y="418"/>
                      </a:lnTo>
                      <a:lnTo>
                        <a:pt x="322" y="420"/>
                      </a:lnTo>
                      <a:lnTo>
                        <a:pt x="293" y="397"/>
                      </a:lnTo>
                      <a:lnTo>
                        <a:pt x="267" y="378"/>
                      </a:lnTo>
                      <a:lnTo>
                        <a:pt x="213" y="340"/>
                      </a:lnTo>
                      <a:lnTo>
                        <a:pt x="160" y="302"/>
                      </a:lnTo>
                      <a:lnTo>
                        <a:pt x="111" y="252"/>
                      </a:lnTo>
                      <a:lnTo>
                        <a:pt x="31" y="129"/>
                      </a:lnTo>
                      <a:lnTo>
                        <a:pt x="4" y="49"/>
                      </a:lnTo>
                      <a:lnTo>
                        <a:pt x="0" y="21"/>
                      </a:lnTo>
                      <a:lnTo>
                        <a:pt x="16" y="0"/>
                      </a:lnTo>
                      <a:lnTo>
                        <a:pt x="65" y="13"/>
                      </a:lnTo>
                      <a:lnTo>
                        <a:pt x="65" y="13"/>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sp>
              <p:nvSpPr>
                <p:cNvPr id="764" name=""/>
                <p:cNvSpPr/>
                <p:nvPr/>
              </p:nvSpPr>
              <p:spPr>
                <a:xfrm>
                  <a:off x="7898040" y="6246000"/>
                  <a:ext cx="27360" cy="145440"/>
                </a:xfrm>
                <a:custGeom>
                  <a:avLst/>
                  <a:gdLst/>
                  <a:ahLst/>
                  <a:rect l="l" t="t" r="r" b="b"/>
                  <a:pathLst>
                    <a:path w="213" h="1183">
                      <a:moveTo>
                        <a:pt x="213" y="137"/>
                      </a:moveTo>
                      <a:lnTo>
                        <a:pt x="186" y="295"/>
                      </a:lnTo>
                      <a:lnTo>
                        <a:pt x="156" y="434"/>
                      </a:lnTo>
                      <a:lnTo>
                        <a:pt x="99" y="730"/>
                      </a:lnTo>
                      <a:lnTo>
                        <a:pt x="36" y="1145"/>
                      </a:lnTo>
                      <a:lnTo>
                        <a:pt x="28" y="1171"/>
                      </a:lnTo>
                      <a:lnTo>
                        <a:pt x="15" y="1183"/>
                      </a:lnTo>
                      <a:lnTo>
                        <a:pt x="0" y="1156"/>
                      </a:lnTo>
                      <a:lnTo>
                        <a:pt x="13" y="715"/>
                      </a:lnTo>
                      <a:lnTo>
                        <a:pt x="40" y="542"/>
                      </a:lnTo>
                      <a:lnTo>
                        <a:pt x="74" y="367"/>
                      </a:lnTo>
                      <a:lnTo>
                        <a:pt x="108" y="192"/>
                      </a:lnTo>
                      <a:lnTo>
                        <a:pt x="137" y="19"/>
                      </a:lnTo>
                      <a:lnTo>
                        <a:pt x="152" y="0"/>
                      </a:lnTo>
                      <a:lnTo>
                        <a:pt x="180" y="27"/>
                      </a:lnTo>
                      <a:lnTo>
                        <a:pt x="213" y="137"/>
                      </a:lnTo>
                      <a:lnTo>
                        <a:pt x="213"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a:off x="7914240" y="6267600"/>
                  <a:ext cx="34920" cy="133560"/>
                </a:xfrm>
                <a:custGeom>
                  <a:avLst/>
                  <a:gdLst/>
                  <a:ahLst/>
                  <a:rect l="l" t="t" r="r" b="b"/>
                  <a:pathLst>
                    <a:path w="270" h="1084">
                      <a:moveTo>
                        <a:pt x="65" y="33"/>
                      </a:moveTo>
                      <a:lnTo>
                        <a:pt x="88" y="97"/>
                      </a:lnTo>
                      <a:lnTo>
                        <a:pt x="209" y="456"/>
                      </a:lnTo>
                      <a:lnTo>
                        <a:pt x="247" y="759"/>
                      </a:lnTo>
                      <a:lnTo>
                        <a:pt x="270" y="1067"/>
                      </a:lnTo>
                      <a:lnTo>
                        <a:pt x="255" y="1084"/>
                      </a:lnTo>
                      <a:lnTo>
                        <a:pt x="238" y="1069"/>
                      </a:lnTo>
                      <a:lnTo>
                        <a:pt x="219" y="907"/>
                      </a:lnTo>
                      <a:lnTo>
                        <a:pt x="190" y="768"/>
                      </a:lnTo>
                      <a:lnTo>
                        <a:pt x="160" y="628"/>
                      </a:lnTo>
                      <a:lnTo>
                        <a:pt x="131" y="470"/>
                      </a:lnTo>
                      <a:lnTo>
                        <a:pt x="111" y="375"/>
                      </a:lnTo>
                      <a:lnTo>
                        <a:pt x="84" y="295"/>
                      </a:lnTo>
                      <a:lnTo>
                        <a:pt x="52" y="215"/>
                      </a:lnTo>
                      <a:lnTo>
                        <a:pt x="12" y="126"/>
                      </a:lnTo>
                      <a:lnTo>
                        <a:pt x="0" y="33"/>
                      </a:lnTo>
                      <a:lnTo>
                        <a:pt x="12" y="8"/>
                      </a:lnTo>
                      <a:lnTo>
                        <a:pt x="33" y="0"/>
                      </a:lnTo>
                      <a:lnTo>
                        <a:pt x="55" y="8"/>
                      </a:lnTo>
                      <a:lnTo>
                        <a:pt x="65" y="33"/>
                      </a:lnTo>
                      <a:lnTo>
                        <a:pt x="65"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7962120" y="6356520"/>
                  <a:ext cx="104400" cy="45720"/>
                </a:xfrm>
                <a:custGeom>
                  <a:avLst/>
                  <a:gdLst/>
                  <a:ahLst/>
                  <a:rect l="l" t="t" r="r" b="b"/>
                  <a:pathLst>
                    <a:path w="804" h="370">
                      <a:moveTo>
                        <a:pt x="0" y="347"/>
                      </a:moveTo>
                      <a:lnTo>
                        <a:pt x="21" y="313"/>
                      </a:lnTo>
                      <a:lnTo>
                        <a:pt x="48" y="275"/>
                      </a:lnTo>
                      <a:lnTo>
                        <a:pt x="80" y="235"/>
                      </a:lnTo>
                      <a:lnTo>
                        <a:pt x="112" y="193"/>
                      </a:lnTo>
                      <a:lnTo>
                        <a:pt x="146" y="150"/>
                      </a:lnTo>
                      <a:lnTo>
                        <a:pt x="179" y="110"/>
                      </a:lnTo>
                      <a:lnTo>
                        <a:pt x="226" y="38"/>
                      </a:lnTo>
                      <a:lnTo>
                        <a:pt x="249" y="9"/>
                      </a:lnTo>
                      <a:lnTo>
                        <a:pt x="276" y="0"/>
                      </a:lnTo>
                      <a:lnTo>
                        <a:pt x="300" y="11"/>
                      </a:lnTo>
                      <a:lnTo>
                        <a:pt x="321" y="41"/>
                      </a:lnTo>
                      <a:lnTo>
                        <a:pt x="342" y="76"/>
                      </a:lnTo>
                      <a:lnTo>
                        <a:pt x="371" y="98"/>
                      </a:lnTo>
                      <a:lnTo>
                        <a:pt x="441" y="142"/>
                      </a:lnTo>
                      <a:lnTo>
                        <a:pt x="485" y="169"/>
                      </a:lnTo>
                      <a:lnTo>
                        <a:pt x="527" y="190"/>
                      </a:lnTo>
                      <a:lnTo>
                        <a:pt x="618" y="224"/>
                      </a:lnTo>
                      <a:lnTo>
                        <a:pt x="702" y="268"/>
                      </a:lnTo>
                      <a:lnTo>
                        <a:pt x="742" y="287"/>
                      </a:lnTo>
                      <a:lnTo>
                        <a:pt x="789" y="294"/>
                      </a:lnTo>
                      <a:lnTo>
                        <a:pt x="804" y="311"/>
                      </a:lnTo>
                      <a:lnTo>
                        <a:pt x="800" y="323"/>
                      </a:lnTo>
                      <a:lnTo>
                        <a:pt x="789" y="327"/>
                      </a:lnTo>
                      <a:lnTo>
                        <a:pt x="683" y="344"/>
                      </a:lnTo>
                      <a:lnTo>
                        <a:pt x="578" y="340"/>
                      </a:lnTo>
                      <a:lnTo>
                        <a:pt x="373" y="243"/>
                      </a:lnTo>
                      <a:lnTo>
                        <a:pt x="316" y="201"/>
                      </a:lnTo>
                      <a:lnTo>
                        <a:pt x="270" y="157"/>
                      </a:lnTo>
                      <a:lnTo>
                        <a:pt x="249" y="174"/>
                      </a:lnTo>
                      <a:lnTo>
                        <a:pt x="221" y="199"/>
                      </a:lnTo>
                      <a:lnTo>
                        <a:pt x="183" y="226"/>
                      </a:lnTo>
                      <a:lnTo>
                        <a:pt x="145" y="254"/>
                      </a:lnTo>
                      <a:lnTo>
                        <a:pt x="105" y="285"/>
                      </a:lnTo>
                      <a:lnTo>
                        <a:pt x="70" y="313"/>
                      </a:lnTo>
                      <a:lnTo>
                        <a:pt x="25" y="365"/>
                      </a:lnTo>
                      <a:lnTo>
                        <a:pt x="4" y="370"/>
                      </a:lnTo>
                      <a:lnTo>
                        <a:pt x="0" y="347"/>
                      </a:lnTo>
                      <a:lnTo>
                        <a:pt x="0" y="347"/>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767" name=""/>
                <p:cNvSpPr/>
                <p:nvPr/>
              </p:nvSpPr>
              <p:spPr>
                <a:xfrm>
                  <a:off x="8017560" y="6239880"/>
                  <a:ext cx="52920" cy="144360"/>
                </a:xfrm>
                <a:custGeom>
                  <a:avLst/>
                  <a:gdLst/>
                  <a:ahLst/>
                  <a:rect l="l" t="t" r="r" b="b"/>
                  <a:pathLst>
                    <a:path w="410" h="1173">
                      <a:moveTo>
                        <a:pt x="28" y="8"/>
                      </a:moveTo>
                      <a:lnTo>
                        <a:pt x="80" y="112"/>
                      </a:lnTo>
                      <a:lnTo>
                        <a:pt x="118" y="220"/>
                      </a:lnTo>
                      <a:lnTo>
                        <a:pt x="141" y="297"/>
                      </a:lnTo>
                      <a:lnTo>
                        <a:pt x="165" y="365"/>
                      </a:lnTo>
                      <a:lnTo>
                        <a:pt x="209" y="489"/>
                      </a:lnTo>
                      <a:lnTo>
                        <a:pt x="251" y="612"/>
                      </a:lnTo>
                      <a:lnTo>
                        <a:pt x="287" y="758"/>
                      </a:lnTo>
                      <a:lnTo>
                        <a:pt x="340" y="907"/>
                      </a:lnTo>
                      <a:lnTo>
                        <a:pt x="371" y="1030"/>
                      </a:lnTo>
                      <a:lnTo>
                        <a:pt x="382" y="1089"/>
                      </a:lnTo>
                      <a:lnTo>
                        <a:pt x="410" y="1150"/>
                      </a:lnTo>
                      <a:lnTo>
                        <a:pt x="405" y="1173"/>
                      </a:lnTo>
                      <a:lnTo>
                        <a:pt x="382" y="1167"/>
                      </a:lnTo>
                      <a:lnTo>
                        <a:pt x="344" y="1110"/>
                      </a:lnTo>
                      <a:lnTo>
                        <a:pt x="306" y="1059"/>
                      </a:lnTo>
                      <a:lnTo>
                        <a:pt x="270" y="1009"/>
                      </a:lnTo>
                      <a:lnTo>
                        <a:pt x="237" y="949"/>
                      </a:lnTo>
                      <a:lnTo>
                        <a:pt x="182" y="789"/>
                      </a:lnTo>
                      <a:lnTo>
                        <a:pt x="148" y="642"/>
                      </a:lnTo>
                      <a:lnTo>
                        <a:pt x="114" y="515"/>
                      </a:lnTo>
                      <a:lnTo>
                        <a:pt x="78" y="388"/>
                      </a:lnTo>
                      <a:lnTo>
                        <a:pt x="57" y="319"/>
                      </a:lnTo>
                      <a:lnTo>
                        <a:pt x="36" y="243"/>
                      </a:lnTo>
                      <a:lnTo>
                        <a:pt x="0" y="23"/>
                      </a:lnTo>
                      <a:lnTo>
                        <a:pt x="7" y="0"/>
                      </a:lnTo>
                      <a:lnTo>
                        <a:pt x="28" y="8"/>
                      </a:lnTo>
                      <a:lnTo>
                        <a:pt x="2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7962840" y="5994720"/>
                  <a:ext cx="135000" cy="216360"/>
                </a:xfrm>
                <a:custGeom>
                  <a:avLst/>
                  <a:gdLst/>
                  <a:ahLst/>
                  <a:rect l="l" t="t" r="r" b="b"/>
                  <a:pathLst>
                    <a:path w="1040" h="1758">
                      <a:moveTo>
                        <a:pt x="861" y="2"/>
                      </a:moveTo>
                      <a:lnTo>
                        <a:pt x="907" y="101"/>
                      </a:lnTo>
                      <a:lnTo>
                        <a:pt x="945" y="194"/>
                      </a:lnTo>
                      <a:lnTo>
                        <a:pt x="1000" y="370"/>
                      </a:lnTo>
                      <a:lnTo>
                        <a:pt x="1030" y="555"/>
                      </a:lnTo>
                      <a:lnTo>
                        <a:pt x="1040" y="766"/>
                      </a:lnTo>
                      <a:lnTo>
                        <a:pt x="1026" y="933"/>
                      </a:lnTo>
                      <a:lnTo>
                        <a:pt x="1009" y="1011"/>
                      </a:lnTo>
                      <a:lnTo>
                        <a:pt x="983" y="1097"/>
                      </a:lnTo>
                      <a:lnTo>
                        <a:pt x="948" y="1195"/>
                      </a:lnTo>
                      <a:lnTo>
                        <a:pt x="907" y="1279"/>
                      </a:lnTo>
                      <a:lnTo>
                        <a:pt x="882" y="1317"/>
                      </a:lnTo>
                      <a:lnTo>
                        <a:pt x="855" y="1351"/>
                      </a:lnTo>
                      <a:lnTo>
                        <a:pt x="798" y="1414"/>
                      </a:lnTo>
                      <a:lnTo>
                        <a:pt x="766" y="1443"/>
                      </a:lnTo>
                      <a:lnTo>
                        <a:pt x="732" y="1471"/>
                      </a:lnTo>
                      <a:lnTo>
                        <a:pt x="696" y="1496"/>
                      </a:lnTo>
                      <a:lnTo>
                        <a:pt x="658" y="1520"/>
                      </a:lnTo>
                      <a:lnTo>
                        <a:pt x="618" y="1543"/>
                      </a:lnTo>
                      <a:lnTo>
                        <a:pt x="574" y="1568"/>
                      </a:lnTo>
                      <a:lnTo>
                        <a:pt x="530" y="1591"/>
                      </a:lnTo>
                      <a:lnTo>
                        <a:pt x="485" y="1612"/>
                      </a:lnTo>
                      <a:lnTo>
                        <a:pt x="422" y="1640"/>
                      </a:lnTo>
                      <a:lnTo>
                        <a:pt x="365" y="1661"/>
                      </a:lnTo>
                      <a:lnTo>
                        <a:pt x="255" y="1693"/>
                      </a:lnTo>
                      <a:lnTo>
                        <a:pt x="21" y="1758"/>
                      </a:lnTo>
                      <a:lnTo>
                        <a:pt x="0" y="1749"/>
                      </a:lnTo>
                      <a:lnTo>
                        <a:pt x="9" y="1728"/>
                      </a:lnTo>
                      <a:lnTo>
                        <a:pt x="127" y="1680"/>
                      </a:lnTo>
                      <a:lnTo>
                        <a:pt x="178" y="1657"/>
                      </a:lnTo>
                      <a:lnTo>
                        <a:pt x="228" y="1633"/>
                      </a:lnTo>
                      <a:lnTo>
                        <a:pt x="277" y="1606"/>
                      </a:lnTo>
                      <a:lnTo>
                        <a:pt x="327" y="1579"/>
                      </a:lnTo>
                      <a:lnTo>
                        <a:pt x="382" y="1551"/>
                      </a:lnTo>
                      <a:lnTo>
                        <a:pt x="441" y="1522"/>
                      </a:lnTo>
                      <a:lnTo>
                        <a:pt x="521" y="1482"/>
                      </a:lnTo>
                      <a:lnTo>
                        <a:pt x="593" y="1441"/>
                      </a:lnTo>
                      <a:lnTo>
                        <a:pt x="658" y="1395"/>
                      </a:lnTo>
                      <a:lnTo>
                        <a:pt x="716" y="1346"/>
                      </a:lnTo>
                      <a:lnTo>
                        <a:pt x="768" y="1289"/>
                      </a:lnTo>
                      <a:lnTo>
                        <a:pt x="812" y="1224"/>
                      </a:lnTo>
                      <a:lnTo>
                        <a:pt x="878" y="1062"/>
                      </a:lnTo>
                      <a:lnTo>
                        <a:pt x="918" y="916"/>
                      </a:lnTo>
                      <a:lnTo>
                        <a:pt x="929" y="766"/>
                      </a:lnTo>
                      <a:lnTo>
                        <a:pt x="924" y="562"/>
                      </a:lnTo>
                      <a:lnTo>
                        <a:pt x="903" y="384"/>
                      </a:lnTo>
                      <a:lnTo>
                        <a:pt x="882" y="298"/>
                      </a:lnTo>
                      <a:lnTo>
                        <a:pt x="857" y="213"/>
                      </a:lnTo>
                      <a:lnTo>
                        <a:pt x="823" y="121"/>
                      </a:lnTo>
                      <a:lnTo>
                        <a:pt x="779" y="26"/>
                      </a:lnTo>
                      <a:lnTo>
                        <a:pt x="787" y="13"/>
                      </a:lnTo>
                      <a:lnTo>
                        <a:pt x="813" y="0"/>
                      </a:lnTo>
                      <a:lnTo>
                        <a:pt x="861" y="2"/>
                      </a:lnTo>
                      <a:lnTo>
                        <a:pt x="86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a:off x="7784280" y="6123960"/>
                  <a:ext cx="142920" cy="87480"/>
                </a:xfrm>
                <a:custGeom>
                  <a:avLst/>
                  <a:gdLst/>
                  <a:ahLst/>
                  <a:rect l="l" t="t" r="r" b="b"/>
                  <a:pathLst>
                    <a:path w="1103" h="713">
                      <a:moveTo>
                        <a:pt x="29" y="8"/>
                      </a:moveTo>
                      <a:lnTo>
                        <a:pt x="54" y="61"/>
                      </a:lnTo>
                      <a:lnTo>
                        <a:pt x="78" y="110"/>
                      </a:lnTo>
                      <a:lnTo>
                        <a:pt x="107" y="156"/>
                      </a:lnTo>
                      <a:lnTo>
                        <a:pt x="135" y="198"/>
                      </a:lnTo>
                      <a:lnTo>
                        <a:pt x="166" y="236"/>
                      </a:lnTo>
                      <a:lnTo>
                        <a:pt x="198" y="272"/>
                      </a:lnTo>
                      <a:lnTo>
                        <a:pt x="232" y="304"/>
                      </a:lnTo>
                      <a:lnTo>
                        <a:pt x="268" y="337"/>
                      </a:lnTo>
                      <a:lnTo>
                        <a:pt x="307" y="365"/>
                      </a:lnTo>
                      <a:lnTo>
                        <a:pt x="346" y="392"/>
                      </a:lnTo>
                      <a:lnTo>
                        <a:pt x="388" y="416"/>
                      </a:lnTo>
                      <a:lnTo>
                        <a:pt x="432" y="439"/>
                      </a:lnTo>
                      <a:lnTo>
                        <a:pt x="478" y="462"/>
                      </a:lnTo>
                      <a:lnTo>
                        <a:pt x="527" y="485"/>
                      </a:lnTo>
                      <a:lnTo>
                        <a:pt x="576" y="506"/>
                      </a:lnTo>
                      <a:lnTo>
                        <a:pt x="630" y="527"/>
                      </a:lnTo>
                      <a:lnTo>
                        <a:pt x="717" y="567"/>
                      </a:lnTo>
                      <a:lnTo>
                        <a:pt x="810" y="593"/>
                      </a:lnTo>
                      <a:lnTo>
                        <a:pt x="883" y="618"/>
                      </a:lnTo>
                      <a:lnTo>
                        <a:pt x="945" y="645"/>
                      </a:lnTo>
                      <a:lnTo>
                        <a:pt x="1010" y="665"/>
                      </a:lnTo>
                      <a:lnTo>
                        <a:pt x="1086" y="673"/>
                      </a:lnTo>
                      <a:lnTo>
                        <a:pt x="1103" y="690"/>
                      </a:lnTo>
                      <a:lnTo>
                        <a:pt x="1097" y="702"/>
                      </a:lnTo>
                      <a:lnTo>
                        <a:pt x="1086" y="705"/>
                      </a:lnTo>
                      <a:lnTo>
                        <a:pt x="932" y="713"/>
                      </a:lnTo>
                      <a:lnTo>
                        <a:pt x="782" y="694"/>
                      </a:lnTo>
                      <a:lnTo>
                        <a:pt x="586" y="624"/>
                      </a:lnTo>
                      <a:lnTo>
                        <a:pt x="480" y="576"/>
                      </a:lnTo>
                      <a:lnTo>
                        <a:pt x="430" y="551"/>
                      </a:lnTo>
                      <a:lnTo>
                        <a:pt x="384" y="523"/>
                      </a:lnTo>
                      <a:lnTo>
                        <a:pt x="343" y="494"/>
                      </a:lnTo>
                      <a:lnTo>
                        <a:pt x="303" y="464"/>
                      </a:lnTo>
                      <a:lnTo>
                        <a:pt x="265" y="430"/>
                      </a:lnTo>
                      <a:lnTo>
                        <a:pt x="229" y="396"/>
                      </a:lnTo>
                      <a:lnTo>
                        <a:pt x="164" y="318"/>
                      </a:lnTo>
                      <a:lnTo>
                        <a:pt x="134" y="276"/>
                      </a:lnTo>
                      <a:lnTo>
                        <a:pt x="105" y="230"/>
                      </a:lnTo>
                      <a:lnTo>
                        <a:pt x="76" y="183"/>
                      </a:lnTo>
                      <a:lnTo>
                        <a:pt x="50" y="131"/>
                      </a:lnTo>
                      <a:lnTo>
                        <a:pt x="0" y="21"/>
                      </a:lnTo>
                      <a:lnTo>
                        <a:pt x="8" y="0"/>
                      </a:lnTo>
                      <a:lnTo>
                        <a:pt x="29" y="8"/>
                      </a:lnTo>
                      <a:lnTo>
                        <a:pt x="29"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70" name=""/>
                <p:cNvSpPr/>
                <p:nvPr/>
              </p:nvSpPr>
              <p:spPr>
                <a:xfrm>
                  <a:off x="7792920" y="5971320"/>
                  <a:ext cx="83880" cy="191160"/>
                </a:xfrm>
                <a:custGeom>
                  <a:avLst/>
                  <a:gdLst/>
                  <a:ahLst/>
                  <a:rect l="l" t="t" r="r" b="b"/>
                  <a:pathLst>
                    <a:path w="648" h="1553">
                      <a:moveTo>
                        <a:pt x="555" y="28"/>
                      </a:moveTo>
                      <a:lnTo>
                        <a:pt x="485" y="62"/>
                      </a:lnTo>
                      <a:lnTo>
                        <a:pt x="424" y="93"/>
                      </a:lnTo>
                      <a:lnTo>
                        <a:pt x="365" y="125"/>
                      </a:lnTo>
                      <a:lnTo>
                        <a:pt x="304" y="167"/>
                      </a:lnTo>
                      <a:lnTo>
                        <a:pt x="346" y="365"/>
                      </a:lnTo>
                      <a:lnTo>
                        <a:pt x="300" y="422"/>
                      </a:lnTo>
                      <a:lnTo>
                        <a:pt x="276" y="446"/>
                      </a:lnTo>
                      <a:lnTo>
                        <a:pt x="253" y="469"/>
                      </a:lnTo>
                      <a:lnTo>
                        <a:pt x="203" y="511"/>
                      </a:lnTo>
                      <a:lnTo>
                        <a:pt x="148" y="555"/>
                      </a:lnTo>
                      <a:lnTo>
                        <a:pt x="184" y="629"/>
                      </a:lnTo>
                      <a:lnTo>
                        <a:pt x="213" y="699"/>
                      </a:lnTo>
                      <a:lnTo>
                        <a:pt x="224" y="851"/>
                      </a:lnTo>
                      <a:lnTo>
                        <a:pt x="192" y="897"/>
                      </a:lnTo>
                      <a:lnTo>
                        <a:pt x="160" y="939"/>
                      </a:lnTo>
                      <a:lnTo>
                        <a:pt x="129" y="981"/>
                      </a:lnTo>
                      <a:lnTo>
                        <a:pt x="95" y="1022"/>
                      </a:lnTo>
                      <a:lnTo>
                        <a:pt x="112" y="1060"/>
                      </a:lnTo>
                      <a:lnTo>
                        <a:pt x="133" y="1093"/>
                      </a:lnTo>
                      <a:lnTo>
                        <a:pt x="160" y="1123"/>
                      </a:lnTo>
                      <a:lnTo>
                        <a:pt x="192" y="1152"/>
                      </a:lnTo>
                      <a:lnTo>
                        <a:pt x="268" y="1190"/>
                      </a:lnTo>
                      <a:lnTo>
                        <a:pt x="338" y="1231"/>
                      </a:lnTo>
                      <a:lnTo>
                        <a:pt x="378" y="1275"/>
                      </a:lnTo>
                      <a:lnTo>
                        <a:pt x="386" y="1332"/>
                      </a:lnTo>
                      <a:lnTo>
                        <a:pt x="376" y="1397"/>
                      </a:lnTo>
                      <a:lnTo>
                        <a:pt x="361" y="1467"/>
                      </a:lnTo>
                      <a:lnTo>
                        <a:pt x="470" y="1446"/>
                      </a:lnTo>
                      <a:lnTo>
                        <a:pt x="587" y="1429"/>
                      </a:lnTo>
                      <a:lnTo>
                        <a:pt x="610" y="1427"/>
                      </a:lnTo>
                      <a:lnTo>
                        <a:pt x="639" y="1437"/>
                      </a:lnTo>
                      <a:lnTo>
                        <a:pt x="648" y="1465"/>
                      </a:lnTo>
                      <a:lnTo>
                        <a:pt x="639" y="1492"/>
                      </a:lnTo>
                      <a:lnTo>
                        <a:pt x="610" y="1501"/>
                      </a:lnTo>
                      <a:lnTo>
                        <a:pt x="591" y="1500"/>
                      </a:lnTo>
                      <a:lnTo>
                        <a:pt x="325" y="1553"/>
                      </a:lnTo>
                      <a:lnTo>
                        <a:pt x="289" y="1547"/>
                      </a:lnTo>
                      <a:lnTo>
                        <a:pt x="279" y="1513"/>
                      </a:lnTo>
                      <a:lnTo>
                        <a:pt x="298" y="1444"/>
                      </a:lnTo>
                      <a:lnTo>
                        <a:pt x="327" y="1378"/>
                      </a:lnTo>
                      <a:lnTo>
                        <a:pt x="340" y="1321"/>
                      </a:lnTo>
                      <a:lnTo>
                        <a:pt x="333" y="1298"/>
                      </a:lnTo>
                      <a:lnTo>
                        <a:pt x="312" y="1279"/>
                      </a:lnTo>
                      <a:lnTo>
                        <a:pt x="241" y="1235"/>
                      </a:lnTo>
                      <a:lnTo>
                        <a:pt x="207" y="1214"/>
                      </a:lnTo>
                      <a:lnTo>
                        <a:pt x="167" y="1192"/>
                      </a:lnTo>
                      <a:lnTo>
                        <a:pt x="114" y="1155"/>
                      </a:lnTo>
                      <a:lnTo>
                        <a:pt x="67" y="1123"/>
                      </a:lnTo>
                      <a:lnTo>
                        <a:pt x="0" y="1024"/>
                      </a:lnTo>
                      <a:lnTo>
                        <a:pt x="8" y="982"/>
                      </a:lnTo>
                      <a:lnTo>
                        <a:pt x="47" y="939"/>
                      </a:lnTo>
                      <a:lnTo>
                        <a:pt x="82" y="903"/>
                      </a:lnTo>
                      <a:lnTo>
                        <a:pt x="152" y="821"/>
                      </a:lnTo>
                      <a:lnTo>
                        <a:pt x="150" y="749"/>
                      </a:lnTo>
                      <a:lnTo>
                        <a:pt x="122" y="690"/>
                      </a:lnTo>
                      <a:lnTo>
                        <a:pt x="82" y="631"/>
                      </a:lnTo>
                      <a:lnTo>
                        <a:pt x="44" y="562"/>
                      </a:lnTo>
                      <a:lnTo>
                        <a:pt x="40" y="534"/>
                      </a:lnTo>
                      <a:lnTo>
                        <a:pt x="55" y="507"/>
                      </a:lnTo>
                      <a:lnTo>
                        <a:pt x="89" y="481"/>
                      </a:lnTo>
                      <a:lnTo>
                        <a:pt x="124" y="464"/>
                      </a:lnTo>
                      <a:lnTo>
                        <a:pt x="192" y="439"/>
                      </a:lnTo>
                      <a:lnTo>
                        <a:pt x="259" y="410"/>
                      </a:lnTo>
                      <a:lnTo>
                        <a:pt x="316" y="357"/>
                      </a:lnTo>
                      <a:lnTo>
                        <a:pt x="302" y="304"/>
                      </a:lnTo>
                      <a:lnTo>
                        <a:pt x="279" y="260"/>
                      </a:lnTo>
                      <a:lnTo>
                        <a:pt x="230" y="167"/>
                      </a:lnTo>
                      <a:lnTo>
                        <a:pt x="241" y="129"/>
                      </a:lnTo>
                      <a:lnTo>
                        <a:pt x="278" y="102"/>
                      </a:lnTo>
                      <a:lnTo>
                        <a:pt x="314" y="81"/>
                      </a:lnTo>
                      <a:lnTo>
                        <a:pt x="386" y="55"/>
                      </a:lnTo>
                      <a:lnTo>
                        <a:pt x="542" y="0"/>
                      </a:lnTo>
                      <a:lnTo>
                        <a:pt x="563" y="7"/>
                      </a:lnTo>
                      <a:lnTo>
                        <a:pt x="555" y="28"/>
                      </a:lnTo>
                      <a:lnTo>
                        <a:pt x="55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7887240" y="6157080"/>
                  <a:ext cx="51120" cy="34920"/>
                </a:xfrm>
                <a:custGeom>
                  <a:avLst/>
                  <a:gdLst/>
                  <a:ahLst/>
                  <a:rect l="l" t="t" r="r" b="b"/>
                  <a:pathLst>
                    <a:path w="396" h="287">
                      <a:moveTo>
                        <a:pt x="71" y="23"/>
                      </a:moveTo>
                      <a:lnTo>
                        <a:pt x="107" y="108"/>
                      </a:lnTo>
                      <a:lnTo>
                        <a:pt x="143" y="184"/>
                      </a:lnTo>
                      <a:lnTo>
                        <a:pt x="190" y="148"/>
                      </a:lnTo>
                      <a:lnTo>
                        <a:pt x="234" y="110"/>
                      </a:lnTo>
                      <a:lnTo>
                        <a:pt x="280" y="72"/>
                      </a:lnTo>
                      <a:lnTo>
                        <a:pt x="329" y="29"/>
                      </a:lnTo>
                      <a:lnTo>
                        <a:pt x="359" y="19"/>
                      </a:lnTo>
                      <a:lnTo>
                        <a:pt x="386" y="34"/>
                      </a:lnTo>
                      <a:lnTo>
                        <a:pt x="396" y="63"/>
                      </a:lnTo>
                      <a:lnTo>
                        <a:pt x="380" y="91"/>
                      </a:lnTo>
                      <a:lnTo>
                        <a:pt x="350" y="118"/>
                      </a:lnTo>
                      <a:lnTo>
                        <a:pt x="321" y="143"/>
                      </a:lnTo>
                      <a:lnTo>
                        <a:pt x="293" y="167"/>
                      </a:lnTo>
                      <a:lnTo>
                        <a:pt x="268" y="188"/>
                      </a:lnTo>
                      <a:lnTo>
                        <a:pt x="240" y="211"/>
                      </a:lnTo>
                      <a:lnTo>
                        <a:pt x="213" y="232"/>
                      </a:lnTo>
                      <a:lnTo>
                        <a:pt x="183" y="255"/>
                      </a:lnTo>
                      <a:lnTo>
                        <a:pt x="148" y="278"/>
                      </a:lnTo>
                      <a:lnTo>
                        <a:pt x="114" y="287"/>
                      </a:lnTo>
                      <a:lnTo>
                        <a:pt x="90" y="262"/>
                      </a:lnTo>
                      <a:lnTo>
                        <a:pt x="44" y="156"/>
                      </a:lnTo>
                      <a:lnTo>
                        <a:pt x="0" y="50"/>
                      </a:lnTo>
                      <a:lnTo>
                        <a:pt x="2" y="19"/>
                      </a:lnTo>
                      <a:lnTo>
                        <a:pt x="23" y="0"/>
                      </a:lnTo>
                      <a:lnTo>
                        <a:pt x="71" y="23"/>
                      </a:lnTo>
                      <a:lnTo>
                        <a:pt x="71" y="2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2" name=""/>
                <p:cNvSpPr/>
                <p:nvPr/>
              </p:nvSpPr>
              <p:spPr>
                <a:xfrm>
                  <a:off x="7949880" y="6001920"/>
                  <a:ext cx="122040" cy="189360"/>
                </a:xfrm>
                <a:custGeom>
                  <a:avLst/>
                  <a:gdLst/>
                  <a:ahLst/>
                  <a:rect l="l" t="t" r="r" b="b"/>
                  <a:pathLst>
                    <a:path w="943" h="1538">
                      <a:moveTo>
                        <a:pt x="67" y="1319"/>
                      </a:moveTo>
                      <a:lnTo>
                        <a:pt x="122" y="1387"/>
                      </a:lnTo>
                      <a:lnTo>
                        <a:pt x="146" y="1420"/>
                      </a:lnTo>
                      <a:lnTo>
                        <a:pt x="184" y="1444"/>
                      </a:lnTo>
                      <a:lnTo>
                        <a:pt x="230" y="1463"/>
                      </a:lnTo>
                      <a:lnTo>
                        <a:pt x="272" y="1393"/>
                      </a:lnTo>
                      <a:lnTo>
                        <a:pt x="316" y="1319"/>
                      </a:lnTo>
                      <a:lnTo>
                        <a:pt x="344" y="1268"/>
                      </a:lnTo>
                      <a:lnTo>
                        <a:pt x="375" y="1222"/>
                      </a:lnTo>
                      <a:lnTo>
                        <a:pt x="394" y="1205"/>
                      </a:lnTo>
                      <a:lnTo>
                        <a:pt x="413" y="1188"/>
                      </a:lnTo>
                      <a:lnTo>
                        <a:pt x="466" y="1171"/>
                      </a:lnTo>
                      <a:lnTo>
                        <a:pt x="576" y="1155"/>
                      </a:lnTo>
                      <a:lnTo>
                        <a:pt x="675" y="1146"/>
                      </a:lnTo>
                      <a:lnTo>
                        <a:pt x="643" y="1074"/>
                      </a:lnTo>
                      <a:lnTo>
                        <a:pt x="608" y="998"/>
                      </a:lnTo>
                      <a:lnTo>
                        <a:pt x="618" y="946"/>
                      </a:lnTo>
                      <a:lnTo>
                        <a:pt x="643" y="908"/>
                      </a:lnTo>
                      <a:lnTo>
                        <a:pt x="677" y="876"/>
                      </a:lnTo>
                      <a:lnTo>
                        <a:pt x="721" y="851"/>
                      </a:lnTo>
                      <a:lnTo>
                        <a:pt x="768" y="827"/>
                      </a:lnTo>
                      <a:lnTo>
                        <a:pt x="816" y="802"/>
                      </a:lnTo>
                      <a:lnTo>
                        <a:pt x="901" y="733"/>
                      </a:lnTo>
                      <a:lnTo>
                        <a:pt x="903" y="745"/>
                      </a:lnTo>
                      <a:lnTo>
                        <a:pt x="916" y="732"/>
                      </a:lnTo>
                      <a:lnTo>
                        <a:pt x="876" y="705"/>
                      </a:lnTo>
                      <a:lnTo>
                        <a:pt x="831" y="688"/>
                      </a:lnTo>
                      <a:lnTo>
                        <a:pt x="740" y="667"/>
                      </a:lnTo>
                      <a:lnTo>
                        <a:pt x="656" y="638"/>
                      </a:lnTo>
                      <a:lnTo>
                        <a:pt x="595" y="572"/>
                      </a:lnTo>
                      <a:lnTo>
                        <a:pt x="599" y="541"/>
                      </a:lnTo>
                      <a:lnTo>
                        <a:pt x="625" y="513"/>
                      </a:lnTo>
                      <a:lnTo>
                        <a:pt x="652" y="488"/>
                      </a:lnTo>
                      <a:lnTo>
                        <a:pt x="679" y="465"/>
                      </a:lnTo>
                      <a:lnTo>
                        <a:pt x="707" y="437"/>
                      </a:lnTo>
                      <a:lnTo>
                        <a:pt x="738" y="389"/>
                      </a:lnTo>
                      <a:lnTo>
                        <a:pt x="774" y="350"/>
                      </a:lnTo>
                      <a:lnTo>
                        <a:pt x="806" y="310"/>
                      </a:lnTo>
                      <a:lnTo>
                        <a:pt x="504" y="218"/>
                      </a:lnTo>
                      <a:lnTo>
                        <a:pt x="475" y="177"/>
                      </a:lnTo>
                      <a:lnTo>
                        <a:pt x="491" y="127"/>
                      </a:lnTo>
                      <a:lnTo>
                        <a:pt x="521" y="91"/>
                      </a:lnTo>
                      <a:lnTo>
                        <a:pt x="582" y="9"/>
                      </a:lnTo>
                      <a:lnTo>
                        <a:pt x="603" y="0"/>
                      </a:lnTo>
                      <a:lnTo>
                        <a:pt x="612" y="21"/>
                      </a:lnTo>
                      <a:lnTo>
                        <a:pt x="565" y="150"/>
                      </a:lnTo>
                      <a:lnTo>
                        <a:pt x="643" y="178"/>
                      </a:lnTo>
                      <a:lnTo>
                        <a:pt x="715" y="205"/>
                      </a:lnTo>
                      <a:lnTo>
                        <a:pt x="787" y="234"/>
                      </a:lnTo>
                      <a:lnTo>
                        <a:pt x="871" y="260"/>
                      </a:lnTo>
                      <a:lnTo>
                        <a:pt x="895" y="281"/>
                      </a:lnTo>
                      <a:lnTo>
                        <a:pt x="886" y="311"/>
                      </a:lnTo>
                      <a:lnTo>
                        <a:pt x="850" y="350"/>
                      </a:lnTo>
                      <a:lnTo>
                        <a:pt x="812" y="386"/>
                      </a:lnTo>
                      <a:lnTo>
                        <a:pt x="745" y="465"/>
                      </a:lnTo>
                      <a:lnTo>
                        <a:pt x="721" y="492"/>
                      </a:lnTo>
                      <a:lnTo>
                        <a:pt x="698" y="515"/>
                      </a:lnTo>
                      <a:lnTo>
                        <a:pt x="652" y="564"/>
                      </a:lnTo>
                      <a:lnTo>
                        <a:pt x="677" y="595"/>
                      </a:lnTo>
                      <a:lnTo>
                        <a:pt x="709" y="616"/>
                      </a:lnTo>
                      <a:lnTo>
                        <a:pt x="785" y="638"/>
                      </a:lnTo>
                      <a:lnTo>
                        <a:pt x="943" y="697"/>
                      </a:lnTo>
                      <a:lnTo>
                        <a:pt x="937" y="714"/>
                      </a:lnTo>
                      <a:lnTo>
                        <a:pt x="928" y="737"/>
                      </a:lnTo>
                      <a:lnTo>
                        <a:pt x="926" y="754"/>
                      </a:lnTo>
                      <a:lnTo>
                        <a:pt x="894" y="787"/>
                      </a:lnTo>
                      <a:lnTo>
                        <a:pt x="859" y="811"/>
                      </a:lnTo>
                      <a:lnTo>
                        <a:pt x="787" y="855"/>
                      </a:lnTo>
                      <a:lnTo>
                        <a:pt x="728" y="905"/>
                      </a:lnTo>
                      <a:lnTo>
                        <a:pt x="703" y="979"/>
                      </a:lnTo>
                      <a:lnTo>
                        <a:pt x="783" y="1193"/>
                      </a:lnTo>
                      <a:lnTo>
                        <a:pt x="776" y="1241"/>
                      </a:lnTo>
                      <a:lnTo>
                        <a:pt x="728" y="1247"/>
                      </a:lnTo>
                      <a:lnTo>
                        <a:pt x="601" y="1220"/>
                      </a:lnTo>
                      <a:lnTo>
                        <a:pt x="472" y="1218"/>
                      </a:lnTo>
                      <a:lnTo>
                        <a:pt x="432" y="1235"/>
                      </a:lnTo>
                      <a:lnTo>
                        <a:pt x="403" y="1266"/>
                      </a:lnTo>
                      <a:lnTo>
                        <a:pt x="363" y="1346"/>
                      </a:lnTo>
                      <a:lnTo>
                        <a:pt x="337" y="1391"/>
                      </a:lnTo>
                      <a:lnTo>
                        <a:pt x="314" y="1433"/>
                      </a:lnTo>
                      <a:lnTo>
                        <a:pt x="291" y="1473"/>
                      </a:lnTo>
                      <a:lnTo>
                        <a:pt x="266" y="1520"/>
                      </a:lnTo>
                      <a:lnTo>
                        <a:pt x="245" y="1538"/>
                      </a:lnTo>
                      <a:lnTo>
                        <a:pt x="221" y="1528"/>
                      </a:lnTo>
                      <a:lnTo>
                        <a:pt x="171" y="1475"/>
                      </a:lnTo>
                      <a:lnTo>
                        <a:pt x="17" y="1384"/>
                      </a:lnTo>
                      <a:lnTo>
                        <a:pt x="0" y="1355"/>
                      </a:lnTo>
                      <a:lnTo>
                        <a:pt x="10" y="1327"/>
                      </a:lnTo>
                      <a:lnTo>
                        <a:pt x="34" y="1311"/>
                      </a:lnTo>
                      <a:lnTo>
                        <a:pt x="67" y="1319"/>
                      </a:lnTo>
                      <a:lnTo>
                        <a:pt x="67" y="1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7880040" y="5959080"/>
                  <a:ext cx="49680" cy="35640"/>
                </a:xfrm>
                <a:custGeom>
                  <a:avLst/>
                  <a:gdLst/>
                  <a:ahLst/>
                  <a:rect l="l" t="t" r="r" b="b"/>
                  <a:pathLst>
                    <a:path w="384" h="291">
                      <a:moveTo>
                        <a:pt x="29" y="76"/>
                      </a:moveTo>
                      <a:lnTo>
                        <a:pt x="205" y="165"/>
                      </a:lnTo>
                      <a:lnTo>
                        <a:pt x="249" y="99"/>
                      </a:lnTo>
                      <a:lnTo>
                        <a:pt x="276" y="70"/>
                      </a:lnTo>
                      <a:lnTo>
                        <a:pt x="304" y="49"/>
                      </a:lnTo>
                      <a:lnTo>
                        <a:pt x="359" y="2"/>
                      </a:lnTo>
                      <a:lnTo>
                        <a:pt x="382" y="0"/>
                      </a:lnTo>
                      <a:lnTo>
                        <a:pt x="384" y="23"/>
                      </a:lnTo>
                      <a:lnTo>
                        <a:pt x="325" y="150"/>
                      </a:lnTo>
                      <a:lnTo>
                        <a:pt x="251" y="264"/>
                      </a:lnTo>
                      <a:lnTo>
                        <a:pt x="234" y="283"/>
                      </a:lnTo>
                      <a:lnTo>
                        <a:pt x="215" y="291"/>
                      </a:lnTo>
                      <a:lnTo>
                        <a:pt x="177" y="266"/>
                      </a:lnTo>
                      <a:lnTo>
                        <a:pt x="137" y="218"/>
                      </a:lnTo>
                      <a:lnTo>
                        <a:pt x="99" y="178"/>
                      </a:lnTo>
                      <a:lnTo>
                        <a:pt x="59" y="146"/>
                      </a:lnTo>
                      <a:lnTo>
                        <a:pt x="8" y="114"/>
                      </a:lnTo>
                      <a:lnTo>
                        <a:pt x="0" y="85"/>
                      </a:lnTo>
                      <a:lnTo>
                        <a:pt x="29" y="76"/>
                      </a:lnTo>
                      <a:lnTo>
                        <a:pt x="29" y="7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774" name=""/>
                <p:cNvSpPr/>
                <p:nvPr/>
              </p:nvSpPr>
              <p:spPr>
                <a:xfrm>
                  <a:off x="7957800" y="5972760"/>
                  <a:ext cx="48240" cy="30960"/>
                </a:xfrm>
                <a:custGeom>
                  <a:avLst/>
                  <a:gdLst/>
                  <a:ahLst/>
                  <a:rect l="l" t="t" r="r" b="b"/>
                  <a:pathLst>
                    <a:path w="374" h="253">
                      <a:moveTo>
                        <a:pt x="30" y="10"/>
                      </a:moveTo>
                      <a:lnTo>
                        <a:pt x="66" y="86"/>
                      </a:lnTo>
                      <a:lnTo>
                        <a:pt x="87" y="120"/>
                      </a:lnTo>
                      <a:lnTo>
                        <a:pt x="112" y="152"/>
                      </a:lnTo>
                      <a:lnTo>
                        <a:pt x="171" y="124"/>
                      </a:lnTo>
                      <a:lnTo>
                        <a:pt x="228" y="101"/>
                      </a:lnTo>
                      <a:lnTo>
                        <a:pt x="353" y="57"/>
                      </a:lnTo>
                      <a:lnTo>
                        <a:pt x="374" y="67"/>
                      </a:lnTo>
                      <a:lnTo>
                        <a:pt x="365" y="88"/>
                      </a:lnTo>
                      <a:lnTo>
                        <a:pt x="298" y="120"/>
                      </a:lnTo>
                      <a:lnTo>
                        <a:pt x="243" y="158"/>
                      </a:lnTo>
                      <a:lnTo>
                        <a:pt x="192" y="198"/>
                      </a:lnTo>
                      <a:lnTo>
                        <a:pt x="163" y="221"/>
                      </a:lnTo>
                      <a:lnTo>
                        <a:pt x="133" y="243"/>
                      </a:lnTo>
                      <a:lnTo>
                        <a:pt x="104" y="253"/>
                      </a:lnTo>
                      <a:lnTo>
                        <a:pt x="78" y="240"/>
                      </a:lnTo>
                      <a:lnTo>
                        <a:pt x="44" y="190"/>
                      </a:lnTo>
                      <a:lnTo>
                        <a:pt x="28" y="137"/>
                      </a:lnTo>
                      <a:lnTo>
                        <a:pt x="0" y="23"/>
                      </a:lnTo>
                      <a:lnTo>
                        <a:pt x="9" y="0"/>
                      </a:lnTo>
                      <a:lnTo>
                        <a:pt x="30" y="10"/>
                      </a:lnTo>
                      <a:lnTo>
                        <a:pt x="30" y="1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775" name=""/>
                <p:cNvSpPr/>
                <p:nvPr/>
              </p:nvSpPr>
              <p:spPr>
                <a:xfrm>
                  <a:off x="7772400" y="5944320"/>
                  <a:ext cx="90360" cy="136800"/>
                </a:xfrm>
                <a:custGeom>
                  <a:avLst/>
                  <a:gdLst/>
                  <a:ahLst/>
                  <a:rect l="l" t="t" r="r" b="b"/>
                  <a:pathLst>
                    <a:path w="696" h="1112">
                      <a:moveTo>
                        <a:pt x="679" y="33"/>
                      </a:moveTo>
                      <a:lnTo>
                        <a:pt x="603" y="46"/>
                      </a:lnTo>
                      <a:lnTo>
                        <a:pt x="540" y="80"/>
                      </a:lnTo>
                      <a:lnTo>
                        <a:pt x="481" y="128"/>
                      </a:lnTo>
                      <a:lnTo>
                        <a:pt x="451" y="152"/>
                      </a:lnTo>
                      <a:lnTo>
                        <a:pt x="417" y="177"/>
                      </a:lnTo>
                      <a:lnTo>
                        <a:pt x="348" y="226"/>
                      </a:lnTo>
                      <a:lnTo>
                        <a:pt x="320" y="253"/>
                      </a:lnTo>
                      <a:lnTo>
                        <a:pt x="293" y="282"/>
                      </a:lnTo>
                      <a:lnTo>
                        <a:pt x="247" y="341"/>
                      </a:lnTo>
                      <a:lnTo>
                        <a:pt x="209" y="403"/>
                      </a:lnTo>
                      <a:lnTo>
                        <a:pt x="179" y="472"/>
                      </a:lnTo>
                      <a:lnTo>
                        <a:pt x="150" y="544"/>
                      </a:lnTo>
                      <a:lnTo>
                        <a:pt x="124" y="624"/>
                      </a:lnTo>
                      <a:lnTo>
                        <a:pt x="97" y="705"/>
                      </a:lnTo>
                      <a:lnTo>
                        <a:pt x="46" y="1095"/>
                      </a:lnTo>
                      <a:lnTo>
                        <a:pt x="31" y="1112"/>
                      </a:lnTo>
                      <a:lnTo>
                        <a:pt x="13" y="1099"/>
                      </a:lnTo>
                      <a:lnTo>
                        <a:pt x="0" y="681"/>
                      </a:lnTo>
                      <a:lnTo>
                        <a:pt x="31" y="588"/>
                      </a:lnTo>
                      <a:lnTo>
                        <a:pt x="61" y="502"/>
                      </a:lnTo>
                      <a:lnTo>
                        <a:pt x="93" y="420"/>
                      </a:lnTo>
                      <a:lnTo>
                        <a:pt x="129" y="344"/>
                      </a:lnTo>
                      <a:lnTo>
                        <a:pt x="150" y="310"/>
                      </a:lnTo>
                      <a:lnTo>
                        <a:pt x="171" y="274"/>
                      </a:lnTo>
                      <a:lnTo>
                        <a:pt x="196" y="242"/>
                      </a:lnTo>
                      <a:lnTo>
                        <a:pt x="223" y="209"/>
                      </a:lnTo>
                      <a:lnTo>
                        <a:pt x="253" y="179"/>
                      </a:lnTo>
                      <a:lnTo>
                        <a:pt x="285" y="149"/>
                      </a:lnTo>
                      <a:lnTo>
                        <a:pt x="321" y="120"/>
                      </a:lnTo>
                      <a:lnTo>
                        <a:pt x="361" y="93"/>
                      </a:lnTo>
                      <a:lnTo>
                        <a:pt x="401" y="69"/>
                      </a:lnTo>
                      <a:lnTo>
                        <a:pt x="437" y="48"/>
                      </a:lnTo>
                      <a:lnTo>
                        <a:pt x="512" y="19"/>
                      </a:lnTo>
                      <a:lnTo>
                        <a:pt x="679" y="0"/>
                      </a:lnTo>
                      <a:lnTo>
                        <a:pt x="696" y="15"/>
                      </a:lnTo>
                      <a:lnTo>
                        <a:pt x="692" y="27"/>
                      </a:lnTo>
                      <a:lnTo>
                        <a:pt x="679" y="33"/>
                      </a:lnTo>
                      <a:lnTo>
                        <a:pt x="679"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776" name=""/>
          <p:cNvGrpSpPr/>
          <p:nvPr/>
        </p:nvGrpSpPr>
        <p:grpSpPr>
          <a:xfrm>
            <a:off x="2133720" y="3124080"/>
            <a:ext cx="5029200" cy="457200"/>
            <a:chOff x="2133720" y="3124080"/>
            <a:chExt cx="5029200" cy="457200"/>
          </a:xfrm>
        </p:grpSpPr>
        <p:grpSp>
          <p:nvGrpSpPr>
            <p:cNvPr id="777" name=""/>
            <p:cNvGrpSpPr/>
            <p:nvPr/>
          </p:nvGrpSpPr>
          <p:grpSpPr>
            <a:xfrm>
              <a:off x="2133720" y="3124080"/>
              <a:ext cx="304560" cy="457200"/>
              <a:chOff x="2133720" y="3124080"/>
              <a:chExt cx="304560" cy="457200"/>
            </a:xfrm>
          </p:grpSpPr>
          <p:sp>
            <p:nvSpPr>
              <p:cNvPr id="778" name=""/>
              <p:cNvSpPr/>
              <p:nvPr/>
            </p:nvSpPr>
            <p:spPr>
              <a:xfrm>
                <a:off x="2136600" y="3255840"/>
                <a:ext cx="53640" cy="75960"/>
              </a:xfrm>
              <a:custGeom>
                <a:avLst/>
                <a:gdLst/>
                <a:ahLst/>
                <a:rect l="l" t="t" r="r" b="b"/>
                <a:pathLst>
                  <a:path w="443" h="626">
                    <a:moveTo>
                      <a:pt x="0" y="0"/>
                    </a:moveTo>
                    <a:lnTo>
                      <a:pt x="19" y="276"/>
                    </a:lnTo>
                    <a:lnTo>
                      <a:pt x="114" y="498"/>
                    </a:lnTo>
                    <a:lnTo>
                      <a:pt x="340" y="626"/>
                    </a:lnTo>
                    <a:lnTo>
                      <a:pt x="443" y="550"/>
                    </a:lnTo>
                    <a:lnTo>
                      <a:pt x="353" y="417"/>
                    </a:lnTo>
                    <a:lnTo>
                      <a:pt x="201" y="396"/>
                    </a:lnTo>
                    <a:lnTo>
                      <a:pt x="101" y="306"/>
                    </a:lnTo>
                    <a:lnTo>
                      <a:pt x="0" y="0"/>
                    </a:lnTo>
                    <a:lnTo>
                      <a:pt x="0" y="0"/>
                    </a:lnTo>
                    <a:close/>
                  </a:path>
                </a:pathLst>
              </a:custGeom>
              <a:solidFill>
                <a:srgbClr val="ffd9d9"/>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79" name=""/>
              <p:cNvSpPr/>
              <p:nvPr/>
            </p:nvSpPr>
            <p:spPr>
              <a:xfrm>
                <a:off x="2252880" y="3336480"/>
                <a:ext cx="140040" cy="46800"/>
              </a:xfrm>
              <a:custGeom>
                <a:avLst/>
                <a:gdLst/>
                <a:ahLst/>
                <a:rect l="l" t="t" r="r" b="b"/>
                <a:pathLst>
                  <a:path w="1156" h="384">
                    <a:moveTo>
                      <a:pt x="0" y="306"/>
                    </a:moveTo>
                    <a:lnTo>
                      <a:pt x="139" y="268"/>
                    </a:lnTo>
                    <a:lnTo>
                      <a:pt x="304" y="121"/>
                    </a:lnTo>
                    <a:lnTo>
                      <a:pt x="493" y="273"/>
                    </a:lnTo>
                    <a:lnTo>
                      <a:pt x="443" y="116"/>
                    </a:lnTo>
                    <a:lnTo>
                      <a:pt x="607" y="230"/>
                    </a:lnTo>
                    <a:lnTo>
                      <a:pt x="734" y="165"/>
                    </a:lnTo>
                    <a:lnTo>
                      <a:pt x="840" y="70"/>
                    </a:lnTo>
                    <a:lnTo>
                      <a:pt x="854" y="19"/>
                    </a:lnTo>
                    <a:lnTo>
                      <a:pt x="979" y="0"/>
                    </a:lnTo>
                    <a:lnTo>
                      <a:pt x="1156" y="26"/>
                    </a:lnTo>
                    <a:lnTo>
                      <a:pt x="854" y="205"/>
                    </a:lnTo>
                    <a:lnTo>
                      <a:pt x="498" y="363"/>
                    </a:lnTo>
                    <a:lnTo>
                      <a:pt x="95" y="384"/>
                    </a:lnTo>
                    <a:lnTo>
                      <a:pt x="0" y="306"/>
                    </a:lnTo>
                    <a:lnTo>
                      <a:pt x="0" y="306"/>
                    </a:lnTo>
                    <a:close/>
                  </a:path>
                </a:pathLst>
              </a:custGeom>
              <a:solidFill>
                <a:srgbClr val="ffd9d9"/>
              </a:solidFill>
              <a:ln w="0">
                <a:no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780" name=""/>
              <p:cNvSpPr/>
              <p:nvPr/>
            </p:nvSpPr>
            <p:spPr>
              <a:xfrm>
                <a:off x="2153880" y="3146040"/>
                <a:ext cx="210240" cy="217080"/>
              </a:xfrm>
              <a:custGeom>
                <a:avLst/>
                <a:gdLst/>
                <a:ahLst/>
                <a:rect l="l" t="t" r="r" b="b"/>
                <a:pathLst>
                  <a:path w="1731" h="1779">
                    <a:moveTo>
                      <a:pt x="557" y="0"/>
                    </a:moveTo>
                    <a:lnTo>
                      <a:pt x="233" y="314"/>
                    </a:lnTo>
                    <a:lnTo>
                      <a:pt x="43" y="485"/>
                    </a:lnTo>
                    <a:lnTo>
                      <a:pt x="100" y="740"/>
                    </a:lnTo>
                    <a:lnTo>
                      <a:pt x="0" y="875"/>
                    </a:lnTo>
                    <a:lnTo>
                      <a:pt x="95" y="1091"/>
                    </a:lnTo>
                    <a:lnTo>
                      <a:pt x="138" y="1200"/>
                    </a:lnTo>
                    <a:lnTo>
                      <a:pt x="290" y="1283"/>
                    </a:lnTo>
                    <a:lnTo>
                      <a:pt x="595" y="829"/>
                    </a:lnTo>
                    <a:lnTo>
                      <a:pt x="1005" y="652"/>
                    </a:lnTo>
                    <a:lnTo>
                      <a:pt x="600" y="1053"/>
                    </a:lnTo>
                    <a:lnTo>
                      <a:pt x="366" y="1346"/>
                    </a:lnTo>
                    <a:lnTo>
                      <a:pt x="328" y="1538"/>
                    </a:lnTo>
                    <a:lnTo>
                      <a:pt x="606" y="1487"/>
                    </a:lnTo>
                    <a:lnTo>
                      <a:pt x="688" y="1492"/>
                    </a:lnTo>
                    <a:lnTo>
                      <a:pt x="752" y="1563"/>
                    </a:lnTo>
                    <a:lnTo>
                      <a:pt x="1188" y="1295"/>
                    </a:lnTo>
                    <a:lnTo>
                      <a:pt x="834" y="1679"/>
                    </a:lnTo>
                    <a:lnTo>
                      <a:pt x="847" y="1779"/>
                    </a:lnTo>
                    <a:lnTo>
                      <a:pt x="1062" y="1601"/>
                    </a:lnTo>
                    <a:lnTo>
                      <a:pt x="1302" y="1500"/>
                    </a:lnTo>
                    <a:lnTo>
                      <a:pt x="1707" y="1072"/>
                    </a:lnTo>
                    <a:lnTo>
                      <a:pt x="1731" y="696"/>
                    </a:lnTo>
                    <a:lnTo>
                      <a:pt x="1174" y="300"/>
                    </a:lnTo>
                    <a:lnTo>
                      <a:pt x="650" y="333"/>
                    </a:lnTo>
                    <a:lnTo>
                      <a:pt x="557" y="0"/>
                    </a:lnTo>
                    <a:lnTo>
                      <a:pt x="557" y="0"/>
                    </a:lnTo>
                    <a:close/>
                  </a:path>
                </a:pathLst>
              </a:custGeom>
              <a:solidFill>
                <a:srgbClr val="ff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2143440" y="3301560"/>
                <a:ext cx="127800" cy="81720"/>
              </a:xfrm>
              <a:custGeom>
                <a:avLst/>
                <a:gdLst/>
                <a:ahLst/>
                <a:rect l="l" t="t" r="r" b="b"/>
                <a:pathLst>
                  <a:path w="1053" h="673">
                    <a:moveTo>
                      <a:pt x="0" y="0"/>
                    </a:moveTo>
                    <a:lnTo>
                      <a:pt x="120" y="80"/>
                    </a:lnTo>
                    <a:lnTo>
                      <a:pt x="255" y="173"/>
                    </a:lnTo>
                    <a:lnTo>
                      <a:pt x="375" y="144"/>
                    </a:lnTo>
                    <a:lnTo>
                      <a:pt x="437" y="43"/>
                    </a:lnTo>
                    <a:lnTo>
                      <a:pt x="388" y="294"/>
                    </a:lnTo>
                    <a:lnTo>
                      <a:pt x="510" y="351"/>
                    </a:lnTo>
                    <a:lnTo>
                      <a:pt x="665" y="380"/>
                    </a:lnTo>
                    <a:lnTo>
                      <a:pt x="749" y="351"/>
                    </a:lnTo>
                    <a:lnTo>
                      <a:pt x="793" y="479"/>
                    </a:lnTo>
                    <a:lnTo>
                      <a:pt x="1053" y="673"/>
                    </a:lnTo>
                    <a:lnTo>
                      <a:pt x="749" y="608"/>
                    </a:lnTo>
                    <a:lnTo>
                      <a:pt x="260" y="336"/>
                    </a:lnTo>
                    <a:lnTo>
                      <a:pt x="105" y="173"/>
                    </a:lnTo>
                    <a:lnTo>
                      <a:pt x="0" y="0"/>
                    </a:lnTo>
                    <a:lnTo>
                      <a:pt x="0" y="0"/>
                    </a:lnTo>
                    <a:close/>
                  </a:path>
                </a:pathLst>
              </a:custGeom>
              <a:solidFill>
                <a:srgbClr val="ff9999"/>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782" name=""/>
              <p:cNvSpPr/>
              <p:nvPr/>
            </p:nvSpPr>
            <p:spPr>
              <a:xfrm>
                <a:off x="2140560" y="3371040"/>
                <a:ext cx="241560" cy="196920"/>
              </a:xfrm>
              <a:custGeom>
                <a:avLst/>
                <a:gdLst/>
                <a:ahLst/>
                <a:rect l="l" t="t" r="r" b="b"/>
                <a:pathLst>
                  <a:path w="1991" h="1616">
                    <a:moveTo>
                      <a:pt x="405" y="0"/>
                    </a:moveTo>
                    <a:lnTo>
                      <a:pt x="377" y="152"/>
                    </a:lnTo>
                    <a:lnTo>
                      <a:pt x="242" y="274"/>
                    </a:lnTo>
                    <a:lnTo>
                      <a:pt x="411" y="217"/>
                    </a:lnTo>
                    <a:lnTo>
                      <a:pt x="341" y="473"/>
                    </a:lnTo>
                    <a:lnTo>
                      <a:pt x="348" y="623"/>
                    </a:lnTo>
                    <a:lnTo>
                      <a:pt x="333" y="973"/>
                    </a:lnTo>
                    <a:lnTo>
                      <a:pt x="234" y="1230"/>
                    </a:lnTo>
                    <a:lnTo>
                      <a:pt x="744" y="838"/>
                    </a:lnTo>
                    <a:lnTo>
                      <a:pt x="561" y="1095"/>
                    </a:lnTo>
                    <a:lnTo>
                      <a:pt x="156" y="1374"/>
                    </a:lnTo>
                    <a:lnTo>
                      <a:pt x="0" y="1530"/>
                    </a:lnTo>
                    <a:lnTo>
                      <a:pt x="164" y="1551"/>
                    </a:lnTo>
                    <a:lnTo>
                      <a:pt x="510" y="1281"/>
                    </a:lnTo>
                    <a:lnTo>
                      <a:pt x="624" y="1281"/>
                    </a:lnTo>
                    <a:lnTo>
                      <a:pt x="715" y="1481"/>
                    </a:lnTo>
                    <a:lnTo>
                      <a:pt x="850" y="1616"/>
                    </a:lnTo>
                    <a:lnTo>
                      <a:pt x="892" y="1294"/>
                    </a:lnTo>
                    <a:lnTo>
                      <a:pt x="780" y="1188"/>
                    </a:lnTo>
                    <a:lnTo>
                      <a:pt x="858" y="895"/>
                    </a:lnTo>
                    <a:lnTo>
                      <a:pt x="985" y="608"/>
                    </a:lnTo>
                    <a:lnTo>
                      <a:pt x="1154" y="745"/>
                    </a:lnTo>
                    <a:lnTo>
                      <a:pt x="1339" y="1051"/>
                    </a:lnTo>
                    <a:lnTo>
                      <a:pt x="1424" y="1494"/>
                    </a:lnTo>
                    <a:lnTo>
                      <a:pt x="1609" y="1144"/>
                    </a:lnTo>
                    <a:lnTo>
                      <a:pt x="1955" y="1408"/>
                    </a:lnTo>
                    <a:lnTo>
                      <a:pt x="1778" y="1045"/>
                    </a:lnTo>
                    <a:lnTo>
                      <a:pt x="1983" y="1273"/>
                    </a:lnTo>
                    <a:lnTo>
                      <a:pt x="1827" y="595"/>
                    </a:lnTo>
                    <a:lnTo>
                      <a:pt x="1820" y="380"/>
                    </a:lnTo>
                    <a:lnTo>
                      <a:pt x="1991" y="367"/>
                    </a:lnTo>
                    <a:lnTo>
                      <a:pt x="1975" y="230"/>
                    </a:lnTo>
                    <a:lnTo>
                      <a:pt x="1877" y="274"/>
                    </a:lnTo>
                    <a:lnTo>
                      <a:pt x="1614" y="160"/>
                    </a:lnTo>
                    <a:lnTo>
                      <a:pt x="1523" y="217"/>
                    </a:lnTo>
                    <a:lnTo>
                      <a:pt x="772" y="137"/>
                    </a:lnTo>
                    <a:lnTo>
                      <a:pt x="405" y="0"/>
                    </a:lnTo>
                    <a:lnTo>
                      <a:pt x="405"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2147400" y="3129120"/>
                <a:ext cx="280440" cy="263880"/>
              </a:xfrm>
              <a:custGeom>
                <a:avLst/>
                <a:gdLst/>
                <a:ahLst/>
                <a:rect l="l" t="t" r="r" b="b"/>
                <a:pathLst>
                  <a:path w="2308" h="2164">
                    <a:moveTo>
                      <a:pt x="299" y="863"/>
                    </a:moveTo>
                    <a:lnTo>
                      <a:pt x="681" y="628"/>
                    </a:lnTo>
                    <a:lnTo>
                      <a:pt x="1289" y="571"/>
                    </a:lnTo>
                    <a:lnTo>
                      <a:pt x="1346" y="728"/>
                    </a:lnTo>
                    <a:lnTo>
                      <a:pt x="736" y="1264"/>
                    </a:lnTo>
                    <a:lnTo>
                      <a:pt x="595" y="1485"/>
                    </a:lnTo>
                    <a:lnTo>
                      <a:pt x="1707" y="1034"/>
                    </a:lnTo>
                    <a:lnTo>
                      <a:pt x="1063" y="1764"/>
                    </a:lnTo>
                    <a:lnTo>
                      <a:pt x="1190" y="1700"/>
                    </a:lnTo>
                    <a:lnTo>
                      <a:pt x="1295" y="1785"/>
                    </a:lnTo>
                    <a:lnTo>
                      <a:pt x="1494" y="1935"/>
                    </a:lnTo>
                    <a:lnTo>
                      <a:pt x="1700" y="1627"/>
                    </a:lnTo>
                    <a:lnTo>
                      <a:pt x="1975" y="1586"/>
                    </a:lnTo>
                    <a:lnTo>
                      <a:pt x="1926" y="1356"/>
                    </a:lnTo>
                    <a:lnTo>
                      <a:pt x="2171" y="1169"/>
                    </a:lnTo>
                    <a:lnTo>
                      <a:pt x="2036" y="909"/>
                    </a:lnTo>
                    <a:lnTo>
                      <a:pt x="2173" y="736"/>
                    </a:lnTo>
                    <a:lnTo>
                      <a:pt x="2223" y="928"/>
                    </a:lnTo>
                    <a:lnTo>
                      <a:pt x="2223" y="1228"/>
                    </a:lnTo>
                    <a:lnTo>
                      <a:pt x="2053" y="1399"/>
                    </a:lnTo>
                    <a:lnTo>
                      <a:pt x="2061" y="1542"/>
                    </a:lnTo>
                    <a:lnTo>
                      <a:pt x="1975" y="1728"/>
                    </a:lnTo>
                    <a:lnTo>
                      <a:pt x="1778" y="1749"/>
                    </a:lnTo>
                    <a:lnTo>
                      <a:pt x="1629" y="1892"/>
                    </a:lnTo>
                    <a:lnTo>
                      <a:pt x="1523" y="2000"/>
                    </a:lnTo>
                    <a:lnTo>
                      <a:pt x="1339" y="2049"/>
                    </a:lnTo>
                    <a:lnTo>
                      <a:pt x="1175" y="1850"/>
                    </a:lnTo>
                    <a:lnTo>
                      <a:pt x="1006" y="2034"/>
                    </a:lnTo>
                    <a:lnTo>
                      <a:pt x="759" y="2049"/>
                    </a:lnTo>
                    <a:lnTo>
                      <a:pt x="1091" y="2164"/>
                    </a:lnTo>
                    <a:lnTo>
                      <a:pt x="1629" y="2091"/>
                    </a:lnTo>
                    <a:lnTo>
                      <a:pt x="1820" y="2063"/>
                    </a:lnTo>
                    <a:lnTo>
                      <a:pt x="1848" y="1943"/>
                    </a:lnTo>
                    <a:lnTo>
                      <a:pt x="2124" y="1793"/>
                    </a:lnTo>
                    <a:lnTo>
                      <a:pt x="2295" y="1420"/>
                    </a:lnTo>
                    <a:lnTo>
                      <a:pt x="2308" y="972"/>
                    </a:lnTo>
                    <a:lnTo>
                      <a:pt x="2181" y="400"/>
                    </a:lnTo>
                    <a:lnTo>
                      <a:pt x="1905" y="420"/>
                    </a:lnTo>
                    <a:lnTo>
                      <a:pt x="1331" y="213"/>
                    </a:lnTo>
                    <a:lnTo>
                      <a:pt x="736" y="107"/>
                    </a:lnTo>
                    <a:lnTo>
                      <a:pt x="546" y="0"/>
                    </a:lnTo>
                    <a:lnTo>
                      <a:pt x="341" y="149"/>
                    </a:lnTo>
                    <a:lnTo>
                      <a:pt x="198" y="293"/>
                    </a:lnTo>
                    <a:lnTo>
                      <a:pt x="221" y="449"/>
                    </a:lnTo>
                    <a:lnTo>
                      <a:pt x="128" y="472"/>
                    </a:lnTo>
                    <a:lnTo>
                      <a:pt x="42" y="592"/>
                    </a:lnTo>
                    <a:lnTo>
                      <a:pt x="42" y="770"/>
                    </a:lnTo>
                    <a:lnTo>
                      <a:pt x="99" y="899"/>
                    </a:lnTo>
                    <a:lnTo>
                      <a:pt x="8" y="956"/>
                    </a:lnTo>
                    <a:lnTo>
                      <a:pt x="0" y="1107"/>
                    </a:lnTo>
                    <a:lnTo>
                      <a:pt x="99" y="1221"/>
                    </a:lnTo>
                    <a:lnTo>
                      <a:pt x="242" y="1122"/>
                    </a:lnTo>
                    <a:lnTo>
                      <a:pt x="226" y="936"/>
                    </a:lnTo>
                    <a:lnTo>
                      <a:pt x="299" y="863"/>
                    </a:lnTo>
                    <a:lnTo>
                      <a:pt x="299" y="863"/>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a:off x="2151000" y="3124080"/>
                <a:ext cx="261360" cy="162720"/>
              </a:xfrm>
              <a:custGeom>
                <a:avLst/>
                <a:gdLst/>
                <a:ahLst/>
                <a:rect l="l" t="t" r="r" b="b"/>
                <a:pathLst>
                  <a:path w="2152" h="1334">
                    <a:moveTo>
                      <a:pt x="135" y="1334"/>
                    </a:moveTo>
                    <a:lnTo>
                      <a:pt x="247" y="1148"/>
                    </a:lnTo>
                    <a:lnTo>
                      <a:pt x="197" y="977"/>
                    </a:lnTo>
                    <a:lnTo>
                      <a:pt x="247" y="777"/>
                    </a:lnTo>
                    <a:lnTo>
                      <a:pt x="389" y="676"/>
                    </a:lnTo>
                    <a:lnTo>
                      <a:pt x="382" y="562"/>
                    </a:lnTo>
                    <a:lnTo>
                      <a:pt x="467" y="363"/>
                    </a:lnTo>
                    <a:lnTo>
                      <a:pt x="673" y="277"/>
                    </a:lnTo>
                    <a:lnTo>
                      <a:pt x="857" y="441"/>
                    </a:lnTo>
                    <a:lnTo>
                      <a:pt x="1091" y="306"/>
                    </a:lnTo>
                    <a:lnTo>
                      <a:pt x="1260" y="420"/>
                    </a:lnTo>
                    <a:lnTo>
                      <a:pt x="1372" y="547"/>
                    </a:lnTo>
                    <a:lnTo>
                      <a:pt x="1479" y="534"/>
                    </a:lnTo>
                    <a:lnTo>
                      <a:pt x="1642" y="448"/>
                    </a:lnTo>
                    <a:lnTo>
                      <a:pt x="1720" y="484"/>
                    </a:lnTo>
                    <a:lnTo>
                      <a:pt x="1671" y="690"/>
                    </a:lnTo>
                    <a:lnTo>
                      <a:pt x="1791" y="798"/>
                    </a:lnTo>
                    <a:lnTo>
                      <a:pt x="1954" y="868"/>
                    </a:lnTo>
                    <a:lnTo>
                      <a:pt x="2102" y="769"/>
                    </a:lnTo>
                    <a:lnTo>
                      <a:pt x="1889" y="669"/>
                    </a:lnTo>
                    <a:lnTo>
                      <a:pt x="2061" y="570"/>
                    </a:lnTo>
                    <a:lnTo>
                      <a:pt x="2152" y="441"/>
                    </a:lnTo>
                    <a:lnTo>
                      <a:pt x="1848" y="397"/>
                    </a:lnTo>
                    <a:lnTo>
                      <a:pt x="1656" y="212"/>
                    </a:lnTo>
                    <a:lnTo>
                      <a:pt x="1486" y="262"/>
                    </a:lnTo>
                    <a:lnTo>
                      <a:pt x="1239" y="205"/>
                    </a:lnTo>
                    <a:lnTo>
                      <a:pt x="1182" y="87"/>
                    </a:lnTo>
                    <a:lnTo>
                      <a:pt x="1013" y="155"/>
                    </a:lnTo>
                    <a:lnTo>
                      <a:pt x="707" y="148"/>
                    </a:lnTo>
                    <a:lnTo>
                      <a:pt x="547" y="0"/>
                    </a:lnTo>
                    <a:lnTo>
                      <a:pt x="439" y="41"/>
                    </a:lnTo>
                    <a:lnTo>
                      <a:pt x="502" y="133"/>
                    </a:lnTo>
                    <a:lnTo>
                      <a:pt x="369" y="233"/>
                    </a:lnTo>
                    <a:lnTo>
                      <a:pt x="283" y="368"/>
                    </a:lnTo>
                    <a:lnTo>
                      <a:pt x="325" y="591"/>
                    </a:lnTo>
                    <a:lnTo>
                      <a:pt x="148" y="648"/>
                    </a:lnTo>
                    <a:lnTo>
                      <a:pt x="70" y="690"/>
                    </a:lnTo>
                    <a:lnTo>
                      <a:pt x="57" y="790"/>
                    </a:lnTo>
                    <a:lnTo>
                      <a:pt x="127" y="897"/>
                    </a:lnTo>
                    <a:lnTo>
                      <a:pt x="120" y="997"/>
                    </a:lnTo>
                    <a:lnTo>
                      <a:pt x="7" y="1112"/>
                    </a:lnTo>
                    <a:lnTo>
                      <a:pt x="0" y="1220"/>
                    </a:lnTo>
                    <a:lnTo>
                      <a:pt x="135" y="1334"/>
                    </a:lnTo>
                    <a:lnTo>
                      <a:pt x="135" y="1334"/>
                    </a:lnTo>
                    <a:close/>
                  </a:path>
                </a:pathLst>
              </a:custGeom>
              <a:solidFill>
                <a:srgbClr val="c9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2148480" y="3287520"/>
                <a:ext cx="279360" cy="116640"/>
              </a:xfrm>
              <a:custGeom>
                <a:avLst/>
                <a:gdLst/>
                <a:ahLst/>
                <a:rect l="l" t="t" r="r" b="b"/>
                <a:pathLst>
                  <a:path w="2300" h="958">
                    <a:moveTo>
                      <a:pt x="346" y="579"/>
                    </a:moveTo>
                    <a:lnTo>
                      <a:pt x="312" y="722"/>
                    </a:lnTo>
                    <a:lnTo>
                      <a:pt x="616" y="885"/>
                    </a:lnTo>
                    <a:lnTo>
                      <a:pt x="1047" y="958"/>
                    </a:lnTo>
                    <a:lnTo>
                      <a:pt x="1409" y="958"/>
                    </a:lnTo>
                    <a:lnTo>
                      <a:pt x="1755" y="836"/>
                    </a:lnTo>
                    <a:lnTo>
                      <a:pt x="1903" y="878"/>
                    </a:lnTo>
                    <a:lnTo>
                      <a:pt x="1848" y="678"/>
                    </a:lnTo>
                    <a:lnTo>
                      <a:pt x="2137" y="437"/>
                    </a:lnTo>
                    <a:lnTo>
                      <a:pt x="2300" y="0"/>
                    </a:lnTo>
                    <a:lnTo>
                      <a:pt x="2123" y="308"/>
                    </a:lnTo>
                    <a:lnTo>
                      <a:pt x="1840" y="536"/>
                    </a:lnTo>
                    <a:lnTo>
                      <a:pt x="1515" y="701"/>
                    </a:lnTo>
                    <a:lnTo>
                      <a:pt x="1232" y="800"/>
                    </a:lnTo>
                    <a:lnTo>
                      <a:pt x="962" y="764"/>
                    </a:lnTo>
                    <a:lnTo>
                      <a:pt x="587" y="616"/>
                    </a:lnTo>
                    <a:lnTo>
                      <a:pt x="283" y="437"/>
                    </a:lnTo>
                    <a:lnTo>
                      <a:pt x="0" y="173"/>
                    </a:lnTo>
                    <a:lnTo>
                      <a:pt x="167" y="462"/>
                    </a:lnTo>
                    <a:lnTo>
                      <a:pt x="346" y="579"/>
                    </a:lnTo>
                    <a:lnTo>
                      <a:pt x="346" y="579"/>
                    </a:lnTo>
                    <a:close/>
                  </a:path>
                </a:pathLst>
              </a:custGeom>
              <a:solidFill>
                <a:srgbClr val="c9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2177640" y="3393000"/>
                <a:ext cx="235440" cy="188280"/>
              </a:xfrm>
              <a:custGeom>
                <a:avLst/>
                <a:gdLst/>
                <a:ahLst/>
                <a:rect l="l" t="t" r="r" b="b"/>
                <a:pathLst>
                  <a:path w="1939" h="1543">
                    <a:moveTo>
                      <a:pt x="42" y="77"/>
                    </a:moveTo>
                    <a:lnTo>
                      <a:pt x="0" y="271"/>
                    </a:lnTo>
                    <a:lnTo>
                      <a:pt x="105" y="243"/>
                    </a:lnTo>
                    <a:lnTo>
                      <a:pt x="190" y="463"/>
                    </a:lnTo>
                    <a:lnTo>
                      <a:pt x="247" y="572"/>
                    </a:lnTo>
                    <a:lnTo>
                      <a:pt x="331" y="543"/>
                    </a:lnTo>
                    <a:lnTo>
                      <a:pt x="409" y="421"/>
                    </a:lnTo>
                    <a:lnTo>
                      <a:pt x="515" y="393"/>
                    </a:lnTo>
                    <a:lnTo>
                      <a:pt x="559" y="585"/>
                    </a:lnTo>
                    <a:lnTo>
                      <a:pt x="622" y="629"/>
                    </a:lnTo>
                    <a:lnTo>
                      <a:pt x="552" y="935"/>
                    </a:lnTo>
                    <a:lnTo>
                      <a:pt x="559" y="1243"/>
                    </a:lnTo>
                    <a:lnTo>
                      <a:pt x="552" y="1399"/>
                    </a:lnTo>
                    <a:lnTo>
                      <a:pt x="580" y="1463"/>
                    </a:lnTo>
                    <a:lnTo>
                      <a:pt x="622" y="1406"/>
                    </a:lnTo>
                    <a:lnTo>
                      <a:pt x="715" y="642"/>
                    </a:lnTo>
                    <a:lnTo>
                      <a:pt x="793" y="556"/>
                    </a:lnTo>
                    <a:lnTo>
                      <a:pt x="877" y="785"/>
                    </a:lnTo>
                    <a:lnTo>
                      <a:pt x="991" y="1507"/>
                    </a:lnTo>
                    <a:lnTo>
                      <a:pt x="1046" y="1543"/>
                    </a:lnTo>
                    <a:lnTo>
                      <a:pt x="1139" y="1463"/>
                    </a:lnTo>
                    <a:lnTo>
                      <a:pt x="1337" y="1250"/>
                    </a:lnTo>
                    <a:lnTo>
                      <a:pt x="1755" y="1478"/>
                    </a:lnTo>
                    <a:lnTo>
                      <a:pt x="1939" y="1456"/>
                    </a:lnTo>
                    <a:lnTo>
                      <a:pt x="1846" y="1349"/>
                    </a:lnTo>
                    <a:lnTo>
                      <a:pt x="1529" y="1178"/>
                    </a:lnTo>
                    <a:lnTo>
                      <a:pt x="1331" y="1077"/>
                    </a:lnTo>
                    <a:lnTo>
                      <a:pt x="1217" y="1113"/>
                    </a:lnTo>
                    <a:lnTo>
                      <a:pt x="1090" y="1279"/>
                    </a:lnTo>
                    <a:lnTo>
                      <a:pt x="970" y="978"/>
                    </a:lnTo>
                    <a:lnTo>
                      <a:pt x="877" y="585"/>
                    </a:lnTo>
                    <a:lnTo>
                      <a:pt x="983" y="600"/>
                    </a:lnTo>
                    <a:lnTo>
                      <a:pt x="1069" y="536"/>
                    </a:lnTo>
                    <a:lnTo>
                      <a:pt x="1139" y="427"/>
                    </a:lnTo>
                    <a:lnTo>
                      <a:pt x="1308" y="549"/>
                    </a:lnTo>
                    <a:lnTo>
                      <a:pt x="1458" y="613"/>
                    </a:lnTo>
                    <a:lnTo>
                      <a:pt x="1514" y="543"/>
                    </a:lnTo>
                    <a:lnTo>
                      <a:pt x="1578" y="364"/>
                    </a:lnTo>
                    <a:lnTo>
                      <a:pt x="1557" y="228"/>
                    </a:lnTo>
                    <a:lnTo>
                      <a:pt x="1337" y="134"/>
                    </a:lnTo>
                    <a:lnTo>
                      <a:pt x="1380" y="399"/>
                    </a:lnTo>
                    <a:lnTo>
                      <a:pt x="1019" y="222"/>
                    </a:lnTo>
                    <a:lnTo>
                      <a:pt x="877" y="393"/>
                    </a:lnTo>
                    <a:lnTo>
                      <a:pt x="728" y="163"/>
                    </a:lnTo>
                    <a:lnTo>
                      <a:pt x="565" y="336"/>
                    </a:lnTo>
                    <a:lnTo>
                      <a:pt x="432" y="77"/>
                    </a:lnTo>
                    <a:lnTo>
                      <a:pt x="198" y="313"/>
                    </a:lnTo>
                    <a:lnTo>
                      <a:pt x="219" y="13"/>
                    </a:lnTo>
                    <a:lnTo>
                      <a:pt x="162" y="0"/>
                    </a:lnTo>
                    <a:lnTo>
                      <a:pt x="42" y="77"/>
                    </a:lnTo>
                    <a:lnTo>
                      <a:pt x="42" y="77"/>
                    </a:lnTo>
                    <a:close/>
                  </a:path>
                </a:pathLst>
              </a:custGeom>
              <a:solidFill>
                <a:srgbClr val="c9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2138040" y="3510000"/>
                <a:ext cx="94680" cy="58320"/>
              </a:xfrm>
              <a:custGeom>
                <a:avLst/>
                <a:gdLst/>
                <a:ahLst/>
                <a:rect l="l" t="t" r="r" b="b"/>
                <a:pathLst>
                  <a:path w="780" h="477">
                    <a:moveTo>
                      <a:pt x="0" y="435"/>
                    </a:moveTo>
                    <a:lnTo>
                      <a:pt x="143" y="326"/>
                    </a:lnTo>
                    <a:lnTo>
                      <a:pt x="344" y="161"/>
                    </a:lnTo>
                    <a:lnTo>
                      <a:pt x="559" y="0"/>
                    </a:lnTo>
                    <a:lnTo>
                      <a:pt x="673" y="34"/>
                    </a:lnTo>
                    <a:lnTo>
                      <a:pt x="723" y="249"/>
                    </a:lnTo>
                    <a:lnTo>
                      <a:pt x="780" y="363"/>
                    </a:lnTo>
                    <a:lnTo>
                      <a:pt x="666" y="277"/>
                    </a:lnTo>
                    <a:lnTo>
                      <a:pt x="554" y="106"/>
                    </a:lnTo>
                    <a:lnTo>
                      <a:pt x="426" y="292"/>
                    </a:lnTo>
                    <a:lnTo>
                      <a:pt x="177" y="441"/>
                    </a:lnTo>
                    <a:lnTo>
                      <a:pt x="78" y="477"/>
                    </a:lnTo>
                    <a:lnTo>
                      <a:pt x="0" y="435"/>
                    </a:lnTo>
                    <a:lnTo>
                      <a:pt x="0" y="435"/>
                    </a:lnTo>
                    <a:close/>
                  </a:path>
                </a:pathLst>
              </a:custGeom>
              <a:solidFill>
                <a:srgbClr val="c94d4d"/>
              </a:solid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788" name=""/>
              <p:cNvSpPr/>
              <p:nvPr/>
            </p:nvSpPr>
            <p:spPr>
              <a:xfrm>
                <a:off x="2372400" y="3247920"/>
                <a:ext cx="41040" cy="35640"/>
              </a:xfrm>
              <a:custGeom>
                <a:avLst/>
                <a:gdLst/>
                <a:ahLst/>
                <a:rect l="l" t="t" r="r" b="b"/>
                <a:pathLst>
                  <a:path w="340" h="293">
                    <a:moveTo>
                      <a:pt x="55" y="0"/>
                    </a:moveTo>
                    <a:lnTo>
                      <a:pt x="289" y="99"/>
                    </a:lnTo>
                    <a:lnTo>
                      <a:pt x="340" y="160"/>
                    </a:lnTo>
                    <a:lnTo>
                      <a:pt x="327" y="200"/>
                    </a:lnTo>
                    <a:lnTo>
                      <a:pt x="205" y="293"/>
                    </a:lnTo>
                    <a:lnTo>
                      <a:pt x="224" y="208"/>
                    </a:lnTo>
                    <a:lnTo>
                      <a:pt x="40" y="154"/>
                    </a:lnTo>
                    <a:lnTo>
                      <a:pt x="0" y="75"/>
                    </a:lnTo>
                    <a:lnTo>
                      <a:pt x="55" y="0"/>
                    </a:lnTo>
                    <a:lnTo>
                      <a:pt x="55" y="0"/>
                    </a:lnTo>
                    <a:close/>
                  </a:path>
                </a:pathLst>
              </a:custGeom>
              <a:solidFill>
                <a:srgbClr val="c94d4d"/>
              </a:soli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789" name=""/>
              <p:cNvSpPr/>
              <p:nvPr/>
            </p:nvSpPr>
            <p:spPr>
              <a:xfrm>
                <a:off x="2159280" y="3360600"/>
                <a:ext cx="236160" cy="91440"/>
              </a:xfrm>
              <a:custGeom>
                <a:avLst/>
                <a:gdLst/>
                <a:ahLst/>
                <a:rect l="l" t="t" r="r" b="b"/>
                <a:pathLst>
                  <a:path w="1945" h="749">
                    <a:moveTo>
                      <a:pt x="287" y="36"/>
                    </a:moveTo>
                    <a:lnTo>
                      <a:pt x="264" y="80"/>
                    </a:lnTo>
                    <a:lnTo>
                      <a:pt x="244" y="120"/>
                    </a:lnTo>
                    <a:lnTo>
                      <a:pt x="221" y="158"/>
                    </a:lnTo>
                    <a:lnTo>
                      <a:pt x="198" y="194"/>
                    </a:lnTo>
                    <a:lnTo>
                      <a:pt x="152" y="265"/>
                    </a:lnTo>
                    <a:lnTo>
                      <a:pt x="103" y="337"/>
                    </a:lnTo>
                    <a:lnTo>
                      <a:pt x="181" y="310"/>
                    </a:lnTo>
                    <a:lnTo>
                      <a:pt x="268" y="263"/>
                    </a:lnTo>
                    <a:lnTo>
                      <a:pt x="308" y="242"/>
                    </a:lnTo>
                    <a:lnTo>
                      <a:pt x="360" y="238"/>
                    </a:lnTo>
                    <a:lnTo>
                      <a:pt x="382" y="272"/>
                    </a:lnTo>
                    <a:lnTo>
                      <a:pt x="407" y="287"/>
                    </a:lnTo>
                    <a:lnTo>
                      <a:pt x="409" y="316"/>
                    </a:lnTo>
                    <a:lnTo>
                      <a:pt x="394" y="542"/>
                    </a:lnTo>
                    <a:lnTo>
                      <a:pt x="432" y="496"/>
                    </a:lnTo>
                    <a:lnTo>
                      <a:pt x="470" y="451"/>
                    </a:lnTo>
                    <a:lnTo>
                      <a:pt x="508" y="399"/>
                    </a:lnTo>
                    <a:lnTo>
                      <a:pt x="553" y="342"/>
                    </a:lnTo>
                    <a:lnTo>
                      <a:pt x="584" y="323"/>
                    </a:lnTo>
                    <a:lnTo>
                      <a:pt x="616" y="342"/>
                    </a:lnTo>
                    <a:lnTo>
                      <a:pt x="643" y="417"/>
                    </a:lnTo>
                    <a:lnTo>
                      <a:pt x="669" y="517"/>
                    </a:lnTo>
                    <a:lnTo>
                      <a:pt x="696" y="605"/>
                    </a:lnTo>
                    <a:lnTo>
                      <a:pt x="723" y="552"/>
                    </a:lnTo>
                    <a:lnTo>
                      <a:pt x="749" y="498"/>
                    </a:lnTo>
                    <a:lnTo>
                      <a:pt x="778" y="443"/>
                    </a:lnTo>
                    <a:lnTo>
                      <a:pt x="808" y="380"/>
                    </a:lnTo>
                    <a:lnTo>
                      <a:pt x="821" y="363"/>
                    </a:lnTo>
                    <a:lnTo>
                      <a:pt x="837" y="356"/>
                    </a:lnTo>
                    <a:lnTo>
                      <a:pt x="869" y="371"/>
                    </a:lnTo>
                    <a:lnTo>
                      <a:pt x="905" y="420"/>
                    </a:lnTo>
                    <a:lnTo>
                      <a:pt x="924" y="472"/>
                    </a:lnTo>
                    <a:lnTo>
                      <a:pt x="943" y="527"/>
                    </a:lnTo>
                    <a:lnTo>
                      <a:pt x="972" y="582"/>
                    </a:lnTo>
                    <a:lnTo>
                      <a:pt x="1034" y="654"/>
                    </a:lnTo>
                    <a:lnTo>
                      <a:pt x="1074" y="550"/>
                    </a:lnTo>
                    <a:lnTo>
                      <a:pt x="1097" y="498"/>
                    </a:lnTo>
                    <a:lnTo>
                      <a:pt x="1129" y="445"/>
                    </a:lnTo>
                    <a:lnTo>
                      <a:pt x="1154" y="426"/>
                    </a:lnTo>
                    <a:lnTo>
                      <a:pt x="1183" y="434"/>
                    </a:lnTo>
                    <a:lnTo>
                      <a:pt x="1230" y="464"/>
                    </a:lnTo>
                    <a:lnTo>
                      <a:pt x="1272" y="493"/>
                    </a:lnTo>
                    <a:lnTo>
                      <a:pt x="1312" y="519"/>
                    </a:lnTo>
                    <a:lnTo>
                      <a:pt x="1348" y="546"/>
                    </a:lnTo>
                    <a:lnTo>
                      <a:pt x="1386" y="569"/>
                    </a:lnTo>
                    <a:lnTo>
                      <a:pt x="1424" y="593"/>
                    </a:lnTo>
                    <a:lnTo>
                      <a:pt x="1466" y="616"/>
                    </a:lnTo>
                    <a:lnTo>
                      <a:pt x="1512" y="639"/>
                    </a:lnTo>
                    <a:lnTo>
                      <a:pt x="1498" y="540"/>
                    </a:lnTo>
                    <a:lnTo>
                      <a:pt x="1462" y="441"/>
                    </a:lnTo>
                    <a:lnTo>
                      <a:pt x="1458" y="409"/>
                    </a:lnTo>
                    <a:lnTo>
                      <a:pt x="1477" y="384"/>
                    </a:lnTo>
                    <a:lnTo>
                      <a:pt x="1565" y="373"/>
                    </a:lnTo>
                    <a:lnTo>
                      <a:pt x="1629" y="403"/>
                    </a:lnTo>
                    <a:lnTo>
                      <a:pt x="1698" y="428"/>
                    </a:lnTo>
                    <a:lnTo>
                      <a:pt x="1766" y="445"/>
                    </a:lnTo>
                    <a:lnTo>
                      <a:pt x="1835" y="445"/>
                    </a:lnTo>
                    <a:lnTo>
                      <a:pt x="1806" y="323"/>
                    </a:lnTo>
                    <a:lnTo>
                      <a:pt x="1791" y="265"/>
                    </a:lnTo>
                    <a:lnTo>
                      <a:pt x="1770" y="198"/>
                    </a:lnTo>
                    <a:lnTo>
                      <a:pt x="1780" y="177"/>
                    </a:lnTo>
                    <a:lnTo>
                      <a:pt x="1801" y="187"/>
                    </a:lnTo>
                    <a:lnTo>
                      <a:pt x="1837" y="263"/>
                    </a:lnTo>
                    <a:lnTo>
                      <a:pt x="1875" y="329"/>
                    </a:lnTo>
                    <a:lnTo>
                      <a:pt x="1945" y="472"/>
                    </a:lnTo>
                    <a:lnTo>
                      <a:pt x="1943" y="517"/>
                    </a:lnTo>
                    <a:lnTo>
                      <a:pt x="1905" y="536"/>
                    </a:lnTo>
                    <a:lnTo>
                      <a:pt x="1785" y="533"/>
                    </a:lnTo>
                    <a:lnTo>
                      <a:pt x="1675" y="493"/>
                    </a:lnTo>
                    <a:lnTo>
                      <a:pt x="1591" y="474"/>
                    </a:lnTo>
                    <a:lnTo>
                      <a:pt x="1607" y="582"/>
                    </a:lnTo>
                    <a:lnTo>
                      <a:pt x="1589" y="704"/>
                    </a:lnTo>
                    <a:lnTo>
                      <a:pt x="1572" y="738"/>
                    </a:lnTo>
                    <a:lnTo>
                      <a:pt x="1534" y="736"/>
                    </a:lnTo>
                    <a:lnTo>
                      <a:pt x="1215" y="584"/>
                    </a:lnTo>
                    <a:lnTo>
                      <a:pt x="1181" y="624"/>
                    </a:lnTo>
                    <a:lnTo>
                      <a:pt x="1143" y="652"/>
                    </a:lnTo>
                    <a:lnTo>
                      <a:pt x="1069" y="728"/>
                    </a:lnTo>
                    <a:lnTo>
                      <a:pt x="1044" y="749"/>
                    </a:lnTo>
                    <a:lnTo>
                      <a:pt x="1015" y="732"/>
                    </a:lnTo>
                    <a:lnTo>
                      <a:pt x="972" y="675"/>
                    </a:lnTo>
                    <a:lnTo>
                      <a:pt x="928" y="614"/>
                    </a:lnTo>
                    <a:lnTo>
                      <a:pt x="869" y="521"/>
                    </a:lnTo>
                    <a:lnTo>
                      <a:pt x="831" y="572"/>
                    </a:lnTo>
                    <a:lnTo>
                      <a:pt x="789" y="610"/>
                    </a:lnTo>
                    <a:lnTo>
                      <a:pt x="711" y="711"/>
                    </a:lnTo>
                    <a:lnTo>
                      <a:pt x="696" y="730"/>
                    </a:lnTo>
                    <a:lnTo>
                      <a:pt x="679" y="732"/>
                    </a:lnTo>
                    <a:lnTo>
                      <a:pt x="654" y="702"/>
                    </a:lnTo>
                    <a:lnTo>
                      <a:pt x="637" y="637"/>
                    </a:lnTo>
                    <a:lnTo>
                      <a:pt x="612" y="593"/>
                    </a:lnTo>
                    <a:lnTo>
                      <a:pt x="563" y="483"/>
                    </a:lnTo>
                    <a:lnTo>
                      <a:pt x="515" y="538"/>
                    </a:lnTo>
                    <a:lnTo>
                      <a:pt x="475" y="576"/>
                    </a:lnTo>
                    <a:lnTo>
                      <a:pt x="434" y="614"/>
                    </a:lnTo>
                    <a:lnTo>
                      <a:pt x="409" y="639"/>
                    </a:lnTo>
                    <a:lnTo>
                      <a:pt x="379" y="671"/>
                    </a:lnTo>
                    <a:lnTo>
                      <a:pt x="356" y="686"/>
                    </a:lnTo>
                    <a:lnTo>
                      <a:pt x="333" y="685"/>
                    </a:lnTo>
                    <a:lnTo>
                      <a:pt x="314" y="641"/>
                    </a:lnTo>
                    <a:lnTo>
                      <a:pt x="333" y="314"/>
                    </a:lnTo>
                    <a:lnTo>
                      <a:pt x="270" y="344"/>
                    </a:lnTo>
                    <a:lnTo>
                      <a:pt x="240" y="365"/>
                    </a:lnTo>
                    <a:lnTo>
                      <a:pt x="204" y="382"/>
                    </a:lnTo>
                    <a:lnTo>
                      <a:pt x="118" y="407"/>
                    </a:lnTo>
                    <a:lnTo>
                      <a:pt x="31" y="411"/>
                    </a:lnTo>
                    <a:lnTo>
                      <a:pt x="0" y="403"/>
                    </a:lnTo>
                    <a:lnTo>
                      <a:pt x="12" y="377"/>
                    </a:lnTo>
                    <a:lnTo>
                      <a:pt x="44" y="327"/>
                    </a:lnTo>
                    <a:lnTo>
                      <a:pt x="72" y="282"/>
                    </a:lnTo>
                    <a:lnTo>
                      <a:pt x="101" y="236"/>
                    </a:lnTo>
                    <a:lnTo>
                      <a:pt x="128" y="192"/>
                    </a:lnTo>
                    <a:lnTo>
                      <a:pt x="152" y="147"/>
                    </a:lnTo>
                    <a:lnTo>
                      <a:pt x="179" y="101"/>
                    </a:lnTo>
                    <a:lnTo>
                      <a:pt x="230" y="0"/>
                    </a:lnTo>
                    <a:lnTo>
                      <a:pt x="266" y="4"/>
                    </a:lnTo>
                    <a:lnTo>
                      <a:pt x="287" y="36"/>
                    </a:lnTo>
                    <a:lnTo>
                      <a:pt x="287" y="3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790" name=""/>
              <p:cNvSpPr/>
              <p:nvPr/>
            </p:nvSpPr>
            <p:spPr>
              <a:xfrm>
                <a:off x="2134440" y="3396600"/>
                <a:ext cx="57600" cy="163080"/>
              </a:xfrm>
              <a:custGeom>
                <a:avLst/>
                <a:gdLst/>
                <a:ahLst/>
                <a:rect l="l" t="t" r="r" b="b"/>
                <a:pathLst>
                  <a:path w="473" h="1334">
                    <a:moveTo>
                      <a:pt x="473" y="53"/>
                    </a:moveTo>
                    <a:lnTo>
                      <a:pt x="460" y="103"/>
                    </a:lnTo>
                    <a:lnTo>
                      <a:pt x="437" y="198"/>
                    </a:lnTo>
                    <a:lnTo>
                      <a:pt x="414" y="300"/>
                    </a:lnTo>
                    <a:lnTo>
                      <a:pt x="401" y="367"/>
                    </a:lnTo>
                    <a:lnTo>
                      <a:pt x="369" y="481"/>
                    </a:lnTo>
                    <a:lnTo>
                      <a:pt x="342" y="578"/>
                    </a:lnTo>
                    <a:lnTo>
                      <a:pt x="300" y="739"/>
                    </a:lnTo>
                    <a:lnTo>
                      <a:pt x="277" y="817"/>
                    </a:lnTo>
                    <a:lnTo>
                      <a:pt x="253" y="899"/>
                    </a:lnTo>
                    <a:lnTo>
                      <a:pt x="219" y="992"/>
                    </a:lnTo>
                    <a:lnTo>
                      <a:pt x="198" y="1043"/>
                    </a:lnTo>
                    <a:lnTo>
                      <a:pt x="175" y="1102"/>
                    </a:lnTo>
                    <a:lnTo>
                      <a:pt x="142" y="1165"/>
                    </a:lnTo>
                    <a:lnTo>
                      <a:pt x="106" y="1216"/>
                    </a:lnTo>
                    <a:lnTo>
                      <a:pt x="68" y="1268"/>
                    </a:lnTo>
                    <a:lnTo>
                      <a:pt x="28" y="1329"/>
                    </a:lnTo>
                    <a:lnTo>
                      <a:pt x="6" y="1334"/>
                    </a:lnTo>
                    <a:lnTo>
                      <a:pt x="0" y="1311"/>
                    </a:lnTo>
                    <a:lnTo>
                      <a:pt x="106" y="1068"/>
                    </a:lnTo>
                    <a:lnTo>
                      <a:pt x="150" y="954"/>
                    </a:lnTo>
                    <a:lnTo>
                      <a:pt x="184" y="848"/>
                    </a:lnTo>
                    <a:lnTo>
                      <a:pt x="232" y="648"/>
                    </a:lnTo>
                    <a:lnTo>
                      <a:pt x="253" y="549"/>
                    </a:lnTo>
                    <a:lnTo>
                      <a:pt x="276" y="447"/>
                    </a:lnTo>
                    <a:lnTo>
                      <a:pt x="300" y="338"/>
                    </a:lnTo>
                    <a:lnTo>
                      <a:pt x="334" y="220"/>
                    </a:lnTo>
                    <a:lnTo>
                      <a:pt x="365" y="82"/>
                    </a:lnTo>
                    <a:lnTo>
                      <a:pt x="378" y="53"/>
                    </a:lnTo>
                    <a:lnTo>
                      <a:pt x="397" y="25"/>
                    </a:lnTo>
                    <a:lnTo>
                      <a:pt x="420" y="0"/>
                    </a:lnTo>
                    <a:lnTo>
                      <a:pt x="450" y="0"/>
                    </a:lnTo>
                    <a:lnTo>
                      <a:pt x="473" y="21"/>
                    </a:lnTo>
                    <a:lnTo>
                      <a:pt x="473" y="53"/>
                    </a:lnTo>
                    <a:lnTo>
                      <a:pt x="473"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a:off x="2145240" y="3519000"/>
                <a:ext cx="69120" cy="50040"/>
              </a:xfrm>
              <a:custGeom>
                <a:avLst/>
                <a:gdLst/>
                <a:ahLst/>
                <a:rect l="l" t="t" r="r" b="b"/>
                <a:pathLst>
                  <a:path w="571" h="410">
                    <a:moveTo>
                      <a:pt x="15" y="376"/>
                    </a:moveTo>
                    <a:lnTo>
                      <a:pt x="67" y="365"/>
                    </a:lnTo>
                    <a:lnTo>
                      <a:pt x="105" y="334"/>
                    </a:lnTo>
                    <a:lnTo>
                      <a:pt x="139" y="296"/>
                    </a:lnTo>
                    <a:lnTo>
                      <a:pt x="160" y="277"/>
                    </a:lnTo>
                    <a:lnTo>
                      <a:pt x="181" y="258"/>
                    </a:lnTo>
                    <a:lnTo>
                      <a:pt x="240" y="213"/>
                    </a:lnTo>
                    <a:lnTo>
                      <a:pt x="301" y="169"/>
                    </a:lnTo>
                    <a:lnTo>
                      <a:pt x="329" y="144"/>
                    </a:lnTo>
                    <a:lnTo>
                      <a:pt x="358" y="125"/>
                    </a:lnTo>
                    <a:lnTo>
                      <a:pt x="409" y="89"/>
                    </a:lnTo>
                    <a:lnTo>
                      <a:pt x="458" y="51"/>
                    </a:lnTo>
                    <a:lnTo>
                      <a:pt x="512" y="0"/>
                    </a:lnTo>
                    <a:lnTo>
                      <a:pt x="529" y="7"/>
                    </a:lnTo>
                    <a:lnTo>
                      <a:pt x="550" y="40"/>
                    </a:lnTo>
                    <a:lnTo>
                      <a:pt x="571" y="102"/>
                    </a:lnTo>
                    <a:lnTo>
                      <a:pt x="548" y="137"/>
                    </a:lnTo>
                    <a:lnTo>
                      <a:pt x="527" y="161"/>
                    </a:lnTo>
                    <a:lnTo>
                      <a:pt x="481" y="192"/>
                    </a:lnTo>
                    <a:lnTo>
                      <a:pt x="371" y="260"/>
                    </a:lnTo>
                    <a:lnTo>
                      <a:pt x="308" y="308"/>
                    </a:lnTo>
                    <a:lnTo>
                      <a:pt x="249" y="353"/>
                    </a:lnTo>
                    <a:lnTo>
                      <a:pt x="192" y="384"/>
                    </a:lnTo>
                    <a:lnTo>
                      <a:pt x="137" y="401"/>
                    </a:lnTo>
                    <a:lnTo>
                      <a:pt x="15" y="410"/>
                    </a:lnTo>
                    <a:lnTo>
                      <a:pt x="0" y="393"/>
                    </a:lnTo>
                    <a:lnTo>
                      <a:pt x="4" y="382"/>
                    </a:lnTo>
                    <a:lnTo>
                      <a:pt x="15" y="376"/>
                    </a:lnTo>
                    <a:lnTo>
                      <a:pt x="15" y="376"/>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792" name=""/>
              <p:cNvSpPr/>
              <p:nvPr/>
            </p:nvSpPr>
            <p:spPr>
              <a:xfrm>
                <a:off x="2205360" y="3519000"/>
                <a:ext cx="41760" cy="51120"/>
              </a:xfrm>
              <a:custGeom>
                <a:avLst/>
                <a:gdLst/>
                <a:ahLst/>
                <a:rect l="l" t="t" r="r" b="b"/>
                <a:pathLst>
                  <a:path w="345" h="420">
                    <a:moveTo>
                      <a:pt x="65" y="13"/>
                    </a:moveTo>
                    <a:lnTo>
                      <a:pt x="120" y="89"/>
                    </a:lnTo>
                    <a:lnTo>
                      <a:pt x="189" y="192"/>
                    </a:lnTo>
                    <a:lnTo>
                      <a:pt x="230" y="245"/>
                    </a:lnTo>
                    <a:lnTo>
                      <a:pt x="263" y="298"/>
                    </a:lnTo>
                    <a:lnTo>
                      <a:pt x="297" y="348"/>
                    </a:lnTo>
                    <a:lnTo>
                      <a:pt x="318" y="370"/>
                    </a:lnTo>
                    <a:lnTo>
                      <a:pt x="343" y="395"/>
                    </a:lnTo>
                    <a:lnTo>
                      <a:pt x="345" y="418"/>
                    </a:lnTo>
                    <a:lnTo>
                      <a:pt x="322" y="420"/>
                    </a:lnTo>
                    <a:lnTo>
                      <a:pt x="293" y="397"/>
                    </a:lnTo>
                    <a:lnTo>
                      <a:pt x="267" y="378"/>
                    </a:lnTo>
                    <a:lnTo>
                      <a:pt x="213" y="340"/>
                    </a:lnTo>
                    <a:lnTo>
                      <a:pt x="160" y="302"/>
                    </a:lnTo>
                    <a:lnTo>
                      <a:pt x="111" y="252"/>
                    </a:lnTo>
                    <a:lnTo>
                      <a:pt x="31" y="129"/>
                    </a:lnTo>
                    <a:lnTo>
                      <a:pt x="4" y="49"/>
                    </a:lnTo>
                    <a:lnTo>
                      <a:pt x="0" y="21"/>
                    </a:lnTo>
                    <a:lnTo>
                      <a:pt x="16" y="0"/>
                    </a:lnTo>
                    <a:lnTo>
                      <a:pt x="65" y="13"/>
                    </a:lnTo>
                    <a:lnTo>
                      <a:pt x="65"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793" name=""/>
              <p:cNvSpPr/>
              <p:nvPr/>
            </p:nvSpPr>
            <p:spPr>
              <a:xfrm>
                <a:off x="2251440" y="3423600"/>
                <a:ext cx="25560" cy="144000"/>
              </a:xfrm>
              <a:custGeom>
                <a:avLst/>
                <a:gdLst/>
                <a:ahLst/>
                <a:rect l="l" t="t" r="r" b="b"/>
                <a:pathLst>
                  <a:path w="213" h="1183">
                    <a:moveTo>
                      <a:pt x="213" y="137"/>
                    </a:moveTo>
                    <a:lnTo>
                      <a:pt x="186" y="295"/>
                    </a:lnTo>
                    <a:lnTo>
                      <a:pt x="156" y="434"/>
                    </a:lnTo>
                    <a:lnTo>
                      <a:pt x="99" y="730"/>
                    </a:lnTo>
                    <a:lnTo>
                      <a:pt x="36" y="1145"/>
                    </a:lnTo>
                    <a:lnTo>
                      <a:pt x="28" y="1171"/>
                    </a:lnTo>
                    <a:lnTo>
                      <a:pt x="15" y="1183"/>
                    </a:lnTo>
                    <a:lnTo>
                      <a:pt x="0" y="1156"/>
                    </a:lnTo>
                    <a:lnTo>
                      <a:pt x="13" y="715"/>
                    </a:lnTo>
                    <a:lnTo>
                      <a:pt x="40" y="542"/>
                    </a:lnTo>
                    <a:lnTo>
                      <a:pt x="74" y="367"/>
                    </a:lnTo>
                    <a:lnTo>
                      <a:pt x="108" y="192"/>
                    </a:lnTo>
                    <a:lnTo>
                      <a:pt x="137" y="19"/>
                    </a:lnTo>
                    <a:lnTo>
                      <a:pt x="152" y="0"/>
                    </a:lnTo>
                    <a:lnTo>
                      <a:pt x="180" y="27"/>
                    </a:lnTo>
                    <a:lnTo>
                      <a:pt x="213" y="137"/>
                    </a:lnTo>
                    <a:lnTo>
                      <a:pt x="213"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a:off x="2266560" y="3444840"/>
                <a:ext cx="32760" cy="132120"/>
              </a:xfrm>
              <a:custGeom>
                <a:avLst/>
                <a:gdLst/>
                <a:ahLst/>
                <a:rect l="l" t="t" r="r" b="b"/>
                <a:pathLst>
                  <a:path w="270" h="1084">
                    <a:moveTo>
                      <a:pt x="65" y="33"/>
                    </a:moveTo>
                    <a:lnTo>
                      <a:pt x="88" y="97"/>
                    </a:lnTo>
                    <a:lnTo>
                      <a:pt x="209" y="456"/>
                    </a:lnTo>
                    <a:lnTo>
                      <a:pt x="247" y="759"/>
                    </a:lnTo>
                    <a:lnTo>
                      <a:pt x="270" y="1067"/>
                    </a:lnTo>
                    <a:lnTo>
                      <a:pt x="255" y="1084"/>
                    </a:lnTo>
                    <a:lnTo>
                      <a:pt x="238" y="1069"/>
                    </a:lnTo>
                    <a:lnTo>
                      <a:pt x="219" y="907"/>
                    </a:lnTo>
                    <a:lnTo>
                      <a:pt x="190" y="768"/>
                    </a:lnTo>
                    <a:lnTo>
                      <a:pt x="160" y="628"/>
                    </a:lnTo>
                    <a:lnTo>
                      <a:pt x="131" y="470"/>
                    </a:lnTo>
                    <a:lnTo>
                      <a:pt x="111" y="375"/>
                    </a:lnTo>
                    <a:lnTo>
                      <a:pt x="84" y="295"/>
                    </a:lnTo>
                    <a:lnTo>
                      <a:pt x="52" y="215"/>
                    </a:lnTo>
                    <a:lnTo>
                      <a:pt x="12" y="126"/>
                    </a:lnTo>
                    <a:lnTo>
                      <a:pt x="0" y="33"/>
                    </a:lnTo>
                    <a:lnTo>
                      <a:pt x="12" y="8"/>
                    </a:lnTo>
                    <a:lnTo>
                      <a:pt x="33" y="0"/>
                    </a:lnTo>
                    <a:lnTo>
                      <a:pt x="55" y="8"/>
                    </a:lnTo>
                    <a:lnTo>
                      <a:pt x="65" y="33"/>
                    </a:lnTo>
                    <a:lnTo>
                      <a:pt x="65"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2311200" y="3533040"/>
                <a:ext cx="97560" cy="45360"/>
              </a:xfrm>
              <a:custGeom>
                <a:avLst/>
                <a:gdLst/>
                <a:ahLst/>
                <a:rect l="l" t="t" r="r" b="b"/>
                <a:pathLst>
                  <a:path w="804" h="370">
                    <a:moveTo>
                      <a:pt x="0" y="347"/>
                    </a:moveTo>
                    <a:lnTo>
                      <a:pt x="21" y="313"/>
                    </a:lnTo>
                    <a:lnTo>
                      <a:pt x="48" y="275"/>
                    </a:lnTo>
                    <a:lnTo>
                      <a:pt x="80" y="235"/>
                    </a:lnTo>
                    <a:lnTo>
                      <a:pt x="112" y="193"/>
                    </a:lnTo>
                    <a:lnTo>
                      <a:pt x="146" y="150"/>
                    </a:lnTo>
                    <a:lnTo>
                      <a:pt x="179" y="110"/>
                    </a:lnTo>
                    <a:lnTo>
                      <a:pt x="226" y="38"/>
                    </a:lnTo>
                    <a:lnTo>
                      <a:pt x="249" y="9"/>
                    </a:lnTo>
                    <a:lnTo>
                      <a:pt x="276" y="0"/>
                    </a:lnTo>
                    <a:lnTo>
                      <a:pt x="300" y="11"/>
                    </a:lnTo>
                    <a:lnTo>
                      <a:pt x="321" y="41"/>
                    </a:lnTo>
                    <a:lnTo>
                      <a:pt x="342" y="76"/>
                    </a:lnTo>
                    <a:lnTo>
                      <a:pt x="371" y="98"/>
                    </a:lnTo>
                    <a:lnTo>
                      <a:pt x="441" y="142"/>
                    </a:lnTo>
                    <a:lnTo>
                      <a:pt x="485" y="169"/>
                    </a:lnTo>
                    <a:lnTo>
                      <a:pt x="527" y="190"/>
                    </a:lnTo>
                    <a:lnTo>
                      <a:pt x="618" y="224"/>
                    </a:lnTo>
                    <a:lnTo>
                      <a:pt x="702" y="268"/>
                    </a:lnTo>
                    <a:lnTo>
                      <a:pt x="742" y="287"/>
                    </a:lnTo>
                    <a:lnTo>
                      <a:pt x="789" y="294"/>
                    </a:lnTo>
                    <a:lnTo>
                      <a:pt x="804" y="311"/>
                    </a:lnTo>
                    <a:lnTo>
                      <a:pt x="800" y="323"/>
                    </a:lnTo>
                    <a:lnTo>
                      <a:pt x="789" y="327"/>
                    </a:lnTo>
                    <a:lnTo>
                      <a:pt x="683" y="344"/>
                    </a:lnTo>
                    <a:lnTo>
                      <a:pt x="578" y="340"/>
                    </a:lnTo>
                    <a:lnTo>
                      <a:pt x="373" y="243"/>
                    </a:lnTo>
                    <a:lnTo>
                      <a:pt x="316" y="201"/>
                    </a:lnTo>
                    <a:lnTo>
                      <a:pt x="270" y="157"/>
                    </a:lnTo>
                    <a:lnTo>
                      <a:pt x="249" y="174"/>
                    </a:lnTo>
                    <a:lnTo>
                      <a:pt x="221" y="199"/>
                    </a:lnTo>
                    <a:lnTo>
                      <a:pt x="183" y="226"/>
                    </a:lnTo>
                    <a:lnTo>
                      <a:pt x="145" y="254"/>
                    </a:lnTo>
                    <a:lnTo>
                      <a:pt x="105" y="285"/>
                    </a:lnTo>
                    <a:lnTo>
                      <a:pt x="70" y="313"/>
                    </a:lnTo>
                    <a:lnTo>
                      <a:pt x="25" y="365"/>
                    </a:lnTo>
                    <a:lnTo>
                      <a:pt x="4" y="370"/>
                    </a:lnTo>
                    <a:lnTo>
                      <a:pt x="0" y="347"/>
                    </a:lnTo>
                    <a:lnTo>
                      <a:pt x="0" y="347"/>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796" name=""/>
              <p:cNvSpPr/>
              <p:nvPr/>
            </p:nvSpPr>
            <p:spPr>
              <a:xfrm>
                <a:off x="2363400" y="3417480"/>
                <a:ext cx="49680" cy="142920"/>
              </a:xfrm>
              <a:custGeom>
                <a:avLst/>
                <a:gdLst/>
                <a:ahLst/>
                <a:rect l="l" t="t" r="r" b="b"/>
                <a:pathLst>
                  <a:path w="410" h="1173">
                    <a:moveTo>
                      <a:pt x="28" y="8"/>
                    </a:moveTo>
                    <a:lnTo>
                      <a:pt x="80" y="112"/>
                    </a:lnTo>
                    <a:lnTo>
                      <a:pt x="118" y="220"/>
                    </a:lnTo>
                    <a:lnTo>
                      <a:pt x="141" y="297"/>
                    </a:lnTo>
                    <a:lnTo>
                      <a:pt x="165" y="365"/>
                    </a:lnTo>
                    <a:lnTo>
                      <a:pt x="209" y="489"/>
                    </a:lnTo>
                    <a:lnTo>
                      <a:pt x="251" y="612"/>
                    </a:lnTo>
                    <a:lnTo>
                      <a:pt x="287" y="758"/>
                    </a:lnTo>
                    <a:lnTo>
                      <a:pt x="340" y="907"/>
                    </a:lnTo>
                    <a:lnTo>
                      <a:pt x="371" y="1030"/>
                    </a:lnTo>
                    <a:lnTo>
                      <a:pt x="382" y="1089"/>
                    </a:lnTo>
                    <a:lnTo>
                      <a:pt x="410" y="1150"/>
                    </a:lnTo>
                    <a:lnTo>
                      <a:pt x="405" y="1173"/>
                    </a:lnTo>
                    <a:lnTo>
                      <a:pt x="382" y="1167"/>
                    </a:lnTo>
                    <a:lnTo>
                      <a:pt x="344" y="1110"/>
                    </a:lnTo>
                    <a:lnTo>
                      <a:pt x="306" y="1059"/>
                    </a:lnTo>
                    <a:lnTo>
                      <a:pt x="270" y="1009"/>
                    </a:lnTo>
                    <a:lnTo>
                      <a:pt x="237" y="949"/>
                    </a:lnTo>
                    <a:lnTo>
                      <a:pt x="182" y="789"/>
                    </a:lnTo>
                    <a:lnTo>
                      <a:pt x="148" y="642"/>
                    </a:lnTo>
                    <a:lnTo>
                      <a:pt x="114" y="515"/>
                    </a:lnTo>
                    <a:lnTo>
                      <a:pt x="78" y="388"/>
                    </a:lnTo>
                    <a:lnTo>
                      <a:pt x="57" y="319"/>
                    </a:lnTo>
                    <a:lnTo>
                      <a:pt x="36" y="243"/>
                    </a:lnTo>
                    <a:lnTo>
                      <a:pt x="0" y="23"/>
                    </a:lnTo>
                    <a:lnTo>
                      <a:pt x="7" y="0"/>
                    </a:lnTo>
                    <a:lnTo>
                      <a:pt x="28" y="8"/>
                    </a:lnTo>
                    <a:lnTo>
                      <a:pt x="2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2311920" y="3174840"/>
                <a:ext cx="126360" cy="214560"/>
              </a:xfrm>
              <a:custGeom>
                <a:avLst/>
                <a:gdLst/>
                <a:ahLst/>
                <a:rect l="l" t="t" r="r" b="b"/>
                <a:pathLst>
                  <a:path w="1040" h="1758">
                    <a:moveTo>
                      <a:pt x="861" y="2"/>
                    </a:moveTo>
                    <a:lnTo>
                      <a:pt x="907" y="101"/>
                    </a:lnTo>
                    <a:lnTo>
                      <a:pt x="945" y="194"/>
                    </a:lnTo>
                    <a:lnTo>
                      <a:pt x="1000" y="370"/>
                    </a:lnTo>
                    <a:lnTo>
                      <a:pt x="1030" y="555"/>
                    </a:lnTo>
                    <a:lnTo>
                      <a:pt x="1040" y="766"/>
                    </a:lnTo>
                    <a:lnTo>
                      <a:pt x="1026" y="933"/>
                    </a:lnTo>
                    <a:lnTo>
                      <a:pt x="1009" y="1011"/>
                    </a:lnTo>
                    <a:lnTo>
                      <a:pt x="983" y="1097"/>
                    </a:lnTo>
                    <a:lnTo>
                      <a:pt x="948" y="1195"/>
                    </a:lnTo>
                    <a:lnTo>
                      <a:pt x="907" y="1279"/>
                    </a:lnTo>
                    <a:lnTo>
                      <a:pt x="882" y="1317"/>
                    </a:lnTo>
                    <a:lnTo>
                      <a:pt x="855" y="1351"/>
                    </a:lnTo>
                    <a:lnTo>
                      <a:pt x="798" y="1414"/>
                    </a:lnTo>
                    <a:lnTo>
                      <a:pt x="766" y="1443"/>
                    </a:lnTo>
                    <a:lnTo>
                      <a:pt x="732" y="1471"/>
                    </a:lnTo>
                    <a:lnTo>
                      <a:pt x="696" y="1496"/>
                    </a:lnTo>
                    <a:lnTo>
                      <a:pt x="658" y="1520"/>
                    </a:lnTo>
                    <a:lnTo>
                      <a:pt x="618" y="1543"/>
                    </a:lnTo>
                    <a:lnTo>
                      <a:pt x="574" y="1568"/>
                    </a:lnTo>
                    <a:lnTo>
                      <a:pt x="530" y="1591"/>
                    </a:lnTo>
                    <a:lnTo>
                      <a:pt x="485" y="1612"/>
                    </a:lnTo>
                    <a:lnTo>
                      <a:pt x="422" y="1640"/>
                    </a:lnTo>
                    <a:lnTo>
                      <a:pt x="365" y="1661"/>
                    </a:lnTo>
                    <a:lnTo>
                      <a:pt x="255" y="1693"/>
                    </a:lnTo>
                    <a:lnTo>
                      <a:pt x="21" y="1758"/>
                    </a:lnTo>
                    <a:lnTo>
                      <a:pt x="0" y="1749"/>
                    </a:lnTo>
                    <a:lnTo>
                      <a:pt x="9" y="1728"/>
                    </a:lnTo>
                    <a:lnTo>
                      <a:pt x="127" y="1680"/>
                    </a:lnTo>
                    <a:lnTo>
                      <a:pt x="178" y="1657"/>
                    </a:lnTo>
                    <a:lnTo>
                      <a:pt x="228" y="1633"/>
                    </a:lnTo>
                    <a:lnTo>
                      <a:pt x="277" y="1606"/>
                    </a:lnTo>
                    <a:lnTo>
                      <a:pt x="327" y="1579"/>
                    </a:lnTo>
                    <a:lnTo>
                      <a:pt x="382" y="1551"/>
                    </a:lnTo>
                    <a:lnTo>
                      <a:pt x="441" y="1522"/>
                    </a:lnTo>
                    <a:lnTo>
                      <a:pt x="521" y="1482"/>
                    </a:lnTo>
                    <a:lnTo>
                      <a:pt x="593" y="1441"/>
                    </a:lnTo>
                    <a:lnTo>
                      <a:pt x="658" y="1395"/>
                    </a:lnTo>
                    <a:lnTo>
                      <a:pt x="716" y="1346"/>
                    </a:lnTo>
                    <a:lnTo>
                      <a:pt x="768" y="1289"/>
                    </a:lnTo>
                    <a:lnTo>
                      <a:pt x="812" y="1224"/>
                    </a:lnTo>
                    <a:lnTo>
                      <a:pt x="878" y="1062"/>
                    </a:lnTo>
                    <a:lnTo>
                      <a:pt x="918" y="916"/>
                    </a:lnTo>
                    <a:lnTo>
                      <a:pt x="929" y="766"/>
                    </a:lnTo>
                    <a:lnTo>
                      <a:pt x="924" y="562"/>
                    </a:lnTo>
                    <a:lnTo>
                      <a:pt x="903" y="384"/>
                    </a:lnTo>
                    <a:lnTo>
                      <a:pt x="882" y="298"/>
                    </a:lnTo>
                    <a:lnTo>
                      <a:pt x="857" y="213"/>
                    </a:lnTo>
                    <a:lnTo>
                      <a:pt x="823" y="121"/>
                    </a:lnTo>
                    <a:lnTo>
                      <a:pt x="779" y="26"/>
                    </a:lnTo>
                    <a:lnTo>
                      <a:pt x="787" y="13"/>
                    </a:lnTo>
                    <a:lnTo>
                      <a:pt x="813" y="0"/>
                    </a:lnTo>
                    <a:lnTo>
                      <a:pt x="861" y="2"/>
                    </a:lnTo>
                    <a:lnTo>
                      <a:pt x="86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a:off x="2144880" y="3302640"/>
                <a:ext cx="133920" cy="86760"/>
              </a:xfrm>
              <a:custGeom>
                <a:avLst/>
                <a:gdLst/>
                <a:ahLst/>
                <a:rect l="l" t="t" r="r" b="b"/>
                <a:pathLst>
                  <a:path w="1103" h="713">
                    <a:moveTo>
                      <a:pt x="29" y="8"/>
                    </a:moveTo>
                    <a:lnTo>
                      <a:pt x="54" y="61"/>
                    </a:lnTo>
                    <a:lnTo>
                      <a:pt x="78" y="110"/>
                    </a:lnTo>
                    <a:lnTo>
                      <a:pt x="107" y="156"/>
                    </a:lnTo>
                    <a:lnTo>
                      <a:pt x="135" y="198"/>
                    </a:lnTo>
                    <a:lnTo>
                      <a:pt x="166" y="236"/>
                    </a:lnTo>
                    <a:lnTo>
                      <a:pt x="198" y="272"/>
                    </a:lnTo>
                    <a:lnTo>
                      <a:pt x="232" y="304"/>
                    </a:lnTo>
                    <a:lnTo>
                      <a:pt x="268" y="337"/>
                    </a:lnTo>
                    <a:lnTo>
                      <a:pt x="307" y="365"/>
                    </a:lnTo>
                    <a:lnTo>
                      <a:pt x="346" y="392"/>
                    </a:lnTo>
                    <a:lnTo>
                      <a:pt x="388" y="416"/>
                    </a:lnTo>
                    <a:lnTo>
                      <a:pt x="432" y="439"/>
                    </a:lnTo>
                    <a:lnTo>
                      <a:pt x="478" y="462"/>
                    </a:lnTo>
                    <a:lnTo>
                      <a:pt x="527" y="485"/>
                    </a:lnTo>
                    <a:lnTo>
                      <a:pt x="576" y="506"/>
                    </a:lnTo>
                    <a:lnTo>
                      <a:pt x="630" y="527"/>
                    </a:lnTo>
                    <a:lnTo>
                      <a:pt x="717" y="567"/>
                    </a:lnTo>
                    <a:lnTo>
                      <a:pt x="810" y="593"/>
                    </a:lnTo>
                    <a:lnTo>
                      <a:pt x="883" y="618"/>
                    </a:lnTo>
                    <a:lnTo>
                      <a:pt x="945" y="645"/>
                    </a:lnTo>
                    <a:lnTo>
                      <a:pt x="1010" y="665"/>
                    </a:lnTo>
                    <a:lnTo>
                      <a:pt x="1086" y="673"/>
                    </a:lnTo>
                    <a:lnTo>
                      <a:pt x="1103" y="690"/>
                    </a:lnTo>
                    <a:lnTo>
                      <a:pt x="1097" y="702"/>
                    </a:lnTo>
                    <a:lnTo>
                      <a:pt x="1086" y="705"/>
                    </a:lnTo>
                    <a:lnTo>
                      <a:pt x="932" y="713"/>
                    </a:lnTo>
                    <a:lnTo>
                      <a:pt x="782" y="694"/>
                    </a:lnTo>
                    <a:lnTo>
                      <a:pt x="586" y="624"/>
                    </a:lnTo>
                    <a:lnTo>
                      <a:pt x="480" y="576"/>
                    </a:lnTo>
                    <a:lnTo>
                      <a:pt x="430" y="551"/>
                    </a:lnTo>
                    <a:lnTo>
                      <a:pt x="384" y="523"/>
                    </a:lnTo>
                    <a:lnTo>
                      <a:pt x="343" y="494"/>
                    </a:lnTo>
                    <a:lnTo>
                      <a:pt x="303" y="464"/>
                    </a:lnTo>
                    <a:lnTo>
                      <a:pt x="265" y="430"/>
                    </a:lnTo>
                    <a:lnTo>
                      <a:pt x="229" y="396"/>
                    </a:lnTo>
                    <a:lnTo>
                      <a:pt x="164" y="318"/>
                    </a:lnTo>
                    <a:lnTo>
                      <a:pt x="134" y="276"/>
                    </a:lnTo>
                    <a:lnTo>
                      <a:pt x="105" y="230"/>
                    </a:lnTo>
                    <a:lnTo>
                      <a:pt x="76" y="183"/>
                    </a:lnTo>
                    <a:lnTo>
                      <a:pt x="50" y="131"/>
                    </a:lnTo>
                    <a:lnTo>
                      <a:pt x="0" y="21"/>
                    </a:lnTo>
                    <a:lnTo>
                      <a:pt x="8" y="0"/>
                    </a:lnTo>
                    <a:lnTo>
                      <a:pt x="29" y="8"/>
                    </a:lnTo>
                    <a:lnTo>
                      <a:pt x="29" y="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799" name=""/>
              <p:cNvSpPr/>
              <p:nvPr/>
            </p:nvSpPr>
            <p:spPr>
              <a:xfrm>
                <a:off x="2152800" y="3151440"/>
                <a:ext cx="78480" cy="189360"/>
              </a:xfrm>
              <a:custGeom>
                <a:avLst/>
                <a:gdLst/>
                <a:ahLst/>
                <a:rect l="l" t="t" r="r" b="b"/>
                <a:pathLst>
                  <a:path w="648" h="1553">
                    <a:moveTo>
                      <a:pt x="555" y="28"/>
                    </a:moveTo>
                    <a:lnTo>
                      <a:pt x="485" y="62"/>
                    </a:lnTo>
                    <a:lnTo>
                      <a:pt x="424" y="93"/>
                    </a:lnTo>
                    <a:lnTo>
                      <a:pt x="365" y="125"/>
                    </a:lnTo>
                    <a:lnTo>
                      <a:pt x="304" y="167"/>
                    </a:lnTo>
                    <a:lnTo>
                      <a:pt x="346" y="365"/>
                    </a:lnTo>
                    <a:lnTo>
                      <a:pt x="300" y="422"/>
                    </a:lnTo>
                    <a:lnTo>
                      <a:pt x="276" y="446"/>
                    </a:lnTo>
                    <a:lnTo>
                      <a:pt x="253" y="469"/>
                    </a:lnTo>
                    <a:lnTo>
                      <a:pt x="203" y="511"/>
                    </a:lnTo>
                    <a:lnTo>
                      <a:pt x="148" y="555"/>
                    </a:lnTo>
                    <a:lnTo>
                      <a:pt x="184" y="629"/>
                    </a:lnTo>
                    <a:lnTo>
                      <a:pt x="213" y="699"/>
                    </a:lnTo>
                    <a:lnTo>
                      <a:pt x="224" y="851"/>
                    </a:lnTo>
                    <a:lnTo>
                      <a:pt x="192" y="897"/>
                    </a:lnTo>
                    <a:lnTo>
                      <a:pt x="160" y="939"/>
                    </a:lnTo>
                    <a:lnTo>
                      <a:pt x="129" y="981"/>
                    </a:lnTo>
                    <a:lnTo>
                      <a:pt x="95" y="1022"/>
                    </a:lnTo>
                    <a:lnTo>
                      <a:pt x="112" y="1060"/>
                    </a:lnTo>
                    <a:lnTo>
                      <a:pt x="133" y="1093"/>
                    </a:lnTo>
                    <a:lnTo>
                      <a:pt x="160" y="1123"/>
                    </a:lnTo>
                    <a:lnTo>
                      <a:pt x="192" y="1152"/>
                    </a:lnTo>
                    <a:lnTo>
                      <a:pt x="268" y="1190"/>
                    </a:lnTo>
                    <a:lnTo>
                      <a:pt x="338" y="1231"/>
                    </a:lnTo>
                    <a:lnTo>
                      <a:pt x="378" y="1275"/>
                    </a:lnTo>
                    <a:lnTo>
                      <a:pt x="386" y="1332"/>
                    </a:lnTo>
                    <a:lnTo>
                      <a:pt x="376" y="1397"/>
                    </a:lnTo>
                    <a:lnTo>
                      <a:pt x="361" y="1467"/>
                    </a:lnTo>
                    <a:lnTo>
                      <a:pt x="470" y="1446"/>
                    </a:lnTo>
                    <a:lnTo>
                      <a:pt x="587" y="1429"/>
                    </a:lnTo>
                    <a:lnTo>
                      <a:pt x="610" y="1427"/>
                    </a:lnTo>
                    <a:lnTo>
                      <a:pt x="639" y="1437"/>
                    </a:lnTo>
                    <a:lnTo>
                      <a:pt x="648" y="1465"/>
                    </a:lnTo>
                    <a:lnTo>
                      <a:pt x="639" y="1492"/>
                    </a:lnTo>
                    <a:lnTo>
                      <a:pt x="610" y="1501"/>
                    </a:lnTo>
                    <a:lnTo>
                      <a:pt x="591" y="1500"/>
                    </a:lnTo>
                    <a:lnTo>
                      <a:pt x="325" y="1553"/>
                    </a:lnTo>
                    <a:lnTo>
                      <a:pt x="289" y="1547"/>
                    </a:lnTo>
                    <a:lnTo>
                      <a:pt x="279" y="1513"/>
                    </a:lnTo>
                    <a:lnTo>
                      <a:pt x="298" y="1444"/>
                    </a:lnTo>
                    <a:lnTo>
                      <a:pt x="327" y="1378"/>
                    </a:lnTo>
                    <a:lnTo>
                      <a:pt x="340" y="1321"/>
                    </a:lnTo>
                    <a:lnTo>
                      <a:pt x="333" y="1298"/>
                    </a:lnTo>
                    <a:lnTo>
                      <a:pt x="312" y="1279"/>
                    </a:lnTo>
                    <a:lnTo>
                      <a:pt x="241" y="1235"/>
                    </a:lnTo>
                    <a:lnTo>
                      <a:pt x="207" y="1214"/>
                    </a:lnTo>
                    <a:lnTo>
                      <a:pt x="167" y="1192"/>
                    </a:lnTo>
                    <a:lnTo>
                      <a:pt x="114" y="1155"/>
                    </a:lnTo>
                    <a:lnTo>
                      <a:pt x="67" y="1123"/>
                    </a:lnTo>
                    <a:lnTo>
                      <a:pt x="0" y="1024"/>
                    </a:lnTo>
                    <a:lnTo>
                      <a:pt x="8" y="982"/>
                    </a:lnTo>
                    <a:lnTo>
                      <a:pt x="47" y="939"/>
                    </a:lnTo>
                    <a:lnTo>
                      <a:pt x="82" y="903"/>
                    </a:lnTo>
                    <a:lnTo>
                      <a:pt x="152" y="821"/>
                    </a:lnTo>
                    <a:lnTo>
                      <a:pt x="150" y="749"/>
                    </a:lnTo>
                    <a:lnTo>
                      <a:pt x="122" y="690"/>
                    </a:lnTo>
                    <a:lnTo>
                      <a:pt x="82" y="631"/>
                    </a:lnTo>
                    <a:lnTo>
                      <a:pt x="44" y="562"/>
                    </a:lnTo>
                    <a:lnTo>
                      <a:pt x="40" y="534"/>
                    </a:lnTo>
                    <a:lnTo>
                      <a:pt x="55" y="507"/>
                    </a:lnTo>
                    <a:lnTo>
                      <a:pt x="89" y="481"/>
                    </a:lnTo>
                    <a:lnTo>
                      <a:pt x="124" y="464"/>
                    </a:lnTo>
                    <a:lnTo>
                      <a:pt x="192" y="439"/>
                    </a:lnTo>
                    <a:lnTo>
                      <a:pt x="259" y="410"/>
                    </a:lnTo>
                    <a:lnTo>
                      <a:pt x="316" y="357"/>
                    </a:lnTo>
                    <a:lnTo>
                      <a:pt x="302" y="304"/>
                    </a:lnTo>
                    <a:lnTo>
                      <a:pt x="279" y="260"/>
                    </a:lnTo>
                    <a:lnTo>
                      <a:pt x="230" y="167"/>
                    </a:lnTo>
                    <a:lnTo>
                      <a:pt x="241" y="129"/>
                    </a:lnTo>
                    <a:lnTo>
                      <a:pt x="278" y="102"/>
                    </a:lnTo>
                    <a:lnTo>
                      <a:pt x="314" y="81"/>
                    </a:lnTo>
                    <a:lnTo>
                      <a:pt x="386" y="55"/>
                    </a:lnTo>
                    <a:lnTo>
                      <a:pt x="542" y="0"/>
                    </a:lnTo>
                    <a:lnTo>
                      <a:pt x="563" y="7"/>
                    </a:lnTo>
                    <a:lnTo>
                      <a:pt x="555" y="28"/>
                    </a:lnTo>
                    <a:lnTo>
                      <a:pt x="55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a:off x="2241000" y="3335760"/>
                <a:ext cx="47880" cy="34560"/>
              </a:xfrm>
              <a:custGeom>
                <a:avLst/>
                <a:gdLst/>
                <a:ahLst/>
                <a:rect l="l" t="t" r="r" b="b"/>
                <a:pathLst>
                  <a:path w="396" h="287">
                    <a:moveTo>
                      <a:pt x="71" y="23"/>
                    </a:moveTo>
                    <a:lnTo>
                      <a:pt x="107" y="108"/>
                    </a:lnTo>
                    <a:lnTo>
                      <a:pt x="143" y="184"/>
                    </a:lnTo>
                    <a:lnTo>
                      <a:pt x="190" y="148"/>
                    </a:lnTo>
                    <a:lnTo>
                      <a:pt x="234" y="110"/>
                    </a:lnTo>
                    <a:lnTo>
                      <a:pt x="280" y="72"/>
                    </a:lnTo>
                    <a:lnTo>
                      <a:pt x="329" y="29"/>
                    </a:lnTo>
                    <a:lnTo>
                      <a:pt x="359" y="19"/>
                    </a:lnTo>
                    <a:lnTo>
                      <a:pt x="386" y="34"/>
                    </a:lnTo>
                    <a:lnTo>
                      <a:pt x="396" y="63"/>
                    </a:lnTo>
                    <a:lnTo>
                      <a:pt x="380" y="91"/>
                    </a:lnTo>
                    <a:lnTo>
                      <a:pt x="350" y="118"/>
                    </a:lnTo>
                    <a:lnTo>
                      <a:pt x="321" y="143"/>
                    </a:lnTo>
                    <a:lnTo>
                      <a:pt x="293" y="167"/>
                    </a:lnTo>
                    <a:lnTo>
                      <a:pt x="268" y="188"/>
                    </a:lnTo>
                    <a:lnTo>
                      <a:pt x="240" y="211"/>
                    </a:lnTo>
                    <a:lnTo>
                      <a:pt x="213" y="232"/>
                    </a:lnTo>
                    <a:lnTo>
                      <a:pt x="183" y="255"/>
                    </a:lnTo>
                    <a:lnTo>
                      <a:pt x="148" y="278"/>
                    </a:lnTo>
                    <a:lnTo>
                      <a:pt x="114" y="287"/>
                    </a:lnTo>
                    <a:lnTo>
                      <a:pt x="90" y="262"/>
                    </a:lnTo>
                    <a:lnTo>
                      <a:pt x="44" y="156"/>
                    </a:lnTo>
                    <a:lnTo>
                      <a:pt x="0" y="50"/>
                    </a:lnTo>
                    <a:lnTo>
                      <a:pt x="2" y="19"/>
                    </a:lnTo>
                    <a:lnTo>
                      <a:pt x="23" y="0"/>
                    </a:lnTo>
                    <a:lnTo>
                      <a:pt x="71" y="23"/>
                    </a:lnTo>
                    <a:lnTo>
                      <a:pt x="71" y="23"/>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801" name=""/>
              <p:cNvSpPr/>
              <p:nvPr/>
            </p:nvSpPr>
            <p:spPr>
              <a:xfrm>
                <a:off x="2300040" y="3181680"/>
                <a:ext cx="114480" cy="187560"/>
              </a:xfrm>
              <a:custGeom>
                <a:avLst/>
                <a:gdLst/>
                <a:ahLst/>
                <a:rect l="l" t="t" r="r" b="b"/>
                <a:pathLst>
                  <a:path w="943" h="1538">
                    <a:moveTo>
                      <a:pt x="67" y="1319"/>
                    </a:moveTo>
                    <a:lnTo>
                      <a:pt x="122" y="1387"/>
                    </a:lnTo>
                    <a:lnTo>
                      <a:pt x="146" y="1420"/>
                    </a:lnTo>
                    <a:lnTo>
                      <a:pt x="184" y="1444"/>
                    </a:lnTo>
                    <a:lnTo>
                      <a:pt x="230" y="1463"/>
                    </a:lnTo>
                    <a:lnTo>
                      <a:pt x="272" y="1393"/>
                    </a:lnTo>
                    <a:lnTo>
                      <a:pt x="316" y="1319"/>
                    </a:lnTo>
                    <a:lnTo>
                      <a:pt x="344" y="1268"/>
                    </a:lnTo>
                    <a:lnTo>
                      <a:pt x="375" y="1222"/>
                    </a:lnTo>
                    <a:lnTo>
                      <a:pt x="394" y="1205"/>
                    </a:lnTo>
                    <a:lnTo>
                      <a:pt x="413" y="1188"/>
                    </a:lnTo>
                    <a:lnTo>
                      <a:pt x="466" y="1171"/>
                    </a:lnTo>
                    <a:lnTo>
                      <a:pt x="576" y="1155"/>
                    </a:lnTo>
                    <a:lnTo>
                      <a:pt x="675" y="1146"/>
                    </a:lnTo>
                    <a:lnTo>
                      <a:pt x="643" y="1074"/>
                    </a:lnTo>
                    <a:lnTo>
                      <a:pt x="608" y="998"/>
                    </a:lnTo>
                    <a:lnTo>
                      <a:pt x="618" y="946"/>
                    </a:lnTo>
                    <a:lnTo>
                      <a:pt x="643" y="908"/>
                    </a:lnTo>
                    <a:lnTo>
                      <a:pt x="677" y="876"/>
                    </a:lnTo>
                    <a:lnTo>
                      <a:pt x="721" y="851"/>
                    </a:lnTo>
                    <a:lnTo>
                      <a:pt x="768" y="827"/>
                    </a:lnTo>
                    <a:lnTo>
                      <a:pt x="816" y="802"/>
                    </a:lnTo>
                    <a:lnTo>
                      <a:pt x="901" y="733"/>
                    </a:lnTo>
                    <a:lnTo>
                      <a:pt x="903" y="745"/>
                    </a:lnTo>
                    <a:lnTo>
                      <a:pt x="916" y="732"/>
                    </a:lnTo>
                    <a:lnTo>
                      <a:pt x="876" y="705"/>
                    </a:lnTo>
                    <a:lnTo>
                      <a:pt x="831" y="688"/>
                    </a:lnTo>
                    <a:lnTo>
                      <a:pt x="740" y="667"/>
                    </a:lnTo>
                    <a:lnTo>
                      <a:pt x="656" y="638"/>
                    </a:lnTo>
                    <a:lnTo>
                      <a:pt x="595" y="572"/>
                    </a:lnTo>
                    <a:lnTo>
                      <a:pt x="599" y="541"/>
                    </a:lnTo>
                    <a:lnTo>
                      <a:pt x="625" y="513"/>
                    </a:lnTo>
                    <a:lnTo>
                      <a:pt x="652" y="488"/>
                    </a:lnTo>
                    <a:lnTo>
                      <a:pt x="679" y="465"/>
                    </a:lnTo>
                    <a:lnTo>
                      <a:pt x="707" y="437"/>
                    </a:lnTo>
                    <a:lnTo>
                      <a:pt x="738" y="389"/>
                    </a:lnTo>
                    <a:lnTo>
                      <a:pt x="774" y="350"/>
                    </a:lnTo>
                    <a:lnTo>
                      <a:pt x="806" y="310"/>
                    </a:lnTo>
                    <a:lnTo>
                      <a:pt x="504" y="218"/>
                    </a:lnTo>
                    <a:lnTo>
                      <a:pt x="475" y="177"/>
                    </a:lnTo>
                    <a:lnTo>
                      <a:pt x="491" y="127"/>
                    </a:lnTo>
                    <a:lnTo>
                      <a:pt x="521" y="91"/>
                    </a:lnTo>
                    <a:lnTo>
                      <a:pt x="582" y="9"/>
                    </a:lnTo>
                    <a:lnTo>
                      <a:pt x="603" y="0"/>
                    </a:lnTo>
                    <a:lnTo>
                      <a:pt x="612" y="21"/>
                    </a:lnTo>
                    <a:lnTo>
                      <a:pt x="565" y="150"/>
                    </a:lnTo>
                    <a:lnTo>
                      <a:pt x="643" y="178"/>
                    </a:lnTo>
                    <a:lnTo>
                      <a:pt x="715" y="205"/>
                    </a:lnTo>
                    <a:lnTo>
                      <a:pt x="787" y="234"/>
                    </a:lnTo>
                    <a:lnTo>
                      <a:pt x="871" y="260"/>
                    </a:lnTo>
                    <a:lnTo>
                      <a:pt x="895" y="281"/>
                    </a:lnTo>
                    <a:lnTo>
                      <a:pt x="886" y="311"/>
                    </a:lnTo>
                    <a:lnTo>
                      <a:pt x="850" y="350"/>
                    </a:lnTo>
                    <a:lnTo>
                      <a:pt x="812" y="386"/>
                    </a:lnTo>
                    <a:lnTo>
                      <a:pt x="745" y="465"/>
                    </a:lnTo>
                    <a:lnTo>
                      <a:pt x="721" y="492"/>
                    </a:lnTo>
                    <a:lnTo>
                      <a:pt x="698" y="515"/>
                    </a:lnTo>
                    <a:lnTo>
                      <a:pt x="652" y="564"/>
                    </a:lnTo>
                    <a:lnTo>
                      <a:pt x="677" y="595"/>
                    </a:lnTo>
                    <a:lnTo>
                      <a:pt x="709" y="616"/>
                    </a:lnTo>
                    <a:lnTo>
                      <a:pt x="785" y="638"/>
                    </a:lnTo>
                    <a:lnTo>
                      <a:pt x="943" y="697"/>
                    </a:lnTo>
                    <a:lnTo>
                      <a:pt x="937" y="714"/>
                    </a:lnTo>
                    <a:lnTo>
                      <a:pt x="928" y="737"/>
                    </a:lnTo>
                    <a:lnTo>
                      <a:pt x="926" y="754"/>
                    </a:lnTo>
                    <a:lnTo>
                      <a:pt x="894" y="787"/>
                    </a:lnTo>
                    <a:lnTo>
                      <a:pt x="859" y="811"/>
                    </a:lnTo>
                    <a:lnTo>
                      <a:pt x="787" y="855"/>
                    </a:lnTo>
                    <a:lnTo>
                      <a:pt x="728" y="905"/>
                    </a:lnTo>
                    <a:lnTo>
                      <a:pt x="703" y="979"/>
                    </a:lnTo>
                    <a:lnTo>
                      <a:pt x="783" y="1193"/>
                    </a:lnTo>
                    <a:lnTo>
                      <a:pt x="776" y="1241"/>
                    </a:lnTo>
                    <a:lnTo>
                      <a:pt x="728" y="1247"/>
                    </a:lnTo>
                    <a:lnTo>
                      <a:pt x="601" y="1220"/>
                    </a:lnTo>
                    <a:lnTo>
                      <a:pt x="472" y="1218"/>
                    </a:lnTo>
                    <a:lnTo>
                      <a:pt x="432" y="1235"/>
                    </a:lnTo>
                    <a:lnTo>
                      <a:pt x="403" y="1266"/>
                    </a:lnTo>
                    <a:lnTo>
                      <a:pt x="363" y="1346"/>
                    </a:lnTo>
                    <a:lnTo>
                      <a:pt x="337" y="1391"/>
                    </a:lnTo>
                    <a:lnTo>
                      <a:pt x="314" y="1433"/>
                    </a:lnTo>
                    <a:lnTo>
                      <a:pt x="291" y="1473"/>
                    </a:lnTo>
                    <a:lnTo>
                      <a:pt x="266" y="1520"/>
                    </a:lnTo>
                    <a:lnTo>
                      <a:pt x="245" y="1538"/>
                    </a:lnTo>
                    <a:lnTo>
                      <a:pt x="221" y="1528"/>
                    </a:lnTo>
                    <a:lnTo>
                      <a:pt x="171" y="1475"/>
                    </a:lnTo>
                    <a:lnTo>
                      <a:pt x="17" y="1384"/>
                    </a:lnTo>
                    <a:lnTo>
                      <a:pt x="0" y="1355"/>
                    </a:lnTo>
                    <a:lnTo>
                      <a:pt x="10" y="1327"/>
                    </a:lnTo>
                    <a:lnTo>
                      <a:pt x="34" y="1311"/>
                    </a:lnTo>
                    <a:lnTo>
                      <a:pt x="67" y="1319"/>
                    </a:lnTo>
                    <a:lnTo>
                      <a:pt x="67" y="1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2234520" y="3139560"/>
                <a:ext cx="46440" cy="35280"/>
              </a:xfrm>
              <a:custGeom>
                <a:avLst/>
                <a:gdLst/>
                <a:ahLst/>
                <a:rect l="l" t="t" r="r" b="b"/>
                <a:pathLst>
                  <a:path w="384" h="291">
                    <a:moveTo>
                      <a:pt x="29" y="76"/>
                    </a:moveTo>
                    <a:lnTo>
                      <a:pt x="205" y="165"/>
                    </a:lnTo>
                    <a:lnTo>
                      <a:pt x="249" y="99"/>
                    </a:lnTo>
                    <a:lnTo>
                      <a:pt x="276" y="70"/>
                    </a:lnTo>
                    <a:lnTo>
                      <a:pt x="304" y="49"/>
                    </a:lnTo>
                    <a:lnTo>
                      <a:pt x="359" y="2"/>
                    </a:lnTo>
                    <a:lnTo>
                      <a:pt x="382" y="0"/>
                    </a:lnTo>
                    <a:lnTo>
                      <a:pt x="384" y="23"/>
                    </a:lnTo>
                    <a:lnTo>
                      <a:pt x="325" y="150"/>
                    </a:lnTo>
                    <a:lnTo>
                      <a:pt x="251" y="264"/>
                    </a:lnTo>
                    <a:lnTo>
                      <a:pt x="234" y="283"/>
                    </a:lnTo>
                    <a:lnTo>
                      <a:pt x="215" y="291"/>
                    </a:lnTo>
                    <a:lnTo>
                      <a:pt x="177" y="266"/>
                    </a:lnTo>
                    <a:lnTo>
                      <a:pt x="137" y="218"/>
                    </a:lnTo>
                    <a:lnTo>
                      <a:pt x="99" y="178"/>
                    </a:lnTo>
                    <a:lnTo>
                      <a:pt x="59" y="146"/>
                    </a:lnTo>
                    <a:lnTo>
                      <a:pt x="8" y="114"/>
                    </a:lnTo>
                    <a:lnTo>
                      <a:pt x="0" y="85"/>
                    </a:lnTo>
                    <a:lnTo>
                      <a:pt x="29" y="76"/>
                    </a:lnTo>
                    <a:lnTo>
                      <a:pt x="29" y="76"/>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803" name=""/>
              <p:cNvSpPr/>
              <p:nvPr/>
            </p:nvSpPr>
            <p:spPr>
              <a:xfrm>
                <a:off x="2307240" y="3152880"/>
                <a:ext cx="45360" cy="30600"/>
              </a:xfrm>
              <a:custGeom>
                <a:avLst/>
                <a:gdLst/>
                <a:ahLst/>
                <a:rect l="l" t="t" r="r" b="b"/>
                <a:pathLst>
                  <a:path w="374" h="253">
                    <a:moveTo>
                      <a:pt x="30" y="10"/>
                    </a:moveTo>
                    <a:lnTo>
                      <a:pt x="66" y="86"/>
                    </a:lnTo>
                    <a:lnTo>
                      <a:pt x="87" y="120"/>
                    </a:lnTo>
                    <a:lnTo>
                      <a:pt x="112" y="152"/>
                    </a:lnTo>
                    <a:lnTo>
                      <a:pt x="171" y="124"/>
                    </a:lnTo>
                    <a:lnTo>
                      <a:pt x="228" y="101"/>
                    </a:lnTo>
                    <a:lnTo>
                      <a:pt x="353" y="57"/>
                    </a:lnTo>
                    <a:lnTo>
                      <a:pt x="374" y="67"/>
                    </a:lnTo>
                    <a:lnTo>
                      <a:pt x="365" y="88"/>
                    </a:lnTo>
                    <a:lnTo>
                      <a:pt x="298" y="120"/>
                    </a:lnTo>
                    <a:lnTo>
                      <a:pt x="243" y="158"/>
                    </a:lnTo>
                    <a:lnTo>
                      <a:pt x="192" y="198"/>
                    </a:lnTo>
                    <a:lnTo>
                      <a:pt x="163" y="221"/>
                    </a:lnTo>
                    <a:lnTo>
                      <a:pt x="133" y="243"/>
                    </a:lnTo>
                    <a:lnTo>
                      <a:pt x="104" y="253"/>
                    </a:lnTo>
                    <a:lnTo>
                      <a:pt x="78" y="240"/>
                    </a:lnTo>
                    <a:lnTo>
                      <a:pt x="44" y="190"/>
                    </a:lnTo>
                    <a:lnTo>
                      <a:pt x="28" y="137"/>
                    </a:lnTo>
                    <a:lnTo>
                      <a:pt x="0" y="23"/>
                    </a:lnTo>
                    <a:lnTo>
                      <a:pt x="9" y="0"/>
                    </a:lnTo>
                    <a:lnTo>
                      <a:pt x="30" y="10"/>
                    </a:lnTo>
                    <a:lnTo>
                      <a:pt x="30" y="1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804" name=""/>
              <p:cNvSpPr/>
              <p:nvPr/>
            </p:nvSpPr>
            <p:spPr>
              <a:xfrm>
                <a:off x="2133720" y="3124800"/>
                <a:ext cx="84600" cy="135360"/>
              </a:xfrm>
              <a:custGeom>
                <a:avLst/>
                <a:gdLst/>
                <a:ahLst/>
                <a:rect l="l" t="t" r="r" b="b"/>
                <a:pathLst>
                  <a:path w="696" h="1112">
                    <a:moveTo>
                      <a:pt x="679" y="33"/>
                    </a:moveTo>
                    <a:lnTo>
                      <a:pt x="603" y="46"/>
                    </a:lnTo>
                    <a:lnTo>
                      <a:pt x="540" y="80"/>
                    </a:lnTo>
                    <a:lnTo>
                      <a:pt x="481" y="128"/>
                    </a:lnTo>
                    <a:lnTo>
                      <a:pt x="451" y="152"/>
                    </a:lnTo>
                    <a:lnTo>
                      <a:pt x="417" y="177"/>
                    </a:lnTo>
                    <a:lnTo>
                      <a:pt x="348" y="226"/>
                    </a:lnTo>
                    <a:lnTo>
                      <a:pt x="320" y="253"/>
                    </a:lnTo>
                    <a:lnTo>
                      <a:pt x="293" y="282"/>
                    </a:lnTo>
                    <a:lnTo>
                      <a:pt x="247" y="341"/>
                    </a:lnTo>
                    <a:lnTo>
                      <a:pt x="209" y="403"/>
                    </a:lnTo>
                    <a:lnTo>
                      <a:pt x="179" y="472"/>
                    </a:lnTo>
                    <a:lnTo>
                      <a:pt x="150" y="544"/>
                    </a:lnTo>
                    <a:lnTo>
                      <a:pt x="124" y="624"/>
                    </a:lnTo>
                    <a:lnTo>
                      <a:pt x="97" y="705"/>
                    </a:lnTo>
                    <a:lnTo>
                      <a:pt x="46" y="1095"/>
                    </a:lnTo>
                    <a:lnTo>
                      <a:pt x="31" y="1112"/>
                    </a:lnTo>
                    <a:lnTo>
                      <a:pt x="13" y="1099"/>
                    </a:lnTo>
                    <a:lnTo>
                      <a:pt x="0" y="681"/>
                    </a:lnTo>
                    <a:lnTo>
                      <a:pt x="31" y="588"/>
                    </a:lnTo>
                    <a:lnTo>
                      <a:pt x="61" y="502"/>
                    </a:lnTo>
                    <a:lnTo>
                      <a:pt x="93" y="420"/>
                    </a:lnTo>
                    <a:lnTo>
                      <a:pt x="129" y="344"/>
                    </a:lnTo>
                    <a:lnTo>
                      <a:pt x="150" y="310"/>
                    </a:lnTo>
                    <a:lnTo>
                      <a:pt x="171" y="274"/>
                    </a:lnTo>
                    <a:lnTo>
                      <a:pt x="196" y="242"/>
                    </a:lnTo>
                    <a:lnTo>
                      <a:pt x="223" y="209"/>
                    </a:lnTo>
                    <a:lnTo>
                      <a:pt x="253" y="179"/>
                    </a:lnTo>
                    <a:lnTo>
                      <a:pt x="285" y="149"/>
                    </a:lnTo>
                    <a:lnTo>
                      <a:pt x="321" y="120"/>
                    </a:lnTo>
                    <a:lnTo>
                      <a:pt x="361" y="93"/>
                    </a:lnTo>
                    <a:lnTo>
                      <a:pt x="401" y="69"/>
                    </a:lnTo>
                    <a:lnTo>
                      <a:pt x="437" y="48"/>
                    </a:lnTo>
                    <a:lnTo>
                      <a:pt x="512" y="19"/>
                    </a:lnTo>
                    <a:lnTo>
                      <a:pt x="679" y="0"/>
                    </a:lnTo>
                    <a:lnTo>
                      <a:pt x="696" y="15"/>
                    </a:lnTo>
                    <a:lnTo>
                      <a:pt x="692" y="27"/>
                    </a:lnTo>
                    <a:lnTo>
                      <a:pt x="679" y="33"/>
                    </a:lnTo>
                    <a:lnTo>
                      <a:pt x="679"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5" name=""/>
            <p:cNvSpPr/>
            <p:nvPr/>
          </p:nvSpPr>
          <p:spPr>
            <a:xfrm flipH="1">
              <a:off x="2590920" y="3276720"/>
              <a:ext cx="4572000" cy="0"/>
            </a:xfrm>
            <a:prstGeom prst="line">
              <a:avLst/>
            </a:prstGeom>
            <a:ln w="9360">
              <a:solidFill>
                <a:srgbClr val="57a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6" name=""/>
          <p:cNvGrpSpPr/>
          <p:nvPr/>
        </p:nvGrpSpPr>
        <p:grpSpPr>
          <a:xfrm>
            <a:off x="1523880" y="4038480"/>
            <a:ext cx="1828800" cy="457200"/>
            <a:chOff x="1523880" y="4038480"/>
            <a:chExt cx="1828800" cy="457200"/>
          </a:xfrm>
        </p:grpSpPr>
        <p:grpSp>
          <p:nvGrpSpPr>
            <p:cNvPr id="807" name=""/>
            <p:cNvGrpSpPr/>
            <p:nvPr/>
          </p:nvGrpSpPr>
          <p:grpSpPr>
            <a:xfrm>
              <a:off x="1523880" y="4038480"/>
              <a:ext cx="304920" cy="457200"/>
              <a:chOff x="1523880" y="4038480"/>
              <a:chExt cx="304920" cy="457200"/>
            </a:xfrm>
          </p:grpSpPr>
          <p:sp>
            <p:nvSpPr>
              <p:cNvPr id="808" name=""/>
              <p:cNvSpPr/>
              <p:nvPr/>
            </p:nvSpPr>
            <p:spPr>
              <a:xfrm>
                <a:off x="1526760" y="4170240"/>
                <a:ext cx="54000" cy="75960"/>
              </a:xfrm>
              <a:custGeom>
                <a:avLst/>
                <a:gdLst/>
                <a:ahLst/>
                <a:rect l="l" t="t" r="r" b="b"/>
                <a:pathLst>
                  <a:path w="443" h="626">
                    <a:moveTo>
                      <a:pt x="0" y="0"/>
                    </a:moveTo>
                    <a:lnTo>
                      <a:pt x="19" y="276"/>
                    </a:lnTo>
                    <a:lnTo>
                      <a:pt x="114" y="498"/>
                    </a:lnTo>
                    <a:lnTo>
                      <a:pt x="340" y="626"/>
                    </a:lnTo>
                    <a:lnTo>
                      <a:pt x="443" y="550"/>
                    </a:lnTo>
                    <a:lnTo>
                      <a:pt x="353" y="417"/>
                    </a:lnTo>
                    <a:lnTo>
                      <a:pt x="201" y="396"/>
                    </a:lnTo>
                    <a:lnTo>
                      <a:pt x="101" y="306"/>
                    </a:lnTo>
                    <a:lnTo>
                      <a:pt x="0" y="0"/>
                    </a:lnTo>
                    <a:lnTo>
                      <a:pt x="0" y="0"/>
                    </a:lnTo>
                    <a:close/>
                  </a:path>
                </a:pathLst>
              </a:custGeom>
              <a:solidFill>
                <a:srgbClr val="ffd9d9"/>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809" name=""/>
              <p:cNvSpPr/>
              <p:nvPr/>
            </p:nvSpPr>
            <p:spPr>
              <a:xfrm>
                <a:off x="1643400" y="4250880"/>
                <a:ext cx="140400" cy="46800"/>
              </a:xfrm>
              <a:custGeom>
                <a:avLst/>
                <a:gdLst/>
                <a:ahLst/>
                <a:rect l="l" t="t" r="r" b="b"/>
                <a:pathLst>
                  <a:path w="1156" h="384">
                    <a:moveTo>
                      <a:pt x="0" y="306"/>
                    </a:moveTo>
                    <a:lnTo>
                      <a:pt x="139" y="268"/>
                    </a:lnTo>
                    <a:lnTo>
                      <a:pt x="304" y="121"/>
                    </a:lnTo>
                    <a:lnTo>
                      <a:pt x="493" y="273"/>
                    </a:lnTo>
                    <a:lnTo>
                      <a:pt x="443" y="116"/>
                    </a:lnTo>
                    <a:lnTo>
                      <a:pt x="607" y="230"/>
                    </a:lnTo>
                    <a:lnTo>
                      <a:pt x="734" y="165"/>
                    </a:lnTo>
                    <a:lnTo>
                      <a:pt x="840" y="70"/>
                    </a:lnTo>
                    <a:lnTo>
                      <a:pt x="854" y="19"/>
                    </a:lnTo>
                    <a:lnTo>
                      <a:pt x="979" y="0"/>
                    </a:lnTo>
                    <a:lnTo>
                      <a:pt x="1156" y="26"/>
                    </a:lnTo>
                    <a:lnTo>
                      <a:pt x="854" y="205"/>
                    </a:lnTo>
                    <a:lnTo>
                      <a:pt x="498" y="363"/>
                    </a:lnTo>
                    <a:lnTo>
                      <a:pt x="95" y="384"/>
                    </a:lnTo>
                    <a:lnTo>
                      <a:pt x="0" y="306"/>
                    </a:lnTo>
                    <a:lnTo>
                      <a:pt x="0" y="306"/>
                    </a:lnTo>
                    <a:close/>
                  </a:path>
                </a:pathLst>
              </a:custGeom>
              <a:solidFill>
                <a:srgbClr val="ffd9d9"/>
              </a:solidFill>
              <a:ln w="0">
                <a:no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810" name=""/>
              <p:cNvSpPr/>
              <p:nvPr/>
            </p:nvSpPr>
            <p:spPr>
              <a:xfrm>
                <a:off x="1544040" y="4060440"/>
                <a:ext cx="210600" cy="217080"/>
              </a:xfrm>
              <a:custGeom>
                <a:avLst/>
                <a:gdLst/>
                <a:ahLst/>
                <a:rect l="l" t="t" r="r" b="b"/>
                <a:pathLst>
                  <a:path w="1731" h="1779">
                    <a:moveTo>
                      <a:pt x="557" y="0"/>
                    </a:moveTo>
                    <a:lnTo>
                      <a:pt x="233" y="314"/>
                    </a:lnTo>
                    <a:lnTo>
                      <a:pt x="43" y="485"/>
                    </a:lnTo>
                    <a:lnTo>
                      <a:pt x="100" y="740"/>
                    </a:lnTo>
                    <a:lnTo>
                      <a:pt x="0" y="875"/>
                    </a:lnTo>
                    <a:lnTo>
                      <a:pt x="95" y="1091"/>
                    </a:lnTo>
                    <a:lnTo>
                      <a:pt x="138" y="1200"/>
                    </a:lnTo>
                    <a:lnTo>
                      <a:pt x="290" y="1283"/>
                    </a:lnTo>
                    <a:lnTo>
                      <a:pt x="595" y="829"/>
                    </a:lnTo>
                    <a:lnTo>
                      <a:pt x="1005" y="652"/>
                    </a:lnTo>
                    <a:lnTo>
                      <a:pt x="600" y="1053"/>
                    </a:lnTo>
                    <a:lnTo>
                      <a:pt x="366" y="1346"/>
                    </a:lnTo>
                    <a:lnTo>
                      <a:pt x="328" y="1538"/>
                    </a:lnTo>
                    <a:lnTo>
                      <a:pt x="606" y="1487"/>
                    </a:lnTo>
                    <a:lnTo>
                      <a:pt x="688" y="1492"/>
                    </a:lnTo>
                    <a:lnTo>
                      <a:pt x="752" y="1563"/>
                    </a:lnTo>
                    <a:lnTo>
                      <a:pt x="1188" y="1295"/>
                    </a:lnTo>
                    <a:lnTo>
                      <a:pt x="834" y="1679"/>
                    </a:lnTo>
                    <a:lnTo>
                      <a:pt x="847" y="1779"/>
                    </a:lnTo>
                    <a:lnTo>
                      <a:pt x="1062" y="1601"/>
                    </a:lnTo>
                    <a:lnTo>
                      <a:pt x="1302" y="1500"/>
                    </a:lnTo>
                    <a:lnTo>
                      <a:pt x="1707" y="1072"/>
                    </a:lnTo>
                    <a:lnTo>
                      <a:pt x="1731" y="696"/>
                    </a:lnTo>
                    <a:lnTo>
                      <a:pt x="1174" y="300"/>
                    </a:lnTo>
                    <a:lnTo>
                      <a:pt x="650" y="333"/>
                    </a:lnTo>
                    <a:lnTo>
                      <a:pt x="557" y="0"/>
                    </a:lnTo>
                    <a:lnTo>
                      <a:pt x="557" y="0"/>
                    </a:lnTo>
                    <a:close/>
                  </a:path>
                </a:pathLst>
              </a:custGeom>
              <a:solidFill>
                <a:srgbClr val="ff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1533600" y="4215960"/>
                <a:ext cx="128160" cy="81720"/>
              </a:xfrm>
              <a:custGeom>
                <a:avLst/>
                <a:gdLst/>
                <a:ahLst/>
                <a:rect l="l" t="t" r="r" b="b"/>
                <a:pathLst>
                  <a:path w="1053" h="673">
                    <a:moveTo>
                      <a:pt x="0" y="0"/>
                    </a:moveTo>
                    <a:lnTo>
                      <a:pt x="120" y="80"/>
                    </a:lnTo>
                    <a:lnTo>
                      <a:pt x="255" y="173"/>
                    </a:lnTo>
                    <a:lnTo>
                      <a:pt x="375" y="144"/>
                    </a:lnTo>
                    <a:lnTo>
                      <a:pt x="437" y="43"/>
                    </a:lnTo>
                    <a:lnTo>
                      <a:pt x="388" y="294"/>
                    </a:lnTo>
                    <a:lnTo>
                      <a:pt x="510" y="351"/>
                    </a:lnTo>
                    <a:lnTo>
                      <a:pt x="665" y="380"/>
                    </a:lnTo>
                    <a:lnTo>
                      <a:pt x="749" y="351"/>
                    </a:lnTo>
                    <a:lnTo>
                      <a:pt x="793" y="479"/>
                    </a:lnTo>
                    <a:lnTo>
                      <a:pt x="1053" y="673"/>
                    </a:lnTo>
                    <a:lnTo>
                      <a:pt x="749" y="608"/>
                    </a:lnTo>
                    <a:lnTo>
                      <a:pt x="260" y="336"/>
                    </a:lnTo>
                    <a:lnTo>
                      <a:pt x="105" y="173"/>
                    </a:lnTo>
                    <a:lnTo>
                      <a:pt x="0" y="0"/>
                    </a:lnTo>
                    <a:lnTo>
                      <a:pt x="0" y="0"/>
                    </a:lnTo>
                    <a:close/>
                  </a:path>
                </a:pathLst>
              </a:custGeom>
              <a:solidFill>
                <a:srgbClr val="ff9999"/>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812" name=""/>
              <p:cNvSpPr/>
              <p:nvPr/>
            </p:nvSpPr>
            <p:spPr>
              <a:xfrm>
                <a:off x="1530720" y="4285440"/>
                <a:ext cx="241920" cy="196920"/>
              </a:xfrm>
              <a:custGeom>
                <a:avLst/>
                <a:gdLst/>
                <a:ahLst/>
                <a:rect l="l" t="t" r="r" b="b"/>
                <a:pathLst>
                  <a:path w="1991" h="1616">
                    <a:moveTo>
                      <a:pt x="405" y="0"/>
                    </a:moveTo>
                    <a:lnTo>
                      <a:pt x="377" y="152"/>
                    </a:lnTo>
                    <a:lnTo>
                      <a:pt x="242" y="274"/>
                    </a:lnTo>
                    <a:lnTo>
                      <a:pt x="411" y="217"/>
                    </a:lnTo>
                    <a:lnTo>
                      <a:pt x="341" y="473"/>
                    </a:lnTo>
                    <a:lnTo>
                      <a:pt x="348" y="623"/>
                    </a:lnTo>
                    <a:lnTo>
                      <a:pt x="333" y="973"/>
                    </a:lnTo>
                    <a:lnTo>
                      <a:pt x="234" y="1230"/>
                    </a:lnTo>
                    <a:lnTo>
                      <a:pt x="744" y="838"/>
                    </a:lnTo>
                    <a:lnTo>
                      <a:pt x="561" y="1095"/>
                    </a:lnTo>
                    <a:lnTo>
                      <a:pt x="156" y="1374"/>
                    </a:lnTo>
                    <a:lnTo>
                      <a:pt x="0" y="1530"/>
                    </a:lnTo>
                    <a:lnTo>
                      <a:pt x="164" y="1551"/>
                    </a:lnTo>
                    <a:lnTo>
                      <a:pt x="510" y="1281"/>
                    </a:lnTo>
                    <a:lnTo>
                      <a:pt x="624" y="1281"/>
                    </a:lnTo>
                    <a:lnTo>
                      <a:pt x="715" y="1481"/>
                    </a:lnTo>
                    <a:lnTo>
                      <a:pt x="850" y="1616"/>
                    </a:lnTo>
                    <a:lnTo>
                      <a:pt x="892" y="1294"/>
                    </a:lnTo>
                    <a:lnTo>
                      <a:pt x="780" y="1188"/>
                    </a:lnTo>
                    <a:lnTo>
                      <a:pt x="858" y="895"/>
                    </a:lnTo>
                    <a:lnTo>
                      <a:pt x="985" y="608"/>
                    </a:lnTo>
                    <a:lnTo>
                      <a:pt x="1154" y="745"/>
                    </a:lnTo>
                    <a:lnTo>
                      <a:pt x="1339" y="1051"/>
                    </a:lnTo>
                    <a:lnTo>
                      <a:pt x="1424" y="1494"/>
                    </a:lnTo>
                    <a:lnTo>
                      <a:pt x="1609" y="1144"/>
                    </a:lnTo>
                    <a:lnTo>
                      <a:pt x="1955" y="1408"/>
                    </a:lnTo>
                    <a:lnTo>
                      <a:pt x="1778" y="1045"/>
                    </a:lnTo>
                    <a:lnTo>
                      <a:pt x="1983" y="1273"/>
                    </a:lnTo>
                    <a:lnTo>
                      <a:pt x="1827" y="595"/>
                    </a:lnTo>
                    <a:lnTo>
                      <a:pt x="1820" y="380"/>
                    </a:lnTo>
                    <a:lnTo>
                      <a:pt x="1991" y="367"/>
                    </a:lnTo>
                    <a:lnTo>
                      <a:pt x="1975" y="230"/>
                    </a:lnTo>
                    <a:lnTo>
                      <a:pt x="1877" y="274"/>
                    </a:lnTo>
                    <a:lnTo>
                      <a:pt x="1614" y="160"/>
                    </a:lnTo>
                    <a:lnTo>
                      <a:pt x="1523" y="217"/>
                    </a:lnTo>
                    <a:lnTo>
                      <a:pt x="772" y="137"/>
                    </a:lnTo>
                    <a:lnTo>
                      <a:pt x="405" y="0"/>
                    </a:lnTo>
                    <a:lnTo>
                      <a:pt x="405"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1537560" y="4043520"/>
                <a:ext cx="280800" cy="263880"/>
              </a:xfrm>
              <a:custGeom>
                <a:avLst/>
                <a:gdLst/>
                <a:ahLst/>
                <a:rect l="l" t="t" r="r" b="b"/>
                <a:pathLst>
                  <a:path w="2308" h="2164">
                    <a:moveTo>
                      <a:pt x="299" y="863"/>
                    </a:moveTo>
                    <a:lnTo>
                      <a:pt x="681" y="628"/>
                    </a:lnTo>
                    <a:lnTo>
                      <a:pt x="1289" y="571"/>
                    </a:lnTo>
                    <a:lnTo>
                      <a:pt x="1346" y="728"/>
                    </a:lnTo>
                    <a:lnTo>
                      <a:pt x="736" y="1264"/>
                    </a:lnTo>
                    <a:lnTo>
                      <a:pt x="595" y="1485"/>
                    </a:lnTo>
                    <a:lnTo>
                      <a:pt x="1707" y="1034"/>
                    </a:lnTo>
                    <a:lnTo>
                      <a:pt x="1063" y="1764"/>
                    </a:lnTo>
                    <a:lnTo>
                      <a:pt x="1190" y="1700"/>
                    </a:lnTo>
                    <a:lnTo>
                      <a:pt x="1295" y="1785"/>
                    </a:lnTo>
                    <a:lnTo>
                      <a:pt x="1494" y="1935"/>
                    </a:lnTo>
                    <a:lnTo>
                      <a:pt x="1700" y="1627"/>
                    </a:lnTo>
                    <a:lnTo>
                      <a:pt x="1975" y="1586"/>
                    </a:lnTo>
                    <a:lnTo>
                      <a:pt x="1926" y="1356"/>
                    </a:lnTo>
                    <a:lnTo>
                      <a:pt x="2171" y="1169"/>
                    </a:lnTo>
                    <a:lnTo>
                      <a:pt x="2036" y="909"/>
                    </a:lnTo>
                    <a:lnTo>
                      <a:pt x="2173" y="736"/>
                    </a:lnTo>
                    <a:lnTo>
                      <a:pt x="2223" y="928"/>
                    </a:lnTo>
                    <a:lnTo>
                      <a:pt x="2223" y="1228"/>
                    </a:lnTo>
                    <a:lnTo>
                      <a:pt x="2053" y="1399"/>
                    </a:lnTo>
                    <a:lnTo>
                      <a:pt x="2061" y="1542"/>
                    </a:lnTo>
                    <a:lnTo>
                      <a:pt x="1975" y="1728"/>
                    </a:lnTo>
                    <a:lnTo>
                      <a:pt x="1778" y="1749"/>
                    </a:lnTo>
                    <a:lnTo>
                      <a:pt x="1629" y="1892"/>
                    </a:lnTo>
                    <a:lnTo>
                      <a:pt x="1523" y="2000"/>
                    </a:lnTo>
                    <a:lnTo>
                      <a:pt x="1339" y="2049"/>
                    </a:lnTo>
                    <a:lnTo>
                      <a:pt x="1175" y="1850"/>
                    </a:lnTo>
                    <a:lnTo>
                      <a:pt x="1006" y="2034"/>
                    </a:lnTo>
                    <a:lnTo>
                      <a:pt x="759" y="2049"/>
                    </a:lnTo>
                    <a:lnTo>
                      <a:pt x="1091" y="2164"/>
                    </a:lnTo>
                    <a:lnTo>
                      <a:pt x="1629" y="2091"/>
                    </a:lnTo>
                    <a:lnTo>
                      <a:pt x="1820" y="2063"/>
                    </a:lnTo>
                    <a:lnTo>
                      <a:pt x="1848" y="1943"/>
                    </a:lnTo>
                    <a:lnTo>
                      <a:pt x="2124" y="1793"/>
                    </a:lnTo>
                    <a:lnTo>
                      <a:pt x="2295" y="1420"/>
                    </a:lnTo>
                    <a:lnTo>
                      <a:pt x="2308" y="972"/>
                    </a:lnTo>
                    <a:lnTo>
                      <a:pt x="2181" y="400"/>
                    </a:lnTo>
                    <a:lnTo>
                      <a:pt x="1905" y="420"/>
                    </a:lnTo>
                    <a:lnTo>
                      <a:pt x="1331" y="213"/>
                    </a:lnTo>
                    <a:lnTo>
                      <a:pt x="736" y="107"/>
                    </a:lnTo>
                    <a:lnTo>
                      <a:pt x="546" y="0"/>
                    </a:lnTo>
                    <a:lnTo>
                      <a:pt x="341" y="149"/>
                    </a:lnTo>
                    <a:lnTo>
                      <a:pt x="198" y="293"/>
                    </a:lnTo>
                    <a:lnTo>
                      <a:pt x="221" y="449"/>
                    </a:lnTo>
                    <a:lnTo>
                      <a:pt x="128" y="472"/>
                    </a:lnTo>
                    <a:lnTo>
                      <a:pt x="42" y="592"/>
                    </a:lnTo>
                    <a:lnTo>
                      <a:pt x="42" y="770"/>
                    </a:lnTo>
                    <a:lnTo>
                      <a:pt x="99" y="899"/>
                    </a:lnTo>
                    <a:lnTo>
                      <a:pt x="8" y="956"/>
                    </a:lnTo>
                    <a:lnTo>
                      <a:pt x="0" y="1107"/>
                    </a:lnTo>
                    <a:lnTo>
                      <a:pt x="99" y="1221"/>
                    </a:lnTo>
                    <a:lnTo>
                      <a:pt x="242" y="1122"/>
                    </a:lnTo>
                    <a:lnTo>
                      <a:pt x="226" y="936"/>
                    </a:lnTo>
                    <a:lnTo>
                      <a:pt x="299" y="863"/>
                    </a:lnTo>
                    <a:lnTo>
                      <a:pt x="299" y="863"/>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a:off x="1541160" y="4038480"/>
                <a:ext cx="261720" cy="162720"/>
              </a:xfrm>
              <a:custGeom>
                <a:avLst/>
                <a:gdLst/>
                <a:ahLst/>
                <a:rect l="l" t="t" r="r" b="b"/>
                <a:pathLst>
                  <a:path w="2152" h="1334">
                    <a:moveTo>
                      <a:pt x="135" y="1334"/>
                    </a:moveTo>
                    <a:lnTo>
                      <a:pt x="247" y="1148"/>
                    </a:lnTo>
                    <a:lnTo>
                      <a:pt x="197" y="977"/>
                    </a:lnTo>
                    <a:lnTo>
                      <a:pt x="247" y="777"/>
                    </a:lnTo>
                    <a:lnTo>
                      <a:pt x="389" y="676"/>
                    </a:lnTo>
                    <a:lnTo>
                      <a:pt x="382" y="562"/>
                    </a:lnTo>
                    <a:lnTo>
                      <a:pt x="467" y="363"/>
                    </a:lnTo>
                    <a:lnTo>
                      <a:pt x="673" y="277"/>
                    </a:lnTo>
                    <a:lnTo>
                      <a:pt x="857" y="441"/>
                    </a:lnTo>
                    <a:lnTo>
                      <a:pt x="1091" y="306"/>
                    </a:lnTo>
                    <a:lnTo>
                      <a:pt x="1260" y="420"/>
                    </a:lnTo>
                    <a:lnTo>
                      <a:pt x="1372" y="547"/>
                    </a:lnTo>
                    <a:lnTo>
                      <a:pt x="1479" y="534"/>
                    </a:lnTo>
                    <a:lnTo>
                      <a:pt x="1642" y="448"/>
                    </a:lnTo>
                    <a:lnTo>
                      <a:pt x="1720" y="484"/>
                    </a:lnTo>
                    <a:lnTo>
                      <a:pt x="1671" y="690"/>
                    </a:lnTo>
                    <a:lnTo>
                      <a:pt x="1791" y="798"/>
                    </a:lnTo>
                    <a:lnTo>
                      <a:pt x="1954" y="868"/>
                    </a:lnTo>
                    <a:lnTo>
                      <a:pt x="2102" y="769"/>
                    </a:lnTo>
                    <a:lnTo>
                      <a:pt x="1889" y="669"/>
                    </a:lnTo>
                    <a:lnTo>
                      <a:pt x="2061" y="570"/>
                    </a:lnTo>
                    <a:lnTo>
                      <a:pt x="2152" y="441"/>
                    </a:lnTo>
                    <a:lnTo>
                      <a:pt x="1848" y="397"/>
                    </a:lnTo>
                    <a:lnTo>
                      <a:pt x="1656" y="212"/>
                    </a:lnTo>
                    <a:lnTo>
                      <a:pt x="1486" y="262"/>
                    </a:lnTo>
                    <a:lnTo>
                      <a:pt x="1239" y="205"/>
                    </a:lnTo>
                    <a:lnTo>
                      <a:pt x="1182" y="87"/>
                    </a:lnTo>
                    <a:lnTo>
                      <a:pt x="1013" y="155"/>
                    </a:lnTo>
                    <a:lnTo>
                      <a:pt x="707" y="148"/>
                    </a:lnTo>
                    <a:lnTo>
                      <a:pt x="547" y="0"/>
                    </a:lnTo>
                    <a:lnTo>
                      <a:pt x="439" y="41"/>
                    </a:lnTo>
                    <a:lnTo>
                      <a:pt x="502" y="133"/>
                    </a:lnTo>
                    <a:lnTo>
                      <a:pt x="369" y="233"/>
                    </a:lnTo>
                    <a:lnTo>
                      <a:pt x="283" y="368"/>
                    </a:lnTo>
                    <a:lnTo>
                      <a:pt x="325" y="591"/>
                    </a:lnTo>
                    <a:lnTo>
                      <a:pt x="148" y="648"/>
                    </a:lnTo>
                    <a:lnTo>
                      <a:pt x="70" y="690"/>
                    </a:lnTo>
                    <a:lnTo>
                      <a:pt x="57" y="790"/>
                    </a:lnTo>
                    <a:lnTo>
                      <a:pt x="127" y="897"/>
                    </a:lnTo>
                    <a:lnTo>
                      <a:pt x="120" y="997"/>
                    </a:lnTo>
                    <a:lnTo>
                      <a:pt x="7" y="1112"/>
                    </a:lnTo>
                    <a:lnTo>
                      <a:pt x="0" y="1220"/>
                    </a:lnTo>
                    <a:lnTo>
                      <a:pt x="135" y="1334"/>
                    </a:lnTo>
                    <a:lnTo>
                      <a:pt x="135" y="1334"/>
                    </a:lnTo>
                    <a:close/>
                  </a:path>
                </a:pathLst>
              </a:custGeom>
              <a:solidFill>
                <a:srgbClr val="c9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1538640" y="4201920"/>
                <a:ext cx="279720" cy="116640"/>
              </a:xfrm>
              <a:custGeom>
                <a:avLst/>
                <a:gdLst/>
                <a:ahLst/>
                <a:rect l="l" t="t" r="r" b="b"/>
                <a:pathLst>
                  <a:path w="2300" h="958">
                    <a:moveTo>
                      <a:pt x="346" y="579"/>
                    </a:moveTo>
                    <a:lnTo>
                      <a:pt x="312" y="722"/>
                    </a:lnTo>
                    <a:lnTo>
                      <a:pt x="616" y="885"/>
                    </a:lnTo>
                    <a:lnTo>
                      <a:pt x="1047" y="958"/>
                    </a:lnTo>
                    <a:lnTo>
                      <a:pt x="1409" y="958"/>
                    </a:lnTo>
                    <a:lnTo>
                      <a:pt x="1755" y="836"/>
                    </a:lnTo>
                    <a:lnTo>
                      <a:pt x="1903" y="878"/>
                    </a:lnTo>
                    <a:lnTo>
                      <a:pt x="1848" y="678"/>
                    </a:lnTo>
                    <a:lnTo>
                      <a:pt x="2137" y="437"/>
                    </a:lnTo>
                    <a:lnTo>
                      <a:pt x="2300" y="0"/>
                    </a:lnTo>
                    <a:lnTo>
                      <a:pt x="2123" y="308"/>
                    </a:lnTo>
                    <a:lnTo>
                      <a:pt x="1840" y="536"/>
                    </a:lnTo>
                    <a:lnTo>
                      <a:pt x="1515" y="701"/>
                    </a:lnTo>
                    <a:lnTo>
                      <a:pt x="1232" y="800"/>
                    </a:lnTo>
                    <a:lnTo>
                      <a:pt x="962" y="764"/>
                    </a:lnTo>
                    <a:lnTo>
                      <a:pt x="587" y="616"/>
                    </a:lnTo>
                    <a:lnTo>
                      <a:pt x="283" y="437"/>
                    </a:lnTo>
                    <a:lnTo>
                      <a:pt x="0" y="173"/>
                    </a:lnTo>
                    <a:lnTo>
                      <a:pt x="167" y="462"/>
                    </a:lnTo>
                    <a:lnTo>
                      <a:pt x="346" y="579"/>
                    </a:lnTo>
                    <a:lnTo>
                      <a:pt x="346" y="579"/>
                    </a:lnTo>
                    <a:close/>
                  </a:path>
                </a:pathLst>
              </a:custGeom>
              <a:solidFill>
                <a:srgbClr val="c9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1568160" y="4307400"/>
                <a:ext cx="235800" cy="188280"/>
              </a:xfrm>
              <a:custGeom>
                <a:avLst/>
                <a:gdLst/>
                <a:ahLst/>
                <a:rect l="l" t="t" r="r" b="b"/>
                <a:pathLst>
                  <a:path w="1939" h="1543">
                    <a:moveTo>
                      <a:pt x="42" y="77"/>
                    </a:moveTo>
                    <a:lnTo>
                      <a:pt x="0" y="271"/>
                    </a:lnTo>
                    <a:lnTo>
                      <a:pt x="105" y="243"/>
                    </a:lnTo>
                    <a:lnTo>
                      <a:pt x="190" y="463"/>
                    </a:lnTo>
                    <a:lnTo>
                      <a:pt x="247" y="572"/>
                    </a:lnTo>
                    <a:lnTo>
                      <a:pt x="331" y="543"/>
                    </a:lnTo>
                    <a:lnTo>
                      <a:pt x="409" y="421"/>
                    </a:lnTo>
                    <a:lnTo>
                      <a:pt x="515" y="393"/>
                    </a:lnTo>
                    <a:lnTo>
                      <a:pt x="559" y="585"/>
                    </a:lnTo>
                    <a:lnTo>
                      <a:pt x="622" y="629"/>
                    </a:lnTo>
                    <a:lnTo>
                      <a:pt x="552" y="935"/>
                    </a:lnTo>
                    <a:lnTo>
                      <a:pt x="559" y="1243"/>
                    </a:lnTo>
                    <a:lnTo>
                      <a:pt x="552" y="1399"/>
                    </a:lnTo>
                    <a:lnTo>
                      <a:pt x="580" y="1463"/>
                    </a:lnTo>
                    <a:lnTo>
                      <a:pt x="622" y="1406"/>
                    </a:lnTo>
                    <a:lnTo>
                      <a:pt x="715" y="642"/>
                    </a:lnTo>
                    <a:lnTo>
                      <a:pt x="793" y="556"/>
                    </a:lnTo>
                    <a:lnTo>
                      <a:pt x="877" y="785"/>
                    </a:lnTo>
                    <a:lnTo>
                      <a:pt x="991" y="1507"/>
                    </a:lnTo>
                    <a:lnTo>
                      <a:pt x="1046" y="1543"/>
                    </a:lnTo>
                    <a:lnTo>
                      <a:pt x="1139" y="1463"/>
                    </a:lnTo>
                    <a:lnTo>
                      <a:pt x="1337" y="1250"/>
                    </a:lnTo>
                    <a:lnTo>
                      <a:pt x="1755" y="1478"/>
                    </a:lnTo>
                    <a:lnTo>
                      <a:pt x="1939" y="1456"/>
                    </a:lnTo>
                    <a:lnTo>
                      <a:pt x="1846" y="1349"/>
                    </a:lnTo>
                    <a:lnTo>
                      <a:pt x="1529" y="1178"/>
                    </a:lnTo>
                    <a:lnTo>
                      <a:pt x="1331" y="1077"/>
                    </a:lnTo>
                    <a:lnTo>
                      <a:pt x="1217" y="1113"/>
                    </a:lnTo>
                    <a:lnTo>
                      <a:pt x="1090" y="1279"/>
                    </a:lnTo>
                    <a:lnTo>
                      <a:pt x="970" y="978"/>
                    </a:lnTo>
                    <a:lnTo>
                      <a:pt x="877" y="585"/>
                    </a:lnTo>
                    <a:lnTo>
                      <a:pt x="983" y="600"/>
                    </a:lnTo>
                    <a:lnTo>
                      <a:pt x="1069" y="536"/>
                    </a:lnTo>
                    <a:lnTo>
                      <a:pt x="1139" y="427"/>
                    </a:lnTo>
                    <a:lnTo>
                      <a:pt x="1308" y="549"/>
                    </a:lnTo>
                    <a:lnTo>
                      <a:pt x="1458" y="613"/>
                    </a:lnTo>
                    <a:lnTo>
                      <a:pt x="1514" y="543"/>
                    </a:lnTo>
                    <a:lnTo>
                      <a:pt x="1578" y="364"/>
                    </a:lnTo>
                    <a:lnTo>
                      <a:pt x="1557" y="228"/>
                    </a:lnTo>
                    <a:lnTo>
                      <a:pt x="1337" y="134"/>
                    </a:lnTo>
                    <a:lnTo>
                      <a:pt x="1380" y="399"/>
                    </a:lnTo>
                    <a:lnTo>
                      <a:pt x="1019" y="222"/>
                    </a:lnTo>
                    <a:lnTo>
                      <a:pt x="877" y="393"/>
                    </a:lnTo>
                    <a:lnTo>
                      <a:pt x="728" y="163"/>
                    </a:lnTo>
                    <a:lnTo>
                      <a:pt x="565" y="336"/>
                    </a:lnTo>
                    <a:lnTo>
                      <a:pt x="432" y="77"/>
                    </a:lnTo>
                    <a:lnTo>
                      <a:pt x="198" y="313"/>
                    </a:lnTo>
                    <a:lnTo>
                      <a:pt x="219" y="13"/>
                    </a:lnTo>
                    <a:lnTo>
                      <a:pt x="162" y="0"/>
                    </a:lnTo>
                    <a:lnTo>
                      <a:pt x="42" y="77"/>
                    </a:lnTo>
                    <a:lnTo>
                      <a:pt x="42" y="77"/>
                    </a:lnTo>
                    <a:close/>
                  </a:path>
                </a:pathLst>
              </a:custGeom>
              <a:solidFill>
                <a:srgbClr val="c9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1528200" y="4424400"/>
                <a:ext cx="94680" cy="58320"/>
              </a:xfrm>
              <a:custGeom>
                <a:avLst/>
                <a:gdLst/>
                <a:ahLst/>
                <a:rect l="l" t="t" r="r" b="b"/>
                <a:pathLst>
                  <a:path w="780" h="477">
                    <a:moveTo>
                      <a:pt x="0" y="435"/>
                    </a:moveTo>
                    <a:lnTo>
                      <a:pt x="143" y="326"/>
                    </a:lnTo>
                    <a:lnTo>
                      <a:pt x="344" y="161"/>
                    </a:lnTo>
                    <a:lnTo>
                      <a:pt x="559" y="0"/>
                    </a:lnTo>
                    <a:lnTo>
                      <a:pt x="673" y="34"/>
                    </a:lnTo>
                    <a:lnTo>
                      <a:pt x="723" y="249"/>
                    </a:lnTo>
                    <a:lnTo>
                      <a:pt x="780" y="363"/>
                    </a:lnTo>
                    <a:lnTo>
                      <a:pt x="666" y="277"/>
                    </a:lnTo>
                    <a:lnTo>
                      <a:pt x="554" y="106"/>
                    </a:lnTo>
                    <a:lnTo>
                      <a:pt x="426" y="292"/>
                    </a:lnTo>
                    <a:lnTo>
                      <a:pt x="177" y="441"/>
                    </a:lnTo>
                    <a:lnTo>
                      <a:pt x="78" y="477"/>
                    </a:lnTo>
                    <a:lnTo>
                      <a:pt x="0" y="435"/>
                    </a:lnTo>
                    <a:lnTo>
                      <a:pt x="0" y="435"/>
                    </a:lnTo>
                    <a:close/>
                  </a:path>
                </a:pathLst>
              </a:custGeom>
              <a:solidFill>
                <a:srgbClr val="c94d4d"/>
              </a:solid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818" name=""/>
              <p:cNvSpPr/>
              <p:nvPr/>
            </p:nvSpPr>
            <p:spPr>
              <a:xfrm>
                <a:off x="1762920" y="4162320"/>
                <a:ext cx="41040" cy="35640"/>
              </a:xfrm>
              <a:custGeom>
                <a:avLst/>
                <a:gdLst/>
                <a:ahLst/>
                <a:rect l="l" t="t" r="r" b="b"/>
                <a:pathLst>
                  <a:path w="340" h="293">
                    <a:moveTo>
                      <a:pt x="55" y="0"/>
                    </a:moveTo>
                    <a:lnTo>
                      <a:pt x="289" y="99"/>
                    </a:lnTo>
                    <a:lnTo>
                      <a:pt x="340" y="160"/>
                    </a:lnTo>
                    <a:lnTo>
                      <a:pt x="327" y="200"/>
                    </a:lnTo>
                    <a:lnTo>
                      <a:pt x="205" y="293"/>
                    </a:lnTo>
                    <a:lnTo>
                      <a:pt x="224" y="208"/>
                    </a:lnTo>
                    <a:lnTo>
                      <a:pt x="40" y="154"/>
                    </a:lnTo>
                    <a:lnTo>
                      <a:pt x="0" y="75"/>
                    </a:lnTo>
                    <a:lnTo>
                      <a:pt x="55" y="0"/>
                    </a:lnTo>
                    <a:lnTo>
                      <a:pt x="55" y="0"/>
                    </a:lnTo>
                    <a:close/>
                  </a:path>
                </a:pathLst>
              </a:custGeom>
              <a:solidFill>
                <a:srgbClr val="c94d4d"/>
              </a:soli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819" name=""/>
              <p:cNvSpPr/>
              <p:nvPr/>
            </p:nvSpPr>
            <p:spPr>
              <a:xfrm>
                <a:off x="1549440" y="4275000"/>
                <a:ext cx="236520" cy="91440"/>
              </a:xfrm>
              <a:custGeom>
                <a:avLst/>
                <a:gdLst/>
                <a:ahLst/>
                <a:rect l="l" t="t" r="r" b="b"/>
                <a:pathLst>
                  <a:path w="1945" h="749">
                    <a:moveTo>
                      <a:pt x="287" y="36"/>
                    </a:moveTo>
                    <a:lnTo>
                      <a:pt x="264" y="80"/>
                    </a:lnTo>
                    <a:lnTo>
                      <a:pt x="244" y="120"/>
                    </a:lnTo>
                    <a:lnTo>
                      <a:pt x="221" y="158"/>
                    </a:lnTo>
                    <a:lnTo>
                      <a:pt x="198" y="194"/>
                    </a:lnTo>
                    <a:lnTo>
                      <a:pt x="152" y="265"/>
                    </a:lnTo>
                    <a:lnTo>
                      <a:pt x="103" y="337"/>
                    </a:lnTo>
                    <a:lnTo>
                      <a:pt x="181" y="310"/>
                    </a:lnTo>
                    <a:lnTo>
                      <a:pt x="268" y="263"/>
                    </a:lnTo>
                    <a:lnTo>
                      <a:pt x="308" y="242"/>
                    </a:lnTo>
                    <a:lnTo>
                      <a:pt x="360" y="238"/>
                    </a:lnTo>
                    <a:lnTo>
                      <a:pt x="382" y="272"/>
                    </a:lnTo>
                    <a:lnTo>
                      <a:pt x="407" y="287"/>
                    </a:lnTo>
                    <a:lnTo>
                      <a:pt x="409" y="316"/>
                    </a:lnTo>
                    <a:lnTo>
                      <a:pt x="394" y="542"/>
                    </a:lnTo>
                    <a:lnTo>
                      <a:pt x="432" y="496"/>
                    </a:lnTo>
                    <a:lnTo>
                      <a:pt x="470" y="451"/>
                    </a:lnTo>
                    <a:lnTo>
                      <a:pt x="508" y="399"/>
                    </a:lnTo>
                    <a:lnTo>
                      <a:pt x="553" y="342"/>
                    </a:lnTo>
                    <a:lnTo>
                      <a:pt x="584" y="323"/>
                    </a:lnTo>
                    <a:lnTo>
                      <a:pt x="616" y="342"/>
                    </a:lnTo>
                    <a:lnTo>
                      <a:pt x="643" y="417"/>
                    </a:lnTo>
                    <a:lnTo>
                      <a:pt x="669" y="517"/>
                    </a:lnTo>
                    <a:lnTo>
                      <a:pt x="696" y="605"/>
                    </a:lnTo>
                    <a:lnTo>
                      <a:pt x="723" y="552"/>
                    </a:lnTo>
                    <a:lnTo>
                      <a:pt x="749" y="498"/>
                    </a:lnTo>
                    <a:lnTo>
                      <a:pt x="778" y="443"/>
                    </a:lnTo>
                    <a:lnTo>
                      <a:pt x="808" y="380"/>
                    </a:lnTo>
                    <a:lnTo>
                      <a:pt x="821" y="363"/>
                    </a:lnTo>
                    <a:lnTo>
                      <a:pt x="837" y="356"/>
                    </a:lnTo>
                    <a:lnTo>
                      <a:pt x="869" y="371"/>
                    </a:lnTo>
                    <a:lnTo>
                      <a:pt x="905" y="420"/>
                    </a:lnTo>
                    <a:lnTo>
                      <a:pt x="924" y="472"/>
                    </a:lnTo>
                    <a:lnTo>
                      <a:pt x="943" y="527"/>
                    </a:lnTo>
                    <a:lnTo>
                      <a:pt x="972" y="582"/>
                    </a:lnTo>
                    <a:lnTo>
                      <a:pt x="1034" y="654"/>
                    </a:lnTo>
                    <a:lnTo>
                      <a:pt x="1074" y="550"/>
                    </a:lnTo>
                    <a:lnTo>
                      <a:pt x="1097" y="498"/>
                    </a:lnTo>
                    <a:lnTo>
                      <a:pt x="1129" y="445"/>
                    </a:lnTo>
                    <a:lnTo>
                      <a:pt x="1154" y="426"/>
                    </a:lnTo>
                    <a:lnTo>
                      <a:pt x="1183" y="434"/>
                    </a:lnTo>
                    <a:lnTo>
                      <a:pt x="1230" y="464"/>
                    </a:lnTo>
                    <a:lnTo>
                      <a:pt x="1272" y="493"/>
                    </a:lnTo>
                    <a:lnTo>
                      <a:pt x="1312" y="519"/>
                    </a:lnTo>
                    <a:lnTo>
                      <a:pt x="1348" y="546"/>
                    </a:lnTo>
                    <a:lnTo>
                      <a:pt x="1386" y="569"/>
                    </a:lnTo>
                    <a:lnTo>
                      <a:pt x="1424" y="593"/>
                    </a:lnTo>
                    <a:lnTo>
                      <a:pt x="1466" y="616"/>
                    </a:lnTo>
                    <a:lnTo>
                      <a:pt x="1512" y="639"/>
                    </a:lnTo>
                    <a:lnTo>
                      <a:pt x="1498" y="540"/>
                    </a:lnTo>
                    <a:lnTo>
                      <a:pt x="1462" y="441"/>
                    </a:lnTo>
                    <a:lnTo>
                      <a:pt x="1458" y="409"/>
                    </a:lnTo>
                    <a:lnTo>
                      <a:pt x="1477" y="384"/>
                    </a:lnTo>
                    <a:lnTo>
                      <a:pt x="1565" y="373"/>
                    </a:lnTo>
                    <a:lnTo>
                      <a:pt x="1629" y="403"/>
                    </a:lnTo>
                    <a:lnTo>
                      <a:pt x="1698" y="428"/>
                    </a:lnTo>
                    <a:lnTo>
                      <a:pt x="1766" y="445"/>
                    </a:lnTo>
                    <a:lnTo>
                      <a:pt x="1835" y="445"/>
                    </a:lnTo>
                    <a:lnTo>
                      <a:pt x="1806" y="323"/>
                    </a:lnTo>
                    <a:lnTo>
                      <a:pt x="1791" y="265"/>
                    </a:lnTo>
                    <a:lnTo>
                      <a:pt x="1770" y="198"/>
                    </a:lnTo>
                    <a:lnTo>
                      <a:pt x="1780" y="177"/>
                    </a:lnTo>
                    <a:lnTo>
                      <a:pt x="1801" y="187"/>
                    </a:lnTo>
                    <a:lnTo>
                      <a:pt x="1837" y="263"/>
                    </a:lnTo>
                    <a:lnTo>
                      <a:pt x="1875" y="329"/>
                    </a:lnTo>
                    <a:lnTo>
                      <a:pt x="1945" y="472"/>
                    </a:lnTo>
                    <a:lnTo>
                      <a:pt x="1943" y="517"/>
                    </a:lnTo>
                    <a:lnTo>
                      <a:pt x="1905" y="536"/>
                    </a:lnTo>
                    <a:lnTo>
                      <a:pt x="1785" y="533"/>
                    </a:lnTo>
                    <a:lnTo>
                      <a:pt x="1675" y="493"/>
                    </a:lnTo>
                    <a:lnTo>
                      <a:pt x="1591" y="474"/>
                    </a:lnTo>
                    <a:lnTo>
                      <a:pt x="1607" y="582"/>
                    </a:lnTo>
                    <a:lnTo>
                      <a:pt x="1589" y="704"/>
                    </a:lnTo>
                    <a:lnTo>
                      <a:pt x="1572" y="738"/>
                    </a:lnTo>
                    <a:lnTo>
                      <a:pt x="1534" y="736"/>
                    </a:lnTo>
                    <a:lnTo>
                      <a:pt x="1215" y="584"/>
                    </a:lnTo>
                    <a:lnTo>
                      <a:pt x="1181" y="624"/>
                    </a:lnTo>
                    <a:lnTo>
                      <a:pt x="1143" y="652"/>
                    </a:lnTo>
                    <a:lnTo>
                      <a:pt x="1069" y="728"/>
                    </a:lnTo>
                    <a:lnTo>
                      <a:pt x="1044" y="749"/>
                    </a:lnTo>
                    <a:lnTo>
                      <a:pt x="1015" y="732"/>
                    </a:lnTo>
                    <a:lnTo>
                      <a:pt x="972" y="675"/>
                    </a:lnTo>
                    <a:lnTo>
                      <a:pt x="928" y="614"/>
                    </a:lnTo>
                    <a:lnTo>
                      <a:pt x="869" y="521"/>
                    </a:lnTo>
                    <a:lnTo>
                      <a:pt x="831" y="572"/>
                    </a:lnTo>
                    <a:lnTo>
                      <a:pt x="789" y="610"/>
                    </a:lnTo>
                    <a:lnTo>
                      <a:pt x="711" y="711"/>
                    </a:lnTo>
                    <a:lnTo>
                      <a:pt x="696" y="730"/>
                    </a:lnTo>
                    <a:lnTo>
                      <a:pt x="679" y="732"/>
                    </a:lnTo>
                    <a:lnTo>
                      <a:pt x="654" y="702"/>
                    </a:lnTo>
                    <a:lnTo>
                      <a:pt x="637" y="637"/>
                    </a:lnTo>
                    <a:lnTo>
                      <a:pt x="612" y="593"/>
                    </a:lnTo>
                    <a:lnTo>
                      <a:pt x="563" y="483"/>
                    </a:lnTo>
                    <a:lnTo>
                      <a:pt x="515" y="538"/>
                    </a:lnTo>
                    <a:lnTo>
                      <a:pt x="475" y="576"/>
                    </a:lnTo>
                    <a:lnTo>
                      <a:pt x="434" y="614"/>
                    </a:lnTo>
                    <a:lnTo>
                      <a:pt x="409" y="639"/>
                    </a:lnTo>
                    <a:lnTo>
                      <a:pt x="379" y="671"/>
                    </a:lnTo>
                    <a:lnTo>
                      <a:pt x="356" y="686"/>
                    </a:lnTo>
                    <a:lnTo>
                      <a:pt x="333" y="685"/>
                    </a:lnTo>
                    <a:lnTo>
                      <a:pt x="314" y="641"/>
                    </a:lnTo>
                    <a:lnTo>
                      <a:pt x="333" y="314"/>
                    </a:lnTo>
                    <a:lnTo>
                      <a:pt x="270" y="344"/>
                    </a:lnTo>
                    <a:lnTo>
                      <a:pt x="240" y="365"/>
                    </a:lnTo>
                    <a:lnTo>
                      <a:pt x="204" y="382"/>
                    </a:lnTo>
                    <a:lnTo>
                      <a:pt x="118" y="407"/>
                    </a:lnTo>
                    <a:lnTo>
                      <a:pt x="31" y="411"/>
                    </a:lnTo>
                    <a:lnTo>
                      <a:pt x="0" y="403"/>
                    </a:lnTo>
                    <a:lnTo>
                      <a:pt x="12" y="377"/>
                    </a:lnTo>
                    <a:lnTo>
                      <a:pt x="44" y="327"/>
                    </a:lnTo>
                    <a:lnTo>
                      <a:pt x="72" y="282"/>
                    </a:lnTo>
                    <a:lnTo>
                      <a:pt x="101" y="236"/>
                    </a:lnTo>
                    <a:lnTo>
                      <a:pt x="128" y="192"/>
                    </a:lnTo>
                    <a:lnTo>
                      <a:pt x="152" y="147"/>
                    </a:lnTo>
                    <a:lnTo>
                      <a:pt x="179" y="101"/>
                    </a:lnTo>
                    <a:lnTo>
                      <a:pt x="230" y="0"/>
                    </a:lnTo>
                    <a:lnTo>
                      <a:pt x="266" y="4"/>
                    </a:lnTo>
                    <a:lnTo>
                      <a:pt x="287" y="36"/>
                    </a:lnTo>
                    <a:lnTo>
                      <a:pt x="287" y="3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820" name=""/>
              <p:cNvSpPr/>
              <p:nvPr/>
            </p:nvSpPr>
            <p:spPr>
              <a:xfrm>
                <a:off x="1524600" y="4311000"/>
                <a:ext cx="57600" cy="163080"/>
              </a:xfrm>
              <a:custGeom>
                <a:avLst/>
                <a:gdLst/>
                <a:ahLst/>
                <a:rect l="l" t="t" r="r" b="b"/>
                <a:pathLst>
                  <a:path w="473" h="1334">
                    <a:moveTo>
                      <a:pt x="473" y="53"/>
                    </a:moveTo>
                    <a:lnTo>
                      <a:pt x="460" y="103"/>
                    </a:lnTo>
                    <a:lnTo>
                      <a:pt x="437" y="198"/>
                    </a:lnTo>
                    <a:lnTo>
                      <a:pt x="414" y="300"/>
                    </a:lnTo>
                    <a:lnTo>
                      <a:pt x="401" y="367"/>
                    </a:lnTo>
                    <a:lnTo>
                      <a:pt x="369" y="481"/>
                    </a:lnTo>
                    <a:lnTo>
                      <a:pt x="342" y="578"/>
                    </a:lnTo>
                    <a:lnTo>
                      <a:pt x="300" y="739"/>
                    </a:lnTo>
                    <a:lnTo>
                      <a:pt x="277" y="817"/>
                    </a:lnTo>
                    <a:lnTo>
                      <a:pt x="253" y="899"/>
                    </a:lnTo>
                    <a:lnTo>
                      <a:pt x="219" y="992"/>
                    </a:lnTo>
                    <a:lnTo>
                      <a:pt x="198" y="1043"/>
                    </a:lnTo>
                    <a:lnTo>
                      <a:pt x="175" y="1102"/>
                    </a:lnTo>
                    <a:lnTo>
                      <a:pt x="142" y="1165"/>
                    </a:lnTo>
                    <a:lnTo>
                      <a:pt x="106" y="1216"/>
                    </a:lnTo>
                    <a:lnTo>
                      <a:pt x="68" y="1268"/>
                    </a:lnTo>
                    <a:lnTo>
                      <a:pt x="28" y="1329"/>
                    </a:lnTo>
                    <a:lnTo>
                      <a:pt x="6" y="1334"/>
                    </a:lnTo>
                    <a:lnTo>
                      <a:pt x="0" y="1311"/>
                    </a:lnTo>
                    <a:lnTo>
                      <a:pt x="106" y="1068"/>
                    </a:lnTo>
                    <a:lnTo>
                      <a:pt x="150" y="954"/>
                    </a:lnTo>
                    <a:lnTo>
                      <a:pt x="184" y="848"/>
                    </a:lnTo>
                    <a:lnTo>
                      <a:pt x="232" y="648"/>
                    </a:lnTo>
                    <a:lnTo>
                      <a:pt x="253" y="549"/>
                    </a:lnTo>
                    <a:lnTo>
                      <a:pt x="276" y="447"/>
                    </a:lnTo>
                    <a:lnTo>
                      <a:pt x="300" y="338"/>
                    </a:lnTo>
                    <a:lnTo>
                      <a:pt x="334" y="220"/>
                    </a:lnTo>
                    <a:lnTo>
                      <a:pt x="365" y="82"/>
                    </a:lnTo>
                    <a:lnTo>
                      <a:pt x="378" y="53"/>
                    </a:lnTo>
                    <a:lnTo>
                      <a:pt x="397" y="25"/>
                    </a:lnTo>
                    <a:lnTo>
                      <a:pt x="420" y="0"/>
                    </a:lnTo>
                    <a:lnTo>
                      <a:pt x="450" y="0"/>
                    </a:lnTo>
                    <a:lnTo>
                      <a:pt x="473" y="21"/>
                    </a:lnTo>
                    <a:lnTo>
                      <a:pt x="473" y="53"/>
                    </a:lnTo>
                    <a:lnTo>
                      <a:pt x="473"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1535400" y="4433400"/>
                <a:ext cx="69120" cy="50040"/>
              </a:xfrm>
              <a:custGeom>
                <a:avLst/>
                <a:gdLst/>
                <a:ahLst/>
                <a:rect l="l" t="t" r="r" b="b"/>
                <a:pathLst>
                  <a:path w="571" h="410">
                    <a:moveTo>
                      <a:pt x="15" y="376"/>
                    </a:moveTo>
                    <a:lnTo>
                      <a:pt x="67" y="365"/>
                    </a:lnTo>
                    <a:lnTo>
                      <a:pt x="105" y="334"/>
                    </a:lnTo>
                    <a:lnTo>
                      <a:pt x="139" y="296"/>
                    </a:lnTo>
                    <a:lnTo>
                      <a:pt x="160" y="277"/>
                    </a:lnTo>
                    <a:lnTo>
                      <a:pt x="181" y="258"/>
                    </a:lnTo>
                    <a:lnTo>
                      <a:pt x="240" y="213"/>
                    </a:lnTo>
                    <a:lnTo>
                      <a:pt x="301" y="169"/>
                    </a:lnTo>
                    <a:lnTo>
                      <a:pt x="329" y="144"/>
                    </a:lnTo>
                    <a:lnTo>
                      <a:pt x="358" y="125"/>
                    </a:lnTo>
                    <a:lnTo>
                      <a:pt x="409" y="89"/>
                    </a:lnTo>
                    <a:lnTo>
                      <a:pt x="458" y="51"/>
                    </a:lnTo>
                    <a:lnTo>
                      <a:pt x="512" y="0"/>
                    </a:lnTo>
                    <a:lnTo>
                      <a:pt x="529" y="7"/>
                    </a:lnTo>
                    <a:lnTo>
                      <a:pt x="550" y="40"/>
                    </a:lnTo>
                    <a:lnTo>
                      <a:pt x="571" y="102"/>
                    </a:lnTo>
                    <a:lnTo>
                      <a:pt x="548" y="137"/>
                    </a:lnTo>
                    <a:lnTo>
                      <a:pt x="527" y="161"/>
                    </a:lnTo>
                    <a:lnTo>
                      <a:pt x="481" y="192"/>
                    </a:lnTo>
                    <a:lnTo>
                      <a:pt x="371" y="260"/>
                    </a:lnTo>
                    <a:lnTo>
                      <a:pt x="308" y="308"/>
                    </a:lnTo>
                    <a:lnTo>
                      <a:pt x="249" y="353"/>
                    </a:lnTo>
                    <a:lnTo>
                      <a:pt x="192" y="384"/>
                    </a:lnTo>
                    <a:lnTo>
                      <a:pt x="137" y="401"/>
                    </a:lnTo>
                    <a:lnTo>
                      <a:pt x="15" y="410"/>
                    </a:lnTo>
                    <a:lnTo>
                      <a:pt x="0" y="393"/>
                    </a:lnTo>
                    <a:lnTo>
                      <a:pt x="4" y="382"/>
                    </a:lnTo>
                    <a:lnTo>
                      <a:pt x="15" y="376"/>
                    </a:lnTo>
                    <a:lnTo>
                      <a:pt x="15" y="376"/>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822" name=""/>
              <p:cNvSpPr/>
              <p:nvPr/>
            </p:nvSpPr>
            <p:spPr>
              <a:xfrm>
                <a:off x="1595880" y="4433400"/>
                <a:ext cx="41760" cy="51120"/>
              </a:xfrm>
              <a:custGeom>
                <a:avLst/>
                <a:gdLst/>
                <a:ahLst/>
                <a:rect l="l" t="t" r="r" b="b"/>
                <a:pathLst>
                  <a:path w="345" h="420">
                    <a:moveTo>
                      <a:pt x="65" y="13"/>
                    </a:moveTo>
                    <a:lnTo>
                      <a:pt x="120" y="89"/>
                    </a:lnTo>
                    <a:lnTo>
                      <a:pt x="189" y="192"/>
                    </a:lnTo>
                    <a:lnTo>
                      <a:pt x="230" y="245"/>
                    </a:lnTo>
                    <a:lnTo>
                      <a:pt x="263" y="298"/>
                    </a:lnTo>
                    <a:lnTo>
                      <a:pt x="297" y="348"/>
                    </a:lnTo>
                    <a:lnTo>
                      <a:pt x="318" y="370"/>
                    </a:lnTo>
                    <a:lnTo>
                      <a:pt x="343" y="395"/>
                    </a:lnTo>
                    <a:lnTo>
                      <a:pt x="345" y="418"/>
                    </a:lnTo>
                    <a:lnTo>
                      <a:pt x="322" y="420"/>
                    </a:lnTo>
                    <a:lnTo>
                      <a:pt x="293" y="397"/>
                    </a:lnTo>
                    <a:lnTo>
                      <a:pt x="267" y="378"/>
                    </a:lnTo>
                    <a:lnTo>
                      <a:pt x="213" y="340"/>
                    </a:lnTo>
                    <a:lnTo>
                      <a:pt x="160" y="302"/>
                    </a:lnTo>
                    <a:lnTo>
                      <a:pt x="111" y="252"/>
                    </a:lnTo>
                    <a:lnTo>
                      <a:pt x="31" y="129"/>
                    </a:lnTo>
                    <a:lnTo>
                      <a:pt x="4" y="49"/>
                    </a:lnTo>
                    <a:lnTo>
                      <a:pt x="0" y="21"/>
                    </a:lnTo>
                    <a:lnTo>
                      <a:pt x="16" y="0"/>
                    </a:lnTo>
                    <a:lnTo>
                      <a:pt x="65" y="13"/>
                    </a:lnTo>
                    <a:lnTo>
                      <a:pt x="65"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823" name=""/>
              <p:cNvSpPr/>
              <p:nvPr/>
            </p:nvSpPr>
            <p:spPr>
              <a:xfrm>
                <a:off x="1641600" y="4338000"/>
                <a:ext cx="25560" cy="144000"/>
              </a:xfrm>
              <a:custGeom>
                <a:avLst/>
                <a:gdLst/>
                <a:ahLst/>
                <a:rect l="l" t="t" r="r" b="b"/>
                <a:pathLst>
                  <a:path w="213" h="1183">
                    <a:moveTo>
                      <a:pt x="213" y="137"/>
                    </a:moveTo>
                    <a:lnTo>
                      <a:pt x="186" y="295"/>
                    </a:lnTo>
                    <a:lnTo>
                      <a:pt x="156" y="434"/>
                    </a:lnTo>
                    <a:lnTo>
                      <a:pt x="99" y="730"/>
                    </a:lnTo>
                    <a:lnTo>
                      <a:pt x="36" y="1145"/>
                    </a:lnTo>
                    <a:lnTo>
                      <a:pt x="28" y="1171"/>
                    </a:lnTo>
                    <a:lnTo>
                      <a:pt x="15" y="1183"/>
                    </a:lnTo>
                    <a:lnTo>
                      <a:pt x="0" y="1156"/>
                    </a:lnTo>
                    <a:lnTo>
                      <a:pt x="13" y="715"/>
                    </a:lnTo>
                    <a:lnTo>
                      <a:pt x="40" y="542"/>
                    </a:lnTo>
                    <a:lnTo>
                      <a:pt x="74" y="367"/>
                    </a:lnTo>
                    <a:lnTo>
                      <a:pt x="108" y="192"/>
                    </a:lnTo>
                    <a:lnTo>
                      <a:pt x="137" y="19"/>
                    </a:lnTo>
                    <a:lnTo>
                      <a:pt x="152" y="0"/>
                    </a:lnTo>
                    <a:lnTo>
                      <a:pt x="180" y="27"/>
                    </a:lnTo>
                    <a:lnTo>
                      <a:pt x="213" y="137"/>
                    </a:lnTo>
                    <a:lnTo>
                      <a:pt x="213"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
              <p:cNvSpPr/>
              <p:nvPr/>
            </p:nvSpPr>
            <p:spPr>
              <a:xfrm>
                <a:off x="1656720" y="4359240"/>
                <a:ext cx="32760" cy="132120"/>
              </a:xfrm>
              <a:custGeom>
                <a:avLst/>
                <a:gdLst/>
                <a:ahLst/>
                <a:rect l="l" t="t" r="r" b="b"/>
                <a:pathLst>
                  <a:path w="270" h="1084">
                    <a:moveTo>
                      <a:pt x="65" y="33"/>
                    </a:moveTo>
                    <a:lnTo>
                      <a:pt x="88" y="97"/>
                    </a:lnTo>
                    <a:lnTo>
                      <a:pt x="209" y="456"/>
                    </a:lnTo>
                    <a:lnTo>
                      <a:pt x="247" y="759"/>
                    </a:lnTo>
                    <a:lnTo>
                      <a:pt x="270" y="1067"/>
                    </a:lnTo>
                    <a:lnTo>
                      <a:pt x="255" y="1084"/>
                    </a:lnTo>
                    <a:lnTo>
                      <a:pt x="238" y="1069"/>
                    </a:lnTo>
                    <a:lnTo>
                      <a:pt x="219" y="907"/>
                    </a:lnTo>
                    <a:lnTo>
                      <a:pt x="190" y="768"/>
                    </a:lnTo>
                    <a:lnTo>
                      <a:pt x="160" y="628"/>
                    </a:lnTo>
                    <a:lnTo>
                      <a:pt x="131" y="470"/>
                    </a:lnTo>
                    <a:lnTo>
                      <a:pt x="111" y="375"/>
                    </a:lnTo>
                    <a:lnTo>
                      <a:pt x="84" y="295"/>
                    </a:lnTo>
                    <a:lnTo>
                      <a:pt x="52" y="215"/>
                    </a:lnTo>
                    <a:lnTo>
                      <a:pt x="12" y="126"/>
                    </a:lnTo>
                    <a:lnTo>
                      <a:pt x="0" y="33"/>
                    </a:lnTo>
                    <a:lnTo>
                      <a:pt x="12" y="8"/>
                    </a:lnTo>
                    <a:lnTo>
                      <a:pt x="33" y="0"/>
                    </a:lnTo>
                    <a:lnTo>
                      <a:pt x="55" y="8"/>
                    </a:lnTo>
                    <a:lnTo>
                      <a:pt x="65" y="33"/>
                    </a:lnTo>
                    <a:lnTo>
                      <a:pt x="65"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5" name=""/>
              <p:cNvSpPr/>
              <p:nvPr/>
            </p:nvSpPr>
            <p:spPr>
              <a:xfrm>
                <a:off x="1701720" y="4447440"/>
                <a:ext cx="97560" cy="45360"/>
              </a:xfrm>
              <a:custGeom>
                <a:avLst/>
                <a:gdLst/>
                <a:ahLst/>
                <a:rect l="l" t="t" r="r" b="b"/>
                <a:pathLst>
                  <a:path w="804" h="370">
                    <a:moveTo>
                      <a:pt x="0" y="347"/>
                    </a:moveTo>
                    <a:lnTo>
                      <a:pt x="21" y="313"/>
                    </a:lnTo>
                    <a:lnTo>
                      <a:pt x="48" y="275"/>
                    </a:lnTo>
                    <a:lnTo>
                      <a:pt x="80" y="235"/>
                    </a:lnTo>
                    <a:lnTo>
                      <a:pt x="112" y="193"/>
                    </a:lnTo>
                    <a:lnTo>
                      <a:pt x="146" y="150"/>
                    </a:lnTo>
                    <a:lnTo>
                      <a:pt x="179" y="110"/>
                    </a:lnTo>
                    <a:lnTo>
                      <a:pt x="226" y="38"/>
                    </a:lnTo>
                    <a:lnTo>
                      <a:pt x="249" y="9"/>
                    </a:lnTo>
                    <a:lnTo>
                      <a:pt x="276" y="0"/>
                    </a:lnTo>
                    <a:lnTo>
                      <a:pt x="300" y="11"/>
                    </a:lnTo>
                    <a:lnTo>
                      <a:pt x="321" y="41"/>
                    </a:lnTo>
                    <a:lnTo>
                      <a:pt x="342" y="76"/>
                    </a:lnTo>
                    <a:lnTo>
                      <a:pt x="371" y="98"/>
                    </a:lnTo>
                    <a:lnTo>
                      <a:pt x="441" y="142"/>
                    </a:lnTo>
                    <a:lnTo>
                      <a:pt x="485" y="169"/>
                    </a:lnTo>
                    <a:lnTo>
                      <a:pt x="527" y="190"/>
                    </a:lnTo>
                    <a:lnTo>
                      <a:pt x="618" y="224"/>
                    </a:lnTo>
                    <a:lnTo>
                      <a:pt x="702" y="268"/>
                    </a:lnTo>
                    <a:lnTo>
                      <a:pt x="742" y="287"/>
                    </a:lnTo>
                    <a:lnTo>
                      <a:pt x="789" y="294"/>
                    </a:lnTo>
                    <a:lnTo>
                      <a:pt x="804" y="311"/>
                    </a:lnTo>
                    <a:lnTo>
                      <a:pt x="800" y="323"/>
                    </a:lnTo>
                    <a:lnTo>
                      <a:pt x="789" y="327"/>
                    </a:lnTo>
                    <a:lnTo>
                      <a:pt x="683" y="344"/>
                    </a:lnTo>
                    <a:lnTo>
                      <a:pt x="578" y="340"/>
                    </a:lnTo>
                    <a:lnTo>
                      <a:pt x="373" y="243"/>
                    </a:lnTo>
                    <a:lnTo>
                      <a:pt x="316" y="201"/>
                    </a:lnTo>
                    <a:lnTo>
                      <a:pt x="270" y="157"/>
                    </a:lnTo>
                    <a:lnTo>
                      <a:pt x="249" y="174"/>
                    </a:lnTo>
                    <a:lnTo>
                      <a:pt x="221" y="199"/>
                    </a:lnTo>
                    <a:lnTo>
                      <a:pt x="183" y="226"/>
                    </a:lnTo>
                    <a:lnTo>
                      <a:pt x="145" y="254"/>
                    </a:lnTo>
                    <a:lnTo>
                      <a:pt x="105" y="285"/>
                    </a:lnTo>
                    <a:lnTo>
                      <a:pt x="70" y="313"/>
                    </a:lnTo>
                    <a:lnTo>
                      <a:pt x="25" y="365"/>
                    </a:lnTo>
                    <a:lnTo>
                      <a:pt x="4" y="370"/>
                    </a:lnTo>
                    <a:lnTo>
                      <a:pt x="0" y="347"/>
                    </a:lnTo>
                    <a:lnTo>
                      <a:pt x="0" y="347"/>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826" name=""/>
              <p:cNvSpPr/>
              <p:nvPr/>
            </p:nvSpPr>
            <p:spPr>
              <a:xfrm>
                <a:off x="1753920" y="4331880"/>
                <a:ext cx="49680" cy="142920"/>
              </a:xfrm>
              <a:custGeom>
                <a:avLst/>
                <a:gdLst/>
                <a:ahLst/>
                <a:rect l="l" t="t" r="r" b="b"/>
                <a:pathLst>
                  <a:path w="410" h="1173">
                    <a:moveTo>
                      <a:pt x="28" y="8"/>
                    </a:moveTo>
                    <a:lnTo>
                      <a:pt x="80" y="112"/>
                    </a:lnTo>
                    <a:lnTo>
                      <a:pt x="118" y="220"/>
                    </a:lnTo>
                    <a:lnTo>
                      <a:pt x="141" y="297"/>
                    </a:lnTo>
                    <a:lnTo>
                      <a:pt x="165" y="365"/>
                    </a:lnTo>
                    <a:lnTo>
                      <a:pt x="209" y="489"/>
                    </a:lnTo>
                    <a:lnTo>
                      <a:pt x="251" y="612"/>
                    </a:lnTo>
                    <a:lnTo>
                      <a:pt x="287" y="758"/>
                    </a:lnTo>
                    <a:lnTo>
                      <a:pt x="340" y="907"/>
                    </a:lnTo>
                    <a:lnTo>
                      <a:pt x="371" y="1030"/>
                    </a:lnTo>
                    <a:lnTo>
                      <a:pt x="382" y="1089"/>
                    </a:lnTo>
                    <a:lnTo>
                      <a:pt x="410" y="1150"/>
                    </a:lnTo>
                    <a:lnTo>
                      <a:pt x="405" y="1173"/>
                    </a:lnTo>
                    <a:lnTo>
                      <a:pt x="382" y="1167"/>
                    </a:lnTo>
                    <a:lnTo>
                      <a:pt x="344" y="1110"/>
                    </a:lnTo>
                    <a:lnTo>
                      <a:pt x="306" y="1059"/>
                    </a:lnTo>
                    <a:lnTo>
                      <a:pt x="270" y="1009"/>
                    </a:lnTo>
                    <a:lnTo>
                      <a:pt x="237" y="949"/>
                    </a:lnTo>
                    <a:lnTo>
                      <a:pt x="182" y="789"/>
                    </a:lnTo>
                    <a:lnTo>
                      <a:pt x="148" y="642"/>
                    </a:lnTo>
                    <a:lnTo>
                      <a:pt x="114" y="515"/>
                    </a:lnTo>
                    <a:lnTo>
                      <a:pt x="78" y="388"/>
                    </a:lnTo>
                    <a:lnTo>
                      <a:pt x="57" y="319"/>
                    </a:lnTo>
                    <a:lnTo>
                      <a:pt x="36" y="243"/>
                    </a:lnTo>
                    <a:lnTo>
                      <a:pt x="0" y="23"/>
                    </a:lnTo>
                    <a:lnTo>
                      <a:pt x="7" y="0"/>
                    </a:lnTo>
                    <a:lnTo>
                      <a:pt x="28" y="8"/>
                    </a:lnTo>
                    <a:lnTo>
                      <a:pt x="2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a:off x="1702440" y="4089240"/>
                <a:ext cx="126360" cy="214560"/>
              </a:xfrm>
              <a:custGeom>
                <a:avLst/>
                <a:gdLst/>
                <a:ahLst/>
                <a:rect l="l" t="t" r="r" b="b"/>
                <a:pathLst>
                  <a:path w="1040" h="1758">
                    <a:moveTo>
                      <a:pt x="861" y="2"/>
                    </a:moveTo>
                    <a:lnTo>
                      <a:pt x="907" y="101"/>
                    </a:lnTo>
                    <a:lnTo>
                      <a:pt x="945" y="194"/>
                    </a:lnTo>
                    <a:lnTo>
                      <a:pt x="1000" y="370"/>
                    </a:lnTo>
                    <a:lnTo>
                      <a:pt x="1030" y="555"/>
                    </a:lnTo>
                    <a:lnTo>
                      <a:pt x="1040" y="766"/>
                    </a:lnTo>
                    <a:lnTo>
                      <a:pt x="1026" y="933"/>
                    </a:lnTo>
                    <a:lnTo>
                      <a:pt x="1009" y="1011"/>
                    </a:lnTo>
                    <a:lnTo>
                      <a:pt x="983" y="1097"/>
                    </a:lnTo>
                    <a:lnTo>
                      <a:pt x="948" y="1195"/>
                    </a:lnTo>
                    <a:lnTo>
                      <a:pt x="907" y="1279"/>
                    </a:lnTo>
                    <a:lnTo>
                      <a:pt x="882" y="1317"/>
                    </a:lnTo>
                    <a:lnTo>
                      <a:pt x="855" y="1351"/>
                    </a:lnTo>
                    <a:lnTo>
                      <a:pt x="798" y="1414"/>
                    </a:lnTo>
                    <a:lnTo>
                      <a:pt x="766" y="1443"/>
                    </a:lnTo>
                    <a:lnTo>
                      <a:pt x="732" y="1471"/>
                    </a:lnTo>
                    <a:lnTo>
                      <a:pt x="696" y="1496"/>
                    </a:lnTo>
                    <a:lnTo>
                      <a:pt x="658" y="1520"/>
                    </a:lnTo>
                    <a:lnTo>
                      <a:pt x="618" y="1543"/>
                    </a:lnTo>
                    <a:lnTo>
                      <a:pt x="574" y="1568"/>
                    </a:lnTo>
                    <a:lnTo>
                      <a:pt x="530" y="1591"/>
                    </a:lnTo>
                    <a:lnTo>
                      <a:pt x="485" y="1612"/>
                    </a:lnTo>
                    <a:lnTo>
                      <a:pt x="422" y="1640"/>
                    </a:lnTo>
                    <a:lnTo>
                      <a:pt x="365" y="1661"/>
                    </a:lnTo>
                    <a:lnTo>
                      <a:pt x="255" y="1693"/>
                    </a:lnTo>
                    <a:lnTo>
                      <a:pt x="21" y="1758"/>
                    </a:lnTo>
                    <a:lnTo>
                      <a:pt x="0" y="1749"/>
                    </a:lnTo>
                    <a:lnTo>
                      <a:pt x="9" y="1728"/>
                    </a:lnTo>
                    <a:lnTo>
                      <a:pt x="127" y="1680"/>
                    </a:lnTo>
                    <a:lnTo>
                      <a:pt x="178" y="1657"/>
                    </a:lnTo>
                    <a:lnTo>
                      <a:pt x="228" y="1633"/>
                    </a:lnTo>
                    <a:lnTo>
                      <a:pt x="277" y="1606"/>
                    </a:lnTo>
                    <a:lnTo>
                      <a:pt x="327" y="1579"/>
                    </a:lnTo>
                    <a:lnTo>
                      <a:pt x="382" y="1551"/>
                    </a:lnTo>
                    <a:lnTo>
                      <a:pt x="441" y="1522"/>
                    </a:lnTo>
                    <a:lnTo>
                      <a:pt x="521" y="1482"/>
                    </a:lnTo>
                    <a:lnTo>
                      <a:pt x="593" y="1441"/>
                    </a:lnTo>
                    <a:lnTo>
                      <a:pt x="658" y="1395"/>
                    </a:lnTo>
                    <a:lnTo>
                      <a:pt x="716" y="1346"/>
                    </a:lnTo>
                    <a:lnTo>
                      <a:pt x="768" y="1289"/>
                    </a:lnTo>
                    <a:lnTo>
                      <a:pt x="812" y="1224"/>
                    </a:lnTo>
                    <a:lnTo>
                      <a:pt x="878" y="1062"/>
                    </a:lnTo>
                    <a:lnTo>
                      <a:pt x="918" y="916"/>
                    </a:lnTo>
                    <a:lnTo>
                      <a:pt x="929" y="766"/>
                    </a:lnTo>
                    <a:lnTo>
                      <a:pt x="924" y="562"/>
                    </a:lnTo>
                    <a:lnTo>
                      <a:pt x="903" y="384"/>
                    </a:lnTo>
                    <a:lnTo>
                      <a:pt x="882" y="298"/>
                    </a:lnTo>
                    <a:lnTo>
                      <a:pt x="857" y="213"/>
                    </a:lnTo>
                    <a:lnTo>
                      <a:pt x="823" y="121"/>
                    </a:lnTo>
                    <a:lnTo>
                      <a:pt x="779" y="26"/>
                    </a:lnTo>
                    <a:lnTo>
                      <a:pt x="787" y="13"/>
                    </a:lnTo>
                    <a:lnTo>
                      <a:pt x="813" y="0"/>
                    </a:lnTo>
                    <a:lnTo>
                      <a:pt x="861" y="2"/>
                    </a:lnTo>
                    <a:lnTo>
                      <a:pt x="86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a:off x="1535040" y="4217040"/>
                <a:ext cx="133920" cy="86760"/>
              </a:xfrm>
              <a:custGeom>
                <a:avLst/>
                <a:gdLst/>
                <a:ahLst/>
                <a:rect l="l" t="t" r="r" b="b"/>
                <a:pathLst>
                  <a:path w="1103" h="713">
                    <a:moveTo>
                      <a:pt x="29" y="8"/>
                    </a:moveTo>
                    <a:lnTo>
                      <a:pt x="54" y="61"/>
                    </a:lnTo>
                    <a:lnTo>
                      <a:pt x="78" y="110"/>
                    </a:lnTo>
                    <a:lnTo>
                      <a:pt x="107" y="156"/>
                    </a:lnTo>
                    <a:lnTo>
                      <a:pt x="135" y="198"/>
                    </a:lnTo>
                    <a:lnTo>
                      <a:pt x="166" y="236"/>
                    </a:lnTo>
                    <a:lnTo>
                      <a:pt x="198" y="272"/>
                    </a:lnTo>
                    <a:lnTo>
                      <a:pt x="232" y="304"/>
                    </a:lnTo>
                    <a:lnTo>
                      <a:pt x="268" y="337"/>
                    </a:lnTo>
                    <a:lnTo>
                      <a:pt x="307" y="365"/>
                    </a:lnTo>
                    <a:lnTo>
                      <a:pt x="346" y="392"/>
                    </a:lnTo>
                    <a:lnTo>
                      <a:pt x="388" y="416"/>
                    </a:lnTo>
                    <a:lnTo>
                      <a:pt x="432" y="439"/>
                    </a:lnTo>
                    <a:lnTo>
                      <a:pt x="478" y="462"/>
                    </a:lnTo>
                    <a:lnTo>
                      <a:pt x="527" y="485"/>
                    </a:lnTo>
                    <a:lnTo>
                      <a:pt x="576" y="506"/>
                    </a:lnTo>
                    <a:lnTo>
                      <a:pt x="630" y="527"/>
                    </a:lnTo>
                    <a:lnTo>
                      <a:pt x="717" y="567"/>
                    </a:lnTo>
                    <a:lnTo>
                      <a:pt x="810" y="593"/>
                    </a:lnTo>
                    <a:lnTo>
                      <a:pt x="883" y="618"/>
                    </a:lnTo>
                    <a:lnTo>
                      <a:pt x="945" y="645"/>
                    </a:lnTo>
                    <a:lnTo>
                      <a:pt x="1010" y="665"/>
                    </a:lnTo>
                    <a:lnTo>
                      <a:pt x="1086" y="673"/>
                    </a:lnTo>
                    <a:lnTo>
                      <a:pt x="1103" y="690"/>
                    </a:lnTo>
                    <a:lnTo>
                      <a:pt x="1097" y="702"/>
                    </a:lnTo>
                    <a:lnTo>
                      <a:pt x="1086" y="705"/>
                    </a:lnTo>
                    <a:lnTo>
                      <a:pt x="932" y="713"/>
                    </a:lnTo>
                    <a:lnTo>
                      <a:pt x="782" y="694"/>
                    </a:lnTo>
                    <a:lnTo>
                      <a:pt x="586" y="624"/>
                    </a:lnTo>
                    <a:lnTo>
                      <a:pt x="480" y="576"/>
                    </a:lnTo>
                    <a:lnTo>
                      <a:pt x="430" y="551"/>
                    </a:lnTo>
                    <a:lnTo>
                      <a:pt x="384" y="523"/>
                    </a:lnTo>
                    <a:lnTo>
                      <a:pt x="343" y="494"/>
                    </a:lnTo>
                    <a:lnTo>
                      <a:pt x="303" y="464"/>
                    </a:lnTo>
                    <a:lnTo>
                      <a:pt x="265" y="430"/>
                    </a:lnTo>
                    <a:lnTo>
                      <a:pt x="229" y="396"/>
                    </a:lnTo>
                    <a:lnTo>
                      <a:pt x="164" y="318"/>
                    </a:lnTo>
                    <a:lnTo>
                      <a:pt x="134" y="276"/>
                    </a:lnTo>
                    <a:lnTo>
                      <a:pt x="105" y="230"/>
                    </a:lnTo>
                    <a:lnTo>
                      <a:pt x="76" y="183"/>
                    </a:lnTo>
                    <a:lnTo>
                      <a:pt x="50" y="131"/>
                    </a:lnTo>
                    <a:lnTo>
                      <a:pt x="0" y="21"/>
                    </a:lnTo>
                    <a:lnTo>
                      <a:pt x="8" y="0"/>
                    </a:lnTo>
                    <a:lnTo>
                      <a:pt x="29" y="8"/>
                    </a:lnTo>
                    <a:lnTo>
                      <a:pt x="29" y="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829" name=""/>
              <p:cNvSpPr/>
              <p:nvPr/>
            </p:nvSpPr>
            <p:spPr>
              <a:xfrm>
                <a:off x="1542960" y="4065840"/>
                <a:ext cx="78840" cy="189360"/>
              </a:xfrm>
              <a:custGeom>
                <a:avLst/>
                <a:gdLst/>
                <a:ahLst/>
                <a:rect l="l" t="t" r="r" b="b"/>
                <a:pathLst>
                  <a:path w="648" h="1553">
                    <a:moveTo>
                      <a:pt x="555" y="28"/>
                    </a:moveTo>
                    <a:lnTo>
                      <a:pt x="485" y="62"/>
                    </a:lnTo>
                    <a:lnTo>
                      <a:pt x="424" y="93"/>
                    </a:lnTo>
                    <a:lnTo>
                      <a:pt x="365" y="125"/>
                    </a:lnTo>
                    <a:lnTo>
                      <a:pt x="304" y="167"/>
                    </a:lnTo>
                    <a:lnTo>
                      <a:pt x="346" y="365"/>
                    </a:lnTo>
                    <a:lnTo>
                      <a:pt x="300" y="422"/>
                    </a:lnTo>
                    <a:lnTo>
                      <a:pt x="276" y="446"/>
                    </a:lnTo>
                    <a:lnTo>
                      <a:pt x="253" y="469"/>
                    </a:lnTo>
                    <a:lnTo>
                      <a:pt x="203" y="511"/>
                    </a:lnTo>
                    <a:lnTo>
                      <a:pt x="148" y="555"/>
                    </a:lnTo>
                    <a:lnTo>
                      <a:pt x="184" y="629"/>
                    </a:lnTo>
                    <a:lnTo>
                      <a:pt x="213" y="699"/>
                    </a:lnTo>
                    <a:lnTo>
                      <a:pt x="224" y="851"/>
                    </a:lnTo>
                    <a:lnTo>
                      <a:pt x="192" y="897"/>
                    </a:lnTo>
                    <a:lnTo>
                      <a:pt x="160" y="939"/>
                    </a:lnTo>
                    <a:lnTo>
                      <a:pt x="129" y="981"/>
                    </a:lnTo>
                    <a:lnTo>
                      <a:pt x="95" y="1022"/>
                    </a:lnTo>
                    <a:lnTo>
                      <a:pt x="112" y="1060"/>
                    </a:lnTo>
                    <a:lnTo>
                      <a:pt x="133" y="1093"/>
                    </a:lnTo>
                    <a:lnTo>
                      <a:pt x="160" y="1123"/>
                    </a:lnTo>
                    <a:lnTo>
                      <a:pt x="192" y="1152"/>
                    </a:lnTo>
                    <a:lnTo>
                      <a:pt x="268" y="1190"/>
                    </a:lnTo>
                    <a:lnTo>
                      <a:pt x="338" y="1231"/>
                    </a:lnTo>
                    <a:lnTo>
                      <a:pt x="378" y="1275"/>
                    </a:lnTo>
                    <a:lnTo>
                      <a:pt x="386" y="1332"/>
                    </a:lnTo>
                    <a:lnTo>
                      <a:pt x="376" y="1397"/>
                    </a:lnTo>
                    <a:lnTo>
                      <a:pt x="361" y="1467"/>
                    </a:lnTo>
                    <a:lnTo>
                      <a:pt x="470" y="1446"/>
                    </a:lnTo>
                    <a:lnTo>
                      <a:pt x="587" y="1429"/>
                    </a:lnTo>
                    <a:lnTo>
                      <a:pt x="610" y="1427"/>
                    </a:lnTo>
                    <a:lnTo>
                      <a:pt x="639" y="1437"/>
                    </a:lnTo>
                    <a:lnTo>
                      <a:pt x="648" y="1465"/>
                    </a:lnTo>
                    <a:lnTo>
                      <a:pt x="639" y="1492"/>
                    </a:lnTo>
                    <a:lnTo>
                      <a:pt x="610" y="1501"/>
                    </a:lnTo>
                    <a:lnTo>
                      <a:pt x="591" y="1500"/>
                    </a:lnTo>
                    <a:lnTo>
                      <a:pt x="325" y="1553"/>
                    </a:lnTo>
                    <a:lnTo>
                      <a:pt x="289" y="1547"/>
                    </a:lnTo>
                    <a:lnTo>
                      <a:pt x="279" y="1513"/>
                    </a:lnTo>
                    <a:lnTo>
                      <a:pt x="298" y="1444"/>
                    </a:lnTo>
                    <a:lnTo>
                      <a:pt x="327" y="1378"/>
                    </a:lnTo>
                    <a:lnTo>
                      <a:pt x="340" y="1321"/>
                    </a:lnTo>
                    <a:lnTo>
                      <a:pt x="333" y="1298"/>
                    </a:lnTo>
                    <a:lnTo>
                      <a:pt x="312" y="1279"/>
                    </a:lnTo>
                    <a:lnTo>
                      <a:pt x="241" y="1235"/>
                    </a:lnTo>
                    <a:lnTo>
                      <a:pt x="207" y="1214"/>
                    </a:lnTo>
                    <a:lnTo>
                      <a:pt x="167" y="1192"/>
                    </a:lnTo>
                    <a:lnTo>
                      <a:pt x="114" y="1155"/>
                    </a:lnTo>
                    <a:lnTo>
                      <a:pt x="67" y="1123"/>
                    </a:lnTo>
                    <a:lnTo>
                      <a:pt x="0" y="1024"/>
                    </a:lnTo>
                    <a:lnTo>
                      <a:pt x="8" y="982"/>
                    </a:lnTo>
                    <a:lnTo>
                      <a:pt x="47" y="939"/>
                    </a:lnTo>
                    <a:lnTo>
                      <a:pt x="82" y="903"/>
                    </a:lnTo>
                    <a:lnTo>
                      <a:pt x="152" y="821"/>
                    </a:lnTo>
                    <a:lnTo>
                      <a:pt x="150" y="749"/>
                    </a:lnTo>
                    <a:lnTo>
                      <a:pt x="122" y="690"/>
                    </a:lnTo>
                    <a:lnTo>
                      <a:pt x="82" y="631"/>
                    </a:lnTo>
                    <a:lnTo>
                      <a:pt x="44" y="562"/>
                    </a:lnTo>
                    <a:lnTo>
                      <a:pt x="40" y="534"/>
                    </a:lnTo>
                    <a:lnTo>
                      <a:pt x="55" y="507"/>
                    </a:lnTo>
                    <a:lnTo>
                      <a:pt x="89" y="481"/>
                    </a:lnTo>
                    <a:lnTo>
                      <a:pt x="124" y="464"/>
                    </a:lnTo>
                    <a:lnTo>
                      <a:pt x="192" y="439"/>
                    </a:lnTo>
                    <a:lnTo>
                      <a:pt x="259" y="410"/>
                    </a:lnTo>
                    <a:lnTo>
                      <a:pt x="316" y="357"/>
                    </a:lnTo>
                    <a:lnTo>
                      <a:pt x="302" y="304"/>
                    </a:lnTo>
                    <a:lnTo>
                      <a:pt x="279" y="260"/>
                    </a:lnTo>
                    <a:lnTo>
                      <a:pt x="230" y="167"/>
                    </a:lnTo>
                    <a:lnTo>
                      <a:pt x="241" y="129"/>
                    </a:lnTo>
                    <a:lnTo>
                      <a:pt x="278" y="102"/>
                    </a:lnTo>
                    <a:lnTo>
                      <a:pt x="314" y="81"/>
                    </a:lnTo>
                    <a:lnTo>
                      <a:pt x="386" y="55"/>
                    </a:lnTo>
                    <a:lnTo>
                      <a:pt x="542" y="0"/>
                    </a:lnTo>
                    <a:lnTo>
                      <a:pt x="563" y="7"/>
                    </a:lnTo>
                    <a:lnTo>
                      <a:pt x="555" y="28"/>
                    </a:lnTo>
                    <a:lnTo>
                      <a:pt x="55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a:off x="1631160" y="4250160"/>
                <a:ext cx="47880" cy="34560"/>
              </a:xfrm>
              <a:custGeom>
                <a:avLst/>
                <a:gdLst/>
                <a:ahLst/>
                <a:rect l="l" t="t" r="r" b="b"/>
                <a:pathLst>
                  <a:path w="396" h="287">
                    <a:moveTo>
                      <a:pt x="71" y="23"/>
                    </a:moveTo>
                    <a:lnTo>
                      <a:pt x="107" y="108"/>
                    </a:lnTo>
                    <a:lnTo>
                      <a:pt x="143" y="184"/>
                    </a:lnTo>
                    <a:lnTo>
                      <a:pt x="190" y="148"/>
                    </a:lnTo>
                    <a:lnTo>
                      <a:pt x="234" y="110"/>
                    </a:lnTo>
                    <a:lnTo>
                      <a:pt x="280" y="72"/>
                    </a:lnTo>
                    <a:lnTo>
                      <a:pt x="329" y="29"/>
                    </a:lnTo>
                    <a:lnTo>
                      <a:pt x="359" y="19"/>
                    </a:lnTo>
                    <a:lnTo>
                      <a:pt x="386" y="34"/>
                    </a:lnTo>
                    <a:lnTo>
                      <a:pt x="396" y="63"/>
                    </a:lnTo>
                    <a:lnTo>
                      <a:pt x="380" y="91"/>
                    </a:lnTo>
                    <a:lnTo>
                      <a:pt x="350" y="118"/>
                    </a:lnTo>
                    <a:lnTo>
                      <a:pt x="321" y="143"/>
                    </a:lnTo>
                    <a:lnTo>
                      <a:pt x="293" y="167"/>
                    </a:lnTo>
                    <a:lnTo>
                      <a:pt x="268" y="188"/>
                    </a:lnTo>
                    <a:lnTo>
                      <a:pt x="240" y="211"/>
                    </a:lnTo>
                    <a:lnTo>
                      <a:pt x="213" y="232"/>
                    </a:lnTo>
                    <a:lnTo>
                      <a:pt x="183" y="255"/>
                    </a:lnTo>
                    <a:lnTo>
                      <a:pt x="148" y="278"/>
                    </a:lnTo>
                    <a:lnTo>
                      <a:pt x="114" y="287"/>
                    </a:lnTo>
                    <a:lnTo>
                      <a:pt x="90" y="262"/>
                    </a:lnTo>
                    <a:lnTo>
                      <a:pt x="44" y="156"/>
                    </a:lnTo>
                    <a:lnTo>
                      <a:pt x="0" y="50"/>
                    </a:lnTo>
                    <a:lnTo>
                      <a:pt x="2" y="19"/>
                    </a:lnTo>
                    <a:lnTo>
                      <a:pt x="23" y="0"/>
                    </a:lnTo>
                    <a:lnTo>
                      <a:pt x="71" y="23"/>
                    </a:lnTo>
                    <a:lnTo>
                      <a:pt x="71" y="23"/>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831" name=""/>
              <p:cNvSpPr/>
              <p:nvPr/>
            </p:nvSpPr>
            <p:spPr>
              <a:xfrm>
                <a:off x="1690200" y="4096080"/>
                <a:ext cx="114480" cy="187560"/>
              </a:xfrm>
              <a:custGeom>
                <a:avLst/>
                <a:gdLst/>
                <a:ahLst/>
                <a:rect l="l" t="t" r="r" b="b"/>
                <a:pathLst>
                  <a:path w="943" h="1538">
                    <a:moveTo>
                      <a:pt x="67" y="1319"/>
                    </a:moveTo>
                    <a:lnTo>
                      <a:pt x="122" y="1387"/>
                    </a:lnTo>
                    <a:lnTo>
                      <a:pt x="146" y="1420"/>
                    </a:lnTo>
                    <a:lnTo>
                      <a:pt x="184" y="1444"/>
                    </a:lnTo>
                    <a:lnTo>
                      <a:pt x="230" y="1463"/>
                    </a:lnTo>
                    <a:lnTo>
                      <a:pt x="272" y="1393"/>
                    </a:lnTo>
                    <a:lnTo>
                      <a:pt x="316" y="1319"/>
                    </a:lnTo>
                    <a:lnTo>
                      <a:pt x="344" y="1268"/>
                    </a:lnTo>
                    <a:lnTo>
                      <a:pt x="375" y="1222"/>
                    </a:lnTo>
                    <a:lnTo>
                      <a:pt x="394" y="1205"/>
                    </a:lnTo>
                    <a:lnTo>
                      <a:pt x="413" y="1188"/>
                    </a:lnTo>
                    <a:lnTo>
                      <a:pt x="466" y="1171"/>
                    </a:lnTo>
                    <a:lnTo>
                      <a:pt x="576" y="1155"/>
                    </a:lnTo>
                    <a:lnTo>
                      <a:pt x="675" y="1146"/>
                    </a:lnTo>
                    <a:lnTo>
                      <a:pt x="643" y="1074"/>
                    </a:lnTo>
                    <a:lnTo>
                      <a:pt x="608" y="998"/>
                    </a:lnTo>
                    <a:lnTo>
                      <a:pt x="618" y="946"/>
                    </a:lnTo>
                    <a:lnTo>
                      <a:pt x="643" y="908"/>
                    </a:lnTo>
                    <a:lnTo>
                      <a:pt x="677" y="876"/>
                    </a:lnTo>
                    <a:lnTo>
                      <a:pt x="721" y="851"/>
                    </a:lnTo>
                    <a:lnTo>
                      <a:pt x="768" y="827"/>
                    </a:lnTo>
                    <a:lnTo>
                      <a:pt x="816" y="802"/>
                    </a:lnTo>
                    <a:lnTo>
                      <a:pt x="901" y="733"/>
                    </a:lnTo>
                    <a:lnTo>
                      <a:pt x="903" y="745"/>
                    </a:lnTo>
                    <a:lnTo>
                      <a:pt x="916" y="732"/>
                    </a:lnTo>
                    <a:lnTo>
                      <a:pt x="876" y="705"/>
                    </a:lnTo>
                    <a:lnTo>
                      <a:pt x="831" y="688"/>
                    </a:lnTo>
                    <a:lnTo>
                      <a:pt x="740" y="667"/>
                    </a:lnTo>
                    <a:lnTo>
                      <a:pt x="656" y="638"/>
                    </a:lnTo>
                    <a:lnTo>
                      <a:pt x="595" y="572"/>
                    </a:lnTo>
                    <a:lnTo>
                      <a:pt x="599" y="541"/>
                    </a:lnTo>
                    <a:lnTo>
                      <a:pt x="625" y="513"/>
                    </a:lnTo>
                    <a:lnTo>
                      <a:pt x="652" y="488"/>
                    </a:lnTo>
                    <a:lnTo>
                      <a:pt x="679" y="465"/>
                    </a:lnTo>
                    <a:lnTo>
                      <a:pt x="707" y="437"/>
                    </a:lnTo>
                    <a:lnTo>
                      <a:pt x="738" y="389"/>
                    </a:lnTo>
                    <a:lnTo>
                      <a:pt x="774" y="350"/>
                    </a:lnTo>
                    <a:lnTo>
                      <a:pt x="806" y="310"/>
                    </a:lnTo>
                    <a:lnTo>
                      <a:pt x="504" y="218"/>
                    </a:lnTo>
                    <a:lnTo>
                      <a:pt x="475" y="177"/>
                    </a:lnTo>
                    <a:lnTo>
                      <a:pt x="491" y="127"/>
                    </a:lnTo>
                    <a:lnTo>
                      <a:pt x="521" y="91"/>
                    </a:lnTo>
                    <a:lnTo>
                      <a:pt x="582" y="9"/>
                    </a:lnTo>
                    <a:lnTo>
                      <a:pt x="603" y="0"/>
                    </a:lnTo>
                    <a:lnTo>
                      <a:pt x="612" y="21"/>
                    </a:lnTo>
                    <a:lnTo>
                      <a:pt x="565" y="150"/>
                    </a:lnTo>
                    <a:lnTo>
                      <a:pt x="643" y="178"/>
                    </a:lnTo>
                    <a:lnTo>
                      <a:pt x="715" y="205"/>
                    </a:lnTo>
                    <a:lnTo>
                      <a:pt x="787" y="234"/>
                    </a:lnTo>
                    <a:lnTo>
                      <a:pt x="871" y="260"/>
                    </a:lnTo>
                    <a:lnTo>
                      <a:pt x="895" y="281"/>
                    </a:lnTo>
                    <a:lnTo>
                      <a:pt x="886" y="311"/>
                    </a:lnTo>
                    <a:lnTo>
                      <a:pt x="850" y="350"/>
                    </a:lnTo>
                    <a:lnTo>
                      <a:pt x="812" y="386"/>
                    </a:lnTo>
                    <a:lnTo>
                      <a:pt x="745" y="465"/>
                    </a:lnTo>
                    <a:lnTo>
                      <a:pt x="721" y="492"/>
                    </a:lnTo>
                    <a:lnTo>
                      <a:pt x="698" y="515"/>
                    </a:lnTo>
                    <a:lnTo>
                      <a:pt x="652" y="564"/>
                    </a:lnTo>
                    <a:lnTo>
                      <a:pt x="677" y="595"/>
                    </a:lnTo>
                    <a:lnTo>
                      <a:pt x="709" y="616"/>
                    </a:lnTo>
                    <a:lnTo>
                      <a:pt x="785" y="638"/>
                    </a:lnTo>
                    <a:lnTo>
                      <a:pt x="943" y="697"/>
                    </a:lnTo>
                    <a:lnTo>
                      <a:pt x="937" y="714"/>
                    </a:lnTo>
                    <a:lnTo>
                      <a:pt x="928" y="737"/>
                    </a:lnTo>
                    <a:lnTo>
                      <a:pt x="926" y="754"/>
                    </a:lnTo>
                    <a:lnTo>
                      <a:pt x="894" y="787"/>
                    </a:lnTo>
                    <a:lnTo>
                      <a:pt x="859" y="811"/>
                    </a:lnTo>
                    <a:lnTo>
                      <a:pt x="787" y="855"/>
                    </a:lnTo>
                    <a:lnTo>
                      <a:pt x="728" y="905"/>
                    </a:lnTo>
                    <a:lnTo>
                      <a:pt x="703" y="979"/>
                    </a:lnTo>
                    <a:lnTo>
                      <a:pt x="783" y="1193"/>
                    </a:lnTo>
                    <a:lnTo>
                      <a:pt x="776" y="1241"/>
                    </a:lnTo>
                    <a:lnTo>
                      <a:pt x="728" y="1247"/>
                    </a:lnTo>
                    <a:lnTo>
                      <a:pt x="601" y="1220"/>
                    </a:lnTo>
                    <a:lnTo>
                      <a:pt x="472" y="1218"/>
                    </a:lnTo>
                    <a:lnTo>
                      <a:pt x="432" y="1235"/>
                    </a:lnTo>
                    <a:lnTo>
                      <a:pt x="403" y="1266"/>
                    </a:lnTo>
                    <a:lnTo>
                      <a:pt x="363" y="1346"/>
                    </a:lnTo>
                    <a:lnTo>
                      <a:pt x="337" y="1391"/>
                    </a:lnTo>
                    <a:lnTo>
                      <a:pt x="314" y="1433"/>
                    </a:lnTo>
                    <a:lnTo>
                      <a:pt x="291" y="1473"/>
                    </a:lnTo>
                    <a:lnTo>
                      <a:pt x="266" y="1520"/>
                    </a:lnTo>
                    <a:lnTo>
                      <a:pt x="245" y="1538"/>
                    </a:lnTo>
                    <a:lnTo>
                      <a:pt x="221" y="1528"/>
                    </a:lnTo>
                    <a:lnTo>
                      <a:pt x="171" y="1475"/>
                    </a:lnTo>
                    <a:lnTo>
                      <a:pt x="17" y="1384"/>
                    </a:lnTo>
                    <a:lnTo>
                      <a:pt x="0" y="1355"/>
                    </a:lnTo>
                    <a:lnTo>
                      <a:pt x="10" y="1327"/>
                    </a:lnTo>
                    <a:lnTo>
                      <a:pt x="34" y="1311"/>
                    </a:lnTo>
                    <a:lnTo>
                      <a:pt x="67" y="1319"/>
                    </a:lnTo>
                    <a:lnTo>
                      <a:pt x="67" y="1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a:off x="1624680" y="4053960"/>
                <a:ext cx="46440" cy="35280"/>
              </a:xfrm>
              <a:custGeom>
                <a:avLst/>
                <a:gdLst/>
                <a:ahLst/>
                <a:rect l="l" t="t" r="r" b="b"/>
                <a:pathLst>
                  <a:path w="384" h="291">
                    <a:moveTo>
                      <a:pt x="29" y="76"/>
                    </a:moveTo>
                    <a:lnTo>
                      <a:pt x="205" y="165"/>
                    </a:lnTo>
                    <a:lnTo>
                      <a:pt x="249" y="99"/>
                    </a:lnTo>
                    <a:lnTo>
                      <a:pt x="276" y="70"/>
                    </a:lnTo>
                    <a:lnTo>
                      <a:pt x="304" y="49"/>
                    </a:lnTo>
                    <a:lnTo>
                      <a:pt x="359" y="2"/>
                    </a:lnTo>
                    <a:lnTo>
                      <a:pt x="382" y="0"/>
                    </a:lnTo>
                    <a:lnTo>
                      <a:pt x="384" y="23"/>
                    </a:lnTo>
                    <a:lnTo>
                      <a:pt x="325" y="150"/>
                    </a:lnTo>
                    <a:lnTo>
                      <a:pt x="251" y="264"/>
                    </a:lnTo>
                    <a:lnTo>
                      <a:pt x="234" y="283"/>
                    </a:lnTo>
                    <a:lnTo>
                      <a:pt x="215" y="291"/>
                    </a:lnTo>
                    <a:lnTo>
                      <a:pt x="177" y="266"/>
                    </a:lnTo>
                    <a:lnTo>
                      <a:pt x="137" y="218"/>
                    </a:lnTo>
                    <a:lnTo>
                      <a:pt x="99" y="178"/>
                    </a:lnTo>
                    <a:lnTo>
                      <a:pt x="59" y="146"/>
                    </a:lnTo>
                    <a:lnTo>
                      <a:pt x="8" y="114"/>
                    </a:lnTo>
                    <a:lnTo>
                      <a:pt x="0" y="85"/>
                    </a:lnTo>
                    <a:lnTo>
                      <a:pt x="29" y="76"/>
                    </a:lnTo>
                    <a:lnTo>
                      <a:pt x="29" y="76"/>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833" name=""/>
              <p:cNvSpPr/>
              <p:nvPr/>
            </p:nvSpPr>
            <p:spPr>
              <a:xfrm>
                <a:off x="1697760" y="4067280"/>
                <a:ext cx="45360" cy="30600"/>
              </a:xfrm>
              <a:custGeom>
                <a:avLst/>
                <a:gdLst/>
                <a:ahLst/>
                <a:rect l="l" t="t" r="r" b="b"/>
                <a:pathLst>
                  <a:path w="374" h="253">
                    <a:moveTo>
                      <a:pt x="30" y="10"/>
                    </a:moveTo>
                    <a:lnTo>
                      <a:pt x="66" y="86"/>
                    </a:lnTo>
                    <a:lnTo>
                      <a:pt x="87" y="120"/>
                    </a:lnTo>
                    <a:lnTo>
                      <a:pt x="112" y="152"/>
                    </a:lnTo>
                    <a:lnTo>
                      <a:pt x="171" y="124"/>
                    </a:lnTo>
                    <a:lnTo>
                      <a:pt x="228" y="101"/>
                    </a:lnTo>
                    <a:lnTo>
                      <a:pt x="353" y="57"/>
                    </a:lnTo>
                    <a:lnTo>
                      <a:pt x="374" y="67"/>
                    </a:lnTo>
                    <a:lnTo>
                      <a:pt x="365" y="88"/>
                    </a:lnTo>
                    <a:lnTo>
                      <a:pt x="298" y="120"/>
                    </a:lnTo>
                    <a:lnTo>
                      <a:pt x="243" y="158"/>
                    </a:lnTo>
                    <a:lnTo>
                      <a:pt x="192" y="198"/>
                    </a:lnTo>
                    <a:lnTo>
                      <a:pt x="163" y="221"/>
                    </a:lnTo>
                    <a:lnTo>
                      <a:pt x="133" y="243"/>
                    </a:lnTo>
                    <a:lnTo>
                      <a:pt x="104" y="253"/>
                    </a:lnTo>
                    <a:lnTo>
                      <a:pt x="78" y="240"/>
                    </a:lnTo>
                    <a:lnTo>
                      <a:pt x="44" y="190"/>
                    </a:lnTo>
                    <a:lnTo>
                      <a:pt x="28" y="137"/>
                    </a:lnTo>
                    <a:lnTo>
                      <a:pt x="0" y="23"/>
                    </a:lnTo>
                    <a:lnTo>
                      <a:pt x="9" y="0"/>
                    </a:lnTo>
                    <a:lnTo>
                      <a:pt x="30" y="10"/>
                    </a:lnTo>
                    <a:lnTo>
                      <a:pt x="30" y="1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834" name=""/>
              <p:cNvSpPr/>
              <p:nvPr/>
            </p:nvSpPr>
            <p:spPr>
              <a:xfrm>
                <a:off x="1523880" y="4039200"/>
                <a:ext cx="84600" cy="135360"/>
              </a:xfrm>
              <a:custGeom>
                <a:avLst/>
                <a:gdLst/>
                <a:ahLst/>
                <a:rect l="l" t="t" r="r" b="b"/>
                <a:pathLst>
                  <a:path w="696" h="1112">
                    <a:moveTo>
                      <a:pt x="679" y="33"/>
                    </a:moveTo>
                    <a:lnTo>
                      <a:pt x="603" y="46"/>
                    </a:lnTo>
                    <a:lnTo>
                      <a:pt x="540" y="80"/>
                    </a:lnTo>
                    <a:lnTo>
                      <a:pt x="481" y="128"/>
                    </a:lnTo>
                    <a:lnTo>
                      <a:pt x="451" y="152"/>
                    </a:lnTo>
                    <a:lnTo>
                      <a:pt x="417" y="177"/>
                    </a:lnTo>
                    <a:lnTo>
                      <a:pt x="348" y="226"/>
                    </a:lnTo>
                    <a:lnTo>
                      <a:pt x="320" y="253"/>
                    </a:lnTo>
                    <a:lnTo>
                      <a:pt x="293" y="282"/>
                    </a:lnTo>
                    <a:lnTo>
                      <a:pt x="247" y="341"/>
                    </a:lnTo>
                    <a:lnTo>
                      <a:pt x="209" y="403"/>
                    </a:lnTo>
                    <a:lnTo>
                      <a:pt x="179" y="472"/>
                    </a:lnTo>
                    <a:lnTo>
                      <a:pt x="150" y="544"/>
                    </a:lnTo>
                    <a:lnTo>
                      <a:pt x="124" y="624"/>
                    </a:lnTo>
                    <a:lnTo>
                      <a:pt x="97" y="705"/>
                    </a:lnTo>
                    <a:lnTo>
                      <a:pt x="46" y="1095"/>
                    </a:lnTo>
                    <a:lnTo>
                      <a:pt x="31" y="1112"/>
                    </a:lnTo>
                    <a:lnTo>
                      <a:pt x="13" y="1099"/>
                    </a:lnTo>
                    <a:lnTo>
                      <a:pt x="0" y="681"/>
                    </a:lnTo>
                    <a:lnTo>
                      <a:pt x="31" y="588"/>
                    </a:lnTo>
                    <a:lnTo>
                      <a:pt x="61" y="502"/>
                    </a:lnTo>
                    <a:lnTo>
                      <a:pt x="93" y="420"/>
                    </a:lnTo>
                    <a:lnTo>
                      <a:pt x="129" y="344"/>
                    </a:lnTo>
                    <a:lnTo>
                      <a:pt x="150" y="310"/>
                    </a:lnTo>
                    <a:lnTo>
                      <a:pt x="171" y="274"/>
                    </a:lnTo>
                    <a:lnTo>
                      <a:pt x="196" y="242"/>
                    </a:lnTo>
                    <a:lnTo>
                      <a:pt x="223" y="209"/>
                    </a:lnTo>
                    <a:lnTo>
                      <a:pt x="253" y="179"/>
                    </a:lnTo>
                    <a:lnTo>
                      <a:pt x="285" y="149"/>
                    </a:lnTo>
                    <a:lnTo>
                      <a:pt x="321" y="120"/>
                    </a:lnTo>
                    <a:lnTo>
                      <a:pt x="361" y="93"/>
                    </a:lnTo>
                    <a:lnTo>
                      <a:pt x="401" y="69"/>
                    </a:lnTo>
                    <a:lnTo>
                      <a:pt x="437" y="48"/>
                    </a:lnTo>
                    <a:lnTo>
                      <a:pt x="512" y="19"/>
                    </a:lnTo>
                    <a:lnTo>
                      <a:pt x="679" y="0"/>
                    </a:lnTo>
                    <a:lnTo>
                      <a:pt x="696" y="15"/>
                    </a:lnTo>
                    <a:lnTo>
                      <a:pt x="692" y="27"/>
                    </a:lnTo>
                    <a:lnTo>
                      <a:pt x="679" y="33"/>
                    </a:lnTo>
                    <a:lnTo>
                      <a:pt x="679"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35" name=""/>
            <p:cNvSpPr/>
            <p:nvPr/>
          </p:nvSpPr>
          <p:spPr>
            <a:xfrm flipH="1">
              <a:off x="2590920" y="4114800"/>
              <a:ext cx="761760" cy="0"/>
            </a:xfrm>
            <a:prstGeom prst="line">
              <a:avLst/>
            </a:prstGeom>
            <a:ln w="9360">
              <a:solidFill>
                <a:srgbClr val="57a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836" name=""/>
          <p:cNvGraphicFramePr/>
          <p:nvPr/>
        </p:nvGraphicFramePr>
        <p:xfrm>
          <a:off x="6324480" y="304920"/>
          <a:ext cx="1905120" cy="601560"/>
        </p:xfrm>
        <a:graphic>
          <a:graphicData uri="http://schemas.openxmlformats.org/presentationml/2006/ole">
            <p:oleObj r:id="rId9" spid="">
              <p:embed/>
              <p:pic>
                <p:nvPicPr>
                  <p:cNvPr id="837" name="" descr=""/>
                  <p:cNvPicPr/>
                  <p:nvPr/>
                </p:nvPicPr>
                <p:blipFill>
                  <a:blip r:embed="rId10"/>
                  <a:stretch/>
                </p:blipFill>
                <p:spPr>
                  <a:xfrm>
                    <a:off x="6324480" y="304920"/>
                    <a:ext cx="1905120" cy="601560"/>
                  </a:xfrm>
                  <a:prstGeom prst="rect">
                    <a:avLst/>
                  </a:prstGeom>
                  <a:ln w="0">
                    <a:noFill/>
                  </a:ln>
                </p:spPr>
              </p:pic>
            </p:oleObj>
          </a:graphicData>
        </a:graphic>
      </p:graphicFrame>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838" name=""/>
          <p:cNvGrpSpPr/>
          <p:nvPr/>
        </p:nvGrpSpPr>
        <p:grpSpPr>
          <a:xfrm>
            <a:off x="762120" y="1143000"/>
            <a:ext cx="8153280" cy="5562720"/>
            <a:chOff x="762120" y="1143000"/>
            <a:chExt cx="8153280" cy="5562720"/>
          </a:xfrm>
        </p:grpSpPr>
        <p:pic>
          <p:nvPicPr>
            <p:cNvPr id="839" name="" descr=""/>
            <p:cNvPicPr/>
            <p:nvPr/>
          </p:nvPicPr>
          <p:blipFill>
            <a:blip r:embed="rId1"/>
            <a:srcRect l="0" t="9998" r="0" b="0"/>
            <a:stretch/>
          </p:blipFill>
          <p:spPr>
            <a:xfrm>
              <a:off x="762120" y="1328400"/>
              <a:ext cx="8153280" cy="5377320"/>
            </a:xfrm>
            <a:prstGeom prst="rect">
              <a:avLst/>
            </a:prstGeom>
            <a:ln w="0">
              <a:noFill/>
            </a:ln>
          </p:spPr>
        </p:pic>
        <p:pic>
          <p:nvPicPr>
            <p:cNvPr id="840" name="" descr=""/>
            <p:cNvPicPr/>
            <p:nvPr/>
          </p:nvPicPr>
          <p:blipFill>
            <a:blip r:embed="rId2"/>
            <a:srcRect l="0" t="4448" r="0" b="92226"/>
            <a:stretch/>
          </p:blipFill>
          <p:spPr>
            <a:xfrm>
              <a:off x="762120" y="1143000"/>
              <a:ext cx="8153280" cy="185400"/>
            </a:xfrm>
            <a:prstGeom prst="rect">
              <a:avLst/>
            </a:prstGeom>
            <a:ln w="0">
              <a:noFill/>
            </a:ln>
          </p:spPr>
        </p:pic>
      </p:grpSp>
      <p:sp>
        <p:nvSpPr>
          <p:cNvPr id="841" name="PlaceHolder 1"/>
          <p:cNvSpPr>
            <a:spLocks noGrp="1"/>
          </p:cNvSpPr>
          <p:nvPr>
            <p:ph type="title"/>
          </p:nvPr>
        </p:nvSpPr>
        <p:spPr>
          <a:xfrm>
            <a:off x="1041480" y="25560"/>
            <a:ext cx="7772400" cy="9950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pletando un contrato</a:t>
            </a:r>
            <a:endParaRPr b="1" lang="en-US" sz="2800" spc="-1" strike="noStrike">
              <a:solidFill>
                <a:srgbClr val="ffffff"/>
              </a:solidFill>
              <a:latin typeface="Tahoma"/>
            </a:endParaRPr>
          </a:p>
        </p:txBody>
      </p:sp>
      <p:graphicFrame>
        <p:nvGraphicFramePr>
          <p:cNvPr id="842" name=""/>
          <p:cNvGraphicFramePr/>
          <p:nvPr/>
        </p:nvGraphicFramePr>
        <p:xfrm>
          <a:off x="6324480" y="304920"/>
          <a:ext cx="1905120" cy="601560"/>
        </p:xfrm>
        <a:graphic>
          <a:graphicData uri="http://schemas.openxmlformats.org/presentationml/2006/ole">
            <p:oleObj r:id="rId3" spid="">
              <p:embed/>
              <p:pic>
                <p:nvPicPr>
                  <p:cNvPr id="843" name="" descr=""/>
                  <p:cNvPicPr/>
                  <p:nvPr/>
                </p:nvPicPr>
                <p:blipFill>
                  <a:blip r:embed="rId4"/>
                  <a:stretch/>
                </p:blipFill>
                <p:spPr>
                  <a:xfrm>
                    <a:off x="6324480" y="304920"/>
                    <a:ext cx="1905120" cy="601560"/>
                  </a:xfrm>
                  <a:prstGeom prst="rect">
                    <a:avLst/>
                  </a:prstGeom>
                  <a:ln w="0">
                    <a:noFill/>
                  </a:ln>
                </p:spPr>
              </p:pic>
            </p:oleObj>
          </a:graphicData>
        </a:graphic>
      </p:graphicFrame>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pic>
        <p:nvPicPr>
          <p:cNvPr id="844" name="" descr=""/>
          <p:cNvPicPr/>
          <p:nvPr/>
        </p:nvPicPr>
        <p:blipFill>
          <a:blip r:embed="rId1"/>
          <a:srcRect l="0" t="4448" r="0" b="0"/>
          <a:stretch/>
        </p:blipFill>
        <p:spPr>
          <a:xfrm>
            <a:off x="762120" y="1143000"/>
            <a:ext cx="8153280" cy="5562720"/>
          </a:xfrm>
          <a:prstGeom prst="rect">
            <a:avLst/>
          </a:prstGeom>
          <a:ln w="0">
            <a:noFill/>
          </a:ln>
        </p:spPr>
      </p:pic>
      <p:sp>
        <p:nvSpPr>
          <p:cNvPr id="845" name="PlaceHolder 1"/>
          <p:cNvSpPr>
            <a:spLocks noGrp="1"/>
          </p:cNvSpPr>
          <p:nvPr>
            <p:ph type="title"/>
          </p:nvPr>
        </p:nvSpPr>
        <p:spPr>
          <a:xfrm>
            <a:off x="1041480" y="25560"/>
            <a:ext cx="7772400" cy="9950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Tahoma"/>
              </a:rPr>
              <a:t>Firmando un Contrato</a:t>
            </a:r>
            <a:endParaRPr b="1" lang="en-US" sz="2800" spc="-1" strike="noStrike">
              <a:solidFill>
                <a:srgbClr val="ffffff"/>
              </a:solidFill>
              <a:latin typeface="Tahoma"/>
            </a:endParaRPr>
          </a:p>
        </p:txBody>
      </p:sp>
      <p:graphicFrame>
        <p:nvGraphicFramePr>
          <p:cNvPr id="846" name=""/>
          <p:cNvGraphicFramePr/>
          <p:nvPr/>
        </p:nvGraphicFramePr>
        <p:xfrm>
          <a:off x="2819520" y="4343400"/>
          <a:ext cx="1218960" cy="685800"/>
        </p:xfrm>
        <a:graphic>
          <a:graphicData uri="http://schemas.openxmlformats.org/presentationml/2006/ole">
            <p:oleObj r:id="rId2" spid="">
              <p:embed/>
              <p:pic>
                <p:nvPicPr>
                  <p:cNvPr id="847" name="" descr=""/>
                  <p:cNvPicPr/>
                  <p:nvPr/>
                </p:nvPicPr>
                <p:blipFill>
                  <a:blip r:embed="rId3"/>
                  <a:stretch/>
                </p:blipFill>
                <p:spPr>
                  <a:xfrm>
                    <a:off x="2819520" y="4343400"/>
                    <a:ext cx="1218960" cy="685800"/>
                  </a:xfrm>
                  <a:prstGeom prst="rect">
                    <a:avLst/>
                  </a:prstGeom>
                  <a:ln w="0">
                    <a:noFill/>
                  </a:ln>
                </p:spPr>
              </p:pic>
            </p:oleObj>
          </a:graphicData>
        </a:graphic>
      </p:graphicFrame>
      <p:pic>
        <p:nvPicPr>
          <p:cNvPr id="848" name="PTA-BolsadeComerciodeRosario" descr=""/>
          <p:cNvPicPr/>
          <p:nvPr/>
        </p:nvPicPr>
        <p:blipFill>
          <a:blip r:embed="rId4"/>
          <a:stretch/>
        </p:blipFill>
        <p:spPr>
          <a:xfrm>
            <a:off x="2935440" y="1523880"/>
            <a:ext cx="3730320" cy="4438800"/>
          </a:xfrm>
          <a:prstGeom prst="rect">
            <a:avLst/>
          </a:prstGeom>
          <a:ln w="0">
            <a:noFill/>
          </a:ln>
        </p:spPr>
      </p:pic>
      <p:graphicFrame>
        <p:nvGraphicFramePr>
          <p:cNvPr id="849" name=""/>
          <p:cNvGraphicFramePr/>
          <p:nvPr/>
        </p:nvGraphicFramePr>
        <p:xfrm>
          <a:off x="6324480" y="304920"/>
          <a:ext cx="1905120" cy="601560"/>
        </p:xfrm>
        <a:graphic>
          <a:graphicData uri="http://schemas.openxmlformats.org/presentationml/2006/ole">
            <p:oleObj r:id="rId5" spid="">
              <p:embed/>
              <p:pic>
                <p:nvPicPr>
                  <p:cNvPr id="850" name="" descr=""/>
                  <p:cNvPicPr/>
                  <p:nvPr/>
                </p:nvPicPr>
                <p:blipFill>
                  <a:blip r:embed="rId6"/>
                  <a:stretch/>
                </p:blipFill>
                <p:spPr>
                  <a:xfrm>
                    <a:off x="6324480" y="304920"/>
                    <a:ext cx="1905120" cy="601560"/>
                  </a:xfrm>
                  <a:prstGeom prst="rect">
                    <a:avLst/>
                  </a:prstGeom>
                  <a:ln w="0">
                    <a:noFill/>
                  </a:ln>
                </p:spPr>
              </p:pic>
            </p:oleObj>
          </a:graphicData>
        </a:graphic>
      </p:graphicFrame>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1041480" y="25560"/>
            <a:ext cx="7772400" cy="9950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pinión de los usuarios</a:t>
            </a:r>
            <a:endParaRPr b="1" lang="en-US" sz="2800" spc="-1" strike="noStrike">
              <a:solidFill>
                <a:srgbClr val="ffffff"/>
              </a:solidFill>
              <a:latin typeface="Tahoma"/>
            </a:endParaRPr>
          </a:p>
        </p:txBody>
      </p:sp>
      <p:graphicFrame>
        <p:nvGraphicFramePr>
          <p:cNvPr id="852" name=""/>
          <p:cNvGraphicFramePr/>
          <p:nvPr/>
        </p:nvGraphicFramePr>
        <p:xfrm>
          <a:off x="609480" y="685800"/>
          <a:ext cx="8534520" cy="6172200"/>
        </p:xfrm>
        <a:graphic>
          <a:graphicData uri="http://schemas.openxmlformats.org/presentationml/2006/ole">
            <p:oleObj r:id="rId1" spid="">
              <p:embed/>
              <p:pic>
                <p:nvPicPr>
                  <p:cNvPr id="853" name="" descr=""/>
                  <p:cNvPicPr/>
                  <p:nvPr/>
                </p:nvPicPr>
                <p:blipFill>
                  <a:blip r:embed="rId2"/>
                  <a:stretch/>
                </p:blipFill>
                <p:spPr>
                  <a:xfrm>
                    <a:off x="609480" y="685800"/>
                    <a:ext cx="8534520" cy="6172200"/>
                  </a:xfrm>
                  <a:prstGeom prst="rect">
                    <a:avLst/>
                  </a:prstGeom>
                  <a:ln w="0">
                    <a:noFill/>
                  </a:ln>
                </p:spPr>
              </p:pic>
            </p:oleObj>
          </a:graphicData>
        </a:graphic>
      </p:graphicFrame>
      <p:graphicFrame>
        <p:nvGraphicFramePr>
          <p:cNvPr id="854" name=""/>
          <p:cNvGraphicFramePr/>
          <p:nvPr/>
        </p:nvGraphicFramePr>
        <p:xfrm>
          <a:off x="6324480" y="304920"/>
          <a:ext cx="1905120" cy="601560"/>
        </p:xfrm>
        <a:graphic>
          <a:graphicData uri="http://schemas.openxmlformats.org/presentationml/2006/ole">
            <p:oleObj r:id="rId3" spid="">
              <p:embed/>
              <p:pic>
                <p:nvPicPr>
                  <p:cNvPr id="855" name="" descr=""/>
                  <p:cNvPicPr/>
                  <p:nvPr/>
                </p:nvPicPr>
                <p:blipFill>
                  <a:blip r:embed="rId4"/>
                  <a:stretch/>
                </p:blipFill>
                <p:spPr>
                  <a:xfrm>
                    <a:off x="6324480" y="304920"/>
                    <a:ext cx="1905120" cy="601560"/>
                  </a:xfrm>
                  <a:prstGeom prst="rect">
                    <a:avLst/>
                  </a:prstGeom>
                  <a:ln w="0">
                    <a:noFill/>
                  </a:ln>
                </p:spPr>
              </p:pic>
            </p:oleObj>
          </a:graphicData>
        </a:graphic>
      </p:graphicFrame>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pic>
        <p:nvPicPr>
          <p:cNvPr id="856" name="CS-Template-Part1.Complement0" descr=""/>
          <p:cNvPicPr/>
          <p:nvPr/>
        </p:nvPicPr>
        <p:blipFill>
          <a:blip r:embed="rId1"/>
          <a:stretch/>
        </p:blipFill>
        <p:spPr>
          <a:xfrm>
            <a:off x="0" y="0"/>
            <a:ext cx="9144000" cy="6858000"/>
          </a:xfrm>
          <a:prstGeom prst="rect">
            <a:avLst/>
          </a:prstGeom>
          <a:ln w="0">
            <a:noFill/>
          </a:ln>
        </p:spPr>
      </p:pic>
      <p:sp>
        <p:nvSpPr>
          <p:cNvPr id="857" name=""/>
          <p:cNvSpPr/>
          <p:nvPr/>
        </p:nvSpPr>
        <p:spPr>
          <a:xfrm>
            <a:off x="685800" y="1447920"/>
            <a:ext cx="1523880" cy="68580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Desarrollador</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tecnológico</a:t>
            </a:r>
            <a:endParaRPr b="0" lang="en-US" sz="2000" spc="-1" strike="noStrike">
              <a:solidFill>
                <a:srgbClr val="ffffff"/>
              </a:solidFill>
              <a:latin typeface="Times New Roman"/>
            </a:endParaRPr>
          </a:p>
        </p:txBody>
      </p:sp>
      <p:sp>
        <p:nvSpPr>
          <p:cNvPr id="858" name=""/>
          <p:cNvSpPr/>
          <p:nvPr/>
        </p:nvSpPr>
        <p:spPr>
          <a:xfrm>
            <a:off x="2895480" y="1447920"/>
            <a:ext cx="1524240" cy="68580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Implantador</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tecnológico</a:t>
            </a:r>
            <a:endParaRPr b="0" lang="en-US" sz="2000" spc="-1" strike="noStrike">
              <a:solidFill>
                <a:srgbClr val="ffffff"/>
              </a:solidFill>
              <a:latin typeface="Times New Roman"/>
            </a:endParaRPr>
          </a:p>
        </p:txBody>
      </p:sp>
      <p:sp>
        <p:nvSpPr>
          <p:cNvPr id="859" name=""/>
          <p:cNvSpPr/>
          <p:nvPr/>
        </p:nvSpPr>
        <p:spPr>
          <a:xfrm>
            <a:off x="5181480" y="1447920"/>
            <a:ext cx="1524240" cy="68580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Adoptador</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tecnológico</a:t>
            </a:r>
            <a:endParaRPr b="0" lang="en-US" sz="2000" spc="-1" strike="noStrike">
              <a:solidFill>
                <a:srgbClr val="ffffff"/>
              </a:solidFill>
              <a:latin typeface="Times New Roman"/>
            </a:endParaRPr>
          </a:p>
        </p:txBody>
      </p:sp>
      <p:sp>
        <p:nvSpPr>
          <p:cNvPr id="860" name=""/>
          <p:cNvSpPr/>
          <p:nvPr/>
        </p:nvSpPr>
        <p:spPr>
          <a:xfrm>
            <a:off x="7391520" y="1447920"/>
            <a:ext cx="1523880" cy="68580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Usuario</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Final</a:t>
            </a:r>
            <a:endParaRPr b="0" lang="en-US" sz="2000" spc="-1" strike="noStrike">
              <a:solidFill>
                <a:srgbClr val="ffffff"/>
              </a:solidFill>
              <a:latin typeface="Times New Roman"/>
            </a:endParaRPr>
          </a:p>
        </p:txBody>
      </p:sp>
      <p:sp>
        <p:nvSpPr>
          <p:cNvPr id="861" name=""/>
          <p:cNvSpPr/>
          <p:nvPr/>
        </p:nvSpPr>
        <p:spPr>
          <a:xfrm>
            <a:off x="2286000" y="1676520"/>
            <a:ext cx="533520" cy="304560"/>
          </a:xfrm>
          <a:prstGeom prst="rightArrow">
            <a:avLst>
              <a:gd name="adj1" fmla="val 50000"/>
              <a:gd name="adj2" fmla="val 43794"/>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4572000" y="1676520"/>
            <a:ext cx="533520" cy="304560"/>
          </a:xfrm>
          <a:prstGeom prst="rightArrow">
            <a:avLst>
              <a:gd name="adj1" fmla="val 50000"/>
              <a:gd name="adj2" fmla="val 43794"/>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6781680" y="1676520"/>
            <a:ext cx="533520" cy="304560"/>
          </a:xfrm>
          <a:prstGeom prst="rightArrow">
            <a:avLst>
              <a:gd name="adj1" fmla="val 50000"/>
              <a:gd name="adj2" fmla="val 43794"/>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762120" y="2362320"/>
            <a:ext cx="1600200" cy="990360"/>
          </a:xfrm>
          <a:prstGeom prst="wedgeRoundRectCallout">
            <a:avLst>
              <a:gd name="adj1" fmla="val -30851"/>
              <a:gd name="adj2" fmla="val -63782"/>
              <a:gd name="adj3" fmla="val 16667"/>
            </a:avLst>
          </a:prstGeom>
          <a:gradFill rotWithShape="0">
            <a:gsLst>
              <a:gs pos="0">
                <a:srgbClr val="284975"/>
              </a:gs>
              <a:gs pos="100000">
                <a:srgbClr val="57a0ff"/>
              </a:gs>
            </a:gsLst>
            <a:lin ang="5400000"/>
          </a:gradFill>
          <a:ln w="0">
            <a:noFill/>
          </a:ln>
        </p:spPr>
        <p:style>
          <a:lnRef idx="0"/>
          <a:fillRef idx="0"/>
          <a:effectRef idx="0"/>
          <a:fontRef idx="minor"/>
        </p:style>
        <p:txBody>
          <a:bodyPr lIns="90000" rIns="90000" tIns="46800" bIns="46800" anchor="t">
            <a:noAutofit/>
          </a:bodyPr>
          <a:p>
            <a:pPr>
              <a:lnSpc>
                <a:spcPct val="12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Garamond"/>
              </a:rPr>
              <a:t>Investigación</a:t>
            </a:r>
            <a:endParaRPr b="0" lang="en-US" sz="1600" spc="-1" strike="noStrike">
              <a:solidFill>
                <a:srgbClr val="ffffff"/>
              </a:solidFill>
              <a:latin typeface="Times New Roman"/>
            </a:endParaRPr>
          </a:p>
          <a:p>
            <a:pPr>
              <a:lnSpc>
                <a:spcPct val="12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Garamond"/>
              </a:rPr>
              <a:t>Desarrollo</a:t>
            </a:r>
            <a:endParaRPr b="0" lang="en-US" sz="1600" spc="-1" strike="noStrike">
              <a:solidFill>
                <a:srgbClr val="ffffff"/>
              </a:solidFill>
              <a:latin typeface="Times New Roman"/>
            </a:endParaRPr>
          </a:p>
          <a:p>
            <a:pPr>
              <a:lnSpc>
                <a:spcPct val="12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Garamond"/>
              </a:rPr>
              <a:t>Estándare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865" name=""/>
          <p:cNvSpPr/>
          <p:nvPr/>
        </p:nvSpPr>
        <p:spPr>
          <a:xfrm>
            <a:off x="2438280" y="2362320"/>
            <a:ext cx="2210040" cy="3124080"/>
          </a:xfrm>
          <a:prstGeom prst="wedgeRoundRectCallout">
            <a:avLst>
              <a:gd name="adj1" fmla="val -8620"/>
              <a:gd name="adj2" fmla="val -54319"/>
              <a:gd name="adj3" fmla="val 16667"/>
            </a:avLst>
          </a:prstGeom>
          <a:gradFill rotWithShape="0">
            <a:gsLst>
              <a:gs pos="0">
                <a:srgbClr val="284975"/>
              </a:gs>
              <a:gs pos="100000">
                <a:srgbClr val="57a0ff"/>
              </a:gs>
            </a:gsLst>
            <a:lin ang="5400000"/>
          </a:gradFill>
          <a:ln w="0">
            <a:noFill/>
          </a:ln>
        </p:spPr>
        <p:style>
          <a:lnRef idx="0"/>
          <a:fillRef idx="0"/>
          <a:effectRef idx="0"/>
          <a:fontRef idx="minor"/>
        </p:style>
        <p:txBody>
          <a:bodyPr lIns="90000" rIns="90000" tIns="46800" bIns="46800" anchor="t">
            <a:noAutofit/>
          </a:bodyPr>
          <a:p>
            <a:pPr marL="101520" indent="-101520">
              <a:lnSpc>
                <a:spcPct val="12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Garamond"/>
              </a:rPr>
              <a:t>Difusor de la tecnología</a:t>
            </a:r>
            <a:endParaRPr b="0" lang="en-US" sz="1600" spc="-1" strike="noStrike">
              <a:solidFill>
                <a:srgbClr val="ffffff"/>
              </a:solidFill>
              <a:latin typeface="Times New Roman"/>
            </a:endParaRPr>
          </a:p>
          <a:p>
            <a:pPr marL="101520" indent="-101520">
              <a:lnSpc>
                <a:spcPct val="12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Garamond"/>
              </a:rPr>
              <a:t>Contacto con el mercado (state of the art)</a:t>
            </a:r>
            <a:endParaRPr b="0" lang="en-US" sz="1600" spc="-1" strike="noStrike">
              <a:solidFill>
                <a:srgbClr val="ffffff"/>
              </a:solidFill>
              <a:latin typeface="Times New Roman"/>
            </a:endParaRPr>
          </a:p>
          <a:p>
            <a:pPr marL="101520" indent="-101520">
              <a:lnSpc>
                <a:spcPct val="12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Garamond"/>
              </a:rPr>
              <a:t>Localización</a:t>
            </a:r>
            <a:endParaRPr b="0" lang="en-US" sz="1600" spc="-1" strike="noStrike">
              <a:solidFill>
                <a:srgbClr val="ffffff"/>
              </a:solidFill>
              <a:latin typeface="Times New Roman"/>
            </a:endParaRPr>
          </a:p>
          <a:p>
            <a:pPr marL="101520" indent="-101520">
              <a:lnSpc>
                <a:spcPct val="12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Garamond"/>
              </a:rPr>
              <a:t>Interfaz  con el adoptador</a:t>
            </a:r>
            <a:endParaRPr b="0" lang="en-US" sz="1600" spc="-1" strike="noStrike">
              <a:solidFill>
                <a:srgbClr val="ffffff"/>
              </a:solidFill>
              <a:latin typeface="Times New Roman"/>
            </a:endParaRPr>
          </a:p>
          <a:p>
            <a:pPr marL="101520" indent="-101520">
              <a:lnSpc>
                <a:spcPct val="12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Garamond"/>
              </a:rPr>
              <a:t>Integrador con aplicaciones</a:t>
            </a:r>
            <a:endParaRPr b="0" lang="en-US" sz="1600" spc="-1" strike="noStrike">
              <a:solidFill>
                <a:srgbClr val="ffffff"/>
              </a:solidFill>
              <a:latin typeface="Times New Roman"/>
            </a:endParaRPr>
          </a:p>
        </p:txBody>
      </p:sp>
      <p:sp>
        <p:nvSpPr>
          <p:cNvPr id="866" name=""/>
          <p:cNvSpPr/>
          <p:nvPr/>
        </p:nvSpPr>
        <p:spPr>
          <a:xfrm>
            <a:off x="4724280" y="2362320"/>
            <a:ext cx="2590920" cy="3200400"/>
          </a:xfrm>
          <a:prstGeom prst="wedgeRoundRectCallout">
            <a:avLst>
              <a:gd name="adj1" fmla="val -12069"/>
              <a:gd name="adj2" fmla="val -53768"/>
              <a:gd name="adj3" fmla="val 16667"/>
            </a:avLst>
          </a:prstGeom>
          <a:gradFill rotWithShape="0">
            <a:gsLst>
              <a:gs pos="0">
                <a:srgbClr val="284975"/>
              </a:gs>
              <a:gs pos="100000">
                <a:srgbClr val="57a0ff"/>
              </a:gs>
            </a:gsLst>
            <a:lin ang="5400000"/>
          </a:gradFill>
          <a:ln w="0">
            <a:noFill/>
          </a:ln>
        </p:spPr>
        <p:style>
          <a:lnRef idx="0"/>
          <a:fillRef idx="0"/>
          <a:effectRef idx="0"/>
          <a:fontRef idx="minor"/>
        </p:style>
        <p:txBody>
          <a:bodyPr lIns="90000" rIns="90000" tIns="46800" bIns="46800" anchor="t">
            <a:noAutofit/>
          </a:bodyPr>
          <a:p>
            <a:pPr marL="101520" indent="-101520">
              <a:lnSpc>
                <a:spcPct val="12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Garamond"/>
              </a:rPr>
              <a:t>Identificador de necesidades</a:t>
            </a:r>
            <a:endParaRPr b="0" lang="en-US" sz="1600" spc="-1" strike="noStrike">
              <a:solidFill>
                <a:srgbClr val="ffffff"/>
              </a:solidFill>
              <a:latin typeface="Times New Roman"/>
            </a:endParaRPr>
          </a:p>
          <a:p>
            <a:pPr marL="101520" indent="-101520">
              <a:lnSpc>
                <a:spcPct val="12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Garamond"/>
              </a:rPr>
              <a:t>Definición de uso (normas y procedimientos)</a:t>
            </a:r>
            <a:endParaRPr b="0" lang="en-US" sz="1600" spc="-1" strike="noStrike">
              <a:solidFill>
                <a:srgbClr val="ffffff"/>
              </a:solidFill>
              <a:latin typeface="Times New Roman"/>
            </a:endParaRPr>
          </a:p>
          <a:p>
            <a:pPr marL="101520" indent="-101520">
              <a:lnSpc>
                <a:spcPct val="12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Garamond"/>
              </a:rPr>
              <a:t>Empleo en sus aplicaciones</a:t>
            </a:r>
            <a:endParaRPr b="0" lang="en-US" sz="1600" spc="-1" strike="noStrike">
              <a:solidFill>
                <a:srgbClr val="ffffff"/>
              </a:solidFill>
              <a:latin typeface="Times New Roman"/>
            </a:endParaRPr>
          </a:p>
          <a:p>
            <a:pPr marL="101520" indent="-101520">
              <a:lnSpc>
                <a:spcPct val="12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Garamond"/>
              </a:rPr>
              <a:t>Distribuidor de certificados (identificación de suscriptores)</a:t>
            </a:r>
            <a:endParaRPr b="0" lang="en-US" sz="1600" spc="-1" strike="noStrike">
              <a:solidFill>
                <a:srgbClr val="ffffff"/>
              </a:solidFill>
              <a:latin typeface="Times New Roman"/>
            </a:endParaRPr>
          </a:p>
          <a:p>
            <a:pPr marL="101520" indent="-101520">
              <a:lnSpc>
                <a:spcPct val="12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Garamond"/>
              </a:rPr>
              <a:t>Principal beneficiario</a:t>
            </a:r>
            <a:endParaRPr b="0" lang="en-US" sz="1600" spc="-1" strike="noStrike">
              <a:solidFill>
                <a:srgbClr val="ffffff"/>
              </a:solidFill>
              <a:latin typeface="Times New Roman"/>
            </a:endParaRPr>
          </a:p>
          <a:p>
            <a:pPr marL="101520" indent="-101520">
              <a:lnSpc>
                <a:spcPct val="12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867" name=""/>
          <p:cNvSpPr/>
          <p:nvPr/>
        </p:nvSpPr>
        <p:spPr>
          <a:xfrm>
            <a:off x="7391520" y="2362320"/>
            <a:ext cx="1600200" cy="1600200"/>
          </a:xfrm>
          <a:prstGeom prst="wedgeRoundRectCallout">
            <a:avLst>
              <a:gd name="adj1" fmla="val -12402"/>
              <a:gd name="adj2" fmla="val -58430"/>
              <a:gd name="adj3" fmla="val 16667"/>
            </a:avLst>
          </a:prstGeom>
          <a:gradFill rotWithShape="0">
            <a:gsLst>
              <a:gs pos="0">
                <a:srgbClr val="284975"/>
              </a:gs>
              <a:gs pos="100000">
                <a:srgbClr val="57a0ff"/>
              </a:gs>
            </a:gsLst>
            <a:lin ang="5400000"/>
          </a:gradFill>
          <a:ln w="0">
            <a:noFill/>
          </a:ln>
        </p:spPr>
        <p:style>
          <a:lnRef idx="0"/>
          <a:fillRef idx="0"/>
          <a:effectRef idx="0"/>
          <a:fontRef idx="minor"/>
        </p:style>
        <p:txBody>
          <a:bodyPr lIns="90000" rIns="90000" tIns="46800" bIns="46800" anchor="t">
            <a:noAutofit/>
          </a:bodyPr>
          <a:p>
            <a:pPr marL="101520" indent="-101520">
              <a:lnSpc>
                <a:spcPct val="12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Garamond"/>
              </a:rPr>
              <a:t>Utiliza la tecnología</a:t>
            </a:r>
            <a:endParaRPr b="0" lang="en-US" sz="1600" spc="-1" strike="noStrike">
              <a:solidFill>
                <a:srgbClr val="ffffff"/>
              </a:solidFill>
              <a:latin typeface="Times New Roman"/>
            </a:endParaRPr>
          </a:p>
          <a:p>
            <a:pPr marL="101520" indent="-101520">
              <a:lnSpc>
                <a:spcPct val="12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Garamond"/>
              </a:rPr>
              <a:t>Evalúa conveniencia</a:t>
            </a:r>
            <a:endParaRPr b="0" lang="en-US" sz="1600" spc="-1" strike="noStrike">
              <a:solidFill>
                <a:srgbClr val="ffffff"/>
              </a:solidFill>
              <a:latin typeface="Times New Roman"/>
            </a:endParaRPr>
          </a:p>
          <a:p>
            <a:pPr marL="101520" indent="-101520">
              <a:lnSpc>
                <a:spcPct val="12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Garamond"/>
              </a:rPr>
              <a:t>Adopta (o no)</a:t>
            </a:r>
            <a:endParaRPr b="0" lang="en-US" sz="1600" spc="-1" strike="noStrike">
              <a:solidFill>
                <a:srgbClr val="ffffff"/>
              </a:solidFill>
              <a:latin typeface="Times New Roman"/>
            </a:endParaRPr>
          </a:p>
          <a:p>
            <a:pPr marL="101520" indent="-101520">
              <a:lnSpc>
                <a:spcPct val="12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868" name="VeriSign.logo.transparente" descr=""/>
          <p:cNvPicPr/>
          <p:nvPr/>
        </p:nvPicPr>
        <p:blipFill>
          <a:blip r:embed="rId2"/>
          <a:stretch/>
        </p:blipFill>
        <p:spPr>
          <a:xfrm>
            <a:off x="685800" y="6032520"/>
            <a:ext cx="1600200" cy="673200"/>
          </a:xfrm>
          <a:prstGeom prst="rect">
            <a:avLst/>
          </a:prstGeom>
          <a:ln w="0">
            <a:noFill/>
          </a:ln>
        </p:spPr>
      </p:pic>
      <p:pic>
        <p:nvPicPr>
          <p:cNvPr id="869" name="Lgo_CertiSur_FondoTransparente" descr=""/>
          <p:cNvPicPr/>
          <p:nvPr/>
        </p:nvPicPr>
        <p:blipFill>
          <a:blip r:embed="rId3"/>
          <a:stretch/>
        </p:blipFill>
        <p:spPr>
          <a:xfrm>
            <a:off x="2971800" y="5867280"/>
            <a:ext cx="1371600" cy="833400"/>
          </a:xfrm>
          <a:prstGeom prst="rect">
            <a:avLst/>
          </a:prstGeom>
          <a:ln w="0">
            <a:noFill/>
          </a:ln>
        </p:spPr>
      </p:pic>
      <p:sp>
        <p:nvSpPr>
          <p:cNvPr id="870" name="PlaceHolder 1"/>
          <p:cNvSpPr>
            <a:spLocks noGrp="1"/>
          </p:cNvSpPr>
          <p:nvPr>
            <p:ph type="title"/>
          </p:nvPr>
        </p:nvSpPr>
        <p:spPr>
          <a:xfrm>
            <a:off x="1041480" y="25560"/>
            <a:ext cx="7772400" cy="9950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Tahoma"/>
              </a:rPr>
              <a:t>Cadena de implantación de la Tecnología</a:t>
            </a:r>
            <a:endParaRPr b="1" lang="en-US" sz="2800" spc="-1" strike="noStrike">
              <a:solidFill>
                <a:srgbClr val="ffffff"/>
              </a:solidFill>
              <a:latin typeface="Tahoma"/>
            </a:endParaRPr>
          </a:p>
        </p:txBody>
      </p:sp>
      <p:pic>
        <p:nvPicPr>
          <p:cNvPr id="871" name="BL00374_" descr=""/>
          <p:cNvPicPr/>
          <p:nvPr/>
        </p:nvPicPr>
        <p:blipFill>
          <a:blip r:embed="rId4"/>
          <a:stretch/>
        </p:blipFill>
        <p:spPr>
          <a:xfrm>
            <a:off x="5334120" y="5638680"/>
            <a:ext cx="1447560" cy="1067040"/>
          </a:xfrm>
          <a:prstGeom prst="rect">
            <a:avLst/>
          </a:prstGeom>
          <a:ln w="0">
            <a:noFill/>
          </a:ln>
        </p:spPr>
      </p:pic>
      <p:pic>
        <p:nvPicPr>
          <p:cNvPr id="872" name="BD05502_" descr=""/>
          <p:cNvPicPr/>
          <p:nvPr/>
        </p:nvPicPr>
        <p:blipFill>
          <a:blip r:embed="rId5"/>
          <a:stretch/>
        </p:blipFill>
        <p:spPr>
          <a:xfrm>
            <a:off x="7696080" y="5638680"/>
            <a:ext cx="1143000" cy="103032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041480" y="25560"/>
            <a:ext cx="7772400" cy="9950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ahoma"/>
              </a:rPr>
              <a:t>Definición de Firma Digital </a:t>
            </a:r>
            <a:r>
              <a:rPr b="1" lang="es-MX" sz="1800" spc="-1" strike="noStrike">
                <a:solidFill>
                  <a:srgbClr val="ffffff"/>
                </a:solidFill>
                <a:latin typeface="Tahoma"/>
              </a:rPr>
              <a:t>(Leg. Argentina)</a:t>
            </a:r>
            <a:endParaRPr b="1" lang="en-US" sz="1800" spc="-1" strike="noStrike">
              <a:solidFill>
                <a:srgbClr val="ffffff"/>
              </a:solidFill>
              <a:latin typeface="Tahoma"/>
            </a:endParaRPr>
          </a:p>
        </p:txBody>
      </p:sp>
      <p:sp>
        <p:nvSpPr>
          <p:cNvPr id="84" name="PlaceHolder 2"/>
          <p:cNvSpPr>
            <a:spLocks noGrp="1"/>
          </p:cNvSpPr>
          <p:nvPr>
            <p:ph/>
          </p:nvPr>
        </p:nvSpPr>
        <p:spPr>
          <a:xfrm>
            <a:off x="914040" y="1752120"/>
            <a:ext cx="7543800" cy="4496040"/>
          </a:xfrm>
          <a:prstGeom prst="rect">
            <a:avLst/>
          </a:prstGeom>
          <a:noFill/>
          <a:ln w="0">
            <a:noFill/>
          </a:ln>
        </p:spPr>
        <p:txBody>
          <a:bodyPr lIns="90000" rIns="90000" tIns="46800" bIns="46800" anchor="t">
            <a:normAutofit/>
          </a:bodyPr>
          <a:p>
            <a:pPr marL="343080" indent="1440" algn="just">
              <a:lnSpc>
                <a:spcPct val="85000"/>
              </a:lnSpc>
              <a:spcBef>
                <a:spcPts val="1950"/>
              </a:spcBef>
              <a:buClr>
                <a:srgbClr val="ffcc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ea typeface="Arial"/>
              </a:rPr>
              <a:t>“</a:t>
            </a:r>
            <a:r>
              <a:rPr b="0" lang="es-AR" sz="2800" spc="-1" strike="noStrike">
                <a:solidFill>
                  <a:srgbClr val="ffffff"/>
                </a:solidFill>
                <a:latin typeface="Arial"/>
                <a:ea typeface="Arial"/>
              </a:rPr>
              <a:t>ARTICULO 2°.- Firma Digital</a:t>
            </a:r>
            <a:r>
              <a:rPr b="1" lang="es-AR" sz="2800" spc="-1" strike="noStrike">
                <a:solidFill>
                  <a:srgbClr val="ffffff"/>
                </a:solidFill>
                <a:latin typeface="Arial"/>
                <a:ea typeface="Arial"/>
              </a:rPr>
              <a:t>. </a:t>
            </a:r>
            <a:r>
              <a:rPr b="1" i="1" lang="es-AR" sz="2400" spc="-1" strike="noStrike">
                <a:solidFill>
                  <a:srgbClr val="ffffff"/>
                </a:solidFill>
                <a:latin typeface="Arial"/>
                <a:ea typeface="Arial"/>
              </a:rPr>
              <a:t>Se entiende por firma digital al resultado de aplicar a un documento digital un procedimiento matemático que requiere información de exclusivo conocimiento del firmante encontrándose ésta bajo su absoluto control. La firma digital debe ser susceptible de verificación por terceras partes tal que dicha verificación simultáneamente permita identificar al firmante y detectar cualquier alteración del documento digital posterior a su firma.”</a:t>
            </a:r>
            <a:endParaRPr b="1" lang="en-US" sz="2400" spc="-1" strike="noStrike">
              <a:solidFill>
                <a:srgbClr val="ffffff"/>
              </a:solidFill>
              <a:latin typeface="Garamond"/>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41480" y="25560"/>
            <a:ext cx="7772400" cy="9950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Definición de Firma Electrónica </a:t>
            </a:r>
            <a:endParaRPr b="1" lang="en-US" sz="2800" spc="-1" strike="noStrike">
              <a:solidFill>
                <a:srgbClr val="ffffff"/>
              </a:solidFill>
              <a:latin typeface="Tahoma"/>
            </a:endParaRPr>
          </a:p>
        </p:txBody>
      </p:sp>
      <p:sp>
        <p:nvSpPr>
          <p:cNvPr id="86" name="PlaceHolder 2"/>
          <p:cNvSpPr>
            <a:spLocks noGrp="1"/>
          </p:cNvSpPr>
          <p:nvPr>
            <p:ph/>
          </p:nvPr>
        </p:nvSpPr>
        <p:spPr>
          <a:xfrm>
            <a:off x="1041480" y="1727280"/>
            <a:ext cx="7772400" cy="4114800"/>
          </a:xfrm>
          <a:prstGeom prst="rect">
            <a:avLst/>
          </a:prstGeom>
          <a:noFill/>
          <a:ln w="0">
            <a:noFill/>
          </a:ln>
        </p:spPr>
        <p:txBody>
          <a:bodyPr lIns="90000" rIns="90000" tIns="46800" bIns="46800" anchor="t">
            <a:normAutofit/>
          </a:bodyPr>
          <a:p>
            <a:pPr marL="343080" indent="-343080">
              <a:lnSpc>
                <a:spcPct val="85000"/>
              </a:lnSpc>
              <a:spcBef>
                <a:spcPts val="2276"/>
              </a:spcBef>
              <a:buClr>
                <a:srgbClr val="ffcc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rtículo 5° - Firma electrónica</a:t>
            </a:r>
            <a:r>
              <a:rPr b="0" lang="es-ES_tradnl" sz="2800" spc="-1" strike="noStrike">
                <a:solidFill>
                  <a:srgbClr val="ffffff"/>
                </a:solidFill>
                <a:latin typeface="Arial"/>
              </a:rPr>
              <a:t>.  </a:t>
            </a:r>
            <a:r>
              <a:rPr b="0" i="1" lang="es-ES_tradnl" sz="2800" spc="-1" strike="noStrike">
                <a:solidFill>
                  <a:srgbClr val="ffffff"/>
                </a:solidFill>
                <a:latin typeface="Arial"/>
              </a:rPr>
              <a:t>Se entiende por firma electrónica al conjunto de datos electrónicos integrados, ligados o asociados de manera lógica a otros datos electrónicos, utilizado por el signatario como su medio de identificación, que carezca de alguno de los requisitos legales para ser considerada firma digital.  </a:t>
            </a:r>
            <a:r>
              <a:rPr b="0" i="1" lang="es-ES_tradnl" sz="2800" spc="-1" strike="noStrike" u="sng">
                <a:solidFill>
                  <a:srgbClr val="ffffff"/>
                </a:solidFill>
                <a:uFillTx/>
                <a:latin typeface="Arial"/>
              </a:rPr>
              <a:t>En caso de ser desconocida la firma electrónica corresponde a quien la invoca acreditar su validez</a:t>
            </a:r>
            <a:endParaRPr b="1" lang="en-US" sz="2800" spc="-1" strike="noStrike">
              <a:solidFill>
                <a:srgbClr val="ffffff"/>
              </a:solidFill>
              <a:latin typeface="Garamond"/>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41480" y="25560"/>
            <a:ext cx="7772400" cy="9950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Diferentes Facetas </a:t>
            </a:r>
            <a:endParaRPr b="1" lang="en-US" sz="2800" spc="-1" strike="noStrike">
              <a:solidFill>
                <a:srgbClr val="ffffff"/>
              </a:solidFill>
              <a:latin typeface="Tahoma"/>
            </a:endParaRPr>
          </a:p>
        </p:txBody>
      </p:sp>
      <p:grpSp>
        <p:nvGrpSpPr>
          <p:cNvPr id="88" name=""/>
          <p:cNvGrpSpPr/>
          <p:nvPr/>
        </p:nvGrpSpPr>
        <p:grpSpPr>
          <a:xfrm>
            <a:off x="3352680" y="1828800"/>
            <a:ext cx="2514600" cy="1068840"/>
            <a:chOff x="3352680" y="1828800"/>
            <a:chExt cx="2514600" cy="1068840"/>
          </a:xfrm>
        </p:grpSpPr>
        <p:sp>
          <p:nvSpPr>
            <p:cNvPr id="89" name=""/>
            <p:cNvSpPr/>
            <p:nvPr/>
          </p:nvSpPr>
          <p:spPr>
            <a:xfrm>
              <a:off x="3429000" y="1828800"/>
              <a:ext cx="23842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Firma Digital</a:t>
              </a:r>
              <a:endParaRPr b="0" lang="en-US" sz="3200" spc="-1" strike="noStrike">
                <a:solidFill>
                  <a:srgbClr val="ffffff"/>
                </a:solidFill>
                <a:latin typeface="Times New Roman"/>
              </a:endParaRPr>
            </a:p>
          </p:txBody>
        </p:sp>
        <p:sp>
          <p:nvSpPr>
            <p:cNvPr id="90" name=""/>
            <p:cNvSpPr/>
            <p:nvPr/>
          </p:nvSpPr>
          <p:spPr>
            <a:xfrm>
              <a:off x="3352680" y="1828800"/>
              <a:ext cx="251460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1" name=""/>
          <p:cNvGrpSpPr/>
          <p:nvPr/>
        </p:nvGrpSpPr>
        <p:grpSpPr>
          <a:xfrm>
            <a:off x="1371600" y="3962520"/>
            <a:ext cx="2362320" cy="838080"/>
            <a:chOff x="1371600" y="3962520"/>
            <a:chExt cx="2362320" cy="838080"/>
          </a:xfrm>
        </p:grpSpPr>
        <p:sp>
          <p:nvSpPr>
            <p:cNvPr id="92" name=""/>
            <p:cNvSpPr/>
            <p:nvPr/>
          </p:nvSpPr>
          <p:spPr>
            <a:xfrm>
              <a:off x="1371600" y="3962520"/>
              <a:ext cx="2225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sde el punto de vista legal</a:t>
              </a:r>
              <a:endParaRPr b="0" lang="en-US" sz="2400" spc="-1" strike="noStrike">
                <a:solidFill>
                  <a:srgbClr val="ffffff"/>
                </a:solidFill>
                <a:latin typeface="Times New Roman"/>
              </a:endParaRPr>
            </a:p>
          </p:txBody>
        </p:sp>
        <p:sp>
          <p:nvSpPr>
            <p:cNvPr id="93" name=""/>
            <p:cNvSpPr/>
            <p:nvPr/>
          </p:nvSpPr>
          <p:spPr>
            <a:xfrm>
              <a:off x="1371600" y="3962520"/>
              <a:ext cx="2362320" cy="838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4" name=""/>
          <p:cNvGrpSpPr/>
          <p:nvPr/>
        </p:nvGrpSpPr>
        <p:grpSpPr>
          <a:xfrm>
            <a:off x="5410080" y="3962520"/>
            <a:ext cx="2819160" cy="838080"/>
            <a:chOff x="5410080" y="3962520"/>
            <a:chExt cx="2819160" cy="838080"/>
          </a:xfrm>
        </p:grpSpPr>
        <p:sp>
          <p:nvSpPr>
            <p:cNvPr id="95" name=""/>
            <p:cNvSpPr/>
            <p:nvPr/>
          </p:nvSpPr>
          <p:spPr>
            <a:xfrm>
              <a:off x="5410080" y="3962520"/>
              <a:ext cx="2819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sde el punto de vista tecnológico</a:t>
              </a:r>
              <a:endParaRPr b="0" lang="en-US" sz="2400" spc="-1" strike="noStrike">
                <a:solidFill>
                  <a:srgbClr val="ffffff"/>
                </a:solidFill>
                <a:latin typeface="Times New Roman"/>
              </a:endParaRPr>
            </a:p>
          </p:txBody>
        </p:sp>
        <p:sp>
          <p:nvSpPr>
            <p:cNvPr id="96" name=""/>
            <p:cNvSpPr/>
            <p:nvPr/>
          </p:nvSpPr>
          <p:spPr>
            <a:xfrm>
              <a:off x="5638680" y="3962520"/>
              <a:ext cx="2361960" cy="838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97" name="PE01683_" descr=""/>
          <p:cNvPicPr/>
          <p:nvPr/>
        </p:nvPicPr>
        <p:blipFill>
          <a:blip r:embed="rId1"/>
          <a:stretch/>
        </p:blipFill>
        <p:spPr>
          <a:xfrm>
            <a:off x="6095880" y="4952880"/>
            <a:ext cx="1627200" cy="1752840"/>
          </a:xfrm>
          <a:prstGeom prst="rect">
            <a:avLst/>
          </a:prstGeom>
          <a:ln w="0">
            <a:noFill/>
          </a:ln>
        </p:spPr>
      </p:pic>
      <p:grpSp>
        <p:nvGrpSpPr>
          <p:cNvPr id="98" name=""/>
          <p:cNvGrpSpPr/>
          <p:nvPr/>
        </p:nvGrpSpPr>
        <p:grpSpPr>
          <a:xfrm>
            <a:off x="1676520" y="4876920"/>
            <a:ext cx="1841400" cy="1646280"/>
            <a:chOff x="1676520" y="4876920"/>
            <a:chExt cx="1841400" cy="1646280"/>
          </a:xfrm>
        </p:grpSpPr>
        <p:pic>
          <p:nvPicPr>
            <p:cNvPr id="99" name="" descr=""/>
            <p:cNvPicPr/>
            <p:nvPr/>
          </p:nvPicPr>
          <p:blipFill>
            <a:blip r:embed="rId2"/>
            <a:stretch/>
          </p:blipFill>
          <p:spPr>
            <a:xfrm>
              <a:off x="1905120" y="4953240"/>
              <a:ext cx="1612800" cy="1079640"/>
            </a:xfrm>
            <a:prstGeom prst="rect">
              <a:avLst/>
            </a:prstGeom>
            <a:ln w="0">
              <a:noFill/>
            </a:ln>
          </p:spPr>
        </p:pic>
        <p:sp>
          <p:nvSpPr>
            <p:cNvPr id="100" name=""/>
            <p:cNvSpPr/>
            <p:nvPr/>
          </p:nvSpPr>
          <p:spPr>
            <a:xfrm>
              <a:off x="1676520" y="4876920"/>
              <a:ext cx="175248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1" name="" descr=""/>
            <p:cNvPicPr/>
            <p:nvPr/>
          </p:nvPicPr>
          <p:blipFill>
            <a:blip r:embed="rId3"/>
            <a:stretch/>
          </p:blipFill>
          <p:spPr>
            <a:xfrm>
              <a:off x="2362320" y="5867640"/>
              <a:ext cx="501480" cy="655560"/>
            </a:xfrm>
            <a:prstGeom prst="rect">
              <a:avLst/>
            </a:prstGeom>
            <a:ln w="0">
              <a:noFill/>
            </a:ln>
          </p:spPr>
        </p:pic>
      </p:grpSp>
      <p:sp>
        <p:nvSpPr>
          <p:cNvPr id="102" name=""/>
          <p:cNvSpPr/>
          <p:nvPr/>
        </p:nvSpPr>
        <p:spPr>
          <a:xfrm flipH="1">
            <a:off x="2590560" y="2514600"/>
            <a:ext cx="198108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4572000" y="2514600"/>
            <a:ext cx="205740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440" y="1371600"/>
            <a:ext cx="8458200" cy="4952880"/>
          </a:xfrm>
          <a:prstGeom prst="rect">
            <a:avLst/>
          </a:prstGeom>
          <a:noFill/>
          <a:ln w="0">
            <a:noFill/>
          </a:ln>
        </p:spPr>
        <p:txBody>
          <a:bodyPr lIns="90000" rIns="90000" tIns="46800" bIns="46800" anchor="t">
            <a:normAutofit/>
          </a:bodyPr>
          <a:p>
            <a:pPr marL="343080" indent="-343080">
              <a:lnSpc>
                <a:spcPct val="75000"/>
              </a:lnSpc>
              <a:spcBef>
                <a:spcPts val="1624"/>
              </a:spcBef>
              <a:buClr>
                <a:srgbClr val="ffcc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Banco Central de Reserva de El Salvador</a:t>
            </a:r>
            <a:endParaRPr b="1" lang="en-US" sz="2000" spc="-1" strike="noStrike">
              <a:solidFill>
                <a:srgbClr val="ffffff"/>
              </a:solidFill>
              <a:latin typeface="Garamond"/>
            </a:endParaRPr>
          </a:p>
          <a:p>
            <a:pPr lvl="1" marL="743040" indent="-285840">
              <a:lnSpc>
                <a:spcPct val="75000"/>
              </a:lnSpc>
              <a:spcBef>
                <a:spcPts val="825"/>
              </a:spcBef>
              <a:buClr>
                <a:srgbClr val="ffcc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Garamond"/>
              </a:rPr>
              <a:t>Autenticación ante la Cámara de Compensación de Cheques Interbancaria (usuarios: todos los Bancos que componen el sistema Financiero)</a:t>
            </a:r>
            <a:endParaRPr b="0" lang="en-US" sz="2200" spc="-1" strike="noStrike">
              <a:solidFill>
                <a:srgbClr val="ffffff"/>
              </a:solidFill>
              <a:latin typeface="Garamond"/>
            </a:endParaRPr>
          </a:p>
          <a:p>
            <a:pPr marL="343080" indent="-343080">
              <a:lnSpc>
                <a:spcPct val="75000"/>
              </a:lnSpc>
              <a:spcBef>
                <a:spcPts val="1624"/>
              </a:spcBef>
              <a:buClr>
                <a:srgbClr val="ffcc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Banco de la Provincia de Buenos Aires</a:t>
            </a:r>
            <a:endParaRPr b="1" lang="en-US" sz="2000" spc="-1" strike="noStrike">
              <a:solidFill>
                <a:srgbClr val="ffffff"/>
              </a:solidFill>
              <a:latin typeface="Garamond"/>
            </a:endParaRPr>
          </a:p>
          <a:p>
            <a:pPr lvl="1" marL="743040" indent="-285840">
              <a:lnSpc>
                <a:spcPct val="75000"/>
              </a:lnSpc>
              <a:spcBef>
                <a:spcPts val="825"/>
              </a:spcBef>
              <a:buClr>
                <a:srgbClr val="ffcc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Firma y encriptación de correo electrónico con instrucciones desde y para las sucursales del exterior</a:t>
            </a:r>
            <a:endParaRPr b="0" lang="en-US" sz="2200" spc="-1" strike="noStrike">
              <a:solidFill>
                <a:srgbClr val="ffffff"/>
              </a:solidFill>
              <a:latin typeface="Garamond"/>
            </a:endParaRPr>
          </a:p>
          <a:p>
            <a:pPr marL="343080" indent="-343080">
              <a:lnSpc>
                <a:spcPct val="75000"/>
              </a:lnSpc>
              <a:spcBef>
                <a:spcPts val="1624"/>
              </a:spcBef>
              <a:buClr>
                <a:srgbClr val="ffcc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Banco de Valores</a:t>
            </a:r>
            <a:endParaRPr b="1" lang="en-US" sz="2000" spc="-1" strike="noStrike">
              <a:solidFill>
                <a:srgbClr val="ffffff"/>
              </a:solidFill>
              <a:latin typeface="Garamond"/>
            </a:endParaRPr>
          </a:p>
          <a:p>
            <a:pPr lvl="1" marL="743040" indent="-285840">
              <a:lnSpc>
                <a:spcPct val="75000"/>
              </a:lnSpc>
              <a:spcBef>
                <a:spcPts val="825"/>
              </a:spcBef>
              <a:buClr>
                <a:srgbClr val="ffcc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Autenticación y firma de transacciones en el sistema de Banca Virtual (usuarios: Mercado de Valores, Sociedades y Agentes de Bolsa, Bancos, etc.)</a:t>
            </a:r>
            <a:endParaRPr b="0" lang="en-US" sz="2200" spc="-1" strike="noStrike">
              <a:solidFill>
                <a:srgbClr val="ffffff"/>
              </a:solidFill>
              <a:latin typeface="Garamond"/>
            </a:endParaRPr>
          </a:p>
          <a:p>
            <a:pPr marL="343080" indent="-343080">
              <a:lnSpc>
                <a:spcPct val="75000"/>
              </a:lnSpc>
              <a:spcBef>
                <a:spcPts val="1624"/>
              </a:spcBef>
              <a:buClr>
                <a:srgbClr val="ffcc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Banco Central del Uruguay</a:t>
            </a:r>
            <a:endParaRPr b="1" lang="en-US" sz="2000" spc="-1" strike="noStrike">
              <a:solidFill>
                <a:srgbClr val="ffffff"/>
              </a:solidFill>
              <a:latin typeface="Garamond"/>
            </a:endParaRPr>
          </a:p>
          <a:p>
            <a:pPr lvl="1" marL="743040" indent="-285840">
              <a:lnSpc>
                <a:spcPct val="75000"/>
              </a:lnSpc>
              <a:spcBef>
                <a:spcPts val="825"/>
              </a:spcBef>
              <a:buClr>
                <a:srgbClr val="ffcc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Acuse de recibo de Circulares y Firma Digital de toda la información contable a presentar  (usuarios:  Funcionarios autorizados de los Bancos)</a:t>
            </a:r>
            <a:endParaRPr b="0" lang="en-US" sz="2200" spc="-1" strike="noStrike">
              <a:solidFill>
                <a:srgbClr val="ffffff"/>
              </a:solidFill>
              <a:latin typeface="Garamond"/>
            </a:endParaRPr>
          </a:p>
        </p:txBody>
      </p:sp>
      <p:sp>
        <p:nvSpPr>
          <p:cNvPr id="105" name="PlaceHolder 2"/>
          <p:cNvSpPr>
            <a:spLocks noGrp="1"/>
          </p:cNvSpPr>
          <p:nvPr>
            <p:ph type="title"/>
          </p:nvPr>
        </p:nvSpPr>
        <p:spPr>
          <a:xfrm>
            <a:off x="1041480" y="25560"/>
            <a:ext cx="7772400" cy="9950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Tahoma"/>
              </a:rPr>
              <a:t>¿Qué hacen nuestros clientes?</a:t>
            </a:r>
            <a:endParaRPr b="1" lang="en-US" sz="2800" spc="-1" strike="noStrike">
              <a:solidFill>
                <a:srgbClr val="ffffff"/>
              </a:solidFill>
              <a:latin typeface="Tahoma"/>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440" y="1371600"/>
            <a:ext cx="8458200" cy="4952880"/>
          </a:xfrm>
          <a:prstGeom prst="rect">
            <a:avLst/>
          </a:prstGeom>
          <a:noFill/>
          <a:ln w="0">
            <a:noFill/>
          </a:ln>
        </p:spPr>
        <p:txBody>
          <a:bodyPr lIns="90000" rIns="90000" tIns="46800" bIns="46800" anchor="t">
            <a:normAutofit/>
          </a:bodyPr>
          <a:p>
            <a:pPr marL="343080" indent="-343080">
              <a:lnSpc>
                <a:spcPct val="85000"/>
              </a:lnSpc>
              <a:spcBef>
                <a:spcPts val="1789"/>
              </a:spcBef>
              <a:buClr>
                <a:srgbClr val="ffcc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Garamond"/>
              </a:rPr>
              <a:t>Bolsa de Comercio de Rosario (+ Bolsas de Cereales de Buenos Aires y Bahía Blanca)</a:t>
            </a:r>
            <a:endParaRPr b="1" lang="en-US" sz="2200" spc="-1" strike="noStrike">
              <a:solidFill>
                <a:srgbClr val="ffffff"/>
              </a:solidFill>
              <a:latin typeface="Garamond"/>
            </a:endParaRPr>
          </a:p>
          <a:p>
            <a:pPr lvl="1" marL="743040" indent="-285840">
              <a:lnSpc>
                <a:spcPct val="85000"/>
              </a:lnSpc>
              <a:spcBef>
                <a:spcPts val="825"/>
              </a:spcBef>
              <a:buClr>
                <a:srgbClr val="ffcc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Garamond"/>
              </a:rPr>
              <a:t>Firma “on-line” de contratos de compra-venta de commodities (usuarios: productores, compradores, brokers y funcionarios de las Cámaras que registran los contratos)</a:t>
            </a:r>
            <a:endParaRPr b="0" lang="en-US" sz="2200" spc="-1" strike="noStrike">
              <a:solidFill>
                <a:srgbClr val="ffffff"/>
              </a:solidFill>
              <a:latin typeface="Garamond"/>
            </a:endParaRPr>
          </a:p>
          <a:p>
            <a:pPr marL="343080" indent="-343080">
              <a:lnSpc>
                <a:spcPct val="85000"/>
              </a:lnSpc>
              <a:spcBef>
                <a:spcPts val="1789"/>
              </a:spcBef>
              <a:buClr>
                <a:srgbClr val="ffcc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Garamond"/>
              </a:rPr>
              <a:t>Consejo Federal del Notariado Argentino</a:t>
            </a:r>
            <a:endParaRPr b="1" lang="en-US" sz="2200" spc="-1" strike="noStrike">
              <a:solidFill>
                <a:srgbClr val="ffffff"/>
              </a:solidFill>
              <a:latin typeface="Garamond"/>
            </a:endParaRPr>
          </a:p>
          <a:p>
            <a:pPr lvl="1" marL="743040" indent="-285840">
              <a:lnSpc>
                <a:spcPct val="85000"/>
              </a:lnSpc>
              <a:spcBef>
                <a:spcPts val="825"/>
              </a:spcBef>
              <a:buClr>
                <a:srgbClr val="ffcc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Garamond"/>
              </a:rPr>
              <a:t>Presentación por Internet de la declaración de Actos Notariales</a:t>
            </a:r>
            <a:endParaRPr b="0" lang="en-US" sz="2200" spc="-1" strike="noStrike">
              <a:solidFill>
                <a:srgbClr val="ffffff"/>
              </a:solidFill>
              <a:latin typeface="Garamond"/>
            </a:endParaRPr>
          </a:p>
          <a:p>
            <a:pPr lvl="1" marL="743040" indent="-285840">
              <a:lnSpc>
                <a:spcPct val="85000"/>
              </a:lnSpc>
              <a:spcBef>
                <a:spcPts val="825"/>
              </a:spcBef>
              <a:buClr>
                <a:srgbClr val="ffcc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Garamond"/>
              </a:rPr>
              <a:t>Trámites internos ante los respectivos Colegios Juridiccionales</a:t>
            </a:r>
            <a:endParaRPr b="0" lang="en-US" sz="2200" spc="-1" strike="noStrike">
              <a:solidFill>
                <a:srgbClr val="ffffff"/>
              </a:solidFill>
              <a:latin typeface="Garamond"/>
            </a:endParaRPr>
          </a:p>
        </p:txBody>
      </p:sp>
      <p:sp>
        <p:nvSpPr>
          <p:cNvPr id="107" name="PlaceHolder 2"/>
          <p:cNvSpPr>
            <a:spLocks noGrp="1"/>
          </p:cNvSpPr>
          <p:nvPr>
            <p:ph type="title"/>
          </p:nvPr>
        </p:nvSpPr>
        <p:spPr>
          <a:xfrm>
            <a:off x="1041480" y="25560"/>
            <a:ext cx="7772400" cy="9950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Tahoma"/>
              </a:rPr>
              <a:t>¿Qué hacen nuestros clientes?</a:t>
            </a:r>
            <a:endParaRPr b="1" lang="en-US" sz="2800" spc="-1" strike="noStrike">
              <a:solidFill>
                <a:srgbClr val="ffffff"/>
              </a:solidFill>
              <a:latin typeface="Tahoma"/>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41480" y="25560"/>
            <a:ext cx="7772400" cy="9950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eclaración Actos Notariales </a:t>
            </a:r>
            <a:endParaRPr b="1" lang="en-US" sz="2800" spc="-1" strike="noStrike">
              <a:solidFill>
                <a:srgbClr val="ffffff"/>
              </a:solidFill>
              <a:latin typeface="Tahoma"/>
            </a:endParaRPr>
          </a:p>
        </p:txBody>
      </p:sp>
      <p:sp>
        <p:nvSpPr>
          <p:cNvPr id="109" name="PlaceHolder 2"/>
          <p:cNvSpPr>
            <a:spLocks noGrp="1"/>
          </p:cNvSpPr>
          <p:nvPr>
            <p:ph/>
          </p:nvPr>
        </p:nvSpPr>
        <p:spPr>
          <a:xfrm>
            <a:off x="1041120" y="1727280"/>
            <a:ext cx="3809880" cy="411480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110" name="PlaceHolder 3"/>
          <p:cNvSpPr>
            <a:spLocks noGrp="1"/>
          </p:cNvSpPr>
          <p:nvPr>
            <p:ph/>
          </p:nvPr>
        </p:nvSpPr>
        <p:spPr>
          <a:xfrm>
            <a:off x="5003640" y="1727280"/>
            <a:ext cx="3810240" cy="4114800"/>
          </a:xfrm>
          <a:prstGeom prst="rect">
            <a:avLst/>
          </a:prstGeom>
          <a:noFill/>
          <a:ln w="0">
            <a:noFill/>
          </a:ln>
        </p:spPr>
        <p:txBody>
          <a:bodyPr lIns="90000" rIns="90000" tIns="46800" bIns="46800" anchor="t">
            <a:normAutofit/>
          </a:bodyPr>
          <a:p>
            <a:pPr indent="0">
              <a:lnSpc>
                <a:spcPct val="85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pic>
        <p:nvPicPr>
          <p:cNvPr id="111" name="" descr=""/>
          <p:cNvPicPr/>
          <p:nvPr/>
        </p:nvPicPr>
        <p:blipFill>
          <a:blip r:embed="rId1"/>
          <a:stretch/>
        </p:blipFill>
        <p:spPr>
          <a:xfrm>
            <a:off x="1219320" y="1143000"/>
            <a:ext cx="7467480" cy="5600880"/>
          </a:xfrm>
          <a:prstGeom prst="rect">
            <a:avLst/>
          </a:prstGeom>
          <a:ln w="0">
            <a:noFill/>
          </a:ln>
        </p:spPr>
      </p:pic>
      <p:pic>
        <p:nvPicPr>
          <p:cNvPr id="112" name="" descr=""/>
          <p:cNvPicPr/>
          <p:nvPr/>
        </p:nvPicPr>
        <p:blipFill>
          <a:blip r:embed="rId2"/>
          <a:stretch/>
        </p:blipFill>
        <p:spPr>
          <a:xfrm>
            <a:off x="2819520" y="3600360"/>
            <a:ext cx="4457520" cy="1200240"/>
          </a:xfrm>
          <a:prstGeom prst="rect">
            <a:avLst/>
          </a:prstGeom>
          <a:ln w="0">
            <a:noFill/>
          </a:ln>
        </p:spPr>
      </p:pic>
      <p:pic>
        <p:nvPicPr>
          <p:cNvPr id="113" name="" descr=""/>
          <p:cNvPicPr/>
          <p:nvPr/>
        </p:nvPicPr>
        <p:blipFill>
          <a:blip r:embed="rId3"/>
          <a:stretch/>
        </p:blipFill>
        <p:spPr>
          <a:xfrm>
            <a:off x="2819520" y="2286000"/>
            <a:ext cx="4572000" cy="326880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pic>
        <p:nvPicPr>
          <p:cNvPr id="114" name="CS-Template-Part1.Complement09" descr=""/>
          <p:cNvPicPr/>
          <p:nvPr/>
        </p:nvPicPr>
        <p:blipFill>
          <a:blip r:embed="rId1"/>
          <a:stretch/>
        </p:blipFill>
        <p:spPr>
          <a:xfrm>
            <a:off x="0" y="0"/>
            <a:ext cx="9144000" cy="6858000"/>
          </a:xfrm>
          <a:prstGeom prst="rect">
            <a:avLst/>
          </a:prstGeom>
          <a:ln w="0">
            <a:noFill/>
          </a:ln>
        </p:spPr>
      </p:pic>
      <p:grpSp>
        <p:nvGrpSpPr>
          <p:cNvPr id="115" name=""/>
          <p:cNvGrpSpPr/>
          <p:nvPr/>
        </p:nvGrpSpPr>
        <p:grpSpPr>
          <a:xfrm>
            <a:off x="685800" y="2286000"/>
            <a:ext cx="6629400" cy="3200400"/>
            <a:chOff x="685800" y="2286000"/>
            <a:chExt cx="6629400" cy="3200400"/>
          </a:xfrm>
        </p:grpSpPr>
        <p:sp>
          <p:nvSpPr>
            <p:cNvPr id="116" name=""/>
            <p:cNvSpPr/>
            <p:nvPr/>
          </p:nvSpPr>
          <p:spPr>
            <a:xfrm>
              <a:off x="685800" y="2286000"/>
              <a:ext cx="6629400" cy="3200400"/>
            </a:xfrm>
            <a:custGeom>
              <a:avLst/>
              <a:gdLst/>
              <a:ahLst/>
              <a:rect l="l" t="t" r="r" b="b"/>
              <a:pathLst>
                <a:path w="5328" h="2016">
                  <a:moveTo>
                    <a:pt x="0" y="0"/>
                  </a:moveTo>
                  <a:lnTo>
                    <a:pt x="384" y="1008"/>
                  </a:lnTo>
                  <a:lnTo>
                    <a:pt x="0" y="2016"/>
                  </a:lnTo>
                  <a:lnTo>
                    <a:pt x="4944" y="2016"/>
                  </a:lnTo>
                  <a:lnTo>
                    <a:pt x="5328" y="1008"/>
                  </a:lnTo>
                  <a:lnTo>
                    <a:pt x="4944" y="0"/>
                  </a:lnTo>
                  <a:lnTo>
                    <a:pt x="0" y="0"/>
                  </a:lnTo>
                  <a:close/>
                </a:path>
              </a:pathLst>
            </a:custGeom>
            <a:solidFill>
              <a:srgbClr val="ffcc99"/>
            </a:solidFill>
            <a:ln w="0">
              <a:noFill/>
            </a:ln>
            <a:effectLst>
              <a:outerShdw dist="107932" dir="2700000" blurRad="0" rotWithShape="0">
                <a:srgbClr val="808080"/>
              </a:outerShdw>
            </a:effectLst>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117" name=""/>
            <p:cNvSpPr/>
            <p:nvPr/>
          </p:nvSpPr>
          <p:spPr>
            <a:xfrm>
              <a:off x="838080" y="2362320"/>
              <a:ext cx="205740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800000"/>
                  </a:solidFill>
                  <a:latin typeface="Arial"/>
                </a:rPr>
                <a:t>Productores</a:t>
              </a:r>
              <a:endParaRPr b="0" lang="en-US" sz="1800" spc="-1" strike="noStrike">
                <a:solidFill>
                  <a:srgbClr val="ffffff"/>
                </a:solidFill>
                <a:latin typeface="Times New Roman"/>
              </a:endParaRPr>
            </a:p>
          </p:txBody>
        </p:sp>
      </p:grpSp>
      <p:grpSp>
        <p:nvGrpSpPr>
          <p:cNvPr id="118" name=""/>
          <p:cNvGrpSpPr/>
          <p:nvPr/>
        </p:nvGrpSpPr>
        <p:grpSpPr>
          <a:xfrm>
            <a:off x="2057400" y="2895480"/>
            <a:ext cx="5257440" cy="2590920"/>
            <a:chOff x="2057400" y="2895480"/>
            <a:chExt cx="5257440" cy="2590920"/>
          </a:xfrm>
        </p:grpSpPr>
        <p:sp>
          <p:nvSpPr>
            <p:cNvPr id="119" name=""/>
            <p:cNvSpPr/>
            <p:nvPr/>
          </p:nvSpPr>
          <p:spPr>
            <a:xfrm>
              <a:off x="2057400" y="2895480"/>
              <a:ext cx="5257440" cy="2590920"/>
            </a:xfrm>
            <a:custGeom>
              <a:avLst/>
              <a:gdLst/>
              <a:ahLst/>
              <a:rect l="l" t="t" r="r" b="b"/>
              <a:pathLst>
                <a:path w="4320" h="1632">
                  <a:moveTo>
                    <a:pt x="96" y="0"/>
                  </a:moveTo>
                  <a:lnTo>
                    <a:pt x="4080" y="0"/>
                  </a:lnTo>
                  <a:lnTo>
                    <a:pt x="4320" y="624"/>
                  </a:lnTo>
                  <a:lnTo>
                    <a:pt x="3936" y="1632"/>
                  </a:lnTo>
                  <a:lnTo>
                    <a:pt x="0" y="1632"/>
                  </a:lnTo>
                  <a:lnTo>
                    <a:pt x="384" y="624"/>
                  </a:lnTo>
                  <a:lnTo>
                    <a:pt x="96" y="0"/>
                  </a:lnTo>
                  <a:close/>
                </a:path>
              </a:pathLst>
            </a:custGeom>
            <a:solidFill>
              <a:srgbClr val="d8b18a"/>
            </a:solidFill>
            <a:ln w="0">
              <a:noFill/>
            </a:ln>
            <a:effectLst>
              <a:outerShdw dist="107932" dir="2700000" blurRad="0" rotWithShape="0">
                <a:srgbClr val="808080"/>
              </a:outerShdw>
            </a:effectLst>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120" name=""/>
            <p:cNvSpPr/>
            <p:nvPr/>
          </p:nvSpPr>
          <p:spPr>
            <a:xfrm>
              <a:off x="2211840" y="2971800"/>
              <a:ext cx="193284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800000"/>
                  </a:solidFill>
                  <a:latin typeface="Arial"/>
                </a:rPr>
                <a:t>Cooperativas y Acopiadores</a:t>
              </a:r>
              <a:endParaRPr b="0" lang="en-US" sz="1800" spc="-1" strike="noStrike">
                <a:solidFill>
                  <a:srgbClr val="ffffff"/>
                </a:solidFill>
                <a:latin typeface="Times New Roman"/>
              </a:endParaRPr>
            </a:p>
          </p:txBody>
        </p:sp>
      </p:grpSp>
      <p:grpSp>
        <p:nvGrpSpPr>
          <p:cNvPr id="121" name=""/>
          <p:cNvGrpSpPr/>
          <p:nvPr/>
        </p:nvGrpSpPr>
        <p:grpSpPr>
          <a:xfrm>
            <a:off x="2057400" y="3276720"/>
            <a:ext cx="5334120" cy="2209680"/>
            <a:chOff x="2057400" y="3276720"/>
            <a:chExt cx="5334120" cy="2209680"/>
          </a:xfrm>
        </p:grpSpPr>
        <p:sp>
          <p:nvSpPr>
            <p:cNvPr id="122" name=""/>
            <p:cNvSpPr/>
            <p:nvPr/>
          </p:nvSpPr>
          <p:spPr>
            <a:xfrm>
              <a:off x="2057400" y="3276720"/>
              <a:ext cx="5334120" cy="2209680"/>
            </a:xfrm>
            <a:custGeom>
              <a:avLst/>
              <a:gdLst/>
              <a:ahLst/>
              <a:rect l="l" t="t" r="r" b="b"/>
              <a:pathLst>
                <a:path w="3360" h="1392">
                  <a:moveTo>
                    <a:pt x="144" y="1008"/>
                  </a:moveTo>
                  <a:lnTo>
                    <a:pt x="1200" y="1008"/>
                  </a:lnTo>
                  <a:lnTo>
                    <a:pt x="1440" y="288"/>
                  </a:lnTo>
                  <a:lnTo>
                    <a:pt x="1296" y="0"/>
                  </a:lnTo>
                  <a:lnTo>
                    <a:pt x="3216" y="0"/>
                  </a:lnTo>
                  <a:lnTo>
                    <a:pt x="3360" y="384"/>
                  </a:lnTo>
                  <a:lnTo>
                    <a:pt x="2976" y="1392"/>
                  </a:lnTo>
                  <a:lnTo>
                    <a:pt x="0" y="1392"/>
                  </a:lnTo>
                  <a:lnTo>
                    <a:pt x="144" y="1008"/>
                  </a:lnTo>
                  <a:close/>
                </a:path>
              </a:pathLst>
            </a:custGeom>
            <a:solidFill>
              <a:srgbClr val="cb9661"/>
            </a:solidFill>
            <a:ln w="0">
              <a:noFill/>
            </a:ln>
            <a:effectLst>
              <a:outerShdw dist="107932" dir="2700000" blurRad="0" rotWithShape="0">
                <a:srgbClr val="808080"/>
              </a:outerShdw>
            </a:effectLst>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123" name=""/>
            <p:cNvSpPr/>
            <p:nvPr/>
          </p:nvSpPr>
          <p:spPr>
            <a:xfrm>
              <a:off x="4419720" y="3352680"/>
              <a:ext cx="1295280" cy="228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800000"/>
                  </a:solidFill>
                  <a:latin typeface="Arial"/>
                </a:rPr>
                <a:t>Brokers</a:t>
              </a:r>
              <a:endParaRPr b="0" lang="en-US" sz="1800" spc="-1" strike="noStrike">
                <a:solidFill>
                  <a:srgbClr val="ffffff"/>
                </a:solidFill>
                <a:latin typeface="Times New Roman"/>
              </a:endParaRPr>
            </a:p>
          </p:txBody>
        </p:sp>
      </p:grpSp>
      <p:sp>
        <p:nvSpPr>
          <p:cNvPr id="124" name=""/>
          <p:cNvSpPr/>
          <p:nvPr/>
        </p:nvSpPr>
        <p:spPr>
          <a:xfrm>
            <a:off x="1041480" y="1447920"/>
            <a:ext cx="7772400" cy="4394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2276"/>
              </a:spcBef>
              <a:buClr>
                <a:srgbClr val="ffcc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Canal de Distribución</a:t>
            </a:r>
            <a:endParaRPr b="0" lang="en-US" sz="2800" spc="-1" strike="noStrike">
              <a:solidFill>
                <a:srgbClr val="ffffff"/>
              </a:solidFill>
              <a:latin typeface="Times New Roman"/>
            </a:endParaRPr>
          </a:p>
        </p:txBody>
      </p:sp>
      <p:grpSp>
        <p:nvGrpSpPr>
          <p:cNvPr id="125" name=""/>
          <p:cNvGrpSpPr/>
          <p:nvPr/>
        </p:nvGrpSpPr>
        <p:grpSpPr>
          <a:xfrm>
            <a:off x="6553080" y="2286000"/>
            <a:ext cx="2438280" cy="3200400"/>
            <a:chOff x="6553080" y="2286000"/>
            <a:chExt cx="2438280" cy="3200400"/>
          </a:xfrm>
        </p:grpSpPr>
        <p:sp>
          <p:nvSpPr>
            <p:cNvPr id="126" name=""/>
            <p:cNvSpPr/>
            <p:nvPr/>
          </p:nvSpPr>
          <p:spPr>
            <a:xfrm>
              <a:off x="6553080" y="2286000"/>
              <a:ext cx="2438280" cy="3200400"/>
            </a:xfrm>
            <a:custGeom>
              <a:avLst/>
              <a:gdLst/>
              <a:ahLst/>
              <a:rect l="l" t="t" r="r" b="b"/>
              <a:pathLst>
                <a:path w="1392" h="1968">
                  <a:moveTo>
                    <a:pt x="0" y="0"/>
                  </a:moveTo>
                  <a:lnTo>
                    <a:pt x="1056" y="0"/>
                  </a:lnTo>
                  <a:lnTo>
                    <a:pt x="1392" y="960"/>
                  </a:lnTo>
                  <a:lnTo>
                    <a:pt x="1056" y="1968"/>
                  </a:lnTo>
                  <a:lnTo>
                    <a:pt x="0" y="1968"/>
                  </a:lnTo>
                  <a:lnTo>
                    <a:pt x="384" y="912"/>
                  </a:lnTo>
                  <a:lnTo>
                    <a:pt x="0" y="0"/>
                  </a:lnTo>
                  <a:close/>
                </a:path>
              </a:pathLst>
            </a:custGeom>
            <a:solidFill>
              <a:srgbClr val="ffcc00"/>
            </a:solidFill>
            <a:ln w="0">
              <a:noFill/>
            </a:ln>
            <a:effectLst>
              <a:outerShdw dist="107932" dir="2700000" blurRad="0" rotWithShape="0">
                <a:srgbClr val="808080"/>
              </a:outerShdw>
            </a:effectLst>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127" name=""/>
            <p:cNvSpPr/>
            <p:nvPr/>
          </p:nvSpPr>
          <p:spPr>
            <a:xfrm>
              <a:off x="6867720" y="4114800"/>
              <a:ext cx="188784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400" spc="-1" strike="noStrike">
                  <a:solidFill>
                    <a:srgbClr val="ffffff"/>
                  </a:solidFill>
                  <a:latin typeface="Arial"/>
                </a:rPr>
                <a:t>C</a:t>
              </a:r>
              <a:r>
                <a:rPr b="1" lang="es-MX" sz="1600" spc="-1" strike="noStrike">
                  <a:solidFill>
                    <a:srgbClr val="ffffff"/>
                  </a:solidFill>
                  <a:latin typeface="Arial"/>
                </a:rPr>
                <a:t>ompradores</a:t>
              </a:r>
              <a:r>
                <a:rPr b="0" lang="es-MX" sz="1400" spc="-1" strike="noStrike">
                  <a:solidFill>
                    <a:srgbClr val="800000"/>
                  </a:solidFill>
                  <a:latin typeface="Arial"/>
                </a:rPr>
                <a:t>      Exportadores</a:t>
              </a:r>
              <a:endParaRPr b="0" lang="en-US" sz="1400" spc="-1" strike="noStrike">
                <a:solidFill>
                  <a:srgbClr val="ffffff"/>
                </a:solidFill>
                <a:latin typeface="Times New Roman"/>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800000"/>
                  </a:solidFill>
                  <a:latin typeface="Arial"/>
                </a:rPr>
                <a:t>    </a:t>
              </a:r>
              <a:r>
                <a:rPr b="0" lang="es-MX" sz="1400" spc="-1" strike="noStrike">
                  <a:solidFill>
                    <a:srgbClr val="800000"/>
                  </a:solidFill>
                  <a:latin typeface="Arial"/>
                </a:rPr>
                <a:t>Aceiteras</a:t>
              </a:r>
              <a:endParaRPr b="0" lang="en-US" sz="1400" spc="-1" strike="noStrike">
                <a:solidFill>
                  <a:srgbClr val="ffffff"/>
                </a:solidFill>
                <a:latin typeface="Times New Roman"/>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800000"/>
                  </a:solidFill>
                  <a:latin typeface="Arial"/>
                </a:rPr>
                <a:t> </a:t>
              </a:r>
              <a:r>
                <a:rPr b="0" lang="es-MX" sz="1400" spc="-1" strike="noStrike">
                  <a:solidFill>
                    <a:srgbClr val="800000"/>
                  </a:solidFill>
                  <a:latin typeface="Arial"/>
                </a:rPr>
                <a:t>Molinos harineros</a:t>
              </a:r>
              <a:endParaRPr b="0" lang="en-US" sz="1400" spc="-1" strike="noStrike">
                <a:solidFill>
                  <a:srgbClr val="ffffff"/>
                </a:solidFill>
                <a:latin typeface="Times New Roman"/>
              </a:endParaRPr>
            </a:p>
          </p:txBody>
        </p:sp>
      </p:grpSp>
      <p:sp>
        <p:nvSpPr>
          <p:cNvPr id="128" name=""/>
          <p:cNvSpPr/>
          <p:nvPr/>
        </p:nvSpPr>
        <p:spPr>
          <a:xfrm>
            <a:off x="6019920" y="2362320"/>
            <a:ext cx="1066680" cy="3047760"/>
          </a:xfrm>
          <a:prstGeom prst="ellipse">
            <a:avLst/>
          </a:prstGeom>
          <a:noFill/>
          <a:ln w="15840">
            <a:solidFill>
              <a:srgbClr val="57a0ff"/>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9" name=""/>
          <p:cNvSpPr/>
          <p:nvPr/>
        </p:nvSpPr>
        <p:spPr>
          <a:xfrm>
            <a:off x="6400800" y="3733920"/>
            <a:ext cx="1219320" cy="307080"/>
          </a:xfrm>
          <a:prstGeom prst="rect">
            <a:avLst/>
          </a:prstGeom>
          <a:solidFill>
            <a:srgbClr val="969696"/>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4.8MM ton.</a:t>
            </a:r>
            <a:endParaRPr b="0" lang="en-US" sz="1400" spc="-1" strike="noStrike">
              <a:solidFill>
                <a:srgbClr val="ffffff"/>
              </a:solidFill>
              <a:latin typeface="Times New Roman"/>
            </a:endParaRPr>
          </a:p>
        </p:txBody>
      </p:sp>
      <p:grpSp>
        <p:nvGrpSpPr>
          <p:cNvPr id="130" name=""/>
          <p:cNvGrpSpPr/>
          <p:nvPr/>
        </p:nvGrpSpPr>
        <p:grpSpPr>
          <a:xfrm>
            <a:off x="3886200" y="2971800"/>
            <a:ext cx="3505320" cy="992880"/>
            <a:chOff x="3886200" y="2971800"/>
            <a:chExt cx="3505320" cy="992880"/>
          </a:xfrm>
        </p:grpSpPr>
        <p:sp>
          <p:nvSpPr>
            <p:cNvPr id="131" name=""/>
            <p:cNvSpPr/>
            <p:nvPr/>
          </p:nvSpPr>
          <p:spPr>
            <a:xfrm>
              <a:off x="3886200" y="3657600"/>
              <a:ext cx="1295280" cy="307080"/>
            </a:xfrm>
            <a:prstGeom prst="rect">
              <a:avLst/>
            </a:prstGeom>
            <a:solidFill>
              <a:srgbClr val="969696"/>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3.2MM ton.</a:t>
              </a:r>
              <a:endParaRPr b="0" lang="en-US" sz="1400" spc="-1" strike="noStrike">
                <a:solidFill>
                  <a:srgbClr val="ffffff"/>
                </a:solidFill>
                <a:latin typeface="Times New Roman"/>
              </a:endParaRPr>
            </a:p>
          </p:txBody>
        </p:sp>
        <p:sp>
          <p:nvSpPr>
            <p:cNvPr id="132" name=""/>
            <p:cNvSpPr/>
            <p:nvPr/>
          </p:nvSpPr>
          <p:spPr>
            <a:xfrm>
              <a:off x="6172200" y="2971800"/>
              <a:ext cx="1219320" cy="307080"/>
            </a:xfrm>
            <a:prstGeom prst="rect">
              <a:avLst/>
            </a:prstGeom>
            <a:solidFill>
              <a:srgbClr val="969696"/>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1.6MM ton.</a:t>
              </a:r>
              <a:endParaRPr b="0" lang="en-US" sz="1400" spc="-1" strike="noStrike">
                <a:solidFill>
                  <a:srgbClr val="ffffff"/>
                </a:solidFill>
                <a:latin typeface="Times New Roman"/>
              </a:endParaRPr>
            </a:p>
          </p:txBody>
        </p:sp>
      </p:grpSp>
      <p:sp>
        <p:nvSpPr>
          <p:cNvPr id="133" name=""/>
          <p:cNvSpPr/>
          <p:nvPr/>
        </p:nvSpPr>
        <p:spPr>
          <a:xfrm>
            <a:off x="152280" y="3657600"/>
            <a:ext cx="1295640" cy="307080"/>
          </a:xfrm>
          <a:prstGeom prst="rect">
            <a:avLst/>
          </a:prstGeom>
          <a:solidFill>
            <a:srgbClr val="969696"/>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2.2MM ton.</a:t>
            </a:r>
            <a:endParaRPr b="0" lang="en-US" sz="1400" spc="-1" strike="noStrike">
              <a:solidFill>
                <a:srgbClr val="ffffff"/>
              </a:solidFill>
              <a:latin typeface="Times New Roman"/>
            </a:endParaRPr>
          </a:p>
        </p:txBody>
      </p:sp>
      <p:grpSp>
        <p:nvGrpSpPr>
          <p:cNvPr id="134" name=""/>
          <p:cNvGrpSpPr/>
          <p:nvPr/>
        </p:nvGrpSpPr>
        <p:grpSpPr>
          <a:xfrm>
            <a:off x="5334120" y="3505320"/>
            <a:ext cx="1143000" cy="380880"/>
            <a:chOff x="5334120" y="3505320"/>
            <a:chExt cx="1143000" cy="380880"/>
          </a:xfrm>
        </p:grpSpPr>
        <p:sp>
          <p:nvSpPr>
            <p:cNvPr id="135" name=""/>
            <p:cNvSpPr/>
            <p:nvPr/>
          </p:nvSpPr>
          <p:spPr>
            <a:xfrm>
              <a:off x="5334120" y="3581280"/>
              <a:ext cx="304560" cy="304920"/>
            </a:xfrm>
            <a:prstGeom prst="line">
              <a:avLst/>
            </a:prstGeom>
            <a:ln w="9360">
              <a:solidFill>
                <a:srgbClr val="57a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5638680" y="3886200"/>
              <a:ext cx="762120" cy="0"/>
            </a:xfrm>
            <a:prstGeom prst="line">
              <a:avLst/>
            </a:prstGeom>
            <a:ln w="9360">
              <a:solidFill>
                <a:srgbClr val="57a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5715000" y="3505320"/>
              <a:ext cx="762120" cy="30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66ff"/>
                  </a:solidFill>
                  <a:latin typeface="Arial"/>
                </a:rPr>
                <a:t>100%</a:t>
              </a:r>
              <a:endParaRPr b="0" lang="en-US" sz="1400" spc="-1" strike="noStrike">
                <a:solidFill>
                  <a:srgbClr val="ffffff"/>
                </a:solidFill>
                <a:latin typeface="Times New Roman"/>
              </a:endParaRPr>
            </a:p>
          </p:txBody>
        </p:sp>
      </p:grpSp>
      <p:grpSp>
        <p:nvGrpSpPr>
          <p:cNvPr id="138" name=""/>
          <p:cNvGrpSpPr/>
          <p:nvPr/>
        </p:nvGrpSpPr>
        <p:grpSpPr>
          <a:xfrm>
            <a:off x="3124080" y="2819520"/>
            <a:ext cx="3048120" cy="1218960"/>
            <a:chOff x="3124080" y="2819520"/>
            <a:chExt cx="3048120" cy="1218960"/>
          </a:xfrm>
        </p:grpSpPr>
        <p:sp>
          <p:nvSpPr>
            <p:cNvPr id="139" name=""/>
            <p:cNvSpPr/>
            <p:nvPr/>
          </p:nvSpPr>
          <p:spPr>
            <a:xfrm>
              <a:off x="3352680" y="3429000"/>
              <a:ext cx="0" cy="457200"/>
            </a:xfrm>
            <a:prstGeom prst="line">
              <a:avLst/>
            </a:prstGeom>
            <a:ln w="9360">
              <a:solidFill>
                <a:srgbClr val="57a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3352680" y="3886200"/>
              <a:ext cx="533520" cy="0"/>
            </a:xfrm>
            <a:prstGeom prst="line">
              <a:avLst/>
            </a:prstGeom>
            <a:ln w="9360">
              <a:solidFill>
                <a:srgbClr val="57a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4038480" y="3124080"/>
              <a:ext cx="2133720" cy="0"/>
            </a:xfrm>
            <a:prstGeom prst="line">
              <a:avLst/>
            </a:prstGeom>
            <a:ln w="9360">
              <a:solidFill>
                <a:srgbClr val="57a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5257800" y="2819520"/>
              <a:ext cx="762120" cy="2286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66ff"/>
                  </a:solidFill>
                  <a:latin typeface="Arial"/>
                </a:rPr>
                <a:t>33%</a:t>
              </a:r>
              <a:endParaRPr b="0" lang="en-US" sz="1400" spc="-1" strike="noStrike">
                <a:solidFill>
                  <a:srgbClr val="ffffff"/>
                </a:solidFill>
                <a:latin typeface="Times New Roman"/>
              </a:endParaRPr>
            </a:p>
          </p:txBody>
        </p:sp>
        <p:sp>
          <p:nvSpPr>
            <p:cNvPr id="143" name=""/>
            <p:cNvSpPr/>
            <p:nvPr/>
          </p:nvSpPr>
          <p:spPr>
            <a:xfrm>
              <a:off x="3124080" y="3505320"/>
              <a:ext cx="7621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66ff"/>
                  </a:solidFill>
                  <a:latin typeface="Arial"/>
                </a:rPr>
                <a:t>67%</a:t>
              </a:r>
              <a:endParaRPr b="0" lang="en-US" sz="1400" spc="-1" strike="noStrike">
                <a:solidFill>
                  <a:srgbClr val="ffffff"/>
                </a:solidFill>
                <a:latin typeface="Times New Roman"/>
              </a:endParaRPr>
            </a:p>
          </p:txBody>
        </p:sp>
      </p:grpSp>
      <p:grpSp>
        <p:nvGrpSpPr>
          <p:cNvPr id="144" name=""/>
          <p:cNvGrpSpPr/>
          <p:nvPr/>
        </p:nvGrpSpPr>
        <p:grpSpPr>
          <a:xfrm>
            <a:off x="1676520" y="3733920"/>
            <a:ext cx="1523880" cy="1602360"/>
            <a:chOff x="1676520" y="3733920"/>
            <a:chExt cx="1523880" cy="1602360"/>
          </a:xfrm>
        </p:grpSpPr>
        <p:sp>
          <p:nvSpPr>
            <p:cNvPr id="145" name=""/>
            <p:cNvSpPr/>
            <p:nvPr/>
          </p:nvSpPr>
          <p:spPr>
            <a:xfrm>
              <a:off x="1981080" y="3733920"/>
              <a:ext cx="1219320" cy="307080"/>
            </a:xfrm>
            <a:prstGeom prst="rect">
              <a:avLst/>
            </a:prstGeom>
            <a:solidFill>
              <a:srgbClr val="969696"/>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4.8MM ton.</a:t>
              </a:r>
              <a:endParaRPr b="0" lang="en-US" sz="1400" spc="-1" strike="noStrike">
                <a:solidFill>
                  <a:srgbClr val="ffffff"/>
                </a:solidFill>
                <a:latin typeface="Times New Roman"/>
              </a:endParaRPr>
            </a:p>
          </p:txBody>
        </p:sp>
        <p:sp>
          <p:nvSpPr>
            <p:cNvPr id="146" name=""/>
            <p:cNvSpPr/>
            <p:nvPr/>
          </p:nvSpPr>
          <p:spPr>
            <a:xfrm>
              <a:off x="1676520" y="5029200"/>
              <a:ext cx="1218960" cy="307080"/>
            </a:xfrm>
            <a:prstGeom prst="rect">
              <a:avLst/>
            </a:prstGeom>
            <a:solidFill>
              <a:srgbClr val="969696"/>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1.6MM ton.</a:t>
              </a:r>
              <a:endParaRPr b="0" lang="en-US" sz="1400" spc="-1" strike="noStrike">
                <a:solidFill>
                  <a:srgbClr val="ffffff"/>
                </a:solidFill>
                <a:latin typeface="Times New Roman"/>
              </a:endParaRPr>
            </a:p>
          </p:txBody>
        </p:sp>
      </p:grpSp>
      <p:sp>
        <p:nvSpPr>
          <p:cNvPr id="147" name=""/>
          <p:cNvSpPr/>
          <p:nvPr/>
        </p:nvSpPr>
        <p:spPr>
          <a:xfrm>
            <a:off x="5867280" y="2514600"/>
            <a:ext cx="1219320" cy="307080"/>
          </a:xfrm>
          <a:prstGeom prst="rect">
            <a:avLst/>
          </a:prstGeom>
          <a:solidFill>
            <a:srgbClr val="969696"/>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8MM  ton.</a:t>
            </a:r>
            <a:endParaRPr b="0" lang="en-US" sz="1400" spc="-1" strike="noStrike">
              <a:solidFill>
                <a:srgbClr val="ffffff"/>
              </a:solidFill>
              <a:latin typeface="Times New Roman"/>
            </a:endParaRPr>
          </a:p>
        </p:txBody>
      </p:sp>
      <p:grpSp>
        <p:nvGrpSpPr>
          <p:cNvPr id="148" name=""/>
          <p:cNvGrpSpPr/>
          <p:nvPr/>
        </p:nvGrpSpPr>
        <p:grpSpPr>
          <a:xfrm>
            <a:off x="1295280" y="2895480"/>
            <a:ext cx="762120" cy="2287800"/>
            <a:chOff x="1295280" y="2895480"/>
            <a:chExt cx="762120" cy="2287800"/>
          </a:xfrm>
        </p:grpSpPr>
        <p:sp>
          <p:nvSpPr>
            <p:cNvPr id="149" name=""/>
            <p:cNvSpPr/>
            <p:nvPr/>
          </p:nvSpPr>
          <p:spPr>
            <a:xfrm>
              <a:off x="1523880" y="2895480"/>
              <a:ext cx="1800" cy="2286000"/>
            </a:xfrm>
            <a:prstGeom prst="line">
              <a:avLst/>
            </a:prstGeom>
            <a:ln w="9360">
              <a:solidFill>
                <a:srgbClr val="57a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1523880" y="5181480"/>
              <a:ext cx="152640" cy="1800"/>
            </a:xfrm>
            <a:prstGeom prst="line">
              <a:avLst/>
            </a:prstGeom>
            <a:ln w="9360">
              <a:solidFill>
                <a:srgbClr val="57a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1" name=""/>
            <p:cNvSpPr/>
            <p:nvPr/>
          </p:nvSpPr>
          <p:spPr>
            <a:xfrm>
              <a:off x="1523880" y="3886200"/>
              <a:ext cx="457200" cy="1440"/>
            </a:xfrm>
            <a:prstGeom prst="line">
              <a:avLst/>
            </a:prstGeom>
            <a:ln w="9360">
              <a:solidFill>
                <a:srgbClr val="57a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2" name=""/>
            <p:cNvSpPr/>
            <p:nvPr/>
          </p:nvSpPr>
          <p:spPr>
            <a:xfrm>
              <a:off x="1447920" y="3505320"/>
              <a:ext cx="609480" cy="30456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66ff"/>
                  </a:solidFill>
                  <a:latin typeface="Arial"/>
                </a:rPr>
                <a:t>67%</a:t>
              </a:r>
              <a:endParaRPr b="0" lang="en-US" sz="1400" spc="-1" strike="noStrike">
                <a:solidFill>
                  <a:srgbClr val="ffffff"/>
                </a:solidFill>
                <a:latin typeface="Times New Roman"/>
              </a:endParaRPr>
            </a:p>
          </p:txBody>
        </p:sp>
        <p:sp>
          <p:nvSpPr>
            <p:cNvPr id="153" name=""/>
            <p:cNvSpPr/>
            <p:nvPr/>
          </p:nvSpPr>
          <p:spPr>
            <a:xfrm>
              <a:off x="1295280" y="4724280"/>
              <a:ext cx="685800" cy="38124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  </a:t>
              </a:r>
              <a:r>
                <a:rPr b="1" lang="es-MX" sz="1400" spc="-1" strike="noStrike">
                  <a:solidFill>
                    <a:srgbClr val="0066ff"/>
                  </a:solidFill>
                  <a:latin typeface="Arial"/>
                </a:rPr>
                <a:t>11%</a:t>
              </a:r>
              <a:endParaRPr b="0" lang="en-US" sz="1400" spc="-1" strike="noStrike">
                <a:solidFill>
                  <a:srgbClr val="ffffff"/>
                </a:solidFill>
                <a:latin typeface="Times New Roman"/>
              </a:endParaRPr>
            </a:p>
          </p:txBody>
        </p:sp>
      </p:grpSp>
      <p:grpSp>
        <p:nvGrpSpPr>
          <p:cNvPr id="154" name=""/>
          <p:cNvGrpSpPr/>
          <p:nvPr/>
        </p:nvGrpSpPr>
        <p:grpSpPr>
          <a:xfrm>
            <a:off x="2743200" y="2286000"/>
            <a:ext cx="3124080" cy="382680"/>
            <a:chOff x="2743200" y="2286000"/>
            <a:chExt cx="3124080" cy="382680"/>
          </a:xfrm>
        </p:grpSpPr>
        <p:sp>
          <p:nvSpPr>
            <p:cNvPr id="155" name=""/>
            <p:cNvSpPr/>
            <p:nvPr/>
          </p:nvSpPr>
          <p:spPr>
            <a:xfrm>
              <a:off x="2743200" y="2666880"/>
              <a:ext cx="3124080" cy="1800"/>
            </a:xfrm>
            <a:prstGeom prst="line">
              <a:avLst/>
            </a:prstGeom>
            <a:ln w="9360">
              <a:solidFill>
                <a:srgbClr val="57a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6" name=""/>
            <p:cNvSpPr/>
            <p:nvPr/>
          </p:nvSpPr>
          <p:spPr>
            <a:xfrm>
              <a:off x="5105520" y="2286000"/>
              <a:ext cx="761760" cy="30492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66ff"/>
                  </a:solidFill>
                  <a:latin typeface="Arial"/>
                </a:rPr>
                <a:t>22%</a:t>
              </a:r>
              <a:endParaRPr b="0" lang="en-US" sz="1400" spc="-1" strike="noStrike">
                <a:solidFill>
                  <a:srgbClr val="ffffff"/>
                </a:solidFill>
                <a:latin typeface="Times New Roman"/>
              </a:endParaRPr>
            </a:p>
          </p:txBody>
        </p:sp>
      </p:grpSp>
      <p:sp>
        <p:nvSpPr>
          <p:cNvPr id="157" name=""/>
          <p:cNvSpPr/>
          <p:nvPr/>
        </p:nvSpPr>
        <p:spPr>
          <a:xfrm>
            <a:off x="2133720" y="3200400"/>
            <a:ext cx="990360" cy="304920"/>
          </a:xfrm>
          <a:custGeom>
            <a:avLst/>
            <a:gdLst>
              <a:gd name="textAreaLeft" fmla="*/ 0 w 990360"/>
              <a:gd name="textAreaRight" fmla="*/ 990720 w 99036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158" name=""/>
          <p:cNvGrpSpPr/>
          <p:nvPr/>
        </p:nvGrpSpPr>
        <p:grpSpPr>
          <a:xfrm>
            <a:off x="5791320" y="3429000"/>
            <a:ext cx="1447560" cy="1981080"/>
            <a:chOff x="5791320" y="3429000"/>
            <a:chExt cx="1447560" cy="1981080"/>
          </a:xfrm>
        </p:grpSpPr>
        <p:sp>
          <p:nvSpPr>
            <p:cNvPr id="159" name=""/>
            <p:cNvSpPr/>
            <p:nvPr/>
          </p:nvSpPr>
          <p:spPr>
            <a:xfrm>
              <a:off x="6095880" y="3429000"/>
              <a:ext cx="990720" cy="1981080"/>
            </a:xfrm>
            <a:prstGeom prst="ellipse">
              <a:avLst/>
            </a:prstGeom>
            <a:noFill/>
            <a:ln w="15840">
              <a:solidFill>
                <a:srgbClr val="57a0ff"/>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 name=""/>
            <p:cNvSpPr/>
            <p:nvPr/>
          </p:nvSpPr>
          <p:spPr>
            <a:xfrm>
              <a:off x="5791320" y="4267080"/>
              <a:ext cx="1447560" cy="609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800000"/>
                  </a:solidFill>
                  <a:latin typeface="Arial"/>
                </a:rPr>
                <a:t>Bolsas de Cereales</a:t>
              </a:r>
              <a:endParaRPr b="0" lang="en-US" sz="1600" spc="-1" strike="noStrike">
                <a:solidFill>
                  <a:srgbClr val="ffffff"/>
                </a:solidFill>
                <a:latin typeface="Times New Roman"/>
              </a:endParaRPr>
            </a:p>
          </p:txBody>
        </p:sp>
      </p:grpSp>
      <p:grpSp>
        <p:nvGrpSpPr>
          <p:cNvPr id="161" name=""/>
          <p:cNvGrpSpPr/>
          <p:nvPr/>
        </p:nvGrpSpPr>
        <p:grpSpPr>
          <a:xfrm>
            <a:off x="5562720" y="5791320"/>
            <a:ext cx="2106000" cy="582480"/>
            <a:chOff x="5562720" y="5791320"/>
            <a:chExt cx="2106000" cy="582480"/>
          </a:xfrm>
        </p:grpSpPr>
        <p:pic>
          <p:nvPicPr>
            <p:cNvPr id="162" name="logo_cereales_bb" descr=""/>
            <p:cNvPicPr/>
            <p:nvPr/>
          </p:nvPicPr>
          <p:blipFill>
            <a:blip r:embed="rId2"/>
            <a:stretch/>
          </p:blipFill>
          <p:spPr>
            <a:xfrm>
              <a:off x="5562720" y="5791320"/>
              <a:ext cx="582120" cy="582480"/>
            </a:xfrm>
            <a:prstGeom prst="rect">
              <a:avLst/>
            </a:prstGeom>
            <a:ln w="0">
              <a:noFill/>
            </a:ln>
          </p:spPr>
        </p:pic>
        <p:pic>
          <p:nvPicPr>
            <p:cNvPr id="163" name="logo_cereales_bsas" descr=""/>
            <p:cNvPicPr/>
            <p:nvPr/>
          </p:nvPicPr>
          <p:blipFill>
            <a:blip r:embed="rId3"/>
            <a:stretch/>
          </p:blipFill>
          <p:spPr>
            <a:xfrm>
              <a:off x="7086240" y="5791320"/>
              <a:ext cx="582480" cy="582480"/>
            </a:xfrm>
            <a:prstGeom prst="rect">
              <a:avLst/>
            </a:prstGeom>
            <a:ln w="0">
              <a:noFill/>
            </a:ln>
          </p:spPr>
        </p:pic>
        <p:pic>
          <p:nvPicPr>
            <p:cNvPr id="164" name="logo_comercio" descr=""/>
            <p:cNvPicPr/>
            <p:nvPr/>
          </p:nvPicPr>
          <p:blipFill>
            <a:blip r:embed="rId4"/>
            <a:stretch/>
          </p:blipFill>
          <p:spPr>
            <a:xfrm>
              <a:off x="6324480" y="5791320"/>
              <a:ext cx="582120" cy="582480"/>
            </a:xfrm>
            <a:prstGeom prst="rect">
              <a:avLst/>
            </a:prstGeom>
            <a:ln w="0">
              <a:noFill/>
            </a:ln>
          </p:spPr>
        </p:pic>
      </p:grpSp>
      <p:sp>
        <p:nvSpPr>
          <p:cNvPr id="165" name="PlaceHolder 1"/>
          <p:cNvSpPr>
            <a:spLocks noGrp="1"/>
          </p:cNvSpPr>
          <p:nvPr>
            <p:ph type="title"/>
          </p:nvPr>
        </p:nvSpPr>
        <p:spPr>
          <a:xfrm>
            <a:off x="1041480" y="25560"/>
            <a:ext cx="7772400" cy="9950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Tahoma"/>
              </a:rPr>
              <a:t>Mercado de Cereales de Exportación</a:t>
            </a:r>
            <a:endParaRPr b="1" lang="en-US" sz="2800" spc="-1" strike="noStrike">
              <a:solidFill>
                <a:srgbClr val="ffffff"/>
              </a:solidFill>
              <a:latin typeface="Tahoma"/>
            </a:endParaRPr>
          </a:p>
        </p:txBody>
      </p:sp>
      <p:graphicFrame>
        <p:nvGraphicFramePr>
          <p:cNvPr id="166" name=""/>
          <p:cNvGraphicFramePr/>
          <p:nvPr/>
        </p:nvGraphicFramePr>
        <p:xfrm>
          <a:off x="2743200" y="5791320"/>
          <a:ext cx="1905120" cy="601560"/>
        </p:xfrm>
        <a:graphic>
          <a:graphicData uri="http://schemas.openxmlformats.org/presentationml/2006/ole">
            <p:oleObj r:id="rId5" spid="">
              <p:embed/>
              <p:pic>
                <p:nvPicPr>
                  <p:cNvPr id="167" name="" descr=""/>
                  <p:cNvPicPr/>
                  <p:nvPr/>
                </p:nvPicPr>
                <p:blipFill>
                  <a:blip r:embed="rId6"/>
                  <a:stretch/>
                </p:blipFill>
                <p:spPr>
                  <a:xfrm>
                    <a:off x="2743200" y="5791320"/>
                    <a:ext cx="1905120" cy="601560"/>
                  </a:xfrm>
                  <a:prstGeom prst="rect">
                    <a:avLst/>
                  </a:prstGeom>
                  <a:ln w="0">
                    <a:noFill/>
                  </a:ln>
                </p:spPr>
              </p:pic>
            </p:oleObj>
          </a:graphicData>
        </a:graphic>
      </p:graphicFrame>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pic>
        <p:nvPicPr>
          <p:cNvPr id="168" name="CS-Template-Part1.Complement06" descr=""/>
          <p:cNvPicPr/>
          <p:nvPr/>
        </p:nvPicPr>
        <p:blipFill>
          <a:blip r:embed="rId1"/>
          <a:stretch/>
        </p:blipFill>
        <p:spPr>
          <a:xfrm>
            <a:off x="0" y="0"/>
            <a:ext cx="9144000" cy="6858000"/>
          </a:xfrm>
          <a:prstGeom prst="rect">
            <a:avLst/>
          </a:prstGeom>
          <a:ln w="0">
            <a:noFill/>
          </a:ln>
        </p:spPr>
      </p:pic>
      <p:grpSp>
        <p:nvGrpSpPr>
          <p:cNvPr id="169" name=""/>
          <p:cNvGrpSpPr/>
          <p:nvPr/>
        </p:nvGrpSpPr>
        <p:grpSpPr>
          <a:xfrm>
            <a:off x="576000" y="1766880"/>
            <a:ext cx="337680" cy="4572000"/>
            <a:chOff x="576000" y="1766880"/>
            <a:chExt cx="337680" cy="4572000"/>
          </a:xfrm>
        </p:grpSpPr>
        <p:sp>
          <p:nvSpPr>
            <p:cNvPr id="170" name=""/>
            <p:cNvSpPr/>
            <p:nvPr/>
          </p:nvSpPr>
          <p:spPr>
            <a:xfrm>
              <a:off x="912960" y="1766880"/>
              <a:ext cx="0" cy="4572000"/>
            </a:xfrm>
            <a:prstGeom prst="line">
              <a:avLst/>
            </a:prstGeom>
            <a:ln w="316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rot="16199400">
              <a:off x="-15120" y="3494520"/>
              <a:ext cx="152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Tahoma"/>
                </a:rPr>
                <a:t>2/3 SEMANAS</a:t>
              </a:r>
              <a:endParaRPr b="0" lang="en-US" sz="1600" spc="-1" strike="noStrike">
                <a:solidFill>
                  <a:srgbClr val="ffffff"/>
                </a:solidFill>
                <a:latin typeface="Times New Roman"/>
              </a:endParaRPr>
            </a:p>
          </p:txBody>
        </p:sp>
      </p:grpSp>
      <p:grpSp>
        <p:nvGrpSpPr>
          <p:cNvPr id="172" name=""/>
          <p:cNvGrpSpPr/>
          <p:nvPr/>
        </p:nvGrpSpPr>
        <p:grpSpPr>
          <a:xfrm>
            <a:off x="6477120" y="1812960"/>
            <a:ext cx="1833120" cy="625320"/>
            <a:chOff x="6477120" y="1812960"/>
            <a:chExt cx="1833120" cy="625320"/>
          </a:xfrm>
        </p:grpSpPr>
        <p:sp>
          <p:nvSpPr>
            <p:cNvPr id="173" name=""/>
            <p:cNvSpPr/>
            <p:nvPr/>
          </p:nvSpPr>
          <p:spPr>
            <a:xfrm>
              <a:off x="6477120" y="2209680"/>
              <a:ext cx="774000" cy="0"/>
            </a:xfrm>
            <a:prstGeom prst="line">
              <a:avLst/>
            </a:prstGeom>
            <a:ln w="9360">
              <a:solidFill>
                <a:srgbClr val="57a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74" name="PE01690_" descr=""/>
            <p:cNvPicPr/>
            <p:nvPr/>
          </p:nvPicPr>
          <p:blipFill>
            <a:blip r:embed="rId2"/>
            <a:stretch/>
          </p:blipFill>
          <p:spPr>
            <a:xfrm>
              <a:off x="7320960" y="1812960"/>
              <a:ext cx="989280" cy="625320"/>
            </a:xfrm>
            <a:prstGeom prst="rect">
              <a:avLst/>
            </a:prstGeom>
            <a:ln w="0">
              <a:noFill/>
            </a:ln>
          </p:spPr>
        </p:pic>
      </p:grpSp>
      <p:grpSp>
        <p:nvGrpSpPr>
          <p:cNvPr id="175" name=""/>
          <p:cNvGrpSpPr/>
          <p:nvPr/>
        </p:nvGrpSpPr>
        <p:grpSpPr>
          <a:xfrm>
            <a:off x="1515960" y="2590920"/>
            <a:ext cx="3665520" cy="873000"/>
            <a:chOff x="1515960" y="2590920"/>
            <a:chExt cx="3665520" cy="873000"/>
          </a:xfrm>
        </p:grpSpPr>
        <p:sp>
          <p:nvSpPr>
            <p:cNvPr id="176" name=""/>
            <p:cNvSpPr/>
            <p:nvPr/>
          </p:nvSpPr>
          <p:spPr>
            <a:xfrm flipH="1">
              <a:off x="2590920" y="2971800"/>
              <a:ext cx="2590560" cy="0"/>
            </a:xfrm>
            <a:prstGeom prst="line">
              <a:avLst/>
            </a:prstGeom>
            <a:ln w="9360">
              <a:solidFill>
                <a:srgbClr val="57a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77" name="PE01681_" descr=""/>
            <p:cNvPicPr/>
            <p:nvPr/>
          </p:nvPicPr>
          <p:blipFill>
            <a:blip r:embed="rId3"/>
            <a:stretch/>
          </p:blipFill>
          <p:spPr>
            <a:xfrm>
              <a:off x="1515960" y="2590920"/>
              <a:ext cx="928800" cy="873000"/>
            </a:xfrm>
            <a:prstGeom prst="rect">
              <a:avLst/>
            </a:prstGeom>
            <a:ln w="0">
              <a:noFill/>
            </a:ln>
          </p:spPr>
        </p:pic>
      </p:grpSp>
      <p:pic>
        <p:nvPicPr>
          <p:cNvPr id="178" name="PE01670_" descr=""/>
          <p:cNvPicPr/>
          <p:nvPr/>
        </p:nvPicPr>
        <p:blipFill>
          <a:blip r:embed="rId4"/>
          <a:stretch/>
        </p:blipFill>
        <p:spPr>
          <a:xfrm>
            <a:off x="5291280" y="1752480"/>
            <a:ext cx="1000080" cy="838440"/>
          </a:xfrm>
          <a:prstGeom prst="rect">
            <a:avLst/>
          </a:prstGeom>
          <a:ln w="0">
            <a:noFill/>
          </a:ln>
        </p:spPr>
      </p:pic>
      <p:grpSp>
        <p:nvGrpSpPr>
          <p:cNvPr id="179" name=""/>
          <p:cNvGrpSpPr/>
          <p:nvPr/>
        </p:nvGrpSpPr>
        <p:grpSpPr>
          <a:xfrm>
            <a:off x="1401840" y="4267080"/>
            <a:ext cx="1798200" cy="1200240"/>
            <a:chOff x="1401840" y="4267080"/>
            <a:chExt cx="1798200" cy="1200240"/>
          </a:xfrm>
        </p:grpSpPr>
        <p:sp>
          <p:nvSpPr>
            <p:cNvPr id="180" name=""/>
            <p:cNvSpPr/>
            <p:nvPr/>
          </p:nvSpPr>
          <p:spPr>
            <a:xfrm flipH="1">
              <a:off x="2590560" y="4648320"/>
              <a:ext cx="609480" cy="0"/>
            </a:xfrm>
            <a:prstGeom prst="line">
              <a:avLst/>
            </a:prstGeom>
            <a:ln w="9360">
              <a:solidFill>
                <a:srgbClr val="57a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1" name=""/>
            <p:cNvGrpSpPr/>
            <p:nvPr/>
          </p:nvGrpSpPr>
          <p:grpSpPr>
            <a:xfrm>
              <a:off x="1401840" y="4267080"/>
              <a:ext cx="1156680" cy="1200240"/>
              <a:chOff x="1401840" y="4267080"/>
              <a:chExt cx="1156680" cy="1200240"/>
            </a:xfrm>
          </p:grpSpPr>
          <p:pic>
            <p:nvPicPr>
              <p:cNvPr id="182" name="PE01681_" descr=""/>
              <p:cNvPicPr/>
              <p:nvPr/>
            </p:nvPicPr>
            <p:blipFill>
              <a:blip r:embed="rId5"/>
              <a:stretch/>
            </p:blipFill>
            <p:spPr>
              <a:xfrm>
                <a:off x="1630080" y="4267080"/>
                <a:ext cx="928440" cy="873360"/>
              </a:xfrm>
              <a:prstGeom prst="rect">
                <a:avLst/>
              </a:prstGeom>
              <a:ln w="0">
                <a:noFill/>
              </a:ln>
            </p:spPr>
          </p:pic>
          <p:pic>
            <p:nvPicPr>
              <p:cNvPr id="183" name="BS00994_" descr=""/>
              <p:cNvPicPr/>
              <p:nvPr/>
            </p:nvPicPr>
            <p:blipFill>
              <a:blip r:embed="rId6"/>
              <a:stretch/>
            </p:blipFill>
            <p:spPr>
              <a:xfrm>
                <a:off x="1401840" y="4648320"/>
                <a:ext cx="745920" cy="819000"/>
              </a:xfrm>
              <a:prstGeom prst="rect">
                <a:avLst/>
              </a:prstGeom>
              <a:ln w="0">
                <a:noFill/>
              </a:ln>
            </p:spPr>
          </p:pic>
        </p:grpSp>
      </p:grpSp>
      <p:grpSp>
        <p:nvGrpSpPr>
          <p:cNvPr id="184" name=""/>
          <p:cNvGrpSpPr/>
          <p:nvPr/>
        </p:nvGrpSpPr>
        <p:grpSpPr>
          <a:xfrm>
            <a:off x="1066680" y="1219320"/>
            <a:ext cx="7620120" cy="5029200"/>
            <a:chOff x="1066680" y="1219320"/>
            <a:chExt cx="7620120" cy="5029200"/>
          </a:xfrm>
        </p:grpSpPr>
        <p:sp>
          <p:nvSpPr>
            <p:cNvPr id="185" name=""/>
            <p:cNvSpPr/>
            <p:nvPr/>
          </p:nvSpPr>
          <p:spPr>
            <a:xfrm>
              <a:off x="6858000" y="1295280"/>
              <a:ext cx="175248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7a0ff"/>
                  </a:solidFill>
                  <a:latin typeface="Arial"/>
                </a:rPr>
                <a:t>Vendedor</a:t>
              </a:r>
              <a:endParaRPr b="0" lang="en-US" sz="1600" spc="-1" strike="noStrike">
                <a:solidFill>
                  <a:srgbClr val="ffffff"/>
                </a:solidFill>
                <a:latin typeface="Times New Roman"/>
              </a:endParaRPr>
            </a:p>
          </p:txBody>
        </p:sp>
        <p:sp>
          <p:nvSpPr>
            <p:cNvPr id="186" name=""/>
            <p:cNvSpPr/>
            <p:nvPr/>
          </p:nvSpPr>
          <p:spPr>
            <a:xfrm>
              <a:off x="4952880" y="1295280"/>
              <a:ext cx="1752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7a0ff"/>
                  </a:solidFill>
                  <a:latin typeface="Arial"/>
                </a:rPr>
                <a:t>Broker</a:t>
              </a:r>
              <a:endParaRPr b="0" lang="en-US" sz="1600" spc="-1" strike="noStrike">
                <a:solidFill>
                  <a:srgbClr val="ffffff"/>
                </a:solidFill>
                <a:latin typeface="Times New Roman"/>
              </a:endParaRPr>
            </a:p>
          </p:txBody>
        </p:sp>
        <p:sp>
          <p:nvSpPr>
            <p:cNvPr id="187" name=""/>
            <p:cNvSpPr/>
            <p:nvPr/>
          </p:nvSpPr>
          <p:spPr>
            <a:xfrm>
              <a:off x="3048120" y="1295280"/>
              <a:ext cx="175248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57a0ff"/>
                  </a:solidFill>
                  <a:latin typeface="Arial"/>
                </a:rPr>
                <a:t>Comprador</a:t>
              </a:r>
              <a:endParaRPr b="0" lang="en-US" sz="1600" spc="-1" strike="noStrike">
                <a:solidFill>
                  <a:srgbClr val="ffffff"/>
                </a:solidFill>
                <a:latin typeface="Times New Roman"/>
              </a:endParaRPr>
            </a:p>
          </p:txBody>
        </p:sp>
        <p:sp>
          <p:nvSpPr>
            <p:cNvPr id="188" name=""/>
            <p:cNvSpPr/>
            <p:nvPr/>
          </p:nvSpPr>
          <p:spPr>
            <a:xfrm>
              <a:off x="1066680" y="1219320"/>
              <a:ext cx="762012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1066680" y="1676520"/>
              <a:ext cx="7620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0" name=""/>
            <p:cNvGrpSpPr/>
            <p:nvPr/>
          </p:nvGrpSpPr>
          <p:grpSpPr>
            <a:xfrm>
              <a:off x="1371600" y="1447920"/>
              <a:ext cx="1066320" cy="228600"/>
              <a:chOff x="1371600" y="1447920"/>
              <a:chExt cx="1066320" cy="228600"/>
            </a:xfrm>
          </p:grpSpPr>
          <p:pic>
            <p:nvPicPr>
              <p:cNvPr id="191" name="logo_cereales_bb" descr=""/>
              <p:cNvPicPr/>
              <p:nvPr/>
            </p:nvPicPr>
            <p:blipFill>
              <a:blip r:embed="rId7"/>
              <a:stretch/>
            </p:blipFill>
            <p:spPr>
              <a:xfrm>
                <a:off x="1371600" y="1447920"/>
                <a:ext cx="294840" cy="228600"/>
              </a:xfrm>
              <a:prstGeom prst="rect">
                <a:avLst/>
              </a:prstGeom>
              <a:ln w="0">
                <a:noFill/>
              </a:ln>
            </p:spPr>
          </p:pic>
          <p:pic>
            <p:nvPicPr>
              <p:cNvPr id="192" name="logo_cereales_bsas" descr=""/>
              <p:cNvPicPr/>
              <p:nvPr/>
            </p:nvPicPr>
            <p:blipFill>
              <a:blip r:embed="rId8"/>
              <a:stretch/>
            </p:blipFill>
            <p:spPr>
              <a:xfrm>
                <a:off x="2143080" y="1447920"/>
                <a:ext cx="294840" cy="228600"/>
              </a:xfrm>
              <a:prstGeom prst="rect">
                <a:avLst/>
              </a:prstGeom>
              <a:ln w="0">
                <a:noFill/>
              </a:ln>
            </p:spPr>
          </p:pic>
          <p:pic>
            <p:nvPicPr>
              <p:cNvPr id="193" name="logo_comercio" descr=""/>
              <p:cNvPicPr/>
              <p:nvPr/>
            </p:nvPicPr>
            <p:blipFill>
              <a:blip r:embed="rId9"/>
              <a:stretch/>
            </p:blipFill>
            <p:spPr>
              <a:xfrm>
                <a:off x="1757520" y="1447920"/>
                <a:ext cx="294840" cy="228600"/>
              </a:xfrm>
              <a:prstGeom prst="rect">
                <a:avLst/>
              </a:prstGeom>
              <a:ln w="0">
                <a:noFill/>
              </a:ln>
            </p:spPr>
          </p:pic>
        </p:grpSp>
        <p:sp>
          <p:nvSpPr>
            <p:cNvPr id="194" name=""/>
            <p:cNvSpPr/>
            <p:nvPr/>
          </p:nvSpPr>
          <p:spPr>
            <a:xfrm>
              <a:off x="1066680" y="1295280"/>
              <a:ext cx="182880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7a0ff"/>
                  </a:solidFill>
                  <a:latin typeface="Arial"/>
                </a:rPr>
                <a:t>Bolsa</a:t>
              </a:r>
              <a:endParaRPr b="0" lang="en-US" sz="1600" spc="-1" strike="noStrike">
                <a:solidFill>
                  <a:srgbClr val="ffffff"/>
                </a:solidFill>
                <a:latin typeface="Times New Roman"/>
              </a:endParaRPr>
            </a:p>
          </p:txBody>
        </p:sp>
        <p:sp>
          <p:nvSpPr>
            <p:cNvPr id="195" name=""/>
            <p:cNvSpPr/>
            <p:nvPr/>
          </p:nvSpPr>
          <p:spPr>
            <a:xfrm>
              <a:off x="1066680" y="1676520"/>
              <a:ext cx="0" cy="4572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2971800" y="1676520"/>
              <a:ext cx="0" cy="4572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4876920" y="1676520"/>
              <a:ext cx="0" cy="4572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6781680" y="1676520"/>
              <a:ext cx="0" cy="4572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8686800" y="1676520"/>
              <a:ext cx="0" cy="4572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0" name=""/>
          <p:cNvGrpSpPr/>
          <p:nvPr/>
        </p:nvGrpSpPr>
        <p:grpSpPr>
          <a:xfrm>
            <a:off x="5199120" y="2514600"/>
            <a:ext cx="2573280" cy="878040"/>
            <a:chOff x="5199120" y="2514600"/>
            <a:chExt cx="2573280" cy="878040"/>
          </a:xfrm>
        </p:grpSpPr>
        <p:sp>
          <p:nvSpPr>
            <p:cNvPr id="201" name=""/>
            <p:cNvSpPr/>
            <p:nvPr/>
          </p:nvSpPr>
          <p:spPr>
            <a:xfrm>
              <a:off x="6477120" y="2971800"/>
              <a:ext cx="1295280" cy="0"/>
            </a:xfrm>
            <a:prstGeom prst="line">
              <a:avLst/>
            </a:prstGeom>
            <a:ln w="9360">
              <a:solidFill>
                <a:srgbClr val="57a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2" name=""/>
            <p:cNvGrpSpPr/>
            <p:nvPr/>
          </p:nvGrpSpPr>
          <p:grpSpPr>
            <a:xfrm>
              <a:off x="5199120" y="2743200"/>
              <a:ext cx="1182600" cy="649440"/>
              <a:chOff x="5199120" y="2743200"/>
              <a:chExt cx="1182600" cy="649440"/>
            </a:xfrm>
          </p:grpSpPr>
          <p:grpSp>
            <p:nvGrpSpPr>
              <p:cNvPr id="203" name=""/>
              <p:cNvGrpSpPr/>
              <p:nvPr/>
            </p:nvGrpSpPr>
            <p:grpSpPr>
              <a:xfrm>
                <a:off x="5199120" y="2784960"/>
                <a:ext cx="1182600" cy="607680"/>
                <a:chOff x="5199120" y="2784960"/>
                <a:chExt cx="1182600" cy="607680"/>
              </a:xfrm>
            </p:grpSpPr>
            <p:sp>
              <p:nvSpPr>
                <p:cNvPr id="204" name=""/>
                <p:cNvSpPr/>
                <p:nvPr/>
              </p:nvSpPr>
              <p:spPr>
                <a:xfrm>
                  <a:off x="5199120" y="2784960"/>
                  <a:ext cx="1182600" cy="607680"/>
                </a:xfrm>
                <a:custGeom>
                  <a:avLst/>
                  <a:gdLst/>
                  <a:ahLst/>
                  <a:rect l="l" t="t" r="r" b="b"/>
                  <a:pathLst>
                    <a:path w="2256" h="1395">
                      <a:moveTo>
                        <a:pt x="1222" y="1395"/>
                      </a:moveTo>
                      <a:lnTo>
                        <a:pt x="1218" y="1389"/>
                      </a:lnTo>
                      <a:lnTo>
                        <a:pt x="1220" y="1380"/>
                      </a:lnTo>
                      <a:lnTo>
                        <a:pt x="1229" y="1365"/>
                      </a:lnTo>
                      <a:lnTo>
                        <a:pt x="1244" y="1348"/>
                      </a:lnTo>
                      <a:lnTo>
                        <a:pt x="1265" y="1326"/>
                      </a:lnTo>
                      <a:lnTo>
                        <a:pt x="1290" y="1300"/>
                      </a:lnTo>
                      <a:lnTo>
                        <a:pt x="1322" y="1272"/>
                      </a:lnTo>
                      <a:lnTo>
                        <a:pt x="1356" y="1242"/>
                      </a:lnTo>
                      <a:lnTo>
                        <a:pt x="1394" y="1208"/>
                      </a:lnTo>
                      <a:lnTo>
                        <a:pt x="1437" y="1173"/>
                      </a:lnTo>
                      <a:lnTo>
                        <a:pt x="1481" y="1136"/>
                      </a:lnTo>
                      <a:lnTo>
                        <a:pt x="1528" y="1098"/>
                      </a:lnTo>
                      <a:lnTo>
                        <a:pt x="1577" y="1057"/>
                      </a:lnTo>
                      <a:lnTo>
                        <a:pt x="1627" y="1017"/>
                      </a:lnTo>
                      <a:lnTo>
                        <a:pt x="1679" y="977"/>
                      </a:lnTo>
                      <a:lnTo>
                        <a:pt x="1731" y="935"/>
                      </a:lnTo>
                      <a:lnTo>
                        <a:pt x="1783" y="894"/>
                      </a:lnTo>
                      <a:lnTo>
                        <a:pt x="1834" y="854"/>
                      </a:lnTo>
                      <a:lnTo>
                        <a:pt x="1885" y="814"/>
                      </a:lnTo>
                      <a:lnTo>
                        <a:pt x="1935" y="775"/>
                      </a:lnTo>
                      <a:lnTo>
                        <a:pt x="1982" y="738"/>
                      </a:lnTo>
                      <a:lnTo>
                        <a:pt x="2027" y="703"/>
                      </a:lnTo>
                      <a:lnTo>
                        <a:pt x="2069" y="668"/>
                      </a:lnTo>
                      <a:lnTo>
                        <a:pt x="2109" y="637"/>
                      </a:lnTo>
                      <a:lnTo>
                        <a:pt x="2144" y="608"/>
                      </a:lnTo>
                      <a:lnTo>
                        <a:pt x="2177" y="583"/>
                      </a:lnTo>
                      <a:lnTo>
                        <a:pt x="2203" y="560"/>
                      </a:lnTo>
                      <a:lnTo>
                        <a:pt x="2225" y="542"/>
                      </a:lnTo>
                      <a:lnTo>
                        <a:pt x="2241" y="527"/>
                      </a:lnTo>
                      <a:lnTo>
                        <a:pt x="2252" y="515"/>
                      </a:lnTo>
                      <a:lnTo>
                        <a:pt x="2256" y="508"/>
                      </a:lnTo>
                      <a:lnTo>
                        <a:pt x="2253" y="507"/>
                      </a:lnTo>
                      <a:lnTo>
                        <a:pt x="2253" y="507"/>
                      </a:lnTo>
                      <a:lnTo>
                        <a:pt x="2247" y="505"/>
                      </a:lnTo>
                      <a:lnTo>
                        <a:pt x="2235" y="499"/>
                      </a:lnTo>
                      <a:lnTo>
                        <a:pt x="2220" y="492"/>
                      </a:lnTo>
                      <a:lnTo>
                        <a:pt x="2200" y="483"/>
                      </a:lnTo>
                      <a:lnTo>
                        <a:pt x="2175" y="471"/>
                      </a:lnTo>
                      <a:lnTo>
                        <a:pt x="2148" y="459"/>
                      </a:lnTo>
                      <a:lnTo>
                        <a:pt x="2116" y="444"/>
                      </a:lnTo>
                      <a:lnTo>
                        <a:pt x="2081" y="429"/>
                      </a:lnTo>
                      <a:lnTo>
                        <a:pt x="2044" y="411"/>
                      </a:lnTo>
                      <a:lnTo>
                        <a:pt x="2004" y="392"/>
                      </a:lnTo>
                      <a:lnTo>
                        <a:pt x="1962" y="373"/>
                      </a:lnTo>
                      <a:lnTo>
                        <a:pt x="1919" y="353"/>
                      </a:lnTo>
                      <a:lnTo>
                        <a:pt x="1874" y="332"/>
                      </a:lnTo>
                      <a:lnTo>
                        <a:pt x="1829" y="310"/>
                      </a:lnTo>
                      <a:lnTo>
                        <a:pt x="1781" y="288"/>
                      </a:lnTo>
                      <a:lnTo>
                        <a:pt x="1735" y="265"/>
                      </a:lnTo>
                      <a:lnTo>
                        <a:pt x="1688" y="243"/>
                      </a:lnTo>
                      <a:lnTo>
                        <a:pt x="1642" y="220"/>
                      </a:lnTo>
                      <a:lnTo>
                        <a:pt x="1597" y="198"/>
                      </a:lnTo>
                      <a:lnTo>
                        <a:pt x="1552" y="177"/>
                      </a:lnTo>
                      <a:lnTo>
                        <a:pt x="1509" y="155"/>
                      </a:lnTo>
                      <a:lnTo>
                        <a:pt x="1468" y="134"/>
                      </a:lnTo>
                      <a:lnTo>
                        <a:pt x="1429" y="114"/>
                      </a:lnTo>
                      <a:lnTo>
                        <a:pt x="1392" y="95"/>
                      </a:lnTo>
                      <a:lnTo>
                        <a:pt x="1358" y="77"/>
                      </a:lnTo>
                      <a:lnTo>
                        <a:pt x="1327" y="60"/>
                      </a:lnTo>
                      <a:lnTo>
                        <a:pt x="1301" y="45"/>
                      </a:lnTo>
                      <a:lnTo>
                        <a:pt x="1277" y="31"/>
                      </a:lnTo>
                      <a:lnTo>
                        <a:pt x="1258" y="19"/>
                      </a:lnTo>
                      <a:lnTo>
                        <a:pt x="1243" y="8"/>
                      </a:lnTo>
                      <a:lnTo>
                        <a:pt x="1234" y="0"/>
                      </a:lnTo>
                      <a:lnTo>
                        <a:pt x="1231" y="13"/>
                      </a:lnTo>
                      <a:lnTo>
                        <a:pt x="1220" y="28"/>
                      </a:lnTo>
                      <a:lnTo>
                        <a:pt x="1204" y="43"/>
                      </a:lnTo>
                      <a:lnTo>
                        <a:pt x="1183" y="60"/>
                      </a:lnTo>
                      <a:lnTo>
                        <a:pt x="1157" y="79"/>
                      </a:lnTo>
                      <a:lnTo>
                        <a:pt x="1126" y="98"/>
                      </a:lnTo>
                      <a:lnTo>
                        <a:pt x="1090" y="119"/>
                      </a:lnTo>
                      <a:lnTo>
                        <a:pt x="1051" y="140"/>
                      </a:lnTo>
                      <a:lnTo>
                        <a:pt x="1009" y="162"/>
                      </a:lnTo>
                      <a:lnTo>
                        <a:pt x="963" y="183"/>
                      </a:lnTo>
                      <a:lnTo>
                        <a:pt x="916" y="206"/>
                      </a:lnTo>
                      <a:lnTo>
                        <a:pt x="865" y="229"/>
                      </a:lnTo>
                      <a:lnTo>
                        <a:pt x="813" y="253"/>
                      </a:lnTo>
                      <a:lnTo>
                        <a:pt x="760" y="277"/>
                      </a:lnTo>
                      <a:lnTo>
                        <a:pt x="705" y="300"/>
                      </a:lnTo>
                      <a:lnTo>
                        <a:pt x="651" y="323"/>
                      </a:lnTo>
                      <a:lnTo>
                        <a:pt x="596" y="345"/>
                      </a:lnTo>
                      <a:lnTo>
                        <a:pt x="540" y="367"/>
                      </a:lnTo>
                      <a:lnTo>
                        <a:pt x="486" y="388"/>
                      </a:lnTo>
                      <a:lnTo>
                        <a:pt x="432" y="409"/>
                      </a:lnTo>
                      <a:lnTo>
                        <a:pt x="380" y="429"/>
                      </a:lnTo>
                      <a:lnTo>
                        <a:pt x="330" y="447"/>
                      </a:lnTo>
                      <a:lnTo>
                        <a:pt x="282" y="466"/>
                      </a:lnTo>
                      <a:lnTo>
                        <a:pt x="237" y="482"/>
                      </a:lnTo>
                      <a:lnTo>
                        <a:pt x="194" y="497"/>
                      </a:lnTo>
                      <a:lnTo>
                        <a:pt x="155" y="510"/>
                      </a:lnTo>
                      <a:lnTo>
                        <a:pt x="121" y="522"/>
                      </a:lnTo>
                      <a:lnTo>
                        <a:pt x="90" y="532"/>
                      </a:lnTo>
                      <a:lnTo>
                        <a:pt x="63" y="540"/>
                      </a:lnTo>
                      <a:lnTo>
                        <a:pt x="42" y="546"/>
                      </a:lnTo>
                      <a:lnTo>
                        <a:pt x="26" y="551"/>
                      </a:lnTo>
                      <a:lnTo>
                        <a:pt x="16" y="552"/>
                      </a:lnTo>
                      <a:lnTo>
                        <a:pt x="4" y="558"/>
                      </a:lnTo>
                      <a:lnTo>
                        <a:pt x="0" y="568"/>
                      </a:lnTo>
                      <a:lnTo>
                        <a:pt x="3" y="582"/>
                      </a:lnTo>
                      <a:lnTo>
                        <a:pt x="15" y="600"/>
                      </a:lnTo>
                      <a:lnTo>
                        <a:pt x="32" y="621"/>
                      </a:lnTo>
                      <a:lnTo>
                        <a:pt x="55" y="645"/>
                      </a:lnTo>
                      <a:lnTo>
                        <a:pt x="85" y="673"/>
                      </a:lnTo>
                      <a:lnTo>
                        <a:pt x="120" y="702"/>
                      </a:lnTo>
                      <a:lnTo>
                        <a:pt x="159" y="734"/>
                      </a:lnTo>
                      <a:lnTo>
                        <a:pt x="201" y="767"/>
                      </a:lnTo>
                      <a:lnTo>
                        <a:pt x="249" y="802"/>
                      </a:lnTo>
                      <a:lnTo>
                        <a:pt x="299" y="839"/>
                      </a:lnTo>
                      <a:lnTo>
                        <a:pt x="351" y="877"/>
                      </a:lnTo>
                      <a:lnTo>
                        <a:pt x="407" y="915"/>
                      </a:lnTo>
                      <a:lnTo>
                        <a:pt x="464" y="953"/>
                      </a:lnTo>
                      <a:lnTo>
                        <a:pt x="522" y="992"/>
                      </a:lnTo>
                      <a:lnTo>
                        <a:pt x="581" y="1031"/>
                      </a:lnTo>
                      <a:lnTo>
                        <a:pt x="640" y="1069"/>
                      </a:lnTo>
                      <a:lnTo>
                        <a:pt x="699" y="1106"/>
                      </a:lnTo>
                      <a:lnTo>
                        <a:pt x="757" y="1143"/>
                      </a:lnTo>
                      <a:lnTo>
                        <a:pt x="814" y="1178"/>
                      </a:lnTo>
                      <a:lnTo>
                        <a:pt x="870" y="1212"/>
                      </a:lnTo>
                      <a:lnTo>
                        <a:pt x="923" y="1243"/>
                      </a:lnTo>
                      <a:lnTo>
                        <a:pt x="974" y="1273"/>
                      </a:lnTo>
                      <a:lnTo>
                        <a:pt x="1021" y="1299"/>
                      </a:lnTo>
                      <a:lnTo>
                        <a:pt x="1065" y="1323"/>
                      </a:lnTo>
                      <a:lnTo>
                        <a:pt x="1104" y="1345"/>
                      </a:lnTo>
                      <a:lnTo>
                        <a:pt x="1138" y="1363"/>
                      </a:lnTo>
                      <a:lnTo>
                        <a:pt x="1168" y="1378"/>
                      </a:lnTo>
                      <a:lnTo>
                        <a:pt x="1192" y="1387"/>
                      </a:lnTo>
                      <a:lnTo>
                        <a:pt x="1211" y="1394"/>
                      </a:lnTo>
                      <a:lnTo>
                        <a:pt x="1222" y="13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5222880" y="2801520"/>
                  <a:ext cx="1135440" cy="572040"/>
                </a:xfrm>
                <a:custGeom>
                  <a:avLst/>
                  <a:gdLst/>
                  <a:ahLst/>
                  <a:rect l="l" t="t" r="r" b="b"/>
                  <a:pathLst>
                    <a:path w="2169" h="1312">
                      <a:moveTo>
                        <a:pt x="1151" y="1312"/>
                      </a:moveTo>
                      <a:lnTo>
                        <a:pt x="1146" y="1307"/>
                      </a:lnTo>
                      <a:lnTo>
                        <a:pt x="1149" y="1297"/>
                      </a:lnTo>
                      <a:lnTo>
                        <a:pt x="1158" y="1284"/>
                      </a:lnTo>
                      <a:lnTo>
                        <a:pt x="1173" y="1267"/>
                      </a:lnTo>
                      <a:lnTo>
                        <a:pt x="1194" y="1246"/>
                      </a:lnTo>
                      <a:lnTo>
                        <a:pt x="1219" y="1222"/>
                      </a:lnTo>
                      <a:lnTo>
                        <a:pt x="1249" y="1196"/>
                      </a:lnTo>
                      <a:lnTo>
                        <a:pt x="1282" y="1167"/>
                      </a:lnTo>
                      <a:lnTo>
                        <a:pt x="1320" y="1136"/>
                      </a:lnTo>
                      <a:lnTo>
                        <a:pt x="1362" y="1102"/>
                      </a:lnTo>
                      <a:lnTo>
                        <a:pt x="1406" y="1068"/>
                      </a:lnTo>
                      <a:lnTo>
                        <a:pt x="1452" y="1031"/>
                      </a:lnTo>
                      <a:lnTo>
                        <a:pt x="1500" y="994"/>
                      </a:lnTo>
                      <a:lnTo>
                        <a:pt x="1550" y="956"/>
                      </a:lnTo>
                      <a:lnTo>
                        <a:pt x="1600" y="917"/>
                      </a:lnTo>
                      <a:lnTo>
                        <a:pt x="1651" y="879"/>
                      </a:lnTo>
                      <a:lnTo>
                        <a:pt x="1702" y="840"/>
                      </a:lnTo>
                      <a:lnTo>
                        <a:pt x="1752" y="802"/>
                      </a:lnTo>
                      <a:lnTo>
                        <a:pt x="1803" y="765"/>
                      </a:lnTo>
                      <a:lnTo>
                        <a:pt x="1852" y="728"/>
                      </a:lnTo>
                      <a:lnTo>
                        <a:pt x="1898" y="692"/>
                      </a:lnTo>
                      <a:lnTo>
                        <a:pt x="1943" y="659"/>
                      </a:lnTo>
                      <a:lnTo>
                        <a:pt x="1984" y="628"/>
                      </a:lnTo>
                      <a:lnTo>
                        <a:pt x="2023" y="598"/>
                      </a:lnTo>
                      <a:lnTo>
                        <a:pt x="2059" y="570"/>
                      </a:lnTo>
                      <a:lnTo>
                        <a:pt x="2090" y="546"/>
                      </a:lnTo>
                      <a:lnTo>
                        <a:pt x="2117" y="525"/>
                      </a:lnTo>
                      <a:lnTo>
                        <a:pt x="2137" y="507"/>
                      </a:lnTo>
                      <a:lnTo>
                        <a:pt x="2155" y="493"/>
                      </a:lnTo>
                      <a:lnTo>
                        <a:pt x="2165" y="483"/>
                      </a:lnTo>
                      <a:lnTo>
                        <a:pt x="2169" y="476"/>
                      </a:lnTo>
                      <a:lnTo>
                        <a:pt x="2166" y="475"/>
                      </a:lnTo>
                      <a:lnTo>
                        <a:pt x="2169" y="476"/>
                      </a:lnTo>
                      <a:lnTo>
                        <a:pt x="2164" y="474"/>
                      </a:lnTo>
                      <a:lnTo>
                        <a:pt x="2156" y="470"/>
                      </a:lnTo>
                      <a:lnTo>
                        <a:pt x="2142" y="463"/>
                      </a:lnTo>
                      <a:lnTo>
                        <a:pt x="2125" y="455"/>
                      </a:lnTo>
                      <a:lnTo>
                        <a:pt x="2103" y="446"/>
                      </a:lnTo>
                      <a:lnTo>
                        <a:pt x="2077" y="433"/>
                      </a:lnTo>
                      <a:lnTo>
                        <a:pt x="2049" y="421"/>
                      </a:lnTo>
                      <a:lnTo>
                        <a:pt x="2018" y="406"/>
                      </a:lnTo>
                      <a:lnTo>
                        <a:pt x="1983" y="390"/>
                      </a:lnTo>
                      <a:lnTo>
                        <a:pt x="1945" y="372"/>
                      </a:lnTo>
                      <a:lnTo>
                        <a:pt x="1907" y="354"/>
                      </a:lnTo>
                      <a:lnTo>
                        <a:pt x="1865" y="335"/>
                      </a:lnTo>
                      <a:lnTo>
                        <a:pt x="1824" y="316"/>
                      </a:lnTo>
                      <a:lnTo>
                        <a:pt x="1780" y="295"/>
                      </a:lnTo>
                      <a:lnTo>
                        <a:pt x="1736" y="274"/>
                      </a:lnTo>
                      <a:lnTo>
                        <a:pt x="1691" y="254"/>
                      </a:lnTo>
                      <a:lnTo>
                        <a:pt x="1648" y="232"/>
                      </a:lnTo>
                      <a:lnTo>
                        <a:pt x="1603" y="211"/>
                      </a:lnTo>
                      <a:lnTo>
                        <a:pt x="1560" y="189"/>
                      </a:lnTo>
                      <a:lnTo>
                        <a:pt x="1516" y="168"/>
                      </a:lnTo>
                      <a:lnTo>
                        <a:pt x="1475" y="149"/>
                      </a:lnTo>
                      <a:lnTo>
                        <a:pt x="1436" y="128"/>
                      </a:lnTo>
                      <a:lnTo>
                        <a:pt x="1398" y="110"/>
                      </a:lnTo>
                      <a:lnTo>
                        <a:pt x="1361" y="91"/>
                      </a:lnTo>
                      <a:lnTo>
                        <a:pt x="1327" y="74"/>
                      </a:lnTo>
                      <a:lnTo>
                        <a:pt x="1297" y="58"/>
                      </a:lnTo>
                      <a:lnTo>
                        <a:pt x="1270" y="43"/>
                      </a:lnTo>
                      <a:lnTo>
                        <a:pt x="1247" y="30"/>
                      </a:lnTo>
                      <a:lnTo>
                        <a:pt x="1226" y="19"/>
                      </a:lnTo>
                      <a:lnTo>
                        <a:pt x="1211" y="8"/>
                      </a:lnTo>
                      <a:lnTo>
                        <a:pt x="1199" y="0"/>
                      </a:lnTo>
                      <a:lnTo>
                        <a:pt x="1190" y="14"/>
                      </a:lnTo>
                      <a:lnTo>
                        <a:pt x="1174" y="28"/>
                      </a:lnTo>
                      <a:lnTo>
                        <a:pt x="1154" y="44"/>
                      </a:lnTo>
                      <a:lnTo>
                        <a:pt x="1129" y="61"/>
                      </a:lnTo>
                      <a:lnTo>
                        <a:pt x="1100" y="80"/>
                      </a:lnTo>
                      <a:lnTo>
                        <a:pt x="1067" y="98"/>
                      </a:lnTo>
                      <a:lnTo>
                        <a:pt x="1030" y="118"/>
                      </a:lnTo>
                      <a:lnTo>
                        <a:pt x="991" y="139"/>
                      </a:lnTo>
                      <a:lnTo>
                        <a:pt x="948" y="159"/>
                      </a:lnTo>
                      <a:lnTo>
                        <a:pt x="902" y="181"/>
                      </a:lnTo>
                      <a:lnTo>
                        <a:pt x="855" y="203"/>
                      </a:lnTo>
                      <a:lnTo>
                        <a:pt x="806" y="225"/>
                      </a:lnTo>
                      <a:lnTo>
                        <a:pt x="756" y="247"/>
                      </a:lnTo>
                      <a:lnTo>
                        <a:pt x="704" y="269"/>
                      </a:lnTo>
                      <a:lnTo>
                        <a:pt x="652" y="291"/>
                      </a:lnTo>
                      <a:lnTo>
                        <a:pt x="599" y="312"/>
                      </a:lnTo>
                      <a:lnTo>
                        <a:pt x="547" y="333"/>
                      </a:lnTo>
                      <a:lnTo>
                        <a:pt x="495" y="354"/>
                      </a:lnTo>
                      <a:lnTo>
                        <a:pt x="443" y="375"/>
                      </a:lnTo>
                      <a:lnTo>
                        <a:pt x="394" y="393"/>
                      </a:lnTo>
                      <a:lnTo>
                        <a:pt x="344" y="411"/>
                      </a:lnTo>
                      <a:lnTo>
                        <a:pt x="298" y="430"/>
                      </a:lnTo>
                      <a:lnTo>
                        <a:pt x="253" y="446"/>
                      </a:lnTo>
                      <a:lnTo>
                        <a:pt x="212" y="461"/>
                      </a:lnTo>
                      <a:lnTo>
                        <a:pt x="173" y="475"/>
                      </a:lnTo>
                      <a:lnTo>
                        <a:pt x="137" y="487"/>
                      </a:lnTo>
                      <a:lnTo>
                        <a:pt x="106" y="499"/>
                      </a:lnTo>
                      <a:lnTo>
                        <a:pt x="78" y="508"/>
                      </a:lnTo>
                      <a:lnTo>
                        <a:pt x="55" y="515"/>
                      </a:lnTo>
                      <a:lnTo>
                        <a:pt x="35" y="521"/>
                      </a:lnTo>
                      <a:lnTo>
                        <a:pt x="23" y="524"/>
                      </a:lnTo>
                      <a:lnTo>
                        <a:pt x="15" y="525"/>
                      </a:lnTo>
                      <a:lnTo>
                        <a:pt x="3" y="531"/>
                      </a:lnTo>
                      <a:lnTo>
                        <a:pt x="0" y="540"/>
                      </a:lnTo>
                      <a:lnTo>
                        <a:pt x="2" y="553"/>
                      </a:lnTo>
                      <a:lnTo>
                        <a:pt x="12" y="570"/>
                      </a:lnTo>
                      <a:lnTo>
                        <a:pt x="28" y="590"/>
                      </a:lnTo>
                      <a:lnTo>
                        <a:pt x="50" y="613"/>
                      </a:lnTo>
                      <a:lnTo>
                        <a:pt x="78" y="637"/>
                      </a:lnTo>
                      <a:lnTo>
                        <a:pt x="110" y="665"/>
                      </a:lnTo>
                      <a:lnTo>
                        <a:pt x="147" y="695"/>
                      </a:lnTo>
                      <a:lnTo>
                        <a:pt x="189" y="726"/>
                      </a:lnTo>
                      <a:lnTo>
                        <a:pt x="232" y="758"/>
                      </a:lnTo>
                      <a:lnTo>
                        <a:pt x="280" y="793"/>
                      </a:lnTo>
                      <a:lnTo>
                        <a:pt x="329" y="827"/>
                      </a:lnTo>
                      <a:lnTo>
                        <a:pt x="381" y="863"/>
                      </a:lnTo>
                      <a:lnTo>
                        <a:pt x="435" y="900"/>
                      </a:lnTo>
                      <a:lnTo>
                        <a:pt x="489" y="935"/>
                      </a:lnTo>
                      <a:lnTo>
                        <a:pt x="546" y="971"/>
                      </a:lnTo>
                      <a:lnTo>
                        <a:pt x="601" y="1007"/>
                      </a:lnTo>
                      <a:lnTo>
                        <a:pt x="657" y="1042"/>
                      </a:lnTo>
                      <a:lnTo>
                        <a:pt x="712" y="1076"/>
                      </a:lnTo>
                      <a:lnTo>
                        <a:pt x="766" y="1109"/>
                      </a:lnTo>
                      <a:lnTo>
                        <a:pt x="818" y="1140"/>
                      </a:lnTo>
                      <a:lnTo>
                        <a:pt x="867" y="1170"/>
                      </a:lnTo>
                      <a:lnTo>
                        <a:pt x="916" y="1198"/>
                      </a:lnTo>
                      <a:lnTo>
                        <a:pt x="961" y="1223"/>
                      </a:lnTo>
                      <a:lnTo>
                        <a:pt x="1001" y="1245"/>
                      </a:lnTo>
                      <a:lnTo>
                        <a:pt x="1039" y="1265"/>
                      </a:lnTo>
                      <a:lnTo>
                        <a:pt x="1071" y="1282"/>
                      </a:lnTo>
                      <a:lnTo>
                        <a:pt x="1100" y="1295"/>
                      </a:lnTo>
                      <a:lnTo>
                        <a:pt x="1123" y="1305"/>
                      </a:lnTo>
                      <a:lnTo>
                        <a:pt x="1141" y="1311"/>
                      </a:lnTo>
                      <a:lnTo>
                        <a:pt x="1151" y="13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5972040" y="2908800"/>
                  <a:ext cx="113040" cy="61560"/>
                </a:xfrm>
                <a:custGeom>
                  <a:avLst/>
                  <a:gdLst/>
                  <a:ahLst/>
                  <a:rect l="l" t="t" r="r" b="b"/>
                  <a:pathLst>
                    <a:path w="216" h="141">
                      <a:moveTo>
                        <a:pt x="108" y="0"/>
                      </a:moveTo>
                      <a:lnTo>
                        <a:pt x="122" y="10"/>
                      </a:lnTo>
                      <a:lnTo>
                        <a:pt x="139" y="2"/>
                      </a:lnTo>
                      <a:lnTo>
                        <a:pt x="147" y="15"/>
                      </a:lnTo>
                      <a:lnTo>
                        <a:pt x="167" y="10"/>
                      </a:lnTo>
                      <a:lnTo>
                        <a:pt x="169" y="24"/>
                      </a:lnTo>
                      <a:lnTo>
                        <a:pt x="190" y="24"/>
                      </a:lnTo>
                      <a:lnTo>
                        <a:pt x="187" y="38"/>
                      </a:lnTo>
                      <a:lnTo>
                        <a:pt x="207" y="41"/>
                      </a:lnTo>
                      <a:lnTo>
                        <a:pt x="198" y="53"/>
                      </a:lnTo>
                      <a:lnTo>
                        <a:pt x="216" y="61"/>
                      </a:lnTo>
                      <a:lnTo>
                        <a:pt x="201" y="70"/>
                      </a:lnTo>
                      <a:lnTo>
                        <a:pt x="216" y="80"/>
                      </a:lnTo>
                      <a:lnTo>
                        <a:pt x="198" y="87"/>
                      </a:lnTo>
                      <a:lnTo>
                        <a:pt x="207" y="100"/>
                      </a:lnTo>
                      <a:lnTo>
                        <a:pt x="187" y="103"/>
                      </a:lnTo>
                      <a:lnTo>
                        <a:pt x="190" y="117"/>
                      </a:lnTo>
                      <a:lnTo>
                        <a:pt x="169" y="116"/>
                      </a:lnTo>
                      <a:lnTo>
                        <a:pt x="167" y="130"/>
                      </a:lnTo>
                      <a:lnTo>
                        <a:pt x="147" y="126"/>
                      </a:lnTo>
                      <a:lnTo>
                        <a:pt x="139" y="139"/>
                      </a:lnTo>
                      <a:lnTo>
                        <a:pt x="122" y="131"/>
                      </a:lnTo>
                      <a:lnTo>
                        <a:pt x="108" y="141"/>
                      </a:lnTo>
                      <a:lnTo>
                        <a:pt x="94" y="131"/>
                      </a:lnTo>
                      <a:lnTo>
                        <a:pt x="77" y="139"/>
                      </a:lnTo>
                      <a:lnTo>
                        <a:pt x="69" y="126"/>
                      </a:lnTo>
                      <a:lnTo>
                        <a:pt x="49" y="130"/>
                      </a:lnTo>
                      <a:lnTo>
                        <a:pt x="47" y="116"/>
                      </a:lnTo>
                      <a:lnTo>
                        <a:pt x="25" y="117"/>
                      </a:lnTo>
                      <a:lnTo>
                        <a:pt x="30" y="103"/>
                      </a:lnTo>
                      <a:lnTo>
                        <a:pt x="9" y="100"/>
                      </a:lnTo>
                      <a:lnTo>
                        <a:pt x="18" y="87"/>
                      </a:lnTo>
                      <a:lnTo>
                        <a:pt x="0" y="80"/>
                      </a:lnTo>
                      <a:lnTo>
                        <a:pt x="15" y="70"/>
                      </a:lnTo>
                      <a:lnTo>
                        <a:pt x="0" y="61"/>
                      </a:lnTo>
                      <a:lnTo>
                        <a:pt x="18" y="54"/>
                      </a:lnTo>
                      <a:lnTo>
                        <a:pt x="9" y="41"/>
                      </a:lnTo>
                      <a:lnTo>
                        <a:pt x="30" y="38"/>
                      </a:lnTo>
                      <a:lnTo>
                        <a:pt x="25" y="24"/>
                      </a:lnTo>
                      <a:lnTo>
                        <a:pt x="47" y="24"/>
                      </a:lnTo>
                      <a:lnTo>
                        <a:pt x="49" y="10"/>
                      </a:lnTo>
                      <a:lnTo>
                        <a:pt x="69" y="15"/>
                      </a:lnTo>
                      <a:lnTo>
                        <a:pt x="77" y="2"/>
                      </a:lnTo>
                      <a:lnTo>
                        <a:pt x="94" y="10"/>
                      </a:lnTo>
                      <a:lnTo>
                        <a:pt x="108" y="0"/>
                      </a:lnTo>
                      <a:close/>
                    </a:path>
                  </a:pathLst>
                </a:custGeom>
                <a:solidFill>
                  <a:srgbClr val="9e9e3f"/>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7" name=""/>
                <p:cNvSpPr/>
                <p:nvPr/>
              </p:nvSpPr>
              <p:spPr>
                <a:xfrm>
                  <a:off x="5843160" y="2851920"/>
                  <a:ext cx="119160" cy="57240"/>
                </a:xfrm>
                <a:custGeom>
                  <a:avLst/>
                  <a:gdLst/>
                  <a:ahLst/>
                  <a:rect l="l" t="t" r="r" b="b"/>
                  <a:pathLst>
                    <a:path w="230" h="131">
                      <a:moveTo>
                        <a:pt x="0" y="0"/>
                      </a:moveTo>
                      <a:lnTo>
                        <a:pt x="3" y="1"/>
                      </a:lnTo>
                      <a:lnTo>
                        <a:pt x="7" y="4"/>
                      </a:lnTo>
                      <a:lnTo>
                        <a:pt x="16" y="9"/>
                      </a:lnTo>
                      <a:lnTo>
                        <a:pt x="27" y="15"/>
                      </a:lnTo>
                      <a:lnTo>
                        <a:pt x="41" y="23"/>
                      </a:lnTo>
                      <a:lnTo>
                        <a:pt x="56" y="32"/>
                      </a:lnTo>
                      <a:lnTo>
                        <a:pt x="73" y="41"/>
                      </a:lnTo>
                      <a:lnTo>
                        <a:pt x="91" y="51"/>
                      </a:lnTo>
                      <a:lnTo>
                        <a:pt x="110" y="62"/>
                      </a:lnTo>
                      <a:lnTo>
                        <a:pt x="128" y="72"/>
                      </a:lnTo>
                      <a:lnTo>
                        <a:pt x="148" y="83"/>
                      </a:lnTo>
                      <a:lnTo>
                        <a:pt x="166" y="93"/>
                      </a:lnTo>
                      <a:lnTo>
                        <a:pt x="185" y="102"/>
                      </a:lnTo>
                      <a:lnTo>
                        <a:pt x="201" y="110"/>
                      </a:lnTo>
                      <a:lnTo>
                        <a:pt x="217" y="117"/>
                      </a:lnTo>
                      <a:lnTo>
                        <a:pt x="230" y="123"/>
                      </a:lnTo>
                      <a:lnTo>
                        <a:pt x="220" y="131"/>
                      </a:lnTo>
                      <a:lnTo>
                        <a:pt x="218" y="130"/>
                      </a:lnTo>
                      <a:lnTo>
                        <a:pt x="212" y="127"/>
                      </a:lnTo>
                      <a:lnTo>
                        <a:pt x="203" y="124"/>
                      </a:lnTo>
                      <a:lnTo>
                        <a:pt x="192" y="118"/>
                      </a:lnTo>
                      <a:lnTo>
                        <a:pt x="178" y="111"/>
                      </a:lnTo>
                      <a:lnTo>
                        <a:pt x="162" y="103"/>
                      </a:lnTo>
                      <a:lnTo>
                        <a:pt x="143" y="95"/>
                      </a:lnTo>
                      <a:lnTo>
                        <a:pt x="125" y="86"/>
                      </a:lnTo>
                      <a:lnTo>
                        <a:pt x="106" y="76"/>
                      </a:lnTo>
                      <a:lnTo>
                        <a:pt x="87" y="65"/>
                      </a:lnTo>
                      <a:lnTo>
                        <a:pt x="68" y="54"/>
                      </a:lnTo>
                      <a:lnTo>
                        <a:pt x="51" y="43"/>
                      </a:lnTo>
                      <a:lnTo>
                        <a:pt x="35" y="32"/>
                      </a:lnTo>
                      <a:lnTo>
                        <a:pt x="21" y="20"/>
                      </a:lnTo>
                      <a:lnTo>
                        <a:pt x="9" y="10"/>
                      </a:lnTo>
                      <a:lnTo>
                        <a:pt x="0" y="0"/>
                      </a:lnTo>
                      <a:close/>
                    </a:path>
                  </a:pathLst>
                </a:custGeom>
                <a:solidFill>
                  <a:srgbClr val="93d3d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8" name=""/>
                <p:cNvSpPr/>
                <p:nvPr/>
              </p:nvSpPr>
              <p:spPr>
                <a:xfrm>
                  <a:off x="5824440" y="2865240"/>
                  <a:ext cx="124560" cy="61560"/>
                </a:xfrm>
                <a:custGeom>
                  <a:avLst/>
                  <a:gdLst/>
                  <a:ahLst/>
                  <a:rect l="l" t="t" r="r" b="b"/>
                  <a:pathLst>
                    <a:path w="237" h="142">
                      <a:moveTo>
                        <a:pt x="0" y="0"/>
                      </a:moveTo>
                      <a:lnTo>
                        <a:pt x="2" y="2"/>
                      </a:lnTo>
                      <a:lnTo>
                        <a:pt x="8" y="5"/>
                      </a:lnTo>
                      <a:lnTo>
                        <a:pt x="16" y="11"/>
                      </a:lnTo>
                      <a:lnTo>
                        <a:pt x="27" y="18"/>
                      </a:lnTo>
                      <a:lnTo>
                        <a:pt x="41" y="26"/>
                      </a:lnTo>
                      <a:lnTo>
                        <a:pt x="57" y="36"/>
                      </a:lnTo>
                      <a:lnTo>
                        <a:pt x="75" y="46"/>
                      </a:lnTo>
                      <a:lnTo>
                        <a:pt x="94" y="58"/>
                      </a:lnTo>
                      <a:lnTo>
                        <a:pt x="114" y="70"/>
                      </a:lnTo>
                      <a:lnTo>
                        <a:pt x="133" y="81"/>
                      </a:lnTo>
                      <a:lnTo>
                        <a:pt x="153" y="91"/>
                      </a:lnTo>
                      <a:lnTo>
                        <a:pt x="172" y="103"/>
                      </a:lnTo>
                      <a:lnTo>
                        <a:pt x="191" y="112"/>
                      </a:lnTo>
                      <a:lnTo>
                        <a:pt x="208" y="121"/>
                      </a:lnTo>
                      <a:lnTo>
                        <a:pt x="223" y="128"/>
                      </a:lnTo>
                      <a:lnTo>
                        <a:pt x="237" y="134"/>
                      </a:lnTo>
                      <a:lnTo>
                        <a:pt x="227" y="142"/>
                      </a:lnTo>
                      <a:lnTo>
                        <a:pt x="224" y="141"/>
                      </a:lnTo>
                      <a:lnTo>
                        <a:pt x="219" y="139"/>
                      </a:lnTo>
                      <a:lnTo>
                        <a:pt x="209" y="134"/>
                      </a:lnTo>
                      <a:lnTo>
                        <a:pt x="197" y="127"/>
                      </a:lnTo>
                      <a:lnTo>
                        <a:pt x="182" y="120"/>
                      </a:lnTo>
                      <a:lnTo>
                        <a:pt x="166" y="111"/>
                      </a:lnTo>
                      <a:lnTo>
                        <a:pt x="147" y="102"/>
                      </a:lnTo>
                      <a:lnTo>
                        <a:pt x="129" y="91"/>
                      </a:lnTo>
                      <a:lnTo>
                        <a:pt x="109" y="81"/>
                      </a:lnTo>
                      <a:lnTo>
                        <a:pt x="90" y="70"/>
                      </a:lnTo>
                      <a:lnTo>
                        <a:pt x="70" y="57"/>
                      </a:lnTo>
                      <a:lnTo>
                        <a:pt x="53" y="45"/>
                      </a:lnTo>
                      <a:lnTo>
                        <a:pt x="35" y="34"/>
                      </a:lnTo>
                      <a:lnTo>
                        <a:pt x="22" y="22"/>
                      </a:lnTo>
                      <a:lnTo>
                        <a:pt x="9" y="11"/>
                      </a:lnTo>
                      <a:lnTo>
                        <a:pt x="0" y="0"/>
                      </a:lnTo>
                      <a:close/>
                    </a:path>
                  </a:pathLst>
                </a:custGeom>
                <a:solidFill>
                  <a:srgbClr val="93d3d3"/>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9" name=""/>
                <p:cNvSpPr/>
                <p:nvPr/>
              </p:nvSpPr>
              <p:spPr>
                <a:xfrm>
                  <a:off x="5809680" y="2878200"/>
                  <a:ext cx="110160" cy="57240"/>
                </a:xfrm>
                <a:custGeom>
                  <a:avLst/>
                  <a:gdLst/>
                  <a:ahLst/>
                  <a:rect l="l" t="t" r="r" b="b"/>
                  <a:pathLst>
                    <a:path w="209" h="133">
                      <a:moveTo>
                        <a:pt x="0" y="0"/>
                      </a:moveTo>
                      <a:lnTo>
                        <a:pt x="1" y="2"/>
                      </a:lnTo>
                      <a:lnTo>
                        <a:pt x="6" y="5"/>
                      </a:lnTo>
                      <a:lnTo>
                        <a:pt x="14" y="10"/>
                      </a:lnTo>
                      <a:lnTo>
                        <a:pt x="23" y="16"/>
                      </a:lnTo>
                      <a:lnTo>
                        <a:pt x="35" y="23"/>
                      </a:lnTo>
                      <a:lnTo>
                        <a:pt x="48" y="33"/>
                      </a:lnTo>
                      <a:lnTo>
                        <a:pt x="63" y="42"/>
                      </a:lnTo>
                      <a:lnTo>
                        <a:pt x="79" y="52"/>
                      </a:lnTo>
                      <a:lnTo>
                        <a:pt x="97" y="64"/>
                      </a:lnTo>
                      <a:lnTo>
                        <a:pt x="114" y="74"/>
                      </a:lnTo>
                      <a:lnTo>
                        <a:pt x="131" y="84"/>
                      </a:lnTo>
                      <a:lnTo>
                        <a:pt x="149" y="94"/>
                      </a:lnTo>
                      <a:lnTo>
                        <a:pt x="165" y="103"/>
                      </a:lnTo>
                      <a:lnTo>
                        <a:pt x="181" y="112"/>
                      </a:lnTo>
                      <a:lnTo>
                        <a:pt x="196" y="119"/>
                      </a:lnTo>
                      <a:lnTo>
                        <a:pt x="209" y="125"/>
                      </a:lnTo>
                      <a:lnTo>
                        <a:pt x="198" y="133"/>
                      </a:lnTo>
                      <a:lnTo>
                        <a:pt x="196" y="132"/>
                      </a:lnTo>
                      <a:lnTo>
                        <a:pt x="191" y="129"/>
                      </a:lnTo>
                      <a:lnTo>
                        <a:pt x="183" y="126"/>
                      </a:lnTo>
                      <a:lnTo>
                        <a:pt x="173" y="120"/>
                      </a:lnTo>
                      <a:lnTo>
                        <a:pt x="160" y="113"/>
                      </a:lnTo>
                      <a:lnTo>
                        <a:pt x="146" y="105"/>
                      </a:lnTo>
                      <a:lnTo>
                        <a:pt x="130" y="97"/>
                      </a:lnTo>
                      <a:lnTo>
                        <a:pt x="114" y="87"/>
                      </a:lnTo>
                      <a:lnTo>
                        <a:pt x="97" y="78"/>
                      </a:lnTo>
                      <a:lnTo>
                        <a:pt x="81" y="66"/>
                      </a:lnTo>
                      <a:lnTo>
                        <a:pt x="63" y="56"/>
                      </a:lnTo>
                      <a:lnTo>
                        <a:pt x="48" y="44"/>
                      </a:lnTo>
                      <a:lnTo>
                        <a:pt x="33" y="33"/>
                      </a:lnTo>
                      <a:lnTo>
                        <a:pt x="20" y="22"/>
                      </a:lnTo>
                      <a:lnTo>
                        <a:pt x="9" y="11"/>
                      </a:lnTo>
                      <a:lnTo>
                        <a:pt x="0" y="0"/>
                      </a:lnTo>
                      <a:close/>
                    </a:path>
                  </a:pathLst>
                </a:custGeom>
                <a:solidFill>
                  <a:srgbClr val="93d3d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0" name=""/>
                <p:cNvSpPr/>
                <p:nvPr/>
              </p:nvSpPr>
              <p:spPr>
                <a:xfrm>
                  <a:off x="5771880" y="2890440"/>
                  <a:ext cx="370800" cy="182160"/>
                </a:xfrm>
                <a:custGeom>
                  <a:avLst/>
                  <a:gdLst/>
                  <a:ahLst/>
                  <a:rect l="l" t="t" r="r" b="b"/>
                  <a:pathLst>
                    <a:path w="709" h="418">
                      <a:moveTo>
                        <a:pt x="0" y="0"/>
                      </a:moveTo>
                      <a:lnTo>
                        <a:pt x="7" y="5"/>
                      </a:lnTo>
                      <a:lnTo>
                        <a:pt x="28" y="16"/>
                      </a:lnTo>
                      <a:lnTo>
                        <a:pt x="60" y="36"/>
                      </a:lnTo>
                      <a:lnTo>
                        <a:pt x="102" y="61"/>
                      </a:lnTo>
                      <a:lnTo>
                        <a:pt x="151" y="90"/>
                      </a:lnTo>
                      <a:lnTo>
                        <a:pt x="208" y="123"/>
                      </a:lnTo>
                      <a:lnTo>
                        <a:pt x="268" y="159"/>
                      </a:lnTo>
                      <a:lnTo>
                        <a:pt x="330" y="196"/>
                      </a:lnTo>
                      <a:lnTo>
                        <a:pt x="393" y="233"/>
                      </a:lnTo>
                      <a:lnTo>
                        <a:pt x="455" y="270"/>
                      </a:lnTo>
                      <a:lnTo>
                        <a:pt x="515" y="304"/>
                      </a:lnTo>
                      <a:lnTo>
                        <a:pt x="571" y="335"/>
                      </a:lnTo>
                      <a:lnTo>
                        <a:pt x="619" y="363"/>
                      </a:lnTo>
                      <a:lnTo>
                        <a:pt x="659" y="385"/>
                      </a:lnTo>
                      <a:lnTo>
                        <a:pt x="691" y="401"/>
                      </a:lnTo>
                      <a:lnTo>
                        <a:pt x="709" y="410"/>
                      </a:lnTo>
                      <a:lnTo>
                        <a:pt x="699" y="418"/>
                      </a:lnTo>
                      <a:lnTo>
                        <a:pt x="692" y="414"/>
                      </a:lnTo>
                      <a:lnTo>
                        <a:pt x="670" y="402"/>
                      </a:lnTo>
                      <a:lnTo>
                        <a:pt x="638" y="385"/>
                      </a:lnTo>
                      <a:lnTo>
                        <a:pt x="595" y="361"/>
                      </a:lnTo>
                      <a:lnTo>
                        <a:pt x="544" y="332"/>
                      </a:lnTo>
                      <a:lnTo>
                        <a:pt x="488" y="301"/>
                      </a:lnTo>
                      <a:lnTo>
                        <a:pt x="427" y="266"/>
                      </a:lnTo>
                      <a:lnTo>
                        <a:pt x="364" y="229"/>
                      </a:lnTo>
                      <a:lnTo>
                        <a:pt x="301" y="194"/>
                      </a:lnTo>
                      <a:lnTo>
                        <a:pt x="239" y="157"/>
                      </a:lnTo>
                      <a:lnTo>
                        <a:pt x="180" y="121"/>
                      </a:lnTo>
                      <a:lnTo>
                        <a:pt x="126" y="89"/>
                      </a:lnTo>
                      <a:lnTo>
                        <a:pt x="80" y="59"/>
                      </a:lnTo>
                      <a:lnTo>
                        <a:pt x="42" y="34"/>
                      </a:lnTo>
                      <a:lnTo>
                        <a:pt x="14" y="14"/>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5741640" y="2901600"/>
                  <a:ext cx="376920" cy="186480"/>
                </a:xfrm>
                <a:custGeom>
                  <a:avLst/>
                  <a:gdLst/>
                  <a:ahLst/>
                  <a:rect l="l" t="t" r="r" b="b"/>
                  <a:pathLst>
                    <a:path w="719" h="428">
                      <a:moveTo>
                        <a:pt x="0" y="0"/>
                      </a:moveTo>
                      <a:lnTo>
                        <a:pt x="7" y="4"/>
                      </a:lnTo>
                      <a:lnTo>
                        <a:pt x="27" y="17"/>
                      </a:lnTo>
                      <a:lnTo>
                        <a:pt x="61" y="36"/>
                      </a:lnTo>
                      <a:lnTo>
                        <a:pt x="102" y="62"/>
                      </a:lnTo>
                      <a:lnTo>
                        <a:pt x="153" y="92"/>
                      </a:lnTo>
                      <a:lnTo>
                        <a:pt x="209" y="126"/>
                      </a:lnTo>
                      <a:lnTo>
                        <a:pt x="271" y="162"/>
                      </a:lnTo>
                      <a:lnTo>
                        <a:pt x="335" y="200"/>
                      </a:lnTo>
                      <a:lnTo>
                        <a:pt x="400" y="238"/>
                      </a:lnTo>
                      <a:lnTo>
                        <a:pt x="463" y="276"/>
                      </a:lnTo>
                      <a:lnTo>
                        <a:pt x="523" y="312"/>
                      </a:lnTo>
                      <a:lnTo>
                        <a:pt x="578" y="344"/>
                      </a:lnTo>
                      <a:lnTo>
                        <a:pt x="628" y="372"/>
                      </a:lnTo>
                      <a:lnTo>
                        <a:pt x="669" y="395"/>
                      </a:lnTo>
                      <a:lnTo>
                        <a:pt x="700" y="411"/>
                      </a:lnTo>
                      <a:lnTo>
                        <a:pt x="719" y="420"/>
                      </a:lnTo>
                      <a:lnTo>
                        <a:pt x="708" y="428"/>
                      </a:lnTo>
                      <a:lnTo>
                        <a:pt x="700" y="423"/>
                      </a:lnTo>
                      <a:lnTo>
                        <a:pt x="680" y="412"/>
                      </a:lnTo>
                      <a:lnTo>
                        <a:pt x="646" y="393"/>
                      </a:lnTo>
                      <a:lnTo>
                        <a:pt x="604" y="368"/>
                      </a:lnTo>
                      <a:lnTo>
                        <a:pt x="552" y="339"/>
                      </a:lnTo>
                      <a:lnTo>
                        <a:pt x="494" y="307"/>
                      </a:lnTo>
                      <a:lnTo>
                        <a:pt x="433" y="271"/>
                      </a:lnTo>
                      <a:lnTo>
                        <a:pt x="369" y="235"/>
                      </a:lnTo>
                      <a:lnTo>
                        <a:pt x="304" y="197"/>
                      </a:lnTo>
                      <a:lnTo>
                        <a:pt x="242" y="159"/>
                      </a:lnTo>
                      <a:lnTo>
                        <a:pt x="182" y="123"/>
                      </a:lnTo>
                      <a:lnTo>
                        <a:pt x="127" y="89"/>
                      </a:lnTo>
                      <a:lnTo>
                        <a:pt x="79" y="60"/>
                      </a:lnTo>
                      <a:lnTo>
                        <a:pt x="41" y="33"/>
                      </a:lnTo>
                      <a:lnTo>
                        <a:pt x="15" y="13"/>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5714280" y="2914920"/>
                  <a:ext cx="380160" cy="189720"/>
                </a:xfrm>
                <a:custGeom>
                  <a:avLst/>
                  <a:gdLst/>
                  <a:ahLst/>
                  <a:rect l="l" t="t" r="r" b="b"/>
                  <a:pathLst>
                    <a:path w="725" h="435">
                      <a:moveTo>
                        <a:pt x="0" y="0"/>
                      </a:moveTo>
                      <a:lnTo>
                        <a:pt x="7" y="4"/>
                      </a:lnTo>
                      <a:lnTo>
                        <a:pt x="29" y="17"/>
                      </a:lnTo>
                      <a:lnTo>
                        <a:pt x="61" y="36"/>
                      </a:lnTo>
                      <a:lnTo>
                        <a:pt x="104" y="63"/>
                      </a:lnTo>
                      <a:lnTo>
                        <a:pt x="154" y="93"/>
                      </a:lnTo>
                      <a:lnTo>
                        <a:pt x="212" y="127"/>
                      </a:lnTo>
                      <a:lnTo>
                        <a:pt x="273" y="164"/>
                      </a:lnTo>
                      <a:lnTo>
                        <a:pt x="338" y="203"/>
                      </a:lnTo>
                      <a:lnTo>
                        <a:pt x="402" y="243"/>
                      </a:lnTo>
                      <a:lnTo>
                        <a:pt x="467" y="281"/>
                      </a:lnTo>
                      <a:lnTo>
                        <a:pt x="528" y="316"/>
                      </a:lnTo>
                      <a:lnTo>
                        <a:pt x="584" y="348"/>
                      </a:lnTo>
                      <a:lnTo>
                        <a:pt x="634" y="377"/>
                      </a:lnTo>
                      <a:lnTo>
                        <a:pt x="675" y="400"/>
                      </a:lnTo>
                      <a:lnTo>
                        <a:pt x="706" y="418"/>
                      </a:lnTo>
                      <a:lnTo>
                        <a:pt x="725" y="427"/>
                      </a:lnTo>
                      <a:lnTo>
                        <a:pt x="714" y="435"/>
                      </a:lnTo>
                      <a:lnTo>
                        <a:pt x="706" y="430"/>
                      </a:lnTo>
                      <a:lnTo>
                        <a:pt x="686" y="419"/>
                      </a:lnTo>
                      <a:lnTo>
                        <a:pt x="652" y="399"/>
                      </a:lnTo>
                      <a:lnTo>
                        <a:pt x="608" y="375"/>
                      </a:lnTo>
                      <a:lnTo>
                        <a:pt x="557" y="345"/>
                      </a:lnTo>
                      <a:lnTo>
                        <a:pt x="499" y="312"/>
                      </a:lnTo>
                      <a:lnTo>
                        <a:pt x="437" y="275"/>
                      </a:lnTo>
                      <a:lnTo>
                        <a:pt x="372" y="238"/>
                      </a:lnTo>
                      <a:lnTo>
                        <a:pt x="308" y="199"/>
                      </a:lnTo>
                      <a:lnTo>
                        <a:pt x="244" y="161"/>
                      </a:lnTo>
                      <a:lnTo>
                        <a:pt x="183" y="124"/>
                      </a:lnTo>
                      <a:lnTo>
                        <a:pt x="129" y="91"/>
                      </a:lnTo>
                      <a:lnTo>
                        <a:pt x="81" y="59"/>
                      </a:lnTo>
                      <a:lnTo>
                        <a:pt x="43" y="34"/>
                      </a:lnTo>
                      <a:lnTo>
                        <a:pt x="15" y="13"/>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5684040" y="2925000"/>
                  <a:ext cx="364680" cy="185760"/>
                </a:xfrm>
                <a:custGeom>
                  <a:avLst/>
                  <a:gdLst/>
                  <a:ahLst/>
                  <a:rect l="l" t="t" r="r" b="b"/>
                  <a:pathLst>
                    <a:path w="696" h="426">
                      <a:moveTo>
                        <a:pt x="0" y="0"/>
                      </a:moveTo>
                      <a:lnTo>
                        <a:pt x="8" y="4"/>
                      </a:lnTo>
                      <a:lnTo>
                        <a:pt x="29" y="17"/>
                      </a:lnTo>
                      <a:lnTo>
                        <a:pt x="62" y="38"/>
                      </a:lnTo>
                      <a:lnTo>
                        <a:pt x="105" y="64"/>
                      </a:lnTo>
                      <a:lnTo>
                        <a:pt x="157" y="96"/>
                      </a:lnTo>
                      <a:lnTo>
                        <a:pt x="214" y="131"/>
                      </a:lnTo>
                      <a:lnTo>
                        <a:pt x="276" y="169"/>
                      </a:lnTo>
                      <a:lnTo>
                        <a:pt x="339" y="207"/>
                      </a:lnTo>
                      <a:lnTo>
                        <a:pt x="403" y="246"/>
                      </a:lnTo>
                      <a:lnTo>
                        <a:pt x="466" y="284"/>
                      </a:lnTo>
                      <a:lnTo>
                        <a:pt x="524" y="319"/>
                      </a:lnTo>
                      <a:lnTo>
                        <a:pt x="577" y="351"/>
                      </a:lnTo>
                      <a:lnTo>
                        <a:pt x="622" y="377"/>
                      </a:lnTo>
                      <a:lnTo>
                        <a:pt x="659" y="399"/>
                      </a:lnTo>
                      <a:lnTo>
                        <a:pt x="685" y="412"/>
                      </a:lnTo>
                      <a:lnTo>
                        <a:pt x="696" y="418"/>
                      </a:lnTo>
                      <a:lnTo>
                        <a:pt x="686" y="426"/>
                      </a:lnTo>
                      <a:lnTo>
                        <a:pt x="679" y="421"/>
                      </a:lnTo>
                      <a:lnTo>
                        <a:pt x="658" y="410"/>
                      </a:lnTo>
                      <a:lnTo>
                        <a:pt x="626" y="391"/>
                      </a:lnTo>
                      <a:lnTo>
                        <a:pt x="584" y="367"/>
                      </a:lnTo>
                      <a:lnTo>
                        <a:pt x="535" y="338"/>
                      </a:lnTo>
                      <a:lnTo>
                        <a:pt x="480" y="305"/>
                      </a:lnTo>
                      <a:lnTo>
                        <a:pt x="420" y="270"/>
                      </a:lnTo>
                      <a:lnTo>
                        <a:pt x="357" y="233"/>
                      </a:lnTo>
                      <a:lnTo>
                        <a:pt x="295" y="195"/>
                      </a:lnTo>
                      <a:lnTo>
                        <a:pt x="234" y="159"/>
                      </a:lnTo>
                      <a:lnTo>
                        <a:pt x="176" y="123"/>
                      </a:lnTo>
                      <a:lnTo>
                        <a:pt x="123" y="89"/>
                      </a:lnTo>
                      <a:lnTo>
                        <a:pt x="78" y="59"/>
                      </a:lnTo>
                      <a:lnTo>
                        <a:pt x="40" y="33"/>
                      </a:lnTo>
                      <a:lnTo>
                        <a:pt x="14" y="13"/>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5621040" y="2945520"/>
                  <a:ext cx="401040" cy="206280"/>
                </a:xfrm>
                <a:custGeom>
                  <a:avLst/>
                  <a:gdLst/>
                  <a:ahLst/>
                  <a:rect l="l" t="t" r="r" b="b"/>
                  <a:pathLst>
                    <a:path w="765" h="473">
                      <a:moveTo>
                        <a:pt x="0" y="0"/>
                      </a:moveTo>
                      <a:lnTo>
                        <a:pt x="3" y="1"/>
                      </a:lnTo>
                      <a:lnTo>
                        <a:pt x="8" y="4"/>
                      </a:lnTo>
                      <a:lnTo>
                        <a:pt x="18" y="10"/>
                      </a:lnTo>
                      <a:lnTo>
                        <a:pt x="30" y="18"/>
                      </a:lnTo>
                      <a:lnTo>
                        <a:pt x="46" y="29"/>
                      </a:lnTo>
                      <a:lnTo>
                        <a:pt x="65" y="40"/>
                      </a:lnTo>
                      <a:lnTo>
                        <a:pt x="87" y="54"/>
                      </a:lnTo>
                      <a:lnTo>
                        <a:pt x="111" y="69"/>
                      </a:lnTo>
                      <a:lnTo>
                        <a:pt x="136" y="85"/>
                      </a:lnTo>
                      <a:lnTo>
                        <a:pt x="164" y="102"/>
                      </a:lnTo>
                      <a:lnTo>
                        <a:pt x="194" y="121"/>
                      </a:lnTo>
                      <a:lnTo>
                        <a:pt x="225" y="140"/>
                      </a:lnTo>
                      <a:lnTo>
                        <a:pt x="257" y="160"/>
                      </a:lnTo>
                      <a:lnTo>
                        <a:pt x="290" y="181"/>
                      </a:lnTo>
                      <a:lnTo>
                        <a:pt x="324" y="201"/>
                      </a:lnTo>
                      <a:lnTo>
                        <a:pt x="358" y="223"/>
                      </a:lnTo>
                      <a:lnTo>
                        <a:pt x="392" y="244"/>
                      </a:lnTo>
                      <a:lnTo>
                        <a:pt x="427" y="266"/>
                      </a:lnTo>
                      <a:lnTo>
                        <a:pt x="460" y="287"/>
                      </a:lnTo>
                      <a:lnTo>
                        <a:pt x="494" y="307"/>
                      </a:lnTo>
                      <a:lnTo>
                        <a:pt x="527" y="327"/>
                      </a:lnTo>
                      <a:lnTo>
                        <a:pt x="558" y="346"/>
                      </a:lnTo>
                      <a:lnTo>
                        <a:pt x="589" y="365"/>
                      </a:lnTo>
                      <a:lnTo>
                        <a:pt x="618" y="382"/>
                      </a:lnTo>
                      <a:lnTo>
                        <a:pt x="644" y="398"/>
                      </a:lnTo>
                      <a:lnTo>
                        <a:pt x="670" y="413"/>
                      </a:lnTo>
                      <a:lnTo>
                        <a:pt x="693" y="426"/>
                      </a:lnTo>
                      <a:lnTo>
                        <a:pt x="714" y="437"/>
                      </a:lnTo>
                      <a:lnTo>
                        <a:pt x="731" y="448"/>
                      </a:lnTo>
                      <a:lnTo>
                        <a:pt x="746" y="456"/>
                      </a:lnTo>
                      <a:lnTo>
                        <a:pt x="757" y="462"/>
                      </a:lnTo>
                      <a:lnTo>
                        <a:pt x="765" y="465"/>
                      </a:lnTo>
                      <a:lnTo>
                        <a:pt x="755" y="473"/>
                      </a:lnTo>
                      <a:lnTo>
                        <a:pt x="753" y="472"/>
                      </a:lnTo>
                      <a:lnTo>
                        <a:pt x="747" y="468"/>
                      </a:lnTo>
                      <a:lnTo>
                        <a:pt x="738" y="463"/>
                      </a:lnTo>
                      <a:lnTo>
                        <a:pt x="724" y="455"/>
                      </a:lnTo>
                      <a:lnTo>
                        <a:pt x="708" y="445"/>
                      </a:lnTo>
                      <a:lnTo>
                        <a:pt x="688" y="434"/>
                      </a:lnTo>
                      <a:lnTo>
                        <a:pt x="666" y="421"/>
                      </a:lnTo>
                      <a:lnTo>
                        <a:pt x="642" y="406"/>
                      </a:lnTo>
                      <a:lnTo>
                        <a:pt x="617" y="391"/>
                      </a:lnTo>
                      <a:lnTo>
                        <a:pt x="588" y="374"/>
                      </a:lnTo>
                      <a:lnTo>
                        <a:pt x="558" y="357"/>
                      </a:lnTo>
                      <a:lnTo>
                        <a:pt x="527" y="337"/>
                      </a:lnTo>
                      <a:lnTo>
                        <a:pt x="495" y="318"/>
                      </a:lnTo>
                      <a:lnTo>
                        <a:pt x="461" y="298"/>
                      </a:lnTo>
                      <a:lnTo>
                        <a:pt x="427" y="277"/>
                      </a:lnTo>
                      <a:lnTo>
                        <a:pt x="392" y="257"/>
                      </a:lnTo>
                      <a:lnTo>
                        <a:pt x="358" y="236"/>
                      </a:lnTo>
                      <a:lnTo>
                        <a:pt x="324" y="215"/>
                      </a:lnTo>
                      <a:lnTo>
                        <a:pt x="290" y="194"/>
                      </a:lnTo>
                      <a:lnTo>
                        <a:pt x="256" y="174"/>
                      </a:lnTo>
                      <a:lnTo>
                        <a:pt x="224" y="153"/>
                      </a:lnTo>
                      <a:lnTo>
                        <a:pt x="193" y="133"/>
                      </a:lnTo>
                      <a:lnTo>
                        <a:pt x="163" y="115"/>
                      </a:lnTo>
                      <a:lnTo>
                        <a:pt x="135" y="97"/>
                      </a:lnTo>
                      <a:lnTo>
                        <a:pt x="109" y="79"/>
                      </a:lnTo>
                      <a:lnTo>
                        <a:pt x="84" y="63"/>
                      </a:lnTo>
                      <a:lnTo>
                        <a:pt x="62" y="49"/>
                      </a:lnTo>
                      <a:lnTo>
                        <a:pt x="44" y="36"/>
                      </a:lnTo>
                      <a:lnTo>
                        <a:pt x="28" y="24"/>
                      </a:lnTo>
                      <a:lnTo>
                        <a:pt x="15" y="14"/>
                      </a:lnTo>
                      <a:lnTo>
                        <a:pt x="6" y="6"/>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5589360" y="2956680"/>
                  <a:ext cx="408600" cy="210960"/>
                </a:xfrm>
                <a:custGeom>
                  <a:avLst/>
                  <a:gdLst/>
                  <a:ahLst/>
                  <a:rect l="l" t="t" r="r" b="b"/>
                  <a:pathLst>
                    <a:path w="779" h="485">
                      <a:moveTo>
                        <a:pt x="0" y="0"/>
                      </a:moveTo>
                      <a:lnTo>
                        <a:pt x="3" y="1"/>
                      </a:lnTo>
                      <a:lnTo>
                        <a:pt x="8" y="5"/>
                      </a:lnTo>
                      <a:lnTo>
                        <a:pt x="18" y="12"/>
                      </a:lnTo>
                      <a:lnTo>
                        <a:pt x="31" y="20"/>
                      </a:lnTo>
                      <a:lnTo>
                        <a:pt x="48" y="30"/>
                      </a:lnTo>
                      <a:lnTo>
                        <a:pt x="66" y="41"/>
                      </a:lnTo>
                      <a:lnTo>
                        <a:pt x="88" y="55"/>
                      </a:lnTo>
                      <a:lnTo>
                        <a:pt x="112" y="71"/>
                      </a:lnTo>
                      <a:lnTo>
                        <a:pt x="139" y="88"/>
                      </a:lnTo>
                      <a:lnTo>
                        <a:pt x="167" y="106"/>
                      </a:lnTo>
                      <a:lnTo>
                        <a:pt x="197" y="124"/>
                      </a:lnTo>
                      <a:lnTo>
                        <a:pt x="230" y="144"/>
                      </a:lnTo>
                      <a:lnTo>
                        <a:pt x="262" y="165"/>
                      </a:lnTo>
                      <a:lnTo>
                        <a:pt x="295" y="187"/>
                      </a:lnTo>
                      <a:lnTo>
                        <a:pt x="330" y="207"/>
                      </a:lnTo>
                      <a:lnTo>
                        <a:pt x="365" y="229"/>
                      </a:lnTo>
                      <a:lnTo>
                        <a:pt x="400" y="251"/>
                      </a:lnTo>
                      <a:lnTo>
                        <a:pt x="435" y="273"/>
                      </a:lnTo>
                      <a:lnTo>
                        <a:pt x="469" y="295"/>
                      </a:lnTo>
                      <a:lnTo>
                        <a:pt x="504" y="316"/>
                      </a:lnTo>
                      <a:lnTo>
                        <a:pt x="537" y="336"/>
                      </a:lnTo>
                      <a:lnTo>
                        <a:pt x="570" y="356"/>
                      </a:lnTo>
                      <a:lnTo>
                        <a:pt x="600" y="374"/>
                      </a:lnTo>
                      <a:lnTo>
                        <a:pt x="630" y="392"/>
                      </a:lnTo>
                      <a:lnTo>
                        <a:pt x="657" y="409"/>
                      </a:lnTo>
                      <a:lnTo>
                        <a:pt x="683" y="424"/>
                      </a:lnTo>
                      <a:lnTo>
                        <a:pt x="706" y="438"/>
                      </a:lnTo>
                      <a:lnTo>
                        <a:pt x="726" y="449"/>
                      </a:lnTo>
                      <a:lnTo>
                        <a:pt x="745" y="459"/>
                      </a:lnTo>
                      <a:lnTo>
                        <a:pt x="760" y="468"/>
                      </a:lnTo>
                      <a:lnTo>
                        <a:pt x="771" y="473"/>
                      </a:lnTo>
                      <a:lnTo>
                        <a:pt x="779" y="477"/>
                      </a:lnTo>
                      <a:lnTo>
                        <a:pt x="769" y="485"/>
                      </a:lnTo>
                      <a:lnTo>
                        <a:pt x="767" y="484"/>
                      </a:lnTo>
                      <a:lnTo>
                        <a:pt x="761" y="480"/>
                      </a:lnTo>
                      <a:lnTo>
                        <a:pt x="751" y="474"/>
                      </a:lnTo>
                      <a:lnTo>
                        <a:pt x="738" y="466"/>
                      </a:lnTo>
                      <a:lnTo>
                        <a:pt x="721" y="456"/>
                      </a:lnTo>
                      <a:lnTo>
                        <a:pt x="701" y="444"/>
                      </a:lnTo>
                      <a:lnTo>
                        <a:pt x="679" y="432"/>
                      </a:lnTo>
                      <a:lnTo>
                        <a:pt x="655" y="417"/>
                      </a:lnTo>
                      <a:lnTo>
                        <a:pt x="627" y="401"/>
                      </a:lnTo>
                      <a:lnTo>
                        <a:pt x="598" y="383"/>
                      </a:lnTo>
                      <a:lnTo>
                        <a:pt x="568" y="365"/>
                      </a:lnTo>
                      <a:lnTo>
                        <a:pt x="536" y="345"/>
                      </a:lnTo>
                      <a:lnTo>
                        <a:pt x="503" y="326"/>
                      </a:lnTo>
                      <a:lnTo>
                        <a:pt x="469" y="305"/>
                      </a:lnTo>
                      <a:lnTo>
                        <a:pt x="435" y="284"/>
                      </a:lnTo>
                      <a:lnTo>
                        <a:pt x="399" y="263"/>
                      </a:lnTo>
                      <a:lnTo>
                        <a:pt x="365" y="241"/>
                      </a:lnTo>
                      <a:lnTo>
                        <a:pt x="329" y="220"/>
                      </a:lnTo>
                      <a:lnTo>
                        <a:pt x="294" y="198"/>
                      </a:lnTo>
                      <a:lnTo>
                        <a:pt x="261" y="177"/>
                      </a:lnTo>
                      <a:lnTo>
                        <a:pt x="227" y="157"/>
                      </a:lnTo>
                      <a:lnTo>
                        <a:pt x="196" y="136"/>
                      </a:lnTo>
                      <a:lnTo>
                        <a:pt x="165" y="117"/>
                      </a:lnTo>
                      <a:lnTo>
                        <a:pt x="137" y="99"/>
                      </a:lnTo>
                      <a:lnTo>
                        <a:pt x="110" y="81"/>
                      </a:lnTo>
                      <a:lnTo>
                        <a:pt x="86" y="64"/>
                      </a:lnTo>
                      <a:lnTo>
                        <a:pt x="64" y="50"/>
                      </a:lnTo>
                      <a:lnTo>
                        <a:pt x="44" y="37"/>
                      </a:lnTo>
                      <a:lnTo>
                        <a:pt x="28" y="24"/>
                      </a:lnTo>
                      <a:lnTo>
                        <a:pt x="15" y="14"/>
                      </a:lnTo>
                      <a:lnTo>
                        <a:pt x="6" y="6"/>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5558040" y="2966400"/>
                  <a:ext cx="415800" cy="217080"/>
                </a:xfrm>
                <a:custGeom>
                  <a:avLst/>
                  <a:gdLst/>
                  <a:ahLst/>
                  <a:rect l="l" t="t" r="r" b="b"/>
                  <a:pathLst>
                    <a:path w="793" h="499">
                      <a:moveTo>
                        <a:pt x="0" y="0"/>
                      </a:moveTo>
                      <a:lnTo>
                        <a:pt x="3" y="1"/>
                      </a:lnTo>
                      <a:lnTo>
                        <a:pt x="8" y="6"/>
                      </a:lnTo>
                      <a:lnTo>
                        <a:pt x="19" y="12"/>
                      </a:lnTo>
                      <a:lnTo>
                        <a:pt x="32" y="20"/>
                      </a:lnTo>
                      <a:lnTo>
                        <a:pt x="49" y="31"/>
                      </a:lnTo>
                      <a:lnTo>
                        <a:pt x="68" y="43"/>
                      </a:lnTo>
                      <a:lnTo>
                        <a:pt x="90" y="58"/>
                      </a:lnTo>
                      <a:lnTo>
                        <a:pt x="115" y="73"/>
                      </a:lnTo>
                      <a:lnTo>
                        <a:pt x="142" y="90"/>
                      </a:lnTo>
                      <a:lnTo>
                        <a:pt x="171" y="108"/>
                      </a:lnTo>
                      <a:lnTo>
                        <a:pt x="202" y="128"/>
                      </a:lnTo>
                      <a:lnTo>
                        <a:pt x="234" y="149"/>
                      </a:lnTo>
                      <a:lnTo>
                        <a:pt x="268" y="169"/>
                      </a:lnTo>
                      <a:lnTo>
                        <a:pt x="301" y="191"/>
                      </a:lnTo>
                      <a:lnTo>
                        <a:pt x="337" y="213"/>
                      </a:lnTo>
                      <a:lnTo>
                        <a:pt x="373" y="235"/>
                      </a:lnTo>
                      <a:lnTo>
                        <a:pt x="408" y="258"/>
                      </a:lnTo>
                      <a:lnTo>
                        <a:pt x="443" y="280"/>
                      </a:lnTo>
                      <a:lnTo>
                        <a:pt x="479" y="302"/>
                      </a:lnTo>
                      <a:lnTo>
                        <a:pt x="513" y="324"/>
                      </a:lnTo>
                      <a:lnTo>
                        <a:pt x="548" y="344"/>
                      </a:lnTo>
                      <a:lnTo>
                        <a:pt x="580" y="365"/>
                      </a:lnTo>
                      <a:lnTo>
                        <a:pt x="612" y="385"/>
                      </a:lnTo>
                      <a:lnTo>
                        <a:pt x="641" y="403"/>
                      </a:lnTo>
                      <a:lnTo>
                        <a:pt x="670" y="420"/>
                      </a:lnTo>
                      <a:lnTo>
                        <a:pt x="695" y="435"/>
                      </a:lnTo>
                      <a:lnTo>
                        <a:pt x="720" y="449"/>
                      </a:lnTo>
                      <a:lnTo>
                        <a:pt x="740" y="462"/>
                      </a:lnTo>
                      <a:lnTo>
                        <a:pt x="759" y="472"/>
                      </a:lnTo>
                      <a:lnTo>
                        <a:pt x="774" y="480"/>
                      </a:lnTo>
                      <a:lnTo>
                        <a:pt x="785" y="487"/>
                      </a:lnTo>
                      <a:lnTo>
                        <a:pt x="793" y="491"/>
                      </a:lnTo>
                      <a:lnTo>
                        <a:pt x="783" y="499"/>
                      </a:lnTo>
                      <a:lnTo>
                        <a:pt x="781" y="497"/>
                      </a:lnTo>
                      <a:lnTo>
                        <a:pt x="775" y="494"/>
                      </a:lnTo>
                      <a:lnTo>
                        <a:pt x="764" y="487"/>
                      </a:lnTo>
                      <a:lnTo>
                        <a:pt x="751" y="479"/>
                      </a:lnTo>
                      <a:lnTo>
                        <a:pt x="735" y="469"/>
                      </a:lnTo>
                      <a:lnTo>
                        <a:pt x="714" y="457"/>
                      </a:lnTo>
                      <a:lnTo>
                        <a:pt x="692" y="443"/>
                      </a:lnTo>
                      <a:lnTo>
                        <a:pt x="667" y="428"/>
                      </a:lnTo>
                      <a:lnTo>
                        <a:pt x="639" y="412"/>
                      </a:lnTo>
                      <a:lnTo>
                        <a:pt x="609" y="394"/>
                      </a:lnTo>
                      <a:lnTo>
                        <a:pt x="578" y="375"/>
                      </a:lnTo>
                      <a:lnTo>
                        <a:pt x="546" y="355"/>
                      </a:lnTo>
                      <a:lnTo>
                        <a:pt x="512" y="334"/>
                      </a:lnTo>
                      <a:lnTo>
                        <a:pt x="478" y="313"/>
                      </a:lnTo>
                      <a:lnTo>
                        <a:pt x="442" y="291"/>
                      </a:lnTo>
                      <a:lnTo>
                        <a:pt x="406" y="269"/>
                      </a:lnTo>
                      <a:lnTo>
                        <a:pt x="370" y="248"/>
                      </a:lnTo>
                      <a:lnTo>
                        <a:pt x="335" y="226"/>
                      </a:lnTo>
                      <a:lnTo>
                        <a:pt x="300" y="204"/>
                      </a:lnTo>
                      <a:lnTo>
                        <a:pt x="265" y="182"/>
                      </a:lnTo>
                      <a:lnTo>
                        <a:pt x="232" y="160"/>
                      </a:lnTo>
                      <a:lnTo>
                        <a:pt x="200" y="139"/>
                      </a:lnTo>
                      <a:lnTo>
                        <a:pt x="169" y="120"/>
                      </a:lnTo>
                      <a:lnTo>
                        <a:pt x="139" y="100"/>
                      </a:lnTo>
                      <a:lnTo>
                        <a:pt x="112" y="83"/>
                      </a:lnTo>
                      <a:lnTo>
                        <a:pt x="87" y="66"/>
                      </a:lnTo>
                      <a:lnTo>
                        <a:pt x="65" y="51"/>
                      </a:lnTo>
                      <a:lnTo>
                        <a:pt x="45" y="37"/>
                      </a:lnTo>
                      <a:lnTo>
                        <a:pt x="29" y="25"/>
                      </a:lnTo>
                      <a:lnTo>
                        <a:pt x="15" y="15"/>
                      </a:lnTo>
                      <a:lnTo>
                        <a:pt x="6" y="6"/>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5526720" y="2976840"/>
                  <a:ext cx="423000" cy="222120"/>
                </a:xfrm>
                <a:custGeom>
                  <a:avLst/>
                  <a:gdLst/>
                  <a:ahLst/>
                  <a:rect l="l" t="t" r="r" b="b"/>
                  <a:pathLst>
                    <a:path w="808" h="511">
                      <a:moveTo>
                        <a:pt x="0" y="0"/>
                      </a:moveTo>
                      <a:lnTo>
                        <a:pt x="3" y="1"/>
                      </a:lnTo>
                      <a:lnTo>
                        <a:pt x="9" y="6"/>
                      </a:lnTo>
                      <a:lnTo>
                        <a:pt x="19" y="12"/>
                      </a:lnTo>
                      <a:lnTo>
                        <a:pt x="33" y="21"/>
                      </a:lnTo>
                      <a:lnTo>
                        <a:pt x="49" y="31"/>
                      </a:lnTo>
                      <a:lnTo>
                        <a:pt x="70" y="44"/>
                      </a:lnTo>
                      <a:lnTo>
                        <a:pt x="92" y="59"/>
                      </a:lnTo>
                      <a:lnTo>
                        <a:pt x="117" y="75"/>
                      </a:lnTo>
                      <a:lnTo>
                        <a:pt x="145" y="93"/>
                      </a:lnTo>
                      <a:lnTo>
                        <a:pt x="175" y="112"/>
                      </a:lnTo>
                      <a:lnTo>
                        <a:pt x="206" y="131"/>
                      </a:lnTo>
                      <a:lnTo>
                        <a:pt x="239" y="152"/>
                      </a:lnTo>
                      <a:lnTo>
                        <a:pt x="272" y="174"/>
                      </a:lnTo>
                      <a:lnTo>
                        <a:pt x="307" y="197"/>
                      </a:lnTo>
                      <a:lnTo>
                        <a:pt x="343" y="219"/>
                      </a:lnTo>
                      <a:lnTo>
                        <a:pt x="380" y="242"/>
                      </a:lnTo>
                      <a:lnTo>
                        <a:pt x="415" y="265"/>
                      </a:lnTo>
                      <a:lnTo>
                        <a:pt x="452" y="288"/>
                      </a:lnTo>
                      <a:lnTo>
                        <a:pt x="488" y="311"/>
                      </a:lnTo>
                      <a:lnTo>
                        <a:pt x="524" y="333"/>
                      </a:lnTo>
                      <a:lnTo>
                        <a:pt x="558" y="355"/>
                      </a:lnTo>
                      <a:lnTo>
                        <a:pt x="592" y="375"/>
                      </a:lnTo>
                      <a:lnTo>
                        <a:pt x="624" y="395"/>
                      </a:lnTo>
                      <a:lnTo>
                        <a:pt x="654" y="413"/>
                      </a:lnTo>
                      <a:lnTo>
                        <a:pt x="683" y="432"/>
                      </a:lnTo>
                      <a:lnTo>
                        <a:pt x="709" y="448"/>
                      </a:lnTo>
                      <a:lnTo>
                        <a:pt x="733" y="462"/>
                      </a:lnTo>
                      <a:lnTo>
                        <a:pt x="754" y="474"/>
                      </a:lnTo>
                      <a:lnTo>
                        <a:pt x="773" y="485"/>
                      </a:lnTo>
                      <a:lnTo>
                        <a:pt x="789" y="493"/>
                      </a:lnTo>
                      <a:lnTo>
                        <a:pt x="800" y="500"/>
                      </a:lnTo>
                      <a:lnTo>
                        <a:pt x="808" y="503"/>
                      </a:lnTo>
                      <a:lnTo>
                        <a:pt x="797" y="511"/>
                      </a:lnTo>
                      <a:lnTo>
                        <a:pt x="795" y="510"/>
                      </a:lnTo>
                      <a:lnTo>
                        <a:pt x="789" y="507"/>
                      </a:lnTo>
                      <a:lnTo>
                        <a:pt x="778" y="500"/>
                      </a:lnTo>
                      <a:lnTo>
                        <a:pt x="765" y="492"/>
                      </a:lnTo>
                      <a:lnTo>
                        <a:pt x="747" y="481"/>
                      </a:lnTo>
                      <a:lnTo>
                        <a:pt x="727" y="469"/>
                      </a:lnTo>
                      <a:lnTo>
                        <a:pt x="703" y="455"/>
                      </a:lnTo>
                      <a:lnTo>
                        <a:pt x="678" y="439"/>
                      </a:lnTo>
                      <a:lnTo>
                        <a:pt x="650" y="423"/>
                      </a:lnTo>
                      <a:lnTo>
                        <a:pt x="620" y="404"/>
                      </a:lnTo>
                      <a:lnTo>
                        <a:pt x="588" y="385"/>
                      </a:lnTo>
                      <a:lnTo>
                        <a:pt x="555" y="364"/>
                      </a:lnTo>
                      <a:lnTo>
                        <a:pt x="521" y="343"/>
                      </a:lnTo>
                      <a:lnTo>
                        <a:pt x="486" y="321"/>
                      </a:lnTo>
                      <a:lnTo>
                        <a:pt x="450" y="299"/>
                      </a:lnTo>
                      <a:lnTo>
                        <a:pt x="413" y="276"/>
                      </a:lnTo>
                      <a:lnTo>
                        <a:pt x="377" y="253"/>
                      </a:lnTo>
                      <a:lnTo>
                        <a:pt x="340" y="232"/>
                      </a:lnTo>
                      <a:lnTo>
                        <a:pt x="305" y="208"/>
                      </a:lnTo>
                      <a:lnTo>
                        <a:pt x="270" y="187"/>
                      </a:lnTo>
                      <a:lnTo>
                        <a:pt x="236" y="165"/>
                      </a:lnTo>
                      <a:lnTo>
                        <a:pt x="202" y="143"/>
                      </a:lnTo>
                      <a:lnTo>
                        <a:pt x="171" y="123"/>
                      </a:lnTo>
                      <a:lnTo>
                        <a:pt x="141" y="104"/>
                      </a:lnTo>
                      <a:lnTo>
                        <a:pt x="113" y="85"/>
                      </a:lnTo>
                      <a:lnTo>
                        <a:pt x="88" y="68"/>
                      </a:lnTo>
                      <a:lnTo>
                        <a:pt x="66" y="52"/>
                      </a:lnTo>
                      <a:lnTo>
                        <a:pt x="45" y="38"/>
                      </a:lnTo>
                      <a:lnTo>
                        <a:pt x="29" y="25"/>
                      </a:lnTo>
                      <a:lnTo>
                        <a:pt x="15" y="15"/>
                      </a:lnTo>
                      <a:lnTo>
                        <a:pt x="6" y="6"/>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5495400" y="2987280"/>
                  <a:ext cx="379080" cy="201960"/>
                </a:xfrm>
                <a:custGeom>
                  <a:avLst/>
                  <a:gdLst/>
                  <a:ahLst/>
                  <a:rect l="l" t="t" r="r" b="b"/>
                  <a:pathLst>
                    <a:path w="723" h="465">
                      <a:moveTo>
                        <a:pt x="0" y="0"/>
                      </a:moveTo>
                      <a:lnTo>
                        <a:pt x="2" y="1"/>
                      </a:lnTo>
                      <a:lnTo>
                        <a:pt x="8" y="6"/>
                      </a:lnTo>
                      <a:lnTo>
                        <a:pt x="18" y="12"/>
                      </a:lnTo>
                      <a:lnTo>
                        <a:pt x="32" y="21"/>
                      </a:lnTo>
                      <a:lnTo>
                        <a:pt x="49" y="32"/>
                      </a:lnTo>
                      <a:lnTo>
                        <a:pt x="69" y="45"/>
                      </a:lnTo>
                      <a:lnTo>
                        <a:pt x="92" y="60"/>
                      </a:lnTo>
                      <a:lnTo>
                        <a:pt x="117" y="76"/>
                      </a:lnTo>
                      <a:lnTo>
                        <a:pt x="145" y="94"/>
                      </a:lnTo>
                      <a:lnTo>
                        <a:pt x="174" y="113"/>
                      </a:lnTo>
                      <a:lnTo>
                        <a:pt x="205" y="133"/>
                      </a:lnTo>
                      <a:lnTo>
                        <a:pt x="237" y="153"/>
                      </a:lnTo>
                      <a:lnTo>
                        <a:pt x="270" y="175"/>
                      </a:lnTo>
                      <a:lnTo>
                        <a:pt x="304" y="197"/>
                      </a:lnTo>
                      <a:lnTo>
                        <a:pt x="338" y="219"/>
                      </a:lnTo>
                      <a:lnTo>
                        <a:pt x="373" y="241"/>
                      </a:lnTo>
                      <a:lnTo>
                        <a:pt x="408" y="263"/>
                      </a:lnTo>
                      <a:lnTo>
                        <a:pt x="442" y="285"/>
                      </a:lnTo>
                      <a:lnTo>
                        <a:pt x="476" y="307"/>
                      </a:lnTo>
                      <a:lnTo>
                        <a:pt x="508" y="327"/>
                      </a:lnTo>
                      <a:lnTo>
                        <a:pt x="539" y="347"/>
                      </a:lnTo>
                      <a:lnTo>
                        <a:pt x="569" y="365"/>
                      </a:lnTo>
                      <a:lnTo>
                        <a:pt x="597" y="384"/>
                      </a:lnTo>
                      <a:lnTo>
                        <a:pt x="623" y="400"/>
                      </a:lnTo>
                      <a:lnTo>
                        <a:pt x="646" y="415"/>
                      </a:lnTo>
                      <a:lnTo>
                        <a:pt x="668" y="427"/>
                      </a:lnTo>
                      <a:lnTo>
                        <a:pt x="685" y="438"/>
                      </a:lnTo>
                      <a:lnTo>
                        <a:pt x="700" y="447"/>
                      </a:lnTo>
                      <a:lnTo>
                        <a:pt x="712" y="454"/>
                      </a:lnTo>
                      <a:lnTo>
                        <a:pt x="720" y="457"/>
                      </a:lnTo>
                      <a:lnTo>
                        <a:pt x="723" y="459"/>
                      </a:lnTo>
                      <a:lnTo>
                        <a:pt x="722" y="457"/>
                      </a:lnTo>
                      <a:lnTo>
                        <a:pt x="712" y="465"/>
                      </a:lnTo>
                      <a:lnTo>
                        <a:pt x="704" y="461"/>
                      </a:lnTo>
                      <a:lnTo>
                        <a:pt x="683" y="448"/>
                      </a:lnTo>
                      <a:lnTo>
                        <a:pt x="650" y="427"/>
                      </a:lnTo>
                      <a:lnTo>
                        <a:pt x="606" y="400"/>
                      </a:lnTo>
                      <a:lnTo>
                        <a:pt x="555" y="369"/>
                      </a:lnTo>
                      <a:lnTo>
                        <a:pt x="497" y="333"/>
                      </a:lnTo>
                      <a:lnTo>
                        <a:pt x="435" y="294"/>
                      </a:lnTo>
                      <a:lnTo>
                        <a:pt x="371" y="254"/>
                      </a:lnTo>
                      <a:lnTo>
                        <a:pt x="306" y="212"/>
                      </a:lnTo>
                      <a:lnTo>
                        <a:pt x="243" y="171"/>
                      </a:lnTo>
                      <a:lnTo>
                        <a:pt x="183" y="133"/>
                      </a:lnTo>
                      <a:lnTo>
                        <a:pt x="127" y="96"/>
                      </a:lnTo>
                      <a:lnTo>
                        <a:pt x="80" y="64"/>
                      </a:lnTo>
                      <a:lnTo>
                        <a:pt x="42" y="36"/>
                      </a:lnTo>
                      <a:lnTo>
                        <a:pt x="15" y="14"/>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5432400" y="3007080"/>
                  <a:ext cx="444960" cy="239760"/>
                </a:xfrm>
                <a:custGeom>
                  <a:avLst/>
                  <a:gdLst/>
                  <a:ahLst/>
                  <a:rect l="l" t="t" r="r" b="b"/>
                  <a:pathLst>
                    <a:path w="849" h="550">
                      <a:moveTo>
                        <a:pt x="0" y="0"/>
                      </a:moveTo>
                      <a:lnTo>
                        <a:pt x="2" y="2"/>
                      </a:lnTo>
                      <a:lnTo>
                        <a:pt x="9" y="6"/>
                      </a:lnTo>
                      <a:lnTo>
                        <a:pt x="19" y="13"/>
                      </a:lnTo>
                      <a:lnTo>
                        <a:pt x="33" y="22"/>
                      </a:lnTo>
                      <a:lnTo>
                        <a:pt x="52" y="34"/>
                      </a:lnTo>
                      <a:lnTo>
                        <a:pt x="72" y="48"/>
                      </a:lnTo>
                      <a:lnTo>
                        <a:pt x="97" y="64"/>
                      </a:lnTo>
                      <a:lnTo>
                        <a:pt x="123" y="81"/>
                      </a:lnTo>
                      <a:lnTo>
                        <a:pt x="152" y="101"/>
                      </a:lnTo>
                      <a:lnTo>
                        <a:pt x="183" y="121"/>
                      </a:lnTo>
                      <a:lnTo>
                        <a:pt x="216" y="142"/>
                      </a:lnTo>
                      <a:lnTo>
                        <a:pt x="251" y="165"/>
                      </a:lnTo>
                      <a:lnTo>
                        <a:pt x="287" y="188"/>
                      </a:lnTo>
                      <a:lnTo>
                        <a:pt x="324" y="212"/>
                      </a:lnTo>
                      <a:lnTo>
                        <a:pt x="362" y="237"/>
                      </a:lnTo>
                      <a:lnTo>
                        <a:pt x="400" y="262"/>
                      </a:lnTo>
                      <a:lnTo>
                        <a:pt x="438" y="286"/>
                      </a:lnTo>
                      <a:lnTo>
                        <a:pt x="476" y="311"/>
                      </a:lnTo>
                      <a:lnTo>
                        <a:pt x="514" y="336"/>
                      </a:lnTo>
                      <a:lnTo>
                        <a:pt x="551" y="360"/>
                      </a:lnTo>
                      <a:lnTo>
                        <a:pt x="587" y="383"/>
                      </a:lnTo>
                      <a:lnTo>
                        <a:pt x="622" y="405"/>
                      </a:lnTo>
                      <a:lnTo>
                        <a:pt x="657" y="427"/>
                      </a:lnTo>
                      <a:lnTo>
                        <a:pt x="688" y="446"/>
                      </a:lnTo>
                      <a:lnTo>
                        <a:pt x="718" y="466"/>
                      </a:lnTo>
                      <a:lnTo>
                        <a:pt x="745" y="482"/>
                      </a:lnTo>
                      <a:lnTo>
                        <a:pt x="771" y="498"/>
                      </a:lnTo>
                      <a:lnTo>
                        <a:pt x="794" y="511"/>
                      </a:lnTo>
                      <a:lnTo>
                        <a:pt x="812" y="522"/>
                      </a:lnTo>
                      <a:lnTo>
                        <a:pt x="828" y="531"/>
                      </a:lnTo>
                      <a:lnTo>
                        <a:pt x="841" y="538"/>
                      </a:lnTo>
                      <a:lnTo>
                        <a:pt x="849" y="542"/>
                      </a:lnTo>
                      <a:lnTo>
                        <a:pt x="838" y="550"/>
                      </a:lnTo>
                      <a:lnTo>
                        <a:pt x="835" y="549"/>
                      </a:lnTo>
                      <a:lnTo>
                        <a:pt x="828" y="544"/>
                      </a:lnTo>
                      <a:lnTo>
                        <a:pt x="818" y="537"/>
                      </a:lnTo>
                      <a:lnTo>
                        <a:pt x="803" y="528"/>
                      </a:lnTo>
                      <a:lnTo>
                        <a:pt x="785" y="517"/>
                      </a:lnTo>
                      <a:lnTo>
                        <a:pt x="764" y="504"/>
                      </a:lnTo>
                      <a:lnTo>
                        <a:pt x="740" y="489"/>
                      </a:lnTo>
                      <a:lnTo>
                        <a:pt x="712" y="471"/>
                      </a:lnTo>
                      <a:lnTo>
                        <a:pt x="683" y="453"/>
                      </a:lnTo>
                      <a:lnTo>
                        <a:pt x="651" y="433"/>
                      </a:lnTo>
                      <a:lnTo>
                        <a:pt x="617" y="413"/>
                      </a:lnTo>
                      <a:lnTo>
                        <a:pt x="583" y="390"/>
                      </a:lnTo>
                      <a:lnTo>
                        <a:pt x="547" y="368"/>
                      </a:lnTo>
                      <a:lnTo>
                        <a:pt x="510" y="344"/>
                      </a:lnTo>
                      <a:lnTo>
                        <a:pt x="472" y="319"/>
                      </a:lnTo>
                      <a:lnTo>
                        <a:pt x="434" y="295"/>
                      </a:lnTo>
                      <a:lnTo>
                        <a:pt x="395" y="271"/>
                      </a:lnTo>
                      <a:lnTo>
                        <a:pt x="357" y="247"/>
                      </a:lnTo>
                      <a:lnTo>
                        <a:pt x="320" y="222"/>
                      </a:lnTo>
                      <a:lnTo>
                        <a:pt x="282" y="199"/>
                      </a:lnTo>
                      <a:lnTo>
                        <a:pt x="246" y="174"/>
                      </a:lnTo>
                      <a:lnTo>
                        <a:pt x="212" y="151"/>
                      </a:lnTo>
                      <a:lnTo>
                        <a:pt x="178" y="129"/>
                      </a:lnTo>
                      <a:lnTo>
                        <a:pt x="147" y="109"/>
                      </a:lnTo>
                      <a:lnTo>
                        <a:pt x="118" y="89"/>
                      </a:lnTo>
                      <a:lnTo>
                        <a:pt x="92" y="71"/>
                      </a:lnTo>
                      <a:lnTo>
                        <a:pt x="68" y="55"/>
                      </a:lnTo>
                      <a:lnTo>
                        <a:pt x="47" y="40"/>
                      </a:lnTo>
                      <a:lnTo>
                        <a:pt x="30" y="27"/>
                      </a:lnTo>
                      <a:lnTo>
                        <a:pt x="16" y="15"/>
                      </a:lnTo>
                      <a:lnTo>
                        <a:pt x="5" y="7"/>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5401080" y="3017880"/>
                  <a:ext cx="452520" cy="244800"/>
                </a:xfrm>
                <a:custGeom>
                  <a:avLst/>
                  <a:gdLst/>
                  <a:ahLst/>
                  <a:rect l="l" t="t" r="r" b="b"/>
                  <a:pathLst>
                    <a:path w="863" h="564">
                      <a:moveTo>
                        <a:pt x="0" y="0"/>
                      </a:moveTo>
                      <a:lnTo>
                        <a:pt x="2" y="2"/>
                      </a:lnTo>
                      <a:lnTo>
                        <a:pt x="9" y="6"/>
                      </a:lnTo>
                      <a:lnTo>
                        <a:pt x="19" y="13"/>
                      </a:lnTo>
                      <a:lnTo>
                        <a:pt x="34" y="24"/>
                      </a:lnTo>
                      <a:lnTo>
                        <a:pt x="53" y="35"/>
                      </a:lnTo>
                      <a:lnTo>
                        <a:pt x="74" y="50"/>
                      </a:lnTo>
                      <a:lnTo>
                        <a:pt x="98" y="66"/>
                      </a:lnTo>
                      <a:lnTo>
                        <a:pt x="125" y="83"/>
                      </a:lnTo>
                      <a:lnTo>
                        <a:pt x="155" y="103"/>
                      </a:lnTo>
                      <a:lnTo>
                        <a:pt x="186" y="124"/>
                      </a:lnTo>
                      <a:lnTo>
                        <a:pt x="220" y="146"/>
                      </a:lnTo>
                      <a:lnTo>
                        <a:pt x="256" y="169"/>
                      </a:lnTo>
                      <a:lnTo>
                        <a:pt x="291" y="193"/>
                      </a:lnTo>
                      <a:lnTo>
                        <a:pt x="329" y="218"/>
                      </a:lnTo>
                      <a:lnTo>
                        <a:pt x="367" y="242"/>
                      </a:lnTo>
                      <a:lnTo>
                        <a:pt x="407" y="268"/>
                      </a:lnTo>
                      <a:lnTo>
                        <a:pt x="446" y="293"/>
                      </a:lnTo>
                      <a:lnTo>
                        <a:pt x="484" y="318"/>
                      </a:lnTo>
                      <a:lnTo>
                        <a:pt x="523" y="344"/>
                      </a:lnTo>
                      <a:lnTo>
                        <a:pt x="561" y="368"/>
                      </a:lnTo>
                      <a:lnTo>
                        <a:pt x="598" y="392"/>
                      </a:lnTo>
                      <a:lnTo>
                        <a:pt x="634" y="415"/>
                      </a:lnTo>
                      <a:lnTo>
                        <a:pt x="667" y="437"/>
                      </a:lnTo>
                      <a:lnTo>
                        <a:pt x="700" y="458"/>
                      </a:lnTo>
                      <a:lnTo>
                        <a:pt x="730" y="476"/>
                      </a:lnTo>
                      <a:lnTo>
                        <a:pt x="758" y="493"/>
                      </a:lnTo>
                      <a:lnTo>
                        <a:pt x="785" y="509"/>
                      </a:lnTo>
                      <a:lnTo>
                        <a:pt x="806" y="523"/>
                      </a:lnTo>
                      <a:lnTo>
                        <a:pt x="826" y="535"/>
                      </a:lnTo>
                      <a:lnTo>
                        <a:pt x="842" y="544"/>
                      </a:lnTo>
                      <a:lnTo>
                        <a:pt x="855" y="551"/>
                      </a:lnTo>
                      <a:lnTo>
                        <a:pt x="863" y="554"/>
                      </a:lnTo>
                      <a:lnTo>
                        <a:pt x="851" y="564"/>
                      </a:lnTo>
                      <a:lnTo>
                        <a:pt x="849" y="562"/>
                      </a:lnTo>
                      <a:lnTo>
                        <a:pt x="842" y="558"/>
                      </a:lnTo>
                      <a:lnTo>
                        <a:pt x="832" y="551"/>
                      </a:lnTo>
                      <a:lnTo>
                        <a:pt x="817" y="542"/>
                      </a:lnTo>
                      <a:lnTo>
                        <a:pt x="798" y="530"/>
                      </a:lnTo>
                      <a:lnTo>
                        <a:pt x="777" y="516"/>
                      </a:lnTo>
                      <a:lnTo>
                        <a:pt x="751" y="500"/>
                      </a:lnTo>
                      <a:lnTo>
                        <a:pt x="724" y="483"/>
                      </a:lnTo>
                      <a:lnTo>
                        <a:pt x="694" y="465"/>
                      </a:lnTo>
                      <a:lnTo>
                        <a:pt x="662" y="444"/>
                      </a:lnTo>
                      <a:lnTo>
                        <a:pt x="628" y="423"/>
                      </a:lnTo>
                      <a:lnTo>
                        <a:pt x="592" y="400"/>
                      </a:lnTo>
                      <a:lnTo>
                        <a:pt x="555" y="377"/>
                      </a:lnTo>
                      <a:lnTo>
                        <a:pt x="518" y="353"/>
                      </a:lnTo>
                      <a:lnTo>
                        <a:pt x="479" y="328"/>
                      </a:lnTo>
                      <a:lnTo>
                        <a:pt x="441" y="302"/>
                      </a:lnTo>
                      <a:lnTo>
                        <a:pt x="402" y="278"/>
                      </a:lnTo>
                      <a:lnTo>
                        <a:pt x="363" y="253"/>
                      </a:lnTo>
                      <a:lnTo>
                        <a:pt x="325" y="227"/>
                      </a:lnTo>
                      <a:lnTo>
                        <a:pt x="287" y="203"/>
                      </a:lnTo>
                      <a:lnTo>
                        <a:pt x="250" y="179"/>
                      </a:lnTo>
                      <a:lnTo>
                        <a:pt x="215" y="156"/>
                      </a:lnTo>
                      <a:lnTo>
                        <a:pt x="182" y="133"/>
                      </a:lnTo>
                      <a:lnTo>
                        <a:pt x="150" y="112"/>
                      </a:lnTo>
                      <a:lnTo>
                        <a:pt x="121" y="91"/>
                      </a:lnTo>
                      <a:lnTo>
                        <a:pt x="93" y="73"/>
                      </a:lnTo>
                      <a:lnTo>
                        <a:pt x="69" y="56"/>
                      </a:lnTo>
                      <a:lnTo>
                        <a:pt x="48" y="41"/>
                      </a:lnTo>
                      <a:lnTo>
                        <a:pt x="30" y="27"/>
                      </a:lnTo>
                      <a:lnTo>
                        <a:pt x="16" y="15"/>
                      </a:lnTo>
                      <a:lnTo>
                        <a:pt x="6" y="7"/>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5369400" y="3028320"/>
                  <a:ext cx="427320" cy="234360"/>
                </a:xfrm>
                <a:custGeom>
                  <a:avLst/>
                  <a:gdLst/>
                  <a:ahLst/>
                  <a:rect l="l" t="t" r="r" b="b"/>
                  <a:pathLst>
                    <a:path w="816" h="539">
                      <a:moveTo>
                        <a:pt x="0" y="0"/>
                      </a:moveTo>
                      <a:lnTo>
                        <a:pt x="2" y="1"/>
                      </a:lnTo>
                      <a:lnTo>
                        <a:pt x="9" y="5"/>
                      </a:lnTo>
                      <a:lnTo>
                        <a:pt x="19" y="13"/>
                      </a:lnTo>
                      <a:lnTo>
                        <a:pt x="34" y="23"/>
                      </a:lnTo>
                      <a:lnTo>
                        <a:pt x="53" y="35"/>
                      </a:lnTo>
                      <a:lnTo>
                        <a:pt x="75" y="49"/>
                      </a:lnTo>
                      <a:lnTo>
                        <a:pt x="99" y="66"/>
                      </a:lnTo>
                      <a:lnTo>
                        <a:pt x="127" y="84"/>
                      </a:lnTo>
                      <a:lnTo>
                        <a:pt x="157" y="103"/>
                      </a:lnTo>
                      <a:lnTo>
                        <a:pt x="188" y="125"/>
                      </a:lnTo>
                      <a:lnTo>
                        <a:pt x="221" y="147"/>
                      </a:lnTo>
                      <a:lnTo>
                        <a:pt x="257" y="170"/>
                      </a:lnTo>
                      <a:lnTo>
                        <a:pt x="293" y="194"/>
                      </a:lnTo>
                      <a:lnTo>
                        <a:pt x="329" y="218"/>
                      </a:lnTo>
                      <a:lnTo>
                        <a:pt x="367" y="244"/>
                      </a:lnTo>
                      <a:lnTo>
                        <a:pt x="406" y="269"/>
                      </a:lnTo>
                      <a:lnTo>
                        <a:pt x="444" y="294"/>
                      </a:lnTo>
                      <a:lnTo>
                        <a:pt x="482" y="319"/>
                      </a:lnTo>
                      <a:lnTo>
                        <a:pt x="518" y="343"/>
                      </a:lnTo>
                      <a:lnTo>
                        <a:pt x="555" y="367"/>
                      </a:lnTo>
                      <a:lnTo>
                        <a:pt x="590" y="390"/>
                      </a:lnTo>
                      <a:lnTo>
                        <a:pt x="624" y="412"/>
                      </a:lnTo>
                      <a:lnTo>
                        <a:pt x="656" y="433"/>
                      </a:lnTo>
                      <a:lnTo>
                        <a:pt x="686" y="452"/>
                      </a:lnTo>
                      <a:lnTo>
                        <a:pt x="713" y="469"/>
                      </a:lnTo>
                      <a:lnTo>
                        <a:pt x="739" y="486"/>
                      </a:lnTo>
                      <a:lnTo>
                        <a:pt x="760" y="499"/>
                      </a:lnTo>
                      <a:lnTo>
                        <a:pt x="779" y="511"/>
                      </a:lnTo>
                      <a:lnTo>
                        <a:pt x="794" y="520"/>
                      </a:lnTo>
                      <a:lnTo>
                        <a:pt x="805" y="526"/>
                      </a:lnTo>
                      <a:lnTo>
                        <a:pt x="813" y="529"/>
                      </a:lnTo>
                      <a:lnTo>
                        <a:pt x="816" y="530"/>
                      </a:lnTo>
                      <a:lnTo>
                        <a:pt x="805" y="539"/>
                      </a:lnTo>
                      <a:lnTo>
                        <a:pt x="803" y="537"/>
                      </a:lnTo>
                      <a:lnTo>
                        <a:pt x="797" y="533"/>
                      </a:lnTo>
                      <a:lnTo>
                        <a:pt x="787" y="527"/>
                      </a:lnTo>
                      <a:lnTo>
                        <a:pt x="772" y="518"/>
                      </a:lnTo>
                      <a:lnTo>
                        <a:pt x="755" y="506"/>
                      </a:lnTo>
                      <a:lnTo>
                        <a:pt x="734" y="494"/>
                      </a:lnTo>
                      <a:lnTo>
                        <a:pt x="711" y="479"/>
                      </a:lnTo>
                      <a:lnTo>
                        <a:pt x="686" y="461"/>
                      </a:lnTo>
                      <a:lnTo>
                        <a:pt x="657" y="444"/>
                      </a:lnTo>
                      <a:lnTo>
                        <a:pt x="627" y="425"/>
                      </a:lnTo>
                      <a:lnTo>
                        <a:pt x="595" y="404"/>
                      </a:lnTo>
                      <a:lnTo>
                        <a:pt x="561" y="382"/>
                      </a:lnTo>
                      <a:lnTo>
                        <a:pt x="527" y="360"/>
                      </a:lnTo>
                      <a:lnTo>
                        <a:pt x="491" y="337"/>
                      </a:lnTo>
                      <a:lnTo>
                        <a:pt x="454" y="313"/>
                      </a:lnTo>
                      <a:lnTo>
                        <a:pt x="418" y="290"/>
                      </a:lnTo>
                      <a:lnTo>
                        <a:pt x="381" y="266"/>
                      </a:lnTo>
                      <a:lnTo>
                        <a:pt x="344" y="241"/>
                      </a:lnTo>
                      <a:lnTo>
                        <a:pt x="308" y="217"/>
                      </a:lnTo>
                      <a:lnTo>
                        <a:pt x="273" y="194"/>
                      </a:lnTo>
                      <a:lnTo>
                        <a:pt x="238" y="171"/>
                      </a:lnTo>
                      <a:lnTo>
                        <a:pt x="205" y="148"/>
                      </a:lnTo>
                      <a:lnTo>
                        <a:pt x="173" y="127"/>
                      </a:lnTo>
                      <a:lnTo>
                        <a:pt x="143" y="107"/>
                      </a:lnTo>
                      <a:lnTo>
                        <a:pt x="115" y="87"/>
                      </a:lnTo>
                      <a:lnTo>
                        <a:pt x="90" y="70"/>
                      </a:lnTo>
                      <a:lnTo>
                        <a:pt x="67" y="53"/>
                      </a:lnTo>
                      <a:lnTo>
                        <a:pt x="46" y="39"/>
                      </a:lnTo>
                      <a:lnTo>
                        <a:pt x="29" y="25"/>
                      </a:lnTo>
                      <a:lnTo>
                        <a:pt x="16" y="15"/>
                      </a:lnTo>
                      <a:lnTo>
                        <a:pt x="6" y="5"/>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5297400" y="3062160"/>
                  <a:ext cx="110880" cy="68760"/>
                </a:xfrm>
                <a:custGeom>
                  <a:avLst/>
                  <a:gdLst/>
                  <a:ahLst/>
                  <a:rect l="l" t="t" r="r" b="b"/>
                  <a:pathLst>
                    <a:path w="212" h="159">
                      <a:moveTo>
                        <a:pt x="0" y="0"/>
                      </a:moveTo>
                      <a:lnTo>
                        <a:pt x="1" y="1"/>
                      </a:lnTo>
                      <a:lnTo>
                        <a:pt x="6" y="5"/>
                      </a:lnTo>
                      <a:lnTo>
                        <a:pt x="13" y="11"/>
                      </a:lnTo>
                      <a:lnTo>
                        <a:pt x="24" y="18"/>
                      </a:lnTo>
                      <a:lnTo>
                        <a:pt x="36" y="29"/>
                      </a:lnTo>
                      <a:lnTo>
                        <a:pt x="50" y="39"/>
                      </a:lnTo>
                      <a:lnTo>
                        <a:pt x="65" y="51"/>
                      </a:lnTo>
                      <a:lnTo>
                        <a:pt x="83" y="63"/>
                      </a:lnTo>
                      <a:lnTo>
                        <a:pt x="100" y="76"/>
                      </a:lnTo>
                      <a:lnTo>
                        <a:pt x="117" y="89"/>
                      </a:lnTo>
                      <a:lnTo>
                        <a:pt x="134" y="101"/>
                      </a:lnTo>
                      <a:lnTo>
                        <a:pt x="152" y="114"/>
                      </a:lnTo>
                      <a:lnTo>
                        <a:pt x="169" y="125"/>
                      </a:lnTo>
                      <a:lnTo>
                        <a:pt x="185" y="136"/>
                      </a:lnTo>
                      <a:lnTo>
                        <a:pt x="199" y="145"/>
                      </a:lnTo>
                      <a:lnTo>
                        <a:pt x="212" y="152"/>
                      </a:lnTo>
                      <a:lnTo>
                        <a:pt x="200" y="159"/>
                      </a:lnTo>
                      <a:lnTo>
                        <a:pt x="198" y="158"/>
                      </a:lnTo>
                      <a:lnTo>
                        <a:pt x="193" y="154"/>
                      </a:lnTo>
                      <a:lnTo>
                        <a:pt x="184" y="150"/>
                      </a:lnTo>
                      <a:lnTo>
                        <a:pt x="174" y="143"/>
                      </a:lnTo>
                      <a:lnTo>
                        <a:pt x="160" y="134"/>
                      </a:lnTo>
                      <a:lnTo>
                        <a:pt x="145" y="124"/>
                      </a:lnTo>
                      <a:lnTo>
                        <a:pt x="129" y="113"/>
                      </a:lnTo>
                      <a:lnTo>
                        <a:pt x="113" y="101"/>
                      </a:lnTo>
                      <a:lnTo>
                        <a:pt x="94" y="89"/>
                      </a:lnTo>
                      <a:lnTo>
                        <a:pt x="77" y="76"/>
                      </a:lnTo>
                      <a:lnTo>
                        <a:pt x="61" y="63"/>
                      </a:lnTo>
                      <a:lnTo>
                        <a:pt x="45" y="49"/>
                      </a:lnTo>
                      <a:lnTo>
                        <a:pt x="30" y="37"/>
                      </a:lnTo>
                      <a:lnTo>
                        <a:pt x="18" y="24"/>
                      </a:lnTo>
                      <a:lnTo>
                        <a:pt x="8" y="11"/>
                      </a:lnTo>
                      <a:lnTo>
                        <a:pt x="0" y="0"/>
                      </a:lnTo>
                      <a:close/>
                    </a:path>
                  </a:pathLst>
                </a:custGeom>
                <a:solidFill>
                  <a:srgbClr val="93d3d3"/>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23" name=""/>
                <p:cNvSpPr/>
                <p:nvPr/>
              </p:nvSpPr>
              <p:spPr>
                <a:xfrm>
                  <a:off x="6105960" y="2959200"/>
                  <a:ext cx="155880" cy="65160"/>
                </a:xfrm>
                <a:custGeom>
                  <a:avLst/>
                  <a:gdLst/>
                  <a:ahLst/>
                  <a:rect l="l" t="t" r="r" b="b"/>
                  <a:pathLst>
                    <a:path w="298" h="151">
                      <a:moveTo>
                        <a:pt x="0" y="0"/>
                      </a:moveTo>
                      <a:lnTo>
                        <a:pt x="2" y="1"/>
                      </a:lnTo>
                      <a:lnTo>
                        <a:pt x="9" y="5"/>
                      </a:lnTo>
                      <a:lnTo>
                        <a:pt x="20" y="10"/>
                      </a:lnTo>
                      <a:lnTo>
                        <a:pt x="34" y="18"/>
                      </a:lnTo>
                      <a:lnTo>
                        <a:pt x="52" y="26"/>
                      </a:lnTo>
                      <a:lnTo>
                        <a:pt x="72" y="37"/>
                      </a:lnTo>
                      <a:lnTo>
                        <a:pt x="94" y="48"/>
                      </a:lnTo>
                      <a:lnTo>
                        <a:pt x="117" y="60"/>
                      </a:lnTo>
                      <a:lnTo>
                        <a:pt x="141" y="71"/>
                      </a:lnTo>
                      <a:lnTo>
                        <a:pt x="167" y="83"/>
                      </a:lnTo>
                      <a:lnTo>
                        <a:pt x="192" y="95"/>
                      </a:lnTo>
                      <a:lnTo>
                        <a:pt x="216" y="106"/>
                      </a:lnTo>
                      <a:lnTo>
                        <a:pt x="239" y="116"/>
                      </a:lnTo>
                      <a:lnTo>
                        <a:pt x="261" y="127"/>
                      </a:lnTo>
                      <a:lnTo>
                        <a:pt x="281" y="135"/>
                      </a:lnTo>
                      <a:lnTo>
                        <a:pt x="298" y="140"/>
                      </a:lnTo>
                      <a:lnTo>
                        <a:pt x="285" y="151"/>
                      </a:lnTo>
                      <a:lnTo>
                        <a:pt x="283" y="150"/>
                      </a:lnTo>
                      <a:lnTo>
                        <a:pt x="275" y="147"/>
                      </a:lnTo>
                      <a:lnTo>
                        <a:pt x="264" y="143"/>
                      </a:lnTo>
                      <a:lnTo>
                        <a:pt x="249" y="137"/>
                      </a:lnTo>
                      <a:lnTo>
                        <a:pt x="230" y="129"/>
                      </a:lnTo>
                      <a:lnTo>
                        <a:pt x="209" y="121"/>
                      </a:lnTo>
                      <a:lnTo>
                        <a:pt x="186" y="110"/>
                      </a:lnTo>
                      <a:lnTo>
                        <a:pt x="162" y="100"/>
                      </a:lnTo>
                      <a:lnTo>
                        <a:pt x="138" y="89"/>
                      </a:lnTo>
                      <a:lnTo>
                        <a:pt x="114" y="76"/>
                      </a:lnTo>
                      <a:lnTo>
                        <a:pt x="90" y="64"/>
                      </a:lnTo>
                      <a:lnTo>
                        <a:pt x="66" y="52"/>
                      </a:lnTo>
                      <a:lnTo>
                        <a:pt x="46" y="38"/>
                      </a:lnTo>
                      <a:lnTo>
                        <a:pt x="27" y="25"/>
                      </a:lnTo>
                      <a:lnTo>
                        <a:pt x="11" y="13"/>
                      </a:lnTo>
                      <a:lnTo>
                        <a:pt x="0" y="0"/>
                      </a:lnTo>
                      <a:close/>
                    </a:path>
                  </a:pathLst>
                </a:custGeom>
                <a:solidFill>
                  <a:srgbClr val="93d3d3"/>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24" name=""/>
                <p:cNvSpPr/>
                <p:nvPr/>
              </p:nvSpPr>
              <p:spPr>
                <a:xfrm>
                  <a:off x="5342400" y="3049920"/>
                  <a:ext cx="60480" cy="44280"/>
                </a:xfrm>
                <a:custGeom>
                  <a:avLst/>
                  <a:gdLst/>
                  <a:ahLst/>
                  <a:rect l="l" t="t" r="r" b="b"/>
                  <a:pathLst>
                    <a:path w="116" h="103">
                      <a:moveTo>
                        <a:pt x="82" y="22"/>
                      </a:moveTo>
                      <a:lnTo>
                        <a:pt x="78" y="20"/>
                      </a:lnTo>
                      <a:lnTo>
                        <a:pt x="69" y="15"/>
                      </a:lnTo>
                      <a:lnTo>
                        <a:pt x="55" y="10"/>
                      </a:lnTo>
                      <a:lnTo>
                        <a:pt x="40" y="4"/>
                      </a:lnTo>
                      <a:lnTo>
                        <a:pt x="25" y="0"/>
                      </a:lnTo>
                      <a:lnTo>
                        <a:pt x="13" y="0"/>
                      </a:lnTo>
                      <a:lnTo>
                        <a:pt x="3" y="6"/>
                      </a:lnTo>
                      <a:lnTo>
                        <a:pt x="0" y="18"/>
                      </a:lnTo>
                      <a:lnTo>
                        <a:pt x="0" y="31"/>
                      </a:lnTo>
                      <a:lnTo>
                        <a:pt x="0" y="41"/>
                      </a:lnTo>
                      <a:lnTo>
                        <a:pt x="0" y="48"/>
                      </a:lnTo>
                      <a:lnTo>
                        <a:pt x="0" y="51"/>
                      </a:lnTo>
                      <a:lnTo>
                        <a:pt x="2" y="52"/>
                      </a:lnTo>
                      <a:lnTo>
                        <a:pt x="7" y="52"/>
                      </a:lnTo>
                      <a:lnTo>
                        <a:pt x="15" y="50"/>
                      </a:lnTo>
                      <a:lnTo>
                        <a:pt x="26" y="48"/>
                      </a:lnTo>
                      <a:lnTo>
                        <a:pt x="40" y="46"/>
                      </a:lnTo>
                      <a:lnTo>
                        <a:pt x="53" y="46"/>
                      </a:lnTo>
                      <a:lnTo>
                        <a:pt x="64" y="49"/>
                      </a:lnTo>
                      <a:lnTo>
                        <a:pt x="74" y="52"/>
                      </a:lnTo>
                      <a:lnTo>
                        <a:pt x="81" y="56"/>
                      </a:lnTo>
                      <a:lnTo>
                        <a:pt x="85" y="59"/>
                      </a:lnTo>
                      <a:lnTo>
                        <a:pt x="86" y="61"/>
                      </a:lnTo>
                      <a:lnTo>
                        <a:pt x="83" y="63"/>
                      </a:lnTo>
                      <a:lnTo>
                        <a:pt x="77" y="63"/>
                      </a:lnTo>
                      <a:lnTo>
                        <a:pt x="70" y="64"/>
                      </a:lnTo>
                      <a:lnTo>
                        <a:pt x="63" y="65"/>
                      </a:lnTo>
                      <a:lnTo>
                        <a:pt x="57" y="67"/>
                      </a:lnTo>
                      <a:lnTo>
                        <a:pt x="53" y="69"/>
                      </a:lnTo>
                      <a:lnTo>
                        <a:pt x="51" y="72"/>
                      </a:lnTo>
                      <a:lnTo>
                        <a:pt x="52" y="75"/>
                      </a:lnTo>
                      <a:lnTo>
                        <a:pt x="57" y="79"/>
                      </a:lnTo>
                      <a:lnTo>
                        <a:pt x="66" y="82"/>
                      </a:lnTo>
                      <a:lnTo>
                        <a:pt x="72" y="87"/>
                      </a:lnTo>
                      <a:lnTo>
                        <a:pt x="79" y="92"/>
                      </a:lnTo>
                      <a:lnTo>
                        <a:pt x="85" y="97"/>
                      </a:lnTo>
                      <a:lnTo>
                        <a:pt x="92" y="101"/>
                      </a:lnTo>
                      <a:lnTo>
                        <a:pt x="98" y="103"/>
                      </a:lnTo>
                      <a:lnTo>
                        <a:pt x="102" y="103"/>
                      </a:lnTo>
                      <a:lnTo>
                        <a:pt x="108" y="102"/>
                      </a:lnTo>
                      <a:lnTo>
                        <a:pt x="116" y="98"/>
                      </a:lnTo>
                      <a:lnTo>
                        <a:pt x="116" y="97"/>
                      </a:lnTo>
                      <a:lnTo>
                        <a:pt x="109" y="97"/>
                      </a:lnTo>
                      <a:lnTo>
                        <a:pt x="96" y="92"/>
                      </a:lnTo>
                      <a:lnTo>
                        <a:pt x="79" y="86"/>
                      </a:lnTo>
                      <a:lnTo>
                        <a:pt x="71" y="77"/>
                      </a:lnTo>
                      <a:lnTo>
                        <a:pt x="70" y="72"/>
                      </a:lnTo>
                      <a:lnTo>
                        <a:pt x="77" y="67"/>
                      </a:lnTo>
                      <a:lnTo>
                        <a:pt x="84" y="66"/>
                      </a:lnTo>
                      <a:lnTo>
                        <a:pt x="92" y="65"/>
                      </a:lnTo>
                      <a:lnTo>
                        <a:pt x="100" y="64"/>
                      </a:lnTo>
                      <a:lnTo>
                        <a:pt x="108" y="63"/>
                      </a:lnTo>
                      <a:lnTo>
                        <a:pt x="113" y="61"/>
                      </a:lnTo>
                      <a:lnTo>
                        <a:pt x="115" y="59"/>
                      </a:lnTo>
                      <a:lnTo>
                        <a:pt x="112" y="57"/>
                      </a:lnTo>
                      <a:lnTo>
                        <a:pt x="102" y="52"/>
                      </a:lnTo>
                      <a:lnTo>
                        <a:pt x="90" y="48"/>
                      </a:lnTo>
                      <a:lnTo>
                        <a:pt x="77" y="43"/>
                      </a:lnTo>
                      <a:lnTo>
                        <a:pt x="64" y="39"/>
                      </a:lnTo>
                      <a:lnTo>
                        <a:pt x="53" y="36"/>
                      </a:lnTo>
                      <a:lnTo>
                        <a:pt x="42" y="34"/>
                      </a:lnTo>
                      <a:lnTo>
                        <a:pt x="33" y="31"/>
                      </a:lnTo>
                      <a:lnTo>
                        <a:pt x="25" y="31"/>
                      </a:lnTo>
                      <a:lnTo>
                        <a:pt x="21" y="33"/>
                      </a:lnTo>
                      <a:lnTo>
                        <a:pt x="17" y="33"/>
                      </a:lnTo>
                      <a:lnTo>
                        <a:pt x="13" y="30"/>
                      </a:lnTo>
                      <a:lnTo>
                        <a:pt x="9" y="26"/>
                      </a:lnTo>
                      <a:lnTo>
                        <a:pt x="8" y="20"/>
                      </a:lnTo>
                      <a:lnTo>
                        <a:pt x="8" y="14"/>
                      </a:lnTo>
                      <a:lnTo>
                        <a:pt x="11" y="11"/>
                      </a:lnTo>
                      <a:lnTo>
                        <a:pt x="19" y="10"/>
                      </a:lnTo>
                      <a:lnTo>
                        <a:pt x="32" y="12"/>
                      </a:lnTo>
                      <a:lnTo>
                        <a:pt x="46" y="16"/>
                      </a:lnTo>
                      <a:lnTo>
                        <a:pt x="57" y="20"/>
                      </a:lnTo>
                      <a:lnTo>
                        <a:pt x="66" y="22"/>
                      </a:lnTo>
                      <a:lnTo>
                        <a:pt x="72" y="22"/>
                      </a:lnTo>
                      <a:lnTo>
                        <a:pt x="77" y="23"/>
                      </a:lnTo>
                      <a:lnTo>
                        <a:pt x="79" y="22"/>
                      </a:lnTo>
                      <a:lnTo>
                        <a:pt x="82" y="22"/>
                      </a:lnTo>
                      <a:lnTo>
                        <a:pt x="82" y="22"/>
                      </a:lnTo>
                      <a:close/>
                    </a:path>
                  </a:pathLst>
                </a:custGeom>
                <a:solidFill>
                  <a:srgbClr val="93d3d3"/>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25" name=""/>
                <p:cNvSpPr/>
                <p:nvPr/>
              </p:nvSpPr>
              <p:spPr>
                <a:xfrm>
                  <a:off x="5401080" y="3078000"/>
                  <a:ext cx="51120" cy="31320"/>
                </a:xfrm>
                <a:custGeom>
                  <a:avLst/>
                  <a:gdLst/>
                  <a:ahLst/>
                  <a:rect l="l" t="t" r="r" b="b"/>
                  <a:pathLst>
                    <a:path w="98" h="71">
                      <a:moveTo>
                        <a:pt x="5" y="4"/>
                      </a:moveTo>
                      <a:lnTo>
                        <a:pt x="0" y="9"/>
                      </a:lnTo>
                      <a:lnTo>
                        <a:pt x="1" y="9"/>
                      </a:lnTo>
                      <a:lnTo>
                        <a:pt x="2" y="9"/>
                      </a:lnTo>
                      <a:lnTo>
                        <a:pt x="5" y="9"/>
                      </a:lnTo>
                      <a:lnTo>
                        <a:pt x="9" y="10"/>
                      </a:lnTo>
                      <a:lnTo>
                        <a:pt x="15" y="13"/>
                      </a:lnTo>
                      <a:lnTo>
                        <a:pt x="20" y="18"/>
                      </a:lnTo>
                      <a:lnTo>
                        <a:pt x="27" y="25"/>
                      </a:lnTo>
                      <a:lnTo>
                        <a:pt x="35" y="34"/>
                      </a:lnTo>
                      <a:lnTo>
                        <a:pt x="45" y="45"/>
                      </a:lnTo>
                      <a:lnTo>
                        <a:pt x="54" y="53"/>
                      </a:lnTo>
                      <a:lnTo>
                        <a:pt x="63" y="60"/>
                      </a:lnTo>
                      <a:lnTo>
                        <a:pt x="72" y="64"/>
                      </a:lnTo>
                      <a:lnTo>
                        <a:pt x="81" y="68"/>
                      </a:lnTo>
                      <a:lnTo>
                        <a:pt x="88" y="70"/>
                      </a:lnTo>
                      <a:lnTo>
                        <a:pt x="94" y="71"/>
                      </a:lnTo>
                      <a:lnTo>
                        <a:pt x="98" y="71"/>
                      </a:lnTo>
                      <a:lnTo>
                        <a:pt x="98" y="70"/>
                      </a:lnTo>
                      <a:lnTo>
                        <a:pt x="94" y="69"/>
                      </a:lnTo>
                      <a:lnTo>
                        <a:pt x="88" y="65"/>
                      </a:lnTo>
                      <a:lnTo>
                        <a:pt x="79" y="61"/>
                      </a:lnTo>
                      <a:lnTo>
                        <a:pt x="69" y="55"/>
                      </a:lnTo>
                      <a:lnTo>
                        <a:pt x="56" y="46"/>
                      </a:lnTo>
                      <a:lnTo>
                        <a:pt x="45" y="34"/>
                      </a:lnTo>
                      <a:lnTo>
                        <a:pt x="32" y="19"/>
                      </a:lnTo>
                      <a:lnTo>
                        <a:pt x="18" y="3"/>
                      </a:lnTo>
                      <a:lnTo>
                        <a:pt x="10" y="0"/>
                      </a:lnTo>
                      <a:lnTo>
                        <a:pt x="7" y="2"/>
                      </a:lnTo>
                      <a:lnTo>
                        <a:pt x="5" y="4"/>
                      </a:lnTo>
                      <a:close/>
                    </a:path>
                  </a:pathLst>
                </a:custGeom>
                <a:solidFill>
                  <a:srgbClr val="93d3d3"/>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26" name=""/>
                <p:cNvSpPr/>
                <p:nvPr/>
              </p:nvSpPr>
              <p:spPr>
                <a:xfrm>
                  <a:off x="5416920" y="3100680"/>
                  <a:ext cx="14400" cy="7560"/>
                </a:xfrm>
                <a:custGeom>
                  <a:avLst/>
                  <a:gdLst/>
                  <a:ahLst/>
                  <a:rect l="l" t="t" r="r" b="b"/>
                  <a:pathLst>
                    <a:path w="27" h="17">
                      <a:moveTo>
                        <a:pt x="27" y="0"/>
                      </a:moveTo>
                      <a:lnTo>
                        <a:pt x="25" y="1"/>
                      </a:lnTo>
                      <a:lnTo>
                        <a:pt x="18" y="5"/>
                      </a:lnTo>
                      <a:lnTo>
                        <a:pt x="9" y="9"/>
                      </a:lnTo>
                      <a:lnTo>
                        <a:pt x="2" y="11"/>
                      </a:lnTo>
                      <a:lnTo>
                        <a:pt x="0" y="12"/>
                      </a:lnTo>
                      <a:lnTo>
                        <a:pt x="1" y="15"/>
                      </a:lnTo>
                      <a:lnTo>
                        <a:pt x="4" y="16"/>
                      </a:lnTo>
                      <a:lnTo>
                        <a:pt x="7" y="17"/>
                      </a:lnTo>
                      <a:lnTo>
                        <a:pt x="27" y="0"/>
                      </a:lnTo>
                      <a:close/>
                    </a:path>
                  </a:pathLst>
                </a:custGeom>
                <a:solidFill>
                  <a:srgbClr val="93d3d3"/>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27" name=""/>
                <p:cNvSpPr/>
                <p:nvPr/>
              </p:nvSpPr>
              <p:spPr>
                <a:xfrm>
                  <a:off x="5427360" y="3101400"/>
                  <a:ext cx="63720" cy="30600"/>
                </a:xfrm>
                <a:custGeom>
                  <a:avLst/>
                  <a:gdLst/>
                  <a:ahLst/>
                  <a:rect l="l" t="t" r="r" b="b"/>
                  <a:pathLst>
                    <a:path w="121" h="70">
                      <a:moveTo>
                        <a:pt x="0" y="0"/>
                      </a:moveTo>
                      <a:lnTo>
                        <a:pt x="0" y="7"/>
                      </a:lnTo>
                      <a:lnTo>
                        <a:pt x="4" y="22"/>
                      </a:lnTo>
                      <a:lnTo>
                        <a:pt x="12" y="34"/>
                      </a:lnTo>
                      <a:lnTo>
                        <a:pt x="30" y="33"/>
                      </a:lnTo>
                      <a:lnTo>
                        <a:pt x="42" y="29"/>
                      </a:lnTo>
                      <a:lnTo>
                        <a:pt x="50" y="26"/>
                      </a:lnTo>
                      <a:lnTo>
                        <a:pt x="55" y="27"/>
                      </a:lnTo>
                      <a:lnTo>
                        <a:pt x="57" y="31"/>
                      </a:lnTo>
                      <a:lnTo>
                        <a:pt x="58" y="41"/>
                      </a:lnTo>
                      <a:lnTo>
                        <a:pt x="56" y="49"/>
                      </a:lnTo>
                      <a:lnTo>
                        <a:pt x="57" y="59"/>
                      </a:lnTo>
                      <a:lnTo>
                        <a:pt x="67" y="65"/>
                      </a:lnTo>
                      <a:lnTo>
                        <a:pt x="76" y="68"/>
                      </a:lnTo>
                      <a:lnTo>
                        <a:pt x="88" y="70"/>
                      </a:lnTo>
                      <a:lnTo>
                        <a:pt x="98" y="70"/>
                      </a:lnTo>
                      <a:lnTo>
                        <a:pt x="108" y="70"/>
                      </a:lnTo>
                      <a:lnTo>
                        <a:pt x="116" y="69"/>
                      </a:lnTo>
                      <a:lnTo>
                        <a:pt x="120" y="68"/>
                      </a:lnTo>
                      <a:lnTo>
                        <a:pt x="121" y="68"/>
                      </a:lnTo>
                      <a:lnTo>
                        <a:pt x="118" y="67"/>
                      </a:lnTo>
                      <a:lnTo>
                        <a:pt x="106" y="67"/>
                      </a:lnTo>
                      <a:lnTo>
                        <a:pt x="96" y="65"/>
                      </a:lnTo>
                      <a:lnTo>
                        <a:pt x="89" y="64"/>
                      </a:lnTo>
                      <a:lnTo>
                        <a:pt x="82" y="63"/>
                      </a:lnTo>
                      <a:lnTo>
                        <a:pt x="78" y="62"/>
                      </a:lnTo>
                      <a:lnTo>
                        <a:pt x="74" y="61"/>
                      </a:lnTo>
                      <a:lnTo>
                        <a:pt x="72" y="60"/>
                      </a:lnTo>
                      <a:lnTo>
                        <a:pt x="69" y="59"/>
                      </a:lnTo>
                      <a:lnTo>
                        <a:pt x="61" y="49"/>
                      </a:lnTo>
                      <a:lnTo>
                        <a:pt x="61" y="44"/>
                      </a:lnTo>
                      <a:lnTo>
                        <a:pt x="65" y="38"/>
                      </a:lnTo>
                      <a:lnTo>
                        <a:pt x="66" y="32"/>
                      </a:lnTo>
                      <a:lnTo>
                        <a:pt x="61" y="24"/>
                      </a:lnTo>
                      <a:lnTo>
                        <a:pt x="58" y="19"/>
                      </a:lnTo>
                      <a:lnTo>
                        <a:pt x="52" y="18"/>
                      </a:lnTo>
                      <a:lnTo>
                        <a:pt x="44" y="22"/>
                      </a:lnTo>
                      <a:lnTo>
                        <a:pt x="40" y="25"/>
                      </a:lnTo>
                      <a:lnTo>
                        <a:pt x="34" y="29"/>
                      </a:lnTo>
                      <a:lnTo>
                        <a:pt x="29" y="32"/>
                      </a:lnTo>
                      <a:lnTo>
                        <a:pt x="25" y="33"/>
                      </a:lnTo>
                      <a:lnTo>
                        <a:pt x="19" y="32"/>
                      </a:lnTo>
                      <a:lnTo>
                        <a:pt x="13" y="27"/>
                      </a:lnTo>
                      <a:lnTo>
                        <a:pt x="7" y="17"/>
                      </a:lnTo>
                      <a:lnTo>
                        <a:pt x="0" y="0"/>
                      </a:lnTo>
                      <a:close/>
                    </a:path>
                  </a:pathLst>
                </a:custGeom>
                <a:solidFill>
                  <a:srgbClr val="93d3d3"/>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grpSp>
          <p:grpSp>
            <p:nvGrpSpPr>
              <p:cNvPr id="228" name=""/>
              <p:cNvGrpSpPr/>
              <p:nvPr/>
            </p:nvGrpSpPr>
            <p:grpSpPr>
              <a:xfrm>
                <a:off x="5450400" y="2743200"/>
                <a:ext cx="394560" cy="552600"/>
                <a:chOff x="5450400" y="2743200"/>
                <a:chExt cx="394560" cy="552600"/>
              </a:xfrm>
            </p:grpSpPr>
            <p:sp>
              <p:nvSpPr>
                <p:cNvPr id="229" name=""/>
                <p:cNvSpPr/>
                <p:nvPr/>
              </p:nvSpPr>
              <p:spPr>
                <a:xfrm>
                  <a:off x="5459400" y="2747880"/>
                  <a:ext cx="346680" cy="447480"/>
                </a:xfrm>
                <a:custGeom>
                  <a:avLst/>
                  <a:gdLst/>
                  <a:ahLst/>
                  <a:rect l="l" t="t" r="r" b="b"/>
                  <a:pathLst>
                    <a:path w="1376" h="1890">
                      <a:moveTo>
                        <a:pt x="185" y="0"/>
                      </a:moveTo>
                      <a:lnTo>
                        <a:pt x="79" y="36"/>
                      </a:lnTo>
                      <a:lnTo>
                        <a:pt x="0" y="178"/>
                      </a:lnTo>
                      <a:lnTo>
                        <a:pt x="50" y="343"/>
                      </a:lnTo>
                      <a:lnTo>
                        <a:pt x="293" y="692"/>
                      </a:lnTo>
                      <a:lnTo>
                        <a:pt x="656" y="1199"/>
                      </a:lnTo>
                      <a:lnTo>
                        <a:pt x="870" y="1477"/>
                      </a:lnTo>
                      <a:lnTo>
                        <a:pt x="934" y="1619"/>
                      </a:lnTo>
                      <a:lnTo>
                        <a:pt x="992" y="1719"/>
                      </a:lnTo>
                      <a:lnTo>
                        <a:pt x="1049" y="1726"/>
                      </a:lnTo>
                      <a:lnTo>
                        <a:pt x="1042" y="1799"/>
                      </a:lnTo>
                      <a:lnTo>
                        <a:pt x="1112" y="1890"/>
                      </a:lnTo>
                      <a:lnTo>
                        <a:pt x="1376" y="1799"/>
                      </a:lnTo>
                      <a:lnTo>
                        <a:pt x="1333" y="1677"/>
                      </a:lnTo>
                      <a:lnTo>
                        <a:pt x="1084" y="1255"/>
                      </a:lnTo>
                      <a:lnTo>
                        <a:pt x="799" y="798"/>
                      </a:lnTo>
                      <a:lnTo>
                        <a:pt x="812" y="757"/>
                      </a:lnTo>
                      <a:lnTo>
                        <a:pt x="827" y="679"/>
                      </a:lnTo>
                      <a:lnTo>
                        <a:pt x="756" y="642"/>
                      </a:lnTo>
                      <a:lnTo>
                        <a:pt x="664" y="514"/>
                      </a:lnTo>
                      <a:lnTo>
                        <a:pt x="549" y="250"/>
                      </a:lnTo>
                      <a:lnTo>
                        <a:pt x="385" y="100"/>
                      </a:lnTo>
                      <a:lnTo>
                        <a:pt x="263" y="22"/>
                      </a:lnTo>
                      <a:lnTo>
                        <a:pt x="185" y="0"/>
                      </a:lnTo>
                      <a:lnTo>
                        <a:pt x="185" y="0"/>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5739840" y="3172320"/>
                  <a:ext cx="99000" cy="114120"/>
                </a:xfrm>
                <a:custGeom>
                  <a:avLst/>
                  <a:gdLst/>
                  <a:ahLst/>
                  <a:rect l="l" t="t" r="r" b="b"/>
                  <a:pathLst>
                    <a:path w="392" h="485">
                      <a:moveTo>
                        <a:pt x="0" y="99"/>
                      </a:moveTo>
                      <a:lnTo>
                        <a:pt x="115" y="229"/>
                      </a:lnTo>
                      <a:lnTo>
                        <a:pt x="243" y="378"/>
                      </a:lnTo>
                      <a:lnTo>
                        <a:pt x="321" y="485"/>
                      </a:lnTo>
                      <a:lnTo>
                        <a:pt x="392" y="478"/>
                      </a:lnTo>
                      <a:lnTo>
                        <a:pt x="357" y="407"/>
                      </a:lnTo>
                      <a:lnTo>
                        <a:pt x="243" y="0"/>
                      </a:lnTo>
                      <a:lnTo>
                        <a:pt x="115" y="43"/>
                      </a:lnTo>
                      <a:lnTo>
                        <a:pt x="0" y="99"/>
                      </a:lnTo>
                      <a:lnTo>
                        <a:pt x="0" y="99"/>
                      </a:lnTo>
                      <a:close/>
                    </a:path>
                  </a:pathLst>
                </a:custGeom>
                <a:solidFill>
                  <a:srgbClr val="ffd9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5621400" y="2985840"/>
                  <a:ext cx="87480" cy="61200"/>
                </a:xfrm>
                <a:custGeom>
                  <a:avLst/>
                  <a:gdLst/>
                  <a:ahLst/>
                  <a:rect l="l" t="t" r="r" b="b"/>
                  <a:pathLst>
                    <a:path w="349" h="258">
                      <a:moveTo>
                        <a:pt x="284" y="0"/>
                      </a:moveTo>
                      <a:lnTo>
                        <a:pt x="128" y="7"/>
                      </a:lnTo>
                      <a:lnTo>
                        <a:pt x="41" y="78"/>
                      </a:lnTo>
                      <a:lnTo>
                        <a:pt x="0" y="171"/>
                      </a:lnTo>
                      <a:lnTo>
                        <a:pt x="70" y="258"/>
                      </a:lnTo>
                      <a:lnTo>
                        <a:pt x="163" y="143"/>
                      </a:lnTo>
                      <a:lnTo>
                        <a:pt x="256" y="115"/>
                      </a:lnTo>
                      <a:lnTo>
                        <a:pt x="349" y="121"/>
                      </a:lnTo>
                      <a:lnTo>
                        <a:pt x="284" y="0"/>
                      </a:lnTo>
                      <a:lnTo>
                        <a:pt x="284" y="0"/>
                      </a:lnTo>
                      <a:close/>
                    </a:path>
                  </a:pathLst>
                </a:custGeom>
                <a:solidFill>
                  <a:srgbClr val="ffd97f"/>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32" name=""/>
                <p:cNvSpPr/>
                <p:nvPr/>
              </p:nvSpPr>
              <p:spPr>
                <a:xfrm>
                  <a:off x="5539680" y="2780640"/>
                  <a:ext cx="65160" cy="83520"/>
                </a:xfrm>
                <a:custGeom>
                  <a:avLst/>
                  <a:gdLst/>
                  <a:ahLst/>
                  <a:rect l="l" t="t" r="r" b="b"/>
                  <a:pathLst>
                    <a:path w="257" h="355">
                      <a:moveTo>
                        <a:pt x="0" y="4"/>
                      </a:moveTo>
                      <a:lnTo>
                        <a:pt x="4" y="38"/>
                      </a:lnTo>
                      <a:lnTo>
                        <a:pt x="35" y="56"/>
                      </a:lnTo>
                      <a:lnTo>
                        <a:pt x="79" y="104"/>
                      </a:lnTo>
                      <a:lnTo>
                        <a:pt x="129" y="167"/>
                      </a:lnTo>
                      <a:lnTo>
                        <a:pt x="175" y="240"/>
                      </a:lnTo>
                      <a:lnTo>
                        <a:pt x="257" y="355"/>
                      </a:lnTo>
                      <a:lnTo>
                        <a:pt x="253" y="313"/>
                      </a:lnTo>
                      <a:lnTo>
                        <a:pt x="163" y="174"/>
                      </a:lnTo>
                      <a:lnTo>
                        <a:pt x="94" y="70"/>
                      </a:lnTo>
                      <a:lnTo>
                        <a:pt x="39" y="0"/>
                      </a:lnTo>
                      <a:lnTo>
                        <a:pt x="0" y="4"/>
                      </a:lnTo>
                      <a:lnTo>
                        <a:pt x="0" y="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33" name=""/>
                <p:cNvSpPr/>
                <p:nvPr/>
              </p:nvSpPr>
              <p:spPr>
                <a:xfrm>
                  <a:off x="5644080" y="2895120"/>
                  <a:ext cx="31680" cy="40320"/>
                </a:xfrm>
                <a:custGeom>
                  <a:avLst/>
                  <a:gdLst/>
                  <a:ahLst/>
                  <a:rect l="l" t="t" r="r" b="b"/>
                  <a:pathLst>
                    <a:path w="125" h="170">
                      <a:moveTo>
                        <a:pt x="0" y="7"/>
                      </a:moveTo>
                      <a:lnTo>
                        <a:pt x="48" y="0"/>
                      </a:lnTo>
                      <a:lnTo>
                        <a:pt x="86" y="14"/>
                      </a:lnTo>
                      <a:lnTo>
                        <a:pt x="115" y="38"/>
                      </a:lnTo>
                      <a:lnTo>
                        <a:pt x="125" y="73"/>
                      </a:lnTo>
                      <a:lnTo>
                        <a:pt x="115" y="108"/>
                      </a:lnTo>
                      <a:lnTo>
                        <a:pt x="101" y="135"/>
                      </a:lnTo>
                      <a:lnTo>
                        <a:pt x="62" y="170"/>
                      </a:lnTo>
                      <a:lnTo>
                        <a:pt x="28" y="128"/>
                      </a:lnTo>
                      <a:lnTo>
                        <a:pt x="62" y="115"/>
                      </a:lnTo>
                      <a:lnTo>
                        <a:pt x="73" y="87"/>
                      </a:lnTo>
                      <a:lnTo>
                        <a:pt x="59" y="56"/>
                      </a:lnTo>
                      <a:lnTo>
                        <a:pt x="13" y="34"/>
                      </a:lnTo>
                      <a:lnTo>
                        <a:pt x="0" y="7"/>
                      </a:lnTo>
                      <a:lnTo>
                        <a:pt x="0" y="7"/>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234" name=""/>
                <p:cNvSpPr/>
                <p:nvPr/>
              </p:nvSpPr>
              <p:spPr>
                <a:xfrm>
                  <a:off x="5619960" y="2985840"/>
                  <a:ext cx="62640" cy="46800"/>
                </a:xfrm>
                <a:custGeom>
                  <a:avLst/>
                  <a:gdLst/>
                  <a:ahLst/>
                  <a:rect l="l" t="t" r="r" b="b"/>
                  <a:pathLst>
                    <a:path w="249" h="198">
                      <a:moveTo>
                        <a:pt x="0" y="146"/>
                      </a:moveTo>
                      <a:lnTo>
                        <a:pt x="38" y="82"/>
                      </a:lnTo>
                      <a:lnTo>
                        <a:pt x="73" y="49"/>
                      </a:lnTo>
                      <a:lnTo>
                        <a:pt x="110" y="20"/>
                      </a:lnTo>
                      <a:lnTo>
                        <a:pt x="156" y="7"/>
                      </a:lnTo>
                      <a:lnTo>
                        <a:pt x="205" y="0"/>
                      </a:lnTo>
                      <a:lnTo>
                        <a:pt x="249" y="7"/>
                      </a:lnTo>
                      <a:lnTo>
                        <a:pt x="236" y="20"/>
                      </a:lnTo>
                      <a:lnTo>
                        <a:pt x="174" y="27"/>
                      </a:lnTo>
                      <a:lnTo>
                        <a:pt x="140" y="38"/>
                      </a:lnTo>
                      <a:lnTo>
                        <a:pt x="108" y="58"/>
                      </a:lnTo>
                      <a:lnTo>
                        <a:pt x="86" y="80"/>
                      </a:lnTo>
                      <a:lnTo>
                        <a:pt x="73" y="108"/>
                      </a:lnTo>
                      <a:lnTo>
                        <a:pt x="55" y="146"/>
                      </a:lnTo>
                      <a:lnTo>
                        <a:pt x="38" y="198"/>
                      </a:lnTo>
                      <a:lnTo>
                        <a:pt x="0" y="146"/>
                      </a:lnTo>
                      <a:lnTo>
                        <a:pt x="0" y="146"/>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235" name=""/>
                <p:cNvSpPr/>
                <p:nvPr/>
              </p:nvSpPr>
              <p:spPr>
                <a:xfrm>
                  <a:off x="5634360" y="3007440"/>
                  <a:ext cx="63360" cy="48960"/>
                </a:xfrm>
                <a:custGeom>
                  <a:avLst/>
                  <a:gdLst/>
                  <a:ahLst/>
                  <a:rect l="l" t="t" r="r" b="b"/>
                  <a:pathLst>
                    <a:path w="250" h="209">
                      <a:moveTo>
                        <a:pt x="0" y="147"/>
                      </a:moveTo>
                      <a:lnTo>
                        <a:pt x="42" y="88"/>
                      </a:lnTo>
                      <a:lnTo>
                        <a:pt x="80" y="57"/>
                      </a:lnTo>
                      <a:lnTo>
                        <a:pt x="117" y="32"/>
                      </a:lnTo>
                      <a:lnTo>
                        <a:pt x="161" y="11"/>
                      </a:lnTo>
                      <a:lnTo>
                        <a:pt x="205" y="0"/>
                      </a:lnTo>
                      <a:lnTo>
                        <a:pt x="250" y="15"/>
                      </a:lnTo>
                      <a:lnTo>
                        <a:pt x="232" y="35"/>
                      </a:lnTo>
                      <a:lnTo>
                        <a:pt x="184" y="50"/>
                      </a:lnTo>
                      <a:lnTo>
                        <a:pt x="139" y="74"/>
                      </a:lnTo>
                      <a:lnTo>
                        <a:pt x="108" y="94"/>
                      </a:lnTo>
                      <a:lnTo>
                        <a:pt x="80" y="127"/>
                      </a:lnTo>
                      <a:lnTo>
                        <a:pt x="66" y="160"/>
                      </a:lnTo>
                      <a:lnTo>
                        <a:pt x="51" y="209"/>
                      </a:lnTo>
                      <a:lnTo>
                        <a:pt x="0" y="147"/>
                      </a:lnTo>
                      <a:lnTo>
                        <a:pt x="0" y="14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36" name=""/>
                <p:cNvSpPr/>
                <p:nvPr/>
              </p:nvSpPr>
              <p:spPr>
                <a:xfrm>
                  <a:off x="5501160" y="2743200"/>
                  <a:ext cx="138600" cy="145440"/>
                </a:xfrm>
                <a:custGeom>
                  <a:avLst/>
                  <a:gdLst/>
                  <a:ahLst/>
                  <a:rect l="l" t="t" r="r" b="b"/>
                  <a:pathLst>
                    <a:path w="549" h="616">
                      <a:moveTo>
                        <a:pt x="0" y="0"/>
                      </a:moveTo>
                      <a:lnTo>
                        <a:pt x="52" y="4"/>
                      </a:lnTo>
                      <a:lnTo>
                        <a:pt x="115" y="28"/>
                      </a:lnTo>
                      <a:lnTo>
                        <a:pt x="170" y="52"/>
                      </a:lnTo>
                      <a:lnTo>
                        <a:pt x="243" y="98"/>
                      </a:lnTo>
                      <a:lnTo>
                        <a:pt x="292" y="136"/>
                      </a:lnTo>
                      <a:lnTo>
                        <a:pt x="344" y="185"/>
                      </a:lnTo>
                      <a:lnTo>
                        <a:pt x="382" y="233"/>
                      </a:lnTo>
                      <a:lnTo>
                        <a:pt x="414" y="288"/>
                      </a:lnTo>
                      <a:lnTo>
                        <a:pt x="452" y="372"/>
                      </a:lnTo>
                      <a:lnTo>
                        <a:pt x="505" y="497"/>
                      </a:lnTo>
                      <a:lnTo>
                        <a:pt x="549" y="616"/>
                      </a:lnTo>
                      <a:lnTo>
                        <a:pt x="518" y="592"/>
                      </a:lnTo>
                      <a:lnTo>
                        <a:pt x="452" y="466"/>
                      </a:lnTo>
                      <a:lnTo>
                        <a:pt x="386" y="338"/>
                      </a:lnTo>
                      <a:lnTo>
                        <a:pt x="338" y="255"/>
                      </a:lnTo>
                      <a:lnTo>
                        <a:pt x="289" y="198"/>
                      </a:lnTo>
                      <a:lnTo>
                        <a:pt x="230" y="150"/>
                      </a:lnTo>
                      <a:lnTo>
                        <a:pt x="168" y="105"/>
                      </a:lnTo>
                      <a:lnTo>
                        <a:pt x="115" y="77"/>
                      </a:lnTo>
                      <a:lnTo>
                        <a:pt x="45" y="52"/>
                      </a:lnTo>
                      <a:lnTo>
                        <a:pt x="0" y="4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5450400" y="2745360"/>
                  <a:ext cx="253440" cy="395640"/>
                </a:xfrm>
                <a:custGeom>
                  <a:avLst/>
                  <a:gdLst/>
                  <a:ahLst/>
                  <a:rect l="l" t="t" r="r" b="b"/>
                  <a:pathLst>
                    <a:path w="1005" h="1670">
                      <a:moveTo>
                        <a:pt x="143" y="0"/>
                      </a:moveTo>
                      <a:lnTo>
                        <a:pt x="105" y="31"/>
                      </a:lnTo>
                      <a:lnTo>
                        <a:pt x="66" y="83"/>
                      </a:lnTo>
                      <a:lnTo>
                        <a:pt x="39" y="121"/>
                      </a:lnTo>
                      <a:lnTo>
                        <a:pt x="11" y="178"/>
                      </a:lnTo>
                      <a:lnTo>
                        <a:pt x="0" y="233"/>
                      </a:lnTo>
                      <a:lnTo>
                        <a:pt x="15" y="292"/>
                      </a:lnTo>
                      <a:lnTo>
                        <a:pt x="39" y="354"/>
                      </a:lnTo>
                      <a:lnTo>
                        <a:pt x="94" y="435"/>
                      </a:lnTo>
                      <a:lnTo>
                        <a:pt x="171" y="539"/>
                      </a:lnTo>
                      <a:lnTo>
                        <a:pt x="258" y="653"/>
                      </a:lnTo>
                      <a:lnTo>
                        <a:pt x="344" y="779"/>
                      </a:lnTo>
                      <a:lnTo>
                        <a:pt x="438" y="908"/>
                      </a:lnTo>
                      <a:lnTo>
                        <a:pt x="536" y="1039"/>
                      </a:lnTo>
                      <a:lnTo>
                        <a:pt x="641" y="1186"/>
                      </a:lnTo>
                      <a:lnTo>
                        <a:pt x="751" y="1332"/>
                      </a:lnTo>
                      <a:lnTo>
                        <a:pt x="822" y="1419"/>
                      </a:lnTo>
                      <a:lnTo>
                        <a:pt x="873" y="1505"/>
                      </a:lnTo>
                      <a:lnTo>
                        <a:pt x="897" y="1540"/>
                      </a:lnTo>
                      <a:lnTo>
                        <a:pt x="901" y="1562"/>
                      </a:lnTo>
                      <a:lnTo>
                        <a:pt x="870" y="1569"/>
                      </a:lnTo>
                      <a:lnTo>
                        <a:pt x="751" y="1582"/>
                      </a:lnTo>
                      <a:lnTo>
                        <a:pt x="710" y="1613"/>
                      </a:lnTo>
                      <a:lnTo>
                        <a:pt x="738" y="1628"/>
                      </a:lnTo>
                      <a:lnTo>
                        <a:pt x="800" y="1624"/>
                      </a:lnTo>
                      <a:lnTo>
                        <a:pt x="846" y="1631"/>
                      </a:lnTo>
                      <a:lnTo>
                        <a:pt x="904" y="1648"/>
                      </a:lnTo>
                      <a:lnTo>
                        <a:pt x="946" y="1662"/>
                      </a:lnTo>
                      <a:lnTo>
                        <a:pt x="967" y="1655"/>
                      </a:lnTo>
                      <a:lnTo>
                        <a:pt x="998" y="1670"/>
                      </a:lnTo>
                      <a:lnTo>
                        <a:pt x="1005" y="1646"/>
                      </a:lnTo>
                      <a:lnTo>
                        <a:pt x="978" y="1578"/>
                      </a:lnTo>
                      <a:lnTo>
                        <a:pt x="936" y="1496"/>
                      </a:lnTo>
                      <a:lnTo>
                        <a:pt x="877" y="1402"/>
                      </a:lnTo>
                      <a:lnTo>
                        <a:pt x="822" y="1322"/>
                      </a:lnTo>
                      <a:lnTo>
                        <a:pt x="765" y="1245"/>
                      </a:lnTo>
                      <a:lnTo>
                        <a:pt x="696" y="1158"/>
                      </a:lnTo>
                      <a:lnTo>
                        <a:pt x="612" y="1036"/>
                      </a:lnTo>
                      <a:lnTo>
                        <a:pt x="515" y="904"/>
                      </a:lnTo>
                      <a:lnTo>
                        <a:pt x="414" y="765"/>
                      </a:lnTo>
                      <a:lnTo>
                        <a:pt x="299" y="612"/>
                      </a:lnTo>
                      <a:lnTo>
                        <a:pt x="209" y="486"/>
                      </a:lnTo>
                      <a:lnTo>
                        <a:pt x="125" y="378"/>
                      </a:lnTo>
                      <a:lnTo>
                        <a:pt x="88" y="295"/>
                      </a:lnTo>
                      <a:lnTo>
                        <a:pt x="74" y="236"/>
                      </a:lnTo>
                      <a:lnTo>
                        <a:pt x="81" y="191"/>
                      </a:lnTo>
                      <a:lnTo>
                        <a:pt x="98" y="143"/>
                      </a:lnTo>
                      <a:lnTo>
                        <a:pt x="125" y="94"/>
                      </a:lnTo>
                      <a:lnTo>
                        <a:pt x="157" y="62"/>
                      </a:lnTo>
                      <a:lnTo>
                        <a:pt x="174" y="37"/>
                      </a:lnTo>
                      <a:lnTo>
                        <a:pt x="143" y="0"/>
                      </a:lnTo>
                      <a:lnTo>
                        <a:pt x="1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5619960" y="2883600"/>
                  <a:ext cx="172440" cy="259920"/>
                </a:xfrm>
                <a:custGeom>
                  <a:avLst/>
                  <a:gdLst/>
                  <a:ahLst/>
                  <a:rect l="l" t="t" r="r" b="b"/>
                  <a:pathLst>
                    <a:path w="685" h="1098">
                      <a:moveTo>
                        <a:pt x="0" y="20"/>
                      </a:moveTo>
                      <a:lnTo>
                        <a:pt x="44" y="79"/>
                      </a:lnTo>
                      <a:lnTo>
                        <a:pt x="101" y="159"/>
                      </a:lnTo>
                      <a:lnTo>
                        <a:pt x="159" y="249"/>
                      </a:lnTo>
                      <a:lnTo>
                        <a:pt x="218" y="350"/>
                      </a:lnTo>
                      <a:lnTo>
                        <a:pt x="291" y="476"/>
                      </a:lnTo>
                      <a:lnTo>
                        <a:pt x="368" y="608"/>
                      </a:lnTo>
                      <a:lnTo>
                        <a:pt x="452" y="744"/>
                      </a:lnTo>
                      <a:lnTo>
                        <a:pt x="531" y="865"/>
                      </a:lnTo>
                      <a:lnTo>
                        <a:pt x="587" y="953"/>
                      </a:lnTo>
                      <a:lnTo>
                        <a:pt x="657" y="1092"/>
                      </a:lnTo>
                      <a:lnTo>
                        <a:pt x="685" y="1098"/>
                      </a:lnTo>
                      <a:lnTo>
                        <a:pt x="677" y="1050"/>
                      </a:lnTo>
                      <a:lnTo>
                        <a:pt x="635" y="959"/>
                      </a:lnTo>
                      <a:lnTo>
                        <a:pt x="591" y="869"/>
                      </a:lnTo>
                      <a:lnTo>
                        <a:pt x="496" y="733"/>
                      </a:lnTo>
                      <a:lnTo>
                        <a:pt x="406" y="587"/>
                      </a:lnTo>
                      <a:lnTo>
                        <a:pt x="291" y="399"/>
                      </a:lnTo>
                      <a:lnTo>
                        <a:pt x="216" y="267"/>
                      </a:lnTo>
                      <a:lnTo>
                        <a:pt x="147" y="176"/>
                      </a:lnTo>
                      <a:lnTo>
                        <a:pt x="104" y="114"/>
                      </a:lnTo>
                      <a:lnTo>
                        <a:pt x="51" y="42"/>
                      </a:lnTo>
                      <a:lnTo>
                        <a:pt x="27" y="0"/>
                      </a:lnTo>
                      <a:lnTo>
                        <a:pt x="2" y="2"/>
                      </a:lnTo>
                      <a:lnTo>
                        <a:pt x="0" y="20"/>
                      </a:ln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5751000" y="3068640"/>
                  <a:ext cx="28440" cy="30960"/>
                </a:xfrm>
                <a:custGeom>
                  <a:avLst/>
                  <a:gdLst/>
                  <a:ahLst/>
                  <a:rect l="l" t="t" r="r" b="b"/>
                  <a:pathLst>
                    <a:path w="115" h="133">
                      <a:moveTo>
                        <a:pt x="0" y="45"/>
                      </a:moveTo>
                      <a:lnTo>
                        <a:pt x="67" y="0"/>
                      </a:lnTo>
                      <a:lnTo>
                        <a:pt x="91" y="21"/>
                      </a:lnTo>
                      <a:lnTo>
                        <a:pt x="115" y="80"/>
                      </a:lnTo>
                      <a:lnTo>
                        <a:pt x="98" y="105"/>
                      </a:lnTo>
                      <a:lnTo>
                        <a:pt x="71" y="133"/>
                      </a:lnTo>
                      <a:lnTo>
                        <a:pt x="46" y="94"/>
                      </a:lnTo>
                      <a:lnTo>
                        <a:pt x="88" y="74"/>
                      </a:lnTo>
                      <a:lnTo>
                        <a:pt x="67" y="41"/>
                      </a:lnTo>
                      <a:lnTo>
                        <a:pt x="22" y="67"/>
                      </a:lnTo>
                      <a:lnTo>
                        <a:pt x="0" y="45"/>
                      </a:lnTo>
                      <a:lnTo>
                        <a:pt x="0" y="45"/>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240" name=""/>
                <p:cNvSpPr/>
                <p:nvPr/>
              </p:nvSpPr>
              <p:spPr>
                <a:xfrm>
                  <a:off x="5735880" y="3132360"/>
                  <a:ext cx="42120" cy="24480"/>
                </a:xfrm>
                <a:custGeom>
                  <a:avLst/>
                  <a:gdLst/>
                  <a:ahLst/>
                  <a:rect l="l" t="t" r="r" b="b"/>
                  <a:pathLst>
                    <a:path w="167" h="104">
                      <a:moveTo>
                        <a:pt x="0" y="62"/>
                      </a:moveTo>
                      <a:lnTo>
                        <a:pt x="42" y="35"/>
                      </a:lnTo>
                      <a:lnTo>
                        <a:pt x="88" y="13"/>
                      </a:lnTo>
                      <a:lnTo>
                        <a:pt x="136" y="0"/>
                      </a:lnTo>
                      <a:lnTo>
                        <a:pt x="167" y="35"/>
                      </a:lnTo>
                      <a:lnTo>
                        <a:pt x="126" y="38"/>
                      </a:lnTo>
                      <a:lnTo>
                        <a:pt x="74" y="48"/>
                      </a:lnTo>
                      <a:lnTo>
                        <a:pt x="50" y="69"/>
                      </a:lnTo>
                      <a:lnTo>
                        <a:pt x="46" y="97"/>
                      </a:lnTo>
                      <a:lnTo>
                        <a:pt x="18" y="104"/>
                      </a:lnTo>
                      <a:lnTo>
                        <a:pt x="0" y="62"/>
                      </a:lnTo>
                      <a:lnTo>
                        <a:pt x="0" y="62"/>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241" name=""/>
                <p:cNvSpPr/>
                <p:nvPr/>
              </p:nvSpPr>
              <p:spPr>
                <a:xfrm>
                  <a:off x="5697360" y="3148200"/>
                  <a:ext cx="33840" cy="29520"/>
                </a:xfrm>
                <a:custGeom>
                  <a:avLst/>
                  <a:gdLst/>
                  <a:ahLst/>
                  <a:rect l="l" t="t" r="r" b="b"/>
                  <a:pathLst>
                    <a:path w="135" h="125">
                      <a:moveTo>
                        <a:pt x="0" y="77"/>
                      </a:moveTo>
                      <a:lnTo>
                        <a:pt x="31" y="38"/>
                      </a:lnTo>
                      <a:lnTo>
                        <a:pt x="45" y="11"/>
                      </a:lnTo>
                      <a:lnTo>
                        <a:pt x="73" y="0"/>
                      </a:lnTo>
                      <a:lnTo>
                        <a:pt x="104" y="13"/>
                      </a:lnTo>
                      <a:lnTo>
                        <a:pt x="135" y="42"/>
                      </a:lnTo>
                      <a:lnTo>
                        <a:pt x="131" y="79"/>
                      </a:lnTo>
                      <a:lnTo>
                        <a:pt x="111" y="108"/>
                      </a:lnTo>
                      <a:lnTo>
                        <a:pt x="76" y="125"/>
                      </a:lnTo>
                      <a:lnTo>
                        <a:pt x="58" y="101"/>
                      </a:lnTo>
                      <a:lnTo>
                        <a:pt x="100" y="66"/>
                      </a:lnTo>
                      <a:lnTo>
                        <a:pt x="66" y="42"/>
                      </a:lnTo>
                      <a:lnTo>
                        <a:pt x="34" y="90"/>
                      </a:lnTo>
                      <a:lnTo>
                        <a:pt x="0" y="77"/>
                      </a:lnTo>
                      <a:lnTo>
                        <a:pt x="0" y="7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42" name=""/>
                <p:cNvSpPr/>
                <p:nvPr/>
              </p:nvSpPr>
              <p:spPr>
                <a:xfrm>
                  <a:off x="5738760" y="3157200"/>
                  <a:ext cx="74160" cy="27000"/>
                </a:xfrm>
                <a:custGeom>
                  <a:avLst/>
                  <a:gdLst/>
                  <a:ahLst/>
                  <a:rect l="l" t="t" r="r" b="b"/>
                  <a:pathLst>
                    <a:path w="293" h="114">
                      <a:moveTo>
                        <a:pt x="0" y="83"/>
                      </a:moveTo>
                      <a:lnTo>
                        <a:pt x="53" y="45"/>
                      </a:lnTo>
                      <a:lnTo>
                        <a:pt x="90" y="21"/>
                      </a:lnTo>
                      <a:lnTo>
                        <a:pt x="136" y="6"/>
                      </a:lnTo>
                      <a:lnTo>
                        <a:pt x="191" y="0"/>
                      </a:lnTo>
                      <a:lnTo>
                        <a:pt x="251" y="6"/>
                      </a:lnTo>
                      <a:lnTo>
                        <a:pt x="293" y="21"/>
                      </a:lnTo>
                      <a:lnTo>
                        <a:pt x="264" y="31"/>
                      </a:lnTo>
                      <a:lnTo>
                        <a:pt x="202" y="39"/>
                      </a:lnTo>
                      <a:lnTo>
                        <a:pt x="139" y="52"/>
                      </a:lnTo>
                      <a:lnTo>
                        <a:pt x="88" y="72"/>
                      </a:lnTo>
                      <a:lnTo>
                        <a:pt x="59" y="101"/>
                      </a:lnTo>
                      <a:lnTo>
                        <a:pt x="35" y="114"/>
                      </a:lnTo>
                      <a:lnTo>
                        <a:pt x="11" y="107"/>
                      </a:lnTo>
                      <a:lnTo>
                        <a:pt x="0" y="83"/>
                      </a:lnTo>
                      <a:lnTo>
                        <a:pt x="0" y="8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3" name=""/>
                <p:cNvSpPr/>
                <p:nvPr/>
              </p:nvSpPr>
              <p:spPr>
                <a:xfrm>
                  <a:off x="5779800" y="3193560"/>
                  <a:ext cx="44640" cy="81000"/>
                </a:xfrm>
                <a:custGeom>
                  <a:avLst/>
                  <a:gdLst/>
                  <a:ahLst/>
                  <a:rect l="l" t="t" r="r" b="b"/>
                  <a:pathLst>
                    <a:path w="177" h="343">
                      <a:moveTo>
                        <a:pt x="0" y="14"/>
                      </a:moveTo>
                      <a:lnTo>
                        <a:pt x="39" y="101"/>
                      </a:lnTo>
                      <a:lnTo>
                        <a:pt x="84" y="185"/>
                      </a:lnTo>
                      <a:lnTo>
                        <a:pt x="101" y="236"/>
                      </a:lnTo>
                      <a:lnTo>
                        <a:pt x="126" y="278"/>
                      </a:lnTo>
                      <a:lnTo>
                        <a:pt x="150" y="313"/>
                      </a:lnTo>
                      <a:lnTo>
                        <a:pt x="177" y="343"/>
                      </a:lnTo>
                      <a:lnTo>
                        <a:pt x="170" y="301"/>
                      </a:lnTo>
                      <a:lnTo>
                        <a:pt x="161" y="282"/>
                      </a:lnTo>
                      <a:lnTo>
                        <a:pt x="132" y="219"/>
                      </a:lnTo>
                      <a:lnTo>
                        <a:pt x="95" y="132"/>
                      </a:lnTo>
                      <a:lnTo>
                        <a:pt x="59" y="60"/>
                      </a:lnTo>
                      <a:lnTo>
                        <a:pt x="35" y="0"/>
                      </a:lnTo>
                      <a:lnTo>
                        <a:pt x="0" y="14"/>
                      </a:lnTo>
                      <a:lnTo>
                        <a:pt x="0" y="1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4" name=""/>
                <p:cNvSpPr/>
                <p:nvPr/>
              </p:nvSpPr>
              <p:spPr>
                <a:xfrm>
                  <a:off x="5751000" y="3168720"/>
                  <a:ext cx="55800" cy="24120"/>
                </a:xfrm>
                <a:custGeom>
                  <a:avLst/>
                  <a:gdLst/>
                  <a:ahLst/>
                  <a:rect l="l" t="t" r="r" b="b"/>
                  <a:pathLst>
                    <a:path w="223" h="101">
                      <a:moveTo>
                        <a:pt x="25" y="101"/>
                      </a:moveTo>
                      <a:lnTo>
                        <a:pt x="71" y="77"/>
                      </a:lnTo>
                      <a:lnTo>
                        <a:pt x="108" y="63"/>
                      </a:lnTo>
                      <a:lnTo>
                        <a:pt x="150" y="46"/>
                      </a:lnTo>
                      <a:lnTo>
                        <a:pt x="185" y="32"/>
                      </a:lnTo>
                      <a:lnTo>
                        <a:pt x="223" y="28"/>
                      </a:lnTo>
                      <a:lnTo>
                        <a:pt x="216" y="0"/>
                      </a:lnTo>
                      <a:lnTo>
                        <a:pt x="168" y="7"/>
                      </a:lnTo>
                      <a:lnTo>
                        <a:pt x="119" y="22"/>
                      </a:lnTo>
                      <a:lnTo>
                        <a:pt x="71" y="42"/>
                      </a:lnTo>
                      <a:lnTo>
                        <a:pt x="29" y="63"/>
                      </a:lnTo>
                      <a:lnTo>
                        <a:pt x="0" y="84"/>
                      </a:lnTo>
                      <a:lnTo>
                        <a:pt x="25" y="101"/>
                      </a:lnTo>
                      <a:lnTo>
                        <a:pt x="25" y="101"/>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45" name=""/>
                <p:cNvSpPr/>
                <p:nvPr/>
              </p:nvSpPr>
              <p:spPr>
                <a:xfrm>
                  <a:off x="5749560" y="3177360"/>
                  <a:ext cx="95400" cy="118440"/>
                </a:xfrm>
                <a:custGeom>
                  <a:avLst/>
                  <a:gdLst/>
                  <a:ahLst/>
                  <a:rect l="l" t="t" r="r" b="b"/>
                  <a:pathLst>
                    <a:path w="379" h="502">
                      <a:moveTo>
                        <a:pt x="0" y="105"/>
                      </a:moveTo>
                      <a:lnTo>
                        <a:pt x="66" y="192"/>
                      </a:lnTo>
                      <a:lnTo>
                        <a:pt x="132" y="279"/>
                      </a:lnTo>
                      <a:lnTo>
                        <a:pt x="187" y="359"/>
                      </a:lnTo>
                      <a:lnTo>
                        <a:pt x="247" y="453"/>
                      </a:lnTo>
                      <a:lnTo>
                        <a:pt x="288" y="491"/>
                      </a:lnTo>
                      <a:lnTo>
                        <a:pt x="326" y="502"/>
                      </a:lnTo>
                      <a:lnTo>
                        <a:pt x="359" y="495"/>
                      </a:lnTo>
                      <a:lnTo>
                        <a:pt x="376" y="471"/>
                      </a:lnTo>
                      <a:lnTo>
                        <a:pt x="379" y="427"/>
                      </a:lnTo>
                      <a:lnTo>
                        <a:pt x="359" y="390"/>
                      </a:lnTo>
                      <a:lnTo>
                        <a:pt x="334" y="355"/>
                      </a:lnTo>
                      <a:lnTo>
                        <a:pt x="313" y="275"/>
                      </a:lnTo>
                      <a:lnTo>
                        <a:pt x="282" y="154"/>
                      </a:lnTo>
                      <a:lnTo>
                        <a:pt x="257" y="66"/>
                      </a:lnTo>
                      <a:lnTo>
                        <a:pt x="236" y="0"/>
                      </a:lnTo>
                      <a:lnTo>
                        <a:pt x="205" y="4"/>
                      </a:lnTo>
                      <a:lnTo>
                        <a:pt x="195" y="22"/>
                      </a:lnTo>
                      <a:lnTo>
                        <a:pt x="226" y="139"/>
                      </a:lnTo>
                      <a:lnTo>
                        <a:pt x="271" y="275"/>
                      </a:lnTo>
                      <a:lnTo>
                        <a:pt x="299" y="359"/>
                      </a:lnTo>
                      <a:lnTo>
                        <a:pt x="306" y="407"/>
                      </a:lnTo>
                      <a:lnTo>
                        <a:pt x="323" y="427"/>
                      </a:lnTo>
                      <a:lnTo>
                        <a:pt x="334" y="449"/>
                      </a:lnTo>
                      <a:lnTo>
                        <a:pt x="317" y="460"/>
                      </a:lnTo>
                      <a:lnTo>
                        <a:pt x="282" y="438"/>
                      </a:lnTo>
                      <a:lnTo>
                        <a:pt x="226" y="365"/>
                      </a:lnTo>
                      <a:lnTo>
                        <a:pt x="171" y="279"/>
                      </a:lnTo>
                      <a:lnTo>
                        <a:pt x="112" y="192"/>
                      </a:lnTo>
                      <a:lnTo>
                        <a:pt x="35" y="101"/>
                      </a:lnTo>
                      <a:lnTo>
                        <a:pt x="17" y="77"/>
                      </a:lnTo>
                      <a:lnTo>
                        <a:pt x="0"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46" name=""/>
            <p:cNvSpPr/>
            <p:nvPr/>
          </p:nvSpPr>
          <p:spPr>
            <a:xfrm flipV="1">
              <a:off x="7772400" y="2514600"/>
              <a:ext cx="0" cy="457200"/>
            </a:xfrm>
            <a:prstGeom prst="line">
              <a:avLst/>
            </a:prstGeom>
            <a:ln w="9360">
              <a:solidFill>
                <a:srgbClr val="57a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7" name=""/>
          <p:cNvGrpSpPr/>
          <p:nvPr/>
        </p:nvGrpSpPr>
        <p:grpSpPr>
          <a:xfrm>
            <a:off x="1981080" y="3504960"/>
            <a:ext cx="4383360" cy="649440"/>
            <a:chOff x="1981080" y="3504960"/>
            <a:chExt cx="4383360" cy="649440"/>
          </a:xfrm>
        </p:grpSpPr>
        <p:sp>
          <p:nvSpPr>
            <p:cNvPr id="248" name=""/>
            <p:cNvSpPr/>
            <p:nvPr/>
          </p:nvSpPr>
          <p:spPr>
            <a:xfrm>
              <a:off x="1981080" y="3733920"/>
              <a:ext cx="3200400" cy="0"/>
            </a:xfrm>
            <a:prstGeom prst="line">
              <a:avLst/>
            </a:prstGeom>
            <a:ln w="9360">
              <a:solidFill>
                <a:srgbClr val="57a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9" name=""/>
            <p:cNvGrpSpPr/>
            <p:nvPr/>
          </p:nvGrpSpPr>
          <p:grpSpPr>
            <a:xfrm>
              <a:off x="5181480" y="3505320"/>
              <a:ext cx="1182960" cy="649080"/>
              <a:chOff x="5181480" y="3505320"/>
              <a:chExt cx="1182960" cy="649080"/>
            </a:xfrm>
          </p:grpSpPr>
          <p:grpSp>
            <p:nvGrpSpPr>
              <p:cNvPr id="250" name=""/>
              <p:cNvGrpSpPr/>
              <p:nvPr/>
            </p:nvGrpSpPr>
            <p:grpSpPr>
              <a:xfrm>
                <a:off x="5181480" y="3547080"/>
                <a:ext cx="1182960" cy="607320"/>
                <a:chOff x="5181480" y="3547080"/>
                <a:chExt cx="1182960" cy="607320"/>
              </a:xfrm>
            </p:grpSpPr>
            <p:sp>
              <p:nvSpPr>
                <p:cNvPr id="251" name=""/>
                <p:cNvSpPr/>
                <p:nvPr/>
              </p:nvSpPr>
              <p:spPr>
                <a:xfrm>
                  <a:off x="5181480" y="3547080"/>
                  <a:ext cx="1182960" cy="607320"/>
                </a:xfrm>
                <a:custGeom>
                  <a:avLst/>
                  <a:gdLst/>
                  <a:ahLst/>
                  <a:rect l="l" t="t" r="r" b="b"/>
                  <a:pathLst>
                    <a:path w="2256" h="1395">
                      <a:moveTo>
                        <a:pt x="1222" y="1395"/>
                      </a:moveTo>
                      <a:lnTo>
                        <a:pt x="1218" y="1389"/>
                      </a:lnTo>
                      <a:lnTo>
                        <a:pt x="1220" y="1380"/>
                      </a:lnTo>
                      <a:lnTo>
                        <a:pt x="1229" y="1365"/>
                      </a:lnTo>
                      <a:lnTo>
                        <a:pt x="1244" y="1348"/>
                      </a:lnTo>
                      <a:lnTo>
                        <a:pt x="1265" y="1326"/>
                      </a:lnTo>
                      <a:lnTo>
                        <a:pt x="1290" y="1300"/>
                      </a:lnTo>
                      <a:lnTo>
                        <a:pt x="1322" y="1272"/>
                      </a:lnTo>
                      <a:lnTo>
                        <a:pt x="1356" y="1242"/>
                      </a:lnTo>
                      <a:lnTo>
                        <a:pt x="1394" y="1208"/>
                      </a:lnTo>
                      <a:lnTo>
                        <a:pt x="1437" y="1173"/>
                      </a:lnTo>
                      <a:lnTo>
                        <a:pt x="1481" y="1136"/>
                      </a:lnTo>
                      <a:lnTo>
                        <a:pt x="1528" y="1098"/>
                      </a:lnTo>
                      <a:lnTo>
                        <a:pt x="1577" y="1057"/>
                      </a:lnTo>
                      <a:lnTo>
                        <a:pt x="1627" y="1017"/>
                      </a:lnTo>
                      <a:lnTo>
                        <a:pt x="1679" y="977"/>
                      </a:lnTo>
                      <a:lnTo>
                        <a:pt x="1731" y="935"/>
                      </a:lnTo>
                      <a:lnTo>
                        <a:pt x="1783" y="894"/>
                      </a:lnTo>
                      <a:lnTo>
                        <a:pt x="1834" y="854"/>
                      </a:lnTo>
                      <a:lnTo>
                        <a:pt x="1885" y="814"/>
                      </a:lnTo>
                      <a:lnTo>
                        <a:pt x="1935" y="775"/>
                      </a:lnTo>
                      <a:lnTo>
                        <a:pt x="1982" y="738"/>
                      </a:lnTo>
                      <a:lnTo>
                        <a:pt x="2027" y="703"/>
                      </a:lnTo>
                      <a:lnTo>
                        <a:pt x="2069" y="668"/>
                      </a:lnTo>
                      <a:lnTo>
                        <a:pt x="2109" y="637"/>
                      </a:lnTo>
                      <a:lnTo>
                        <a:pt x="2144" y="608"/>
                      </a:lnTo>
                      <a:lnTo>
                        <a:pt x="2177" y="583"/>
                      </a:lnTo>
                      <a:lnTo>
                        <a:pt x="2203" y="560"/>
                      </a:lnTo>
                      <a:lnTo>
                        <a:pt x="2225" y="542"/>
                      </a:lnTo>
                      <a:lnTo>
                        <a:pt x="2241" y="527"/>
                      </a:lnTo>
                      <a:lnTo>
                        <a:pt x="2252" y="515"/>
                      </a:lnTo>
                      <a:lnTo>
                        <a:pt x="2256" y="508"/>
                      </a:lnTo>
                      <a:lnTo>
                        <a:pt x="2253" y="507"/>
                      </a:lnTo>
                      <a:lnTo>
                        <a:pt x="2253" y="507"/>
                      </a:lnTo>
                      <a:lnTo>
                        <a:pt x="2247" y="505"/>
                      </a:lnTo>
                      <a:lnTo>
                        <a:pt x="2235" y="499"/>
                      </a:lnTo>
                      <a:lnTo>
                        <a:pt x="2220" y="492"/>
                      </a:lnTo>
                      <a:lnTo>
                        <a:pt x="2200" y="483"/>
                      </a:lnTo>
                      <a:lnTo>
                        <a:pt x="2175" y="471"/>
                      </a:lnTo>
                      <a:lnTo>
                        <a:pt x="2148" y="459"/>
                      </a:lnTo>
                      <a:lnTo>
                        <a:pt x="2116" y="444"/>
                      </a:lnTo>
                      <a:lnTo>
                        <a:pt x="2081" y="429"/>
                      </a:lnTo>
                      <a:lnTo>
                        <a:pt x="2044" y="411"/>
                      </a:lnTo>
                      <a:lnTo>
                        <a:pt x="2004" y="392"/>
                      </a:lnTo>
                      <a:lnTo>
                        <a:pt x="1962" y="373"/>
                      </a:lnTo>
                      <a:lnTo>
                        <a:pt x="1919" y="353"/>
                      </a:lnTo>
                      <a:lnTo>
                        <a:pt x="1874" y="332"/>
                      </a:lnTo>
                      <a:lnTo>
                        <a:pt x="1829" y="310"/>
                      </a:lnTo>
                      <a:lnTo>
                        <a:pt x="1781" y="288"/>
                      </a:lnTo>
                      <a:lnTo>
                        <a:pt x="1735" y="265"/>
                      </a:lnTo>
                      <a:lnTo>
                        <a:pt x="1688" y="243"/>
                      </a:lnTo>
                      <a:lnTo>
                        <a:pt x="1642" y="220"/>
                      </a:lnTo>
                      <a:lnTo>
                        <a:pt x="1597" y="198"/>
                      </a:lnTo>
                      <a:lnTo>
                        <a:pt x="1552" y="177"/>
                      </a:lnTo>
                      <a:lnTo>
                        <a:pt x="1509" y="155"/>
                      </a:lnTo>
                      <a:lnTo>
                        <a:pt x="1468" y="134"/>
                      </a:lnTo>
                      <a:lnTo>
                        <a:pt x="1429" y="114"/>
                      </a:lnTo>
                      <a:lnTo>
                        <a:pt x="1392" y="95"/>
                      </a:lnTo>
                      <a:lnTo>
                        <a:pt x="1358" y="77"/>
                      </a:lnTo>
                      <a:lnTo>
                        <a:pt x="1327" y="60"/>
                      </a:lnTo>
                      <a:lnTo>
                        <a:pt x="1301" y="45"/>
                      </a:lnTo>
                      <a:lnTo>
                        <a:pt x="1277" y="31"/>
                      </a:lnTo>
                      <a:lnTo>
                        <a:pt x="1258" y="19"/>
                      </a:lnTo>
                      <a:lnTo>
                        <a:pt x="1243" y="8"/>
                      </a:lnTo>
                      <a:lnTo>
                        <a:pt x="1234" y="0"/>
                      </a:lnTo>
                      <a:lnTo>
                        <a:pt x="1231" y="13"/>
                      </a:lnTo>
                      <a:lnTo>
                        <a:pt x="1220" y="28"/>
                      </a:lnTo>
                      <a:lnTo>
                        <a:pt x="1204" y="43"/>
                      </a:lnTo>
                      <a:lnTo>
                        <a:pt x="1183" y="60"/>
                      </a:lnTo>
                      <a:lnTo>
                        <a:pt x="1157" y="79"/>
                      </a:lnTo>
                      <a:lnTo>
                        <a:pt x="1126" y="98"/>
                      </a:lnTo>
                      <a:lnTo>
                        <a:pt x="1090" y="119"/>
                      </a:lnTo>
                      <a:lnTo>
                        <a:pt x="1051" y="140"/>
                      </a:lnTo>
                      <a:lnTo>
                        <a:pt x="1009" y="162"/>
                      </a:lnTo>
                      <a:lnTo>
                        <a:pt x="963" y="183"/>
                      </a:lnTo>
                      <a:lnTo>
                        <a:pt x="916" y="206"/>
                      </a:lnTo>
                      <a:lnTo>
                        <a:pt x="865" y="229"/>
                      </a:lnTo>
                      <a:lnTo>
                        <a:pt x="813" y="253"/>
                      </a:lnTo>
                      <a:lnTo>
                        <a:pt x="760" y="277"/>
                      </a:lnTo>
                      <a:lnTo>
                        <a:pt x="705" y="300"/>
                      </a:lnTo>
                      <a:lnTo>
                        <a:pt x="651" y="323"/>
                      </a:lnTo>
                      <a:lnTo>
                        <a:pt x="596" y="345"/>
                      </a:lnTo>
                      <a:lnTo>
                        <a:pt x="540" y="367"/>
                      </a:lnTo>
                      <a:lnTo>
                        <a:pt x="486" y="388"/>
                      </a:lnTo>
                      <a:lnTo>
                        <a:pt x="432" y="409"/>
                      </a:lnTo>
                      <a:lnTo>
                        <a:pt x="380" y="429"/>
                      </a:lnTo>
                      <a:lnTo>
                        <a:pt x="330" y="447"/>
                      </a:lnTo>
                      <a:lnTo>
                        <a:pt x="282" y="466"/>
                      </a:lnTo>
                      <a:lnTo>
                        <a:pt x="237" y="482"/>
                      </a:lnTo>
                      <a:lnTo>
                        <a:pt x="194" y="497"/>
                      </a:lnTo>
                      <a:lnTo>
                        <a:pt x="155" y="510"/>
                      </a:lnTo>
                      <a:lnTo>
                        <a:pt x="121" y="522"/>
                      </a:lnTo>
                      <a:lnTo>
                        <a:pt x="90" y="532"/>
                      </a:lnTo>
                      <a:lnTo>
                        <a:pt x="63" y="540"/>
                      </a:lnTo>
                      <a:lnTo>
                        <a:pt x="42" y="546"/>
                      </a:lnTo>
                      <a:lnTo>
                        <a:pt x="26" y="551"/>
                      </a:lnTo>
                      <a:lnTo>
                        <a:pt x="16" y="552"/>
                      </a:lnTo>
                      <a:lnTo>
                        <a:pt x="4" y="558"/>
                      </a:lnTo>
                      <a:lnTo>
                        <a:pt x="0" y="568"/>
                      </a:lnTo>
                      <a:lnTo>
                        <a:pt x="3" y="582"/>
                      </a:lnTo>
                      <a:lnTo>
                        <a:pt x="15" y="600"/>
                      </a:lnTo>
                      <a:lnTo>
                        <a:pt x="32" y="621"/>
                      </a:lnTo>
                      <a:lnTo>
                        <a:pt x="55" y="645"/>
                      </a:lnTo>
                      <a:lnTo>
                        <a:pt x="85" y="673"/>
                      </a:lnTo>
                      <a:lnTo>
                        <a:pt x="120" y="702"/>
                      </a:lnTo>
                      <a:lnTo>
                        <a:pt x="159" y="734"/>
                      </a:lnTo>
                      <a:lnTo>
                        <a:pt x="201" y="767"/>
                      </a:lnTo>
                      <a:lnTo>
                        <a:pt x="249" y="802"/>
                      </a:lnTo>
                      <a:lnTo>
                        <a:pt x="299" y="839"/>
                      </a:lnTo>
                      <a:lnTo>
                        <a:pt x="351" y="877"/>
                      </a:lnTo>
                      <a:lnTo>
                        <a:pt x="407" y="915"/>
                      </a:lnTo>
                      <a:lnTo>
                        <a:pt x="464" y="953"/>
                      </a:lnTo>
                      <a:lnTo>
                        <a:pt x="522" y="992"/>
                      </a:lnTo>
                      <a:lnTo>
                        <a:pt x="581" y="1031"/>
                      </a:lnTo>
                      <a:lnTo>
                        <a:pt x="640" y="1069"/>
                      </a:lnTo>
                      <a:lnTo>
                        <a:pt x="699" y="1106"/>
                      </a:lnTo>
                      <a:lnTo>
                        <a:pt x="757" y="1143"/>
                      </a:lnTo>
                      <a:lnTo>
                        <a:pt x="814" y="1178"/>
                      </a:lnTo>
                      <a:lnTo>
                        <a:pt x="870" y="1212"/>
                      </a:lnTo>
                      <a:lnTo>
                        <a:pt x="923" y="1243"/>
                      </a:lnTo>
                      <a:lnTo>
                        <a:pt x="974" y="1273"/>
                      </a:lnTo>
                      <a:lnTo>
                        <a:pt x="1021" y="1299"/>
                      </a:lnTo>
                      <a:lnTo>
                        <a:pt x="1065" y="1323"/>
                      </a:lnTo>
                      <a:lnTo>
                        <a:pt x="1104" y="1345"/>
                      </a:lnTo>
                      <a:lnTo>
                        <a:pt x="1138" y="1363"/>
                      </a:lnTo>
                      <a:lnTo>
                        <a:pt x="1168" y="1378"/>
                      </a:lnTo>
                      <a:lnTo>
                        <a:pt x="1192" y="1387"/>
                      </a:lnTo>
                      <a:lnTo>
                        <a:pt x="1211" y="1394"/>
                      </a:lnTo>
                      <a:lnTo>
                        <a:pt x="1222" y="13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5205240" y="3563640"/>
                  <a:ext cx="1135800" cy="571680"/>
                </a:xfrm>
                <a:custGeom>
                  <a:avLst/>
                  <a:gdLst/>
                  <a:ahLst/>
                  <a:rect l="l" t="t" r="r" b="b"/>
                  <a:pathLst>
                    <a:path w="2169" h="1312">
                      <a:moveTo>
                        <a:pt x="1151" y="1312"/>
                      </a:moveTo>
                      <a:lnTo>
                        <a:pt x="1146" y="1307"/>
                      </a:lnTo>
                      <a:lnTo>
                        <a:pt x="1149" y="1297"/>
                      </a:lnTo>
                      <a:lnTo>
                        <a:pt x="1158" y="1284"/>
                      </a:lnTo>
                      <a:lnTo>
                        <a:pt x="1173" y="1267"/>
                      </a:lnTo>
                      <a:lnTo>
                        <a:pt x="1194" y="1246"/>
                      </a:lnTo>
                      <a:lnTo>
                        <a:pt x="1219" y="1222"/>
                      </a:lnTo>
                      <a:lnTo>
                        <a:pt x="1249" y="1196"/>
                      </a:lnTo>
                      <a:lnTo>
                        <a:pt x="1282" y="1167"/>
                      </a:lnTo>
                      <a:lnTo>
                        <a:pt x="1320" y="1136"/>
                      </a:lnTo>
                      <a:lnTo>
                        <a:pt x="1362" y="1102"/>
                      </a:lnTo>
                      <a:lnTo>
                        <a:pt x="1406" y="1068"/>
                      </a:lnTo>
                      <a:lnTo>
                        <a:pt x="1452" y="1031"/>
                      </a:lnTo>
                      <a:lnTo>
                        <a:pt x="1500" y="994"/>
                      </a:lnTo>
                      <a:lnTo>
                        <a:pt x="1550" y="956"/>
                      </a:lnTo>
                      <a:lnTo>
                        <a:pt x="1600" y="917"/>
                      </a:lnTo>
                      <a:lnTo>
                        <a:pt x="1651" y="879"/>
                      </a:lnTo>
                      <a:lnTo>
                        <a:pt x="1702" y="840"/>
                      </a:lnTo>
                      <a:lnTo>
                        <a:pt x="1752" y="802"/>
                      </a:lnTo>
                      <a:lnTo>
                        <a:pt x="1803" y="765"/>
                      </a:lnTo>
                      <a:lnTo>
                        <a:pt x="1852" y="728"/>
                      </a:lnTo>
                      <a:lnTo>
                        <a:pt x="1898" y="692"/>
                      </a:lnTo>
                      <a:lnTo>
                        <a:pt x="1943" y="659"/>
                      </a:lnTo>
                      <a:lnTo>
                        <a:pt x="1984" y="628"/>
                      </a:lnTo>
                      <a:lnTo>
                        <a:pt x="2023" y="598"/>
                      </a:lnTo>
                      <a:lnTo>
                        <a:pt x="2059" y="570"/>
                      </a:lnTo>
                      <a:lnTo>
                        <a:pt x="2090" y="546"/>
                      </a:lnTo>
                      <a:lnTo>
                        <a:pt x="2117" y="525"/>
                      </a:lnTo>
                      <a:lnTo>
                        <a:pt x="2137" y="507"/>
                      </a:lnTo>
                      <a:lnTo>
                        <a:pt x="2155" y="493"/>
                      </a:lnTo>
                      <a:lnTo>
                        <a:pt x="2165" y="483"/>
                      </a:lnTo>
                      <a:lnTo>
                        <a:pt x="2169" y="476"/>
                      </a:lnTo>
                      <a:lnTo>
                        <a:pt x="2166" y="475"/>
                      </a:lnTo>
                      <a:lnTo>
                        <a:pt x="2169" y="476"/>
                      </a:lnTo>
                      <a:lnTo>
                        <a:pt x="2164" y="474"/>
                      </a:lnTo>
                      <a:lnTo>
                        <a:pt x="2156" y="470"/>
                      </a:lnTo>
                      <a:lnTo>
                        <a:pt x="2142" y="463"/>
                      </a:lnTo>
                      <a:lnTo>
                        <a:pt x="2125" y="455"/>
                      </a:lnTo>
                      <a:lnTo>
                        <a:pt x="2103" y="446"/>
                      </a:lnTo>
                      <a:lnTo>
                        <a:pt x="2077" y="433"/>
                      </a:lnTo>
                      <a:lnTo>
                        <a:pt x="2049" y="421"/>
                      </a:lnTo>
                      <a:lnTo>
                        <a:pt x="2018" y="406"/>
                      </a:lnTo>
                      <a:lnTo>
                        <a:pt x="1983" y="390"/>
                      </a:lnTo>
                      <a:lnTo>
                        <a:pt x="1945" y="372"/>
                      </a:lnTo>
                      <a:lnTo>
                        <a:pt x="1907" y="354"/>
                      </a:lnTo>
                      <a:lnTo>
                        <a:pt x="1865" y="335"/>
                      </a:lnTo>
                      <a:lnTo>
                        <a:pt x="1824" y="316"/>
                      </a:lnTo>
                      <a:lnTo>
                        <a:pt x="1780" y="295"/>
                      </a:lnTo>
                      <a:lnTo>
                        <a:pt x="1736" y="274"/>
                      </a:lnTo>
                      <a:lnTo>
                        <a:pt x="1691" y="254"/>
                      </a:lnTo>
                      <a:lnTo>
                        <a:pt x="1648" y="232"/>
                      </a:lnTo>
                      <a:lnTo>
                        <a:pt x="1603" y="211"/>
                      </a:lnTo>
                      <a:lnTo>
                        <a:pt x="1560" y="189"/>
                      </a:lnTo>
                      <a:lnTo>
                        <a:pt x="1516" y="168"/>
                      </a:lnTo>
                      <a:lnTo>
                        <a:pt x="1475" y="149"/>
                      </a:lnTo>
                      <a:lnTo>
                        <a:pt x="1436" y="128"/>
                      </a:lnTo>
                      <a:lnTo>
                        <a:pt x="1398" y="110"/>
                      </a:lnTo>
                      <a:lnTo>
                        <a:pt x="1361" y="91"/>
                      </a:lnTo>
                      <a:lnTo>
                        <a:pt x="1327" y="74"/>
                      </a:lnTo>
                      <a:lnTo>
                        <a:pt x="1297" y="58"/>
                      </a:lnTo>
                      <a:lnTo>
                        <a:pt x="1270" y="43"/>
                      </a:lnTo>
                      <a:lnTo>
                        <a:pt x="1247" y="30"/>
                      </a:lnTo>
                      <a:lnTo>
                        <a:pt x="1226" y="19"/>
                      </a:lnTo>
                      <a:lnTo>
                        <a:pt x="1211" y="8"/>
                      </a:lnTo>
                      <a:lnTo>
                        <a:pt x="1199" y="0"/>
                      </a:lnTo>
                      <a:lnTo>
                        <a:pt x="1190" y="14"/>
                      </a:lnTo>
                      <a:lnTo>
                        <a:pt x="1174" y="28"/>
                      </a:lnTo>
                      <a:lnTo>
                        <a:pt x="1154" y="44"/>
                      </a:lnTo>
                      <a:lnTo>
                        <a:pt x="1129" y="61"/>
                      </a:lnTo>
                      <a:lnTo>
                        <a:pt x="1100" y="80"/>
                      </a:lnTo>
                      <a:lnTo>
                        <a:pt x="1067" y="98"/>
                      </a:lnTo>
                      <a:lnTo>
                        <a:pt x="1030" y="118"/>
                      </a:lnTo>
                      <a:lnTo>
                        <a:pt x="991" y="139"/>
                      </a:lnTo>
                      <a:lnTo>
                        <a:pt x="948" y="159"/>
                      </a:lnTo>
                      <a:lnTo>
                        <a:pt x="902" y="181"/>
                      </a:lnTo>
                      <a:lnTo>
                        <a:pt x="855" y="203"/>
                      </a:lnTo>
                      <a:lnTo>
                        <a:pt x="806" y="225"/>
                      </a:lnTo>
                      <a:lnTo>
                        <a:pt x="756" y="247"/>
                      </a:lnTo>
                      <a:lnTo>
                        <a:pt x="704" y="269"/>
                      </a:lnTo>
                      <a:lnTo>
                        <a:pt x="652" y="291"/>
                      </a:lnTo>
                      <a:lnTo>
                        <a:pt x="599" y="312"/>
                      </a:lnTo>
                      <a:lnTo>
                        <a:pt x="547" y="333"/>
                      </a:lnTo>
                      <a:lnTo>
                        <a:pt x="495" y="354"/>
                      </a:lnTo>
                      <a:lnTo>
                        <a:pt x="443" y="375"/>
                      </a:lnTo>
                      <a:lnTo>
                        <a:pt x="394" y="393"/>
                      </a:lnTo>
                      <a:lnTo>
                        <a:pt x="344" y="411"/>
                      </a:lnTo>
                      <a:lnTo>
                        <a:pt x="298" y="430"/>
                      </a:lnTo>
                      <a:lnTo>
                        <a:pt x="253" y="446"/>
                      </a:lnTo>
                      <a:lnTo>
                        <a:pt x="212" y="461"/>
                      </a:lnTo>
                      <a:lnTo>
                        <a:pt x="173" y="475"/>
                      </a:lnTo>
                      <a:lnTo>
                        <a:pt x="137" y="487"/>
                      </a:lnTo>
                      <a:lnTo>
                        <a:pt x="106" y="499"/>
                      </a:lnTo>
                      <a:lnTo>
                        <a:pt x="78" y="508"/>
                      </a:lnTo>
                      <a:lnTo>
                        <a:pt x="55" y="515"/>
                      </a:lnTo>
                      <a:lnTo>
                        <a:pt x="35" y="521"/>
                      </a:lnTo>
                      <a:lnTo>
                        <a:pt x="23" y="524"/>
                      </a:lnTo>
                      <a:lnTo>
                        <a:pt x="15" y="525"/>
                      </a:lnTo>
                      <a:lnTo>
                        <a:pt x="3" y="531"/>
                      </a:lnTo>
                      <a:lnTo>
                        <a:pt x="0" y="540"/>
                      </a:lnTo>
                      <a:lnTo>
                        <a:pt x="2" y="553"/>
                      </a:lnTo>
                      <a:lnTo>
                        <a:pt x="12" y="570"/>
                      </a:lnTo>
                      <a:lnTo>
                        <a:pt x="28" y="590"/>
                      </a:lnTo>
                      <a:lnTo>
                        <a:pt x="50" y="613"/>
                      </a:lnTo>
                      <a:lnTo>
                        <a:pt x="78" y="637"/>
                      </a:lnTo>
                      <a:lnTo>
                        <a:pt x="110" y="665"/>
                      </a:lnTo>
                      <a:lnTo>
                        <a:pt x="147" y="695"/>
                      </a:lnTo>
                      <a:lnTo>
                        <a:pt x="189" y="726"/>
                      </a:lnTo>
                      <a:lnTo>
                        <a:pt x="232" y="758"/>
                      </a:lnTo>
                      <a:lnTo>
                        <a:pt x="280" y="793"/>
                      </a:lnTo>
                      <a:lnTo>
                        <a:pt x="329" y="827"/>
                      </a:lnTo>
                      <a:lnTo>
                        <a:pt x="381" y="863"/>
                      </a:lnTo>
                      <a:lnTo>
                        <a:pt x="435" y="900"/>
                      </a:lnTo>
                      <a:lnTo>
                        <a:pt x="489" y="935"/>
                      </a:lnTo>
                      <a:lnTo>
                        <a:pt x="546" y="971"/>
                      </a:lnTo>
                      <a:lnTo>
                        <a:pt x="601" y="1007"/>
                      </a:lnTo>
                      <a:lnTo>
                        <a:pt x="657" y="1042"/>
                      </a:lnTo>
                      <a:lnTo>
                        <a:pt x="712" y="1076"/>
                      </a:lnTo>
                      <a:lnTo>
                        <a:pt x="766" y="1109"/>
                      </a:lnTo>
                      <a:lnTo>
                        <a:pt x="818" y="1140"/>
                      </a:lnTo>
                      <a:lnTo>
                        <a:pt x="867" y="1170"/>
                      </a:lnTo>
                      <a:lnTo>
                        <a:pt x="916" y="1198"/>
                      </a:lnTo>
                      <a:lnTo>
                        <a:pt x="961" y="1223"/>
                      </a:lnTo>
                      <a:lnTo>
                        <a:pt x="1001" y="1245"/>
                      </a:lnTo>
                      <a:lnTo>
                        <a:pt x="1039" y="1265"/>
                      </a:lnTo>
                      <a:lnTo>
                        <a:pt x="1071" y="1282"/>
                      </a:lnTo>
                      <a:lnTo>
                        <a:pt x="1100" y="1295"/>
                      </a:lnTo>
                      <a:lnTo>
                        <a:pt x="1123" y="1305"/>
                      </a:lnTo>
                      <a:lnTo>
                        <a:pt x="1141" y="1311"/>
                      </a:lnTo>
                      <a:lnTo>
                        <a:pt x="1151" y="13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5954760" y="3670920"/>
                  <a:ext cx="113040" cy="61560"/>
                </a:xfrm>
                <a:custGeom>
                  <a:avLst/>
                  <a:gdLst/>
                  <a:ahLst/>
                  <a:rect l="l" t="t" r="r" b="b"/>
                  <a:pathLst>
                    <a:path w="216" h="141">
                      <a:moveTo>
                        <a:pt x="108" y="0"/>
                      </a:moveTo>
                      <a:lnTo>
                        <a:pt x="122" y="10"/>
                      </a:lnTo>
                      <a:lnTo>
                        <a:pt x="139" y="2"/>
                      </a:lnTo>
                      <a:lnTo>
                        <a:pt x="147" y="15"/>
                      </a:lnTo>
                      <a:lnTo>
                        <a:pt x="167" y="10"/>
                      </a:lnTo>
                      <a:lnTo>
                        <a:pt x="169" y="24"/>
                      </a:lnTo>
                      <a:lnTo>
                        <a:pt x="190" y="24"/>
                      </a:lnTo>
                      <a:lnTo>
                        <a:pt x="187" y="38"/>
                      </a:lnTo>
                      <a:lnTo>
                        <a:pt x="207" y="41"/>
                      </a:lnTo>
                      <a:lnTo>
                        <a:pt x="198" y="53"/>
                      </a:lnTo>
                      <a:lnTo>
                        <a:pt x="216" y="61"/>
                      </a:lnTo>
                      <a:lnTo>
                        <a:pt x="201" y="70"/>
                      </a:lnTo>
                      <a:lnTo>
                        <a:pt x="216" y="80"/>
                      </a:lnTo>
                      <a:lnTo>
                        <a:pt x="198" y="87"/>
                      </a:lnTo>
                      <a:lnTo>
                        <a:pt x="207" y="100"/>
                      </a:lnTo>
                      <a:lnTo>
                        <a:pt x="187" y="103"/>
                      </a:lnTo>
                      <a:lnTo>
                        <a:pt x="190" y="117"/>
                      </a:lnTo>
                      <a:lnTo>
                        <a:pt x="169" y="116"/>
                      </a:lnTo>
                      <a:lnTo>
                        <a:pt x="167" y="130"/>
                      </a:lnTo>
                      <a:lnTo>
                        <a:pt x="147" y="126"/>
                      </a:lnTo>
                      <a:lnTo>
                        <a:pt x="139" y="139"/>
                      </a:lnTo>
                      <a:lnTo>
                        <a:pt x="122" y="131"/>
                      </a:lnTo>
                      <a:lnTo>
                        <a:pt x="108" y="141"/>
                      </a:lnTo>
                      <a:lnTo>
                        <a:pt x="94" y="131"/>
                      </a:lnTo>
                      <a:lnTo>
                        <a:pt x="77" y="139"/>
                      </a:lnTo>
                      <a:lnTo>
                        <a:pt x="69" y="126"/>
                      </a:lnTo>
                      <a:lnTo>
                        <a:pt x="49" y="130"/>
                      </a:lnTo>
                      <a:lnTo>
                        <a:pt x="47" y="116"/>
                      </a:lnTo>
                      <a:lnTo>
                        <a:pt x="25" y="117"/>
                      </a:lnTo>
                      <a:lnTo>
                        <a:pt x="30" y="103"/>
                      </a:lnTo>
                      <a:lnTo>
                        <a:pt x="9" y="100"/>
                      </a:lnTo>
                      <a:lnTo>
                        <a:pt x="18" y="87"/>
                      </a:lnTo>
                      <a:lnTo>
                        <a:pt x="0" y="80"/>
                      </a:lnTo>
                      <a:lnTo>
                        <a:pt x="15" y="70"/>
                      </a:lnTo>
                      <a:lnTo>
                        <a:pt x="0" y="61"/>
                      </a:lnTo>
                      <a:lnTo>
                        <a:pt x="18" y="54"/>
                      </a:lnTo>
                      <a:lnTo>
                        <a:pt x="9" y="41"/>
                      </a:lnTo>
                      <a:lnTo>
                        <a:pt x="30" y="38"/>
                      </a:lnTo>
                      <a:lnTo>
                        <a:pt x="25" y="24"/>
                      </a:lnTo>
                      <a:lnTo>
                        <a:pt x="47" y="24"/>
                      </a:lnTo>
                      <a:lnTo>
                        <a:pt x="49" y="10"/>
                      </a:lnTo>
                      <a:lnTo>
                        <a:pt x="69" y="15"/>
                      </a:lnTo>
                      <a:lnTo>
                        <a:pt x="77" y="2"/>
                      </a:lnTo>
                      <a:lnTo>
                        <a:pt x="94" y="10"/>
                      </a:lnTo>
                      <a:lnTo>
                        <a:pt x="108" y="0"/>
                      </a:lnTo>
                      <a:close/>
                    </a:path>
                  </a:pathLst>
                </a:custGeom>
                <a:solidFill>
                  <a:srgbClr val="9e9e3f"/>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54" name=""/>
                <p:cNvSpPr/>
                <p:nvPr/>
              </p:nvSpPr>
              <p:spPr>
                <a:xfrm>
                  <a:off x="5825880" y="3614040"/>
                  <a:ext cx="119160" cy="57240"/>
                </a:xfrm>
                <a:custGeom>
                  <a:avLst/>
                  <a:gdLst/>
                  <a:ahLst/>
                  <a:rect l="l" t="t" r="r" b="b"/>
                  <a:pathLst>
                    <a:path w="230" h="131">
                      <a:moveTo>
                        <a:pt x="0" y="0"/>
                      </a:moveTo>
                      <a:lnTo>
                        <a:pt x="3" y="1"/>
                      </a:lnTo>
                      <a:lnTo>
                        <a:pt x="7" y="4"/>
                      </a:lnTo>
                      <a:lnTo>
                        <a:pt x="16" y="9"/>
                      </a:lnTo>
                      <a:lnTo>
                        <a:pt x="27" y="15"/>
                      </a:lnTo>
                      <a:lnTo>
                        <a:pt x="41" y="23"/>
                      </a:lnTo>
                      <a:lnTo>
                        <a:pt x="56" y="32"/>
                      </a:lnTo>
                      <a:lnTo>
                        <a:pt x="73" y="41"/>
                      </a:lnTo>
                      <a:lnTo>
                        <a:pt x="91" y="51"/>
                      </a:lnTo>
                      <a:lnTo>
                        <a:pt x="110" y="62"/>
                      </a:lnTo>
                      <a:lnTo>
                        <a:pt x="128" y="72"/>
                      </a:lnTo>
                      <a:lnTo>
                        <a:pt x="148" y="83"/>
                      </a:lnTo>
                      <a:lnTo>
                        <a:pt x="166" y="93"/>
                      </a:lnTo>
                      <a:lnTo>
                        <a:pt x="185" y="102"/>
                      </a:lnTo>
                      <a:lnTo>
                        <a:pt x="201" y="110"/>
                      </a:lnTo>
                      <a:lnTo>
                        <a:pt x="217" y="117"/>
                      </a:lnTo>
                      <a:lnTo>
                        <a:pt x="230" y="123"/>
                      </a:lnTo>
                      <a:lnTo>
                        <a:pt x="220" y="131"/>
                      </a:lnTo>
                      <a:lnTo>
                        <a:pt x="218" y="130"/>
                      </a:lnTo>
                      <a:lnTo>
                        <a:pt x="212" y="127"/>
                      </a:lnTo>
                      <a:lnTo>
                        <a:pt x="203" y="124"/>
                      </a:lnTo>
                      <a:lnTo>
                        <a:pt x="192" y="118"/>
                      </a:lnTo>
                      <a:lnTo>
                        <a:pt x="178" y="111"/>
                      </a:lnTo>
                      <a:lnTo>
                        <a:pt x="162" y="103"/>
                      </a:lnTo>
                      <a:lnTo>
                        <a:pt x="143" y="95"/>
                      </a:lnTo>
                      <a:lnTo>
                        <a:pt x="125" y="86"/>
                      </a:lnTo>
                      <a:lnTo>
                        <a:pt x="106" y="76"/>
                      </a:lnTo>
                      <a:lnTo>
                        <a:pt x="87" y="65"/>
                      </a:lnTo>
                      <a:lnTo>
                        <a:pt x="68" y="54"/>
                      </a:lnTo>
                      <a:lnTo>
                        <a:pt x="51" y="43"/>
                      </a:lnTo>
                      <a:lnTo>
                        <a:pt x="35" y="32"/>
                      </a:lnTo>
                      <a:lnTo>
                        <a:pt x="21" y="20"/>
                      </a:lnTo>
                      <a:lnTo>
                        <a:pt x="9" y="10"/>
                      </a:lnTo>
                      <a:lnTo>
                        <a:pt x="0" y="0"/>
                      </a:lnTo>
                      <a:close/>
                    </a:path>
                  </a:pathLst>
                </a:custGeom>
                <a:solidFill>
                  <a:srgbClr val="93d3d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55" name=""/>
                <p:cNvSpPr/>
                <p:nvPr/>
              </p:nvSpPr>
              <p:spPr>
                <a:xfrm>
                  <a:off x="5806800" y="3627000"/>
                  <a:ext cx="124560" cy="61560"/>
                </a:xfrm>
                <a:custGeom>
                  <a:avLst/>
                  <a:gdLst/>
                  <a:ahLst/>
                  <a:rect l="l" t="t" r="r" b="b"/>
                  <a:pathLst>
                    <a:path w="237" h="142">
                      <a:moveTo>
                        <a:pt x="0" y="0"/>
                      </a:moveTo>
                      <a:lnTo>
                        <a:pt x="2" y="2"/>
                      </a:lnTo>
                      <a:lnTo>
                        <a:pt x="8" y="5"/>
                      </a:lnTo>
                      <a:lnTo>
                        <a:pt x="16" y="11"/>
                      </a:lnTo>
                      <a:lnTo>
                        <a:pt x="27" y="18"/>
                      </a:lnTo>
                      <a:lnTo>
                        <a:pt x="41" y="26"/>
                      </a:lnTo>
                      <a:lnTo>
                        <a:pt x="57" y="36"/>
                      </a:lnTo>
                      <a:lnTo>
                        <a:pt x="75" y="46"/>
                      </a:lnTo>
                      <a:lnTo>
                        <a:pt x="94" y="58"/>
                      </a:lnTo>
                      <a:lnTo>
                        <a:pt x="114" y="70"/>
                      </a:lnTo>
                      <a:lnTo>
                        <a:pt x="133" y="81"/>
                      </a:lnTo>
                      <a:lnTo>
                        <a:pt x="153" y="91"/>
                      </a:lnTo>
                      <a:lnTo>
                        <a:pt x="172" y="103"/>
                      </a:lnTo>
                      <a:lnTo>
                        <a:pt x="191" y="112"/>
                      </a:lnTo>
                      <a:lnTo>
                        <a:pt x="208" y="121"/>
                      </a:lnTo>
                      <a:lnTo>
                        <a:pt x="223" y="128"/>
                      </a:lnTo>
                      <a:lnTo>
                        <a:pt x="237" y="134"/>
                      </a:lnTo>
                      <a:lnTo>
                        <a:pt x="227" y="142"/>
                      </a:lnTo>
                      <a:lnTo>
                        <a:pt x="224" y="141"/>
                      </a:lnTo>
                      <a:lnTo>
                        <a:pt x="219" y="139"/>
                      </a:lnTo>
                      <a:lnTo>
                        <a:pt x="209" y="134"/>
                      </a:lnTo>
                      <a:lnTo>
                        <a:pt x="197" y="127"/>
                      </a:lnTo>
                      <a:lnTo>
                        <a:pt x="182" y="120"/>
                      </a:lnTo>
                      <a:lnTo>
                        <a:pt x="166" y="111"/>
                      </a:lnTo>
                      <a:lnTo>
                        <a:pt x="147" y="102"/>
                      </a:lnTo>
                      <a:lnTo>
                        <a:pt x="129" y="91"/>
                      </a:lnTo>
                      <a:lnTo>
                        <a:pt x="109" y="81"/>
                      </a:lnTo>
                      <a:lnTo>
                        <a:pt x="90" y="70"/>
                      </a:lnTo>
                      <a:lnTo>
                        <a:pt x="70" y="57"/>
                      </a:lnTo>
                      <a:lnTo>
                        <a:pt x="53" y="45"/>
                      </a:lnTo>
                      <a:lnTo>
                        <a:pt x="35" y="34"/>
                      </a:lnTo>
                      <a:lnTo>
                        <a:pt x="22" y="22"/>
                      </a:lnTo>
                      <a:lnTo>
                        <a:pt x="9" y="11"/>
                      </a:lnTo>
                      <a:lnTo>
                        <a:pt x="0" y="0"/>
                      </a:lnTo>
                      <a:close/>
                    </a:path>
                  </a:pathLst>
                </a:custGeom>
                <a:solidFill>
                  <a:srgbClr val="93d3d3"/>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56" name=""/>
                <p:cNvSpPr/>
                <p:nvPr/>
              </p:nvSpPr>
              <p:spPr>
                <a:xfrm>
                  <a:off x="5792040" y="3640320"/>
                  <a:ext cx="110160" cy="57240"/>
                </a:xfrm>
                <a:custGeom>
                  <a:avLst/>
                  <a:gdLst/>
                  <a:ahLst/>
                  <a:rect l="l" t="t" r="r" b="b"/>
                  <a:pathLst>
                    <a:path w="209" h="133">
                      <a:moveTo>
                        <a:pt x="0" y="0"/>
                      </a:moveTo>
                      <a:lnTo>
                        <a:pt x="1" y="2"/>
                      </a:lnTo>
                      <a:lnTo>
                        <a:pt x="6" y="5"/>
                      </a:lnTo>
                      <a:lnTo>
                        <a:pt x="14" y="10"/>
                      </a:lnTo>
                      <a:lnTo>
                        <a:pt x="23" y="16"/>
                      </a:lnTo>
                      <a:lnTo>
                        <a:pt x="35" y="23"/>
                      </a:lnTo>
                      <a:lnTo>
                        <a:pt x="48" y="33"/>
                      </a:lnTo>
                      <a:lnTo>
                        <a:pt x="63" y="42"/>
                      </a:lnTo>
                      <a:lnTo>
                        <a:pt x="79" y="52"/>
                      </a:lnTo>
                      <a:lnTo>
                        <a:pt x="97" y="64"/>
                      </a:lnTo>
                      <a:lnTo>
                        <a:pt x="114" y="74"/>
                      </a:lnTo>
                      <a:lnTo>
                        <a:pt x="131" y="84"/>
                      </a:lnTo>
                      <a:lnTo>
                        <a:pt x="149" y="94"/>
                      </a:lnTo>
                      <a:lnTo>
                        <a:pt x="165" y="103"/>
                      </a:lnTo>
                      <a:lnTo>
                        <a:pt x="181" y="112"/>
                      </a:lnTo>
                      <a:lnTo>
                        <a:pt x="196" y="119"/>
                      </a:lnTo>
                      <a:lnTo>
                        <a:pt x="209" y="125"/>
                      </a:lnTo>
                      <a:lnTo>
                        <a:pt x="198" y="133"/>
                      </a:lnTo>
                      <a:lnTo>
                        <a:pt x="196" y="132"/>
                      </a:lnTo>
                      <a:lnTo>
                        <a:pt x="191" y="129"/>
                      </a:lnTo>
                      <a:lnTo>
                        <a:pt x="183" y="126"/>
                      </a:lnTo>
                      <a:lnTo>
                        <a:pt x="173" y="120"/>
                      </a:lnTo>
                      <a:lnTo>
                        <a:pt x="160" y="113"/>
                      </a:lnTo>
                      <a:lnTo>
                        <a:pt x="146" y="105"/>
                      </a:lnTo>
                      <a:lnTo>
                        <a:pt x="130" y="97"/>
                      </a:lnTo>
                      <a:lnTo>
                        <a:pt x="114" y="87"/>
                      </a:lnTo>
                      <a:lnTo>
                        <a:pt x="97" y="78"/>
                      </a:lnTo>
                      <a:lnTo>
                        <a:pt x="81" y="66"/>
                      </a:lnTo>
                      <a:lnTo>
                        <a:pt x="63" y="56"/>
                      </a:lnTo>
                      <a:lnTo>
                        <a:pt x="48" y="44"/>
                      </a:lnTo>
                      <a:lnTo>
                        <a:pt x="33" y="33"/>
                      </a:lnTo>
                      <a:lnTo>
                        <a:pt x="20" y="22"/>
                      </a:lnTo>
                      <a:lnTo>
                        <a:pt x="9" y="11"/>
                      </a:lnTo>
                      <a:lnTo>
                        <a:pt x="0" y="0"/>
                      </a:lnTo>
                      <a:close/>
                    </a:path>
                  </a:pathLst>
                </a:custGeom>
                <a:solidFill>
                  <a:srgbClr val="93d3d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57" name=""/>
                <p:cNvSpPr/>
                <p:nvPr/>
              </p:nvSpPr>
              <p:spPr>
                <a:xfrm>
                  <a:off x="5754600" y="3652560"/>
                  <a:ext cx="370800" cy="182160"/>
                </a:xfrm>
                <a:custGeom>
                  <a:avLst/>
                  <a:gdLst/>
                  <a:ahLst/>
                  <a:rect l="l" t="t" r="r" b="b"/>
                  <a:pathLst>
                    <a:path w="709" h="418">
                      <a:moveTo>
                        <a:pt x="0" y="0"/>
                      </a:moveTo>
                      <a:lnTo>
                        <a:pt x="7" y="5"/>
                      </a:lnTo>
                      <a:lnTo>
                        <a:pt x="28" y="16"/>
                      </a:lnTo>
                      <a:lnTo>
                        <a:pt x="60" y="36"/>
                      </a:lnTo>
                      <a:lnTo>
                        <a:pt x="102" y="61"/>
                      </a:lnTo>
                      <a:lnTo>
                        <a:pt x="151" y="90"/>
                      </a:lnTo>
                      <a:lnTo>
                        <a:pt x="208" y="123"/>
                      </a:lnTo>
                      <a:lnTo>
                        <a:pt x="268" y="159"/>
                      </a:lnTo>
                      <a:lnTo>
                        <a:pt x="330" y="196"/>
                      </a:lnTo>
                      <a:lnTo>
                        <a:pt x="393" y="233"/>
                      </a:lnTo>
                      <a:lnTo>
                        <a:pt x="455" y="270"/>
                      </a:lnTo>
                      <a:lnTo>
                        <a:pt x="515" y="304"/>
                      </a:lnTo>
                      <a:lnTo>
                        <a:pt x="571" y="335"/>
                      </a:lnTo>
                      <a:lnTo>
                        <a:pt x="619" y="363"/>
                      </a:lnTo>
                      <a:lnTo>
                        <a:pt x="659" y="385"/>
                      </a:lnTo>
                      <a:lnTo>
                        <a:pt x="691" y="401"/>
                      </a:lnTo>
                      <a:lnTo>
                        <a:pt x="709" y="410"/>
                      </a:lnTo>
                      <a:lnTo>
                        <a:pt x="699" y="418"/>
                      </a:lnTo>
                      <a:lnTo>
                        <a:pt x="692" y="414"/>
                      </a:lnTo>
                      <a:lnTo>
                        <a:pt x="670" y="402"/>
                      </a:lnTo>
                      <a:lnTo>
                        <a:pt x="638" y="385"/>
                      </a:lnTo>
                      <a:lnTo>
                        <a:pt x="595" y="361"/>
                      </a:lnTo>
                      <a:lnTo>
                        <a:pt x="544" y="332"/>
                      </a:lnTo>
                      <a:lnTo>
                        <a:pt x="488" y="301"/>
                      </a:lnTo>
                      <a:lnTo>
                        <a:pt x="427" y="266"/>
                      </a:lnTo>
                      <a:lnTo>
                        <a:pt x="364" y="229"/>
                      </a:lnTo>
                      <a:lnTo>
                        <a:pt x="301" y="194"/>
                      </a:lnTo>
                      <a:lnTo>
                        <a:pt x="239" y="157"/>
                      </a:lnTo>
                      <a:lnTo>
                        <a:pt x="180" y="121"/>
                      </a:lnTo>
                      <a:lnTo>
                        <a:pt x="126" y="89"/>
                      </a:lnTo>
                      <a:lnTo>
                        <a:pt x="80" y="59"/>
                      </a:lnTo>
                      <a:lnTo>
                        <a:pt x="42" y="34"/>
                      </a:lnTo>
                      <a:lnTo>
                        <a:pt x="14" y="14"/>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5724000" y="3663720"/>
                  <a:ext cx="376920" cy="186480"/>
                </a:xfrm>
                <a:custGeom>
                  <a:avLst/>
                  <a:gdLst/>
                  <a:ahLst/>
                  <a:rect l="l" t="t" r="r" b="b"/>
                  <a:pathLst>
                    <a:path w="719" h="428">
                      <a:moveTo>
                        <a:pt x="0" y="0"/>
                      </a:moveTo>
                      <a:lnTo>
                        <a:pt x="7" y="4"/>
                      </a:lnTo>
                      <a:lnTo>
                        <a:pt x="27" y="17"/>
                      </a:lnTo>
                      <a:lnTo>
                        <a:pt x="61" y="36"/>
                      </a:lnTo>
                      <a:lnTo>
                        <a:pt x="102" y="62"/>
                      </a:lnTo>
                      <a:lnTo>
                        <a:pt x="153" y="92"/>
                      </a:lnTo>
                      <a:lnTo>
                        <a:pt x="209" y="126"/>
                      </a:lnTo>
                      <a:lnTo>
                        <a:pt x="271" y="162"/>
                      </a:lnTo>
                      <a:lnTo>
                        <a:pt x="335" y="200"/>
                      </a:lnTo>
                      <a:lnTo>
                        <a:pt x="400" y="238"/>
                      </a:lnTo>
                      <a:lnTo>
                        <a:pt x="463" y="276"/>
                      </a:lnTo>
                      <a:lnTo>
                        <a:pt x="523" y="312"/>
                      </a:lnTo>
                      <a:lnTo>
                        <a:pt x="578" y="344"/>
                      </a:lnTo>
                      <a:lnTo>
                        <a:pt x="628" y="372"/>
                      </a:lnTo>
                      <a:lnTo>
                        <a:pt x="669" y="395"/>
                      </a:lnTo>
                      <a:lnTo>
                        <a:pt x="700" y="411"/>
                      </a:lnTo>
                      <a:lnTo>
                        <a:pt x="719" y="420"/>
                      </a:lnTo>
                      <a:lnTo>
                        <a:pt x="708" y="428"/>
                      </a:lnTo>
                      <a:lnTo>
                        <a:pt x="700" y="423"/>
                      </a:lnTo>
                      <a:lnTo>
                        <a:pt x="680" y="412"/>
                      </a:lnTo>
                      <a:lnTo>
                        <a:pt x="646" y="393"/>
                      </a:lnTo>
                      <a:lnTo>
                        <a:pt x="604" y="368"/>
                      </a:lnTo>
                      <a:lnTo>
                        <a:pt x="552" y="339"/>
                      </a:lnTo>
                      <a:lnTo>
                        <a:pt x="494" y="307"/>
                      </a:lnTo>
                      <a:lnTo>
                        <a:pt x="433" y="271"/>
                      </a:lnTo>
                      <a:lnTo>
                        <a:pt x="369" y="235"/>
                      </a:lnTo>
                      <a:lnTo>
                        <a:pt x="304" y="197"/>
                      </a:lnTo>
                      <a:lnTo>
                        <a:pt x="242" y="159"/>
                      </a:lnTo>
                      <a:lnTo>
                        <a:pt x="182" y="123"/>
                      </a:lnTo>
                      <a:lnTo>
                        <a:pt x="127" y="89"/>
                      </a:lnTo>
                      <a:lnTo>
                        <a:pt x="79" y="60"/>
                      </a:lnTo>
                      <a:lnTo>
                        <a:pt x="41" y="33"/>
                      </a:lnTo>
                      <a:lnTo>
                        <a:pt x="15" y="13"/>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5696640" y="3677040"/>
                  <a:ext cx="380160" cy="189720"/>
                </a:xfrm>
                <a:custGeom>
                  <a:avLst/>
                  <a:gdLst/>
                  <a:ahLst/>
                  <a:rect l="l" t="t" r="r" b="b"/>
                  <a:pathLst>
                    <a:path w="725" h="435">
                      <a:moveTo>
                        <a:pt x="0" y="0"/>
                      </a:moveTo>
                      <a:lnTo>
                        <a:pt x="7" y="4"/>
                      </a:lnTo>
                      <a:lnTo>
                        <a:pt x="29" y="17"/>
                      </a:lnTo>
                      <a:lnTo>
                        <a:pt x="61" y="36"/>
                      </a:lnTo>
                      <a:lnTo>
                        <a:pt x="104" y="63"/>
                      </a:lnTo>
                      <a:lnTo>
                        <a:pt x="154" y="93"/>
                      </a:lnTo>
                      <a:lnTo>
                        <a:pt x="212" y="127"/>
                      </a:lnTo>
                      <a:lnTo>
                        <a:pt x="273" y="164"/>
                      </a:lnTo>
                      <a:lnTo>
                        <a:pt x="338" y="203"/>
                      </a:lnTo>
                      <a:lnTo>
                        <a:pt x="402" y="243"/>
                      </a:lnTo>
                      <a:lnTo>
                        <a:pt x="467" y="281"/>
                      </a:lnTo>
                      <a:lnTo>
                        <a:pt x="528" y="316"/>
                      </a:lnTo>
                      <a:lnTo>
                        <a:pt x="584" y="348"/>
                      </a:lnTo>
                      <a:lnTo>
                        <a:pt x="634" y="377"/>
                      </a:lnTo>
                      <a:lnTo>
                        <a:pt x="675" y="400"/>
                      </a:lnTo>
                      <a:lnTo>
                        <a:pt x="706" y="418"/>
                      </a:lnTo>
                      <a:lnTo>
                        <a:pt x="725" y="427"/>
                      </a:lnTo>
                      <a:lnTo>
                        <a:pt x="714" y="435"/>
                      </a:lnTo>
                      <a:lnTo>
                        <a:pt x="706" y="430"/>
                      </a:lnTo>
                      <a:lnTo>
                        <a:pt x="686" y="419"/>
                      </a:lnTo>
                      <a:lnTo>
                        <a:pt x="652" y="399"/>
                      </a:lnTo>
                      <a:lnTo>
                        <a:pt x="608" y="375"/>
                      </a:lnTo>
                      <a:lnTo>
                        <a:pt x="557" y="345"/>
                      </a:lnTo>
                      <a:lnTo>
                        <a:pt x="499" y="312"/>
                      </a:lnTo>
                      <a:lnTo>
                        <a:pt x="437" y="275"/>
                      </a:lnTo>
                      <a:lnTo>
                        <a:pt x="372" y="238"/>
                      </a:lnTo>
                      <a:lnTo>
                        <a:pt x="308" y="199"/>
                      </a:lnTo>
                      <a:lnTo>
                        <a:pt x="244" y="161"/>
                      </a:lnTo>
                      <a:lnTo>
                        <a:pt x="183" y="124"/>
                      </a:lnTo>
                      <a:lnTo>
                        <a:pt x="129" y="91"/>
                      </a:lnTo>
                      <a:lnTo>
                        <a:pt x="81" y="59"/>
                      </a:lnTo>
                      <a:lnTo>
                        <a:pt x="43" y="34"/>
                      </a:lnTo>
                      <a:lnTo>
                        <a:pt x="15" y="13"/>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5666400" y="3687120"/>
                  <a:ext cx="364680" cy="185760"/>
                </a:xfrm>
                <a:custGeom>
                  <a:avLst/>
                  <a:gdLst/>
                  <a:ahLst/>
                  <a:rect l="l" t="t" r="r" b="b"/>
                  <a:pathLst>
                    <a:path w="696" h="426">
                      <a:moveTo>
                        <a:pt x="0" y="0"/>
                      </a:moveTo>
                      <a:lnTo>
                        <a:pt x="8" y="4"/>
                      </a:lnTo>
                      <a:lnTo>
                        <a:pt x="29" y="17"/>
                      </a:lnTo>
                      <a:lnTo>
                        <a:pt x="62" y="38"/>
                      </a:lnTo>
                      <a:lnTo>
                        <a:pt x="105" y="64"/>
                      </a:lnTo>
                      <a:lnTo>
                        <a:pt x="157" y="96"/>
                      </a:lnTo>
                      <a:lnTo>
                        <a:pt x="214" y="131"/>
                      </a:lnTo>
                      <a:lnTo>
                        <a:pt x="276" y="169"/>
                      </a:lnTo>
                      <a:lnTo>
                        <a:pt x="339" y="207"/>
                      </a:lnTo>
                      <a:lnTo>
                        <a:pt x="403" y="246"/>
                      </a:lnTo>
                      <a:lnTo>
                        <a:pt x="466" y="284"/>
                      </a:lnTo>
                      <a:lnTo>
                        <a:pt x="524" y="319"/>
                      </a:lnTo>
                      <a:lnTo>
                        <a:pt x="577" y="351"/>
                      </a:lnTo>
                      <a:lnTo>
                        <a:pt x="622" y="377"/>
                      </a:lnTo>
                      <a:lnTo>
                        <a:pt x="659" y="399"/>
                      </a:lnTo>
                      <a:lnTo>
                        <a:pt x="685" y="412"/>
                      </a:lnTo>
                      <a:lnTo>
                        <a:pt x="696" y="418"/>
                      </a:lnTo>
                      <a:lnTo>
                        <a:pt x="686" y="426"/>
                      </a:lnTo>
                      <a:lnTo>
                        <a:pt x="679" y="421"/>
                      </a:lnTo>
                      <a:lnTo>
                        <a:pt x="658" y="410"/>
                      </a:lnTo>
                      <a:lnTo>
                        <a:pt x="626" y="391"/>
                      </a:lnTo>
                      <a:lnTo>
                        <a:pt x="584" y="367"/>
                      </a:lnTo>
                      <a:lnTo>
                        <a:pt x="535" y="338"/>
                      </a:lnTo>
                      <a:lnTo>
                        <a:pt x="480" y="305"/>
                      </a:lnTo>
                      <a:lnTo>
                        <a:pt x="420" y="270"/>
                      </a:lnTo>
                      <a:lnTo>
                        <a:pt x="357" y="233"/>
                      </a:lnTo>
                      <a:lnTo>
                        <a:pt x="295" y="195"/>
                      </a:lnTo>
                      <a:lnTo>
                        <a:pt x="234" y="159"/>
                      </a:lnTo>
                      <a:lnTo>
                        <a:pt x="176" y="123"/>
                      </a:lnTo>
                      <a:lnTo>
                        <a:pt x="123" y="89"/>
                      </a:lnTo>
                      <a:lnTo>
                        <a:pt x="78" y="59"/>
                      </a:lnTo>
                      <a:lnTo>
                        <a:pt x="40" y="33"/>
                      </a:lnTo>
                      <a:lnTo>
                        <a:pt x="14" y="13"/>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5603760" y="3707280"/>
                  <a:ext cx="401400" cy="206280"/>
                </a:xfrm>
                <a:custGeom>
                  <a:avLst/>
                  <a:gdLst/>
                  <a:ahLst/>
                  <a:rect l="l" t="t" r="r" b="b"/>
                  <a:pathLst>
                    <a:path w="765" h="473">
                      <a:moveTo>
                        <a:pt x="0" y="0"/>
                      </a:moveTo>
                      <a:lnTo>
                        <a:pt x="3" y="1"/>
                      </a:lnTo>
                      <a:lnTo>
                        <a:pt x="8" y="4"/>
                      </a:lnTo>
                      <a:lnTo>
                        <a:pt x="18" y="10"/>
                      </a:lnTo>
                      <a:lnTo>
                        <a:pt x="30" y="18"/>
                      </a:lnTo>
                      <a:lnTo>
                        <a:pt x="46" y="29"/>
                      </a:lnTo>
                      <a:lnTo>
                        <a:pt x="65" y="40"/>
                      </a:lnTo>
                      <a:lnTo>
                        <a:pt x="87" y="54"/>
                      </a:lnTo>
                      <a:lnTo>
                        <a:pt x="111" y="69"/>
                      </a:lnTo>
                      <a:lnTo>
                        <a:pt x="136" y="85"/>
                      </a:lnTo>
                      <a:lnTo>
                        <a:pt x="164" y="102"/>
                      </a:lnTo>
                      <a:lnTo>
                        <a:pt x="194" y="121"/>
                      </a:lnTo>
                      <a:lnTo>
                        <a:pt x="225" y="140"/>
                      </a:lnTo>
                      <a:lnTo>
                        <a:pt x="257" y="160"/>
                      </a:lnTo>
                      <a:lnTo>
                        <a:pt x="290" y="181"/>
                      </a:lnTo>
                      <a:lnTo>
                        <a:pt x="324" y="201"/>
                      </a:lnTo>
                      <a:lnTo>
                        <a:pt x="358" y="223"/>
                      </a:lnTo>
                      <a:lnTo>
                        <a:pt x="392" y="244"/>
                      </a:lnTo>
                      <a:lnTo>
                        <a:pt x="427" y="266"/>
                      </a:lnTo>
                      <a:lnTo>
                        <a:pt x="460" y="287"/>
                      </a:lnTo>
                      <a:lnTo>
                        <a:pt x="494" y="307"/>
                      </a:lnTo>
                      <a:lnTo>
                        <a:pt x="527" y="327"/>
                      </a:lnTo>
                      <a:lnTo>
                        <a:pt x="558" y="346"/>
                      </a:lnTo>
                      <a:lnTo>
                        <a:pt x="589" y="365"/>
                      </a:lnTo>
                      <a:lnTo>
                        <a:pt x="618" y="382"/>
                      </a:lnTo>
                      <a:lnTo>
                        <a:pt x="644" y="398"/>
                      </a:lnTo>
                      <a:lnTo>
                        <a:pt x="670" y="413"/>
                      </a:lnTo>
                      <a:lnTo>
                        <a:pt x="693" y="426"/>
                      </a:lnTo>
                      <a:lnTo>
                        <a:pt x="714" y="437"/>
                      </a:lnTo>
                      <a:lnTo>
                        <a:pt x="731" y="448"/>
                      </a:lnTo>
                      <a:lnTo>
                        <a:pt x="746" y="456"/>
                      </a:lnTo>
                      <a:lnTo>
                        <a:pt x="757" y="462"/>
                      </a:lnTo>
                      <a:lnTo>
                        <a:pt x="765" y="465"/>
                      </a:lnTo>
                      <a:lnTo>
                        <a:pt x="755" y="473"/>
                      </a:lnTo>
                      <a:lnTo>
                        <a:pt x="753" y="472"/>
                      </a:lnTo>
                      <a:lnTo>
                        <a:pt x="747" y="468"/>
                      </a:lnTo>
                      <a:lnTo>
                        <a:pt x="738" y="463"/>
                      </a:lnTo>
                      <a:lnTo>
                        <a:pt x="724" y="455"/>
                      </a:lnTo>
                      <a:lnTo>
                        <a:pt x="708" y="445"/>
                      </a:lnTo>
                      <a:lnTo>
                        <a:pt x="688" y="434"/>
                      </a:lnTo>
                      <a:lnTo>
                        <a:pt x="666" y="421"/>
                      </a:lnTo>
                      <a:lnTo>
                        <a:pt x="642" y="406"/>
                      </a:lnTo>
                      <a:lnTo>
                        <a:pt x="617" y="391"/>
                      </a:lnTo>
                      <a:lnTo>
                        <a:pt x="588" y="374"/>
                      </a:lnTo>
                      <a:lnTo>
                        <a:pt x="558" y="357"/>
                      </a:lnTo>
                      <a:lnTo>
                        <a:pt x="527" y="337"/>
                      </a:lnTo>
                      <a:lnTo>
                        <a:pt x="495" y="318"/>
                      </a:lnTo>
                      <a:lnTo>
                        <a:pt x="461" y="298"/>
                      </a:lnTo>
                      <a:lnTo>
                        <a:pt x="427" y="277"/>
                      </a:lnTo>
                      <a:lnTo>
                        <a:pt x="392" y="257"/>
                      </a:lnTo>
                      <a:lnTo>
                        <a:pt x="358" y="236"/>
                      </a:lnTo>
                      <a:lnTo>
                        <a:pt x="324" y="215"/>
                      </a:lnTo>
                      <a:lnTo>
                        <a:pt x="290" y="194"/>
                      </a:lnTo>
                      <a:lnTo>
                        <a:pt x="256" y="174"/>
                      </a:lnTo>
                      <a:lnTo>
                        <a:pt x="224" y="153"/>
                      </a:lnTo>
                      <a:lnTo>
                        <a:pt x="193" y="133"/>
                      </a:lnTo>
                      <a:lnTo>
                        <a:pt x="163" y="115"/>
                      </a:lnTo>
                      <a:lnTo>
                        <a:pt x="135" y="97"/>
                      </a:lnTo>
                      <a:lnTo>
                        <a:pt x="109" y="79"/>
                      </a:lnTo>
                      <a:lnTo>
                        <a:pt x="84" y="63"/>
                      </a:lnTo>
                      <a:lnTo>
                        <a:pt x="62" y="49"/>
                      </a:lnTo>
                      <a:lnTo>
                        <a:pt x="44" y="36"/>
                      </a:lnTo>
                      <a:lnTo>
                        <a:pt x="28" y="24"/>
                      </a:lnTo>
                      <a:lnTo>
                        <a:pt x="15" y="14"/>
                      </a:lnTo>
                      <a:lnTo>
                        <a:pt x="6" y="6"/>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5572080" y="3718800"/>
                  <a:ext cx="408600" cy="210600"/>
                </a:xfrm>
                <a:custGeom>
                  <a:avLst/>
                  <a:gdLst/>
                  <a:ahLst/>
                  <a:rect l="l" t="t" r="r" b="b"/>
                  <a:pathLst>
                    <a:path w="779" h="485">
                      <a:moveTo>
                        <a:pt x="0" y="0"/>
                      </a:moveTo>
                      <a:lnTo>
                        <a:pt x="3" y="1"/>
                      </a:lnTo>
                      <a:lnTo>
                        <a:pt x="8" y="5"/>
                      </a:lnTo>
                      <a:lnTo>
                        <a:pt x="18" y="12"/>
                      </a:lnTo>
                      <a:lnTo>
                        <a:pt x="31" y="20"/>
                      </a:lnTo>
                      <a:lnTo>
                        <a:pt x="48" y="30"/>
                      </a:lnTo>
                      <a:lnTo>
                        <a:pt x="66" y="41"/>
                      </a:lnTo>
                      <a:lnTo>
                        <a:pt x="88" y="55"/>
                      </a:lnTo>
                      <a:lnTo>
                        <a:pt x="112" y="71"/>
                      </a:lnTo>
                      <a:lnTo>
                        <a:pt x="139" y="88"/>
                      </a:lnTo>
                      <a:lnTo>
                        <a:pt x="167" y="106"/>
                      </a:lnTo>
                      <a:lnTo>
                        <a:pt x="197" y="124"/>
                      </a:lnTo>
                      <a:lnTo>
                        <a:pt x="230" y="144"/>
                      </a:lnTo>
                      <a:lnTo>
                        <a:pt x="262" y="165"/>
                      </a:lnTo>
                      <a:lnTo>
                        <a:pt x="295" y="187"/>
                      </a:lnTo>
                      <a:lnTo>
                        <a:pt x="330" y="207"/>
                      </a:lnTo>
                      <a:lnTo>
                        <a:pt x="365" y="229"/>
                      </a:lnTo>
                      <a:lnTo>
                        <a:pt x="400" y="251"/>
                      </a:lnTo>
                      <a:lnTo>
                        <a:pt x="435" y="273"/>
                      </a:lnTo>
                      <a:lnTo>
                        <a:pt x="469" y="295"/>
                      </a:lnTo>
                      <a:lnTo>
                        <a:pt x="504" y="316"/>
                      </a:lnTo>
                      <a:lnTo>
                        <a:pt x="537" y="336"/>
                      </a:lnTo>
                      <a:lnTo>
                        <a:pt x="570" y="356"/>
                      </a:lnTo>
                      <a:lnTo>
                        <a:pt x="600" y="374"/>
                      </a:lnTo>
                      <a:lnTo>
                        <a:pt x="630" y="392"/>
                      </a:lnTo>
                      <a:lnTo>
                        <a:pt x="657" y="409"/>
                      </a:lnTo>
                      <a:lnTo>
                        <a:pt x="683" y="424"/>
                      </a:lnTo>
                      <a:lnTo>
                        <a:pt x="706" y="438"/>
                      </a:lnTo>
                      <a:lnTo>
                        <a:pt x="726" y="449"/>
                      </a:lnTo>
                      <a:lnTo>
                        <a:pt x="745" y="459"/>
                      </a:lnTo>
                      <a:lnTo>
                        <a:pt x="760" y="468"/>
                      </a:lnTo>
                      <a:lnTo>
                        <a:pt x="771" y="473"/>
                      </a:lnTo>
                      <a:lnTo>
                        <a:pt x="779" y="477"/>
                      </a:lnTo>
                      <a:lnTo>
                        <a:pt x="769" y="485"/>
                      </a:lnTo>
                      <a:lnTo>
                        <a:pt x="767" y="484"/>
                      </a:lnTo>
                      <a:lnTo>
                        <a:pt x="761" y="480"/>
                      </a:lnTo>
                      <a:lnTo>
                        <a:pt x="751" y="474"/>
                      </a:lnTo>
                      <a:lnTo>
                        <a:pt x="738" y="466"/>
                      </a:lnTo>
                      <a:lnTo>
                        <a:pt x="721" y="456"/>
                      </a:lnTo>
                      <a:lnTo>
                        <a:pt x="701" y="444"/>
                      </a:lnTo>
                      <a:lnTo>
                        <a:pt x="679" y="432"/>
                      </a:lnTo>
                      <a:lnTo>
                        <a:pt x="655" y="417"/>
                      </a:lnTo>
                      <a:lnTo>
                        <a:pt x="627" y="401"/>
                      </a:lnTo>
                      <a:lnTo>
                        <a:pt x="598" y="383"/>
                      </a:lnTo>
                      <a:lnTo>
                        <a:pt x="568" y="365"/>
                      </a:lnTo>
                      <a:lnTo>
                        <a:pt x="536" y="345"/>
                      </a:lnTo>
                      <a:lnTo>
                        <a:pt x="503" y="326"/>
                      </a:lnTo>
                      <a:lnTo>
                        <a:pt x="469" y="305"/>
                      </a:lnTo>
                      <a:lnTo>
                        <a:pt x="435" y="284"/>
                      </a:lnTo>
                      <a:lnTo>
                        <a:pt x="399" y="263"/>
                      </a:lnTo>
                      <a:lnTo>
                        <a:pt x="365" y="241"/>
                      </a:lnTo>
                      <a:lnTo>
                        <a:pt x="329" y="220"/>
                      </a:lnTo>
                      <a:lnTo>
                        <a:pt x="294" y="198"/>
                      </a:lnTo>
                      <a:lnTo>
                        <a:pt x="261" y="177"/>
                      </a:lnTo>
                      <a:lnTo>
                        <a:pt x="227" y="157"/>
                      </a:lnTo>
                      <a:lnTo>
                        <a:pt x="196" y="136"/>
                      </a:lnTo>
                      <a:lnTo>
                        <a:pt x="165" y="117"/>
                      </a:lnTo>
                      <a:lnTo>
                        <a:pt x="137" y="99"/>
                      </a:lnTo>
                      <a:lnTo>
                        <a:pt x="110" y="81"/>
                      </a:lnTo>
                      <a:lnTo>
                        <a:pt x="86" y="64"/>
                      </a:lnTo>
                      <a:lnTo>
                        <a:pt x="64" y="50"/>
                      </a:lnTo>
                      <a:lnTo>
                        <a:pt x="44" y="37"/>
                      </a:lnTo>
                      <a:lnTo>
                        <a:pt x="28" y="24"/>
                      </a:lnTo>
                      <a:lnTo>
                        <a:pt x="15" y="14"/>
                      </a:lnTo>
                      <a:lnTo>
                        <a:pt x="6" y="6"/>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5540760" y="3728160"/>
                  <a:ext cx="415800" cy="216720"/>
                </a:xfrm>
                <a:custGeom>
                  <a:avLst/>
                  <a:gdLst/>
                  <a:ahLst/>
                  <a:rect l="l" t="t" r="r" b="b"/>
                  <a:pathLst>
                    <a:path w="793" h="499">
                      <a:moveTo>
                        <a:pt x="0" y="0"/>
                      </a:moveTo>
                      <a:lnTo>
                        <a:pt x="3" y="1"/>
                      </a:lnTo>
                      <a:lnTo>
                        <a:pt x="8" y="6"/>
                      </a:lnTo>
                      <a:lnTo>
                        <a:pt x="19" y="12"/>
                      </a:lnTo>
                      <a:lnTo>
                        <a:pt x="32" y="20"/>
                      </a:lnTo>
                      <a:lnTo>
                        <a:pt x="49" y="31"/>
                      </a:lnTo>
                      <a:lnTo>
                        <a:pt x="68" y="43"/>
                      </a:lnTo>
                      <a:lnTo>
                        <a:pt x="90" y="58"/>
                      </a:lnTo>
                      <a:lnTo>
                        <a:pt x="115" y="73"/>
                      </a:lnTo>
                      <a:lnTo>
                        <a:pt x="142" y="90"/>
                      </a:lnTo>
                      <a:lnTo>
                        <a:pt x="171" y="108"/>
                      </a:lnTo>
                      <a:lnTo>
                        <a:pt x="202" y="128"/>
                      </a:lnTo>
                      <a:lnTo>
                        <a:pt x="234" y="149"/>
                      </a:lnTo>
                      <a:lnTo>
                        <a:pt x="268" y="169"/>
                      </a:lnTo>
                      <a:lnTo>
                        <a:pt x="301" y="191"/>
                      </a:lnTo>
                      <a:lnTo>
                        <a:pt x="337" y="213"/>
                      </a:lnTo>
                      <a:lnTo>
                        <a:pt x="373" y="235"/>
                      </a:lnTo>
                      <a:lnTo>
                        <a:pt x="408" y="258"/>
                      </a:lnTo>
                      <a:lnTo>
                        <a:pt x="443" y="280"/>
                      </a:lnTo>
                      <a:lnTo>
                        <a:pt x="479" y="302"/>
                      </a:lnTo>
                      <a:lnTo>
                        <a:pt x="513" y="324"/>
                      </a:lnTo>
                      <a:lnTo>
                        <a:pt x="548" y="344"/>
                      </a:lnTo>
                      <a:lnTo>
                        <a:pt x="580" y="365"/>
                      </a:lnTo>
                      <a:lnTo>
                        <a:pt x="612" y="385"/>
                      </a:lnTo>
                      <a:lnTo>
                        <a:pt x="641" y="403"/>
                      </a:lnTo>
                      <a:lnTo>
                        <a:pt x="670" y="420"/>
                      </a:lnTo>
                      <a:lnTo>
                        <a:pt x="695" y="435"/>
                      </a:lnTo>
                      <a:lnTo>
                        <a:pt x="720" y="449"/>
                      </a:lnTo>
                      <a:lnTo>
                        <a:pt x="740" y="462"/>
                      </a:lnTo>
                      <a:lnTo>
                        <a:pt x="759" y="472"/>
                      </a:lnTo>
                      <a:lnTo>
                        <a:pt x="774" y="480"/>
                      </a:lnTo>
                      <a:lnTo>
                        <a:pt x="785" y="487"/>
                      </a:lnTo>
                      <a:lnTo>
                        <a:pt x="793" y="491"/>
                      </a:lnTo>
                      <a:lnTo>
                        <a:pt x="783" y="499"/>
                      </a:lnTo>
                      <a:lnTo>
                        <a:pt x="781" y="497"/>
                      </a:lnTo>
                      <a:lnTo>
                        <a:pt x="775" y="494"/>
                      </a:lnTo>
                      <a:lnTo>
                        <a:pt x="764" y="487"/>
                      </a:lnTo>
                      <a:lnTo>
                        <a:pt x="751" y="479"/>
                      </a:lnTo>
                      <a:lnTo>
                        <a:pt x="735" y="469"/>
                      </a:lnTo>
                      <a:lnTo>
                        <a:pt x="714" y="457"/>
                      </a:lnTo>
                      <a:lnTo>
                        <a:pt x="692" y="443"/>
                      </a:lnTo>
                      <a:lnTo>
                        <a:pt x="667" y="428"/>
                      </a:lnTo>
                      <a:lnTo>
                        <a:pt x="639" y="412"/>
                      </a:lnTo>
                      <a:lnTo>
                        <a:pt x="609" y="394"/>
                      </a:lnTo>
                      <a:lnTo>
                        <a:pt x="578" y="375"/>
                      </a:lnTo>
                      <a:lnTo>
                        <a:pt x="546" y="355"/>
                      </a:lnTo>
                      <a:lnTo>
                        <a:pt x="512" y="334"/>
                      </a:lnTo>
                      <a:lnTo>
                        <a:pt x="478" y="313"/>
                      </a:lnTo>
                      <a:lnTo>
                        <a:pt x="442" y="291"/>
                      </a:lnTo>
                      <a:lnTo>
                        <a:pt x="406" y="269"/>
                      </a:lnTo>
                      <a:lnTo>
                        <a:pt x="370" y="248"/>
                      </a:lnTo>
                      <a:lnTo>
                        <a:pt x="335" y="226"/>
                      </a:lnTo>
                      <a:lnTo>
                        <a:pt x="300" y="204"/>
                      </a:lnTo>
                      <a:lnTo>
                        <a:pt x="265" y="182"/>
                      </a:lnTo>
                      <a:lnTo>
                        <a:pt x="232" y="160"/>
                      </a:lnTo>
                      <a:lnTo>
                        <a:pt x="200" y="139"/>
                      </a:lnTo>
                      <a:lnTo>
                        <a:pt x="169" y="120"/>
                      </a:lnTo>
                      <a:lnTo>
                        <a:pt x="139" y="100"/>
                      </a:lnTo>
                      <a:lnTo>
                        <a:pt x="112" y="83"/>
                      </a:lnTo>
                      <a:lnTo>
                        <a:pt x="87" y="66"/>
                      </a:lnTo>
                      <a:lnTo>
                        <a:pt x="65" y="51"/>
                      </a:lnTo>
                      <a:lnTo>
                        <a:pt x="45" y="37"/>
                      </a:lnTo>
                      <a:lnTo>
                        <a:pt x="29" y="25"/>
                      </a:lnTo>
                      <a:lnTo>
                        <a:pt x="15" y="15"/>
                      </a:lnTo>
                      <a:lnTo>
                        <a:pt x="6" y="6"/>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5509440" y="3738960"/>
                  <a:ext cx="423000" cy="222120"/>
                </a:xfrm>
                <a:custGeom>
                  <a:avLst/>
                  <a:gdLst/>
                  <a:ahLst/>
                  <a:rect l="l" t="t" r="r" b="b"/>
                  <a:pathLst>
                    <a:path w="808" h="511">
                      <a:moveTo>
                        <a:pt x="0" y="0"/>
                      </a:moveTo>
                      <a:lnTo>
                        <a:pt x="3" y="1"/>
                      </a:lnTo>
                      <a:lnTo>
                        <a:pt x="9" y="6"/>
                      </a:lnTo>
                      <a:lnTo>
                        <a:pt x="19" y="12"/>
                      </a:lnTo>
                      <a:lnTo>
                        <a:pt x="33" y="21"/>
                      </a:lnTo>
                      <a:lnTo>
                        <a:pt x="49" y="31"/>
                      </a:lnTo>
                      <a:lnTo>
                        <a:pt x="70" y="44"/>
                      </a:lnTo>
                      <a:lnTo>
                        <a:pt x="92" y="59"/>
                      </a:lnTo>
                      <a:lnTo>
                        <a:pt x="117" y="75"/>
                      </a:lnTo>
                      <a:lnTo>
                        <a:pt x="145" y="93"/>
                      </a:lnTo>
                      <a:lnTo>
                        <a:pt x="175" y="112"/>
                      </a:lnTo>
                      <a:lnTo>
                        <a:pt x="206" y="131"/>
                      </a:lnTo>
                      <a:lnTo>
                        <a:pt x="239" y="152"/>
                      </a:lnTo>
                      <a:lnTo>
                        <a:pt x="272" y="174"/>
                      </a:lnTo>
                      <a:lnTo>
                        <a:pt x="307" y="197"/>
                      </a:lnTo>
                      <a:lnTo>
                        <a:pt x="343" y="219"/>
                      </a:lnTo>
                      <a:lnTo>
                        <a:pt x="380" y="242"/>
                      </a:lnTo>
                      <a:lnTo>
                        <a:pt x="415" y="265"/>
                      </a:lnTo>
                      <a:lnTo>
                        <a:pt x="452" y="288"/>
                      </a:lnTo>
                      <a:lnTo>
                        <a:pt x="488" y="311"/>
                      </a:lnTo>
                      <a:lnTo>
                        <a:pt x="524" y="333"/>
                      </a:lnTo>
                      <a:lnTo>
                        <a:pt x="558" y="355"/>
                      </a:lnTo>
                      <a:lnTo>
                        <a:pt x="592" y="375"/>
                      </a:lnTo>
                      <a:lnTo>
                        <a:pt x="624" y="395"/>
                      </a:lnTo>
                      <a:lnTo>
                        <a:pt x="654" y="413"/>
                      </a:lnTo>
                      <a:lnTo>
                        <a:pt x="683" y="432"/>
                      </a:lnTo>
                      <a:lnTo>
                        <a:pt x="709" y="448"/>
                      </a:lnTo>
                      <a:lnTo>
                        <a:pt x="733" y="462"/>
                      </a:lnTo>
                      <a:lnTo>
                        <a:pt x="754" y="474"/>
                      </a:lnTo>
                      <a:lnTo>
                        <a:pt x="773" y="485"/>
                      </a:lnTo>
                      <a:lnTo>
                        <a:pt x="789" y="493"/>
                      </a:lnTo>
                      <a:lnTo>
                        <a:pt x="800" y="500"/>
                      </a:lnTo>
                      <a:lnTo>
                        <a:pt x="808" y="503"/>
                      </a:lnTo>
                      <a:lnTo>
                        <a:pt x="797" y="511"/>
                      </a:lnTo>
                      <a:lnTo>
                        <a:pt x="795" y="510"/>
                      </a:lnTo>
                      <a:lnTo>
                        <a:pt x="789" y="507"/>
                      </a:lnTo>
                      <a:lnTo>
                        <a:pt x="778" y="500"/>
                      </a:lnTo>
                      <a:lnTo>
                        <a:pt x="765" y="492"/>
                      </a:lnTo>
                      <a:lnTo>
                        <a:pt x="747" y="481"/>
                      </a:lnTo>
                      <a:lnTo>
                        <a:pt x="727" y="469"/>
                      </a:lnTo>
                      <a:lnTo>
                        <a:pt x="703" y="455"/>
                      </a:lnTo>
                      <a:lnTo>
                        <a:pt x="678" y="439"/>
                      </a:lnTo>
                      <a:lnTo>
                        <a:pt x="650" y="423"/>
                      </a:lnTo>
                      <a:lnTo>
                        <a:pt x="620" y="404"/>
                      </a:lnTo>
                      <a:lnTo>
                        <a:pt x="588" y="385"/>
                      </a:lnTo>
                      <a:lnTo>
                        <a:pt x="555" y="364"/>
                      </a:lnTo>
                      <a:lnTo>
                        <a:pt x="521" y="343"/>
                      </a:lnTo>
                      <a:lnTo>
                        <a:pt x="486" y="321"/>
                      </a:lnTo>
                      <a:lnTo>
                        <a:pt x="450" y="299"/>
                      </a:lnTo>
                      <a:lnTo>
                        <a:pt x="413" y="276"/>
                      </a:lnTo>
                      <a:lnTo>
                        <a:pt x="377" y="253"/>
                      </a:lnTo>
                      <a:lnTo>
                        <a:pt x="340" y="232"/>
                      </a:lnTo>
                      <a:lnTo>
                        <a:pt x="305" y="208"/>
                      </a:lnTo>
                      <a:lnTo>
                        <a:pt x="270" y="187"/>
                      </a:lnTo>
                      <a:lnTo>
                        <a:pt x="236" y="165"/>
                      </a:lnTo>
                      <a:lnTo>
                        <a:pt x="202" y="143"/>
                      </a:lnTo>
                      <a:lnTo>
                        <a:pt x="171" y="123"/>
                      </a:lnTo>
                      <a:lnTo>
                        <a:pt x="141" y="104"/>
                      </a:lnTo>
                      <a:lnTo>
                        <a:pt x="113" y="85"/>
                      </a:lnTo>
                      <a:lnTo>
                        <a:pt x="88" y="68"/>
                      </a:lnTo>
                      <a:lnTo>
                        <a:pt x="66" y="52"/>
                      </a:lnTo>
                      <a:lnTo>
                        <a:pt x="45" y="38"/>
                      </a:lnTo>
                      <a:lnTo>
                        <a:pt x="29" y="25"/>
                      </a:lnTo>
                      <a:lnTo>
                        <a:pt x="15" y="15"/>
                      </a:lnTo>
                      <a:lnTo>
                        <a:pt x="6" y="6"/>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5477760" y="3749400"/>
                  <a:ext cx="379080" cy="201960"/>
                </a:xfrm>
                <a:custGeom>
                  <a:avLst/>
                  <a:gdLst/>
                  <a:ahLst/>
                  <a:rect l="l" t="t" r="r" b="b"/>
                  <a:pathLst>
                    <a:path w="723" h="465">
                      <a:moveTo>
                        <a:pt x="0" y="0"/>
                      </a:moveTo>
                      <a:lnTo>
                        <a:pt x="2" y="1"/>
                      </a:lnTo>
                      <a:lnTo>
                        <a:pt x="8" y="6"/>
                      </a:lnTo>
                      <a:lnTo>
                        <a:pt x="18" y="12"/>
                      </a:lnTo>
                      <a:lnTo>
                        <a:pt x="32" y="21"/>
                      </a:lnTo>
                      <a:lnTo>
                        <a:pt x="49" y="32"/>
                      </a:lnTo>
                      <a:lnTo>
                        <a:pt x="69" y="45"/>
                      </a:lnTo>
                      <a:lnTo>
                        <a:pt x="92" y="60"/>
                      </a:lnTo>
                      <a:lnTo>
                        <a:pt x="117" y="76"/>
                      </a:lnTo>
                      <a:lnTo>
                        <a:pt x="145" y="94"/>
                      </a:lnTo>
                      <a:lnTo>
                        <a:pt x="174" y="113"/>
                      </a:lnTo>
                      <a:lnTo>
                        <a:pt x="205" y="133"/>
                      </a:lnTo>
                      <a:lnTo>
                        <a:pt x="237" y="153"/>
                      </a:lnTo>
                      <a:lnTo>
                        <a:pt x="270" y="175"/>
                      </a:lnTo>
                      <a:lnTo>
                        <a:pt x="304" y="197"/>
                      </a:lnTo>
                      <a:lnTo>
                        <a:pt x="338" y="219"/>
                      </a:lnTo>
                      <a:lnTo>
                        <a:pt x="373" y="241"/>
                      </a:lnTo>
                      <a:lnTo>
                        <a:pt x="408" y="263"/>
                      </a:lnTo>
                      <a:lnTo>
                        <a:pt x="442" y="285"/>
                      </a:lnTo>
                      <a:lnTo>
                        <a:pt x="476" y="307"/>
                      </a:lnTo>
                      <a:lnTo>
                        <a:pt x="508" y="327"/>
                      </a:lnTo>
                      <a:lnTo>
                        <a:pt x="539" y="347"/>
                      </a:lnTo>
                      <a:lnTo>
                        <a:pt x="569" y="365"/>
                      </a:lnTo>
                      <a:lnTo>
                        <a:pt x="597" y="384"/>
                      </a:lnTo>
                      <a:lnTo>
                        <a:pt x="623" y="400"/>
                      </a:lnTo>
                      <a:lnTo>
                        <a:pt x="646" y="415"/>
                      </a:lnTo>
                      <a:lnTo>
                        <a:pt x="668" y="427"/>
                      </a:lnTo>
                      <a:lnTo>
                        <a:pt x="685" y="438"/>
                      </a:lnTo>
                      <a:lnTo>
                        <a:pt x="700" y="447"/>
                      </a:lnTo>
                      <a:lnTo>
                        <a:pt x="712" y="454"/>
                      </a:lnTo>
                      <a:lnTo>
                        <a:pt x="720" y="457"/>
                      </a:lnTo>
                      <a:lnTo>
                        <a:pt x="723" y="459"/>
                      </a:lnTo>
                      <a:lnTo>
                        <a:pt x="722" y="457"/>
                      </a:lnTo>
                      <a:lnTo>
                        <a:pt x="712" y="465"/>
                      </a:lnTo>
                      <a:lnTo>
                        <a:pt x="704" y="461"/>
                      </a:lnTo>
                      <a:lnTo>
                        <a:pt x="683" y="448"/>
                      </a:lnTo>
                      <a:lnTo>
                        <a:pt x="650" y="427"/>
                      </a:lnTo>
                      <a:lnTo>
                        <a:pt x="606" y="400"/>
                      </a:lnTo>
                      <a:lnTo>
                        <a:pt x="555" y="369"/>
                      </a:lnTo>
                      <a:lnTo>
                        <a:pt x="497" y="333"/>
                      </a:lnTo>
                      <a:lnTo>
                        <a:pt x="435" y="294"/>
                      </a:lnTo>
                      <a:lnTo>
                        <a:pt x="371" y="254"/>
                      </a:lnTo>
                      <a:lnTo>
                        <a:pt x="306" y="212"/>
                      </a:lnTo>
                      <a:lnTo>
                        <a:pt x="243" y="171"/>
                      </a:lnTo>
                      <a:lnTo>
                        <a:pt x="183" y="133"/>
                      </a:lnTo>
                      <a:lnTo>
                        <a:pt x="127" y="96"/>
                      </a:lnTo>
                      <a:lnTo>
                        <a:pt x="80" y="64"/>
                      </a:lnTo>
                      <a:lnTo>
                        <a:pt x="42" y="36"/>
                      </a:lnTo>
                      <a:lnTo>
                        <a:pt x="15" y="14"/>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5414760" y="3769200"/>
                  <a:ext cx="445320" cy="239400"/>
                </a:xfrm>
                <a:custGeom>
                  <a:avLst/>
                  <a:gdLst/>
                  <a:ahLst/>
                  <a:rect l="l" t="t" r="r" b="b"/>
                  <a:pathLst>
                    <a:path w="849" h="550">
                      <a:moveTo>
                        <a:pt x="0" y="0"/>
                      </a:moveTo>
                      <a:lnTo>
                        <a:pt x="2" y="2"/>
                      </a:lnTo>
                      <a:lnTo>
                        <a:pt x="9" y="6"/>
                      </a:lnTo>
                      <a:lnTo>
                        <a:pt x="19" y="13"/>
                      </a:lnTo>
                      <a:lnTo>
                        <a:pt x="33" y="22"/>
                      </a:lnTo>
                      <a:lnTo>
                        <a:pt x="52" y="34"/>
                      </a:lnTo>
                      <a:lnTo>
                        <a:pt x="72" y="48"/>
                      </a:lnTo>
                      <a:lnTo>
                        <a:pt x="97" y="64"/>
                      </a:lnTo>
                      <a:lnTo>
                        <a:pt x="123" y="81"/>
                      </a:lnTo>
                      <a:lnTo>
                        <a:pt x="152" y="101"/>
                      </a:lnTo>
                      <a:lnTo>
                        <a:pt x="183" y="121"/>
                      </a:lnTo>
                      <a:lnTo>
                        <a:pt x="216" y="142"/>
                      </a:lnTo>
                      <a:lnTo>
                        <a:pt x="251" y="165"/>
                      </a:lnTo>
                      <a:lnTo>
                        <a:pt x="287" y="188"/>
                      </a:lnTo>
                      <a:lnTo>
                        <a:pt x="324" y="212"/>
                      </a:lnTo>
                      <a:lnTo>
                        <a:pt x="362" y="237"/>
                      </a:lnTo>
                      <a:lnTo>
                        <a:pt x="400" y="262"/>
                      </a:lnTo>
                      <a:lnTo>
                        <a:pt x="438" y="286"/>
                      </a:lnTo>
                      <a:lnTo>
                        <a:pt x="476" y="311"/>
                      </a:lnTo>
                      <a:lnTo>
                        <a:pt x="514" y="336"/>
                      </a:lnTo>
                      <a:lnTo>
                        <a:pt x="551" y="360"/>
                      </a:lnTo>
                      <a:lnTo>
                        <a:pt x="587" y="383"/>
                      </a:lnTo>
                      <a:lnTo>
                        <a:pt x="622" y="405"/>
                      </a:lnTo>
                      <a:lnTo>
                        <a:pt x="657" y="427"/>
                      </a:lnTo>
                      <a:lnTo>
                        <a:pt x="688" y="446"/>
                      </a:lnTo>
                      <a:lnTo>
                        <a:pt x="718" y="466"/>
                      </a:lnTo>
                      <a:lnTo>
                        <a:pt x="745" y="482"/>
                      </a:lnTo>
                      <a:lnTo>
                        <a:pt x="771" y="498"/>
                      </a:lnTo>
                      <a:lnTo>
                        <a:pt x="794" y="511"/>
                      </a:lnTo>
                      <a:lnTo>
                        <a:pt x="812" y="522"/>
                      </a:lnTo>
                      <a:lnTo>
                        <a:pt x="828" y="531"/>
                      </a:lnTo>
                      <a:lnTo>
                        <a:pt x="841" y="538"/>
                      </a:lnTo>
                      <a:lnTo>
                        <a:pt x="849" y="542"/>
                      </a:lnTo>
                      <a:lnTo>
                        <a:pt x="838" y="550"/>
                      </a:lnTo>
                      <a:lnTo>
                        <a:pt x="835" y="549"/>
                      </a:lnTo>
                      <a:lnTo>
                        <a:pt x="828" y="544"/>
                      </a:lnTo>
                      <a:lnTo>
                        <a:pt x="818" y="537"/>
                      </a:lnTo>
                      <a:lnTo>
                        <a:pt x="803" y="528"/>
                      </a:lnTo>
                      <a:lnTo>
                        <a:pt x="785" y="517"/>
                      </a:lnTo>
                      <a:lnTo>
                        <a:pt x="764" y="504"/>
                      </a:lnTo>
                      <a:lnTo>
                        <a:pt x="740" y="489"/>
                      </a:lnTo>
                      <a:lnTo>
                        <a:pt x="712" y="471"/>
                      </a:lnTo>
                      <a:lnTo>
                        <a:pt x="683" y="453"/>
                      </a:lnTo>
                      <a:lnTo>
                        <a:pt x="651" y="433"/>
                      </a:lnTo>
                      <a:lnTo>
                        <a:pt x="617" y="413"/>
                      </a:lnTo>
                      <a:lnTo>
                        <a:pt x="583" y="390"/>
                      </a:lnTo>
                      <a:lnTo>
                        <a:pt x="547" y="368"/>
                      </a:lnTo>
                      <a:lnTo>
                        <a:pt x="510" y="344"/>
                      </a:lnTo>
                      <a:lnTo>
                        <a:pt x="472" y="319"/>
                      </a:lnTo>
                      <a:lnTo>
                        <a:pt x="434" y="295"/>
                      </a:lnTo>
                      <a:lnTo>
                        <a:pt x="395" y="271"/>
                      </a:lnTo>
                      <a:lnTo>
                        <a:pt x="357" y="247"/>
                      </a:lnTo>
                      <a:lnTo>
                        <a:pt x="320" y="222"/>
                      </a:lnTo>
                      <a:lnTo>
                        <a:pt x="282" y="199"/>
                      </a:lnTo>
                      <a:lnTo>
                        <a:pt x="246" y="174"/>
                      </a:lnTo>
                      <a:lnTo>
                        <a:pt x="212" y="151"/>
                      </a:lnTo>
                      <a:lnTo>
                        <a:pt x="178" y="129"/>
                      </a:lnTo>
                      <a:lnTo>
                        <a:pt x="147" y="109"/>
                      </a:lnTo>
                      <a:lnTo>
                        <a:pt x="118" y="89"/>
                      </a:lnTo>
                      <a:lnTo>
                        <a:pt x="92" y="71"/>
                      </a:lnTo>
                      <a:lnTo>
                        <a:pt x="68" y="55"/>
                      </a:lnTo>
                      <a:lnTo>
                        <a:pt x="47" y="40"/>
                      </a:lnTo>
                      <a:lnTo>
                        <a:pt x="30" y="27"/>
                      </a:lnTo>
                      <a:lnTo>
                        <a:pt x="16" y="15"/>
                      </a:lnTo>
                      <a:lnTo>
                        <a:pt x="5" y="7"/>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5383440" y="3779640"/>
                  <a:ext cx="452520" cy="244800"/>
                </a:xfrm>
                <a:custGeom>
                  <a:avLst/>
                  <a:gdLst/>
                  <a:ahLst/>
                  <a:rect l="l" t="t" r="r" b="b"/>
                  <a:pathLst>
                    <a:path w="863" h="564">
                      <a:moveTo>
                        <a:pt x="0" y="0"/>
                      </a:moveTo>
                      <a:lnTo>
                        <a:pt x="2" y="2"/>
                      </a:lnTo>
                      <a:lnTo>
                        <a:pt x="9" y="6"/>
                      </a:lnTo>
                      <a:lnTo>
                        <a:pt x="19" y="13"/>
                      </a:lnTo>
                      <a:lnTo>
                        <a:pt x="34" y="24"/>
                      </a:lnTo>
                      <a:lnTo>
                        <a:pt x="53" y="35"/>
                      </a:lnTo>
                      <a:lnTo>
                        <a:pt x="74" y="50"/>
                      </a:lnTo>
                      <a:lnTo>
                        <a:pt x="98" y="66"/>
                      </a:lnTo>
                      <a:lnTo>
                        <a:pt x="125" y="83"/>
                      </a:lnTo>
                      <a:lnTo>
                        <a:pt x="155" y="103"/>
                      </a:lnTo>
                      <a:lnTo>
                        <a:pt x="186" y="124"/>
                      </a:lnTo>
                      <a:lnTo>
                        <a:pt x="220" y="146"/>
                      </a:lnTo>
                      <a:lnTo>
                        <a:pt x="256" y="169"/>
                      </a:lnTo>
                      <a:lnTo>
                        <a:pt x="291" y="193"/>
                      </a:lnTo>
                      <a:lnTo>
                        <a:pt x="329" y="218"/>
                      </a:lnTo>
                      <a:lnTo>
                        <a:pt x="367" y="242"/>
                      </a:lnTo>
                      <a:lnTo>
                        <a:pt x="407" y="268"/>
                      </a:lnTo>
                      <a:lnTo>
                        <a:pt x="446" y="293"/>
                      </a:lnTo>
                      <a:lnTo>
                        <a:pt x="484" y="318"/>
                      </a:lnTo>
                      <a:lnTo>
                        <a:pt x="523" y="344"/>
                      </a:lnTo>
                      <a:lnTo>
                        <a:pt x="561" y="368"/>
                      </a:lnTo>
                      <a:lnTo>
                        <a:pt x="598" y="392"/>
                      </a:lnTo>
                      <a:lnTo>
                        <a:pt x="634" y="415"/>
                      </a:lnTo>
                      <a:lnTo>
                        <a:pt x="667" y="437"/>
                      </a:lnTo>
                      <a:lnTo>
                        <a:pt x="700" y="458"/>
                      </a:lnTo>
                      <a:lnTo>
                        <a:pt x="730" y="476"/>
                      </a:lnTo>
                      <a:lnTo>
                        <a:pt x="758" y="493"/>
                      </a:lnTo>
                      <a:lnTo>
                        <a:pt x="785" y="509"/>
                      </a:lnTo>
                      <a:lnTo>
                        <a:pt x="806" y="523"/>
                      </a:lnTo>
                      <a:lnTo>
                        <a:pt x="826" y="535"/>
                      </a:lnTo>
                      <a:lnTo>
                        <a:pt x="842" y="544"/>
                      </a:lnTo>
                      <a:lnTo>
                        <a:pt x="855" y="551"/>
                      </a:lnTo>
                      <a:lnTo>
                        <a:pt x="863" y="554"/>
                      </a:lnTo>
                      <a:lnTo>
                        <a:pt x="851" y="564"/>
                      </a:lnTo>
                      <a:lnTo>
                        <a:pt x="849" y="562"/>
                      </a:lnTo>
                      <a:lnTo>
                        <a:pt x="842" y="558"/>
                      </a:lnTo>
                      <a:lnTo>
                        <a:pt x="832" y="551"/>
                      </a:lnTo>
                      <a:lnTo>
                        <a:pt x="817" y="542"/>
                      </a:lnTo>
                      <a:lnTo>
                        <a:pt x="798" y="530"/>
                      </a:lnTo>
                      <a:lnTo>
                        <a:pt x="777" y="516"/>
                      </a:lnTo>
                      <a:lnTo>
                        <a:pt x="751" y="500"/>
                      </a:lnTo>
                      <a:lnTo>
                        <a:pt x="724" y="483"/>
                      </a:lnTo>
                      <a:lnTo>
                        <a:pt x="694" y="465"/>
                      </a:lnTo>
                      <a:lnTo>
                        <a:pt x="662" y="444"/>
                      </a:lnTo>
                      <a:lnTo>
                        <a:pt x="628" y="423"/>
                      </a:lnTo>
                      <a:lnTo>
                        <a:pt x="592" y="400"/>
                      </a:lnTo>
                      <a:lnTo>
                        <a:pt x="555" y="377"/>
                      </a:lnTo>
                      <a:lnTo>
                        <a:pt x="518" y="353"/>
                      </a:lnTo>
                      <a:lnTo>
                        <a:pt x="479" y="328"/>
                      </a:lnTo>
                      <a:lnTo>
                        <a:pt x="441" y="302"/>
                      </a:lnTo>
                      <a:lnTo>
                        <a:pt x="402" y="278"/>
                      </a:lnTo>
                      <a:lnTo>
                        <a:pt x="363" y="253"/>
                      </a:lnTo>
                      <a:lnTo>
                        <a:pt x="325" y="227"/>
                      </a:lnTo>
                      <a:lnTo>
                        <a:pt x="287" y="203"/>
                      </a:lnTo>
                      <a:lnTo>
                        <a:pt x="250" y="179"/>
                      </a:lnTo>
                      <a:lnTo>
                        <a:pt x="215" y="156"/>
                      </a:lnTo>
                      <a:lnTo>
                        <a:pt x="182" y="133"/>
                      </a:lnTo>
                      <a:lnTo>
                        <a:pt x="150" y="112"/>
                      </a:lnTo>
                      <a:lnTo>
                        <a:pt x="121" y="91"/>
                      </a:lnTo>
                      <a:lnTo>
                        <a:pt x="93" y="73"/>
                      </a:lnTo>
                      <a:lnTo>
                        <a:pt x="69" y="56"/>
                      </a:lnTo>
                      <a:lnTo>
                        <a:pt x="48" y="41"/>
                      </a:lnTo>
                      <a:lnTo>
                        <a:pt x="30" y="27"/>
                      </a:lnTo>
                      <a:lnTo>
                        <a:pt x="16" y="15"/>
                      </a:lnTo>
                      <a:lnTo>
                        <a:pt x="6" y="7"/>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5352120" y="3790080"/>
                  <a:ext cx="427680" cy="234360"/>
                </a:xfrm>
                <a:custGeom>
                  <a:avLst/>
                  <a:gdLst/>
                  <a:ahLst/>
                  <a:rect l="l" t="t" r="r" b="b"/>
                  <a:pathLst>
                    <a:path w="816" h="539">
                      <a:moveTo>
                        <a:pt x="0" y="0"/>
                      </a:moveTo>
                      <a:lnTo>
                        <a:pt x="2" y="1"/>
                      </a:lnTo>
                      <a:lnTo>
                        <a:pt x="9" y="5"/>
                      </a:lnTo>
                      <a:lnTo>
                        <a:pt x="19" y="13"/>
                      </a:lnTo>
                      <a:lnTo>
                        <a:pt x="34" y="23"/>
                      </a:lnTo>
                      <a:lnTo>
                        <a:pt x="53" y="35"/>
                      </a:lnTo>
                      <a:lnTo>
                        <a:pt x="75" y="49"/>
                      </a:lnTo>
                      <a:lnTo>
                        <a:pt x="99" y="66"/>
                      </a:lnTo>
                      <a:lnTo>
                        <a:pt x="127" y="84"/>
                      </a:lnTo>
                      <a:lnTo>
                        <a:pt x="157" y="103"/>
                      </a:lnTo>
                      <a:lnTo>
                        <a:pt x="188" y="125"/>
                      </a:lnTo>
                      <a:lnTo>
                        <a:pt x="221" y="147"/>
                      </a:lnTo>
                      <a:lnTo>
                        <a:pt x="257" y="170"/>
                      </a:lnTo>
                      <a:lnTo>
                        <a:pt x="293" y="194"/>
                      </a:lnTo>
                      <a:lnTo>
                        <a:pt x="329" y="218"/>
                      </a:lnTo>
                      <a:lnTo>
                        <a:pt x="367" y="244"/>
                      </a:lnTo>
                      <a:lnTo>
                        <a:pt x="406" y="269"/>
                      </a:lnTo>
                      <a:lnTo>
                        <a:pt x="444" y="294"/>
                      </a:lnTo>
                      <a:lnTo>
                        <a:pt x="482" y="319"/>
                      </a:lnTo>
                      <a:lnTo>
                        <a:pt x="518" y="343"/>
                      </a:lnTo>
                      <a:lnTo>
                        <a:pt x="555" y="367"/>
                      </a:lnTo>
                      <a:lnTo>
                        <a:pt x="590" y="390"/>
                      </a:lnTo>
                      <a:lnTo>
                        <a:pt x="624" y="412"/>
                      </a:lnTo>
                      <a:lnTo>
                        <a:pt x="656" y="433"/>
                      </a:lnTo>
                      <a:lnTo>
                        <a:pt x="686" y="452"/>
                      </a:lnTo>
                      <a:lnTo>
                        <a:pt x="713" y="469"/>
                      </a:lnTo>
                      <a:lnTo>
                        <a:pt x="739" y="486"/>
                      </a:lnTo>
                      <a:lnTo>
                        <a:pt x="760" y="499"/>
                      </a:lnTo>
                      <a:lnTo>
                        <a:pt x="779" y="511"/>
                      </a:lnTo>
                      <a:lnTo>
                        <a:pt x="794" y="520"/>
                      </a:lnTo>
                      <a:lnTo>
                        <a:pt x="805" y="526"/>
                      </a:lnTo>
                      <a:lnTo>
                        <a:pt x="813" y="529"/>
                      </a:lnTo>
                      <a:lnTo>
                        <a:pt x="816" y="530"/>
                      </a:lnTo>
                      <a:lnTo>
                        <a:pt x="805" y="539"/>
                      </a:lnTo>
                      <a:lnTo>
                        <a:pt x="803" y="537"/>
                      </a:lnTo>
                      <a:lnTo>
                        <a:pt x="797" y="533"/>
                      </a:lnTo>
                      <a:lnTo>
                        <a:pt x="787" y="527"/>
                      </a:lnTo>
                      <a:lnTo>
                        <a:pt x="772" y="518"/>
                      </a:lnTo>
                      <a:lnTo>
                        <a:pt x="755" y="506"/>
                      </a:lnTo>
                      <a:lnTo>
                        <a:pt x="734" y="494"/>
                      </a:lnTo>
                      <a:lnTo>
                        <a:pt x="711" y="479"/>
                      </a:lnTo>
                      <a:lnTo>
                        <a:pt x="686" y="461"/>
                      </a:lnTo>
                      <a:lnTo>
                        <a:pt x="657" y="444"/>
                      </a:lnTo>
                      <a:lnTo>
                        <a:pt x="627" y="425"/>
                      </a:lnTo>
                      <a:lnTo>
                        <a:pt x="595" y="404"/>
                      </a:lnTo>
                      <a:lnTo>
                        <a:pt x="561" y="382"/>
                      </a:lnTo>
                      <a:lnTo>
                        <a:pt x="527" y="360"/>
                      </a:lnTo>
                      <a:lnTo>
                        <a:pt x="491" y="337"/>
                      </a:lnTo>
                      <a:lnTo>
                        <a:pt x="454" y="313"/>
                      </a:lnTo>
                      <a:lnTo>
                        <a:pt x="418" y="290"/>
                      </a:lnTo>
                      <a:lnTo>
                        <a:pt x="381" y="266"/>
                      </a:lnTo>
                      <a:lnTo>
                        <a:pt x="344" y="241"/>
                      </a:lnTo>
                      <a:lnTo>
                        <a:pt x="308" y="217"/>
                      </a:lnTo>
                      <a:lnTo>
                        <a:pt x="273" y="194"/>
                      </a:lnTo>
                      <a:lnTo>
                        <a:pt x="238" y="171"/>
                      </a:lnTo>
                      <a:lnTo>
                        <a:pt x="205" y="148"/>
                      </a:lnTo>
                      <a:lnTo>
                        <a:pt x="173" y="127"/>
                      </a:lnTo>
                      <a:lnTo>
                        <a:pt x="143" y="107"/>
                      </a:lnTo>
                      <a:lnTo>
                        <a:pt x="115" y="87"/>
                      </a:lnTo>
                      <a:lnTo>
                        <a:pt x="90" y="70"/>
                      </a:lnTo>
                      <a:lnTo>
                        <a:pt x="67" y="53"/>
                      </a:lnTo>
                      <a:lnTo>
                        <a:pt x="46" y="39"/>
                      </a:lnTo>
                      <a:lnTo>
                        <a:pt x="29" y="25"/>
                      </a:lnTo>
                      <a:lnTo>
                        <a:pt x="16" y="15"/>
                      </a:lnTo>
                      <a:lnTo>
                        <a:pt x="6" y="5"/>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5279760" y="3824280"/>
                  <a:ext cx="110880" cy="68760"/>
                </a:xfrm>
                <a:custGeom>
                  <a:avLst/>
                  <a:gdLst/>
                  <a:ahLst/>
                  <a:rect l="l" t="t" r="r" b="b"/>
                  <a:pathLst>
                    <a:path w="212" h="159">
                      <a:moveTo>
                        <a:pt x="0" y="0"/>
                      </a:moveTo>
                      <a:lnTo>
                        <a:pt x="1" y="1"/>
                      </a:lnTo>
                      <a:lnTo>
                        <a:pt x="6" y="5"/>
                      </a:lnTo>
                      <a:lnTo>
                        <a:pt x="13" y="11"/>
                      </a:lnTo>
                      <a:lnTo>
                        <a:pt x="24" y="18"/>
                      </a:lnTo>
                      <a:lnTo>
                        <a:pt x="36" y="29"/>
                      </a:lnTo>
                      <a:lnTo>
                        <a:pt x="50" y="39"/>
                      </a:lnTo>
                      <a:lnTo>
                        <a:pt x="65" y="51"/>
                      </a:lnTo>
                      <a:lnTo>
                        <a:pt x="83" y="63"/>
                      </a:lnTo>
                      <a:lnTo>
                        <a:pt x="100" y="76"/>
                      </a:lnTo>
                      <a:lnTo>
                        <a:pt x="117" y="89"/>
                      </a:lnTo>
                      <a:lnTo>
                        <a:pt x="134" y="101"/>
                      </a:lnTo>
                      <a:lnTo>
                        <a:pt x="152" y="114"/>
                      </a:lnTo>
                      <a:lnTo>
                        <a:pt x="169" y="125"/>
                      </a:lnTo>
                      <a:lnTo>
                        <a:pt x="185" y="136"/>
                      </a:lnTo>
                      <a:lnTo>
                        <a:pt x="199" y="145"/>
                      </a:lnTo>
                      <a:lnTo>
                        <a:pt x="212" y="152"/>
                      </a:lnTo>
                      <a:lnTo>
                        <a:pt x="200" y="159"/>
                      </a:lnTo>
                      <a:lnTo>
                        <a:pt x="198" y="158"/>
                      </a:lnTo>
                      <a:lnTo>
                        <a:pt x="193" y="154"/>
                      </a:lnTo>
                      <a:lnTo>
                        <a:pt x="184" y="150"/>
                      </a:lnTo>
                      <a:lnTo>
                        <a:pt x="174" y="143"/>
                      </a:lnTo>
                      <a:lnTo>
                        <a:pt x="160" y="134"/>
                      </a:lnTo>
                      <a:lnTo>
                        <a:pt x="145" y="124"/>
                      </a:lnTo>
                      <a:lnTo>
                        <a:pt x="129" y="113"/>
                      </a:lnTo>
                      <a:lnTo>
                        <a:pt x="113" y="101"/>
                      </a:lnTo>
                      <a:lnTo>
                        <a:pt x="94" y="89"/>
                      </a:lnTo>
                      <a:lnTo>
                        <a:pt x="77" y="76"/>
                      </a:lnTo>
                      <a:lnTo>
                        <a:pt x="61" y="63"/>
                      </a:lnTo>
                      <a:lnTo>
                        <a:pt x="45" y="49"/>
                      </a:lnTo>
                      <a:lnTo>
                        <a:pt x="30" y="37"/>
                      </a:lnTo>
                      <a:lnTo>
                        <a:pt x="18" y="24"/>
                      </a:lnTo>
                      <a:lnTo>
                        <a:pt x="8" y="11"/>
                      </a:lnTo>
                      <a:lnTo>
                        <a:pt x="0" y="0"/>
                      </a:lnTo>
                      <a:close/>
                    </a:path>
                  </a:pathLst>
                </a:custGeom>
                <a:solidFill>
                  <a:srgbClr val="93d3d3"/>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70" name=""/>
                <p:cNvSpPr/>
                <p:nvPr/>
              </p:nvSpPr>
              <p:spPr>
                <a:xfrm>
                  <a:off x="6088680" y="3721320"/>
                  <a:ext cx="155880" cy="65160"/>
                </a:xfrm>
                <a:custGeom>
                  <a:avLst/>
                  <a:gdLst/>
                  <a:ahLst/>
                  <a:rect l="l" t="t" r="r" b="b"/>
                  <a:pathLst>
                    <a:path w="298" h="151">
                      <a:moveTo>
                        <a:pt x="0" y="0"/>
                      </a:moveTo>
                      <a:lnTo>
                        <a:pt x="2" y="1"/>
                      </a:lnTo>
                      <a:lnTo>
                        <a:pt x="9" y="5"/>
                      </a:lnTo>
                      <a:lnTo>
                        <a:pt x="20" y="10"/>
                      </a:lnTo>
                      <a:lnTo>
                        <a:pt x="34" y="18"/>
                      </a:lnTo>
                      <a:lnTo>
                        <a:pt x="52" y="26"/>
                      </a:lnTo>
                      <a:lnTo>
                        <a:pt x="72" y="37"/>
                      </a:lnTo>
                      <a:lnTo>
                        <a:pt x="94" y="48"/>
                      </a:lnTo>
                      <a:lnTo>
                        <a:pt x="117" y="60"/>
                      </a:lnTo>
                      <a:lnTo>
                        <a:pt x="141" y="71"/>
                      </a:lnTo>
                      <a:lnTo>
                        <a:pt x="167" y="83"/>
                      </a:lnTo>
                      <a:lnTo>
                        <a:pt x="192" y="95"/>
                      </a:lnTo>
                      <a:lnTo>
                        <a:pt x="216" y="106"/>
                      </a:lnTo>
                      <a:lnTo>
                        <a:pt x="239" y="116"/>
                      </a:lnTo>
                      <a:lnTo>
                        <a:pt x="261" y="127"/>
                      </a:lnTo>
                      <a:lnTo>
                        <a:pt x="281" y="135"/>
                      </a:lnTo>
                      <a:lnTo>
                        <a:pt x="298" y="140"/>
                      </a:lnTo>
                      <a:lnTo>
                        <a:pt x="285" y="151"/>
                      </a:lnTo>
                      <a:lnTo>
                        <a:pt x="283" y="150"/>
                      </a:lnTo>
                      <a:lnTo>
                        <a:pt x="275" y="147"/>
                      </a:lnTo>
                      <a:lnTo>
                        <a:pt x="264" y="143"/>
                      </a:lnTo>
                      <a:lnTo>
                        <a:pt x="249" y="137"/>
                      </a:lnTo>
                      <a:lnTo>
                        <a:pt x="230" y="129"/>
                      </a:lnTo>
                      <a:lnTo>
                        <a:pt x="209" y="121"/>
                      </a:lnTo>
                      <a:lnTo>
                        <a:pt x="186" y="110"/>
                      </a:lnTo>
                      <a:lnTo>
                        <a:pt x="162" y="100"/>
                      </a:lnTo>
                      <a:lnTo>
                        <a:pt x="138" y="89"/>
                      </a:lnTo>
                      <a:lnTo>
                        <a:pt x="114" y="76"/>
                      </a:lnTo>
                      <a:lnTo>
                        <a:pt x="90" y="64"/>
                      </a:lnTo>
                      <a:lnTo>
                        <a:pt x="66" y="52"/>
                      </a:lnTo>
                      <a:lnTo>
                        <a:pt x="46" y="38"/>
                      </a:lnTo>
                      <a:lnTo>
                        <a:pt x="27" y="25"/>
                      </a:lnTo>
                      <a:lnTo>
                        <a:pt x="11" y="13"/>
                      </a:lnTo>
                      <a:lnTo>
                        <a:pt x="0" y="0"/>
                      </a:lnTo>
                      <a:close/>
                    </a:path>
                  </a:pathLst>
                </a:custGeom>
                <a:solidFill>
                  <a:srgbClr val="93d3d3"/>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71" name=""/>
                <p:cNvSpPr/>
                <p:nvPr/>
              </p:nvSpPr>
              <p:spPr>
                <a:xfrm>
                  <a:off x="5324760" y="3812040"/>
                  <a:ext cx="60840" cy="44280"/>
                </a:xfrm>
                <a:custGeom>
                  <a:avLst/>
                  <a:gdLst/>
                  <a:ahLst/>
                  <a:rect l="l" t="t" r="r" b="b"/>
                  <a:pathLst>
                    <a:path w="116" h="103">
                      <a:moveTo>
                        <a:pt x="82" y="22"/>
                      </a:moveTo>
                      <a:lnTo>
                        <a:pt x="78" y="20"/>
                      </a:lnTo>
                      <a:lnTo>
                        <a:pt x="69" y="15"/>
                      </a:lnTo>
                      <a:lnTo>
                        <a:pt x="55" y="10"/>
                      </a:lnTo>
                      <a:lnTo>
                        <a:pt x="40" y="4"/>
                      </a:lnTo>
                      <a:lnTo>
                        <a:pt x="25" y="0"/>
                      </a:lnTo>
                      <a:lnTo>
                        <a:pt x="13" y="0"/>
                      </a:lnTo>
                      <a:lnTo>
                        <a:pt x="3" y="6"/>
                      </a:lnTo>
                      <a:lnTo>
                        <a:pt x="0" y="18"/>
                      </a:lnTo>
                      <a:lnTo>
                        <a:pt x="0" y="31"/>
                      </a:lnTo>
                      <a:lnTo>
                        <a:pt x="0" y="41"/>
                      </a:lnTo>
                      <a:lnTo>
                        <a:pt x="0" y="48"/>
                      </a:lnTo>
                      <a:lnTo>
                        <a:pt x="0" y="51"/>
                      </a:lnTo>
                      <a:lnTo>
                        <a:pt x="2" y="52"/>
                      </a:lnTo>
                      <a:lnTo>
                        <a:pt x="7" y="52"/>
                      </a:lnTo>
                      <a:lnTo>
                        <a:pt x="15" y="50"/>
                      </a:lnTo>
                      <a:lnTo>
                        <a:pt x="26" y="48"/>
                      </a:lnTo>
                      <a:lnTo>
                        <a:pt x="40" y="46"/>
                      </a:lnTo>
                      <a:lnTo>
                        <a:pt x="53" y="46"/>
                      </a:lnTo>
                      <a:lnTo>
                        <a:pt x="64" y="49"/>
                      </a:lnTo>
                      <a:lnTo>
                        <a:pt x="74" y="52"/>
                      </a:lnTo>
                      <a:lnTo>
                        <a:pt x="81" y="56"/>
                      </a:lnTo>
                      <a:lnTo>
                        <a:pt x="85" y="59"/>
                      </a:lnTo>
                      <a:lnTo>
                        <a:pt x="86" y="61"/>
                      </a:lnTo>
                      <a:lnTo>
                        <a:pt x="83" y="63"/>
                      </a:lnTo>
                      <a:lnTo>
                        <a:pt x="77" y="63"/>
                      </a:lnTo>
                      <a:lnTo>
                        <a:pt x="70" y="64"/>
                      </a:lnTo>
                      <a:lnTo>
                        <a:pt x="63" y="65"/>
                      </a:lnTo>
                      <a:lnTo>
                        <a:pt x="57" y="67"/>
                      </a:lnTo>
                      <a:lnTo>
                        <a:pt x="53" y="69"/>
                      </a:lnTo>
                      <a:lnTo>
                        <a:pt x="51" y="72"/>
                      </a:lnTo>
                      <a:lnTo>
                        <a:pt x="52" y="75"/>
                      </a:lnTo>
                      <a:lnTo>
                        <a:pt x="57" y="79"/>
                      </a:lnTo>
                      <a:lnTo>
                        <a:pt x="66" y="82"/>
                      </a:lnTo>
                      <a:lnTo>
                        <a:pt x="72" y="87"/>
                      </a:lnTo>
                      <a:lnTo>
                        <a:pt x="79" y="92"/>
                      </a:lnTo>
                      <a:lnTo>
                        <a:pt x="85" y="97"/>
                      </a:lnTo>
                      <a:lnTo>
                        <a:pt x="92" y="101"/>
                      </a:lnTo>
                      <a:lnTo>
                        <a:pt x="98" y="103"/>
                      </a:lnTo>
                      <a:lnTo>
                        <a:pt x="102" y="103"/>
                      </a:lnTo>
                      <a:lnTo>
                        <a:pt x="108" y="102"/>
                      </a:lnTo>
                      <a:lnTo>
                        <a:pt x="116" y="98"/>
                      </a:lnTo>
                      <a:lnTo>
                        <a:pt x="116" y="97"/>
                      </a:lnTo>
                      <a:lnTo>
                        <a:pt x="109" y="97"/>
                      </a:lnTo>
                      <a:lnTo>
                        <a:pt x="96" y="92"/>
                      </a:lnTo>
                      <a:lnTo>
                        <a:pt x="79" y="86"/>
                      </a:lnTo>
                      <a:lnTo>
                        <a:pt x="71" y="77"/>
                      </a:lnTo>
                      <a:lnTo>
                        <a:pt x="70" y="72"/>
                      </a:lnTo>
                      <a:lnTo>
                        <a:pt x="77" y="67"/>
                      </a:lnTo>
                      <a:lnTo>
                        <a:pt x="84" y="66"/>
                      </a:lnTo>
                      <a:lnTo>
                        <a:pt x="92" y="65"/>
                      </a:lnTo>
                      <a:lnTo>
                        <a:pt x="100" y="64"/>
                      </a:lnTo>
                      <a:lnTo>
                        <a:pt x="108" y="63"/>
                      </a:lnTo>
                      <a:lnTo>
                        <a:pt x="113" y="61"/>
                      </a:lnTo>
                      <a:lnTo>
                        <a:pt x="115" y="59"/>
                      </a:lnTo>
                      <a:lnTo>
                        <a:pt x="112" y="57"/>
                      </a:lnTo>
                      <a:lnTo>
                        <a:pt x="102" y="52"/>
                      </a:lnTo>
                      <a:lnTo>
                        <a:pt x="90" y="48"/>
                      </a:lnTo>
                      <a:lnTo>
                        <a:pt x="77" y="43"/>
                      </a:lnTo>
                      <a:lnTo>
                        <a:pt x="64" y="39"/>
                      </a:lnTo>
                      <a:lnTo>
                        <a:pt x="53" y="36"/>
                      </a:lnTo>
                      <a:lnTo>
                        <a:pt x="42" y="34"/>
                      </a:lnTo>
                      <a:lnTo>
                        <a:pt x="33" y="31"/>
                      </a:lnTo>
                      <a:lnTo>
                        <a:pt x="25" y="31"/>
                      </a:lnTo>
                      <a:lnTo>
                        <a:pt x="21" y="33"/>
                      </a:lnTo>
                      <a:lnTo>
                        <a:pt x="17" y="33"/>
                      </a:lnTo>
                      <a:lnTo>
                        <a:pt x="13" y="30"/>
                      </a:lnTo>
                      <a:lnTo>
                        <a:pt x="9" y="26"/>
                      </a:lnTo>
                      <a:lnTo>
                        <a:pt x="8" y="20"/>
                      </a:lnTo>
                      <a:lnTo>
                        <a:pt x="8" y="14"/>
                      </a:lnTo>
                      <a:lnTo>
                        <a:pt x="11" y="11"/>
                      </a:lnTo>
                      <a:lnTo>
                        <a:pt x="19" y="10"/>
                      </a:lnTo>
                      <a:lnTo>
                        <a:pt x="32" y="12"/>
                      </a:lnTo>
                      <a:lnTo>
                        <a:pt x="46" y="16"/>
                      </a:lnTo>
                      <a:lnTo>
                        <a:pt x="57" y="20"/>
                      </a:lnTo>
                      <a:lnTo>
                        <a:pt x="66" y="22"/>
                      </a:lnTo>
                      <a:lnTo>
                        <a:pt x="72" y="22"/>
                      </a:lnTo>
                      <a:lnTo>
                        <a:pt x="77" y="23"/>
                      </a:lnTo>
                      <a:lnTo>
                        <a:pt x="79" y="22"/>
                      </a:lnTo>
                      <a:lnTo>
                        <a:pt x="82" y="22"/>
                      </a:lnTo>
                      <a:lnTo>
                        <a:pt x="82" y="22"/>
                      </a:lnTo>
                      <a:close/>
                    </a:path>
                  </a:pathLst>
                </a:custGeom>
                <a:solidFill>
                  <a:srgbClr val="93d3d3"/>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72" name=""/>
                <p:cNvSpPr/>
                <p:nvPr/>
              </p:nvSpPr>
              <p:spPr>
                <a:xfrm>
                  <a:off x="5383440" y="3839760"/>
                  <a:ext cx="51120" cy="31320"/>
                </a:xfrm>
                <a:custGeom>
                  <a:avLst/>
                  <a:gdLst/>
                  <a:ahLst/>
                  <a:rect l="l" t="t" r="r" b="b"/>
                  <a:pathLst>
                    <a:path w="98" h="71">
                      <a:moveTo>
                        <a:pt x="5" y="4"/>
                      </a:moveTo>
                      <a:lnTo>
                        <a:pt x="0" y="9"/>
                      </a:lnTo>
                      <a:lnTo>
                        <a:pt x="1" y="9"/>
                      </a:lnTo>
                      <a:lnTo>
                        <a:pt x="2" y="9"/>
                      </a:lnTo>
                      <a:lnTo>
                        <a:pt x="5" y="9"/>
                      </a:lnTo>
                      <a:lnTo>
                        <a:pt x="9" y="10"/>
                      </a:lnTo>
                      <a:lnTo>
                        <a:pt x="15" y="13"/>
                      </a:lnTo>
                      <a:lnTo>
                        <a:pt x="20" y="18"/>
                      </a:lnTo>
                      <a:lnTo>
                        <a:pt x="27" y="25"/>
                      </a:lnTo>
                      <a:lnTo>
                        <a:pt x="35" y="34"/>
                      </a:lnTo>
                      <a:lnTo>
                        <a:pt x="45" y="45"/>
                      </a:lnTo>
                      <a:lnTo>
                        <a:pt x="54" y="53"/>
                      </a:lnTo>
                      <a:lnTo>
                        <a:pt x="63" y="60"/>
                      </a:lnTo>
                      <a:lnTo>
                        <a:pt x="72" y="64"/>
                      </a:lnTo>
                      <a:lnTo>
                        <a:pt x="81" y="68"/>
                      </a:lnTo>
                      <a:lnTo>
                        <a:pt x="88" y="70"/>
                      </a:lnTo>
                      <a:lnTo>
                        <a:pt x="94" y="71"/>
                      </a:lnTo>
                      <a:lnTo>
                        <a:pt x="98" y="71"/>
                      </a:lnTo>
                      <a:lnTo>
                        <a:pt x="98" y="70"/>
                      </a:lnTo>
                      <a:lnTo>
                        <a:pt x="94" y="69"/>
                      </a:lnTo>
                      <a:lnTo>
                        <a:pt x="88" y="65"/>
                      </a:lnTo>
                      <a:lnTo>
                        <a:pt x="79" y="61"/>
                      </a:lnTo>
                      <a:lnTo>
                        <a:pt x="69" y="55"/>
                      </a:lnTo>
                      <a:lnTo>
                        <a:pt x="56" y="46"/>
                      </a:lnTo>
                      <a:lnTo>
                        <a:pt x="45" y="34"/>
                      </a:lnTo>
                      <a:lnTo>
                        <a:pt x="32" y="19"/>
                      </a:lnTo>
                      <a:lnTo>
                        <a:pt x="18" y="3"/>
                      </a:lnTo>
                      <a:lnTo>
                        <a:pt x="10" y="0"/>
                      </a:lnTo>
                      <a:lnTo>
                        <a:pt x="7" y="2"/>
                      </a:lnTo>
                      <a:lnTo>
                        <a:pt x="5" y="4"/>
                      </a:lnTo>
                      <a:close/>
                    </a:path>
                  </a:pathLst>
                </a:custGeom>
                <a:solidFill>
                  <a:srgbClr val="93d3d3"/>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73" name=""/>
                <p:cNvSpPr/>
                <p:nvPr/>
              </p:nvSpPr>
              <p:spPr>
                <a:xfrm>
                  <a:off x="5399280" y="3862440"/>
                  <a:ext cx="14400" cy="7560"/>
                </a:xfrm>
                <a:custGeom>
                  <a:avLst/>
                  <a:gdLst/>
                  <a:ahLst/>
                  <a:rect l="l" t="t" r="r" b="b"/>
                  <a:pathLst>
                    <a:path w="27" h="17">
                      <a:moveTo>
                        <a:pt x="27" y="0"/>
                      </a:moveTo>
                      <a:lnTo>
                        <a:pt x="25" y="1"/>
                      </a:lnTo>
                      <a:lnTo>
                        <a:pt x="18" y="5"/>
                      </a:lnTo>
                      <a:lnTo>
                        <a:pt x="9" y="9"/>
                      </a:lnTo>
                      <a:lnTo>
                        <a:pt x="2" y="11"/>
                      </a:lnTo>
                      <a:lnTo>
                        <a:pt x="0" y="12"/>
                      </a:lnTo>
                      <a:lnTo>
                        <a:pt x="1" y="15"/>
                      </a:lnTo>
                      <a:lnTo>
                        <a:pt x="4" y="16"/>
                      </a:lnTo>
                      <a:lnTo>
                        <a:pt x="7" y="17"/>
                      </a:lnTo>
                      <a:lnTo>
                        <a:pt x="27" y="0"/>
                      </a:lnTo>
                      <a:close/>
                    </a:path>
                  </a:pathLst>
                </a:custGeom>
                <a:solidFill>
                  <a:srgbClr val="93d3d3"/>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74" name=""/>
                <p:cNvSpPr/>
                <p:nvPr/>
              </p:nvSpPr>
              <p:spPr>
                <a:xfrm>
                  <a:off x="5409720" y="3863160"/>
                  <a:ext cx="63720" cy="30600"/>
                </a:xfrm>
                <a:custGeom>
                  <a:avLst/>
                  <a:gdLst/>
                  <a:ahLst/>
                  <a:rect l="l" t="t" r="r" b="b"/>
                  <a:pathLst>
                    <a:path w="121" h="70">
                      <a:moveTo>
                        <a:pt x="0" y="0"/>
                      </a:moveTo>
                      <a:lnTo>
                        <a:pt x="0" y="7"/>
                      </a:lnTo>
                      <a:lnTo>
                        <a:pt x="4" y="22"/>
                      </a:lnTo>
                      <a:lnTo>
                        <a:pt x="12" y="34"/>
                      </a:lnTo>
                      <a:lnTo>
                        <a:pt x="30" y="33"/>
                      </a:lnTo>
                      <a:lnTo>
                        <a:pt x="42" y="29"/>
                      </a:lnTo>
                      <a:lnTo>
                        <a:pt x="50" y="26"/>
                      </a:lnTo>
                      <a:lnTo>
                        <a:pt x="55" y="27"/>
                      </a:lnTo>
                      <a:lnTo>
                        <a:pt x="57" y="31"/>
                      </a:lnTo>
                      <a:lnTo>
                        <a:pt x="58" y="41"/>
                      </a:lnTo>
                      <a:lnTo>
                        <a:pt x="56" y="49"/>
                      </a:lnTo>
                      <a:lnTo>
                        <a:pt x="57" y="59"/>
                      </a:lnTo>
                      <a:lnTo>
                        <a:pt x="67" y="65"/>
                      </a:lnTo>
                      <a:lnTo>
                        <a:pt x="76" y="68"/>
                      </a:lnTo>
                      <a:lnTo>
                        <a:pt x="88" y="70"/>
                      </a:lnTo>
                      <a:lnTo>
                        <a:pt x="98" y="70"/>
                      </a:lnTo>
                      <a:lnTo>
                        <a:pt x="108" y="70"/>
                      </a:lnTo>
                      <a:lnTo>
                        <a:pt x="116" y="69"/>
                      </a:lnTo>
                      <a:lnTo>
                        <a:pt x="120" y="68"/>
                      </a:lnTo>
                      <a:lnTo>
                        <a:pt x="121" y="68"/>
                      </a:lnTo>
                      <a:lnTo>
                        <a:pt x="118" y="67"/>
                      </a:lnTo>
                      <a:lnTo>
                        <a:pt x="106" y="67"/>
                      </a:lnTo>
                      <a:lnTo>
                        <a:pt x="96" y="65"/>
                      </a:lnTo>
                      <a:lnTo>
                        <a:pt x="89" y="64"/>
                      </a:lnTo>
                      <a:lnTo>
                        <a:pt x="82" y="63"/>
                      </a:lnTo>
                      <a:lnTo>
                        <a:pt x="78" y="62"/>
                      </a:lnTo>
                      <a:lnTo>
                        <a:pt x="74" y="61"/>
                      </a:lnTo>
                      <a:lnTo>
                        <a:pt x="72" y="60"/>
                      </a:lnTo>
                      <a:lnTo>
                        <a:pt x="69" y="59"/>
                      </a:lnTo>
                      <a:lnTo>
                        <a:pt x="61" y="49"/>
                      </a:lnTo>
                      <a:lnTo>
                        <a:pt x="61" y="44"/>
                      </a:lnTo>
                      <a:lnTo>
                        <a:pt x="65" y="38"/>
                      </a:lnTo>
                      <a:lnTo>
                        <a:pt x="66" y="32"/>
                      </a:lnTo>
                      <a:lnTo>
                        <a:pt x="61" y="24"/>
                      </a:lnTo>
                      <a:lnTo>
                        <a:pt x="58" y="19"/>
                      </a:lnTo>
                      <a:lnTo>
                        <a:pt x="52" y="18"/>
                      </a:lnTo>
                      <a:lnTo>
                        <a:pt x="44" y="22"/>
                      </a:lnTo>
                      <a:lnTo>
                        <a:pt x="40" y="25"/>
                      </a:lnTo>
                      <a:lnTo>
                        <a:pt x="34" y="29"/>
                      </a:lnTo>
                      <a:lnTo>
                        <a:pt x="29" y="32"/>
                      </a:lnTo>
                      <a:lnTo>
                        <a:pt x="25" y="33"/>
                      </a:lnTo>
                      <a:lnTo>
                        <a:pt x="19" y="32"/>
                      </a:lnTo>
                      <a:lnTo>
                        <a:pt x="13" y="27"/>
                      </a:lnTo>
                      <a:lnTo>
                        <a:pt x="7" y="17"/>
                      </a:lnTo>
                      <a:lnTo>
                        <a:pt x="0" y="0"/>
                      </a:lnTo>
                      <a:close/>
                    </a:path>
                  </a:pathLst>
                </a:custGeom>
                <a:solidFill>
                  <a:srgbClr val="93d3d3"/>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grpSp>
          <p:grpSp>
            <p:nvGrpSpPr>
              <p:cNvPr id="275" name=""/>
              <p:cNvGrpSpPr/>
              <p:nvPr/>
            </p:nvGrpSpPr>
            <p:grpSpPr>
              <a:xfrm>
                <a:off x="5432760" y="3505320"/>
                <a:ext cx="394560" cy="552240"/>
                <a:chOff x="5432760" y="3505320"/>
                <a:chExt cx="394560" cy="552240"/>
              </a:xfrm>
            </p:grpSpPr>
            <p:sp>
              <p:nvSpPr>
                <p:cNvPr id="276" name=""/>
                <p:cNvSpPr/>
                <p:nvPr/>
              </p:nvSpPr>
              <p:spPr>
                <a:xfrm>
                  <a:off x="5441760" y="3510000"/>
                  <a:ext cx="347040" cy="447120"/>
                </a:xfrm>
                <a:custGeom>
                  <a:avLst/>
                  <a:gdLst/>
                  <a:ahLst/>
                  <a:rect l="l" t="t" r="r" b="b"/>
                  <a:pathLst>
                    <a:path w="1376" h="1890">
                      <a:moveTo>
                        <a:pt x="185" y="0"/>
                      </a:moveTo>
                      <a:lnTo>
                        <a:pt x="79" y="36"/>
                      </a:lnTo>
                      <a:lnTo>
                        <a:pt x="0" y="178"/>
                      </a:lnTo>
                      <a:lnTo>
                        <a:pt x="50" y="343"/>
                      </a:lnTo>
                      <a:lnTo>
                        <a:pt x="293" y="692"/>
                      </a:lnTo>
                      <a:lnTo>
                        <a:pt x="656" y="1199"/>
                      </a:lnTo>
                      <a:lnTo>
                        <a:pt x="870" y="1477"/>
                      </a:lnTo>
                      <a:lnTo>
                        <a:pt x="934" y="1619"/>
                      </a:lnTo>
                      <a:lnTo>
                        <a:pt x="992" y="1719"/>
                      </a:lnTo>
                      <a:lnTo>
                        <a:pt x="1049" y="1726"/>
                      </a:lnTo>
                      <a:lnTo>
                        <a:pt x="1042" y="1799"/>
                      </a:lnTo>
                      <a:lnTo>
                        <a:pt x="1112" y="1890"/>
                      </a:lnTo>
                      <a:lnTo>
                        <a:pt x="1376" y="1799"/>
                      </a:lnTo>
                      <a:lnTo>
                        <a:pt x="1333" y="1677"/>
                      </a:lnTo>
                      <a:lnTo>
                        <a:pt x="1084" y="1255"/>
                      </a:lnTo>
                      <a:lnTo>
                        <a:pt x="799" y="798"/>
                      </a:lnTo>
                      <a:lnTo>
                        <a:pt x="812" y="757"/>
                      </a:lnTo>
                      <a:lnTo>
                        <a:pt x="827" y="679"/>
                      </a:lnTo>
                      <a:lnTo>
                        <a:pt x="756" y="642"/>
                      </a:lnTo>
                      <a:lnTo>
                        <a:pt x="664" y="514"/>
                      </a:lnTo>
                      <a:lnTo>
                        <a:pt x="549" y="250"/>
                      </a:lnTo>
                      <a:lnTo>
                        <a:pt x="385" y="100"/>
                      </a:lnTo>
                      <a:lnTo>
                        <a:pt x="263" y="22"/>
                      </a:lnTo>
                      <a:lnTo>
                        <a:pt x="185" y="0"/>
                      </a:lnTo>
                      <a:lnTo>
                        <a:pt x="185" y="0"/>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5722200" y="3934080"/>
                  <a:ext cx="99000" cy="114120"/>
                </a:xfrm>
                <a:custGeom>
                  <a:avLst/>
                  <a:gdLst/>
                  <a:ahLst/>
                  <a:rect l="l" t="t" r="r" b="b"/>
                  <a:pathLst>
                    <a:path w="392" h="485">
                      <a:moveTo>
                        <a:pt x="0" y="99"/>
                      </a:moveTo>
                      <a:lnTo>
                        <a:pt x="115" y="229"/>
                      </a:lnTo>
                      <a:lnTo>
                        <a:pt x="243" y="378"/>
                      </a:lnTo>
                      <a:lnTo>
                        <a:pt x="321" y="485"/>
                      </a:lnTo>
                      <a:lnTo>
                        <a:pt x="392" y="478"/>
                      </a:lnTo>
                      <a:lnTo>
                        <a:pt x="357" y="407"/>
                      </a:lnTo>
                      <a:lnTo>
                        <a:pt x="243" y="0"/>
                      </a:lnTo>
                      <a:lnTo>
                        <a:pt x="115" y="43"/>
                      </a:lnTo>
                      <a:lnTo>
                        <a:pt x="0" y="99"/>
                      </a:lnTo>
                      <a:lnTo>
                        <a:pt x="0" y="99"/>
                      </a:lnTo>
                      <a:close/>
                    </a:path>
                  </a:pathLst>
                </a:custGeom>
                <a:solidFill>
                  <a:srgbClr val="ffd9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5604120" y="3747960"/>
                  <a:ext cx="87840" cy="60840"/>
                </a:xfrm>
                <a:custGeom>
                  <a:avLst/>
                  <a:gdLst/>
                  <a:ahLst/>
                  <a:rect l="l" t="t" r="r" b="b"/>
                  <a:pathLst>
                    <a:path w="349" h="258">
                      <a:moveTo>
                        <a:pt x="284" y="0"/>
                      </a:moveTo>
                      <a:lnTo>
                        <a:pt x="128" y="7"/>
                      </a:lnTo>
                      <a:lnTo>
                        <a:pt x="41" y="78"/>
                      </a:lnTo>
                      <a:lnTo>
                        <a:pt x="0" y="171"/>
                      </a:lnTo>
                      <a:lnTo>
                        <a:pt x="70" y="258"/>
                      </a:lnTo>
                      <a:lnTo>
                        <a:pt x="163" y="143"/>
                      </a:lnTo>
                      <a:lnTo>
                        <a:pt x="256" y="115"/>
                      </a:lnTo>
                      <a:lnTo>
                        <a:pt x="349" y="121"/>
                      </a:lnTo>
                      <a:lnTo>
                        <a:pt x="284" y="0"/>
                      </a:lnTo>
                      <a:lnTo>
                        <a:pt x="284" y="0"/>
                      </a:lnTo>
                      <a:close/>
                    </a:path>
                  </a:pathLst>
                </a:custGeom>
                <a:solidFill>
                  <a:srgbClr val="ffd97f"/>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79" name=""/>
                <p:cNvSpPr/>
                <p:nvPr/>
              </p:nvSpPr>
              <p:spPr>
                <a:xfrm>
                  <a:off x="5522040" y="3542760"/>
                  <a:ext cx="65160" cy="83520"/>
                </a:xfrm>
                <a:custGeom>
                  <a:avLst/>
                  <a:gdLst/>
                  <a:ahLst/>
                  <a:rect l="l" t="t" r="r" b="b"/>
                  <a:pathLst>
                    <a:path w="257" h="355">
                      <a:moveTo>
                        <a:pt x="0" y="4"/>
                      </a:moveTo>
                      <a:lnTo>
                        <a:pt x="4" y="38"/>
                      </a:lnTo>
                      <a:lnTo>
                        <a:pt x="35" y="56"/>
                      </a:lnTo>
                      <a:lnTo>
                        <a:pt x="79" y="104"/>
                      </a:lnTo>
                      <a:lnTo>
                        <a:pt x="129" y="167"/>
                      </a:lnTo>
                      <a:lnTo>
                        <a:pt x="175" y="240"/>
                      </a:lnTo>
                      <a:lnTo>
                        <a:pt x="257" y="355"/>
                      </a:lnTo>
                      <a:lnTo>
                        <a:pt x="253" y="313"/>
                      </a:lnTo>
                      <a:lnTo>
                        <a:pt x="163" y="174"/>
                      </a:lnTo>
                      <a:lnTo>
                        <a:pt x="94" y="70"/>
                      </a:lnTo>
                      <a:lnTo>
                        <a:pt x="39" y="0"/>
                      </a:lnTo>
                      <a:lnTo>
                        <a:pt x="0" y="4"/>
                      </a:lnTo>
                      <a:lnTo>
                        <a:pt x="0" y="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80" name=""/>
                <p:cNvSpPr/>
                <p:nvPr/>
              </p:nvSpPr>
              <p:spPr>
                <a:xfrm>
                  <a:off x="5626800" y="3657240"/>
                  <a:ext cx="31680" cy="40320"/>
                </a:xfrm>
                <a:custGeom>
                  <a:avLst/>
                  <a:gdLst/>
                  <a:ahLst/>
                  <a:rect l="l" t="t" r="r" b="b"/>
                  <a:pathLst>
                    <a:path w="125" h="170">
                      <a:moveTo>
                        <a:pt x="0" y="7"/>
                      </a:moveTo>
                      <a:lnTo>
                        <a:pt x="48" y="0"/>
                      </a:lnTo>
                      <a:lnTo>
                        <a:pt x="86" y="14"/>
                      </a:lnTo>
                      <a:lnTo>
                        <a:pt x="115" y="38"/>
                      </a:lnTo>
                      <a:lnTo>
                        <a:pt x="125" y="73"/>
                      </a:lnTo>
                      <a:lnTo>
                        <a:pt x="115" y="108"/>
                      </a:lnTo>
                      <a:lnTo>
                        <a:pt x="101" y="135"/>
                      </a:lnTo>
                      <a:lnTo>
                        <a:pt x="62" y="170"/>
                      </a:lnTo>
                      <a:lnTo>
                        <a:pt x="28" y="128"/>
                      </a:lnTo>
                      <a:lnTo>
                        <a:pt x="62" y="115"/>
                      </a:lnTo>
                      <a:lnTo>
                        <a:pt x="73" y="87"/>
                      </a:lnTo>
                      <a:lnTo>
                        <a:pt x="59" y="56"/>
                      </a:lnTo>
                      <a:lnTo>
                        <a:pt x="13" y="34"/>
                      </a:lnTo>
                      <a:lnTo>
                        <a:pt x="0" y="7"/>
                      </a:lnTo>
                      <a:lnTo>
                        <a:pt x="0" y="7"/>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281" name=""/>
                <p:cNvSpPr/>
                <p:nvPr/>
              </p:nvSpPr>
              <p:spPr>
                <a:xfrm>
                  <a:off x="5602320" y="3747960"/>
                  <a:ext cx="62640" cy="46800"/>
                </a:xfrm>
                <a:custGeom>
                  <a:avLst/>
                  <a:gdLst/>
                  <a:ahLst/>
                  <a:rect l="l" t="t" r="r" b="b"/>
                  <a:pathLst>
                    <a:path w="249" h="198">
                      <a:moveTo>
                        <a:pt x="0" y="146"/>
                      </a:moveTo>
                      <a:lnTo>
                        <a:pt x="38" y="82"/>
                      </a:lnTo>
                      <a:lnTo>
                        <a:pt x="73" y="49"/>
                      </a:lnTo>
                      <a:lnTo>
                        <a:pt x="110" y="20"/>
                      </a:lnTo>
                      <a:lnTo>
                        <a:pt x="156" y="7"/>
                      </a:lnTo>
                      <a:lnTo>
                        <a:pt x="205" y="0"/>
                      </a:lnTo>
                      <a:lnTo>
                        <a:pt x="249" y="7"/>
                      </a:lnTo>
                      <a:lnTo>
                        <a:pt x="236" y="20"/>
                      </a:lnTo>
                      <a:lnTo>
                        <a:pt x="174" y="27"/>
                      </a:lnTo>
                      <a:lnTo>
                        <a:pt x="140" y="38"/>
                      </a:lnTo>
                      <a:lnTo>
                        <a:pt x="108" y="58"/>
                      </a:lnTo>
                      <a:lnTo>
                        <a:pt x="86" y="80"/>
                      </a:lnTo>
                      <a:lnTo>
                        <a:pt x="73" y="108"/>
                      </a:lnTo>
                      <a:lnTo>
                        <a:pt x="55" y="146"/>
                      </a:lnTo>
                      <a:lnTo>
                        <a:pt x="38" y="198"/>
                      </a:lnTo>
                      <a:lnTo>
                        <a:pt x="0" y="146"/>
                      </a:lnTo>
                      <a:lnTo>
                        <a:pt x="0" y="146"/>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282" name=""/>
                <p:cNvSpPr/>
                <p:nvPr/>
              </p:nvSpPr>
              <p:spPr>
                <a:xfrm>
                  <a:off x="5616720" y="3769200"/>
                  <a:ext cx="63360" cy="48600"/>
                </a:xfrm>
                <a:custGeom>
                  <a:avLst/>
                  <a:gdLst/>
                  <a:ahLst/>
                  <a:rect l="l" t="t" r="r" b="b"/>
                  <a:pathLst>
                    <a:path w="250" h="209">
                      <a:moveTo>
                        <a:pt x="0" y="147"/>
                      </a:moveTo>
                      <a:lnTo>
                        <a:pt x="42" y="88"/>
                      </a:lnTo>
                      <a:lnTo>
                        <a:pt x="80" y="57"/>
                      </a:lnTo>
                      <a:lnTo>
                        <a:pt x="117" y="32"/>
                      </a:lnTo>
                      <a:lnTo>
                        <a:pt x="161" y="11"/>
                      </a:lnTo>
                      <a:lnTo>
                        <a:pt x="205" y="0"/>
                      </a:lnTo>
                      <a:lnTo>
                        <a:pt x="250" y="15"/>
                      </a:lnTo>
                      <a:lnTo>
                        <a:pt x="232" y="35"/>
                      </a:lnTo>
                      <a:lnTo>
                        <a:pt x="184" y="50"/>
                      </a:lnTo>
                      <a:lnTo>
                        <a:pt x="139" y="74"/>
                      </a:lnTo>
                      <a:lnTo>
                        <a:pt x="108" y="94"/>
                      </a:lnTo>
                      <a:lnTo>
                        <a:pt x="80" y="127"/>
                      </a:lnTo>
                      <a:lnTo>
                        <a:pt x="66" y="160"/>
                      </a:lnTo>
                      <a:lnTo>
                        <a:pt x="51" y="209"/>
                      </a:lnTo>
                      <a:lnTo>
                        <a:pt x="0" y="147"/>
                      </a:lnTo>
                      <a:lnTo>
                        <a:pt x="0" y="147"/>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283" name=""/>
                <p:cNvSpPr/>
                <p:nvPr/>
              </p:nvSpPr>
              <p:spPr>
                <a:xfrm>
                  <a:off x="5483520" y="3505320"/>
                  <a:ext cx="138600" cy="145440"/>
                </a:xfrm>
                <a:custGeom>
                  <a:avLst/>
                  <a:gdLst/>
                  <a:ahLst/>
                  <a:rect l="l" t="t" r="r" b="b"/>
                  <a:pathLst>
                    <a:path w="549" h="616">
                      <a:moveTo>
                        <a:pt x="0" y="0"/>
                      </a:moveTo>
                      <a:lnTo>
                        <a:pt x="52" y="4"/>
                      </a:lnTo>
                      <a:lnTo>
                        <a:pt x="115" y="28"/>
                      </a:lnTo>
                      <a:lnTo>
                        <a:pt x="170" y="52"/>
                      </a:lnTo>
                      <a:lnTo>
                        <a:pt x="243" y="98"/>
                      </a:lnTo>
                      <a:lnTo>
                        <a:pt x="292" y="136"/>
                      </a:lnTo>
                      <a:lnTo>
                        <a:pt x="344" y="185"/>
                      </a:lnTo>
                      <a:lnTo>
                        <a:pt x="382" y="233"/>
                      </a:lnTo>
                      <a:lnTo>
                        <a:pt x="414" y="288"/>
                      </a:lnTo>
                      <a:lnTo>
                        <a:pt x="452" y="372"/>
                      </a:lnTo>
                      <a:lnTo>
                        <a:pt x="505" y="497"/>
                      </a:lnTo>
                      <a:lnTo>
                        <a:pt x="549" y="616"/>
                      </a:lnTo>
                      <a:lnTo>
                        <a:pt x="518" y="592"/>
                      </a:lnTo>
                      <a:lnTo>
                        <a:pt x="452" y="466"/>
                      </a:lnTo>
                      <a:lnTo>
                        <a:pt x="386" y="338"/>
                      </a:lnTo>
                      <a:lnTo>
                        <a:pt x="338" y="255"/>
                      </a:lnTo>
                      <a:lnTo>
                        <a:pt x="289" y="198"/>
                      </a:lnTo>
                      <a:lnTo>
                        <a:pt x="230" y="150"/>
                      </a:lnTo>
                      <a:lnTo>
                        <a:pt x="168" y="105"/>
                      </a:lnTo>
                      <a:lnTo>
                        <a:pt x="115" y="77"/>
                      </a:lnTo>
                      <a:lnTo>
                        <a:pt x="45" y="52"/>
                      </a:lnTo>
                      <a:lnTo>
                        <a:pt x="0" y="4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5432760" y="3507480"/>
                  <a:ext cx="253800" cy="395280"/>
                </a:xfrm>
                <a:custGeom>
                  <a:avLst/>
                  <a:gdLst/>
                  <a:ahLst/>
                  <a:rect l="l" t="t" r="r" b="b"/>
                  <a:pathLst>
                    <a:path w="1005" h="1670">
                      <a:moveTo>
                        <a:pt x="143" y="0"/>
                      </a:moveTo>
                      <a:lnTo>
                        <a:pt x="105" y="31"/>
                      </a:lnTo>
                      <a:lnTo>
                        <a:pt x="66" y="83"/>
                      </a:lnTo>
                      <a:lnTo>
                        <a:pt x="39" y="121"/>
                      </a:lnTo>
                      <a:lnTo>
                        <a:pt x="11" y="178"/>
                      </a:lnTo>
                      <a:lnTo>
                        <a:pt x="0" y="233"/>
                      </a:lnTo>
                      <a:lnTo>
                        <a:pt x="15" y="292"/>
                      </a:lnTo>
                      <a:lnTo>
                        <a:pt x="39" y="354"/>
                      </a:lnTo>
                      <a:lnTo>
                        <a:pt x="94" y="435"/>
                      </a:lnTo>
                      <a:lnTo>
                        <a:pt x="171" y="539"/>
                      </a:lnTo>
                      <a:lnTo>
                        <a:pt x="258" y="653"/>
                      </a:lnTo>
                      <a:lnTo>
                        <a:pt x="344" y="779"/>
                      </a:lnTo>
                      <a:lnTo>
                        <a:pt x="438" y="908"/>
                      </a:lnTo>
                      <a:lnTo>
                        <a:pt x="536" y="1039"/>
                      </a:lnTo>
                      <a:lnTo>
                        <a:pt x="641" y="1186"/>
                      </a:lnTo>
                      <a:lnTo>
                        <a:pt x="751" y="1332"/>
                      </a:lnTo>
                      <a:lnTo>
                        <a:pt x="822" y="1419"/>
                      </a:lnTo>
                      <a:lnTo>
                        <a:pt x="873" y="1505"/>
                      </a:lnTo>
                      <a:lnTo>
                        <a:pt x="897" y="1540"/>
                      </a:lnTo>
                      <a:lnTo>
                        <a:pt x="901" y="1562"/>
                      </a:lnTo>
                      <a:lnTo>
                        <a:pt x="870" y="1569"/>
                      </a:lnTo>
                      <a:lnTo>
                        <a:pt x="751" y="1582"/>
                      </a:lnTo>
                      <a:lnTo>
                        <a:pt x="710" y="1613"/>
                      </a:lnTo>
                      <a:lnTo>
                        <a:pt x="738" y="1628"/>
                      </a:lnTo>
                      <a:lnTo>
                        <a:pt x="800" y="1624"/>
                      </a:lnTo>
                      <a:lnTo>
                        <a:pt x="846" y="1631"/>
                      </a:lnTo>
                      <a:lnTo>
                        <a:pt x="904" y="1648"/>
                      </a:lnTo>
                      <a:lnTo>
                        <a:pt x="946" y="1662"/>
                      </a:lnTo>
                      <a:lnTo>
                        <a:pt x="967" y="1655"/>
                      </a:lnTo>
                      <a:lnTo>
                        <a:pt x="998" y="1670"/>
                      </a:lnTo>
                      <a:lnTo>
                        <a:pt x="1005" y="1646"/>
                      </a:lnTo>
                      <a:lnTo>
                        <a:pt x="978" y="1578"/>
                      </a:lnTo>
                      <a:lnTo>
                        <a:pt x="936" y="1496"/>
                      </a:lnTo>
                      <a:lnTo>
                        <a:pt x="877" y="1402"/>
                      </a:lnTo>
                      <a:lnTo>
                        <a:pt x="822" y="1322"/>
                      </a:lnTo>
                      <a:lnTo>
                        <a:pt x="765" y="1245"/>
                      </a:lnTo>
                      <a:lnTo>
                        <a:pt x="696" y="1158"/>
                      </a:lnTo>
                      <a:lnTo>
                        <a:pt x="612" y="1036"/>
                      </a:lnTo>
                      <a:lnTo>
                        <a:pt x="515" y="904"/>
                      </a:lnTo>
                      <a:lnTo>
                        <a:pt x="414" y="765"/>
                      </a:lnTo>
                      <a:lnTo>
                        <a:pt x="299" y="612"/>
                      </a:lnTo>
                      <a:lnTo>
                        <a:pt x="209" y="486"/>
                      </a:lnTo>
                      <a:lnTo>
                        <a:pt x="125" y="378"/>
                      </a:lnTo>
                      <a:lnTo>
                        <a:pt x="88" y="295"/>
                      </a:lnTo>
                      <a:lnTo>
                        <a:pt x="74" y="236"/>
                      </a:lnTo>
                      <a:lnTo>
                        <a:pt x="81" y="191"/>
                      </a:lnTo>
                      <a:lnTo>
                        <a:pt x="98" y="143"/>
                      </a:lnTo>
                      <a:lnTo>
                        <a:pt x="125" y="94"/>
                      </a:lnTo>
                      <a:lnTo>
                        <a:pt x="157" y="62"/>
                      </a:lnTo>
                      <a:lnTo>
                        <a:pt x="174" y="37"/>
                      </a:lnTo>
                      <a:lnTo>
                        <a:pt x="143" y="0"/>
                      </a:lnTo>
                      <a:lnTo>
                        <a:pt x="1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5602320" y="3645720"/>
                  <a:ext cx="172440" cy="259560"/>
                </a:xfrm>
                <a:custGeom>
                  <a:avLst/>
                  <a:gdLst/>
                  <a:ahLst/>
                  <a:rect l="l" t="t" r="r" b="b"/>
                  <a:pathLst>
                    <a:path w="685" h="1098">
                      <a:moveTo>
                        <a:pt x="0" y="20"/>
                      </a:moveTo>
                      <a:lnTo>
                        <a:pt x="44" y="79"/>
                      </a:lnTo>
                      <a:lnTo>
                        <a:pt x="101" y="159"/>
                      </a:lnTo>
                      <a:lnTo>
                        <a:pt x="159" y="249"/>
                      </a:lnTo>
                      <a:lnTo>
                        <a:pt x="218" y="350"/>
                      </a:lnTo>
                      <a:lnTo>
                        <a:pt x="291" y="476"/>
                      </a:lnTo>
                      <a:lnTo>
                        <a:pt x="368" y="608"/>
                      </a:lnTo>
                      <a:lnTo>
                        <a:pt x="452" y="744"/>
                      </a:lnTo>
                      <a:lnTo>
                        <a:pt x="531" y="865"/>
                      </a:lnTo>
                      <a:lnTo>
                        <a:pt x="587" y="953"/>
                      </a:lnTo>
                      <a:lnTo>
                        <a:pt x="657" y="1092"/>
                      </a:lnTo>
                      <a:lnTo>
                        <a:pt x="685" y="1098"/>
                      </a:lnTo>
                      <a:lnTo>
                        <a:pt x="677" y="1050"/>
                      </a:lnTo>
                      <a:lnTo>
                        <a:pt x="635" y="959"/>
                      </a:lnTo>
                      <a:lnTo>
                        <a:pt x="591" y="869"/>
                      </a:lnTo>
                      <a:lnTo>
                        <a:pt x="496" y="733"/>
                      </a:lnTo>
                      <a:lnTo>
                        <a:pt x="406" y="587"/>
                      </a:lnTo>
                      <a:lnTo>
                        <a:pt x="291" y="399"/>
                      </a:lnTo>
                      <a:lnTo>
                        <a:pt x="216" y="267"/>
                      </a:lnTo>
                      <a:lnTo>
                        <a:pt x="147" y="176"/>
                      </a:lnTo>
                      <a:lnTo>
                        <a:pt x="104" y="114"/>
                      </a:lnTo>
                      <a:lnTo>
                        <a:pt x="51" y="42"/>
                      </a:lnTo>
                      <a:lnTo>
                        <a:pt x="27" y="0"/>
                      </a:lnTo>
                      <a:lnTo>
                        <a:pt x="2" y="2"/>
                      </a:lnTo>
                      <a:lnTo>
                        <a:pt x="0" y="20"/>
                      </a:ln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5733720" y="3830400"/>
                  <a:ext cx="28440" cy="30960"/>
                </a:xfrm>
                <a:custGeom>
                  <a:avLst/>
                  <a:gdLst/>
                  <a:ahLst/>
                  <a:rect l="l" t="t" r="r" b="b"/>
                  <a:pathLst>
                    <a:path w="115" h="133">
                      <a:moveTo>
                        <a:pt x="0" y="45"/>
                      </a:moveTo>
                      <a:lnTo>
                        <a:pt x="67" y="0"/>
                      </a:lnTo>
                      <a:lnTo>
                        <a:pt x="91" y="21"/>
                      </a:lnTo>
                      <a:lnTo>
                        <a:pt x="115" y="80"/>
                      </a:lnTo>
                      <a:lnTo>
                        <a:pt x="98" y="105"/>
                      </a:lnTo>
                      <a:lnTo>
                        <a:pt x="71" y="133"/>
                      </a:lnTo>
                      <a:lnTo>
                        <a:pt x="46" y="94"/>
                      </a:lnTo>
                      <a:lnTo>
                        <a:pt x="88" y="74"/>
                      </a:lnTo>
                      <a:lnTo>
                        <a:pt x="67" y="41"/>
                      </a:lnTo>
                      <a:lnTo>
                        <a:pt x="22" y="67"/>
                      </a:lnTo>
                      <a:lnTo>
                        <a:pt x="0" y="45"/>
                      </a:lnTo>
                      <a:lnTo>
                        <a:pt x="0" y="45"/>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287" name=""/>
                <p:cNvSpPr/>
                <p:nvPr/>
              </p:nvSpPr>
              <p:spPr>
                <a:xfrm>
                  <a:off x="5718600" y="3894480"/>
                  <a:ext cx="42120" cy="24480"/>
                </a:xfrm>
                <a:custGeom>
                  <a:avLst/>
                  <a:gdLst/>
                  <a:ahLst/>
                  <a:rect l="l" t="t" r="r" b="b"/>
                  <a:pathLst>
                    <a:path w="167" h="104">
                      <a:moveTo>
                        <a:pt x="0" y="62"/>
                      </a:moveTo>
                      <a:lnTo>
                        <a:pt x="42" y="35"/>
                      </a:lnTo>
                      <a:lnTo>
                        <a:pt x="88" y="13"/>
                      </a:lnTo>
                      <a:lnTo>
                        <a:pt x="136" y="0"/>
                      </a:lnTo>
                      <a:lnTo>
                        <a:pt x="167" y="35"/>
                      </a:lnTo>
                      <a:lnTo>
                        <a:pt x="126" y="38"/>
                      </a:lnTo>
                      <a:lnTo>
                        <a:pt x="74" y="48"/>
                      </a:lnTo>
                      <a:lnTo>
                        <a:pt x="50" y="69"/>
                      </a:lnTo>
                      <a:lnTo>
                        <a:pt x="46" y="97"/>
                      </a:lnTo>
                      <a:lnTo>
                        <a:pt x="18" y="104"/>
                      </a:lnTo>
                      <a:lnTo>
                        <a:pt x="0" y="62"/>
                      </a:lnTo>
                      <a:lnTo>
                        <a:pt x="0" y="62"/>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288" name=""/>
                <p:cNvSpPr/>
                <p:nvPr/>
              </p:nvSpPr>
              <p:spPr>
                <a:xfrm>
                  <a:off x="5679720" y="3909960"/>
                  <a:ext cx="33840" cy="29520"/>
                </a:xfrm>
                <a:custGeom>
                  <a:avLst/>
                  <a:gdLst/>
                  <a:ahLst/>
                  <a:rect l="l" t="t" r="r" b="b"/>
                  <a:pathLst>
                    <a:path w="135" h="125">
                      <a:moveTo>
                        <a:pt x="0" y="77"/>
                      </a:moveTo>
                      <a:lnTo>
                        <a:pt x="31" y="38"/>
                      </a:lnTo>
                      <a:lnTo>
                        <a:pt x="45" y="11"/>
                      </a:lnTo>
                      <a:lnTo>
                        <a:pt x="73" y="0"/>
                      </a:lnTo>
                      <a:lnTo>
                        <a:pt x="104" y="13"/>
                      </a:lnTo>
                      <a:lnTo>
                        <a:pt x="135" y="42"/>
                      </a:lnTo>
                      <a:lnTo>
                        <a:pt x="131" y="79"/>
                      </a:lnTo>
                      <a:lnTo>
                        <a:pt x="111" y="108"/>
                      </a:lnTo>
                      <a:lnTo>
                        <a:pt x="76" y="125"/>
                      </a:lnTo>
                      <a:lnTo>
                        <a:pt x="58" y="101"/>
                      </a:lnTo>
                      <a:lnTo>
                        <a:pt x="100" y="66"/>
                      </a:lnTo>
                      <a:lnTo>
                        <a:pt x="66" y="42"/>
                      </a:lnTo>
                      <a:lnTo>
                        <a:pt x="34" y="90"/>
                      </a:lnTo>
                      <a:lnTo>
                        <a:pt x="0" y="77"/>
                      </a:lnTo>
                      <a:lnTo>
                        <a:pt x="0" y="7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89" name=""/>
                <p:cNvSpPr/>
                <p:nvPr/>
              </p:nvSpPr>
              <p:spPr>
                <a:xfrm>
                  <a:off x="5721480" y="3918960"/>
                  <a:ext cx="74160" cy="27000"/>
                </a:xfrm>
                <a:custGeom>
                  <a:avLst/>
                  <a:gdLst/>
                  <a:ahLst/>
                  <a:rect l="l" t="t" r="r" b="b"/>
                  <a:pathLst>
                    <a:path w="293" h="114">
                      <a:moveTo>
                        <a:pt x="0" y="83"/>
                      </a:moveTo>
                      <a:lnTo>
                        <a:pt x="53" y="45"/>
                      </a:lnTo>
                      <a:lnTo>
                        <a:pt x="90" y="21"/>
                      </a:lnTo>
                      <a:lnTo>
                        <a:pt x="136" y="6"/>
                      </a:lnTo>
                      <a:lnTo>
                        <a:pt x="191" y="0"/>
                      </a:lnTo>
                      <a:lnTo>
                        <a:pt x="251" y="6"/>
                      </a:lnTo>
                      <a:lnTo>
                        <a:pt x="293" y="21"/>
                      </a:lnTo>
                      <a:lnTo>
                        <a:pt x="264" y="31"/>
                      </a:lnTo>
                      <a:lnTo>
                        <a:pt x="202" y="39"/>
                      </a:lnTo>
                      <a:lnTo>
                        <a:pt x="139" y="52"/>
                      </a:lnTo>
                      <a:lnTo>
                        <a:pt x="88" y="72"/>
                      </a:lnTo>
                      <a:lnTo>
                        <a:pt x="59" y="101"/>
                      </a:lnTo>
                      <a:lnTo>
                        <a:pt x="35" y="114"/>
                      </a:lnTo>
                      <a:lnTo>
                        <a:pt x="11" y="107"/>
                      </a:lnTo>
                      <a:lnTo>
                        <a:pt x="0" y="83"/>
                      </a:lnTo>
                      <a:lnTo>
                        <a:pt x="0" y="8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0" name=""/>
                <p:cNvSpPr/>
                <p:nvPr/>
              </p:nvSpPr>
              <p:spPr>
                <a:xfrm>
                  <a:off x="5762520" y="3955320"/>
                  <a:ext cx="44640" cy="80640"/>
                </a:xfrm>
                <a:custGeom>
                  <a:avLst/>
                  <a:gdLst/>
                  <a:ahLst/>
                  <a:rect l="l" t="t" r="r" b="b"/>
                  <a:pathLst>
                    <a:path w="177" h="343">
                      <a:moveTo>
                        <a:pt x="0" y="14"/>
                      </a:moveTo>
                      <a:lnTo>
                        <a:pt x="39" y="101"/>
                      </a:lnTo>
                      <a:lnTo>
                        <a:pt x="84" y="185"/>
                      </a:lnTo>
                      <a:lnTo>
                        <a:pt x="101" y="236"/>
                      </a:lnTo>
                      <a:lnTo>
                        <a:pt x="126" y="278"/>
                      </a:lnTo>
                      <a:lnTo>
                        <a:pt x="150" y="313"/>
                      </a:lnTo>
                      <a:lnTo>
                        <a:pt x="177" y="343"/>
                      </a:lnTo>
                      <a:lnTo>
                        <a:pt x="170" y="301"/>
                      </a:lnTo>
                      <a:lnTo>
                        <a:pt x="161" y="282"/>
                      </a:lnTo>
                      <a:lnTo>
                        <a:pt x="132" y="219"/>
                      </a:lnTo>
                      <a:lnTo>
                        <a:pt x="95" y="132"/>
                      </a:lnTo>
                      <a:lnTo>
                        <a:pt x="59" y="60"/>
                      </a:lnTo>
                      <a:lnTo>
                        <a:pt x="35" y="0"/>
                      </a:lnTo>
                      <a:lnTo>
                        <a:pt x="0" y="14"/>
                      </a:lnTo>
                      <a:lnTo>
                        <a:pt x="0" y="1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91" name=""/>
                <p:cNvSpPr/>
                <p:nvPr/>
              </p:nvSpPr>
              <p:spPr>
                <a:xfrm>
                  <a:off x="5733720" y="3930480"/>
                  <a:ext cx="55800" cy="24120"/>
                </a:xfrm>
                <a:custGeom>
                  <a:avLst/>
                  <a:gdLst/>
                  <a:ahLst/>
                  <a:rect l="l" t="t" r="r" b="b"/>
                  <a:pathLst>
                    <a:path w="223" h="101">
                      <a:moveTo>
                        <a:pt x="25" y="101"/>
                      </a:moveTo>
                      <a:lnTo>
                        <a:pt x="71" y="77"/>
                      </a:lnTo>
                      <a:lnTo>
                        <a:pt x="108" y="63"/>
                      </a:lnTo>
                      <a:lnTo>
                        <a:pt x="150" y="46"/>
                      </a:lnTo>
                      <a:lnTo>
                        <a:pt x="185" y="32"/>
                      </a:lnTo>
                      <a:lnTo>
                        <a:pt x="223" y="28"/>
                      </a:lnTo>
                      <a:lnTo>
                        <a:pt x="216" y="0"/>
                      </a:lnTo>
                      <a:lnTo>
                        <a:pt x="168" y="7"/>
                      </a:lnTo>
                      <a:lnTo>
                        <a:pt x="119" y="22"/>
                      </a:lnTo>
                      <a:lnTo>
                        <a:pt x="71" y="42"/>
                      </a:lnTo>
                      <a:lnTo>
                        <a:pt x="29" y="63"/>
                      </a:lnTo>
                      <a:lnTo>
                        <a:pt x="0" y="84"/>
                      </a:lnTo>
                      <a:lnTo>
                        <a:pt x="25" y="101"/>
                      </a:lnTo>
                      <a:lnTo>
                        <a:pt x="25" y="101"/>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92" name=""/>
                <p:cNvSpPr/>
                <p:nvPr/>
              </p:nvSpPr>
              <p:spPr>
                <a:xfrm>
                  <a:off x="5731920" y="3939120"/>
                  <a:ext cx="95400" cy="118440"/>
                </a:xfrm>
                <a:custGeom>
                  <a:avLst/>
                  <a:gdLst/>
                  <a:ahLst/>
                  <a:rect l="l" t="t" r="r" b="b"/>
                  <a:pathLst>
                    <a:path w="379" h="502">
                      <a:moveTo>
                        <a:pt x="0" y="105"/>
                      </a:moveTo>
                      <a:lnTo>
                        <a:pt x="66" y="192"/>
                      </a:lnTo>
                      <a:lnTo>
                        <a:pt x="132" y="279"/>
                      </a:lnTo>
                      <a:lnTo>
                        <a:pt x="187" y="359"/>
                      </a:lnTo>
                      <a:lnTo>
                        <a:pt x="247" y="453"/>
                      </a:lnTo>
                      <a:lnTo>
                        <a:pt x="288" y="491"/>
                      </a:lnTo>
                      <a:lnTo>
                        <a:pt x="326" y="502"/>
                      </a:lnTo>
                      <a:lnTo>
                        <a:pt x="359" y="495"/>
                      </a:lnTo>
                      <a:lnTo>
                        <a:pt x="376" y="471"/>
                      </a:lnTo>
                      <a:lnTo>
                        <a:pt x="379" y="427"/>
                      </a:lnTo>
                      <a:lnTo>
                        <a:pt x="359" y="390"/>
                      </a:lnTo>
                      <a:lnTo>
                        <a:pt x="334" y="355"/>
                      </a:lnTo>
                      <a:lnTo>
                        <a:pt x="313" y="275"/>
                      </a:lnTo>
                      <a:lnTo>
                        <a:pt x="282" y="154"/>
                      </a:lnTo>
                      <a:lnTo>
                        <a:pt x="257" y="66"/>
                      </a:lnTo>
                      <a:lnTo>
                        <a:pt x="236" y="0"/>
                      </a:lnTo>
                      <a:lnTo>
                        <a:pt x="205" y="4"/>
                      </a:lnTo>
                      <a:lnTo>
                        <a:pt x="195" y="22"/>
                      </a:lnTo>
                      <a:lnTo>
                        <a:pt x="226" y="139"/>
                      </a:lnTo>
                      <a:lnTo>
                        <a:pt x="271" y="275"/>
                      </a:lnTo>
                      <a:lnTo>
                        <a:pt x="299" y="359"/>
                      </a:lnTo>
                      <a:lnTo>
                        <a:pt x="306" y="407"/>
                      </a:lnTo>
                      <a:lnTo>
                        <a:pt x="323" y="427"/>
                      </a:lnTo>
                      <a:lnTo>
                        <a:pt x="334" y="449"/>
                      </a:lnTo>
                      <a:lnTo>
                        <a:pt x="317" y="460"/>
                      </a:lnTo>
                      <a:lnTo>
                        <a:pt x="282" y="438"/>
                      </a:lnTo>
                      <a:lnTo>
                        <a:pt x="226" y="365"/>
                      </a:lnTo>
                      <a:lnTo>
                        <a:pt x="171" y="279"/>
                      </a:lnTo>
                      <a:lnTo>
                        <a:pt x="112" y="192"/>
                      </a:lnTo>
                      <a:lnTo>
                        <a:pt x="35" y="101"/>
                      </a:lnTo>
                      <a:lnTo>
                        <a:pt x="17" y="77"/>
                      </a:lnTo>
                      <a:lnTo>
                        <a:pt x="0"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93" name=""/>
            <p:cNvSpPr/>
            <p:nvPr/>
          </p:nvSpPr>
          <p:spPr>
            <a:xfrm flipV="1">
              <a:off x="1981080" y="3504960"/>
              <a:ext cx="0" cy="228600"/>
            </a:xfrm>
            <a:prstGeom prst="line">
              <a:avLst/>
            </a:prstGeom>
            <a:ln w="9360">
              <a:solidFill>
                <a:srgbClr val="57a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4" name=""/>
          <p:cNvGrpSpPr/>
          <p:nvPr/>
        </p:nvGrpSpPr>
        <p:grpSpPr>
          <a:xfrm>
            <a:off x="3352680" y="4266720"/>
            <a:ext cx="2438640" cy="702000"/>
            <a:chOff x="3352680" y="4266720"/>
            <a:chExt cx="2438640" cy="702000"/>
          </a:xfrm>
        </p:grpSpPr>
        <p:sp>
          <p:nvSpPr>
            <p:cNvPr id="295" name=""/>
            <p:cNvSpPr/>
            <p:nvPr/>
          </p:nvSpPr>
          <p:spPr>
            <a:xfrm flipH="1">
              <a:off x="4495320" y="4648320"/>
              <a:ext cx="1295640" cy="0"/>
            </a:xfrm>
            <a:prstGeom prst="line">
              <a:avLst/>
            </a:prstGeom>
            <a:ln w="9360">
              <a:solidFill>
                <a:srgbClr val="57a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96" name="PE01690_" descr=""/>
            <p:cNvPicPr/>
            <p:nvPr/>
          </p:nvPicPr>
          <p:blipFill>
            <a:blip r:embed="rId10"/>
            <a:stretch/>
          </p:blipFill>
          <p:spPr>
            <a:xfrm>
              <a:off x="3352680" y="4343400"/>
              <a:ext cx="1071720" cy="625320"/>
            </a:xfrm>
            <a:prstGeom prst="rect">
              <a:avLst/>
            </a:prstGeom>
            <a:ln w="0">
              <a:noFill/>
            </a:ln>
          </p:spPr>
        </p:pic>
        <p:sp>
          <p:nvSpPr>
            <p:cNvPr id="297" name=""/>
            <p:cNvSpPr/>
            <p:nvPr/>
          </p:nvSpPr>
          <p:spPr>
            <a:xfrm flipV="1">
              <a:off x="5791320" y="4266720"/>
              <a:ext cx="0" cy="381240"/>
            </a:xfrm>
            <a:prstGeom prst="line">
              <a:avLst/>
            </a:prstGeom>
            <a:ln w="9360">
              <a:solidFill>
                <a:srgbClr val="57a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8" name=""/>
          <p:cNvGrpSpPr/>
          <p:nvPr/>
        </p:nvGrpSpPr>
        <p:grpSpPr>
          <a:xfrm>
            <a:off x="1981080" y="5181480"/>
            <a:ext cx="2552760" cy="609480"/>
            <a:chOff x="1981080" y="5181480"/>
            <a:chExt cx="2552760" cy="609480"/>
          </a:xfrm>
        </p:grpSpPr>
        <p:sp>
          <p:nvSpPr>
            <p:cNvPr id="299" name=""/>
            <p:cNvSpPr/>
            <p:nvPr/>
          </p:nvSpPr>
          <p:spPr>
            <a:xfrm>
              <a:off x="1981080" y="5486400"/>
              <a:ext cx="1371600" cy="0"/>
            </a:xfrm>
            <a:prstGeom prst="line">
              <a:avLst/>
            </a:prstGeom>
            <a:ln w="9360">
              <a:solidFill>
                <a:srgbClr val="57a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0" name=""/>
            <p:cNvGrpSpPr/>
            <p:nvPr/>
          </p:nvGrpSpPr>
          <p:grpSpPr>
            <a:xfrm>
              <a:off x="3390840" y="5181480"/>
              <a:ext cx="1143000" cy="609480"/>
              <a:chOff x="3390840" y="5181480"/>
              <a:chExt cx="1143000" cy="609480"/>
            </a:xfrm>
          </p:grpSpPr>
          <p:grpSp>
            <p:nvGrpSpPr>
              <p:cNvPr id="301" name=""/>
              <p:cNvGrpSpPr/>
              <p:nvPr/>
            </p:nvGrpSpPr>
            <p:grpSpPr>
              <a:xfrm>
                <a:off x="3390840" y="5181480"/>
                <a:ext cx="1143000" cy="590400"/>
                <a:chOff x="3390840" y="5181480"/>
                <a:chExt cx="1143000" cy="590400"/>
              </a:xfrm>
            </p:grpSpPr>
            <p:sp>
              <p:nvSpPr>
                <p:cNvPr id="302" name=""/>
                <p:cNvSpPr/>
                <p:nvPr/>
              </p:nvSpPr>
              <p:spPr>
                <a:xfrm>
                  <a:off x="3390840" y="5181480"/>
                  <a:ext cx="1143000" cy="590400"/>
                </a:xfrm>
                <a:custGeom>
                  <a:avLst/>
                  <a:gdLst/>
                  <a:ahLst/>
                  <a:rect l="l" t="t" r="r" b="b"/>
                  <a:pathLst>
                    <a:path w="2256" h="1395">
                      <a:moveTo>
                        <a:pt x="1222" y="1395"/>
                      </a:moveTo>
                      <a:lnTo>
                        <a:pt x="1218" y="1389"/>
                      </a:lnTo>
                      <a:lnTo>
                        <a:pt x="1220" y="1380"/>
                      </a:lnTo>
                      <a:lnTo>
                        <a:pt x="1229" y="1365"/>
                      </a:lnTo>
                      <a:lnTo>
                        <a:pt x="1244" y="1348"/>
                      </a:lnTo>
                      <a:lnTo>
                        <a:pt x="1265" y="1326"/>
                      </a:lnTo>
                      <a:lnTo>
                        <a:pt x="1290" y="1300"/>
                      </a:lnTo>
                      <a:lnTo>
                        <a:pt x="1322" y="1272"/>
                      </a:lnTo>
                      <a:lnTo>
                        <a:pt x="1356" y="1242"/>
                      </a:lnTo>
                      <a:lnTo>
                        <a:pt x="1394" y="1208"/>
                      </a:lnTo>
                      <a:lnTo>
                        <a:pt x="1437" y="1173"/>
                      </a:lnTo>
                      <a:lnTo>
                        <a:pt x="1481" y="1136"/>
                      </a:lnTo>
                      <a:lnTo>
                        <a:pt x="1528" y="1098"/>
                      </a:lnTo>
                      <a:lnTo>
                        <a:pt x="1577" y="1057"/>
                      </a:lnTo>
                      <a:lnTo>
                        <a:pt x="1627" y="1017"/>
                      </a:lnTo>
                      <a:lnTo>
                        <a:pt x="1679" y="977"/>
                      </a:lnTo>
                      <a:lnTo>
                        <a:pt x="1731" y="935"/>
                      </a:lnTo>
                      <a:lnTo>
                        <a:pt x="1783" y="894"/>
                      </a:lnTo>
                      <a:lnTo>
                        <a:pt x="1834" y="854"/>
                      </a:lnTo>
                      <a:lnTo>
                        <a:pt x="1885" y="814"/>
                      </a:lnTo>
                      <a:lnTo>
                        <a:pt x="1935" y="775"/>
                      </a:lnTo>
                      <a:lnTo>
                        <a:pt x="1982" y="738"/>
                      </a:lnTo>
                      <a:lnTo>
                        <a:pt x="2027" y="703"/>
                      </a:lnTo>
                      <a:lnTo>
                        <a:pt x="2069" y="668"/>
                      </a:lnTo>
                      <a:lnTo>
                        <a:pt x="2109" y="637"/>
                      </a:lnTo>
                      <a:lnTo>
                        <a:pt x="2144" y="608"/>
                      </a:lnTo>
                      <a:lnTo>
                        <a:pt x="2177" y="583"/>
                      </a:lnTo>
                      <a:lnTo>
                        <a:pt x="2203" y="560"/>
                      </a:lnTo>
                      <a:lnTo>
                        <a:pt x="2225" y="542"/>
                      </a:lnTo>
                      <a:lnTo>
                        <a:pt x="2241" y="527"/>
                      </a:lnTo>
                      <a:lnTo>
                        <a:pt x="2252" y="515"/>
                      </a:lnTo>
                      <a:lnTo>
                        <a:pt x="2256" y="508"/>
                      </a:lnTo>
                      <a:lnTo>
                        <a:pt x="2253" y="507"/>
                      </a:lnTo>
                      <a:lnTo>
                        <a:pt x="2253" y="507"/>
                      </a:lnTo>
                      <a:lnTo>
                        <a:pt x="2247" y="505"/>
                      </a:lnTo>
                      <a:lnTo>
                        <a:pt x="2235" y="499"/>
                      </a:lnTo>
                      <a:lnTo>
                        <a:pt x="2220" y="492"/>
                      </a:lnTo>
                      <a:lnTo>
                        <a:pt x="2200" y="483"/>
                      </a:lnTo>
                      <a:lnTo>
                        <a:pt x="2175" y="471"/>
                      </a:lnTo>
                      <a:lnTo>
                        <a:pt x="2148" y="459"/>
                      </a:lnTo>
                      <a:lnTo>
                        <a:pt x="2116" y="444"/>
                      </a:lnTo>
                      <a:lnTo>
                        <a:pt x="2081" y="429"/>
                      </a:lnTo>
                      <a:lnTo>
                        <a:pt x="2044" y="411"/>
                      </a:lnTo>
                      <a:lnTo>
                        <a:pt x="2004" y="392"/>
                      </a:lnTo>
                      <a:lnTo>
                        <a:pt x="1962" y="373"/>
                      </a:lnTo>
                      <a:lnTo>
                        <a:pt x="1919" y="353"/>
                      </a:lnTo>
                      <a:lnTo>
                        <a:pt x="1874" y="332"/>
                      </a:lnTo>
                      <a:lnTo>
                        <a:pt x="1829" y="310"/>
                      </a:lnTo>
                      <a:lnTo>
                        <a:pt x="1781" y="288"/>
                      </a:lnTo>
                      <a:lnTo>
                        <a:pt x="1735" y="265"/>
                      </a:lnTo>
                      <a:lnTo>
                        <a:pt x="1688" y="243"/>
                      </a:lnTo>
                      <a:lnTo>
                        <a:pt x="1642" y="220"/>
                      </a:lnTo>
                      <a:lnTo>
                        <a:pt x="1597" y="198"/>
                      </a:lnTo>
                      <a:lnTo>
                        <a:pt x="1552" y="177"/>
                      </a:lnTo>
                      <a:lnTo>
                        <a:pt x="1509" y="155"/>
                      </a:lnTo>
                      <a:lnTo>
                        <a:pt x="1468" y="134"/>
                      </a:lnTo>
                      <a:lnTo>
                        <a:pt x="1429" y="114"/>
                      </a:lnTo>
                      <a:lnTo>
                        <a:pt x="1392" y="95"/>
                      </a:lnTo>
                      <a:lnTo>
                        <a:pt x="1358" y="77"/>
                      </a:lnTo>
                      <a:lnTo>
                        <a:pt x="1327" y="60"/>
                      </a:lnTo>
                      <a:lnTo>
                        <a:pt x="1301" y="45"/>
                      </a:lnTo>
                      <a:lnTo>
                        <a:pt x="1277" y="31"/>
                      </a:lnTo>
                      <a:lnTo>
                        <a:pt x="1258" y="19"/>
                      </a:lnTo>
                      <a:lnTo>
                        <a:pt x="1243" y="8"/>
                      </a:lnTo>
                      <a:lnTo>
                        <a:pt x="1234" y="0"/>
                      </a:lnTo>
                      <a:lnTo>
                        <a:pt x="1231" y="13"/>
                      </a:lnTo>
                      <a:lnTo>
                        <a:pt x="1220" y="28"/>
                      </a:lnTo>
                      <a:lnTo>
                        <a:pt x="1204" y="43"/>
                      </a:lnTo>
                      <a:lnTo>
                        <a:pt x="1183" y="60"/>
                      </a:lnTo>
                      <a:lnTo>
                        <a:pt x="1157" y="79"/>
                      </a:lnTo>
                      <a:lnTo>
                        <a:pt x="1126" y="98"/>
                      </a:lnTo>
                      <a:lnTo>
                        <a:pt x="1090" y="119"/>
                      </a:lnTo>
                      <a:lnTo>
                        <a:pt x="1051" y="140"/>
                      </a:lnTo>
                      <a:lnTo>
                        <a:pt x="1009" y="162"/>
                      </a:lnTo>
                      <a:lnTo>
                        <a:pt x="963" y="183"/>
                      </a:lnTo>
                      <a:lnTo>
                        <a:pt x="916" y="206"/>
                      </a:lnTo>
                      <a:lnTo>
                        <a:pt x="865" y="229"/>
                      </a:lnTo>
                      <a:lnTo>
                        <a:pt x="813" y="253"/>
                      </a:lnTo>
                      <a:lnTo>
                        <a:pt x="760" y="277"/>
                      </a:lnTo>
                      <a:lnTo>
                        <a:pt x="705" y="300"/>
                      </a:lnTo>
                      <a:lnTo>
                        <a:pt x="651" y="323"/>
                      </a:lnTo>
                      <a:lnTo>
                        <a:pt x="596" y="345"/>
                      </a:lnTo>
                      <a:lnTo>
                        <a:pt x="540" y="367"/>
                      </a:lnTo>
                      <a:lnTo>
                        <a:pt x="486" y="388"/>
                      </a:lnTo>
                      <a:lnTo>
                        <a:pt x="432" y="409"/>
                      </a:lnTo>
                      <a:lnTo>
                        <a:pt x="380" y="429"/>
                      </a:lnTo>
                      <a:lnTo>
                        <a:pt x="330" y="447"/>
                      </a:lnTo>
                      <a:lnTo>
                        <a:pt x="282" y="466"/>
                      </a:lnTo>
                      <a:lnTo>
                        <a:pt x="237" y="482"/>
                      </a:lnTo>
                      <a:lnTo>
                        <a:pt x="194" y="497"/>
                      </a:lnTo>
                      <a:lnTo>
                        <a:pt x="155" y="510"/>
                      </a:lnTo>
                      <a:lnTo>
                        <a:pt x="121" y="522"/>
                      </a:lnTo>
                      <a:lnTo>
                        <a:pt x="90" y="532"/>
                      </a:lnTo>
                      <a:lnTo>
                        <a:pt x="63" y="540"/>
                      </a:lnTo>
                      <a:lnTo>
                        <a:pt x="42" y="546"/>
                      </a:lnTo>
                      <a:lnTo>
                        <a:pt x="26" y="551"/>
                      </a:lnTo>
                      <a:lnTo>
                        <a:pt x="16" y="552"/>
                      </a:lnTo>
                      <a:lnTo>
                        <a:pt x="4" y="558"/>
                      </a:lnTo>
                      <a:lnTo>
                        <a:pt x="0" y="568"/>
                      </a:lnTo>
                      <a:lnTo>
                        <a:pt x="3" y="582"/>
                      </a:lnTo>
                      <a:lnTo>
                        <a:pt x="15" y="600"/>
                      </a:lnTo>
                      <a:lnTo>
                        <a:pt x="32" y="621"/>
                      </a:lnTo>
                      <a:lnTo>
                        <a:pt x="55" y="645"/>
                      </a:lnTo>
                      <a:lnTo>
                        <a:pt x="85" y="673"/>
                      </a:lnTo>
                      <a:lnTo>
                        <a:pt x="120" y="702"/>
                      </a:lnTo>
                      <a:lnTo>
                        <a:pt x="159" y="734"/>
                      </a:lnTo>
                      <a:lnTo>
                        <a:pt x="201" y="767"/>
                      </a:lnTo>
                      <a:lnTo>
                        <a:pt x="249" y="802"/>
                      </a:lnTo>
                      <a:lnTo>
                        <a:pt x="299" y="839"/>
                      </a:lnTo>
                      <a:lnTo>
                        <a:pt x="351" y="877"/>
                      </a:lnTo>
                      <a:lnTo>
                        <a:pt x="407" y="915"/>
                      </a:lnTo>
                      <a:lnTo>
                        <a:pt x="464" y="953"/>
                      </a:lnTo>
                      <a:lnTo>
                        <a:pt x="522" y="992"/>
                      </a:lnTo>
                      <a:lnTo>
                        <a:pt x="581" y="1031"/>
                      </a:lnTo>
                      <a:lnTo>
                        <a:pt x="640" y="1069"/>
                      </a:lnTo>
                      <a:lnTo>
                        <a:pt x="699" y="1106"/>
                      </a:lnTo>
                      <a:lnTo>
                        <a:pt x="757" y="1143"/>
                      </a:lnTo>
                      <a:lnTo>
                        <a:pt x="814" y="1178"/>
                      </a:lnTo>
                      <a:lnTo>
                        <a:pt x="870" y="1212"/>
                      </a:lnTo>
                      <a:lnTo>
                        <a:pt x="923" y="1243"/>
                      </a:lnTo>
                      <a:lnTo>
                        <a:pt x="974" y="1273"/>
                      </a:lnTo>
                      <a:lnTo>
                        <a:pt x="1021" y="1299"/>
                      </a:lnTo>
                      <a:lnTo>
                        <a:pt x="1065" y="1323"/>
                      </a:lnTo>
                      <a:lnTo>
                        <a:pt x="1104" y="1345"/>
                      </a:lnTo>
                      <a:lnTo>
                        <a:pt x="1138" y="1363"/>
                      </a:lnTo>
                      <a:lnTo>
                        <a:pt x="1168" y="1378"/>
                      </a:lnTo>
                      <a:lnTo>
                        <a:pt x="1192" y="1387"/>
                      </a:lnTo>
                      <a:lnTo>
                        <a:pt x="1211" y="1394"/>
                      </a:lnTo>
                      <a:lnTo>
                        <a:pt x="1222" y="13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3413880" y="5197320"/>
                  <a:ext cx="1097640" cy="555480"/>
                </a:xfrm>
                <a:custGeom>
                  <a:avLst/>
                  <a:gdLst/>
                  <a:ahLst/>
                  <a:rect l="l" t="t" r="r" b="b"/>
                  <a:pathLst>
                    <a:path w="2169" h="1312">
                      <a:moveTo>
                        <a:pt x="1151" y="1312"/>
                      </a:moveTo>
                      <a:lnTo>
                        <a:pt x="1146" y="1307"/>
                      </a:lnTo>
                      <a:lnTo>
                        <a:pt x="1149" y="1297"/>
                      </a:lnTo>
                      <a:lnTo>
                        <a:pt x="1158" y="1284"/>
                      </a:lnTo>
                      <a:lnTo>
                        <a:pt x="1173" y="1267"/>
                      </a:lnTo>
                      <a:lnTo>
                        <a:pt x="1194" y="1246"/>
                      </a:lnTo>
                      <a:lnTo>
                        <a:pt x="1219" y="1222"/>
                      </a:lnTo>
                      <a:lnTo>
                        <a:pt x="1249" y="1196"/>
                      </a:lnTo>
                      <a:lnTo>
                        <a:pt x="1282" y="1167"/>
                      </a:lnTo>
                      <a:lnTo>
                        <a:pt x="1320" y="1136"/>
                      </a:lnTo>
                      <a:lnTo>
                        <a:pt x="1362" y="1102"/>
                      </a:lnTo>
                      <a:lnTo>
                        <a:pt x="1406" y="1068"/>
                      </a:lnTo>
                      <a:lnTo>
                        <a:pt x="1452" y="1031"/>
                      </a:lnTo>
                      <a:lnTo>
                        <a:pt x="1500" y="994"/>
                      </a:lnTo>
                      <a:lnTo>
                        <a:pt x="1550" y="956"/>
                      </a:lnTo>
                      <a:lnTo>
                        <a:pt x="1600" y="917"/>
                      </a:lnTo>
                      <a:lnTo>
                        <a:pt x="1651" y="879"/>
                      </a:lnTo>
                      <a:lnTo>
                        <a:pt x="1702" y="840"/>
                      </a:lnTo>
                      <a:lnTo>
                        <a:pt x="1752" y="802"/>
                      </a:lnTo>
                      <a:lnTo>
                        <a:pt x="1803" y="765"/>
                      </a:lnTo>
                      <a:lnTo>
                        <a:pt x="1852" y="728"/>
                      </a:lnTo>
                      <a:lnTo>
                        <a:pt x="1898" y="692"/>
                      </a:lnTo>
                      <a:lnTo>
                        <a:pt x="1943" y="659"/>
                      </a:lnTo>
                      <a:lnTo>
                        <a:pt x="1984" y="628"/>
                      </a:lnTo>
                      <a:lnTo>
                        <a:pt x="2023" y="598"/>
                      </a:lnTo>
                      <a:lnTo>
                        <a:pt x="2059" y="570"/>
                      </a:lnTo>
                      <a:lnTo>
                        <a:pt x="2090" y="546"/>
                      </a:lnTo>
                      <a:lnTo>
                        <a:pt x="2117" y="525"/>
                      </a:lnTo>
                      <a:lnTo>
                        <a:pt x="2137" y="507"/>
                      </a:lnTo>
                      <a:lnTo>
                        <a:pt x="2155" y="493"/>
                      </a:lnTo>
                      <a:lnTo>
                        <a:pt x="2165" y="483"/>
                      </a:lnTo>
                      <a:lnTo>
                        <a:pt x="2169" y="476"/>
                      </a:lnTo>
                      <a:lnTo>
                        <a:pt x="2166" y="475"/>
                      </a:lnTo>
                      <a:lnTo>
                        <a:pt x="2169" y="476"/>
                      </a:lnTo>
                      <a:lnTo>
                        <a:pt x="2164" y="474"/>
                      </a:lnTo>
                      <a:lnTo>
                        <a:pt x="2156" y="470"/>
                      </a:lnTo>
                      <a:lnTo>
                        <a:pt x="2142" y="463"/>
                      </a:lnTo>
                      <a:lnTo>
                        <a:pt x="2125" y="455"/>
                      </a:lnTo>
                      <a:lnTo>
                        <a:pt x="2103" y="446"/>
                      </a:lnTo>
                      <a:lnTo>
                        <a:pt x="2077" y="433"/>
                      </a:lnTo>
                      <a:lnTo>
                        <a:pt x="2049" y="421"/>
                      </a:lnTo>
                      <a:lnTo>
                        <a:pt x="2018" y="406"/>
                      </a:lnTo>
                      <a:lnTo>
                        <a:pt x="1983" y="390"/>
                      </a:lnTo>
                      <a:lnTo>
                        <a:pt x="1945" y="372"/>
                      </a:lnTo>
                      <a:lnTo>
                        <a:pt x="1907" y="354"/>
                      </a:lnTo>
                      <a:lnTo>
                        <a:pt x="1865" y="335"/>
                      </a:lnTo>
                      <a:lnTo>
                        <a:pt x="1824" y="316"/>
                      </a:lnTo>
                      <a:lnTo>
                        <a:pt x="1780" y="295"/>
                      </a:lnTo>
                      <a:lnTo>
                        <a:pt x="1736" y="274"/>
                      </a:lnTo>
                      <a:lnTo>
                        <a:pt x="1691" y="254"/>
                      </a:lnTo>
                      <a:lnTo>
                        <a:pt x="1648" y="232"/>
                      </a:lnTo>
                      <a:lnTo>
                        <a:pt x="1603" y="211"/>
                      </a:lnTo>
                      <a:lnTo>
                        <a:pt x="1560" y="189"/>
                      </a:lnTo>
                      <a:lnTo>
                        <a:pt x="1516" y="168"/>
                      </a:lnTo>
                      <a:lnTo>
                        <a:pt x="1475" y="149"/>
                      </a:lnTo>
                      <a:lnTo>
                        <a:pt x="1436" y="128"/>
                      </a:lnTo>
                      <a:lnTo>
                        <a:pt x="1398" y="110"/>
                      </a:lnTo>
                      <a:lnTo>
                        <a:pt x="1361" y="91"/>
                      </a:lnTo>
                      <a:lnTo>
                        <a:pt x="1327" y="74"/>
                      </a:lnTo>
                      <a:lnTo>
                        <a:pt x="1297" y="58"/>
                      </a:lnTo>
                      <a:lnTo>
                        <a:pt x="1270" y="43"/>
                      </a:lnTo>
                      <a:lnTo>
                        <a:pt x="1247" y="30"/>
                      </a:lnTo>
                      <a:lnTo>
                        <a:pt x="1226" y="19"/>
                      </a:lnTo>
                      <a:lnTo>
                        <a:pt x="1211" y="8"/>
                      </a:lnTo>
                      <a:lnTo>
                        <a:pt x="1199" y="0"/>
                      </a:lnTo>
                      <a:lnTo>
                        <a:pt x="1190" y="14"/>
                      </a:lnTo>
                      <a:lnTo>
                        <a:pt x="1174" y="28"/>
                      </a:lnTo>
                      <a:lnTo>
                        <a:pt x="1154" y="44"/>
                      </a:lnTo>
                      <a:lnTo>
                        <a:pt x="1129" y="61"/>
                      </a:lnTo>
                      <a:lnTo>
                        <a:pt x="1100" y="80"/>
                      </a:lnTo>
                      <a:lnTo>
                        <a:pt x="1067" y="98"/>
                      </a:lnTo>
                      <a:lnTo>
                        <a:pt x="1030" y="118"/>
                      </a:lnTo>
                      <a:lnTo>
                        <a:pt x="991" y="139"/>
                      </a:lnTo>
                      <a:lnTo>
                        <a:pt x="948" y="159"/>
                      </a:lnTo>
                      <a:lnTo>
                        <a:pt x="902" y="181"/>
                      </a:lnTo>
                      <a:lnTo>
                        <a:pt x="855" y="203"/>
                      </a:lnTo>
                      <a:lnTo>
                        <a:pt x="806" y="225"/>
                      </a:lnTo>
                      <a:lnTo>
                        <a:pt x="756" y="247"/>
                      </a:lnTo>
                      <a:lnTo>
                        <a:pt x="704" y="269"/>
                      </a:lnTo>
                      <a:lnTo>
                        <a:pt x="652" y="291"/>
                      </a:lnTo>
                      <a:lnTo>
                        <a:pt x="599" y="312"/>
                      </a:lnTo>
                      <a:lnTo>
                        <a:pt x="547" y="333"/>
                      </a:lnTo>
                      <a:lnTo>
                        <a:pt x="495" y="354"/>
                      </a:lnTo>
                      <a:lnTo>
                        <a:pt x="443" y="375"/>
                      </a:lnTo>
                      <a:lnTo>
                        <a:pt x="394" y="393"/>
                      </a:lnTo>
                      <a:lnTo>
                        <a:pt x="344" y="411"/>
                      </a:lnTo>
                      <a:lnTo>
                        <a:pt x="298" y="430"/>
                      </a:lnTo>
                      <a:lnTo>
                        <a:pt x="253" y="446"/>
                      </a:lnTo>
                      <a:lnTo>
                        <a:pt x="212" y="461"/>
                      </a:lnTo>
                      <a:lnTo>
                        <a:pt x="173" y="475"/>
                      </a:lnTo>
                      <a:lnTo>
                        <a:pt x="137" y="487"/>
                      </a:lnTo>
                      <a:lnTo>
                        <a:pt x="106" y="499"/>
                      </a:lnTo>
                      <a:lnTo>
                        <a:pt x="78" y="508"/>
                      </a:lnTo>
                      <a:lnTo>
                        <a:pt x="55" y="515"/>
                      </a:lnTo>
                      <a:lnTo>
                        <a:pt x="35" y="521"/>
                      </a:lnTo>
                      <a:lnTo>
                        <a:pt x="23" y="524"/>
                      </a:lnTo>
                      <a:lnTo>
                        <a:pt x="15" y="525"/>
                      </a:lnTo>
                      <a:lnTo>
                        <a:pt x="3" y="531"/>
                      </a:lnTo>
                      <a:lnTo>
                        <a:pt x="0" y="540"/>
                      </a:lnTo>
                      <a:lnTo>
                        <a:pt x="2" y="553"/>
                      </a:lnTo>
                      <a:lnTo>
                        <a:pt x="12" y="570"/>
                      </a:lnTo>
                      <a:lnTo>
                        <a:pt x="28" y="590"/>
                      </a:lnTo>
                      <a:lnTo>
                        <a:pt x="50" y="613"/>
                      </a:lnTo>
                      <a:lnTo>
                        <a:pt x="78" y="637"/>
                      </a:lnTo>
                      <a:lnTo>
                        <a:pt x="110" y="665"/>
                      </a:lnTo>
                      <a:lnTo>
                        <a:pt x="147" y="695"/>
                      </a:lnTo>
                      <a:lnTo>
                        <a:pt x="189" y="726"/>
                      </a:lnTo>
                      <a:lnTo>
                        <a:pt x="232" y="758"/>
                      </a:lnTo>
                      <a:lnTo>
                        <a:pt x="280" y="793"/>
                      </a:lnTo>
                      <a:lnTo>
                        <a:pt x="329" y="827"/>
                      </a:lnTo>
                      <a:lnTo>
                        <a:pt x="381" y="863"/>
                      </a:lnTo>
                      <a:lnTo>
                        <a:pt x="435" y="900"/>
                      </a:lnTo>
                      <a:lnTo>
                        <a:pt x="489" y="935"/>
                      </a:lnTo>
                      <a:lnTo>
                        <a:pt x="546" y="971"/>
                      </a:lnTo>
                      <a:lnTo>
                        <a:pt x="601" y="1007"/>
                      </a:lnTo>
                      <a:lnTo>
                        <a:pt x="657" y="1042"/>
                      </a:lnTo>
                      <a:lnTo>
                        <a:pt x="712" y="1076"/>
                      </a:lnTo>
                      <a:lnTo>
                        <a:pt x="766" y="1109"/>
                      </a:lnTo>
                      <a:lnTo>
                        <a:pt x="818" y="1140"/>
                      </a:lnTo>
                      <a:lnTo>
                        <a:pt x="867" y="1170"/>
                      </a:lnTo>
                      <a:lnTo>
                        <a:pt x="916" y="1198"/>
                      </a:lnTo>
                      <a:lnTo>
                        <a:pt x="961" y="1223"/>
                      </a:lnTo>
                      <a:lnTo>
                        <a:pt x="1001" y="1245"/>
                      </a:lnTo>
                      <a:lnTo>
                        <a:pt x="1039" y="1265"/>
                      </a:lnTo>
                      <a:lnTo>
                        <a:pt x="1071" y="1282"/>
                      </a:lnTo>
                      <a:lnTo>
                        <a:pt x="1100" y="1295"/>
                      </a:lnTo>
                      <a:lnTo>
                        <a:pt x="1123" y="1305"/>
                      </a:lnTo>
                      <a:lnTo>
                        <a:pt x="1141" y="1311"/>
                      </a:lnTo>
                      <a:lnTo>
                        <a:pt x="1151" y="13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4137840" y="5301720"/>
                  <a:ext cx="109080" cy="60120"/>
                </a:xfrm>
                <a:custGeom>
                  <a:avLst/>
                  <a:gdLst/>
                  <a:ahLst/>
                  <a:rect l="l" t="t" r="r" b="b"/>
                  <a:pathLst>
                    <a:path w="216" h="141">
                      <a:moveTo>
                        <a:pt x="108" y="0"/>
                      </a:moveTo>
                      <a:lnTo>
                        <a:pt x="122" y="10"/>
                      </a:lnTo>
                      <a:lnTo>
                        <a:pt x="139" y="2"/>
                      </a:lnTo>
                      <a:lnTo>
                        <a:pt x="147" y="15"/>
                      </a:lnTo>
                      <a:lnTo>
                        <a:pt x="167" y="10"/>
                      </a:lnTo>
                      <a:lnTo>
                        <a:pt x="169" y="24"/>
                      </a:lnTo>
                      <a:lnTo>
                        <a:pt x="190" y="24"/>
                      </a:lnTo>
                      <a:lnTo>
                        <a:pt x="187" y="38"/>
                      </a:lnTo>
                      <a:lnTo>
                        <a:pt x="207" y="41"/>
                      </a:lnTo>
                      <a:lnTo>
                        <a:pt x="198" y="53"/>
                      </a:lnTo>
                      <a:lnTo>
                        <a:pt x="216" y="61"/>
                      </a:lnTo>
                      <a:lnTo>
                        <a:pt x="201" y="70"/>
                      </a:lnTo>
                      <a:lnTo>
                        <a:pt x="216" y="80"/>
                      </a:lnTo>
                      <a:lnTo>
                        <a:pt x="198" y="87"/>
                      </a:lnTo>
                      <a:lnTo>
                        <a:pt x="207" y="100"/>
                      </a:lnTo>
                      <a:lnTo>
                        <a:pt x="187" y="103"/>
                      </a:lnTo>
                      <a:lnTo>
                        <a:pt x="190" y="117"/>
                      </a:lnTo>
                      <a:lnTo>
                        <a:pt x="169" y="116"/>
                      </a:lnTo>
                      <a:lnTo>
                        <a:pt x="167" y="130"/>
                      </a:lnTo>
                      <a:lnTo>
                        <a:pt x="147" y="126"/>
                      </a:lnTo>
                      <a:lnTo>
                        <a:pt x="139" y="139"/>
                      </a:lnTo>
                      <a:lnTo>
                        <a:pt x="122" y="131"/>
                      </a:lnTo>
                      <a:lnTo>
                        <a:pt x="108" y="141"/>
                      </a:lnTo>
                      <a:lnTo>
                        <a:pt x="94" y="131"/>
                      </a:lnTo>
                      <a:lnTo>
                        <a:pt x="77" y="139"/>
                      </a:lnTo>
                      <a:lnTo>
                        <a:pt x="69" y="126"/>
                      </a:lnTo>
                      <a:lnTo>
                        <a:pt x="49" y="130"/>
                      </a:lnTo>
                      <a:lnTo>
                        <a:pt x="47" y="116"/>
                      </a:lnTo>
                      <a:lnTo>
                        <a:pt x="25" y="117"/>
                      </a:lnTo>
                      <a:lnTo>
                        <a:pt x="30" y="103"/>
                      </a:lnTo>
                      <a:lnTo>
                        <a:pt x="9" y="100"/>
                      </a:lnTo>
                      <a:lnTo>
                        <a:pt x="18" y="87"/>
                      </a:lnTo>
                      <a:lnTo>
                        <a:pt x="0" y="80"/>
                      </a:lnTo>
                      <a:lnTo>
                        <a:pt x="15" y="70"/>
                      </a:lnTo>
                      <a:lnTo>
                        <a:pt x="0" y="61"/>
                      </a:lnTo>
                      <a:lnTo>
                        <a:pt x="18" y="54"/>
                      </a:lnTo>
                      <a:lnTo>
                        <a:pt x="9" y="41"/>
                      </a:lnTo>
                      <a:lnTo>
                        <a:pt x="30" y="38"/>
                      </a:lnTo>
                      <a:lnTo>
                        <a:pt x="25" y="24"/>
                      </a:lnTo>
                      <a:lnTo>
                        <a:pt x="47" y="24"/>
                      </a:lnTo>
                      <a:lnTo>
                        <a:pt x="49" y="10"/>
                      </a:lnTo>
                      <a:lnTo>
                        <a:pt x="69" y="15"/>
                      </a:lnTo>
                      <a:lnTo>
                        <a:pt x="77" y="2"/>
                      </a:lnTo>
                      <a:lnTo>
                        <a:pt x="94" y="10"/>
                      </a:lnTo>
                      <a:lnTo>
                        <a:pt x="108" y="0"/>
                      </a:lnTo>
                      <a:close/>
                    </a:path>
                  </a:pathLst>
                </a:custGeom>
                <a:solidFill>
                  <a:srgbClr val="9e9e3f"/>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05" name=""/>
                <p:cNvSpPr/>
                <p:nvPr/>
              </p:nvSpPr>
              <p:spPr>
                <a:xfrm>
                  <a:off x="4013280" y="5246640"/>
                  <a:ext cx="115200" cy="55800"/>
                </a:xfrm>
                <a:custGeom>
                  <a:avLst/>
                  <a:gdLst/>
                  <a:ahLst/>
                  <a:rect l="l" t="t" r="r" b="b"/>
                  <a:pathLst>
                    <a:path w="230" h="131">
                      <a:moveTo>
                        <a:pt x="0" y="0"/>
                      </a:moveTo>
                      <a:lnTo>
                        <a:pt x="3" y="1"/>
                      </a:lnTo>
                      <a:lnTo>
                        <a:pt x="7" y="4"/>
                      </a:lnTo>
                      <a:lnTo>
                        <a:pt x="16" y="9"/>
                      </a:lnTo>
                      <a:lnTo>
                        <a:pt x="27" y="15"/>
                      </a:lnTo>
                      <a:lnTo>
                        <a:pt x="41" y="23"/>
                      </a:lnTo>
                      <a:lnTo>
                        <a:pt x="56" y="32"/>
                      </a:lnTo>
                      <a:lnTo>
                        <a:pt x="73" y="41"/>
                      </a:lnTo>
                      <a:lnTo>
                        <a:pt x="91" y="51"/>
                      </a:lnTo>
                      <a:lnTo>
                        <a:pt x="110" y="62"/>
                      </a:lnTo>
                      <a:lnTo>
                        <a:pt x="128" y="72"/>
                      </a:lnTo>
                      <a:lnTo>
                        <a:pt x="148" y="83"/>
                      </a:lnTo>
                      <a:lnTo>
                        <a:pt x="166" y="93"/>
                      </a:lnTo>
                      <a:lnTo>
                        <a:pt x="185" y="102"/>
                      </a:lnTo>
                      <a:lnTo>
                        <a:pt x="201" y="110"/>
                      </a:lnTo>
                      <a:lnTo>
                        <a:pt x="217" y="117"/>
                      </a:lnTo>
                      <a:lnTo>
                        <a:pt x="230" y="123"/>
                      </a:lnTo>
                      <a:lnTo>
                        <a:pt x="220" y="131"/>
                      </a:lnTo>
                      <a:lnTo>
                        <a:pt x="218" y="130"/>
                      </a:lnTo>
                      <a:lnTo>
                        <a:pt x="212" y="127"/>
                      </a:lnTo>
                      <a:lnTo>
                        <a:pt x="203" y="124"/>
                      </a:lnTo>
                      <a:lnTo>
                        <a:pt x="192" y="118"/>
                      </a:lnTo>
                      <a:lnTo>
                        <a:pt x="178" y="111"/>
                      </a:lnTo>
                      <a:lnTo>
                        <a:pt x="162" y="103"/>
                      </a:lnTo>
                      <a:lnTo>
                        <a:pt x="143" y="95"/>
                      </a:lnTo>
                      <a:lnTo>
                        <a:pt x="125" y="86"/>
                      </a:lnTo>
                      <a:lnTo>
                        <a:pt x="106" y="76"/>
                      </a:lnTo>
                      <a:lnTo>
                        <a:pt x="87" y="65"/>
                      </a:lnTo>
                      <a:lnTo>
                        <a:pt x="68" y="54"/>
                      </a:lnTo>
                      <a:lnTo>
                        <a:pt x="51" y="43"/>
                      </a:lnTo>
                      <a:lnTo>
                        <a:pt x="35" y="32"/>
                      </a:lnTo>
                      <a:lnTo>
                        <a:pt x="21" y="20"/>
                      </a:lnTo>
                      <a:lnTo>
                        <a:pt x="9" y="10"/>
                      </a:lnTo>
                      <a:lnTo>
                        <a:pt x="0" y="0"/>
                      </a:lnTo>
                      <a:close/>
                    </a:path>
                  </a:pathLst>
                </a:custGeom>
                <a:solidFill>
                  <a:srgbClr val="93d3d3"/>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06" name=""/>
                <p:cNvSpPr/>
                <p:nvPr/>
              </p:nvSpPr>
              <p:spPr>
                <a:xfrm>
                  <a:off x="3994920" y="5259240"/>
                  <a:ext cx="120240" cy="60120"/>
                </a:xfrm>
                <a:custGeom>
                  <a:avLst/>
                  <a:gdLst/>
                  <a:ahLst/>
                  <a:rect l="l" t="t" r="r" b="b"/>
                  <a:pathLst>
                    <a:path w="237" h="142">
                      <a:moveTo>
                        <a:pt x="0" y="0"/>
                      </a:moveTo>
                      <a:lnTo>
                        <a:pt x="2" y="2"/>
                      </a:lnTo>
                      <a:lnTo>
                        <a:pt x="8" y="5"/>
                      </a:lnTo>
                      <a:lnTo>
                        <a:pt x="16" y="11"/>
                      </a:lnTo>
                      <a:lnTo>
                        <a:pt x="27" y="18"/>
                      </a:lnTo>
                      <a:lnTo>
                        <a:pt x="41" y="26"/>
                      </a:lnTo>
                      <a:lnTo>
                        <a:pt x="57" y="36"/>
                      </a:lnTo>
                      <a:lnTo>
                        <a:pt x="75" y="46"/>
                      </a:lnTo>
                      <a:lnTo>
                        <a:pt x="94" y="58"/>
                      </a:lnTo>
                      <a:lnTo>
                        <a:pt x="114" y="70"/>
                      </a:lnTo>
                      <a:lnTo>
                        <a:pt x="133" y="81"/>
                      </a:lnTo>
                      <a:lnTo>
                        <a:pt x="153" y="91"/>
                      </a:lnTo>
                      <a:lnTo>
                        <a:pt x="172" y="103"/>
                      </a:lnTo>
                      <a:lnTo>
                        <a:pt x="191" y="112"/>
                      </a:lnTo>
                      <a:lnTo>
                        <a:pt x="208" y="121"/>
                      </a:lnTo>
                      <a:lnTo>
                        <a:pt x="223" y="128"/>
                      </a:lnTo>
                      <a:lnTo>
                        <a:pt x="237" y="134"/>
                      </a:lnTo>
                      <a:lnTo>
                        <a:pt x="227" y="142"/>
                      </a:lnTo>
                      <a:lnTo>
                        <a:pt x="224" y="141"/>
                      </a:lnTo>
                      <a:lnTo>
                        <a:pt x="219" y="139"/>
                      </a:lnTo>
                      <a:lnTo>
                        <a:pt x="209" y="134"/>
                      </a:lnTo>
                      <a:lnTo>
                        <a:pt x="197" y="127"/>
                      </a:lnTo>
                      <a:lnTo>
                        <a:pt x="182" y="120"/>
                      </a:lnTo>
                      <a:lnTo>
                        <a:pt x="166" y="111"/>
                      </a:lnTo>
                      <a:lnTo>
                        <a:pt x="147" y="102"/>
                      </a:lnTo>
                      <a:lnTo>
                        <a:pt x="129" y="91"/>
                      </a:lnTo>
                      <a:lnTo>
                        <a:pt x="109" y="81"/>
                      </a:lnTo>
                      <a:lnTo>
                        <a:pt x="90" y="70"/>
                      </a:lnTo>
                      <a:lnTo>
                        <a:pt x="70" y="57"/>
                      </a:lnTo>
                      <a:lnTo>
                        <a:pt x="53" y="45"/>
                      </a:lnTo>
                      <a:lnTo>
                        <a:pt x="35" y="34"/>
                      </a:lnTo>
                      <a:lnTo>
                        <a:pt x="22" y="22"/>
                      </a:lnTo>
                      <a:lnTo>
                        <a:pt x="9" y="11"/>
                      </a:lnTo>
                      <a:lnTo>
                        <a:pt x="0" y="0"/>
                      </a:lnTo>
                      <a:close/>
                    </a:path>
                  </a:pathLst>
                </a:custGeom>
                <a:solidFill>
                  <a:srgbClr val="93d3d3"/>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07" name=""/>
                <p:cNvSpPr/>
                <p:nvPr/>
              </p:nvSpPr>
              <p:spPr>
                <a:xfrm>
                  <a:off x="3980880" y="5271840"/>
                  <a:ext cx="106200" cy="55800"/>
                </a:xfrm>
                <a:custGeom>
                  <a:avLst/>
                  <a:gdLst/>
                  <a:ahLst/>
                  <a:rect l="l" t="t" r="r" b="b"/>
                  <a:pathLst>
                    <a:path w="209" h="133">
                      <a:moveTo>
                        <a:pt x="0" y="0"/>
                      </a:moveTo>
                      <a:lnTo>
                        <a:pt x="1" y="2"/>
                      </a:lnTo>
                      <a:lnTo>
                        <a:pt x="6" y="5"/>
                      </a:lnTo>
                      <a:lnTo>
                        <a:pt x="14" y="10"/>
                      </a:lnTo>
                      <a:lnTo>
                        <a:pt x="23" y="16"/>
                      </a:lnTo>
                      <a:lnTo>
                        <a:pt x="35" y="23"/>
                      </a:lnTo>
                      <a:lnTo>
                        <a:pt x="48" y="33"/>
                      </a:lnTo>
                      <a:lnTo>
                        <a:pt x="63" y="42"/>
                      </a:lnTo>
                      <a:lnTo>
                        <a:pt x="79" y="52"/>
                      </a:lnTo>
                      <a:lnTo>
                        <a:pt x="97" y="64"/>
                      </a:lnTo>
                      <a:lnTo>
                        <a:pt x="114" y="74"/>
                      </a:lnTo>
                      <a:lnTo>
                        <a:pt x="131" y="84"/>
                      </a:lnTo>
                      <a:lnTo>
                        <a:pt x="149" y="94"/>
                      </a:lnTo>
                      <a:lnTo>
                        <a:pt x="165" y="103"/>
                      </a:lnTo>
                      <a:lnTo>
                        <a:pt x="181" y="112"/>
                      </a:lnTo>
                      <a:lnTo>
                        <a:pt x="196" y="119"/>
                      </a:lnTo>
                      <a:lnTo>
                        <a:pt x="209" y="125"/>
                      </a:lnTo>
                      <a:lnTo>
                        <a:pt x="198" y="133"/>
                      </a:lnTo>
                      <a:lnTo>
                        <a:pt x="196" y="132"/>
                      </a:lnTo>
                      <a:lnTo>
                        <a:pt x="191" y="129"/>
                      </a:lnTo>
                      <a:lnTo>
                        <a:pt x="183" y="126"/>
                      </a:lnTo>
                      <a:lnTo>
                        <a:pt x="173" y="120"/>
                      </a:lnTo>
                      <a:lnTo>
                        <a:pt x="160" y="113"/>
                      </a:lnTo>
                      <a:lnTo>
                        <a:pt x="146" y="105"/>
                      </a:lnTo>
                      <a:lnTo>
                        <a:pt x="130" y="97"/>
                      </a:lnTo>
                      <a:lnTo>
                        <a:pt x="114" y="87"/>
                      </a:lnTo>
                      <a:lnTo>
                        <a:pt x="97" y="78"/>
                      </a:lnTo>
                      <a:lnTo>
                        <a:pt x="81" y="66"/>
                      </a:lnTo>
                      <a:lnTo>
                        <a:pt x="63" y="56"/>
                      </a:lnTo>
                      <a:lnTo>
                        <a:pt x="48" y="44"/>
                      </a:lnTo>
                      <a:lnTo>
                        <a:pt x="33" y="33"/>
                      </a:lnTo>
                      <a:lnTo>
                        <a:pt x="20" y="22"/>
                      </a:lnTo>
                      <a:lnTo>
                        <a:pt x="9" y="11"/>
                      </a:lnTo>
                      <a:lnTo>
                        <a:pt x="0" y="0"/>
                      </a:lnTo>
                      <a:close/>
                    </a:path>
                  </a:pathLst>
                </a:custGeom>
                <a:solidFill>
                  <a:srgbClr val="93d3d3"/>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08" name=""/>
                <p:cNvSpPr/>
                <p:nvPr/>
              </p:nvSpPr>
              <p:spPr>
                <a:xfrm>
                  <a:off x="3944520" y="5283720"/>
                  <a:ext cx="358200" cy="177120"/>
                </a:xfrm>
                <a:custGeom>
                  <a:avLst/>
                  <a:gdLst/>
                  <a:ahLst/>
                  <a:rect l="l" t="t" r="r" b="b"/>
                  <a:pathLst>
                    <a:path w="709" h="418">
                      <a:moveTo>
                        <a:pt x="0" y="0"/>
                      </a:moveTo>
                      <a:lnTo>
                        <a:pt x="7" y="5"/>
                      </a:lnTo>
                      <a:lnTo>
                        <a:pt x="28" y="16"/>
                      </a:lnTo>
                      <a:lnTo>
                        <a:pt x="60" y="36"/>
                      </a:lnTo>
                      <a:lnTo>
                        <a:pt x="102" y="61"/>
                      </a:lnTo>
                      <a:lnTo>
                        <a:pt x="151" y="90"/>
                      </a:lnTo>
                      <a:lnTo>
                        <a:pt x="208" y="123"/>
                      </a:lnTo>
                      <a:lnTo>
                        <a:pt x="268" y="159"/>
                      </a:lnTo>
                      <a:lnTo>
                        <a:pt x="330" y="196"/>
                      </a:lnTo>
                      <a:lnTo>
                        <a:pt x="393" y="233"/>
                      </a:lnTo>
                      <a:lnTo>
                        <a:pt x="455" y="270"/>
                      </a:lnTo>
                      <a:lnTo>
                        <a:pt x="515" y="304"/>
                      </a:lnTo>
                      <a:lnTo>
                        <a:pt x="571" y="335"/>
                      </a:lnTo>
                      <a:lnTo>
                        <a:pt x="619" y="363"/>
                      </a:lnTo>
                      <a:lnTo>
                        <a:pt x="659" y="385"/>
                      </a:lnTo>
                      <a:lnTo>
                        <a:pt x="691" y="401"/>
                      </a:lnTo>
                      <a:lnTo>
                        <a:pt x="709" y="410"/>
                      </a:lnTo>
                      <a:lnTo>
                        <a:pt x="699" y="418"/>
                      </a:lnTo>
                      <a:lnTo>
                        <a:pt x="692" y="414"/>
                      </a:lnTo>
                      <a:lnTo>
                        <a:pt x="670" y="402"/>
                      </a:lnTo>
                      <a:lnTo>
                        <a:pt x="638" y="385"/>
                      </a:lnTo>
                      <a:lnTo>
                        <a:pt x="595" y="361"/>
                      </a:lnTo>
                      <a:lnTo>
                        <a:pt x="544" y="332"/>
                      </a:lnTo>
                      <a:lnTo>
                        <a:pt x="488" y="301"/>
                      </a:lnTo>
                      <a:lnTo>
                        <a:pt x="427" y="266"/>
                      </a:lnTo>
                      <a:lnTo>
                        <a:pt x="364" y="229"/>
                      </a:lnTo>
                      <a:lnTo>
                        <a:pt x="301" y="194"/>
                      </a:lnTo>
                      <a:lnTo>
                        <a:pt x="239" y="157"/>
                      </a:lnTo>
                      <a:lnTo>
                        <a:pt x="180" y="121"/>
                      </a:lnTo>
                      <a:lnTo>
                        <a:pt x="126" y="89"/>
                      </a:lnTo>
                      <a:lnTo>
                        <a:pt x="80" y="59"/>
                      </a:lnTo>
                      <a:lnTo>
                        <a:pt x="42" y="34"/>
                      </a:lnTo>
                      <a:lnTo>
                        <a:pt x="14" y="14"/>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3915000" y="5294880"/>
                  <a:ext cx="364320" cy="181080"/>
                </a:xfrm>
                <a:custGeom>
                  <a:avLst/>
                  <a:gdLst/>
                  <a:ahLst/>
                  <a:rect l="l" t="t" r="r" b="b"/>
                  <a:pathLst>
                    <a:path w="719" h="428">
                      <a:moveTo>
                        <a:pt x="0" y="0"/>
                      </a:moveTo>
                      <a:lnTo>
                        <a:pt x="7" y="4"/>
                      </a:lnTo>
                      <a:lnTo>
                        <a:pt x="27" y="17"/>
                      </a:lnTo>
                      <a:lnTo>
                        <a:pt x="61" y="36"/>
                      </a:lnTo>
                      <a:lnTo>
                        <a:pt x="102" y="62"/>
                      </a:lnTo>
                      <a:lnTo>
                        <a:pt x="153" y="92"/>
                      </a:lnTo>
                      <a:lnTo>
                        <a:pt x="209" y="126"/>
                      </a:lnTo>
                      <a:lnTo>
                        <a:pt x="271" y="162"/>
                      </a:lnTo>
                      <a:lnTo>
                        <a:pt x="335" y="200"/>
                      </a:lnTo>
                      <a:lnTo>
                        <a:pt x="400" y="238"/>
                      </a:lnTo>
                      <a:lnTo>
                        <a:pt x="463" y="276"/>
                      </a:lnTo>
                      <a:lnTo>
                        <a:pt x="523" y="312"/>
                      </a:lnTo>
                      <a:lnTo>
                        <a:pt x="578" y="344"/>
                      </a:lnTo>
                      <a:lnTo>
                        <a:pt x="628" y="372"/>
                      </a:lnTo>
                      <a:lnTo>
                        <a:pt x="669" y="395"/>
                      </a:lnTo>
                      <a:lnTo>
                        <a:pt x="700" y="411"/>
                      </a:lnTo>
                      <a:lnTo>
                        <a:pt x="719" y="420"/>
                      </a:lnTo>
                      <a:lnTo>
                        <a:pt x="708" y="428"/>
                      </a:lnTo>
                      <a:lnTo>
                        <a:pt x="700" y="423"/>
                      </a:lnTo>
                      <a:lnTo>
                        <a:pt x="680" y="412"/>
                      </a:lnTo>
                      <a:lnTo>
                        <a:pt x="646" y="393"/>
                      </a:lnTo>
                      <a:lnTo>
                        <a:pt x="604" y="368"/>
                      </a:lnTo>
                      <a:lnTo>
                        <a:pt x="552" y="339"/>
                      </a:lnTo>
                      <a:lnTo>
                        <a:pt x="494" y="307"/>
                      </a:lnTo>
                      <a:lnTo>
                        <a:pt x="433" y="271"/>
                      </a:lnTo>
                      <a:lnTo>
                        <a:pt x="369" y="235"/>
                      </a:lnTo>
                      <a:lnTo>
                        <a:pt x="304" y="197"/>
                      </a:lnTo>
                      <a:lnTo>
                        <a:pt x="242" y="159"/>
                      </a:lnTo>
                      <a:lnTo>
                        <a:pt x="182" y="123"/>
                      </a:lnTo>
                      <a:lnTo>
                        <a:pt x="127" y="89"/>
                      </a:lnTo>
                      <a:lnTo>
                        <a:pt x="79" y="60"/>
                      </a:lnTo>
                      <a:lnTo>
                        <a:pt x="41" y="33"/>
                      </a:lnTo>
                      <a:lnTo>
                        <a:pt x="15" y="13"/>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3888720" y="5307840"/>
                  <a:ext cx="367560" cy="184320"/>
                </a:xfrm>
                <a:custGeom>
                  <a:avLst/>
                  <a:gdLst/>
                  <a:ahLst/>
                  <a:rect l="l" t="t" r="r" b="b"/>
                  <a:pathLst>
                    <a:path w="725" h="435">
                      <a:moveTo>
                        <a:pt x="0" y="0"/>
                      </a:moveTo>
                      <a:lnTo>
                        <a:pt x="7" y="4"/>
                      </a:lnTo>
                      <a:lnTo>
                        <a:pt x="29" y="17"/>
                      </a:lnTo>
                      <a:lnTo>
                        <a:pt x="61" y="36"/>
                      </a:lnTo>
                      <a:lnTo>
                        <a:pt x="104" y="63"/>
                      </a:lnTo>
                      <a:lnTo>
                        <a:pt x="154" y="93"/>
                      </a:lnTo>
                      <a:lnTo>
                        <a:pt x="212" y="127"/>
                      </a:lnTo>
                      <a:lnTo>
                        <a:pt x="273" y="164"/>
                      </a:lnTo>
                      <a:lnTo>
                        <a:pt x="338" y="203"/>
                      </a:lnTo>
                      <a:lnTo>
                        <a:pt x="402" y="243"/>
                      </a:lnTo>
                      <a:lnTo>
                        <a:pt x="467" y="281"/>
                      </a:lnTo>
                      <a:lnTo>
                        <a:pt x="528" y="316"/>
                      </a:lnTo>
                      <a:lnTo>
                        <a:pt x="584" y="348"/>
                      </a:lnTo>
                      <a:lnTo>
                        <a:pt x="634" y="377"/>
                      </a:lnTo>
                      <a:lnTo>
                        <a:pt x="675" y="400"/>
                      </a:lnTo>
                      <a:lnTo>
                        <a:pt x="706" y="418"/>
                      </a:lnTo>
                      <a:lnTo>
                        <a:pt x="725" y="427"/>
                      </a:lnTo>
                      <a:lnTo>
                        <a:pt x="714" y="435"/>
                      </a:lnTo>
                      <a:lnTo>
                        <a:pt x="706" y="430"/>
                      </a:lnTo>
                      <a:lnTo>
                        <a:pt x="686" y="419"/>
                      </a:lnTo>
                      <a:lnTo>
                        <a:pt x="652" y="399"/>
                      </a:lnTo>
                      <a:lnTo>
                        <a:pt x="608" y="375"/>
                      </a:lnTo>
                      <a:lnTo>
                        <a:pt x="557" y="345"/>
                      </a:lnTo>
                      <a:lnTo>
                        <a:pt x="499" y="312"/>
                      </a:lnTo>
                      <a:lnTo>
                        <a:pt x="437" y="275"/>
                      </a:lnTo>
                      <a:lnTo>
                        <a:pt x="372" y="238"/>
                      </a:lnTo>
                      <a:lnTo>
                        <a:pt x="308" y="199"/>
                      </a:lnTo>
                      <a:lnTo>
                        <a:pt x="244" y="161"/>
                      </a:lnTo>
                      <a:lnTo>
                        <a:pt x="183" y="124"/>
                      </a:lnTo>
                      <a:lnTo>
                        <a:pt x="129" y="91"/>
                      </a:lnTo>
                      <a:lnTo>
                        <a:pt x="81" y="59"/>
                      </a:lnTo>
                      <a:lnTo>
                        <a:pt x="43" y="34"/>
                      </a:lnTo>
                      <a:lnTo>
                        <a:pt x="15" y="13"/>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3859200" y="5317560"/>
                  <a:ext cx="352440" cy="180360"/>
                </a:xfrm>
                <a:custGeom>
                  <a:avLst/>
                  <a:gdLst/>
                  <a:ahLst/>
                  <a:rect l="l" t="t" r="r" b="b"/>
                  <a:pathLst>
                    <a:path w="696" h="426">
                      <a:moveTo>
                        <a:pt x="0" y="0"/>
                      </a:moveTo>
                      <a:lnTo>
                        <a:pt x="8" y="4"/>
                      </a:lnTo>
                      <a:lnTo>
                        <a:pt x="29" y="17"/>
                      </a:lnTo>
                      <a:lnTo>
                        <a:pt x="62" y="38"/>
                      </a:lnTo>
                      <a:lnTo>
                        <a:pt x="105" y="64"/>
                      </a:lnTo>
                      <a:lnTo>
                        <a:pt x="157" y="96"/>
                      </a:lnTo>
                      <a:lnTo>
                        <a:pt x="214" y="131"/>
                      </a:lnTo>
                      <a:lnTo>
                        <a:pt x="276" y="169"/>
                      </a:lnTo>
                      <a:lnTo>
                        <a:pt x="339" y="207"/>
                      </a:lnTo>
                      <a:lnTo>
                        <a:pt x="403" y="246"/>
                      </a:lnTo>
                      <a:lnTo>
                        <a:pt x="466" y="284"/>
                      </a:lnTo>
                      <a:lnTo>
                        <a:pt x="524" y="319"/>
                      </a:lnTo>
                      <a:lnTo>
                        <a:pt x="577" y="351"/>
                      </a:lnTo>
                      <a:lnTo>
                        <a:pt x="622" y="377"/>
                      </a:lnTo>
                      <a:lnTo>
                        <a:pt x="659" y="399"/>
                      </a:lnTo>
                      <a:lnTo>
                        <a:pt x="685" y="412"/>
                      </a:lnTo>
                      <a:lnTo>
                        <a:pt x="696" y="418"/>
                      </a:lnTo>
                      <a:lnTo>
                        <a:pt x="686" y="426"/>
                      </a:lnTo>
                      <a:lnTo>
                        <a:pt x="679" y="421"/>
                      </a:lnTo>
                      <a:lnTo>
                        <a:pt x="658" y="410"/>
                      </a:lnTo>
                      <a:lnTo>
                        <a:pt x="626" y="391"/>
                      </a:lnTo>
                      <a:lnTo>
                        <a:pt x="584" y="367"/>
                      </a:lnTo>
                      <a:lnTo>
                        <a:pt x="535" y="338"/>
                      </a:lnTo>
                      <a:lnTo>
                        <a:pt x="480" y="305"/>
                      </a:lnTo>
                      <a:lnTo>
                        <a:pt x="420" y="270"/>
                      </a:lnTo>
                      <a:lnTo>
                        <a:pt x="357" y="233"/>
                      </a:lnTo>
                      <a:lnTo>
                        <a:pt x="295" y="195"/>
                      </a:lnTo>
                      <a:lnTo>
                        <a:pt x="234" y="159"/>
                      </a:lnTo>
                      <a:lnTo>
                        <a:pt x="176" y="123"/>
                      </a:lnTo>
                      <a:lnTo>
                        <a:pt x="123" y="89"/>
                      </a:lnTo>
                      <a:lnTo>
                        <a:pt x="78" y="59"/>
                      </a:lnTo>
                      <a:lnTo>
                        <a:pt x="40" y="33"/>
                      </a:lnTo>
                      <a:lnTo>
                        <a:pt x="14" y="13"/>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3798720" y="5337360"/>
                  <a:ext cx="387720" cy="200520"/>
                </a:xfrm>
                <a:custGeom>
                  <a:avLst/>
                  <a:gdLst/>
                  <a:ahLst/>
                  <a:rect l="l" t="t" r="r" b="b"/>
                  <a:pathLst>
                    <a:path w="765" h="473">
                      <a:moveTo>
                        <a:pt x="0" y="0"/>
                      </a:moveTo>
                      <a:lnTo>
                        <a:pt x="3" y="1"/>
                      </a:lnTo>
                      <a:lnTo>
                        <a:pt x="8" y="4"/>
                      </a:lnTo>
                      <a:lnTo>
                        <a:pt x="18" y="10"/>
                      </a:lnTo>
                      <a:lnTo>
                        <a:pt x="30" y="18"/>
                      </a:lnTo>
                      <a:lnTo>
                        <a:pt x="46" y="29"/>
                      </a:lnTo>
                      <a:lnTo>
                        <a:pt x="65" y="40"/>
                      </a:lnTo>
                      <a:lnTo>
                        <a:pt x="87" y="54"/>
                      </a:lnTo>
                      <a:lnTo>
                        <a:pt x="111" y="69"/>
                      </a:lnTo>
                      <a:lnTo>
                        <a:pt x="136" y="85"/>
                      </a:lnTo>
                      <a:lnTo>
                        <a:pt x="164" y="102"/>
                      </a:lnTo>
                      <a:lnTo>
                        <a:pt x="194" y="121"/>
                      </a:lnTo>
                      <a:lnTo>
                        <a:pt x="225" y="140"/>
                      </a:lnTo>
                      <a:lnTo>
                        <a:pt x="257" y="160"/>
                      </a:lnTo>
                      <a:lnTo>
                        <a:pt x="290" y="181"/>
                      </a:lnTo>
                      <a:lnTo>
                        <a:pt x="324" y="201"/>
                      </a:lnTo>
                      <a:lnTo>
                        <a:pt x="358" y="223"/>
                      </a:lnTo>
                      <a:lnTo>
                        <a:pt x="392" y="244"/>
                      </a:lnTo>
                      <a:lnTo>
                        <a:pt x="427" y="266"/>
                      </a:lnTo>
                      <a:lnTo>
                        <a:pt x="460" y="287"/>
                      </a:lnTo>
                      <a:lnTo>
                        <a:pt x="494" y="307"/>
                      </a:lnTo>
                      <a:lnTo>
                        <a:pt x="527" y="327"/>
                      </a:lnTo>
                      <a:lnTo>
                        <a:pt x="558" y="346"/>
                      </a:lnTo>
                      <a:lnTo>
                        <a:pt x="589" y="365"/>
                      </a:lnTo>
                      <a:lnTo>
                        <a:pt x="618" y="382"/>
                      </a:lnTo>
                      <a:lnTo>
                        <a:pt x="644" y="398"/>
                      </a:lnTo>
                      <a:lnTo>
                        <a:pt x="670" y="413"/>
                      </a:lnTo>
                      <a:lnTo>
                        <a:pt x="693" y="426"/>
                      </a:lnTo>
                      <a:lnTo>
                        <a:pt x="714" y="437"/>
                      </a:lnTo>
                      <a:lnTo>
                        <a:pt x="731" y="448"/>
                      </a:lnTo>
                      <a:lnTo>
                        <a:pt x="746" y="456"/>
                      </a:lnTo>
                      <a:lnTo>
                        <a:pt x="757" y="462"/>
                      </a:lnTo>
                      <a:lnTo>
                        <a:pt x="765" y="465"/>
                      </a:lnTo>
                      <a:lnTo>
                        <a:pt x="755" y="473"/>
                      </a:lnTo>
                      <a:lnTo>
                        <a:pt x="753" y="472"/>
                      </a:lnTo>
                      <a:lnTo>
                        <a:pt x="747" y="468"/>
                      </a:lnTo>
                      <a:lnTo>
                        <a:pt x="738" y="463"/>
                      </a:lnTo>
                      <a:lnTo>
                        <a:pt x="724" y="455"/>
                      </a:lnTo>
                      <a:lnTo>
                        <a:pt x="708" y="445"/>
                      </a:lnTo>
                      <a:lnTo>
                        <a:pt x="688" y="434"/>
                      </a:lnTo>
                      <a:lnTo>
                        <a:pt x="666" y="421"/>
                      </a:lnTo>
                      <a:lnTo>
                        <a:pt x="642" y="406"/>
                      </a:lnTo>
                      <a:lnTo>
                        <a:pt x="617" y="391"/>
                      </a:lnTo>
                      <a:lnTo>
                        <a:pt x="588" y="374"/>
                      </a:lnTo>
                      <a:lnTo>
                        <a:pt x="558" y="357"/>
                      </a:lnTo>
                      <a:lnTo>
                        <a:pt x="527" y="337"/>
                      </a:lnTo>
                      <a:lnTo>
                        <a:pt x="495" y="318"/>
                      </a:lnTo>
                      <a:lnTo>
                        <a:pt x="461" y="298"/>
                      </a:lnTo>
                      <a:lnTo>
                        <a:pt x="427" y="277"/>
                      </a:lnTo>
                      <a:lnTo>
                        <a:pt x="392" y="257"/>
                      </a:lnTo>
                      <a:lnTo>
                        <a:pt x="358" y="236"/>
                      </a:lnTo>
                      <a:lnTo>
                        <a:pt x="324" y="215"/>
                      </a:lnTo>
                      <a:lnTo>
                        <a:pt x="290" y="194"/>
                      </a:lnTo>
                      <a:lnTo>
                        <a:pt x="256" y="174"/>
                      </a:lnTo>
                      <a:lnTo>
                        <a:pt x="224" y="153"/>
                      </a:lnTo>
                      <a:lnTo>
                        <a:pt x="193" y="133"/>
                      </a:lnTo>
                      <a:lnTo>
                        <a:pt x="163" y="115"/>
                      </a:lnTo>
                      <a:lnTo>
                        <a:pt x="135" y="97"/>
                      </a:lnTo>
                      <a:lnTo>
                        <a:pt x="109" y="79"/>
                      </a:lnTo>
                      <a:lnTo>
                        <a:pt x="84" y="63"/>
                      </a:lnTo>
                      <a:lnTo>
                        <a:pt x="62" y="49"/>
                      </a:lnTo>
                      <a:lnTo>
                        <a:pt x="44" y="36"/>
                      </a:lnTo>
                      <a:lnTo>
                        <a:pt x="28" y="24"/>
                      </a:lnTo>
                      <a:lnTo>
                        <a:pt x="15" y="14"/>
                      </a:lnTo>
                      <a:lnTo>
                        <a:pt x="6" y="6"/>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3768120" y="5348160"/>
                  <a:ext cx="394920" cy="204840"/>
                </a:xfrm>
                <a:custGeom>
                  <a:avLst/>
                  <a:gdLst/>
                  <a:ahLst/>
                  <a:rect l="l" t="t" r="r" b="b"/>
                  <a:pathLst>
                    <a:path w="779" h="485">
                      <a:moveTo>
                        <a:pt x="0" y="0"/>
                      </a:moveTo>
                      <a:lnTo>
                        <a:pt x="3" y="1"/>
                      </a:lnTo>
                      <a:lnTo>
                        <a:pt x="8" y="5"/>
                      </a:lnTo>
                      <a:lnTo>
                        <a:pt x="18" y="12"/>
                      </a:lnTo>
                      <a:lnTo>
                        <a:pt x="31" y="20"/>
                      </a:lnTo>
                      <a:lnTo>
                        <a:pt x="48" y="30"/>
                      </a:lnTo>
                      <a:lnTo>
                        <a:pt x="66" y="41"/>
                      </a:lnTo>
                      <a:lnTo>
                        <a:pt x="88" y="55"/>
                      </a:lnTo>
                      <a:lnTo>
                        <a:pt x="112" y="71"/>
                      </a:lnTo>
                      <a:lnTo>
                        <a:pt x="139" y="88"/>
                      </a:lnTo>
                      <a:lnTo>
                        <a:pt x="167" y="106"/>
                      </a:lnTo>
                      <a:lnTo>
                        <a:pt x="197" y="124"/>
                      </a:lnTo>
                      <a:lnTo>
                        <a:pt x="230" y="144"/>
                      </a:lnTo>
                      <a:lnTo>
                        <a:pt x="262" y="165"/>
                      </a:lnTo>
                      <a:lnTo>
                        <a:pt x="295" y="187"/>
                      </a:lnTo>
                      <a:lnTo>
                        <a:pt x="330" y="207"/>
                      </a:lnTo>
                      <a:lnTo>
                        <a:pt x="365" y="229"/>
                      </a:lnTo>
                      <a:lnTo>
                        <a:pt x="400" y="251"/>
                      </a:lnTo>
                      <a:lnTo>
                        <a:pt x="435" y="273"/>
                      </a:lnTo>
                      <a:lnTo>
                        <a:pt x="469" y="295"/>
                      </a:lnTo>
                      <a:lnTo>
                        <a:pt x="504" y="316"/>
                      </a:lnTo>
                      <a:lnTo>
                        <a:pt x="537" y="336"/>
                      </a:lnTo>
                      <a:lnTo>
                        <a:pt x="570" y="356"/>
                      </a:lnTo>
                      <a:lnTo>
                        <a:pt x="600" y="374"/>
                      </a:lnTo>
                      <a:lnTo>
                        <a:pt x="630" y="392"/>
                      </a:lnTo>
                      <a:lnTo>
                        <a:pt x="657" y="409"/>
                      </a:lnTo>
                      <a:lnTo>
                        <a:pt x="683" y="424"/>
                      </a:lnTo>
                      <a:lnTo>
                        <a:pt x="706" y="438"/>
                      </a:lnTo>
                      <a:lnTo>
                        <a:pt x="726" y="449"/>
                      </a:lnTo>
                      <a:lnTo>
                        <a:pt x="745" y="459"/>
                      </a:lnTo>
                      <a:lnTo>
                        <a:pt x="760" y="468"/>
                      </a:lnTo>
                      <a:lnTo>
                        <a:pt x="771" y="473"/>
                      </a:lnTo>
                      <a:lnTo>
                        <a:pt x="779" y="477"/>
                      </a:lnTo>
                      <a:lnTo>
                        <a:pt x="769" y="485"/>
                      </a:lnTo>
                      <a:lnTo>
                        <a:pt x="767" y="484"/>
                      </a:lnTo>
                      <a:lnTo>
                        <a:pt x="761" y="480"/>
                      </a:lnTo>
                      <a:lnTo>
                        <a:pt x="751" y="474"/>
                      </a:lnTo>
                      <a:lnTo>
                        <a:pt x="738" y="466"/>
                      </a:lnTo>
                      <a:lnTo>
                        <a:pt x="721" y="456"/>
                      </a:lnTo>
                      <a:lnTo>
                        <a:pt x="701" y="444"/>
                      </a:lnTo>
                      <a:lnTo>
                        <a:pt x="679" y="432"/>
                      </a:lnTo>
                      <a:lnTo>
                        <a:pt x="655" y="417"/>
                      </a:lnTo>
                      <a:lnTo>
                        <a:pt x="627" y="401"/>
                      </a:lnTo>
                      <a:lnTo>
                        <a:pt x="598" y="383"/>
                      </a:lnTo>
                      <a:lnTo>
                        <a:pt x="568" y="365"/>
                      </a:lnTo>
                      <a:lnTo>
                        <a:pt x="536" y="345"/>
                      </a:lnTo>
                      <a:lnTo>
                        <a:pt x="503" y="326"/>
                      </a:lnTo>
                      <a:lnTo>
                        <a:pt x="469" y="305"/>
                      </a:lnTo>
                      <a:lnTo>
                        <a:pt x="435" y="284"/>
                      </a:lnTo>
                      <a:lnTo>
                        <a:pt x="399" y="263"/>
                      </a:lnTo>
                      <a:lnTo>
                        <a:pt x="365" y="241"/>
                      </a:lnTo>
                      <a:lnTo>
                        <a:pt x="329" y="220"/>
                      </a:lnTo>
                      <a:lnTo>
                        <a:pt x="294" y="198"/>
                      </a:lnTo>
                      <a:lnTo>
                        <a:pt x="261" y="177"/>
                      </a:lnTo>
                      <a:lnTo>
                        <a:pt x="227" y="157"/>
                      </a:lnTo>
                      <a:lnTo>
                        <a:pt x="196" y="136"/>
                      </a:lnTo>
                      <a:lnTo>
                        <a:pt x="165" y="117"/>
                      </a:lnTo>
                      <a:lnTo>
                        <a:pt x="137" y="99"/>
                      </a:lnTo>
                      <a:lnTo>
                        <a:pt x="110" y="81"/>
                      </a:lnTo>
                      <a:lnTo>
                        <a:pt x="86" y="64"/>
                      </a:lnTo>
                      <a:lnTo>
                        <a:pt x="64" y="50"/>
                      </a:lnTo>
                      <a:lnTo>
                        <a:pt x="44" y="37"/>
                      </a:lnTo>
                      <a:lnTo>
                        <a:pt x="28" y="24"/>
                      </a:lnTo>
                      <a:lnTo>
                        <a:pt x="15" y="14"/>
                      </a:lnTo>
                      <a:lnTo>
                        <a:pt x="6" y="6"/>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3737880" y="5357520"/>
                  <a:ext cx="401760" cy="210600"/>
                </a:xfrm>
                <a:custGeom>
                  <a:avLst/>
                  <a:gdLst/>
                  <a:ahLst/>
                  <a:rect l="l" t="t" r="r" b="b"/>
                  <a:pathLst>
                    <a:path w="793" h="499">
                      <a:moveTo>
                        <a:pt x="0" y="0"/>
                      </a:moveTo>
                      <a:lnTo>
                        <a:pt x="3" y="1"/>
                      </a:lnTo>
                      <a:lnTo>
                        <a:pt x="8" y="6"/>
                      </a:lnTo>
                      <a:lnTo>
                        <a:pt x="19" y="12"/>
                      </a:lnTo>
                      <a:lnTo>
                        <a:pt x="32" y="20"/>
                      </a:lnTo>
                      <a:lnTo>
                        <a:pt x="49" y="31"/>
                      </a:lnTo>
                      <a:lnTo>
                        <a:pt x="68" y="43"/>
                      </a:lnTo>
                      <a:lnTo>
                        <a:pt x="90" y="58"/>
                      </a:lnTo>
                      <a:lnTo>
                        <a:pt x="115" y="73"/>
                      </a:lnTo>
                      <a:lnTo>
                        <a:pt x="142" y="90"/>
                      </a:lnTo>
                      <a:lnTo>
                        <a:pt x="171" y="108"/>
                      </a:lnTo>
                      <a:lnTo>
                        <a:pt x="202" y="128"/>
                      </a:lnTo>
                      <a:lnTo>
                        <a:pt x="234" y="149"/>
                      </a:lnTo>
                      <a:lnTo>
                        <a:pt x="268" y="169"/>
                      </a:lnTo>
                      <a:lnTo>
                        <a:pt x="301" y="191"/>
                      </a:lnTo>
                      <a:lnTo>
                        <a:pt x="337" y="213"/>
                      </a:lnTo>
                      <a:lnTo>
                        <a:pt x="373" y="235"/>
                      </a:lnTo>
                      <a:lnTo>
                        <a:pt x="408" y="258"/>
                      </a:lnTo>
                      <a:lnTo>
                        <a:pt x="443" y="280"/>
                      </a:lnTo>
                      <a:lnTo>
                        <a:pt x="479" y="302"/>
                      </a:lnTo>
                      <a:lnTo>
                        <a:pt x="513" y="324"/>
                      </a:lnTo>
                      <a:lnTo>
                        <a:pt x="548" y="344"/>
                      </a:lnTo>
                      <a:lnTo>
                        <a:pt x="580" y="365"/>
                      </a:lnTo>
                      <a:lnTo>
                        <a:pt x="612" y="385"/>
                      </a:lnTo>
                      <a:lnTo>
                        <a:pt x="641" y="403"/>
                      </a:lnTo>
                      <a:lnTo>
                        <a:pt x="670" y="420"/>
                      </a:lnTo>
                      <a:lnTo>
                        <a:pt x="695" y="435"/>
                      </a:lnTo>
                      <a:lnTo>
                        <a:pt x="720" y="449"/>
                      </a:lnTo>
                      <a:lnTo>
                        <a:pt x="740" y="462"/>
                      </a:lnTo>
                      <a:lnTo>
                        <a:pt x="759" y="472"/>
                      </a:lnTo>
                      <a:lnTo>
                        <a:pt x="774" y="480"/>
                      </a:lnTo>
                      <a:lnTo>
                        <a:pt x="785" y="487"/>
                      </a:lnTo>
                      <a:lnTo>
                        <a:pt x="793" y="491"/>
                      </a:lnTo>
                      <a:lnTo>
                        <a:pt x="783" y="499"/>
                      </a:lnTo>
                      <a:lnTo>
                        <a:pt x="781" y="497"/>
                      </a:lnTo>
                      <a:lnTo>
                        <a:pt x="775" y="494"/>
                      </a:lnTo>
                      <a:lnTo>
                        <a:pt x="764" y="487"/>
                      </a:lnTo>
                      <a:lnTo>
                        <a:pt x="751" y="479"/>
                      </a:lnTo>
                      <a:lnTo>
                        <a:pt x="735" y="469"/>
                      </a:lnTo>
                      <a:lnTo>
                        <a:pt x="714" y="457"/>
                      </a:lnTo>
                      <a:lnTo>
                        <a:pt x="692" y="443"/>
                      </a:lnTo>
                      <a:lnTo>
                        <a:pt x="667" y="428"/>
                      </a:lnTo>
                      <a:lnTo>
                        <a:pt x="639" y="412"/>
                      </a:lnTo>
                      <a:lnTo>
                        <a:pt x="609" y="394"/>
                      </a:lnTo>
                      <a:lnTo>
                        <a:pt x="578" y="375"/>
                      </a:lnTo>
                      <a:lnTo>
                        <a:pt x="546" y="355"/>
                      </a:lnTo>
                      <a:lnTo>
                        <a:pt x="512" y="334"/>
                      </a:lnTo>
                      <a:lnTo>
                        <a:pt x="478" y="313"/>
                      </a:lnTo>
                      <a:lnTo>
                        <a:pt x="442" y="291"/>
                      </a:lnTo>
                      <a:lnTo>
                        <a:pt x="406" y="269"/>
                      </a:lnTo>
                      <a:lnTo>
                        <a:pt x="370" y="248"/>
                      </a:lnTo>
                      <a:lnTo>
                        <a:pt x="335" y="226"/>
                      </a:lnTo>
                      <a:lnTo>
                        <a:pt x="300" y="204"/>
                      </a:lnTo>
                      <a:lnTo>
                        <a:pt x="265" y="182"/>
                      </a:lnTo>
                      <a:lnTo>
                        <a:pt x="232" y="160"/>
                      </a:lnTo>
                      <a:lnTo>
                        <a:pt x="200" y="139"/>
                      </a:lnTo>
                      <a:lnTo>
                        <a:pt x="169" y="120"/>
                      </a:lnTo>
                      <a:lnTo>
                        <a:pt x="139" y="100"/>
                      </a:lnTo>
                      <a:lnTo>
                        <a:pt x="112" y="83"/>
                      </a:lnTo>
                      <a:lnTo>
                        <a:pt x="87" y="66"/>
                      </a:lnTo>
                      <a:lnTo>
                        <a:pt x="65" y="51"/>
                      </a:lnTo>
                      <a:lnTo>
                        <a:pt x="45" y="37"/>
                      </a:lnTo>
                      <a:lnTo>
                        <a:pt x="29" y="25"/>
                      </a:lnTo>
                      <a:lnTo>
                        <a:pt x="15" y="15"/>
                      </a:lnTo>
                      <a:lnTo>
                        <a:pt x="6" y="6"/>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3707640" y="5367960"/>
                  <a:ext cx="408960" cy="215640"/>
                </a:xfrm>
                <a:custGeom>
                  <a:avLst/>
                  <a:gdLst/>
                  <a:ahLst/>
                  <a:rect l="l" t="t" r="r" b="b"/>
                  <a:pathLst>
                    <a:path w="808" h="511">
                      <a:moveTo>
                        <a:pt x="0" y="0"/>
                      </a:moveTo>
                      <a:lnTo>
                        <a:pt x="3" y="1"/>
                      </a:lnTo>
                      <a:lnTo>
                        <a:pt x="9" y="6"/>
                      </a:lnTo>
                      <a:lnTo>
                        <a:pt x="19" y="12"/>
                      </a:lnTo>
                      <a:lnTo>
                        <a:pt x="33" y="21"/>
                      </a:lnTo>
                      <a:lnTo>
                        <a:pt x="49" y="31"/>
                      </a:lnTo>
                      <a:lnTo>
                        <a:pt x="70" y="44"/>
                      </a:lnTo>
                      <a:lnTo>
                        <a:pt x="92" y="59"/>
                      </a:lnTo>
                      <a:lnTo>
                        <a:pt x="117" y="75"/>
                      </a:lnTo>
                      <a:lnTo>
                        <a:pt x="145" y="93"/>
                      </a:lnTo>
                      <a:lnTo>
                        <a:pt x="175" y="112"/>
                      </a:lnTo>
                      <a:lnTo>
                        <a:pt x="206" y="131"/>
                      </a:lnTo>
                      <a:lnTo>
                        <a:pt x="239" y="152"/>
                      </a:lnTo>
                      <a:lnTo>
                        <a:pt x="272" y="174"/>
                      </a:lnTo>
                      <a:lnTo>
                        <a:pt x="307" y="197"/>
                      </a:lnTo>
                      <a:lnTo>
                        <a:pt x="343" y="219"/>
                      </a:lnTo>
                      <a:lnTo>
                        <a:pt x="380" y="242"/>
                      </a:lnTo>
                      <a:lnTo>
                        <a:pt x="415" y="265"/>
                      </a:lnTo>
                      <a:lnTo>
                        <a:pt x="452" y="288"/>
                      </a:lnTo>
                      <a:lnTo>
                        <a:pt x="488" y="311"/>
                      </a:lnTo>
                      <a:lnTo>
                        <a:pt x="524" y="333"/>
                      </a:lnTo>
                      <a:lnTo>
                        <a:pt x="558" y="355"/>
                      </a:lnTo>
                      <a:lnTo>
                        <a:pt x="592" y="375"/>
                      </a:lnTo>
                      <a:lnTo>
                        <a:pt x="624" y="395"/>
                      </a:lnTo>
                      <a:lnTo>
                        <a:pt x="654" y="413"/>
                      </a:lnTo>
                      <a:lnTo>
                        <a:pt x="683" y="432"/>
                      </a:lnTo>
                      <a:lnTo>
                        <a:pt x="709" y="448"/>
                      </a:lnTo>
                      <a:lnTo>
                        <a:pt x="733" y="462"/>
                      </a:lnTo>
                      <a:lnTo>
                        <a:pt x="754" y="474"/>
                      </a:lnTo>
                      <a:lnTo>
                        <a:pt x="773" y="485"/>
                      </a:lnTo>
                      <a:lnTo>
                        <a:pt x="789" y="493"/>
                      </a:lnTo>
                      <a:lnTo>
                        <a:pt x="800" y="500"/>
                      </a:lnTo>
                      <a:lnTo>
                        <a:pt x="808" y="503"/>
                      </a:lnTo>
                      <a:lnTo>
                        <a:pt x="797" y="511"/>
                      </a:lnTo>
                      <a:lnTo>
                        <a:pt x="795" y="510"/>
                      </a:lnTo>
                      <a:lnTo>
                        <a:pt x="789" y="507"/>
                      </a:lnTo>
                      <a:lnTo>
                        <a:pt x="778" y="500"/>
                      </a:lnTo>
                      <a:lnTo>
                        <a:pt x="765" y="492"/>
                      </a:lnTo>
                      <a:lnTo>
                        <a:pt x="747" y="481"/>
                      </a:lnTo>
                      <a:lnTo>
                        <a:pt x="727" y="469"/>
                      </a:lnTo>
                      <a:lnTo>
                        <a:pt x="703" y="455"/>
                      </a:lnTo>
                      <a:lnTo>
                        <a:pt x="678" y="439"/>
                      </a:lnTo>
                      <a:lnTo>
                        <a:pt x="650" y="423"/>
                      </a:lnTo>
                      <a:lnTo>
                        <a:pt x="620" y="404"/>
                      </a:lnTo>
                      <a:lnTo>
                        <a:pt x="588" y="385"/>
                      </a:lnTo>
                      <a:lnTo>
                        <a:pt x="555" y="364"/>
                      </a:lnTo>
                      <a:lnTo>
                        <a:pt x="521" y="343"/>
                      </a:lnTo>
                      <a:lnTo>
                        <a:pt x="486" y="321"/>
                      </a:lnTo>
                      <a:lnTo>
                        <a:pt x="450" y="299"/>
                      </a:lnTo>
                      <a:lnTo>
                        <a:pt x="413" y="276"/>
                      </a:lnTo>
                      <a:lnTo>
                        <a:pt x="377" y="253"/>
                      </a:lnTo>
                      <a:lnTo>
                        <a:pt x="340" y="232"/>
                      </a:lnTo>
                      <a:lnTo>
                        <a:pt x="305" y="208"/>
                      </a:lnTo>
                      <a:lnTo>
                        <a:pt x="270" y="187"/>
                      </a:lnTo>
                      <a:lnTo>
                        <a:pt x="236" y="165"/>
                      </a:lnTo>
                      <a:lnTo>
                        <a:pt x="202" y="143"/>
                      </a:lnTo>
                      <a:lnTo>
                        <a:pt x="171" y="123"/>
                      </a:lnTo>
                      <a:lnTo>
                        <a:pt x="141" y="104"/>
                      </a:lnTo>
                      <a:lnTo>
                        <a:pt x="113" y="85"/>
                      </a:lnTo>
                      <a:lnTo>
                        <a:pt x="88" y="68"/>
                      </a:lnTo>
                      <a:lnTo>
                        <a:pt x="66" y="52"/>
                      </a:lnTo>
                      <a:lnTo>
                        <a:pt x="45" y="38"/>
                      </a:lnTo>
                      <a:lnTo>
                        <a:pt x="29" y="25"/>
                      </a:lnTo>
                      <a:lnTo>
                        <a:pt x="15" y="15"/>
                      </a:lnTo>
                      <a:lnTo>
                        <a:pt x="6" y="6"/>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3677400" y="5378040"/>
                  <a:ext cx="366480" cy="196200"/>
                </a:xfrm>
                <a:custGeom>
                  <a:avLst/>
                  <a:gdLst/>
                  <a:ahLst/>
                  <a:rect l="l" t="t" r="r" b="b"/>
                  <a:pathLst>
                    <a:path w="723" h="465">
                      <a:moveTo>
                        <a:pt x="0" y="0"/>
                      </a:moveTo>
                      <a:lnTo>
                        <a:pt x="2" y="1"/>
                      </a:lnTo>
                      <a:lnTo>
                        <a:pt x="8" y="6"/>
                      </a:lnTo>
                      <a:lnTo>
                        <a:pt x="18" y="12"/>
                      </a:lnTo>
                      <a:lnTo>
                        <a:pt x="32" y="21"/>
                      </a:lnTo>
                      <a:lnTo>
                        <a:pt x="49" y="32"/>
                      </a:lnTo>
                      <a:lnTo>
                        <a:pt x="69" y="45"/>
                      </a:lnTo>
                      <a:lnTo>
                        <a:pt x="92" y="60"/>
                      </a:lnTo>
                      <a:lnTo>
                        <a:pt x="117" y="76"/>
                      </a:lnTo>
                      <a:lnTo>
                        <a:pt x="145" y="94"/>
                      </a:lnTo>
                      <a:lnTo>
                        <a:pt x="174" y="113"/>
                      </a:lnTo>
                      <a:lnTo>
                        <a:pt x="205" y="133"/>
                      </a:lnTo>
                      <a:lnTo>
                        <a:pt x="237" y="153"/>
                      </a:lnTo>
                      <a:lnTo>
                        <a:pt x="270" y="175"/>
                      </a:lnTo>
                      <a:lnTo>
                        <a:pt x="304" y="197"/>
                      </a:lnTo>
                      <a:lnTo>
                        <a:pt x="338" y="219"/>
                      </a:lnTo>
                      <a:lnTo>
                        <a:pt x="373" y="241"/>
                      </a:lnTo>
                      <a:lnTo>
                        <a:pt x="408" y="263"/>
                      </a:lnTo>
                      <a:lnTo>
                        <a:pt x="442" y="285"/>
                      </a:lnTo>
                      <a:lnTo>
                        <a:pt x="476" y="307"/>
                      </a:lnTo>
                      <a:lnTo>
                        <a:pt x="508" y="327"/>
                      </a:lnTo>
                      <a:lnTo>
                        <a:pt x="539" y="347"/>
                      </a:lnTo>
                      <a:lnTo>
                        <a:pt x="569" y="365"/>
                      </a:lnTo>
                      <a:lnTo>
                        <a:pt x="597" y="384"/>
                      </a:lnTo>
                      <a:lnTo>
                        <a:pt x="623" y="400"/>
                      </a:lnTo>
                      <a:lnTo>
                        <a:pt x="646" y="415"/>
                      </a:lnTo>
                      <a:lnTo>
                        <a:pt x="668" y="427"/>
                      </a:lnTo>
                      <a:lnTo>
                        <a:pt x="685" y="438"/>
                      </a:lnTo>
                      <a:lnTo>
                        <a:pt x="700" y="447"/>
                      </a:lnTo>
                      <a:lnTo>
                        <a:pt x="712" y="454"/>
                      </a:lnTo>
                      <a:lnTo>
                        <a:pt x="720" y="457"/>
                      </a:lnTo>
                      <a:lnTo>
                        <a:pt x="723" y="459"/>
                      </a:lnTo>
                      <a:lnTo>
                        <a:pt x="722" y="457"/>
                      </a:lnTo>
                      <a:lnTo>
                        <a:pt x="712" y="465"/>
                      </a:lnTo>
                      <a:lnTo>
                        <a:pt x="704" y="461"/>
                      </a:lnTo>
                      <a:lnTo>
                        <a:pt x="683" y="448"/>
                      </a:lnTo>
                      <a:lnTo>
                        <a:pt x="650" y="427"/>
                      </a:lnTo>
                      <a:lnTo>
                        <a:pt x="606" y="400"/>
                      </a:lnTo>
                      <a:lnTo>
                        <a:pt x="555" y="369"/>
                      </a:lnTo>
                      <a:lnTo>
                        <a:pt x="497" y="333"/>
                      </a:lnTo>
                      <a:lnTo>
                        <a:pt x="435" y="294"/>
                      </a:lnTo>
                      <a:lnTo>
                        <a:pt x="371" y="254"/>
                      </a:lnTo>
                      <a:lnTo>
                        <a:pt x="306" y="212"/>
                      </a:lnTo>
                      <a:lnTo>
                        <a:pt x="243" y="171"/>
                      </a:lnTo>
                      <a:lnTo>
                        <a:pt x="183" y="133"/>
                      </a:lnTo>
                      <a:lnTo>
                        <a:pt x="127" y="96"/>
                      </a:lnTo>
                      <a:lnTo>
                        <a:pt x="80" y="64"/>
                      </a:lnTo>
                      <a:lnTo>
                        <a:pt x="42" y="36"/>
                      </a:lnTo>
                      <a:lnTo>
                        <a:pt x="15" y="14"/>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3616560" y="5397480"/>
                  <a:ext cx="430200" cy="232920"/>
                </a:xfrm>
                <a:custGeom>
                  <a:avLst/>
                  <a:gdLst/>
                  <a:ahLst/>
                  <a:rect l="l" t="t" r="r" b="b"/>
                  <a:pathLst>
                    <a:path w="849" h="550">
                      <a:moveTo>
                        <a:pt x="0" y="0"/>
                      </a:moveTo>
                      <a:lnTo>
                        <a:pt x="2" y="2"/>
                      </a:lnTo>
                      <a:lnTo>
                        <a:pt x="9" y="6"/>
                      </a:lnTo>
                      <a:lnTo>
                        <a:pt x="19" y="13"/>
                      </a:lnTo>
                      <a:lnTo>
                        <a:pt x="33" y="22"/>
                      </a:lnTo>
                      <a:lnTo>
                        <a:pt x="52" y="34"/>
                      </a:lnTo>
                      <a:lnTo>
                        <a:pt x="72" y="48"/>
                      </a:lnTo>
                      <a:lnTo>
                        <a:pt x="97" y="64"/>
                      </a:lnTo>
                      <a:lnTo>
                        <a:pt x="123" y="81"/>
                      </a:lnTo>
                      <a:lnTo>
                        <a:pt x="152" y="101"/>
                      </a:lnTo>
                      <a:lnTo>
                        <a:pt x="183" y="121"/>
                      </a:lnTo>
                      <a:lnTo>
                        <a:pt x="216" y="142"/>
                      </a:lnTo>
                      <a:lnTo>
                        <a:pt x="251" y="165"/>
                      </a:lnTo>
                      <a:lnTo>
                        <a:pt x="287" y="188"/>
                      </a:lnTo>
                      <a:lnTo>
                        <a:pt x="324" y="212"/>
                      </a:lnTo>
                      <a:lnTo>
                        <a:pt x="362" y="237"/>
                      </a:lnTo>
                      <a:lnTo>
                        <a:pt x="400" y="262"/>
                      </a:lnTo>
                      <a:lnTo>
                        <a:pt x="438" y="286"/>
                      </a:lnTo>
                      <a:lnTo>
                        <a:pt x="476" y="311"/>
                      </a:lnTo>
                      <a:lnTo>
                        <a:pt x="514" y="336"/>
                      </a:lnTo>
                      <a:lnTo>
                        <a:pt x="551" y="360"/>
                      </a:lnTo>
                      <a:lnTo>
                        <a:pt x="587" y="383"/>
                      </a:lnTo>
                      <a:lnTo>
                        <a:pt x="622" y="405"/>
                      </a:lnTo>
                      <a:lnTo>
                        <a:pt x="657" y="427"/>
                      </a:lnTo>
                      <a:lnTo>
                        <a:pt x="688" y="446"/>
                      </a:lnTo>
                      <a:lnTo>
                        <a:pt x="718" y="466"/>
                      </a:lnTo>
                      <a:lnTo>
                        <a:pt x="745" y="482"/>
                      </a:lnTo>
                      <a:lnTo>
                        <a:pt x="771" y="498"/>
                      </a:lnTo>
                      <a:lnTo>
                        <a:pt x="794" y="511"/>
                      </a:lnTo>
                      <a:lnTo>
                        <a:pt x="812" y="522"/>
                      </a:lnTo>
                      <a:lnTo>
                        <a:pt x="828" y="531"/>
                      </a:lnTo>
                      <a:lnTo>
                        <a:pt x="841" y="538"/>
                      </a:lnTo>
                      <a:lnTo>
                        <a:pt x="849" y="542"/>
                      </a:lnTo>
                      <a:lnTo>
                        <a:pt x="838" y="550"/>
                      </a:lnTo>
                      <a:lnTo>
                        <a:pt x="835" y="549"/>
                      </a:lnTo>
                      <a:lnTo>
                        <a:pt x="828" y="544"/>
                      </a:lnTo>
                      <a:lnTo>
                        <a:pt x="818" y="537"/>
                      </a:lnTo>
                      <a:lnTo>
                        <a:pt x="803" y="528"/>
                      </a:lnTo>
                      <a:lnTo>
                        <a:pt x="785" y="517"/>
                      </a:lnTo>
                      <a:lnTo>
                        <a:pt x="764" y="504"/>
                      </a:lnTo>
                      <a:lnTo>
                        <a:pt x="740" y="489"/>
                      </a:lnTo>
                      <a:lnTo>
                        <a:pt x="712" y="471"/>
                      </a:lnTo>
                      <a:lnTo>
                        <a:pt x="683" y="453"/>
                      </a:lnTo>
                      <a:lnTo>
                        <a:pt x="651" y="433"/>
                      </a:lnTo>
                      <a:lnTo>
                        <a:pt x="617" y="413"/>
                      </a:lnTo>
                      <a:lnTo>
                        <a:pt x="583" y="390"/>
                      </a:lnTo>
                      <a:lnTo>
                        <a:pt x="547" y="368"/>
                      </a:lnTo>
                      <a:lnTo>
                        <a:pt x="510" y="344"/>
                      </a:lnTo>
                      <a:lnTo>
                        <a:pt x="472" y="319"/>
                      </a:lnTo>
                      <a:lnTo>
                        <a:pt x="434" y="295"/>
                      </a:lnTo>
                      <a:lnTo>
                        <a:pt x="395" y="271"/>
                      </a:lnTo>
                      <a:lnTo>
                        <a:pt x="357" y="247"/>
                      </a:lnTo>
                      <a:lnTo>
                        <a:pt x="320" y="222"/>
                      </a:lnTo>
                      <a:lnTo>
                        <a:pt x="282" y="199"/>
                      </a:lnTo>
                      <a:lnTo>
                        <a:pt x="246" y="174"/>
                      </a:lnTo>
                      <a:lnTo>
                        <a:pt x="212" y="151"/>
                      </a:lnTo>
                      <a:lnTo>
                        <a:pt x="178" y="129"/>
                      </a:lnTo>
                      <a:lnTo>
                        <a:pt x="147" y="109"/>
                      </a:lnTo>
                      <a:lnTo>
                        <a:pt x="118" y="89"/>
                      </a:lnTo>
                      <a:lnTo>
                        <a:pt x="92" y="71"/>
                      </a:lnTo>
                      <a:lnTo>
                        <a:pt x="68" y="55"/>
                      </a:lnTo>
                      <a:lnTo>
                        <a:pt x="47" y="40"/>
                      </a:lnTo>
                      <a:lnTo>
                        <a:pt x="30" y="27"/>
                      </a:lnTo>
                      <a:lnTo>
                        <a:pt x="16" y="15"/>
                      </a:lnTo>
                      <a:lnTo>
                        <a:pt x="5" y="7"/>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3585960" y="5407560"/>
                  <a:ext cx="437400" cy="237960"/>
                </a:xfrm>
                <a:custGeom>
                  <a:avLst/>
                  <a:gdLst/>
                  <a:ahLst/>
                  <a:rect l="l" t="t" r="r" b="b"/>
                  <a:pathLst>
                    <a:path w="863" h="564">
                      <a:moveTo>
                        <a:pt x="0" y="0"/>
                      </a:moveTo>
                      <a:lnTo>
                        <a:pt x="2" y="2"/>
                      </a:lnTo>
                      <a:lnTo>
                        <a:pt x="9" y="6"/>
                      </a:lnTo>
                      <a:lnTo>
                        <a:pt x="19" y="13"/>
                      </a:lnTo>
                      <a:lnTo>
                        <a:pt x="34" y="24"/>
                      </a:lnTo>
                      <a:lnTo>
                        <a:pt x="53" y="35"/>
                      </a:lnTo>
                      <a:lnTo>
                        <a:pt x="74" y="50"/>
                      </a:lnTo>
                      <a:lnTo>
                        <a:pt x="98" y="66"/>
                      </a:lnTo>
                      <a:lnTo>
                        <a:pt x="125" y="83"/>
                      </a:lnTo>
                      <a:lnTo>
                        <a:pt x="155" y="103"/>
                      </a:lnTo>
                      <a:lnTo>
                        <a:pt x="186" y="124"/>
                      </a:lnTo>
                      <a:lnTo>
                        <a:pt x="220" y="146"/>
                      </a:lnTo>
                      <a:lnTo>
                        <a:pt x="256" y="169"/>
                      </a:lnTo>
                      <a:lnTo>
                        <a:pt x="291" y="193"/>
                      </a:lnTo>
                      <a:lnTo>
                        <a:pt x="329" y="218"/>
                      </a:lnTo>
                      <a:lnTo>
                        <a:pt x="367" y="242"/>
                      </a:lnTo>
                      <a:lnTo>
                        <a:pt x="407" y="268"/>
                      </a:lnTo>
                      <a:lnTo>
                        <a:pt x="446" y="293"/>
                      </a:lnTo>
                      <a:lnTo>
                        <a:pt x="484" y="318"/>
                      </a:lnTo>
                      <a:lnTo>
                        <a:pt x="523" y="344"/>
                      </a:lnTo>
                      <a:lnTo>
                        <a:pt x="561" y="368"/>
                      </a:lnTo>
                      <a:lnTo>
                        <a:pt x="598" y="392"/>
                      </a:lnTo>
                      <a:lnTo>
                        <a:pt x="634" y="415"/>
                      </a:lnTo>
                      <a:lnTo>
                        <a:pt x="667" y="437"/>
                      </a:lnTo>
                      <a:lnTo>
                        <a:pt x="700" y="458"/>
                      </a:lnTo>
                      <a:lnTo>
                        <a:pt x="730" y="476"/>
                      </a:lnTo>
                      <a:lnTo>
                        <a:pt x="758" y="493"/>
                      </a:lnTo>
                      <a:lnTo>
                        <a:pt x="785" y="509"/>
                      </a:lnTo>
                      <a:lnTo>
                        <a:pt x="806" y="523"/>
                      </a:lnTo>
                      <a:lnTo>
                        <a:pt x="826" y="535"/>
                      </a:lnTo>
                      <a:lnTo>
                        <a:pt x="842" y="544"/>
                      </a:lnTo>
                      <a:lnTo>
                        <a:pt x="855" y="551"/>
                      </a:lnTo>
                      <a:lnTo>
                        <a:pt x="863" y="554"/>
                      </a:lnTo>
                      <a:lnTo>
                        <a:pt x="851" y="564"/>
                      </a:lnTo>
                      <a:lnTo>
                        <a:pt x="849" y="562"/>
                      </a:lnTo>
                      <a:lnTo>
                        <a:pt x="842" y="558"/>
                      </a:lnTo>
                      <a:lnTo>
                        <a:pt x="832" y="551"/>
                      </a:lnTo>
                      <a:lnTo>
                        <a:pt x="817" y="542"/>
                      </a:lnTo>
                      <a:lnTo>
                        <a:pt x="798" y="530"/>
                      </a:lnTo>
                      <a:lnTo>
                        <a:pt x="777" y="516"/>
                      </a:lnTo>
                      <a:lnTo>
                        <a:pt x="751" y="500"/>
                      </a:lnTo>
                      <a:lnTo>
                        <a:pt x="724" y="483"/>
                      </a:lnTo>
                      <a:lnTo>
                        <a:pt x="694" y="465"/>
                      </a:lnTo>
                      <a:lnTo>
                        <a:pt x="662" y="444"/>
                      </a:lnTo>
                      <a:lnTo>
                        <a:pt x="628" y="423"/>
                      </a:lnTo>
                      <a:lnTo>
                        <a:pt x="592" y="400"/>
                      </a:lnTo>
                      <a:lnTo>
                        <a:pt x="555" y="377"/>
                      </a:lnTo>
                      <a:lnTo>
                        <a:pt x="518" y="353"/>
                      </a:lnTo>
                      <a:lnTo>
                        <a:pt x="479" y="328"/>
                      </a:lnTo>
                      <a:lnTo>
                        <a:pt x="441" y="302"/>
                      </a:lnTo>
                      <a:lnTo>
                        <a:pt x="402" y="278"/>
                      </a:lnTo>
                      <a:lnTo>
                        <a:pt x="363" y="253"/>
                      </a:lnTo>
                      <a:lnTo>
                        <a:pt x="325" y="227"/>
                      </a:lnTo>
                      <a:lnTo>
                        <a:pt x="287" y="203"/>
                      </a:lnTo>
                      <a:lnTo>
                        <a:pt x="250" y="179"/>
                      </a:lnTo>
                      <a:lnTo>
                        <a:pt x="215" y="156"/>
                      </a:lnTo>
                      <a:lnTo>
                        <a:pt x="182" y="133"/>
                      </a:lnTo>
                      <a:lnTo>
                        <a:pt x="150" y="112"/>
                      </a:lnTo>
                      <a:lnTo>
                        <a:pt x="121" y="91"/>
                      </a:lnTo>
                      <a:lnTo>
                        <a:pt x="93" y="73"/>
                      </a:lnTo>
                      <a:lnTo>
                        <a:pt x="69" y="56"/>
                      </a:lnTo>
                      <a:lnTo>
                        <a:pt x="48" y="41"/>
                      </a:lnTo>
                      <a:lnTo>
                        <a:pt x="30" y="27"/>
                      </a:lnTo>
                      <a:lnTo>
                        <a:pt x="16" y="15"/>
                      </a:lnTo>
                      <a:lnTo>
                        <a:pt x="6" y="7"/>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3555360" y="5417640"/>
                  <a:ext cx="413280" cy="227520"/>
                </a:xfrm>
                <a:custGeom>
                  <a:avLst/>
                  <a:gdLst/>
                  <a:ahLst/>
                  <a:rect l="l" t="t" r="r" b="b"/>
                  <a:pathLst>
                    <a:path w="816" h="539">
                      <a:moveTo>
                        <a:pt x="0" y="0"/>
                      </a:moveTo>
                      <a:lnTo>
                        <a:pt x="2" y="1"/>
                      </a:lnTo>
                      <a:lnTo>
                        <a:pt x="9" y="5"/>
                      </a:lnTo>
                      <a:lnTo>
                        <a:pt x="19" y="13"/>
                      </a:lnTo>
                      <a:lnTo>
                        <a:pt x="34" y="23"/>
                      </a:lnTo>
                      <a:lnTo>
                        <a:pt x="53" y="35"/>
                      </a:lnTo>
                      <a:lnTo>
                        <a:pt x="75" y="49"/>
                      </a:lnTo>
                      <a:lnTo>
                        <a:pt x="99" y="66"/>
                      </a:lnTo>
                      <a:lnTo>
                        <a:pt x="127" y="84"/>
                      </a:lnTo>
                      <a:lnTo>
                        <a:pt x="157" y="103"/>
                      </a:lnTo>
                      <a:lnTo>
                        <a:pt x="188" y="125"/>
                      </a:lnTo>
                      <a:lnTo>
                        <a:pt x="221" y="147"/>
                      </a:lnTo>
                      <a:lnTo>
                        <a:pt x="257" y="170"/>
                      </a:lnTo>
                      <a:lnTo>
                        <a:pt x="293" y="194"/>
                      </a:lnTo>
                      <a:lnTo>
                        <a:pt x="329" y="218"/>
                      </a:lnTo>
                      <a:lnTo>
                        <a:pt x="367" y="244"/>
                      </a:lnTo>
                      <a:lnTo>
                        <a:pt x="406" y="269"/>
                      </a:lnTo>
                      <a:lnTo>
                        <a:pt x="444" y="294"/>
                      </a:lnTo>
                      <a:lnTo>
                        <a:pt x="482" y="319"/>
                      </a:lnTo>
                      <a:lnTo>
                        <a:pt x="518" y="343"/>
                      </a:lnTo>
                      <a:lnTo>
                        <a:pt x="555" y="367"/>
                      </a:lnTo>
                      <a:lnTo>
                        <a:pt x="590" y="390"/>
                      </a:lnTo>
                      <a:lnTo>
                        <a:pt x="624" y="412"/>
                      </a:lnTo>
                      <a:lnTo>
                        <a:pt x="656" y="433"/>
                      </a:lnTo>
                      <a:lnTo>
                        <a:pt x="686" y="452"/>
                      </a:lnTo>
                      <a:lnTo>
                        <a:pt x="713" y="469"/>
                      </a:lnTo>
                      <a:lnTo>
                        <a:pt x="739" y="486"/>
                      </a:lnTo>
                      <a:lnTo>
                        <a:pt x="760" y="499"/>
                      </a:lnTo>
                      <a:lnTo>
                        <a:pt x="779" y="511"/>
                      </a:lnTo>
                      <a:lnTo>
                        <a:pt x="794" y="520"/>
                      </a:lnTo>
                      <a:lnTo>
                        <a:pt x="805" y="526"/>
                      </a:lnTo>
                      <a:lnTo>
                        <a:pt x="813" y="529"/>
                      </a:lnTo>
                      <a:lnTo>
                        <a:pt x="816" y="530"/>
                      </a:lnTo>
                      <a:lnTo>
                        <a:pt x="805" y="539"/>
                      </a:lnTo>
                      <a:lnTo>
                        <a:pt x="803" y="537"/>
                      </a:lnTo>
                      <a:lnTo>
                        <a:pt x="797" y="533"/>
                      </a:lnTo>
                      <a:lnTo>
                        <a:pt x="787" y="527"/>
                      </a:lnTo>
                      <a:lnTo>
                        <a:pt x="772" y="518"/>
                      </a:lnTo>
                      <a:lnTo>
                        <a:pt x="755" y="506"/>
                      </a:lnTo>
                      <a:lnTo>
                        <a:pt x="734" y="494"/>
                      </a:lnTo>
                      <a:lnTo>
                        <a:pt x="711" y="479"/>
                      </a:lnTo>
                      <a:lnTo>
                        <a:pt x="686" y="461"/>
                      </a:lnTo>
                      <a:lnTo>
                        <a:pt x="657" y="444"/>
                      </a:lnTo>
                      <a:lnTo>
                        <a:pt x="627" y="425"/>
                      </a:lnTo>
                      <a:lnTo>
                        <a:pt x="595" y="404"/>
                      </a:lnTo>
                      <a:lnTo>
                        <a:pt x="561" y="382"/>
                      </a:lnTo>
                      <a:lnTo>
                        <a:pt x="527" y="360"/>
                      </a:lnTo>
                      <a:lnTo>
                        <a:pt x="491" y="337"/>
                      </a:lnTo>
                      <a:lnTo>
                        <a:pt x="454" y="313"/>
                      </a:lnTo>
                      <a:lnTo>
                        <a:pt x="418" y="290"/>
                      </a:lnTo>
                      <a:lnTo>
                        <a:pt x="381" y="266"/>
                      </a:lnTo>
                      <a:lnTo>
                        <a:pt x="344" y="241"/>
                      </a:lnTo>
                      <a:lnTo>
                        <a:pt x="308" y="217"/>
                      </a:lnTo>
                      <a:lnTo>
                        <a:pt x="273" y="194"/>
                      </a:lnTo>
                      <a:lnTo>
                        <a:pt x="238" y="171"/>
                      </a:lnTo>
                      <a:lnTo>
                        <a:pt x="205" y="148"/>
                      </a:lnTo>
                      <a:lnTo>
                        <a:pt x="173" y="127"/>
                      </a:lnTo>
                      <a:lnTo>
                        <a:pt x="143" y="107"/>
                      </a:lnTo>
                      <a:lnTo>
                        <a:pt x="115" y="87"/>
                      </a:lnTo>
                      <a:lnTo>
                        <a:pt x="90" y="70"/>
                      </a:lnTo>
                      <a:lnTo>
                        <a:pt x="67" y="53"/>
                      </a:lnTo>
                      <a:lnTo>
                        <a:pt x="46" y="39"/>
                      </a:lnTo>
                      <a:lnTo>
                        <a:pt x="29" y="25"/>
                      </a:lnTo>
                      <a:lnTo>
                        <a:pt x="16" y="15"/>
                      </a:lnTo>
                      <a:lnTo>
                        <a:pt x="6" y="5"/>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3485880" y="5450760"/>
                  <a:ext cx="107280" cy="66600"/>
                </a:xfrm>
                <a:custGeom>
                  <a:avLst/>
                  <a:gdLst/>
                  <a:ahLst/>
                  <a:rect l="l" t="t" r="r" b="b"/>
                  <a:pathLst>
                    <a:path w="212" h="159">
                      <a:moveTo>
                        <a:pt x="0" y="0"/>
                      </a:moveTo>
                      <a:lnTo>
                        <a:pt x="1" y="1"/>
                      </a:lnTo>
                      <a:lnTo>
                        <a:pt x="6" y="5"/>
                      </a:lnTo>
                      <a:lnTo>
                        <a:pt x="13" y="11"/>
                      </a:lnTo>
                      <a:lnTo>
                        <a:pt x="24" y="18"/>
                      </a:lnTo>
                      <a:lnTo>
                        <a:pt x="36" y="29"/>
                      </a:lnTo>
                      <a:lnTo>
                        <a:pt x="50" y="39"/>
                      </a:lnTo>
                      <a:lnTo>
                        <a:pt x="65" y="51"/>
                      </a:lnTo>
                      <a:lnTo>
                        <a:pt x="83" y="63"/>
                      </a:lnTo>
                      <a:lnTo>
                        <a:pt x="100" y="76"/>
                      </a:lnTo>
                      <a:lnTo>
                        <a:pt x="117" y="89"/>
                      </a:lnTo>
                      <a:lnTo>
                        <a:pt x="134" y="101"/>
                      </a:lnTo>
                      <a:lnTo>
                        <a:pt x="152" y="114"/>
                      </a:lnTo>
                      <a:lnTo>
                        <a:pt x="169" y="125"/>
                      </a:lnTo>
                      <a:lnTo>
                        <a:pt x="185" y="136"/>
                      </a:lnTo>
                      <a:lnTo>
                        <a:pt x="199" y="145"/>
                      </a:lnTo>
                      <a:lnTo>
                        <a:pt x="212" y="152"/>
                      </a:lnTo>
                      <a:lnTo>
                        <a:pt x="200" y="159"/>
                      </a:lnTo>
                      <a:lnTo>
                        <a:pt x="198" y="158"/>
                      </a:lnTo>
                      <a:lnTo>
                        <a:pt x="193" y="154"/>
                      </a:lnTo>
                      <a:lnTo>
                        <a:pt x="184" y="150"/>
                      </a:lnTo>
                      <a:lnTo>
                        <a:pt x="174" y="143"/>
                      </a:lnTo>
                      <a:lnTo>
                        <a:pt x="160" y="134"/>
                      </a:lnTo>
                      <a:lnTo>
                        <a:pt x="145" y="124"/>
                      </a:lnTo>
                      <a:lnTo>
                        <a:pt x="129" y="113"/>
                      </a:lnTo>
                      <a:lnTo>
                        <a:pt x="113" y="101"/>
                      </a:lnTo>
                      <a:lnTo>
                        <a:pt x="94" y="89"/>
                      </a:lnTo>
                      <a:lnTo>
                        <a:pt x="77" y="76"/>
                      </a:lnTo>
                      <a:lnTo>
                        <a:pt x="61" y="63"/>
                      </a:lnTo>
                      <a:lnTo>
                        <a:pt x="45" y="49"/>
                      </a:lnTo>
                      <a:lnTo>
                        <a:pt x="30" y="37"/>
                      </a:lnTo>
                      <a:lnTo>
                        <a:pt x="18" y="24"/>
                      </a:lnTo>
                      <a:lnTo>
                        <a:pt x="8" y="11"/>
                      </a:lnTo>
                      <a:lnTo>
                        <a:pt x="0" y="0"/>
                      </a:lnTo>
                      <a:close/>
                    </a:path>
                  </a:pathLst>
                </a:custGeom>
                <a:solidFill>
                  <a:srgbClr val="93d3d3"/>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1" name=""/>
                <p:cNvSpPr/>
                <p:nvPr/>
              </p:nvSpPr>
              <p:spPr>
                <a:xfrm>
                  <a:off x="4267440" y="5350680"/>
                  <a:ext cx="150840" cy="63360"/>
                </a:xfrm>
                <a:custGeom>
                  <a:avLst/>
                  <a:gdLst/>
                  <a:ahLst/>
                  <a:rect l="l" t="t" r="r" b="b"/>
                  <a:pathLst>
                    <a:path w="298" h="151">
                      <a:moveTo>
                        <a:pt x="0" y="0"/>
                      </a:moveTo>
                      <a:lnTo>
                        <a:pt x="2" y="1"/>
                      </a:lnTo>
                      <a:lnTo>
                        <a:pt x="9" y="5"/>
                      </a:lnTo>
                      <a:lnTo>
                        <a:pt x="20" y="10"/>
                      </a:lnTo>
                      <a:lnTo>
                        <a:pt x="34" y="18"/>
                      </a:lnTo>
                      <a:lnTo>
                        <a:pt x="52" y="26"/>
                      </a:lnTo>
                      <a:lnTo>
                        <a:pt x="72" y="37"/>
                      </a:lnTo>
                      <a:lnTo>
                        <a:pt x="94" y="48"/>
                      </a:lnTo>
                      <a:lnTo>
                        <a:pt x="117" y="60"/>
                      </a:lnTo>
                      <a:lnTo>
                        <a:pt x="141" y="71"/>
                      </a:lnTo>
                      <a:lnTo>
                        <a:pt x="167" y="83"/>
                      </a:lnTo>
                      <a:lnTo>
                        <a:pt x="192" y="95"/>
                      </a:lnTo>
                      <a:lnTo>
                        <a:pt x="216" y="106"/>
                      </a:lnTo>
                      <a:lnTo>
                        <a:pt x="239" y="116"/>
                      </a:lnTo>
                      <a:lnTo>
                        <a:pt x="261" y="127"/>
                      </a:lnTo>
                      <a:lnTo>
                        <a:pt x="281" y="135"/>
                      </a:lnTo>
                      <a:lnTo>
                        <a:pt x="298" y="140"/>
                      </a:lnTo>
                      <a:lnTo>
                        <a:pt x="285" y="151"/>
                      </a:lnTo>
                      <a:lnTo>
                        <a:pt x="283" y="150"/>
                      </a:lnTo>
                      <a:lnTo>
                        <a:pt x="275" y="147"/>
                      </a:lnTo>
                      <a:lnTo>
                        <a:pt x="264" y="143"/>
                      </a:lnTo>
                      <a:lnTo>
                        <a:pt x="249" y="137"/>
                      </a:lnTo>
                      <a:lnTo>
                        <a:pt x="230" y="129"/>
                      </a:lnTo>
                      <a:lnTo>
                        <a:pt x="209" y="121"/>
                      </a:lnTo>
                      <a:lnTo>
                        <a:pt x="186" y="110"/>
                      </a:lnTo>
                      <a:lnTo>
                        <a:pt x="162" y="100"/>
                      </a:lnTo>
                      <a:lnTo>
                        <a:pt x="138" y="89"/>
                      </a:lnTo>
                      <a:lnTo>
                        <a:pt x="114" y="76"/>
                      </a:lnTo>
                      <a:lnTo>
                        <a:pt x="90" y="64"/>
                      </a:lnTo>
                      <a:lnTo>
                        <a:pt x="66" y="52"/>
                      </a:lnTo>
                      <a:lnTo>
                        <a:pt x="46" y="38"/>
                      </a:lnTo>
                      <a:lnTo>
                        <a:pt x="27" y="25"/>
                      </a:lnTo>
                      <a:lnTo>
                        <a:pt x="11" y="13"/>
                      </a:lnTo>
                      <a:lnTo>
                        <a:pt x="0" y="0"/>
                      </a:lnTo>
                      <a:close/>
                    </a:path>
                  </a:pathLst>
                </a:custGeom>
                <a:solidFill>
                  <a:srgbClr val="93d3d3"/>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22" name=""/>
                <p:cNvSpPr/>
                <p:nvPr/>
              </p:nvSpPr>
              <p:spPr>
                <a:xfrm>
                  <a:off x="3529440" y="5438880"/>
                  <a:ext cx="58680" cy="43200"/>
                </a:xfrm>
                <a:custGeom>
                  <a:avLst/>
                  <a:gdLst/>
                  <a:ahLst/>
                  <a:rect l="l" t="t" r="r" b="b"/>
                  <a:pathLst>
                    <a:path w="116" h="103">
                      <a:moveTo>
                        <a:pt x="82" y="22"/>
                      </a:moveTo>
                      <a:lnTo>
                        <a:pt x="78" y="20"/>
                      </a:lnTo>
                      <a:lnTo>
                        <a:pt x="69" y="15"/>
                      </a:lnTo>
                      <a:lnTo>
                        <a:pt x="55" y="10"/>
                      </a:lnTo>
                      <a:lnTo>
                        <a:pt x="40" y="4"/>
                      </a:lnTo>
                      <a:lnTo>
                        <a:pt x="25" y="0"/>
                      </a:lnTo>
                      <a:lnTo>
                        <a:pt x="13" y="0"/>
                      </a:lnTo>
                      <a:lnTo>
                        <a:pt x="3" y="6"/>
                      </a:lnTo>
                      <a:lnTo>
                        <a:pt x="0" y="18"/>
                      </a:lnTo>
                      <a:lnTo>
                        <a:pt x="0" y="31"/>
                      </a:lnTo>
                      <a:lnTo>
                        <a:pt x="0" y="41"/>
                      </a:lnTo>
                      <a:lnTo>
                        <a:pt x="0" y="48"/>
                      </a:lnTo>
                      <a:lnTo>
                        <a:pt x="0" y="51"/>
                      </a:lnTo>
                      <a:lnTo>
                        <a:pt x="2" y="52"/>
                      </a:lnTo>
                      <a:lnTo>
                        <a:pt x="7" y="52"/>
                      </a:lnTo>
                      <a:lnTo>
                        <a:pt x="15" y="50"/>
                      </a:lnTo>
                      <a:lnTo>
                        <a:pt x="26" y="48"/>
                      </a:lnTo>
                      <a:lnTo>
                        <a:pt x="40" y="46"/>
                      </a:lnTo>
                      <a:lnTo>
                        <a:pt x="53" y="46"/>
                      </a:lnTo>
                      <a:lnTo>
                        <a:pt x="64" y="49"/>
                      </a:lnTo>
                      <a:lnTo>
                        <a:pt x="74" y="52"/>
                      </a:lnTo>
                      <a:lnTo>
                        <a:pt x="81" y="56"/>
                      </a:lnTo>
                      <a:lnTo>
                        <a:pt x="85" y="59"/>
                      </a:lnTo>
                      <a:lnTo>
                        <a:pt x="86" y="61"/>
                      </a:lnTo>
                      <a:lnTo>
                        <a:pt x="83" y="63"/>
                      </a:lnTo>
                      <a:lnTo>
                        <a:pt x="77" y="63"/>
                      </a:lnTo>
                      <a:lnTo>
                        <a:pt x="70" y="64"/>
                      </a:lnTo>
                      <a:lnTo>
                        <a:pt x="63" y="65"/>
                      </a:lnTo>
                      <a:lnTo>
                        <a:pt x="57" y="67"/>
                      </a:lnTo>
                      <a:lnTo>
                        <a:pt x="53" y="69"/>
                      </a:lnTo>
                      <a:lnTo>
                        <a:pt x="51" y="72"/>
                      </a:lnTo>
                      <a:lnTo>
                        <a:pt x="52" y="75"/>
                      </a:lnTo>
                      <a:lnTo>
                        <a:pt x="57" y="79"/>
                      </a:lnTo>
                      <a:lnTo>
                        <a:pt x="66" y="82"/>
                      </a:lnTo>
                      <a:lnTo>
                        <a:pt x="72" y="87"/>
                      </a:lnTo>
                      <a:lnTo>
                        <a:pt x="79" y="92"/>
                      </a:lnTo>
                      <a:lnTo>
                        <a:pt x="85" y="97"/>
                      </a:lnTo>
                      <a:lnTo>
                        <a:pt x="92" y="101"/>
                      </a:lnTo>
                      <a:lnTo>
                        <a:pt x="98" y="103"/>
                      </a:lnTo>
                      <a:lnTo>
                        <a:pt x="102" y="103"/>
                      </a:lnTo>
                      <a:lnTo>
                        <a:pt x="108" y="102"/>
                      </a:lnTo>
                      <a:lnTo>
                        <a:pt x="116" y="98"/>
                      </a:lnTo>
                      <a:lnTo>
                        <a:pt x="116" y="97"/>
                      </a:lnTo>
                      <a:lnTo>
                        <a:pt x="109" y="97"/>
                      </a:lnTo>
                      <a:lnTo>
                        <a:pt x="96" y="92"/>
                      </a:lnTo>
                      <a:lnTo>
                        <a:pt x="79" y="86"/>
                      </a:lnTo>
                      <a:lnTo>
                        <a:pt x="71" y="77"/>
                      </a:lnTo>
                      <a:lnTo>
                        <a:pt x="70" y="72"/>
                      </a:lnTo>
                      <a:lnTo>
                        <a:pt x="77" y="67"/>
                      </a:lnTo>
                      <a:lnTo>
                        <a:pt x="84" y="66"/>
                      </a:lnTo>
                      <a:lnTo>
                        <a:pt x="92" y="65"/>
                      </a:lnTo>
                      <a:lnTo>
                        <a:pt x="100" y="64"/>
                      </a:lnTo>
                      <a:lnTo>
                        <a:pt x="108" y="63"/>
                      </a:lnTo>
                      <a:lnTo>
                        <a:pt x="113" y="61"/>
                      </a:lnTo>
                      <a:lnTo>
                        <a:pt x="115" y="59"/>
                      </a:lnTo>
                      <a:lnTo>
                        <a:pt x="112" y="57"/>
                      </a:lnTo>
                      <a:lnTo>
                        <a:pt x="102" y="52"/>
                      </a:lnTo>
                      <a:lnTo>
                        <a:pt x="90" y="48"/>
                      </a:lnTo>
                      <a:lnTo>
                        <a:pt x="77" y="43"/>
                      </a:lnTo>
                      <a:lnTo>
                        <a:pt x="64" y="39"/>
                      </a:lnTo>
                      <a:lnTo>
                        <a:pt x="53" y="36"/>
                      </a:lnTo>
                      <a:lnTo>
                        <a:pt x="42" y="34"/>
                      </a:lnTo>
                      <a:lnTo>
                        <a:pt x="33" y="31"/>
                      </a:lnTo>
                      <a:lnTo>
                        <a:pt x="25" y="31"/>
                      </a:lnTo>
                      <a:lnTo>
                        <a:pt x="21" y="33"/>
                      </a:lnTo>
                      <a:lnTo>
                        <a:pt x="17" y="33"/>
                      </a:lnTo>
                      <a:lnTo>
                        <a:pt x="13" y="30"/>
                      </a:lnTo>
                      <a:lnTo>
                        <a:pt x="9" y="26"/>
                      </a:lnTo>
                      <a:lnTo>
                        <a:pt x="8" y="20"/>
                      </a:lnTo>
                      <a:lnTo>
                        <a:pt x="8" y="14"/>
                      </a:lnTo>
                      <a:lnTo>
                        <a:pt x="11" y="11"/>
                      </a:lnTo>
                      <a:lnTo>
                        <a:pt x="19" y="10"/>
                      </a:lnTo>
                      <a:lnTo>
                        <a:pt x="32" y="12"/>
                      </a:lnTo>
                      <a:lnTo>
                        <a:pt x="46" y="16"/>
                      </a:lnTo>
                      <a:lnTo>
                        <a:pt x="57" y="20"/>
                      </a:lnTo>
                      <a:lnTo>
                        <a:pt x="66" y="22"/>
                      </a:lnTo>
                      <a:lnTo>
                        <a:pt x="72" y="22"/>
                      </a:lnTo>
                      <a:lnTo>
                        <a:pt x="77" y="23"/>
                      </a:lnTo>
                      <a:lnTo>
                        <a:pt x="79" y="22"/>
                      </a:lnTo>
                      <a:lnTo>
                        <a:pt x="82" y="22"/>
                      </a:lnTo>
                      <a:lnTo>
                        <a:pt x="82" y="22"/>
                      </a:lnTo>
                      <a:close/>
                    </a:path>
                  </a:pathLst>
                </a:custGeom>
                <a:solidFill>
                  <a:srgbClr val="93d3d3"/>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23" name=""/>
                <p:cNvSpPr/>
                <p:nvPr/>
              </p:nvSpPr>
              <p:spPr>
                <a:xfrm>
                  <a:off x="3585960" y="5465880"/>
                  <a:ext cx="49320" cy="30240"/>
                </a:xfrm>
                <a:custGeom>
                  <a:avLst/>
                  <a:gdLst/>
                  <a:ahLst/>
                  <a:rect l="l" t="t" r="r" b="b"/>
                  <a:pathLst>
                    <a:path w="98" h="71">
                      <a:moveTo>
                        <a:pt x="5" y="4"/>
                      </a:moveTo>
                      <a:lnTo>
                        <a:pt x="0" y="9"/>
                      </a:lnTo>
                      <a:lnTo>
                        <a:pt x="1" y="9"/>
                      </a:lnTo>
                      <a:lnTo>
                        <a:pt x="2" y="9"/>
                      </a:lnTo>
                      <a:lnTo>
                        <a:pt x="5" y="9"/>
                      </a:lnTo>
                      <a:lnTo>
                        <a:pt x="9" y="10"/>
                      </a:lnTo>
                      <a:lnTo>
                        <a:pt x="15" y="13"/>
                      </a:lnTo>
                      <a:lnTo>
                        <a:pt x="20" y="18"/>
                      </a:lnTo>
                      <a:lnTo>
                        <a:pt x="27" y="25"/>
                      </a:lnTo>
                      <a:lnTo>
                        <a:pt x="35" y="34"/>
                      </a:lnTo>
                      <a:lnTo>
                        <a:pt x="45" y="45"/>
                      </a:lnTo>
                      <a:lnTo>
                        <a:pt x="54" y="53"/>
                      </a:lnTo>
                      <a:lnTo>
                        <a:pt x="63" y="60"/>
                      </a:lnTo>
                      <a:lnTo>
                        <a:pt x="72" y="64"/>
                      </a:lnTo>
                      <a:lnTo>
                        <a:pt x="81" y="68"/>
                      </a:lnTo>
                      <a:lnTo>
                        <a:pt x="88" y="70"/>
                      </a:lnTo>
                      <a:lnTo>
                        <a:pt x="94" y="71"/>
                      </a:lnTo>
                      <a:lnTo>
                        <a:pt x="98" y="71"/>
                      </a:lnTo>
                      <a:lnTo>
                        <a:pt x="98" y="70"/>
                      </a:lnTo>
                      <a:lnTo>
                        <a:pt x="94" y="69"/>
                      </a:lnTo>
                      <a:lnTo>
                        <a:pt x="88" y="65"/>
                      </a:lnTo>
                      <a:lnTo>
                        <a:pt x="79" y="61"/>
                      </a:lnTo>
                      <a:lnTo>
                        <a:pt x="69" y="55"/>
                      </a:lnTo>
                      <a:lnTo>
                        <a:pt x="56" y="46"/>
                      </a:lnTo>
                      <a:lnTo>
                        <a:pt x="45" y="34"/>
                      </a:lnTo>
                      <a:lnTo>
                        <a:pt x="32" y="19"/>
                      </a:lnTo>
                      <a:lnTo>
                        <a:pt x="18" y="3"/>
                      </a:lnTo>
                      <a:lnTo>
                        <a:pt x="10" y="0"/>
                      </a:lnTo>
                      <a:lnTo>
                        <a:pt x="7" y="2"/>
                      </a:lnTo>
                      <a:lnTo>
                        <a:pt x="5" y="4"/>
                      </a:lnTo>
                      <a:close/>
                    </a:path>
                  </a:pathLst>
                </a:custGeom>
                <a:solidFill>
                  <a:srgbClr val="93d3d3"/>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24" name=""/>
                <p:cNvSpPr/>
                <p:nvPr/>
              </p:nvSpPr>
              <p:spPr>
                <a:xfrm>
                  <a:off x="3601080" y="5488200"/>
                  <a:ext cx="14040" cy="7200"/>
                </a:xfrm>
                <a:custGeom>
                  <a:avLst/>
                  <a:gdLst/>
                  <a:ahLst/>
                  <a:rect l="l" t="t" r="r" b="b"/>
                  <a:pathLst>
                    <a:path w="27" h="17">
                      <a:moveTo>
                        <a:pt x="27" y="0"/>
                      </a:moveTo>
                      <a:lnTo>
                        <a:pt x="25" y="1"/>
                      </a:lnTo>
                      <a:lnTo>
                        <a:pt x="18" y="5"/>
                      </a:lnTo>
                      <a:lnTo>
                        <a:pt x="9" y="9"/>
                      </a:lnTo>
                      <a:lnTo>
                        <a:pt x="2" y="11"/>
                      </a:lnTo>
                      <a:lnTo>
                        <a:pt x="0" y="12"/>
                      </a:lnTo>
                      <a:lnTo>
                        <a:pt x="1" y="15"/>
                      </a:lnTo>
                      <a:lnTo>
                        <a:pt x="4" y="16"/>
                      </a:lnTo>
                      <a:lnTo>
                        <a:pt x="7" y="17"/>
                      </a:lnTo>
                      <a:lnTo>
                        <a:pt x="27" y="0"/>
                      </a:lnTo>
                      <a:close/>
                    </a:path>
                  </a:pathLst>
                </a:custGeom>
                <a:solidFill>
                  <a:srgbClr val="93d3d3"/>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325" name=""/>
                <p:cNvSpPr/>
                <p:nvPr/>
              </p:nvSpPr>
              <p:spPr>
                <a:xfrm>
                  <a:off x="3611520" y="5488920"/>
                  <a:ext cx="61560" cy="29520"/>
                </a:xfrm>
                <a:custGeom>
                  <a:avLst/>
                  <a:gdLst/>
                  <a:ahLst/>
                  <a:rect l="l" t="t" r="r" b="b"/>
                  <a:pathLst>
                    <a:path w="121" h="70">
                      <a:moveTo>
                        <a:pt x="0" y="0"/>
                      </a:moveTo>
                      <a:lnTo>
                        <a:pt x="0" y="7"/>
                      </a:lnTo>
                      <a:lnTo>
                        <a:pt x="4" y="22"/>
                      </a:lnTo>
                      <a:lnTo>
                        <a:pt x="12" y="34"/>
                      </a:lnTo>
                      <a:lnTo>
                        <a:pt x="30" y="33"/>
                      </a:lnTo>
                      <a:lnTo>
                        <a:pt x="42" y="29"/>
                      </a:lnTo>
                      <a:lnTo>
                        <a:pt x="50" y="26"/>
                      </a:lnTo>
                      <a:lnTo>
                        <a:pt x="55" y="27"/>
                      </a:lnTo>
                      <a:lnTo>
                        <a:pt x="57" y="31"/>
                      </a:lnTo>
                      <a:lnTo>
                        <a:pt x="58" y="41"/>
                      </a:lnTo>
                      <a:lnTo>
                        <a:pt x="56" y="49"/>
                      </a:lnTo>
                      <a:lnTo>
                        <a:pt x="57" y="59"/>
                      </a:lnTo>
                      <a:lnTo>
                        <a:pt x="67" y="65"/>
                      </a:lnTo>
                      <a:lnTo>
                        <a:pt x="76" y="68"/>
                      </a:lnTo>
                      <a:lnTo>
                        <a:pt x="88" y="70"/>
                      </a:lnTo>
                      <a:lnTo>
                        <a:pt x="98" y="70"/>
                      </a:lnTo>
                      <a:lnTo>
                        <a:pt x="108" y="70"/>
                      </a:lnTo>
                      <a:lnTo>
                        <a:pt x="116" y="69"/>
                      </a:lnTo>
                      <a:lnTo>
                        <a:pt x="120" y="68"/>
                      </a:lnTo>
                      <a:lnTo>
                        <a:pt x="121" y="68"/>
                      </a:lnTo>
                      <a:lnTo>
                        <a:pt x="118" y="67"/>
                      </a:lnTo>
                      <a:lnTo>
                        <a:pt x="106" y="67"/>
                      </a:lnTo>
                      <a:lnTo>
                        <a:pt x="96" y="65"/>
                      </a:lnTo>
                      <a:lnTo>
                        <a:pt x="89" y="64"/>
                      </a:lnTo>
                      <a:lnTo>
                        <a:pt x="82" y="63"/>
                      </a:lnTo>
                      <a:lnTo>
                        <a:pt x="78" y="62"/>
                      </a:lnTo>
                      <a:lnTo>
                        <a:pt x="74" y="61"/>
                      </a:lnTo>
                      <a:lnTo>
                        <a:pt x="72" y="60"/>
                      </a:lnTo>
                      <a:lnTo>
                        <a:pt x="69" y="59"/>
                      </a:lnTo>
                      <a:lnTo>
                        <a:pt x="61" y="49"/>
                      </a:lnTo>
                      <a:lnTo>
                        <a:pt x="61" y="44"/>
                      </a:lnTo>
                      <a:lnTo>
                        <a:pt x="65" y="38"/>
                      </a:lnTo>
                      <a:lnTo>
                        <a:pt x="66" y="32"/>
                      </a:lnTo>
                      <a:lnTo>
                        <a:pt x="61" y="24"/>
                      </a:lnTo>
                      <a:lnTo>
                        <a:pt x="58" y="19"/>
                      </a:lnTo>
                      <a:lnTo>
                        <a:pt x="52" y="18"/>
                      </a:lnTo>
                      <a:lnTo>
                        <a:pt x="44" y="22"/>
                      </a:lnTo>
                      <a:lnTo>
                        <a:pt x="40" y="25"/>
                      </a:lnTo>
                      <a:lnTo>
                        <a:pt x="34" y="29"/>
                      </a:lnTo>
                      <a:lnTo>
                        <a:pt x="29" y="32"/>
                      </a:lnTo>
                      <a:lnTo>
                        <a:pt x="25" y="33"/>
                      </a:lnTo>
                      <a:lnTo>
                        <a:pt x="19" y="32"/>
                      </a:lnTo>
                      <a:lnTo>
                        <a:pt x="13" y="27"/>
                      </a:lnTo>
                      <a:lnTo>
                        <a:pt x="7" y="17"/>
                      </a:lnTo>
                      <a:lnTo>
                        <a:pt x="0" y="0"/>
                      </a:lnTo>
                      <a:close/>
                    </a:path>
                  </a:pathLst>
                </a:custGeom>
                <a:solidFill>
                  <a:srgbClr val="93d3d3"/>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nvGrpSpPr>
              <p:cNvPr id="326" name=""/>
              <p:cNvGrpSpPr/>
              <p:nvPr/>
            </p:nvGrpSpPr>
            <p:grpSpPr>
              <a:xfrm>
                <a:off x="4022280" y="5344200"/>
                <a:ext cx="388800" cy="446760"/>
                <a:chOff x="4022280" y="5344200"/>
                <a:chExt cx="388800" cy="446760"/>
              </a:xfrm>
            </p:grpSpPr>
            <p:sp>
              <p:nvSpPr>
                <p:cNvPr id="327" name=""/>
                <p:cNvSpPr/>
                <p:nvPr/>
              </p:nvSpPr>
              <p:spPr>
                <a:xfrm>
                  <a:off x="4026240" y="5473080"/>
                  <a:ext cx="68760" cy="74160"/>
                </a:xfrm>
                <a:custGeom>
                  <a:avLst/>
                  <a:gdLst/>
                  <a:ahLst/>
                  <a:rect l="l" t="t" r="r" b="b"/>
                  <a:pathLst>
                    <a:path w="443" h="626">
                      <a:moveTo>
                        <a:pt x="0" y="0"/>
                      </a:moveTo>
                      <a:lnTo>
                        <a:pt x="19" y="276"/>
                      </a:lnTo>
                      <a:lnTo>
                        <a:pt x="114" y="498"/>
                      </a:lnTo>
                      <a:lnTo>
                        <a:pt x="340" y="626"/>
                      </a:lnTo>
                      <a:lnTo>
                        <a:pt x="443" y="550"/>
                      </a:lnTo>
                      <a:lnTo>
                        <a:pt x="353" y="417"/>
                      </a:lnTo>
                      <a:lnTo>
                        <a:pt x="201" y="396"/>
                      </a:lnTo>
                      <a:lnTo>
                        <a:pt x="101" y="306"/>
                      </a:lnTo>
                      <a:lnTo>
                        <a:pt x="0" y="0"/>
                      </a:lnTo>
                      <a:lnTo>
                        <a:pt x="0" y="0"/>
                      </a:lnTo>
                      <a:close/>
                    </a:path>
                  </a:pathLst>
                </a:custGeom>
                <a:solidFill>
                  <a:srgbClr val="ffd9d9"/>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28" name=""/>
                <p:cNvSpPr/>
                <p:nvPr/>
              </p:nvSpPr>
              <p:spPr>
                <a:xfrm>
                  <a:off x="4174560" y="5551920"/>
                  <a:ext cx="178920" cy="45720"/>
                </a:xfrm>
                <a:custGeom>
                  <a:avLst/>
                  <a:gdLst/>
                  <a:ahLst/>
                  <a:rect l="l" t="t" r="r" b="b"/>
                  <a:pathLst>
                    <a:path w="1156" h="384">
                      <a:moveTo>
                        <a:pt x="0" y="306"/>
                      </a:moveTo>
                      <a:lnTo>
                        <a:pt x="139" y="268"/>
                      </a:lnTo>
                      <a:lnTo>
                        <a:pt x="304" y="121"/>
                      </a:lnTo>
                      <a:lnTo>
                        <a:pt x="493" y="273"/>
                      </a:lnTo>
                      <a:lnTo>
                        <a:pt x="443" y="116"/>
                      </a:lnTo>
                      <a:lnTo>
                        <a:pt x="607" y="230"/>
                      </a:lnTo>
                      <a:lnTo>
                        <a:pt x="734" y="165"/>
                      </a:lnTo>
                      <a:lnTo>
                        <a:pt x="840" y="70"/>
                      </a:lnTo>
                      <a:lnTo>
                        <a:pt x="854" y="19"/>
                      </a:lnTo>
                      <a:lnTo>
                        <a:pt x="979" y="0"/>
                      </a:lnTo>
                      <a:lnTo>
                        <a:pt x="1156" y="26"/>
                      </a:lnTo>
                      <a:lnTo>
                        <a:pt x="854" y="205"/>
                      </a:lnTo>
                      <a:lnTo>
                        <a:pt x="498" y="363"/>
                      </a:lnTo>
                      <a:lnTo>
                        <a:pt x="95" y="384"/>
                      </a:lnTo>
                      <a:lnTo>
                        <a:pt x="0" y="306"/>
                      </a:lnTo>
                      <a:lnTo>
                        <a:pt x="0" y="306"/>
                      </a:lnTo>
                      <a:close/>
                    </a:path>
                  </a:pathLst>
                </a:custGeom>
                <a:solidFill>
                  <a:srgbClr val="ffd9d9"/>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329" name=""/>
                <p:cNvSpPr/>
                <p:nvPr/>
              </p:nvSpPr>
              <p:spPr>
                <a:xfrm>
                  <a:off x="4047840" y="5365440"/>
                  <a:ext cx="268560" cy="212400"/>
                </a:xfrm>
                <a:custGeom>
                  <a:avLst/>
                  <a:gdLst/>
                  <a:ahLst/>
                  <a:rect l="l" t="t" r="r" b="b"/>
                  <a:pathLst>
                    <a:path w="1731" h="1779">
                      <a:moveTo>
                        <a:pt x="557" y="0"/>
                      </a:moveTo>
                      <a:lnTo>
                        <a:pt x="233" y="314"/>
                      </a:lnTo>
                      <a:lnTo>
                        <a:pt x="43" y="485"/>
                      </a:lnTo>
                      <a:lnTo>
                        <a:pt x="100" y="740"/>
                      </a:lnTo>
                      <a:lnTo>
                        <a:pt x="0" y="875"/>
                      </a:lnTo>
                      <a:lnTo>
                        <a:pt x="95" y="1091"/>
                      </a:lnTo>
                      <a:lnTo>
                        <a:pt x="138" y="1200"/>
                      </a:lnTo>
                      <a:lnTo>
                        <a:pt x="290" y="1283"/>
                      </a:lnTo>
                      <a:lnTo>
                        <a:pt x="595" y="829"/>
                      </a:lnTo>
                      <a:lnTo>
                        <a:pt x="1005" y="652"/>
                      </a:lnTo>
                      <a:lnTo>
                        <a:pt x="600" y="1053"/>
                      </a:lnTo>
                      <a:lnTo>
                        <a:pt x="366" y="1346"/>
                      </a:lnTo>
                      <a:lnTo>
                        <a:pt x="328" y="1538"/>
                      </a:lnTo>
                      <a:lnTo>
                        <a:pt x="606" y="1487"/>
                      </a:lnTo>
                      <a:lnTo>
                        <a:pt x="688" y="1492"/>
                      </a:lnTo>
                      <a:lnTo>
                        <a:pt x="752" y="1563"/>
                      </a:lnTo>
                      <a:lnTo>
                        <a:pt x="1188" y="1295"/>
                      </a:lnTo>
                      <a:lnTo>
                        <a:pt x="834" y="1679"/>
                      </a:lnTo>
                      <a:lnTo>
                        <a:pt x="847" y="1779"/>
                      </a:lnTo>
                      <a:lnTo>
                        <a:pt x="1062" y="1601"/>
                      </a:lnTo>
                      <a:lnTo>
                        <a:pt x="1302" y="1500"/>
                      </a:lnTo>
                      <a:lnTo>
                        <a:pt x="1707" y="1072"/>
                      </a:lnTo>
                      <a:lnTo>
                        <a:pt x="1731" y="696"/>
                      </a:lnTo>
                      <a:lnTo>
                        <a:pt x="1174" y="300"/>
                      </a:lnTo>
                      <a:lnTo>
                        <a:pt x="650" y="333"/>
                      </a:lnTo>
                      <a:lnTo>
                        <a:pt x="557" y="0"/>
                      </a:lnTo>
                      <a:lnTo>
                        <a:pt x="557" y="0"/>
                      </a:lnTo>
                      <a:close/>
                    </a:path>
                  </a:pathLst>
                </a:custGeom>
                <a:solidFill>
                  <a:srgbClr val="ff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4034520" y="5517720"/>
                  <a:ext cx="163440" cy="79920"/>
                </a:xfrm>
                <a:custGeom>
                  <a:avLst/>
                  <a:gdLst/>
                  <a:ahLst/>
                  <a:rect l="l" t="t" r="r" b="b"/>
                  <a:pathLst>
                    <a:path w="1053" h="673">
                      <a:moveTo>
                        <a:pt x="0" y="0"/>
                      </a:moveTo>
                      <a:lnTo>
                        <a:pt x="120" y="80"/>
                      </a:lnTo>
                      <a:lnTo>
                        <a:pt x="255" y="173"/>
                      </a:lnTo>
                      <a:lnTo>
                        <a:pt x="375" y="144"/>
                      </a:lnTo>
                      <a:lnTo>
                        <a:pt x="437" y="43"/>
                      </a:lnTo>
                      <a:lnTo>
                        <a:pt x="388" y="294"/>
                      </a:lnTo>
                      <a:lnTo>
                        <a:pt x="510" y="351"/>
                      </a:lnTo>
                      <a:lnTo>
                        <a:pt x="665" y="380"/>
                      </a:lnTo>
                      <a:lnTo>
                        <a:pt x="749" y="351"/>
                      </a:lnTo>
                      <a:lnTo>
                        <a:pt x="793" y="479"/>
                      </a:lnTo>
                      <a:lnTo>
                        <a:pt x="1053" y="673"/>
                      </a:lnTo>
                      <a:lnTo>
                        <a:pt x="749" y="608"/>
                      </a:lnTo>
                      <a:lnTo>
                        <a:pt x="260" y="336"/>
                      </a:lnTo>
                      <a:lnTo>
                        <a:pt x="105" y="173"/>
                      </a:lnTo>
                      <a:lnTo>
                        <a:pt x="0" y="0"/>
                      </a:lnTo>
                      <a:lnTo>
                        <a:pt x="0" y="0"/>
                      </a:lnTo>
                      <a:close/>
                    </a:path>
                  </a:pathLst>
                </a:custGeom>
                <a:solidFill>
                  <a:srgbClr val="ff9999"/>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331" name=""/>
                <p:cNvSpPr/>
                <p:nvPr/>
              </p:nvSpPr>
              <p:spPr>
                <a:xfrm>
                  <a:off x="4031280" y="5585760"/>
                  <a:ext cx="308520" cy="192600"/>
                </a:xfrm>
                <a:custGeom>
                  <a:avLst/>
                  <a:gdLst/>
                  <a:ahLst/>
                  <a:rect l="l" t="t" r="r" b="b"/>
                  <a:pathLst>
                    <a:path w="1991" h="1616">
                      <a:moveTo>
                        <a:pt x="405" y="0"/>
                      </a:moveTo>
                      <a:lnTo>
                        <a:pt x="377" y="152"/>
                      </a:lnTo>
                      <a:lnTo>
                        <a:pt x="242" y="274"/>
                      </a:lnTo>
                      <a:lnTo>
                        <a:pt x="411" y="217"/>
                      </a:lnTo>
                      <a:lnTo>
                        <a:pt x="341" y="473"/>
                      </a:lnTo>
                      <a:lnTo>
                        <a:pt x="348" y="623"/>
                      </a:lnTo>
                      <a:lnTo>
                        <a:pt x="333" y="973"/>
                      </a:lnTo>
                      <a:lnTo>
                        <a:pt x="234" y="1230"/>
                      </a:lnTo>
                      <a:lnTo>
                        <a:pt x="744" y="838"/>
                      </a:lnTo>
                      <a:lnTo>
                        <a:pt x="561" y="1095"/>
                      </a:lnTo>
                      <a:lnTo>
                        <a:pt x="156" y="1374"/>
                      </a:lnTo>
                      <a:lnTo>
                        <a:pt x="0" y="1530"/>
                      </a:lnTo>
                      <a:lnTo>
                        <a:pt x="164" y="1551"/>
                      </a:lnTo>
                      <a:lnTo>
                        <a:pt x="510" y="1281"/>
                      </a:lnTo>
                      <a:lnTo>
                        <a:pt x="624" y="1281"/>
                      </a:lnTo>
                      <a:lnTo>
                        <a:pt x="715" y="1481"/>
                      </a:lnTo>
                      <a:lnTo>
                        <a:pt x="850" y="1616"/>
                      </a:lnTo>
                      <a:lnTo>
                        <a:pt x="892" y="1294"/>
                      </a:lnTo>
                      <a:lnTo>
                        <a:pt x="780" y="1188"/>
                      </a:lnTo>
                      <a:lnTo>
                        <a:pt x="858" y="895"/>
                      </a:lnTo>
                      <a:lnTo>
                        <a:pt x="985" y="608"/>
                      </a:lnTo>
                      <a:lnTo>
                        <a:pt x="1154" y="745"/>
                      </a:lnTo>
                      <a:lnTo>
                        <a:pt x="1339" y="1051"/>
                      </a:lnTo>
                      <a:lnTo>
                        <a:pt x="1424" y="1494"/>
                      </a:lnTo>
                      <a:lnTo>
                        <a:pt x="1609" y="1144"/>
                      </a:lnTo>
                      <a:lnTo>
                        <a:pt x="1955" y="1408"/>
                      </a:lnTo>
                      <a:lnTo>
                        <a:pt x="1778" y="1045"/>
                      </a:lnTo>
                      <a:lnTo>
                        <a:pt x="1983" y="1273"/>
                      </a:lnTo>
                      <a:lnTo>
                        <a:pt x="1827" y="595"/>
                      </a:lnTo>
                      <a:lnTo>
                        <a:pt x="1820" y="380"/>
                      </a:lnTo>
                      <a:lnTo>
                        <a:pt x="1991" y="367"/>
                      </a:lnTo>
                      <a:lnTo>
                        <a:pt x="1975" y="230"/>
                      </a:lnTo>
                      <a:lnTo>
                        <a:pt x="1877" y="274"/>
                      </a:lnTo>
                      <a:lnTo>
                        <a:pt x="1614" y="160"/>
                      </a:lnTo>
                      <a:lnTo>
                        <a:pt x="1523" y="217"/>
                      </a:lnTo>
                      <a:lnTo>
                        <a:pt x="772" y="137"/>
                      </a:lnTo>
                      <a:lnTo>
                        <a:pt x="405" y="0"/>
                      </a:lnTo>
                      <a:lnTo>
                        <a:pt x="405"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4039920" y="5348880"/>
                  <a:ext cx="357840" cy="257760"/>
                </a:xfrm>
                <a:custGeom>
                  <a:avLst/>
                  <a:gdLst/>
                  <a:ahLst/>
                  <a:rect l="l" t="t" r="r" b="b"/>
                  <a:pathLst>
                    <a:path w="2308" h="2164">
                      <a:moveTo>
                        <a:pt x="299" y="863"/>
                      </a:moveTo>
                      <a:lnTo>
                        <a:pt x="681" y="628"/>
                      </a:lnTo>
                      <a:lnTo>
                        <a:pt x="1289" y="571"/>
                      </a:lnTo>
                      <a:lnTo>
                        <a:pt x="1346" y="728"/>
                      </a:lnTo>
                      <a:lnTo>
                        <a:pt x="736" y="1264"/>
                      </a:lnTo>
                      <a:lnTo>
                        <a:pt x="595" y="1485"/>
                      </a:lnTo>
                      <a:lnTo>
                        <a:pt x="1707" y="1034"/>
                      </a:lnTo>
                      <a:lnTo>
                        <a:pt x="1063" y="1764"/>
                      </a:lnTo>
                      <a:lnTo>
                        <a:pt x="1190" y="1700"/>
                      </a:lnTo>
                      <a:lnTo>
                        <a:pt x="1295" y="1785"/>
                      </a:lnTo>
                      <a:lnTo>
                        <a:pt x="1494" y="1935"/>
                      </a:lnTo>
                      <a:lnTo>
                        <a:pt x="1700" y="1627"/>
                      </a:lnTo>
                      <a:lnTo>
                        <a:pt x="1975" y="1586"/>
                      </a:lnTo>
                      <a:lnTo>
                        <a:pt x="1926" y="1356"/>
                      </a:lnTo>
                      <a:lnTo>
                        <a:pt x="2171" y="1169"/>
                      </a:lnTo>
                      <a:lnTo>
                        <a:pt x="2036" y="909"/>
                      </a:lnTo>
                      <a:lnTo>
                        <a:pt x="2173" y="736"/>
                      </a:lnTo>
                      <a:lnTo>
                        <a:pt x="2223" y="928"/>
                      </a:lnTo>
                      <a:lnTo>
                        <a:pt x="2223" y="1228"/>
                      </a:lnTo>
                      <a:lnTo>
                        <a:pt x="2053" y="1399"/>
                      </a:lnTo>
                      <a:lnTo>
                        <a:pt x="2061" y="1542"/>
                      </a:lnTo>
                      <a:lnTo>
                        <a:pt x="1975" y="1728"/>
                      </a:lnTo>
                      <a:lnTo>
                        <a:pt x="1778" y="1749"/>
                      </a:lnTo>
                      <a:lnTo>
                        <a:pt x="1629" y="1892"/>
                      </a:lnTo>
                      <a:lnTo>
                        <a:pt x="1523" y="2000"/>
                      </a:lnTo>
                      <a:lnTo>
                        <a:pt x="1339" y="2049"/>
                      </a:lnTo>
                      <a:lnTo>
                        <a:pt x="1175" y="1850"/>
                      </a:lnTo>
                      <a:lnTo>
                        <a:pt x="1006" y="2034"/>
                      </a:lnTo>
                      <a:lnTo>
                        <a:pt x="759" y="2049"/>
                      </a:lnTo>
                      <a:lnTo>
                        <a:pt x="1091" y="2164"/>
                      </a:lnTo>
                      <a:lnTo>
                        <a:pt x="1629" y="2091"/>
                      </a:lnTo>
                      <a:lnTo>
                        <a:pt x="1820" y="2063"/>
                      </a:lnTo>
                      <a:lnTo>
                        <a:pt x="1848" y="1943"/>
                      </a:lnTo>
                      <a:lnTo>
                        <a:pt x="2124" y="1793"/>
                      </a:lnTo>
                      <a:lnTo>
                        <a:pt x="2295" y="1420"/>
                      </a:lnTo>
                      <a:lnTo>
                        <a:pt x="2308" y="972"/>
                      </a:lnTo>
                      <a:lnTo>
                        <a:pt x="2181" y="400"/>
                      </a:lnTo>
                      <a:lnTo>
                        <a:pt x="1905" y="420"/>
                      </a:lnTo>
                      <a:lnTo>
                        <a:pt x="1331" y="213"/>
                      </a:lnTo>
                      <a:lnTo>
                        <a:pt x="736" y="107"/>
                      </a:lnTo>
                      <a:lnTo>
                        <a:pt x="546" y="0"/>
                      </a:lnTo>
                      <a:lnTo>
                        <a:pt x="341" y="149"/>
                      </a:lnTo>
                      <a:lnTo>
                        <a:pt x="198" y="293"/>
                      </a:lnTo>
                      <a:lnTo>
                        <a:pt x="221" y="449"/>
                      </a:lnTo>
                      <a:lnTo>
                        <a:pt x="128" y="472"/>
                      </a:lnTo>
                      <a:lnTo>
                        <a:pt x="42" y="592"/>
                      </a:lnTo>
                      <a:lnTo>
                        <a:pt x="42" y="770"/>
                      </a:lnTo>
                      <a:lnTo>
                        <a:pt x="99" y="899"/>
                      </a:lnTo>
                      <a:lnTo>
                        <a:pt x="8" y="956"/>
                      </a:lnTo>
                      <a:lnTo>
                        <a:pt x="0" y="1107"/>
                      </a:lnTo>
                      <a:lnTo>
                        <a:pt x="99" y="1221"/>
                      </a:lnTo>
                      <a:lnTo>
                        <a:pt x="242" y="1122"/>
                      </a:lnTo>
                      <a:lnTo>
                        <a:pt x="226" y="936"/>
                      </a:lnTo>
                      <a:lnTo>
                        <a:pt x="299" y="863"/>
                      </a:lnTo>
                      <a:lnTo>
                        <a:pt x="299" y="863"/>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4044240" y="5344200"/>
                  <a:ext cx="333720" cy="159120"/>
                </a:xfrm>
                <a:custGeom>
                  <a:avLst/>
                  <a:gdLst/>
                  <a:ahLst/>
                  <a:rect l="l" t="t" r="r" b="b"/>
                  <a:pathLst>
                    <a:path w="2152" h="1334">
                      <a:moveTo>
                        <a:pt x="135" y="1334"/>
                      </a:moveTo>
                      <a:lnTo>
                        <a:pt x="247" y="1148"/>
                      </a:lnTo>
                      <a:lnTo>
                        <a:pt x="197" y="977"/>
                      </a:lnTo>
                      <a:lnTo>
                        <a:pt x="247" y="777"/>
                      </a:lnTo>
                      <a:lnTo>
                        <a:pt x="389" y="676"/>
                      </a:lnTo>
                      <a:lnTo>
                        <a:pt x="382" y="562"/>
                      </a:lnTo>
                      <a:lnTo>
                        <a:pt x="467" y="363"/>
                      </a:lnTo>
                      <a:lnTo>
                        <a:pt x="673" y="277"/>
                      </a:lnTo>
                      <a:lnTo>
                        <a:pt x="857" y="441"/>
                      </a:lnTo>
                      <a:lnTo>
                        <a:pt x="1091" y="306"/>
                      </a:lnTo>
                      <a:lnTo>
                        <a:pt x="1260" y="420"/>
                      </a:lnTo>
                      <a:lnTo>
                        <a:pt x="1372" y="547"/>
                      </a:lnTo>
                      <a:lnTo>
                        <a:pt x="1479" y="534"/>
                      </a:lnTo>
                      <a:lnTo>
                        <a:pt x="1642" y="448"/>
                      </a:lnTo>
                      <a:lnTo>
                        <a:pt x="1720" y="484"/>
                      </a:lnTo>
                      <a:lnTo>
                        <a:pt x="1671" y="690"/>
                      </a:lnTo>
                      <a:lnTo>
                        <a:pt x="1791" y="798"/>
                      </a:lnTo>
                      <a:lnTo>
                        <a:pt x="1954" y="868"/>
                      </a:lnTo>
                      <a:lnTo>
                        <a:pt x="2102" y="769"/>
                      </a:lnTo>
                      <a:lnTo>
                        <a:pt x="1889" y="669"/>
                      </a:lnTo>
                      <a:lnTo>
                        <a:pt x="2061" y="570"/>
                      </a:lnTo>
                      <a:lnTo>
                        <a:pt x="2152" y="441"/>
                      </a:lnTo>
                      <a:lnTo>
                        <a:pt x="1848" y="397"/>
                      </a:lnTo>
                      <a:lnTo>
                        <a:pt x="1656" y="212"/>
                      </a:lnTo>
                      <a:lnTo>
                        <a:pt x="1486" y="262"/>
                      </a:lnTo>
                      <a:lnTo>
                        <a:pt x="1239" y="205"/>
                      </a:lnTo>
                      <a:lnTo>
                        <a:pt x="1182" y="87"/>
                      </a:lnTo>
                      <a:lnTo>
                        <a:pt x="1013" y="155"/>
                      </a:lnTo>
                      <a:lnTo>
                        <a:pt x="707" y="148"/>
                      </a:lnTo>
                      <a:lnTo>
                        <a:pt x="547" y="0"/>
                      </a:lnTo>
                      <a:lnTo>
                        <a:pt x="439" y="41"/>
                      </a:lnTo>
                      <a:lnTo>
                        <a:pt x="502" y="133"/>
                      </a:lnTo>
                      <a:lnTo>
                        <a:pt x="369" y="233"/>
                      </a:lnTo>
                      <a:lnTo>
                        <a:pt x="283" y="368"/>
                      </a:lnTo>
                      <a:lnTo>
                        <a:pt x="325" y="591"/>
                      </a:lnTo>
                      <a:lnTo>
                        <a:pt x="148" y="648"/>
                      </a:lnTo>
                      <a:lnTo>
                        <a:pt x="70" y="690"/>
                      </a:lnTo>
                      <a:lnTo>
                        <a:pt x="57" y="790"/>
                      </a:lnTo>
                      <a:lnTo>
                        <a:pt x="127" y="897"/>
                      </a:lnTo>
                      <a:lnTo>
                        <a:pt x="120" y="997"/>
                      </a:lnTo>
                      <a:lnTo>
                        <a:pt x="7" y="1112"/>
                      </a:lnTo>
                      <a:lnTo>
                        <a:pt x="0" y="1220"/>
                      </a:lnTo>
                      <a:lnTo>
                        <a:pt x="135" y="1334"/>
                      </a:lnTo>
                      <a:lnTo>
                        <a:pt x="135" y="1334"/>
                      </a:lnTo>
                      <a:close/>
                    </a:path>
                  </a:pathLst>
                </a:custGeom>
                <a:solidFill>
                  <a:srgbClr val="c9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041000" y="5504040"/>
                  <a:ext cx="356760" cy="114120"/>
                </a:xfrm>
                <a:custGeom>
                  <a:avLst/>
                  <a:gdLst/>
                  <a:ahLst/>
                  <a:rect l="l" t="t" r="r" b="b"/>
                  <a:pathLst>
                    <a:path w="2300" h="958">
                      <a:moveTo>
                        <a:pt x="346" y="579"/>
                      </a:moveTo>
                      <a:lnTo>
                        <a:pt x="312" y="722"/>
                      </a:lnTo>
                      <a:lnTo>
                        <a:pt x="616" y="885"/>
                      </a:lnTo>
                      <a:lnTo>
                        <a:pt x="1047" y="958"/>
                      </a:lnTo>
                      <a:lnTo>
                        <a:pt x="1409" y="958"/>
                      </a:lnTo>
                      <a:lnTo>
                        <a:pt x="1755" y="836"/>
                      </a:lnTo>
                      <a:lnTo>
                        <a:pt x="1903" y="878"/>
                      </a:lnTo>
                      <a:lnTo>
                        <a:pt x="1848" y="678"/>
                      </a:lnTo>
                      <a:lnTo>
                        <a:pt x="2137" y="437"/>
                      </a:lnTo>
                      <a:lnTo>
                        <a:pt x="2300" y="0"/>
                      </a:lnTo>
                      <a:lnTo>
                        <a:pt x="2123" y="308"/>
                      </a:lnTo>
                      <a:lnTo>
                        <a:pt x="1840" y="536"/>
                      </a:lnTo>
                      <a:lnTo>
                        <a:pt x="1515" y="701"/>
                      </a:lnTo>
                      <a:lnTo>
                        <a:pt x="1232" y="800"/>
                      </a:lnTo>
                      <a:lnTo>
                        <a:pt x="962" y="764"/>
                      </a:lnTo>
                      <a:lnTo>
                        <a:pt x="587" y="616"/>
                      </a:lnTo>
                      <a:lnTo>
                        <a:pt x="283" y="437"/>
                      </a:lnTo>
                      <a:lnTo>
                        <a:pt x="0" y="173"/>
                      </a:lnTo>
                      <a:lnTo>
                        <a:pt x="167" y="462"/>
                      </a:lnTo>
                      <a:lnTo>
                        <a:pt x="346" y="579"/>
                      </a:lnTo>
                      <a:lnTo>
                        <a:pt x="346" y="579"/>
                      </a:lnTo>
                      <a:close/>
                    </a:path>
                  </a:pathLst>
                </a:custGeom>
                <a:solidFill>
                  <a:srgbClr val="c9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4078440" y="5607000"/>
                  <a:ext cx="300600" cy="183960"/>
                </a:xfrm>
                <a:custGeom>
                  <a:avLst/>
                  <a:gdLst/>
                  <a:ahLst/>
                  <a:rect l="l" t="t" r="r" b="b"/>
                  <a:pathLst>
                    <a:path w="1939" h="1543">
                      <a:moveTo>
                        <a:pt x="42" y="77"/>
                      </a:moveTo>
                      <a:lnTo>
                        <a:pt x="0" y="271"/>
                      </a:lnTo>
                      <a:lnTo>
                        <a:pt x="105" y="243"/>
                      </a:lnTo>
                      <a:lnTo>
                        <a:pt x="190" y="463"/>
                      </a:lnTo>
                      <a:lnTo>
                        <a:pt x="247" y="572"/>
                      </a:lnTo>
                      <a:lnTo>
                        <a:pt x="331" y="543"/>
                      </a:lnTo>
                      <a:lnTo>
                        <a:pt x="409" y="421"/>
                      </a:lnTo>
                      <a:lnTo>
                        <a:pt x="515" y="393"/>
                      </a:lnTo>
                      <a:lnTo>
                        <a:pt x="559" y="585"/>
                      </a:lnTo>
                      <a:lnTo>
                        <a:pt x="622" y="629"/>
                      </a:lnTo>
                      <a:lnTo>
                        <a:pt x="552" y="935"/>
                      </a:lnTo>
                      <a:lnTo>
                        <a:pt x="559" y="1243"/>
                      </a:lnTo>
                      <a:lnTo>
                        <a:pt x="552" y="1399"/>
                      </a:lnTo>
                      <a:lnTo>
                        <a:pt x="580" y="1463"/>
                      </a:lnTo>
                      <a:lnTo>
                        <a:pt x="622" y="1406"/>
                      </a:lnTo>
                      <a:lnTo>
                        <a:pt x="715" y="642"/>
                      </a:lnTo>
                      <a:lnTo>
                        <a:pt x="793" y="556"/>
                      </a:lnTo>
                      <a:lnTo>
                        <a:pt x="877" y="785"/>
                      </a:lnTo>
                      <a:lnTo>
                        <a:pt x="991" y="1507"/>
                      </a:lnTo>
                      <a:lnTo>
                        <a:pt x="1046" y="1543"/>
                      </a:lnTo>
                      <a:lnTo>
                        <a:pt x="1139" y="1463"/>
                      </a:lnTo>
                      <a:lnTo>
                        <a:pt x="1337" y="1250"/>
                      </a:lnTo>
                      <a:lnTo>
                        <a:pt x="1755" y="1478"/>
                      </a:lnTo>
                      <a:lnTo>
                        <a:pt x="1939" y="1456"/>
                      </a:lnTo>
                      <a:lnTo>
                        <a:pt x="1846" y="1349"/>
                      </a:lnTo>
                      <a:lnTo>
                        <a:pt x="1529" y="1178"/>
                      </a:lnTo>
                      <a:lnTo>
                        <a:pt x="1331" y="1077"/>
                      </a:lnTo>
                      <a:lnTo>
                        <a:pt x="1217" y="1113"/>
                      </a:lnTo>
                      <a:lnTo>
                        <a:pt x="1090" y="1279"/>
                      </a:lnTo>
                      <a:lnTo>
                        <a:pt x="970" y="978"/>
                      </a:lnTo>
                      <a:lnTo>
                        <a:pt x="877" y="585"/>
                      </a:lnTo>
                      <a:lnTo>
                        <a:pt x="983" y="600"/>
                      </a:lnTo>
                      <a:lnTo>
                        <a:pt x="1069" y="536"/>
                      </a:lnTo>
                      <a:lnTo>
                        <a:pt x="1139" y="427"/>
                      </a:lnTo>
                      <a:lnTo>
                        <a:pt x="1308" y="549"/>
                      </a:lnTo>
                      <a:lnTo>
                        <a:pt x="1458" y="613"/>
                      </a:lnTo>
                      <a:lnTo>
                        <a:pt x="1514" y="543"/>
                      </a:lnTo>
                      <a:lnTo>
                        <a:pt x="1578" y="364"/>
                      </a:lnTo>
                      <a:lnTo>
                        <a:pt x="1557" y="228"/>
                      </a:lnTo>
                      <a:lnTo>
                        <a:pt x="1337" y="134"/>
                      </a:lnTo>
                      <a:lnTo>
                        <a:pt x="1380" y="399"/>
                      </a:lnTo>
                      <a:lnTo>
                        <a:pt x="1019" y="222"/>
                      </a:lnTo>
                      <a:lnTo>
                        <a:pt x="877" y="393"/>
                      </a:lnTo>
                      <a:lnTo>
                        <a:pt x="728" y="163"/>
                      </a:lnTo>
                      <a:lnTo>
                        <a:pt x="565" y="336"/>
                      </a:lnTo>
                      <a:lnTo>
                        <a:pt x="432" y="77"/>
                      </a:lnTo>
                      <a:lnTo>
                        <a:pt x="198" y="313"/>
                      </a:lnTo>
                      <a:lnTo>
                        <a:pt x="219" y="13"/>
                      </a:lnTo>
                      <a:lnTo>
                        <a:pt x="162" y="0"/>
                      </a:lnTo>
                      <a:lnTo>
                        <a:pt x="42" y="77"/>
                      </a:lnTo>
                      <a:lnTo>
                        <a:pt x="42" y="77"/>
                      </a:lnTo>
                      <a:close/>
                    </a:path>
                  </a:pathLst>
                </a:custGeom>
                <a:solidFill>
                  <a:srgbClr val="c9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4027680" y="5721480"/>
                  <a:ext cx="120960" cy="56880"/>
                </a:xfrm>
                <a:custGeom>
                  <a:avLst/>
                  <a:gdLst/>
                  <a:ahLst/>
                  <a:rect l="l" t="t" r="r" b="b"/>
                  <a:pathLst>
                    <a:path w="780" h="477">
                      <a:moveTo>
                        <a:pt x="0" y="435"/>
                      </a:moveTo>
                      <a:lnTo>
                        <a:pt x="143" y="326"/>
                      </a:lnTo>
                      <a:lnTo>
                        <a:pt x="344" y="161"/>
                      </a:lnTo>
                      <a:lnTo>
                        <a:pt x="559" y="0"/>
                      </a:lnTo>
                      <a:lnTo>
                        <a:pt x="673" y="34"/>
                      </a:lnTo>
                      <a:lnTo>
                        <a:pt x="723" y="249"/>
                      </a:lnTo>
                      <a:lnTo>
                        <a:pt x="780" y="363"/>
                      </a:lnTo>
                      <a:lnTo>
                        <a:pt x="666" y="277"/>
                      </a:lnTo>
                      <a:lnTo>
                        <a:pt x="554" y="106"/>
                      </a:lnTo>
                      <a:lnTo>
                        <a:pt x="426" y="292"/>
                      </a:lnTo>
                      <a:lnTo>
                        <a:pt x="177" y="441"/>
                      </a:lnTo>
                      <a:lnTo>
                        <a:pt x="78" y="477"/>
                      </a:lnTo>
                      <a:lnTo>
                        <a:pt x="0" y="435"/>
                      </a:lnTo>
                      <a:lnTo>
                        <a:pt x="0" y="435"/>
                      </a:lnTo>
                      <a:close/>
                    </a:path>
                  </a:pathLst>
                </a:custGeom>
                <a:solidFill>
                  <a:srgbClr val="c9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37" name=""/>
                <p:cNvSpPr/>
                <p:nvPr/>
              </p:nvSpPr>
              <p:spPr>
                <a:xfrm>
                  <a:off x="4327200" y="5465160"/>
                  <a:ext cx="52560" cy="34920"/>
                </a:xfrm>
                <a:custGeom>
                  <a:avLst/>
                  <a:gdLst/>
                  <a:ahLst/>
                  <a:rect l="l" t="t" r="r" b="b"/>
                  <a:pathLst>
                    <a:path w="340" h="293">
                      <a:moveTo>
                        <a:pt x="55" y="0"/>
                      </a:moveTo>
                      <a:lnTo>
                        <a:pt x="289" y="99"/>
                      </a:lnTo>
                      <a:lnTo>
                        <a:pt x="340" y="160"/>
                      </a:lnTo>
                      <a:lnTo>
                        <a:pt x="327" y="200"/>
                      </a:lnTo>
                      <a:lnTo>
                        <a:pt x="205" y="293"/>
                      </a:lnTo>
                      <a:lnTo>
                        <a:pt x="224" y="208"/>
                      </a:lnTo>
                      <a:lnTo>
                        <a:pt x="40" y="154"/>
                      </a:lnTo>
                      <a:lnTo>
                        <a:pt x="0" y="75"/>
                      </a:lnTo>
                      <a:lnTo>
                        <a:pt x="55" y="0"/>
                      </a:lnTo>
                      <a:lnTo>
                        <a:pt x="55" y="0"/>
                      </a:lnTo>
                      <a:close/>
                    </a:path>
                  </a:pathLst>
                </a:custGeom>
                <a:solidFill>
                  <a:srgbClr val="c94d4d"/>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38" name=""/>
                <p:cNvSpPr/>
                <p:nvPr/>
              </p:nvSpPr>
              <p:spPr>
                <a:xfrm>
                  <a:off x="4055040" y="5575680"/>
                  <a:ext cx="301320" cy="89280"/>
                </a:xfrm>
                <a:custGeom>
                  <a:avLst/>
                  <a:gdLst/>
                  <a:ahLst/>
                  <a:rect l="l" t="t" r="r" b="b"/>
                  <a:pathLst>
                    <a:path w="1945" h="749">
                      <a:moveTo>
                        <a:pt x="287" y="36"/>
                      </a:moveTo>
                      <a:lnTo>
                        <a:pt x="264" y="80"/>
                      </a:lnTo>
                      <a:lnTo>
                        <a:pt x="244" y="120"/>
                      </a:lnTo>
                      <a:lnTo>
                        <a:pt x="221" y="158"/>
                      </a:lnTo>
                      <a:lnTo>
                        <a:pt x="198" y="194"/>
                      </a:lnTo>
                      <a:lnTo>
                        <a:pt x="152" y="265"/>
                      </a:lnTo>
                      <a:lnTo>
                        <a:pt x="103" y="337"/>
                      </a:lnTo>
                      <a:lnTo>
                        <a:pt x="181" y="310"/>
                      </a:lnTo>
                      <a:lnTo>
                        <a:pt x="268" y="263"/>
                      </a:lnTo>
                      <a:lnTo>
                        <a:pt x="308" y="242"/>
                      </a:lnTo>
                      <a:lnTo>
                        <a:pt x="360" y="238"/>
                      </a:lnTo>
                      <a:lnTo>
                        <a:pt x="382" y="272"/>
                      </a:lnTo>
                      <a:lnTo>
                        <a:pt x="407" y="287"/>
                      </a:lnTo>
                      <a:lnTo>
                        <a:pt x="409" y="316"/>
                      </a:lnTo>
                      <a:lnTo>
                        <a:pt x="394" y="542"/>
                      </a:lnTo>
                      <a:lnTo>
                        <a:pt x="432" y="496"/>
                      </a:lnTo>
                      <a:lnTo>
                        <a:pt x="470" y="451"/>
                      </a:lnTo>
                      <a:lnTo>
                        <a:pt x="508" y="399"/>
                      </a:lnTo>
                      <a:lnTo>
                        <a:pt x="553" y="342"/>
                      </a:lnTo>
                      <a:lnTo>
                        <a:pt x="584" y="323"/>
                      </a:lnTo>
                      <a:lnTo>
                        <a:pt x="616" y="342"/>
                      </a:lnTo>
                      <a:lnTo>
                        <a:pt x="643" y="417"/>
                      </a:lnTo>
                      <a:lnTo>
                        <a:pt x="669" y="517"/>
                      </a:lnTo>
                      <a:lnTo>
                        <a:pt x="696" y="605"/>
                      </a:lnTo>
                      <a:lnTo>
                        <a:pt x="723" y="552"/>
                      </a:lnTo>
                      <a:lnTo>
                        <a:pt x="749" y="498"/>
                      </a:lnTo>
                      <a:lnTo>
                        <a:pt x="778" y="443"/>
                      </a:lnTo>
                      <a:lnTo>
                        <a:pt x="808" y="380"/>
                      </a:lnTo>
                      <a:lnTo>
                        <a:pt x="821" y="363"/>
                      </a:lnTo>
                      <a:lnTo>
                        <a:pt x="837" y="356"/>
                      </a:lnTo>
                      <a:lnTo>
                        <a:pt x="869" y="371"/>
                      </a:lnTo>
                      <a:lnTo>
                        <a:pt x="905" y="420"/>
                      </a:lnTo>
                      <a:lnTo>
                        <a:pt x="924" y="472"/>
                      </a:lnTo>
                      <a:lnTo>
                        <a:pt x="943" y="527"/>
                      </a:lnTo>
                      <a:lnTo>
                        <a:pt x="972" y="582"/>
                      </a:lnTo>
                      <a:lnTo>
                        <a:pt x="1034" y="654"/>
                      </a:lnTo>
                      <a:lnTo>
                        <a:pt x="1074" y="550"/>
                      </a:lnTo>
                      <a:lnTo>
                        <a:pt x="1097" y="498"/>
                      </a:lnTo>
                      <a:lnTo>
                        <a:pt x="1129" y="445"/>
                      </a:lnTo>
                      <a:lnTo>
                        <a:pt x="1154" y="426"/>
                      </a:lnTo>
                      <a:lnTo>
                        <a:pt x="1183" y="434"/>
                      </a:lnTo>
                      <a:lnTo>
                        <a:pt x="1230" y="464"/>
                      </a:lnTo>
                      <a:lnTo>
                        <a:pt x="1272" y="493"/>
                      </a:lnTo>
                      <a:lnTo>
                        <a:pt x="1312" y="519"/>
                      </a:lnTo>
                      <a:lnTo>
                        <a:pt x="1348" y="546"/>
                      </a:lnTo>
                      <a:lnTo>
                        <a:pt x="1386" y="569"/>
                      </a:lnTo>
                      <a:lnTo>
                        <a:pt x="1424" y="593"/>
                      </a:lnTo>
                      <a:lnTo>
                        <a:pt x="1466" y="616"/>
                      </a:lnTo>
                      <a:lnTo>
                        <a:pt x="1512" y="639"/>
                      </a:lnTo>
                      <a:lnTo>
                        <a:pt x="1498" y="540"/>
                      </a:lnTo>
                      <a:lnTo>
                        <a:pt x="1462" y="441"/>
                      </a:lnTo>
                      <a:lnTo>
                        <a:pt x="1458" y="409"/>
                      </a:lnTo>
                      <a:lnTo>
                        <a:pt x="1477" y="384"/>
                      </a:lnTo>
                      <a:lnTo>
                        <a:pt x="1565" y="373"/>
                      </a:lnTo>
                      <a:lnTo>
                        <a:pt x="1629" y="403"/>
                      </a:lnTo>
                      <a:lnTo>
                        <a:pt x="1698" y="428"/>
                      </a:lnTo>
                      <a:lnTo>
                        <a:pt x="1766" y="445"/>
                      </a:lnTo>
                      <a:lnTo>
                        <a:pt x="1835" y="445"/>
                      </a:lnTo>
                      <a:lnTo>
                        <a:pt x="1806" y="323"/>
                      </a:lnTo>
                      <a:lnTo>
                        <a:pt x="1791" y="265"/>
                      </a:lnTo>
                      <a:lnTo>
                        <a:pt x="1770" y="198"/>
                      </a:lnTo>
                      <a:lnTo>
                        <a:pt x="1780" y="177"/>
                      </a:lnTo>
                      <a:lnTo>
                        <a:pt x="1801" y="187"/>
                      </a:lnTo>
                      <a:lnTo>
                        <a:pt x="1837" y="263"/>
                      </a:lnTo>
                      <a:lnTo>
                        <a:pt x="1875" y="329"/>
                      </a:lnTo>
                      <a:lnTo>
                        <a:pt x="1945" y="472"/>
                      </a:lnTo>
                      <a:lnTo>
                        <a:pt x="1943" y="517"/>
                      </a:lnTo>
                      <a:lnTo>
                        <a:pt x="1905" y="536"/>
                      </a:lnTo>
                      <a:lnTo>
                        <a:pt x="1785" y="533"/>
                      </a:lnTo>
                      <a:lnTo>
                        <a:pt x="1675" y="493"/>
                      </a:lnTo>
                      <a:lnTo>
                        <a:pt x="1591" y="474"/>
                      </a:lnTo>
                      <a:lnTo>
                        <a:pt x="1607" y="582"/>
                      </a:lnTo>
                      <a:lnTo>
                        <a:pt x="1589" y="704"/>
                      </a:lnTo>
                      <a:lnTo>
                        <a:pt x="1572" y="738"/>
                      </a:lnTo>
                      <a:lnTo>
                        <a:pt x="1534" y="736"/>
                      </a:lnTo>
                      <a:lnTo>
                        <a:pt x="1215" y="584"/>
                      </a:lnTo>
                      <a:lnTo>
                        <a:pt x="1181" y="624"/>
                      </a:lnTo>
                      <a:lnTo>
                        <a:pt x="1143" y="652"/>
                      </a:lnTo>
                      <a:lnTo>
                        <a:pt x="1069" y="728"/>
                      </a:lnTo>
                      <a:lnTo>
                        <a:pt x="1044" y="749"/>
                      </a:lnTo>
                      <a:lnTo>
                        <a:pt x="1015" y="732"/>
                      </a:lnTo>
                      <a:lnTo>
                        <a:pt x="972" y="675"/>
                      </a:lnTo>
                      <a:lnTo>
                        <a:pt x="928" y="614"/>
                      </a:lnTo>
                      <a:lnTo>
                        <a:pt x="869" y="521"/>
                      </a:lnTo>
                      <a:lnTo>
                        <a:pt x="831" y="572"/>
                      </a:lnTo>
                      <a:lnTo>
                        <a:pt x="789" y="610"/>
                      </a:lnTo>
                      <a:lnTo>
                        <a:pt x="711" y="711"/>
                      </a:lnTo>
                      <a:lnTo>
                        <a:pt x="696" y="730"/>
                      </a:lnTo>
                      <a:lnTo>
                        <a:pt x="679" y="732"/>
                      </a:lnTo>
                      <a:lnTo>
                        <a:pt x="654" y="702"/>
                      </a:lnTo>
                      <a:lnTo>
                        <a:pt x="637" y="637"/>
                      </a:lnTo>
                      <a:lnTo>
                        <a:pt x="612" y="593"/>
                      </a:lnTo>
                      <a:lnTo>
                        <a:pt x="563" y="483"/>
                      </a:lnTo>
                      <a:lnTo>
                        <a:pt x="515" y="538"/>
                      </a:lnTo>
                      <a:lnTo>
                        <a:pt x="475" y="576"/>
                      </a:lnTo>
                      <a:lnTo>
                        <a:pt x="434" y="614"/>
                      </a:lnTo>
                      <a:lnTo>
                        <a:pt x="409" y="639"/>
                      </a:lnTo>
                      <a:lnTo>
                        <a:pt x="379" y="671"/>
                      </a:lnTo>
                      <a:lnTo>
                        <a:pt x="356" y="686"/>
                      </a:lnTo>
                      <a:lnTo>
                        <a:pt x="333" y="685"/>
                      </a:lnTo>
                      <a:lnTo>
                        <a:pt x="314" y="641"/>
                      </a:lnTo>
                      <a:lnTo>
                        <a:pt x="333" y="314"/>
                      </a:lnTo>
                      <a:lnTo>
                        <a:pt x="270" y="344"/>
                      </a:lnTo>
                      <a:lnTo>
                        <a:pt x="240" y="365"/>
                      </a:lnTo>
                      <a:lnTo>
                        <a:pt x="204" y="382"/>
                      </a:lnTo>
                      <a:lnTo>
                        <a:pt x="118" y="407"/>
                      </a:lnTo>
                      <a:lnTo>
                        <a:pt x="31" y="411"/>
                      </a:lnTo>
                      <a:lnTo>
                        <a:pt x="0" y="403"/>
                      </a:lnTo>
                      <a:lnTo>
                        <a:pt x="12" y="377"/>
                      </a:lnTo>
                      <a:lnTo>
                        <a:pt x="44" y="327"/>
                      </a:lnTo>
                      <a:lnTo>
                        <a:pt x="72" y="282"/>
                      </a:lnTo>
                      <a:lnTo>
                        <a:pt x="101" y="236"/>
                      </a:lnTo>
                      <a:lnTo>
                        <a:pt x="128" y="192"/>
                      </a:lnTo>
                      <a:lnTo>
                        <a:pt x="152" y="147"/>
                      </a:lnTo>
                      <a:lnTo>
                        <a:pt x="179" y="101"/>
                      </a:lnTo>
                      <a:lnTo>
                        <a:pt x="230" y="0"/>
                      </a:lnTo>
                      <a:lnTo>
                        <a:pt x="266" y="4"/>
                      </a:lnTo>
                      <a:lnTo>
                        <a:pt x="287" y="36"/>
                      </a:lnTo>
                      <a:lnTo>
                        <a:pt x="287" y="36"/>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339" name=""/>
                <p:cNvSpPr/>
                <p:nvPr/>
              </p:nvSpPr>
              <p:spPr>
                <a:xfrm>
                  <a:off x="4023000" y="5610600"/>
                  <a:ext cx="73440" cy="159480"/>
                </a:xfrm>
                <a:custGeom>
                  <a:avLst/>
                  <a:gdLst/>
                  <a:ahLst/>
                  <a:rect l="l" t="t" r="r" b="b"/>
                  <a:pathLst>
                    <a:path w="473" h="1334">
                      <a:moveTo>
                        <a:pt x="473" y="53"/>
                      </a:moveTo>
                      <a:lnTo>
                        <a:pt x="460" y="103"/>
                      </a:lnTo>
                      <a:lnTo>
                        <a:pt x="437" y="198"/>
                      </a:lnTo>
                      <a:lnTo>
                        <a:pt x="414" y="300"/>
                      </a:lnTo>
                      <a:lnTo>
                        <a:pt x="401" y="367"/>
                      </a:lnTo>
                      <a:lnTo>
                        <a:pt x="369" y="481"/>
                      </a:lnTo>
                      <a:lnTo>
                        <a:pt x="342" y="578"/>
                      </a:lnTo>
                      <a:lnTo>
                        <a:pt x="300" y="739"/>
                      </a:lnTo>
                      <a:lnTo>
                        <a:pt x="277" y="817"/>
                      </a:lnTo>
                      <a:lnTo>
                        <a:pt x="253" y="899"/>
                      </a:lnTo>
                      <a:lnTo>
                        <a:pt x="219" y="992"/>
                      </a:lnTo>
                      <a:lnTo>
                        <a:pt x="198" y="1043"/>
                      </a:lnTo>
                      <a:lnTo>
                        <a:pt x="175" y="1102"/>
                      </a:lnTo>
                      <a:lnTo>
                        <a:pt x="142" y="1165"/>
                      </a:lnTo>
                      <a:lnTo>
                        <a:pt x="106" y="1216"/>
                      </a:lnTo>
                      <a:lnTo>
                        <a:pt x="68" y="1268"/>
                      </a:lnTo>
                      <a:lnTo>
                        <a:pt x="28" y="1329"/>
                      </a:lnTo>
                      <a:lnTo>
                        <a:pt x="6" y="1334"/>
                      </a:lnTo>
                      <a:lnTo>
                        <a:pt x="0" y="1311"/>
                      </a:lnTo>
                      <a:lnTo>
                        <a:pt x="106" y="1068"/>
                      </a:lnTo>
                      <a:lnTo>
                        <a:pt x="150" y="954"/>
                      </a:lnTo>
                      <a:lnTo>
                        <a:pt x="184" y="848"/>
                      </a:lnTo>
                      <a:lnTo>
                        <a:pt x="232" y="648"/>
                      </a:lnTo>
                      <a:lnTo>
                        <a:pt x="253" y="549"/>
                      </a:lnTo>
                      <a:lnTo>
                        <a:pt x="276" y="447"/>
                      </a:lnTo>
                      <a:lnTo>
                        <a:pt x="300" y="338"/>
                      </a:lnTo>
                      <a:lnTo>
                        <a:pt x="334" y="220"/>
                      </a:lnTo>
                      <a:lnTo>
                        <a:pt x="365" y="82"/>
                      </a:lnTo>
                      <a:lnTo>
                        <a:pt x="378" y="53"/>
                      </a:lnTo>
                      <a:lnTo>
                        <a:pt x="397" y="25"/>
                      </a:lnTo>
                      <a:lnTo>
                        <a:pt x="420" y="0"/>
                      </a:lnTo>
                      <a:lnTo>
                        <a:pt x="450" y="0"/>
                      </a:lnTo>
                      <a:lnTo>
                        <a:pt x="473" y="21"/>
                      </a:lnTo>
                      <a:lnTo>
                        <a:pt x="473" y="53"/>
                      </a:lnTo>
                      <a:lnTo>
                        <a:pt x="473"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4037040" y="5730480"/>
                  <a:ext cx="88200" cy="48960"/>
                </a:xfrm>
                <a:custGeom>
                  <a:avLst/>
                  <a:gdLst/>
                  <a:ahLst/>
                  <a:rect l="l" t="t" r="r" b="b"/>
                  <a:pathLst>
                    <a:path w="571" h="410">
                      <a:moveTo>
                        <a:pt x="15" y="376"/>
                      </a:moveTo>
                      <a:lnTo>
                        <a:pt x="67" y="365"/>
                      </a:lnTo>
                      <a:lnTo>
                        <a:pt x="105" y="334"/>
                      </a:lnTo>
                      <a:lnTo>
                        <a:pt x="139" y="296"/>
                      </a:lnTo>
                      <a:lnTo>
                        <a:pt x="160" y="277"/>
                      </a:lnTo>
                      <a:lnTo>
                        <a:pt x="181" y="258"/>
                      </a:lnTo>
                      <a:lnTo>
                        <a:pt x="240" y="213"/>
                      </a:lnTo>
                      <a:lnTo>
                        <a:pt x="301" y="169"/>
                      </a:lnTo>
                      <a:lnTo>
                        <a:pt x="329" y="144"/>
                      </a:lnTo>
                      <a:lnTo>
                        <a:pt x="358" y="125"/>
                      </a:lnTo>
                      <a:lnTo>
                        <a:pt x="409" y="89"/>
                      </a:lnTo>
                      <a:lnTo>
                        <a:pt x="458" y="51"/>
                      </a:lnTo>
                      <a:lnTo>
                        <a:pt x="512" y="0"/>
                      </a:lnTo>
                      <a:lnTo>
                        <a:pt x="529" y="7"/>
                      </a:lnTo>
                      <a:lnTo>
                        <a:pt x="550" y="40"/>
                      </a:lnTo>
                      <a:lnTo>
                        <a:pt x="571" y="102"/>
                      </a:lnTo>
                      <a:lnTo>
                        <a:pt x="548" y="137"/>
                      </a:lnTo>
                      <a:lnTo>
                        <a:pt x="527" y="161"/>
                      </a:lnTo>
                      <a:lnTo>
                        <a:pt x="481" y="192"/>
                      </a:lnTo>
                      <a:lnTo>
                        <a:pt x="371" y="260"/>
                      </a:lnTo>
                      <a:lnTo>
                        <a:pt x="308" y="308"/>
                      </a:lnTo>
                      <a:lnTo>
                        <a:pt x="249" y="353"/>
                      </a:lnTo>
                      <a:lnTo>
                        <a:pt x="192" y="384"/>
                      </a:lnTo>
                      <a:lnTo>
                        <a:pt x="137" y="401"/>
                      </a:lnTo>
                      <a:lnTo>
                        <a:pt x="15" y="410"/>
                      </a:lnTo>
                      <a:lnTo>
                        <a:pt x="0" y="393"/>
                      </a:lnTo>
                      <a:lnTo>
                        <a:pt x="4" y="382"/>
                      </a:lnTo>
                      <a:lnTo>
                        <a:pt x="15" y="376"/>
                      </a:lnTo>
                      <a:lnTo>
                        <a:pt x="15" y="37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341" name=""/>
                <p:cNvSpPr/>
                <p:nvPr/>
              </p:nvSpPr>
              <p:spPr>
                <a:xfrm>
                  <a:off x="4114080" y="5730480"/>
                  <a:ext cx="53280" cy="50040"/>
                </a:xfrm>
                <a:custGeom>
                  <a:avLst/>
                  <a:gdLst/>
                  <a:ahLst/>
                  <a:rect l="l" t="t" r="r" b="b"/>
                  <a:pathLst>
                    <a:path w="345" h="420">
                      <a:moveTo>
                        <a:pt x="65" y="13"/>
                      </a:moveTo>
                      <a:lnTo>
                        <a:pt x="120" y="89"/>
                      </a:lnTo>
                      <a:lnTo>
                        <a:pt x="189" y="192"/>
                      </a:lnTo>
                      <a:lnTo>
                        <a:pt x="230" y="245"/>
                      </a:lnTo>
                      <a:lnTo>
                        <a:pt x="263" y="298"/>
                      </a:lnTo>
                      <a:lnTo>
                        <a:pt x="297" y="348"/>
                      </a:lnTo>
                      <a:lnTo>
                        <a:pt x="318" y="370"/>
                      </a:lnTo>
                      <a:lnTo>
                        <a:pt x="343" y="395"/>
                      </a:lnTo>
                      <a:lnTo>
                        <a:pt x="345" y="418"/>
                      </a:lnTo>
                      <a:lnTo>
                        <a:pt x="322" y="420"/>
                      </a:lnTo>
                      <a:lnTo>
                        <a:pt x="293" y="397"/>
                      </a:lnTo>
                      <a:lnTo>
                        <a:pt x="267" y="378"/>
                      </a:lnTo>
                      <a:lnTo>
                        <a:pt x="213" y="340"/>
                      </a:lnTo>
                      <a:lnTo>
                        <a:pt x="160" y="302"/>
                      </a:lnTo>
                      <a:lnTo>
                        <a:pt x="111" y="252"/>
                      </a:lnTo>
                      <a:lnTo>
                        <a:pt x="31" y="129"/>
                      </a:lnTo>
                      <a:lnTo>
                        <a:pt x="4" y="49"/>
                      </a:lnTo>
                      <a:lnTo>
                        <a:pt x="0" y="21"/>
                      </a:lnTo>
                      <a:lnTo>
                        <a:pt x="16" y="0"/>
                      </a:lnTo>
                      <a:lnTo>
                        <a:pt x="65" y="13"/>
                      </a:lnTo>
                      <a:lnTo>
                        <a:pt x="65" y="13"/>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342" name=""/>
                <p:cNvSpPr/>
                <p:nvPr/>
              </p:nvSpPr>
              <p:spPr>
                <a:xfrm>
                  <a:off x="4172760" y="5637240"/>
                  <a:ext cx="32760" cy="141120"/>
                </a:xfrm>
                <a:custGeom>
                  <a:avLst/>
                  <a:gdLst/>
                  <a:ahLst/>
                  <a:rect l="l" t="t" r="r" b="b"/>
                  <a:pathLst>
                    <a:path w="213" h="1183">
                      <a:moveTo>
                        <a:pt x="213" y="137"/>
                      </a:moveTo>
                      <a:lnTo>
                        <a:pt x="186" y="295"/>
                      </a:lnTo>
                      <a:lnTo>
                        <a:pt x="156" y="434"/>
                      </a:lnTo>
                      <a:lnTo>
                        <a:pt x="99" y="730"/>
                      </a:lnTo>
                      <a:lnTo>
                        <a:pt x="36" y="1145"/>
                      </a:lnTo>
                      <a:lnTo>
                        <a:pt x="28" y="1171"/>
                      </a:lnTo>
                      <a:lnTo>
                        <a:pt x="15" y="1183"/>
                      </a:lnTo>
                      <a:lnTo>
                        <a:pt x="0" y="1156"/>
                      </a:lnTo>
                      <a:lnTo>
                        <a:pt x="13" y="715"/>
                      </a:lnTo>
                      <a:lnTo>
                        <a:pt x="40" y="542"/>
                      </a:lnTo>
                      <a:lnTo>
                        <a:pt x="74" y="367"/>
                      </a:lnTo>
                      <a:lnTo>
                        <a:pt x="108" y="192"/>
                      </a:lnTo>
                      <a:lnTo>
                        <a:pt x="137" y="19"/>
                      </a:lnTo>
                      <a:lnTo>
                        <a:pt x="152" y="0"/>
                      </a:lnTo>
                      <a:lnTo>
                        <a:pt x="180" y="27"/>
                      </a:lnTo>
                      <a:lnTo>
                        <a:pt x="213" y="137"/>
                      </a:lnTo>
                      <a:lnTo>
                        <a:pt x="213"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4191840" y="5658120"/>
                  <a:ext cx="41760" cy="129240"/>
                </a:xfrm>
                <a:custGeom>
                  <a:avLst/>
                  <a:gdLst/>
                  <a:ahLst/>
                  <a:rect l="l" t="t" r="r" b="b"/>
                  <a:pathLst>
                    <a:path w="270" h="1084">
                      <a:moveTo>
                        <a:pt x="65" y="33"/>
                      </a:moveTo>
                      <a:lnTo>
                        <a:pt x="88" y="97"/>
                      </a:lnTo>
                      <a:lnTo>
                        <a:pt x="209" y="456"/>
                      </a:lnTo>
                      <a:lnTo>
                        <a:pt x="247" y="759"/>
                      </a:lnTo>
                      <a:lnTo>
                        <a:pt x="270" y="1067"/>
                      </a:lnTo>
                      <a:lnTo>
                        <a:pt x="255" y="1084"/>
                      </a:lnTo>
                      <a:lnTo>
                        <a:pt x="238" y="1069"/>
                      </a:lnTo>
                      <a:lnTo>
                        <a:pt x="219" y="907"/>
                      </a:lnTo>
                      <a:lnTo>
                        <a:pt x="190" y="768"/>
                      </a:lnTo>
                      <a:lnTo>
                        <a:pt x="160" y="628"/>
                      </a:lnTo>
                      <a:lnTo>
                        <a:pt x="131" y="470"/>
                      </a:lnTo>
                      <a:lnTo>
                        <a:pt x="111" y="375"/>
                      </a:lnTo>
                      <a:lnTo>
                        <a:pt x="84" y="295"/>
                      </a:lnTo>
                      <a:lnTo>
                        <a:pt x="52" y="215"/>
                      </a:lnTo>
                      <a:lnTo>
                        <a:pt x="12" y="126"/>
                      </a:lnTo>
                      <a:lnTo>
                        <a:pt x="0" y="33"/>
                      </a:lnTo>
                      <a:lnTo>
                        <a:pt x="12" y="8"/>
                      </a:lnTo>
                      <a:lnTo>
                        <a:pt x="33" y="0"/>
                      </a:lnTo>
                      <a:lnTo>
                        <a:pt x="55" y="8"/>
                      </a:lnTo>
                      <a:lnTo>
                        <a:pt x="65" y="33"/>
                      </a:lnTo>
                      <a:lnTo>
                        <a:pt x="65"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4249080" y="5744160"/>
                  <a:ext cx="124560" cy="44280"/>
                </a:xfrm>
                <a:custGeom>
                  <a:avLst/>
                  <a:gdLst/>
                  <a:ahLst/>
                  <a:rect l="l" t="t" r="r" b="b"/>
                  <a:pathLst>
                    <a:path w="804" h="370">
                      <a:moveTo>
                        <a:pt x="0" y="347"/>
                      </a:moveTo>
                      <a:lnTo>
                        <a:pt x="21" y="313"/>
                      </a:lnTo>
                      <a:lnTo>
                        <a:pt x="48" y="275"/>
                      </a:lnTo>
                      <a:lnTo>
                        <a:pt x="80" y="235"/>
                      </a:lnTo>
                      <a:lnTo>
                        <a:pt x="112" y="193"/>
                      </a:lnTo>
                      <a:lnTo>
                        <a:pt x="146" y="150"/>
                      </a:lnTo>
                      <a:lnTo>
                        <a:pt x="179" y="110"/>
                      </a:lnTo>
                      <a:lnTo>
                        <a:pt x="226" y="38"/>
                      </a:lnTo>
                      <a:lnTo>
                        <a:pt x="249" y="9"/>
                      </a:lnTo>
                      <a:lnTo>
                        <a:pt x="276" y="0"/>
                      </a:lnTo>
                      <a:lnTo>
                        <a:pt x="300" y="11"/>
                      </a:lnTo>
                      <a:lnTo>
                        <a:pt x="321" y="41"/>
                      </a:lnTo>
                      <a:lnTo>
                        <a:pt x="342" y="76"/>
                      </a:lnTo>
                      <a:lnTo>
                        <a:pt x="371" y="98"/>
                      </a:lnTo>
                      <a:lnTo>
                        <a:pt x="441" y="142"/>
                      </a:lnTo>
                      <a:lnTo>
                        <a:pt x="485" y="169"/>
                      </a:lnTo>
                      <a:lnTo>
                        <a:pt x="527" y="190"/>
                      </a:lnTo>
                      <a:lnTo>
                        <a:pt x="618" y="224"/>
                      </a:lnTo>
                      <a:lnTo>
                        <a:pt x="702" y="268"/>
                      </a:lnTo>
                      <a:lnTo>
                        <a:pt x="742" y="287"/>
                      </a:lnTo>
                      <a:lnTo>
                        <a:pt x="789" y="294"/>
                      </a:lnTo>
                      <a:lnTo>
                        <a:pt x="804" y="311"/>
                      </a:lnTo>
                      <a:lnTo>
                        <a:pt x="800" y="323"/>
                      </a:lnTo>
                      <a:lnTo>
                        <a:pt x="789" y="327"/>
                      </a:lnTo>
                      <a:lnTo>
                        <a:pt x="683" y="344"/>
                      </a:lnTo>
                      <a:lnTo>
                        <a:pt x="578" y="340"/>
                      </a:lnTo>
                      <a:lnTo>
                        <a:pt x="373" y="243"/>
                      </a:lnTo>
                      <a:lnTo>
                        <a:pt x="316" y="201"/>
                      </a:lnTo>
                      <a:lnTo>
                        <a:pt x="270" y="157"/>
                      </a:lnTo>
                      <a:lnTo>
                        <a:pt x="249" y="174"/>
                      </a:lnTo>
                      <a:lnTo>
                        <a:pt x="221" y="199"/>
                      </a:lnTo>
                      <a:lnTo>
                        <a:pt x="183" y="226"/>
                      </a:lnTo>
                      <a:lnTo>
                        <a:pt x="145" y="254"/>
                      </a:lnTo>
                      <a:lnTo>
                        <a:pt x="105" y="285"/>
                      </a:lnTo>
                      <a:lnTo>
                        <a:pt x="70" y="313"/>
                      </a:lnTo>
                      <a:lnTo>
                        <a:pt x="25" y="365"/>
                      </a:lnTo>
                      <a:lnTo>
                        <a:pt x="4" y="370"/>
                      </a:lnTo>
                      <a:lnTo>
                        <a:pt x="0" y="347"/>
                      </a:lnTo>
                      <a:lnTo>
                        <a:pt x="0" y="34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45" name=""/>
                <p:cNvSpPr/>
                <p:nvPr/>
              </p:nvSpPr>
              <p:spPr>
                <a:xfrm>
                  <a:off x="4315320" y="5631120"/>
                  <a:ext cx="63360" cy="139680"/>
                </a:xfrm>
                <a:custGeom>
                  <a:avLst/>
                  <a:gdLst/>
                  <a:ahLst/>
                  <a:rect l="l" t="t" r="r" b="b"/>
                  <a:pathLst>
                    <a:path w="410" h="1173">
                      <a:moveTo>
                        <a:pt x="28" y="8"/>
                      </a:moveTo>
                      <a:lnTo>
                        <a:pt x="80" y="112"/>
                      </a:lnTo>
                      <a:lnTo>
                        <a:pt x="118" y="220"/>
                      </a:lnTo>
                      <a:lnTo>
                        <a:pt x="141" y="297"/>
                      </a:lnTo>
                      <a:lnTo>
                        <a:pt x="165" y="365"/>
                      </a:lnTo>
                      <a:lnTo>
                        <a:pt x="209" y="489"/>
                      </a:lnTo>
                      <a:lnTo>
                        <a:pt x="251" y="612"/>
                      </a:lnTo>
                      <a:lnTo>
                        <a:pt x="287" y="758"/>
                      </a:lnTo>
                      <a:lnTo>
                        <a:pt x="340" y="907"/>
                      </a:lnTo>
                      <a:lnTo>
                        <a:pt x="371" y="1030"/>
                      </a:lnTo>
                      <a:lnTo>
                        <a:pt x="382" y="1089"/>
                      </a:lnTo>
                      <a:lnTo>
                        <a:pt x="410" y="1150"/>
                      </a:lnTo>
                      <a:lnTo>
                        <a:pt x="405" y="1173"/>
                      </a:lnTo>
                      <a:lnTo>
                        <a:pt x="382" y="1167"/>
                      </a:lnTo>
                      <a:lnTo>
                        <a:pt x="344" y="1110"/>
                      </a:lnTo>
                      <a:lnTo>
                        <a:pt x="306" y="1059"/>
                      </a:lnTo>
                      <a:lnTo>
                        <a:pt x="270" y="1009"/>
                      </a:lnTo>
                      <a:lnTo>
                        <a:pt x="237" y="949"/>
                      </a:lnTo>
                      <a:lnTo>
                        <a:pt x="182" y="789"/>
                      </a:lnTo>
                      <a:lnTo>
                        <a:pt x="148" y="642"/>
                      </a:lnTo>
                      <a:lnTo>
                        <a:pt x="114" y="515"/>
                      </a:lnTo>
                      <a:lnTo>
                        <a:pt x="78" y="388"/>
                      </a:lnTo>
                      <a:lnTo>
                        <a:pt x="57" y="319"/>
                      </a:lnTo>
                      <a:lnTo>
                        <a:pt x="36" y="243"/>
                      </a:lnTo>
                      <a:lnTo>
                        <a:pt x="0" y="23"/>
                      </a:lnTo>
                      <a:lnTo>
                        <a:pt x="7" y="0"/>
                      </a:lnTo>
                      <a:lnTo>
                        <a:pt x="28" y="8"/>
                      </a:lnTo>
                      <a:lnTo>
                        <a:pt x="2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4249800" y="5393880"/>
                  <a:ext cx="161280" cy="209520"/>
                </a:xfrm>
                <a:custGeom>
                  <a:avLst/>
                  <a:gdLst/>
                  <a:ahLst/>
                  <a:rect l="l" t="t" r="r" b="b"/>
                  <a:pathLst>
                    <a:path w="1040" h="1758">
                      <a:moveTo>
                        <a:pt x="861" y="2"/>
                      </a:moveTo>
                      <a:lnTo>
                        <a:pt x="907" y="101"/>
                      </a:lnTo>
                      <a:lnTo>
                        <a:pt x="945" y="194"/>
                      </a:lnTo>
                      <a:lnTo>
                        <a:pt x="1000" y="370"/>
                      </a:lnTo>
                      <a:lnTo>
                        <a:pt x="1030" y="555"/>
                      </a:lnTo>
                      <a:lnTo>
                        <a:pt x="1040" y="766"/>
                      </a:lnTo>
                      <a:lnTo>
                        <a:pt x="1026" y="933"/>
                      </a:lnTo>
                      <a:lnTo>
                        <a:pt x="1009" y="1011"/>
                      </a:lnTo>
                      <a:lnTo>
                        <a:pt x="983" y="1097"/>
                      </a:lnTo>
                      <a:lnTo>
                        <a:pt x="948" y="1195"/>
                      </a:lnTo>
                      <a:lnTo>
                        <a:pt x="907" y="1279"/>
                      </a:lnTo>
                      <a:lnTo>
                        <a:pt x="882" y="1317"/>
                      </a:lnTo>
                      <a:lnTo>
                        <a:pt x="855" y="1351"/>
                      </a:lnTo>
                      <a:lnTo>
                        <a:pt x="798" y="1414"/>
                      </a:lnTo>
                      <a:lnTo>
                        <a:pt x="766" y="1443"/>
                      </a:lnTo>
                      <a:lnTo>
                        <a:pt x="732" y="1471"/>
                      </a:lnTo>
                      <a:lnTo>
                        <a:pt x="696" y="1496"/>
                      </a:lnTo>
                      <a:lnTo>
                        <a:pt x="658" y="1520"/>
                      </a:lnTo>
                      <a:lnTo>
                        <a:pt x="618" y="1543"/>
                      </a:lnTo>
                      <a:lnTo>
                        <a:pt x="574" y="1568"/>
                      </a:lnTo>
                      <a:lnTo>
                        <a:pt x="530" y="1591"/>
                      </a:lnTo>
                      <a:lnTo>
                        <a:pt x="485" y="1612"/>
                      </a:lnTo>
                      <a:lnTo>
                        <a:pt x="422" y="1640"/>
                      </a:lnTo>
                      <a:lnTo>
                        <a:pt x="365" y="1661"/>
                      </a:lnTo>
                      <a:lnTo>
                        <a:pt x="255" y="1693"/>
                      </a:lnTo>
                      <a:lnTo>
                        <a:pt x="21" y="1758"/>
                      </a:lnTo>
                      <a:lnTo>
                        <a:pt x="0" y="1749"/>
                      </a:lnTo>
                      <a:lnTo>
                        <a:pt x="9" y="1728"/>
                      </a:lnTo>
                      <a:lnTo>
                        <a:pt x="127" y="1680"/>
                      </a:lnTo>
                      <a:lnTo>
                        <a:pt x="178" y="1657"/>
                      </a:lnTo>
                      <a:lnTo>
                        <a:pt x="228" y="1633"/>
                      </a:lnTo>
                      <a:lnTo>
                        <a:pt x="277" y="1606"/>
                      </a:lnTo>
                      <a:lnTo>
                        <a:pt x="327" y="1579"/>
                      </a:lnTo>
                      <a:lnTo>
                        <a:pt x="382" y="1551"/>
                      </a:lnTo>
                      <a:lnTo>
                        <a:pt x="441" y="1522"/>
                      </a:lnTo>
                      <a:lnTo>
                        <a:pt x="521" y="1482"/>
                      </a:lnTo>
                      <a:lnTo>
                        <a:pt x="593" y="1441"/>
                      </a:lnTo>
                      <a:lnTo>
                        <a:pt x="658" y="1395"/>
                      </a:lnTo>
                      <a:lnTo>
                        <a:pt x="716" y="1346"/>
                      </a:lnTo>
                      <a:lnTo>
                        <a:pt x="768" y="1289"/>
                      </a:lnTo>
                      <a:lnTo>
                        <a:pt x="812" y="1224"/>
                      </a:lnTo>
                      <a:lnTo>
                        <a:pt x="878" y="1062"/>
                      </a:lnTo>
                      <a:lnTo>
                        <a:pt x="918" y="916"/>
                      </a:lnTo>
                      <a:lnTo>
                        <a:pt x="929" y="766"/>
                      </a:lnTo>
                      <a:lnTo>
                        <a:pt x="924" y="562"/>
                      </a:lnTo>
                      <a:lnTo>
                        <a:pt x="903" y="384"/>
                      </a:lnTo>
                      <a:lnTo>
                        <a:pt x="882" y="298"/>
                      </a:lnTo>
                      <a:lnTo>
                        <a:pt x="857" y="213"/>
                      </a:lnTo>
                      <a:lnTo>
                        <a:pt x="823" y="121"/>
                      </a:lnTo>
                      <a:lnTo>
                        <a:pt x="779" y="26"/>
                      </a:lnTo>
                      <a:lnTo>
                        <a:pt x="787" y="13"/>
                      </a:lnTo>
                      <a:lnTo>
                        <a:pt x="813" y="0"/>
                      </a:lnTo>
                      <a:lnTo>
                        <a:pt x="861" y="2"/>
                      </a:lnTo>
                      <a:lnTo>
                        <a:pt x="86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4036320" y="5518800"/>
                  <a:ext cx="170640" cy="84960"/>
                </a:xfrm>
                <a:custGeom>
                  <a:avLst/>
                  <a:gdLst/>
                  <a:ahLst/>
                  <a:rect l="l" t="t" r="r" b="b"/>
                  <a:pathLst>
                    <a:path w="1103" h="713">
                      <a:moveTo>
                        <a:pt x="29" y="8"/>
                      </a:moveTo>
                      <a:lnTo>
                        <a:pt x="54" y="61"/>
                      </a:lnTo>
                      <a:lnTo>
                        <a:pt x="78" y="110"/>
                      </a:lnTo>
                      <a:lnTo>
                        <a:pt x="107" y="156"/>
                      </a:lnTo>
                      <a:lnTo>
                        <a:pt x="135" y="198"/>
                      </a:lnTo>
                      <a:lnTo>
                        <a:pt x="166" y="236"/>
                      </a:lnTo>
                      <a:lnTo>
                        <a:pt x="198" y="272"/>
                      </a:lnTo>
                      <a:lnTo>
                        <a:pt x="232" y="304"/>
                      </a:lnTo>
                      <a:lnTo>
                        <a:pt x="268" y="337"/>
                      </a:lnTo>
                      <a:lnTo>
                        <a:pt x="307" y="365"/>
                      </a:lnTo>
                      <a:lnTo>
                        <a:pt x="346" y="392"/>
                      </a:lnTo>
                      <a:lnTo>
                        <a:pt x="388" y="416"/>
                      </a:lnTo>
                      <a:lnTo>
                        <a:pt x="432" y="439"/>
                      </a:lnTo>
                      <a:lnTo>
                        <a:pt x="478" y="462"/>
                      </a:lnTo>
                      <a:lnTo>
                        <a:pt x="527" y="485"/>
                      </a:lnTo>
                      <a:lnTo>
                        <a:pt x="576" y="506"/>
                      </a:lnTo>
                      <a:lnTo>
                        <a:pt x="630" y="527"/>
                      </a:lnTo>
                      <a:lnTo>
                        <a:pt x="717" y="567"/>
                      </a:lnTo>
                      <a:lnTo>
                        <a:pt x="810" y="593"/>
                      </a:lnTo>
                      <a:lnTo>
                        <a:pt x="883" y="618"/>
                      </a:lnTo>
                      <a:lnTo>
                        <a:pt x="945" y="645"/>
                      </a:lnTo>
                      <a:lnTo>
                        <a:pt x="1010" y="665"/>
                      </a:lnTo>
                      <a:lnTo>
                        <a:pt x="1086" y="673"/>
                      </a:lnTo>
                      <a:lnTo>
                        <a:pt x="1103" y="690"/>
                      </a:lnTo>
                      <a:lnTo>
                        <a:pt x="1097" y="702"/>
                      </a:lnTo>
                      <a:lnTo>
                        <a:pt x="1086" y="705"/>
                      </a:lnTo>
                      <a:lnTo>
                        <a:pt x="932" y="713"/>
                      </a:lnTo>
                      <a:lnTo>
                        <a:pt x="782" y="694"/>
                      </a:lnTo>
                      <a:lnTo>
                        <a:pt x="586" y="624"/>
                      </a:lnTo>
                      <a:lnTo>
                        <a:pt x="480" y="576"/>
                      </a:lnTo>
                      <a:lnTo>
                        <a:pt x="430" y="551"/>
                      </a:lnTo>
                      <a:lnTo>
                        <a:pt x="384" y="523"/>
                      </a:lnTo>
                      <a:lnTo>
                        <a:pt x="343" y="494"/>
                      </a:lnTo>
                      <a:lnTo>
                        <a:pt x="303" y="464"/>
                      </a:lnTo>
                      <a:lnTo>
                        <a:pt x="265" y="430"/>
                      </a:lnTo>
                      <a:lnTo>
                        <a:pt x="229" y="396"/>
                      </a:lnTo>
                      <a:lnTo>
                        <a:pt x="164" y="318"/>
                      </a:lnTo>
                      <a:lnTo>
                        <a:pt x="134" y="276"/>
                      </a:lnTo>
                      <a:lnTo>
                        <a:pt x="105" y="230"/>
                      </a:lnTo>
                      <a:lnTo>
                        <a:pt x="76" y="183"/>
                      </a:lnTo>
                      <a:lnTo>
                        <a:pt x="50" y="131"/>
                      </a:lnTo>
                      <a:lnTo>
                        <a:pt x="0" y="21"/>
                      </a:lnTo>
                      <a:lnTo>
                        <a:pt x="8" y="0"/>
                      </a:lnTo>
                      <a:lnTo>
                        <a:pt x="29" y="8"/>
                      </a:lnTo>
                      <a:lnTo>
                        <a:pt x="29" y="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8" name=""/>
                <p:cNvSpPr/>
                <p:nvPr/>
              </p:nvSpPr>
              <p:spPr>
                <a:xfrm>
                  <a:off x="4046760" y="5371200"/>
                  <a:ext cx="100440" cy="185040"/>
                </a:xfrm>
                <a:custGeom>
                  <a:avLst/>
                  <a:gdLst/>
                  <a:ahLst/>
                  <a:rect l="l" t="t" r="r" b="b"/>
                  <a:pathLst>
                    <a:path w="648" h="1553">
                      <a:moveTo>
                        <a:pt x="555" y="28"/>
                      </a:moveTo>
                      <a:lnTo>
                        <a:pt x="485" y="62"/>
                      </a:lnTo>
                      <a:lnTo>
                        <a:pt x="424" y="93"/>
                      </a:lnTo>
                      <a:lnTo>
                        <a:pt x="365" y="125"/>
                      </a:lnTo>
                      <a:lnTo>
                        <a:pt x="304" y="167"/>
                      </a:lnTo>
                      <a:lnTo>
                        <a:pt x="346" y="365"/>
                      </a:lnTo>
                      <a:lnTo>
                        <a:pt x="300" y="422"/>
                      </a:lnTo>
                      <a:lnTo>
                        <a:pt x="276" y="446"/>
                      </a:lnTo>
                      <a:lnTo>
                        <a:pt x="253" y="469"/>
                      </a:lnTo>
                      <a:lnTo>
                        <a:pt x="203" y="511"/>
                      </a:lnTo>
                      <a:lnTo>
                        <a:pt x="148" y="555"/>
                      </a:lnTo>
                      <a:lnTo>
                        <a:pt x="184" y="629"/>
                      </a:lnTo>
                      <a:lnTo>
                        <a:pt x="213" y="699"/>
                      </a:lnTo>
                      <a:lnTo>
                        <a:pt x="224" y="851"/>
                      </a:lnTo>
                      <a:lnTo>
                        <a:pt x="192" y="897"/>
                      </a:lnTo>
                      <a:lnTo>
                        <a:pt x="160" y="939"/>
                      </a:lnTo>
                      <a:lnTo>
                        <a:pt x="129" y="981"/>
                      </a:lnTo>
                      <a:lnTo>
                        <a:pt x="95" y="1022"/>
                      </a:lnTo>
                      <a:lnTo>
                        <a:pt x="112" y="1060"/>
                      </a:lnTo>
                      <a:lnTo>
                        <a:pt x="133" y="1093"/>
                      </a:lnTo>
                      <a:lnTo>
                        <a:pt x="160" y="1123"/>
                      </a:lnTo>
                      <a:lnTo>
                        <a:pt x="192" y="1152"/>
                      </a:lnTo>
                      <a:lnTo>
                        <a:pt x="268" y="1190"/>
                      </a:lnTo>
                      <a:lnTo>
                        <a:pt x="338" y="1231"/>
                      </a:lnTo>
                      <a:lnTo>
                        <a:pt x="378" y="1275"/>
                      </a:lnTo>
                      <a:lnTo>
                        <a:pt x="386" y="1332"/>
                      </a:lnTo>
                      <a:lnTo>
                        <a:pt x="376" y="1397"/>
                      </a:lnTo>
                      <a:lnTo>
                        <a:pt x="361" y="1467"/>
                      </a:lnTo>
                      <a:lnTo>
                        <a:pt x="470" y="1446"/>
                      </a:lnTo>
                      <a:lnTo>
                        <a:pt x="587" y="1429"/>
                      </a:lnTo>
                      <a:lnTo>
                        <a:pt x="610" y="1427"/>
                      </a:lnTo>
                      <a:lnTo>
                        <a:pt x="639" y="1437"/>
                      </a:lnTo>
                      <a:lnTo>
                        <a:pt x="648" y="1465"/>
                      </a:lnTo>
                      <a:lnTo>
                        <a:pt x="639" y="1492"/>
                      </a:lnTo>
                      <a:lnTo>
                        <a:pt x="610" y="1501"/>
                      </a:lnTo>
                      <a:lnTo>
                        <a:pt x="591" y="1500"/>
                      </a:lnTo>
                      <a:lnTo>
                        <a:pt x="325" y="1553"/>
                      </a:lnTo>
                      <a:lnTo>
                        <a:pt x="289" y="1547"/>
                      </a:lnTo>
                      <a:lnTo>
                        <a:pt x="279" y="1513"/>
                      </a:lnTo>
                      <a:lnTo>
                        <a:pt x="298" y="1444"/>
                      </a:lnTo>
                      <a:lnTo>
                        <a:pt x="327" y="1378"/>
                      </a:lnTo>
                      <a:lnTo>
                        <a:pt x="340" y="1321"/>
                      </a:lnTo>
                      <a:lnTo>
                        <a:pt x="333" y="1298"/>
                      </a:lnTo>
                      <a:lnTo>
                        <a:pt x="312" y="1279"/>
                      </a:lnTo>
                      <a:lnTo>
                        <a:pt x="241" y="1235"/>
                      </a:lnTo>
                      <a:lnTo>
                        <a:pt x="207" y="1214"/>
                      </a:lnTo>
                      <a:lnTo>
                        <a:pt x="167" y="1192"/>
                      </a:lnTo>
                      <a:lnTo>
                        <a:pt x="114" y="1155"/>
                      </a:lnTo>
                      <a:lnTo>
                        <a:pt x="67" y="1123"/>
                      </a:lnTo>
                      <a:lnTo>
                        <a:pt x="0" y="1024"/>
                      </a:lnTo>
                      <a:lnTo>
                        <a:pt x="8" y="982"/>
                      </a:lnTo>
                      <a:lnTo>
                        <a:pt x="47" y="939"/>
                      </a:lnTo>
                      <a:lnTo>
                        <a:pt x="82" y="903"/>
                      </a:lnTo>
                      <a:lnTo>
                        <a:pt x="152" y="821"/>
                      </a:lnTo>
                      <a:lnTo>
                        <a:pt x="150" y="749"/>
                      </a:lnTo>
                      <a:lnTo>
                        <a:pt x="122" y="690"/>
                      </a:lnTo>
                      <a:lnTo>
                        <a:pt x="82" y="631"/>
                      </a:lnTo>
                      <a:lnTo>
                        <a:pt x="44" y="562"/>
                      </a:lnTo>
                      <a:lnTo>
                        <a:pt x="40" y="534"/>
                      </a:lnTo>
                      <a:lnTo>
                        <a:pt x="55" y="507"/>
                      </a:lnTo>
                      <a:lnTo>
                        <a:pt x="89" y="481"/>
                      </a:lnTo>
                      <a:lnTo>
                        <a:pt x="124" y="464"/>
                      </a:lnTo>
                      <a:lnTo>
                        <a:pt x="192" y="439"/>
                      </a:lnTo>
                      <a:lnTo>
                        <a:pt x="259" y="410"/>
                      </a:lnTo>
                      <a:lnTo>
                        <a:pt x="316" y="357"/>
                      </a:lnTo>
                      <a:lnTo>
                        <a:pt x="302" y="304"/>
                      </a:lnTo>
                      <a:lnTo>
                        <a:pt x="279" y="260"/>
                      </a:lnTo>
                      <a:lnTo>
                        <a:pt x="230" y="167"/>
                      </a:lnTo>
                      <a:lnTo>
                        <a:pt x="241" y="129"/>
                      </a:lnTo>
                      <a:lnTo>
                        <a:pt x="278" y="102"/>
                      </a:lnTo>
                      <a:lnTo>
                        <a:pt x="314" y="81"/>
                      </a:lnTo>
                      <a:lnTo>
                        <a:pt x="386" y="55"/>
                      </a:lnTo>
                      <a:lnTo>
                        <a:pt x="542" y="0"/>
                      </a:lnTo>
                      <a:lnTo>
                        <a:pt x="563" y="7"/>
                      </a:lnTo>
                      <a:lnTo>
                        <a:pt x="555" y="28"/>
                      </a:lnTo>
                      <a:lnTo>
                        <a:pt x="55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4159440" y="5551200"/>
                  <a:ext cx="61200" cy="33840"/>
                </a:xfrm>
                <a:custGeom>
                  <a:avLst/>
                  <a:gdLst/>
                  <a:ahLst/>
                  <a:rect l="l" t="t" r="r" b="b"/>
                  <a:pathLst>
                    <a:path w="396" h="287">
                      <a:moveTo>
                        <a:pt x="71" y="23"/>
                      </a:moveTo>
                      <a:lnTo>
                        <a:pt x="107" y="108"/>
                      </a:lnTo>
                      <a:lnTo>
                        <a:pt x="143" y="184"/>
                      </a:lnTo>
                      <a:lnTo>
                        <a:pt x="190" y="148"/>
                      </a:lnTo>
                      <a:lnTo>
                        <a:pt x="234" y="110"/>
                      </a:lnTo>
                      <a:lnTo>
                        <a:pt x="280" y="72"/>
                      </a:lnTo>
                      <a:lnTo>
                        <a:pt x="329" y="29"/>
                      </a:lnTo>
                      <a:lnTo>
                        <a:pt x="359" y="19"/>
                      </a:lnTo>
                      <a:lnTo>
                        <a:pt x="386" y="34"/>
                      </a:lnTo>
                      <a:lnTo>
                        <a:pt x="396" y="63"/>
                      </a:lnTo>
                      <a:lnTo>
                        <a:pt x="380" y="91"/>
                      </a:lnTo>
                      <a:lnTo>
                        <a:pt x="350" y="118"/>
                      </a:lnTo>
                      <a:lnTo>
                        <a:pt x="321" y="143"/>
                      </a:lnTo>
                      <a:lnTo>
                        <a:pt x="293" y="167"/>
                      </a:lnTo>
                      <a:lnTo>
                        <a:pt x="268" y="188"/>
                      </a:lnTo>
                      <a:lnTo>
                        <a:pt x="240" y="211"/>
                      </a:lnTo>
                      <a:lnTo>
                        <a:pt x="213" y="232"/>
                      </a:lnTo>
                      <a:lnTo>
                        <a:pt x="183" y="255"/>
                      </a:lnTo>
                      <a:lnTo>
                        <a:pt x="148" y="278"/>
                      </a:lnTo>
                      <a:lnTo>
                        <a:pt x="114" y="287"/>
                      </a:lnTo>
                      <a:lnTo>
                        <a:pt x="90" y="262"/>
                      </a:lnTo>
                      <a:lnTo>
                        <a:pt x="44" y="156"/>
                      </a:lnTo>
                      <a:lnTo>
                        <a:pt x="0" y="50"/>
                      </a:lnTo>
                      <a:lnTo>
                        <a:pt x="2" y="19"/>
                      </a:lnTo>
                      <a:lnTo>
                        <a:pt x="23" y="0"/>
                      </a:lnTo>
                      <a:lnTo>
                        <a:pt x="71" y="23"/>
                      </a:lnTo>
                      <a:lnTo>
                        <a:pt x="71" y="23"/>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50" name=""/>
                <p:cNvSpPr/>
                <p:nvPr/>
              </p:nvSpPr>
              <p:spPr>
                <a:xfrm>
                  <a:off x="4234320" y="5400720"/>
                  <a:ext cx="145800" cy="183240"/>
                </a:xfrm>
                <a:custGeom>
                  <a:avLst/>
                  <a:gdLst/>
                  <a:ahLst/>
                  <a:rect l="l" t="t" r="r" b="b"/>
                  <a:pathLst>
                    <a:path w="943" h="1538">
                      <a:moveTo>
                        <a:pt x="67" y="1319"/>
                      </a:moveTo>
                      <a:lnTo>
                        <a:pt x="122" y="1387"/>
                      </a:lnTo>
                      <a:lnTo>
                        <a:pt x="146" y="1420"/>
                      </a:lnTo>
                      <a:lnTo>
                        <a:pt x="184" y="1444"/>
                      </a:lnTo>
                      <a:lnTo>
                        <a:pt x="230" y="1463"/>
                      </a:lnTo>
                      <a:lnTo>
                        <a:pt x="272" y="1393"/>
                      </a:lnTo>
                      <a:lnTo>
                        <a:pt x="316" y="1319"/>
                      </a:lnTo>
                      <a:lnTo>
                        <a:pt x="344" y="1268"/>
                      </a:lnTo>
                      <a:lnTo>
                        <a:pt x="375" y="1222"/>
                      </a:lnTo>
                      <a:lnTo>
                        <a:pt x="394" y="1205"/>
                      </a:lnTo>
                      <a:lnTo>
                        <a:pt x="413" y="1188"/>
                      </a:lnTo>
                      <a:lnTo>
                        <a:pt x="466" y="1171"/>
                      </a:lnTo>
                      <a:lnTo>
                        <a:pt x="576" y="1155"/>
                      </a:lnTo>
                      <a:lnTo>
                        <a:pt x="675" y="1146"/>
                      </a:lnTo>
                      <a:lnTo>
                        <a:pt x="643" y="1074"/>
                      </a:lnTo>
                      <a:lnTo>
                        <a:pt x="608" y="998"/>
                      </a:lnTo>
                      <a:lnTo>
                        <a:pt x="618" y="946"/>
                      </a:lnTo>
                      <a:lnTo>
                        <a:pt x="643" y="908"/>
                      </a:lnTo>
                      <a:lnTo>
                        <a:pt x="677" y="876"/>
                      </a:lnTo>
                      <a:lnTo>
                        <a:pt x="721" y="851"/>
                      </a:lnTo>
                      <a:lnTo>
                        <a:pt x="768" y="827"/>
                      </a:lnTo>
                      <a:lnTo>
                        <a:pt x="816" y="802"/>
                      </a:lnTo>
                      <a:lnTo>
                        <a:pt x="901" y="733"/>
                      </a:lnTo>
                      <a:lnTo>
                        <a:pt x="903" y="745"/>
                      </a:lnTo>
                      <a:lnTo>
                        <a:pt x="916" y="732"/>
                      </a:lnTo>
                      <a:lnTo>
                        <a:pt x="876" y="705"/>
                      </a:lnTo>
                      <a:lnTo>
                        <a:pt x="831" y="688"/>
                      </a:lnTo>
                      <a:lnTo>
                        <a:pt x="740" y="667"/>
                      </a:lnTo>
                      <a:lnTo>
                        <a:pt x="656" y="638"/>
                      </a:lnTo>
                      <a:lnTo>
                        <a:pt x="595" y="572"/>
                      </a:lnTo>
                      <a:lnTo>
                        <a:pt x="599" y="541"/>
                      </a:lnTo>
                      <a:lnTo>
                        <a:pt x="625" y="513"/>
                      </a:lnTo>
                      <a:lnTo>
                        <a:pt x="652" y="488"/>
                      </a:lnTo>
                      <a:lnTo>
                        <a:pt x="679" y="465"/>
                      </a:lnTo>
                      <a:lnTo>
                        <a:pt x="707" y="437"/>
                      </a:lnTo>
                      <a:lnTo>
                        <a:pt x="738" y="389"/>
                      </a:lnTo>
                      <a:lnTo>
                        <a:pt x="774" y="350"/>
                      </a:lnTo>
                      <a:lnTo>
                        <a:pt x="806" y="310"/>
                      </a:lnTo>
                      <a:lnTo>
                        <a:pt x="504" y="218"/>
                      </a:lnTo>
                      <a:lnTo>
                        <a:pt x="475" y="177"/>
                      </a:lnTo>
                      <a:lnTo>
                        <a:pt x="491" y="127"/>
                      </a:lnTo>
                      <a:lnTo>
                        <a:pt x="521" y="91"/>
                      </a:lnTo>
                      <a:lnTo>
                        <a:pt x="582" y="9"/>
                      </a:lnTo>
                      <a:lnTo>
                        <a:pt x="603" y="0"/>
                      </a:lnTo>
                      <a:lnTo>
                        <a:pt x="612" y="21"/>
                      </a:lnTo>
                      <a:lnTo>
                        <a:pt x="565" y="150"/>
                      </a:lnTo>
                      <a:lnTo>
                        <a:pt x="643" y="178"/>
                      </a:lnTo>
                      <a:lnTo>
                        <a:pt x="715" y="205"/>
                      </a:lnTo>
                      <a:lnTo>
                        <a:pt x="787" y="234"/>
                      </a:lnTo>
                      <a:lnTo>
                        <a:pt x="871" y="260"/>
                      </a:lnTo>
                      <a:lnTo>
                        <a:pt x="895" y="281"/>
                      </a:lnTo>
                      <a:lnTo>
                        <a:pt x="886" y="311"/>
                      </a:lnTo>
                      <a:lnTo>
                        <a:pt x="850" y="350"/>
                      </a:lnTo>
                      <a:lnTo>
                        <a:pt x="812" y="386"/>
                      </a:lnTo>
                      <a:lnTo>
                        <a:pt x="745" y="465"/>
                      </a:lnTo>
                      <a:lnTo>
                        <a:pt x="721" y="492"/>
                      </a:lnTo>
                      <a:lnTo>
                        <a:pt x="698" y="515"/>
                      </a:lnTo>
                      <a:lnTo>
                        <a:pt x="652" y="564"/>
                      </a:lnTo>
                      <a:lnTo>
                        <a:pt x="677" y="595"/>
                      </a:lnTo>
                      <a:lnTo>
                        <a:pt x="709" y="616"/>
                      </a:lnTo>
                      <a:lnTo>
                        <a:pt x="785" y="638"/>
                      </a:lnTo>
                      <a:lnTo>
                        <a:pt x="943" y="697"/>
                      </a:lnTo>
                      <a:lnTo>
                        <a:pt x="937" y="714"/>
                      </a:lnTo>
                      <a:lnTo>
                        <a:pt x="928" y="737"/>
                      </a:lnTo>
                      <a:lnTo>
                        <a:pt x="926" y="754"/>
                      </a:lnTo>
                      <a:lnTo>
                        <a:pt x="894" y="787"/>
                      </a:lnTo>
                      <a:lnTo>
                        <a:pt x="859" y="811"/>
                      </a:lnTo>
                      <a:lnTo>
                        <a:pt x="787" y="855"/>
                      </a:lnTo>
                      <a:lnTo>
                        <a:pt x="728" y="905"/>
                      </a:lnTo>
                      <a:lnTo>
                        <a:pt x="703" y="979"/>
                      </a:lnTo>
                      <a:lnTo>
                        <a:pt x="783" y="1193"/>
                      </a:lnTo>
                      <a:lnTo>
                        <a:pt x="776" y="1241"/>
                      </a:lnTo>
                      <a:lnTo>
                        <a:pt x="728" y="1247"/>
                      </a:lnTo>
                      <a:lnTo>
                        <a:pt x="601" y="1220"/>
                      </a:lnTo>
                      <a:lnTo>
                        <a:pt x="472" y="1218"/>
                      </a:lnTo>
                      <a:lnTo>
                        <a:pt x="432" y="1235"/>
                      </a:lnTo>
                      <a:lnTo>
                        <a:pt x="403" y="1266"/>
                      </a:lnTo>
                      <a:lnTo>
                        <a:pt x="363" y="1346"/>
                      </a:lnTo>
                      <a:lnTo>
                        <a:pt x="337" y="1391"/>
                      </a:lnTo>
                      <a:lnTo>
                        <a:pt x="314" y="1433"/>
                      </a:lnTo>
                      <a:lnTo>
                        <a:pt x="291" y="1473"/>
                      </a:lnTo>
                      <a:lnTo>
                        <a:pt x="266" y="1520"/>
                      </a:lnTo>
                      <a:lnTo>
                        <a:pt x="245" y="1538"/>
                      </a:lnTo>
                      <a:lnTo>
                        <a:pt x="221" y="1528"/>
                      </a:lnTo>
                      <a:lnTo>
                        <a:pt x="171" y="1475"/>
                      </a:lnTo>
                      <a:lnTo>
                        <a:pt x="17" y="1384"/>
                      </a:lnTo>
                      <a:lnTo>
                        <a:pt x="0" y="1355"/>
                      </a:lnTo>
                      <a:lnTo>
                        <a:pt x="10" y="1327"/>
                      </a:lnTo>
                      <a:lnTo>
                        <a:pt x="34" y="1311"/>
                      </a:lnTo>
                      <a:lnTo>
                        <a:pt x="67" y="1319"/>
                      </a:lnTo>
                      <a:lnTo>
                        <a:pt x="67" y="1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4150800" y="5359320"/>
                  <a:ext cx="59400" cy="34560"/>
                </a:xfrm>
                <a:custGeom>
                  <a:avLst/>
                  <a:gdLst/>
                  <a:ahLst/>
                  <a:rect l="l" t="t" r="r" b="b"/>
                  <a:pathLst>
                    <a:path w="384" h="291">
                      <a:moveTo>
                        <a:pt x="29" y="76"/>
                      </a:moveTo>
                      <a:lnTo>
                        <a:pt x="205" y="165"/>
                      </a:lnTo>
                      <a:lnTo>
                        <a:pt x="249" y="99"/>
                      </a:lnTo>
                      <a:lnTo>
                        <a:pt x="276" y="70"/>
                      </a:lnTo>
                      <a:lnTo>
                        <a:pt x="304" y="49"/>
                      </a:lnTo>
                      <a:lnTo>
                        <a:pt x="359" y="2"/>
                      </a:lnTo>
                      <a:lnTo>
                        <a:pt x="382" y="0"/>
                      </a:lnTo>
                      <a:lnTo>
                        <a:pt x="384" y="23"/>
                      </a:lnTo>
                      <a:lnTo>
                        <a:pt x="325" y="150"/>
                      </a:lnTo>
                      <a:lnTo>
                        <a:pt x="251" y="264"/>
                      </a:lnTo>
                      <a:lnTo>
                        <a:pt x="234" y="283"/>
                      </a:lnTo>
                      <a:lnTo>
                        <a:pt x="215" y="291"/>
                      </a:lnTo>
                      <a:lnTo>
                        <a:pt x="177" y="266"/>
                      </a:lnTo>
                      <a:lnTo>
                        <a:pt x="137" y="218"/>
                      </a:lnTo>
                      <a:lnTo>
                        <a:pt x="99" y="178"/>
                      </a:lnTo>
                      <a:lnTo>
                        <a:pt x="59" y="146"/>
                      </a:lnTo>
                      <a:lnTo>
                        <a:pt x="8" y="114"/>
                      </a:lnTo>
                      <a:lnTo>
                        <a:pt x="0" y="85"/>
                      </a:lnTo>
                      <a:lnTo>
                        <a:pt x="29" y="76"/>
                      </a:lnTo>
                      <a:lnTo>
                        <a:pt x="29" y="76"/>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352" name=""/>
                <p:cNvSpPr/>
                <p:nvPr/>
              </p:nvSpPr>
              <p:spPr>
                <a:xfrm>
                  <a:off x="4244040" y="5372280"/>
                  <a:ext cx="57960" cy="29880"/>
                </a:xfrm>
                <a:custGeom>
                  <a:avLst/>
                  <a:gdLst/>
                  <a:ahLst/>
                  <a:rect l="l" t="t" r="r" b="b"/>
                  <a:pathLst>
                    <a:path w="374" h="253">
                      <a:moveTo>
                        <a:pt x="30" y="10"/>
                      </a:moveTo>
                      <a:lnTo>
                        <a:pt x="66" y="86"/>
                      </a:lnTo>
                      <a:lnTo>
                        <a:pt x="87" y="120"/>
                      </a:lnTo>
                      <a:lnTo>
                        <a:pt x="112" y="152"/>
                      </a:lnTo>
                      <a:lnTo>
                        <a:pt x="171" y="124"/>
                      </a:lnTo>
                      <a:lnTo>
                        <a:pt x="228" y="101"/>
                      </a:lnTo>
                      <a:lnTo>
                        <a:pt x="353" y="57"/>
                      </a:lnTo>
                      <a:lnTo>
                        <a:pt x="374" y="67"/>
                      </a:lnTo>
                      <a:lnTo>
                        <a:pt x="365" y="88"/>
                      </a:lnTo>
                      <a:lnTo>
                        <a:pt x="298" y="120"/>
                      </a:lnTo>
                      <a:lnTo>
                        <a:pt x="243" y="158"/>
                      </a:lnTo>
                      <a:lnTo>
                        <a:pt x="192" y="198"/>
                      </a:lnTo>
                      <a:lnTo>
                        <a:pt x="163" y="221"/>
                      </a:lnTo>
                      <a:lnTo>
                        <a:pt x="133" y="243"/>
                      </a:lnTo>
                      <a:lnTo>
                        <a:pt x="104" y="253"/>
                      </a:lnTo>
                      <a:lnTo>
                        <a:pt x="78" y="240"/>
                      </a:lnTo>
                      <a:lnTo>
                        <a:pt x="44" y="190"/>
                      </a:lnTo>
                      <a:lnTo>
                        <a:pt x="28" y="137"/>
                      </a:lnTo>
                      <a:lnTo>
                        <a:pt x="0" y="23"/>
                      </a:lnTo>
                      <a:lnTo>
                        <a:pt x="9" y="0"/>
                      </a:lnTo>
                      <a:lnTo>
                        <a:pt x="30" y="10"/>
                      </a:lnTo>
                      <a:lnTo>
                        <a:pt x="30"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53" name=""/>
                <p:cNvSpPr/>
                <p:nvPr/>
              </p:nvSpPr>
              <p:spPr>
                <a:xfrm>
                  <a:off x="4022280" y="5344920"/>
                  <a:ext cx="108000" cy="132480"/>
                </a:xfrm>
                <a:custGeom>
                  <a:avLst/>
                  <a:gdLst/>
                  <a:ahLst/>
                  <a:rect l="l" t="t" r="r" b="b"/>
                  <a:pathLst>
                    <a:path w="696" h="1112">
                      <a:moveTo>
                        <a:pt x="679" y="33"/>
                      </a:moveTo>
                      <a:lnTo>
                        <a:pt x="603" y="46"/>
                      </a:lnTo>
                      <a:lnTo>
                        <a:pt x="540" y="80"/>
                      </a:lnTo>
                      <a:lnTo>
                        <a:pt x="481" y="128"/>
                      </a:lnTo>
                      <a:lnTo>
                        <a:pt x="451" y="152"/>
                      </a:lnTo>
                      <a:lnTo>
                        <a:pt x="417" y="177"/>
                      </a:lnTo>
                      <a:lnTo>
                        <a:pt x="348" y="226"/>
                      </a:lnTo>
                      <a:lnTo>
                        <a:pt x="320" y="253"/>
                      </a:lnTo>
                      <a:lnTo>
                        <a:pt x="293" y="282"/>
                      </a:lnTo>
                      <a:lnTo>
                        <a:pt x="247" y="341"/>
                      </a:lnTo>
                      <a:lnTo>
                        <a:pt x="209" y="403"/>
                      </a:lnTo>
                      <a:lnTo>
                        <a:pt x="179" y="472"/>
                      </a:lnTo>
                      <a:lnTo>
                        <a:pt x="150" y="544"/>
                      </a:lnTo>
                      <a:lnTo>
                        <a:pt x="124" y="624"/>
                      </a:lnTo>
                      <a:lnTo>
                        <a:pt x="97" y="705"/>
                      </a:lnTo>
                      <a:lnTo>
                        <a:pt x="46" y="1095"/>
                      </a:lnTo>
                      <a:lnTo>
                        <a:pt x="31" y="1112"/>
                      </a:lnTo>
                      <a:lnTo>
                        <a:pt x="13" y="1099"/>
                      </a:lnTo>
                      <a:lnTo>
                        <a:pt x="0" y="681"/>
                      </a:lnTo>
                      <a:lnTo>
                        <a:pt x="31" y="588"/>
                      </a:lnTo>
                      <a:lnTo>
                        <a:pt x="61" y="502"/>
                      </a:lnTo>
                      <a:lnTo>
                        <a:pt x="93" y="420"/>
                      </a:lnTo>
                      <a:lnTo>
                        <a:pt x="129" y="344"/>
                      </a:lnTo>
                      <a:lnTo>
                        <a:pt x="150" y="310"/>
                      </a:lnTo>
                      <a:lnTo>
                        <a:pt x="171" y="274"/>
                      </a:lnTo>
                      <a:lnTo>
                        <a:pt x="196" y="242"/>
                      </a:lnTo>
                      <a:lnTo>
                        <a:pt x="223" y="209"/>
                      </a:lnTo>
                      <a:lnTo>
                        <a:pt x="253" y="179"/>
                      </a:lnTo>
                      <a:lnTo>
                        <a:pt x="285" y="149"/>
                      </a:lnTo>
                      <a:lnTo>
                        <a:pt x="321" y="120"/>
                      </a:lnTo>
                      <a:lnTo>
                        <a:pt x="361" y="93"/>
                      </a:lnTo>
                      <a:lnTo>
                        <a:pt x="401" y="69"/>
                      </a:lnTo>
                      <a:lnTo>
                        <a:pt x="437" y="48"/>
                      </a:lnTo>
                      <a:lnTo>
                        <a:pt x="512" y="19"/>
                      </a:lnTo>
                      <a:lnTo>
                        <a:pt x="679" y="0"/>
                      </a:lnTo>
                      <a:lnTo>
                        <a:pt x="696" y="15"/>
                      </a:lnTo>
                      <a:lnTo>
                        <a:pt x="692" y="27"/>
                      </a:lnTo>
                      <a:lnTo>
                        <a:pt x="679" y="33"/>
                      </a:lnTo>
                      <a:lnTo>
                        <a:pt x="679"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54" name=""/>
            <p:cNvSpPr/>
            <p:nvPr/>
          </p:nvSpPr>
          <p:spPr>
            <a:xfrm flipV="1">
              <a:off x="1981080" y="5333760"/>
              <a:ext cx="0" cy="152280"/>
            </a:xfrm>
            <a:prstGeom prst="line">
              <a:avLst/>
            </a:prstGeom>
            <a:ln w="9360">
              <a:solidFill>
                <a:srgbClr val="57a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5" name=""/>
          <p:cNvGrpSpPr/>
          <p:nvPr/>
        </p:nvGrpSpPr>
        <p:grpSpPr>
          <a:xfrm>
            <a:off x="1981080" y="5486040"/>
            <a:ext cx="4343400" cy="609480"/>
            <a:chOff x="1981080" y="5486040"/>
            <a:chExt cx="4343400" cy="609480"/>
          </a:xfrm>
        </p:grpSpPr>
        <p:sp>
          <p:nvSpPr>
            <p:cNvPr id="356" name=""/>
            <p:cNvSpPr/>
            <p:nvPr/>
          </p:nvSpPr>
          <p:spPr>
            <a:xfrm>
              <a:off x="1986120" y="5791320"/>
              <a:ext cx="3197160" cy="0"/>
            </a:xfrm>
            <a:prstGeom prst="line">
              <a:avLst/>
            </a:prstGeom>
            <a:ln w="9360">
              <a:solidFill>
                <a:srgbClr val="57a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7" name=""/>
            <p:cNvGrpSpPr/>
            <p:nvPr/>
          </p:nvGrpSpPr>
          <p:grpSpPr>
            <a:xfrm>
              <a:off x="5183280" y="5486400"/>
              <a:ext cx="1141200" cy="609120"/>
              <a:chOff x="5183280" y="5486400"/>
              <a:chExt cx="1141200" cy="609120"/>
            </a:xfrm>
          </p:grpSpPr>
          <p:grpSp>
            <p:nvGrpSpPr>
              <p:cNvPr id="358" name=""/>
              <p:cNvGrpSpPr/>
              <p:nvPr/>
            </p:nvGrpSpPr>
            <p:grpSpPr>
              <a:xfrm>
                <a:off x="5183280" y="5486400"/>
                <a:ext cx="1141200" cy="590040"/>
                <a:chOff x="5183280" y="5486400"/>
                <a:chExt cx="1141200" cy="590040"/>
              </a:xfrm>
            </p:grpSpPr>
            <p:sp>
              <p:nvSpPr>
                <p:cNvPr id="359" name=""/>
                <p:cNvSpPr/>
                <p:nvPr/>
              </p:nvSpPr>
              <p:spPr>
                <a:xfrm>
                  <a:off x="5183280" y="5486400"/>
                  <a:ext cx="1141200" cy="590040"/>
                </a:xfrm>
                <a:custGeom>
                  <a:avLst/>
                  <a:gdLst/>
                  <a:ahLst/>
                  <a:rect l="l" t="t" r="r" b="b"/>
                  <a:pathLst>
                    <a:path w="2256" h="1395">
                      <a:moveTo>
                        <a:pt x="1222" y="1395"/>
                      </a:moveTo>
                      <a:lnTo>
                        <a:pt x="1218" y="1389"/>
                      </a:lnTo>
                      <a:lnTo>
                        <a:pt x="1220" y="1380"/>
                      </a:lnTo>
                      <a:lnTo>
                        <a:pt x="1229" y="1365"/>
                      </a:lnTo>
                      <a:lnTo>
                        <a:pt x="1244" y="1348"/>
                      </a:lnTo>
                      <a:lnTo>
                        <a:pt x="1265" y="1326"/>
                      </a:lnTo>
                      <a:lnTo>
                        <a:pt x="1290" y="1300"/>
                      </a:lnTo>
                      <a:lnTo>
                        <a:pt x="1322" y="1272"/>
                      </a:lnTo>
                      <a:lnTo>
                        <a:pt x="1356" y="1242"/>
                      </a:lnTo>
                      <a:lnTo>
                        <a:pt x="1394" y="1208"/>
                      </a:lnTo>
                      <a:lnTo>
                        <a:pt x="1437" y="1173"/>
                      </a:lnTo>
                      <a:lnTo>
                        <a:pt x="1481" y="1136"/>
                      </a:lnTo>
                      <a:lnTo>
                        <a:pt x="1528" y="1098"/>
                      </a:lnTo>
                      <a:lnTo>
                        <a:pt x="1577" y="1057"/>
                      </a:lnTo>
                      <a:lnTo>
                        <a:pt x="1627" y="1017"/>
                      </a:lnTo>
                      <a:lnTo>
                        <a:pt x="1679" y="977"/>
                      </a:lnTo>
                      <a:lnTo>
                        <a:pt x="1731" y="935"/>
                      </a:lnTo>
                      <a:lnTo>
                        <a:pt x="1783" y="894"/>
                      </a:lnTo>
                      <a:lnTo>
                        <a:pt x="1834" y="854"/>
                      </a:lnTo>
                      <a:lnTo>
                        <a:pt x="1885" y="814"/>
                      </a:lnTo>
                      <a:lnTo>
                        <a:pt x="1935" y="775"/>
                      </a:lnTo>
                      <a:lnTo>
                        <a:pt x="1982" y="738"/>
                      </a:lnTo>
                      <a:lnTo>
                        <a:pt x="2027" y="703"/>
                      </a:lnTo>
                      <a:lnTo>
                        <a:pt x="2069" y="668"/>
                      </a:lnTo>
                      <a:lnTo>
                        <a:pt x="2109" y="637"/>
                      </a:lnTo>
                      <a:lnTo>
                        <a:pt x="2144" y="608"/>
                      </a:lnTo>
                      <a:lnTo>
                        <a:pt x="2177" y="583"/>
                      </a:lnTo>
                      <a:lnTo>
                        <a:pt x="2203" y="560"/>
                      </a:lnTo>
                      <a:lnTo>
                        <a:pt x="2225" y="542"/>
                      </a:lnTo>
                      <a:lnTo>
                        <a:pt x="2241" y="527"/>
                      </a:lnTo>
                      <a:lnTo>
                        <a:pt x="2252" y="515"/>
                      </a:lnTo>
                      <a:lnTo>
                        <a:pt x="2256" y="508"/>
                      </a:lnTo>
                      <a:lnTo>
                        <a:pt x="2253" y="507"/>
                      </a:lnTo>
                      <a:lnTo>
                        <a:pt x="2253" y="507"/>
                      </a:lnTo>
                      <a:lnTo>
                        <a:pt x="2247" y="505"/>
                      </a:lnTo>
                      <a:lnTo>
                        <a:pt x="2235" y="499"/>
                      </a:lnTo>
                      <a:lnTo>
                        <a:pt x="2220" y="492"/>
                      </a:lnTo>
                      <a:lnTo>
                        <a:pt x="2200" y="483"/>
                      </a:lnTo>
                      <a:lnTo>
                        <a:pt x="2175" y="471"/>
                      </a:lnTo>
                      <a:lnTo>
                        <a:pt x="2148" y="459"/>
                      </a:lnTo>
                      <a:lnTo>
                        <a:pt x="2116" y="444"/>
                      </a:lnTo>
                      <a:lnTo>
                        <a:pt x="2081" y="429"/>
                      </a:lnTo>
                      <a:lnTo>
                        <a:pt x="2044" y="411"/>
                      </a:lnTo>
                      <a:lnTo>
                        <a:pt x="2004" y="392"/>
                      </a:lnTo>
                      <a:lnTo>
                        <a:pt x="1962" y="373"/>
                      </a:lnTo>
                      <a:lnTo>
                        <a:pt x="1919" y="353"/>
                      </a:lnTo>
                      <a:lnTo>
                        <a:pt x="1874" y="332"/>
                      </a:lnTo>
                      <a:lnTo>
                        <a:pt x="1829" y="310"/>
                      </a:lnTo>
                      <a:lnTo>
                        <a:pt x="1781" y="288"/>
                      </a:lnTo>
                      <a:lnTo>
                        <a:pt x="1735" y="265"/>
                      </a:lnTo>
                      <a:lnTo>
                        <a:pt x="1688" y="243"/>
                      </a:lnTo>
                      <a:lnTo>
                        <a:pt x="1642" y="220"/>
                      </a:lnTo>
                      <a:lnTo>
                        <a:pt x="1597" y="198"/>
                      </a:lnTo>
                      <a:lnTo>
                        <a:pt x="1552" y="177"/>
                      </a:lnTo>
                      <a:lnTo>
                        <a:pt x="1509" y="155"/>
                      </a:lnTo>
                      <a:lnTo>
                        <a:pt x="1468" y="134"/>
                      </a:lnTo>
                      <a:lnTo>
                        <a:pt x="1429" y="114"/>
                      </a:lnTo>
                      <a:lnTo>
                        <a:pt x="1392" y="95"/>
                      </a:lnTo>
                      <a:lnTo>
                        <a:pt x="1358" y="77"/>
                      </a:lnTo>
                      <a:lnTo>
                        <a:pt x="1327" y="60"/>
                      </a:lnTo>
                      <a:lnTo>
                        <a:pt x="1301" y="45"/>
                      </a:lnTo>
                      <a:lnTo>
                        <a:pt x="1277" y="31"/>
                      </a:lnTo>
                      <a:lnTo>
                        <a:pt x="1258" y="19"/>
                      </a:lnTo>
                      <a:lnTo>
                        <a:pt x="1243" y="8"/>
                      </a:lnTo>
                      <a:lnTo>
                        <a:pt x="1234" y="0"/>
                      </a:lnTo>
                      <a:lnTo>
                        <a:pt x="1231" y="13"/>
                      </a:lnTo>
                      <a:lnTo>
                        <a:pt x="1220" y="28"/>
                      </a:lnTo>
                      <a:lnTo>
                        <a:pt x="1204" y="43"/>
                      </a:lnTo>
                      <a:lnTo>
                        <a:pt x="1183" y="60"/>
                      </a:lnTo>
                      <a:lnTo>
                        <a:pt x="1157" y="79"/>
                      </a:lnTo>
                      <a:lnTo>
                        <a:pt x="1126" y="98"/>
                      </a:lnTo>
                      <a:lnTo>
                        <a:pt x="1090" y="119"/>
                      </a:lnTo>
                      <a:lnTo>
                        <a:pt x="1051" y="140"/>
                      </a:lnTo>
                      <a:lnTo>
                        <a:pt x="1009" y="162"/>
                      </a:lnTo>
                      <a:lnTo>
                        <a:pt x="963" y="183"/>
                      </a:lnTo>
                      <a:lnTo>
                        <a:pt x="916" y="206"/>
                      </a:lnTo>
                      <a:lnTo>
                        <a:pt x="865" y="229"/>
                      </a:lnTo>
                      <a:lnTo>
                        <a:pt x="813" y="253"/>
                      </a:lnTo>
                      <a:lnTo>
                        <a:pt x="760" y="277"/>
                      </a:lnTo>
                      <a:lnTo>
                        <a:pt x="705" y="300"/>
                      </a:lnTo>
                      <a:lnTo>
                        <a:pt x="651" y="323"/>
                      </a:lnTo>
                      <a:lnTo>
                        <a:pt x="596" y="345"/>
                      </a:lnTo>
                      <a:lnTo>
                        <a:pt x="540" y="367"/>
                      </a:lnTo>
                      <a:lnTo>
                        <a:pt x="486" y="388"/>
                      </a:lnTo>
                      <a:lnTo>
                        <a:pt x="432" y="409"/>
                      </a:lnTo>
                      <a:lnTo>
                        <a:pt x="380" y="429"/>
                      </a:lnTo>
                      <a:lnTo>
                        <a:pt x="330" y="447"/>
                      </a:lnTo>
                      <a:lnTo>
                        <a:pt x="282" y="466"/>
                      </a:lnTo>
                      <a:lnTo>
                        <a:pt x="237" y="482"/>
                      </a:lnTo>
                      <a:lnTo>
                        <a:pt x="194" y="497"/>
                      </a:lnTo>
                      <a:lnTo>
                        <a:pt x="155" y="510"/>
                      </a:lnTo>
                      <a:lnTo>
                        <a:pt x="121" y="522"/>
                      </a:lnTo>
                      <a:lnTo>
                        <a:pt x="90" y="532"/>
                      </a:lnTo>
                      <a:lnTo>
                        <a:pt x="63" y="540"/>
                      </a:lnTo>
                      <a:lnTo>
                        <a:pt x="42" y="546"/>
                      </a:lnTo>
                      <a:lnTo>
                        <a:pt x="26" y="551"/>
                      </a:lnTo>
                      <a:lnTo>
                        <a:pt x="16" y="552"/>
                      </a:lnTo>
                      <a:lnTo>
                        <a:pt x="4" y="558"/>
                      </a:lnTo>
                      <a:lnTo>
                        <a:pt x="0" y="568"/>
                      </a:lnTo>
                      <a:lnTo>
                        <a:pt x="3" y="582"/>
                      </a:lnTo>
                      <a:lnTo>
                        <a:pt x="15" y="600"/>
                      </a:lnTo>
                      <a:lnTo>
                        <a:pt x="32" y="621"/>
                      </a:lnTo>
                      <a:lnTo>
                        <a:pt x="55" y="645"/>
                      </a:lnTo>
                      <a:lnTo>
                        <a:pt x="85" y="673"/>
                      </a:lnTo>
                      <a:lnTo>
                        <a:pt x="120" y="702"/>
                      </a:lnTo>
                      <a:lnTo>
                        <a:pt x="159" y="734"/>
                      </a:lnTo>
                      <a:lnTo>
                        <a:pt x="201" y="767"/>
                      </a:lnTo>
                      <a:lnTo>
                        <a:pt x="249" y="802"/>
                      </a:lnTo>
                      <a:lnTo>
                        <a:pt x="299" y="839"/>
                      </a:lnTo>
                      <a:lnTo>
                        <a:pt x="351" y="877"/>
                      </a:lnTo>
                      <a:lnTo>
                        <a:pt x="407" y="915"/>
                      </a:lnTo>
                      <a:lnTo>
                        <a:pt x="464" y="953"/>
                      </a:lnTo>
                      <a:lnTo>
                        <a:pt x="522" y="992"/>
                      </a:lnTo>
                      <a:lnTo>
                        <a:pt x="581" y="1031"/>
                      </a:lnTo>
                      <a:lnTo>
                        <a:pt x="640" y="1069"/>
                      </a:lnTo>
                      <a:lnTo>
                        <a:pt x="699" y="1106"/>
                      </a:lnTo>
                      <a:lnTo>
                        <a:pt x="757" y="1143"/>
                      </a:lnTo>
                      <a:lnTo>
                        <a:pt x="814" y="1178"/>
                      </a:lnTo>
                      <a:lnTo>
                        <a:pt x="870" y="1212"/>
                      </a:lnTo>
                      <a:lnTo>
                        <a:pt x="923" y="1243"/>
                      </a:lnTo>
                      <a:lnTo>
                        <a:pt x="974" y="1273"/>
                      </a:lnTo>
                      <a:lnTo>
                        <a:pt x="1021" y="1299"/>
                      </a:lnTo>
                      <a:lnTo>
                        <a:pt x="1065" y="1323"/>
                      </a:lnTo>
                      <a:lnTo>
                        <a:pt x="1104" y="1345"/>
                      </a:lnTo>
                      <a:lnTo>
                        <a:pt x="1138" y="1363"/>
                      </a:lnTo>
                      <a:lnTo>
                        <a:pt x="1168" y="1378"/>
                      </a:lnTo>
                      <a:lnTo>
                        <a:pt x="1192" y="1387"/>
                      </a:lnTo>
                      <a:lnTo>
                        <a:pt x="1211" y="1394"/>
                      </a:lnTo>
                      <a:lnTo>
                        <a:pt x="1222" y="13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5206320" y="5502240"/>
                  <a:ext cx="1095840" cy="555120"/>
                </a:xfrm>
                <a:custGeom>
                  <a:avLst/>
                  <a:gdLst/>
                  <a:ahLst/>
                  <a:rect l="l" t="t" r="r" b="b"/>
                  <a:pathLst>
                    <a:path w="2169" h="1312">
                      <a:moveTo>
                        <a:pt x="1151" y="1312"/>
                      </a:moveTo>
                      <a:lnTo>
                        <a:pt x="1146" y="1307"/>
                      </a:lnTo>
                      <a:lnTo>
                        <a:pt x="1149" y="1297"/>
                      </a:lnTo>
                      <a:lnTo>
                        <a:pt x="1158" y="1284"/>
                      </a:lnTo>
                      <a:lnTo>
                        <a:pt x="1173" y="1267"/>
                      </a:lnTo>
                      <a:lnTo>
                        <a:pt x="1194" y="1246"/>
                      </a:lnTo>
                      <a:lnTo>
                        <a:pt x="1219" y="1222"/>
                      </a:lnTo>
                      <a:lnTo>
                        <a:pt x="1249" y="1196"/>
                      </a:lnTo>
                      <a:lnTo>
                        <a:pt x="1282" y="1167"/>
                      </a:lnTo>
                      <a:lnTo>
                        <a:pt x="1320" y="1136"/>
                      </a:lnTo>
                      <a:lnTo>
                        <a:pt x="1362" y="1102"/>
                      </a:lnTo>
                      <a:lnTo>
                        <a:pt x="1406" y="1068"/>
                      </a:lnTo>
                      <a:lnTo>
                        <a:pt x="1452" y="1031"/>
                      </a:lnTo>
                      <a:lnTo>
                        <a:pt x="1500" y="994"/>
                      </a:lnTo>
                      <a:lnTo>
                        <a:pt x="1550" y="956"/>
                      </a:lnTo>
                      <a:lnTo>
                        <a:pt x="1600" y="917"/>
                      </a:lnTo>
                      <a:lnTo>
                        <a:pt x="1651" y="879"/>
                      </a:lnTo>
                      <a:lnTo>
                        <a:pt x="1702" y="840"/>
                      </a:lnTo>
                      <a:lnTo>
                        <a:pt x="1752" y="802"/>
                      </a:lnTo>
                      <a:lnTo>
                        <a:pt x="1803" y="765"/>
                      </a:lnTo>
                      <a:lnTo>
                        <a:pt x="1852" y="728"/>
                      </a:lnTo>
                      <a:lnTo>
                        <a:pt x="1898" y="692"/>
                      </a:lnTo>
                      <a:lnTo>
                        <a:pt x="1943" y="659"/>
                      </a:lnTo>
                      <a:lnTo>
                        <a:pt x="1984" y="628"/>
                      </a:lnTo>
                      <a:lnTo>
                        <a:pt x="2023" y="598"/>
                      </a:lnTo>
                      <a:lnTo>
                        <a:pt x="2059" y="570"/>
                      </a:lnTo>
                      <a:lnTo>
                        <a:pt x="2090" y="546"/>
                      </a:lnTo>
                      <a:lnTo>
                        <a:pt x="2117" y="525"/>
                      </a:lnTo>
                      <a:lnTo>
                        <a:pt x="2137" y="507"/>
                      </a:lnTo>
                      <a:lnTo>
                        <a:pt x="2155" y="493"/>
                      </a:lnTo>
                      <a:lnTo>
                        <a:pt x="2165" y="483"/>
                      </a:lnTo>
                      <a:lnTo>
                        <a:pt x="2169" y="476"/>
                      </a:lnTo>
                      <a:lnTo>
                        <a:pt x="2166" y="475"/>
                      </a:lnTo>
                      <a:lnTo>
                        <a:pt x="2169" y="476"/>
                      </a:lnTo>
                      <a:lnTo>
                        <a:pt x="2164" y="474"/>
                      </a:lnTo>
                      <a:lnTo>
                        <a:pt x="2156" y="470"/>
                      </a:lnTo>
                      <a:lnTo>
                        <a:pt x="2142" y="463"/>
                      </a:lnTo>
                      <a:lnTo>
                        <a:pt x="2125" y="455"/>
                      </a:lnTo>
                      <a:lnTo>
                        <a:pt x="2103" y="446"/>
                      </a:lnTo>
                      <a:lnTo>
                        <a:pt x="2077" y="433"/>
                      </a:lnTo>
                      <a:lnTo>
                        <a:pt x="2049" y="421"/>
                      </a:lnTo>
                      <a:lnTo>
                        <a:pt x="2018" y="406"/>
                      </a:lnTo>
                      <a:lnTo>
                        <a:pt x="1983" y="390"/>
                      </a:lnTo>
                      <a:lnTo>
                        <a:pt x="1945" y="372"/>
                      </a:lnTo>
                      <a:lnTo>
                        <a:pt x="1907" y="354"/>
                      </a:lnTo>
                      <a:lnTo>
                        <a:pt x="1865" y="335"/>
                      </a:lnTo>
                      <a:lnTo>
                        <a:pt x="1824" y="316"/>
                      </a:lnTo>
                      <a:lnTo>
                        <a:pt x="1780" y="295"/>
                      </a:lnTo>
                      <a:lnTo>
                        <a:pt x="1736" y="274"/>
                      </a:lnTo>
                      <a:lnTo>
                        <a:pt x="1691" y="254"/>
                      </a:lnTo>
                      <a:lnTo>
                        <a:pt x="1648" y="232"/>
                      </a:lnTo>
                      <a:lnTo>
                        <a:pt x="1603" y="211"/>
                      </a:lnTo>
                      <a:lnTo>
                        <a:pt x="1560" y="189"/>
                      </a:lnTo>
                      <a:lnTo>
                        <a:pt x="1516" y="168"/>
                      </a:lnTo>
                      <a:lnTo>
                        <a:pt x="1475" y="149"/>
                      </a:lnTo>
                      <a:lnTo>
                        <a:pt x="1436" y="128"/>
                      </a:lnTo>
                      <a:lnTo>
                        <a:pt x="1398" y="110"/>
                      </a:lnTo>
                      <a:lnTo>
                        <a:pt x="1361" y="91"/>
                      </a:lnTo>
                      <a:lnTo>
                        <a:pt x="1327" y="74"/>
                      </a:lnTo>
                      <a:lnTo>
                        <a:pt x="1297" y="58"/>
                      </a:lnTo>
                      <a:lnTo>
                        <a:pt x="1270" y="43"/>
                      </a:lnTo>
                      <a:lnTo>
                        <a:pt x="1247" y="30"/>
                      </a:lnTo>
                      <a:lnTo>
                        <a:pt x="1226" y="19"/>
                      </a:lnTo>
                      <a:lnTo>
                        <a:pt x="1211" y="8"/>
                      </a:lnTo>
                      <a:lnTo>
                        <a:pt x="1199" y="0"/>
                      </a:lnTo>
                      <a:lnTo>
                        <a:pt x="1190" y="14"/>
                      </a:lnTo>
                      <a:lnTo>
                        <a:pt x="1174" y="28"/>
                      </a:lnTo>
                      <a:lnTo>
                        <a:pt x="1154" y="44"/>
                      </a:lnTo>
                      <a:lnTo>
                        <a:pt x="1129" y="61"/>
                      </a:lnTo>
                      <a:lnTo>
                        <a:pt x="1100" y="80"/>
                      </a:lnTo>
                      <a:lnTo>
                        <a:pt x="1067" y="98"/>
                      </a:lnTo>
                      <a:lnTo>
                        <a:pt x="1030" y="118"/>
                      </a:lnTo>
                      <a:lnTo>
                        <a:pt x="991" y="139"/>
                      </a:lnTo>
                      <a:lnTo>
                        <a:pt x="948" y="159"/>
                      </a:lnTo>
                      <a:lnTo>
                        <a:pt x="902" y="181"/>
                      </a:lnTo>
                      <a:lnTo>
                        <a:pt x="855" y="203"/>
                      </a:lnTo>
                      <a:lnTo>
                        <a:pt x="806" y="225"/>
                      </a:lnTo>
                      <a:lnTo>
                        <a:pt x="756" y="247"/>
                      </a:lnTo>
                      <a:lnTo>
                        <a:pt x="704" y="269"/>
                      </a:lnTo>
                      <a:lnTo>
                        <a:pt x="652" y="291"/>
                      </a:lnTo>
                      <a:lnTo>
                        <a:pt x="599" y="312"/>
                      </a:lnTo>
                      <a:lnTo>
                        <a:pt x="547" y="333"/>
                      </a:lnTo>
                      <a:lnTo>
                        <a:pt x="495" y="354"/>
                      </a:lnTo>
                      <a:lnTo>
                        <a:pt x="443" y="375"/>
                      </a:lnTo>
                      <a:lnTo>
                        <a:pt x="394" y="393"/>
                      </a:lnTo>
                      <a:lnTo>
                        <a:pt x="344" y="411"/>
                      </a:lnTo>
                      <a:lnTo>
                        <a:pt x="298" y="430"/>
                      </a:lnTo>
                      <a:lnTo>
                        <a:pt x="253" y="446"/>
                      </a:lnTo>
                      <a:lnTo>
                        <a:pt x="212" y="461"/>
                      </a:lnTo>
                      <a:lnTo>
                        <a:pt x="173" y="475"/>
                      </a:lnTo>
                      <a:lnTo>
                        <a:pt x="137" y="487"/>
                      </a:lnTo>
                      <a:lnTo>
                        <a:pt x="106" y="499"/>
                      </a:lnTo>
                      <a:lnTo>
                        <a:pt x="78" y="508"/>
                      </a:lnTo>
                      <a:lnTo>
                        <a:pt x="55" y="515"/>
                      </a:lnTo>
                      <a:lnTo>
                        <a:pt x="35" y="521"/>
                      </a:lnTo>
                      <a:lnTo>
                        <a:pt x="23" y="524"/>
                      </a:lnTo>
                      <a:lnTo>
                        <a:pt x="15" y="525"/>
                      </a:lnTo>
                      <a:lnTo>
                        <a:pt x="3" y="531"/>
                      </a:lnTo>
                      <a:lnTo>
                        <a:pt x="0" y="540"/>
                      </a:lnTo>
                      <a:lnTo>
                        <a:pt x="2" y="553"/>
                      </a:lnTo>
                      <a:lnTo>
                        <a:pt x="12" y="570"/>
                      </a:lnTo>
                      <a:lnTo>
                        <a:pt x="28" y="590"/>
                      </a:lnTo>
                      <a:lnTo>
                        <a:pt x="50" y="613"/>
                      </a:lnTo>
                      <a:lnTo>
                        <a:pt x="78" y="637"/>
                      </a:lnTo>
                      <a:lnTo>
                        <a:pt x="110" y="665"/>
                      </a:lnTo>
                      <a:lnTo>
                        <a:pt x="147" y="695"/>
                      </a:lnTo>
                      <a:lnTo>
                        <a:pt x="189" y="726"/>
                      </a:lnTo>
                      <a:lnTo>
                        <a:pt x="232" y="758"/>
                      </a:lnTo>
                      <a:lnTo>
                        <a:pt x="280" y="793"/>
                      </a:lnTo>
                      <a:lnTo>
                        <a:pt x="329" y="827"/>
                      </a:lnTo>
                      <a:lnTo>
                        <a:pt x="381" y="863"/>
                      </a:lnTo>
                      <a:lnTo>
                        <a:pt x="435" y="900"/>
                      </a:lnTo>
                      <a:lnTo>
                        <a:pt x="489" y="935"/>
                      </a:lnTo>
                      <a:lnTo>
                        <a:pt x="546" y="971"/>
                      </a:lnTo>
                      <a:lnTo>
                        <a:pt x="601" y="1007"/>
                      </a:lnTo>
                      <a:lnTo>
                        <a:pt x="657" y="1042"/>
                      </a:lnTo>
                      <a:lnTo>
                        <a:pt x="712" y="1076"/>
                      </a:lnTo>
                      <a:lnTo>
                        <a:pt x="766" y="1109"/>
                      </a:lnTo>
                      <a:lnTo>
                        <a:pt x="818" y="1140"/>
                      </a:lnTo>
                      <a:lnTo>
                        <a:pt x="867" y="1170"/>
                      </a:lnTo>
                      <a:lnTo>
                        <a:pt x="916" y="1198"/>
                      </a:lnTo>
                      <a:lnTo>
                        <a:pt x="961" y="1223"/>
                      </a:lnTo>
                      <a:lnTo>
                        <a:pt x="1001" y="1245"/>
                      </a:lnTo>
                      <a:lnTo>
                        <a:pt x="1039" y="1265"/>
                      </a:lnTo>
                      <a:lnTo>
                        <a:pt x="1071" y="1282"/>
                      </a:lnTo>
                      <a:lnTo>
                        <a:pt x="1100" y="1295"/>
                      </a:lnTo>
                      <a:lnTo>
                        <a:pt x="1123" y="1305"/>
                      </a:lnTo>
                      <a:lnTo>
                        <a:pt x="1141" y="1311"/>
                      </a:lnTo>
                      <a:lnTo>
                        <a:pt x="1151" y="13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5929200" y="5606640"/>
                  <a:ext cx="109080" cy="59760"/>
                </a:xfrm>
                <a:custGeom>
                  <a:avLst/>
                  <a:gdLst/>
                  <a:ahLst/>
                  <a:rect l="l" t="t" r="r" b="b"/>
                  <a:pathLst>
                    <a:path w="216" h="141">
                      <a:moveTo>
                        <a:pt x="108" y="0"/>
                      </a:moveTo>
                      <a:lnTo>
                        <a:pt x="122" y="10"/>
                      </a:lnTo>
                      <a:lnTo>
                        <a:pt x="139" y="2"/>
                      </a:lnTo>
                      <a:lnTo>
                        <a:pt x="147" y="15"/>
                      </a:lnTo>
                      <a:lnTo>
                        <a:pt x="167" y="10"/>
                      </a:lnTo>
                      <a:lnTo>
                        <a:pt x="169" y="24"/>
                      </a:lnTo>
                      <a:lnTo>
                        <a:pt x="190" y="24"/>
                      </a:lnTo>
                      <a:lnTo>
                        <a:pt x="187" y="38"/>
                      </a:lnTo>
                      <a:lnTo>
                        <a:pt x="207" y="41"/>
                      </a:lnTo>
                      <a:lnTo>
                        <a:pt x="198" y="53"/>
                      </a:lnTo>
                      <a:lnTo>
                        <a:pt x="216" y="61"/>
                      </a:lnTo>
                      <a:lnTo>
                        <a:pt x="201" y="70"/>
                      </a:lnTo>
                      <a:lnTo>
                        <a:pt x="216" y="80"/>
                      </a:lnTo>
                      <a:lnTo>
                        <a:pt x="198" y="87"/>
                      </a:lnTo>
                      <a:lnTo>
                        <a:pt x="207" y="100"/>
                      </a:lnTo>
                      <a:lnTo>
                        <a:pt x="187" y="103"/>
                      </a:lnTo>
                      <a:lnTo>
                        <a:pt x="190" y="117"/>
                      </a:lnTo>
                      <a:lnTo>
                        <a:pt x="169" y="116"/>
                      </a:lnTo>
                      <a:lnTo>
                        <a:pt x="167" y="130"/>
                      </a:lnTo>
                      <a:lnTo>
                        <a:pt x="147" y="126"/>
                      </a:lnTo>
                      <a:lnTo>
                        <a:pt x="139" y="139"/>
                      </a:lnTo>
                      <a:lnTo>
                        <a:pt x="122" y="131"/>
                      </a:lnTo>
                      <a:lnTo>
                        <a:pt x="108" y="141"/>
                      </a:lnTo>
                      <a:lnTo>
                        <a:pt x="94" y="131"/>
                      </a:lnTo>
                      <a:lnTo>
                        <a:pt x="77" y="139"/>
                      </a:lnTo>
                      <a:lnTo>
                        <a:pt x="69" y="126"/>
                      </a:lnTo>
                      <a:lnTo>
                        <a:pt x="49" y="130"/>
                      </a:lnTo>
                      <a:lnTo>
                        <a:pt x="47" y="116"/>
                      </a:lnTo>
                      <a:lnTo>
                        <a:pt x="25" y="117"/>
                      </a:lnTo>
                      <a:lnTo>
                        <a:pt x="30" y="103"/>
                      </a:lnTo>
                      <a:lnTo>
                        <a:pt x="9" y="100"/>
                      </a:lnTo>
                      <a:lnTo>
                        <a:pt x="18" y="87"/>
                      </a:lnTo>
                      <a:lnTo>
                        <a:pt x="0" y="80"/>
                      </a:lnTo>
                      <a:lnTo>
                        <a:pt x="15" y="70"/>
                      </a:lnTo>
                      <a:lnTo>
                        <a:pt x="0" y="61"/>
                      </a:lnTo>
                      <a:lnTo>
                        <a:pt x="18" y="54"/>
                      </a:lnTo>
                      <a:lnTo>
                        <a:pt x="9" y="41"/>
                      </a:lnTo>
                      <a:lnTo>
                        <a:pt x="30" y="38"/>
                      </a:lnTo>
                      <a:lnTo>
                        <a:pt x="25" y="24"/>
                      </a:lnTo>
                      <a:lnTo>
                        <a:pt x="47" y="24"/>
                      </a:lnTo>
                      <a:lnTo>
                        <a:pt x="49" y="10"/>
                      </a:lnTo>
                      <a:lnTo>
                        <a:pt x="69" y="15"/>
                      </a:lnTo>
                      <a:lnTo>
                        <a:pt x="77" y="2"/>
                      </a:lnTo>
                      <a:lnTo>
                        <a:pt x="94" y="10"/>
                      </a:lnTo>
                      <a:lnTo>
                        <a:pt x="108" y="0"/>
                      </a:lnTo>
                      <a:close/>
                    </a:path>
                  </a:pathLst>
                </a:custGeom>
                <a:solidFill>
                  <a:srgbClr val="9e9e3f"/>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2" name=""/>
                <p:cNvSpPr/>
                <p:nvPr/>
              </p:nvSpPr>
              <p:spPr>
                <a:xfrm>
                  <a:off x="5805000" y="5551560"/>
                  <a:ext cx="114840" cy="55800"/>
                </a:xfrm>
                <a:custGeom>
                  <a:avLst/>
                  <a:gdLst/>
                  <a:ahLst/>
                  <a:rect l="l" t="t" r="r" b="b"/>
                  <a:pathLst>
                    <a:path w="230" h="131">
                      <a:moveTo>
                        <a:pt x="0" y="0"/>
                      </a:moveTo>
                      <a:lnTo>
                        <a:pt x="3" y="1"/>
                      </a:lnTo>
                      <a:lnTo>
                        <a:pt x="7" y="4"/>
                      </a:lnTo>
                      <a:lnTo>
                        <a:pt x="16" y="9"/>
                      </a:lnTo>
                      <a:lnTo>
                        <a:pt x="27" y="15"/>
                      </a:lnTo>
                      <a:lnTo>
                        <a:pt x="41" y="23"/>
                      </a:lnTo>
                      <a:lnTo>
                        <a:pt x="56" y="32"/>
                      </a:lnTo>
                      <a:lnTo>
                        <a:pt x="73" y="41"/>
                      </a:lnTo>
                      <a:lnTo>
                        <a:pt x="91" y="51"/>
                      </a:lnTo>
                      <a:lnTo>
                        <a:pt x="110" y="62"/>
                      </a:lnTo>
                      <a:lnTo>
                        <a:pt x="128" y="72"/>
                      </a:lnTo>
                      <a:lnTo>
                        <a:pt x="148" y="83"/>
                      </a:lnTo>
                      <a:lnTo>
                        <a:pt x="166" y="93"/>
                      </a:lnTo>
                      <a:lnTo>
                        <a:pt x="185" y="102"/>
                      </a:lnTo>
                      <a:lnTo>
                        <a:pt x="201" y="110"/>
                      </a:lnTo>
                      <a:lnTo>
                        <a:pt x="217" y="117"/>
                      </a:lnTo>
                      <a:lnTo>
                        <a:pt x="230" y="123"/>
                      </a:lnTo>
                      <a:lnTo>
                        <a:pt x="220" y="131"/>
                      </a:lnTo>
                      <a:lnTo>
                        <a:pt x="218" y="130"/>
                      </a:lnTo>
                      <a:lnTo>
                        <a:pt x="212" y="127"/>
                      </a:lnTo>
                      <a:lnTo>
                        <a:pt x="203" y="124"/>
                      </a:lnTo>
                      <a:lnTo>
                        <a:pt x="192" y="118"/>
                      </a:lnTo>
                      <a:lnTo>
                        <a:pt x="178" y="111"/>
                      </a:lnTo>
                      <a:lnTo>
                        <a:pt x="162" y="103"/>
                      </a:lnTo>
                      <a:lnTo>
                        <a:pt x="143" y="95"/>
                      </a:lnTo>
                      <a:lnTo>
                        <a:pt x="125" y="86"/>
                      </a:lnTo>
                      <a:lnTo>
                        <a:pt x="106" y="76"/>
                      </a:lnTo>
                      <a:lnTo>
                        <a:pt x="87" y="65"/>
                      </a:lnTo>
                      <a:lnTo>
                        <a:pt x="68" y="54"/>
                      </a:lnTo>
                      <a:lnTo>
                        <a:pt x="51" y="43"/>
                      </a:lnTo>
                      <a:lnTo>
                        <a:pt x="35" y="32"/>
                      </a:lnTo>
                      <a:lnTo>
                        <a:pt x="21" y="20"/>
                      </a:lnTo>
                      <a:lnTo>
                        <a:pt x="9" y="10"/>
                      </a:lnTo>
                      <a:lnTo>
                        <a:pt x="0" y="0"/>
                      </a:lnTo>
                      <a:close/>
                    </a:path>
                  </a:pathLst>
                </a:custGeom>
                <a:solidFill>
                  <a:srgbClr val="93d3d3"/>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63" name=""/>
                <p:cNvSpPr/>
                <p:nvPr/>
              </p:nvSpPr>
              <p:spPr>
                <a:xfrm>
                  <a:off x="5786640" y="5564160"/>
                  <a:ext cx="120240" cy="59760"/>
                </a:xfrm>
                <a:custGeom>
                  <a:avLst/>
                  <a:gdLst/>
                  <a:ahLst/>
                  <a:rect l="l" t="t" r="r" b="b"/>
                  <a:pathLst>
                    <a:path w="237" h="142">
                      <a:moveTo>
                        <a:pt x="0" y="0"/>
                      </a:moveTo>
                      <a:lnTo>
                        <a:pt x="2" y="2"/>
                      </a:lnTo>
                      <a:lnTo>
                        <a:pt x="8" y="5"/>
                      </a:lnTo>
                      <a:lnTo>
                        <a:pt x="16" y="11"/>
                      </a:lnTo>
                      <a:lnTo>
                        <a:pt x="27" y="18"/>
                      </a:lnTo>
                      <a:lnTo>
                        <a:pt x="41" y="26"/>
                      </a:lnTo>
                      <a:lnTo>
                        <a:pt x="57" y="36"/>
                      </a:lnTo>
                      <a:lnTo>
                        <a:pt x="75" y="46"/>
                      </a:lnTo>
                      <a:lnTo>
                        <a:pt x="94" y="58"/>
                      </a:lnTo>
                      <a:lnTo>
                        <a:pt x="114" y="70"/>
                      </a:lnTo>
                      <a:lnTo>
                        <a:pt x="133" y="81"/>
                      </a:lnTo>
                      <a:lnTo>
                        <a:pt x="153" y="91"/>
                      </a:lnTo>
                      <a:lnTo>
                        <a:pt x="172" y="103"/>
                      </a:lnTo>
                      <a:lnTo>
                        <a:pt x="191" y="112"/>
                      </a:lnTo>
                      <a:lnTo>
                        <a:pt x="208" y="121"/>
                      </a:lnTo>
                      <a:lnTo>
                        <a:pt x="223" y="128"/>
                      </a:lnTo>
                      <a:lnTo>
                        <a:pt x="237" y="134"/>
                      </a:lnTo>
                      <a:lnTo>
                        <a:pt x="227" y="142"/>
                      </a:lnTo>
                      <a:lnTo>
                        <a:pt x="224" y="141"/>
                      </a:lnTo>
                      <a:lnTo>
                        <a:pt x="219" y="139"/>
                      </a:lnTo>
                      <a:lnTo>
                        <a:pt x="209" y="134"/>
                      </a:lnTo>
                      <a:lnTo>
                        <a:pt x="197" y="127"/>
                      </a:lnTo>
                      <a:lnTo>
                        <a:pt x="182" y="120"/>
                      </a:lnTo>
                      <a:lnTo>
                        <a:pt x="166" y="111"/>
                      </a:lnTo>
                      <a:lnTo>
                        <a:pt x="147" y="102"/>
                      </a:lnTo>
                      <a:lnTo>
                        <a:pt x="129" y="91"/>
                      </a:lnTo>
                      <a:lnTo>
                        <a:pt x="109" y="81"/>
                      </a:lnTo>
                      <a:lnTo>
                        <a:pt x="90" y="70"/>
                      </a:lnTo>
                      <a:lnTo>
                        <a:pt x="70" y="57"/>
                      </a:lnTo>
                      <a:lnTo>
                        <a:pt x="53" y="45"/>
                      </a:lnTo>
                      <a:lnTo>
                        <a:pt x="35" y="34"/>
                      </a:lnTo>
                      <a:lnTo>
                        <a:pt x="22" y="22"/>
                      </a:lnTo>
                      <a:lnTo>
                        <a:pt x="9" y="11"/>
                      </a:lnTo>
                      <a:lnTo>
                        <a:pt x="0" y="0"/>
                      </a:lnTo>
                      <a:close/>
                    </a:path>
                  </a:pathLst>
                </a:custGeom>
                <a:solidFill>
                  <a:srgbClr val="93d3d3"/>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4" name=""/>
                <p:cNvSpPr/>
                <p:nvPr/>
              </p:nvSpPr>
              <p:spPr>
                <a:xfrm>
                  <a:off x="5772240" y="5576760"/>
                  <a:ext cx="106200" cy="55800"/>
                </a:xfrm>
                <a:custGeom>
                  <a:avLst/>
                  <a:gdLst/>
                  <a:ahLst/>
                  <a:rect l="l" t="t" r="r" b="b"/>
                  <a:pathLst>
                    <a:path w="209" h="133">
                      <a:moveTo>
                        <a:pt x="0" y="0"/>
                      </a:moveTo>
                      <a:lnTo>
                        <a:pt x="1" y="2"/>
                      </a:lnTo>
                      <a:lnTo>
                        <a:pt x="6" y="5"/>
                      </a:lnTo>
                      <a:lnTo>
                        <a:pt x="14" y="10"/>
                      </a:lnTo>
                      <a:lnTo>
                        <a:pt x="23" y="16"/>
                      </a:lnTo>
                      <a:lnTo>
                        <a:pt x="35" y="23"/>
                      </a:lnTo>
                      <a:lnTo>
                        <a:pt x="48" y="33"/>
                      </a:lnTo>
                      <a:lnTo>
                        <a:pt x="63" y="42"/>
                      </a:lnTo>
                      <a:lnTo>
                        <a:pt x="79" y="52"/>
                      </a:lnTo>
                      <a:lnTo>
                        <a:pt x="97" y="64"/>
                      </a:lnTo>
                      <a:lnTo>
                        <a:pt x="114" y="74"/>
                      </a:lnTo>
                      <a:lnTo>
                        <a:pt x="131" y="84"/>
                      </a:lnTo>
                      <a:lnTo>
                        <a:pt x="149" y="94"/>
                      </a:lnTo>
                      <a:lnTo>
                        <a:pt x="165" y="103"/>
                      </a:lnTo>
                      <a:lnTo>
                        <a:pt x="181" y="112"/>
                      </a:lnTo>
                      <a:lnTo>
                        <a:pt x="196" y="119"/>
                      </a:lnTo>
                      <a:lnTo>
                        <a:pt x="209" y="125"/>
                      </a:lnTo>
                      <a:lnTo>
                        <a:pt x="198" y="133"/>
                      </a:lnTo>
                      <a:lnTo>
                        <a:pt x="196" y="132"/>
                      </a:lnTo>
                      <a:lnTo>
                        <a:pt x="191" y="129"/>
                      </a:lnTo>
                      <a:lnTo>
                        <a:pt x="183" y="126"/>
                      </a:lnTo>
                      <a:lnTo>
                        <a:pt x="173" y="120"/>
                      </a:lnTo>
                      <a:lnTo>
                        <a:pt x="160" y="113"/>
                      </a:lnTo>
                      <a:lnTo>
                        <a:pt x="146" y="105"/>
                      </a:lnTo>
                      <a:lnTo>
                        <a:pt x="130" y="97"/>
                      </a:lnTo>
                      <a:lnTo>
                        <a:pt x="114" y="87"/>
                      </a:lnTo>
                      <a:lnTo>
                        <a:pt x="97" y="78"/>
                      </a:lnTo>
                      <a:lnTo>
                        <a:pt x="81" y="66"/>
                      </a:lnTo>
                      <a:lnTo>
                        <a:pt x="63" y="56"/>
                      </a:lnTo>
                      <a:lnTo>
                        <a:pt x="48" y="44"/>
                      </a:lnTo>
                      <a:lnTo>
                        <a:pt x="33" y="33"/>
                      </a:lnTo>
                      <a:lnTo>
                        <a:pt x="20" y="22"/>
                      </a:lnTo>
                      <a:lnTo>
                        <a:pt x="9" y="11"/>
                      </a:lnTo>
                      <a:lnTo>
                        <a:pt x="0" y="0"/>
                      </a:lnTo>
                      <a:close/>
                    </a:path>
                  </a:pathLst>
                </a:custGeom>
                <a:solidFill>
                  <a:srgbClr val="93d3d3"/>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65" name=""/>
                <p:cNvSpPr/>
                <p:nvPr/>
              </p:nvSpPr>
              <p:spPr>
                <a:xfrm>
                  <a:off x="5736240" y="5588640"/>
                  <a:ext cx="357840" cy="176760"/>
                </a:xfrm>
                <a:custGeom>
                  <a:avLst/>
                  <a:gdLst/>
                  <a:ahLst/>
                  <a:rect l="l" t="t" r="r" b="b"/>
                  <a:pathLst>
                    <a:path w="709" h="418">
                      <a:moveTo>
                        <a:pt x="0" y="0"/>
                      </a:moveTo>
                      <a:lnTo>
                        <a:pt x="7" y="5"/>
                      </a:lnTo>
                      <a:lnTo>
                        <a:pt x="28" y="16"/>
                      </a:lnTo>
                      <a:lnTo>
                        <a:pt x="60" y="36"/>
                      </a:lnTo>
                      <a:lnTo>
                        <a:pt x="102" y="61"/>
                      </a:lnTo>
                      <a:lnTo>
                        <a:pt x="151" y="90"/>
                      </a:lnTo>
                      <a:lnTo>
                        <a:pt x="208" y="123"/>
                      </a:lnTo>
                      <a:lnTo>
                        <a:pt x="268" y="159"/>
                      </a:lnTo>
                      <a:lnTo>
                        <a:pt x="330" y="196"/>
                      </a:lnTo>
                      <a:lnTo>
                        <a:pt x="393" y="233"/>
                      </a:lnTo>
                      <a:lnTo>
                        <a:pt x="455" y="270"/>
                      </a:lnTo>
                      <a:lnTo>
                        <a:pt x="515" y="304"/>
                      </a:lnTo>
                      <a:lnTo>
                        <a:pt x="571" y="335"/>
                      </a:lnTo>
                      <a:lnTo>
                        <a:pt x="619" y="363"/>
                      </a:lnTo>
                      <a:lnTo>
                        <a:pt x="659" y="385"/>
                      </a:lnTo>
                      <a:lnTo>
                        <a:pt x="691" y="401"/>
                      </a:lnTo>
                      <a:lnTo>
                        <a:pt x="709" y="410"/>
                      </a:lnTo>
                      <a:lnTo>
                        <a:pt x="699" y="418"/>
                      </a:lnTo>
                      <a:lnTo>
                        <a:pt x="692" y="414"/>
                      </a:lnTo>
                      <a:lnTo>
                        <a:pt x="670" y="402"/>
                      </a:lnTo>
                      <a:lnTo>
                        <a:pt x="638" y="385"/>
                      </a:lnTo>
                      <a:lnTo>
                        <a:pt x="595" y="361"/>
                      </a:lnTo>
                      <a:lnTo>
                        <a:pt x="544" y="332"/>
                      </a:lnTo>
                      <a:lnTo>
                        <a:pt x="488" y="301"/>
                      </a:lnTo>
                      <a:lnTo>
                        <a:pt x="427" y="266"/>
                      </a:lnTo>
                      <a:lnTo>
                        <a:pt x="364" y="229"/>
                      </a:lnTo>
                      <a:lnTo>
                        <a:pt x="301" y="194"/>
                      </a:lnTo>
                      <a:lnTo>
                        <a:pt x="239" y="157"/>
                      </a:lnTo>
                      <a:lnTo>
                        <a:pt x="180" y="121"/>
                      </a:lnTo>
                      <a:lnTo>
                        <a:pt x="126" y="89"/>
                      </a:lnTo>
                      <a:lnTo>
                        <a:pt x="80" y="59"/>
                      </a:lnTo>
                      <a:lnTo>
                        <a:pt x="42" y="34"/>
                      </a:lnTo>
                      <a:lnTo>
                        <a:pt x="14" y="14"/>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5706720" y="5599800"/>
                  <a:ext cx="363600" cy="181080"/>
                </a:xfrm>
                <a:custGeom>
                  <a:avLst/>
                  <a:gdLst/>
                  <a:ahLst/>
                  <a:rect l="l" t="t" r="r" b="b"/>
                  <a:pathLst>
                    <a:path w="719" h="428">
                      <a:moveTo>
                        <a:pt x="0" y="0"/>
                      </a:moveTo>
                      <a:lnTo>
                        <a:pt x="7" y="4"/>
                      </a:lnTo>
                      <a:lnTo>
                        <a:pt x="27" y="17"/>
                      </a:lnTo>
                      <a:lnTo>
                        <a:pt x="61" y="36"/>
                      </a:lnTo>
                      <a:lnTo>
                        <a:pt x="102" y="62"/>
                      </a:lnTo>
                      <a:lnTo>
                        <a:pt x="153" y="92"/>
                      </a:lnTo>
                      <a:lnTo>
                        <a:pt x="209" y="126"/>
                      </a:lnTo>
                      <a:lnTo>
                        <a:pt x="271" y="162"/>
                      </a:lnTo>
                      <a:lnTo>
                        <a:pt x="335" y="200"/>
                      </a:lnTo>
                      <a:lnTo>
                        <a:pt x="400" y="238"/>
                      </a:lnTo>
                      <a:lnTo>
                        <a:pt x="463" y="276"/>
                      </a:lnTo>
                      <a:lnTo>
                        <a:pt x="523" y="312"/>
                      </a:lnTo>
                      <a:lnTo>
                        <a:pt x="578" y="344"/>
                      </a:lnTo>
                      <a:lnTo>
                        <a:pt x="628" y="372"/>
                      </a:lnTo>
                      <a:lnTo>
                        <a:pt x="669" y="395"/>
                      </a:lnTo>
                      <a:lnTo>
                        <a:pt x="700" y="411"/>
                      </a:lnTo>
                      <a:lnTo>
                        <a:pt x="719" y="420"/>
                      </a:lnTo>
                      <a:lnTo>
                        <a:pt x="708" y="428"/>
                      </a:lnTo>
                      <a:lnTo>
                        <a:pt x="700" y="423"/>
                      </a:lnTo>
                      <a:lnTo>
                        <a:pt x="680" y="412"/>
                      </a:lnTo>
                      <a:lnTo>
                        <a:pt x="646" y="393"/>
                      </a:lnTo>
                      <a:lnTo>
                        <a:pt x="604" y="368"/>
                      </a:lnTo>
                      <a:lnTo>
                        <a:pt x="552" y="339"/>
                      </a:lnTo>
                      <a:lnTo>
                        <a:pt x="494" y="307"/>
                      </a:lnTo>
                      <a:lnTo>
                        <a:pt x="433" y="271"/>
                      </a:lnTo>
                      <a:lnTo>
                        <a:pt x="369" y="235"/>
                      </a:lnTo>
                      <a:lnTo>
                        <a:pt x="304" y="197"/>
                      </a:lnTo>
                      <a:lnTo>
                        <a:pt x="242" y="159"/>
                      </a:lnTo>
                      <a:lnTo>
                        <a:pt x="182" y="123"/>
                      </a:lnTo>
                      <a:lnTo>
                        <a:pt x="127" y="89"/>
                      </a:lnTo>
                      <a:lnTo>
                        <a:pt x="79" y="60"/>
                      </a:lnTo>
                      <a:lnTo>
                        <a:pt x="41" y="33"/>
                      </a:lnTo>
                      <a:lnTo>
                        <a:pt x="15" y="13"/>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5680440" y="5612400"/>
                  <a:ext cx="366840" cy="184320"/>
                </a:xfrm>
                <a:custGeom>
                  <a:avLst/>
                  <a:gdLst/>
                  <a:ahLst/>
                  <a:rect l="l" t="t" r="r" b="b"/>
                  <a:pathLst>
                    <a:path w="725" h="435">
                      <a:moveTo>
                        <a:pt x="0" y="0"/>
                      </a:moveTo>
                      <a:lnTo>
                        <a:pt x="7" y="4"/>
                      </a:lnTo>
                      <a:lnTo>
                        <a:pt x="29" y="17"/>
                      </a:lnTo>
                      <a:lnTo>
                        <a:pt x="61" y="36"/>
                      </a:lnTo>
                      <a:lnTo>
                        <a:pt x="104" y="63"/>
                      </a:lnTo>
                      <a:lnTo>
                        <a:pt x="154" y="93"/>
                      </a:lnTo>
                      <a:lnTo>
                        <a:pt x="212" y="127"/>
                      </a:lnTo>
                      <a:lnTo>
                        <a:pt x="273" y="164"/>
                      </a:lnTo>
                      <a:lnTo>
                        <a:pt x="338" y="203"/>
                      </a:lnTo>
                      <a:lnTo>
                        <a:pt x="402" y="243"/>
                      </a:lnTo>
                      <a:lnTo>
                        <a:pt x="467" y="281"/>
                      </a:lnTo>
                      <a:lnTo>
                        <a:pt x="528" y="316"/>
                      </a:lnTo>
                      <a:lnTo>
                        <a:pt x="584" y="348"/>
                      </a:lnTo>
                      <a:lnTo>
                        <a:pt x="634" y="377"/>
                      </a:lnTo>
                      <a:lnTo>
                        <a:pt x="675" y="400"/>
                      </a:lnTo>
                      <a:lnTo>
                        <a:pt x="706" y="418"/>
                      </a:lnTo>
                      <a:lnTo>
                        <a:pt x="725" y="427"/>
                      </a:lnTo>
                      <a:lnTo>
                        <a:pt x="714" y="435"/>
                      </a:lnTo>
                      <a:lnTo>
                        <a:pt x="706" y="430"/>
                      </a:lnTo>
                      <a:lnTo>
                        <a:pt x="686" y="419"/>
                      </a:lnTo>
                      <a:lnTo>
                        <a:pt x="652" y="399"/>
                      </a:lnTo>
                      <a:lnTo>
                        <a:pt x="608" y="375"/>
                      </a:lnTo>
                      <a:lnTo>
                        <a:pt x="557" y="345"/>
                      </a:lnTo>
                      <a:lnTo>
                        <a:pt x="499" y="312"/>
                      </a:lnTo>
                      <a:lnTo>
                        <a:pt x="437" y="275"/>
                      </a:lnTo>
                      <a:lnTo>
                        <a:pt x="372" y="238"/>
                      </a:lnTo>
                      <a:lnTo>
                        <a:pt x="308" y="199"/>
                      </a:lnTo>
                      <a:lnTo>
                        <a:pt x="244" y="161"/>
                      </a:lnTo>
                      <a:lnTo>
                        <a:pt x="183" y="124"/>
                      </a:lnTo>
                      <a:lnTo>
                        <a:pt x="129" y="91"/>
                      </a:lnTo>
                      <a:lnTo>
                        <a:pt x="81" y="59"/>
                      </a:lnTo>
                      <a:lnTo>
                        <a:pt x="43" y="34"/>
                      </a:lnTo>
                      <a:lnTo>
                        <a:pt x="15" y="13"/>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5650920" y="5622480"/>
                  <a:ext cx="351720" cy="180360"/>
                </a:xfrm>
                <a:custGeom>
                  <a:avLst/>
                  <a:gdLst/>
                  <a:ahLst/>
                  <a:rect l="l" t="t" r="r" b="b"/>
                  <a:pathLst>
                    <a:path w="696" h="426">
                      <a:moveTo>
                        <a:pt x="0" y="0"/>
                      </a:moveTo>
                      <a:lnTo>
                        <a:pt x="8" y="4"/>
                      </a:lnTo>
                      <a:lnTo>
                        <a:pt x="29" y="17"/>
                      </a:lnTo>
                      <a:lnTo>
                        <a:pt x="62" y="38"/>
                      </a:lnTo>
                      <a:lnTo>
                        <a:pt x="105" y="64"/>
                      </a:lnTo>
                      <a:lnTo>
                        <a:pt x="157" y="96"/>
                      </a:lnTo>
                      <a:lnTo>
                        <a:pt x="214" y="131"/>
                      </a:lnTo>
                      <a:lnTo>
                        <a:pt x="276" y="169"/>
                      </a:lnTo>
                      <a:lnTo>
                        <a:pt x="339" y="207"/>
                      </a:lnTo>
                      <a:lnTo>
                        <a:pt x="403" y="246"/>
                      </a:lnTo>
                      <a:lnTo>
                        <a:pt x="466" y="284"/>
                      </a:lnTo>
                      <a:lnTo>
                        <a:pt x="524" y="319"/>
                      </a:lnTo>
                      <a:lnTo>
                        <a:pt x="577" y="351"/>
                      </a:lnTo>
                      <a:lnTo>
                        <a:pt x="622" y="377"/>
                      </a:lnTo>
                      <a:lnTo>
                        <a:pt x="659" y="399"/>
                      </a:lnTo>
                      <a:lnTo>
                        <a:pt x="685" y="412"/>
                      </a:lnTo>
                      <a:lnTo>
                        <a:pt x="696" y="418"/>
                      </a:lnTo>
                      <a:lnTo>
                        <a:pt x="686" y="426"/>
                      </a:lnTo>
                      <a:lnTo>
                        <a:pt x="679" y="421"/>
                      </a:lnTo>
                      <a:lnTo>
                        <a:pt x="658" y="410"/>
                      </a:lnTo>
                      <a:lnTo>
                        <a:pt x="626" y="391"/>
                      </a:lnTo>
                      <a:lnTo>
                        <a:pt x="584" y="367"/>
                      </a:lnTo>
                      <a:lnTo>
                        <a:pt x="535" y="338"/>
                      </a:lnTo>
                      <a:lnTo>
                        <a:pt x="480" y="305"/>
                      </a:lnTo>
                      <a:lnTo>
                        <a:pt x="420" y="270"/>
                      </a:lnTo>
                      <a:lnTo>
                        <a:pt x="357" y="233"/>
                      </a:lnTo>
                      <a:lnTo>
                        <a:pt x="295" y="195"/>
                      </a:lnTo>
                      <a:lnTo>
                        <a:pt x="234" y="159"/>
                      </a:lnTo>
                      <a:lnTo>
                        <a:pt x="176" y="123"/>
                      </a:lnTo>
                      <a:lnTo>
                        <a:pt x="123" y="89"/>
                      </a:lnTo>
                      <a:lnTo>
                        <a:pt x="78" y="59"/>
                      </a:lnTo>
                      <a:lnTo>
                        <a:pt x="40" y="33"/>
                      </a:lnTo>
                      <a:lnTo>
                        <a:pt x="14" y="13"/>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5590440" y="5642280"/>
                  <a:ext cx="387000" cy="200520"/>
                </a:xfrm>
                <a:custGeom>
                  <a:avLst/>
                  <a:gdLst/>
                  <a:ahLst/>
                  <a:rect l="l" t="t" r="r" b="b"/>
                  <a:pathLst>
                    <a:path w="765" h="473">
                      <a:moveTo>
                        <a:pt x="0" y="0"/>
                      </a:moveTo>
                      <a:lnTo>
                        <a:pt x="3" y="1"/>
                      </a:lnTo>
                      <a:lnTo>
                        <a:pt x="8" y="4"/>
                      </a:lnTo>
                      <a:lnTo>
                        <a:pt x="18" y="10"/>
                      </a:lnTo>
                      <a:lnTo>
                        <a:pt x="30" y="18"/>
                      </a:lnTo>
                      <a:lnTo>
                        <a:pt x="46" y="29"/>
                      </a:lnTo>
                      <a:lnTo>
                        <a:pt x="65" y="40"/>
                      </a:lnTo>
                      <a:lnTo>
                        <a:pt x="87" y="54"/>
                      </a:lnTo>
                      <a:lnTo>
                        <a:pt x="111" y="69"/>
                      </a:lnTo>
                      <a:lnTo>
                        <a:pt x="136" y="85"/>
                      </a:lnTo>
                      <a:lnTo>
                        <a:pt x="164" y="102"/>
                      </a:lnTo>
                      <a:lnTo>
                        <a:pt x="194" y="121"/>
                      </a:lnTo>
                      <a:lnTo>
                        <a:pt x="225" y="140"/>
                      </a:lnTo>
                      <a:lnTo>
                        <a:pt x="257" y="160"/>
                      </a:lnTo>
                      <a:lnTo>
                        <a:pt x="290" y="181"/>
                      </a:lnTo>
                      <a:lnTo>
                        <a:pt x="324" y="201"/>
                      </a:lnTo>
                      <a:lnTo>
                        <a:pt x="358" y="223"/>
                      </a:lnTo>
                      <a:lnTo>
                        <a:pt x="392" y="244"/>
                      </a:lnTo>
                      <a:lnTo>
                        <a:pt x="427" y="266"/>
                      </a:lnTo>
                      <a:lnTo>
                        <a:pt x="460" y="287"/>
                      </a:lnTo>
                      <a:lnTo>
                        <a:pt x="494" y="307"/>
                      </a:lnTo>
                      <a:lnTo>
                        <a:pt x="527" y="327"/>
                      </a:lnTo>
                      <a:lnTo>
                        <a:pt x="558" y="346"/>
                      </a:lnTo>
                      <a:lnTo>
                        <a:pt x="589" y="365"/>
                      </a:lnTo>
                      <a:lnTo>
                        <a:pt x="618" y="382"/>
                      </a:lnTo>
                      <a:lnTo>
                        <a:pt x="644" y="398"/>
                      </a:lnTo>
                      <a:lnTo>
                        <a:pt x="670" y="413"/>
                      </a:lnTo>
                      <a:lnTo>
                        <a:pt x="693" y="426"/>
                      </a:lnTo>
                      <a:lnTo>
                        <a:pt x="714" y="437"/>
                      </a:lnTo>
                      <a:lnTo>
                        <a:pt x="731" y="448"/>
                      </a:lnTo>
                      <a:lnTo>
                        <a:pt x="746" y="456"/>
                      </a:lnTo>
                      <a:lnTo>
                        <a:pt x="757" y="462"/>
                      </a:lnTo>
                      <a:lnTo>
                        <a:pt x="765" y="465"/>
                      </a:lnTo>
                      <a:lnTo>
                        <a:pt x="755" y="473"/>
                      </a:lnTo>
                      <a:lnTo>
                        <a:pt x="753" y="472"/>
                      </a:lnTo>
                      <a:lnTo>
                        <a:pt x="747" y="468"/>
                      </a:lnTo>
                      <a:lnTo>
                        <a:pt x="738" y="463"/>
                      </a:lnTo>
                      <a:lnTo>
                        <a:pt x="724" y="455"/>
                      </a:lnTo>
                      <a:lnTo>
                        <a:pt x="708" y="445"/>
                      </a:lnTo>
                      <a:lnTo>
                        <a:pt x="688" y="434"/>
                      </a:lnTo>
                      <a:lnTo>
                        <a:pt x="666" y="421"/>
                      </a:lnTo>
                      <a:lnTo>
                        <a:pt x="642" y="406"/>
                      </a:lnTo>
                      <a:lnTo>
                        <a:pt x="617" y="391"/>
                      </a:lnTo>
                      <a:lnTo>
                        <a:pt x="588" y="374"/>
                      </a:lnTo>
                      <a:lnTo>
                        <a:pt x="558" y="357"/>
                      </a:lnTo>
                      <a:lnTo>
                        <a:pt x="527" y="337"/>
                      </a:lnTo>
                      <a:lnTo>
                        <a:pt x="495" y="318"/>
                      </a:lnTo>
                      <a:lnTo>
                        <a:pt x="461" y="298"/>
                      </a:lnTo>
                      <a:lnTo>
                        <a:pt x="427" y="277"/>
                      </a:lnTo>
                      <a:lnTo>
                        <a:pt x="392" y="257"/>
                      </a:lnTo>
                      <a:lnTo>
                        <a:pt x="358" y="236"/>
                      </a:lnTo>
                      <a:lnTo>
                        <a:pt x="324" y="215"/>
                      </a:lnTo>
                      <a:lnTo>
                        <a:pt x="290" y="194"/>
                      </a:lnTo>
                      <a:lnTo>
                        <a:pt x="256" y="174"/>
                      </a:lnTo>
                      <a:lnTo>
                        <a:pt x="224" y="153"/>
                      </a:lnTo>
                      <a:lnTo>
                        <a:pt x="193" y="133"/>
                      </a:lnTo>
                      <a:lnTo>
                        <a:pt x="163" y="115"/>
                      </a:lnTo>
                      <a:lnTo>
                        <a:pt x="135" y="97"/>
                      </a:lnTo>
                      <a:lnTo>
                        <a:pt x="109" y="79"/>
                      </a:lnTo>
                      <a:lnTo>
                        <a:pt x="84" y="63"/>
                      </a:lnTo>
                      <a:lnTo>
                        <a:pt x="62" y="49"/>
                      </a:lnTo>
                      <a:lnTo>
                        <a:pt x="44" y="36"/>
                      </a:lnTo>
                      <a:lnTo>
                        <a:pt x="28" y="24"/>
                      </a:lnTo>
                      <a:lnTo>
                        <a:pt x="15" y="14"/>
                      </a:lnTo>
                      <a:lnTo>
                        <a:pt x="6" y="6"/>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5560200" y="5653080"/>
                  <a:ext cx="394200" cy="204840"/>
                </a:xfrm>
                <a:custGeom>
                  <a:avLst/>
                  <a:gdLst/>
                  <a:ahLst/>
                  <a:rect l="l" t="t" r="r" b="b"/>
                  <a:pathLst>
                    <a:path w="779" h="485">
                      <a:moveTo>
                        <a:pt x="0" y="0"/>
                      </a:moveTo>
                      <a:lnTo>
                        <a:pt x="3" y="1"/>
                      </a:lnTo>
                      <a:lnTo>
                        <a:pt x="8" y="5"/>
                      </a:lnTo>
                      <a:lnTo>
                        <a:pt x="18" y="12"/>
                      </a:lnTo>
                      <a:lnTo>
                        <a:pt x="31" y="20"/>
                      </a:lnTo>
                      <a:lnTo>
                        <a:pt x="48" y="30"/>
                      </a:lnTo>
                      <a:lnTo>
                        <a:pt x="66" y="41"/>
                      </a:lnTo>
                      <a:lnTo>
                        <a:pt x="88" y="55"/>
                      </a:lnTo>
                      <a:lnTo>
                        <a:pt x="112" y="71"/>
                      </a:lnTo>
                      <a:lnTo>
                        <a:pt x="139" y="88"/>
                      </a:lnTo>
                      <a:lnTo>
                        <a:pt x="167" y="106"/>
                      </a:lnTo>
                      <a:lnTo>
                        <a:pt x="197" y="124"/>
                      </a:lnTo>
                      <a:lnTo>
                        <a:pt x="230" y="144"/>
                      </a:lnTo>
                      <a:lnTo>
                        <a:pt x="262" y="165"/>
                      </a:lnTo>
                      <a:lnTo>
                        <a:pt x="295" y="187"/>
                      </a:lnTo>
                      <a:lnTo>
                        <a:pt x="330" y="207"/>
                      </a:lnTo>
                      <a:lnTo>
                        <a:pt x="365" y="229"/>
                      </a:lnTo>
                      <a:lnTo>
                        <a:pt x="400" y="251"/>
                      </a:lnTo>
                      <a:lnTo>
                        <a:pt x="435" y="273"/>
                      </a:lnTo>
                      <a:lnTo>
                        <a:pt x="469" y="295"/>
                      </a:lnTo>
                      <a:lnTo>
                        <a:pt x="504" y="316"/>
                      </a:lnTo>
                      <a:lnTo>
                        <a:pt x="537" y="336"/>
                      </a:lnTo>
                      <a:lnTo>
                        <a:pt x="570" y="356"/>
                      </a:lnTo>
                      <a:lnTo>
                        <a:pt x="600" y="374"/>
                      </a:lnTo>
                      <a:lnTo>
                        <a:pt x="630" y="392"/>
                      </a:lnTo>
                      <a:lnTo>
                        <a:pt x="657" y="409"/>
                      </a:lnTo>
                      <a:lnTo>
                        <a:pt x="683" y="424"/>
                      </a:lnTo>
                      <a:lnTo>
                        <a:pt x="706" y="438"/>
                      </a:lnTo>
                      <a:lnTo>
                        <a:pt x="726" y="449"/>
                      </a:lnTo>
                      <a:lnTo>
                        <a:pt x="745" y="459"/>
                      </a:lnTo>
                      <a:lnTo>
                        <a:pt x="760" y="468"/>
                      </a:lnTo>
                      <a:lnTo>
                        <a:pt x="771" y="473"/>
                      </a:lnTo>
                      <a:lnTo>
                        <a:pt x="779" y="477"/>
                      </a:lnTo>
                      <a:lnTo>
                        <a:pt x="769" y="485"/>
                      </a:lnTo>
                      <a:lnTo>
                        <a:pt x="767" y="484"/>
                      </a:lnTo>
                      <a:lnTo>
                        <a:pt x="761" y="480"/>
                      </a:lnTo>
                      <a:lnTo>
                        <a:pt x="751" y="474"/>
                      </a:lnTo>
                      <a:lnTo>
                        <a:pt x="738" y="466"/>
                      </a:lnTo>
                      <a:lnTo>
                        <a:pt x="721" y="456"/>
                      </a:lnTo>
                      <a:lnTo>
                        <a:pt x="701" y="444"/>
                      </a:lnTo>
                      <a:lnTo>
                        <a:pt x="679" y="432"/>
                      </a:lnTo>
                      <a:lnTo>
                        <a:pt x="655" y="417"/>
                      </a:lnTo>
                      <a:lnTo>
                        <a:pt x="627" y="401"/>
                      </a:lnTo>
                      <a:lnTo>
                        <a:pt x="598" y="383"/>
                      </a:lnTo>
                      <a:lnTo>
                        <a:pt x="568" y="365"/>
                      </a:lnTo>
                      <a:lnTo>
                        <a:pt x="536" y="345"/>
                      </a:lnTo>
                      <a:lnTo>
                        <a:pt x="503" y="326"/>
                      </a:lnTo>
                      <a:lnTo>
                        <a:pt x="469" y="305"/>
                      </a:lnTo>
                      <a:lnTo>
                        <a:pt x="435" y="284"/>
                      </a:lnTo>
                      <a:lnTo>
                        <a:pt x="399" y="263"/>
                      </a:lnTo>
                      <a:lnTo>
                        <a:pt x="365" y="241"/>
                      </a:lnTo>
                      <a:lnTo>
                        <a:pt x="329" y="220"/>
                      </a:lnTo>
                      <a:lnTo>
                        <a:pt x="294" y="198"/>
                      </a:lnTo>
                      <a:lnTo>
                        <a:pt x="261" y="177"/>
                      </a:lnTo>
                      <a:lnTo>
                        <a:pt x="227" y="157"/>
                      </a:lnTo>
                      <a:lnTo>
                        <a:pt x="196" y="136"/>
                      </a:lnTo>
                      <a:lnTo>
                        <a:pt x="165" y="117"/>
                      </a:lnTo>
                      <a:lnTo>
                        <a:pt x="137" y="99"/>
                      </a:lnTo>
                      <a:lnTo>
                        <a:pt x="110" y="81"/>
                      </a:lnTo>
                      <a:lnTo>
                        <a:pt x="86" y="64"/>
                      </a:lnTo>
                      <a:lnTo>
                        <a:pt x="64" y="50"/>
                      </a:lnTo>
                      <a:lnTo>
                        <a:pt x="44" y="37"/>
                      </a:lnTo>
                      <a:lnTo>
                        <a:pt x="28" y="24"/>
                      </a:lnTo>
                      <a:lnTo>
                        <a:pt x="15" y="14"/>
                      </a:lnTo>
                      <a:lnTo>
                        <a:pt x="6" y="6"/>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5529600" y="5662440"/>
                  <a:ext cx="401400" cy="210600"/>
                </a:xfrm>
                <a:custGeom>
                  <a:avLst/>
                  <a:gdLst/>
                  <a:ahLst/>
                  <a:rect l="l" t="t" r="r" b="b"/>
                  <a:pathLst>
                    <a:path w="793" h="499">
                      <a:moveTo>
                        <a:pt x="0" y="0"/>
                      </a:moveTo>
                      <a:lnTo>
                        <a:pt x="3" y="1"/>
                      </a:lnTo>
                      <a:lnTo>
                        <a:pt x="8" y="6"/>
                      </a:lnTo>
                      <a:lnTo>
                        <a:pt x="19" y="12"/>
                      </a:lnTo>
                      <a:lnTo>
                        <a:pt x="32" y="20"/>
                      </a:lnTo>
                      <a:lnTo>
                        <a:pt x="49" y="31"/>
                      </a:lnTo>
                      <a:lnTo>
                        <a:pt x="68" y="43"/>
                      </a:lnTo>
                      <a:lnTo>
                        <a:pt x="90" y="58"/>
                      </a:lnTo>
                      <a:lnTo>
                        <a:pt x="115" y="73"/>
                      </a:lnTo>
                      <a:lnTo>
                        <a:pt x="142" y="90"/>
                      </a:lnTo>
                      <a:lnTo>
                        <a:pt x="171" y="108"/>
                      </a:lnTo>
                      <a:lnTo>
                        <a:pt x="202" y="128"/>
                      </a:lnTo>
                      <a:lnTo>
                        <a:pt x="234" y="149"/>
                      </a:lnTo>
                      <a:lnTo>
                        <a:pt x="268" y="169"/>
                      </a:lnTo>
                      <a:lnTo>
                        <a:pt x="301" y="191"/>
                      </a:lnTo>
                      <a:lnTo>
                        <a:pt x="337" y="213"/>
                      </a:lnTo>
                      <a:lnTo>
                        <a:pt x="373" y="235"/>
                      </a:lnTo>
                      <a:lnTo>
                        <a:pt x="408" y="258"/>
                      </a:lnTo>
                      <a:lnTo>
                        <a:pt x="443" y="280"/>
                      </a:lnTo>
                      <a:lnTo>
                        <a:pt x="479" y="302"/>
                      </a:lnTo>
                      <a:lnTo>
                        <a:pt x="513" y="324"/>
                      </a:lnTo>
                      <a:lnTo>
                        <a:pt x="548" y="344"/>
                      </a:lnTo>
                      <a:lnTo>
                        <a:pt x="580" y="365"/>
                      </a:lnTo>
                      <a:lnTo>
                        <a:pt x="612" y="385"/>
                      </a:lnTo>
                      <a:lnTo>
                        <a:pt x="641" y="403"/>
                      </a:lnTo>
                      <a:lnTo>
                        <a:pt x="670" y="420"/>
                      </a:lnTo>
                      <a:lnTo>
                        <a:pt x="695" y="435"/>
                      </a:lnTo>
                      <a:lnTo>
                        <a:pt x="720" y="449"/>
                      </a:lnTo>
                      <a:lnTo>
                        <a:pt x="740" y="462"/>
                      </a:lnTo>
                      <a:lnTo>
                        <a:pt x="759" y="472"/>
                      </a:lnTo>
                      <a:lnTo>
                        <a:pt x="774" y="480"/>
                      </a:lnTo>
                      <a:lnTo>
                        <a:pt x="785" y="487"/>
                      </a:lnTo>
                      <a:lnTo>
                        <a:pt x="793" y="491"/>
                      </a:lnTo>
                      <a:lnTo>
                        <a:pt x="783" y="499"/>
                      </a:lnTo>
                      <a:lnTo>
                        <a:pt x="781" y="497"/>
                      </a:lnTo>
                      <a:lnTo>
                        <a:pt x="775" y="494"/>
                      </a:lnTo>
                      <a:lnTo>
                        <a:pt x="764" y="487"/>
                      </a:lnTo>
                      <a:lnTo>
                        <a:pt x="751" y="479"/>
                      </a:lnTo>
                      <a:lnTo>
                        <a:pt x="735" y="469"/>
                      </a:lnTo>
                      <a:lnTo>
                        <a:pt x="714" y="457"/>
                      </a:lnTo>
                      <a:lnTo>
                        <a:pt x="692" y="443"/>
                      </a:lnTo>
                      <a:lnTo>
                        <a:pt x="667" y="428"/>
                      </a:lnTo>
                      <a:lnTo>
                        <a:pt x="639" y="412"/>
                      </a:lnTo>
                      <a:lnTo>
                        <a:pt x="609" y="394"/>
                      </a:lnTo>
                      <a:lnTo>
                        <a:pt x="578" y="375"/>
                      </a:lnTo>
                      <a:lnTo>
                        <a:pt x="546" y="355"/>
                      </a:lnTo>
                      <a:lnTo>
                        <a:pt x="512" y="334"/>
                      </a:lnTo>
                      <a:lnTo>
                        <a:pt x="478" y="313"/>
                      </a:lnTo>
                      <a:lnTo>
                        <a:pt x="442" y="291"/>
                      </a:lnTo>
                      <a:lnTo>
                        <a:pt x="406" y="269"/>
                      </a:lnTo>
                      <a:lnTo>
                        <a:pt x="370" y="248"/>
                      </a:lnTo>
                      <a:lnTo>
                        <a:pt x="335" y="226"/>
                      </a:lnTo>
                      <a:lnTo>
                        <a:pt x="300" y="204"/>
                      </a:lnTo>
                      <a:lnTo>
                        <a:pt x="265" y="182"/>
                      </a:lnTo>
                      <a:lnTo>
                        <a:pt x="232" y="160"/>
                      </a:lnTo>
                      <a:lnTo>
                        <a:pt x="200" y="139"/>
                      </a:lnTo>
                      <a:lnTo>
                        <a:pt x="169" y="120"/>
                      </a:lnTo>
                      <a:lnTo>
                        <a:pt x="139" y="100"/>
                      </a:lnTo>
                      <a:lnTo>
                        <a:pt x="112" y="83"/>
                      </a:lnTo>
                      <a:lnTo>
                        <a:pt x="87" y="66"/>
                      </a:lnTo>
                      <a:lnTo>
                        <a:pt x="65" y="51"/>
                      </a:lnTo>
                      <a:lnTo>
                        <a:pt x="45" y="37"/>
                      </a:lnTo>
                      <a:lnTo>
                        <a:pt x="29" y="25"/>
                      </a:lnTo>
                      <a:lnTo>
                        <a:pt x="15" y="15"/>
                      </a:lnTo>
                      <a:lnTo>
                        <a:pt x="6" y="6"/>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5499360" y="5672520"/>
                  <a:ext cx="408240" cy="215640"/>
                </a:xfrm>
                <a:custGeom>
                  <a:avLst/>
                  <a:gdLst/>
                  <a:ahLst/>
                  <a:rect l="l" t="t" r="r" b="b"/>
                  <a:pathLst>
                    <a:path w="808" h="511">
                      <a:moveTo>
                        <a:pt x="0" y="0"/>
                      </a:moveTo>
                      <a:lnTo>
                        <a:pt x="3" y="1"/>
                      </a:lnTo>
                      <a:lnTo>
                        <a:pt x="9" y="6"/>
                      </a:lnTo>
                      <a:lnTo>
                        <a:pt x="19" y="12"/>
                      </a:lnTo>
                      <a:lnTo>
                        <a:pt x="33" y="21"/>
                      </a:lnTo>
                      <a:lnTo>
                        <a:pt x="49" y="31"/>
                      </a:lnTo>
                      <a:lnTo>
                        <a:pt x="70" y="44"/>
                      </a:lnTo>
                      <a:lnTo>
                        <a:pt x="92" y="59"/>
                      </a:lnTo>
                      <a:lnTo>
                        <a:pt x="117" y="75"/>
                      </a:lnTo>
                      <a:lnTo>
                        <a:pt x="145" y="93"/>
                      </a:lnTo>
                      <a:lnTo>
                        <a:pt x="175" y="112"/>
                      </a:lnTo>
                      <a:lnTo>
                        <a:pt x="206" y="131"/>
                      </a:lnTo>
                      <a:lnTo>
                        <a:pt x="239" y="152"/>
                      </a:lnTo>
                      <a:lnTo>
                        <a:pt x="272" y="174"/>
                      </a:lnTo>
                      <a:lnTo>
                        <a:pt x="307" y="197"/>
                      </a:lnTo>
                      <a:lnTo>
                        <a:pt x="343" y="219"/>
                      </a:lnTo>
                      <a:lnTo>
                        <a:pt x="380" y="242"/>
                      </a:lnTo>
                      <a:lnTo>
                        <a:pt x="415" y="265"/>
                      </a:lnTo>
                      <a:lnTo>
                        <a:pt x="452" y="288"/>
                      </a:lnTo>
                      <a:lnTo>
                        <a:pt x="488" y="311"/>
                      </a:lnTo>
                      <a:lnTo>
                        <a:pt x="524" y="333"/>
                      </a:lnTo>
                      <a:lnTo>
                        <a:pt x="558" y="355"/>
                      </a:lnTo>
                      <a:lnTo>
                        <a:pt x="592" y="375"/>
                      </a:lnTo>
                      <a:lnTo>
                        <a:pt x="624" y="395"/>
                      </a:lnTo>
                      <a:lnTo>
                        <a:pt x="654" y="413"/>
                      </a:lnTo>
                      <a:lnTo>
                        <a:pt x="683" y="432"/>
                      </a:lnTo>
                      <a:lnTo>
                        <a:pt x="709" y="448"/>
                      </a:lnTo>
                      <a:lnTo>
                        <a:pt x="733" y="462"/>
                      </a:lnTo>
                      <a:lnTo>
                        <a:pt x="754" y="474"/>
                      </a:lnTo>
                      <a:lnTo>
                        <a:pt x="773" y="485"/>
                      </a:lnTo>
                      <a:lnTo>
                        <a:pt x="789" y="493"/>
                      </a:lnTo>
                      <a:lnTo>
                        <a:pt x="800" y="500"/>
                      </a:lnTo>
                      <a:lnTo>
                        <a:pt x="808" y="503"/>
                      </a:lnTo>
                      <a:lnTo>
                        <a:pt x="797" y="511"/>
                      </a:lnTo>
                      <a:lnTo>
                        <a:pt x="795" y="510"/>
                      </a:lnTo>
                      <a:lnTo>
                        <a:pt x="789" y="507"/>
                      </a:lnTo>
                      <a:lnTo>
                        <a:pt x="778" y="500"/>
                      </a:lnTo>
                      <a:lnTo>
                        <a:pt x="765" y="492"/>
                      </a:lnTo>
                      <a:lnTo>
                        <a:pt x="747" y="481"/>
                      </a:lnTo>
                      <a:lnTo>
                        <a:pt x="727" y="469"/>
                      </a:lnTo>
                      <a:lnTo>
                        <a:pt x="703" y="455"/>
                      </a:lnTo>
                      <a:lnTo>
                        <a:pt x="678" y="439"/>
                      </a:lnTo>
                      <a:lnTo>
                        <a:pt x="650" y="423"/>
                      </a:lnTo>
                      <a:lnTo>
                        <a:pt x="620" y="404"/>
                      </a:lnTo>
                      <a:lnTo>
                        <a:pt x="588" y="385"/>
                      </a:lnTo>
                      <a:lnTo>
                        <a:pt x="555" y="364"/>
                      </a:lnTo>
                      <a:lnTo>
                        <a:pt x="521" y="343"/>
                      </a:lnTo>
                      <a:lnTo>
                        <a:pt x="486" y="321"/>
                      </a:lnTo>
                      <a:lnTo>
                        <a:pt x="450" y="299"/>
                      </a:lnTo>
                      <a:lnTo>
                        <a:pt x="413" y="276"/>
                      </a:lnTo>
                      <a:lnTo>
                        <a:pt x="377" y="253"/>
                      </a:lnTo>
                      <a:lnTo>
                        <a:pt x="340" y="232"/>
                      </a:lnTo>
                      <a:lnTo>
                        <a:pt x="305" y="208"/>
                      </a:lnTo>
                      <a:lnTo>
                        <a:pt x="270" y="187"/>
                      </a:lnTo>
                      <a:lnTo>
                        <a:pt x="236" y="165"/>
                      </a:lnTo>
                      <a:lnTo>
                        <a:pt x="202" y="143"/>
                      </a:lnTo>
                      <a:lnTo>
                        <a:pt x="171" y="123"/>
                      </a:lnTo>
                      <a:lnTo>
                        <a:pt x="141" y="104"/>
                      </a:lnTo>
                      <a:lnTo>
                        <a:pt x="113" y="85"/>
                      </a:lnTo>
                      <a:lnTo>
                        <a:pt x="88" y="68"/>
                      </a:lnTo>
                      <a:lnTo>
                        <a:pt x="66" y="52"/>
                      </a:lnTo>
                      <a:lnTo>
                        <a:pt x="45" y="38"/>
                      </a:lnTo>
                      <a:lnTo>
                        <a:pt x="29" y="25"/>
                      </a:lnTo>
                      <a:lnTo>
                        <a:pt x="15" y="15"/>
                      </a:lnTo>
                      <a:lnTo>
                        <a:pt x="6" y="6"/>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a:off x="5469120" y="5682960"/>
                  <a:ext cx="365760" cy="196200"/>
                </a:xfrm>
                <a:custGeom>
                  <a:avLst/>
                  <a:gdLst/>
                  <a:ahLst/>
                  <a:rect l="l" t="t" r="r" b="b"/>
                  <a:pathLst>
                    <a:path w="723" h="465">
                      <a:moveTo>
                        <a:pt x="0" y="0"/>
                      </a:moveTo>
                      <a:lnTo>
                        <a:pt x="2" y="1"/>
                      </a:lnTo>
                      <a:lnTo>
                        <a:pt x="8" y="6"/>
                      </a:lnTo>
                      <a:lnTo>
                        <a:pt x="18" y="12"/>
                      </a:lnTo>
                      <a:lnTo>
                        <a:pt x="32" y="21"/>
                      </a:lnTo>
                      <a:lnTo>
                        <a:pt x="49" y="32"/>
                      </a:lnTo>
                      <a:lnTo>
                        <a:pt x="69" y="45"/>
                      </a:lnTo>
                      <a:lnTo>
                        <a:pt x="92" y="60"/>
                      </a:lnTo>
                      <a:lnTo>
                        <a:pt x="117" y="76"/>
                      </a:lnTo>
                      <a:lnTo>
                        <a:pt x="145" y="94"/>
                      </a:lnTo>
                      <a:lnTo>
                        <a:pt x="174" y="113"/>
                      </a:lnTo>
                      <a:lnTo>
                        <a:pt x="205" y="133"/>
                      </a:lnTo>
                      <a:lnTo>
                        <a:pt x="237" y="153"/>
                      </a:lnTo>
                      <a:lnTo>
                        <a:pt x="270" y="175"/>
                      </a:lnTo>
                      <a:lnTo>
                        <a:pt x="304" y="197"/>
                      </a:lnTo>
                      <a:lnTo>
                        <a:pt x="338" y="219"/>
                      </a:lnTo>
                      <a:lnTo>
                        <a:pt x="373" y="241"/>
                      </a:lnTo>
                      <a:lnTo>
                        <a:pt x="408" y="263"/>
                      </a:lnTo>
                      <a:lnTo>
                        <a:pt x="442" y="285"/>
                      </a:lnTo>
                      <a:lnTo>
                        <a:pt x="476" y="307"/>
                      </a:lnTo>
                      <a:lnTo>
                        <a:pt x="508" y="327"/>
                      </a:lnTo>
                      <a:lnTo>
                        <a:pt x="539" y="347"/>
                      </a:lnTo>
                      <a:lnTo>
                        <a:pt x="569" y="365"/>
                      </a:lnTo>
                      <a:lnTo>
                        <a:pt x="597" y="384"/>
                      </a:lnTo>
                      <a:lnTo>
                        <a:pt x="623" y="400"/>
                      </a:lnTo>
                      <a:lnTo>
                        <a:pt x="646" y="415"/>
                      </a:lnTo>
                      <a:lnTo>
                        <a:pt x="668" y="427"/>
                      </a:lnTo>
                      <a:lnTo>
                        <a:pt x="685" y="438"/>
                      </a:lnTo>
                      <a:lnTo>
                        <a:pt x="700" y="447"/>
                      </a:lnTo>
                      <a:lnTo>
                        <a:pt x="712" y="454"/>
                      </a:lnTo>
                      <a:lnTo>
                        <a:pt x="720" y="457"/>
                      </a:lnTo>
                      <a:lnTo>
                        <a:pt x="723" y="459"/>
                      </a:lnTo>
                      <a:lnTo>
                        <a:pt x="722" y="457"/>
                      </a:lnTo>
                      <a:lnTo>
                        <a:pt x="712" y="465"/>
                      </a:lnTo>
                      <a:lnTo>
                        <a:pt x="704" y="461"/>
                      </a:lnTo>
                      <a:lnTo>
                        <a:pt x="683" y="448"/>
                      </a:lnTo>
                      <a:lnTo>
                        <a:pt x="650" y="427"/>
                      </a:lnTo>
                      <a:lnTo>
                        <a:pt x="606" y="400"/>
                      </a:lnTo>
                      <a:lnTo>
                        <a:pt x="555" y="369"/>
                      </a:lnTo>
                      <a:lnTo>
                        <a:pt x="497" y="333"/>
                      </a:lnTo>
                      <a:lnTo>
                        <a:pt x="435" y="294"/>
                      </a:lnTo>
                      <a:lnTo>
                        <a:pt x="371" y="254"/>
                      </a:lnTo>
                      <a:lnTo>
                        <a:pt x="306" y="212"/>
                      </a:lnTo>
                      <a:lnTo>
                        <a:pt x="243" y="171"/>
                      </a:lnTo>
                      <a:lnTo>
                        <a:pt x="183" y="133"/>
                      </a:lnTo>
                      <a:lnTo>
                        <a:pt x="127" y="96"/>
                      </a:lnTo>
                      <a:lnTo>
                        <a:pt x="80" y="64"/>
                      </a:lnTo>
                      <a:lnTo>
                        <a:pt x="42" y="36"/>
                      </a:lnTo>
                      <a:lnTo>
                        <a:pt x="15" y="14"/>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5408640" y="5702400"/>
                  <a:ext cx="429480" cy="232560"/>
                </a:xfrm>
                <a:custGeom>
                  <a:avLst/>
                  <a:gdLst/>
                  <a:ahLst/>
                  <a:rect l="l" t="t" r="r" b="b"/>
                  <a:pathLst>
                    <a:path w="849" h="550">
                      <a:moveTo>
                        <a:pt x="0" y="0"/>
                      </a:moveTo>
                      <a:lnTo>
                        <a:pt x="2" y="2"/>
                      </a:lnTo>
                      <a:lnTo>
                        <a:pt x="9" y="6"/>
                      </a:lnTo>
                      <a:lnTo>
                        <a:pt x="19" y="13"/>
                      </a:lnTo>
                      <a:lnTo>
                        <a:pt x="33" y="22"/>
                      </a:lnTo>
                      <a:lnTo>
                        <a:pt x="52" y="34"/>
                      </a:lnTo>
                      <a:lnTo>
                        <a:pt x="72" y="48"/>
                      </a:lnTo>
                      <a:lnTo>
                        <a:pt x="97" y="64"/>
                      </a:lnTo>
                      <a:lnTo>
                        <a:pt x="123" y="81"/>
                      </a:lnTo>
                      <a:lnTo>
                        <a:pt x="152" y="101"/>
                      </a:lnTo>
                      <a:lnTo>
                        <a:pt x="183" y="121"/>
                      </a:lnTo>
                      <a:lnTo>
                        <a:pt x="216" y="142"/>
                      </a:lnTo>
                      <a:lnTo>
                        <a:pt x="251" y="165"/>
                      </a:lnTo>
                      <a:lnTo>
                        <a:pt x="287" y="188"/>
                      </a:lnTo>
                      <a:lnTo>
                        <a:pt x="324" y="212"/>
                      </a:lnTo>
                      <a:lnTo>
                        <a:pt x="362" y="237"/>
                      </a:lnTo>
                      <a:lnTo>
                        <a:pt x="400" y="262"/>
                      </a:lnTo>
                      <a:lnTo>
                        <a:pt x="438" y="286"/>
                      </a:lnTo>
                      <a:lnTo>
                        <a:pt x="476" y="311"/>
                      </a:lnTo>
                      <a:lnTo>
                        <a:pt x="514" y="336"/>
                      </a:lnTo>
                      <a:lnTo>
                        <a:pt x="551" y="360"/>
                      </a:lnTo>
                      <a:lnTo>
                        <a:pt x="587" y="383"/>
                      </a:lnTo>
                      <a:lnTo>
                        <a:pt x="622" y="405"/>
                      </a:lnTo>
                      <a:lnTo>
                        <a:pt x="657" y="427"/>
                      </a:lnTo>
                      <a:lnTo>
                        <a:pt x="688" y="446"/>
                      </a:lnTo>
                      <a:lnTo>
                        <a:pt x="718" y="466"/>
                      </a:lnTo>
                      <a:lnTo>
                        <a:pt x="745" y="482"/>
                      </a:lnTo>
                      <a:lnTo>
                        <a:pt x="771" y="498"/>
                      </a:lnTo>
                      <a:lnTo>
                        <a:pt x="794" y="511"/>
                      </a:lnTo>
                      <a:lnTo>
                        <a:pt x="812" y="522"/>
                      </a:lnTo>
                      <a:lnTo>
                        <a:pt x="828" y="531"/>
                      </a:lnTo>
                      <a:lnTo>
                        <a:pt x="841" y="538"/>
                      </a:lnTo>
                      <a:lnTo>
                        <a:pt x="849" y="542"/>
                      </a:lnTo>
                      <a:lnTo>
                        <a:pt x="838" y="550"/>
                      </a:lnTo>
                      <a:lnTo>
                        <a:pt x="835" y="549"/>
                      </a:lnTo>
                      <a:lnTo>
                        <a:pt x="828" y="544"/>
                      </a:lnTo>
                      <a:lnTo>
                        <a:pt x="818" y="537"/>
                      </a:lnTo>
                      <a:lnTo>
                        <a:pt x="803" y="528"/>
                      </a:lnTo>
                      <a:lnTo>
                        <a:pt x="785" y="517"/>
                      </a:lnTo>
                      <a:lnTo>
                        <a:pt x="764" y="504"/>
                      </a:lnTo>
                      <a:lnTo>
                        <a:pt x="740" y="489"/>
                      </a:lnTo>
                      <a:lnTo>
                        <a:pt x="712" y="471"/>
                      </a:lnTo>
                      <a:lnTo>
                        <a:pt x="683" y="453"/>
                      </a:lnTo>
                      <a:lnTo>
                        <a:pt x="651" y="433"/>
                      </a:lnTo>
                      <a:lnTo>
                        <a:pt x="617" y="413"/>
                      </a:lnTo>
                      <a:lnTo>
                        <a:pt x="583" y="390"/>
                      </a:lnTo>
                      <a:lnTo>
                        <a:pt x="547" y="368"/>
                      </a:lnTo>
                      <a:lnTo>
                        <a:pt x="510" y="344"/>
                      </a:lnTo>
                      <a:lnTo>
                        <a:pt x="472" y="319"/>
                      </a:lnTo>
                      <a:lnTo>
                        <a:pt x="434" y="295"/>
                      </a:lnTo>
                      <a:lnTo>
                        <a:pt x="395" y="271"/>
                      </a:lnTo>
                      <a:lnTo>
                        <a:pt x="357" y="247"/>
                      </a:lnTo>
                      <a:lnTo>
                        <a:pt x="320" y="222"/>
                      </a:lnTo>
                      <a:lnTo>
                        <a:pt x="282" y="199"/>
                      </a:lnTo>
                      <a:lnTo>
                        <a:pt x="246" y="174"/>
                      </a:lnTo>
                      <a:lnTo>
                        <a:pt x="212" y="151"/>
                      </a:lnTo>
                      <a:lnTo>
                        <a:pt x="178" y="129"/>
                      </a:lnTo>
                      <a:lnTo>
                        <a:pt x="147" y="109"/>
                      </a:lnTo>
                      <a:lnTo>
                        <a:pt x="118" y="89"/>
                      </a:lnTo>
                      <a:lnTo>
                        <a:pt x="92" y="71"/>
                      </a:lnTo>
                      <a:lnTo>
                        <a:pt x="68" y="55"/>
                      </a:lnTo>
                      <a:lnTo>
                        <a:pt x="47" y="40"/>
                      </a:lnTo>
                      <a:lnTo>
                        <a:pt x="30" y="27"/>
                      </a:lnTo>
                      <a:lnTo>
                        <a:pt x="16" y="15"/>
                      </a:lnTo>
                      <a:lnTo>
                        <a:pt x="5" y="7"/>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5378040" y="5712480"/>
                  <a:ext cx="436680" cy="237600"/>
                </a:xfrm>
                <a:custGeom>
                  <a:avLst/>
                  <a:gdLst/>
                  <a:ahLst/>
                  <a:rect l="l" t="t" r="r" b="b"/>
                  <a:pathLst>
                    <a:path w="863" h="564">
                      <a:moveTo>
                        <a:pt x="0" y="0"/>
                      </a:moveTo>
                      <a:lnTo>
                        <a:pt x="2" y="2"/>
                      </a:lnTo>
                      <a:lnTo>
                        <a:pt x="9" y="6"/>
                      </a:lnTo>
                      <a:lnTo>
                        <a:pt x="19" y="13"/>
                      </a:lnTo>
                      <a:lnTo>
                        <a:pt x="34" y="24"/>
                      </a:lnTo>
                      <a:lnTo>
                        <a:pt x="53" y="35"/>
                      </a:lnTo>
                      <a:lnTo>
                        <a:pt x="74" y="50"/>
                      </a:lnTo>
                      <a:lnTo>
                        <a:pt x="98" y="66"/>
                      </a:lnTo>
                      <a:lnTo>
                        <a:pt x="125" y="83"/>
                      </a:lnTo>
                      <a:lnTo>
                        <a:pt x="155" y="103"/>
                      </a:lnTo>
                      <a:lnTo>
                        <a:pt x="186" y="124"/>
                      </a:lnTo>
                      <a:lnTo>
                        <a:pt x="220" y="146"/>
                      </a:lnTo>
                      <a:lnTo>
                        <a:pt x="256" y="169"/>
                      </a:lnTo>
                      <a:lnTo>
                        <a:pt x="291" y="193"/>
                      </a:lnTo>
                      <a:lnTo>
                        <a:pt x="329" y="218"/>
                      </a:lnTo>
                      <a:lnTo>
                        <a:pt x="367" y="242"/>
                      </a:lnTo>
                      <a:lnTo>
                        <a:pt x="407" y="268"/>
                      </a:lnTo>
                      <a:lnTo>
                        <a:pt x="446" y="293"/>
                      </a:lnTo>
                      <a:lnTo>
                        <a:pt x="484" y="318"/>
                      </a:lnTo>
                      <a:lnTo>
                        <a:pt x="523" y="344"/>
                      </a:lnTo>
                      <a:lnTo>
                        <a:pt x="561" y="368"/>
                      </a:lnTo>
                      <a:lnTo>
                        <a:pt x="598" y="392"/>
                      </a:lnTo>
                      <a:lnTo>
                        <a:pt x="634" y="415"/>
                      </a:lnTo>
                      <a:lnTo>
                        <a:pt x="667" y="437"/>
                      </a:lnTo>
                      <a:lnTo>
                        <a:pt x="700" y="458"/>
                      </a:lnTo>
                      <a:lnTo>
                        <a:pt x="730" y="476"/>
                      </a:lnTo>
                      <a:lnTo>
                        <a:pt x="758" y="493"/>
                      </a:lnTo>
                      <a:lnTo>
                        <a:pt x="785" y="509"/>
                      </a:lnTo>
                      <a:lnTo>
                        <a:pt x="806" y="523"/>
                      </a:lnTo>
                      <a:lnTo>
                        <a:pt x="826" y="535"/>
                      </a:lnTo>
                      <a:lnTo>
                        <a:pt x="842" y="544"/>
                      </a:lnTo>
                      <a:lnTo>
                        <a:pt x="855" y="551"/>
                      </a:lnTo>
                      <a:lnTo>
                        <a:pt x="863" y="554"/>
                      </a:lnTo>
                      <a:lnTo>
                        <a:pt x="851" y="564"/>
                      </a:lnTo>
                      <a:lnTo>
                        <a:pt x="849" y="562"/>
                      </a:lnTo>
                      <a:lnTo>
                        <a:pt x="842" y="558"/>
                      </a:lnTo>
                      <a:lnTo>
                        <a:pt x="832" y="551"/>
                      </a:lnTo>
                      <a:lnTo>
                        <a:pt x="817" y="542"/>
                      </a:lnTo>
                      <a:lnTo>
                        <a:pt x="798" y="530"/>
                      </a:lnTo>
                      <a:lnTo>
                        <a:pt x="777" y="516"/>
                      </a:lnTo>
                      <a:lnTo>
                        <a:pt x="751" y="500"/>
                      </a:lnTo>
                      <a:lnTo>
                        <a:pt x="724" y="483"/>
                      </a:lnTo>
                      <a:lnTo>
                        <a:pt x="694" y="465"/>
                      </a:lnTo>
                      <a:lnTo>
                        <a:pt x="662" y="444"/>
                      </a:lnTo>
                      <a:lnTo>
                        <a:pt x="628" y="423"/>
                      </a:lnTo>
                      <a:lnTo>
                        <a:pt x="592" y="400"/>
                      </a:lnTo>
                      <a:lnTo>
                        <a:pt x="555" y="377"/>
                      </a:lnTo>
                      <a:lnTo>
                        <a:pt x="518" y="353"/>
                      </a:lnTo>
                      <a:lnTo>
                        <a:pt x="479" y="328"/>
                      </a:lnTo>
                      <a:lnTo>
                        <a:pt x="441" y="302"/>
                      </a:lnTo>
                      <a:lnTo>
                        <a:pt x="402" y="278"/>
                      </a:lnTo>
                      <a:lnTo>
                        <a:pt x="363" y="253"/>
                      </a:lnTo>
                      <a:lnTo>
                        <a:pt x="325" y="227"/>
                      </a:lnTo>
                      <a:lnTo>
                        <a:pt x="287" y="203"/>
                      </a:lnTo>
                      <a:lnTo>
                        <a:pt x="250" y="179"/>
                      </a:lnTo>
                      <a:lnTo>
                        <a:pt x="215" y="156"/>
                      </a:lnTo>
                      <a:lnTo>
                        <a:pt x="182" y="133"/>
                      </a:lnTo>
                      <a:lnTo>
                        <a:pt x="150" y="112"/>
                      </a:lnTo>
                      <a:lnTo>
                        <a:pt x="121" y="91"/>
                      </a:lnTo>
                      <a:lnTo>
                        <a:pt x="93" y="73"/>
                      </a:lnTo>
                      <a:lnTo>
                        <a:pt x="69" y="56"/>
                      </a:lnTo>
                      <a:lnTo>
                        <a:pt x="48" y="41"/>
                      </a:lnTo>
                      <a:lnTo>
                        <a:pt x="30" y="27"/>
                      </a:lnTo>
                      <a:lnTo>
                        <a:pt x="16" y="15"/>
                      </a:lnTo>
                      <a:lnTo>
                        <a:pt x="6" y="7"/>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5347800" y="5722560"/>
                  <a:ext cx="412560" cy="227520"/>
                </a:xfrm>
                <a:custGeom>
                  <a:avLst/>
                  <a:gdLst/>
                  <a:ahLst/>
                  <a:rect l="l" t="t" r="r" b="b"/>
                  <a:pathLst>
                    <a:path w="816" h="539">
                      <a:moveTo>
                        <a:pt x="0" y="0"/>
                      </a:moveTo>
                      <a:lnTo>
                        <a:pt x="2" y="1"/>
                      </a:lnTo>
                      <a:lnTo>
                        <a:pt x="9" y="5"/>
                      </a:lnTo>
                      <a:lnTo>
                        <a:pt x="19" y="13"/>
                      </a:lnTo>
                      <a:lnTo>
                        <a:pt x="34" y="23"/>
                      </a:lnTo>
                      <a:lnTo>
                        <a:pt x="53" y="35"/>
                      </a:lnTo>
                      <a:lnTo>
                        <a:pt x="75" y="49"/>
                      </a:lnTo>
                      <a:lnTo>
                        <a:pt x="99" y="66"/>
                      </a:lnTo>
                      <a:lnTo>
                        <a:pt x="127" y="84"/>
                      </a:lnTo>
                      <a:lnTo>
                        <a:pt x="157" y="103"/>
                      </a:lnTo>
                      <a:lnTo>
                        <a:pt x="188" y="125"/>
                      </a:lnTo>
                      <a:lnTo>
                        <a:pt x="221" y="147"/>
                      </a:lnTo>
                      <a:lnTo>
                        <a:pt x="257" y="170"/>
                      </a:lnTo>
                      <a:lnTo>
                        <a:pt x="293" y="194"/>
                      </a:lnTo>
                      <a:lnTo>
                        <a:pt x="329" y="218"/>
                      </a:lnTo>
                      <a:lnTo>
                        <a:pt x="367" y="244"/>
                      </a:lnTo>
                      <a:lnTo>
                        <a:pt x="406" y="269"/>
                      </a:lnTo>
                      <a:lnTo>
                        <a:pt x="444" y="294"/>
                      </a:lnTo>
                      <a:lnTo>
                        <a:pt x="482" y="319"/>
                      </a:lnTo>
                      <a:lnTo>
                        <a:pt x="518" y="343"/>
                      </a:lnTo>
                      <a:lnTo>
                        <a:pt x="555" y="367"/>
                      </a:lnTo>
                      <a:lnTo>
                        <a:pt x="590" y="390"/>
                      </a:lnTo>
                      <a:lnTo>
                        <a:pt x="624" y="412"/>
                      </a:lnTo>
                      <a:lnTo>
                        <a:pt x="656" y="433"/>
                      </a:lnTo>
                      <a:lnTo>
                        <a:pt x="686" y="452"/>
                      </a:lnTo>
                      <a:lnTo>
                        <a:pt x="713" y="469"/>
                      </a:lnTo>
                      <a:lnTo>
                        <a:pt x="739" y="486"/>
                      </a:lnTo>
                      <a:lnTo>
                        <a:pt x="760" y="499"/>
                      </a:lnTo>
                      <a:lnTo>
                        <a:pt x="779" y="511"/>
                      </a:lnTo>
                      <a:lnTo>
                        <a:pt x="794" y="520"/>
                      </a:lnTo>
                      <a:lnTo>
                        <a:pt x="805" y="526"/>
                      </a:lnTo>
                      <a:lnTo>
                        <a:pt x="813" y="529"/>
                      </a:lnTo>
                      <a:lnTo>
                        <a:pt x="816" y="530"/>
                      </a:lnTo>
                      <a:lnTo>
                        <a:pt x="805" y="539"/>
                      </a:lnTo>
                      <a:lnTo>
                        <a:pt x="803" y="537"/>
                      </a:lnTo>
                      <a:lnTo>
                        <a:pt x="797" y="533"/>
                      </a:lnTo>
                      <a:lnTo>
                        <a:pt x="787" y="527"/>
                      </a:lnTo>
                      <a:lnTo>
                        <a:pt x="772" y="518"/>
                      </a:lnTo>
                      <a:lnTo>
                        <a:pt x="755" y="506"/>
                      </a:lnTo>
                      <a:lnTo>
                        <a:pt x="734" y="494"/>
                      </a:lnTo>
                      <a:lnTo>
                        <a:pt x="711" y="479"/>
                      </a:lnTo>
                      <a:lnTo>
                        <a:pt x="686" y="461"/>
                      </a:lnTo>
                      <a:lnTo>
                        <a:pt x="657" y="444"/>
                      </a:lnTo>
                      <a:lnTo>
                        <a:pt x="627" y="425"/>
                      </a:lnTo>
                      <a:lnTo>
                        <a:pt x="595" y="404"/>
                      </a:lnTo>
                      <a:lnTo>
                        <a:pt x="561" y="382"/>
                      </a:lnTo>
                      <a:lnTo>
                        <a:pt x="527" y="360"/>
                      </a:lnTo>
                      <a:lnTo>
                        <a:pt x="491" y="337"/>
                      </a:lnTo>
                      <a:lnTo>
                        <a:pt x="454" y="313"/>
                      </a:lnTo>
                      <a:lnTo>
                        <a:pt x="418" y="290"/>
                      </a:lnTo>
                      <a:lnTo>
                        <a:pt x="381" y="266"/>
                      </a:lnTo>
                      <a:lnTo>
                        <a:pt x="344" y="241"/>
                      </a:lnTo>
                      <a:lnTo>
                        <a:pt x="308" y="217"/>
                      </a:lnTo>
                      <a:lnTo>
                        <a:pt x="273" y="194"/>
                      </a:lnTo>
                      <a:lnTo>
                        <a:pt x="238" y="171"/>
                      </a:lnTo>
                      <a:lnTo>
                        <a:pt x="205" y="148"/>
                      </a:lnTo>
                      <a:lnTo>
                        <a:pt x="173" y="127"/>
                      </a:lnTo>
                      <a:lnTo>
                        <a:pt x="143" y="107"/>
                      </a:lnTo>
                      <a:lnTo>
                        <a:pt x="115" y="87"/>
                      </a:lnTo>
                      <a:lnTo>
                        <a:pt x="90" y="70"/>
                      </a:lnTo>
                      <a:lnTo>
                        <a:pt x="67" y="53"/>
                      </a:lnTo>
                      <a:lnTo>
                        <a:pt x="46" y="39"/>
                      </a:lnTo>
                      <a:lnTo>
                        <a:pt x="29" y="25"/>
                      </a:lnTo>
                      <a:lnTo>
                        <a:pt x="16" y="15"/>
                      </a:lnTo>
                      <a:lnTo>
                        <a:pt x="6" y="5"/>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5277960" y="5755680"/>
                  <a:ext cx="107280" cy="66600"/>
                </a:xfrm>
                <a:custGeom>
                  <a:avLst/>
                  <a:gdLst/>
                  <a:ahLst/>
                  <a:rect l="l" t="t" r="r" b="b"/>
                  <a:pathLst>
                    <a:path w="212" h="159">
                      <a:moveTo>
                        <a:pt x="0" y="0"/>
                      </a:moveTo>
                      <a:lnTo>
                        <a:pt x="1" y="1"/>
                      </a:lnTo>
                      <a:lnTo>
                        <a:pt x="6" y="5"/>
                      </a:lnTo>
                      <a:lnTo>
                        <a:pt x="13" y="11"/>
                      </a:lnTo>
                      <a:lnTo>
                        <a:pt x="24" y="18"/>
                      </a:lnTo>
                      <a:lnTo>
                        <a:pt x="36" y="29"/>
                      </a:lnTo>
                      <a:lnTo>
                        <a:pt x="50" y="39"/>
                      </a:lnTo>
                      <a:lnTo>
                        <a:pt x="65" y="51"/>
                      </a:lnTo>
                      <a:lnTo>
                        <a:pt x="83" y="63"/>
                      </a:lnTo>
                      <a:lnTo>
                        <a:pt x="100" y="76"/>
                      </a:lnTo>
                      <a:lnTo>
                        <a:pt x="117" y="89"/>
                      </a:lnTo>
                      <a:lnTo>
                        <a:pt x="134" y="101"/>
                      </a:lnTo>
                      <a:lnTo>
                        <a:pt x="152" y="114"/>
                      </a:lnTo>
                      <a:lnTo>
                        <a:pt x="169" y="125"/>
                      </a:lnTo>
                      <a:lnTo>
                        <a:pt x="185" y="136"/>
                      </a:lnTo>
                      <a:lnTo>
                        <a:pt x="199" y="145"/>
                      </a:lnTo>
                      <a:lnTo>
                        <a:pt x="212" y="152"/>
                      </a:lnTo>
                      <a:lnTo>
                        <a:pt x="200" y="159"/>
                      </a:lnTo>
                      <a:lnTo>
                        <a:pt x="198" y="158"/>
                      </a:lnTo>
                      <a:lnTo>
                        <a:pt x="193" y="154"/>
                      </a:lnTo>
                      <a:lnTo>
                        <a:pt x="184" y="150"/>
                      </a:lnTo>
                      <a:lnTo>
                        <a:pt x="174" y="143"/>
                      </a:lnTo>
                      <a:lnTo>
                        <a:pt x="160" y="134"/>
                      </a:lnTo>
                      <a:lnTo>
                        <a:pt x="145" y="124"/>
                      </a:lnTo>
                      <a:lnTo>
                        <a:pt x="129" y="113"/>
                      </a:lnTo>
                      <a:lnTo>
                        <a:pt x="113" y="101"/>
                      </a:lnTo>
                      <a:lnTo>
                        <a:pt x="94" y="89"/>
                      </a:lnTo>
                      <a:lnTo>
                        <a:pt x="77" y="76"/>
                      </a:lnTo>
                      <a:lnTo>
                        <a:pt x="61" y="63"/>
                      </a:lnTo>
                      <a:lnTo>
                        <a:pt x="45" y="49"/>
                      </a:lnTo>
                      <a:lnTo>
                        <a:pt x="30" y="37"/>
                      </a:lnTo>
                      <a:lnTo>
                        <a:pt x="18" y="24"/>
                      </a:lnTo>
                      <a:lnTo>
                        <a:pt x="8" y="11"/>
                      </a:lnTo>
                      <a:lnTo>
                        <a:pt x="0" y="0"/>
                      </a:lnTo>
                      <a:close/>
                    </a:path>
                  </a:pathLst>
                </a:custGeom>
                <a:solidFill>
                  <a:srgbClr val="93d3d3"/>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78" name=""/>
                <p:cNvSpPr/>
                <p:nvPr/>
              </p:nvSpPr>
              <p:spPr>
                <a:xfrm>
                  <a:off x="6058440" y="5655600"/>
                  <a:ext cx="150480" cy="63360"/>
                </a:xfrm>
                <a:custGeom>
                  <a:avLst/>
                  <a:gdLst/>
                  <a:ahLst/>
                  <a:rect l="l" t="t" r="r" b="b"/>
                  <a:pathLst>
                    <a:path w="298" h="151">
                      <a:moveTo>
                        <a:pt x="0" y="0"/>
                      </a:moveTo>
                      <a:lnTo>
                        <a:pt x="2" y="1"/>
                      </a:lnTo>
                      <a:lnTo>
                        <a:pt x="9" y="5"/>
                      </a:lnTo>
                      <a:lnTo>
                        <a:pt x="20" y="10"/>
                      </a:lnTo>
                      <a:lnTo>
                        <a:pt x="34" y="18"/>
                      </a:lnTo>
                      <a:lnTo>
                        <a:pt x="52" y="26"/>
                      </a:lnTo>
                      <a:lnTo>
                        <a:pt x="72" y="37"/>
                      </a:lnTo>
                      <a:lnTo>
                        <a:pt x="94" y="48"/>
                      </a:lnTo>
                      <a:lnTo>
                        <a:pt x="117" y="60"/>
                      </a:lnTo>
                      <a:lnTo>
                        <a:pt x="141" y="71"/>
                      </a:lnTo>
                      <a:lnTo>
                        <a:pt x="167" y="83"/>
                      </a:lnTo>
                      <a:lnTo>
                        <a:pt x="192" y="95"/>
                      </a:lnTo>
                      <a:lnTo>
                        <a:pt x="216" y="106"/>
                      </a:lnTo>
                      <a:lnTo>
                        <a:pt x="239" y="116"/>
                      </a:lnTo>
                      <a:lnTo>
                        <a:pt x="261" y="127"/>
                      </a:lnTo>
                      <a:lnTo>
                        <a:pt x="281" y="135"/>
                      </a:lnTo>
                      <a:lnTo>
                        <a:pt x="298" y="140"/>
                      </a:lnTo>
                      <a:lnTo>
                        <a:pt x="285" y="151"/>
                      </a:lnTo>
                      <a:lnTo>
                        <a:pt x="283" y="150"/>
                      </a:lnTo>
                      <a:lnTo>
                        <a:pt x="275" y="147"/>
                      </a:lnTo>
                      <a:lnTo>
                        <a:pt x="264" y="143"/>
                      </a:lnTo>
                      <a:lnTo>
                        <a:pt x="249" y="137"/>
                      </a:lnTo>
                      <a:lnTo>
                        <a:pt x="230" y="129"/>
                      </a:lnTo>
                      <a:lnTo>
                        <a:pt x="209" y="121"/>
                      </a:lnTo>
                      <a:lnTo>
                        <a:pt x="186" y="110"/>
                      </a:lnTo>
                      <a:lnTo>
                        <a:pt x="162" y="100"/>
                      </a:lnTo>
                      <a:lnTo>
                        <a:pt x="138" y="89"/>
                      </a:lnTo>
                      <a:lnTo>
                        <a:pt x="114" y="76"/>
                      </a:lnTo>
                      <a:lnTo>
                        <a:pt x="90" y="64"/>
                      </a:lnTo>
                      <a:lnTo>
                        <a:pt x="66" y="52"/>
                      </a:lnTo>
                      <a:lnTo>
                        <a:pt x="46" y="38"/>
                      </a:lnTo>
                      <a:lnTo>
                        <a:pt x="27" y="25"/>
                      </a:lnTo>
                      <a:lnTo>
                        <a:pt x="11" y="13"/>
                      </a:lnTo>
                      <a:lnTo>
                        <a:pt x="0" y="0"/>
                      </a:lnTo>
                      <a:close/>
                    </a:path>
                  </a:pathLst>
                </a:custGeom>
                <a:solidFill>
                  <a:srgbClr val="93d3d3"/>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79" name=""/>
                <p:cNvSpPr/>
                <p:nvPr/>
              </p:nvSpPr>
              <p:spPr>
                <a:xfrm>
                  <a:off x="5321520" y="5743800"/>
                  <a:ext cx="58680" cy="43200"/>
                </a:xfrm>
                <a:custGeom>
                  <a:avLst/>
                  <a:gdLst/>
                  <a:ahLst/>
                  <a:rect l="l" t="t" r="r" b="b"/>
                  <a:pathLst>
                    <a:path w="116" h="103">
                      <a:moveTo>
                        <a:pt x="82" y="22"/>
                      </a:moveTo>
                      <a:lnTo>
                        <a:pt x="78" y="20"/>
                      </a:lnTo>
                      <a:lnTo>
                        <a:pt x="69" y="15"/>
                      </a:lnTo>
                      <a:lnTo>
                        <a:pt x="55" y="10"/>
                      </a:lnTo>
                      <a:lnTo>
                        <a:pt x="40" y="4"/>
                      </a:lnTo>
                      <a:lnTo>
                        <a:pt x="25" y="0"/>
                      </a:lnTo>
                      <a:lnTo>
                        <a:pt x="13" y="0"/>
                      </a:lnTo>
                      <a:lnTo>
                        <a:pt x="3" y="6"/>
                      </a:lnTo>
                      <a:lnTo>
                        <a:pt x="0" y="18"/>
                      </a:lnTo>
                      <a:lnTo>
                        <a:pt x="0" y="31"/>
                      </a:lnTo>
                      <a:lnTo>
                        <a:pt x="0" y="41"/>
                      </a:lnTo>
                      <a:lnTo>
                        <a:pt x="0" y="48"/>
                      </a:lnTo>
                      <a:lnTo>
                        <a:pt x="0" y="51"/>
                      </a:lnTo>
                      <a:lnTo>
                        <a:pt x="2" y="52"/>
                      </a:lnTo>
                      <a:lnTo>
                        <a:pt x="7" y="52"/>
                      </a:lnTo>
                      <a:lnTo>
                        <a:pt x="15" y="50"/>
                      </a:lnTo>
                      <a:lnTo>
                        <a:pt x="26" y="48"/>
                      </a:lnTo>
                      <a:lnTo>
                        <a:pt x="40" y="46"/>
                      </a:lnTo>
                      <a:lnTo>
                        <a:pt x="53" y="46"/>
                      </a:lnTo>
                      <a:lnTo>
                        <a:pt x="64" y="49"/>
                      </a:lnTo>
                      <a:lnTo>
                        <a:pt x="74" y="52"/>
                      </a:lnTo>
                      <a:lnTo>
                        <a:pt x="81" y="56"/>
                      </a:lnTo>
                      <a:lnTo>
                        <a:pt x="85" y="59"/>
                      </a:lnTo>
                      <a:lnTo>
                        <a:pt x="86" y="61"/>
                      </a:lnTo>
                      <a:lnTo>
                        <a:pt x="83" y="63"/>
                      </a:lnTo>
                      <a:lnTo>
                        <a:pt x="77" y="63"/>
                      </a:lnTo>
                      <a:lnTo>
                        <a:pt x="70" y="64"/>
                      </a:lnTo>
                      <a:lnTo>
                        <a:pt x="63" y="65"/>
                      </a:lnTo>
                      <a:lnTo>
                        <a:pt x="57" y="67"/>
                      </a:lnTo>
                      <a:lnTo>
                        <a:pt x="53" y="69"/>
                      </a:lnTo>
                      <a:lnTo>
                        <a:pt x="51" y="72"/>
                      </a:lnTo>
                      <a:lnTo>
                        <a:pt x="52" y="75"/>
                      </a:lnTo>
                      <a:lnTo>
                        <a:pt x="57" y="79"/>
                      </a:lnTo>
                      <a:lnTo>
                        <a:pt x="66" y="82"/>
                      </a:lnTo>
                      <a:lnTo>
                        <a:pt x="72" y="87"/>
                      </a:lnTo>
                      <a:lnTo>
                        <a:pt x="79" y="92"/>
                      </a:lnTo>
                      <a:lnTo>
                        <a:pt x="85" y="97"/>
                      </a:lnTo>
                      <a:lnTo>
                        <a:pt x="92" y="101"/>
                      </a:lnTo>
                      <a:lnTo>
                        <a:pt x="98" y="103"/>
                      </a:lnTo>
                      <a:lnTo>
                        <a:pt x="102" y="103"/>
                      </a:lnTo>
                      <a:lnTo>
                        <a:pt x="108" y="102"/>
                      </a:lnTo>
                      <a:lnTo>
                        <a:pt x="116" y="98"/>
                      </a:lnTo>
                      <a:lnTo>
                        <a:pt x="116" y="97"/>
                      </a:lnTo>
                      <a:lnTo>
                        <a:pt x="109" y="97"/>
                      </a:lnTo>
                      <a:lnTo>
                        <a:pt x="96" y="92"/>
                      </a:lnTo>
                      <a:lnTo>
                        <a:pt x="79" y="86"/>
                      </a:lnTo>
                      <a:lnTo>
                        <a:pt x="71" y="77"/>
                      </a:lnTo>
                      <a:lnTo>
                        <a:pt x="70" y="72"/>
                      </a:lnTo>
                      <a:lnTo>
                        <a:pt x="77" y="67"/>
                      </a:lnTo>
                      <a:lnTo>
                        <a:pt x="84" y="66"/>
                      </a:lnTo>
                      <a:lnTo>
                        <a:pt x="92" y="65"/>
                      </a:lnTo>
                      <a:lnTo>
                        <a:pt x="100" y="64"/>
                      </a:lnTo>
                      <a:lnTo>
                        <a:pt x="108" y="63"/>
                      </a:lnTo>
                      <a:lnTo>
                        <a:pt x="113" y="61"/>
                      </a:lnTo>
                      <a:lnTo>
                        <a:pt x="115" y="59"/>
                      </a:lnTo>
                      <a:lnTo>
                        <a:pt x="112" y="57"/>
                      </a:lnTo>
                      <a:lnTo>
                        <a:pt x="102" y="52"/>
                      </a:lnTo>
                      <a:lnTo>
                        <a:pt x="90" y="48"/>
                      </a:lnTo>
                      <a:lnTo>
                        <a:pt x="77" y="43"/>
                      </a:lnTo>
                      <a:lnTo>
                        <a:pt x="64" y="39"/>
                      </a:lnTo>
                      <a:lnTo>
                        <a:pt x="53" y="36"/>
                      </a:lnTo>
                      <a:lnTo>
                        <a:pt x="42" y="34"/>
                      </a:lnTo>
                      <a:lnTo>
                        <a:pt x="33" y="31"/>
                      </a:lnTo>
                      <a:lnTo>
                        <a:pt x="25" y="31"/>
                      </a:lnTo>
                      <a:lnTo>
                        <a:pt x="21" y="33"/>
                      </a:lnTo>
                      <a:lnTo>
                        <a:pt x="17" y="33"/>
                      </a:lnTo>
                      <a:lnTo>
                        <a:pt x="13" y="30"/>
                      </a:lnTo>
                      <a:lnTo>
                        <a:pt x="9" y="26"/>
                      </a:lnTo>
                      <a:lnTo>
                        <a:pt x="8" y="20"/>
                      </a:lnTo>
                      <a:lnTo>
                        <a:pt x="8" y="14"/>
                      </a:lnTo>
                      <a:lnTo>
                        <a:pt x="11" y="11"/>
                      </a:lnTo>
                      <a:lnTo>
                        <a:pt x="19" y="10"/>
                      </a:lnTo>
                      <a:lnTo>
                        <a:pt x="32" y="12"/>
                      </a:lnTo>
                      <a:lnTo>
                        <a:pt x="46" y="16"/>
                      </a:lnTo>
                      <a:lnTo>
                        <a:pt x="57" y="20"/>
                      </a:lnTo>
                      <a:lnTo>
                        <a:pt x="66" y="22"/>
                      </a:lnTo>
                      <a:lnTo>
                        <a:pt x="72" y="22"/>
                      </a:lnTo>
                      <a:lnTo>
                        <a:pt x="77" y="23"/>
                      </a:lnTo>
                      <a:lnTo>
                        <a:pt x="79" y="22"/>
                      </a:lnTo>
                      <a:lnTo>
                        <a:pt x="82" y="22"/>
                      </a:lnTo>
                      <a:lnTo>
                        <a:pt x="82" y="22"/>
                      </a:lnTo>
                      <a:close/>
                    </a:path>
                  </a:pathLst>
                </a:custGeom>
                <a:solidFill>
                  <a:srgbClr val="93d3d3"/>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80" name=""/>
                <p:cNvSpPr/>
                <p:nvPr/>
              </p:nvSpPr>
              <p:spPr>
                <a:xfrm>
                  <a:off x="5378040" y="5770800"/>
                  <a:ext cx="49320" cy="30240"/>
                </a:xfrm>
                <a:custGeom>
                  <a:avLst/>
                  <a:gdLst/>
                  <a:ahLst/>
                  <a:rect l="l" t="t" r="r" b="b"/>
                  <a:pathLst>
                    <a:path w="98" h="71">
                      <a:moveTo>
                        <a:pt x="5" y="4"/>
                      </a:moveTo>
                      <a:lnTo>
                        <a:pt x="0" y="9"/>
                      </a:lnTo>
                      <a:lnTo>
                        <a:pt x="1" y="9"/>
                      </a:lnTo>
                      <a:lnTo>
                        <a:pt x="2" y="9"/>
                      </a:lnTo>
                      <a:lnTo>
                        <a:pt x="5" y="9"/>
                      </a:lnTo>
                      <a:lnTo>
                        <a:pt x="9" y="10"/>
                      </a:lnTo>
                      <a:lnTo>
                        <a:pt x="15" y="13"/>
                      </a:lnTo>
                      <a:lnTo>
                        <a:pt x="20" y="18"/>
                      </a:lnTo>
                      <a:lnTo>
                        <a:pt x="27" y="25"/>
                      </a:lnTo>
                      <a:lnTo>
                        <a:pt x="35" y="34"/>
                      </a:lnTo>
                      <a:lnTo>
                        <a:pt x="45" y="45"/>
                      </a:lnTo>
                      <a:lnTo>
                        <a:pt x="54" y="53"/>
                      </a:lnTo>
                      <a:lnTo>
                        <a:pt x="63" y="60"/>
                      </a:lnTo>
                      <a:lnTo>
                        <a:pt x="72" y="64"/>
                      </a:lnTo>
                      <a:lnTo>
                        <a:pt x="81" y="68"/>
                      </a:lnTo>
                      <a:lnTo>
                        <a:pt x="88" y="70"/>
                      </a:lnTo>
                      <a:lnTo>
                        <a:pt x="94" y="71"/>
                      </a:lnTo>
                      <a:lnTo>
                        <a:pt x="98" y="71"/>
                      </a:lnTo>
                      <a:lnTo>
                        <a:pt x="98" y="70"/>
                      </a:lnTo>
                      <a:lnTo>
                        <a:pt x="94" y="69"/>
                      </a:lnTo>
                      <a:lnTo>
                        <a:pt x="88" y="65"/>
                      </a:lnTo>
                      <a:lnTo>
                        <a:pt x="79" y="61"/>
                      </a:lnTo>
                      <a:lnTo>
                        <a:pt x="69" y="55"/>
                      </a:lnTo>
                      <a:lnTo>
                        <a:pt x="56" y="46"/>
                      </a:lnTo>
                      <a:lnTo>
                        <a:pt x="45" y="34"/>
                      </a:lnTo>
                      <a:lnTo>
                        <a:pt x="32" y="19"/>
                      </a:lnTo>
                      <a:lnTo>
                        <a:pt x="18" y="3"/>
                      </a:lnTo>
                      <a:lnTo>
                        <a:pt x="10" y="0"/>
                      </a:lnTo>
                      <a:lnTo>
                        <a:pt x="7" y="2"/>
                      </a:lnTo>
                      <a:lnTo>
                        <a:pt x="5" y="4"/>
                      </a:lnTo>
                      <a:close/>
                    </a:path>
                  </a:pathLst>
                </a:custGeom>
                <a:solidFill>
                  <a:srgbClr val="93d3d3"/>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81" name=""/>
                <p:cNvSpPr/>
                <p:nvPr/>
              </p:nvSpPr>
              <p:spPr>
                <a:xfrm>
                  <a:off x="5393520" y="5792760"/>
                  <a:ext cx="14040" cy="7200"/>
                </a:xfrm>
                <a:custGeom>
                  <a:avLst/>
                  <a:gdLst/>
                  <a:ahLst/>
                  <a:rect l="l" t="t" r="r" b="b"/>
                  <a:pathLst>
                    <a:path w="27" h="17">
                      <a:moveTo>
                        <a:pt x="27" y="0"/>
                      </a:moveTo>
                      <a:lnTo>
                        <a:pt x="25" y="1"/>
                      </a:lnTo>
                      <a:lnTo>
                        <a:pt x="18" y="5"/>
                      </a:lnTo>
                      <a:lnTo>
                        <a:pt x="9" y="9"/>
                      </a:lnTo>
                      <a:lnTo>
                        <a:pt x="2" y="11"/>
                      </a:lnTo>
                      <a:lnTo>
                        <a:pt x="0" y="12"/>
                      </a:lnTo>
                      <a:lnTo>
                        <a:pt x="1" y="15"/>
                      </a:lnTo>
                      <a:lnTo>
                        <a:pt x="4" y="16"/>
                      </a:lnTo>
                      <a:lnTo>
                        <a:pt x="7" y="17"/>
                      </a:lnTo>
                      <a:lnTo>
                        <a:pt x="27" y="0"/>
                      </a:lnTo>
                      <a:close/>
                    </a:path>
                  </a:pathLst>
                </a:custGeom>
                <a:solidFill>
                  <a:srgbClr val="93d3d3"/>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382" name=""/>
                <p:cNvSpPr/>
                <p:nvPr/>
              </p:nvSpPr>
              <p:spPr>
                <a:xfrm>
                  <a:off x="5403600" y="5793480"/>
                  <a:ext cx="61560" cy="29520"/>
                </a:xfrm>
                <a:custGeom>
                  <a:avLst/>
                  <a:gdLst/>
                  <a:ahLst/>
                  <a:rect l="l" t="t" r="r" b="b"/>
                  <a:pathLst>
                    <a:path w="121" h="70">
                      <a:moveTo>
                        <a:pt x="0" y="0"/>
                      </a:moveTo>
                      <a:lnTo>
                        <a:pt x="0" y="7"/>
                      </a:lnTo>
                      <a:lnTo>
                        <a:pt x="4" y="22"/>
                      </a:lnTo>
                      <a:lnTo>
                        <a:pt x="12" y="34"/>
                      </a:lnTo>
                      <a:lnTo>
                        <a:pt x="30" y="33"/>
                      </a:lnTo>
                      <a:lnTo>
                        <a:pt x="42" y="29"/>
                      </a:lnTo>
                      <a:lnTo>
                        <a:pt x="50" y="26"/>
                      </a:lnTo>
                      <a:lnTo>
                        <a:pt x="55" y="27"/>
                      </a:lnTo>
                      <a:lnTo>
                        <a:pt x="57" y="31"/>
                      </a:lnTo>
                      <a:lnTo>
                        <a:pt x="58" y="41"/>
                      </a:lnTo>
                      <a:lnTo>
                        <a:pt x="56" y="49"/>
                      </a:lnTo>
                      <a:lnTo>
                        <a:pt x="57" y="59"/>
                      </a:lnTo>
                      <a:lnTo>
                        <a:pt x="67" y="65"/>
                      </a:lnTo>
                      <a:lnTo>
                        <a:pt x="76" y="68"/>
                      </a:lnTo>
                      <a:lnTo>
                        <a:pt x="88" y="70"/>
                      </a:lnTo>
                      <a:lnTo>
                        <a:pt x="98" y="70"/>
                      </a:lnTo>
                      <a:lnTo>
                        <a:pt x="108" y="70"/>
                      </a:lnTo>
                      <a:lnTo>
                        <a:pt x="116" y="69"/>
                      </a:lnTo>
                      <a:lnTo>
                        <a:pt x="120" y="68"/>
                      </a:lnTo>
                      <a:lnTo>
                        <a:pt x="121" y="68"/>
                      </a:lnTo>
                      <a:lnTo>
                        <a:pt x="118" y="67"/>
                      </a:lnTo>
                      <a:lnTo>
                        <a:pt x="106" y="67"/>
                      </a:lnTo>
                      <a:lnTo>
                        <a:pt x="96" y="65"/>
                      </a:lnTo>
                      <a:lnTo>
                        <a:pt x="89" y="64"/>
                      </a:lnTo>
                      <a:lnTo>
                        <a:pt x="82" y="63"/>
                      </a:lnTo>
                      <a:lnTo>
                        <a:pt x="78" y="62"/>
                      </a:lnTo>
                      <a:lnTo>
                        <a:pt x="74" y="61"/>
                      </a:lnTo>
                      <a:lnTo>
                        <a:pt x="72" y="60"/>
                      </a:lnTo>
                      <a:lnTo>
                        <a:pt x="69" y="59"/>
                      </a:lnTo>
                      <a:lnTo>
                        <a:pt x="61" y="49"/>
                      </a:lnTo>
                      <a:lnTo>
                        <a:pt x="61" y="44"/>
                      </a:lnTo>
                      <a:lnTo>
                        <a:pt x="65" y="38"/>
                      </a:lnTo>
                      <a:lnTo>
                        <a:pt x="66" y="32"/>
                      </a:lnTo>
                      <a:lnTo>
                        <a:pt x="61" y="24"/>
                      </a:lnTo>
                      <a:lnTo>
                        <a:pt x="58" y="19"/>
                      </a:lnTo>
                      <a:lnTo>
                        <a:pt x="52" y="18"/>
                      </a:lnTo>
                      <a:lnTo>
                        <a:pt x="44" y="22"/>
                      </a:lnTo>
                      <a:lnTo>
                        <a:pt x="40" y="25"/>
                      </a:lnTo>
                      <a:lnTo>
                        <a:pt x="34" y="29"/>
                      </a:lnTo>
                      <a:lnTo>
                        <a:pt x="29" y="32"/>
                      </a:lnTo>
                      <a:lnTo>
                        <a:pt x="25" y="33"/>
                      </a:lnTo>
                      <a:lnTo>
                        <a:pt x="19" y="32"/>
                      </a:lnTo>
                      <a:lnTo>
                        <a:pt x="13" y="27"/>
                      </a:lnTo>
                      <a:lnTo>
                        <a:pt x="7" y="17"/>
                      </a:lnTo>
                      <a:lnTo>
                        <a:pt x="0" y="0"/>
                      </a:lnTo>
                      <a:close/>
                    </a:path>
                  </a:pathLst>
                </a:custGeom>
                <a:solidFill>
                  <a:srgbClr val="93d3d3"/>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nvGrpSpPr>
              <p:cNvPr id="383" name=""/>
              <p:cNvGrpSpPr/>
              <p:nvPr/>
            </p:nvGrpSpPr>
            <p:grpSpPr>
              <a:xfrm>
                <a:off x="5814000" y="5648760"/>
                <a:ext cx="388080" cy="446760"/>
                <a:chOff x="5814000" y="5648760"/>
                <a:chExt cx="388080" cy="446760"/>
              </a:xfrm>
            </p:grpSpPr>
            <p:sp>
              <p:nvSpPr>
                <p:cNvPr id="384" name=""/>
                <p:cNvSpPr/>
                <p:nvPr/>
              </p:nvSpPr>
              <p:spPr>
                <a:xfrm>
                  <a:off x="5817960" y="5777280"/>
                  <a:ext cx="68400" cy="74160"/>
                </a:xfrm>
                <a:custGeom>
                  <a:avLst/>
                  <a:gdLst/>
                  <a:ahLst/>
                  <a:rect l="l" t="t" r="r" b="b"/>
                  <a:pathLst>
                    <a:path w="443" h="626">
                      <a:moveTo>
                        <a:pt x="0" y="0"/>
                      </a:moveTo>
                      <a:lnTo>
                        <a:pt x="19" y="276"/>
                      </a:lnTo>
                      <a:lnTo>
                        <a:pt x="114" y="498"/>
                      </a:lnTo>
                      <a:lnTo>
                        <a:pt x="340" y="626"/>
                      </a:lnTo>
                      <a:lnTo>
                        <a:pt x="443" y="550"/>
                      </a:lnTo>
                      <a:lnTo>
                        <a:pt x="353" y="417"/>
                      </a:lnTo>
                      <a:lnTo>
                        <a:pt x="201" y="396"/>
                      </a:lnTo>
                      <a:lnTo>
                        <a:pt x="101" y="306"/>
                      </a:lnTo>
                      <a:lnTo>
                        <a:pt x="0" y="0"/>
                      </a:lnTo>
                      <a:lnTo>
                        <a:pt x="0" y="0"/>
                      </a:lnTo>
                      <a:close/>
                    </a:path>
                  </a:pathLst>
                </a:custGeom>
                <a:solidFill>
                  <a:srgbClr val="ffd9d9"/>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85" name=""/>
                <p:cNvSpPr/>
                <p:nvPr/>
              </p:nvSpPr>
              <p:spPr>
                <a:xfrm>
                  <a:off x="5965920" y="5856480"/>
                  <a:ext cx="178560" cy="45720"/>
                </a:xfrm>
                <a:custGeom>
                  <a:avLst/>
                  <a:gdLst/>
                  <a:ahLst/>
                  <a:rect l="l" t="t" r="r" b="b"/>
                  <a:pathLst>
                    <a:path w="1156" h="384">
                      <a:moveTo>
                        <a:pt x="0" y="306"/>
                      </a:moveTo>
                      <a:lnTo>
                        <a:pt x="139" y="268"/>
                      </a:lnTo>
                      <a:lnTo>
                        <a:pt x="304" y="121"/>
                      </a:lnTo>
                      <a:lnTo>
                        <a:pt x="493" y="273"/>
                      </a:lnTo>
                      <a:lnTo>
                        <a:pt x="443" y="116"/>
                      </a:lnTo>
                      <a:lnTo>
                        <a:pt x="607" y="230"/>
                      </a:lnTo>
                      <a:lnTo>
                        <a:pt x="734" y="165"/>
                      </a:lnTo>
                      <a:lnTo>
                        <a:pt x="840" y="70"/>
                      </a:lnTo>
                      <a:lnTo>
                        <a:pt x="854" y="19"/>
                      </a:lnTo>
                      <a:lnTo>
                        <a:pt x="979" y="0"/>
                      </a:lnTo>
                      <a:lnTo>
                        <a:pt x="1156" y="26"/>
                      </a:lnTo>
                      <a:lnTo>
                        <a:pt x="854" y="205"/>
                      </a:lnTo>
                      <a:lnTo>
                        <a:pt x="498" y="363"/>
                      </a:lnTo>
                      <a:lnTo>
                        <a:pt x="95" y="384"/>
                      </a:lnTo>
                      <a:lnTo>
                        <a:pt x="0" y="306"/>
                      </a:lnTo>
                      <a:lnTo>
                        <a:pt x="0" y="306"/>
                      </a:lnTo>
                      <a:close/>
                    </a:path>
                  </a:pathLst>
                </a:custGeom>
                <a:solidFill>
                  <a:srgbClr val="ffd9d9"/>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386" name=""/>
                <p:cNvSpPr/>
                <p:nvPr/>
              </p:nvSpPr>
              <p:spPr>
                <a:xfrm>
                  <a:off x="5839560" y="5670000"/>
                  <a:ext cx="267840" cy="212040"/>
                </a:xfrm>
                <a:custGeom>
                  <a:avLst/>
                  <a:gdLst/>
                  <a:ahLst/>
                  <a:rect l="l" t="t" r="r" b="b"/>
                  <a:pathLst>
                    <a:path w="1731" h="1779">
                      <a:moveTo>
                        <a:pt x="557" y="0"/>
                      </a:moveTo>
                      <a:lnTo>
                        <a:pt x="233" y="314"/>
                      </a:lnTo>
                      <a:lnTo>
                        <a:pt x="43" y="485"/>
                      </a:lnTo>
                      <a:lnTo>
                        <a:pt x="100" y="740"/>
                      </a:lnTo>
                      <a:lnTo>
                        <a:pt x="0" y="875"/>
                      </a:lnTo>
                      <a:lnTo>
                        <a:pt x="95" y="1091"/>
                      </a:lnTo>
                      <a:lnTo>
                        <a:pt x="138" y="1200"/>
                      </a:lnTo>
                      <a:lnTo>
                        <a:pt x="290" y="1283"/>
                      </a:lnTo>
                      <a:lnTo>
                        <a:pt x="595" y="829"/>
                      </a:lnTo>
                      <a:lnTo>
                        <a:pt x="1005" y="652"/>
                      </a:lnTo>
                      <a:lnTo>
                        <a:pt x="600" y="1053"/>
                      </a:lnTo>
                      <a:lnTo>
                        <a:pt x="366" y="1346"/>
                      </a:lnTo>
                      <a:lnTo>
                        <a:pt x="328" y="1538"/>
                      </a:lnTo>
                      <a:lnTo>
                        <a:pt x="606" y="1487"/>
                      </a:lnTo>
                      <a:lnTo>
                        <a:pt x="688" y="1492"/>
                      </a:lnTo>
                      <a:lnTo>
                        <a:pt x="752" y="1563"/>
                      </a:lnTo>
                      <a:lnTo>
                        <a:pt x="1188" y="1295"/>
                      </a:lnTo>
                      <a:lnTo>
                        <a:pt x="834" y="1679"/>
                      </a:lnTo>
                      <a:lnTo>
                        <a:pt x="847" y="1779"/>
                      </a:lnTo>
                      <a:lnTo>
                        <a:pt x="1062" y="1601"/>
                      </a:lnTo>
                      <a:lnTo>
                        <a:pt x="1302" y="1500"/>
                      </a:lnTo>
                      <a:lnTo>
                        <a:pt x="1707" y="1072"/>
                      </a:lnTo>
                      <a:lnTo>
                        <a:pt x="1731" y="696"/>
                      </a:lnTo>
                      <a:lnTo>
                        <a:pt x="1174" y="300"/>
                      </a:lnTo>
                      <a:lnTo>
                        <a:pt x="650" y="333"/>
                      </a:lnTo>
                      <a:lnTo>
                        <a:pt x="557" y="0"/>
                      </a:lnTo>
                      <a:lnTo>
                        <a:pt x="557" y="0"/>
                      </a:lnTo>
                      <a:close/>
                    </a:path>
                  </a:pathLst>
                </a:custGeom>
                <a:solidFill>
                  <a:srgbClr val="ff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5826240" y="5821920"/>
                  <a:ext cx="163080" cy="79920"/>
                </a:xfrm>
                <a:custGeom>
                  <a:avLst/>
                  <a:gdLst/>
                  <a:ahLst/>
                  <a:rect l="l" t="t" r="r" b="b"/>
                  <a:pathLst>
                    <a:path w="1053" h="673">
                      <a:moveTo>
                        <a:pt x="0" y="0"/>
                      </a:moveTo>
                      <a:lnTo>
                        <a:pt x="120" y="80"/>
                      </a:lnTo>
                      <a:lnTo>
                        <a:pt x="255" y="173"/>
                      </a:lnTo>
                      <a:lnTo>
                        <a:pt x="375" y="144"/>
                      </a:lnTo>
                      <a:lnTo>
                        <a:pt x="437" y="43"/>
                      </a:lnTo>
                      <a:lnTo>
                        <a:pt x="388" y="294"/>
                      </a:lnTo>
                      <a:lnTo>
                        <a:pt x="510" y="351"/>
                      </a:lnTo>
                      <a:lnTo>
                        <a:pt x="665" y="380"/>
                      </a:lnTo>
                      <a:lnTo>
                        <a:pt x="749" y="351"/>
                      </a:lnTo>
                      <a:lnTo>
                        <a:pt x="793" y="479"/>
                      </a:lnTo>
                      <a:lnTo>
                        <a:pt x="1053" y="673"/>
                      </a:lnTo>
                      <a:lnTo>
                        <a:pt x="749" y="608"/>
                      </a:lnTo>
                      <a:lnTo>
                        <a:pt x="260" y="336"/>
                      </a:lnTo>
                      <a:lnTo>
                        <a:pt x="105" y="173"/>
                      </a:lnTo>
                      <a:lnTo>
                        <a:pt x="0" y="0"/>
                      </a:lnTo>
                      <a:lnTo>
                        <a:pt x="0" y="0"/>
                      </a:lnTo>
                      <a:close/>
                    </a:path>
                  </a:pathLst>
                </a:custGeom>
                <a:solidFill>
                  <a:srgbClr val="ff9999"/>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388" name=""/>
                <p:cNvSpPr/>
                <p:nvPr/>
              </p:nvSpPr>
              <p:spPr>
                <a:xfrm>
                  <a:off x="5822640" y="5889960"/>
                  <a:ext cx="308160" cy="192600"/>
                </a:xfrm>
                <a:custGeom>
                  <a:avLst/>
                  <a:gdLst/>
                  <a:ahLst/>
                  <a:rect l="l" t="t" r="r" b="b"/>
                  <a:pathLst>
                    <a:path w="1991" h="1616">
                      <a:moveTo>
                        <a:pt x="405" y="0"/>
                      </a:moveTo>
                      <a:lnTo>
                        <a:pt x="377" y="152"/>
                      </a:lnTo>
                      <a:lnTo>
                        <a:pt x="242" y="274"/>
                      </a:lnTo>
                      <a:lnTo>
                        <a:pt x="411" y="217"/>
                      </a:lnTo>
                      <a:lnTo>
                        <a:pt x="341" y="473"/>
                      </a:lnTo>
                      <a:lnTo>
                        <a:pt x="348" y="623"/>
                      </a:lnTo>
                      <a:lnTo>
                        <a:pt x="333" y="973"/>
                      </a:lnTo>
                      <a:lnTo>
                        <a:pt x="234" y="1230"/>
                      </a:lnTo>
                      <a:lnTo>
                        <a:pt x="744" y="838"/>
                      </a:lnTo>
                      <a:lnTo>
                        <a:pt x="561" y="1095"/>
                      </a:lnTo>
                      <a:lnTo>
                        <a:pt x="156" y="1374"/>
                      </a:lnTo>
                      <a:lnTo>
                        <a:pt x="0" y="1530"/>
                      </a:lnTo>
                      <a:lnTo>
                        <a:pt x="164" y="1551"/>
                      </a:lnTo>
                      <a:lnTo>
                        <a:pt x="510" y="1281"/>
                      </a:lnTo>
                      <a:lnTo>
                        <a:pt x="624" y="1281"/>
                      </a:lnTo>
                      <a:lnTo>
                        <a:pt x="715" y="1481"/>
                      </a:lnTo>
                      <a:lnTo>
                        <a:pt x="850" y="1616"/>
                      </a:lnTo>
                      <a:lnTo>
                        <a:pt x="892" y="1294"/>
                      </a:lnTo>
                      <a:lnTo>
                        <a:pt x="780" y="1188"/>
                      </a:lnTo>
                      <a:lnTo>
                        <a:pt x="858" y="895"/>
                      </a:lnTo>
                      <a:lnTo>
                        <a:pt x="985" y="608"/>
                      </a:lnTo>
                      <a:lnTo>
                        <a:pt x="1154" y="745"/>
                      </a:lnTo>
                      <a:lnTo>
                        <a:pt x="1339" y="1051"/>
                      </a:lnTo>
                      <a:lnTo>
                        <a:pt x="1424" y="1494"/>
                      </a:lnTo>
                      <a:lnTo>
                        <a:pt x="1609" y="1144"/>
                      </a:lnTo>
                      <a:lnTo>
                        <a:pt x="1955" y="1408"/>
                      </a:lnTo>
                      <a:lnTo>
                        <a:pt x="1778" y="1045"/>
                      </a:lnTo>
                      <a:lnTo>
                        <a:pt x="1983" y="1273"/>
                      </a:lnTo>
                      <a:lnTo>
                        <a:pt x="1827" y="595"/>
                      </a:lnTo>
                      <a:lnTo>
                        <a:pt x="1820" y="380"/>
                      </a:lnTo>
                      <a:lnTo>
                        <a:pt x="1991" y="367"/>
                      </a:lnTo>
                      <a:lnTo>
                        <a:pt x="1975" y="230"/>
                      </a:lnTo>
                      <a:lnTo>
                        <a:pt x="1877" y="274"/>
                      </a:lnTo>
                      <a:lnTo>
                        <a:pt x="1614" y="160"/>
                      </a:lnTo>
                      <a:lnTo>
                        <a:pt x="1523" y="217"/>
                      </a:lnTo>
                      <a:lnTo>
                        <a:pt x="772" y="137"/>
                      </a:lnTo>
                      <a:lnTo>
                        <a:pt x="405" y="0"/>
                      </a:lnTo>
                      <a:lnTo>
                        <a:pt x="405"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a:off x="5831640" y="5653440"/>
                  <a:ext cx="357120" cy="257760"/>
                </a:xfrm>
                <a:custGeom>
                  <a:avLst/>
                  <a:gdLst/>
                  <a:ahLst/>
                  <a:rect l="l" t="t" r="r" b="b"/>
                  <a:pathLst>
                    <a:path w="2308" h="2164">
                      <a:moveTo>
                        <a:pt x="299" y="863"/>
                      </a:moveTo>
                      <a:lnTo>
                        <a:pt x="681" y="628"/>
                      </a:lnTo>
                      <a:lnTo>
                        <a:pt x="1289" y="571"/>
                      </a:lnTo>
                      <a:lnTo>
                        <a:pt x="1346" y="728"/>
                      </a:lnTo>
                      <a:lnTo>
                        <a:pt x="736" y="1264"/>
                      </a:lnTo>
                      <a:lnTo>
                        <a:pt x="595" y="1485"/>
                      </a:lnTo>
                      <a:lnTo>
                        <a:pt x="1707" y="1034"/>
                      </a:lnTo>
                      <a:lnTo>
                        <a:pt x="1063" y="1764"/>
                      </a:lnTo>
                      <a:lnTo>
                        <a:pt x="1190" y="1700"/>
                      </a:lnTo>
                      <a:lnTo>
                        <a:pt x="1295" y="1785"/>
                      </a:lnTo>
                      <a:lnTo>
                        <a:pt x="1494" y="1935"/>
                      </a:lnTo>
                      <a:lnTo>
                        <a:pt x="1700" y="1627"/>
                      </a:lnTo>
                      <a:lnTo>
                        <a:pt x="1975" y="1586"/>
                      </a:lnTo>
                      <a:lnTo>
                        <a:pt x="1926" y="1356"/>
                      </a:lnTo>
                      <a:lnTo>
                        <a:pt x="2171" y="1169"/>
                      </a:lnTo>
                      <a:lnTo>
                        <a:pt x="2036" y="909"/>
                      </a:lnTo>
                      <a:lnTo>
                        <a:pt x="2173" y="736"/>
                      </a:lnTo>
                      <a:lnTo>
                        <a:pt x="2223" y="928"/>
                      </a:lnTo>
                      <a:lnTo>
                        <a:pt x="2223" y="1228"/>
                      </a:lnTo>
                      <a:lnTo>
                        <a:pt x="2053" y="1399"/>
                      </a:lnTo>
                      <a:lnTo>
                        <a:pt x="2061" y="1542"/>
                      </a:lnTo>
                      <a:lnTo>
                        <a:pt x="1975" y="1728"/>
                      </a:lnTo>
                      <a:lnTo>
                        <a:pt x="1778" y="1749"/>
                      </a:lnTo>
                      <a:lnTo>
                        <a:pt x="1629" y="1892"/>
                      </a:lnTo>
                      <a:lnTo>
                        <a:pt x="1523" y="2000"/>
                      </a:lnTo>
                      <a:lnTo>
                        <a:pt x="1339" y="2049"/>
                      </a:lnTo>
                      <a:lnTo>
                        <a:pt x="1175" y="1850"/>
                      </a:lnTo>
                      <a:lnTo>
                        <a:pt x="1006" y="2034"/>
                      </a:lnTo>
                      <a:lnTo>
                        <a:pt x="759" y="2049"/>
                      </a:lnTo>
                      <a:lnTo>
                        <a:pt x="1091" y="2164"/>
                      </a:lnTo>
                      <a:lnTo>
                        <a:pt x="1629" y="2091"/>
                      </a:lnTo>
                      <a:lnTo>
                        <a:pt x="1820" y="2063"/>
                      </a:lnTo>
                      <a:lnTo>
                        <a:pt x="1848" y="1943"/>
                      </a:lnTo>
                      <a:lnTo>
                        <a:pt x="2124" y="1793"/>
                      </a:lnTo>
                      <a:lnTo>
                        <a:pt x="2295" y="1420"/>
                      </a:lnTo>
                      <a:lnTo>
                        <a:pt x="2308" y="972"/>
                      </a:lnTo>
                      <a:lnTo>
                        <a:pt x="2181" y="400"/>
                      </a:lnTo>
                      <a:lnTo>
                        <a:pt x="1905" y="420"/>
                      </a:lnTo>
                      <a:lnTo>
                        <a:pt x="1331" y="213"/>
                      </a:lnTo>
                      <a:lnTo>
                        <a:pt x="736" y="107"/>
                      </a:lnTo>
                      <a:lnTo>
                        <a:pt x="546" y="0"/>
                      </a:lnTo>
                      <a:lnTo>
                        <a:pt x="341" y="149"/>
                      </a:lnTo>
                      <a:lnTo>
                        <a:pt x="198" y="293"/>
                      </a:lnTo>
                      <a:lnTo>
                        <a:pt x="221" y="449"/>
                      </a:lnTo>
                      <a:lnTo>
                        <a:pt x="128" y="472"/>
                      </a:lnTo>
                      <a:lnTo>
                        <a:pt x="42" y="592"/>
                      </a:lnTo>
                      <a:lnTo>
                        <a:pt x="42" y="770"/>
                      </a:lnTo>
                      <a:lnTo>
                        <a:pt x="99" y="899"/>
                      </a:lnTo>
                      <a:lnTo>
                        <a:pt x="8" y="956"/>
                      </a:lnTo>
                      <a:lnTo>
                        <a:pt x="0" y="1107"/>
                      </a:lnTo>
                      <a:lnTo>
                        <a:pt x="99" y="1221"/>
                      </a:lnTo>
                      <a:lnTo>
                        <a:pt x="242" y="1122"/>
                      </a:lnTo>
                      <a:lnTo>
                        <a:pt x="226" y="936"/>
                      </a:lnTo>
                      <a:lnTo>
                        <a:pt x="299" y="863"/>
                      </a:lnTo>
                      <a:lnTo>
                        <a:pt x="299" y="863"/>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5835960" y="5648760"/>
                  <a:ext cx="333000" cy="159120"/>
                </a:xfrm>
                <a:custGeom>
                  <a:avLst/>
                  <a:gdLst/>
                  <a:ahLst/>
                  <a:rect l="l" t="t" r="r" b="b"/>
                  <a:pathLst>
                    <a:path w="2152" h="1334">
                      <a:moveTo>
                        <a:pt x="135" y="1334"/>
                      </a:moveTo>
                      <a:lnTo>
                        <a:pt x="247" y="1148"/>
                      </a:lnTo>
                      <a:lnTo>
                        <a:pt x="197" y="977"/>
                      </a:lnTo>
                      <a:lnTo>
                        <a:pt x="247" y="777"/>
                      </a:lnTo>
                      <a:lnTo>
                        <a:pt x="389" y="676"/>
                      </a:lnTo>
                      <a:lnTo>
                        <a:pt x="382" y="562"/>
                      </a:lnTo>
                      <a:lnTo>
                        <a:pt x="467" y="363"/>
                      </a:lnTo>
                      <a:lnTo>
                        <a:pt x="673" y="277"/>
                      </a:lnTo>
                      <a:lnTo>
                        <a:pt x="857" y="441"/>
                      </a:lnTo>
                      <a:lnTo>
                        <a:pt x="1091" y="306"/>
                      </a:lnTo>
                      <a:lnTo>
                        <a:pt x="1260" y="420"/>
                      </a:lnTo>
                      <a:lnTo>
                        <a:pt x="1372" y="547"/>
                      </a:lnTo>
                      <a:lnTo>
                        <a:pt x="1479" y="534"/>
                      </a:lnTo>
                      <a:lnTo>
                        <a:pt x="1642" y="448"/>
                      </a:lnTo>
                      <a:lnTo>
                        <a:pt x="1720" y="484"/>
                      </a:lnTo>
                      <a:lnTo>
                        <a:pt x="1671" y="690"/>
                      </a:lnTo>
                      <a:lnTo>
                        <a:pt x="1791" y="798"/>
                      </a:lnTo>
                      <a:lnTo>
                        <a:pt x="1954" y="868"/>
                      </a:lnTo>
                      <a:lnTo>
                        <a:pt x="2102" y="769"/>
                      </a:lnTo>
                      <a:lnTo>
                        <a:pt x="1889" y="669"/>
                      </a:lnTo>
                      <a:lnTo>
                        <a:pt x="2061" y="570"/>
                      </a:lnTo>
                      <a:lnTo>
                        <a:pt x="2152" y="441"/>
                      </a:lnTo>
                      <a:lnTo>
                        <a:pt x="1848" y="397"/>
                      </a:lnTo>
                      <a:lnTo>
                        <a:pt x="1656" y="212"/>
                      </a:lnTo>
                      <a:lnTo>
                        <a:pt x="1486" y="262"/>
                      </a:lnTo>
                      <a:lnTo>
                        <a:pt x="1239" y="205"/>
                      </a:lnTo>
                      <a:lnTo>
                        <a:pt x="1182" y="87"/>
                      </a:lnTo>
                      <a:lnTo>
                        <a:pt x="1013" y="155"/>
                      </a:lnTo>
                      <a:lnTo>
                        <a:pt x="707" y="148"/>
                      </a:lnTo>
                      <a:lnTo>
                        <a:pt x="547" y="0"/>
                      </a:lnTo>
                      <a:lnTo>
                        <a:pt x="439" y="41"/>
                      </a:lnTo>
                      <a:lnTo>
                        <a:pt x="502" y="133"/>
                      </a:lnTo>
                      <a:lnTo>
                        <a:pt x="369" y="233"/>
                      </a:lnTo>
                      <a:lnTo>
                        <a:pt x="283" y="368"/>
                      </a:lnTo>
                      <a:lnTo>
                        <a:pt x="325" y="591"/>
                      </a:lnTo>
                      <a:lnTo>
                        <a:pt x="148" y="648"/>
                      </a:lnTo>
                      <a:lnTo>
                        <a:pt x="70" y="690"/>
                      </a:lnTo>
                      <a:lnTo>
                        <a:pt x="57" y="790"/>
                      </a:lnTo>
                      <a:lnTo>
                        <a:pt x="127" y="897"/>
                      </a:lnTo>
                      <a:lnTo>
                        <a:pt x="120" y="997"/>
                      </a:lnTo>
                      <a:lnTo>
                        <a:pt x="7" y="1112"/>
                      </a:lnTo>
                      <a:lnTo>
                        <a:pt x="0" y="1220"/>
                      </a:lnTo>
                      <a:lnTo>
                        <a:pt x="135" y="1334"/>
                      </a:lnTo>
                      <a:lnTo>
                        <a:pt x="135" y="1334"/>
                      </a:lnTo>
                      <a:close/>
                    </a:path>
                  </a:pathLst>
                </a:custGeom>
                <a:solidFill>
                  <a:srgbClr val="c9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5832720" y="5808600"/>
                  <a:ext cx="356040" cy="114120"/>
                </a:xfrm>
                <a:custGeom>
                  <a:avLst/>
                  <a:gdLst/>
                  <a:ahLst/>
                  <a:rect l="l" t="t" r="r" b="b"/>
                  <a:pathLst>
                    <a:path w="2300" h="958">
                      <a:moveTo>
                        <a:pt x="346" y="579"/>
                      </a:moveTo>
                      <a:lnTo>
                        <a:pt x="312" y="722"/>
                      </a:lnTo>
                      <a:lnTo>
                        <a:pt x="616" y="885"/>
                      </a:lnTo>
                      <a:lnTo>
                        <a:pt x="1047" y="958"/>
                      </a:lnTo>
                      <a:lnTo>
                        <a:pt x="1409" y="958"/>
                      </a:lnTo>
                      <a:lnTo>
                        <a:pt x="1755" y="836"/>
                      </a:lnTo>
                      <a:lnTo>
                        <a:pt x="1903" y="878"/>
                      </a:lnTo>
                      <a:lnTo>
                        <a:pt x="1848" y="678"/>
                      </a:lnTo>
                      <a:lnTo>
                        <a:pt x="2137" y="437"/>
                      </a:lnTo>
                      <a:lnTo>
                        <a:pt x="2300" y="0"/>
                      </a:lnTo>
                      <a:lnTo>
                        <a:pt x="2123" y="308"/>
                      </a:lnTo>
                      <a:lnTo>
                        <a:pt x="1840" y="536"/>
                      </a:lnTo>
                      <a:lnTo>
                        <a:pt x="1515" y="701"/>
                      </a:lnTo>
                      <a:lnTo>
                        <a:pt x="1232" y="800"/>
                      </a:lnTo>
                      <a:lnTo>
                        <a:pt x="962" y="764"/>
                      </a:lnTo>
                      <a:lnTo>
                        <a:pt x="587" y="616"/>
                      </a:lnTo>
                      <a:lnTo>
                        <a:pt x="283" y="437"/>
                      </a:lnTo>
                      <a:lnTo>
                        <a:pt x="0" y="173"/>
                      </a:lnTo>
                      <a:lnTo>
                        <a:pt x="167" y="462"/>
                      </a:lnTo>
                      <a:lnTo>
                        <a:pt x="346" y="579"/>
                      </a:lnTo>
                      <a:lnTo>
                        <a:pt x="346" y="579"/>
                      </a:lnTo>
                      <a:close/>
                    </a:path>
                  </a:pathLst>
                </a:custGeom>
                <a:solidFill>
                  <a:srgbClr val="c9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5870160" y="5911560"/>
                  <a:ext cx="299880" cy="183960"/>
                </a:xfrm>
                <a:custGeom>
                  <a:avLst/>
                  <a:gdLst/>
                  <a:ahLst/>
                  <a:rect l="l" t="t" r="r" b="b"/>
                  <a:pathLst>
                    <a:path w="1939" h="1543">
                      <a:moveTo>
                        <a:pt x="42" y="77"/>
                      </a:moveTo>
                      <a:lnTo>
                        <a:pt x="0" y="271"/>
                      </a:lnTo>
                      <a:lnTo>
                        <a:pt x="105" y="243"/>
                      </a:lnTo>
                      <a:lnTo>
                        <a:pt x="190" y="463"/>
                      </a:lnTo>
                      <a:lnTo>
                        <a:pt x="247" y="572"/>
                      </a:lnTo>
                      <a:lnTo>
                        <a:pt x="331" y="543"/>
                      </a:lnTo>
                      <a:lnTo>
                        <a:pt x="409" y="421"/>
                      </a:lnTo>
                      <a:lnTo>
                        <a:pt x="515" y="393"/>
                      </a:lnTo>
                      <a:lnTo>
                        <a:pt x="559" y="585"/>
                      </a:lnTo>
                      <a:lnTo>
                        <a:pt x="622" y="629"/>
                      </a:lnTo>
                      <a:lnTo>
                        <a:pt x="552" y="935"/>
                      </a:lnTo>
                      <a:lnTo>
                        <a:pt x="559" y="1243"/>
                      </a:lnTo>
                      <a:lnTo>
                        <a:pt x="552" y="1399"/>
                      </a:lnTo>
                      <a:lnTo>
                        <a:pt x="580" y="1463"/>
                      </a:lnTo>
                      <a:lnTo>
                        <a:pt x="622" y="1406"/>
                      </a:lnTo>
                      <a:lnTo>
                        <a:pt x="715" y="642"/>
                      </a:lnTo>
                      <a:lnTo>
                        <a:pt x="793" y="556"/>
                      </a:lnTo>
                      <a:lnTo>
                        <a:pt x="877" y="785"/>
                      </a:lnTo>
                      <a:lnTo>
                        <a:pt x="991" y="1507"/>
                      </a:lnTo>
                      <a:lnTo>
                        <a:pt x="1046" y="1543"/>
                      </a:lnTo>
                      <a:lnTo>
                        <a:pt x="1139" y="1463"/>
                      </a:lnTo>
                      <a:lnTo>
                        <a:pt x="1337" y="1250"/>
                      </a:lnTo>
                      <a:lnTo>
                        <a:pt x="1755" y="1478"/>
                      </a:lnTo>
                      <a:lnTo>
                        <a:pt x="1939" y="1456"/>
                      </a:lnTo>
                      <a:lnTo>
                        <a:pt x="1846" y="1349"/>
                      </a:lnTo>
                      <a:lnTo>
                        <a:pt x="1529" y="1178"/>
                      </a:lnTo>
                      <a:lnTo>
                        <a:pt x="1331" y="1077"/>
                      </a:lnTo>
                      <a:lnTo>
                        <a:pt x="1217" y="1113"/>
                      </a:lnTo>
                      <a:lnTo>
                        <a:pt x="1090" y="1279"/>
                      </a:lnTo>
                      <a:lnTo>
                        <a:pt x="970" y="978"/>
                      </a:lnTo>
                      <a:lnTo>
                        <a:pt x="877" y="585"/>
                      </a:lnTo>
                      <a:lnTo>
                        <a:pt x="983" y="600"/>
                      </a:lnTo>
                      <a:lnTo>
                        <a:pt x="1069" y="536"/>
                      </a:lnTo>
                      <a:lnTo>
                        <a:pt x="1139" y="427"/>
                      </a:lnTo>
                      <a:lnTo>
                        <a:pt x="1308" y="549"/>
                      </a:lnTo>
                      <a:lnTo>
                        <a:pt x="1458" y="613"/>
                      </a:lnTo>
                      <a:lnTo>
                        <a:pt x="1514" y="543"/>
                      </a:lnTo>
                      <a:lnTo>
                        <a:pt x="1578" y="364"/>
                      </a:lnTo>
                      <a:lnTo>
                        <a:pt x="1557" y="228"/>
                      </a:lnTo>
                      <a:lnTo>
                        <a:pt x="1337" y="134"/>
                      </a:lnTo>
                      <a:lnTo>
                        <a:pt x="1380" y="399"/>
                      </a:lnTo>
                      <a:lnTo>
                        <a:pt x="1019" y="222"/>
                      </a:lnTo>
                      <a:lnTo>
                        <a:pt x="877" y="393"/>
                      </a:lnTo>
                      <a:lnTo>
                        <a:pt x="728" y="163"/>
                      </a:lnTo>
                      <a:lnTo>
                        <a:pt x="565" y="336"/>
                      </a:lnTo>
                      <a:lnTo>
                        <a:pt x="432" y="77"/>
                      </a:lnTo>
                      <a:lnTo>
                        <a:pt x="198" y="313"/>
                      </a:lnTo>
                      <a:lnTo>
                        <a:pt x="219" y="13"/>
                      </a:lnTo>
                      <a:lnTo>
                        <a:pt x="162" y="0"/>
                      </a:lnTo>
                      <a:lnTo>
                        <a:pt x="42" y="77"/>
                      </a:lnTo>
                      <a:lnTo>
                        <a:pt x="42" y="77"/>
                      </a:lnTo>
                      <a:close/>
                    </a:path>
                  </a:pathLst>
                </a:custGeom>
                <a:solidFill>
                  <a:srgbClr val="c9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a:off x="5819400" y="6025680"/>
                  <a:ext cx="120600" cy="56880"/>
                </a:xfrm>
                <a:custGeom>
                  <a:avLst/>
                  <a:gdLst/>
                  <a:ahLst/>
                  <a:rect l="l" t="t" r="r" b="b"/>
                  <a:pathLst>
                    <a:path w="780" h="477">
                      <a:moveTo>
                        <a:pt x="0" y="435"/>
                      </a:moveTo>
                      <a:lnTo>
                        <a:pt x="143" y="326"/>
                      </a:lnTo>
                      <a:lnTo>
                        <a:pt x="344" y="161"/>
                      </a:lnTo>
                      <a:lnTo>
                        <a:pt x="559" y="0"/>
                      </a:lnTo>
                      <a:lnTo>
                        <a:pt x="673" y="34"/>
                      </a:lnTo>
                      <a:lnTo>
                        <a:pt x="723" y="249"/>
                      </a:lnTo>
                      <a:lnTo>
                        <a:pt x="780" y="363"/>
                      </a:lnTo>
                      <a:lnTo>
                        <a:pt x="666" y="277"/>
                      </a:lnTo>
                      <a:lnTo>
                        <a:pt x="554" y="106"/>
                      </a:lnTo>
                      <a:lnTo>
                        <a:pt x="426" y="292"/>
                      </a:lnTo>
                      <a:lnTo>
                        <a:pt x="177" y="441"/>
                      </a:lnTo>
                      <a:lnTo>
                        <a:pt x="78" y="477"/>
                      </a:lnTo>
                      <a:lnTo>
                        <a:pt x="0" y="435"/>
                      </a:lnTo>
                      <a:lnTo>
                        <a:pt x="0" y="435"/>
                      </a:lnTo>
                      <a:close/>
                    </a:path>
                  </a:pathLst>
                </a:custGeom>
                <a:solidFill>
                  <a:srgbClr val="c9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94" name=""/>
                <p:cNvSpPr/>
                <p:nvPr/>
              </p:nvSpPr>
              <p:spPr>
                <a:xfrm>
                  <a:off x="6118200" y="5769720"/>
                  <a:ext cx="52560" cy="34920"/>
                </a:xfrm>
                <a:custGeom>
                  <a:avLst/>
                  <a:gdLst/>
                  <a:ahLst/>
                  <a:rect l="l" t="t" r="r" b="b"/>
                  <a:pathLst>
                    <a:path w="340" h="293">
                      <a:moveTo>
                        <a:pt x="55" y="0"/>
                      </a:moveTo>
                      <a:lnTo>
                        <a:pt x="289" y="99"/>
                      </a:lnTo>
                      <a:lnTo>
                        <a:pt x="340" y="160"/>
                      </a:lnTo>
                      <a:lnTo>
                        <a:pt x="327" y="200"/>
                      </a:lnTo>
                      <a:lnTo>
                        <a:pt x="205" y="293"/>
                      </a:lnTo>
                      <a:lnTo>
                        <a:pt x="224" y="208"/>
                      </a:lnTo>
                      <a:lnTo>
                        <a:pt x="40" y="154"/>
                      </a:lnTo>
                      <a:lnTo>
                        <a:pt x="0" y="75"/>
                      </a:lnTo>
                      <a:lnTo>
                        <a:pt x="55" y="0"/>
                      </a:lnTo>
                      <a:lnTo>
                        <a:pt x="55" y="0"/>
                      </a:lnTo>
                      <a:close/>
                    </a:path>
                  </a:pathLst>
                </a:custGeom>
                <a:solidFill>
                  <a:srgbClr val="c94d4d"/>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95" name=""/>
                <p:cNvSpPr/>
                <p:nvPr/>
              </p:nvSpPr>
              <p:spPr>
                <a:xfrm>
                  <a:off x="5846760" y="5879880"/>
                  <a:ext cx="300960" cy="89280"/>
                </a:xfrm>
                <a:custGeom>
                  <a:avLst/>
                  <a:gdLst/>
                  <a:ahLst/>
                  <a:rect l="l" t="t" r="r" b="b"/>
                  <a:pathLst>
                    <a:path w="1945" h="749">
                      <a:moveTo>
                        <a:pt x="287" y="36"/>
                      </a:moveTo>
                      <a:lnTo>
                        <a:pt x="264" y="80"/>
                      </a:lnTo>
                      <a:lnTo>
                        <a:pt x="244" y="120"/>
                      </a:lnTo>
                      <a:lnTo>
                        <a:pt x="221" y="158"/>
                      </a:lnTo>
                      <a:lnTo>
                        <a:pt x="198" y="194"/>
                      </a:lnTo>
                      <a:lnTo>
                        <a:pt x="152" y="265"/>
                      </a:lnTo>
                      <a:lnTo>
                        <a:pt x="103" y="337"/>
                      </a:lnTo>
                      <a:lnTo>
                        <a:pt x="181" y="310"/>
                      </a:lnTo>
                      <a:lnTo>
                        <a:pt x="268" y="263"/>
                      </a:lnTo>
                      <a:lnTo>
                        <a:pt x="308" y="242"/>
                      </a:lnTo>
                      <a:lnTo>
                        <a:pt x="360" y="238"/>
                      </a:lnTo>
                      <a:lnTo>
                        <a:pt x="382" y="272"/>
                      </a:lnTo>
                      <a:lnTo>
                        <a:pt x="407" y="287"/>
                      </a:lnTo>
                      <a:lnTo>
                        <a:pt x="409" y="316"/>
                      </a:lnTo>
                      <a:lnTo>
                        <a:pt x="394" y="542"/>
                      </a:lnTo>
                      <a:lnTo>
                        <a:pt x="432" y="496"/>
                      </a:lnTo>
                      <a:lnTo>
                        <a:pt x="470" y="451"/>
                      </a:lnTo>
                      <a:lnTo>
                        <a:pt x="508" y="399"/>
                      </a:lnTo>
                      <a:lnTo>
                        <a:pt x="553" y="342"/>
                      </a:lnTo>
                      <a:lnTo>
                        <a:pt x="584" y="323"/>
                      </a:lnTo>
                      <a:lnTo>
                        <a:pt x="616" y="342"/>
                      </a:lnTo>
                      <a:lnTo>
                        <a:pt x="643" y="417"/>
                      </a:lnTo>
                      <a:lnTo>
                        <a:pt x="669" y="517"/>
                      </a:lnTo>
                      <a:lnTo>
                        <a:pt x="696" y="605"/>
                      </a:lnTo>
                      <a:lnTo>
                        <a:pt x="723" y="552"/>
                      </a:lnTo>
                      <a:lnTo>
                        <a:pt x="749" y="498"/>
                      </a:lnTo>
                      <a:lnTo>
                        <a:pt x="778" y="443"/>
                      </a:lnTo>
                      <a:lnTo>
                        <a:pt x="808" y="380"/>
                      </a:lnTo>
                      <a:lnTo>
                        <a:pt x="821" y="363"/>
                      </a:lnTo>
                      <a:lnTo>
                        <a:pt x="837" y="356"/>
                      </a:lnTo>
                      <a:lnTo>
                        <a:pt x="869" y="371"/>
                      </a:lnTo>
                      <a:lnTo>
                        <a:pt x="905" y="420"/>
                      </a:lnTo>
                      <a:lnTo>
                        <a:pt x="924" y="472"/>
                      </a:lnTo>
                      <a:lnTo>
                        <a:pt x="943" y="527"/>
                      </a:lnTo>
                      <a:lnTo>
                        <a:pt x="972" y="582"/>
                      </a:lnTo>
                      <a:lnTo>
                        <a:pt x="1034" y="654"/>
                      </a:lnTo>
                      <a:lnTo>
                        <a:pt x="1074" y="550"/>
                      </a:lnTo>
                      <a:lnTo>
                        <a:pt x="1097" y="498"/>
                      </a:lnTo>
                      <a:lnTo>
                        <a:pt x="1129" y="445"/>
                      </a:lnTo>
                      <a:lnTo>
                        <a:pt x="1154" y="426"/>
                      </a:lnTo>
                      <a:lnTo>
                        <a:pt x="1183" y="434"/>
                      </a:lnTo>
                      <a:lnTo>
                        <a:pt x="1230" y="464"/>
                      </a:lnTo>
                      <a:lnTo>
                        <a:pt x="1272" y="493"/>
                      </a:lnTo>
                      <a:lnTo>
                        <a:pt x="1312" y="519"/>
                      </a:lnTo>
                      <a:lnTo>
                        <a:pt x="1348" y="546"/>
                      </a:lnTo>
                      <a:lnTo>
                        <a:pt x="1386" y="569"/>
                      </a:lnTo>
                      <a:lnTo>
                        <a:pt x="1424" y="593"/>
                      </a:lnTo>
                      <a:lnTo>
                        <a:pt x="1466" y="616"/>
                      </a:lnTo>
                      <a:lnTo>
                        <a:pt x="1512" y="639"/>
                      </a:lnTo>
                      <a:lnTo>
                        <a:pt x="1498" y="540"/>
                      </a:lnTo>
                      <a:lnTo>
                        <a:pt x="1462" y="441"/>
                      </a:lnTo>
                      <a:lnTo>
                        <a:pt x="1458" y="409"/>
                      </a:lnTo>
                      <a:lnTo>
                        <a:pt x="1477" y="384"/>
                      </a:lnTo>
                      <a:lnTo>
                        <a:pt x="1565" y="373"/>
                      </a:lnTo>
                      <a:lnTo>
                        <a:pt x="1629" y="403"/>
                      </a:lnTo>
                      <a:lnTo>
                        <a:pt x="1698" y="428"/>
                      </a:lnTo>
                      <a:lnTo>
                        <a:pt x="1766" y="445"/>
                      </a:lnTo>
                      <a:lnTo>
                        <a:pt x="1835" y="445"/>
                      </a:lnTo>
                      <a:lnTo>
                        <a:pt x="1806" y="323"/>
                      </a:lnTo>
                      <a:lnTo>
                        <a:pt x="1791" y="265"/>
                      </a:lnTo>
                      <a:lnTo>
                        <a:pt x="1770" y="198"/>
                      </a:lnTo>
                      <a:lnTo>
                        <a:pt x="1780" y="177"/>
                      </a:lnTo>
                      <a:lnTo>
                        <a:pt x="1801" y="187"/>
                      </a:lnTo>
                      <a:lnTo>
                        <a:pt x="1837" y="263"/>
                      </a:lnTo>
                      <a:lnTo>
                        <a:pt x="1875" y="329"/>
                      </a:lnTo>
                      <a:lnTo>
                        <a:pt x="1945" y="472"/>
                      </a:lnTo>
                      <a:lnTo>
                        <a:pt x="1943" y="517"/>
                      </a:lnTo>
                      <a:lnTo>
                        <a:pt x="1905" y="536"/>
                      </a:lnTo>
                      <a:lnTo>
                        <a:pt x="1785" y="533"/>
                      </a:lnTo>
                      <a:lnTo>
                        <a:pt x="1675" y="493"/>
                      </a:lnTo>
                      <a:lnTo>
                        <a:pt x="1591" y="474"/>
                      </a:lnTo>
                      <a:lnTo>
                        <a:pt x="1607" y="582"/>
                      </a:lnTo>
                      <a:lnTo>
                        <a:pt x="1589" y="704"/>
                      </a:lnTo>
                      <a:lnTo>
                        <a:pt x="1572" y="738"/>
                      </a:lnTo>
                      <a:lnTo>
                        <a:pt x="1534" y="736"/>
                      </a:lnTo>
                      <a:lnTo>
                        <a:pt x="1215" y="584"/>
                      </a:lnTo>
                      <a:lnTo>
                        <a:pt x="1181" y="624"/>
                      </a:lnTo>
                      <a:lnTo>
                        <a:pt x="1143" y="652"/>
                      </a:lnTo>
                      <a:lnTo>
                        <a:pt x="1069" y="728"/>
                      </a:lnTo>
                      <a:lnTo>
                        <a:pt x="1044" y="749"/>
                      </a:lnTo>
                      <a:lnTo>
                        <a:pt x="1015" y="732"/>
                      </a:lnTo>
                      <a:lnTo>
                        <a:pt x="972" y="675"/>
                      </a:lnTo>
                      <a:lnTo>
                        <a:pt x="928" y="614"/>
                      </a:lnTo>
                      <a:lnTo>
                        <a:pt x="869" y="521"/>
                      </a:lnTo>
                      <a:lnTo>
                        <a:pt x="831" y="572"/>
                      </a:lnTo>
                      <a:lnTo>
                        <a:pt x="789" y="610"/>
                      </a:lnTo>
                      <a:lnTo>
                        <a:pt x="711" y="711"/>
                      </a:lnTo>
                      <a:lnTo>
                        <a:pt x="696" y="730"/>
                      </a:lnTo>
                      <a:lnTo>
                        <a:pt x="679" y="732"/>
                      </a:lnTo>
                      <a:lnTo>
                        <a:pt x="654" y="702"/>
                      </a:lnTo>
                      <a:lnTo>
                        <a:pt x="637" y="637"/>
                      </a:lnTo>
                      <a:lnTo>
                        <a:pt x="612" y="593"/>
                      </a:lnTo>
                      <a:lnTo>
                        <a:pt x="563" y="483"/>
                      </a:lnTo>
                      <a:lnTo>
                        <a:pt x="515" y="538"/>
                      </a:lnTo>
                      <a:lnTo>
                        <a:pt x="475" y="576"/>
                      </a:lnTo>
                      <a:lnTo>
                        <a:pt x="434" y="614"/>
                      </a:lnTo>
                      <a:lnTo>
                        <a:pt x="409" y="639"/>
                      </a:lnTo>
                      <a:lnTo>
                        <a:pt x="379" y="671"/>
                      </a:lnTo>
                      <a:lnTo>
                        <a:pt x="356" y="686"/>
                      </a:lnTo>
                      <a:lnTo>
                        <a:pt x="333" y="685"/>
                      </a:lnTo>
                      <a:lnTo>
                        <a:pt x="314" y="641"/>
                      </a:lnTo>
                      <a:lnTo>
                        <a:pt x="333" y="314"/>
                      </a:lnTo>
                      <a:lnTo>
                        <a:pt x="270" y="344"/>
                      </a:lnTo>
                      <a:lnTo>
                        <a:pt x="240" y="365"/>
                      </a:lnTo>
                      <a:lnTo>
                        <a:pt x="204" y="382"/>
                      </a:lnTo>
                      <a:lnTo>
                        <a:pt x="118" y="407"/>
                      </a:lnTo>
                      <a:lnTo>
                        <a:pt x="31" y="411"/>
                      </a:lnTo>
                      <a:lnTo>
                        <a:pt x="0" y="403"/>
                      </a:lnTo>
                      <a:lnTo>
                        <a:pt x="12" y="377"/>
                      </a:lnTo>
                      <a:lnTo>
                        <a:pt x="44" y="327"/>
                      </a:lnTo>
                      <a:lnTo>
                        <a:pt x="72" y="282"/>
                      </a:lnTo>
                      <a:lnTo>
                        <a:pt x="101" y="236"/>
                      </a:lnTo>
                      <a:lnTo>
                        <a:pt x="128" y="192"/>
                      </a:lnTo>
                      <a:lnTo>
                        <a:pt x="152" y="147"/>
                      </a:lnTo>
                      <a:lnTo>
                        <a:pt x="179" y="101"/>
                      </a:lnTo>
                      <a:lnTo>
                        <a:pt x="230" y="0"/>
                      </a:lnTo>
                      <a:lnTo>
                        <a:pt x="266" y="4"/>
                      </a:lnTo>
                      <a:lnTo>
                        <a:pt x="287" y="36"/>
                      </a:lnTo>
                      <a:lnTo>
                        <a:pt x="287" y="36"/>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396" name=""/>
                <p:cNvSpPr/>
                <p:nvPr/>
              </p:nvSpPr>
              <p:spPr>
                <a:xfrm>
                  <a:off x="5814720" y="5915160"/>
                  <a:ext cx="73080" cy="159120"/>
                </a:xfrm>
                <a:custGeom>
                  <a:avLst/>
                  <a:gdLst/>
                  <a:ahLst/>
                  <a:rect l="l" t="t" r="r" b="b"/>
                  <a:pathLst>
                    <a:path w="473" h="1334">
                      <a:moveTo>
                        <a:pt x="473" y="53"/>
                      </a:moveTo>
                      <a:lnTo>
                        <a:pt x="460" y="103"/>
                      </a:lnTo>
                      <a:lnTo>
                        <a:pt x="437" y="198"/>
                      </a:lnTo>
                      <a:lnTo>
                        <a:pt x="414" y="300"/>
                      </a:lnTo>
                      <a:lnTo>
                        <a:pt x="401" y="367"/>
                      </a:lnTo>
                      <a:lnTo>
                        <a:pt x="369" y="481"/>
                      </a:lnTo>
                      <a:lnTo>
                        <a:pt x="342" y="578"/>
                      </a:lnTo>
                      <a:lnTo>
                        <a:pt x="300" y="739"/>
                      </a:lnTo>
                      <a:lnTo>
                        <a:pt x="277" y="817"/>
                      </a:lnTo>
                      <a:lnTo>
                        <a:pt x="253" y="899"/>
                      </a:lnTo>
                      <a:lnTo>
                        <a:pt x="219" y="992"/>
                      </a:lnTo>
                      <a:lnTo>
                        <a:pt x="198" y="1043"/>
                      </a:lnTo>
                      <a:lnTo>
                        <a:pt x="175" y="1102"/>
                      </a:lnTo>
                      <a:lnTo>
                        <a:pt x="142" y="1165"/>
                      </a:lnTo>
                      <a:lnTo>
                        <a:pt x="106" y="1216"/>
                      </a:lnTo>
                      <a:lnTo>
                        <a:pt x="68" y="1268"/>
                      </a:lnTo>
                      <a:lnTo>
                        <a:pt x="28" y="1329"/>
                      </a:lnTo>
                      <a:lnTo>
                        <a:pt x="6" y="1334"/>
                      </a:lnTo>
                      <a:lnTo>
                        <a:pt x="0" y="1311"/>
                      </a:lnTo>
                      <a:lnTo>
                        <a:pt x="106" y="1068"/>
                      </a:lnTo>
                      <a:lnTo>
                        <a:pt x="150" y="954"/>
                      </a:lnTo>
                      <a:lnTo>
                        <a:pt x="184" y="848"/>
                      </a:lnTo>
                      <a:lnTo>
                        <a:pt x="232" y="648"/>
                      </a:lnTo>
                      <a:lnTo>
                        <a:pt x="253" y="549"/>
                      </a:lnTo>
                      <a:lnTo>
                        <a:pt x="276" y="447"/>
                      </a:lnTo>
                      <a:lnTo>
                        <a:pt x="300" y="338"/>
                      </a:lnTo>
                      <a:lnTo>
                        <a:pt x="334" y="220"/>
                      </a:lnTo>
                      <a:lnTo>
                        <a:pt x="365" y="82"/>
                      </a:lnTo>
                      <a:lnTo>
                        <a:pt x="378" y="53"/>
                      </a:lnTo>
                      <a:lnTo>
                        <a:pt x="397" y="25"/>
                      </a:lnTo>
                      <a:lnTo>
                        <a:pt x="420" y="0"/>
                      </a:lnTo>
                      <a:lnTo>
                        <a:pt x="450" y="0"/>
                      </a:lnTo>
                      <a:lnTo>
                        <a:pt x="473" y="21"/>
                      </a:lnTo>
                      <a:lnTo>
                        <a:pt x="473" y="53"/>
                      </a:lnTo>
                      <a:lnTo>
                        <a:pt x="473"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5828760" y="6034680"/>
                  <a:ext cx="88200" cy="48960"/>
                </a:xfrm>
                <a:custGeom>
                  <a:avLst/>
                  <a:gdLst/>
                  <a:ahLst/>
                  <a:rect l="l" t="t" r="r" b="b"/>
                  <a:pathLst>
                    <a:path w="571" h="410">
                      <a:moveTo>
                        <a:pt x="15" y="376"/>
                      </a:moveTo>
                      <a:lnTo>
                        <a:pt x="67" y="365"/>
                      </a:lnTo>
                      <a:lnTo>
                        <a:pt x="105" y="334"/>
                      </a:lnTo>
                      <a:lnTo>
                        <a:pt x="139" y="296"/>
                      </a:lnTo>
                      <a:lnTo>
                        <a:pt x="160" y="277"/>
                      </a:lnTo>
                      <a:lnTo>
                        <a:pt x="181" y="258"/>
                      </a:lnTo>
                      <a:lnTo>
                        <a:pt x="240" y="213"/>
                      </a:lnTo>
                      <a:lnTo>
                        <a:pt x="301" y="169"/>
                      </a:lnTo>
                      <a:lnTo>
                        <a:pt x="329" y="144"/>
                      </a:lnTo>
                      <a:lnTo>
                        <a:pt x="358" y="125"/>
                      </a:lnTo>
                      <a:lnTo>
                        <a:pt x="409" y="89"/>
                      </a:lnTo>
                      <a:lnTo>
                        <a:pt x="458" y="51"/>
                      </a:lnTo>
                      <a:lnTo>
                        <a:pt x="512" y="0"/>
                      </a:lnTo>
                      <a:lnTo>
                        <a:pt x="529" y="7"/>
                      </a:lnTo>
                      <a:lnTo>
                        <a:pt x="550" y="40"/>
                      </a:lnTo>
                      <a:lnTo>
                        <a:pt x="571" y="102"/>
                      </a:lnTo>
                      <a:lnTo>
                        <a:pt x="548" y="137"/>
                      </a:lnTo>
                      <a:lnTo>
                        <a:pt x="527" y="161"/>
                      </a:lnTo>
                      <a:lnTo>
                        <a:pt x="481" y="192"/>
                      </a:lnTo>
                      <a:lnTo>
                        <a:pt x="371" y="260"/>
                      </a:lnTo>
                      <a:lnTo>
                        <a:pt x="308" y="308"/>
                      </a:lnTo>
                      <a:lnTo>
                        <a:pt x="249" y="353"/>
                      </a:lnTo>
                      <a:lnTo>
                        <a:pt x="192" y="384"/>
                      </a:lnTo>
                      <a:lnTo>
                        <a:pt x="137" y="401"/>
                      </a:lnTo>
                      <a:lnTo>
                        <a:pt x="15" y="410"/>
                      </a:lnTo>
                      <a:lnTo>
                        <a:pt x="0" y="393"/>
                      </a:lnTo>
                      <a:lnTo>
                        <a:pt x="4" y="382"/>
                      </a:lnTo>
                      <a:lnTo>
                        <a:pt x="15" y="376"/>
                      </a:lnTo>
                      <a:lnTo>
                        <a:pt x="15" y="37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398" name=""/>
                <p:cNvSpPr/>
                <p:nvPr/>
              </p:nvSpPr>
              <p:spPr>
                <a:xfrm>
                  <a:off x="5905440" y="6034680"/>
                  <a:ext cx="52920" cy="50040"/>
                </a:xfrm>
                <a:custGeom>
                  <a:avLst/>
                  <a:gdLst/>
                  <a:ahLst/>
                  <a:rect l="l" t="t" r="r" b="b"/>
                  <a:pathLst>
                    <a:path w="345" h="420">
                      <a:moveTo>
                        <a:pt x="65" y="13"/>
                      </a:moveTo>
                      <a:lnTo>
                        <a:pt x="120" y="89"/>
                      </a:lnTo>
                      <a:lnTo>
                        <a:pt x="189" y="192"/>
                      </a:lnTo>
                      <a:lnTo>
                        <a:pt x="230" y="245"/>
                      </a:lnTo>
                      <a:lnTo>
                        <a:pt x="263" y="298"/>
                      </a:lnTo>
                      <a:lnTo>
                        <a:pt x="297" y="348"/>
                      </a:lnTo>
                      <a:lnTo>
                        <a:pt x="318" y="370"/>
                      </a:lnTo>
                      <a:lnTo>
                        <a:pt x="343" y="395"/>
                      </a:lnTo>
                      <a:lnTo>
                        <a:pt x="345" y="418"/>
                      </a:lnTo>
                      <a:lnTo>
                        <a:pt x="322" y="420"/>
                      </a:lnTo>
                      <a:lnTo>
                        <a:pt x="293" y="397"/>
                      </a:lnTo>
                      <a:lnTo>
                        <a:pt x="267" y="378"/>
                      </a:lnTo>
                      <a:lnTo>
                        <a:pt x="213" y="340"/>
                      </a:lnTo>
                      <a:lnTo>
                        <a:pt x="160" y="302"/>
                      </a:lnTo>
                      <a:lnTo>
                        <a:pt x="111" y="252"/>
                      </a:lnTo>
                      <a:lnTo>
                        <a:pt x="31" y="129"/>
                      </a:lnTo>
                      <a:lnTo>
                        <a:pt x="4" y="49"/>
                      </a:lnTo>
                      <a:lnTo>
                        <a:pt x="0" y="21"/>
                      </a:lnTo>
                      <a:lnTo>
                        <a:pt x="16" y="0"/>
                      </a:lnTo>
                      <a:lnTo>
                        <a:pt x="65" y="13"/>
                      </a:lnTo>
                      <a:lnTo>
                        <a:pt x="65" y="13"/>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399" name=""/>
                <p:cNvSpPr/>
                <p:nvPr/>
              </p:nvSpPr>
              <p:spPr>
                <a:xfrm>
                  <a:off x="5964120" y="5941440"/>
                  <a:ext cx="32760" cy="140760"/>
                </a:xfrm>
                <a:custGeom>
                  <a:avLst/>
                  <a:gdLst/>
                  <a:ahLst/>
                  <a:rect l="l" t="t" r="r" b="b"/>
                  <a:pathLst>
                    <a:path w="213" h="1183">
                      <a:moveTo>
                        <a:pt x="213" y="137"/>
                      </a:moveTo>
                      <a:lnTo>
                        <a:pt x="186" y="295"/>
                      </a:lnTo>
                      <a:lnTo>
                        <a:pt x="156" y="434"/>
                      </a:lnTo>
                      <a:lnTo>
                        <a:pt x="99" y="730"/>
                      </a:lnTo>
                      <a:lnTo>
                        <a:pt x="36" y="1145"/>
                      </a:lnTo>
                      <a:lnTo>
                        <a:pt x="28" y="1171"/>
                      </a:lnTo>
                      <a:lnTo>
                        <a:pt x="15" y="1183"/>
                      </a:lnTo>
                      <a:lnTo>
                        <a:pt x="0" y="1156"/>
                      </a:lnTo>
                      <a:lnTo>
                        <a:pt x="13" y="715"/>
                      </a:lnTo>
                      <a:lnTo>
                        <a:pt x="40" y="542"/>
                      </a:lnTo>
                      <a:lnTo>
                        <a:pt x="74" y="367"/>
                      </a:lnTo>
                      <a:lnTo>
                        <a:pt x="108" y="192"/>
                      </a:lnTo>
                      <a:lnTo>
                        <a:pt x="137" y="19"/>
                      </a:lnTo>
                      <a:lnTo>
                        <a:pt x="152" y="0"/>
                      </a:lnTo>
                      <a:lnTo>
                        <a:pt x="180" y="27"/>
                      </a:lnTo>
                      <a:lnTo>
                        <a:pt x="213" y="137"/>
                      </a:lnTo>
                      <a:lnTo>
                        <a:pt x="213"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5983200" y="5962320"/>
                  <a:ext cx="41760" cy="129240"/>
                </a:xfrm>
                <a:custGeom>
                  <a:avLst/>
                  <a:gdLst/>
                  <a:ahLst/>
                  <a:rect l="l" t="t" r="r" b="b"/>
                  <a:pathLst>
                    <a:path w="270" h="1084">
                      <a:moveTo>
                        <a:pt x="65" y="33"/>
                      </a:moveTo>
                      <a:lnTo>
                        <a:pt x="88" y="97"/>
                      </a:lnTo>
                      <a:lnTo>
                        <a:pt x="209" y="456"/>
                      </a:lnTo>
                      <a:lnTo>
                        <a:pt x="247" y="759"/>
                      </a:lnTo>
                      <a:lnTo>
                        <a:pt x="270" y="1067"/>
                      </a:lnTo>
                      <a:lnTo>
                        <a:pt x="255" y="1084"/>
                      </a:lnTo>
                      <a:lnTo>
                        <a:pt x="238" y="1069"/>
                      </a:lnTo>
                      <a:lnTo>
                        <a:pt x="219" y="907"/>
                      </a:lnTo>
                      <a:lnTo>
                        <a:pt x="190" y="768"/>
                      </a:lnTo>
                      <a:lnTo>
                        <a:pt x="160" y="628"/>
                      </a:lnTo>
                      <a:lnTo>
                        <a:pt x="131" y="470"/>
                      </a:lnTo>
                      <a:lnTo>
                        <a:pt x="111" y="375"/>
                      </a:lnTo>
                      <a:lnTo>
                        <a:pt x="84" y="295"/>
                      </a:lnTo>
                      <a:lnTo>
                        <a:pt x="52" y="215"/>
                      </a:lnTo>
                      <a:lnTo>
                        <a:pt x="12" y="126"/>
                      </a:lnTo>
                      <a:lnTo>
                        <a:pt x="0" y="33"/>
                      </a:lnTo>
                      <a:lnTo>
                        <a:pt x="12" y="8"/>
                      </a:lnTo>
                      <a:lnTo>
                        <a:pt x="33" y="0"/>
                      </a:lnTo>
                      <a:lnTo>
                        <a:pt x="55" y="8"/>
                      </a:lnTo>
                      <a:lnTo>
                        <a:pt x="65" y="33"/>
                      </a:lnTo>
                      <a:lnTo>
                        <a:pt x="65"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a:off x="6040080" y="6048360"/>
                  <a:ext cx="124200" cy="44280"/>
                </a:xfrm>
                <a:custGeom>
                  <a:avLst/>
                  <a:gdLst/>
                  <a:ahLst/>
                  <a:rect l="l" t="t" r="r" b="b"/>
                  <a:pathLst>
                    <a:path w="804" h="370">
                      <a:moveTo>
                        <a:pt x="0" y="347"/>
                      </a:moveTo>
                      <a:lnTo>
                        <a:pt x="21" y="313"/>
                      </a:lnTo>
                      <a:lnTo>
                        <a:pt x="48" y="275"/>
                      </a:lnTo>
                      <a:lnTo>
                        <a:pt x="80" y="235"/>
                      </a:lnTo>
                      <a:lnTo>
                        <a:pt x="112" y="193"/>
                      </a:lnTo>
                      <a:lnTo>
                        <a:pt x="146" y="150"/>
                      </a:lnTo>
                      <a:lnTo>
                        <a:pt x="179" y="110"/>
                      </a:lnTo>
                      <a:lnTo>
                        <a:pt x="226" y="38"/>
                      </a:lnTo>
                      <a:lnTo>
                        <a:pt x="249" y="9"/>
                      </a:lnTo>
                      <a:lnTo>
                        <a:pt x="276" y="0"/>
                      </a:lnTo>
                      <a:lnTo>
                        <a:pt x="300" y="11"/>
                      </a:lnTo>
                      <a:lnTo>
                        <a:pt x="321" y="41"/>
                      </a:lnTo>
                      <a:lnTo>
                        <a:pt x="342" y="76"/>
                      </a:lnTo>
                      <a:lnTo>
                        <a:pt x="371" y="98"/>
                      </a:lnTo>
                      <a:lnTo>
                        <a:pt x="441" y="142"/>
                      </a:lnTo>
                      <a:lnTo>
                        <a:pt x="485" y="169"/>
                      </a:lnTo>
                      <a:lnTo>
                        <a:pt x="527" y="190"/>
                      </a:lnTo>
                      <a:lnTo>
                        <a:pt x="618" y="224"/>
                      </a:lnTo>
                      <a:lnTo>
                        <a:pt x="702" y="268"/>
                      </a:lnTo>
                      <a:lnTo>
                        <a:pt x="742" y="287"/>
                      </a:lnTo>
                      <a:lnTo>
                        <a:pt x="789" y="294"/>
                      </a:lnTo>
                      <a:lnTo>
                        <a:pt x="804" y="311"/>
                      </a:lnTo>
                      <a:lnTo>
                        <a:pt x="800" y="323"/>
                      </a:lnTo>
                      <a:lnTo>
                        <a:pt x="789" y="327"/>
                      </a:lnTo>
                      <a:lnTo>
                        <a:pt x="683" y="344"/>
                      </a:lnTo>
                      <a:lnTo>
                        <a:pt x="578" y="340"/>
                      </a:lnTo>
                      <a:lnTo>
                        <a:pt x="373" y="243"/>
                      </a:lnTo>
                      <a:lnTo>
                        <a:pt x="316" y="201"/>
                      </a:lnTo>
                      <a:lnTo>
                        <a:pt x="270" y="157"/>
                      </a:lnTo>
                      <a:lnTo>
                        <a:pt x="249" y="174"/>
                      </a:lnTo>
                      <a:lnTo>
                        <a:pt x="221" y="199"/>
                      </a:lnTo>
                      <a:lnTo>
                        <a:pt x="183" y="226"/>
                      </a:lnTo>
                      <a:lnTo>
                        <a:pt x="145" y="254"/>
                      </a:lnTo>
                      <a:lnTo>
                        <a:pt x="105" y="285"/>
                      </a:lnTo>
                      <a:lnTo>
                        <a:pt x="70" y="313"/>
                      </a:lnTo>
                      <a:lnTo>
                        <a:pt x="25" y="365"/>
                      </a:lnTo>
                      <a:lnTo>
                        <a:pt x="4" y="370"/>
                      </a:lnTo>
                      <a:lnTo>
                        <a:pt x="0" y="347"/>
                      </a:lnTo>
                      <a:lnTo>
                        <a:pt x="0" y="34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02" name=""/>
                <p:cNvSpPr/>
                <p:nvPr/>
              </p:nvSpPr>
              <p:spPr>
                <a:xfrm>
                  <a:off x="6106680" y="5935680"/>
                  <a:ext cx="63360" cy="139680"/>
                </a:xfrm>
                <a:custGeom>
                  <a:avLst/>
                  <a:gdLst/>
                  <a:ahLst/>
                  <a:rect l="l" t="t" r="r" b="b"/>
                  <a:pathLst>
                    <a:path w="410" h="1173">
                      <a:moveTo>
                        <a:pt x="28" y="8"/>
                      </a:moveTo>
                      <a:lnTo>
                        <a:pt x="80" y="112"/>
                      </a:lnTo>
                      <a:lnTo>
                        <a:pt x="118" y="220"/>
                      </a:lnTo>
                      <a:lnTo>
                        <a:pt x="141" y="297"/>
                      </a:lnTo>
                      <a:lnTo>
                        <a:pt x="165" y="365"/>
                      </a:lnTo>
                      <a:lnTo>
                        <a:pt x="209" y="489"/>
                      </a:lnTo>
                      <a:lnTo>
                        <a:pt x="251" y="612"/>
                      </a:lnTo>
                      <a:lnTo>
                        <a:pt x="287" y="758"/>
                      </a:lnTo>
                      <a:lnTo>
                        <a:pt x="340" y="907"/>
                      </a:lnTo>
                      <a:lnTo>
                        <a:pt x="371" y="1030"/>
                      </a:lnTo>
                      <a:lnTo>
                        <a:pt x="382" y="1089"/>
                      </a:lnTo>
                      <a:lnTo>
                        <a:pt x="410" y="1150"/>
                      </a:lnTo>
                      <a:lnTo>
                        <a:pt x="405" y="1173"/>
                      </a:lnTo>
                      <a:lnTo>
                        <a:pt x="382" y="1167"/>
                      </a:lnTo>
                      <a:lnTo>
                        <a:pt x="344" y="1110"/>
                      </a:lnTo>
                      <a:lnTo>
                        <a:pt x="306" y="1059"/>
                      </a:lnTo>
                      <a:lnTo>
                        <a:pt x="270" y="1009"/>
                      </a:lnTo>
                      <a:lnTo>
                        <a:pt x="237" y="949"/>
                      </a:lnTo>
                      <a:lnTo>
                        <a:pt x="182" y="789"/>
                      </a:lnTo>
                      <a:lnTo>
                        <a:pt x="148" y="642"/>
                      </a:lnTo>
                      <a:lnTo>
                        <a:pt x="114" y="515"/>
                      </a:lnTo>
                      <a:lnTo>
                        <a:pt x="78" y="388"/>
                      </a:lnTo>
                      <a:lnTo>
                        <a:pt x="57" y="319"/>
                      </a:lnTo>
                      <a:lnTo>
                        <a:pt x="36" y="243"/>
                      </a:lnTo>
                      <a:lnTo>
                        <a:pt x="0" y="23"/>
                      </a:lnTo>
                      <a:lnTo>
                        <a:pt x="7" y="0"/>
                      </a:lnTo>
                      <a:lnTo>
                        <a:pt x="28" y="8"/>
                      </a:lnTo>
                      <a:lnTo>
                        <a:pt x="2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6041160" y="5698080"/>
                  <a:ext cx="160920" cy="209520"/>
                </a:xfrm>
                <a:custGeom>
                  <a:avLst/>
                  <a:gdLst/>
                  <a:ahLst/>
                  <a:rect l="l" t="t" r="r" b="b"/>
                  <a:pathLst>
                    <a:path w="1040" h="1758">
                      <a:moveTo>
                        <a:pt x="861" y="2"/>
                      </a:moveTo>
                      <a:lnTo>
                        <a:pt x="907" y="101"/>
                      </a:lnTo>
                      <a:lnTo>
                        <a:pt x="945" y="194"/>
                      </a:lnTo>
                      <a:lnTo>
                        <a:pt x="1000" y="370"/>
                      </a:lnTo>
                      <a:lnTo>
                        <a:pt x="1030" y="555"/>
                      </a:lnTo>
                      <a:lnTo>
                        <a:pt x="1040" y="766"/>
                      </a:lnTo>
                      <a:lnTo>
                        <a:pt x="1026" y="933"/>
                      </a:lnTo>
                      <a:lnTo>
                        <a:pt x="1009" y="1011"/>
                      </a:lnTo>
                      <a:lnTo>
                        <a:pt x="983" y="1097"/>
                      </a:lnTo>
                      <a:lnTo>
                        <a:pt x="948" y="1195"/>
                      </a:lnTo>
                      <a:lnTo>
                        <a:pt x="907" y="1279"/>
                      </a:lnTo>
                      <a:lnTo>
                        <a:pt x="882" y="1317"/>
                      </a:lnTo>
                      <a:lnTo>
                        <a:pt x="855" y="1351"/>
                      </a:lnTo>
                      <a:lnTo>
                        <a:pt x="798" y="1414"/>
                      </a:lnTo>
                      <a:lnTo>
                        <a:pt x="766" y="1443"/>
                      </a:lnTo>
                      <a:lnTo>
                        <a:pt x="732" y="1471"/>
                      </a:lnTo>
                      <a:lnTo>
                        <a:pt x="696" y="1496"/>
                      </a:lnTo>
                      <a:lnTo>
                        <a:pt x="658" y="1520"/>
                      </a:lnTo>
                      <a:lnTo>
                        <a:pt x="618" y="1543"/>
                      </a:lnTo>
                      <a:lnTo>
                        <a:pt x="574" y="1568"/>
                      </a:lnTo>
                      <a:lnTo>
                        <a:pt x="530" y="1591"/>
                      </a:lnTo>
                      <a:lnTo>
                        <a:pt x="485" y="1612"/>
                      </a:lnTo>
                      <a:lnTo>
                        <a:pt x="422" y="1640"/>
                      </a:lnTo>
                      <a:lnTo>
                        <a:pt x="365" y="1661"/>
                      </a:lnTo>
                      <a:lnTo>
                        <a:pt x="255" y="1693"/>
                      </a:lnTo>
                      <a:lnTo>
                        <a:pt x="21" y="1758"/>
                      </a:lnTo>
                      <a:lnTo>
                        <a:pt x="0" y="1749"/>
                      </a:lnTo>
                      <a:lnTo>
                        <a:pt x="9" y="1728"/>
                      </a:lnTo>
                      <a:lnTo>
                        <a:pt x="127" y="1680"/>
                      </a:lnTo>
                      <a:lnTo>
                        <a:pt x="178" y="1657"/>
                      </a:lnTo>
                      <a:lnTo>
                        <a:pt x="228" y="1633"/>
                      </a:lnTo>
                      <a:lnTo>
                        <a:pt x="277" y="1606"/>
                      </a:lnTo>
                      <a:lnTo>
                        <a:pt x="327" y="1579"/>
                      </a:lnTo>
                      <a:lnTo>
                        <a:pt x="382" y="1551"/>
                      </a:lnTo>
                      <a:lnTo>
                        <a:pt x="441" y="1522"/>
                      </a:lnTo>
                      <a:lnTo>
                        <a:pt x="521" y="1482"/>
                      </a:lnTo>
                      <a:lnTo>
                        <a:pt x="593" y="1441"/>
                      </a:lnTo>
                      <a:lnTo>
                        <a:pt x="658" y="1395"/>
                      </a:lnTo>
                      <a:lnTo>
                        <a:pt x="716" y="1346"/>
                      </a:lnTo>
                      <a:lnTo>
                        <a:pt x="768" y="1289"/>
                      </a:lnTo>
                      <a:lnTo>
                        <a:pt x="812" y="1224"/>
                      </a:lnTo>
                      <a:lnTo>
                        <a:pt x="878" y="1062"/>
                      </a:lnTo>
                      <a:lnTo>
                        <a:pt x="918" y="916"/>
                      </a:lnTo>
                      <a:lnTo>
                        <a:pt x="929" y="766"/>
                      </a:lnTo>
                      <a:lnTo>
                        <a:pt x="924" y="562"/>
                      </a:lnTo>
                      <a:lnTo>
                        <a:pt x="903" y="384"/>
                      </a:lnTo>
                      <a:lnTo>
                        <a:pt x="882" y="298"/>
                      </a:lnTo>
                      <a:lnTo>
                        <a:pt x="857" y="213"/>
                      </a:lnTo>
                      <a:lnTo>
                        <a:pt x="823" y="121"/>
                      </a:lnTo>
                      <a:lnTo>
                        <a:pt x="779" y="26"/>
                      </a:lnTo>
                      <a:lnTo>
                        <a:pt x="787" y="13"/>
                      </a:lnTo>
                      <a:lnTo>
                        <a:pt x="813" y="0"/>
                      </a:lnTo>
                      <a:lnTo>
                        <a:pt x="861" y="2"/>
                      </a:lnTo>
                      <a:lnTo>
                        <a:pt x="86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5828040" y="5823360"/>
                  <a:ext cx="170640" cy="84600"/>
                </a:xfrm>
                <a:custGeom>
                  <a:avLst/>
                  <a:gdLst/>
                  <a:ahLst/>
                  <a:rect l="l" t="t" r="r" b="b"/>
                  <a:pathLst>
                    <a:path w="1103" h="713">
                      <a:moveTo>
                        <a:pt x="29" y="8"/>
                      </a:moveTo>
                      <a:lnTo>
                        <a:pt x="54" y="61"/>
                      </a:lnTo>
                      <a:lnTo>
                        <a:pt x="78" y="110"/>
                      </a:lnTo>
                      <a:lnTo>
                        <a:pt x="107" y="156"/>
                      </a:lnTo>
                      <a:lnTo>
                        <a:pt x="135" y="198"/>
                      </a:lnTo>
                      <a:lnTo>
                        <a:pt x="166" y="236"/>
                      </a:lnTo>
                      <a:lnTo>
                        <a:pt x="198" y="272"/>
                      </a:lnTo>
                      <a:lnTo>
                        <a:pt x="232" y="304"/>
                      </a:lnTo>
                      <a:lnTo>
                        <a:pt x="268" y="337"/>
                      </a:lnTo>
                      <a:lnTo>
                        <a:pt x="307" y="365"/>
                      </a:lnTo>
                      <a:lnTo>
                        <a:pt x="346" y="392"/>
                      </a:lnTo>
                      <a:lnTo>
                        <a:pt x="388" y="416"/>
                      </a:lnTo>
                      <a:lnTo>
                        <a:pt x="432" y="439"/>
                      </a:lnTo>
                      <a:lnTo>
                        <a:pt x="478" y="462"/>
                      </a:lnTo>
                      <a:lnTo>
                        <a:pt x="527" y="485"/>
                      </a:lnTo>
                      <a:lnTo>
                        <a:pt x="576" y="506"/>
                      </a:lnTo>
                      <a:lnTo>
                        <a:pt x="630" y="527"/>
                      </a:lnTo>
                      <a:lnTo>
                        <a:pt x="717" y="567"/>
                      </a:lnTo>
                      <a:lnTo>
                        <a:pt x="810" y="593"/>
                      </a:lnTo>
                      <a:lnTo>
                        <a:pt x="883" y="618"/>
                      </a:lnTo>
                      <a:lnTo>
                        <a:pt x="945" y="645"/>
                      </a:lnTo>
                      <a:lnTo>
                        <a:pt x="1010" y="665"/>
                      </a:lnTo>
                      <a:lnTo>
                        <a:pt x="1086" y="673"/>
                      </a:lnTo>
                      <a:lnTo>
                        <a:pt x="1103" y="690"/>
                      </a:lnTo>
                      <a:lnTo>
                        <a:pt x="1097" y="702"/>
                      </a:lnTo>
                      <a:lnTo>
                        <a:pt x="1086" y="705"/>
                      </a:lnTo>
                      <a:lnTo>
                        <a:pt x="932" y="713"/>
                      </a:lnTo>
                      <a:lnTo>
                        <a:pt x="782" y="694"/>
                      </a:lnTo>
                      <a:lnTo>
                        <a:pt x="586" y="624"/>
                      </a:lnTo>
                      <a:lnTo>
                        <a:pt x="480" y="576"/>
                      </a:lnTo>
                      <a:lnTo>
                        <a:pt x="430" y="551"/>
                      </a:lnTo>
                      <a:lnTo>
                        <a:pt x="384" y="523"/>
                      </a:lnTo>
                      <a:lnTo>
                        <a:pt x="343" y="494"/>
                      </a:lnTo>
                      <a:lnTo>
                        <a:pt x="303" y="464"/>
                      </a:lnTo>
                      <a:lnTo>
                        <a:pt x="265" y="430"/>
                      </a:lnTo>
                      <a:lnTo>
                        <a:pt x="229" y="396"/>
                      </a:lnTo>
                      <a:lnTo>
                        <a:pt x="164" y="318"/>
                      </a:lnTo>
                      <a:lnTo>
                        <a:pt x="134" y="276"/>
                      </a:lnTo>
                      <a:lnTo>
                        <a:pt x="105" y="230"/>
                      </a:lnTo>
                      <a:lnTo>
                        <a:pt x="76" y="183"/>
                      </a:lnTo>
                      <a:lnTo>
                        <a:pt x="50" y="131"/>
                      </a:lnTo>
                      <a:lnTo>
                        <a:pt x="0" y="21"/>
                      </a:lnTo>
                      <a:lnTo>
                        <a:pt x="8" y="0"/>
                      </a:lnTo>
                      <a:lnTo>
                        <a:pt x="29" y="8"/>
                      </a:lnTo>
                      <a:lnTo>
                        <a:pt x="29" y="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405" name=""/>
                <p:cNvSpPr/>
                <p:nvPr/>
              </p:nvSpPr>
              <p:spPr>
                <a:xfrm>
                  <a:off x="5838480" y="5675400"/>
                  <a:ext cx="100080" cy="185040"/>
                </a:xfrm>
                <a:custGeom>
                  <a:avLst/>
                  <a:gdLst/>
                  <a:ahLst/>
                  <a:rect l="l" t="t" r="r" b="b"/>
                  <a:pathLst>
                    <a:path w="648" h="1553">
                      <a:moveTo>
                        <a:pt x="555" y="28"/>
                      </a:moveTo>
                      <a:lnTo>
                        <a:pt x="485" y="62"/>
                      </a:lnTo>
                      <a:lnTo>
                        <a:pt x="424" y="93"/>
                      </a:lnTo>
                      <a:lnTo>
                        <a:pt x="365" y="125"/>
                      </a:lnTo>
                      <a:lnTo>
                        <a:pt x="304" y="167"/>
                      </a:lnTo>
                      <a:lnTo>
                        <a:pt x="346" y="365"/>
                      </a:lnTo>
                      <a:lnTo>
                        <a:pt x="300" y="422"/>
                      </a:lnTo>
                      <a:lnTo>
                        <a:pt x="276" y="446"/>
                      </a:lnTo>
                      <a:lnTo>
                        <a:pt x="253" y="469"/>
                      </a:lnTo>
                      <a:lnTo>
                        <a:pt x="203" y="511"/>
                      </a:lnTo>
                      <a:lnTo>
                        <a:pt x="148" y="555"/>
                      </a:lnTo>
                      <a:lnTo>
                        <a:pt x="184" y="629"/>
                      </a:lnTo>
                      <a:lnTo>
                        <a:pt x="213" y="699"/>
                      </a:lnTo>
                      <a:lnTo>
                        <a:pt x="224" y="851"/>
                      </a:lnTo>
                      <a:lnTo>
                        <a:pt x="192" y="897"/>
                      </a:lnTo>
                      <a:lnTo>
                        <a:pt x="160" y="939"/>
                      </a:lnTo>
                      <a:lnTo>
                        <a:pt x="129" y="981"/>
                      </a:lnTo>
                      <a:lnTo>
                        <a:pt x="95" y="1022"/>
                      </a:lnTo>
                      <a:lnTo>
                        <a:pt x="112" y="1060"/>
                      </a:lnTo>
                      <a:lnTo>
                        <a:pt x="133" y="1093"/>
                      </a:lnTo>
                      <a:lnTo>
                        <a:pt x="160" y="1123"/>
                      </a:lnTo>
                      <a:lnTo>
                        <a:pt x="192" y="1152"/>
                      </a:lnTo>
                      <a:lnTo>
                        <a:pt x="268" y="1190"/>
                      </a:lnTo>
                      <a:lnTo>
                        <a:pt x="338" y="1231"/>
                      </a:lnTo>
                      <a:lnTo>
                        <a:pt x="378" y="1275"/>
                      </a:lnTo>
                      <a:lnTo>
                        <a:pt x="386" y="1332"/>
                      </a:lnTo>
                      <a:lnTo>
                        <a:pt x="376" y="1397"/>
                      </a:lnTo>
                      <a:lnTo>
                        <a:pt x="361" y="1467"/>
                      </a:lnTo>
                      <a:lnTo>
                        <a:pt x="470" y="1446"/>
                      </a:lnTo>
                      <a:lnTo>
                        <a:pt x="587" y="1429"/>
                      </a:lnTo>
                      <a:lnTo>
                        <a:pt x="610" y="1427"/>
                      </a:lnTo>
                      <a:lnTo>
                        <a:pt x="639" y="1437"/>
                      </a:lnTo>
                      <a:lnTo>
                        <a:pt x="648" y="1465"/>
                      </a:lnTo>
                      <a:lnTo>
                        <a:pt x="639" y="1492"/>
                      </a:lnTo>
                      <a:lnTo>
                        <a:pt x="610" y="1501"/>
                      </a:lnTo>
                      <a:lnTo>
                        <a:pt x="591" y="1500"/>
                      </a:lnTo>
                      <a:lnTo>
                        <a:pt x="325" y="1553"/>
                      </a:lnTo>
                      <a:lnTo>
                        <a:pt x="289" y="1547"/>
                      </a:lnTo>
                      <a:lnTo>
                        <a:pt x="279" y="1513"/>
                      </a:lnTo>
                      <a:lnTo>
                        <a:pt x="298" y="1444"/>
                      </a:lnTo>
                      <a:lnTo>
                        <a:pt x="327" y="1378"/>
                      </a:lnTo>
                      <a:lnTo>
                        <a:pt x="340" y="1321"/>
                      </a:lnTo>
                      <a:lnTo>
                        <a:pt x="333" y="1298"/>
                      </a:lnTo>
                      <a:lnTo>
                        <a:pt x="312" y="1279"/>
                      </a:lnTo>
                      <a:lnTo>
                        <a:pt x="241" y="1235"/>
                      </a:lnTo>
                      <a:lnTo>
                        <a:pt x="207" y="1214"/>
                      </a:lnTo>
                      <a:lnTo>
                        <a:pt x="167" y="1192"/>
                      </a:lnTo>
                      <a:lnTo>
                        <a:pt x="114" y="1155"/>
                      </a:lnTo>
                      <a:lnTo>
                        <a:pt x="67" y="1123"/>
                      </a:lnTo>
                      <a:lnTo>
                        <a:pt x="0" y="1024"/>
                      </a:lnTo>
                      <a:lnTo>
                        <a:pt x="8" y="982"/>
                      </a:lnTo>
                      <a:lnTo>
                        <a:pt x="47" y="939"/>
                      </a:lnTo>
                      <a:lnTo>
                        <a:pt x="82" y="903"/>
                      </a:lnTo>
                      <a:lnTo>
                        <a:pt x="152" y="821"/>
                      </a:lnTo>
                      <a:lnTo>
                        <a:pt x="150" y="749"/>
                      </a:lnTo>
                      <a:lnTo>
                        <a:pt x="122" y="690"/>
                      </a:lnTo>
                      <a:lnTo>
                        <a:pt x="82" y="631"/>
                      </a:lnTo>
                      <a:lnTo>
                        <a:pt x="44" y="562"/>
                      </a:lnTo>
                      <a:lnTo>
                        <a:pt x="40" y="534"/>
                      </a:lnTo>
                      <a:lnTo>
                        <a:pt x="55" y="507"/>
                      </a:lnTo>
                      <a:lnTo>
                        <a:pt x="89" y="481"/>
                      </a:lnTo>
                      <a:lnTo>
                        <a:pt x="124" y="464"/>
                      </a:lnTo>
                      <a:lnTo>
                        <a:pt x="192" y="439"/>
                      </a:lnTo>
                      <a:lnTo>
                        <a:pt x="259" y="410"/>
                      </a:lnTo>
                      <a:lnTo>
                        <a:pt x="316" y="357"/>
                      </a:lnTo>
                      <a:lnTo>
                        <a:pt x="302" y="304"/>
                      </a:lnTo>
                      <a:lnTo>
                        <a:pt x="279" y="260"/>
                      </a:lnTo>
                      <a:lnTo>
                        <a:pt x="230" y="167"/>
                      </a:lnTo>
                      <a:lnTo>
                        <a:pt x="241" y="129"/>
                      </a:lnTo>
                      <a:lnTo>
                        <a:pt x="278" y="102"/>
                      </a:lnTo>
                      <a:lnTo>
                        <a:pt x="314" y="81"/>
                      </a:lnTo>
                      <a:lnTo>
                        <a:pt x="386" y="55"/>
                      </a:lnTo>
                      <a:lnTo>
                        <a:pt x="542" y="0"/>
                      </a:lnTo>
                      <a:lnTo>
                        <a:pt x="563" y="7"/>
                      </a:lnTo>
                      <a:lnTo>
                        <a:pt x="555" y="28"/>
                      </a:lnTo>
                      <a:lnTo>
                        <a:pt x="55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5950800" y="5855400"/>
                  <a:ext cx="61200" cy="33840"/>
                </a:xfrm>
                <a:custGeom>
                  <a:avLst/>
                  <a:gdLst/>
                  <a:ahLst/>
                  <a:rect l="l" t="t" r="r" b="b"/>
                  <a:pathLst>
                    <a:path w="396" h="287">
                      <a:moveTo>
                        <a:pt x="71" y="23"/>
                      </a:moveTo>
                      <a:lnTo>
                        <a:pt x="107" y="108"/>
                      </a:lnTo>
                      <a:lnTo>
                        <a:pt x="143" y="184"/>
                      </a:lnTo>
                      <a:lnTo>
                        <a:pt x="190" y="148"/>
                      </a:lnTo>
                      <a:lnTo>
                        <a:pt x="234" y="110"/>
                      </a:lnTo>
                      <a:lnTo>
                        <a:pt x="280" y="72"/>
                      </a:lnTo>
                      <a:lnTo>
                        <a:pt x="329" y="29"/>
                      </a:lnTo>
                      <a:lnTo>
                        <a:pt x="359" y="19"/>
                      </a:lnTo>
                      <a:lnTo>
                        <a:pt x="386" y="34"/>
                      </a:lnTo>
                      <a:lnTo>
                        <a:pt x="396" y="63"/>
                      </a:lnTo>
                      <a:lnTo>
                        <a:pt x="380" y="91"/>
                      </a:lnTo>
                      <a:lnTo>
                        <a:pt x="350" y="118"/>
                      </a:lnTo>
                      <a:lnTo>
                        <a:pt x="321" y="143"/>
                      </a:lnTo>
                      <a:lnTo>
                        <a:pt x="293" y="167"/>
                      </a:lnTo>
                      <a:lnTo>
                        <a:pt x="268" y="188"/>
                      </a:lnTo>
                      <a:lnTo>
                        <a:pt x="240" y="211"/>
                      </a:lnTo>
                      <a:lnTo>
                        <a:pt x="213" y="232"/>
                      </a:lnTo>
                      <a:lnTo>
                        <a:pt x="183" y="255"/>
                      </a:lnTo>
                      <a:lnTo>
                        <a:pt x="148" y="278"/>
                      </a:lnTo>
                      <a:lnTo>
                        <a:pt x="114" y="287"/>
                      </a:lnTo>
                      <a:lnTo>
                        <a:pt x="90" y="262"/>
                      </a:lnTo>
                      <a:lnTo>
                        <a:pt x="44" y="156"/>
                      </a:lnTo>
                      <a:lnTo>
                        <a:pt x="0" y="50"/>
                      </a:lnTo>
                      <a:lnTo>
                        <a:pt x="2" y="19"/>
                      </a:lnTo>
                      <a:lnTo>
                        <a:pt x="23" y="0"/>
                      </a:lnTo>
                      <a:lnTo>
                        <a:pt x="71" y="23"/>
                      </a:lnTo>
                      <a:lnTo>
                        <a:pt x="71" y="23"/>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07" name=""/>
                <p:cNvSpPr/>
                <p:nvPr/>
              </p:nvSpPr>
              <p:spPr>
                <a:xfrm>
                  <a:off x="6025680" y="5705280"/>
                  <a:ext cx="145800" cy="183240"/>
                </a:xfrm>
                <a:custGeom>
                  <a:avLst/>
                  <a:gdLst/>
                  <a:ahLst/>
                  <a:rect l="l" t="t" r="r" b="b"/>
                  <a:pathLst>
                    <a:path w="943" h="1538">
                      <a:moveTo>
                        <a:pt x="67" y="1319"/>
                      </a:moveTo>
                      <a:lnTo>
                        <a:pt x="122" y="1387"/>
                      </a:lnTo>
                      <a:lnTo>
                        <a:pt x="146" y="1420"/>
                      </a:lnTo>
                      <a:lnTo>
                        <a:pt x="184" y="1444"/>
                      </a:lnTo>
                      <a:lnTo>
                        <a:pt x="230" y="1463"/>
                      </a:lnTo>
                      <a:lnTo>
                        <a:pt x="272" y="1393"/>
                      </a:lnTo>
                      <a:lnTo>
                        <a:pt x="316" y="1319"/>
                      </a:lnTo>
                      <a:lnTo>
                        <a:pt x="344" y="1268"/>
                      </a:lnTo>
                      <a:lnTo>
                        <a:pt x="375" y="1222"/>
                      </a:lnTo>
                      <a:lnTo>
                        <a:pt x="394" y="1205"/>
                      </a:lnTo>
                      <a:lnTo>
                        <a:pt x="413" y="1188"/>
                      </a:lnTo>
                      <a:lnTo>
                        <a:pt x="466" y="1171"/>
                      </a:lnTo>
                      <a:lnTo>
                        <a:pt x="576" y="1155"/>
                      </a:lnTo>
                      <a:lnTo>
                        <a:pt x="675" y="1146"/>
                      </a:lnTo>
                      <a:lnTo>
                        <a:pt x="643" y="1074"/>
                      </a:lnTo>
                      <a:lnTo>
                        <a:pt x="608" y="998"/>
                      </a:lnTo>
                      <a:lnTo>
                        <a:pt x="618" y="946"/>
                      </a:lnTo>
                      <a:lnTo>
                        <a:pt x="643" y="908"/>
                      </a:lnTo>
                      <a:lnTo>
                        <a:pt x="677" y="876"/>
                      </a:lnTo>
                      <a:lnTo>
                        <a:pt x="721" y="851"/>
                      </a:lnTo>
                      <a:lnTo>
                        <a:pt x="768" y="827"/>
                      </a:lnTo>
                      <a:lnTo>
                        <a:pt x="816" y="802"/>
                      </a:lnTo>
                      <a:lnTo>
                        <a:pt x="901" y="733"/>
                      </a:lnTo>
                      <a:lnTo>
                        <a:pt x="903" y="745"/>
                      </a:lnTo>
                      <a:lnTo>
                        <a:pt x="916" y="732"/>
                      </a:lnTo>
                      <a:lnTo>
                        <a:pt x="876" y="705"/>
                      </a:lnTo>
                      <a:lnTo>
                        <a:pt x="831" y="688"/>
                      </a:lnTo>
                      <a:lnTo>
                        <a:pt x="740" y="667"/>
                      </a:lnTo>
                      <a:lnTo>
                        <a:pt x="656" y="638"/>
                      </a:lnTo>
                      <a:lnTo>
                        <a:pt x="595" y="572"/>
                      </a:lnTo>
                      <a:lnTo>
                        <a:pt x="599" y="541"/>
                      </a:lnTo>
                      <a:lnTo>
                        <a:pt x="625" y="513"/>
                      </a:lnTo>
                      <a:lnTo>
                        <a:pt x="652" y="488"/>
                      </a:lnTo>
                      <a:lnTo>
                        <a:pt x="679" y="465"/>
                      </a:lnTo>
                      <a:lnTo>
                        <a:pt x="707" y="437"/>
                      </a:lnTo>
                      <a:lnTo>
                        <a:pt x="738" y="389"/>
                      </a:lnTo>
                      <a:lnTo>
                        <a:pt x="774" y="350"/>
                      </a:lnTo>
                      <a:lnTo>
                        <a:pt x="806" y="310"/>
                      </a:lnTo>
                      <a:lnTo>
                        <a:pt x="504" y="218"/>
                      </a:lnTo>
                      <a:lnTo>
                        <a:pt x="475" y="177"/>
                      </a:lnTo>
                      <a:lnTo>
                        <a:pt x="491" y="127"/>
                      </a:lnTo>
                      <a:lnTo>
                        <a:pt x="521" y="91"/>
                      </a:lnTo>
                      <a:lnTo>
                        <a:pt x="582" y="9"/>
                      </a:lnTo>
                      <a:lnTo>
                        <a:pt x="603" y="0"/>
                      </a:lnTo>
                      <a:lnTo>
                        <a:pt x="612" y="21"/>
                      </a:lnTo>
                      <a:lnTo>
                        <a:pt x="565" y="150"/>
                      </a:lnTo>
                      <a:lnTo>
                        <a:pt x="643" y="178"/>
                      </a:lnTo>
                      <a:lnTo>
                        <a:pt x="715" y="205"/>
                      </a:lnTo>
                      <a:lnTo>
                        <a:pt x="787" y="234"/>
                      </a:lnTo>
                      <a:lnTo>
                        <a:pt x="871" y="260"/>
                      </a:lnTo>
                      <a:lnTo>
                        <a:pt x="895" y="281"/>
                      </a:lnTo>
                      <a:lnTo>
                        <a:pt x="886" y="311"/>
                      </a:lnTo>
                      <a:lnTo>
                        <a:pt x="850" y="350"/>
                      </a:lnTo>
                      <a:lnTo>
                        <a:pt x="812" y="386"/>
                      </a:lnTo>
                      <a:lnTo>
                        <a:pt x="745" y="465"/>
                      </a:lnTo>
                      <a:lnTo>
                        <a:pt x="721" y="492"/>
                      </a:lnTo>
                      <a:lnTo>
                        <a:pt x="698" y="515"/>
                      </a:lnTo>
                      <a:lnTo>
                        <a:pt x="652" y="564"/>
                      </a:lnTo>
                      <a:lnTo>
                        <a:pt x="677" y="595"/>
                      </a:lnTo>
                      <a:lnTo>
                        <a:pt x="709" y="616"/>
                      </a:lnTo>
                      <a:lnTo>
                        <a:pt x="785" y="638"/>
                      </a:lnTo>
                      <a:lnTo>
                        <a:pt x="943" y="697"/>
                      </a:lnTo>
                      <a:lnTo>
                        <a:pt x="937" y="714"/>
                      </a:lnTo>
                      <a:lnTo>
                        <a:pt x="928" y="737"/>
                      </a:lnTo>
                      <a:lnTo>
                        <a:pt x="926" y="754"/>
                      </a:lnTo>
                      <a:lnTo>
                        <a:pt x="894" y="787"/>
                      </a:lnTo>
                      <a:lnTo>
                        <a:pt x="859" y="811"/>
                      </a:lnTo>
                      <a:lnTo>
                        <a:pt x="787" y="855"/>
                      </a:lnTo>
                      <a:lnTo>
                        <a:pt x="728" y="905"/>
                      </a:lnTo>
                      <a:lnTo>
                        <a:pt x="703" y="979"/>
                      </a:lnTo>
                      <a:lnTo>
                        <a:pt x="783" y="1193"/>
                      </a:lnTo>
                      <a:lnTo>
                        <a:pt x="776" y="1241"/>
                      </a:lnTo>
                      <a:lnTo>
                        <a:pt x="728" y="1247"/>
                      </a:lnTo>
                      <a:lnTo>
                        <a:pt x="601" y="1220"/>
                      </a:lnTo>
                      <a:lnTo>
                        <a:pt x="472" y="1218"/>
                      </a:lnTo>
                      <a:lnTo>
                        <a:pt x="432" y="1235"/>
                      </a:lnTo>
                      <a:lnTo>
                        <a:pt x="403" y="1266"/>
                      </a:lnTo>
                      <a:lnTo>
                        <a:pt x="363" y="1346"/>
                      </a:lnTo>
                      <a:lnTo>
                        <a:pt x="337" y="1391"/>
                      </a:lnTo>
                      <a:lnTo>
                        <a:pt x="314" y="1433"/>
                      </a:lnTo>
                      <a:lnTo>
                        <a:pt x="291" y="1473"/>
                      </a:lnTo>
                      <a:lnTo>
                        <a:pt x="266" y="1520"/>
                      </a:lnTo>
                      <a:lnTo>
                        <a:pt x="245" y="1538"/>
                      </a:lnTo>
                      <a:lnTo>
                        <a:pt x="221" y="1528"/>
                      </a:lnTo>
                      <a:lnTo>
                        <a:pt x="171" y="1475"/>
                      </a:lnTo>
                      <a:lnTo>
                        <a:pt x="17" y="1384"/>
                      </a:lnTo>
                      <a:lnTo>
                        <a:pt x="0" y="1355"/>
                      </a:lnTo>
                      <a:lnTo>
                        <a:pt x="10" y="1327"/>
                      </a:lnTo>
                      <a:lnTo>
                        <a:pt x="34" y="1311"/>
                      </a:lnTo>
                      <a:lnTo>
                        <a:pt x="67" y="1319"/>
                      </a:lnTo>
                      <a:lnTo>
                        <a:pt x="67" y="1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a:off x="5942520" y="5663880"/>
                  <a:ext cx="59400" cy="34560"/>
                </a:xfrm>
                <a:custGeom>
                  <a:avLst/>
                  <a:gdLst/>
                  <a:ahLst/>
                  <a:rect l="l" t="t" r="r" b="b"/>
                  <a:pathLst>
                    <a:path w="384" h="291">
                      <a:moveTo>
                        <a:pt x="29" y="76"/>
                      </a:moveTo>
                      <a:lnTo>
                        <a:pt x="205" y="165"/>
                      </a:lnTo>
                      <a:lnTo>
                        <a:pt x="249" y="99"/>
                      </a:lnTo>
                      <a:lnTo>
                        <a:pt x="276" y="70"/>
                      </a:lnTo>
                      <a:lnTo>
                        <a:pt x="304" y="49"/>
                      </a:lnTo>
                      <a:lnTo>
                        <a:pt x="359" y="2"/>
                      </a:lnTo>
                      <a:lnTo>
                        <a:pt x="382" y="0"/>
                      </a:lnTo>
                      <a:lnTo>
                        <a:pt x="384" y="23"/>
                      </a:lnTo>
                      <a:lnTo>
                        <a:pt x="325" y="150"/>
                      </a:lnTo>
                      <a:lnTo>
                        <a:pt x="251" y="264"/>
                      </a:lnTo>
                      <a:lnTo>
                        <a:pt x="234" y="283"/>
                      </a:lnTo>
                      <a:lnTo>
                        <a:pt x="215" y="291"/>
                      </a:lnTo>
                      <a:lnTo>
                        <a:pt x="177" y="266"/>
                      </a:lnTo>
                      <a:lnTo>
                        <a:pt x="137" y="218"/>
                      </a:lnTo>
                      <a:lnTo>
                        <a:pt x="99" y="178"/>
                      </a:lnTo>
                      <a:lnTo>
                        <a:pt x="59" y="146"/>
                      </a:lnTo>
                      <a:lnTo>
                        <a:pt x="8" y="114"/>
                      </a:lnTo>
                      <a:lnTo>
                        <a:pt x="0" y="85"/>
                      </a:lnTo>
                      <a:lnTo>
                        <a:pt x="29" y="76"/>
                      </a:lnTo>
                      <a:lnTo>
                        <a:pt x="29" y="76"/>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409" name=""/>
                <p:cNvSpPr/>
                <p:nvPr/>
              </p:nvSpPr>
              <p:spPr>
                <a:xfrm>
                  <a:off x="6035400" y="5676840"/>
                  <a:ext cx="57600" cy="29880"/>
                </a:xfrm>
                <a:custGeom>
                  <a:avLst/>
                  <a:gdLst/>
                  <a:ahLst/>
                  <a:rect l="l" t="t" r="r" b="b"/>
                  <a:pathLst>
                    <a:path w="374" h="253">
                      <a:moveTo>
                        <a:pt x="30" y="10"/>
                      </a:moveTo>
                      <a:lnTo>
                        <a:pt x="66" y="86"/>
                      </a:lnTo>
                      <a:lnTo>
                        <a:pt x="87" y="120"/>
                      </a:lnTo>
                      <a:lnTo>
                        <a:pt x="112" y="152"/>
                      </a:lnTo>
                      <a:lnTo>
                        <a:pt x="171" y="124"/>
                      </a:lnTo>
                      <a:lnTo>
                        <a:pt x="228" y="101"/>
                      </a:lnTo>
                      <a:lnTo>
                        <a:pt x="353" y="57"/>
                      </a:lnTo>
                      <a:lnTo>
                        <a:pt x="374" y="67"/>
                      </a:lnTo>
                      <a:lnTo>
                        <a:pt x="365" y="88"/>
                      </a:lnTo>
                      <a:lnTo>
                        <a:pt x="298" y="120"/>
                      </a:lnTo>
                      <a:lnTo>
                        <a:pt x="243" y="158"/>
                      </a:lnTo>
                      <a:lnTo>
                        <a:pt x="192" y="198"/>
                      </a:lnTo>
                      <a:lnTo>
                        <a:pt x="163" y="221"/>
                      </a:lnTo>
                      <a:lnTo>
                        <a:pt x="133" y="243"/>
                      </a:lnTo>
                      <a:lnTo>
                        <a:pt x="104" y="253"/>
                      </a:lnTo>
                      <a:lnTo>
                        <a:pt x="78" y="240"/>
                      </a:lnTo>
                      <a:lnTo>
                        <a:pt x="44" y="190"/>
                      </a:lnTo>
                      <a:lnTo>
                        <a:pt x="28" y="137"/>
                      </a:lnTo>
                      <a:lnTo>
                        <a:pt x="0" y="23"/>
                      </a:lnTo>
                      <a:lnTo>
                        <a:pt x="9" y="0"/>
                      </a:lnTo>
                      <a:lnTo>
                        <a:pt x="30" y="10"/>
                      </a:lnTo>
                      <a:lnTo>
                        <a:pt x="30"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10" name=""/>
                <p:cNvSpPr/>
                <p:nvPr/>
              </p:nvSpPr>
              <p:spPr>
                <a:xfrm>
                  <a:off x="5814000" y="5649480"/>
                  <a:ext cx="107640" cy="132480"/>
                </a:xfrm>
                <a:custGeom>
                  <a:avLst/>
                  <a:gdLst/>
                  <a:ahLst/>
                  <a:rect l="l" t="t" r="r" b="b"/>
                  <a:pathLst>
                    <a:path w="696" h="1112">
                      <a:moveTo>
                        <a:pt x="679" y="33"/>
                      </a:moveTo>
                      <a:lnTo>
                        <a:pt x="603" y="46"/>
                      </a:lnTo>
                      <a:lnTo>
                        <a:pt x="540" y="80"/>
                      </a:lnTo>
                      <a:lnTo>
                        <a:pt x="481" y="128"/>
                      </a:lnTo>
                      <a:lnTo>
                        <a:pt x="451" y="152"/>
                      </a:lnTo>
                      <a:lnTo>
                        <a:pt x="417" y="177"/>
                      </a:lnTo>
                      <a:lnTo>
                        <a:pt x="348" y="226"/>
                      </a:lnTo>
                      <a:lnTo>
                        <a:pt x="320" y="253"/>
                      </a:lnTo>
                      <a:lnTo>
                        <a:pt x="293" y="282"/>
                      </a:lnTo>
                      <a:lnTo>
                        <a:pt x="247" y="341"/>
                      </a:lnTo>
                      <a:lnTo>
                        <a:pt x="209" y="403"/>
                      </a:lnTo>
                      <a:lnTo>
                        <a:pt x="179" y="472"/>
                      </a:lnTo>
                      <a:lnTo>
                        <a:pt x="150" y="544"/>
                      </a:lnTo>
                      <a:lnTo>
                        <a:pt x="124" y="624"/>
                      </a:lnTo>
                      <a:lnTo>
                        <a:pt x="97" y="705"/>
                      </a:lnTo>
                      <a:lnTo>
                        <a:pt x="46" y="1095"/>
                      </a:lnTo>
                      <a:lnTo>
                        <a:pt x="31" y="1112"/>
                      </a:lnTo>
                      <a:lnTo>
                        <a:pt x="13" y="1099"/>
                      </a:lnTo>
                      <a:lnTo>
                        <a:pt x="0" y="681"/>
                      </a:lnTo>
                      <a:lnTo>
                        <a:pt x="31" y="588"/>
                      </a:lnTo>
                      <a:lnTo>
                        <a:pt x="61" y="502"/>
                      </a:lnTo>
                      <a:lnTo>
                        <a:pt x="93" y="420"/>
                      </a:lnTo>
                      <a:lnTo>
                        <a:pt x="129" y="344"/>
                      </a:lnTo>
                      <a:lnTo>
                        <a:pt x="150" y="310"/>
                      </a:lnTo>
                      <a:lnTo>
                        <a:pt x="171" y="274"/>
                      </a:lnTo>
                      <a:lnTo>
                        <a:pt x="196" y="242"/>
                      </a:lnTo>
                      <a:lnTo>
                        <a:pt x="223" y="209"/>
                      </a:lnTo>
                      <a:lnTo>
                        <a:pt x="253" y="179"/>
                      </a:lnTo>
                      <a:lnTo>
                        <a:pt x="285" y="149"/>
                      </a:lnTo>
                      <a:lnTo>
                        <a:pt x="321" y="120"/>
                      </a:lnTo>
                      <a:lnTo>
                        <a:pt x="361" y="93"/>
                      </a:lnTo>
                      <a:lnTo>
                        <a:pt x="401" y="69"/>
                      </a:lnTo>
                      <a:lnTo>
                        <a:pt x="437" y="48"/>
                      </a:lnTo>
                      <a:lnTo>
                        <a:pt x="512" y="19"/>
                      </a:lnTo>
                      <a:lnTo>
                        <a:pt x="679" y="0"/>
                      </a:lnTo>
                      <a:lnTo>
                        <a:pt x="696" y="15"/>
                      </a:lnTo>
                      <a:lnTo>
                        <a:pt x="692" y="27"/>
                      </a:lnTo>
                      <a:lnTo>
                        <a:pt x="679" y="33"/>
                      </a:lnTo>
                      <a:lnTo>
                        <a:pt x="679"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11" name=""/>
            <p:cNvSpPr/>
            <p:nvPr/>
          </p:nvSpPr>
          <p:spPr>
            <a:xfrm flipV="1">
              <a:off x="1981080" y="5486040"/>
              <a:ext cx="0" cy="304920"/>
            </a:xfrm>
            <a:prstGeom prst="line">
              <a:avLst/>
            </a:prstGeom>
            <a:ln w="9360">
              <a:solidFill>
                <a:srgbClr val="57a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2" name=""/>
          <p:cNvGrpSpPr/>
          <p:nvPr/>
        </p:nvGrpSpPr>
        <p:grpSpPr>
          <a:xfrm>
            <a:off x="1981080" y="5791320"/>
            <a:ext cx="6324840" cy="609120"/>
            <a:chOff x="1981080" y="5791320"/>
            <a:chExt cx="6324840" cy="609120"/>
          </a:xfrm>
        </p:grpSpPr>
        <p:sp>
          <p:nvSpPr>
            <p:cNvPr id="413" name=""/>
            <p:cNvSpPr/>
            <p:nvPr/>
          </p:nvSpPr>
          <p:spPr>
            <a:xfrm>
              <a:off x="1981080" y="6095880"/>
              <a:ext cx="5181840" cy="0"/>
            </a:xfrm>
            <a:prstGeom prst="line">
              <a:avLst/>
            </a:prstGeom>
            <a:ln w="9360">
              <a:solidFill>
                <a:srgbClr val="57a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4" name=""/>
            <p:cNvGrpSpPr/>
            <p:nvPr/>
          </p:nvGrpSpPr>
          <p:grpSpPr>
            <a:xfrm>
              <a:off x="7162920" y="5791320"/>
              <a:ext cx="1143000" cy="609120"/>
              <a:chOff x="7162920" y="5791320"/>
              <a:chExt cx="1143000" cy="609120"/>
            </a:xfrm>
          </p:grpSpPr>
          <p:grpSp>
            <p:nvGrpSpPr>
              <p:cNvPr id="415" name=""/>
              <p:cNvGrpSpPr/>
              <p:nvPr/>
            </p:nvGrpSpPr>
            <p:grpSpPr>
              <a:xfrm>
                <a:off x="7162920" y="5791320"/>
                <a:ext cx="1143000" cy="590040"/>
                <a:chOff x="7162920" y="5791320"/>
                <a:chExt cx="1143000" cy="590040"/>
              </a:xfrm>
            </p:grpSpPr>
            <p:sp>
              <p:nvSpPr>
                <p:cNvPr id="416" name=""/>
                <p:cNvSpPr/>
                <p:nvPr/>
              </p:nvSpPr>
              <p:spPr>
                <a:xfrm>
                  <a:off x="7162920" y="5791320"/>
                  <a:ext cx="1143000" cy="590040"/>
                </a:xfrm>
                <a:custGeom>
                  <a:avLst/>
                  <a:gdLst/>
                  <a:ahLst/>
                  <a:rect l="l" t="t" r="r" b="b"/>
                  <a:pathLst>
                    <a:path w="2256" h="1395">
                      <a:moveTo>
                        <a:pt x="1222" y="1395"/>
                      </a:moveTo>
                      <a:lnTo>
                        <a:pt x="1218" y="1389"/>
                      </a:lnTo>
                      <a:lnTo>
                        <a:pt x="1220" y="1380"/>
                      </a:lnTo>
                      <a:lnTo>
                        <a:pt x="1229" y="1365"/>
                      </a:lnTo>
                      <a:lnTo>
                        <a:pt x="1244" y="1348"/>
                      </a:lnTo>
                      <a:lnTo>
                        <a:pt x="1265" y="1326"/>
                      </a:lnTo>
                      <a:lnTo>
                        <a:pt x="1290" y="1300"/>
                      </a:lnTo>
                      <a:lnTo>
                        <a:pt x="1322" y="1272"/>
                      </a:lnTo>
                      <a:lnTo>
                        <a:pt x="1356" y="1242"/>
                      </a:lnTo>
                      <a:lnTo>
                        <a:pt x="1394" y="1208"/>
                      </a:lnTo>
                      <a:lnTo>
                        <a:pt x="1437" y="1173"/>
                      </a:lnTo>
                      <a:lnTo>
                        <a:pt x="1481" y="1136"/>
                      </a:lnTo>
                      <a:lnTo>
                        <a:pt x="1528" y="1098"/>
                      </a:lnTo>
                      <a:lnTo>
                        <a:pt x="1577" y="1057"/>
                      </a:lnTo>
                      <a:lnTo>
                        <a:pt x="1627" y="1017"/>
                      </a:lnTo>
                      <a:lnTo>
                        <a:pt x="1679" y="977"/>
                      </a:lnTo>
                      <a:lnTo>
                        <a:pt x="1731" y="935"/>
                      </a:lnTo>
                      <a:lnTo>
                        <a:pt x="1783" y="894"/>
                      </a:lnTo>
                      <a:lnTo>
                        <a:pt x="1834" y="854"/>
                      </a:lnTo>
                      <a:lnTo>
                        <a:pt x="1885" y="814"/>
                      </a:lnTo>
                      <a:lnTo>
                        <a:pt x="1935" y="775"/>
                      </a:lnTo>
                      <a:lnTo>
                        <a:pt x="1982" y="738"/>
                      </a:lnTo>
                      <a:lnTo>
                        <a:pt x="2027" y="703"/>
                      </a:lnTo>
                      <a:lnTo>
                        <a:pt x="2069" y="668"/>
                      </a:lnTo>
                      <a:lnTo>
                        <a:pt x="2109" y="637"/>
                      </a:lnTo>
                      <a:lnTo>
                        <a:pt x="2144" y="608"/>
                      </a:lnTo>
                      <a:lnTo>
                        <a:pt x="2177" y="583"/>
                      </a:lnTo>
                      <a:lnTo>
                        <a:pt x="2203" y="560"/>
                      </a:lnTo>
                      <a:lnTo>
                        <a:pt x="2225" y="542"/>
                      </a:lnTo>
                      <a:lnTo>
                        <a:pt x="2241" y="527"/>
                      </a:lnTo>
                      <a:lnTo>
                        <a:pt x="2252" y="515"/>
                      </a:lnTo>
                      <a:lnTo>
                        <a:pt x="2256" y="508"/>
                      </a:lnTo>
                      <a:lnTo>
                        <a:pt x="2253" y="507"/>
                      </a:lnTo>
                      <a:lnTo>
                        <a:pt x="2253" y="507"/>
                      </a:lnTo>
                      <a:lnTo>
                        <a:pt x="2247" y="505"/>
                      </a:lnTo>
                      <a:lnTo>
                        <a:pt x="2235" y="499"/>
                      </a:lnTo>
                      <a:lnTo>
                        <a:pt x="2220" y="492"/>
                      </a:lnTo>
                      <a:lnTo>
                        <a:pt x="2200" y="483"/>
                      </a:lnTo>
                      <a:lnTo>
                        <a:pt x="2175" y="471"/>
                      </a:lnTo>
                      <a:lnTo>
                        <a:pt x="2148" y="459"/>
                      </a:lnTo>
                      <a:lnTo>
                        <a:pt x="2116" y="444"/>
                      </a:lnTo>
                      <a:lnTo>
                        <a:pt x="2081" y="429"/>
                      </a:lnTo>
                      <a:lnTo>
                        <a:pt x="2044" y="411"/>
                      </a:lnTo>
                      <a:lnTo>
                        <a:pt x="2004" y="392"/>
                      </a:lnTo>
                      <a:lnTo>
                        <a:pt x="1962" y="373"/>
                      </a:lnTo>
                      <a:lnTo>
                        <a:pt x="1919" y="353"/>
                      </a:lnTo>
                      <a:lnTo>
                        <a:pt x="1874" y="332"/>
                      </a:lnTo>
                      <a:lnTo>
                        <a:pt x="1829" y="310"/>
                      </a:lnTo>
                      <a:lnTo>
                        <a:pt x="1781" y="288"/>
                      </a:lnTo>
                      <a:lnTo>
                        <a:pt x="1735" y="265"/>
                      </a:lnTo>
                      <a:lnTo>
                        <a:pt x="1688" y="243"/>
                      </a:lnTo>
                      <a:lnTo>
                        <a:pt x="1642" y="220"/>
                      </a:lnTo>
                      <a:lnTo>
                        <a:pt x="1597" y="198"/>
                      </a:lnTo>
                      <a:lnTo>
                        <a:pt x="1552" y="177"/>
                      </a:lnTo>
                      <a:lnTo>
                        <a:pt x="1509" y="155"/>
                      </a:lnTo>
                      <a:lnTo>
                        <a:pt x="1468" y="134"/>
                      </a:lnTo>
                      <a:lnTo>
                        <a:pt x="1429" y="114"/>
                      </a:lnTo>
                      <a:lnTo>
                        <a:pt x="1392" y="95"/>
                      </a:lnTo>
                      <a:lnTo>
                        <a:pt x="1358" y="77"/>
                      </a:lnTo>
                      <a:lnTo>
                        <a:pt x="1327" y="60"/>
                      </a:lnTo>
                      <a:lnTo>
                        <a:pt x="1301" y="45"/>
                      </a:lnTo>
                      <a:lnTo>
                        <a:pt x="1277" y="31"/>
                      </a:lnTo>
                      <a:lnTo>
                        <a:pt x="1258" y="19"/>
                      </a:lnTo>
                      <a:lnTo>
                        <a:pt x="1243" y="8"/>
                      </a:lnTo>
                      <a:lnTo>
                        <a:pt x="1234" y="0"/>
                      </a:lnTo>
                      <a:lnTo>
                        <a:pt x="1231" y="13"/>
                      </a:lnTo>
                      <a:lnTo>
                        <a:pt x="1220" y="28"/>
                      </a:lnTo>
                      <a:lnTo>
                        <a:pt x="1204" y="43"/>
                      </a:lnTo>
                      <a:lnTo>
                        <a:pt x="1183" y="60"/>
                      </a:lnTo>
                      <a:lnTo>
                        <a:pt x="1157" y="79"/>
                      </a:lnTo>
                      <a:lnTo>
                        <a:pt x="1126" y="98"/>
                      </a:lnTo>
                      <a:lnTo>
                        <a:pt x="1090" y="119"/>
                      </a:lnTo>
                      <a:lnTo>
                        <a:pt x="1051" y="140"/>
                      </a:lnTo>
                      <a:lnTo>
                        <a:pt x="1009" y="162"/>
                      </a:lnTo>
                      <a:lnTo>
                        <a:pt x="963" y="183"/>
                      </a:lnTo>
                      <a:lnTo>
                        <a:pt x="916" y="206"/>
                      </a:lnTo>
                      <a:lnTo>
                        <a:pt x="865" y="229"/>
                      </a:lnTo>
                      <a:lnTo>
                        <a:pt x="813" y="253"/>
                      </a:lnTo>
                      <a:lnTo>
                        <a:pt x="760" y="277"/>
                      </a:lnTo>
                      <a:lnTo>
                        <a:pt x="705" y="300"/>
                      </a:lnTo>
                      <a:lnTo>
                        <a:pt x="651" y="323"/>
                      </a:lnTo>
                      <a:lnTo>
                        <a:pt x="596" y="345"/>
                      </a:lnTo>
                      <a:lnTo>
                        <a:pt x="540" y="367"/>
                      </a:lnTo>
                      <a:lnTo>
                        <a:pt x="486" y="388"/>
                      </a:lnTo>
                      <a:lnTo>
                        <a:pt x="432" y="409"/>
                      </a:lnTo>
                      <a:lnTo>
                        <a:pt x="380" y="429"/>
                      </a:lnTo>
                      <a:lnTo>
                        <a:pt x="330" y="447"/>
                      </a:lnTo>
                      <a:lnTo>
                        <a:pt x="282" y="466"/>
                      </a:lnTo>
                      <a:lnTo>
                        <a:pt x="237" y="482"/>
                      </a:lnTo>
                      <a:lnTo>
                        <a:pt x="194" y="497"/>
                      </a:lnTo>
                      <a:lnTo>
                        <a:pt x="155" y="510"/>
                      </a:lnTo>
                      <a:lnTo>
                        <a:pt x="121" y="522"/>
                      </a:lnTo>
                      <a:lnTo>
                        <a:pt x="90" y="532"/>
                      </a:lnTo>
                      <a:lnTo>
                        <a:pt x="63" y="540"/>
                      </a:lnTo>
                      <a:lnTo>
                        <a:pt x="42" y="546"/>
                      </a:lnTo>
                      <a:lnTo>
                        <a:pt x="26" y="551"/>
                      </a:lnTo>
                      <a:lnTo>
                        <a:pt x="16" y="552"/>
                      </a:lnTo>
                      <a:lnTo>
                        <a:pt x="4" y="558"/>
                      </a:lnTo>
                      <a:lnTo>
                        <a:pt x="0" y="568"/>
                      </a:lnTo>
                      <a:lnTo>
                        <a:pt x="3" y="582"/>
                      </a:lnTo>
                      <a:lnTo>
                        <a:pt x="15" y="600"/>
                      </a:lnTo>
                      <a:lnTo>
                        <a:pt x="32" y="621"/>
                      </a:lnTo>
                      <a:lnTo>
                        <a:pt x="55" y="645"/>
                      </a:lnTo>
                      <a:lnTo>
                        <a:pt x="85" y="673"/>
                      </a:lnTo>
                      <a:lnTo>
                        <a:pt x="120" y="702"/>
                      </a:lnTo>
                      <a:lnTo>
                        <a:pt x="159" y="734"/>
                      </a:lnTo>
                      <a:lnTo>
                        <a:pt x="201" y="767"/>
                      </a:lnTo>
                      <a:lnTo>
                        <a:pt x="249" y="802"/>
                      </a:lnTo>
                      <a:lnTo>
                        <a:pt x="299" y="839"/>
                      </a:lnTo>
                      <a:lnTo>
                        <a:pt x="351" y="877"/>
                      </a:lnTo>
                      <a:lnTo>
                        <a:pt x="407" y="915"/>
                      </a:lnTo>
                      <a:lnTo>
                        <a:pt x="464" y="953"/>
                      </a:lnTo>
                      <a:lnTo>
                        <a:pt x="522" y="992"/>
                      </a:lnTo>
                      <a:lnTo>
                        <a:pt x="581" y="1031"/>
                      </a:lnTo>
                      <a:lnTo>
                        <a:pt x="640" y="1069"/>
                      </a:lnTo>
                      <a:lnTo>
                        <a:pt x="699" y="1106"/>
                      </a:lnTo>
                      <a:lnTo>
                        <a:pt x="757" y="1143"/>
                      </a:lnTo>
                      <a:lnTo>
                        <a:pt x="814" y="1178"/>
                      </a:lnTo>
                      <a:lnTo>
                        <a:pt x="870" y="1212"/>
                      </a:lnTo>
                      <a:lnTo>
                        <a:pt x="923" y="1243"/>
                      </a:lnTo>
                      <a:lnTo>
                        <a:pt x="974" y="1273"/>
                      </a:lnTo>
                      <a:lnTo>
                        <a:pt x="1021" y="1299"/>
                      </a:lnTo>
                      <a:lnTo>
                        <a:pt x="1065" y="1323"/>
                      </a:lnTo>
                      <a:lnTo>
                        <a:pt x="1104" y="1345"/>
                      </a:lnTo>
                      <a:lnTo>
                        <a:pt x="1138" y="1363"/>
                      </a:lnTo>
                      <a:lnTo>
                        <a:pt x="1168" y="1378"/>
                      </a:lnTo>
                      <a:lnTo>
                        <a:pt x="1192" y="1387"/>
                      </a:lnTo>
                      <a:lnTo>
                        <a:pt x="1211" y="1394"/>
                      </a:lnTo>
                      <a:lnTo>
                        <a:pt x="1222" y="13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7185960" y="5807160"/>
                  <a:ext cx="1097640" cy="555120"/>
                </a:xfrm>
                <a:custGeom>
                  <a:avLst/>
                  <a:gdLst/>
                  <a:ahLst/>
                  <a:rect l="l" t="t" r="r" b="b"/>
                  <a:pathLst>
                    <a:path w="2169" h="1312">
                      <a:moveTo>
                        <a:pt x="1151" y="1312"/>
                      </a:moveTo>
                      <a:lnTo>
                        <a:pt x="1146" y="1307"/>
                      </a:lnTo>
                      <a:lnTo>
                        <a:pt x="1149" y="1297"/>
                      </a:lnTo>
                      <a:lnTo>
                        <a:pt x="1158" y="1284"/>
                      </a:lnTo>
                      <a:lnTo>
                        <a:pt x="1173" y="1267"/>
                      </a:lnTo>
                      <a:lnTo>
                        <a:pt x="1194" y="1246"/>
                      </a:lnTo>
                      <a:lnTo>
                        <a:pt x="1219" y="1222"/>
                      </a:lnTo>
                      <a:lnTo>
                        <a:pt x="1249" y="1196"/>
                      </a:lnTo>
                      <a:lnTo>
                        <a:pt x="1282" y="1167"/>
                      </a:lnTo>
                      <a:lnTo>
                        <a:pt x="1320" y="1136"/>
                      </a:lnTo>
                      <a:lnTo>
                        <a:pt x="1362" y="1102"/>
                      </a:lnTo>
                      <a:lnTo>
                        <a:pt x="1406" y="1068"/>
                      </a:lnTo>
                      <a:lnTo>
                        <a:pt x="1452" y="1031"/>
                      </a:lnTo>
                      <a:lnTo>
                        <a:pt x="1500" y="994"/>
                      </a:lnTo>
                      <a:lnTo>
                        <a:pt x="1550" y="956"/>
                      </a:lnTo>
                      <a:lnTo>
                        <a:pt x="1600" y="917"/>
                      </a:lnTo>
                      <a:lnTo>
                        <a:pt x="1651" y="879"/>
                      </a:lnTo>
                      <a:lnTo>
                        <a:pt x="1702" y="840"/>
                      </a:lnTo>
                      <a:lnTo>
                        <a:pt x="1752" y="802"/>
                      </a:lnTo>
                      <a:lnTo>
                        <a:pt x="1803" y="765"/>
                      </a:lnTo>
                      <a:lnTo>
                        <a:pt x="1852" y="728"/>
                      </a:lnTo>
                      <a:lnTo>
                        <a:pt x="1898" y="692"/>
                      </a:lnTo>
                      <a:lnTo>
                        <a:pt x="1943" y="659"/>
                      </a:lnTo>
                      <a:lnTo>
                        <a:pt x="1984" y="628"/>
                      </a:lnTo>
                      <a:lnTo>
                        <a:pt x="2023" y="598"/>
                      </a:lnTo>
                      <a:lnTo>
                        <a:pt x="2059" y="570"/>
                      </a:lnTo>
                      <a:lnTo>
                        <a:pt x="2090" y="546"/>
                      </a:lnTo>
                      <a:lnTo>
                        <a:pt x="2117" y="525"/>
                      </a:lnTo>
                      <a:lnTo>
                        <a:pt x="2137" y="507"/>
                      </a:lnTo>
                      <a:lnTo>
                        <a:pt x="2155" y="493"/>
                      </a:lnTo>
                      <a:lnTo>
                        <a:pt x="2165" y="483"/>
                      </a:lnTo>
                      <a:lnTo>
                        <a:pt x="2169" y="476"/>
                      </a:lnTo>
                      <a:lnTo>
                        <a:pt x="2166" y="475"/>
                      </a:lnTo>
                      <a:lnTo>
                        <a:pt x="2169" y="476"/>
                      </a:lnTo>
                      <a:lnTo>
                        <a:pt x="2164" y="474"/>
                      </a:lnTo>
                      <a:lnTo>
                        <a:pt x="2156" y="470"/>
                      </a:lnTo>
                      <a:lnTo>
                        <a:pt x="2142" y="463"/>
                      </a:lnTo>
                      <a:lnTo>
                        <a:pt x="2125" y="455"/>
                      </a:lnTo>
                      <a:lnTo>
                        <a:pt x="2103" y="446"/>
                      </a:lnTo>
                      <a:lnTo>
                        <a:pt x="2077" y="433"/>
                      </a:lnTo>
                      <a:lnTo>
                        <a:pt x="2049" y="421"/>
                      </a:lnTo>
                      <a:lnTo>
                        <a:pt x="2018" y="406"/>
                      </a:lnTo>
                      <a:lnTo>
                        <a:pt x="1983" y="390"/>
                      </a:lnTo>
                      <a:lnTo>
                        <a:pt x="1945" y="372"/>
                      </a:lnTo>
                      <a:lnTo>
                        <a:pt x="1907" y="354"/>
                      </a:lnTo>
                      <a:lnTo>
                        <a:pt x="1865" y="335"/>
                      </a:lnTo>
                      <a:lnTo>
                        <a:pt x="1824" y="316"/>
                      </a:lnTo>
                      <a:lnTo>
                        <a:pt x="1780" y="295"/>
                      </a:lnTo>
                      <a:lnTo>
                        <a:pt x="1736" y="274"/>
                      </a:lnTo>
                      <a:lnTo>
                        <a:pt x="1691" y="254"/>
                      </a:lnTo>
                      <a:lnTo>
                        <a:pt x="1648" y="232"/>
                      </a:lnTo>
                      <a:lnTo>
                        <a:pt x="1603" y="211"/>
                      </a:lnTo>
                      <a:lnTo>
                        <a:pt x="1560" y="189"/>
                      </a:lnTo>
                      <a:lnTo>
                        <a:pt x="1516" y="168"/>
                      </a:lnTo>
                      <a:lnTo>
                        <a:pt x="1475" y="149"/>
                      </a:lnTo>
                      <a:lnTo>
                        <a:pt x="1436" y="128"/>
                      </a:lnTo>
                      <a:lnTo>
                        <a:pt x="1398" y="110"/>
                      </a:lnTo>
                      <a:lnTo>
                        <a:pt x="1361" y="91"/>
                      </a:lnTo>
                      <a:lnTo>
                        <a:pt x="1327" y="74"/>
                      </a:lnTo>
                      <a:lnTo>
                        <a:pt x="1297" y="58"/>
                      </a:lnTo>
                      <a:lnTo>
                        <a:pt x="1270" y="43"/>
                      </a:lnTo>
                      <a:lnTo>
                        <a:pt x="1247" y="30"/>
                      </a:lnTo>
                      <a:lnTo>
                        <a:pt x="1226" y="19"/>
                      </a:lnTo>
                      <a:lnTo>
                        <a:pt x="1211" y="8"/>
                      </a:lnTo>
                      <a:lnTo>
                        <a:pt x="1199" y="0"/>
                      </a:lnTo>
                      <a:lnTo>
                        <a:pt x="1190" y="14"/>
                      </a:lnTo>
                      <a:lnTo>
                        <a:pt x="1174" y="28"/>
                      </a:lnTo>
                      <a:lnTo>
                        <a:pt x="1154" y="44"/>
                      </a:lnTo>
                      <a:lnTo>
                        <a:pt x="1129" y="61"/>
                      </a:lnTo>
                      <a:lnTo>
                        <a:pt x="1100" y="80"/>
                      </a:lnTo>
                      <a:lnTo>
                        <a:pt x="1067" y="98"/>
                      </a:lnTo>
                      <a:lnTo>
                        <a:pt x="1030" y="118"/>
                      </a:lnTo>
                      <a:lnTo>
                        <a:pt x="991" y="139"/>
                      </a:lnTo>
                      <a:lnTo>
                        <a:pt x="948" y="159"/>
                      </a:lnTo>
                      <a:lnTo>
                        <a:pt x="902" y="181"/>
                      </a:lnTo>
                      <a:lnTo>
                        <a:pt x="855" y="203"/>
                      </a:lnTo>
                      <a:lnTo>
                        <a:pt x="806" y="225"/>
                      </a:lnTo>
                      <a:lnTo>
                        <a:pt x="756" y="247"/>
                      </a:lnTo>
                      <a:lnTo>
                        <a:pt x="704" y="269"/>
                      </a:lnTo>
                      <a:lnTo>
                        <a:pt x="652" y="291"/>
                      </a:lnTo>
                      <a:lnTo>
                        <a:pt x="599" y="312"/>
                      </a:lnTo>
                      <a:lnTo>
                        <a:pt x="547" y="333"/>
                      </a:lnTo>
                      <a:lnTo>
                        <a:pt x="495" y="354"/>
                      </a:lnTo>
                      <a:lnTo>
                        <a:pt x="443" y="375"/>
                      </a:lnTo>
                      <a:lnTo>
                        <a:pt x="394" y="393"/>
                      </a:lnTo>
                      <a:lnTo>
                        <a:pt x="344" y="411"/>
                      </a:lnTo>
                      <a:lnTo>
                        <a:pt x="298" y="430"/>
                      </a:lnTo>
                      <a:lnTo>
                        <a:pt x="253" y="446"/>
                      </a:lnTo>
                      <a:lnTo>
                        <a:pt x="212" y="461"/>
                      </a:lnTo>
                      <a:lnTo>
                        <a:pt x="173" y="475"/>
                      </a:lnTo>
                      <a:lnTo>
                        <a:pt x="137" y="487"/>
                      </a:lnTo>
                      <a:lnTo>
                        <a:pt x="106" y="499"/>
                      </a:lnTo>
                      <a:lnTo>
                        <a:pt x="78" y="508"/>
                      </a:lnTo>
                      <a:lnTo>
                        <a:pt x="55" y="515"/>
                      </a:lnTo>
                      <a:lnTo>
                        <a:pt x="35" y="521"/>
                      </a:lnTo>
                      <a:lnTo>
                        <a:pt x="23" y="524"/>
                      </a:lnTo>
                      <a:lnTo>
                        <a:pt x="15" y="525"/>
                      </a:lnTo>
                      <a:lnTo>
                        <a:pt x="3" y="531"/>
                      </a:lnTo>
                      <a:lnTo>
                        <a:pt x="0" y="540"/>
                      </a:lnTo>
                      <a:lnTo>
                        <a:pt x="2" y="553"/>
                      </a:lnTo>
                      <a:lnTo>
                        <a:pt x="12" y="570"/>
                      </a:lnTo>
                      <a:lnTo>
                        <a:pt x="28" y="590"/>
                      </a:lnTo>
                      <a:lnTo>
                        <a:pt x="50" y="613"/>
                      </a:lnTo>
                      <a:lnTo>
                        <a:pt x="78" y="637"/>
                      </a:lnTo>
                      <a:lnTo>
                        <a:pt x="110" y="665"/>
                      </a:lnTo>
                      <a:lnTo>
                        <a:pt x="147" y="695"/>
                      </a:lnTo>
                      <a:lnTo>
                        <a:pt x="189" y="726"/>
                      </a:lnTo>
                      <a:lnTo>
                        <a:pt x="232" y="758"/>
                      </a:lnTo>
                      <a:lnTo>
                        <a:pt x="280" y="793"/>
                      </a:lnTo>
                      <a:lnTo>
                        <a:pt x="329" y="827"/>
                      </a:lnTo>
                      <a:lnTo>
                        <a:pt x="381" y="863"/>
                      </a:lnTo>
                      <a:lnTo>
                        <a:pt x="435" y="900"/>
                      </a:lnTo>
                      <a:lnTo>
                        <a:pt x="489" y="935"/>
                      </a:lnTo>
                      <a:lnTo>
                        <a:pt x="546" y="971"/>
                      </a:lnTo>
                      <a:lnTo>
                        <a:pt x="601" y="1007"/>
                      </a:lnTo>
                      <a:lnTo>
                        <a:pt x="657" y="1042"/>
                      </a:lnTo>
                      <a:lnTo>
                        <a:pt x="712" y="1076"/>
                      </a:lnTo>
                      <a:lnTo>
                        <a:pt x="766" y="1109"/>
                      </a:lnTo>
                      <a:lnTo>
                        <a:pt x="818" y="1140"/>
                      </a:lnTo>
                      <a:lnTo>
                        <a:pt x="867" y="1170"/>
                      </a:lnTo>
                      <a:lnTo>
                        <a:pt x="916" y="1198"/>
                      </a:lnTo>
                      <a:lnTo>
                        <a:pt x="961" y="1223"/>
                      </a:lnTo>
                      <a:lnTo>
                        <a:pt x="1001" y="1245"/>
                      </a:lnTo>
                      <a:lnTo>
                        <a:pt x="1039" y="1265"/>
                      </a:lnTo>
                      <a:lnTo>
                        <a:pt x="1071" y="1282"/>
                      </a:lnTo>
                      <a:lnTo>
                        <a:pt x="1100" y="1295"/>
                      </a:lnTo>
                      <a:lnTo>
                        <a:pt x="1123" y="1305"/>
                      </a:lnTo>
                      <a:lnTo>
                        <a:pt x="1141" y="1311"/>
                      </a:lnTo>
                      <a:lnTo>
                        <a:pt x="1151" y="13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7909920" y="5911560"/>
                  <a:ext cx="109080" cy="59760"/>
                </a:xfrm>
                <a:custGeom>
                  <a:avLst/>
                  <a:gdLst/>
                  <a:ahLst/>
                  <a:rect l="l" t="t" r="r" b="b"/>
                  <a:pathLst>
                    <a:path w="216" h="141">
                      <a:moveTo>
                        <a:pt x="108" y="0"/>
                      </a:moveTo>
                      <a:lnTo>
                        <a:pt x="122" y="10"/>
                      </a:lnTo>
                      <a:lnTo>
                        <a:pt x="139" y="2"/>
                      </a:lnTo>
                      <a:lnTo>
                        <a:pt x="147" y="15"/>
                      </a:lnTo>
                      <a:lnTo>
                        <a:pt x="167" y="10"/>
                      </a:lnTo>
                      <a:lnTo>
                        <a:pt x="169" y="24"/>
                      </a:lnTo>
                      <a:lnTo>
                        <a:pt x="190" y="24"/>
                      </a:lnTo>
                      <a:lnTo>
                        <a:pt x="187" y="38"/>
                      </a:lnTo>
                      <a:lnTo>
                        <a:pt x="207" y="41"/>
                      </a:lnTo>
                      <a:lnTo>
                        <a:pt x="198" y="53"/>
                      </a:lnTo>
                      <a:lnTo>
                        <a:pt x="216" y="61"/>
                      </a:lnTo>
                      <a:lnTo>
                        <a:pt x="201" y="70"/>
                      </a:lnTo>
                      <a:lnTo>
                        <a:pt x="216" y="80"/>
                      </a:lnTo>
                      <a:lnTo>
                        <a:pt x="198" y="87"/>
                      </a:lnTo>
                      <a:lnTo>
                        <a:pt x="207" y="100"/>
                      </a:lnTo>
                      <a:lnTo>
                        <a:pt x="187" y="103"/>
                      </a:lnTo>
                      <a:lnTo>
                        <a:pt x="190" y="117"/>
                      </a:lnTo>
                      <a:lnTo>
                        <a:pt x="169" y="116"/>
                      </a:lnTo>
                      <a:lnTo>
                        <a:pt x="167" y="130"/>
                      </a:lnTo>
                      <a:lnTo>
                        <a:pt x="147" y="126"/>
                      </a:lnTo>
                      <a:lnTo>
                        <a:pt x="139" y="139"/>
                      </a:lnTo>
                      <a:lnTo>
                        <a:pt x="122" y="131"/>
                      </a:lnTo>
                      <a:lnTo>
                        <a:pt x="108" y="141"/>
                      </a:lnTo>
                      <a:lnTo>
                        <a:pt x="94" y="131"/>
                      </a:lnTo>
                      <a:lnTo>
                        <a:pt x="77" y="139"/>
                      </a:lnTo>
                      <a:lnTo>
                        <a:pt x="69" y="126"/>
                      </a:lnTo>
                      <a:lnTo>
                        <a:pt x="49" y="130"/>
                      </a:lnTo>
                      <a:lnTo>
                        <a:pt x="47" y="116"/>
                      </a:lnTo>
                      <a:lnTo>
                        <a:pt x="25" y="117"/>
                      </a:lnTo>
                      <a:lnTo>
                        <a:pt x="30" y="103"/>
                      </a:lnTo>
                      <a:lnTo>
                        <a:pt x="9" y="100"/>
                      </a:lnTo>
                      <a:lnTo>
                        <a:pt x="18" y="87"/>
                      </a:lnTo>
                      <a:lnTo>
                        <a:pt x="0" y="80"/>
                      </a:lnTo>
                      <a:lnTo>
                        <a:pt x="15" y="70"/>
                      </a:lnTo>
                      <a:lnTo>
                        <a:pt x="0" y="61"/>
                      </a:lnTo>
                      <a:lnTo>
                        <a:pt x="18" y="54"/>
                      </a:lnTo>
                      <a:lnTo>
                        <a:pt x="9" y="41"/>
                      </a:lnTo>
                      <a:lnTo>
                        <a:pt x="30" y="38"/>
                      </a:lnTo>
                      <a:lnTo>
                        <a:pt x="25" y="24"/>
                      </a:lnTo>
                      <a:lnTo>
                        <a:pt x="47" y="24"/>
                      </a:lnTo>
                      <a:lnTo>
                        <a:pt x="49" y="10"/>
                      </a:lnTo>
                      <a:lnTo>
                        <a:pt x="69" y="15"/>
                      </a:lnTo>
                      <a:lnTo>
                        <a:pt x="77" y="2"/>
                      </a:lnTo>
                      <a:lnTo>
                        <a:pt x="94" y="10"/>
                      </a:lnTo>
                      <a:lnTo>
                        <a:pt x="108" y="0"/>
                      </a:lnTo>
                      <a:close/>
                    </a:path>
                  </a:pathLst>
                </a:custGeom>
                <a:solidFill>
                  <a:srgbClr val="9e9e3f"/>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19" name=""/>
                <p:cNvSpPr/>
                <p:nvPr/>
              </p:nvSpPr>
              <p:spPr>
                <a:xfrm>
                  <a:off x="7785360" y="5856480"/>
                  <a:ext cx="115200" cy="55800"/>
                </a:xfrm>
                <a:custGeom>
                  <a:avLst/>
                  <a:gdLst/>
                  <a:ahLst/>
                  <a:rect l="l" t="t" r="r" b="b"/>
                  <a:pathLst>
                    <a:path w="230" h="131">
                      <a:moveTo>
                        <a:pt x="0" y="0"/>
                      </a:moveTo>
                      <a:lnTo>
                        <a:pt x="3" y="1"/>
                      </a:lnTo>
                      <a:lnTo>
                        <a:pt x="7" y="4"/>
                      </a:lnTo>
                      <a:lnTo>
                        <a:pt x="16" y="9"/>
                      </a:lnTo>
                      <a:lnTo>
                        <a:pt x="27" y="15"/>
                      </a:lnTo>
                      <a:lnTo>
                        <a:pt x="41" y="23"/>
                      </a:lnTo>
                      <a:lnTo>
                        <a:pt x="56" y="32"/>
                      </a:lnTo>
                      <a:lnTo>
                        <a:pt x="73" y="41"/>
                      </a:lnTo>
                      <a:lnTo>
                        <a:pt x="91" y="51"/>
                      </a:lnTo>
                      <a:lnTo>
                        <a:pt x="110" y="62"/>
                      </a:lnTo>
                      <a:lnTo>
                        <a:pt x="128" y="72"/>
                      </a:lnTo>
                      <a:lnTo>
                        <a:pt x="148" y="83"/>
                      </a:lnTo>
                      <a:lnTo>
                        <a:pt x="166" y="93"/>
                      </a:lnTo>
                      <a:lnTo>
                        <a:pt x="185" y="102"/>
                      </a:lnTo>
                      <a:lnTo>
                        <a:pt x="201" y="110"/>
                      </a:lnTo>
                      <a:lnTo>
                        <a:pt x="217" y="117"/>
                      </a:lnTo>
                      <a:lnTo>
                        <a:pt x="230" y="123"/>
                      </a:lnTo>
                      <a:lnTo>
                        <a:pt x="220" y="131"/>
                      </a:lnTo>
                      <a:lnTo>
                        <a:pt x="218" y="130"/>
                      </a:lnTo>
                      <a:lnTo>
                        <a:pt x="212" y="127"/>
                      </a:lnTo>
                      <a:lnTo>
                        <a:pt x="203" y="124"/>
                      </a:lnTo>
                      <a:lnTo>
                        <a:pt x="192" y="118"/>
                      </a:lnTo>
                      <a:lnTo>
                        <a:pt x="178" y="111"/>
                      </a:lnTo>
                      <a:lnTo>
                        <a:pt x="162" y="103"/>
                      </a:lnTo>
                      <a:lnTo>
                        <a:pt x="143" y="95"/>
                      </a:lnTo>
                      <a:lnTo>
                        <a:pt x="125" y="86"/>
                      </a:lnTo>
                      <a:lnTo>
                        <a:pt x="106" y="76"/>
                      </a:lnTo>
                      <a:lnTo>
                        <a:pt x="87" y="65"/>
                      </a:lnTo>
                      <a:lnTo>
                        <a:pt x="68" y="54"/>
                      </a:lnTo>
                      <a:lnTo>
                        <a:pt x="51" y="43"/>
                      </a:lnTo>
                      <a:lnTo>
                        <a:pt x="35" y="32"/>
                      </a:lnTo>
                      <a:lnTo>
                        <a:pt x="21" y="20"/>
                      </a:lnTo>
                      <a:lnTo>
                        <a:pt x="9" y="10"/>
                      </a:lnTo>
                      <a:lnTo>
                        <a:pt x="0" y="0"/>
                      </a:lnTo>
                      <a:close/>
                    </a:path>
                  </a:pathLst>
                </a:custGeom>
                <a:solidFill>
                  <a:srgbClr val="93d3d3"/>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20" name=""/>
                <p:cNvSpPr/>
                <p:nvPr/>
              </p:nvSpPr>
              <p:spPr>
                <a:xfrm>
                  <a:off x="7767000" y="5869080"/>
                  <a:ext cx="120240" cy="59760"/>
                </a:xfrm>
                <a:custGeom>
                  <a:avLst/>
                  <a:gdLst/>
                  <a:ahLst/>
                  <a:rect l="l" t="t" r="r" b="b"/>
                  <a:pathLst>
                    <a:path w="237" h="142">
                      <a:moveTo>
                        <a:pt x="0" y="0"/>
                      </a:moveTo>
                      <a:lnTo>
                        <a:pt x="2" y="2"/>
                      </a:lnTo>
                      <a:lnTo>
                        <a:pt x="8" y="5"/>
                      </a:lnTo>
                      <a:lnTo>
                        <a:pt x="16" y="11"/>
                      </a:lnTo>
                      <a:lnTo>
                        <a:pt x="27" y="18"/>
                      </a:lnTo>
                      <a:lnTo>
                        <a:pt x="41" y="26"/>
                      </a:lnTo>
                      <a:lnTo>
                        <a:pt x="57" y="36"/>
                      </a:lnTo>
                      <a:lnTo>
                        <a:pt x="75" y="46"/>
                      </a:lnTo>
                      <a:lnTo>
                        <a:pt x="94" y="58"/>
                      </a:lnTo>
                      <a:lnTo>
                        <a:pt x="114" y="70"/>
                      </a:lnTo>
                      <a:lnTo>
                        <a:pt x="133" y="81"/>
                      </a:lnTo>
                      <a:lnTo>
                        <a:pt x="153" y="91"/>
                      </a:lnTo>
                      <a:lnTo>
                        <a:pt x="172" y="103"/>
                      </a:lnTo>
                      <a:lnTo>
                        <a:pt x="191" y="112"/>
                      </a:lnTo>
                      <a:lnTo>
                        <a:pt x="208" y="121"/>
                      </a:lnTo>
                      <a:lnTo>
                        <a:pt x="223" y="128"/>
                      </a:lnTo>
                      <a:lnTo>
                        <a:pt x="237" y="134"/>
                      </a:lnTo>
                      <a:lnTo>
                        <a:pt x="227" y="142"/>
                      </a:lnTo>
                      <a:lnTo>
                        <a:pt x="224" y="141"/>
                      </a:lnTo>
                      <a:lnTo>
                        <a:pt x="219" y="139"/>
                      </a:lnTo>
                      <a:lnTo>
                        <a:pt x="209" y="134"/>
                      </a:lnTo>
                      <a:lnTo>
                        <a:pt x="197" y="127"/>
                      </a:lnTo>
                      <a:lnTo>
                        <a:pt x="182" y="120"/>
                      </a:lnTo>
                      <a:lnTo>
                        <a:pt x="166" y="111"/>
                      </a:lnTo>
                      <a:lnTo>
                        <a:pt x="147" y="102"/>
                      </a:lnTo>
                      <a:lnTo>
                        <a:pt x="129" y="91"/>
                      </a:lnTo>
                      <a:lnTo>
                        <a:pt x="109" y="81"/>
                      </a:lnTo>
                      <a:lnTo>
                        <a:pt x="90" y="70"/>
                      </a:lnTo>
                      <a:lnTo>
                        <a:pt x="70" y="57"/>
                      </a:lnTo>
                      <a:lnTo>
                        <a:pt x="53" y="45"/>
                      </a:lnTo>
                      <a:lnTo>
                        <a:pt x="35" y="34"/>
                      </a:lnTo>
                      <a:lnTo>
                        <a:pt x="22" y="22"/>
                      </a:lnTo>
                      <a:lnTo>
                        <a:pt x="9" y="11"/>
                      </a:lnTo>
                      <a:lnTo>
                        <a:pt x="0" y="0"/>
                      </a:lnTo>
                      <a:close/>
                    </a:path>
                  </a:pathLst>
                </a:custGeom>
                <a:solidFill>
                  <a:srgbClr val="93d3d3"/>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21" name=""/>
                <p:cNvSpPr/>
                <p:nvPr/>
              </p:nvSpPr>
              <p:spPr>
                <a:xfrm>
                  <a:off x="7752960" y="5881680"/>
                  <a:ext cx="106200" cy="55800"/>
                </a:xfrm>
                <a:custGeom>
                  <a:avLst/>
                  <a:gdLst/>
                  <a:ahLst/>
                  <a:rect l="l" t="t" r="r" b="b"/>
                  <a:pathLst>
                    <a:path w="209" h="133">
                      <a:moveTo>
                        <a:pt x="0" y="0"/>
                      </a:moveTo>
                      <a:lnTo>
                        <a:pt x="1" y="2"/>
                      </a:lnTo>
                      <a:lnTo>
                        <a:pt x="6" y="5"/>
                      </a:lnTo>
                      <a:lnTo>
                        <a:pt x="14" y="10"/>
                      </a:lnTo>
                      <a:lnTo>
                        <a:pt x="23" y="16"/>
                      </a:lnTo>
                      <a:lnTo>
                        <a:pt x="35" y="23"/>
                      </a:lnTo>
                      <a:lnTo>
                        <a:pt x="48" y="33"/>
                      </a:lnTo>
                      <a:lnTo>
                        <a:pt x="63" y="42"/>
                      </a:lnTo>
                      <a:lnTo>
                        <a:pt x="79" y="52"/>
                      </a:lnTo>
                      <a:lnTo>
                        <a:pt x="97" y="64"/>
                      </a:lnTo>
                      <a:lnTo>
                        <a:pt x="114" y="74"/>
                      </a:lnTo>
                      <a:lnTo>
                        <a:pt x="131" y="84"/>
                      </a:lnTo>
                      <a:lnTo>
                        <a:pt x="149" y="94"/>
                      </a:lnTo>
                      <a:lnTo>
                        <a:pt x="165" y="103"/>
                      </a:lnTo>
                      <a:lnTo>
                        <a:pt x="181" y="112"/>
                      </a:lnTo>
                      <a:lnTo>
                        <a:pt x="196" y="119"/>
                      </a:lnTo>
                      <a:lnTo>
                        <a:pt x="209" y="125"/>
                      </a:lnTo>
                      <a:lnTo>
                        <a:pt x="198" y="133"/>
                      </a:lnTo>
                      <a:lnTo>
                        <a:pt x="196" y="132"/>
                      </a:lnTo>
                      <a:lnTo>
                        <a:pt x="191" y="129"/>
                      </a:lnTo>
                      <a:lnTo>
                        <a:pt x="183" y="126"/>
                      </a:lnTo>
                      <a:lnTo>
                        <a:pt x="173" y="120"/>
                      </a:lnTo>
                      <a:lnTo>
                        <a:pt x="160" y="113"/>
                      </a:lnTo>
                      <a:lnTo>
                        <a:pt x="146" y="105"/>
                      </a:lnTo>
                      <a:lnTo>
                        <a:pt x="130" y="97"/>
                      </a:lnTo>
                      <a:lnTo>
                        <a:pt x="114" y="87"/>
                      </a:lnTo>
                      <a:lnTo>
                        <a:pt x="97" y="78"/>
                      </a:lnTo>
                      <a:lnTo>
                        <a:pt x="81" y="66"/>
                      </a:lnTo>
                      <a:lnTo>
                        <a:pt x="63" y="56"/>
                      </a:lnTo>
                      <a:lnTo>
                        <a:pt x="48" y="44"/>
                      </a:lnTo>
                      <a:lnTo>
                        <a:pt x="33" y="33"/>
                      </a:lnTo>
                      <a:lnTo>
                        <a:pt x="20" y="22"/>
                      </a:lnTo>
                      <a:lnTo>
                        <a:pt x="9" y="11"/>
                      </a:lnTo>
                      <a:lnTo>
                        <a:pt x="0" y="0"/>
                      </a:lnTo>
                      <a:close/>
                    </a:path>
                  </a:pathLst>
                </a:custGeom>
                <a:solidFill>
                  <a:srgbClr val="93d3d3"/>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22" name=""/>
                <p:cNvSpPr/>
                <p:nvPr/>
              </p:nvSpPr>
              <p:spPr>
                <a:xfrm>
                  <a:off x="7716600" y="5893560"/>
                  <a:ext cx="358200" cy="176760"/>
                </a:xfrm>
                <a:custGeom>
                  <a:avLst/>
                  <a:gdLst/>
                  <a:ahLst/>
                  <a:rect l="l" t="t" r="r" b="b"/>
                  <a:pathLst>
                    <a:path w="709" h="418">
                      <a:moveTo>
                        <a:pt x="0" y="0"/>
                      </a:moveTo>
                      <a:lnTo>
                        <a:pt x="7" y="5"/>
                      </a:lnTo>
                      <a:lnTo>
                        <a:pt x="28" y="16"/>
                      </a:lnTo>
                      <a:lnTo>
                        <a:pt x="60" y="36"/>
                      </a:lnTo>
                      <a:lnTo>
                        <a:pt x="102" y="61"/>
                      </a:lnTo>
                      <a:lnTo>
                        <a:pt x="151" y="90"/>
                      </a:lnTo>
                      <a:lnTo>
                        <a:pt x="208" y="123"/>
                      </a:lnTo>
                      <a:lnTo>
                        <a:pt x="268" y="159"/>
                      </a:lnTo>
                      <a:lnTo>
                        <a:pt x="330" y="196"/>
                      </a:lnTo>
                      <a:lnTo>
                        <a:pt x="393" y="233"/>
                      </a:lnTo>
                      <a:lnTo>
                        <a:pt x="455" y="270"/>
                      </a:lnTo>
                      <a:lnTo>
                        <a:pt x="515" y="304"/>
                      </a:lnTo>
                      <a:lnTo>
                        <a:pt x="571" y="335"/>
                      </a:lnTo>
                      <a:lnTo>
                        <a:pt x="619" y="363"/>
                      </a:lnTo>
                      <a:lnTo>
                        <a:pt x="659" y="385"/>
                      </a:lnTo>
                      <a:lnTo>
                        <a:pt x="691" y="401"/>
                      </a:lnTo>
                      <a:lnTo>
                        <a:pt x="709" y="410"/>
                      </a:lnTo>
                      <a:lnTo>
                        <a:pt x="699" y="418"/>
                      </a:lnTo>
                      <a:lnTo>
                        <a:pt x="692" y="414"/>
                      </a:lnTo>
                      <a:lnTo>
                        <a:pt x="670" y="402"/>
                      </a:lnTo>
                      <a:lnTo>
                        <a:pt x="638" y="385"/>
                      </a:lnTo>
                      <a:lnTo>
                        <a:pt x="595" y="361"/>
                      </a:lnTo>
                      <a:lnTo>
                        <a:pt x="544" y="332"/>
                      </a:lnTo>
                      <a:lnTo>
                        <a:pt x="488" y="301"/>
                      </a:lnTo>
                      <a:lnTo>
                        <a:pt x="427" y="266"/>
                      </a:lnTo>
                      <a:lnTo>
                        <a:pt x="364" y="229"/>
                      </a:lnTo>
                      <a:lnTo>
                        <a:pt x="301" y="194"/>
                      </a:lnTo>
                      <a:lnTo>
                        <a:pt x="239" y="157"/>
                      </a:lnTo>
                      <a:lnTo>
                        <a:pt x="180" y="121"/>
                      </a:lnTo>
                      <a:lnTo>
                        <a:pt x="126" y="89"/>
                      </a:lnTo>
                      <a:lnTo>
                        <a:pt x="80" y="59"/>
                      </a:lnTo>
                      <a:lnTo>
                        <a:pt x="42" y="34"/>
                      </a:lnTo>
                      <a:lnTo>
                        <a:pt x="14" y="14"/>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7687080" y="5904720"/>
                  <a:ext cx="364320" cy="181080"/>
                </a:xfrm>
                <a:custGeom>
                  <a:avLst/>
                  <a:gdLst/>
                  <a:ahLst/>
                  <a:rect l="l" t="t" r="r" b="b"/>
                  <a:pathLst>
                    <a:path w="719" h="428">
                      <a:moveTo>
                        <a:pt x="0" y="0"/>
                      </a:moveTo>
                      <a:lnTo>
                        <a:pt x="7" y="4"/>
                      </a:lnTo>
                      <a:lnTo>
                        <a:pt x="27" y="17"/>
                      </a:lnTo>
                      <a:lnTo>
                        <a:pt x="61" y="36"/>
                      </a:lnTo>
                      <a:lnTo>
                        <a:pt x="102" y="62"/>
                      </a:lnTo>
                      <a:lnTo>
                        <a:pt x="153" y="92"/>
                      </a:lnTo>
                      <a:lnTo>
                        <a:pt x="209" y="126"/>
                      </a:lnTo>
                      <a:lnTo>
                        <a:pt x="271" y="162"/>
                      </a:lnTo>
                      <a:lnTo>
                        <a:pt x="335" y="200"/>
                      </a:lnTo>
                      <a:lnTo>
                        <a:pt x="400" y="238"/>
                      </a:lnTo>
                      <a:lnTo>
                        <a:pt x="463" y="276"/>
                      </a:lnTo>
                      <a:lnTo>
                        <a:pt x="523" y="312"/>
                      </a:lnTo>
                      <a:lnTo>
                        <a:pt x="578" y="344"/>
                      </a:lnTo>
                      <a:lnTo>
                        <a:pt x="628" y="372"/>
                      </a:lnTo>
                      <a:lnTo>
                        <a:pt x="669" y="395"/>
                      </a:lnTo>
                      <a:lnTo>
                        <a:pt x="700" y="411"/>
                      </a:lnTo>
                      <a:lnTo>
                        <a:pt x="719" y="420"/>
                      </a:lnTo>
                      <a:lnTo>
                        <a:pt x="708" y="428"/>
                      </a:lnTo>
                      <a:lnTo>
                        <a:pt x="700" y="423"/>
                      </a:lnTo>
                      <a:lnTo>
                        <a:pt x="680" y="412"/>
                      </a:lnTo>
                      <a:lnTo>
                        <a:pt x="646" y="393"/>
                      </a:lnTo>
                      <a:lnTo>
                        <a:pt x="604" y="368"/>
                      </a:lnTo>
                      <a:lnTo>
                        <a:pt x="552" y="339"/>
                      </a:lnTo>
                      <a:lnTo>
                        <a:pt x="494" y="307"/>
                      </a:lnTo>
                      <a:lnTo>
                        <a:pt x="433" y="271"/>
                      </a:lnTo>
                      <a:lnTo>
                        <a:pt x="369" y="235"/>
                      </a:lnTo>
                      <a:lnTo>
                        <a:pt x="304" y="197"/>
                      </a:lnTo>
                      <a:lnTo>
                        <a:pt x="242" y="159"/>
                      </a:lnTo>
                      <a:lnTo>
                        <a:pt x="182" y="123"/>
                      </a:lnTo>
                      <a:lnTo>
                        <a:pt x="127" y="89"/>
                      </a:lnTo>
                      <a:lnTo>
                        <a:pt x="79" y="60"/>
                      </a:lnTo>
                      <a:lnTo>
                        <a:pt x="41" y="33"/>
                      </a:lnTo>
                      <a:lnTo>
                        <a:pt x="15" y="13"/>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7660800" y="5917320"/>
                  <a:ext cx="367560" cy="184320"/>
                </a:xfrm>
                <a:custGeom>
                  <a:avLst/>
                  <a:gdLst/>
                  <a:ahLst/>
                  <a:rect l="l" t="t" r="r" b="b"/>
                  <a:pathLst>
                    <a:path w="725" h="435">
                      <a:moveTo>
                        <a:pt x="0" y="0"/>
                      </a:moveTo>
                      <a:lnTo>
                        <a:pt x="7" y="4"/>
                      </a:lnTo>
                      <a:lnTo>
                        <a:pt x="29" y="17"/>
                      </a:lnTo>
                      <a:lnTo>
                        <a:pt x="61" y="36"/>
                      </a:lnTo>
                      <a:lnTo>
                        <a:pt x="104" y="63"/>
                      </a:lnTo>
                      <a:lnTo>
                        <a:pt x="154" y="93"/>
                      </a:lnTo>
                      <a:lnTo>
                        <a:pt x="212" y="127"/>
                      </a:lnTo>
                      <a:lnTo>
                        <a:pt x="273" y="164"/>
                      </a:lnTo>
                      <a:lnTo>
                        <a:pt x="338" y="203"/>
                      </a:lnTo>
                      <a:lnTo>
                        <a:pt x="402" y="243"/>
                      </a:lnTo>
                      <a:lnTo>
                        <a:pt x="467" y="281"/>
                      </a:lnTo>
                      <a:lnTo>
                        <a:pt x="528" y="316"/>
                      </a:lnTo>
                      <a:lnTo>
                        <a:pt x="584" y="348"/>
                      </a:lnTo>
                      <a:lnTo>
                        <a:pt x="634" y="377"/>
                      </a:lnTo>
                      <a:lnTo>
                        <a:pt x="675" y="400"/>
                      </a:lnTo>
                      <a:lnTo>
                        <a:pt x="706" y="418"/>
                      </a:lnTo>
                      <a:lnTo>
                        <a:pt x="725" y="427"/>
                      </a:lnTo>
                      <a:lnTo>
                        <a:pt x="714" y="435"/>
                      </a:lnTo>
                      <a:lnTo>
                        <a:pt x="706" y="430"/>
                      </a:lnTo>
                      <a:lnTo>
                        <a:pt x="686" y="419"/>
                      </a:lnTo>
                      <a:lnTo>
                        <a:pt x="652" y="399"/>
                      </a:lnTo>
                      <a:lnTo>
                        <a:pt x="608" y="375"/>
                      </a:lnTo>
                      <a:lnTo>
                        <a:pt x="557" y="345"/>
                      </a:lnTo>
                      <a:lnTo>
                        <a:pt x="499" y="312"/>
                      </a:lnTo>
                      <a:lnTo>
                        <a:pt x="437" y="275"/>
                      </a:lnTo>
                      <a:lnTo>
                        <a:pt x="372" y="238"/>
                      </a:lnTo>
                      <a:lnTo>
                        <a:pt x="308" y="199"/>
                      </a:lnTo>
                      <a:lnTo>
                        <a:pt x="244" y="161"/>
                      </a:lnTo>
                      <a:lnTo>
                        <a:pt x="183" y="124"/>
                      </a:lnTo>
                      <a:lnTo>
                        <a:pt x="129" y="91"/>
                      </a:lnTo>
                      <a:lnTo>
                        <a:pt x="81" y="59"/>
                      </a:lnTo>
                      <a:lnTo>
                        <a:pt x="43" y="34"/>
                      </a:lnTo>
                      <a:lnTo>
                        <a:pt x="15" y="13"/>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a:off x="7631280" y="5927400"/>
                  <a:ext cx="352440" cy="180360"/>
                </a:xfrm>
                <a:custGeom>
                  <a:avLst/>
                  <a:gdLst/>
                  <a:ahLst/>
                  <a:rect l="l" t="t" r="r" b="b"/>
                  <a:pathLst>
                    <a:path w="696" h="426">
                      <a:moveTo>
                        <a:pt x="0" y="0"/>
                      </a:moveTo>
                      <a:lnTo>
                        <a:pt x="8" y="4"/>
                      </a:lnTo>
                      <a:lnTo>
                        <a:pt x="29" y="17"/>
                      </a:lnTo>
                      <a:lnTo>
                        <a:pt x="62" y="38"/>
                      </a:lnTo>
                      <a:lnTo>
                        <a:pt x="105" y="64"/>
                      </a:lnTo>
                      <a:lnTo>
                        <a:pt x="157" y="96"/>
                      </a:lnTo>
                      <a:lnTo>
                        <a:pt x="214" y="131"/>
                      </a:lnTo>
                      <a:lnTo>
                        <a:pt x="276" y="169"/>
                      </a:lnTo>
                      <a:lnTo>
                        <a:pt x="339" y="207"/>
                      </a:lnTo>
                      <a:lnTo>
                        <a:pt x="403" y="246"/>
                      </a:lnTo>
                      <a:lnTo>
                        <a:pt x="466" y="284"/>
                      </a:lnTo>
                      <a:lnTo>
                        <a:pt x="524" y="319"/>
                      </a:lnTo>
                      <a:lnTo>
                        <a:pt x="577" y="351"/>
                      </a:lnTo>
                      <a:lnTo>
                        <a:pt x="622" y="377"/>
                      </a:lnTo>
                      <a:lnTo>
                        <a:pt x="659" y="399"/>
                      </a:lnTo>
                      <a:lnTo>
                        <a:pt x="685" y="412"/>
                      </a:lnTo>
                      <a:lnTo>
                        <a:pt x="696" y="418"/>
                      </a:lnTo>
                      <a:lnTo>
                        <a:pt x="686" y="426"/>
                      </a:lnTo>
                      <a:lnTo>
                        <a:pt x="679" y="421"/>
                      </a:lnTo>
                      <a:lnTo>
                        <a:pt x="658" y="410"/>
                      </a:lnTo>
                      <a:lnTo>
                        <a:pt x="626" y="391"/>
                      </a:lnTo>
                      <a:lnTo>
                        <a:pt x="584" y="367"/>
                      </a:lnTo>
                      <a:lnTo>
                        <a:pt x="535" y="338"/>
                      </a:lnTo>
                      <a:lnTo>
                        <a:pt x="480" y="305"/>
                      </a:lnTo>
                      <a:lnTo>
                        <a:pt x="420" y="270"/>
                      </a:lnTo>
                      <a:lnTo>
                        <a:pt x="357" y="233"/>
                      </a:lnTo>
                      <a:lnTo>
                        <a:pt x="295" y="195"/>
                      </a:lnTo>
                      <a:lnTo>
                        <a:pt x="234" y="159"/>
                      </a:lnTo>
                      <a:lnTo>
                        <a:pt x="176" y="123"/>
                      </a:lnTo>
                      <a:lnTo>
                        <a:pt x="123" y="89"/>
                      </a:lnTo>
                      <a:lnTo>
                        <a:pt x="78" y="59"/>
                      </a:lnTo>
                      <a:lnTo>
                        <a:pt x="40" y="33"/>
                      </a:lnTo>
                      <a:lnTo>
                        <a:pt x="14" y="13"/>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7570800" y="5947200"/>
                  <a:ext cx="387720" cy="200520"/>
                </a:xfrm>
                <a:custGeom>
                  <a:avLst/>
                  <a:gdLst/>
                  <a:ahLst/>
                  <a:rect l="l" t="t" r="r" b="b"/>
                  <a:pathLst>
                    <a:path w="765" h="473">
                      <a:moveTo>
                        <a:pt x="0" y="0"/>
                      </a:moveTo>
                      <a:lnTo>
                        <a:pt x="3" y="1"/>
                      </a:lnTo>
                      <a:lnTo>
                        <a:pt x="8" y="4"/>
                      </a:lnTo>
                      <a:lnTo>
                        <a:pt x="18" y="10"/>
                      </a:lnTo>
                      <a:lnTo>
                        <a:pt x="30" y="18"/>
                      </a:lnTo>
                      <a:lnTo>
                        <a:pt x="46" y="29"/>
                      </a:lnTo>
                      <a:lnTo>
                        <a:pt x="65" y="40"/>
                      </a:lnTo>
                      <a:lnTo>
                        <a:pt x="87" y="54"/>
                      </a:lnTo>
                      <a:lnTo>
                        <a:pt x="111" y="69"/>
                      </a:lnTo>
                      <a:lnTo>
                        <a:pt x="136" y="85"/>
                      </a:lnTo>
                      <a:lnTo>
                        <a:pt x="164" y="102"/>
                      </a:lnTo>
                      <a:lnTo>
                        <a:pt x="194" y="121"/>
                      </a:lnTo>
                      <a:lnTo>
                        <a:pt x="225" y="140"/>
                      </a:lnTo>
                      <a:lnTo>
                        <a:pt x="257" y="160"/>
                      </a:lnTo>
                      <a:lnTo>
                        <a:pt x="290" y="181"/>
                      </a:lnTo>
                      <a:lnTo>
                        <a:pt x="324" y="201"/>
                      </a:lnTo>
                      <a:lnTo>
                        <a:pt x="358" y="223"/>
                      </a:lnTo>
                      <a:lnTo>
                        <a:pt x="392" y="244"/>
                      </a:lnTo>
                      <a:lnTo>
                        <a:pt x="427" y="266"/>
                      </a:lnTo>
                      <a:lnTo>
                        <a:pt x="460" y="287"/>
                      </a:lnTo>
                      <a:lnTo>
                        <a:pt x="494" y="307"/>
                      </a:lnTo>
                      <a:lnTo>
                        <a:pt x="527" y="327"/>
                      </a:lnTo>
                      <a:lnTo>
                        <a:pt x="558" y="346"/>
                      </a:lnTo>
                      <a:lnTo>
                        <a:pt x="589" y="365"/>
                      </a:lnTo>
                      <a:lnTo>
                        <a:pt x="618" y="382"/>
                      </a:lnTo>
                      <a:lnTo>
                        <a:pt x="644" y="398"/>
                      </a:lnTo>
                      <a:lnTo>
                        <a:pt x="670" y="413"/>
                      </a:lnTo>
                      <a:lnTo>
                        <a:pt x="693" y="426"/>
                      </a:lnTo>
                      <a:lnTo>
                        <a:pt x="714" y="437"/>
                      </a:lnTo>
                      <a:lnTo>
                        <a:pt x="731" y="448"/>
                      </a:lnTo>
                      <a:lnTo>
                        <a:pt x="746" y="456"/>
                      </a:lnTo>
                      <a:lnTo>
                        <a:pt x="757" y="462"/>
                      </a:lnTo>
                      <a:lnTo>
                        <a:pt x="765" y="465"/>
                      </a:lnTo>
                      <a:lnTo>
                        <a:pt x="755" y="473"/>
                      </a:lnTo>
                      <a:lnTo>
                        <a:pt x="753" y="472"/>
                      </a:lnTo>
                      <a:lnTo>
                        <a:pt x="747" y="468"/>
                      </a:lnTo>
                      <a:lnTo>
                        <a:pt x="738" y="463"/>
                      </a:lnTo>
                      <a:lnTo>
                        <a:pt x="724" y="455"/>
                      </a:lnTo>
                      <a:lnTo>
                        <a:pt x="708" y="445"/>
                      </a:lnTo>
                      <a:lnTo>
                        <a:pt x="688" y="434"/>
                      </a:lnTo>
                      <a:lnTo>
                        <a:pt x="666" y="421"/>
                      </a:lnTo>
                      <a:lnTo>
                        <a:pt x="642" y="406"/>
                      </a:lnTo>
                      <a:lnTo>
                        <a:pt x="617" y="391"/>
                      </a:lnTo>
                      <a:lnTo>
                        <a:pt x="588" y="374"/>
                      </a:lnTo>
                      <a:lnTo>
                        <a:pt x="558" y="357"/>
                      </a:lnTo>
                      <a:lnTo>
                        <a:pt x="527" y="337"/>
                      </a:lnTo>
                      <a:lnTo>
                        <a:pt x="495" y="318"/>
                      </a:lnTo>
                      <a:lnTo>
                        <a:pt x="461" y="298"/>
                      </a:lnTo>
                      <a:lnTo>
                        <a:pt x="427" y="277"/>
                      </a:lnTo>
                      <a:lnTo>
                        <a:pt x="392" y="257"/>
                      </a:lnTo>
                      <a:lnTo>
                        <a:pt x="358" y="236"/>
                      </a:lnTo>
                      <a:lnTo>
                        <a:pt x="324" y="215"/>
                      </a:lnTo>
                      <a:lnTo>
                        <a:pt x="290" y="194"/>
                      </a:lnTo>
                      <a:lnTo>
                        <a:pt x="256" y="174"/>
                      </a:lnTo>
                      <a:lnTo>
                        <a:pt x="224" y="153"/>
                      </a:lnTo>
                      <a:lnTo>
                        <a:pt x="193" y="133"/>
                      </a:lnTo>
                      <a:lnTo>
                        <a:pt x="163" y="115"/>
                      </a:lnTo>
                      <a:lnTo>
                        <a:pt x="135" y="97"/>
                      </a:lnTo>
                      <a:lnTo>
                        <a:pt x="109" y="79"/>
                      </a:lnTo>
                      <a:lnTo>
                        <a:pt x="84" y="63"/>
                      </a:lnTo>
                      <a:lnTo>
                        <a:pt x="62" y="49"/>
                      </a:lnTo>
                      <a:lnTo>
                        <a:pt x="44" y="36"/>
                      </a:lnTo>
                      <a:lnTo>
                        <a:pt x="28" y="24"/>
                      </a:lnTo>
                      <a:lnTo>
                        <a:pt x="15" y="14"/>
                      </a:lnTo>
                      <a:lnTo>
                        <a:pt x="6" y="6"/>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7540200" y="5958000"/>
                  <a:ext cx="394920" cy="204840"/>
                </a:xfrm>
                <a:custGeom>
                  <a:avLst/>
                  <a:gdLst/>
                  <a:ahLst/>
                  <a:rect l="l" t="t" r="r" b="b"/>
                  <a:pathLst>
                    <a:path w="779" h="485">
                      <a:moveTo>
                        <a:pt x="0" y="0"/>
                      </a:moveTo>
                      <a:lnTo>
                        <a:pt x="3" y="1"/>
                      </a:lnTo>
                      <a:lnTo>
                        <a:pt x="8" y="5"/>
                      </a:lnTo>
                      <a:lnTo>
                        <a:pt x="18" y="12"/>
                      </a:lnTo>
                      <a:lnTo>
                        <a:pt x="31" y="20"/>
                      </a:lnTo>
                      <a:lnTo>
                        <a:pt x="48" y="30"/>
                      </a:lnTo>
                      <a:lnTo>
                        <a:pt x="66" y="41"/>
                      </a:lnTo>
                      <a:lnTo>
                        <a:pt x="88" y="55"/>
                      </a:lnTo>
                      <a:lnTo>
                        <a:pt x="112" y="71"/>
                      </a:lnTo>
                      <a:lnTo>
                        <a:pt x="139" y="88"/>
                      </a:lnTo>
                      <a:lnTo>
                        <a:pt x="167" y="106"/>
                      </a:lnTo>
                      <a:lnTo>
                        <a:pt x="197" y="124"/>
                      </a:lnTo>
                      <a:lnTo>
                        <a:pt x="230" y="144"/>
                      </a:lnTo>
                      <a:lnTo>
                        <a:pt x="262" y="165"/>
                      </a:lnTo>
                      <a:lnTo>
                        <a:pt x="295" y="187"/>
                      </a:lnTo>
                      <a:lnTo>
                        <a:pt x="330" y="207"/>
                      </a:lnTo>
                      <a:lnTo>
                        <a:pt x="365" y="229"/>
                      </a:lnTo>
                      <a:lnTo>
                        <a:pt x="400" y="251"/>
                      </a:lnTo>
                      <a:lnTo>
                        <a:pt x="435" y="273"/>
                      </a:lnTo>
                      <a:lnTo>
                        <a:pt x="469" y="295"/>
                      </a:lnTo>
                      <a:lnTo>
                        <a:pt x="504" y="316"/>
                      </a:lnTo>
                      <a:lnTo>
                        <a:pt x="537" y="336"/>
                      </a:lnTo>
                      <a:lnTo>
                        <a:pt x="570" y="356"/>
                      </a:lnTo>
                      <a:lnTo>
                        <a:pt x="600" y="374"/>
                      </a:lnTo>
                      <a:lnTo>
                        <a:pt x="630" y="392"/>
                      </a:lnTo>
                      <a:lnTo>
                        <a:pt x="657" y="409"/>
                      </a:lnTo>
                      <a:lnTo>
                        <a:pt x="683" y="424"/>
                      </a:lnTo>
                      <a:lnTo>
                        <a:pt x="706" y="438"/>
                      </a:lnTo>
                      <a:lnTo>
                        <a:pt x="726" y="449"/>
                      </a:lnTo>
                      <a:lnTo>
                        <a:pt x="745" y="459"/>
                      </a:lnTo>
                      <a:lnTo>
                        <a:pt x="760" y="468"/>
                      </a:lnTo>
                      <a:lnTo>
                        <a:pt x="771" y="473"/>
                      </a:lnTo>
                      <a:lnTo>
                        <a:pt x="779" y="477"/>
                      </a:lnTo>
                      <a:lnTo>
                        <a:pt x="769" y="485"/>
                      </a:lnTo>
                      <a:lnTo>
                        <a:pt x="767" y="484"/>
                      </a:lnTo>
                      <a:lnTo>
                        <a:pt x="761" y="480"/>
                      </a:lnTo>
                      <a:lnTo>
                        <a:pt x="751" y="474"/>
                      </a:lnTo>
                      <a:lnTo>
                        <a:pt x="738" y="466"/>
                      </a:lnTo>
                      <a:lnTo>
                        <a:pt x="721" y="456"/>
                      </a:lnTo>
                      <a:lnTo>
                        <a:pt x="701" y="444"/>
                      </a:lnTo>
                      <a:lnTo>
                        <a:pt x="679" y="432"/>
                      </a:lnTo>
                      <a:lnTo>
                        <a:pt x="655" y="417"/>
                      </a:lnTo>
                      <a:lnTo>
                        <a:pt x="627" y="401"/>
                      </a:lnTo>
                      <a:lnTo>
                        <a:pt x="598" y="383"/>
                      </a:lnTo>
                      <a:lnTo>
                        <a:pt x="568" y="365"/>
                      </a:lnTo>
                      <a:lnTo>
                        <a:pt x="536" y="345"/>
                      </a:lnTo>
                      <a:lnTo>
                        <a:pt x="503" y="326"/>
                      </a:lnTo>
                      <a:lnTo>
                        <a:pt x="469" y="305"/>
                      </a:lnTo>
                      <a:lnTo>
                        <a:pt x="435" y="284"/>
                      </a:lnTo>
                      <a:lnTo>
                        <a:pt x="399" y="263"/>
                      </a:lnTo>
                      <a:lnTo>
                        <a:pt x="365" y="241"/>
                      </a:lnTo>
                      <a:lnTo>
                        <a:pt x="329" y="220"/>
                      </a:lnTo>
                      <a:lnTo>
                        <a:pt x="294" y="198"/>
                      </a:lnTo>
                      <a:lnTo>
                        <a:pt x="261" y="177"/>
                      </a:lnTo>
                      <a:lnTo>
                        <a:pt x="227" y="157"/>
                      </a:lnTo>
                      <a:lnTo>
                        <a:pt x="196" y="136"/>
                      </a:lnTo>
                      <a:lnTo>
                        <a:pt x="165" y="117"/>
                      </a:lnTo>
                      <a:lnTo>
                        <a:pt x="137" y="99"/>
                      </a:lnTo>
                      <a:lnTo>
                        <a:pt x="110" y="81"/>
                      </a:lnTo>
                      <a:lnTo>
                        <a:pt x="86" y="64"/>
                      </a:lnTo>
                      <a:lnTo>
                        <a:pt x="64" y="50"/>
                      </a:lnTo>
                      <a:lnTo>
                        <a:pt x="44" y="37"/>
                      </a:lnTo>
                      <a:lnTo>
                        <a:pt x="28" y="24"/>
                      </a:lnTo>
                      <a:lnTo>
                        <a:pt x="15" y="14"/>
                      </a:lnTo>
                      <a:lnTo>
                        <a:pt x="6" y="6"/>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7509960" y="5967360"/>
                  <a:ext cx="401760" cy="210600"/>
                </a:xfrm>
                <a:custGeom>
                  <a:avLst/>
                  <a:gdLst/>
                  <a:ahLst/>
                  <a:rect l="l" t="t" r="r" b="b"/>
                  <a:pathLst>
                    <a:path w="793" h="499">
                      <a:moveTo>
                        <a:pt x="0" y="0"/>
                      </a:moveTo>
                      <a:lnTo>
                        <a:pt x="3" y="1"/>
                      </a:lnTo>
                      <a:lnTo>
                        <a:pt x="8" y="6"/>
                      </a:lnTo>
                      <a:lnTo>
                        <a:pt x="19" y="12"/>
                      </a:lnTo>
                      <a:lnTo>
                        <a:pt x="32" y="20"/>
                      </a:lnTo>
                      <a:lnTo>
                        <a:pt x="49" y="31"/>
                      </a:lnTo>
                      <a:lnTo>
                        <a:pt x="68" y="43"/>
                      </a:lnTo>
                      <a:lnTo>
                        <a:pt x="90" y="58"/>
                      </a:lnTo>
                      <a:lnTo>
                        <a:pt x="115" y="73"/>
                      </a:lnTo>
                      <a:lnTo>
                        <a:pt x="142" y="90"/>
                      </a:lnTo>
                      <a:lnTo>
                        <a:pt x="171" y="108"/>
                      </a:lnTo>
                      <a:lnTo>
                        <a:pt x="202" y="128"/>
                      </a:lnTo>
                      <a:lnTo>
                        <a:pt x="234" y="149"/>
                      </a:lnTo>
                      <a:lnTo>
                        <a:pt x="268" y="169"/>
                      </a:lnTo>
                      <a:lnTo>
                        <a:pt x="301" y="191"/>
                      </a:lnTo>
                      <a:lnTo>
                        <a:pt x="337" y="213"/>
                      </a:lnTo>
                      <a:lnTo>
                        <a:pt x="373" y="235"/>
                      </a:lnTo>
                      <a:lnTo>
                        <a:pt x="408" y="258"/>
                      </a:lnTo>
                      <a:lnTo>
                        <a:pt x="443" y="280"/>
                      </a:lnTo>
                      <a:lnTo>
                        <a:pt x="479" y="302"/>
                      </a:lnTo>
                      <a:lnTo>
                        <a:pt x="513" y="324"/>
                      </a:lnTo>
                      <a:lnTo>
                        <a:pt x="548" y="344"/>
                      </a:lnTo>
                      <a:lnTo>
                        <a:pt x="580" y="365"/>
                      </a:lnTo>
                      <a:lnTo>
                        <a:pt x="612" y="385"/>
                      </a:lnTo>
                      <a:lnTo>
                        <a:pt x="641" y="403"/>
                      </a:lnTo>
                      <a:lnTo>
                        <a:pt x="670" y="420"/>
                      </a:lnTo>
                      <a:lnTo>
                        <a:pt x="695" y="435"/>
                      </a:lnTo>
                      <a:lnTo>
                        <a:pt x="720" y="449"/>
                      </a:lnTo>
                      <a:lnTo>
                        <a:pt x="740" y="462"/>
                      </a:lnTo>
                      <a:lnTo>
                        <a:pt x="759" y="472"/>
                      </a:lnTo>
                      <a:lnTo>
                        <a:pt x="774" y="480"/>
                      </a:lnTo>
                      <a:lnTo>
                        <a:pt x="785" y="487"/>
                      </a:lnTo>
                      <a:lnTo>
                        <a:pt x="793" y="491"/>
                      </a:lnTo>
                      <a:lnTo>
                        <a:pt x="783" y="499"/>
                      </a:lnTo>
                      <a:lnTo>
                        <a:pt x="781" y="497"/>
                      </a:lnTo>
                      <a:lnTo>
                        <a:pt x="775" y="494"/>
                      </a:lnTo>
                      <a:lnTo>
                        <a:pt x="764" y="487"/>
                      </a:lnTo>
                      <a:lnTo>
                        <a:pt x="751" y="479"/>
                      </a:lnTo>
                      <a:lnTo>
                        <a:pt x="735" y="469"/>
                      </a:lnTo>
                      <a:lnTo>
                        <a:pt x="714" y="457"/>
                      </a:lnTo>
                      <a:lnTo>
                        <a:pt x="692" y="443"/>
                      </a:lnTo>
                      <a:lnTo>
                        <a:pt x="667" y="428"/>
                      </a:lnTo>
                      <a:lnTo>
                        <a:pt x="639" y="412"/>
                      </a:lnTo>
                      <a:lnTo>
                        <a:pt x="609" y="394"/>
                      </a:lnTo>
                      <a:lnTo>
                        <a:pt x="578" y="375"/>
                      </a:lnTo>
                      <a:lnTo>
                        <a:pt x="546" y="355"/>
                      </a:lnTo>
                      <a:lnTo>
                        <a:pt x="512" y="334"/>
                      </a:lnTo>
                      <a:lnTo>
                        <a:pt x="478" y="313"/>
                      </a:lnTo>
                      <a:lnTo>
                        <a:pt x="442" y="291"/>
                      </a:lnTo>
                      <a:lnTo>
                        <a:pt x="406" y="269"/>
                      </a:lnTo>
                      <a:lnTo>
                        <a:pt x="370" y="248"/>
                      </a:lnTo>
                      <a:lnTo>
                        <a:pt x="335" y="226"/>
                      </a:lnTo>
                      <a:lnTo>
                        <a:pt x="300" y="204"/>
                      </a:lnTo>
                      <a:lnTo>
                        <a:pt x="265" y="182"/>
                      </a:lnTo>
                      <a:lnTo>
                        <a:pt x="232" y="160"/>
                      </a:lnTo>
                      <a:lnTo>
                        <a:pt x="200" y="139"/>
                      </a:lnTo>
                      <a:lnTo>
                        <a:pt x="169" y="120"/>
                      </a:lnTo>
                      <a:lnTo>
                        <a:pt x="139" y="100"/>
                      </a:lnTo>
                      <a:lnTo>
                        <a:pt x="112" y="83"/>
                      </a:lnTo>
                      <a:lnTo>
                        <a:pt x="87" y="66"/>
                      </a:lnTo>
                      <a:lnTo>
                        <a:pt x="65" y="51"/>
                      </a:lnTo>
                      <a:lnTo>
                        <a:pt x="45" y="37"/>
                      </a:lnTo>
                      <a:lnTo>
                        <a:pt x="29" y="25"/>
                      </a:lnTo>
                      <a:lnTo>
                        <a:pt x="15" y="15"/>
                      </a:lnTo>
                      <a:lnTo>
                        <a:pt x="6" y="6"/>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7479720" y="5977440"/>
                  <a:ext cx="408960" cy="215640"/>
                </a:xfrm>
                <a:custGeom>
                  <a:avLst/>
                  <a:gdLst/>
                  <a:ahLst/>
                  <a:rect l="l" t="t" r="r" b="b"/>
                  <a:pathLst>
                    <a:path w="808" h="511">
                      <a:moveTo>
                        <a:pt x="0" y="0"/>
                      </a:moveTo>
                      <a:lnTo>
                        <a:pt x="3" y="1"/>
                      </a:lnTo>
                      <a:lnTo>
                        <a:pt x="9" y="6"/>
                      </a:lnTo>
                      <a:lnTo>
                        <a:pt x="19" y="12"/>
                      </a:lnTo>
                      <a:lnTo>
                        <a:pt x="33" y="21"/>
                      </a:lnTo>
                      <a:lnTo>
                        <a:pt x="49" y="31"/>
                      </a:lnTo>
                      <a:lnTo>
                        <a:pt x="70" y="44"/>
                      </a:lnTo>
                      <a:lnTo>
                        <a:pt x="92" y="59"/>
                      </a:lnTo>
                      <a:lnTo>
                        <a:pt x="117" y="75"/>
                      </a:lnTo>
                      <a:lnTo>
                        <a:pt x="145" y="93"/>
                      </a:lnTo>
                      <a:lnTo>
                        <a:pt x="175" y="112"/>
                      </a:lnTo>
                      <a:lnTo>
                        <a:pt x="206" y="131"/>
                      </a:lnTo>
                      <a:lnTo>
                        <a:pt x="239" y="152"/>
                      </a:lnTo>
                      <a:lnTo>
                        <a:pt x="272" y="174"/>
                      </a:lnTo>
                      <a:lnTo>
                        <a:pt x="307" y="197"/>
                      </a:lnTo>
                      <a:lnTo>
                        <a:pt x="343" y="219"/>
                      </a:lnTo>
                      <a:lnTo>
                        <a:pt x="380" y="242"/>
                      </a:lnTo>
                      <a:lnTo>
                        <a:pt x="415" y="265"/>
                      </a:lnTo>
                      <a:lnTo>
                        <a:pt x="452" y="288"/>
                      </a:lnTo>
                      <a:lnTo>
                        <a:pt x="488" y="311"/>
                      </a:lnTo>
                      <a:lnTo>
                        <a:pt x="524" y="333"/>
                      </a:lnTo>
                      <a:lnTo>
                        <a:pt x="558" y="355"/>
                      </a:lnTo>
                      <a:lnTo>
                        <a:pt x="592" y="375"/>
                      </a:lnTo>
                      <a:lnTo>
                        <a:pt x="624" y="395"/>
                      </a:lnTo>
                      <a:lnTo>
                        <a:pt x="654" y="413"/>
                      </a:lnTo>
                      <a:lnTo>
                        <a:pt x="683" y="432"/>
                      </a:lnTo>
                      <a:lnTo>
                        <a:pt x="709" y="448"/>
                      </a:lnTo>
                      <a:lnTo>
                        <a:pt x="733" y="462"/>
                      </a:lnTo>
                      <a:lnTo>
                        <a:pt x="754" y="474"/>
                      </a:lnTo>
                      <a:lnTo>
                        <a:pt x="773" y="485"/>
                      </a:lnTo>
                      <a:lnTo>
                        <a:pt x="789" y="493"/>
                      </a:lnTo>
                      <a:lnTo>
                        <a:pt x="800" y="500"/>
                      </a:lnTo>
                      <a:lnTo>
                        <a:pt x="808" y="503"/>
                      </a:lnTo>
                      <a:lnTo>
                        <a:pt x="797" y="511"/>
                      </a:lnTo>
                      <a:lnTo>
                        <a:pt x="795" y="510"/>
                      </a:lnTo>
                      <a:lnTo>
                        <a:pt x="789" y="507"/>
                      </a:lnTo>
                      <a:lnTo>
                        <a:pt x="778" y="500"/>
                      </a:lnTo>
                      <a:lnTo>
                        <a:pt x="765" y="492"/>
                      </a:lnTo>
                      <a:lnTo>
                        <a:pt x="747" y="481"/>
                      </a:lnTo>
                      <a:lnTo>
                        <a:pt x="727" y="469"/>
                      </a:lnTo>
                      <a:lnTo>
                        <a:pt x="703" y="455"/>
                      </a:lnTo>
                      <a:lnTo>
                        <a:pt x="678" y="439"/>
                      </a:lnTo>
                      <a:lnTo>
                        <a:pt x="650" y="423"/>
                      </a:lnTo>
                      <a:lnTo>
                        <a:pt x="620" y="404"/>
                      </a:lnTo>
                      <a:lnTo>
                        <a:pt x="588" y="385"/>
                      </a:lnTo>
                      <a:lnTo>
                        <a:pt x="555" y="364"/>
                      </a:lnTo>
                      <a:lnTo>
                        <a:pt x="521" y="343"/>
                      </a:lnTo>
                      <a:lnTo>
                        <a:pt x="486" y="321"/>
                      </a:lnTo>
                      <a:lnTo>
                        <a:pt x="450" y="299"/>
                      </a:lnTo>
                      <a:lnTo>
                        <a:pt x="413" y="276"/>
                      </a:lnTo>
                      <a:lnTo>
                        <a:pt x="377" y="253"/>
                      </a:lnTo>
                      <a:lnTo>
                        <a:pt x="340" y="232"/>
                      </a:lnTo>
                      <a:lnTo>
                        <a:pt x="305" y="208"/>
                      </a:lnTo>
                      <a:lnTo>
                        <a:pt x="270" y="187"/>
                      </a:lnTo>
                      <a:lnTo>
                        <a:pt x="236" y="165"/>
                      </a:lnTo>
                      <a:lnTo>
                        <a:pt x="202" y="143"/>
                      </a:lnTo>
                      <a:lnTo>
                        <a:pt x="171" y="123"/>
                      </a:lnTo>
                      <a:lnTo>
                        <a:pt x="141" y="104"/>
                      </a:lnTo>
                      <a:lnTo>
                        <a:pt x="113" y="85"/>
                      </a:lnTo>
                      <a:lnTo>
                        <a:pt x="88" y="68"/>
                      </a:lnTo>
                      <a:lnTo>
                        <a:pt x="66" y="52"/>
                      </a:lnTo>
                      <a:lnTo>
                        <a:pt x="45" y="38"/>
                      </a:lnTo>
                      <a:lnTo>
                        <a:pt x="29" y="25"/>
                      </a:lnTo>
                      <a:lnTo>
                        <a:pt x="15" y="15"/>
                      </a:lnTo>
                      <a:lnTo>
                        <a:pt x="6" y="6"/>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7449480" y="5987880"/>
                  <a:ext cx="366480" cy="196200"/>
                </a:xfrm>
                <a:custGeom>
                  <a:avLst/>
                  <a:gdLst/>
                  <a:ahLst/>
                  <a:rect l="l" t="t" r="r" b="b"/>
                  <a:pathLst>
                    <a:path w="723" h="465">
                      <a:moveTo>
                        <a:pt x="0" y="0"/>
                      </a:moveTo>
                      <a:lnTo>
                        <a:pt x="2" y="1"/>
                      </a:lnTo>
                      <a:lnTo>
                        <a:pt x="8" y="6"/>
                      </a:lnTo>
                      <a:lnTo>
                        <a:pt x="18" y="12"/>
                      </a:lnTo>
                      <a:lnTo>
                        <a:pt x="32" y="21"/>
                      </a:lnTo>
                      <a:lnTo>
                        <a:pt x="49" y="32"/>
                      </a:lnTo>
                      <a:lnTo>
                        <a:pt x="69" y="45"/>
                      </a:lnTo>
                      <a:lnTo>
                        <a:pt x="92" y="60"/>
                      </a:lnTo>
                      <a:lnTo>
                        <a:pt x="117" y="76"/>
                      </a:lnTo>
                      <a:lnTo>
                        <a:pt x="145" y="94"/>
                      </a:lnTo>
                      <a:lnTo>
                        <a:pt x="174" y="113"/>
                      </a:lnTo>
                      <a:lnTo>
                        <a:pt x="205" y="133"/>
                      </a:lnTo>
                      <a:lnTo>
                        <a:pt x="237" y="153"/>
                      </a:lnTo>
                      <a:lnTo>
                        <a:pt x="270" y="175"/>
                      </a:lnTo>
                      <a:lnTo>
                        <a:pt x="304" y="197"/>
                      </a:lnTo>
                      <a:lnTo>
                        <a:pt x="338" y="219"/>
                      </a:lnTo>
                      <a:lnTo>
                        <a:pt x="373" y="241"/>
                      </a:lnTo>
                      <a:lnTo>
                        <a:pt x="408" y="263"/>
                      </a:lnTo>
                      <a:lnTo>
                        <a:pt x="442" y="285"/>
                      </a:lnTo>
                      <a:lnTo>
                        <a:pt x="476" y="307"/>
                      </a:lnTo>
                      <a:lnTo>
                        <a:pt x="508" y="327"/>
                      </a:lnTo>
                      <a:lnTo>
                        <a:pt x="539" y="347"/>
                      </a:lnTo>
                      <a:lnTo>
                        <a:pt x="569" y="365"/>
                      </a:lnTo>
                      <a:lnTo>
                        <a:pt x="597" y="384"/>
                      </a:lnTo>
                      <a:lnTo>
                        <a:pt x="623" y="400"/>
                      </a:lnTo>
                      <a:lnTo>
                        <a:pt x="646" y="415"/>
                      </a:lnTo>
                      <a:lnTo>
                        <a:pt x="668" y="427"/>
                      </a:lnTo>
                      <a:lnTo>
                        <a:pt x="685" y="438"/>
                      </a:lnTo>
                      <a:lnTo>
                        <a:pt x="700" y="447"/>
                      </a:lnTo>
                      <a:lnTo>
                        <a:pt x="712" y="454"/>
                      </a:lnTo>
                      <a:lnTo>
                        <a:pt x="720" y="457"/>
                      </a:lnTo>
                      <a:lnTo>
                        <a:pt x="723" y="459"/>
                      </a:lnTo>
                      <a:lnTo>
                        <a:pt x="722" y="457"/>
                      </a:lnTo>
                      <a:lnTo>
                        <a:pt x="712" y="465"/>
                      </a:lnTo>
                      <a:lnTo>
                        <a:pt x="704" y="461"/>
                      </a:lnTo>
                      <a:lnTo>
                        <a:pt x="683" y="448"/>
                      </a:lnTo>
                      <a:lnTo>
                        <a:pt x="650" y="427"/>
                      </a:lnTo>
                      <a:lnTo>
                        <a:pt x="606" y="400"/>
                      </a:lnTo>
                      <a:lnTo>
                        <a:pt x="555" y="369"/>
                      </a:lnTo>
                      <a:lnTo>
                        <a:pt x="497" y="333"/>
                      </a:lnTo>
                      <a:lnTo>
                        <a:pt x="435" y="294"/>
                      </a:lnTo>
                      <a:lnTo>
                        <a:pt x="371" y="254"/>
                      </a:lnTo>
                      <a:lnTo>
                        <a:pt x="306" y="212"/>
                      </a:lnTo>
                      <a:lnTo>
                        <a:pt x="243" y="171"/>
                      </a:lnTo>
                      <a:lnTo>
                        <a:pt x="183" y="133"/>
                      </a:lnTo>
                      <a:lnTo>
                        <a:pt x="127" y="96"/>
                      </a:lnTo>
                      <a:lnTo>
                        <a:pt x="80" y="64"/>
                      </a:lnTo>
                      <a:lnTo>
                        <a:pt x="42" y="36"/>
                      </a:lnTo>
                      <a:lnTo>
                        <a:pt x="15" y="14"/>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a:off x="7388640" y="6007320"/>
                  <a:ext cx="430200" cy="232560"/>
                </a:xfrm>
                <a:custGeom>
                  <a:avLst/>
                  <a:gdLst/>
                  <a:ahLst/>
                  <a:rect l="l" t="t" r="r" b="b"/>
                  <a:pathLst>
                    <a:path w="849" h="550">
                      <a:moveTo>
                        <a:pt x="0" y="0"/>
                      </a:moveTo>
                      <a:lnTo>
                        <a:pt x="2" y="2"/>
                      </a:lnTo>
                      <a:lnTo>
                        <a:pt x="9" y="6"/>
                      </a:lnTo>
                      <a:lnTo>
                        <a:pt x="19" y="13"/>
                      </a:lnTo>
                      <a:lnTo>
                        <a:pt x="33" y="22"/>
                      </a:lnTo>
                      <a:lnTo>
                        <a:pt x="52" y="34"/>
                      </a:lnTo>
                      <a:lnTo>
                        <a:pt x="72" y="48"/>
                      </a:lnTo>
                      <a:lnTo>
                        <a:pt x="97" y="64"/>
                      </a:lnTo>
                      <a:lnTo>
                        <a:pt x="123" y="81"/>
                      </a:lnTo>
                      <a:lnTo>
                        <a:pt x="152" y="101"/>
                      </a:lnTo>
                      <a:lnTo>
                        <a:pt x="183" y="121"/>
                      </a:lnTo>
                      <a:lnTo>
                        <a:pt x="216" y="142"/>
                      </a:lnTo>
                      <a:lnTo>
                        <a:pt x="251" y="165"/>
                      </a:lnTo>
                      <a:lnTo>
                        <a:pt x="287" y="188"/>
                      </a:lnTo>
                      <a:lnTo>
                        <a:pt x="324" y="212"/>
                      </a:lnTo>
                      <a:lnTo>
                        <a:pt x="362" y="237"/>
                      </a:lnTo>
                      <a:lnTo>
                        <a:pt x="400" y="262"/>
                      </a:lnTo>
                      <a:lnTo>
                        <a:pt x="438" y="286"/>
                      </a:lnTo>
                      <a:lnTo>
                        <a:pt x="476" y="311"/>
                      </a:lnTo>
                      <a:lnTo>
                        <a:pt x="514" y="336"/>
                      </a:lnTo>
                      <a:lnTo>
                        <a:pt x="551" y="360"/>
                      </a:lnTo>
                      <a:lnTo>
                        <a:pt x="587" y="383"/>
                      </a:lnTo>
                      <a:lnTo>
                        <a:pt x="622" y="405"/>
                      </a:lnTo>
                      <a:lnTo>
                        <a:pt x="657" y="427"/>
                      </a:lnTo>
                      <a:lnTo>
                        <a:pt x="688" y="446"/>
                      </a:lnTo>
                      <a:lnTo>
                        <a:pt x="718" y="466"/>
                      </a:lnTo>
                      <a:lnTo>
                        <a:pt x="745" y="482"/>
                      </a:lnTo>
                      <a:lnTo>
                        <a:pt x="771" y="498"/>
                      </a:lnTo>
                      <a:lnTo>
                        <a:pt x="794" y="511"/>
                      </a:lnTo>
                      <a:lnTo>
                        <a:pt x="812" y="522"/>
                      </a:lnTo>
                      <a:lnTo>
                        <a:pt x="828" y="531"/>
                      </a:lnTo>
                      <a:lnTo>
                        <a:pt x="841" y="538"/>
                      </a:lnTo>
                      <a:lnTo>
                        <a:pt x="849" y="542"/>
                      </a:lnTo>
                      <a:lnTo>
                        <a:pt x="838" y="550"/>
                      </a:lnTo>
                      <a:lnTo>
                        <a:pt x="835" y="549"/>
                      </a:lnTo>
                      <a:lnTo>
                        <a:pt x="828" y="544"/>
                      </a:lnTo>
                      <a:lnTo>
                        <a:pt x="818" y="537"/>
                      </a:lnTo>
                      <a:lnTo>
                        <a:pt x="803" y="528"/>
                      </a:lnTo>
                      <a:lnTo>
                        <a:pt x="785" y="517"/>
                      </a:lnTo>
                      <a:lnTo>
                        <a:pt x="764" y="504"/>
                      </a:lnTo>
                      <a:lnTo>
                        <a:pt x="740" y="489"/>
                      </a:lnTo>
                      <a:lnTo>
                        <a:pt x="712" y="471"/>
                      </a:lnTo>
                      <a:lnTo>
                        <a:pt x="683" y="453"/>
                      </a:lnTo>
                      <a:lnTo>
                        <a:pt x="651" y="433"/>
                      </a:lnTo>
                      <a:lnTo>
                        <a:pt x="617" y="413"/>
                      </a:lnTo>
                      <a:lnTo>
                        <a:pt x="583" y="390"/>
                      </a:lnTo>
                      <a:lnTo>
                        <a:pt x="547" y="368"/>
                      </a:lnTo>
                      <a:lnTo>
                        <a:pt x="510" y="344"/>
                      </a:lnTo>
                      <a:lnTo>
                        <a:pt x="472" y="319"/>
                      </a:lnTo>
                      <a:lnTo>
                        <a:pt x="434" y="295"/>
                      </a:lnTo>
                      <a:lnTo>
                        <a:pt x="395" y="271"/>
                      </a:lnTo>
                      <a:lnTo>
                        <a:pt x="357" y="247"/>
                      </a:lnTo>
                      <a:lnTo>
                        <a:pt x="320" y="222"/>
                      </a:lnTo>
                      <a:lnTo>
                        <a:pt x="282" y="199"/>
                      </a:lnTo>
                      <a:lnTo>
                        <a:pt x="246" y="174"/>
                      </a:lnTo>
                      <a:lnTo>
                        <a:pt x="212" y="151"/>
                      </a:lnTo>
                      <a:lnTo>
                        <a:pt x="178" y="129"/>
                      </a:lnTo>
                      <a:lnTo>
                        <a:pt x="147" y="109"/>
                      </a:lnTo>
                      <a:lnTo>
                        <a:pt x="118" y="89"/>
                      </a:lnTo>
                      <a:lnTo>
                        <a:pt x="92" y="71"/>
                      </a:lnTo>
                      <a:lnTo>
                        <a:pt x="68" y="55"/>
                      </a:lnTo>
                      <a:lnTo>
                        <a:pt x="47" y="40"/>
                      </a:lnTo>
                      <a:lnTo>
                        <a:pt x="30" y="27"/>
                      </a:lnTo>
                      <a:lnTo>
                        <a:pt x="16" y="15"/>
                      </a:lnTo>
                      <a:lnTo>
                        <a:pt x="5" y="7"/>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7358040" y="6017400"/>
                  <a:ext cx="437400" cy="237600"/>
                </a:xfrm>
                <a:custGeom>
                  <a:avLst/>
                  <a:gdLst/>
                  <a:ahLst/>
                  <a:rect l="l" t="t" r="r" b="b"/>
                  <a:pathLst>
                    <a:path w="863" h="564">
                      <a:moveTo>
                        <a:pt x="0" y="0"/>
                      </a:moveTo>
                      <a:lnTo>
                        <a:pt x="2" y="2"/>
                      </a:lnTo>
                      <a:lnTo>
                        <a:pt x="9" y="6"/>
                      </a:lnTo>
                      <a:lnTo>
                        <a:pt x="19" y="13"/>
                      </a:lnTo>
                      <a:lnTo>
                        <a:pt x="34" y="24"/>
                      </a:lnTo>
                      <a:lnTo>
                        <a:pt x="53" y="35"/>
                      </a:lnTo>
                      <a:lnTo>
                        <a:pt x="74" y="50"/>
                      </a:lnTo>
                      <a:lnTo>
                        <a:pt x="98" y="66"/>
                      </a:lnTo>
                      <a:lnTo>
                        <a:pt x="125" y="83"/>
                      </a:lnTo>
                      <a:lnTo>
                        <a:pt x="155" y="103"/>
                      </a:lnTo>
                      <a:lnTo>
                        <a:pt x="186" y="124"/>
                      </a:lnTo>
                      <a:lnTo>
                        <a:pt x="220" y="146"/>
                      </a:lnTo>
                      <a:lnTo>
                        <a:pt x="256" y="169"/>
                      </a:lnTo>
                      <a:lnTo>
                        <a:pt x="291" y="193"/>
                      </a:lnTo>
                      <a:lnTo>
                        <a:pt x="329" y="218"/>
                      </a:lnTo>
                      <a:lnTo>
                        <a:pt x="367" y="242"/>
                      </a:lnTo>
                      <a:lnTo>
                        <a:pt x="407" y="268"/>
                      </a:lnTo>
                      <a:lnTo>
                        <a:pt x="446" y="293"/>
                      </a:lnTo>
                      <a:lnTo>
                        <a:pt x="484" y="318"/>
                      </a:lnTo>
                      <a:lnTo>
                        <a:pt x="523" y="344"/>
                      </a:lnTo>
                      <a:lnTo>
                        <a:pt x="561" y="368"/>
                      </a:lnTo>
                      <a:lnTo>
                        <a:pt x="598" y="392"/>
                      </a:lnTo>
                      <a:lnTo>
                        <a:pt x="634" y="415"/>
                      </a:lnTo>
                      <a:lnTo>
                        <a:pt x="667" y="437"/>
                      </a:lnTo>
                      <a:lnTo>
                        <a:pt x="700" y="458"/>
                      </a:lnTo>
                      <a:lnTo>
                        <a:pt x="730" y="476"/>
                      </a:lnTo>
                      <a:lnTo>
                        <a:pt x="758" y="493"/>
                      </a:lnTo>
                      <a:lnTo>
                        <a:pt x="785" y="509"/>
                      </a:lnTo>
                      <a:lnTo>
                        <a:pt x="806" y="523"/>
                      </a:lnTo>
                      <a:lnTo>
                        <a:pt x="826" y="535"/>
                      </a:lnTo>
                      <a:lnTo>
                        <a:pt x="842" y="544"/>
                      </a:lnTo>
                      <a:lnTo>
                        <a:pt x="855" y="551"/>
                      </a:lnTo>
                      <a:lnTo>
                        <a:pt x="863" y="554"/>
                      </a:lnTo>
                      <a:lnTo>
                        <a:pt x="851" y="564"/>
                      </a:lnTo>
                      <a:lnTo>
                        <a:pt x="849" y="562"/>
                      </a:lnTo>
                      <a:lnTo>
                        <a:pt x="842" y="558"/>
                      </a:lnTo>
                      <a:lnTo>
                        <a:pt x="832" y="551"/>
                      </a:lnTo>
                      <a:lnTo>
                        <a:pt x="817" y="542"/>
                      </a:lnTo>
                      <a:lnTo>
                        <a:pt x="798" y="530"/>
                      </a:lnTo>
                      <a:lnTo>
                        <a:pt x="777" y="516"/>
                      </a:lnTo>
                      <a:lnTo>
                        <a:pt x="751" y="500"/>
                      </a:lnTo>
                      <a:lnTo>
                        <a:pt x="724" y="483"/>
                      </a:lnTo>
                      <a:lnTo>
                        <a:pt x="694" y="465"/>
                      </a:lnTo>
                      <a:lnTo>
                        <a:pt x="662" y="444"/>
                      </a:lnTo>
                      <a:lnTo>
                        <a:pt x="628" y="423"/>
                      </a:lnTo>
                      <a:lnTo>
                        <a:pt x="592" y="400"/>
                      </a:lnTo>
                      <a:lnTo>
                        <a:pt x="555" y="377"/>
                      </a:lnTo>
                      <a:lnTo>
                        <a:pt x="518" y="353"/>
                      </a:lnTo>
                      <a:lnTo>
                        <a:pt x="479" y="328"/>
                      </a:lnTo>
                      <a:lnTo>
                        <a:pt x="441" y="302"/>
                      </a:lnTo>
                      <a:lnTo>
                        <a:pt x="402" y="278"/>
                      </a:lnTo>
                      <a:lnTo>
                        <a:pt x="363" y="253"/>
                      </a:lnTo>
                      <a:lnTo>
                        <a:pt x="325" y="227"/>
                      </a:lnTo>
                      <a:lnTo>
                        <a:pt x="287" y="203"/>
                      </a:lnTo>
                      <a:lnTo>
                        <a:pt x="250" y="179"/>
                      </a:lnTo>
                      <a:lnTo>
                        <a:pt x="215" y="156"/>
                      </a:lnTo>
                      <a:lnTo>
                        <a:pt x="182" y="133"/>
                      </a:lnTo>
                      <a:lnTo>
                        <a:pt x="150" y="112"/>
                      </a:lnTo>
                      <a:lnTo>
                        <a:pt x="121" y="91"/>
                      </a:lnTo>
                      <a:lnTo>
                        <a:pt x="93" y="73"/>
                      </a:lnTo>
                      <a:lnTo>
                        <a:pt x="69" y="56"/>
                      </a:lnTo>
                      <a:lnTo>
                        <a:pt x="48" y="41"/>
                      </a:lnTo>
                      <a:lnTo>
                        <a:pt x="30" y="27"/>
                      </a:lnTo>
                      <a:lnTo>
                        <a:pt x="16" y="15"/>
                      </a:lnTo>
                      <a:lnTo>
                        <a:pt x="6" y="7"/>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a:off x="7327440" y="6027480"/>
                  <a:ext cx="413280" cy="227520"/>
                </a:xfrm>
                <a:custGeom>
                  <a:avLst/>
                  <a:gdLst/>
                  <a:ahLst/>
                  <a:rect l="l" t="t" r="r" b="b"/>
                  <a:pathLst>
                    <a:path w="816" h="539">
                      <a:moveTo>
                        <a:pt x="0" y="0"/>
                      </a:moveTo>
                      <a:lnTo>
                        <a:pt x="2" y="1"/>
                      </a:lnTo>
                      <a:lnTo>
                        <a:pt x="9" y="5"/>
                      </a:lnTo>
                      <a:lnTo>
                        <a:pt x="19" y="13"/>
                      </a:lnTo>
                      <a:lnTo>
                        <a:pt x="34" y="23"/>
                      </a:lnTo>
                      <a:lnTo>
                        <a:pt x="53" y="35"/>
                      </a:lnTo>
                      <a:lnTo>
                        <a:pt x="75" y="49"/>
                      </a:lnTo>
                      <a:lnTo>
                        <a:pt x="99" y="66"/>
                      </a:lnTo>
                      <a:lnTo>
                        <a:pt x="127" y="84"/>
                      </a:lnTo>
                      <a:lnTo>
                        <a:pt x="157" y="103"/>
                      </a:lnTo>
                      <a:lnTo>
                        <a:pt x="188" y="125"/>
                      </a:lnTo>
                      <a:lnTo>
                        <a:pt x="221" y="147"/>
                      </a:lnTo>
                      <a:lnTo>
                        <a:pt x="257" y="170"/>
                      </a:lnTo>
                      <a:lnTo>
                        <a:pt x="293" y="194"/>
                      </a:lnTo>
                      <a:lnTo>
                        <a:pt x="329" y="218"/>
                      </a:lnTo>
                      <a:lnTo>
                        <a:pt x="367" y="244"/>
                      </a:lnTo>
                      <a:lnTo>
                        <a:pt x="406" y="269"/>
                      </a:lnTo>
                      <a:lnTo>
                        <a:pt x="444" y="294"/>
                      </a:lnTo>
                      <a:lnTo>
                        <a:pt x="482" y="319"/>
                      </a:lnTo>
                      <a:lnTo>
                        <a:pt x="518" y="343"/>
                      </a:lnTo>
                      <a:lnTo>
                        <a:pt x="555" y="367"/>
                      </a:lnTo>
                      <a:lnTo>
                        <a:pt x="590" y="390"/>
                      </a:lnTo>
                      <a:lnTo>
                        <a:pt x="624" y="412"/>
                      </a:lnTo>
                      <a:lnTo>
                        <a:pt x="656" y="433"/>
                      </a:lnTo>
                      <a:lnTo>
                        <a:pt x="686" y="452"/>
                      </a:lnTo>
                      <a:lnTo>
                        <a:pt x="713" y="469"/>
                      </a:lnTo>
                      <a:lnTo>
                        <a:pt x="739" y="486"/>
                      </a:lnTo>
                      <a:lnTo>
                        <a:pt x="760" y="499"/>
                      </a:lnTo>
                      <a:lnTo>
                        <a:pt x="779" y="511"/>
                      </a:lnTo>
                      <a:lnTo>
                        <a:pt x="794" y="520"/>
                      </a:lnTo>
                      <a:lnTo>
                        <a:pt x="805" y="526"/>
                      </a:lnTo>
                      <a:lnTo>
                        <a:pt x="813" y="529"/>
                      </a:lnTo>
                      <a:lnTo>
                        <a:pt x="816" y="530"/>
                      </a:lnTo>
                      <a:lnTo>
                        <a:pt x="805" y="539"/>
                      </a:lnTo>
                      <a:lnTo>
                        <a:pt x="803" y="537"/>
                      </a:lnTo>
                      <a:lnTo>
                        <a:pt x="797" y="533"/>
                      </a:lnTo>
                      <a:lnTo>
                        <a:pt x="787" y="527"/>
                      </a:lnTo>
                      <a:lnTo>
                        <a:pt x="772" y="518"/>
                      </a:lnTo>
                      <a:lnTo>
                        <a:pt x="755" y="506"/>
                      </a:lnTo>
                      <a:lnTo>
                        <a:pt x="734" y="494"/>
                      </a:lnTo>
                      <a:lnTo>
                        <a:pt x="711" y="479"/>
                      </a:lnTo>
                      <a:lnTo>
                        <a:pt x="686" y="461"/>
                      </a:lnTo>
                      <a:lnTo>
                        <a:pt x="657" y="444"/>
                      </a:lnTo>
                      <a:lnTo>
                        <a:pt x="627" y="425"/>
                      </a:lnTo>
                      <a:lnTo>
                        <a:pt x="595" y="404"/>
                      </a:lnTo>
                      <a:lnTo>
                        <a:pt x="561" y="382"/>
                      </a:lnTo>
                      <a:lnTo>
                        <a:pt x="527" y="360"/>
                      </a:lnTo>
                      <a:lnTo>
                        <a:pt x="491" y="337"/>
                      </a:lnTo>
                      <a:lnTo>
                        <a:pt x="454" y="313"/>
                      </a:lnTo>
                      <a:lnTo>
                        <a:pt x="418" y="290"/>
                      </a:lnTo>
                      <a:lnTo>
                        <a:pt x="381" y="266"/>
                      </a:lnTo>
                      <a:lnTo>
                        <a:pt x="344" y="241"/>
                      </a:lnTo>
                      <a:lnTo>
                        <a:pt x="308" y="217"/>
                      </a:lnTo>
                      <a:lnTo>
                        <a:pt x="273" y="194"/>
                      </a:lnTo>
                      <a:lnTo>
                        <a:pt x="238" y="171"/>
                      </a:lnTo>
                      <a:lnTo>
                        <a:pt x="205" y="148"/>
                      </a:lnTo>
                      <a:lnTo>
                        <a:pt x="173" y="127"/>
                      </a:lnTo>
                      <a:lnTo>
                        <a:pt x="143" y="107"/>
                      </a:lnTo>
                      <a:lnTo>
                        <a:pt x="115" y="87"/>
                      </a:lnTo>
                      <a:lnTo>
                        <a:pt x="90" y="70"/>
                      </a:lnTo>
                      <a:lnTo>
                        <a:pt x="67" y="53"/>
                      </a:lnTo>
                      <a:lnTo>
                        <a:pt x="46" y="39"/>
                      </a:lnTo>
                      <a:lnTo>
                        <a:pt x="29" y="25"/>
                      </a:lnTo>
                      <a:lnTo>
                        <a:pt x="16" y="15"/>
                      </a:lnTo>
                      <a:lnTo>
                        <a:pt x="6" y="5"/>
                      </a:lnTo>
                      <a:lnTo>
                        <a:pt x="0" y="0"/>
                      </a:lnTo>
                      <a:close/>
                    </a:path>
                  </a:pathLst>
                </a:custGeom>
                <a:solidFill>
                  <a:srgbClr val="9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7257960" y="6060600"/>
                  <a:ext cx="107280" cy="66600"/>
                </a:xfrm>
                <a:custGeom>
                  <a:avLst/>
                  <a:gdLst/>
                  <a:ahLst/>
                  <a:rect l="l" t="t" r="r" b="b"/>
                  <a:pathLst>
                    <a:path w="212" h="159">
                      <a:moveTo>
                        <a:pt x="0" y="0"/>
                      </a:moveTo>
                      <a:lnTo>
                        <a:pt x="1" y="1"/>
                      </a:lnTo>
                      <a:lnTo>
                        <a:pt x="6" y="5"/>
                      </a:lnTo>
                      <a:lnTo>
                        <a:pt x="13" y="11"/>
                      </a:lnTo>
                      <a:lnTo>
                        <a:pt x="24" y="18"/>
                      </a:lnTo>
                      <a:lnTo>
                        <a:pt x="36" y="29"/>
                      </a:lnTo>
                      <a:lnTo>
                        <a:pt x="50" y="39"/>
                      </a:lnTo>
                      <a:lnTo>
                        <a:pt x="65" y="51"/>
                      </a:lnTo>
                      <a:lnTo>
                        <a:pt x="83" y="63"/>
                      </a:lnTo>
                      <a:lnTo>
                        <a:pt x="100" y="76"/>
                      </a:lnTo>
                      <a:lnTo>
                        <a:pt x="117" y="89"/>
                      </a:lnTo>
                      <a:lnTo>
                        <a:pt x="134" y="101"/>
                      </a:lnTo>
                      <a:lnTo>
                        <a:pt x="152" y="114"/>
                      </a:lnTo>
                      <a:lnTo>
                        <a:pt x="169" y="125"/>
                      </a:lnTo>
                      <a:lnTo>
                        <a:pt x="185" y="136"/>
                      </a:lnTo>
                      <a:lnTo>
                        <a:pt x="199" y="145"/>
                      </a:lnTo>
                      <a:lnTo>
                        <a:pt x="212" y="152"/>
                      </a:lnTo>
                      <a:lnTo>
                        <a:pt x="200" y="159"/>
                      </a:lnTo>
                      <a:lnTo>
                        <a:pt x="198" y="158"/>
                      </a:lnTo>
                      <a:lnTo>
                        <a:pt x="193" y="154"/>
                      </a:lnTo>
                      <a:lnTo>
                        <a:pt x="184" y="150"/>
                      </a:lnTo>
                      <a:lnTo>
                        <a:pt x="174" y="143"/>
                      </a:lnTo>
                      <a:lnTo>
                        <a:pt x="160" y="134"/>
                      </a:lnTo>
                      <a:lnTo>
                        <a:pt x="145" y="124"/>
                      </a:lnTo>
                      <a:lnTo>
                        <a:pt x="129" y="113"/>
                      </a:lnTo>
                      <a:lnTo>
                        <a:pt x="113" y="101"/>
                      </a:lnTo>
                      <a:lnTo>
                        <a:pt x="94" y="89"/>
                      </a:lnTo>
                      <a:lnTo>
                        <a:pt x="77" y="76"/>
                      </a:lnTo>
                      <a:lnTo>
                        <a:pt x="61" y="63"/>
                      </a:lnTo>
                      <a:lnTo>
                        <a:pt x="45" y="49"/>
                      </a:lnTo>
                      <a:lnTo>
                        <a:pt x="30" y="37"/>
                      </a:lnTo>
                      <a:lnTo>
                        <a:pt x="18" y="24"/>
                      </a:lnTo>
                      <a:lnTo>
                        <a:pt x="8" y="11"/>
                      </a:lnTo>
                      <a:lnTo>
                        <a:pt x="0" y="0"/>
                      </a:lnTo>
                      <a:close/>
                    </a:path>
                  </a:pathLst>
                </a:custGeom>
                <a:solidFill>
                  <a:srgbClr val="93d3d3"/>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5" name=""/>
                <p:cNvSpPr/>
                <p:nvPr/>
              </p:nvSpPr>
              <p:spPr>
                <a:xfrm>
                  <a:off x="8039520" y="5960520"/>
                  <a:ext cx="150840" cy="63360"/>
                </a:xfrm>
                <a:custGeom>
                  <a:avLst/>
                  <a:gdLst/>
                  <a:ahLst/>
                  <a:rect l="l" t="t" r="r" b="b"/>
                  <a:pathLst>
                    <a:path w="298" h="151">
                      <a:moveTo>
                        <a:pt x="0" y="0"/>
                      </a:moveTo>
                      <a:lnTo>
                        <a:pt x="2" y="1"/>
                      </a:lnTo>
                      <a:lnTo>
                        <a:pt x="9" y="5"/>
                      </a:lnTo>
                      <a:lnTo>
                        <a:pt x="20" y="10"/>
                      </a:lnTo>
                      <a:lnTo>
                        <a:pt x="34" y="18"/>
                      </a:lnTo>
                      <a:lnTo>
                        <a:pt x="52" y="26"/>
                      </a:lnTo>
                      <a:lnTo>
                        <a:pt x="72" y="37"/>
                      </a:lnTo>
                      <a:lnTo>
                        <a:pt x="94" y="48"/>
                      </a:lnTo>
                      <a:lnTo>
                        <a:pt x="117" y="60"/>
                      </a:lnTo>
                      <a:lnTo>
                        <a:pt x="141" y="71"/>
                      </a:lnTo>
                      <a:lnTo>
                        <a:pt x="167" y="83"/>
                      </a:lnTo>
                      <a:lnTo>
                        <a:pt x="192" y="95"/>
                      </a:lnTo>
                      <a:lnTo>
                        <a:pt x="216" y="106"/>
                      </a:lnTo>
                      <a:lnTo>
                        <a:pt x="239" y="116"/>
                      </a:lnTo>
                      <a:lnTo>
                        <a:pt x="261" y="127"/>
                      </a:lnTo>
                      <a:lnTo>
                        <a:pt x="281" y="135"/>
                      </a:lnTo>
                      <a:lnTo>
                        <a:pt x="298" y="140"/>
                      </a:lnTo>
                      <a:lnTo>
                        <a:pt x="285" y="151"/>
                      </a:lnTo>
                      <a:lnTo>
                        <a:pt x="283" y="150"/>
                      </a:lnTo>
                      <a:lnTo>
                        <a:pt x="275" y="147"/>
                      </a:lnTo>
                      <a:lnTo>
                        <a:pt x="264" y="143"/>
                      </a:lnTo>
                      <a:lnTo>
                        <a:pt x="249" y="137"/>
                      </a:lnTo>
                      <a:lnTo>
                        <a:pt x="230" y="129"/>
                      </a:lnTo>
                      <a:lnTo>
                        <a:pt x="209" y="121"/>
                      </a:lnTo>
                      <a:lnTo>
                        <a:pt x="186" y="110"/>
                      </a:lnTo>
                      <a:lnTo>
                        <a:pt x="162" y="100"/>
                      </a:lnTo>
                      <a:lnTo>
                        <a:pt x="138" y="89"/>
                      </a:lnTo>
                      <a:lnTo>
                        <a:pt x="114" y="76"/>
                      </a:lnTo>
                      <a:lnTo>
                        <a:pt x="90" y="64"/>
                      </a:lnTo>
                      <a:lnTo>
                        <a:pt x="66" y="52"/>
                      </a:lnTo>
                      <a:lnTo>
                        <a:pt x="46" y="38"/>
                      </a:lnTo>
                      <a:lnTo>
                        <a:pt x="27" y="25"/>
                      </a:lnTo>
                      <a:lnTo>
                        <a:pt x="11" y="13"/>
                      </a:lnTo>
                      <a:lnTo>
                        <a:pt x="0" y="0"/>
                      </a:lnTo>
                      <a:close/>
                    </a:path>
                  </a:pathLst>
                </a:custGeom>
                <a:solidFill>
                  <a:srgbClr val="93d3d3"/>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36" name=""/>
                <p:cNvSpPr/>
                <p:nvPr/>
              </p:nvSpPr>
              <p:spPr>
                <a:xfrm>
                  <a:off x="7301520" y="6048720"/>
                  <a:ext cx="58680" cy="43200"/>
                </a:xfrm>
                <a:custGeom>
                  <a:avLst/>
                  <a:gdLst/>
                  <a:ahLst/>
                  <a:rect l="l" t="t" r="r" b="b"/>
                  <a:pathLst>
                    <a:path w="116" h="103">
                      <a:moveTo>
                        <a:pt x="82" y="22"/>
                      </a:moveTo>
                      <a:lnTo>
                        <a:pt x="78" y="20"/>
                      </a:lnTo>
                      <a:lnTo>
                        <a:pt x="69" y="15"/>
                      </a:lnTo>
                      <a:lnTo>
                        <a:pt x="55" y="10"/>
                      </a:lnTo>
                      <a:lnTo>
                        <a:pt x="40" y="4"/>
                      </a:lnTo>
                      <a:lnTo>
                        <a:pt x="25" y="0"/>
                      </a:lnTo>
                      <a:lnTo>
                        <a:pt x="13" y="0"/>
                      </a:lnTo>
                      <a:lnTo>
                        <a:pt x="3" y="6"/>
                      </a:lnTo>
                      <a:lnTo>
                        <a:pt x="0" y="18"/>
                      </a:lnTo>
                      <a:lnTo>
                        <a:pt x="0" y="31"/>
                      </a:lnTo>
                      <a:lnTo>
                        <a:pt x="0" y="41"/>
                      </a:lnTo>
                      <a:lnTo>
                        <a:pt x="0" y="48"/>
                      </a:lnTo>
                      <a:lnTo>
                        <a:pt x="0" y="51"/>
                      </a:lnTo>
                      <a:lnTo>
                        <a:pt x="2" y="52"/>
                      </a:lnTo>
                      <a:lnTo>
                        <a:pt x="7" y="52"/>
                      </a:lnTo>
                      <a:lnTo>
                        <a:pt x="15" y="50"/>
                      </a:lnTo>
                      <a:lnTo>
                        <a:pt x="26" y="48"/>
                      </a:lnTo>
                      <a:lnTo>
                        <a:pt x="40" y="46"/>
                      </a:lnTo>
                      <a:lnTo>
                        <a:pt x="53" y="46"/>
                      </a:lnTo>
                      <a:lnTo>
                        <a:pt x="64" y="49"/>
                      </a:lnTo>
                      <a:lnTo>
                        <a:pt x="74" y="52"/>
                      </a:lnTo>
                      <a:lnTo>
                        <a:pt x="81" y="56"/>
                      </a:lnTo>
                      <a:lnTo>
                        <a:pt x="85" y="59"/>
                      </a:lnTo>
                      <a:lnTo>
                        <a:pt x="86" y="61"/>
                      </a:lnTo>
                      <a:lnTo>
                        <a:pt x="83" y="63"/>
                      </a:lnTo>
                      <a:lnTo>
                        <a:pt x="77" y="63"/>
                      </a:lnTo>
                      <a:lnTo>
                        <a:pt x="70" y="64"/>
                      </a:lnTo>
                      <a:lnTo>
                        <a:pt x="63" y="65"/>
                      </a:lnTo>
                      <a:lnTo>
                        <a:pt x="57" y="67"/>
                      </a:lnTo>
                      <a:lnTo>
                        <a:pt x="53" y="69"/>
                      </a:lnTo>
                      <a:lnTo>
                        <a:pt x="51" y="72"/>
                      </a:lnTo>
                      <a:lnTo>
                        <a:pt x="52" y="75"/>
                      </a:lnTo>
                      <a:lnTo>
                        <a:pt x="57" y="79"/>
                      </a:lnTo>
                      <a:lnTo>
                        <a:pt x="66" y="82"/>
                      </a:lnTo>
                      <a:lnTo>
                        <a:pt x="72" y="87"/>
                      </a:lnTo>
                      <a:lnTo>
                        <a:pt x="79" y="92"/>
                      </a:lnTo>
                      <a:lnTo>
                        <a:pt x="85" y="97"/>
                      </a:lnTo>
                      <a:lnTo>
                        <a:pt x="92" y="101"/>
                      </a:lnTo>
                      <a:lnTo>
                        <a:pt x="98" y="103"/>
                      </a:lnTo>
                      <a:lnTo>
                        <a:pt x="102" y="103"/>
                      </a:lnTo>
                      <a:lnTo>
                        <a:pt x="108" y="102"/>
                      </a:lnTo>
                      <a:lnTo>
                        <a:pt x="116" y="98"/>
                      </a:lnTo>
                      <a:lnTo>
                        <a:pt x="116" y="97"/>
                      </a:lnTo>
                      <a:lnTo>
                        <a:pt x="109" y="97"/>
                      </a:lnTo>
                      <a:lnTo>
                        <a:pt x="96" y="92"/>
                      </a:lnTo>
                      <a:lnTo>
                        <a:pt x="79" y="86"/>
                      </a:lnTo>
                      <a:lnTo>
                        <a:pt x="71" y="77"/>
                      </a:lnTo>
                      <a:lnTo>
                        <a:pt x="70" y="72"/>
                      </a:lnTo>
                      <a:lnTo>
                        <a:pt x="77" y="67"/>
                      </a:lnTo>
                      <a:lnTo>
                        <a:pt x="84" y="66"/>
                      </a:lnTo>
                      <a:lnTo>
                        <a:pt x="92" y="65"/>
                      </a:lnTo>
                      <a:lnTo>
                        <a:pt x="100" y="64"/>
                      </a:lnTo>
                      <a:lnTo>
                        <a:pt x="108" y="63"/>
                      </a:lnTo>
                      <a:lnTo>
                        <a:pt x="113" y="61"/>
                      </a:lnTo>
                      <a:lnTo>
                        <a:pt x="115" y="59"/>
                      </a:lnTo>
                      <a:lnTo>
                        <a:pt x="112" y="57"/>
                      </a:lnTo>
                      <a:lnTo>
                        <a:pt x="102" y="52"/>
                      </a:lnTo>
                      <a:lnTo>
                        <a:pt x="90" y="48"/>
                      </a:lnTo>
                      <a:lnTo>
                        <a:pt x="77" y="43"/>
                      </a:lnTo>
                      <a:lnTo>
                        <a:pt x="64" y="39"/>
                      </a:lnTo>
                      <a:lnTo>
                        <a:pt x="53" y="36"/>
                      </a:lnTo>
                      <a:lnTo>
                        <a:pt x="42" y="34"/>
                      </a:lnTo>
                      <a:lnTo>
                        <a:pt x="33" y="31"/>
                      </a:lnTo>
                      <a:lnTo>
                        <a:pt x="25" y="31"/>
                      </a:lnTo>
                      <a:lnTo>
                        <a:pt x="21" y="33"/>
                      </a:lnTo>
                      <a:lnTo>
                        <a:pt x="17" y="33"/>
                      </a:lnTo>
                      <a:lnTo>
                        <a:pt x="13" y="30"/>
                      </a:lnTo>
                      <a:lnTo>
                        <a:pt x="9" y="26"/>
                      </a:lnTo>
                      <a:lnTo>
                        <a:pt x="8" y="20"/>
                      </a:lnTo>
                      <a:lnTo>
                        <a:pt x="8" y="14"/>
                      </a:lnTo>
                      <a:lnTo>
                        <a:pt x="11" y="11"/>
                      </a:lnTo>
                      <a:lnTo>
                        <a:pt x="19" y="10"/>
                      </a:lnTo>
                      <a:lnTo>
                        <a:pt x="32" y="12"/>
                      </a:lnTo>
                      <a:lnTo>
                        <a:pt x="46" y="16"/>
                      </a:lnTo>
                      <a:lnTo>
                        <a:pt x="57" y="20"/>
                      </a:lnTo>
                      <a:lnTo>
                        <a:pt x="66" y="22"/>
                      </a:lnTo>
                      <a:lnTo>
                        <a:pt x="72" y="22"/>
                      </a:lnTo>
                      <a:lnTo>
                        <a:pt x="77" y="23"/>
                      </a:lnTo>
                      <a:lnTo>
                        <a:pt x="79" y="22"/>
                      </a:lnTo>
                      <a:lnTo>
                        <a:pt x="82" y="22"/>
                      </a:lnTo>
                      <a:lnTo>
                        <a:pt x="82" y="22"/>
                      </a:lnTo>
                      <a:close/>
                    </a:path>
                  </a:pathLst>
                </a:custGeom>
                <a:solidFill>
                  <a:srgbClr val="93d3d3"/>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37" name=""/>
                <p:cNvSpPr/>
                <p:nvPr/>
              </p:nvSpPr>
              <p:spPr>
                <a:xfrm>
                  <a:off x="7358040" y="6075720"/>
                  <a:ext cx="49320" cy="30240"/>
                </a:xfrm>
                <a:custGeom>
                  <a:avLst/>
                  <a:gdLst/>
                  <a:ahLst/>
                  <a:rect l="l" t="t" r="r" b="b"/>
                  <a:pathLst>
                    <a:path w="98" h="71">
                      <a:moveTo>
                        <a:pt x="5" y="4"/>
                      </a:moveTo>
                      <a:lnTo>
                        <a:pt x="0" y="9"/>
                      </a:lnTo>
                      <a:lnTo>
                        <a:pt x="1" y="9"/>
                      </a:lnTo>
                      <a:lnTo>
                        <a:pt x="2" y="9"/>
                      </a:lnTo>
                      <a:lnTo>
                        <a:pt x="5" y="9"/>
                      </a:lnTo>
                      <a:lnTo>
                        <a:pt x="9" y="10"/>
                      </a:lnTo>
                      <a:lnTo>
                        <a:pt x="15" y="13"/>
                      </a:lnTo>
                      <a:lnTo>
                        <a:pt x="20" y="18"/>
                      </a:lnTo>
                      <a:lnTo>
                        <a:pt x="27" y="25"/>
                      </a:lnTo>
                      <a:lnTo>
                        <a:pt x="35" y="34"/>
                      </a:lnTo>
                      <a:lnTo>
                        <a:pt x="45" y="45"/>
                      </a:lnTo>
                      <a:lnTo>
                        <a:pt x="54" y="53"/>
                      </a:lnTo>
                      <a:lnTo>
                        <a:pt x="63" y="60"/>
                      </a:lnTo>
                      <a:lnTo>
                        <a:pt x="72" y="64"/>
                      </a:lnTo>
                      <a:lnTo>
                        <a:pt x="81" y="68"/>
                      </a:lnTo>
                      <a:lnTo>
                        <a:pt x="88" y="70"/>
                      </a:lnTo>
                      <a:lnTo>
                        <a:pt x="94" y="71"/>
                      </a:lnTo>
                      <a:lnTo>
                        <a:pt x="98" y="71"/>
                      </a:lnTo>
                      <a:lnTo>
                        <a:pt x="98" y="70"/>
                      </a:lnTo>
                      <a:lnTo>
                        <a:pt x="94" y="69"/>
                      </a:lnTo>
                      <a:lnTo>
                        <a:pt x="88" y="65"/>
                      </a:lnTo>
                      <a:lnTo>
                        <a:pt x="79" y="61"/>
                      </a:lnTo>
                      <a:lnTo>
                        <a:pt x="69" y="55"/>
                      </a:lnTo>
                      <a:lnTo>
                        <a:pt x="56" y="46"/>
                      </a:lnTo>
                      <a:lnTo>
                        <a:pt x="45" y="34"/>
                      </a:lnTo>
                      <a:lnTo>
                        <a:pt x="32" y="19"/>
                      </a:lnTo>
                      <a:lnTo>
                        <a:pt x="18" y="3"/>
                      </a:lnTo>
                      <a:lnTo>
                        <a:pt x="10" y="0"/>
                      </a:lnTo>
                      <a:lnTo>
                        <a:pt x="7" y="2"/>
                      </a:lnTo>
                      <a:lnTo>
                        <a:pt x="5" y="4"/>
                      </a:lnTo>
                      <a:close/>
                    </a:path>
                  </a:pathLst>
                </a:custGeom>
                <a:solidFill>
                  <a:srgbClr val="93d3d3"/>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38" name=""/>
                <p:cNvSpPr/>
                <p:nvPr/>
              </p:nvSpPr>
              <p:spPr>
                <a:xfrm>
                  <a:off x="7373160" y="6097680"/>
                  <a:ext cx="14040" cy="7200"/>
                </a:xfrm>
                <a:custGeom>
                  <a:avLst/>
                  <a:gdLst/>
                  <a:ahLst/>
                  <a:rect l="l" t="t" r="r" b="b"/>
                  <a:pathLst>
                    <a:path w="27" h="17">
                      <a:moveTo>
                        <a:pt x="27" y="0"/>
                      </a:moveTo>
                      <a:lnTo>
                        <a:pt x="25" y="1"/>
                      </a:lnTo>
                      <a:lnTo>
                        <a:pt x="18" y="5"/>
                      </a:lnTo>
                      <a:lnTo>
                        <a:pt x="9" y="9"/>
                      </a:lnTo>
                      <a:lnTo>
                        <a:pt x="2" y="11"/>
                      </a:lnTo>
                      <a:lnTo>
                        <a:pt x="0" y="12"/>
                      </a:lnTo>
                      <a:lnTo>
                        <a:pt x="1" y="15"/>
                      </a:lnTo>
                      <a:lnTo>
                        <a:pt x="4" y="16"/>
                      </a:lnTo>
                      <a:lnTo>
                        <a:pt x="7" y="17"/>
                      </a:lnTo>
                      <a:lnTo>
                        <a:pt x="27" y="0"/>
                      </a:lnTo>
                      <a:close/>
                    </a:path>
                  </a:pathLst>
                </a:custGeom>
                <a:solidFill>
                  <a:srgbClr val="93d3d3"/>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439" name=""/>
                <p:cNvSpPr/>
                <p:nvPr/>
              </p:nvSpPr>
              <p:spPr>
                <a:xfrm>
                  <a:off x="7383600" y="6098400"/>
                  <a:ext cx="61560" cy="29520"/>
                </a:xfrm>
                <a:custGeom>
                  <a:avLst/>
                  <a:gdLst/>
                  <a:ahLst/>
                  <a:rect l="l" t="t" r="r" b="b"/>
                  <a:pathLst>
                    <a:path w="121" h="70">
                      <a:moveTo>
                        <a:pt x="0" y="0"/>
                      </a:moveTo>
                      <a:lnTo>
                        <a:pt x="0" y="7"/>
                      </a:lnTo>
                      <a:lnTo>
                        <a:pt x="4" y="22"/>
                      </a:lnTo>
                      <a:lnTo>
                        <a:pt x="12" y="34"/>
                      </a:lnTo>
                      <a:lnTo>
                        <a:pt x="30" y="33"/>
                      </a:lnTo>
                      <a:lnTo>
                        <a:pt x="42" y="29"/>
                      </a:lnTo>
                      <a:lnTo>
                        <a:pt x="50" y="26"/>
                      </a:lnTo>
                      <a:lnTo>
                        <a:pt x="55" y="27"/>
                      </a:lnTo>
                      <a:lnTo>
                        <a:pt x="57" y="31"/>
                      </a:lnTo>
                      <a:lnTo>
                        <a:pt x="58" y="41"/>
                      </a:lnTo>
                      <a:lnTo>
                        <a:pt x="56" y="49"/>
                      </a:lnTo>
                      <a:lnTo>
                        <a:pt x="57" y="59"/>
                      </a:lnTo>
                      <a:lnTo>
                        <a:pt x="67" y="65"/>
                      </a:lnTo>
                      <a:lnTo>
                        <a:pt x="76" y="68"/>
                      </a:lnTo>
                      <a:lnTo>
                        <a:pt x="88" y="70"/>
                      </a:lnTo>
                      <a:lnTo>
                        <a:pt x="98" y="70"/>
                      </a:lnTo>
                      <a:lnTo>
                        <a:pt x="108" y="70"/>
                      </a:lnTo>
                      <a:lnTo>
                        <a:pt x="116" y="69"/>
                      </a:lnTo>
                      <a:lnTo>
                        <a:pt x="120" y="68"/>
                      </a:lnTo>
                      <a:lnTo>
                        <a:pt x="121" y="68"/>
                      </a:lnTo>
                      <a:lnTo>
                        <a:pt x="118" y="67"/>
                      </a:lnTo>
                      <a:lnTo>
                        <a:pt x="106" y="67"/>
                      </a:lnTo>
                      <a:lnTo>
                        <a:pt x="96" y="65"/>
                      </a:lnTo>
                      <a:lnTo>
                        <a:pt x="89" y="64"/>
                      </a:lnTo>
                      <a:lnTo>
                        <a:pt x="82" y="63"/>
                      </a:lnTo>
                      <a:lnTo>
                        <a:pt x="78" y="62"/>
                      </a:lnTo>
                      <a:lnTo>
                        <a:pt x="74" y="61"/>
                      </a:lnTo>
                      <a:lnTo>
                        <a:pt x="72" y="60"/>
                      </a:lnTo>
                      <a:lnTo>
                        <a:pt x="69" y="59"/>
                      </a:lnTo>
                      <a:lnTo>
                        <a:pt x="61" y="49"/>
                      </a:lnTo>
                      <a:lnTo>
                        <a:pt x="61" y="44"/>
                      </a:lnTo>
                      <a:lnTo>
                        <a:pt x="65" y="38"/>
                      </a:lnTo>
                      <a:lnTo>
                        <a:pt x="66" y="32"/>
                      </a:lnTo>
                      <a:lnTo>
                        <a:pt x="61" y="24"/>
                      </a:lnTo>
                      <a:lnTo>
                        <a:pt x="58" y="19"/>
                      </a:lnTo>
                      <a:lnTo>
                        <a:pt x="52" y="18"/>
                      </a:lnTo>
                      <a:lnTo>
                        <a:pt x="44" y="22"/>
                      </a:lnTo>
                      <a:lnTo>
                        <a:pt x="40" y="25"/>
                      </a:lnTo>
                      <a:lnTo>
                        <a:pt x="34" y="29"/>
                      </a:lnTo>
                      <a:lnTo>
                        <a:pt x="29" y="32"/>
                      </a:lnTo>
                      <a:lnTo>
                        <a:pt x="25" y="33"/>
                      </a:lnTo>
                      <a:lnTo>
                        <a:pt x="19" y="32"/>
                      </a:lnTo>
                      <a:lnTo>
                        <a:pt x="13" y="27"/>
                      </a:lnTo>
                      <a:lnTo>
                        <a:pt x="7" y="17"/>
                      </a:lnTo>
                      <a:lnTo>
                        <a:pt x="0" y="0"/>
                      </a:lnTo>
                      <a:close/>
                    </a:path>
                  </a:pathLst>
                </a:custGeom>
                <a:solidFill>
                  <a:srgbClr val="93d3d3"/>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nvGrpSpPr>
              <p:cNvPr id="440" name=""/>
              <p:cNvGrpSpPr/>
              <p:nvPr/>
            </p:nvGrpSpPr>
            <p:grpSpPr>
              <a:xfrm>
                <a:off x="7794360" y="5953680"/>
                <a:ext cx="388800" cy="446760"/>
                <a:chOff x="7794360" y="5953680"/>
                <a:chExt cx="388800" cy="446760"/>
              </a:xfrm>
            </p:grpSpPr>
            <p:sp>
              <p:nvSpPr>
                <p:cNvPr id="441" name=""/>
                <p:cNvSpPr/>
                <p:nvPr/>
              </p:nvSpPr>
              <p:spPr>
                <a:xfrm>
                  <a:off x="7798320" y="6082200"/>
                  <a:ext cx="68760" cy="74160"/>
                </a:xfrm>
                <a:custGeom>
                  <a:avLst/>
                  <a:gdLst/>
                  <a:ahLst/>
                  <a:rect l="l" t="t" r="r" b="b"/>
                  <a:pathLst>
                    <a:path w="443" h="626">
                      <a:moveTo>
                        <a:pt x="0" y="0"/>
                      </a:moveTo>
                      <a:lnTo>
                        <a:pt x="19" y="276"/>
                      </a:lnTo>
                      <a:lnTo>
                        <a:pt x="114" y="498"/>
                      </a:lnTo>
                      <a:lnTo>
                        <a:pt x="340" y="626"/>
                      </a:lnTo>
                      <a:lnTo>
                        <a:pt x="443" y="550"/>
                      </a:lnTo>
                      <a:lnTo>
                        <a:pt x="353" y="417"/>
                      </a:lnTo>
                      <a:lnTo>
                        <a:pt x="201" y="396"/>
                      </a:lnTo>
                      <a:lnTo>
                        <a:pt x="101" y="306"/>
                      </a:lnTo>
                      <a:lnTo>
                        <a:pt x="0" y="0"/>
                      </a:lnTo>
                      <a:lnTo>
                        <a:pt x="0" y="0"/>
                      </a:lnTo>
                      <a:close/>
                    </a:path>
                  </a:pathLst>
                </a:custGeom>
                <a:solidFill>
                  <a:srgbClr val="ffd9d9"/>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42" name=""/>
                <p:cNvSpPr/>
                <p:nvPr/>
              </p:nvSpPr>
              <p:spPr>
                <a:xfrm>
                  <a:off x="7946640" y="6161400"/>
                  <a:ext cx="178920" cy="45720"/>
                </a:xfrm>
                <a:custGeom>
                  <a:avLst/>
                  <a:gdLst/>
                  <a:ahLst/>
                  <a:rect l="l" t="t" r="r" b="b"/>
                  <a:pathLst>
                    <a:path w="1156" h="384">
                      <a:moveTo>
                        <a:pt x="0" y="306"/>
                      </a:moveTo>
                      <a:lnTo>
                        <a:pt x="139" y="268"/>
                      </a:lnTo>
                      <a:lnTo>
                        <a:pt x="304" y="121"/>
                      </a:lnTo>
                      <a:lnTo>
                        <a:pt x="493" y="273"/>
                      </a:lnTo>
                      <a:lnTo>
                        <a:pt x="443" y="116"/>
                      </a:lnTo>
                      <a:lnTo>
                        <a:pt x="607" y="230"/>
                      </a:lnTo>
                      <a:lnTo>
                        <a:pt x="734" y="165"/>
                      </a:lnTo>
                      <a:lnTo>
                        <a:pt x="840" y="70"/>
                      </a:lnTo>
                      <a:lnTo>
                        <a:pt x="854" y="19"/>
                      </a:lnTo>
                      <a:lnTo>
                        <a:pt x="979" y="0"/>
                      </a:lnTo>
                      <a:lnTo>
                        <a:pt x="1156" y="26"/>
                      </a:lnTo>
                      <a:lnTo>
                        <a:pt x="854" y="205"/>
                      </a:lnTo>
                      <a:lnTo>
                        <a:pt x="498" y="363"/>
                      </a:lnTo>
                      <a:lnTo>
                        <a:pt x="95" y="384"/>
                      </a:lnTo>
                      <a:lnTo>
                        <a:pt x="0" y="306"/>
                      </a:lnTo>
                      <a:lnTo>
                        <a:pt x="0" y="306"/>
                      </a:lnTo>
                      <a:close/>
                    </a:path>
                  </a:pathLst>
                </a:custGeom>
                <a:solidFill>
                  <a:srgbClr val="ffd9d9"/>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443" name=""/>
                <p:cNvSpPr/>
                <p:nvPr/>
              </p:nvSpPr>
              <p:spPr>
                <a:xfrm>
                  <a:off x="7819920" y="5974920"/>
                  <a:ext cx="268560" cy="212040"/>
                </a:xfrm>
                <a:custGeom>
                  <a:avLst/>
                  <a:gdLst/>
                  <a:ahLst/>
                  <a:rect l="l" t="t" r="r" b="b"/>
                  <a:pathLst>
                    <a:path w="1731" h="1779">
                      <a:moveTo>
                        <a:pt x="557" y="0"/>
                      </a:moveTo>
                      <a:lnTo>
                        <a:pt x="233" y="314"/>
                      </a:lnTo>
                      <a:lnTo>
                        <a:pt x="43" y="485"/>
                      </a:lnTo>
                      <a:lnTo>
                        <a:pt x="100" y="740"/>
                      </a:lnTo>
                      <a:lnTo>
                        <a:pt x="0" y="875"/>
                      </a:lnTo>
                      <a:lnTo>
                        <a:pt x="95" y="1091"/>
                      </a:lnTo>
                      <a:lnTo>
                        <a:pt x="138" y="1200"/>
                      </a:lnTo>
                      <a:lnTo>
                        <a:pt x="290" y="1283"/>
                      </a:lnTo>
                      <a:lnTo>
                        <a:pt x="595" y="829"/>
                      </a:lnTo>
                      <a:lnTo>
                        <a:pt x="1005" y="652"/>
                      </a:lnTo>
                      <a:lnTo>
                        <a:pt x="600" y="1053"/>
                      </a:lnTo>
                      <a:lnTo>
                        <a:pt x="366" y="1346"/>
                      </a:lnTo>
                      <a:lnTo>
                        <a:pt x="328" y="1538"/>
                      </a:lnTo>
                      <a:lnTo>
                        <a:pt x="606" y="1487"/>
                      </a:lnTo>
                      <a:lnTo>
                        <a:pt x="688" y="1492"/>
                      </a:lnTo>
                      <a:lnTo>
                        <a:pt x="752" y="1563"/>
                      </a:lnTo>
                      <a:lnTo>
                        <a:pt x="1188" y="1295"/>
                      </a:lnTo>
                      <a:lnTo>
                        <a:pt x="834" y="1679"/>
                      </a:lnTo>
                      <a:lnTo>
                        <a:pt x="847" y="1779"/>
                      </a:lnTo>
                      <a:lnTo>
                        <a:pt x="1062" y="1601"/>
                      </a:lnTo>
                      <a:lnTo>
                        <a:pt x="1302" y="1500"/>
                      </a:lnTo>
                      <a:lnTo>
                        <a:pt x="1707" y="1072"/>
                      </a:lnTo>
                      <a:lnTo>
                        <a:pt x="1731" y="696"/>
                      </a:lnTo>
                      <a:lnTo>
                        <a:pt x="1174" y="300"/>
                      </a:lnTo>
                      <a:lnTo>
                        <a:pt x="650" y="333"/>
                      </a:lnTo>
                      <a:lnTo>
                        <a:pt x="557" y="0"/>
                      </a:lnTo>
                      <a:lnTo>
                        <a:pt x="557" y="0"/>
                      </a:lnTo>
                      <a:close/>
                    </a:path>
                  </a:pathLst>
                </a:custGeom>
                <a:solidFill>
                  <a:srgbClr val="ff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7806600" y="6126840"/>
                  <a:ext cx="163440" cy="79920"/>
                </a:xfrm>
                <a:custGeom>
                  <a:avLst/>
                  <a:gdLst/>
                  <a:ahLst/>
                  <a:rect l="l" t="t" r="r" b="b"/>
                  <a:pathLst>
                    <a:path w="1053" h="673">
                      <a:moveTo>
                        <a:pt x="0" y="0"/>
                      </a:moveTo>
                      <a:lnTo>
                        <a:pt x="120" y="80"/>
                      </a:lnTo>
                      <a:lnTo>
                        <a:pt x="255" y="173"/>
                      </a:lnTo>
                      <a:lnTo>
                        <a:pt x="375" y="144"/>
                      </a:lnTo>
                      <a:lnTo>
                        <a:pt x="437" y="43"/>
                      </a:lnTo>
                      <a:lnTo>
                        <a:pt x="388" y="294"/>
                      </a:lnTo>
                      <a:lnTo>
                        <a:pt x="510" y="351"/>
                      </a:lnTo>
                      <a:lnTo>
                        <a:pt x="665" y="380"/>
                      </a:lnTo>
                      <a:lnTo>
                        <a:pt x="749" y="351"/>
                      </a:lnTo>
                      <a:lnTo>
                        <a:pt x="793" y="479"/>
                      </a:lnTo>
                      <a:lnTo>
                        <a:pt x="1053" y="673"/>
                      </a:lnTo>
                      <a:lnTo>
                        <a:pt x="749" y="608"/>
                      </a:lnTo>
                      <a:lnTo>
                        <a:pt x="260" y="336"/>
                      </a:lnTo>
                      <a:lnTo>
                        <a:pt x="105" y="173"/>
                      </a:lnTo>
                      <a:lnTo>
                        <a:pt x="0" y="0"/>
                      </a:lnTo>
                      <a:lnTo>
                        <a:pt x="0" y="0"/>
                      </a:lnTo>
                      <a:close/>
                    </a:path>
                  </a:pathLst>
                </a:custGeom>
                <a:solidFill>
                  <a:srgbClr val="ff9999"/>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445" name=""/>
                <p:cNvSpPr/>
                <p:nvPr/>
              </p:nvSpPr>
              <p:spPr>
                <a:xfrm>
                  <a:off x="7803360" y="6194880"/>
                  <a:ext cx="308520" cy="192600"/>
                </a:xfrm>
                <a:custGeom>
                  <a:avLst/>
                  <a:gdLst/>
                  <a:ahLst/>
                  <a:rect l="l" t="t" r="r" b="b"/>
                  <a:pathLst>
                    <a:path w="1991" h="1616">
                      <a:moveTo>
                        <a:pt x="405" y="0"/>
                      </a:moveTo>
                      <a:lnTo>
                        <a:pt x="377" y="152"/>
                      </a:lnTo>
                      <a:lnTo>
                        <a:pt x="242" y="274"/>
                      </a:lnTo>
                      <a:lnTo>
                        <a:pt x="411" y="217"/>
                      </a:lnTo>
                      <a:lnTo>
                        <a:pt x="341" y="473"/>
                      </a:lnTo>
                      <a:lnTo>
                        <a:pt x="348" y="623"/>
                      </a:lnTo>
                      <a:lnTo>
                        <a:pt x="333" y="973"/>
                      </a:lnTo>
                      <a:lnTo>
                        <a:pt x="234" y="1230"/>
                      </a:lnTo>
                      <a:lnTo>
                        <a:pt x="744" y="838"/>
                      </a:lnTo>
                      <a:lnTo>
                        <a:pt x="561" y="1095"/>
                      </a:lnTo>
                      <a:lnTo>
                        <a:pt x="156" y="1374"/>
                      </a:lnTo>
                      <a:lnTo>
                        <a:pt x="0" y="1530"/>
                      </a:lnTo>
                      <a:lnTo>
                        <a:pt x="164" y="1551"/>
                      </a:lnTo>
                      <a:lnTo>
                        <a:pt x="510" y="1281"/>
                      </a:lnTo>
                      <a:lnTo>
                        <a:pt x="624" y="1281"/>
                      </a:lnTo>
                      <a:lnTo>
                        <a:pt x="715" y="1481"/>
                      </a:lnTo>
                      <a:lnTo>
                        <a:pt x="850" y="1616"/>
                      </a:lnTo>
                      <a:lnTo>
                        <a:pt x="892" y="1294"/>
                      </a:lnTo>
                      <a:lnTo>
                        <a:pt x="780" y="1188"/>
                      </a:lnTo>
                      <a:lnTo>
                        <a:pt x="858" y="895"/>
                      </a:lnTo>
                      <a:lnTo>
                        <a:pt x="985" y="608"/>
                      </a:lnTo>
                      <a:lnTo>
                        <a:pt x="1154" y="745"/>
                      </a:lnTo>
                      <a:lnTo>
                        <a:pt x="1339" y="1051"/>
                      </a:lnTo>
                      <a:lnTo>
                        <a:pt x="1424" y="1494"/>
                      </a:lnTo>
                      <a:lnTo>
                        <a:pt x="1609" y="1144"/>
                      </a:lnTo>
                      <a:lnTo>
                        <a:pt x="1955" y="1408"/>
                      </a:lnTo>
                      <a:lnTo>
                        <a:pt x="1778" y="1045"/>
                      </a:lnTo>
                      <a:lnTo>
                        <a:pt x="1983" y="1273"/>
                      </a:lnTo>
                      <a:lnTo>
                        <a:pt x="1827" y="595"/>
                      </a:lnTo>
                      <a:lnTo>
                        <a:pt x="1820" y="380"/>
                      </a:lnTo>
                      <a:lnTo>
                        <a:pt x="1991" y="367"/>
                      </a:lnTo>
                      <a:lnTo>
                        <a:pt x="1975" y="230"/>
                      </a:lnTo>
                      <a:lnTo>
                        <a:pt x="1877" y="274"/>
                      </a:lnTo>
                      <a:lnTo>
                        <a:pt x="1614" y="160"/>
                      </a:lnTo>
                      <a:lnTo>
                        <a:pt x="1523" y="217"/>
                      </a:lnTo>
                      <a:lnTo>
                        <a:pt x="772" y="137"/>
                      </a:lnTo>
                      <a:lnTo>
                        <a:pt x="405" y="0"/>
                      </a:lnTo>
                      <a:lnTo>
                        <a:pt x="405"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7812000" y="5958360"/>
                  <a:ext cx="357840" cy="257760"/>
                </a:xfrm>
                <a:custGeom>
                  <a:avLst/>
                  <a:gdLst/>
                  <a:ahLst/>
                  <a:rect l="l" t="t" r="r" b="b"/>
                  <a:pathLst>
                    <a:path w="2308" h="2164">
                      <a:moveTo>
                        <a:pt x="299" y="863"/>
                      </a:moveTo>
                      <a:lnTo>
                        <a:pt x="681" y="628"/>
                      </a:lnTo>
                      <a:lnTo>
                        <a:pt x="1289" y="571"/>
                      </a:lnTo>
                      <a:lnTo>
                        <a:pt x="1346" y="728"/>
                      </a:lnTo>
                      <a:lnTo>
                        <a:pt x="736" y="1264"/>
                      </a:lnTo>
                      <a:lnTo>
                        <a:pt x="595" y="1485"/>
                      </a:lnTo>
                      <a:lnTo>
                        <a:pt x="1707" y="1034"/>
                      </a:lnTo>
                      <a:lnTo>
                        <a:pt x="1063" y="1764"/>
                      </a:lnTo>
                      <a:lnTo>
                        <a:pt x="1190" y="1700"/>
                      </a:lnTo>
                      <a:lnTo>
                        <a:pt x="1295" y="1785"/>
                      </a:lnTo>
                      <a:lnTo>
                        <a:pt x="1494" y="1935"/>
                      </a:lnTo>
                      <a:lnTo>
                        <a:pt x="1700" y="1627"/>
                      </a:lnTo>
                      <a:lnTo>
                        <a:pt x="1975" y="1586"/>
                      </a:lnTo>
                      <a:lnTo>
                        <a:pt x="1926" y="1356"/>
                      </a:lnTo>
                      <a:lnTo>
                        <a:pt x="2171" y="1169"/>
                      </a:lnTo>
                      <a:lnTo>
                        <a:pt x="2036" y="909"/>
                      </a:lnTo>
                      <a:lnTo>
                        <a:pt x="2173" y="736"/>
                      </a:lnTo>
                      <a:lnTo>
                        <a:pt x="2223" y="928"/>
                      </a:lnTo>
                      <a:lnTo>
                        <a:pt x="2223" y="1228"/>
                      </a:lnTo>
                      <a:lnTo>
                        <a:pt x="2053" y="1399"/>
                      </a:lnTo>
                      <a:lnTo>
                        <a:pt x="2061" y="1542"/>
                      </a:lnTo>
                      <a:lnTo>
                        <a:pt x="1975" y="1728"/>
                      </a:lnTo>
                      <a:lnTo>
                        <a:pt x="1778" y="1749"/>
                      </a:lnTo>
                      <a:lnTo>
                        <a:pt x="1629" y="1892"/>
                      </a:lnTo>
                      <a:lnTo>
                        <a:pt x="1523" y="2000"/>
                      </a:lnTo>
                      <a:lnTo>
                        <a:pt x="1339" y="2049"/>
                      </a:lnTo>
                      <a:lnTo>
                        <a:pt x="1175" y="1850"/>
                      </a:lnTo>
                      <a:lnTo>
                        <a:pt x="1006" y="2034"/>
                      </a:lnTo>
                      <a:lnTo>
                        <a:pt x="759" y="2049"/>
                      </a:lnTo>
                      <a:lnTo>
                        <a:pt x="1091" y="2164"/>
                      </a:lnTo>
                      <a:lnTo>
                        <a:pt x="1629" y="2091"/>
                      </a:lnTo>
                      <a:lnTo>
                        <a:pt x="1820" y="2063"/>
                      </a:lnTo>
                      <a:lnTo>
                        <a:pt x="1848" y="1943"/>
                      </a:lnTo>
                      <a:lnTo>
                        <a:pt x="2124" y="1793"/>
                      </a:lnTo>
                      <a:lnTo>
                        <a:pt x="2295" y="1420"/>
                      </a:lnTo>
                      <a:lnTo>
                        <a:pt x="2308" y="972"/>
                      </a:lnTo>
                      <a:lnTo>
                        <a:pt x="2181" y="400"/>
                      </a:lnTo>
                      <a:lnTo>
                        <a:pt x="1905" y="420"/>
                      </a:lnTo>
                      <a:lnTo>
                        <a:pt x="1331" y="213"/>
                      </a:lnTo>
                      <a:lnTo>
                        <a:pt x="736" y="107"/>
                      </a:lnTo>
                      <a:lnTo>
                        <a:pt x="546" y="0"/>
                      </a:lnTo>
                      <a:lnTo>
                        <a:pt x="341" y="149"/>
                      </a:lnTo>
                      <a:lnTo>
                        <a:pt x="198" y="293"/>
                      </a:lnTo>
                      <a:lnTo>
                        <a:pt x="221" y="449"/>
                      </a:lnTo>
                      <a:lnTo>
                        <a:pt x="128" y="472"/>
                      </a:lnTo>
                      <a:lnTo>
                        <a:pt x="42" y="592"/>
                      </a:lnTo>
                      <a:lnTo>
                        <a:pt x="42" y="770"/>
                      </a:lnTo>
                      <a:lnTo>
                        <a:pt x="99" y="899"/>
                      </a:lnTo>
                      <a:lnTo>
                        <a:pt x="8" y="956"/>
                      </a:lnTo>
                      <a:lnTo>
                        <a:pt x="0" y="1107"/>
                      </a:lnTo>
                      <a:lnTo>
                        <a:pt x="99" y="1221"/>
                      </a:lnTo>
                      <a:lnTo>
                        <a:pt x="242" y="1122"/>
                      </a:lnTo>
                      <a:lnTo>
                        <a:pt x="226" y="936"/>
                      </a:lnTo>
                      <a:lnTo>
                        <a:pt x="299" y="863"/>
                      </a:lnTo>
                      <a:lnTo>
                        <a:pt x="299" y="863"/>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7816320" y="5953680"/>
                  <a:ext cx="333720" cy="159120"/>
                </a:xfrm>
                <a:custGeom>
                  <a:avLst/>
                  <a:gdLst/>
                  <a:ahLst/>
                  <a:rect l="l" t="t" r="r" b="b"/>
                  <a:pathLst>
                    <a:path w="2152" h="1334">
                      <a:moveTo>
                        <a:pt x="135" y="1334"/>
                      </a:moveTo>
                      <a:lnTo>
                        <a:pt x="247" y="1148"/>
                      </a:lnTo>
                      <a:lnTo>
                        <a:pt x="197" y="977"/>
                      </a:lnTo>
                      <a:lnTo>
                        <a:pt x="247" y="777"/>
                      </a:lnTo>
                      <a:lnTo>
                        <a:pt x="389" y="676"/>
                      </a:lnTo>
                      <a:lnTo>
                        <a:pt x="382" y="562"/>
                      </a:lnTo>
                      <a:lnTo>
                        <a:pt x="467" y="363"/>
                      </a:lnTo>
                      <a:lnTo>
                        <a:pt x="673" y="277"/>
                      </a:lnTo>
                      <a:lnTo>
                        <a:pt x="857" y="441"/>
                      </a:lnTo>
                      <a:lnTo>
                        <a:pt x="1091" y="306"/>
                      </a:lnTo>
                      <a:lnTo>
                        <a:pt x="1260" y="420"/>
                      </a:lnTo>
                      <a:lnTo>
                        <a:pt x="1372" y="547"/>
                      </a:lnTo>
                      <a:lnTo>
                        <a:pt x="1479" y="534"/>
                      </a:lnTo>
                      <a:lnTo>
                        <a:pt x="1642" y="448"/>
                      </a:lnTo>
                      <a:lnTo>
                        <a:pt x="1720" y="484"/>
                      </a:lnTo>
                      <a:lnTo>
                        <a:pt x="1671" y="690"/>
                      </a:lnTo>
                      <a:lnTo>
                        <a:pt x="1791" y="798"/>
                      </a:lnTo>
                      <a:lnTo>
                        <a:pt x="1954" y="868"/>
                      </a:lnTo>
                      <a:lnTo>
                        <a:pt x="2102" y="769"/>
                      </a:lnTo>
                      <a:lnTo>
                        <a:pt x="1889" y="669"/>
                      </a:lnTo>
                      <a:lnTo>
                        <a:pt x="2061" y="570"/>
                      </a:lnTo>
                      <a:lnTo>
                        <a:pt x="2152" y="441"/>
                      </a:lnTo>
                      <a:lnTo>
                        <a:pt x="1848" y="397"/>
                      </a:lnTo>
                      <a:lnTo>
                        <a:pt x="1656" y="212"/>
                      </a:lnTo>
                      <a:lnTo>
                        <a:pt x="1486" y="262"/>
                      </a:lnTo>
                      <a:lnTo>
                        <a:pt x="1239" y="205"/>
                      </a:lnTo>
                      <a:lnTo>
                        <a:pt x="1182" y="87"/>
                      </a:lnTo>
                      <a:lnTo>
                        <a:pt x="1013" y="155"/>
                      </a:lnTo>
                      <a:lnTo>
                        <a:pt x="707" y="148"/>
                      </a:lnTo>
                      <a:lnTo>
                        <a:pt x="547" y="0"/>
                      </a:lnTo>
                      <a:lnTo>
                        <a:pt x="439" y="41"/>
                      </a:lnTo>
                      <a:lnTo>
                        <a:pt x="502" y="133"/>
                      </a:lnTo>
                      <a:lnTo>
                        <a:pt x="369" y="233"/>
                      </a:lnTo>
                      <a:lnTo>
                        <a:pt x="283" y="368"/>
                      </a:lnTo>
                      <a:lnTo>
                        <a:pt x="325" y="591"/>
                      </a:lnTo>
                      <a:lnTo>
                        <a:pt x="148" y="648"/>
                      </a:lnTo>
                      <a:lnTo>
                        <a:pt x="70" y="690"/>
                      </a:lnTo>
                      <a:lnTo>
                        <a:pt x="57" y="790"/>
                      </a:lnTo>
                      <a:lnTo>
                        <a:pt x="127" y="897"/>
                      </a:lnTo>
                      <a:lnTo>
                        <a:pt x="120" y="997"/>
                      </a:lnTo>
                      <a:lnTo>
                        <a:pt x="7" y="1112"/>
                      </a:lnTo>
                      <a:lnTo>
                        <a:pt x="0" y="1220"/>
                      </a:lnTo>
                      <a:lnTo>
                        <a:pt x="135" y="1334"/>
                      </a:lnTo>
                      <a:lnTo>
                        <a:pt x="135" y="1334"/>
                      </a:lnTo>
                      <a:close/>
                    </a:path>
                  </a:pathLst>
                </a:custGeom>
                <a:solidFill>
                  <a:srgbClr val="c9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a:off x="7813080" y="6113520"/>
                  <a:ext cx="356760" cy="114120"/>
                </a:xfrm>
                <a:custGeom>
                  <a:avLst/>
                  <a:gdLst/>
                  <a:ahLst/>
                  <a:rect l="l" t="t" r="r" b="b"/>
                  <a:pathLst>
                    <a:path w="2300" h="958">
                      <a:moveTo>
                        <a:pt x="346" y="579"/>
                      </a:moveTo>
                      <a:lnTo>
                        <a:pt x="312" y="722"/>
                      </a:lnTo>
                      <a:lnTo>
                        <a:pt x="616" y="885"/>
                      </a:lnTo>
                      <a:lnTo>
                        <a:pt x="1047" y="958"/>
                      </a:lnTo>
                      <a:lnTo>
                        <a:pt x="1409" y="958"/>
                      </a:lnTo>
                      <a:lnTo>
                        <a:pt x="1755" y="836"/>
                      </a:lnTo>
                      <a:lnTo>
                        <a:pt x="1903" y="878"/>
                      </a:lnTo>
                      <a:lnTo>
                        <a:pt x="1848" y="678"/>
                      </a:lnTo>
                      <a:lnTo>
                        <a:pt x="2137" y="437"/>
                      </a:lnTo>
                      <a:lnTo>
                        <a:pt x="2300" y="0"/>
                      </a:lnTo>
                      <a:lnTo>
                        <a:pt x="2123" y="308"/>
                      </a:lnTo>
                      <a:lnTo>
                        <a:pt x="1840" y="536"/>
                      </a:lnTo>
                      <a:lnTo>
                        <a:pt x="1515" y="701"/>
                      </a:lnTo>
                      <a:lnTo>
                        <a:pt x="1232" y="800"/>
                      </a:lnTo>
                      <a:lnTo>
                        <a:pt x="962" y="764"/>
                      </a:lnTo>
                      <a:lnTo>
                        <a:pt x="587" y="616"/>
                      </a:lnTo>
                      <a:lnTo>
                        <a:pt x="283" y="437"/>
                      </a:lnTo>
                      <a:lnTo>
                        <a:pt x="0" y="173"/>
                      </a:lnTo>
                      <a:lnTo>
                        <a:pt x="167" y="462"/>
                      </a:lnTo>
                      <a:lnTo>
                        <a:pt x="346" y="579"/>
                      </a:lnTo>
                      <a:lnTo>
                        <a:pt x="346" y="579"/>
                      </a:lnTo>
                      <a:close/>
                    </a:path>
                  </a:pathLst>
                </a:custGeom>
                <a:solidFill>
                  <a:srgbClr val="c9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a:off x="7850520" y="6216480"/>
                  <a:ext cx="300600" cy="183960"/>
                </a:xfrm>
                <a:custGeom>
                  <a:avLst/>
                  <a:gdLst/>
                  <a:ahLst/>
                  <a:rect l="l" t="t" r="r" b="b"/>
                  <a:pathLst>
                    <a:path w="1939" h="1543">
                      <a:moveTo>
                        <a:pt x="42" y="77"/>
                      </a:moveTo>
                      <a:lnTo>
                        <a:pt x="0" y="271"/>
                      </a:lnTo>
                      <a:lnTo>
                        <a:pt x="105" y="243"/>
                      </a:lnTo>
                      <a:lnTo>
                        <a:pt x="190" y="463"/>
                      </a:lnTo>
                      <a:lnTo>
                        <a:pt x="247" y="572"/>
                      </a:lnTo>
                      <a:lnTo>
                        <a:pt x="331" y="543"/>
                      </a:lnTo>
                      <a:lnTo>
                        <a:pt x="409" y="421"/>
                      </a:lnTo>
                      <a:lnTo>
                        <a:pt x="515" y="393"/>
                      </a:lnTo>
                      <a:lnTo>
                        <a:pt x="559" y="585"/>
                      </a:lnTo>
                      <a:lnTo>
                        <a:pt x="622" y="629"/>
                      </a:lnTo>
                      <a:lnTo>
                        <a:pt x="552" y="935"/>
                      </a:lnTo>
                      <a:lnTo>
                        <a:pt x="559" y="1243"/>
                      </a:lnTo>
                      <a:lnTo>
                        <a:pt x="552" y="1399"/>
                      </a:lnTo>
                      <a:lnTo>
                        <a:pt x="580" y="1463"/>
                      </a:lnTo>
                      <a:lnTo>
                        <a:pt x="622" y="1406"/>
                      </a:lnTo>
                      <a:lnTo>
                        <a:pt x="715" y="642"/>
                      </a:lnTo>
                      <a:lnTo>
                        <a:pt x="793" y="556"/>
                      </a:lnTo>
                      <a:lnTo>
                        <a:pt x="877" y="785"/>
                      </a:lnTo>
                      <a:lnTo>
                        <a:pt x="991" y="1507"/>
                      </a:lnTo>
                      <a:lnTo>
                        <a:pt x="1046" y="1543"/>
                      </a:lnTo>
                      <a:lnTo>
                        <a:pt x="1139" y="1463"/>
                      </a:lnTo>
                      <a:lnTo>
                        <a:pt x="1337" y="1250"/>
                      </a:lnTo>
                      <a:lnTo>
                        <a:pt x="1755" y="1478"/>
                      </a:lnTo>
                      <a:lnTo>
                        <a:pt x="1939" y="1456"/>
                      </a:lnTo>
                      <a:lnTo>
                        <a:pt x="1846" y="1349"/>
                      </a:lnTo>
                      <a:lnTo>
                        <a:pt x="1529" y="1178"/>
                      </a:lnTo>
                      <a:lnTo>
                        <a:pt x="1331" y="1077"/>
                      </a:lnTo>
                      <a:lnTo>
                        <a:pt x="1217" y="1113"/>
                      </a:lnTo>
                      <a:lnTo>
                        <a:pt x="1090" y="1279"/>
                      </a:lnTo>
                      <a:lnTo>
                        <a:pt x="970" y="978"/>
                      </a:lnTo>
                      <a:lnTo>
                        <a:pt x="877" y="585"/>
                      </a:lnTo>
                      <a:lnTo>
                        <a:pt x="983" y="600"/>
                      </a:lnTo>
                      <a:lnTo>
                        <a:pt x="1069" y="536"/>
                      </a:lnTo>
                      <a:lnTo>
                        <a:pt x="1139" y="427"/>
                      </a:lnTo>
                      <a:lnTo>
                        <a:pt x="1308" y="549"/>
                      </a:lnTo>
                      <a:lnTo>
                        <a:pt x="1458" y="613"/>
                      </a:lnTo>
                      <a:lnTo>
                        <a:pt x="1514" y="543"/>
                      </a:lnTo>
                      <a:lnTo>
                        <a:pt x="1578" y="364"/>
                      </a:lnTo>
                      <a:lnTo>
                        <a:pt x="1557" y="228"/>
                      </a:lnTo>
                      <a:lnTo>
                        <a:pt x="1337" y="134"/>
                      </a:lnTo>
                      <a:lnTo>
                        <a:pt x="1380" y="399"/>
                      </a:lnTo>
                      <a:lnTo>
                        <a:pt x="1019" y="222"/>
                      </a:lnTo>
                      <a:lnTo>
                        <a:pt x="877" y="393"/>
                      </a:lnTo>
                      <a:lnTo>
                        <a:pt x="728" y="163"/>
                      </a:lnTo>
                      <a:lnTo>
                        <a:pt x="565" y="336"/>
                      </a:lnTo>
                      <a:lnTo>
                        <a:pt x="432" y="77"/>
                      </a:lnTo>
                      <a:lnTo>
                        <a:pt x="198" y="313"/>
                      </a:lnTo>
                      <a:lnTo>
                        <a:pt x="219" y="13"/>
                      </a:lnTo>
                      <a:lnTo>
                        <a:pt x="162" y="0"/>
                      </a:lnTo>
                      <a:lnTo>
                        <a:pt x="42" y="77"/>
                      </a:lnTo>
                      <a:lnTo>
                        <a:pt x="42" y="77"/>
                      </a:lnTo>
                      <a:close/>
                    </a:path>
                  </a:pathLst>
                </a:custGeom>
                <a:solidFill>
                  <a:srgbClr val="c9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a:off x="7799760" y="6330600"/>
                  <a:ext cx="120960" cy="56880"/>
                </a:xfrm>
                <a:custGeom>
                  <a:avLst/>
                  <a:gdLst/>
                  <a:ahLst/>
                  <a:rect l="l" t="t" r="r" b="b"/>
                  <a:pathLst>
                    <a:path w="780" h="477">
                      <a:moveTo>
                        <a:pt x="0" y="435"/>
                      </a:moveTo>
                      <a:lnTo>
                        <a:pt x="143" y="326"/>
                      </a:lnTo>
                      <a:lnTo>
                        <a:pt x="344" y="161"/>
                      </a:lnTo>
                      <a:lnTo>
                        <a:pt x="559" y="0"/>
                      </a:lnTo>
                      <a:lnTo>
                        <a:pt x="673" y="34"/>
                      </a:lnTo>
                      <a:lnTo>
                        <a:pt x="723" y="249"/>
                      </a:lnTo>
                      <a:lnTo>
                        <a:pt x="780" y="363"/>
                      </a:lnTo>
                      <a:lnTo>
                        <a:pt x="666" y="277"/>
                      </a:lnTo>
                      <a:lnTo>
                        <a:pt x="554" y="106"/>
                      </a:lnTo>
                      <a:lnTo>
                        <a:pt x="426" y="292"/>
                      </a:lnTo>
                      <a:lnTo>
                        <a:pt x="177" y="441"/>
                      </a:lnTo>
                      <a:lnTo>
                        <a:pt x="78" y="477"/>
                      </a:lnTo>
                      <a:lnTo>
                        <a:pt x="0" y="435"/>
                      </a:lnTo>
                      <a:lnTo>
                        <a:pt x="0" y="435"/>
                      </a:lnTo>
                      <a:close/>
                    </a:path>
                  </a:pathLst>
                </a:custGeom>
                <a:solidFill>
                  <a:srgbClr val="c9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51" name=""/>
                <p:cNvSpPr/>
                <p:nvPr/>
              </p:nvSpPr>
              <p:spPr>
                <a:xfrm>
                  <a:off x="8099280" y="6074640"/>
                  <a:ext cx="52560" cy="34920"/>
                </a:xfrm>
                <a:custGeom>
                  <a:avLst/>
                  <a:gdLst/>
                  <a:ahLst/>
                  <a:rect l="l" t="t" r="r" b="b"/>
                  <a:pathLst>
                    <a:path w="340" h="293">
                      <a:moveTo>
                        <a:pt x="55" y="0"/>
                      </a:moveTo>
                      <a:lnTo>
                        <a:pt x="289" y="99"/>
                      </a:lnTo>
                      <a:lnTo>
                        <a:pt x="340" y="160"/>
                      </a:lnTo>
                      <a:lnTo>
                        <a:pt x="327" y="200"/>
                      </a:lnTo>
                      <a:lnTo>
                        <a:pt x="205" y="293"/>
                      </a:lnTo>
                      <a:lnTo>
                        <a:pt x="224" y="208"/>
                      </a:lnTo>
                      <a:lnTo>
                        <a:pt x="40" y="154"/>
                      </a:lnTo>
                      <a:lnTo>
                        <a:pt x="0" y="75"/>
                      </a:lnTo>
                      <a:lnTo>
                        <a:pt x="55" y="0"/>
                      </a:lnTo>
                      <a:lnTo>
                        <a:pt x="55" y="0"/>
                      </a:lnTo>
                      <a:close/>
                    </a:path>
                  </a:pathLst>
                </a:custGeom>
                <a:solidFill>
                  <a:srgbClr val="c94d4d"/>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2" name=""/>
                <p:cNvSpPr/>
                <p:nvPr/>
              </p:nvSpPr>
              <p:spPr>
                <a:xfrm>
                  <a:off x="7827120" y="6184800"/>
                  <a:ext cx="301320" cy="89280"/>
                </a:xfrm>
                <a:custGeom>
                  <a:avLst/>
                  <a:gdLst/>
                  <a:ahLst/>
                  <a:rect l="l" t="t" r="r" b="b"/>
                  <a:pathLst>
                    <a:path w="1945" h="749">
                      <a:moveTo>
                        <a:pt x="287" y="36"/>
                      </a:moveTo>
                      <a:lnTo>
                        <a:pt x="264" y="80"/>
                      </a:lnTo>
                      <a:lnTo>
                        <a:pt x="244" y="120"/>
                      </a:lnTo>
                      <a:lnTo>
                        <a:pt x="221" y="158"/>
                      </a:lnTo>
                      <a:lnTo>
                        <a:pt x="198" y="194"/>
                      </a:lnTo>
                      <a:lnTo>
                        <a:pt x="152" y="265"/>
                      </a:lnTo>
                      <a:lnTo>
                        <a:pt x="103" y="337"/>
                      </a:lnTo>
                      <a:lnTo>
                        <a:pt x="181" y="310"/>
                      </a:lnTo>
                      <a:lnTo>
                        <a:pt x="268" y="263"/>
                      </a:lnTo>
                      <a:lnTo>
                        <a:pt x="308" y="242"/>
                      </a:lnTo>
                      <a:lnTo>
                        <a:pt x="360" y="238"/>
                      </a:lnTo>
                      <a:lnTo>
                        <a:pt x="382" y="272"/>
                      </a:lnTo>
                      <a:lnTo>
                        <a:pt x="407" y="287"/>
                      </a:lnTo>
                      <a:lnTo>
                        <a:pt x="409" y="316"/>
                      </a:lnTo>
                      <a:lnTo>
                        <a:pt x="394" y="542"/>
                      </a:lnTo>
                      <a:lnTo>
                        <a:pt x="432" y="496"/>
                      </a:lnTo>
                      <a:lnTo>
                        <a:pt x="470" y="451"/>
                      </a:lnTo>
                      <a:lnTo>
                        <a:pt x="508" y="399"/>
                      </a:lnTo>
                      <a:lnTo>
                        <a:pt x="553" y="342"/>
                      </a:lnTo>
                      <a:lnTo>
                        <a:pt x="584" y="323"/>
                      </a:lnTo>
                      <a:lnTo>
                        <a:pt x="616" y="342"/>
                      </a:lnTo>
                      <a:lnTo>
                        <a:pt x="643" y="417"/>
                      </a:lnTo>
                      <a:lnTo>
                        <a:pt x="669" y="517"/>
                      </a:lnTo>
                      <a:lnTo>
                        <a:pt x="696" y="605"/>
                      </a:lnTo>
                      <a:lnTo>
                        <a:pt x="723" y="552"/>
                      </a:lnTo>
                      <a:lnTo>
                        <a:pt x="749" y="498"/>
                      </a:lnTo>
                      <a:lnTo>
                        <a:pt x="778" y="443"/>
                      </a:lnTo>
                      <a:lnTo>
                        <a:pt x="808" y="380"/>
                      </a:lnTo>
                      <a:lnTo>
                        <a:pt x="821" y="363"/>
                      </a:lnTo>
                      <a:lnTo>
                        <a:pt x="837" y="356"/>
                      </a:lnTo>
                      <a:lnTo>
                        <a:pt x="869" y="371"/>
                      </a:lnTo>
                      <a:lnTo>
                        <a:pt x="905" y="420"/>
                      </a:lnTo>
                      <a:lnTo>
                        <a:pt x="924" y="472"/>
                      </a:lnTo>
                      <a:lnTo>
                        <a:pt x="943" y="527"/>
                      </a:lnTo>
                      <a:lnTo>
                        <a:pt x="972" y="582"/>
                      </a:lnTo>
                      <a:lnTo>
                        <a:pt x="1034" y="654"/>
                      </a:lnTo>
                      <a:lnTo>
                        <a:pt x="1074" y="550"/>
                      </a:lnTo>
                      <a:lnTo>
                        <a:pt x="1097" y="498"/>
                      </a:lnTo>
                      <a:lnTo>
                        <a:pt x="1129" y="445"/>
                      </a:lnTo>
                      <a:lnTo>
                        <a:pt x="1154" y="426"/>
                      </a:lnTo>
                      <a:lnTo>
                        <a:pt x="1183" y="434"/>
                      </a:lnTo>
                      <a:lnTo>
                        <a:pt x="1230" y="464"/>
                      </a:lnTo>
                      <a:lnTo>
                        <a:pt x="1272" y="493"/>
                      </a:lnTo>
                      <a:lnTo>
                        <a:pt x="1312" y="519"/>
                      </a:lnTo>
                      <a:lnTo>
                        <a:pt x="1348" y="546"/>
                      </a:lnTo>
                      <a:lnTo>
                        <a:pt x="1386" y="569"/>
                      </a:lnTo>
                      <a:lnTo>
                        <a:pt x="1424" y="593"/>
                      </a:lnTo>
                      <a:lnTo>
                        <a:pt x="1466" y="616"/>
                      </a:lnTo>
                      <a:lnTo>
                        <a:pt x="1512" y="639"/>
                      </a:lnTo>
                      <a:lnTo>
                        <a:pt x="1498" y="540"/>
                      </a:lnTo>
                      <a:lnTo>
                        <a:pt x="1462" y="441"/>
                      </a:lnTo>
                      <a:lnTo>
                        <a:pt x="1458" y="409"/>
                      </a:lnTo>
                      <a:lnTo>
                        <a:pt x="1477" y="384"/>
                      </a:lnTo>
                      <a:lnTo>
                        <a:pt x="1565" y="373"/>
                      </a:lnTo>
                      <a:lnTo>
                        <a:pt x="1629" y="403"/>
                      </a:lnTo>
                      <a:lnTo>
                        <a:pt x="1698" y="428"/>
                      </a:lnTo>
                      <a:lnTo>
                        <a:pt x="1766" y="445"/>
                      </a:lnTo>
                      <a:lnTo>
                        <a:pt x="1835" y="445"/>
                      </a:lnTo>
                      <a:lnTo>
                        <a:pt x="1806" y="323"/>
                      </a:lnTo>
                      <a:lnTo>
                        <a:pt x="1791" y="265"/>
                      </a:lnTo>
                      <a:lnTo>
                        <a:pt x="1770" y="198"/>
                      </a:lnTo>
                      <a:lnTo>
                        <a:pt x="1780" y="177"/>
                      </a:lnTo>
                      <a:lnTo>
                        <a:pt x="1801" y="187"/>
                      </a:lnTo>
                      <a:lnTo>
                        <a:pt x="1837" y="263"/>
                      </a:lnTo>
                      <a:lnTo>
                        <a:pt x="1875" y="329"/>
                      </a:lnTo>
                      <a:lnTo>
                        <a:pt x="1945" y="472"/>
                      </a:lnTo>
                      <a:lnTo>
                        <a:pt x="1943" y="517"/>
                      </a:lnTo>
                      <a:lnTo>
                        <a:pt x="1905" y="536"/>
                      </a:lnTo>
                      <a:lnTo>
                        <a:pt x="1785" y="533"/>
                      </a:lnTo>
                      <a:lnTo>
                        <a:pt x="1675" y="493"/>
                      </a:lnTo>
                      <a:lnTo>
                        <a:pt x="1591" y="474"/>
                      </a:lnTo>
                      <a:lnTo>
                        <a:pt x="1607" y="582"/>
                      </a:lnTo>
                      <a:lnTo>
                        <a:pt x="1589" y="704"/>
                      </a:lnTo>
                      <a:lnTo>
                        <a:pt x="1572" y="738"/>
                      </a:lnTo>
                      <a:lnTo>
                        <a:pt x="1534" y="736"/>
                      </a:lnTo>
                      <a:lnTo>
                        <a:pt x="1215" y="584"/>
                      </a:lnTo>
                      <a:lnTo>
                        <a:pt x="1181" y="624"/>
                      </a:lnTo>
                      <a:lnTo>
                        <a:pt x="1143" y="652"/>
                      </a:lnTo>
                      <a:lnTo>
                        <a:pt x="1069" y="728"/>
                      </a:lnTo>
                      <a:lnTo>
                        <a:pt x="1044" y="749"/>
                      </a:lnTo>
                      <a:lnTo>
                        <a:pt x="1015" y="732"/>
                      </a:lnTo>
                      <a:lnTo>
                        <a:pt x="972" y="675"/>
                      </a:lnTo>
                      <a:lnTo>
                        <a:pt x="928" y="614"/>
                      </a:lnTo>
                      <a:lnTo>
                        <a:pt x="869" y="521"/>
                      </a:lnTo>
                      <a:lnTo>
                        <a:pt x="831" y="572"/>
                      </a:lnTo>
                      <a:lnTo>
                        <a:pt x="789" y="610"/>
                      </a:lnTo>
                      <a:lnTo>
                        <a:pt x="711" y="711"/>
                      </a:lnTo>
                      <a:lnTo>
                        <a:pt x="696" y="730"/>
                      </a:lnTo>
                      <a:lnTo>
                        <a:pt x="679" y="732"/>
                      </a:lnTo>
                      <a:lnTo>
                        <a:pt x="654" y="702"/>
                      </a:lnTo>
                      <a:lnTo>
                        <a:pt x="637" y="637"/>
                      </a:lnTo>
                      <a:lnTo>
                        <a:pt x="612" y="593"/>
                      </a:lnTo>
                      <a:lnTo>
                        <a:pt x="563" y="483"/>
                      </a:lnTo>
                      <a:lnTo>
                        <a:pt x="515" y="538"/>
                      </a:lnTo>
                      <a:lnTo>
                        <a:pt x="475" y="576"/>
                      </a:lnTo>
                      <a:lnTo>
                        <a:pt x="434" y="614"/>
                      </a:lnTo>
                      <a:lnTo>
                        <a:pt x="409" y="639"/>
                      </a:lnTo>
                      <a:lnTo>
                        <a:pt x="379" y="671"/>
                      </a:lnTo>
                      <a:lnTo>
                        <a:pt x="356" y="686"/>
                      </a:lnTo>
                      <a:lnTo>
                        <a:pt x="333" y="685"/>
                      </a:lnTo>
                      <a:lnTo>
                        <a:pt x="314" y="641"/>
                      </a:lnTo>
                      <a:lnTo>
                        <a:pt x="333" y="314"/>
                      </a:lnTo>
                      <a:lnTo>
                        <a:pt x="270" y="344"/>
                      </a:lnTo>
                      <a:lnTo>
                        <a:pt x="240" y="365"/>
                      </a:lnTo>
                      <a:lnTo>
                        <a:pt x="204" y="382"/>
                      </a:lnTo>
                      <a:lnTo>
                        <a:pt x="118" y="407"/>
                      </a:lnTo>
                      <a:lnTo>
                        <a:pt x="31" y="411"/>
                      </a:lnTo>
                      <a:lnTo>
                        <a:pt x="0" y="403"/>
                      </a:lnTo>
                      <a:lnTo>
                        <a:pt x="12" y="377"/>
                      </a:lnTo>
                      <a:lnTo>
                        <a:pt x="44" y="327"/>
                      </a:lnTo>
                      <a:lnTo>
                        <a:pt x="72" y="282"/>
                      </a:lnTo>
                      <a:lnTo>
                        <a:pt x="101" y="236"/>
                      </a:lnTo>
                      <a:lnTo>
                        <a:pt x="128" y="192"/>
                      </a:lnTo>
                      <a:lnTo>
                        <a:pt x="152" y="147"/>
                      </a:lnTo>
                      <a:lnTo>
                        <a:pt x="179" y="101"/>
                      </a:lnTo>
                      <a:lnTo>
                        <a:pt x="230" y="0"/>
                      </a:lnTo>
                      <a:lnTo>
                        <a:pt x="266" y="4"/>
                      </a:lnTo>
                      <a:lnTo>
                        <a:pt x="287" y="36"/>
                      </a:lnTo>
                      <a:lnTo>
                        <a:pt x="287" y="36"/>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453" name=""/>
                <p:cNvSpPr/>
                <p:nvPr/>
              </p:nvSpPr>
              <p:spPr>
                <a:xfrm>
                  <a:off x="7795080" y="6220080"/>
                  <a:ext cx="73440" cy="159120"/>
                </a:xfrm>
                <a:custGeom>
                  <a:avLst/>
                  <a:gdLst/>
                  <a:ahLst/>
                  <a:rect l="l" t="t" r="r" b="b"/>
                  <a:pathLst>
                    <a:path w="473" h="1334">
                      <a:moveTo>
                        <a:pt x="473" y="53"/>
                      </a:moveTo>
                      <a:lnTo>
                        <a:pt x="460" y="103"/>
                      </a:lnTo>
                      <a:lnTo>
                        <a:pt x="437" y="198"/>
                      </a:lnTo>
                      <a:lnTo>
                        <a:pt x="414" y="300"/>
                      </a:lnTo>
                      <a:lnTo>
                        <a:pt x="401" y="367"/>
                      </a:lnTo>
                      <a:lnTo>
                        <a:pt x="369" y="481"/>
                      </a:lnTo>
                      <a:lnTo>
                        <a:pt x="342" y="578"/>
                      </a:lnTo>
                      <a:lnTo>
                        <a:pt x="300" y="739"/>
                      </a:lnTo>
                      <a:lnTo>
                        <a:pt x="277" y="817"/>
                      </a:lnTo>
                      <a:lnTo>
                        <a:pt x="253" y="899"/>
                      </a:lnTo>
                      <a:lnTo>
                        <a:pt x="219" y="992"/>
                      </a:lnTo>
                      <a:lnTo>
                        <a:pt x="198" y="1043"/>
                      </a:lnTo>
                      <a:lnTo>
                        <a:pt x="175" y="1102"/>
                      </a:lnTo>
                      <a:lnTo>
                        <a:pt x="142" y="1165"/>
                      </a:lnTo>
                      <a:lnTo>
                        <a:pt x="106" y="1216"/>
                      </a:lnTo>
                      <a:lnTo>
                        <a:pt x="68" y="1268"/>
                      </a:lnTo>
                      <a:lnTo>
                        <a:pt x="28" y="1329"/>
                      </a:lnTo>
                      <a:lnTo>
                        <a:pt x="6" y="1334"/>
                      </a:lnTo>
                      <a:lnTo>
                        <a:pt x="0" y="1311"/>
                      </a:lnTo>
                      <a:lnTo>
                        <a:pt x="106" y="1068"/>
                      </a:lnTo>
                      <a:lnTo>
                        <a:pt x="150" y="954"/>
                      </a:lnTo>
                      <a:lnTo>
                        <a:pt x="184" y="848"/>
                      </a:lnTo>
                      <a:lnTo>
                        <a:pt x="232" y="648"/>
                      </a:lnTo>
                      <a:lnTo>
                        <a:pt x="253" y="549"/>
                      </a:lnTo>
                      <a:lnTo>
                        <a:pt x="276" y="447"/>
                      </a:lnTo>
                      <a:lnTo>
                        <a:pt x="300" y="338"/>
                      </a:lnTo>
                      <a:lnTo>
                        <a:pt x="334" y="220"/>
                      </a:lnTo>
                      <a:lnTo>
                        <a:pt x="365" y="82"/>
                      </a:lnTo>
                      <a:lnTo>
                        <a:pt x="378" y="53"/>
                      </a:lnTo>
                      <a:lnTo>
                        <a:pt x="397" y="25"/>
                      </a:lnTo>
                      <a:lnTo>
                        <a:pt x="420" y="0"/>
                      </a:lnTo>
                      <a:lnTo>
                        <a:pt x="450" y="0"/>
                      </a:lnTo>
                      <a:lnTo>
                        <a:pt x="473" y="21"/>
                      </a:lnTo>
                      <a:lnTo>
                        <a:pt x="473" y="53"/>
                      </a:lnTo>
                      <a:lnTo>
                        <a:pt x="473"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a:off x="7809120" y="6339600"/>
                  <a:ext cx="88200" cy="48960"/>
                </a:xfrm>
                <a:custGeom>
                  <a:avLst/>
                  <a:gdLst/>
                  <a:ahLst/>
                  <a:rect l="l" t="t" r="r" b="b"/>
                  <a:pathLst>
                    <a:path w="571" h="410">
                      <a:moveTo>
                        <a:pt x="15" y="376"/>
                      </a:moveTo>
                      <a:lnTo>
                        <a:pt x="67" y="365"/>
                      </a:lnTo>
                      <a:lnTo>
                        <a:pt x="105" y="334"/>
                      </a:lnTo>
                      <a:lnTo>
                        <a:pt x="139" y="296"/>
                      </a:lnTo>
                      <a:lnTo>
                        <a:pt x="160" y="277"/>
                      </a:lnTo>
                      <a:lnTo>
                        <a:pt x="181" y="258"/>
                      </a:lnTo>
                      <a:lnTo>
                        <a:pt x="240" y="213"/>
                      </a:lnTo>
                      <a:lnTo>
                        <a:pt x="301" y="169"/>
                      </a:lnTo>
                      <a:lnTo>
                        <a:pt x="329" y="144"/>
                      </a:lnTo>
                      <a:lnTo>
                        <a:pt x="358" y="125"/>
                      </a:lnTo>
                      <a:lnTo>
                        <a:pt x="409" y="89"/>
                      </a:lnTo>
                      <a:lnTo>
                        <a:pt x="458" y="51"/>
                      </a:lnTo>
                      <a:lnTo>
                        <a:pt x="512" y="0"/>
                      </a:lnTo>
                      <a:lnTo>
                        <a:pt x="529" y="7"/>
                      </a:lnTo>
                      <a:lnTo>
                        <a:pt x="550" y="40"/>
                      </a:lnTo>
                      <a:lnTo>
                        <a:pt x="571" y="102"/>
                      </a:lnTo>
                      <a:lnTo>
                        <a:pt x="548" y="137"/>
                      </a:lnTo>
                      <a:lnTo>
                        <a:pt x="527" y="161"/>
                      </a:lnTo>
                      <a:lnTo>
                        <a:pt x="481" y="192"/>
                      </a:lnTo>
                      <a:lnTo>
                        <a:pt x="371" y="260"/>
                      </a:lnTo>
                      <a:lnTo>
                        <a:pt x="308" y="308"/>
                      </a:lnTo>
                      <a:lnTo>
                        <a:pt x="249" y="353"/>
                      </a:lnTo>
                      <a:lnTo>
                        <a:pt x="192" y="384"/>
                      </a:lnTo>
                      <a:lnTo>
                        <a:pt x="137" y="401"/>
                      </a:lnTo>
                      <a:lnTo>
                        <a:pt x="15" y="410"/>
                      </a:lnTo>
                      <a:lnTo>
                        <a:pt x="0" y="393"/>
                      </a:lnTo>
                      <a:lnTo>
                        <a:pt x="4" y="382"/>
                      </a:lnTo>
                      <a:lnTo>
                        <a:pt x="15" y="376"/>
                      </a:lnTo>
                      <a:lnTo>
                        <a:pt x="15" y="37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455" name=""/>
                <p:cNvSpPr/>
                <p:nvPr/>
              </p:nvSpPr>
              <p:spPr>
                <a:xfrm>
                  <a:off x="7886160" y="6339600"/>
                  <a:ext cx="53280" cy="50040"/>
                </a:xfrm>
                <a:custGeom>
                  <a:avLst/>
                  <a:gdLst/>
                  <a:ahLst/>
                  <a:rect l="l" t="t" r="r" b="b"/>
                  <a:pathLst>
                    <a:path w="345" h="420">
                      <a:moveTo>
                        <a:pt x="65" y="13"/>
                      </a:moveTo>
                      <a:lnTo>
                        <a:pt x="120" y="89"/>
                      </a:lnTo>
                      <a:lnTo>
                        <a:pt x="189" y="192"/>
                      </a:lnTo>
                      <a:lnTo>
                        <a:pt x="230" y="245"/>
                      </a:lnTo>
                      <a:lnTo>
                        <a:pt x="263" y="298"/>
                      </a:lnTo>
                      <a:lnTo>
                        <a:pt x="297" y="348"/>
                      </a:lnTo>
                      <a:lnTo>
                        <a:pt x="318" y="370"/>
                      </a:lnTo>
                      <a:lnTo>
                        <a:pt x="343" y="395"/>
                      </a:lnTo>
                      <a:lnTo>
                        <a:pt x="345" y="418"/>
                      </a:lnTo>
                      <a:lnTo>
                        <a:pt x="322" y="420"/>
                      </a:lnTo>
                      <a:lnTo>
                        <a:pt x="293" y="397"/>
                      </a:lnTo>
                      <a:lnTo>
                        <a:pt x="267" y="378"/>
                      </a:lnTo>
                      <a:lnTo>
                        <a:pt x="213" y="340"/>
                      </a:lnTo>
                      <a:lnTo>
                        <a:pt x="160" y="302"/>
                      </a:lnTo>
                      <a:lnTo>
                        <a:pt x="111" y="252"/>
                      </a:lnTo>
                      <a:lnTo>
                        <a:pt x="31" y="129"/>
                      </a:lnTo>
                      <a:lnTo>
                        <a:pt x="4" y="49"/>
                      </a:lnTo>
                      <a:lnTo>
                        <a:pt x="0" y="21"/>
                      </a:lnTo>
                      <a:lnTo>
                        <a:pt x="16" y="0"/>
                      </a:lnTo>
                      <a:lnTo>
                        <a:pt x="65" y="13"/>
                      </a:lnTo>
                      <a:lnTo>
                        <a:pt x="65" y="13"/>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456" name=""/>
                <p:cNvSpPr/>
                <p:nvPr/>
              </p:nvSpPr>
              <p:spPr>
                <a:xfrm>
                  <a:off x="7944840" y="6246360"/>
                  <a:ext cx="32760" cy="140760"/>
                </a:xfrm>
                <a:custGeom>
                  <a:avLst/>
                  <a:gdLst/>
                  <a:ahLst/>
                  <a:rect l="l" t="t" r="r" b="b"/>
                  <a:pathLst>
                    <a:path w="213" h="1183">
                      <a:moveTo>
                        <a:pt x="213" y="137"/>
                      </a:moveTo>
                      <a:lnTo>
                        <a:pt x="186" y="295"/>
                      </a:lnTo>
                      <a:lnTo>
                        <a:pt x="156" y="434"/>
                      </a:lnTo>
                      <a:lnTo>
                        <a:pt x="99" y="730"/>
                      </a:lnTo>
                      <a:lnTo>
                        <a:pt x="36" y="1145"/>
                      </a:lnTo>
                      <a:lnTo>
                        <a:pt x="28" y="1171"/>
                      </a:lnTo>
                      <a:lnTo>
                        <a:pt x="15" y="1183"/>
                      </a:lnTo>
                      <a:lnTo>
                        <a:pt x="0" y="1156"/>
                      </a:lnTo>
                      <a:lnTo>
                        <a:pt x="13" y="715"/>
                      </a:lnTo>
                      <a:lnTo>
                        <a:pt x="40" y="542"/>
                      </a:lnTo>
                      <a:lnTo>
                        <a:pt x="74" y="367"/>
                      </a:lnTo>
                      <a:lnTo>
                        <a:pt x="108" y="192"/>
                      </a:lnTo>
                      <a:lnTo>
                        <a:pt x="137" y="19"/>
                      </a:lnTo>
                      <a:lnTo>
                        <a:pt x="152" y="0"/>
                      </a:lnTo>
                      <a:lnTo>
                        <a:pt x="180" y="27"/>
                      </a:lnTo>
                      <a:lnTo>
                        <a:pt x="213" y="137"/>
                      </a:lnTo>
                      <a:lnTo>
                        <a:pt x="213"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7963920" y="6267240"/>
                  <a:ext cx="41760" cy="129240"/>
                </a:xfrm>
                <a:custGeom>
                  <a:avLst/>
                  <a:gdLst/>
                  <a:ahLst/>
                  <a:rect l="l" t="t" r="r" b="b"/>
                  <a:pathLst>
                    <a:path w="270" h="1084">
                      <a:moveTo>
                        <a:pt x="65" y="33"/>
                      </a:moveTo>
                      <a:lnTo>
                        <a:pt x="88" y="97"/>
                      </a:lnTo>
                      <a:lnTo>
                        <a:pt x="209" y="456"/>
                      </a:lnTo>
                      <a:lnTo>
                        <a:pt x="247" y="759"/>
                      </a:lnTo>
                      <a:lnTo>
                        <a:pt x="270" y="1067"/>
                      </a:lnTo>
                      <a:lnTo>
                        <a:pt x="255" y="1084"/>
                      </a:lnTo>
                      <a:lnTo>
                        <a:pt x="238" y="1069"/>
                      </a:lnTo>
                      <a:lnTo>
                        <a:pt x="219" y="907"/>
                      </a:lnTo>
                      <a:lnTo>
                        <a:pt x="190" y="768"/>
                      </a:lnTo>
                      <a:lnTo>
                        <a:pt x="160" y="628"/>
                      </a:lnTo>
                      <a:lnTo>
                        <a:pt x="131" y="470"/>
                      </a:lnTo>
                      <a:lnTo>
                        <a:pt x="111" y="375"/>
                      </a:lnTo>
                      <a:lnTo>
                        <a:pt x="84" y="295"/>
                      </a:lnTo>
                      <a:lnTo>
                        <a:pt x="52" y="215"/>
                      </a:lnTo>
                      <a:lnTo>
                        <a:pt x="12" y="126"/>
                      </a:lnTo>
                      <a:lnTo>
                        <a:pt x="0" y="33"/>
                      </a:lnTo>
                      <a:lnTo>
                        <a:pt x="12" y="8"/>
                      </a:lnTo>
                      <a:lnTo>
                        <a:pt x="33" y="0"/>
                      </a:lnTo>
                      <a:lnTo>
                        <a:pt x="55" y="8"/>
                      </a:lnTo>
                      <a:lnTo>
                        <a:pt x="65" y="33"/>
                      </a:lnTo>
                      <a:lnTo>
                        <a:pt x="65"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8021160" y="6353280"/>
                  <a:ext cx="124560" cy="44280"/>
                </a:xfrm>
                <a:custGeom>
                  <a:avLst/>
                  <a:gdLst/>
                  <a:ahLst/>
                  <a:rect l="l" t="t" r="r" b="b"/>
                  <a:pathLst>
                    <a:path w="804" h="370">
                      <a:moveTo>
                        <a:pt x="0" y="347"/>
                      </a:moveTo>
                      <a:lnTo>
                        <a:pt x="21" y="313"/>
                      </a:lnTo>
                      <a:lnTo>
                        <a:pt x="48" y="275"/>
                      </a:lnTo>
                      <a:lnTo>
                        <a:pt x="80" y="235"/>
                      </a:lnTo>
                      <a:lnTo>
                        <a:pt x="112" y="193"/>
                      </a:lnTo>
                      <a:lnTo>
                        <a:pt x="146" y="150"/>
                      </a:lnTo>
                      <a:lnTo>
                        <a:pt x="179" y="110"/>
                      </a:lnTo>
                      <a:lnTo>
                        <a:pt x="226" y="38"/>
                      </a:lnTo>
                      <a:lnTo>
                        <a:pt x="249" y="9"/>
                      </a:lnTo>
                      <a:lnTo>
                        <a:pt x="276" y="0"/>
                      </a:lnTo>
                      <a:lnTo>
                        <a:pt x="300" y="11"/>
                      </a:lnTo>
                      <a:lnTo>
                        <a:pt x="321" y="41"/>
                      </a:lnTo>
                      <a:lnTo>
                        <a:pt x="342" y="76"/>
                      </a:lnTo>
                      <a:lnTo>
                        <a:pt x="371" y="98"/>
                      </a:lnTo>
                      <a:lnTo>
                        <a:pt x="441" y="142"/>
                      </a:lnTo>
                      <a:lnTo>
                        <a:pt x="485" y="169"/>
                      </a:lnTo>
                      <a:lnTo>
                        <a:pt x="527" y="190"/>
                      </a:lnTo>
                      <a:lnTo>
                        <a:pt x="618" y="224"/>
                      </a:lnTo>
                      <a:lnTo>
                        <a:pt x="702" y="268"/>
                      </a:lnTo>
                      <a:lnTo>
                        <a:pt x="742" y="287"/>
                      </a:lnTo>
                      <a:lnTo>
                        <a:pt x="789" y="294"/>
                      </a:lnTo>
                      <a:lnTo>
                        <a:pt x="804" y="311"/>
                      </a:lnTo>
                      <a:lnTo>
                        <a:pt x="800" y="323"/>
                      </a:lnTo>
                      <a:lnTo>
                        <a:pt x="789" y="327"/>
                      </a:lnTo>
                      <a:lnTo>
                        <a:pt x="683" y="344"/>
                      </a:lnTo>
                      <a:lnTo>
                        <a:pt x="578" y="340"/>
                      </a:lnTo>
                      <a:lnTo>
                        <a:pt x="373" y="243"/>
                      </a:lnTo>
                      <a:lnTo>
                        <a:pt x="316" y="201"/>
                      </a:lnTo>
                      <a:lnTo>
                        <a:pt x="270" y="157"/>
                      </a:lnTo>
                      <a:lnTo>
                        <a:pt x="249" y="174"/>
                      </a:lnTo>
                      <a:lnTo>
                        <a:pt x="221" y="199"/>
                      </a:lnTo>
                      <a:lnTo>
                        <a:pt x="183" y="226"/>
                      </a:lnTo>
                      <a:lnTo>
                        <a:pt x="145" y="254"/>
                      </a:lnTo>
                      <a:lnTo>
                        <a:pt x="105" y="285"/>
                      </a:lnTo>
                      <a:lnTo>
                        <a:pt x="70" y="313"/>
                      </a:lnTo>
                      <a:lnTo>
                        <a:pt x="25" y="365"/>
                      </a:lnTo>
                      <a:lnTo>
                        <a:pt x="4" y="370"/>
                      </a:lnTo>
                      <a:lnTo>
                        <a:pt x="0" y="347"/>
                      </a:lnTo>
                      <a:lnTo>
                        <a:pt x="0" y="34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59" name=""/>
                <p:cNvSpPr/>
                <p:nvPr/>
              </p:nvSpPr>
              <p:spPr>
                <a:xfrm>
                  <a:off x="8087400" y="6240600"/>
                  <a:ext cx="63360" cy="139680"/>
                </a:xfrm>
                <a:custGeom>
                  <a:avLst/>
                  <a:gdLst/>
                  <a:ahLst/>
                  <a:rect l="l" t="t" r="r" b="b"/>
                  <a:pathLst>
                    <a:path w="410" h="1173">
                      <a:moveTo>
                        <a:pt x="28" y="8"/>
                      </a:moveTo>
                      <a:lnTo>
                        <a:pt x="80" y="112"/>
                      </a:lnTo>
                      <a:lnTo>
                        <a:pt x="118" y="220"/>
                      </a:lnTo>
                      <a:lnTo>
                        <a:pt x="141" y="297"/>
                      </a:lnTo>
                      <a:lnTo>
                        <a:pt x="165" y="365"/>
                      </a:lnTo>
                      <a:lnTo>
                        <a:pt x="209" y="489"/>
                      </a:lnTo>
                      <a:lnTo>
                        <a:pt x="251" y="612"/>
                      </a:lnTo>
                      <a:lnTo>
                        <a:pt x="287" y="758"/>
                      </a:lnTo>
                      <a:lnTo>
                        <a:pt x="340" y="907"/>
                      </a:lnTo>
                      <a:lnTo>
                        <a:pt x="371" y="1030"/>
                      </a:lnTo>
                      <a:lnTo>
                        <a:pt x="382" y="1089"/>
                      </a:lnTo>
                      <a:lnTo>
                        <a:pt x="410" y="1150"/>
                      </a:lnTo>
                      <a:lnTo>
                        <a:pt x="405" y="1173"/>
                      </a:lnTo>
                      <a:lnTo>
                        <a:pt x="382" y="1167"/>
                      </a:lnTo>
                      <a:lnTo>
                        <a:pt x="344" y="1110"/>
                      </a:lnTo>
                      <a:lnTo>
                        <a:pt x="306" y="1059"/>
                      </a:lnTo>
                      <a:lnTo>
                        <a:pt x="270" y="1009"/>
                      </a:lnTo>
                      <a:lnTo>
                        <a:pt x="237" y="949"/>
                      </a:lnTo>
                      <a:lnTo>
                        <a:pt x="182" y="789"/>
                      </a:lnTo>
                      <a:lnTo>
                        <a:pt x="148" y="642"/>
                      </a:lnTo>
                      <a:lnTo>
                        <a:pt x="114" y="515"/>
                      </a:lnTo>
                      <a:lnTo>
                        <a:pt x="78" y="388"/>
                      </a:lnTo>
                      <a:lnTo>
                        <a:pt x="57" y="319"/>
                      </a:lnTo>
                      <a:lnTo>
                        <a:pt x="36" y="243"/>
                      </a:lnTo>
                      <a:lnTo>
                        <a:pt x="0" y="23"/>
                      </a:lnTo>
                      <a:lnTo>
                        <a:pt x="7" y="0"/>
                      </a:lnTo>
                      <a:lnTo>
                        <a:pt x="28" y="8"/>
                      </a:lnTo>
                      <a:lnTo>
                        <a:pt x="2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8021880" y="6003000"/>
                  <a:ext cx="161280" cy="209520"/>
                </a:xfrm>
                <a:custGeom>
                  <a:avLst/>
                  <a:gdLst/>
                  <a:ahLst/>
                  <a:rect l="l" t="t" r="r" b="b"/>
                  <a:pathLst>
                    <a:path w="1040" h="1758">
                      <a:moveTo>
                        <a:pt x="861" y="2"/>
                      </a:moveTo>
                      <a:lnTo>
                        <a:pt x="907" y="101"/>
                      </a:lnTo>
                      <a:lnTo>
                        <a:pt x="945" y="194"/>
                      </a:lnTo>
                      <a:lnTo>
                        <a:pt x="1000" y="370"/>
                      </a:lnTo>
                      <a:lnTo>
                        <a:pt x="1030" y="555"/>
                      </a:lnTo>
                      <a:lnTo>
                        <a:pt x="1040" y="766"/>
                      </a:lnTo>
                      <a:lnTo>
                        <a:pt x="1026" y="933"/>
                      </a:lnTo>
                      <a:lnTo>
                        <a:pt x="1009" y="1011"/>
                      </a:lnTo>
                      <a:lnTo>
                        <a:pt x="983" y="1097"/>
                      </a:lnTo>
                      <a:lnTo>
                        <a:pt x="948" y="1195"/>
                      </a:lnTo>
                      <a:lnTo>
                        <a:pt x="907" y="1279"/>
                      </a:lnTo>
                      <a:lnTo>
                        <a:pt x="882" y="1317"/>
                      </a:lnTo>
                      <a:lnTo>
                        <a:pt x="855" y="1351"/>
                      </a:lnTo>
                      <a:lnTo>
                        <a:pt x="798" y="1414"/>
                      </a:lnTo>
                      <a:lnTo>
                        <a:pt x="766" y="1443"/>
                      </a:lnTo>
                      <a:lnTo>
                        <a:pt x="732" y="1471"/>
                      </a:lnTo>
                      <a:lnTo>
                        <a:pt x="696" y="1496"/>
                      </a:lnTo>
                      <a:lnTo>
                        <a:pt x="658" y="1520"/>
                      </a:lnTo>
                      <a:lnTo>
                        <a:pt x="618" y="1543"/>
                      </a:lnTo>
                      <a:lnTo>
                        <a:pt x="574" y="1568"/>
                      </a:lnTo>
                      <a:lnTo>
                        <a:pt x="530" y="1591"/>
                      </a:lnTo>
                      <a:lnTo>
                        <a:pt x="485" y="1612"/>
                      </a:lnTo>
                      <a:lnTo>
                        <a:pt x="422" y="1640"/>
                      </a:lnTo>
                      <a:lnTo>
                        <a:pt x="365" y="1661"/>
                      </a:lnTo>
                      <a:lnTo>
                        <a:pt x="255" y="1693"/>
                      </a:lnTo>
                      <a:lnTo>
                        <a:pt x="21" y="1758"/>
                      </a:lnTo>
                      <a:lnTo>
                        <a:pt x="0" y="1749"/>
                      </a:lnTo>
                      <a:lnTo>
                        <a:pt x="9" y="1728"/>
                      </a:lnTo>
                      <a:lnTo>
                        <a:pt x="127" y="1680"/>
                      </a:lnTo>
                      <a:lnTo>
                        <a:pt x="178" y="1657"/>
                      </a:lnTo>
                      <a:lnTo>
                        <a:pt x="228" y="1633"/>
                      </a:lnTo>
                      <a:lnTo>
                        <a:pt x="277" y="1606"/>
                      </a:lnTo>
                      <a:lnTo>
                        <a:pt x="327" y="1579"/>
                      </a:lnTo>
                      <a:lnTo>
                        <a:pt x="382" y="1551"/>
                      </a:lnTo>
                      <a:lnTo>
                        <a:pt x="441" y="1522"/>
                      </a:lnTo>
                      <a:lnTo>
                        <a:pt x="521" y="1482"/>
                      </a:lnTo>
                      <a:lnTo>
                        <a:pt x="593" y="1441"/>
                      </a:lnTo>
                      <a:lnTo>
                        <a:pt x="658" y="1395"/>
                      </a:lnTo>
                      <a:lnTo>
                        <a:pt x="716" y="1346"/>
                      </a:lnTo>
                      <a:lnTo>
                        <a:pt x="768" y="1289"/>
                      </a:lnTo>
                      <a:lnTo>
                        <a:pt x="812" y="1224"/>
                      </a:lnTo>
                      <a:lnTo>
                        <a:pt x="878" y="1062"/>
                      </a:lnTo>
                      <a:lnTo>
                        <a:pt x="918" y="916"/>
                      </a:lnTo>
                      <a:lnTo>
                        <a:pt x="929" y="766"/>
                      </a:lnTo>
                      <a:lnTo>
                        <a:pt x="924" y="562"/>
                      </a:lnTo>
                      <a:lnTo>
                        <a:pt x="903" y="384"/>
                      </a:lnTo>
                      <a:lnTo>
                        <a:pt x="882" y="298"/>
                      </a:lnTo>
                      <a:lnTo>
                        <a:pt x="857" y="213"/>
                      </a:lnTo>
                      <a:lnTo>
                        <a:pt x="823" y="121"/>
                      </a:lnTo>
                      <a:lnTo>
                        <a:pt x="779" y="26"/>
                      </a:lnTo>
                      <a:lnTo>
                        <a:pt x="787" y="13"/>
                      </a:lnTo>
                      <a:lnTo>
                        <a:pt x="813" y="0"/>
                      </a:lnTo>
                      <a:lnTo>
                        <a:pt x="861" y="2"/>
                      </a:lnTo>
                      <a:lnTo>
                        <a:pt x="86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7808400" y="6128280"/>
                  <a:ext cx="170640" cy="84600"/>
                </a:xfrm>
                <a:custGeom>
                  <a:avLst/>
                  <a:gdLst/>
                  <a:ahLst/>
                  <a:rect l="l" t="t" r="r" b="b"/>
                  <a:pathLst>
                    <a:path w="1103" h="713">
                      <a:moveTo>
                        <a:pt x="29" y="8"/>
                      </a:moveTo>
                      <a:lnTo>
                        <a:pt x="54" y="61"/>
                      </a:lnTo>
                      <a:lnTo>
                        <a:pt x="78" y="110"/>
                      </a:lnTo>
                      <a:lnTo>
                        <a:pt x="107" y="156"/>
                      </a:lnTo>
                      <a:lnTo>
                        <a:pt x="135" y="198"/>
                      </a:lnTo>
                      <a:lnTo>
                        <a:pt x="166" y="236"/>
                      </a:lnTo>
                      <a:lnTo>
                        <a:pt x="198" y="272"/>
                      </a:lnTo>
                      <a:lnTo>
                        <a:pt x="232" y="304"/>
                      </a:lnTo>
                      <a:lnTo>
                        <a:pt x="268" y="337"/>
                      </a:lnTo>
                      <a:lnTo>
                        <a:pt x="307" y="365"/>
                      </a:lnTo>
                      <a:lnTo>
                        <a:pt x="346" y="392"/>
                      </a:lnTo>
                      <a:lnTo>
                        <a:pt x="388" y="416"/>
                      </a:lnTo>
                      <a:lnTo>
                        <a:pt x="432" y="439"/>
                      </a:lnTo>
                      <a:lnTo>
                        <a:pt x="478" y="462"/>
                      </a:lnTo>
                      <a:lnTo>
                        <a:pt x="527" y="485"/>
                      </a:lnTo>
                      <a:lnTo>
                        <a:pt x="576" y="506"/>
                      </a:lnTo>
                      <a:lnTo>
                        <a:pt x="630" y="527"/>
                      </a:lnTo>
                      <a:lnTo>
                        <a:pt x="717" y="567"/>
                      </a:lnTo>
                      <a:lnTo>
                        <a:pt x="810" y="593"/>
                      </a:lnTo>
                      <a:lnTo>
                        <a:pt x="883" y="618"/>
                      </a:lnTo>
                      <a:lnTo>
                        <a:pt x="945" y="645"/>
                      </a:lnTo>
                      <a:lnTo>
                        <a:pt x="1010" y="665"/>
                      </a:lnTo>
                      <a:lnTo>
                        <a:pt x="1086" y="673"/>
                      </a:lnTo>
                      <a:lnTo>
                        <a:pt x="1103" y="690"/>
                      </a:lnTo>
                      <a:lnTo>
                        <a:pt x="1097" y="702"/>
                      </a:lnTo>
                      <a:lnTo>
                        <a:pt x="1086" y="705"/>
                      </a:lnTo>
                      <a:lnTo>
                        <a:pt x="932" y="713"/>
                      </a:lnTo>
                      <a:lnTo>
                        <a:pt x="782" y="694"/>
                      </a:lnTo>
                      <a:lnTo>
                        <a:pt x="586" y="624"/>
                      </a:lnTo>
                      <a:lnTo>
                        <a:pt x="480" y="576"/>
                      </a:lnTo>
                      <a:lnTo>
                        <a:pt x="430" y="551"/>
                      </a:lnTo>
                      <a:lnTo>
                        <a:pt x="384" y="523"/>
                      </a:lnTo>
                      <a:lnTo>
                        <a:pt x="343" y="494"/>
                      </a:lnTo>
                      <a:lnTo>
                        <a:pt x="303" y="464"/>
                      </a:lnTo>
                      <a:lnTo>
                        <a:pt x="265" y="430"/>
                      </a:lnTo>
                      <a:lnTo>
                        <a:pt x="229" y="396"/>
                      </a:lnTo>
                      <a:lnTo>
                        <a:pt x="164" y="318"/>
                      </a:lnTo>
                      <a:lnTo>
                        <a:pt x="134" y="276"/>
                      </a:lnTo>
                      <a:lnTo>
                        <a:pt x="105" y="230"/>
                      </a:lnTo>
                      <a:lnTo>
                        <a:pt x="76" y="183"/>
                      </a:lnTo>
                      <a:lnTo>
                        <a:pt x="50" y="131"/>
                      </a:lnTo>
                      <a:lnTo>
                        <a:pt x="0" y="21"/>
                      </a:lnTo>
                      <a:lnTo>
                        <a:pt x="8" y="0"/>
                      </a:lnTo>
                      <a:lnTo>
                        <a:pt x="29" y="8"/>
                      </a:lnTo>
                      <a:lnTo>
                        <a:pt x="29" y="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462" name=""/>
                <p:cNvSpPr/>
                <p:nvPr/>
              </p:nvSpPr>
              <p:spPr>
                <a:xfrm>
                  <a:off x="7818840" y="5980320"/>
                  <a:ext cx="100440" cy="185040"/>
                </a:xfrm>
                <a:custGeom>
                  <a:avLst/>
                  <a:gdLst/>
                  <a:ahLst/>
                  <a:rect l="l" t="t" r="r" b="b"/>
                  <a:pathLst>
                    <a:path w="648" h="1553">
                      <a:moveTo>
                        <a:pt x="555" y="28"/>
                      </a:moveTo>
                      <a:lnTo>
                        <a:pt x="485" y="62"/>
                      </a:lnTo>
                      <a:lnTo>
                        <a:pt x="424" y="93"/>
                      </a:lnTo>
                      <a:lnTo>
                        <a:pt x="365" y="125"/>
                      </a:lnTo>
                      <a:lnTo>
                        <a:pt x="304" y="167"/>
                      </a:lnTo>
                      <a:lnTo>
                        <a:pt x="346" y="365"/>
                      </a:lnTo>
                      <a:lnTo>
                        <a:pt x="300" y="422"/>
                      </a:lnTo>
                      <a:lnTo>
                        <a:pt x="276" y="446"/>
                      </a:lnTo>
                      <a:lnTo>
                        <a:pt x="253" y="469"/>
                      </a:lnTo>
                      <a:lnTo>
                        <a:pt x="203" y="511"/>
                      </a:lnTo>
                      <a:lnTo>
                        <a:pt x="148" y="555"/>
                      </a:lnTo>
                      <a:lnTo>
                        <a:pt x="184" y="629"/>
                      </a:lnTo>
                      <a:lnTo>
                        <a:pt x="213" y="699"/>
                      </a:lnTo>
                      <a:lnTo>
                        <a:pt x="224" y="851"/>
                      </a:lnTo>
                      <a:lnTo>
                        <a:pt x="192" y="897"/>
                      </a:lnTo>
                      <a:lnTo>
                        <a:pt x="160" y="939"/>
                      </a:lnTo>
                      <a:lnTo>
                        <a:pt x="129" y="981"/>
                      </a:lnTo>
                      <a:lnTo>
                        <a:pt x="95" y="1022"/>
                      </a:lnTo>
                      <a:lnTo>
                        <a:pt x="112" y="1060"/>
                      </a:lnTo>
                      <a:lnTo>
                        <a:pt x="133" y="1093"/>
                      </a:lnTo>
                      <a:lnTo>
                        <a:pt x="160" y="1123"/>
                      </a:lnTo>
                      <a:lnTo>
                        <a:pt x="192" y="1152"/>
                      </a:lnTo>
                      <a:lnTo>
                        <a:pt x="268" y="1190"/>
                      </a:lnTo>
                      <a:lnTo>
                        <a:pt x="338" y="1231"/>
                      </a:lnTo>
                      <a:lnTo>
                        <a:pt x="378" y="1275"/>
                      </a:lnTo>
                      <a:lnTo>
                        <a:pt x="386" y="1332"/>
                      </a:lnTo>
                      <a:lnTo>
                        <a:pt x="376" y="1397"/>
                      </a:lnTo>
                      <a:lnTo>
                        <a:pt x="361" y="1467"/>
                      </a:lnTo>
                      <a:lnTo>
                        <a:pt x="470" y="1446"/>
                      </a:lnTo>
                      <a:lnTo>
                        <a:pt x="587" y="1429"/>
                      </a:lnTo>
                      <a:lnTo>
                        <a:pt x="610" y="1427"/>
                      </a:lnTo>
                      <a:lnTo>
                        <a:pt x="639" y="1437"/>
                      </a:lnTo>
                      <a:lnTo>
                        <a:pt x="648" y="1465"/>
                      </a:lnTo>
                      <a:lnTo>
                        <a:pt x="639" y="1492"/>
                      </a:lnTo>
                      <a:lnTo>
                        <a:pt x="610" y="1501"/>
                      </a:lnTo>
                      <a:lnTo>
                        <a:pt x="591" y="1500"/>
                      </a:lnTo>
                      <a:lnTo>
                        <a:pt x="325" y="1553"/>
                      </a:lnTo>
                      <a:lnTo>
                        <a:pt x="289" y="1547"/>
                      </a:lnTo>
                      <a:lnTo>
                        <a:pt x="279" y="1513"/>
                      </a:lnTo>
                      <a:lnTo>
                        <a:pt x="298" y="1444"/>
                      </a:lnTo>
                      <a:lnTo>
                        <a:pt x="327" y="1378"/>
                      </a:lnTo>
                      <a:lnTo>
                        <a:pt x="340" y="1321"/>
                      </a:lnTo>
                      <a:lnTo>
                        <a:pt x="333" y="1298"/>
                      </a:lnTo>
                      <a:lnTo>
                        <a:pt x="312" y="1279"/>
                      </a:lnTo>
                      <a:lnTo>
                        <a:pt x="241" y="1235"/>
                      </a:lnTo>
                      <a:lnTo>
                        <a:pt x="207" y="1214"/>
                      </a:lnTo>
                      <a:lnTo>
                        <a:pt x="167" y="1192"/>
                      </a:lnTo>
                      <a:lnTo>
                        <a:pt x="114" y="1155"/>
                      </a:lnTo>
                      <a:lnTo>
                        <a:pt x="67" y="1123"/>
                      </a:lnTo>
                      <a:lnTo>
                        <a:pt x="0" y="1024"/>
                      </a:lnTo>
                      <a:lnTo>
                        <a:pt x="8" y="982"/>
                      </a:lnTo>
                      <a:lnTo>
                        <a:pt x="47" y="939"/>
                      </a:lnTo>
                      <a:lnTo>
                        <a:pt x="82" y="903"/>
                      </a:lnTo>
                      <a:lnTo>
                        <a:pt x="152" y="821"/>
                      </a:lnTo>
                      <a:lnTo>
                        <a:pt x="150" y="749"/>
                      </a:lnTo>
                      <a:lnTo>
                        <a:pt x="122" y="690"/>
                      </a:lnTo>
                      <a:lnTo>
                        <a:pt x="82" y="631"/>
                      </a:lnTo>
                      <a:lnTo>
                        <a:pt x="44" y="562"/>
                      </a:lnTo>
                      <a:lnTo>
                        <a:pt x="40" y="534"/>
                      </a:lnTo>
                      <a:lnTo>
                        <a:pt x="55" y="507"/>
                      </a:lnTo>
                      <a:lnTo>
                        <a:pt x="89" y="481"/>
                      </a:lnTo>
                      <a:lnTo>
                        <a:pt x="124" y="464"/>
                      </a:lnTo>
                      <a:lnTo>
                        <a:pt x="192" y="439"/>
                      </a:lnTo>
                      <a:lnTo>
                        <a:pt x="259" y="410"/>
                      </a:lnTo>
                      <a:lnTo>
                        <a:pt x="316" y="357"/>
                      </a:lnTo>
                      <a:lnTo>
                        <a:pt x="302" y="304"/>
                      </a:lnTo>
                      <a:lnTo>
                        <a:pt x="279" y="260"/>
                      </a:lnTo>
                      <a:lnTo>
                        <a:pt x="230" y="167"/>
                      </a:lnTo>
                      <a:lnTo>
                        <a:pt x="241" y="129"/>
                      </a:lnTo>
                      <a:lnTo>
                        <a:pt x="278" y="102"/>
                      </a:lnTo>
                      <a:lnTo>
                        <a:pt x="314" y="81"/>
                      </a:lnTo>
                      <a:lnTo>
                        <a:pt x="386" y="55"/>
                      </a:lnTo>
                      <a:lnTo>
                        <a:pt x="542" y="0"/>
                      </a:lnTo>
                      <a:lnTo>
                        <a:pt x="563" y="7"/>
                      </a:lnTo>
                      <a:lnTo>
                        <a:pt x="555" y="28"/>
                      </a:lnTo>
                      <a:lnTo>
                        <a:pt x="55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7931520" y="6160320"/>
                  <a:ext cx="61200" cy="33840"/>
                </a:xfrm>
                <a:custGeom>
                  <a:avLst/>
                  <a:gdLst/>
                  <a:ahLst/>
                  <a:rect l="l" t="t" r="r" b="b"/>
                  <a:pathLst>
                    <a:path w="396" h="287">
                      <a:moveTo>
                        <a:pt x="71" y="23"/>
                      </a:moveTo>
                      <a:lnTo>
                        <a:pt x="107" y="108"/>
                      </a:lnTo>
                      <a:lnTo>
                        <a:pt x="143" y="184"/>
                      </a:lnTo>
                      <a:lnTo>
                        <a:pt x="190" y="148"/>
                      </a:lnTo>
                      <a:lnTo>
                        <a:pt x="234" y="110"/>
                      </a:lnTo>
                      <a:lnTo>
                        <a:pt x="280" y="72"/>
                      </a:lnTo>
                      <a:lnTo>
                        <a:pt x="329" y="29"/>
                      </a:lnTo>
                      <a:lnTo>
                        <a:pt x="359" y="19"/>
                      </a:lnTo>
                      <a:lnTo>
                        <a:pt x="386" y="34"/>
                      </a:lnTo>
                      <a:lnTo>
                        <a:pt x="396" y="63"/>
                      </a:lnTo>
                      <a:lnTo>
                        <a:pt x="380" y="91"/>
                      </a:lnTo>
                      <a:lnTo>
                        <a:pt x="350" y="118"/>
                      </a:lnTo>
                      <a:lnTo>
                        <a:pt x="321" y="143"/>
                      </a:lnTo>
                      <a:lnTo>
                        <a:pt x="293" y="167"/>
                      </a:lnTo>
                      <a:lnTo>
                        <a:pt x="268" y="188"/>
                      </a:lnTo>
                      <a:lnTo>
                        <a:pt x="240" y="211"/>
                      </a:lnTo>
                      <a:lnTo>
                        <a:pt x="213" y="232"/>
                      </a:lnTo>
                      <a:lnTo>
                        <a:pt x="183" y="255"/>
                      </a:lnTo>
                      <a:lnTo>
                        <a:pt x="148" y="278"/>
                      </a:lnTo>
                      <a:lnTo>
                        <a:pt x="114" y="287"/>
                      </a:lnTo>
                      <a:lnTo>
                        <a:pt x="90" y="262"/>
                      </a:lnTo>
                      <a:lnTo>
                        <a:pt x="44" y="156"/>
                      </a:lnTo>
                      <a:lnTo>
                        <a:pt x="0" y="50"/>
                      </a:lnTo>
                      <a:lnTo>
                        <a:pt x="2" y="19"/>
                      </a:lnTo>
                      <a:lnTo>
                        <a:pt x="23" y="0"/>
                      </a:lnTo>
                      <a:lnTo>
                        <a:pt x="71" y="23"/>
                      </a:lnTo>
                      <a:lnTo>
                        <a:pt x="71" y="23"/>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64" name=""/>
                <p:cNvSpPr/>
                <p:nvPr/>
              </p:nvSpPr>
              <p:spPr>
                <a:xfrm>
                  <a:off x="8006400" y="6010200"/>
                  <a:ext cx="145800" cy="183240"/>
                </a:xfrm>
                <a:custGeom>
                  <a:avLst/>
                  <a:gdLst/>
                  <a:ahLst/>
                  <a:rect l="l" t="t" r="r" b="b"/>
                  <a:pathLst>
                    <a:path w="943" h="1538">
                      <a:moveTo>
                        <a:pt x="67" y="1319"/>
                      </a:moveTo>
                      <a:lnTo>
                        <a:pt x="122" y="1387"/>
                      </a:lnTo>
                      <a:lnTo>
                        <a:pt x="146" y="1420"/>
                      </a:lnTo>
                      <a:lnTo>
                        <a:pt x="184" y="1444"/>
                      </a:lnTo>
                      <a:lnTo>
                        <a:pt x="230" y="1463"/>
                      </a:lnTo>
                      <a:lnTo>
                        <a:pt x="272" y="1393"/>
                      </a:lnTo>
                      <a:lnTo>
                        <a:pt x="316" y="1319"/>
                      </a:lnTo>
                      <a:lnTo>
                        <a:pt x="344" y="1268"/>
                      </a:lnTo>
                      <a:lnTo>
                        <a:pt x="375" y="1222"/>
                      </a:lnTo>
                      <a:lnTo>
                        <a:pt x="394" y="1205"/>
                      </a:lnTo>
                      <a:lnTo>
                        <a:pt x="413" y="1188"/>
                      </a:lnTo>
                      <a:lnTo>
                        <a:pt x="466" y="1171"/>
                      </a:lnTo>
                      <a:lnTo>
                        <a:pt x="576" y="1155"/>
                      </a:lnTo>
                      <a:lnTo>
                        <a:pt x="675" y="1146"/>
                      </a:lnTo>
                      <a:lnTo>
                        <a:pt x="643" y="1074"/>
                      </a:lnTo>
                      <a:lnTo>
                        <a:pt x="608" y="998"/>
                      </a:lnTo>
                      <a:lnTo>
                        <a:pt x="618" y="946"/>
                      </a:lnTo>
                      <a:lnTo>
                        <a:pt x="643" y="908"/>
                      </a:lnTo>
                      <a:lnTo>
                        <a:pt x="677" y="876"/>
                      </a:lnTo>
                      <a:lnTo>
                        <a:pt x="721" y="851"/>
                      </a:lnTo>
                      <a:lnTo>
                        <a:pt x="768" y="827"/>
                      </a:lnTo>
                      <a:lnTo>
                        <a:pt x="816" y="802"/>
                      </a:lnTo>
                      <a:lnTo>
                        <a:pt x="901" y="733"/>
                      </a:lnTo>
                      <a:lnTo>
                        <a:pt x="903" y="745"/>
                      </a:lnTo>
                      <a:lnTo>
                        <a:pt x="916" y="732"/>
                      </a:lnTo>
                      <a:lnTo>
                        <a:pt x="876" y="705"/>
                      </a:lnTo>
                      <a:lnTo>
                        <a:pt x="831" y="688"/>
                      </a:lnTo>
                      <a:lnTo>
                        <a:pt x="740" y="667"/>
                      </a:lnTo>
                      <a:lnTo>
                        <a:pt x="656" y="638"/>
                      </a:lnTo>
                      <a:lnTo>
                        <a:pt x="595" y="572"/>
                      </a:lnTo>
                      <a:lnTo>
                        <a:pt x="599" y="541"/>
                      </a:lnTo>
                      <a:lnTo>
                        <a:pt x="625" y="513"/>
                      </a:lnTo>
                      <a:lnTo>
                        <a:pt x="652" y="488"/>
                      </a:lnTo>
                      <a:lnTo>
                        <a:pt x="679" y="465"/>
                      </a:lnTo>
                      <a:lnTo>
                        <a:pt x="707" y="437"/>
                      </a:lnTo>
                      <a:lnTo>
                        <a:pt x="738" y="389"/>
                      </a:lnTo>
                      <a:lnTo>
                        <a:pt x="774" y="350"/>
                      </a:lnTo>
                      <a:lnTo>
                        <a:pt x="806" y="310"/>
                      </a:lnTo>
                      <a:lnTo>
                        <a:pt x="504" y="218"/>
                      </a:lnTo>
                      <a:lnTo>
                        <a:pt x="475" y="177"/>
                      </a:lnTo>
                      <a:lnTo>
                        <a:pt x="491" y="127"/>
                      </a:lnTo>
                      <a:lnTo>
                        <a:pt x="521" y="91"/>
                      </a:lnTo>
                      <a:lnTo>
                        <a:pt x="582" y="9"/>
                      </a:lnTo>
                      <a:lnTo>
                        <a:pt x="603" y="0"/>
                      </a:lnTo>
                      <a:lnTo>
                        <a:pt x="612" y="21"/>
                      </a:lnTo>
                      <a:lnTo>
                        <a:pt x="565" y="150"/>
                      </a:lnTo>
                      <a:lnTo>
                        <a:pt x="643" y="178"/>
                      </a:lnTo>
                      <a:lnTo>
                        <a:pt x="715" y="205"/>
                      </a:lnTo>
                      <a:lnTo>
                        <a:pt x="787" y="234"/>
                      </a:lnTo>
                      <a:lnTo>
                        <a:pt x="871" y="260"/>
                      </a:lnTo>
                      <a:lnTo>
                        <a:pt x="895" y="281"/>
                      </a:lnTo>
                      <a:lnTo>
                        <a:pt x="886" y="311"/>
                      </a:lnTo>
                      <a:lnTo>
                        <a:pt x="850" y="350"/>
                      </a:lnTo>
                      <a:lnTo>
                        <a:pt x="812" y="386"/>
                      </a:lnTo>
                      <a:lnTo>
                        <a:pt x="745" y="465"/>
                      </a:lnTo>
                      <a:lnTo>
                        <a:pt x="721" y="492"/>
                      </a:lnTo>
                      <a:lnTo>
                        <a:pt x="698" y="515"/>
                      </a:lnTo>
                      <a:lnTo>
                        <a:pt x="652" y="564"/>
                      </a:lnTo>
                      <a:lnTo>
                        <a:pt x="677" y="595"/>
                      </a:lnTo>
                      <a:lnTo>
                        <a:pt x="709" y="616"/>
                      </a:lnTo>
                      <a:lnTo>
                        <a:pt x="785" y="638"/>
                      </a:lnTo>
                      <a:lnTo>
                        <a:pt x="943" y="697"/>
                      </a:lnTo>
                      <a:lnTo>
                        <a:pt x="937" y="714"/>
                      </a:lnTo>
                      <a:lnTo>
                        <a:pt x="928" y="737"/>
                      </a:lnTo>
                      <a:lnTo>
                        <a:pt x="926" y="754"/>
                      </a:lnTo>
                      <a:lnTo>
                        <a:pt x="894" y="787"/>
                      </a:lnTo>
                      <a:lnTo>
                        <a:pt x="859" y="811"/>
                      </a:lnTo>
                      <a:lnTo>
                        <a:pt x="787" y="855"/>
                      </a:lnTo>
                      <a:lnTo>
                        <a:pt x="728" y="905"/>
                      </a:lnTo>
                      <a:lnTo>
                        <a:pt x="703" y="979"/>
                      </a:lnTo>
                      <a:lnTo>
                        <a:pt x="783" y="1193"/>
                      </a:lnTo>
                      <a:lnTo>
                        <a:pt x="776" y="1241"/>
                      </a:lnTo>
                      <a:lnTo>
                        <a:pt x="728" y="1247"/>
                      </a:lnTo>
                      <a:lnTo>
                        <a:pt x="601" y="1220"/>
                      </a:lnTo>
                      <a:lnTo>
                        <a:pt x="472" y="1218"/>
                      </a:lnTo>
                      <a:lnTo>
                        <a:pt x="432" y="1235"/>
                      </a:lnTo>
                      <a:lnTo>
                        <a:pt x="403" y="1266"/>
                      </a:lnTo>
                      <a:lnTo>
                        <a:pt x="363" y="1346"/>
                      </a:lnTo>
                      <a:lnTo>
                        <a:pt x="337" y="1391"/>
                      </a:lnTo>
                      <a:lnTo>
                        <a:pt x="314" y="1433"/>
                      </a:lnTo>
                      <a:lnTo>
                        <a:pt x="291" y="1473"/>
                      </a:lnTo>
                      <a:lnTo>
                        <a:pt x="266" y="1520"/>
                      </a:lnTo>
                      <a:lnTo>
                        <a:pt x="245" y="1538"/>
                      </a:lnTo>
                      <a:lnTo>
                        <a:pt x="221" y="1528"/>
                      </a:lnTo>
                      <a:lnTo>
                        <a:pt x="171" y="1475"/>
                      </a:lnTo>
                      <a:lnTo>
                        <a:pt x="17" y="1384"/>
                      </a:lnTo>
                      <a:lnTo>
                        <a:pt x="0" y="1355"/>
                      </a:lnTo>
                      <a:lnTo>
                        <a:pt x="10" y="1327"/>
                      </a:lnTo>
                      <a:lnTo>
                        <a:pt x="34" y="1311"/>
                      </a:lnTo>
                      <a:lnTo>
                        <a:pt x="67" y="1319"/>
                      </a:lnTo>
                      <a:lnTo>
                        <a:pt x="67" y="1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7922880" y="5968800"/>
                  <a:ext cx="59400" cy="34560"/>
                </a:xfrm>
                <a:custGeom>
                  <a:avLst/>
                  <a:gdLst/>
                  <a:ahLst/>
                  <a:rect l="l" t="t" r="r" b="b"/>
                  <a:pathLst>
                    <a:path w="384" h="291">
                      <a:moveTo>
                        <a:pt x="29" y="76"/>
                      </a:moveTo>
                      <a:lnTo>
                        <a:pt x="205" y="165"/>
                      </a:lnTo>
                      <a:lnTo>
                        <a:pt x="249" y="99"/>
                      </a:lnTo>
                      <a:lnTo>
                        <a:pt x="276" y="70"/>
                      </a:lnTo>
                      <a:lnTo>
                        <a:pt x="304" y="49"/>
                      </a:lnTo>
                      <a:lnTo>
                        <a:pt x="359" y="2"/>
                      </a:lnTo>
                      <a:lnTo>
                        <a:pt x="382" y="0"/>
                      </a:lnTo>
                      <a:lnTo>
                        <a:pt x="384" y="23"/>
                      </a:lnTo>
                      <a:lnTo>
                        <a:pt x="325" y="150"/>
                      </a:lnTo>
                      <a:lnTo>
                        <a:pt x="251" y="264"/>
                      </a:lnTo>
                      <a:lnTo>
                        <a:pt x="234" y="283"/>
                      </a:lnTo>
                      <a:lnTo>
                        <a:pt x="215" y="291"/>
                      </a:lnTo>
                      <a:lnTo>
                        <a:pt x="177" y="266"/>
                      </a:lnTo>
                      <a:lnTo>
                        <a:pt x="137" y="218"/>
                      </a:lnTo>
                      <a:lnTo>
                        <a:pt x="99" y="178"/>
                      </a:lnTo>
                      <a:lnTo>
                        <a:pt x="59" y="146"/>
                      </a:lnTo>
                      <a:lnTo>
                        <a:pt x="8" y="114"/>
                      </a:lnTo>
                      <a:lnTo>
                        <a:pt x="0" y="85"/>
                      </a:lnTo>
                      <a:lnTo>
                        <a:pt x="29" y="76"/>
                      </a:lnTo>
                      <a:lnTo>
                        <a:pt x="29" y="76"/>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466" name=""/>
                <p:cNvSpPr/>
                <p:nvPr/>
              </p:nvSpPr>
              <p:spPr>
                <a:xfrm>
                  <a:off x="8016120" y="5981760"/>
                  <a:ext cx="57960" cy="29880"/>
                </a:xfrm>
                <a:custGeom>
                  <a:avLst/>
                  <a:gdLst/>
                  <a:ahLst/>
                  <a:rect l="l" t="t" r="r" b="b"/>
                  <a:pathLst>
                    <a:path w="374" h="253">
                      <a:moveTo>
                        <a:pt x="30" y="10"/>
                      </a:moveTo>
                      <a:lnTo>
                        <a:pt x="66" y="86"/>
                      </a:lnTo>
                      <a:lnTo>
                        <a:pt x="87" y="120"/>
                      </a:lnTo>
                      <a:lnTo>
                        <a:pt x="112" y="152"/>
                      </a:lnTo>
                      <a:lnTo>
                        <a:pt x="171" y="124"/>
                      </a:lnTo>
                      <a:lnTo>
                        <a:pt x="228" y="101"/>
                      </a:lnTo>
                      <a:lnTo>
                        <a:pt x="353" y="57"/>
                      </a:lnTo>
                      <a:lnTo>
                        <a:pt x="374" y="67"/>
                      </a:lnTo>
                      <a:lnTo>
                        <a:pt x="365" y="88"/>
                      </a:lnTo>
                      <a:lnTo>
                        <a:pt x="298" y="120"/>
                      </a:lnTo>
                      <a:lnTo>
                        <a:pt x="243" y="158"/>
                      </a:lnTo>
                      <a:lnTo>
                        <a:pt x="192" y="198"/>
                      </a:lnTo>
                      <a:lnTo>
                        <a:pt x="163" y="221"/>
                      </a:lnTo>
                      <a:lnTo>
                        <a:pt x="133" y="243"/>
                      </a:lnTo>
                      <a:lnTo>
                        <a:pt x="104" y="253"/>
                      </a:lnTo>
                      <a:lnTo>
                        <a:pt x="78" y="240"/>
                      </a:lnTo>
                      <a:lnTo>
                        <a:pt x="44" y="190"/>
                      </a:lnTo>
                      <a:lnTo>
                        <a:pt x="28" y="137"/>
                      </a:lnTo>
                      <a:lnTo>
                        <a:pt x="0" y="23"/>
                      </a:lnTo>
                      <a:lnTo>
                        <a:pt x="9" y="0"/>
                      </a:lnTo>
                      <a:lnTo>
                        <a:pt x="30" y="10"/>
                      </a:lnTo>
                      <a:lnTo>
                        <a:pt x="30"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67" name=""/>
                <p:cNvSpPr/>
                <p:nvPr/>
              </p:nvSpPr>
              <p:spPr>
                <a:xfrm>
                  <a:off x="7794360" y="5954400"/>
                  <a:ext cx="108000" cy="132480"/>
                </a:xfrm>
                <a:custGeom>
                  <a:avLst/>
                  <a:gdLst/>
                  <a:ahLst/>
                  <a:rect l="l" t="t" r="r" b="b"/>
                  <a:pathLst>
                    <a:path w="696" h="1112">
                      <a:moveTo>
                        <a:pt x="679" y="33"/>
                      </a:moveTo>
                      <a:lnTo>
                        <a:pt x="603" y="46"/>
                      </a:lnTo>
                      <a:lnTo>
                        <a:pt x="540" y="80"/>
                      </a:lnTo>
                      <a:lnTo>
                        <a:pt x="481" y="128"/>
                      </a:lnTo>
                      <a:lnTo>
                        <a:pt x="451" y="152"/>
                      </a:lnTo>
                      <a:lnTo>
                        <a:pt x="417" y="177"/>
                      </a:lnTo>
                      <a:lnTo>
                        <a:pt x="348" y="226"/>
                      </a:lnTo>
                      <a:lnTo>
                        <a:pt x="320" y="253"/>
                      </a:lnTo>
                      <a:lnTo>
                        <a:pt x="293" y="282"/>
                      </a:lnTo>
                      <a:lnTo>
                        <a:pt x="247" y="341"/>
                      </a:lnTo>
                      <a:lnTo>
                        <a:pt x="209" y="403"/>
                      </a:lnTo>
                      <a:lnTo>
                        <a:pt x="179" y="472"/>
                      </a:lnTo>
                      <a:lnTo>
                        <a:pt x="150" y="544"/>
                      </a:lnTo>
                      <a:lnTo>
                        <a:pt x="124" y="624"/>
                      </a:lnTo>
                      <a:lnTo>
                        <a:pt x="97" y="705"/>
                      </a:lnTo>
                      <a:lnTo>
                        <a:pt x="46" y="1095"/>
                      </a:lnTo>
                      <a:lnTo>
                        <a:pt x="31" y="1112"/>
                      </a:lnTo>
                      <a:lnTo>
                        <a:pt x="13" y="1099"/>
                      </a:lnTo>
                      <a:lnTo>
                        <a:pt x="0" y="681"/>
                      </a:lnTo>
                      <a:lnTo>
                        <a:pt x="31" y="588"/>
                      </a:lnTo>
                      <a:lnTo>
                        <a:pt x="61" y="502"/>
                      </a:lnTo>
                      <a:lnTo>
                        <a:pt x="93" y="420"/>
                      </a:lnTo>
                      <a:lnTo>
                        <a:pt x="129" y="344"/>
                      </a:lnTo>
                      <a:lnTo>
                        <a:pt x="150" y="310"/>
                      </a:lnTo>
                      <a:lnTo>
                        <a:pt x="171" y="274"/>
                      </a:lnTo>
                      <a:lnTo>
                        <a:pt x="196" y="242"/>
                      </a:lnTo>
                      <a:lnTo>
                        <a:pt x="223" y="209"/>
                      </a:lnTo>
                      <a:lnTo>
                        <a:pt x="253" y="179"/>
                      </a:lnTo>
                      <a:lnTo>
                        <a:pt x="285" y="149"/>
                      </a:lnTo>
                      <a:lnTo>
                        <a:pt x="321" y="120"/>
                      </a:lnTo>
                      <a:lnTo>
                        <a:pt x="361" y="93"/>
                      </a:lnTo>
                      <a:lnTo>
                        <a:pt x="401" y="69"/>
                      </a:lnTo>
                      <a:lnTo>
                        <a:pt x="437" y="48"/>
                      </a:lnTo>
                      <a:lnTo>
                        <a:pt x="512" y="19"/>
                      </a:lnTo>
                      <a:lnTo>
                        <a:pt x="679" y="0"/>
                      </a:lnTo>
                      <a:lnTo>
                        <a:pt x="696" y="15"/>
                      </a:lnTo>
                      <a:lnTo>
                        <a:pt x="692" y="27"/>
                      </a:lnTo>
                      <a:lnTo>
                        <a:pt x="679" y="33"/>
                      </a:lnTo>
                      <a:lnTo>
                        <a:pt x="679"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68" name=""/>
            <p:cNvSpPr/>
            <p:nvPr/>
          </p:nvSpPr>
          <p:spPr>
            <a:xfrm flipV="1">
              <a:off x="1981080" y="5791320"/>
              <a:ext cx="0" cy="304560"/>
            </a:xfrm>
            <a:prstGeom prst="line">
              <a:avLst/>
            </a:prstGeom>
            <a:ln w="9360">
              <a:solidFill>
                <a:srgbClr val="57a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69" name="PlaceHolder 1"/>
          <p:cNvSpPr>
            <a:spLocks noGrp="1"/>
          </p:cNvSpPr>
          <p:nvPr>
            <p:ph type="title"/>
          </p:nvPr>
        </p:nvSpPr>
        <p:spPr>
          <a:xfrm>
            <a:off x="1041480" y="25560"/>
            <a:ext cx="7772400" cy="9950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Tahoma"/>
              </a:rPr>
              <a:t>Proceso en Papel</a:t>
            </a:r>
            <a:endParaRPr b="1" lang="en-US" sz="2800" spc="-1" strike="noStrike">
              <a:solidFill>
                <a:srgbClr val="ffffff"/>
              </a:solidFill>
              <a:latin typeface="Tahoma"/>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2T16:00:09Z</dcterms:created>
  <dc:creator>Norberto Marinelli</dc:creator>
  <dc:description/>
  <dc:language>en-US</dc:language>
  <cp:lastModifiedBy>pagina</cp:lastModifiedBy>
  <dcterms:modified xsi:type="dcterms:W3CDTF">2003-11-26T19:31:19Z</dcterms:modified>
  <cp:revision>43</cp:revision>
  <dc:subject/>
  <dc:title>Cereal Exchanges Winning Solution</dc:title>
</cp:coreProperties>
</file>