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9.png" ContentType="image/png"/>
  <Override PartName="/ppt/media/image39.png" ContentType="image/png"/>
  <Override PartName="/ppt/media/image13.wmf" ContentType="image/x-wmf"/>
  <Override PartName="/ppt/media/image30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3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28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38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.wmf" ContentType="image/x-wmf"/>
  <Override PartName="/ppt/media/image20.png" ContentType="image/png"/>
  <Override PartName="/ppt/media/image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E1DB-7201-42F8-B4EE-AD599278B4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B099-6047-4A34-BDB9-422196249F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F4F0-6097-49FA-BF11-1F330EC09B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DF32-6951-4B6A-B891-08415FE183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C359-722F-4DEC-9EF4-3CD619F6C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7C4C-3806-4058-AFB8-3A4639E4FB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1596-786C-4B62-A843-E42368B88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EE7C-2507-40F0-8A39-D3BFE3C625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3843-4E6C-479D-8151-760C1BE16E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4296-6502-4A07-8406-38DEEF5E55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D575-0AEF-4772-9265-8B00AE1168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948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9712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948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9712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3CB2-B08E-44F2-97CC-C7D771E17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5560"/>
            <a:ext cx="777240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416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416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148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S-Template-Part1.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85000"/>
              </a:lnSpc>
              <a:spcBef>
                <a:spcPts val="1950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85000"/>
              </a:lnSpc>
              <a:spcBef>
                <a:spcPts val="1950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57A-B59B-4238-88E9-42BA013BB20E}" type="slidenum">
              <a:rPr b="0" lang="en-US" sz="1000" spc="-1" strike="noStrike">
                <a:solidFill>
                  <a:srgbClr val="57a0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87320" y="6659280"/>
            <a:ext cx="756936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57a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7a0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S-Template-Part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583920" y="6486120"/>
            <a:ext cx="4474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a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C5B-D57C-4EFA-BF51-6624A4C42A2E}" type="slidenum">
              <a:rPr b="0" lang="en-US" sz="1000" spc="-1" strike="noStrike">
                <a:solidFill>
                  <a:srgbClr val="57a0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lnSpc>
                <a:spcPct val="85000"/>
              </a:lnSpc>
              <a:spcBef>
                <a:spcPts val="751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  <a:p>
            <a:pPr lvl="4" marL="1828800" algn="ctr">
              <a:lnSpc>
                <a:spcPct val="85000"/>
              </a:lnSpc>
              <a:spcBef>
                <a:spcPts val="751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23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0381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Situación actual</a:t>
            </a:r>
            <a:br>
              <a:rPr sz="2600"/>
            </a:br>
            <a:br>
              <a:rPr sz="2600"/>
            </a:b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Ejemplos de Aplicación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3040" y="4484160"/>
            <a:ext cx="7413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"/>
          <p:cNvSpPr/>
          <p:nvPr/>
        </p:nvSpPr>
        <p:spPr>
          <a:xfrm>
            <a:off x="1525680" y="5943600"/>
            <a:ext cx="7413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Garamond"/>
              </a:rPr>
              <a:t>Norberto Marinel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Garamond"/>
              </a:rPr>
              <a:t>CEO - CertiSur S.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5840" y="1676520"/>
            <a:ext cx="451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mas Digi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ertificados Digi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M05" descr=""/>
          <p:cNvPicPr/>
          <p:nvPr/>
        </p:nvPicPr>
        <p:blipFill>
          <a:blip r:embed="rId1"/>
          <a:stretch/>
        </p:blipFill>
        <p:spPr>
          <a:xfrm>
            <a:off x="1447920" y="1511280"/>
            <a:ext cx="7619760" cy="52704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Firma en un Correo Electrón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SM06" descr=""/>
          <p:cNvPicPr/>
          <p:nvPr/>
        </p:nvPicPr>
        <p:blipFill>
          <a:blip r:embed="rId2"/>
          <a:stretch/>
        </p:blipFill>
        <p:spPr>
          <a:xfrm>
            <a:off x="4343400" y="2655720"/>
            <a:ext cx="4321080" cy="4125960"/>
          </a:xfrm>
          <a:prstGeom prst="rect">
            <a:avLst/>
          </a:prstGeom>
          <a:ln w="0">
            <a:noFill/>
          </a:ln>
        </p:spPr>
      </p:pic>
      <p:pic>
        <p:nvPicPr>
          <p:cNvPr id="143" name="VC01" descr=""/>
          <p:cNvPicPr/>
          <p:nvPr/>
        </p:nvPicPr>
        <p:blipFill>
          <a:blip r:embed="rId3"/>
          <a:stretch/>
        </p:blipFill>
        <p:spPr>
          <a:xfrm>
            <a:off x="2743200" y="1341360"/>
            <a:ext cx="4686480" cy="5440320"/>
          </a:xfrm>
          <a:prstGeom prst="rect">
            <a:avLst/>
          </a:prstGeom>
          <a:ln w="0">
            <a:noFill/>
          </a:ln>
        </p:spPr>
      </p:pic>
      <p:pic>
        <p:nvPicPr>
          <p:cNvPr id="144" name="VC03" descr=""/>
          <p:cNvPicPr/>
          <p:nvPr/>
        </p:nvPicPr>
        <p:blipFill>
          <a:blip r:embed="rId4"/>
          <a:stretch/>
        </p:blipFill>
        <p:spPr>
          <a:xfrm>
            <a:off x="2743200" y="1341360"/>
            <a:ext cx="4686480" cy="5440320"/>
          </a:xfrm>
          <a:prstGeom prst="rect">
            <a:avLst/>
          </a:prstGeom>
          <a:ln w="0">
            <a:noFill/>
          </a:ln>
        </p:spPr>
      </p:pic>
      <p:pic>
        <p:nvPicPr>
          <p:cNvPr id="145" name="VC02" descr=""/>
          <p:cNvPicPr/>
          <p:nvPr/>
        </p:nvPicPr>
        <p:blipFill>
          <a:blip r:embed="rId5"/>
          <a:stretch/>
        </p:blipFill>
        <p:spPr>
          <a:xfrm>
            <a:off x="2743200" y="1341360"/>
            <a:ext cx="4686480" cy="5440320"/>
          </a:xfrm>
          <a:prstGeom prst="rect">
            <a:avLst/>
          </a:prstGeom>
          <a:ln w="0">
            <a:noFill/>
          </a:ln>
        </p:spPr>
      </p:pic>
      <p:pic>
        <p:nvPicPr>
          <p:cNvPr id="146" name="BD05502_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137160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FirmaPDF0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48" name="FirmaPDF1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FirmaPDF2" descr=""/>
          <p:cNvPicPr/>
          <p:nvPr/>
        </p:nvPicPr>
        <p:blipFill>
          <a:blip r:embed="rId3"/>
          <a:stretch/>
        </p:blipFill>
        <p:spPr>
          <a:xfrm>
            <a:off x="2895480" y="3276720"/>
            <a:ext cx="4721400" cy="1382760"/>
          </a:xfrm>
          <a:prstGeom prst="rect">
            <a:avLst/>
          </a:prstGeom>
          <a:ln w="0">
            <a:noFill/>
          </a:ln>
        </p:spPr>
      </p:pic>
      <p:pic>
        <p:nvPicPr>
          <p:cNvPr id="150" name="FirmaPDF3" descr=""/>
          <p:cNvPicPr/>
          <p:nvPr/>
        </p:nvPicPr>
        <p:blipFill>
          <a:blip r:embed="rId4"/>
          <a:stretch/>
        </p:blipFill>
        <p:spPr>
          <a:xfrm>
            <a:off x="2895480" y="2438280"/>
            <a:ext cx="4724640" cy="2963880"/>
          </a:xfrm>
          <a:prstGeom prst="rect">
            <a:avLst/>
          </a:prstGeom>
          <a:ln w="0">
            <a:noFill/>
          </a:ln>
        </p:spPr>
      </p:pic>
      <p:pic>
        <p:nvPicPr>
          <p:cNvPr id="151" name="FirmaPDF5" descr=""/>
          <p:cNvPicPr/>
          <p:nvPr/>
        </p:nvPicPr>
        <p:blipFill>
          <a:blip r:embed="rId5"/>
          <a:stretch/>
        </p:blipFill>
        <p:spPr>
          <a:xfrm>
            <a:off x="2514600" y="2286000"/>
            <a:ext cx="5235480" cy="3121200"/>
          </a:xfrm>
          <a:prstGeom prst="rect">
            <a:avLst/>
          </a:prstGeom>
          <a:ln w="0">
            <a:noFill/>
          </a:ln>
        </p:spPr>
      </p:pic>
      <p:pic>
        <p:nvPicPr>
          <p:cNvPr id="152" name="FirmaPDF7" descr=""/>
          <p:cNvPicPr/>
          <p:nvPr/>
        </p:nvPicPr>
        <p:blipFill>
          <a:blip r:embed="rId6"/>
          <a:stretch/>
        </p:blipFill>
        <p:spPr>
          <a:xfrm>
            <a:off x="3657600" y="2971800"/>
            <a:ext cx="4422600" cy="3132000"/>
          </a:xfrm>
          <a:prstGeom prst="rect">
            <a:avLst/>
          </a:prstGeom>
          <a:ln w="0">
            <a:noFill/>
          </a:ln>
        </p:spPr>
      </p:pic>
      <p:pic>
        <p:nvPicPr>
          <p:cNvPr id="153" name="FirmaPDF8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54" name="FirmaPDF9" descr=""/>
          <p:cNvPicPr/>
          <p:nvPr/>
        </p:nvPicPr>
        <p:blipFill>
          <a:blip r:embed="rId8"/>
          <a:stretch/>
        </p:blipFill>
        <p:spPr>
          <a:xfrm>
            <a:off x="1371600" y="1066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Firma de Documento Acrobat PDF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BD05502_" descr=""/>
          <p:cNvPicPr/>
          <p:nvPr/>
        </p:nvPicPr>
        <p:blipFill>
          <a:blip r:embed="rId9"/>
          <a:stretch/>
        </p:blipFill>
        <p:spPr>
          <a:xfrm>
            <a:off x="228600" y="1219320"/>
            <a:ext cx="1371600" cy="123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ndencias Significativ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cc00"/>
                </a:solidFill>
                <a:latin typeface="Arial"/>
              </a:rPr>
              <a:t>PKI corporativa versus Solución de Seguridad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638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Arial"/>
              </a:rPr>
              <a:t>Las soluciones de seguridad basadas en PKI simples son preferidas a grandes PKI que cubran toda la organización. Importante cambio de orientación respecto de lo sucedido hasta ahora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cc00"/>
                </a:solidFill>
                <a:latin typeface="Arial"/>
              </a:rPr>
              <a:t>In-house versus Outsourcing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Arial"/>
              </a:rPr>
              <a:t>Debido a los altos costos de implementación, la mayor parte de las organizaciones han optado por tercerizar el procesamiento de su PKI en un CSP (Certificate Service Provider). Principales razones: inversión inicial, pérdida de foco al utilizar la tecnología, interoperabilidad, adaptación legal y actualización tecnológica.</a:t>
            </a:r>
            <a:r>
              <a:rPr b="1" i="1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cc00"/>
                </a:solidFill>
                <a:latin typeface="Arial"/>
              </a:rPr>
              <a:t>Aplicaciones que soportan tecnología PKI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75000"/>
              </a:lnSpc>
              <a:spcBef>
                <a:spcPts val="638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Arial"/>
              </a:rPr>
              <a:t>Las organizaciones tienden a prestar más atención a las aplicaciones que soportan y utilizan la tecnología en lugar de destinar recursos internos al desarrollo de la tecnología en si mismo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6119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KI Usage within User Organizations”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CAF,EEMA’s Security Interest Group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, Oct 200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Aplicaciones en las que se utiliza PK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304920" y="1143000"/>
          <a:ext cx="93315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143000"/>
                    <a:ext cx="93315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09480" y="6324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KI Usage within User Organizations”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ECAF, EEMA’s Security Interest Group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, Oct 200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¿Dónde aplicar la tecnología?</a:t>
            </a:r>
            <a:br>
              <a:rPr sz="2800"/>
            </a:b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Características de los circuito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1599840"/>
            <a:ext cx="627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álisis Circuito en Papel Actu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pel + copias” versus “Documento Digital”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iempo para completar el circuit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ransporte, Distancias, Movilida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alor de la informació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alor de la pérdida de confidencialidad de la informació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aracterísticas Circuito Digital Propuesto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ecuencia de uso del circuito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antidad de firmante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75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cesarios/requeridos” versus “deseados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horro de Insumo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7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otección de la Información y los acto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514600" y="2819520"/>
            <a:ext cx="4267080" cy="3278160"/>
            <a:chOff x="2514600" y="2819520"/>
            <a:chExt cx="4267080" cy="3278160"/>
          </a:xfrm>
        </p:grpSpPr>
        <p:sp>
          <p:nvSpPr>
            <p:cNvPr id="167" name=""/>
            <p:cNvSpPr/>
            <p:nvPr/>
          </p:nvSpPr>
          <p:spPr>
            <a:xfrm>
              <a:off x="2514600" y="2819520"/>
              <a:ext cx="4267080" cy="320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2280" y="5272200"/>
              <a:ext cx="256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Garamond"/>
                </a:rPr>
                <a:t>Acredita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Garamond"/>
                </a:rPr>
                <a:t>Licenciami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743200" y="2895480"/>
            <a:ext cx="3962160" cy="2532600"/>
            <a:chOff x="2743200" y="2895480"/>
            <a:chExt cx="3962160" cy="2532600"/>
          </a:xfrm>
        </p:grpSpPr>
        <p:sp>
          <p:nvSpPr>
            <p:cNvPr id="170" name=""/>
            <p:cNvSpPr/>
            <p:nvPr/>
          </p:nvSpPr>
          <p:spPr>
            <a:xfrm>
              <a:off x="2743200" y="2895480"/>
              <a:ext cx="3962160" cy="236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4724280"/>
              <a:ext cx="381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Garamond"/>
                </a:rPr>
                <a:t>CPS/Acuerdos/Procedimient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91640" y="1523880"/>
            <a:ext cx="2652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V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(Red Privada Virtu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5880" y="1671480"/>
            <a:ext cx="3416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rreo Seg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(eMail Firmado/Encript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6160" y="4114800"/>
            <a:ext cx="1575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2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(IDENTRU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880" y="2922480"/>
            <a:ext cx="2137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(e-Marketplac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360" y="5911920"/>
            <a:ext cx="2024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G2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(e-Governme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8120" y="5589720"/>
            <a:ext cx="1941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Extr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(Partner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1562040"/>
            <a:ext cx="914400" cy="1638360"/>
          </a:xfrm>
          <a:custGeom>
            <a:avLst/>
            <a:gdLst>
              <a:gd name="textAreaLeft" fmla="*/ 0 w 914400"/>
              <a:gd name="textAreaRight" fmla="*/ 914760 w 9144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586" stAng="10800000" swAng="5400000"/>
                <a:lnTo>
                  <a:pt x="14670" y="1574"/>
                </a:lnTo>
                <a:lnTo>
                  <a:pt x="14670" y="0"/>
                </a:lnTo>
                <a:lnTo>
                  <a:pt x="21600" y="6079"/>
                </a:lnTo>
                <a:lnTo>
                  <a:pt x="14670" y="12158"/>
                </a:lnTo>
                <a:lnTo>
                  <a:pt x="14670" y="10584"/>
                </a:lnTo>
                <a:lnTo>
                  <a:pt x="12427" y="10584"/>
                </a:lnTo>
                <a:arcTo wR="3417" hR="1576" stAng="16200000" swAng="-5400000"/>
                <a:lnTo>
                  <a:pt x="9010" y="21600"/>
                </a:lnTo>
                <a:close/>
              </a:path>
            </a:pathLst>
          </a:custGeom>
          <a:solidFill>
            <a:srgbClr val="57a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6458040" y="4210200"/>
            <a:ext cx="914400" cy="1790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586" stAng="10800000" swAng="5400000"/>
                <a:lnTo>
                  <a:pt x="14670" y="1574"/>
                </a:lnTo>
                <a:lnTo>
                  <a:pt x="14670" y="0"/>
                </a:lnTo>
                <a:lnTo>
                  <a:pt x="21600" y="6079"/>
                </a:lnTo>
                <a:lnTo>
                  <a:pt x="14670" y="12158"/>
                </a:lnTo>
                <a:lnTo>
                  <a:pt x="14670" y="10584"/>
                </a:lnTo>
                <a:lnTo>
                  <a:pt x="12427" y="10584"/>
                </a:lnTo>
                <a:arcTo wR="3417" hR="1576" stAng="16200000" swAng="-5400000"/>
                <a:lnTo>
                  <a:pt x="9010" y="21600"/>
                </a:lnTo>
                <a:close/>
              </a:path>
            </a:pathLst>
          </a:custGeom>
          <a:solidFill>
            <a:srgbClr val="57a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6781680" y="2971800"/>
            <a:ext cx="990720" cy="2209680"/>
          </a:xfrm>
          <a:custGeom>
            <a:avLst/>
            <a:gdLst>
              <a:gd name="textAreaLeft" fmla="*/ 0 w 990720"/>
              <a:gd name="textAreaRight" fmla="*/ 991080 w 990720"/>
              <a:gd name="textAreaTop" fmla="*/ 360 h 2209680"/>
              <a:gd name="textAreaBottom" fmla="*/ 2210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586" stAng="10800000" swAng="5400000"/>
                <a:lnTo>
                  <a:pt x="14670" y="1574"/>
                </a:lnTo>
                <a:lnTo>
                  <a:pt x="14670" y="0"/>
                </a:lnTo>
                <a:lnTo>
                  <a:pt x="21600" y="6079"/>
                </a:lnTo>
                <a:lnTo>
                  <a:pt x="14670" y="12158"/>
                </a:lnTo>
                <a:lnTo>
                  <a:pt x="14670" y="10584"/>
                </a:lnTo>
                <a:lnTo>
                  <a:pt x="12427" y="10584"/>
                </a:lnTo>
                <a:arcTo wR="3417" hR="1576" stAng="16200000" swAng="-5400000"/>
                <a:lnTo>
                  <a:pt x="9010" y="21600"/>
                </a:lnTo>
                <a:close/>
              </a:path>
            </a:pathLst>
          </a:custGeom>
          <a:solidFill>
            <a:srgbClr val="57a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2590920" y="5486400"/>
            <a:ext cx="1218960" cy="9907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586" stAng="10800000" swAng="5400000"/>
                <a:lnTo>
                  <a:pt x="14670" y="1574"/>
                </a:lnTo>
                <a:lnTo>
                  <a:pt x="14670" y="0"/>
                </a:lnTo>
                <a:lnTo>
                  <a:pt x="21600" y="6079"/>
                </a:lnTo>
                <a:lnTo>
                  <a:pt x="14670" y="12158"/>
                </a:lnTo>
                <a:lnTo>
                  <a:pt x="14670" y="10584"/>
                </a:lnTo>
                <a:lnTo>
                  <a:pt x="12427" y="10584"/>
                </a:lnTo>
                <a:arcTo wR="3417" hR="1576" stAng="16200000" swAng="-5400000"/>
                <a:lnTo>
                  <a:pt x="9010" y="21600"/>
                </a:lnTo>
                <a:close/>
              </a:path>
            </a:pathLst>
          </a:cu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Certificado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2438280" cy="1587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H="1">
            <a:off x="3123360" y="1371600"/>
            <a:ext cx="1143000" cy="213372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586" stAng="10800000" swAng="5400000"/>
                <a:lnTo>
                  <a:pt x="14670" y="1574"/>
                </a:lnTo>
                <a:lnTo>
                  <a:pt x="14670" y="0"/>
                </a:lnTo>
                <a:lnTo>
                  <a:pt x="21600" y="6079"/>
                </a:lnTo>
                <a:lnTo>
                  <a:pt x="14670" y="12158"/>
                </a:lnTo>
                <a:lnTo>
                  <a:pt x="14670" y="10584"/>
                </a:lnTo>
                <a:lnTo>
                  <a:pt x="12427" y="10584"/>
                </a:lnTo>
                <a:arcTo wR="3417" hR="1576" stAng="16200000" swAng="-5400000"/>
                <a:lnTo>
                  <a:pt x="9010" y="21600"/>
                </a:lnTo>
                <a:close/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1371600" y="2590920"/>
            <a:ext cx="990720" cy="2209680"/>
          </a:xfrm>
          <a:custGeom>
            <a:avLst/>
            <a:gdLst>
              <a:gd name="textAreaLeft" fmla="*/ 0 w 990720"/>
              <a:gd name="textAreaRight" fmla="*/ 991080 w 990720"/>
              <a:gd name="textAreaTop" fmla="*/ 360 h 2209680"/>
              <a:gd name="textAreaBottom" fmla="*/ 2210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586" stAng="10800000" swAng="5400000"/>
                <a:lnTo>
                  <a:pt x="14670" y="1574"/>
                </a:lnTo>
                <a:lnTo>
                  <a:pt x="14670" y="0"/>
                </a:lnTo>
                <a:lnTo>
                  <a:pt x="21600" y="6079"/>
                </a:lnTo>
                <a:lnTo>
                  <a:pt x="14670" y="12158"/>
                </a:lnTo>
                <a:lnTo>
                  <a:pt x="14670" y="10584"/>
                </a:lnTo>
                <a:lnTo>
                  <a:pt x="12427" y="10584"/>
                </a:lnTo>
                <a:arcTo wR="3417" hR="1576" stAng="16200000" swAng="-5400000"/>
                <a:lnTo>
                  <a:pt x="9010" y="21600"/>
                </a:lnTo>
                <a:close/>
              </a:path>
            </a:pathLst>
          </a:custGeom>
          <a:solidFill>
            <a:srgbClr val="57a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Requerimientos Legal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5560"/>
            <a:ext cx="807732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xigencias de Seguridad en el Mundo Digital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Confidencialidad/Privacidad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Autenticació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Integridad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No repudio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Interoperabilidad/Universalidad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En el 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undo físico</a:t>
            </a: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 tenemos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Un </a:t>
            </a:r>
            <a:r>
              <a:rPr b="1" i="1" lang="es-ES_tradnl" sz="2200" spc="-1" strike="noStrike">
                <a:solidFill>
                  <a:srgbClr val="57a0ff"/>
                </a:solidFill>
                <a:latin typeface="Garamond"/>
              </a:rPr>
              <a:t>garabato</a:t>
            </a: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 que solamente nosotros podemos generar (nuestra firma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Un documento (DNI, Tarjeta, Carnet…) que dice quién somos y que nos relaciona con nuestro </a:t>
            </a:r>
            <a:r>
              <a:rPr b="0" i="1" lang="es-ES_tradnl" sz="2200" spc="-1" strike="noStrike">
                <a:solidFill>
                  <a:srgbClr val="ffffff"/>
                </a:solidFill>
                <a:latin typeface="Garamond"/>
              </a:rPr>
              <a:t>garabat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Y en el 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undo digital</a:t>
            </a: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, ¿Qué podemos utilizar?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" name="HH01633_" descr=""/>
          <p:cNvPicPr/>
          <p:nvPr/>
        </p:nvPicPr>
        <p:blipFill>
          <a:blip r:embed="rId1"/>
          <a:stretch/>
        </p:blipFill>
        <p:spPr>
          <a:xfrm>
            <a:off x="7375680" y="2057400"/>
            <a:ext cx="1768320" cy="1535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Identificación y Fir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4720" y="6256440"/>
            <a:ext cx="2914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295280"/>
            <a:ext cx="4800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Son Credenciales Electró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rchivos espe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irmados para ser proteg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Emitidos por una Autoridad Certific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ra una comunidad cerrada o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Proveen confianza 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Verificar la identidad del tit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ermitir la privacidad en las comun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rear un modelo articulado legalmente (que traspasa las fronteras polític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114800"/>
            <a:ext cx="2743200" cy="4582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fff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Times New Roman"/>
              </a:rPr>
              <a:t>Certificado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ertificado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971800" cy="2127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Certificado Digit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981080"/>
          <a:ext cx="6629400" cy="3886200"/>
        </p:xfrm>
        <a:graphic>
          <a:graphicData uri="http://schemas.openxmlformats.org/drawingml/2006/table">
            <a:tbl>
              <a:tblPr/>
              <a:tblGrid>
                <a:gridCol w="2209680"/>
                <a:gridCol w="2210040"/>
                <a:gridCol w="22096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ísico/Pap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g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ve Priv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cumento identifica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ertific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ma Dig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2743200" y="2286000"/>
            <a:ext cx="2590560" cy="952560"/>
            <a:chOff x="2743200" y="2286000"/>
            <a:chExt cx="2590560" cy="952560"/>
          </a:xfrm>
        </p:grpSpPr>
        <p:pic>
          <p:nvPicPr>
            <p:cNvPr id="97" name="BS00996_" descr=""/>
            <p:cNvPicPr/>
            <p:nvPr/>
          </p:nvPicPr>
          <p:blipFill>
            <a:blip r:embed="rId1"/>
            <a:stretch/>
          </p:blipFill>
          <p:spPr>
            <a:xfrm>
              <a:off x="4190760" y="2438280"/>
              <a:ext cx="114300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BS01184_" descr=""/>
            <p:cNvPicPr/>
            <p:nvPr/>
          </p:nvPicPr>
          <p:blipFill>
            <a:blip r:embed="rId2"/>
            <a:stretch/>
          </p:blipFill>
          <p:spPr>
            <a:xfrm>
              <a:off x="2743200" y="2286000"/>
              <a:ext cx="106668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2795760" y="3581280"/>
            <a:ext cx="2538360" cy="812880"/>
            <a:chOff x="2795760" y="3581280"/>
            <a:chExt cx="2538360" cy="812880"/>
          </a:xfrm>
        </p:grpSpPr>
        <p:pic>
          <p:nvPicPr>
            <p:cNvPr id="100" name="PH02737J" descr=""/>
            <p:cNvPicPr/>
            <p:nvPr/>
          </p:nvPicPr>
          <p:blipFill>
            <a:blip r:embed="rId3"/>
            <a:stretch/>
          </p:blipFill>
          <p:spPr>
            <a:xfrm>
              <a:off x="2795760" y="3581280"/>
              <a:ext cx="12189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Certificado" descr=""/>
            <p:cNvPicPr/>
            <p:nvPr/>
          </p:nvPicPr>
          <p:blipFill>
            <a:blip r:embed="rId4"/>
            <a:stretch/>
          </p:blipFill>
          <p:spPr>
            <a:xfrm>
              <a:off x="4243320" y="3630600"/>
              <a:ext cx="1090800" cy="70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2666880" y="5029200"/>
            <a:ext cx="2666880" cy="717120"/>
            <a:chOff x="2666880" y="5029200"/>
            <a:chExt cx="2666880" cy="717120"/>
          </a:xfrm>
        </p:grpSpPr>
        <p:pic>
          <p:nvPicPr>
            <p:cNvPr id="103" name="WB01744_" descr=""/>
            <p:cNvPicPr/>
            <p:nvPr/>
          </p:nvPicPr>
          <p:blipFill>
            <a:blip r:embed="rId5"/>
            <a:stretch/>
          </p:blipFill>
          <p:spPr>
            <a:xfrm>
              <a:off x="2666880" y="5029200"/>
              <a:ext cx="1295280" cy="6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190760" y="5105160"/>
              <a:ext cx="1143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KoZIhvcNAQEBBQADgY0AMIGJAoGBALeW+SNQZs//oT35kePjcMHx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" name="Borde%20Imagen%20Template%2006" descr=""/>
          <p:cNvPicPr/>
          <p:nvPr/>
        </p:nvPicPr>
        <p:blipFill>
          <a:blip r:embed="rId6"/>
          <a:stretch/>
        </p:blipFill>
        <p:spPr>
          <a:xfrm>
            <a:off x="7284960" y="1066680"/>
            <a:ext cx="1859040" cy="5791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Comparando..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733920" cy="25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943600" y="5029200"/>
            <a:ext cx="2971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dd39"/>
                </a:solidFill>
                <a:latin typeface="Tahoma"/>
              </a:rPr>
              <a:t>Emisión de Certific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981080"/>
            <a:ext cx="2971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fraestruc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dd39"/>
                </a:solidFill>
                <a:latin typeface="Tahoma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dd39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dd39"/>
                </a:solidFill>
                <a:latin typeface="Tahoma"/>
              </a:rPr>
              <a:t>Instal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98108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riptografía &amp; Estánd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d6d6"/>
                </a:solidFill>
                <a:latin typeface="Tahoma"/>
              </a:rPr>
              <a:t>Simétrica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d6d6"/>
                </a:solidFill>
                <a:latin typeface="Tahoma"/>
              </a:rPr>
              <a:t>Asimétrica y X.5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800600"/>
            <a:ext cx="2682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Legis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d6d6"/>
                </a:solidFill>
                <a:latin typeface="Tahoma"/>
              </a:rPr>
              <a:t>CP y Lice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dd39"/>
                </a:solidFill>
                <a:latin typeface="Tahoma"/>
              </a:rPr>
              <a:t>Responsabilidades &amp; Oblig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S00554_" descr=""/>
          <p:cNvPicPr/>
          <p:nvPr/>
        </p:nvPicPr>
        <p:blipFill>
          <a:blip r:embed="rId2"/>
          <a:stretch/>
        </p:blipFill>
        <p:spPr>
          <a:xfrm>
            <a:off x="2971800" y="5318280"/>
            <a:ext cx="1676520" cy="1463400"/>
          </a:xfrm>
          <a:prstGeom prst="rect">
            <a:avLst/>
          </a:prstGeom>
          <a:ln w="0">
            <a:noFill/>
          </a:ln>
        </p:spPr>
      </p:pic>
      <p:pic>
        <p:nvPicPr>
          <p:cNvPr id="113" name="PE01561_" descr=""/>
          <p:cNvPicPr/>
          <p:nvPr/>
        </p:nvPicPr>
        <p:blipFill>
          <a:blip r:embed="rId3"/>
          <a:stretch/>
        </p:blipFill>
        <p:spPr>
          <a:xfrm>
            <a:off x="6927840" y="3733920"/>
            <a:ext cx="1987560" cy="1319040"/>
          </a:xfrm>
          <a:prstGeom prst="rect">
            <a:avLst/>
          </a:prstGeom>
          <a:ln w="0">
            <a:noFill/>
          </a:ln>
        </p:spPr>
      </p:pic>
      <p:pic>
        <p:nvPicPr>
          <p:cNvPr id="114" name="BL00381_" descr=""/>
          <p:cNvPicPr/>
          <p:nvPr/>
        </p:nvPicPr>
        <p:blipFill>
          <a:blip r:embed="rId4"/>
          <a:stretch/>
        </p:blipFill>
        <p:spPr>
          <a:xfrm>
            <a:off x="3886200" y="1600200"/>
            <a:ext cx="2057400" cy="1150920"/>
          </a:xfrm>
          <a:prstGeom prst="rect">
            <a:avLst/>
          </a:prstGeom>
          <a:ln w="0">
            <a:noFill/>
          </a:ln>
        </p:spPr>
      </p:pic>
      <p:pic>
        <p:nvPicPr>
          <p:cNvPr id="115" name="PE01562_" descr=""/>
          <p:cNvPicPr/>
          <p:nvPr/>
        </p:nvPicPr>
        <p:blipFill>
          <a:blip r:embed="rId5"/>
          <a:stretch/>
        </p:blipFill>
        <p:spPr>
          <a:xfrm>
            <a:off x="838080" y="327672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CERTIFIC" descr=""/>
          <p:cNvPicPr/>
          <p:nvPr/>
        </p:nvPicPr>
        <p:blipFill>
          <a:blip r:embed="rId6"/>
          <a:stretch/>
        </p:blipFill>
        <p:spPr>
          <a:xfrm>
            <a:off x="1219320" y="3505320"/>
            <a:ext cx="838080" cy="54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762120" y="1447920"/>
            <a:ext cx="8153280" cy="518148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Verdana"/>
              </a:rPr>
              <a:t>USOS DEL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Verdana"/>
              </a:rPr>
              <a:t>CERTIFICAD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Verdana"/>
              </a:rPr>
              <a:t>DIGIT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PKI - Element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0" y="1447560"/>
            <a:ext cx="57657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Identificar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Sitio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Persona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Usos del Certificad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b5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078200" cy="1089000"/>
          </a:xfrm>
          <a:prstGeom prst="rect">
            <a:avLst/>
          </a:prstGeom>
          <a:ln w="0">
            <a:noFill/>
          </a:ln>
        </p:spPr>
      </p:pic>
      <p:pic>
        <p:nvPicPr>
          <p:cNvPr id="122" name="b6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1078200" cy="1089000"/>
          </a:xfrm>
          <a:prstGeom prst="rect">
            <a:avLst/>
          </a:prstGeom>
          <a:ln w="0">
            <a:noFill/>
          </a:ln>
        </p:spPr>
      </p:pic>
      <p:pic>
        <p:nvPicPr>
          <p:cNvPr id="123" name="b7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0782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3200400"/>
            <a:ext cx="3505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Fir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Documentos Digit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Comunica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5105520"/>
            <a:ext cx="57657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Encrip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Garamond"/>
              </a:rPr>
              <a:t>Comunicaciones y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URL%20IE_f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2666880" cy="419400"/>
          </a:xfrm>
          <a:prstGeom prst="rect">
            <a:avLst/>
          </a:prstGeom>
          <a:ln w="0">
            <a:noFill/>
          </a:ln>
        </p:spPr>
      </p:pic>
      <p:pic>
        <p:nvPicPr>
          <p:cNvPr id="127" name="Candado%20Netscape_f" descr=""/>
          <p:cNvPicPr/>
          <p:nvPr/>
        </p:nvPicPr>
        <p:blipFill>
          <a:blip r:embed="rId5"/>
          <a:stretch/>
        </p:blipFill>
        <p:spPr>
          <a:xfrm>
            <a:off x="6019920" y="1981080"/>
            <a:ext cx="1143000" cy="536760"/>
          </a:xfrm>
          <a:prstGeom prst="rect">
            <a:avLst/>
          </a:prstGeom>
          <a:ln w="0">
            <a:noFill/>
          </a:ln>
        </p:spPr>
      </p:pic>
      <p:pic>
        <p:nvPicPr>
          <p:cNvPr id="128" name="CertiSurSealTrans" descr=""/>
          <p:cNvPicPr/>
          <p:nvPr/>
        </p:nvPicPr>
        <p:blipFill>
          <a:blip r:embed="rId6"/>
          <a:stretch/>
        </p:blipFill>
        <p:spPr>
          <a:xfrm>
            <a:off x="7848720" y="1523880"/>
            <a:ext cx="71748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PTASIGN" descr=""/>
          <p:cNvPicPr/>
          <p:nvPr/>
        </p:nvPicPr>
        <p:blipFill>
          <a:blip r:embed="rId7"/>
          <a:stretch/>
        </p:blipFill>
        <p:spPr>
          <a:xfrm>
            <a:off x="5791320" y="2971800"/>
            <a:ext cx="1476360" cy="1398600"/>
          </a:xfrm>
          <a:prstGeom prst="rect">
            <a:avLst/>
          </a:prstGeom>
          <a:ln w="0">
            <a:noFill/>
          </a:ln>
        </p:spPr>
      </p:pic>
      <p:pic>
        <p:nvPicPr>
          <p:cNvPr id="130" name="FirmaPDF9" descr=""/>
          <p:cNvPicPr/>
          <p:nvPr/>
        </p:nvPicPr>
        <p:blipFill>
          <a:blip r:embed="rId8"/>
          <a:stretch/>
        </p:blipFill>
        <p:spPr>
          <a:xfrm>
            <a:off x="6705720" y="34290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131" name="SM05" descr=""/>
          <p:cNvPicPr/>
          <p:nvPr/>
        </p:nvPicPr>
        <p:blipFill>
          <a:blip r:embed="rId9"/>
          <a:stretch/>
        </p:blipFill>
        <p:spPr>
          <a:xfrm>
            <a:off x="7010280" y="2666880"/>
            <a:ext cx="1828800" cy="1263600"/>
          </a:xfrm>
          <a:prstGeom prst="rect">
            <a:avLst/>
          </a:prstGeom>
          <a:ln w="0">
            <a:noFill/>
          </a:ln>
        </p:spPr>
      </p:pic>
      <p:pic>
        <p:nvPicPr>
          <p:cNvPr id="132" name="Integris-Bull" descr=""/>
          <p:cNvPicPr/>
          <p:nvPr/>
        </p:nvPicPr>
        <p:blipFill>
          <a:blip r:embed="rId10"/>
          <a:stretch/>
        </p:blipFill>
        <p:spPr>
          <a:xfrm>
            <a:off x="5943600" y="50292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SM05" descr=""/>
          <p:cNvPicPr/>
          <p:nvPr/>
        </p:nvPicPr>
        <p:blipFill>
          <a:blip r:embed="rId11"/>
          <a:stretch/>
        </p:blipFill>
        <p:spPr>
          <a:xfrm>
            <a:off x="6858000" y="5257800"/>
            <a:ext cx="1828800" cy="126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Lunes..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1120" y="1727280"/>
            <a:ext cx="129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Clarin-Exchange1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65530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Martes..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1727280"/>
            <a:ext cx="129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Clarin-Exchange2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65530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16:00:09Z</dcterms:created>
  <dc:creator>Norberto Marinelli</dc:creator>
  <dc:description/>
  <dc:language>en-US</dc:language>
  <cp:lastModifiedBy>pagina</cp:lastModifiedBy>
  <dcterms:modified xsi:type="dcterms:W3CDTF">2003-11-26T19:30:22Z</dcterms:modified>
  <cp:revision>42</cp:revision>
  <dc:subject/>
  <dc:title>Cereal Exchanges Winning Solution</dc:title>
</cp:coreProperties>
</file>