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907588"/>
  <p:notesSz cx="6858000" cy="11887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50000">
              <a:srgbClr val="0000ff"/>
            </a:gs>
            <a:gs pos="100000">
              <a:srgbClr val="0000b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6160" y="309600"/>
            <a:ext cx="6564240" cy="929304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303120"/>
            <a:ext cx="6566040" cy="9294840"/>
          </a:xfrm>
          <a:custGeom>
            <a:avLst/>
            <a:gdLst/>
            <a:ahLst/>
            <a:rect l="l" t="t" r="r" b="b"/>
            <a:pathLst>
              <a:path w="4136" h="5853">
                <a:moveTo>
                  <a:pt x="4135" y="0"/>
                </a:moveTo>
                <a:lnTo>
                  <a:pt x="4135" y="5852"/>
                </a:lnTo>
                <a:lnTo>
                  <a:pt x="0" y="5852"/>
                </a:lnTo>
              </a:path>
            </a:pathLst>
          </a:custGeom>
          <a:noFill/>
          <a:ln cap="rnd" w="25560">
            <a:solidFill>
              <a:srgbClr val="aa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1677960"/>
            <a:ext cx="6400800" cy="75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1677960"/>
            <a:ext cx="6402240" cy="7543800"/>
          </a:xfrm>
          <a:custGeom>
            <a:avLst/>
            <a:gdLst/>
            <a:ahLst/>
            <a:rect l="l" t="t" r="r" b="b"/>
            <a:pathLst>
              <a:path w="4033" h="4992">
                <a:moveTo>
                  <a:pt x="0" y="4991"/>
                </a:moveTo>
                <a:lnTo>
                  <a:pt x="0" y="0"/>
                </a:lnTo>
                <a:lnTo>
                  <a:pt x="4032" y="0"/>
                </a:lnTo>
              </a:path>
            </a:pathLst>
          </a:custGeom>
          <a:noFill/>
          <a:ln cap="rnd" w="25560">
            <a:solidFill>
              <a:srgbClr val="aa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9220320"/>
            <a:ext cx="6400800" cy="1440"/>
          </a:xfrm>
          <a:custGeom>
            <a:avLst/>
            <a:gdLst/>
            <a:ahLst/>
            <a:rect l="l" t="t" r="r" b="b"/>
            <a:pathLst>
              <a:path w="4032" h="1">
                <a:moveTo>
                  <a:pt x="0" y="0"/>
                </a:moveTo>
                <a:lnTo>
                  <a:pt x="4032" y="0"/>
                </a:lnTo>
              </a:path>
            </a:pathLst>
          </a:custGeom>
          <a:noFill/>
          <a:ln cap="rnd" w="25560">
            <a:solidFill>
              <a:srgbClr val="ffd4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640040" y="9286920"/>
            <a:ext cx="12596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ffffff"/>
                </a:solidFill>
                <a:latin typeface="Arial"/>
              </a:rPr>
              <a:t>Noviembre 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1120" y="303120"/>
            <a:ext cx="6566040" cy="9294840"/>
          </a:xfrm>
          <a:custGeom>
            <a:avLst/>
            <a:gdLst/>
            <a:ahLst/>
            <a:rect l="l" t="t" r="r" b="b"/>
            <a:pathLst>
              <a:path w="4136" h="5853">
                <a:moveTo>
                  <a:pt x="4135" y="0"/>
                </a:moveTo>
                <a:lnTo>
                  <a:pt x="0" y="0"/>
                </a:lnTo>
                <a:lnTo>
                  <a:pt x="0" y="5852"/>
                </a:lnTo>
              </a:path>
            </a:pathLst>
          </a:custGeom>
          <a:noFill/>
          <a:ln cap="rnd" w="25560">
            <a:solidFill>
              <a:srgbClr val="ffd4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380880"/>
            <a:ext cx="6400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TECNOLOGÍA DE LA INFORMACIÓN EN EL ÁMBITO JUD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629400" y="1676520"/>
            <a:ext cx="1440" cy="7543800"/>
          </a:xfrm>
          <a:custGeom>
            <a:avLst/>
            <a:gdLst/>
            <a:ahLst/>
            <a:rect l="l" t="t" r="r" b="b"/>
            <a:pathLst>
              <a:path w="1" h="4752">
                <a:moveTo>
                  <a:pt x="0" y="0"/>
                </a:moveTo>
                <a:lnTo>
                  <a:pt x="0" y="4752"/>
                </a:lnTo>
              </a:path>
            </a:pathLst>
          </a:custGeom>
          <a:noFill/>
          <a:ln cap="rnd" w="25560">
            <a:solidFill>
              <a:srgbClr val="ffd4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50000">
              <a:srgbClr val="0000ff"/>
            </a:gs>
            <a:gs pos="100000">
              <a:srgbClr val="0000b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371600"/>
            <a:ext cx="6172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600200"/>
            <a:ext cx="6324480" cy="74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ado Actual en los distintos fue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er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l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ntencioso Administrativo Fed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plicaciones en estudios de Sínd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eracción Sindicatura - Tribu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safíos para Sínd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plicaciones en Per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safíos para Per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50000">
              <a:srgbClr val="0000ff"/>
            </a:gs>
            <a:gs pos="100000">
              <a:srgbClr val="0000b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676520"/>
            <a:ext cx="6248160" cy="69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ffffff"/>
                </a:solidFill>
                <a:uFillTx/>
                <a:latin typeface="Arial"/>
              </a:rPr>
              <a:t>ESTADO ACTUAL EN EL FUERO COMER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ámara de apel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stema operativo D.O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stema trans – tool (Ad-H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o consulta vía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Juzg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stema operativo D.O.S. Y 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stema de gestión Lex – Do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uncionalidad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ultas vía web (www.cncom.gov.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50000">
              <a:srgbClr val="0000ff"/>
            </a:gs>
            <a:gs pos="100000">
              <a:srgbClr val="0000b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1676520"/>
            <a:ext cx="6324480" cy="69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ffffff"/>
                </a:solidFill>
                <a:uFillTx/>
                <a:latin typeface="Arial"/>
              </a:rPr>
              <a:t>APLICACIONES EN ESTUDIOS DE SÍND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ceso verific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orm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igilancia de la 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tabilidad de la qui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orme final y distribución en la qui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50000">
              <a:srgbClr val="0000ff"/>
            </a:gs>
            <a:gs pos="100000">
              <a:srgbClr val="0000b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676520"/>
            <a:ext cx="6324480" cy="65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ffffff"/>
                </a:solidFill>
                <a:uFillTx/>
                <a:latin typeface="Arial"/>
              </a:rPr>
              <a:t>APLICACIONES EN PERIT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levamient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fección informes pa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eracción con las parte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50000">
              <a:srgbClr val="0000ff"/>
            </a:gs>
            <a:gs pos="100000">
              <a:srgbClr val="0000b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752480"/>
            <a:ext cx="6248160" cy="69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ffffff"/>
                </a:solidFill>
                <a:uFillTx/>
                <a:latin typeface="Arial"/>
              </a:rPr>
              <a:t>DESAFÍOS PARA PERIT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t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esentación de per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testación impug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n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rámite regulación y percepción honor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50000">
              <a:srgbClr val="0000ff"/>
            </a:gs>
            <a:gs pos="100000">
              <a:srgbClr val="0000b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676520"/>
            <a:ext cx="6324480" cy="70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ffffff"/>
                </a:solidFill>
                <a:uFillTx/>
                <a:latin typeface="Arial"/>
              </a:rPr>
              <a:t>INTERACCIÓN SINDICATURA - TRIBU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ágina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ño e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su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eneración de 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ormación digital di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sultas página web tribu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50000">
              <a:srgbClr val="0000ff"/>
            </a:gs>
            <a:gs pos="100000">
              <a:srgbClr val="0000b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676520"/>
            <a:ext cx="6248160" cy="71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ffffff"/>
                </a:solidFill>
                <a:uFillTx/>
                <a:latin typeface="Arial"/>
              </a:rPr>
              <a:t>DESAFÍOS PARA SÍNDIC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didos de ve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tilización firma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esentación de informes por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eracción sistemas sindicatura 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ibu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Ban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rito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5T19:22:36Z</dcterms:created>
  <dc:creator>Ariel G. Kiperman</dc:creator>
  <dc:description/>
  <dc:language>en-US</dc:language>
  <cp:lastModifiedBy>pagina</cp:lastModifiedBy>
  <cp:lastPrinted>1997-04-15T19:03:10Z</cp:lastPrinted>
  <dcterms:modified xsi:type="dcterms:W3CDTF">2003-11-18T21:04:09Z</dcterms:modified>
  <cp:revision>70</cp:revision>
  <dc:subject/>
  <dc:title>Sin título de diapositiva</dc:title>
</cp:coreProperties>
</file>