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6858000" cy="9144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C3B-67DC-4231-B20C-8F5FA9EB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526464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C64-589F-46E0-B8C9-4D6A215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0132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C66-9EE0-4208-BFA3-8D912CAE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8504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5568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8504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85568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331-A524-455C-BBA1-F88A1971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4956-75AA-42A2-B40F-AB94A6AD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BB1B-815C-40A6-91AA-DCDA783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A61B-0AC5-4C68-BF61-62BDC712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CFD-5960-4368-9857-32E3E0A1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7A5A-C0D7-4609-8C84-3063EEE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406080"/>
            <a:ext cx="582948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8B29-87B9-4751-80CB-8142CD60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280C-8E54-45B9-BC08-89F1EDD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3EC-CF62-472B-9301-B647C2FB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0132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2B1-2F82-4774-A1FE-2BB073D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748-B904-422B-9D10-70142AC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526464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B5EB-2C88-4043-A6FC-ED9A3E4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0132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260-DFD6-4859-84C8-62F610C5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8504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55680" y="213336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8504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855680" y="5264640"/>
            <a:ext cx="18766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754-481A-48FB-AADF-F2D5B23A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070-EF2E-44E1-941E-2FF140D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881-E201-44A6-A6E2-DBEE2F5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C43-926C-40D0-B454-4D5D86DB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406080"/>
            <a:ext cx="582948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CE3-EB13-44C9-976E-5169C49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9C4-0278-4149-8201-FB2660ED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1320" y="526464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8B3-8425-4234-A212-AE8EB95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1320" y="2133360"/>
            <a:ext cx="28447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5264640"/>
            <a:ext cx="582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463-C9B7-45FF-9C11-44B09FF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57160" cy="9141840"/>
            <a:chOff x="0" y="0"/>
            <a:chExt cx="857160" cy="9141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57160" cy="711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67080"/>
              <a:ext cx="857160" cy="48747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33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660240"/>
              <a:ext cx="857160" cy="39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56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8560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000-EC51-4440-AC25-A44DADEFB922}" type="slidenum"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371600" cy="9142200"/>
            <a:chOff x="0" y="0"/>
            <a:chExt cx="1371600" cy="91422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371600" cy="21715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5079960"/>
              <a:ext cx="1371600" cy="406224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33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2175840"/>
              <a:ext cx="1371600" cy="29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8840" y="2235240"/>
            <a:ext cx="520056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37124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97144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DF05-D119-47F9-A4B8-B2ECA43CD6FC}" type="slidenum">
              <a:rPr b="0" lang="es-E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89548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660033"/>
                </a:solidFill>
                <a:latin typeface="Times New Roman"/>
              </a:rPr>
              <a:t>TECNOLOGÍA, CONOCIMIENTO Y </a:t>
            </a:r>
            <a:r>
              <a:rPr b="1" lang="es-MX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660033"/>
                </a:solidFill>
                <a:latin typeface="Times New Roman"/>
              </a:rPr>
              <a:t>MANAGEMENT</a:t>
            </a:r>
            <a:br>
              <a:rPr sz="3600"/>
            </a:br>
            <a:br>
              <a:rPr sz="3600"/>
            </a:br>
            <a:r>
              <a:rPr b="1" lang="es-MX" sz="2400" spc="-1" strike="noStrike">
                <a:solidFill>
                  <a:srgbClr val="660033"/>
                </a:solidFill>
                <a:latin typeface="Times New Roman"/>
              </a:rPr>
              <a:t>- EL SABER EN UN MUNDO</a:t>
            </a:r>
            <a:br>
              <a:rPr sz="2400"/>
            </a:br>
            <a:r>
              <a:rPr b="1" lang="es-MX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660033"/>
                </a:solidFill>
                <a:latin typeface="Times New Roman"/>
              </a:rPr>
              <a:t>COMPLEJO -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088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ahoma"/>
              </a:rPr>
              <a:t>2do. CONGRESO DE TECNOLOGÍA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ahoma"/>
              </a:rPr>
              <a:t>DE LA INFORMACIÓ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33"/>
                </a:solidFill>
                <a:latin typeface="Tahoma"/>
              </a:rPr>
              <a:t>Buenos Aires, 13  y 14  de noviembre de 200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743200"/>
            <a:ext cx="4572000" cy="0"/>
          </a:xfrm>
          <a:prstGeom prst="line">
            <a:avLst/>
          </a:prstGeom>
          <a:ln cap="sq"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172200"/>
            <a:ext cx="4572000" cy="0"/>
          </a:xfrm>
          <a:prstGeom prst="line">
            <a:avLst/>
          </a:prstGeom>
          <a:ln cap="sq"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743200"/>
            <a:ext cx="0" cy="3429000"/>
          </a:xfrm>
          <a:prstGeom prst="line">
            <a:avLst/>
          </a:prstGeom>
          <a:ln cap="sq"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743200"/>
            <a:ext cx="0" cy="3429000"/>
          </a:xfrm>
          <a:prstGeom prst="line">
            <a:avLst/>
          </a:prstGeom>
          <a:ln cap="sq"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21B-6A49-4705-AFB1-8FF2A459471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828800"/>
            <a:ext cx="579096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CAPITAL INTELECTUA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Activos de Mercad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Activos de Propiedad Intelectua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Activos de Infraestructur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Activos Centrados en el Individu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I. GLOBALIZACIÓN Y NUEVO MANAGEMENT (3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690-87A4-4554-9B23-94F972164B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98108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20932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NUEVAS CLAVES ORGANIZACIONALE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 FLEXIBILIDAD  Y  COMPETITIVIDA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 CONOCIMIENTO E INNOVACIÓ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 VALORES Y ÉTIC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I. GLOBALIZACIÓN Y NUEVO MANAGEMENT (4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B99-C3A3-4432-A589-D0175CFDA2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4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V. LA ERA DEL   CONOCIMIENTO  (1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08260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 algn="ctr">
              <a:spcBef>
                <a:spcPts val="799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INTERROGANTES PRELIMINARE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 LA ERA DE LA INFORMACIÓN Y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LA ERA DEL CONOCIMIENT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¿Son lo mismo?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¿Cuándo comenzaron?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¿Qué implican?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 LA OFICINA SIN PAPELES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¿Átomos o Bits?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¿”Des” o “Re”?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279720"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C79-7FE6-40EA-A9D3-A81DC8CCC2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4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V. LA ERA DEL   CONOCIMIENTO  (2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553080" cy="61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INGRESANDO EN UN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MUNDO COMPLEJ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657600"/>
            <a:ext cx="1981080" cy="1295280"/>
          </a:xfrm>
          <a:prstGeom prst="ellipse">
            <a:avLst/>
          </a:prstGeom>
          <a:noFill/>
          <a:ln cap="sq" w="5724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930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ahoma"/>
              </a:rPr>
              <a:t>LA ERA INDUSTR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657600"/>
            <a:ext cx="1981080" cy="1295280"/>
          </a:xfrm>
          <a:prstGeom prst="ellipse">
            <a:avLst/>
          </a:prstGeom>
          <a:noFill/>
          <a:ln cap="sq" w="5724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867280"/>
            <a:ext cx="1981080" cy="1295640"/>
          </a:xfrm>
          <a:prstGeom prst="ellipse">
            <a:avLst/>
          </a:prstGeom>
          <a:noFill/>
          <a:ln cap="sq" w="5724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867280"/>
            <a:ext cx="1981080" cy="1295640"/>
          </a:xfrm>
          <a:prstGeom prst="ellipse">
            <a:avLst/>
          </a:prstGeom>
          <a:noFill/>
          <a:ln cap="sq" w="5724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621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ahoma"/>
              </a:rPr>
              <a:t>LA MAQUI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6186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292929"/>
                </a:solidFill>
                <a:latin typeface="Tahoma"/>
              </a:rPr>
              <a:t>EL HOMB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3930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ahoma"/>
              </a:rPr>
              <a:t>LA ERA DEL CONOCIMIEN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350-3DA9-4C60-B6BC-AB7D874415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LO QUE CONDUC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Y ARRASTRA AL MUND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O SON LAS MÁQUINA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SINO LAS IDEAS”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VICTOR HUGO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C07-3CB8-4671-998A-3CF0600E53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4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V. LA ERA DEL   CONOCIMIENTO  (3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3800" y="3841920"/>
            <a:ext cx="3664800" cy="1993680"/>
          </a:xfrm>
          <a:prstGeom prst="rect">
            <a:avLst/>
          </a:prstGeom>
          <a:noFill/>
          <a:ln cap="sq" w="57240">
            <a:solidFill>
              <a:srgbClr val="eeb00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292929"/>
                </a:solidFill>
                <a:latin typeface="Times New Roman"/>
              </a:rPr>
              <a:t>LA MENTE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429000"/>
            <a:ext cx="0" cy="838080"/>
          </a:xfrm>
          <a:prstGeom prst="line">
            <a:avLst/>
          </a:prstGeom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5410080"/>
            <a:ext cx="0" cy="838440"/>
          </a:xfrm>
          <a:prstGeom prst="line">
            <a:avLst/>
          </a:prstGeom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33526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RAC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56386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EMOC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9C4-C198-4350-A9CD-27B92C694B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244520"/>
            <a:ext cx="5829480" cy="72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ECESITAMOS NUEVA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FORMAS DE PENSAR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PARA HACER FRENTE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A  LOS PROBLEMAS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GENERADOS POR LAS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VIEJAS FORMAS DE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PENSAR”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ALBERT  EINSTEIN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A13-FE03-459F-A313-AB9E3915BA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5829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EL DESPERTAR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DEL CONOCIMIENT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CAPITAL HUMAN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CONOCIMIENTO ORGANIZACIONA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4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V. LA ERA DEL   CONOCIMIENTO  (4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4343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eeb00b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32080" y="6934320"/>
            <a:ext cx="2919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GESTIÓN 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CONOCIMI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60958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eeb00b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F05-F05A-47C6-B946-03C5239478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INGUNO DE NOSOTRO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ES TAN INTELIGENT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COMO TODO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OSOTROS”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PROVERBIO JAPONÉS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035-94C0-46F4-8638-BF000DEC80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UNCA HE ENCONTRAD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A ALGUIEN TAN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IGNORANT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QUE NO PUDIES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APRENDER DE ÉL”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543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GALILEO  GALILEI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F65-7A00-4FAF-B815-6412DC7091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0" lang="es-MX" sz="3600" spc="-1" strike="noStrike">
                <a:solidFill>
                  <a:srgbClr val="292929"/>
                </a:solidFill>
                <a:latin typeface="Times New Roman"/>
              </a:rPr>
              <a:t>HOJA DE RUTA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603864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.-     El fin de la Era Industria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I.-    La  Revolución  Tecnológic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II.-   Globalización y Nuevo Management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V.-  El Umbral de la Era del Conocimient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133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685800"/>
            <a:ext cx="426708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981080"/>
            <a:ext cx="426744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656-ED8D-475D-8C18-FBDF7F03FA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DÓNDE Y CÓMO SE HALLA EL CONOCIMIENTO ORGANIZACIONA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8880" y="26906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514600"/>
            <a:ext cx="1905120" cy="1828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3276720"/>
            <a:ext cx="1904760" cy="1828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419720"/>
            <a:ext cx="1905120" cy="1828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276720"/>
            <a:ext cx="1905120" cy="1828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048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ahoma"/>
              </a:rPr>
              <a:t>IMPLICI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9625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ahoma"/>
              </a:rPr>
              <a:t>EXTERN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ahoma"/>
              </a:rPr>
              <a:t>INTERN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16564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ahoma"/>
              </a:rPr>
              <a:t>EXPLICI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6324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7086600"/>
            <a:ext cx="4952880" cy="121932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7848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7315200"/>
            <a:ext cx="44197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ahoma"/>
              </a:rPr>
              <a:t>REDES DE CONOCIMI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Tahoma"/>
              </a:rPr>
              <a:t>(MUCHO MÁS QUE BASES DE DATO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049-EB91-4EF6-8BE5-ACA1A96DB9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5562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LA ORGANIZACIÓN CREADORA DE CONOCIMIENTO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209680"/>
            <a:ext cx="2133720" cy="129564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2860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BUSCAR EL CONOCIMIENTO FUERA DE LA ORGANIZA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236232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DETECTAR  EL CONOCIMIENTO DENTRO DE LA ORGANIZACIÓ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335268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IDENTIFICAR TALENTOS CREATIVO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209680"/>
            <a:ext cx="2133720" cy="129564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800600"/>
            <a:ext cx="2667240" cy="9144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4938840"/>
            <a:ext cx="2819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CREAR CONOCIMIENTO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(Ampliación y Síntesis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5791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6172200"/>
            <a:ext cx="2133720" cy="685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200400"/>
            <a:ext cx="2667240" cy="99072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095880"/>
            <a:ext cx="2133720" cy="685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6553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7162920"/>
            <a:ext cx="2971800" cy="685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626436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INNOVACIÓN CONTINU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61880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MARKETING INTELIGEN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7315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ESTRATEGIA COMPETITIV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78487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ahoma"/>
              </a:rPr>
              <a:t>VENTAJA  COMPETITIV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7620120"/>
            <a:ext cx="2971800" cy="6858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81072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Fuente: Nonaka - Takeuch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D25-DD8F-4E5D-967E-61EC518AB4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040" y="2387160"/>
            <a:ext cx="5829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EN LOS AÑOS 70 SE ESTIMABA QUE EN 30 AÑOS LOS CONOCIMIENTOS DE LOS ÚLTIMOS 2500 AÑOS DE LA HUMANIDAD SE MULTIPLICARÍAN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Times New Roman"/>
              </a:rPr>
              <a:t>LAS ORGANIZACIONES HOY SÓLO APROVECHAN EL 15% DE SU CONOCIMIENT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80880"/>
            <a:ext cx="556236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LAS PARADOJAS  DEL CONOCIMI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8305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8077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Fuente: Nick Bontis / AM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1AA-9995-40CE-A9B4-F8C25245D51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28880" y="457200"/>
            <a:ext cx="58291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MATRIZ  BÁSICA   DEL CONOCIMI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-LO  USUAL-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124080"/>
            <a:ext cx="4876920" cy="3886200"/>
          </a:xfrm>
          <a:prstGeom prst="rect">
            <a:avLst/>
          </a:prstGeom>
          <a:noFill/>
          <a:ln cap="sq"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124080"/>
            <a:ext cx="0" cy="3886200"/>
          </a:xfrm>
          <a:prstGeom prst="line">
            <a:avLst/>
          </a:prstGeom>
          <a:ln cap="sq"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327672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SABEMOS LO QUE SABEMOS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510552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NO SABEMOS LO QUE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2767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SABEMOS LO QUE NO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510552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NO SABEMOS LO QUE NO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419720"/>
            <a:ext cx="4876920" cy="0"/>
          </a:xfrm>
          <a:prstGeom prst="line">
            <a:avLst/>
          </a:prstGeom>
          <a:ln cap="sq"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2A1-1CF5-454A-8635-32A027277E2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943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MATRIZ  BÁSICA   DEL CONOCIMIENTO</a:t>
            </a:r>
            <a:br>
              <a:rPr sz="3200"/>
            </a:b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-LO  IDEAL-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7180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SABEMOS LO QUE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71808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SABEMOS LO QUE NO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562284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NO SABEMOS LO QUE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562284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NO SABEMOS LO QUE NO SABEM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3124080"/>
            <a:ext cx="4876920" cy="3886200"/>
          </a:xfrm>
          <a:prstGeom prst="rect">
            <a:avLst/>
          </a:prstGeom>
          <a:noFill/>
          <a:ln cap="sq"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124080"/>
            <a:ext cx="0" cy="3886200"/>
          </a:xfrm>
          <a:prstGeom prst="line">
            <a:avLst/>
          </a:prstGeom>
          <a:ln cap="sq"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5562720"/>
            <a:ext cx="4876920" cy="0"/>
          </a:xfrm>
          <a:prstGeom prst="line">
            <a:avLst/>
          </a:prstGeom>
          <a:ln cap="sq"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3A9-EDB2-43F6-8B14-0A801ED046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GENERAR MÁS Y MEJOR CONOCIMIENTO, SALTANDO LA VALLA DE RESISTENCIA QUE OPONEN  LÍDERES Y  CULTURAS TRADICIONALES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80880"/>
            <a:ext cx="582948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EL  RETO  DE  HO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8862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imes New Roman"/>
              </a:rPr>
              <a:t>APRENDIZAJE ORGANIZAC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133720" y="4267080"/>
            <a:ext cx="304560" cy="228600"/>
          </a:xfrm>
          <a:prstGeom prst="line">
            <a:avLst/>
          </a:prstGeom>
          <a:ln cap="sq" w="12600">
            <a:solidFill>
              <a:srgbClr val="2929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4267080"/>
            <a:ext cx="228600" cy="304920"/>
          </a:xfrm>
          <a:prstGeom prst="line">
            <a:avLst/>
          </a:prstGeom>
          <a:ln cap="sq" w="12600">
            <a:solidFill>
              <a:srgbClr val="2929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292929"/>
                </a:solidFill>
                <a:latin typeface="Times New Roman"/>
              </a:rPr>
              <a:t>APRENDIENDO DEL MERCAD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4572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292929"/>
                </a:solidFill>
                <a:latin typeface="Times New Roman"/>
              </a:rPr>
              <a:t>APRENDIENDO DE LA GEN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572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292929"/>
                </a:solidFill>
                <a:latin typeface="Times New Roman"/>
              </a:rPr>
              <a:t>APRENDIENDO DE UNO MISM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191120"/>
            <a:ext cx="0" cy="380880"/>
          </a:xfrm>
          <a:prstGeom prst="line">
            <a:avLst/>
          </a:prstGeom>
          <a:ln cap="sq" w="12600">
            <a:solidFill>
              <a:srgbClr val="2929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505320"/>
            <a:ext cx="5791320" cy="2057400"/>
          </a:xfrm>
          <a:prstGeom prst="ellipse">
            <a:avLst/>
          </a:prstGeom>
          <a:noFill/>
          <a:ln cap="sq"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5638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6172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Times New Roman"/>
              </a:rPr>
              <a:t>LA ME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6797520"/>
            <a:ext cx="160020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imes New Roman"/>
              </a:rPr>
              <a:t>LIDERAZGO EFECTIV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(Basado en Sistemas de influencia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6781680"/>
            <a:ext cx="160020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imes New Roman"/>
              </a:rPr>
              <a:t>TECNOLOGÍA INTELIGEN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(Conocimiento  en Redes Interactiva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6781680"/>
            <a:ext cx="160020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Times New Roman"/>
              </a:rPr>
              <a:t>CULTURA VIGOROS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(Sustentada en Valor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6553080"/>
            <a:ext cx="2057400" cy="1371600"/>
          </a:xfrm>
          <a:prstGeom prst="ellipse">
            <a:avLst/>
          </a:prstGeom>
          <a:noFill/>
          <a:ln cap="sq"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6553080"/>
            <a:ext cx="2057400" cy="1371600"/>
          </a:xfrm>
          <a:prstGeom prst="ellipse">
            <a:avLst/>
          </a:prstGeom>
          <a:noFill/>
          <a:ln cap="sq"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6553080"/>
            <a:ext cx="2057400" cy="1371600"/>
          </a:xfrm>
          <a:prstGeom prst="ellipse">
            <a:avLst/>
          </a:prstGeom>
          <a:noFill/>
          <a:ln cap="sq"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2AE-4012-4D0D-AF61-984839FCEB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75880" y="1447920"/>
            <a:ext cx="5829480" cy="66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UTILIZAR LOS SISTEMAS DE INFORMACIÓN Y LAS HERRAMIENTAS QUE CONTRIBUYAN A LA EXTERNALIZACIÓN DE LA TRANSFERENCIA Y GENERACIÓN DE CONOCIMIENTO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HACER LAS COSAS SIMPLES PRIMERO: ENVIAR AL PERSONAL A CONFERENCIAS Y A TRADE-SHOWS CON EL PROPÓSITO DE OBTENER INFORMACIÓN  (no deberá incurrirse en dicho gasto a menos que se comparta la información)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REALIZAR AUDITORÍAS DE CAPITAL INTELECTUAL EN FORMA SISTEMÁTICA CON EL OBJETO DE REEVALUAR EL CÚMULO DE CONOCIMIENTO ADQUIRIDO EN LA EMPRESA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IDENTIFICAR LAS DIFERENCIAS QUE SE DEBEN SALVAR EN FUNCIÓN DE LAS DEBILIDADES DE LOS COMPETIDORES, CLIENTES, PROVEEDORES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PUBLICAR EL APÉNDICE RELATIVO AL CAPITAL INTELECTUAL EN LA MEMORIA Y BALANCE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DESARROLLAR MERCADOS PARA VALUAR EL CONOCIMIENTO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04920"/>
            <a:ext cx="58294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292929"/>
                </a:solidFill>
                <a:uFillTx/>
                <a:latin typeface="Times New Roman"/>
              </a:rPr>
              <a:t>¿QUÉ HACER MAÑANA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82296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92929"/>
                </a:solidFill>
                <a:latin typeface="Times New Roman"/>
              </a:rPr>
              <a:t>Fuente: Nick Bont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579-CE0B-49E1-A2F7-B392D5D5E10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560" y="1676160"/>
            <a:ext cx="5905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EL CONOCIMIENTO ES EL ÚNICO RECURSO QUE AUMENTA CON EL USO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3581280"/>
            <a:ext cx="761760" cy="1447920"/>
          </a:xfrm>
          <a:prstGeom prst="downArrow">
            <a:avLst>
              <a:gd name="adj1" fmla="val 50000"/>
              <a:gd name="adj2" fmla="val 47519"/>
            </a:avLst>
          </a:prstGeom>
          <a:solidFill>
            <a:srgbClr val="eeb00b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554800"/>
            <a:ext cx="58291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EL TESORO OCULTO DE LAS ORGANIZACIONES ESTÁ EN LA MENTE DE LOS EMPLEAD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7EE-51E8-4211-8D33-EBFD372AAB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292929"/>
                </a:solidFill>
                <a:uFillTx/>
                <a:latin typeface="Times New Roman"/>
              </a:rPr>
              <a:t>CONOCIMIENTO / NUEVOS RETOS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320840"/>
            <a:ext cx="5829480" cy="67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s-MX" sz="2400" spc="-1" strike="noStrike" u="sng">
                <a:solidFill>
                  <a:srgbClr val="292929"/>
                </a:solidFill>
                <a:uFillTx/>
                <a:latin typeface="Times New Roman"/>
              </a:rPr>
              <a:t>LOS AVANCE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NEUROCIENCIAS, BIOTECNOLOGÍ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(Genoma, Clonación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EDUCACIÓ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(E-conocimiento , E-learning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NEGOCIO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(Business Intelligence, CRM)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292929"/>
                </a:solidFill>
                <a:uFillTx/>
                <a:latin typeface="Times New Roman"/>
              </a:rPr>
              <a:t>LOS PELIGRO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EXCLUSIÓN E INTEGRACIÓ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COOPERACIÓN Y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SUSTENTABILIDA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3320" indent="0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CIVILIZACIÓN Y DECENCI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03D-0177-4480-A384-F01310EF26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75880" y="762120"/>
            <a:ext cx="5829480" cy="76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LOS HOMBRES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RAZONABLES SE ADAPTAN AL MUNDO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LOS HOMBRES NO RAZONABLES ADAPTAN EL MUNDO A ELLOS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POR ESO, TODO PROGRESO DEPENDE DE LOS HOMBRES NO RAZONABLES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BERNARD SHAW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AE7-D04E-4F86-AB6B-79FC82BC21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880" y="380520"/>
            <a:ext cx="58291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6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. EL FIN DE LA ERA           INDUSTRIAL (1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590920"/>
            <a:ext cx="55814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8720" indent="-60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92929"/>
                </a:solidFill>
                <a:latin typeface="Times New Roman"/>
              </a:rPr>
              <a:t>UN MUNDO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92929"/>
                </a:solidFill>
                <a:latin typeface="Times New Roman"/>
              </a:rPr>
              <a:t>EN CAMBIO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De la 2da. Guerra Mundial a los 70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De los 70 al 2000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Del 2000 en adelante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98720" indent="-6098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98108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28B-311D-4510-9104-C92DA08BA2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4400" y="1447920"/>
            <a:ext cx="56386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NADA ES TAN PODERO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EN ESTE MUNDO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COMO  UNA IDE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CUYO MOM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33"/>
                </a:solidFill>
                <a:latin typeface="Times New Roman"/>
              </a:rPr>
              <a:t>HA LLEGADO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33"/>
                </a:solidFill>
                <a:latin typeface="Times New Roman"/>
              </a:rPr>
              <a:t>VICTOR HU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FEB-E2A4-45AB-8AF2-AEE4B12A6E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1744560"/>
            <a:ext cx="541008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33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257800"/>
            <a:ext cx="32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LUIS MARÍA GABANCH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lgabancho@cponline.org.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CD7-5973-41E3-9F65-D1CDEBEB88C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. EL FIN DE LA ERA          INDUSTRIAL (2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234880"/>
            <a:ext cx="58294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872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92929"/>
                </a:solidFill>
                <a:latin typeface="Times New Roman"/>
              </a:rPr>
              <a:t>LA ERA 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92929"/>
                </a:solidFill>
                <a:latin typeface="Times New Roman"/>
              </a:rPr>
              <a:t>POST - INDUSTRIAL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La Concentración económic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Los negocios y las persona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Los retos organizacionale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El Capital intelectua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1098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Los cambios tecnológico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CBE-7CA9-4CC6-A19E-854376FAC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. LA REVOLUCIÓN TECNOLÓGICA (1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235240"/>
            <a:ext cx="582948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292929"/>
                </a:solidFill>
                <a:latin typeface="Times New Roman"/>
              </a:rPr>
              <a:t>TECNOLOGÍA ES CONOCIMIENTO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es-MX" sz="2500" spc="-1" strike="noStrike">
                <a:solidFill>
                  <a:srgbClr val="292929"/>
                </a:solidFill>
                <a:latin typeface="Times New Roman"/>
              </a:rPr>
              <a:t>CIENTÍFICO EN ACCIÓN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MPLICA MUCHAS COS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COMPUTADOR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PROGRAMAS Y RE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ROBO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TELECOMUNICACION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INTELIGENCIA ARTIFICI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BIOLOGÍA GENÉ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* CONOCIMIENTOS DIVERS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699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733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eeb00b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B1-FDDC-4EAC-87B2-F01EE031F3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25146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. LA REVOLUCIÓN TECNOLÓGICA (2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438280"/>
            <a:ext cx="2819520" cy="2286000"/>
          </a:xfrm>
          <a:prstGeom prst="ellipse">
            <a:avLst/>
          </a:prstGeom>
          <a:noFill/>
          <a:ln cap="sq" w="5724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3526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 Black"/>
              </a:rPr>
              <a:t>GOOGL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4771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eeb00b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876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eeb00b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638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UN MOTOR DE BUSQUEDA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EXTRAORDINA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7315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U$S  25.000 MILLON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787-8CDC-4C9D-A54F-A9DE38747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. LA REVOLUCIÓN TECNOLÓGICA (3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5829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92929"/>
                </a:solidFill>
                <a:latin typeface="Times New Roman"/>
              </a:rPr>
              <a:t>EL IMPACTO TECNOLÓGICO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Lo que hizo: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Cambió la velocidad y la transparencia de los actos económico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Modernizó y tornó más eficiente la actividad comercial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Redujo los costos industriale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Perfeccionó la acción administrativa, simplificando la toma de decisione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Times New Roman"/>
              </a:rPr>
              <a:t>Lo que hará: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Intensificará el cambio en los usos y costumbres conocido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849240" indent="-3603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Transformará la vida de las organizaciones y las persona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90512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2D4-8C2A-4EB8-BB6A-C945241456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09588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I. GLOBALIZACIÓN Y NUEVO MANAGEMENT (1)</a:t>
            </a:r>
            <a:r>
              <a:rPr b="1" lang="es-MX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905120"/>
            <a:ext cx="579096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601992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4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UN MUNDO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NUEVO Y COMPLEJO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MERCADOS REGIONALES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NEGOCIOS ON – LINE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REVALORIZACIÓN DEL CLIENTE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MANAGEMENT GLOBA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CAPITAL INTELECTUA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549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NUEVAS CLAVES EMPRESARIAS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1EA-C048-417B-B532-80D2C75C0B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457200"/>
            <a:ext cx="579132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828800"/>
            <a:ext cx="5790960" cy="0"/>
          </a:xfrm>
          <a:prstGeom prst="line">
            <a:avLst/>
          </a:prstGeom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594360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7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1" lang="es-MX" sz="3200" spc="-1" strike="noStrike">
                <a:solidFill>
                  <a:srgbClr val="292929"/>
                </a:solidFill>
                <a:latin typeface="Times New Roman"/>
              </a:rPr>
              <a:t>MANAGEMENT GLOBA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292929"/>
                </a:solidFill>
                <a:uFillTx/>
                <a:latin typeface="Times New Roman"/>
              </a:rPr>
              <a:t>PERFI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LIDERAZGO EFECTIVO 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(Líder y seguidores basados en sistemas de 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influencia)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292929"/>
                </a:solidFill>
                <a:uFillTx/>
                <a:latin typeface="Times New Roman"/>
              </a:rPr>
              <a:t>ACTUACIÓN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PENSAMIENTO GLOBAL Y ACCIÓN LOCA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(El equilibrio estratégico)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292929"/>
                </a:solidFill>
                <a:uFillTx/>
                <a:latin typeface="Times New Roman"/>
              </a:rPr>
              <a:t>CONTENIDO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COMPORTAMIENTO SUSTENTADO EN 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VALORES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(Cultura organizacional ética)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292929"/>
                </a:solidFill>
                <a:uFillTx/>
                <a:latin typeface="Times New Roman"/>
              </a:rPr>
              <a:t>ALCANCE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*  ABARCADOR DE INTERESES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(Stakeholders)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marL="9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14040" y="406080"/>
            <a:ext cx="58294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imes New Roman"/>
              </a:rPr>
              <a:t>III. GLOBALIZACIÓN Y NUEVO MANAGEMENT (2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Luis María Gabanch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98F-A31A-44A3-A0D4-904CB0416B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/2003</a:t>
            </a: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6:12:54Z</dcterms:created>
  <dc:creator>ACA</dc:creator>
  <dc:description/>
  <dc:language>en-US</dc:language>
  <cp:lastModifiedBy>pagina</cp:lastModifiedBy>
  <dcterms:modified xsi:type="dcterms:W3CDTF">2003-11-18T21:09:25Z</dcterms:modified>
  <cp:revision>29</cp:revision>
  <dc:subject/>
  <dc:title>AQUÍ VA EL TITULO</dc:title>
</cp:coreProperties>
</file>