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E601-CB61-48CB-9EBC-203626C2AA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2360" y="3505320"/>
            <a:ext cx="350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PRENCIÓN - ENTEN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057-8EA6-4653-B0FE-EEDFD478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FDE-8540-42AE-A301-82133A4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1C6-2D5C-4A95-A978-76242D5F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F3C-BBAA-4D2E-B60C-91A749FC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834-708E-4F0E-A66E-87598EC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B79-9C61-448D-96C4-1A4F30DF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610-2947-4BF7-8693-9C2CECB2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4C0-1467-4FBF-8401-5F705DD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E99-3480-4509-AAB7-E9A968E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8DB-A61E-4C7D-B8E9-FA1A3E8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C08-3E91-4854-ABA5-5149547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073-8523-46A6-914C-2D1C20F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AA77-3B77-4C6F-B854-F544806730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MS Mincho"/>
              </a:rPr>
              <a:t>GESTION DEL CONOCIMIENO Y TECNOLOGIAS DE LA INFORMAC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MS Mincho"/>
              </a:rPr>
              <a:t>LAS TI, ¿ GENERADORAS O DESTRUCTORAS DE CONOCIMIENTO ?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760" y="589716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ic. Ernesto Chinkes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chinkes@econ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35924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ahoma"/>
              </a:rPr>
              <a:t>II Congreso de Tecnologías de la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ahoma"/>
              </a:rPr>
              <a:t>Consejo Profesional de Ciencias Económicas la Ciudad Autónoma de Buenos 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ahoma"/>
              </a:rPr>
              <a:t>13 y 14 de Noviembre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APORTE PARA EL MANEJO DE D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752480"/>
            <a:ext cx="7621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cantidad de datos almace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acceso a los datos: cantidad, más fácil, más barato, y más ráp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eficiencia para calcular, clasificar, ordenar, y distribuir datos (más rápido y menos costos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MAYOR INFORMACION CON MENOR CONO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0512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Aumento de las capacidades de manejo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r human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capacidad limi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50840" y="3429000"/>
            <a:ext cx="748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282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nor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nocimient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yor información: Más detalles y Mayor volum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057400"/>
            <a:ext cx="99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MIOPÍA TECNOLÓG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022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tecnologías tiene la característica de encandilar, y convertir los “medios” en “fin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86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fácil ...                 Caer en la t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19000" y="312408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. Las punto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114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“input” y “output” del conocimiento puede transmitirse en forma digi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INTELIGENCIA DE NEGOCIO – BUSINESS INTELLIG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664160"/>
            <a:ext cx="80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orte: compartir información sobre la organización y su contexto, permite descubrir cono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63868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Permite generalizar informació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 Es una herramienta que da soporte para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Tahoma"/>
              </a:rPr>
              <a:t>generar conocimiento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, y puede ayudar a distribuir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1371600"/>
            <a:ext cx="7848720" cy="3048120"/>
            <a:chOff x="685800" y="1371600"/>
            <a:chExt cx="7848720" cy="3048120"/>
          </a:xfrm>
        </p:grpSpPr>
        <p:sp>
          <p:nvSpPr>
            <p:cNvPr id="143" name=""/>
            <p:cNvSpPr/>
            <p:nvPr/>
          </p:nvSpPr>
          <p:spPr>
            <a:xfrm>
              <a:off x="3886200" y="2590920"/>
              <a:ext cx="1490760" cy="1409760"/>
            </a:xfrm>
            <a:prstGeom prst="flowChartMagneticDisk">
              <a:avLst/>
            </a:prstGeom>
            <a:solidFill>
              <a:srgbClr val="9800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7960" y="3124080"/>
              <a:ext cx="12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</a:rPr>
                <a:t>DATA WAREH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78320" y="1371600"/>
              <a:ext cx="893880" cy="990720"/>
            </a:xfrm>
            <a:prstGeom prst="ellipse">
              <a:avLst/>
            </a:prstGeom>
            <a:solidFill>
              <a:srgbClr val="ffcc66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Datam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OL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E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48040" y="1943280"/>
              <a:ext cx="530280" cy="609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475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6000" y="2666880"/>
              <a:ext cx="685800" cy="685800"/>
            </a:xfrm>
            <a:prstGeom prst="flowChartMagneticDisk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2666880"/>
              <a:ext cx="13716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Sistema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2514600"/>
              <a:ext cx="876240" cy="228600"/>
            </a:xfrm>
            <a:custGeom>
              <a:avLst/>
              <a:gdLst/>
              <a:ahLst/>
              <a:rect l="l" t="t" r="r" b="b"/>
              <a:pathLst>
                <a:path w="552" h="144">
                  <a:moveTo>
                    <a:pt x="0" y="144"/>
                  </a:moveTo>
                  <a:lnTo>
                    <a:pt x="372" y="0"/>
                  </a:lnTo>
                  <a:lnTo>
                    <a:pt x="552" y="96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2320" y="3657600"/>
              <a:ext cx="685800" cy="685800"/>
            </a:xfrm>
            <a:prstGeom prst="flowChartMagneticDisk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3657600"/>
              <a:ext cx="13716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Sistema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429000"/>
              <a:ext cx="876240" cy="228600"/>
            </a:xfrm>
            <a:custGeom>
              <a:avLst/>
              <a:gdLst/>
              <a:ahLst/>
              <a:rect l="l" t="t" r="r" b="b"/>
              <a:pathLst>
                <a:path w="552" h="144">
                  <a:moveTo>
                    <a:pt x="0" y="144"/>
                  </a:moveTo>
                  <a:lnTo>
                    <a:pt x="372" y="0"/>
                  </a:lnTo>
                  <a:lnTo>
                    <a:pt x="552" y="96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0800" y="2514600"/>
              <a:ext cx="685800" cy="685800"/>
            </a:xfrm>
            <a:prstGeom prst="flowChartMagneticDisk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920" y="2514600"/>
              <a:ext cx="13716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Sistema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48480" y="2419200"/>
              <a:ext cx="895320" cy="171720"/>
            </a:xfrm>
            <a:custGeom>
              <a:avLst/>
              <a:gdLst/>
              <a:ahLst/>
              <a:rect l="l" t="t" r="r" b="b"/>
              <a:pathLst>
                <a:path w="564" h="108">
                  <a:moveTo>
                    <a:pt x="564" y="108"/>
                  </a:moveTo>
                  <a:lnTo>
                    <a:pt x="205" y="0"/>
                  </a:lnTo>
                  <a:lnTo>
                    <a:pt x="0" y="107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19520" y="2438280"/>
              <a:ext cx="1981080" cy="304920"/>
            </a:xfrm>
            <a:custGeom>
              <a:avLst/>
              <a:gdLst>
                <a:gd name="textAreaLeft" fmla="*/ 351360 w 1981080"/>
                <a:gd name="textAreaRight" fmla="*/ 1412280 w 19810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6" hR="21600" stAng="10800000" swAng="5400000"/>
                  <a:lnTo>
                    <a:pt x="11564" y="0"/>
                  </a:lnTo>
                  <a:arcTo wR="7666" hR="21600" stAng="-5400000" swAng="2706458"/>
                  <a:lnTo>
                    <a:pt x="21162" y="14400"/>
                  </a:lnTo>
                  <a:lnTo>
                    <a:pt x="17280" y="21600"/>
                  </a:lnTo>
                  <a:lnTo>
                    <a:pt x="12522" y="14400"/>
                  </a:lnTo>
                  <a:lnTo>
                    <a:pt x="14893" y="14400"/>
                  </a:lnTo>
                  <a:arcTo wR="7666" hR="21600" stAng="-2693542" swAng="-2386651"/>
                  <a:lnTo>
                    <a:pt x="9615" y="710"/>
                  </a:lnTo>
                  <a:arcTo wR="7666" hR="21600" stAng="-5719807" swAng="-5080193"/>
                  <a:close/>
                </a:path>
                <a:path fill="darkenLess" w="21600" h="21600">
                  <a:moveTo>
                    <a:pt x="0" y="21600"/>
                  </a:moveTo>
                  <a:arcTo wR="7666" hR="21600" stAng="10800000" swAng="5400000"/>
                  <a:lnTo>
                    <a:pt x="7666" y="0"/>
                  </a:lnTo>
                  <a:arcTo wR="7666" hR="21600" stAng="-5400000" swAng="319807"/>
                  <a:lnTo>
                    <a:pt x="9615" y="710"/>
                  </a:lnTo>
                  <a:arcTo wR="7666" hR="21600" stAng="-5719807" swAng="-5080193"/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4495680" y="3962520"/>
              <a:ext cx="1981440" cy="304560"/>
            </a:xfrm>
            <a:custGeom>
              <a:avLst/>
              <a:gdLst>
                <a:gd name="textAreaLeft" fmla="*/ 351360 w 1981440"/>
                <a:gd name="textAreaRight" fmla="*/ 1412280 w 198144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66" hR="21600" stAng="10800000" swAng="5400000"/>
                  <a:lnTo>
                    <a:pt x="11564" y="0"/>
                  </a:lnTo>
                  <a:arcTo wR="7666" hR="21600" stAng="-5400000" swAng="2706458"/>
                  <a:lnTo>
                    <a:pt x="21162" y="14400"/>
                  </a:lnTo>
                  <a:lnTo>
                    <a:pt x="17280" y="21600"/>
                  </a:lnTo>
                  <a:lnTo>
                    <a:pt x="12522" y="14400"/>
                  </a:lnTo>
                  <a:lnTo>
                    <a:pt x="14893" y="14400"/>
                  </a:lnTo>
                  <a:arcTo wR="7666" hR="21600" stAng="-2693542" swAng="-2386651"/>
                  <a:lnTo>
                    <a:pt x="9615" y="710"/>
                  </a:lnTo>
                  <a:arcTo wR="7666" hR="21600" stAng="-5719807" swAng="-5080193"/>
                  <a:close/>
                </a:path>
                <a:path fill="darkenLess" w="21600" h="21600">
                  <a:moveTo>
                    <a:pt x="0" y="21600"/>
                  </a:moveTo>
                  <a:arcTo wR="7666" hR="21600" stAng="10800000" swAng="5400000"/>
                  <a:lnTo>
                    <a:pt x="7666" y="0"/>
                  </a:lnTo>
                  <a:arcTo wR="7666" hR="21600" stAng="-5400000" swAng="319807"/>
                  <a:lnTo>
                    <a:pt x="9615" y="710"/>
                  </a:lnTo>
                  <a:arcTo wR="7666" hR="21600" stAng="-5719807" swAng="-5080193"/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3962520"/>
              <a:ext cx="2133720" cy="228600"/>
            </a:xfrm>
            <a:custGeom>
              <a:avLst/>
              <a:gdLst>
                <a:gd name="textAreaLeft" fmla="*/ 373320 w 2133720"/>
                <a:gd name="textAreaRight" fmla="*/ 1546920 w 21337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4648320" y="2514240"/>
              <a:ext cx="2133360" cy="228600"/>
            </a:xfrm>
            <a:custGeom>
              <a:avLst/>
              <a:gdLst>
                <a:gd name="textAreaLeft" fmla="*/ 373320 w 2133360"/>
                <a:gd name="textAreaRight" fmla="*/ 1546920 w 2133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3581280"/>
              <a:ext cx="1066680" cy="762120"/>
            </a:xfrm>
            <a:prstGeom prst="rect">
              <a:avLst/>
            </a:prstGeom>
            <a:solidFill>
              <a:srgbClr val="3333cc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DA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EXTER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enidos Multimedia e interactivos, Interacción sincrónica y asincrónica no presencial,  administración y monitoreo integral del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800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orte: compartir y distribuir conocimiento (Capaci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53341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Permit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generalizar conocimiento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 Puede </a:t>
            </a:r>
            <a:r>
              <a:rPr b="0" lang="es-ES" sz="2200" spc="-1" strike="noStrike" u="sng">
                <a:solidFill>
                  <a:srgbClr val="000000"/>
                </a:solidFill>
                <a:uFillTx/>
                <a:latin typeface="Tahoma"/>
              </a:rPr>
              <a:t>generar conocimiento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por medio de la sociabilización. Permite externalización y la combinación en la generación de contenidos. Generalmente No integrado a los proce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86600" y="2133720"/>
            <a:ext cx="7290720" cy="2586600"/>
            <a:chOff x="786600" y="2133720"/>
            <a:chExt cx="7290720" cy="2586600"/>
          </a:xfrm>
        </p:grpSpPr>
        <p:sp>
          <p:nvSpPr>
            <p:cNvPr id="166" name=""/>
            <p:cNvSpPr/>
            <p:nvPr/>
          </p:nvSpPr>
          <p:spPr>
            <a:xfrm>
              <a:off x="862200" y="3299040"/>
              <a:ext cx="877320" cy="3988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24480" y="2384640"/>
              <a:ext cx="1752840" cy="70380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Generador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de conten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24560" y="3527640"/>
              <a:ext cx="1155960" cy="3988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I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34120" y="2743200"/>
              <a:ext cx="914400" cy="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1960" y="2909880"/>
              <a:ext cx="1066680" cy="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257800" y="3657600"/>
              <a:ext cx="91440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61960" y="3214440"/>
              <a:ext cx="106668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720" y="2505240"/>
              <a:ext cx="1139760" cy="3988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6600" y="3908520"/>
              <a:ext cx="1212480" cy="3988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vee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2133720"/>
              <a:ext cx="1981080" cy="1904760"/>
            </a:xfrm>
            <a:prstGeom prst="ellipse">
              <a:avLst/>
            </a:prstGeom>
            <a:solidFill>
              <a:srgbClr val="3333cc"/>
            </a:solidFill>
            <a:ln w="47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3200400"/>
              <a:ext cx="1143000" cy="761400"/>
            </a:xfrm>
            <a:prstGeom prst="can">
              <a:avLst>
                <a:gd name="adj" fmla="val 25000"/>
              </a:avLst>
            </a:prstGeom>
            <a:solidFill>
              <a:srgbClr val="cc6600"/>
            </a:solidFill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Base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cono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7760" y="2360880"/>
              <a:ext cx="184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66"/>
                  </a:solidFill>
                  <a:latin typeface="Arial"/>
                </a:rPr>
                <a:t>Plataform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cc66"/>
                  </a:solidFill>
                  <a:latin typeface="Arial"/>
                </a:rPr>
                <a:t>de e-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7800" y="4113720"/>
              <a:ext cx="20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Arial Narrow"/>
                </a:rPr>
                <a:t>Conocimiento explíc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3520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Conocimiento tác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3720" y="2133720"/>
              <a:ext cx="152280" cy="236196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98280 h 2361960"/>
                <a:gd name="textAreaBottom" fmla="*/ 2263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438280" y="3519360"/>
              <a:ext cx="1067040" cy="0"/>
            </a:xfrm>
            <a:prstGeom prst="line">
              <a:avLst/>
            </a:prstGeom>
            <a:ln w="4752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SISTEMAS DE GESTION DEL CONO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3716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artir documentos, compartir información, comunicación sincrónica y asincrónica en torno al trabajo, entornos colaborativos en grupos de trabajo, registración de mejores prácticas, identificar fuentes y redes de experiencia, Estructurar y mapear necesidades de conocimiento, medir y valuar 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00200" y="3657600"/>
            <a:ext cx="5865840" cy="2666520"/>
            <a:chOff x="1600200" y="3657600"/>
            <a:chExt cx="5865840" cy="2666520"/>
          </a:xfrm>
        </p:grpSpPr>
        <p:grpSp>
          <p:nvGrpSpPr>
            <p:cNvPr id="185" name=""/>
            <p:cNvGrpSpPr/>
            <p:nvPr/>
          </p:nvGrpSpPr>
          <p:grpSpPr>
            <a:xfrm>
              <a:off x="1876320" y="3790800"/>
              <a:ext cx="5362200" cy="2533320"/>
              <a:chOff x="1876320" y="3790800"/>
              <a:chExt cx="5362200" cy="2533320"/>
            </a:xfrm>
          </p:grpSpPr>
          <p:graphicFrame>
            <p:nvGraphicFramePr>
              <p:cNvPr id="186" name=""/>
              <p:cNvGraphicFramePr/>
              <p:nvPr/>
            </p:nvGraphicFramePr>
            <p:xfrm>
              <a:off x="5085360" y="3855600"/>
              <a:ext cx="924120" cy="783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8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85360" y="3855600"/>
                        <a:ext cx="924120" cy="78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8" name=""/>
              <p:cNvGraphicFramePr/>
              <p:nvPr/>
            </p:nvGraphicFramePr>
            <p:xfrm>
              <a:off x="6314400" y="4179600"/>
              <a:ext cx="924120" cy="78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14400" y="4179600"/>
                        <a:ext cx="924120" cy="78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0" name=""/>
              <p:cNvGraphicFramePr/>
              <p:nvPr/>
            </p:nvGraphicFramePr>
            <p:xfrm>
              <a:off x="5699880" y="5151960"/>
              <a:ext cx="924120" cy="783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99880" y="5151960"/>
                        <a:ext cx="924120" cy="78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2" name=""/>
              <p:cNvGraphicFramePr/>
              <p:nvPr/>
            </p:nvGraphicFramePr>
            <p:xfrm>
              <a:off x="3583080" y="5540760"/>
              <a:ext cx="924120" cy="783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83080" y="5540760"/>
                        <a:ext cx="924120" cy="78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4" name=""/>
              <p:cNvGraphicFramePr/>
              <p:nvPr/>
            </p:nvGraphicFramePr>
            <p:xfrm>
              <a:off x="3241800" y="3790800"/>
              <a:ext cx="924120" cy="783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41800" y="3790800"/>
                        <a:ext cx="924120" cy="78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6" name=""/>
              <p:cNvGraphicFramePr/>
              <p:nvPr/>
            </p:nvGraphicFramePr>
            <p:xfrm>
              <a:off x="1876320" y="4763160"/>
              <a:ext cx="924480" cy="783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876320" y="4763160"/>
                        <a:ext cx="924480" cy="78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3036960" y="4568400"/>
                <a:ext cx="2594160" cy="842760"/>
              </a:xfrm>
              <a:prstGeom prst="ellipse">
                <a:avLst/>
              </a:prstGeom>
              <a:noFill/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695320" y="5022000"/>
                <a:ext cx="341280" cy="12924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4334040" y="5411520"/>
                <a:ext cx="136440" cy="3888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5494680" y="5151960"/>
                <a:ext cx="340920" cy="324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562720" y="4633560"/>
                <a:ext cx="819000" cy="1944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811760" y="4244400"/>
                <a:ext cx="340920" cy="3888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09840" y="4244400"/>
                <a:ext cx="0" cy="5184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886200" y="4648320"/>
              <a:ext cx="990720" cy="685800"/>
            </a:xfrm>
            <a:prstGeom prst="flowChartMagneticDisk">
              <a:avLst/>
            </a:prstGeom>
            <a:solidFill>
              <a:srgbClr val="808080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pensador" descr=""/>
            <p:cNvPicPr/>
            <p:nvPr/>
          </p:nvPicPr>
          <p:blipFill>
            <a:blip r:embed="rId13"/>
            <a:stretch/>
          </p:blipFill>
          <p:spPr>
            <a:xfrm>
              <a:off x="5791320" y="3733920"/>
              <a:ext cx="3794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ensador" descr=""/>
            <p:cNvPicPr/>
            <p:nvPr/>
          </p:nvPicPr>
          <p:blipFill>
            <a:blip r:embed="rId14"/>
            <a:stretch/>
          </p:blipFill>
          <p:spPr>
            <a:xfrm>
              <a:off x="7086600" y="4267080"/>
              <a:ext cx="379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ensador" descr=""/>
            <p:cNvPicPr/>
            <p:nvPr/>
          </p:nvPicPr>
          <p:blipFill>
            <a:blip r:embed="rId15"/>
            <a:stretch/>
          </p:blipFill>
          <p:spPr>
            <a:xfrm>
              <a:off x="6400800" y="5257800"/>
              <a:ext cx="379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ensador" descr=""/>
            <p:cNvPicPr/>
            <p:nvPr/>
          </p:nvPicPr>
          <p:blipFill>
            <a:blip r:embed="rId16"/>
            <a:stretch/>
          </p:blipFill>
          <p:spPr>
            <a:xfrm>
              <a:off x="4267080" y="5638680"/>
              <a:ext cx="379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ensador" descr=""/>
            <p:cNvPicPr/>
            <p:nvPr/>
          </p:nvPicPr>
          <p:blipFill>
            <a:blip r:embed="rId17"/>
            <a:stretch/>
          </p:blipFill>
          <p:spPr>
            <a:xfrm>
              <a:off x="1600200" y="4876920"/>
              <a:ext cx="3794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ensador" descr=""/>
            <p:cNvPicPr/>
            <p:nvPr/>
          </p:nvPicPr>
          <p:blipFill>
            <a:blip r:embed="rId18"/>
            <a:stretch/>
          </p:blipFill>
          <p:spPr>
            <a:xfrm>
              <a:off x="3962520" y="3657600"/>
              <a:ext cx="37944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L FOCO: LOS ASPECTOS ORGANIZACIONALES. </a:t>
            </a:r>
            <a:br>
              <a:rPr sz="3000"/>
            </a:br>
            <a:r>
              <a:rPr b="0" lang="es-ES" sz="2600" spc="-1" strike="noStrike">
                <a:solidFill>
                  <a:srgbClr val="0000ff"/>
                </a:solidFill>
                <a:latin typeface="Tahoma"/>
              </a:rPr>
              <a:t>ALGUNOS PUNTOS RELEVANTES PARA LA IMPLANT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360" y="1295280"/>
            <a:ext cx="81691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El faro”: Definir de que manera el conocimiento aporta al nego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Debe quedar claro que la implementación del proyecto no es un tema de tecnología, de implantación de un software, sino principalmente un importante cambio organiz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Esclarecer y formalizar el capital intelectual de la organización: Por donde pasa ? Quienes producen el conocimiento organizacion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Se debe generar una cultura donde compatir el conocimiento es premiado. Es importante entender la diferencia entre los objetivos personales y los objetivos organizacionales. Hay que detectar las incapac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1360" y="1523880"/>
            <a:ext cx="8397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ficar y generar las competencias que permiten a los individuos usar y procesar de manera inteligente 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Se deben definir los perfiles, responsabilidades e incentivos adecuados para aquellos individuos que participen activamente en la gestión (creadores, administradores de conocimiento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Se debe llevar al conocimiento a un nivel privilegiado en la valoración oranizacional. Debe ser impulsado, apoyado y monitoreado desde los niveles dire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Nunca olvidar que el individuo es la clave, pero como todo ser humano, es complej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L FOCO: LOS ASPECTOS ORGANIZACIONALES. </a:t>
            </a:r>
            <a:br>
              <a:rPr sz="3000"/>
            </a:br>
            <a:r>
              <a:rPr b="0" lang="es-ES" sz="2600" spc="-1" strike="noStrike">
                <a:solidFill>
                  <a:srgbClr val="0000ff"/>
                </a:solidFill>
                <a:latin typeface="Tahoma"/>
              </a:rPr>
              <a:t>ALGUNOS PUNTOS RELEVANTES PARA LA IMPLANT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2760" y="1828800"/>
            <a:ext cx="8626320" cy="1677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La gestión del conocimiento NO es un proyecto tecnológico. La tecnología puede brindar el marco, pero la administración de la organización debe encargarse del conteni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ff"/>
                </a:solidFill>
                <a:latin typeface="Tahoma"/>
              </a:rPr>
              <a:t>EL CONOCIMIENTO Y LAS 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88620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Tahoma"/>
              </a:rPr>
              <a:t>"Crear conocimiento llegará a ser la clave para sostener la ventaja competitiva en el futuro.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I. No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629760" y="589716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ic. Ernesto Chinkes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chinkes@econ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MS Mincho"/>
              </a:rPr>
              <a:t>GESTION DEL CONOCIMIENO Y TECNOLOGIAS DE LA INFORMACIÓ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MS Mincho"/>
              </a:rPr>
              <a:t>LAS TI, ¿ GENERADORAS O DESTRUCTORAS DE CONOCIMIENTO ?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35924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ahoma"/>
              </a:rPr>
              <a:t>II Congreso de Tecnologías de la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ahoma"/>
              </a:rPr>
              <a:t>Consejo Profesional de Ciencias Económicas la Ciudad Autónoma de Buenos 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ahoma"/>
              </a:rPr>
              <a:t>13 y 14 de Noviembre de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ahoma"/>
                <a:ea typeface="MS Mincho"/>
              </a:rPr>
              <a:t>Graci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s-ES" sz="2600" spc="-1" strike="noStrike">
                <a:solidFill>
                  <a:srgbClr val="0000ff"/>
                </a:solidFill>
                <a:latin typeface="Tahoma"/>
              </a:rPr>
              <a:t>Si bien los ejecutivos aseguran que las personas son el activo mas importante que tienen en una organización, todavía tienen problemas en convertir esa visión en realidad.”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D. Ul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ff"/>
                </a:solidFill>
                <a:latin typeface="Tahoma"/>
              </a:rPr>
              <a:t>EL CONOCIMIENTO Y LAS 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9112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Tahoma"/>
              </a:rPr>
              <a:t>"Vivimos en una época en que la humanidad gracias a la ciencia y  a la tecnología está resolviendo la mayor parte de los problemas que parecían hace un tiempo, poco menos  que imposible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K. P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ensador" descr=""/>
          <p:cNvPicPr/>
          <p:nvPr/>
        </p:nvPicPr>
        <p:blipFill>
          <a:blip r:embed="rId1"/>
          <a:stretch/>
        </p:blipFill>
        <p:spPr>
          <a:xfrm>
            <a:off x="8101080" y="457200"/>
            <a:ext cx="64908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ahoma"/>
                <a:ea typeface="MS Mincho"/>
              </a:rPr>
              <a:t>GESTION DEL CONOCIMIENO Y TECNOLOGIAS DE LA INFORM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133720"/>
            <a:ext cx="8610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El conocimiento y su relación con las personas y la inform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La gestión del conocimiento organiz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El aporte de las TI en el manejo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Los riesgos de las TI en la Gestión del Cono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El aportes de las soluciones de TI en la Gestión del Cono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Apuntando bien el foco: Los aspectos organizacionale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nocimiento%20tecnologia" descr=""/>
          <p:cNvPicPr/>
          <p:nvPr/>
        </p:nvPicPr>
        <p:blipFill>
          <a:blip r:embed="rId2"/>
          <a:stretch/>
        </p:blipFill>
        <p:spPr>
          <a:xfrm>
            <a:off x="8272440" y="1066680"/>
            <a:ext cx="56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L CONOCIMIENTO Y LAS PERSO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6002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Diccionario de la Real Academia Españo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ocimiento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ntendimiento, inteligencia, razón natural. Efecto de cono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Conocer: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veriguar por el ejercicio de las facultades intelectuales la naturaleza, cualidades y relaciones de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3657600"/>
            <a:ext cx="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ensador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90180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L CONOCIMIENTO Y LA INFORMAC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124080" y="3733920"/>
            <a:ext cx="2666880" cy="1282680"/>
            <a:chOff x="3124080" y="3733920"/>
            <a:chExt cx="2666880" cy="1282680"/>
          </a:xfrm>
        </p:grpSpPr>
        <p:sp>
          <p:nvSpPr>
            <p:cNvPr id="64" name=""/>
            <p:cNvSpPr/>
            <p:nvPr/>
          </p:nvSpPr>
          <p:spPr>
            <a:xfrm>
              <a:off x="495288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2408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3733920"/>
              <a:ext cx="2666880" cy="4597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943600" y="3733920"/>
            <a:ext cx="2666880" cy="1282680"/>
            <a:chOff x="5943600" y="3733920"/>
            <a:chExt cx="2666880" cy="1282680"/>
          </a:xfrm>
        </p:grpSpPr>
        <p:sp>
          <p:nvSpPr>
            <p:cNvPr id="69" name=""/>
            <p:cNvSpPr/>
            <p:nvPr/>
          </p:nvSpPr>
          <p:spPr>
            <a:xfrm>
              <a:off x="777240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3733920"/>
              <a:ext cx="2666880" cy="4597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04920" y="3733920"/>
            <a:ext cx="2666880" cy="1282680"/>
            <a:chOff x="304920" y="3733920"/>
            <a:chExt cx="2666880" cy="1282680"/>
          </a:xfrm>
        </p:grpSpPr>
        <p:sp>
          <p:nvSpPr>
            <p:cNvPr id="74" name=""/>
            <p:cNvSpPr/>
            <p:nvPr/>
          </p:nvSpPr>
          <p:spPr>
            <a:xfrm>
              <a:off x="213372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1932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920" y="4191120"/>
              <a:ext cx="838080" cy="825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</a:rPr>
                <a:t>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3733920"/>
              <a:ext cx="2666880" cy="4597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04920" y="3092400"/>
            <a:ext cx="83055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384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29718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680" y="5207040"/>
            <a:ext cx="790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yor información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Mayor</a:t>
            </a: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onocimiento 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ensador" descr=""/>
          <p:cNvPicPr/>
          <p:nvPr/>
        </p:nvPicPr>
        <p:blipFill>
          <a:blip r:embed="rId1"/>
          <a:stretch/>
        </p:blipFill>
        <p:spPr>
          <a:xfrm>
            <a:off x="7772400" y="1676520"/>
            <a:ext cx="90180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L CONOCIMIENTO OCUPA LUG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752480"/>
            <a:ext cx="5333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Capacidad de “producción” de conocimiento limitad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1136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osibilidad de encontrar la información necesaria para obtener el conocimiento bus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similación limitada: entender y compren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empo limi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ensado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90180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CONOCIMIENTO TÁCITOS Y EXPLICITO: SU DINÁMICA ORGANIZACIONA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43200" y="2514600"/>
            <a:ext cx="4114800" cy="3429000"/>
            <a:chOff x="2743200" y="2514600"/>
            <a:chExt cx="4114800" cy="3429000"/>
          </a:xfrm>
        </p:grpSpPr>
        <p:sp>
          <p:nvSpPr>
            <p:cNvPr id="89" name=""/>
            <p:cNvSpPr/>
            <p:nvPr/>
          </p:nvSpPr>
          <p:spPr>
            <a:xfrm>
              <a:off x="2743200" y="2514600"/>
              <a:ext cx="4114800" cy="3429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2514600"/>
              <a:ext cx="3962160" cy="342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0600" y="251460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426708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54600" y="35812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o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3880" y="4343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Inter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636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xter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87440" y="43434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541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á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715760" y="3160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á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715760" y="4836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bro" descr=""/>
          <p:cNvPicPr/>
          <p:nvPr/>
        </p:nvPicPr>
        <p:blipFill>
          <a:blip r:embed="rId1"/>
          <a:stretch/>
        </p:blipFill>
        <p:spPr>
          <a:xfrm>
            <a:off x="4991040" y="2895480"/>
            <a:ext cx="647640" cy="449280"/>
          </a:xfrm>
          <a:prstGeom prst="rect">
            <a:avLst/>
          </a:prstGeom>
          <a:ln w="0">
            <a:noFill/>
          </a:ln>
        </p:spPr>
      </p:pic>
      <p:pic>
        <p:nvPicPr>
          <p:cNvPr id="102" name="libro" descr=""/>
          <p:cNvPicPr/>
          <p:nvPr/>
        </p:nvPicPr>
        <p:blipFill>
          <a:blip r:embed="rId2"/>
          <a:stretch/>
        </p:blipFill>
        <p:spPr>
          <a:xfrm>
            <a:off x="5029200" y="4884840"/>
            <a:ext cx="647640" cy="449280"/>
          </a:xfrm>
          <a:prstGeom prst="rect">
            <a:avLst/>
          </a:prstGeom>
          <a:ln w="0">
            <a:noFill/>
          </a:ln>
        </p:spPr>
      </p:pic>
      <p:pic>
        <p:nvPicPr>
          <p:cNvPr id="103" name="libro" descr=""/>
          <p:cNvPicPr/>
          <p:nvPr/>
        </p:nvPicPr>
        <p:blipFill>
          <a:blip r:embed="rId3"/>
          <a:stretch/>
        </p:blipFill>
        <p:spPr>
          <a:xfrm>
            <a:off x="5372280" y="5105520"/>
            <a:ext cx="647640" cy="449280"/>
          </a:xfrm>
          <a:prstGeom prst="rect">
            <a:avLst/>
          </a:prstGeom>
          <a:ln w="0">
            <a:noFill/>
          </a:ln>
        </p:spPr>
      </p:pic>
      <p:pic>
        <p:nvPicPr>
          <p:cNvPr id="104" name="pensador" descr=""/>
          <p:cNvPicPr/>
          <p:nvPr/>
        </p:nvPicPr>
        <p:blipFill>
          <a:blip r:embed="rId4"/>
          <a:stretch/>
        </p:blipFill>
        <p:spPr>
          <a:xfrm>
            <a:off x="3645000" y="2971800"/>
            <a:ext cx="54108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pensador" descr=""/>
          <p:cNvPicPr/>
          <p:nvPr/>
        </p:nvPicPr>
        <p:blipFill>
          <a:blip r:embed="rId5"/>
          <a:stretch/>
        </p:blipFill>
        <p:spPr>
          <a:xfrm>
            <a:off x="4038480" y="2666880"/>
            <a:ext cx="5414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ensador" descr=""/>
          <p:cNvPicPr/>
          <p:nvPr/>
        </p:nvPicPr>
        <p:blipFill>
          <a:blip r:embed="rId6"/>
          <a:stretch/>
        </p:blipFill>
        <p:spPr>
          <a:xfrm>
            <a:off x="3886200" y="4800600"/>
            <a:ext cx="541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05320" y="3581280"/>
            <a:ext cx="3886200" cy="2438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GESTION DEL CONOCIMIENTO </a:t>
            </a:r>
            <a:br>
              <a:rPr sz="3000"/>
            </a:b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LA GENERACION Y GENERALIZAC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4520" y="22849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640" y="40374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ENER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657600"/>
            <a:ext cx="2590920" cy="2209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2670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0292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952880" y="4114800"/>
            <a:ext cx="12956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3480" y="406872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eloj%20-%20limite%20temporal" descr=""/>
          <p:cNvPicPr/>
          <p:nvPr/>
        </p:nvPicPr>
        <p:blipFill>
          <a:blip r:embed="rId1"/>
          <a:stretch/>
        </p:blipFill>
        <p:spPr>
          <a:xfrm>
            <a:off x="6553080" y="3809880"/>
            <a:ext cx="619200" cy="99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72200" y="5791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7880" y="1828800"/>
            <a:ext cx="226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nven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dquir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scubr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undamen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3840" y="4405320"/>
            <a:ext cx="1908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ifund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Compart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Busc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cce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Us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80680" y="45259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320" y="396252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5400" y="5745240"/>
            <a:ext cx="3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bdb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ff"/>
                </a:solidFill>
                <a:latin typeface="Tahoma"/>
              </a:rPr>
              <a:t>EVOLUCIÓN  DE LAS 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295280"/>
            <a:ext cx="82296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28600"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capacidad  (Almacenamiento, procesamiento y comunic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28600"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minución de los costos, por lo tanto mayores posibilidades de usar las nuevas capa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28600"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potencialidad y más facilidad en la administración y uso de las tecnolog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28600"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velocidad para registrar y recuperar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28600"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potencialidad para recolectar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28600" algn="just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cone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gina</cp:lastModifiedBy>
  <dcterms:modified xsi:type="dcterms:W3CDTF">2003-11-18T21:02:53Z</dcterms:modified>
  <cp:revision>107</cp:revision>
  <dc:subject/>
  <dc:title>PowerPoint Presentation</dc:title>
</cp:coreProperties>
</file>