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D62-C096-4010-88A9-876E9C69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376-31A1-4CD8-BF2C-F87E425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6B0-DF32-4E43-B123-AF713D09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93F-9019-421F-BFDD-52FCD67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FC4-11CE-45A6-A30B-229B162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693F-4B60-4655-89CB-4C1E913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D3A-333B-47D8-80C6-F5C9926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94C1-049C-454E-B34A-B92DE54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96F-D1F9-4C39-BB1B-7F8D58B1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E20-C05C-456F-A51B-8D21F6F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C3D3-4598-43BF-8820-D7C1436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BD8-EE87-4C68-B837-A9FD5CC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EB95-F49A-41E2-8B34-1AF7AD5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93A-9A4D-44F2-9105-84672CC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E85-54D0-4810-9C06-7398E69C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8B3-216E-4011-BFFC-130F4200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7CC6-B81A-4906-AE6E-C89AC78E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E28-3649-4B05-B63D-50F81AE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845-6F2B-461D-BFA7-4417CA0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3C4-9EBF-4022-BD53-9094B48B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ADF-A1C5-4FDA-9B3D-23B8B487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6FF-C830-4934-B9BF-31FB0B0B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392-944F-47F9-B324-311D492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43F-A175-4170-A5F3-41A2BC5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813-A65E-472E-9F50-B85B2814AF1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2DB-D7C3-4C49-A324-E3A2FAEC7FD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99"/>
                </a:solidFill>
                <a:latin typeface="Tahoma"/>
              </a:rPr>
              <a:t>Business Intelligence  Sistemas de Soporte a la Deci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Un Enfoque Prác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ugo M. Cas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Mario pregunta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¿Cómo un mes? ¿Acaso la información no está dentro de su computador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BS02064_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rlos responde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Sí, los datos están en la computadora, pero no tienen la estructura adecuada para contestar esas pregu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BD05552_" descr=""/>
          <p:cNvPicPr/>
          <p:nvPr/>
        </p:nvPicPr>
        <p:blipFill>
          <a:blip r:embed="rId1"/>
          <a:stretch/>
        </p:blipFill>
        <p:spPr>
          <a:xfrm>
            <a:off x="5145120" y="2508120"/>
            <a:ext cx="38098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rio queda convencido de que si los datos están guardados en la computadora tan difícil no debe ser obtener las respuestas que busca 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BS02064_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rlos queda convencido de que Mario siempre pide cosas diferentes y todo lo quiere para 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BD05552_" descr=""/>
          <p:cNvPicPr/>
          <p:nvPr/>
        </p:nvPicPr>
        <p:blipFill>
          <a:blip r:embed="rId1"/>
          <a:stretch/>
        </p:blipFill>
        <p:spPr>
          <a:xfrm>
            <a:off x="5145120" y="2508120"/>
            <a:ext cx="38098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Dónde está el problem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rio tiene razón en que los datos están en la computad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Y Carlos tiene razón en que no es fácil darles la forma que Mario neces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tre los dos enfoques hay una diferencia </a:t>
            </a:r>
            <a:r>
              <a:rPr b="1" i="1" lang="es-MX" sz="3200" spc="-1" strike="noStrike">
                <a:solidFill>
                  <a:srgbClr val="000000"/>
                </a:solidFill>
                <a:latin typeface="Tahoma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 Carlos le basta con manejar </a:t>
            </a:r>
            <a:r>
              <a:rPr b="0" i="1" lang="es-MX" sz="3200" spc="-1" strike="noStrike">
                <a:solidFill>
                  <a:srgbClr val="ff0000"/>
                </a:solidFill>
                <a:latin typeface="Tahoma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rio necesita extraer </a:t>
            </a:r>
            <a:r>
              <a:rPr b="0" i="1" lang="es-MX" sz="3200" spc="-1" strike="noStrike">
                <a:solidFill>
                  <a:srgbClr val="ff0000"/>
                </a:solidFill>
                <a:latin typeface="Tahoma"/>
              </a:rPr>
              <a:t>información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de esos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l proceso de toma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encuentran hech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explican en término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toman las decisiones correspond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Un Nuevo Tipo de B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i los datos están en la computadora pero la forma no es la adecuada, la solución 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REAR UNA BASE DE  DATOS CON LA FORMA ADECU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Un Nuevo Tipo de B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La base de datos </a:t>
            </a:r>
            <a:r>
              <a:rPr b="0" i="1" lang="es-AR" sz="3200" spc="-1" strike="noStrike">
                <a:solidFill>
                  <a:srgbClr val="ff0000"/>
                </a:solidFill>
                <a:latin typeface="Tahoma"/>
              </a:rPr>
              <a:t>con la estructura adecuada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es lo que se denom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Tahoma"/>
              </a:rPr>
              <a:t>DATA WARE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Es una base de datos separada de los sistemas transaccionales e independiente de el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Data Ware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Un Data Warehouse es una Base de Datos con una estructura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Orientada al Us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teg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Variable en el ti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No Volá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l C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piServ es una empresa de comidas rápidas con 20 locales que se distribuyen en tres zon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ovincia de Buenos Aire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t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Data Ware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UN DATA WAREHOUSE CONT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formación histó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Para visualizar tendencias y efectuar compar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formación consolid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Para acelerar la respuesta a las consul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Maneja grandes volúmenes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99"/>
                </a:solidFill>
                <a:latin typeface="Tahoma"/>
              </a:rPr>
              <a:t>Explotación de D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Empezamos por</a:t>
            </a: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producir los mismos informes que se estaban recibiendo hasta ah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El profesional de negocios los arma en forma intera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for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ara obtener los informes 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no es necesario escribir ningún prog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o puede definir el propio profesional de nego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herramienta que produce los informes está preparada para que él la uti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for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n estas herramientas queda resuelto el problema de la producción de informes, pero Mario y su gente encuentran 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LAS RESPUESTAS GENERAN PREGU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regun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Cómo se vende en cada sucursal por franja horar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Venden más las sucursales que tienen servicio en el au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Y las que tienen estacionamien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ahoma"/>
              </a:rPr>
              <a:t>Navegación de datos - OL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3320" y="695160"/>
            <a:ext cx="729612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b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04880" y="619128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05040" y="1905120"/>
            <a:ext cx="7365960" cy="4952160"/>
            <a:chOff x="905040" y="1905120"/>
            <a:chExt cx="7365960" cy="4952160"/>
          </a:xfrm>
        </p:grpSpPr>
        <p:sp>
          <p:nvSpPr>
            <p:cNvPr id="157" name=""/>
            <p:cNvSpPr/>
            <p:nvPr/>
          </p:nvSpPr>
          <p:spPr>
            <a:xfrm>
              <a:off x="4264920" y="1905120"/>
              <a:ext cx="148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imes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8615000">
              <a:off x="833400" y="242316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7598880" y="39315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o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159600" y="6378840"/>
              <a:ext cx="2111400" cy="478440"/>
              <a:chOff x="6159600" y="6378840"/>
              <a:chExt cx="2111400" cy="478440"/>
            </a:xfrm>
          </p:grpSpPr>
          <p:sp>
            <p:nvSpPr>
              <p:cNvPr id="161" name=""/>
              <p:cNvSpPr txBox="1"/>
              <p:nvPr/>
            </p:nvSpPr>
            <p:spPr>
              <a:xfrm>
                <a:off x="6708960" y="6378840"/>
                <a:ext cx="1562040" cy="47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ll, All, All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6159600" y="6441480"/>
                <a:ext cx="331920" cy="308160"/>
              </a:xfrm>
              <a:prstGeom prst="rightArrow">
                <a:avLst>
                  <a:gd name="adj1" fmla="val 50000"/>
                  <a:gd name="adj2" fmla="val 5386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51520" y="4843080"/>
              <a:ext cx="1015920" cy="92988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51520" y="4084920"/>
              <a:ext cx="1015920" cy="931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1520" y="3328560"/>
              <a:ext cx="1015920" cy="929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0360" y="5125320"/>
              <a:ext cx="1016280" cy="93132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70360" y="4368960"/>
              <a:ext cx="1016280" cy="929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70360" y="3614040"/>
              <a:ext cx="1016280" cy="9277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8120" y="5409360"/>
              <a:ext cx="1017360" cy="92988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8120" y="4654440"/>
              <a:ext cx="1017360" cy="9277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8120" y="3896640"/>
              <a:ext cx="1017360" cy="931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2640" y="33220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8320" y="2232000"/>
              <a:ext cx="747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4720" y="2598480"/>
              <a:ext cx="1017720" cy="92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95360" y="2881080"/>
              <a:ext cx="1014480" cy="93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12760" y="3165120"/>
              <a:ext cx="1016280" cy="92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1080" y="2598480"/>
              <a:ext cx="1014480" cy="92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2881080"/>
              <a:ext cx="1017720" cy="93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57320" y="3165120"/>
              <a:ext cx="1017720" cy="92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3840" y="2598480"/>
              <a:ext cx="1017720" cy="92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3040" y="2881080"/>
              <a:ext cx="1017720" cy="93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0440" y="3165120"/>
              <a:ext cx="1017720" cy="92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8400" y="2598480"/>
              <a:ext cx="1017720" cy="92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29040" y="2881080"/>
              <a:ext cx="1014480" cy="93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6440" y="3165120"/>
              <a:ext cx="1014480" cy="92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4760" y="2598480"/>
              <a:ext cx="1014480" cy="929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72160" y="2881080"/>
              <a:ext cx="1014480" cy="931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89560" y="3165120"/>
              <a:ext cx="1017720" cy="9295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744560" y="3421080"/>
              <a:ext cx="4393440" cy="3198240"/>
              <a:chOff x="1744560" y="3421080"/>
              <a:chExt cx="4393440" cy="3198240"/>
            </a:xfrm>
          </p:grpSpPr>
          <p:sp>
            <p:nvSpPr>
              <p:cNvPr id="190" name=""/>
              <p:cNvSpPr/>
              <p:nvPr/>
            </p:nvSpPr>
            <p:spPr>
              <a:xfrm>
                <a:off x="1744560" y="5691960"/>
                <a:ext cx="1017000" cy="927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89840" y="5691960"/>
                <a:ext cx="1014840" cy="927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44560" y="493488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46360" y="4204440"/>
                <a:ext cx="1017000" cy="92808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89840" y="493488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840" y="417780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3680" y="5691960"/>
                <a:ext cx="1017000" cy="927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33680" y="493488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33680" y="417780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77160" y="5691960"/>
                <a:ext cx="1017000" cy="927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77160" y="493488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77160" y="417780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23160" y="5691960"/>
                <a:ext cx="1014840" cy="927360"/>
              </a:xfrm>
              <a:prstGeom prst="cube">
                <a:avLst>
                  <a:gd name="adj" fmla="val 24995"/>
                </a:avLst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3160" y="493488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23160" y="417780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46360" y="344736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92360" y="344736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5840" y="344736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79680" y="3447360"/>
                <a:ext cx="1017000" cy="930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23160" y="3421080"/>
                <a:ext cx="1014840" cy="930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356000" y="2192040"/>
              <a:ext cx="1220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1320" y="238716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9840" y="29966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6680" y="27039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r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45880" y="221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41200" y="219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08720" y="218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35000" y="2256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78160" y="268776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36160" y="35002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enos A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85360" y="419400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2080" y="49867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124080" y="2895480"/>
            <a:ext cx="2011320" cy="1600200"/>
          </a:xfrm>
          <a:prstGeom prst="flowChartMagneticDisk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57200"/>
            <a:ext cx="6781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mpon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838080"/>
            <a:ext cx="6705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0880" y="342900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2057400"/>
            <a:ext cx="1968480" cy="3568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92880" y="3206880"/>
            <a:ext cx="901440" cy="749160"/>
          </a:xfrm>
          <a:prstGeom prst="rightArrow">
            <a:avLst>
              <a:gd name="adj1" fmla="val 75009"/>
              <a:gd name="adj2" fmla="val 601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903320" y="2666880"/>
            <a:ext cx="1648080" cy="2197080"/>
            <a:chOff x="1903320" y="2666880"/>
            <a:chExt cx="1648080" cy="2197080"/>
          </a:xfrm>
        </p:grpSpPr>
        <p:sp>
          <p:nvSpPr>
            <p:cNvPr id="229" name=""/>
            <p:cNvSpPr/>
            <p:nvPr/>
          </p:nvSpPr>
          <p:spPr>
            <a:xfrm>
              <a:off x="1927080" y="2666880"/>
              <a:ext cx="1206000" cy="2197080"/>
            </a:xfrm>
            <a:prstGeom prst="rightArrow">
              <a:avLst>
                <a:gd name="adj1" fmla="val 75009"/>
                <a:gd name="adj2" fmla="val 5000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3320" y="3170160"/>
              <a:ext cx="1648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nov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029200" y="6172200"/>
            <a:ext cx="190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3720" y="2743200"/>
            <a:ext cx="1702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1676520"/>
            <a:ext cx="1143000" cy="990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09680" y="1676520"/>
            <a:ext cx="932040" cy="914040"/>
            <a:chOff x="2209680" y="1676520"/>
            <a:chExt cx="932040" cy="914040"/>
          </a:xfrm>
        </p:grpSpPr>
        <p:sp>
          <p:nvSpPr>
            <p:cNvPr id="235" name=""/>
            <p:cNvSpPr/>
            <p:nvPr/>
          </p:nvSpPr>
          <p:spPr>
            <a:xfrm>
              <a:off x="2214360" y="2261520"/>
              <a:ext cx="920880" cy="3290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9680" y="1878840"/>
              <a:ext cx="932040" cy="568440"/>
            </a:xfrm>
            <a:custGeom>
              <a:avLst/>
              <a:gdLst/>
              <a:ahLst/>
              <a:rect l="l" t="t" r="r" b="b"/>
              <a:pathLst>
                <a:path w="769" h="413">
                  <a:moveTo>
                    <a:pt x="12" y="412"/>
                  </a:moveTo>
                  <a:lnTo>
                    <a:pt x="0" y="318"/>
                  </a:lnTo>
                  <a:lnTo>
                    <a:pt x="0" y="244"/>
                  </a:lnTo>
                  <a:lnTo>
                    <a:pt x="0" y="147"/>
                  </a:lnTo>
                  <a:lnTo>
                    <a:pt x="0" y="73"/>
                  </a:lnTo>
                  <a:lnTo>
                    <a:pt x="0" y="0"/>
                  </a:lnTo>
                  <a:lnTo>
                    <a:pt x="768" y="10"/>
                  </a:lnTo>
                  <a:lnTo>
                    <a:pt x="768" y="412"/>
                  </a:lnTo>
                  <a:lnTo>
                    <a:pt x="768" y="412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4360" y="1676520"/>
              <a:ext cx="920880" cy="3564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4920" y="2057400"/>
            <a:ext cx="95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133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7160" y="6035760"/>
            <a:ext cx="15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6000" y="617220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3352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rv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2362320"/>
            <a:ext cx="755640" cy="679320"/>
          </a:xfrm>
          <a:prstGeom prst="cube">
            <a:avLst>
              <a:gd name="adj" fmla="val 24995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4343400"/>
            <a:ext cx="679680" cy="679320"/>
          </a:xfrm>
          <a:prstGeom prst="cube">
            <a:avLst>
              <a:gd name="adj" fmla="val 24995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57200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57200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457200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6520" y="5562720"/>
            <a:ext cx="10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029200" y="2742840"/>
            <a:ext cx="68580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34120" y="487692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952880"/>
            <a:ext cx="67140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952880"/>
            <a:ext cx="67176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4952880"/>
            <a:ext cx="67140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600200"/>
            <a:ext cx="1805400" cy="3879720"/>
            <a:chOff x="228600" y="1600200"/>
            <a:chExt cx="1805400" cy="3879720"/>
          </a:xfrm>
        </p:grpSpPr>
        <p:sp>
          <p:nvSpPr>
            <p:cNvPr id="255" name=""/>
            <p:cNvSpPr/>
            <p:nvPr/>
          </p:nvSpPr>
          <p:spPr>
            <a:xfrm>
              <a:off x="907920" y="2895480"/>
              <a:ext cx="749160" cy="2732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1600200"/>
              <a:ext cx="1587240" cy="387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4400" y="2895480"/>
              <a:ext cx="749520" cy="2732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240" y="3200400"/>
              <a:ext cx="1661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acci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720" y="2133720"/>
              <a:ext cx="1098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ras Fuentes de Da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3120" y="4708440"/>
              <a:ext cx="69984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5400" y="4281480"/>
              <a:ext cx="70020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69840" y="3840120"/>
              <a:ext cx="70020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905120" y="15238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1600200"/>
            <a:ext cx="0" cy="4114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1600200"/>
            <a:ext cx="0" cy="4114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86600" y="6248520"/>
            <a:ext cx="208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952200" y="52196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3504960" y="4419360"/>
            <a:ext cx="152280" cy="3200400"/>
          </a:xfrm>
          <a:custGeom>
            <a:avLst/>
            <a:gdLst>
              <a:gd name="textAreaLeft" fmla="*/ 0 w 152280"/>
              <a:gd name="textAreaRight" fmla="*/ 5508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5981400" y="544824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7733880" y="499104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1676520"/>
            <a:ext cx="1523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dor O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25909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¿Y ahor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rio sabe que con OLAP puede contestar todas las preguntas que puede formular, per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¿y las que </a:t>
            </a:r>
            <a:r>
              <a:rPr b="0" i="1" lang="es-MX" sz="3200" spc="-1" strike="noStrike">
                <a:solidFill>
                  <a:srgbClr val="ff0000"/>
                </a:solidFill>
                <a:latin typeface="Tahoma"/>
              </a:rPr>
              <a:t>no puede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 formul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regun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A qué clientes me conviene ofrecer este nuevo produc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Cuántos pedidos de pollo vamos a tener durante las vacaciones de inviern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La compra de Cordon Bleu influye en la compra de papas frit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regun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respuesta a esas preguntas van a salir de un proceso llam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us menúes comprenden platos de carne y pollo, papas fritas y una variedad de ensaladas y post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supuesto ofrecen bebidas frías (gaseosas y agua mineral) y también bebidas calientes (té, café) y pastelería, principalmente a la mañ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 un proceso automático que permite extraer esquemas interesantes y no triviales de los datos y descubrir relaciones entre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Estamos ahogados en datos, pero sedientos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foque multidisciplinar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étodos matemá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ligencia Artifi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amos cómo un modelo de Data Mining ayuda a Mario a contestar una de las preguntas que se formula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¿La compra de Cordon Bleu influye en la compra de papas frit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el análisis del contenido de los tickets surge 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e un total de 500.000 ti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ay 60.000 que contienen Cordon Bl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ay 40.000 que contienen papas fri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e esos tickets hay 30.000 que contienen ambos produ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ay dos medidas que Mario debe tener en cuen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Soporte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: Qué proporción de los tickets tienen Cordon Bleu y papas fri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 este caso: 30.000/500.000 o sea el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6%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de los ti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dem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Confianza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: Qué proporción de los compradores de Cordon Bleu compran además papas fri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 este caso 30.000/60.000 o sea que el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50%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de los compradores de Cordon Bleu piden papas fri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é proporción de gente compra papas frit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40.000/500.000 o sea el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é proporción de gente que compra Cordon Bleu compra papas frit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cabamos de ver que es el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50%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conclusión es que el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empuje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de Cordon Bleu sobre las papas fritas es de 50/8 o sea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6,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to quiere decir que la gente que compra Cordon Bleu compra </a:t>
            </a: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6,25 veces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más papas fritas que el ´promedio de l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lotación de D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s clases de aplicaciones del Data Ware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cesamiento de Información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as, análisis estadísticos sencillos, infor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as, diagramas, gráf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cesamiento Analí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álisis multidimensional de d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ciones OLAP: slice-dice, drilling, rot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ubrimiento de esquemas ocul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os analíticos: predicción, asociación, segmenta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ónde se puede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Distintos tipos de empre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Ban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Segu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Medicina prepag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Fabr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mercio electró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ero su plato distintivo es una especialidad que recibe el nombre de Cordon Bleu, una comida con carne y verduras que tiene bastante acep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ónde se puede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Distintas á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Finanz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mp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Exped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Audit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José, el Presidente, obtiene la información que necesita en tiempo y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BD06784_" descr=""/>
          <p:cNvPicPr/>
          <p:nvPr/>
        </p:nvPicPr>
        <p:blipFill>
          <a:blip r:embed="rId1"/>
          <a:stretch/>
        </p:blipFill>
        <p:spPr>
          <a:xfrm>
            <a:off x="5145120" y="2313000"/>
            <a:ext cx="3809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rio, Director de Marketing, tiene a su gente analizando la información y no imaginando qué informes deberían p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BS02064_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 Carlos, el Encargado de  Sistemas, también le mejoró la vida: ya no le llegan pedidos de marketing con plazos imposibles de cump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BD05552_" descr=""/>
          <p:cNvPicPr/>
          <p:nvPr/>
        </p:nvPicPr>
        <p:blipFill>
          <a:blip r:embed="rId1"/>
          <a:stretch/>
        </p:blipFill>
        <p:spPr>
          <a:xfrm>
            <a:off x="5145120" y="2508120"/>
            <a:ext cx="38098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información adecu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 el plazo adecu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ara la persona adecu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ahoma"/>
              </a:rPr>
              <a:t>MEJORES DECI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ahoma"/>
              </a:rPr>
              <a:t>LA INTUICIÓN INFORMADA ES INSUPER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gocios Informáticos S.A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Muchas gracias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384-844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ugocastro@nisa.com.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José, el Presidente, dice: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Hay que aumentar las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BD06784_" descr=""/>
          <p:cNvPicPr/>
          <p:nvPr/>
        </p:nvPicPr>
        <p:blipFill>
          <a:blip r:embed="rId1"/>
          <a:stretch/>
        </p:blipFill>
        <p:spPr>
          <a:xfrm>
            <a:off x="5145120" y="2313000"/>
            <a:ext cx="3809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rio, Director de Marketing, se pregunta: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¿Qué podemos ofrecer a nuestros clien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S02064_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ara responder a esa pregunta, Mario necesita s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é productos se venden má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é sucursales venden mej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En qué horas hay más clien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é días de la semana son más flojo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¿Quién puede darle esa inform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rio sabe que Sistemas procesa los tickets de las sucursales en los procesos de stock de mercadería y contabilida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eso se dirige a Carlos, Encargado de Sist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apiSe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rlos, el Encargado de  Sistemas, recibe el pedido y estima que tendrá lista la información en un plazo de veinte días a un 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BD05552_" descr=""/>
          <p:cNvPicPr/>
          <p:nvPr/>
        </p:nvPicPr>
        <p:blipFill>
          <a:blip r:embed="rId1"/>
          <a:stretch/>
        </p:blipFill>
        <p:spPr>
          <a:xfrm>
            <a:off x="5145120" y="2508120"/>
            <a:ext cx="38098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21:52:20Z</dcterms:created>
  <dc:creator>Hugo Castro</dc:creator>
  <dc:description/>
  <dc:language>en-US</dc:language>
  <cp:lastModifiedBy>pagina</cp:lastModifiedBy>
  <dcterms:modified xsi:type="dcterms:W3CDTF">2003-11-18T21:08:11Z</dcterms:modified>
  <cp:revision>57</cp:revision>
  <dc:subject/>
  <dc:title>Data Warehouse y Sistemas de Soporte a la Decisión</dc:title>
</cp:coreProperties>
</file>