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2002, Title of Presentation, Speaker Name </a:t>
            </a: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</a:t>
            </a:r>
            <a:fld id="{67DECDFE-2326-4AA1-8B43-84020F7263AF}" type="slidenum">
              <a:rPr b="0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732040" y="4030200"/>
            <a:ext cx="6107040" cy="142092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180000" bIns="46800" anchor="t">
            <a:no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g. Angel Castañ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ente de IDEA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ltor de Empres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820600" y="133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mo la tecnología potencia la estrategia competitiva de la empresa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836720" y="58402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2440" y="6361200"/>
            <a:ext cx="4203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Frutiger-Bold"/>
              </a:rPr>
              <a:t>Idea </a:t>
            </a:r>
            <a:r>
              <a:rPr b="1" lang="es-ES_tradnl" sz="1000" spc="-1" strike="noStrike">
                <a:solidFill>
                  <a:srgbClr val="777777"/>
                </a:solidFill>
                <a:latin typeface="Arial"/>
              </a:rPr>
              <a:t>ESCUELA DE 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Temario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125280" y="6361200"/>
            <a:ext cx="42037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Frutiger-Bold"/>
              </a:rPr>
              <a:t>  </a:t>
            </a:r>
            <a:r>
              <a:rPr b="1" lang="es-ES_tradnl" sz="2800" spc="-1" strike="noStrike">
                <a:solidFill>
                  <a:srgbClr val="333399"/>
                </a:solidFill>
                <a:latin typeface="Frutiger-Bold"/>
              </a:rPr>
              <a:t>Idea </a:t>
            </a:r>
            <a:r>
              <a:rPr b="1" lang="es-ES_tradnl" sz="1000" spc="-1" strike="noStrike">
                <a:solidFill>
                  <a:srgbClr val="777777"/>
                </a:solidFill>
                <a:latin typeface="Arial"/>
              </a:rPr>
              <a:t>ESCUELA DE 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5800" y="828720"/>
            <a:ext cx="834876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iveles de decisión, Estrategia y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es de Valor: Potencial de mej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ocos de gerenciamiento de 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blero de Comando y la contribución de la 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de valor en las decisiones estraté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fluencia de la tecnología en el logro de las prioridade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todología de autodiagnóstico de los Hexágo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cnologías de información: Sistemas ERP, ev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de cambio, Factores de é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dición de resultados e Intensidad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cuencia de implementación de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</a:rPr>
              <a:t>Estrategia, Operación y Tecnología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25280" y="6361200"/>
            <a:ext cx="42037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Frutiger-Bold"/>
              </a:rPr>
              <a:t>  </a:t>
            </a:r>
            <a:r>
              <a:rPr b="1" lang="es-ES_tradnl" sz="2800" spc="-1" strike="noStrike">
                <a:solidFill>
                  <a:srgbClr val="333399"/>
                </a:solidFill>
                <a:latin typeface="Frutiger-Bold"/>
              </a:rPr>
              <a:t>Idea </a:t>
            </a:r>
            <a:r>
              <a:rPr b="1" lang="es-ES_tradnl" sz="1000" spc="-1" strike="noStrike">
                <a:solidFill>
                  <a:srgbClr val="777777"/>
                </a:solidFill>
                <a:latin typeface="Arial"/>
              </a:rPr>
              <a:t>ESCUELA DE 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4520" y="1058760"/>
            <a:ext cx="8224560" cy="4954680"/>
            <a:chOff x="614520" y="1058760"/>
            <a:chExt cx="8224560" cy="4954680"/>
          </a:xfrm>
        </p:grpSpPr>
        <p:sp>
          <p:nvSpPr>
            <p:cNvPr id="97" name=""/>
            <p:cNvSpPr/>
            <p:nvPr/>
          </p:nvSpPr>
          <p:spPr>
            <a:xfrm>
              <a:off x="614520" y="2506680"/>
              <a:ext cx="5994360" cy="350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8080" y="2049480"/>
              <a:ext cx="754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8080" y="1058760"/>
              <a:ext cx="5639040" cy="38124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strategia Corpora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2120" y="1744560"/>
              <a:ext cx="24382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irecciones Futu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9000" y="1744560"/>
              <a:ext cx="3048120" cy="533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rioridades competiti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15200" y="2887560"/>
              <a:ext cx="1523880" cy="10764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apacida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ctu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Necesar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lanifica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2735280"/>
              <a:ext cx="5715000" cy="380880"/>
            </a:xfrm>
            <a:prstGeom prst="rect">
              <a:avLst/>
            </a:prstGeom>
            <a:solidFill>
              <a:srgbClr val="99ff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strategia Operativas (de Areas funciona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05520" y="1440000"/>
              <a:ext cx="4680" cy="206280"/>
            </a:xfrm>
            <a:prstGeom prst="line">
              <a:avLst/>
            </a:prstGeom>
            <a:ln w="38160">
              <a:solidFill>
                <a:srgbClr val="c7199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1515960"/>
              <a:ext cx="11160" cy="169920"/>
            </a:xfrm>
            <a:prstGeom prst="line">
              <a:avLst/>
            </a:prstGeom>
            <a:ln w="38160">
              <a:solidFill>
                <a:srgbClr val="c7199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9200" y="2278080"/>
              <a:ext cx="0" cy="457200"/>
            </a:xfrm>
            <a:prstGeom prst="line">
              <a:avLst/>
            </a:prstGeom>
            <a:ln w="38160">
              <a:solidFill>
                <a:srgbClr val="c7199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53080" y="1135080"/>
              <a:ext cx="1683000" cy="1569960"/>
            </a:xfrm>
            <a:custGeom>
              <a:avLst/>
              <a:gdLst/>
              <a:ahLst/>
              <a:rect l="l" t="t" r="r" b="b"/>
              <a:pathLst>
                <a:path w="1296" h="864">
                  <a:moveTo>
                    <a:pt x="1296" y="864"/>
                  </a:moveTo>
                  <a:lnTo>
                    <a:pt x="129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c7199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120" y="3421080"/>
              <a:ext cx="5715000" cy="83808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strategias de posiciona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57400" y="2278080"/>
              <a:ext cx="0" cy="380880"/>
            </a:xfrm>
            <a:prstGeom prst="line">
              <a:avLst/>
            </a:prstGeom>
            <a:ln w="38160">
              <a:solidFill>
                <a:srgbClr val="c7199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81280" y="3116160"/>
              <a:ext cx="0" cy="297000"/>
            </a:xfrm>
            <a:prstGeom prst="line">
              <a:avLst/>
            </a:prstGeom>
            <a:ln w="38160">
              <a:solidFill>
                <a:srgbClr val="c7199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0" y="4564080"/>
              <a:ext cx="2590920" cy="1254240"/>
            </a:xfrm>
            <a:prstGeom prst="rect">
              <a:avLst/>
            </a:prstGeom>
            <a:solidFill>
              <a:srgbClr val="e5e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Decisiones de Dise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Nuevas Tecnología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iseño d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5320" y="4259160"/>
              <a:ext cx="0" cy="228600"/>
            </a:xfrm>
            <a:prstGeom prst="line">
              <a:avLst/>
            </a:prstGeom>
            <a:ln w="38160">
              <a:solidFill>
                <a:srgbClr val="c7199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6957000" y="3494520"/>
              <a:ext cx="893880" cy="1702080"/>
            </a:xfrm>
            <a:custGeom>
              <a:avLst/>
              <a:gdLst/>
              <a:ahLst/>
              <a:rect l="l" t="t" r="r" b="b"/>
              <a:pathLst>
                <a:path w="1296" h="864">
                  <a:moveTo>
                    <a:pt x="1296" y="864"/>
                  </a:moveTo>
                  <a:lnTo>
                    <a:pt x="129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c7199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2T16:26:36Z</dcterms:created>
  <dc:creator>I803199</dc:creator>
  <dc:description/>
  <dc:language>en-US</dc:language>
  <cp:lastModifiedBy>pagina</cp:lastModifiedBy>
  <dcterms:modified xsi:type="dcterms:W3CDTF">2003-11-18T21:04:44Z</dcterms:modified>
  <cp:revision>24</cp:revision>
  <dc:subject/>
  <dc:title>Title</dc:title>
</cp:coreProperties>
</file>