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83400" cy="9169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F533E2-2321-402A-8B58-ADF8830F7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90CAF3-5088-42D3-800A-C4D8DA82E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5AD749-BB5C-4DD8-AE6B-6059484F3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501639-0082-4233-871D-FC12BF301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C9DBB9-4367-41C6-BAF3-82EC656EC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69112E-9F42-44EE-84AF-F1A6CF17C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6CB828-6634-45F8-B414-BD9D125F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AABDA1-7584-4A20-8916-62DF855BD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928DFC-ACEB-402B-979D-DE8D90179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B3358F-0F6D-43C8-94D7-EECCA78CD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4D7339-30A0-4331-B39C-9E8EBF5E6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AD87C7-ED9C-45F4-AC70-ACAFD8539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27760" y="6370560"/>
            <a:ext cx="31399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3366"/>
                </a:solidFill>
                <a:latin typeface="Arial"/>
              </a:rPr>
              <a:t>II Congreso de Tecnologías de la I</a:t>
            </a:r>
            <a:r>
              <a:rPr b="0" i="1" lang="es-MX" sz="1200" spc="-1" strike="noStrike">
                <a:solidFill>
                  <a:srgbClr val="003366"/>
                </a:solidFill>
                <a:latin typeface="Arial"/>
              </a:rPr>
              <a:t>n</a:t>
            </a:r>
            <a:r>
              <a:rPr b="0" i="1" lang="es-ES" sz="1200" spc="-1" strike="noStrike">
                <a:solidFill>
                  <a:srgbClr val="003366"/>
                </a:solidFill>
                <a:latin typeface="Arial"/>
              </a:rPr>
              <a:t>formac</a:t>
            </a:r>
            <a:r>
              <a:rPr b="0" i="1" lang="es-MX" sz="1200" spc="-1" strike="noStrike">
                <a:solidFill>
                  <a:srgbClr val="003366"/>
                </a:solidFill>
                <a:latin typeface="Arial"/>
              </a:rPr>
              <a:t>ió</a:t>
            </a:r>
            <a:r>
              <a:rPr b="0" i="1" lang="es-ES" sz="1200" spc="-1" strike="noStrike">
                <a:solidFill>
                  <a:srgbClr val="003366"/>
                </a:solidFill>
                <a:latin typeface="Arial"/>
              </a:rPr>
              <a:t>n-CPCECABA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3366"/>
                </a:solidFill>
                <a:latin typeface="Arial"/>
              </a:rPr>
              <a:t>14/11/2003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3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4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5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39ED6-F3D2-430E-8D6A-F233C5EA6D28}" type="slidenum"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927760" y="6264360"/>
            <a:ext cx="31399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3366"/>
                </a:solidFill>
                <a:latin typeface="Arial"/>
              </a:rPr>
              <a:t>II Congreso de Tecnologías de la I</a:t>
            </a:r>
            <a:r>
              <a:rPr b="0" i="1" lang="es-MX" sz="1200" spc="-1" strike="noStrike">
                <a:solidFill>
                  <a:srgbClr val="003366"/>
                </a:solidFill>
                <a:latin typeface="Arial"/>
              </a:rPr>
              <a:t>n</a:t>
            </a:r>
            <a:r>
              <a:rPr b="0" i="1" lang="es-ES" sz="1200" spc="-1" strike="noStrike">
                <a:solidFill>
                  <a:srgbClr val="003366"/>
                </a:solidFill>
                <a:latin typeface="Arial"/>
              </a:rPr>
              <a:t>formac</a:t>
            </a:r>
            <a:r>
              <a:rPr b="0" i="1" lang="es-MX" sz="1200" spc="-1" strike="noStrike">
                <a:solidFill>
                  <a:srgbClr val="003366"/>
                </a:solidFill>
                <a:latin typeface="Arial"/>
              </a:rPr>
              <a:t>ió</a:t>
            </a:r>
            <a:r>
              <a:rPr b="0" i="1" lang="es-ES" sz="1200" spc="-1" strike="noStrike">
                <a:solidFill>
                  <a:srgbClr val="003366"/>
                </a:solidFill>
                <a:latin typeface="Arial"/>
              </a:rPr>
              <a:t>n-CPCECABA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3366"/>
                </a:solidFill>
                <a:latin typeface="Arial"/>
              </a:rPr>
              <a:t>14/11/2003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3366"/>
                </a:solidFill>
                <a:latin typeface="Arial"/>
              </a:rPr>
              <a:t>La industria del software ¿ es una </a:t>
            </a:r>
            <a:r>
              <a:rPr b="1" lang="es-AR" sz="3600" spc="-1" strike="noStrike">
                <a:solidFill>
                  <a:srgbClr val="003366"/>
                </a:solidFill>
                <a:latin typeface="Arial"/>
              </a:rPr>
              <a:t>oportunidad</a:t>
            </a:r>
            <a:r>
              <a:rPr b="0" lang="es-AR" sz="3600" spc="-1" strike="noStrike">
                <a:solidFill>
                  <a:srgbClr val="003366"/>
                </a:solidFill>
                <a:latin typeface="Arial"/>
              </a:rPr>
              <a:t> para la Argentina?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3366"/>
                </a:solidFill>
                <a:latin typeface="Arial"/>
              </a:rPr>
              <a:t>Dr. Jorge A. CASSIN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3366"/>
                </a:solidFill>
                <a:latin typeface="Arial"/>
              </a:rPr>
              <a:t>Para crecer hay que cree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3366"/>
                </a:solidFill>
                <a:latin typeface="Arial"/>
              </a:rPr>
              <a:t>La base esta!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3366"/>
                </a:solidFill>
                <a:latin typeface="Arial"/>
              </a:rPr>
              <a:t>Los recursos humanos estan!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3366"/>
                </a:solidFill>
                <a:latin typeface="Arial"/>
              </a:rPr>
              <a:t>La experiencia empresaria esta!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3366"/>
                </a:solidFill>
                <a:latin typeface="Arial"/>
              </a:rPr>
              <a:t>El mercado espera..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66"/>
                </a:solidFill>
                <a:latin typeface="Arial"/>
              </a:rPr>
              <a:t>Nos falta la POLÍTICA DE ESTADO para avanzar y participar!!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3366"/>
                </a:solidFill>
                <a:latin typeface="Arial"/>
              </a:rPr>
              <a:t>Como se mide el negocio de las TIC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Argentina consumira $ 5.000.000.000 para el 2003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Brinda trabajo directo e indirecto a 25.000 persona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El negocio mundial de las TICs en el año 2001 fue de u$s 900.000.000.00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India exporto u$s 9.000 millones e Irlanda u$s 4.000 millones en el 2001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3366"/>
                </a:solidFill>
                <a:latin typeface="Arial"/>
              </a:rPr>
              <a:t>Fortalez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RRHH calificados, experimentados y actualizados al estado del art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75 Universidades entre Publicas y Privadas que forman profesional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Sector empresario competitivo a nivel internacional India exporto u$s 9.000 millones e Irlanda u$s 4.000 millones en el 2001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La creatividad, innovación y capacidad de adecuarse a cambios del profesional Argentino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3366"/>
                </a:solidFill>
                <a:latin typeface="Arial"/>
              </a:rPr>
              <a:t>Oportunidad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66"/>
                </a:solidFill>
                <a:latin typeface="Arial"/>
              </a:rPr>
              <a:t>Contexto mundial demandante de mano de obra calificad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66"/>
                </a:solidFill>
                <a:latin typeface="Arial"/>
              </a:rPr>
              <a:t>Cierta resistencia a la producción Indi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66"/>
                </a:solidFill>
                <a:latin typeface="Arial"/>
              </a:rPr>
              <a:t>Huso horario mas favorable para USA y U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66"/>
                </a:solidFill>
                <a:latin typeface="Arial"/>
              </a:rPr>
              <a:t>Costo hora de la mano de obra competitivo a nivel internaciona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3366"/>
                </a:solidFill>
                <a:latin typeface="Arial"/>
              </a:rPr>
              <a:t>Debilidad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Desconocimiento del negocio mundial por la clase politic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Diaspora de Recursos Human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Dispersión de esfuerzos en las areas de gobiern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Dificultad de comprender que implica el negocio a nivel generalizad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Dudas en cuanto al modelo a emprende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Carencia de una imagen de país con Ciencia y Tecnologí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3366"/>
                </a:solidFill>
                <a:latin typeface="Arial"/>
              </a:rPr>
              <a:t>Amenaz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Alta competitividad de nivel mundial: India, Irlanda, Canadá, Australia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Ingreso el mercado internacional de Costa Rica y Urugua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Políticas de apoyo y desarrollo de las industrias en la regió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Negociaciones internacionales privilegiando agro-industria versus tecnología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3366"/>
                </a:solidFill>
                <a:latin typeface="Arial"/>
              </a:rPr>
              <a:t>Como organizarn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Concentrar esfuerzos en el orden nacional las politicas tecnologicas de: Industria, Producción, Ciencia y Tecnología, Educación, Comunicaciones, Gestión Pública, Trabajo y Cancilleria, en una sola función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Integrar las políticas de: INTA, INTI, CONAE, CONEA, CONICET Y CITEFA, para fortalecer la cadena de TI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3366"/>
                </a:solidFill>
                <a:latin typeface="Arial"/>
              </a:rPr>
              <a:t>Acciones a emprende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Fortalecer el mercado interno alentando a la inversión en TICs, tanto en el sector público como en el privad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Definir una política comercial para el mercado internacional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Redefinir las currículas de las 75 universidades orientandolas a formar diferente especialidades de profesional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Crear un organismo que coordine las políticas con representación del sector público, privado y universidades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3366"/>
                </a:solidFill>
                <a:latin typeface="Arial"/>
              </a:rPr>
              <a:t>Que podemos exporta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Soluciones normalizadas (se cobra propiedad intelectual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Software factoring o producción a pedid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Mesa de ayuda o call cente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Servicios de hosting o procesamient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Diseño de proyect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Mantenimiento de aplicacion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Toda actividad cerebro intensiv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0T18:39:59Z</dcterms:created>
  <dc:creator>Jorge Cassino</dc:creator>
  <dc:description/>
  <dc:language>en-US</dc:language>
  <cp:lastModifiedBy>pagina</cp:lastModifiedBy>
  <dcterms:modified xsi:type="dcterms:W3CDTF">2003-11-18T21:07:36Z</dcterms:modified>
  <cp:revision>16</cp:revision>
  <dc:subject/>
  <dc:title>La industria del software ¿ es una oportunidad para la Argentina?</dc:title>
</cp:coreProperties>
</file>