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2.png" ContentType="image/png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023ADC-B18C-47EE-8056-F4563C55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27080" y="569520"/>
            <a:ext cx="4803840" cy="366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66680" y="4419360"/>
            <a:ext cx="4724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acto principal en la mente de los ejecutivos que ven a internet como soporte fundamental de negocios ahora o en el largo plaz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mpresas tratan de agilizar el acceso a la información de los sistemas para los empleados, clientes, proveedores y socios de negoc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mpresas crean aplicaciones basadas en internet para mejorar su cadena de va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75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rma BS7799 / ISO1779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fidencialidad: asegurar que la información es accedida solo por quienes están autoriz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gridad:asegurar la veracidad y completitud de la información, que no está corrup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sponibilidad: asegurar que los usuarios autorizados pueden acceder a la información y recursos asociados en el momento en que lo necesit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luyen los conceptos de autenticación, autorización y no repu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mbientes cerrados no significa “centro de computo”, sino que había un cierto control fisico para acceder a los sistemas y a la información que limitaba el acc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bugs se mantenían a nivel de vendos o de pequeños grupos de researchers, que eran pocos por cier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software era caro, y no había recursos para su crackeo de manera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75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tráfico pasa por redes fuera de la empr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outsourcing, alianzas, teletrabajo también impulsan el uso distribuido de sistemas centrales a través d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ay información “al minuto” sobre los bugs públicos (ej. CERT.ORG, SecurityFocus.com) y en esto hay un gran debate, se deben hacer públicos los explo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soft es más barato, o se puede “crackear” facilmente, además de que los vendors dan versiones t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comunidad de la red trabaja sobre la segur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tes el riesgo era principalmente interno, ahora se agrega fuertemente el exter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os aumenta notablemente la probabilidad de que suceda un incidente de segur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fuentes externas toman preponderancias, porque son muchas más que los empleados y muchas veces no tienen una motivación partic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38320" y="676440"/>
            <a:ext cx="4530600" cy="345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133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ols que van desde comandos por browser a payloads en assembler para explotar buffers over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essus, sniffers, tools que sirver para soporte a la seguridad pero que también pueden ser utilizadas para h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F937-2F6E-4A2C-9384-843D928D1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12160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249440"/>
            <a:ext cx="812160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7F88-5D27-4C42-8972-DC0974919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636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63CA-5783-46A5-B8D8-9E07D6F0B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480" y="198072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06920" y="198072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24944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480" y="424944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06920" y="424944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D190-434C-4BB3-A624-4183F44D9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8121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1216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8121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5000"/>
              </a:lnSpc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8121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600B-E806-488B-84C0-24688E71F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36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249440"/>
            <a:ext cx="812160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12160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4249440"/>
            <a:ext cx="812160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7636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0480" y="198072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6920" y="198072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424944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0480" y="424944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6920" y="4249440"/>
            <a:ext cx="26150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1216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5700-423D-428B-8DFE-929EE8155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52ED-3526-4DA1-A993-01A06CD13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835D-B3BA-4284-96DC-6E15D4ED2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8121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5000"/>
              </a:lnSpc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0B74-F7AD-4D8C-9441-A5CE6698A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E47A-F03E-4BD7-B934-23A3833C0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360" y="424944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2F9C-F421-4D21-8E6B-4D55002E5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360" y="1980720"/>
            <a:ext cx="396324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249440"/>
            <a:ext cx="812160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44B9-4B2C-4672-80E0-32755AE9F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980720"/>
            <a:ext cx="81216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marL="210960" indent="-21096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-20484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6992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e2baba"/>
              </a:buClr>
              <a:buSzPct val="80000"/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-16992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41400" indent="-17928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941400" indent="-17928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941400" indent="-17928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821800" y="6953400"/>
            <a:ext cx="703080" cy="28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47680" y="6989760"/>
            <a:ext cx="40003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pyright  ©2003 by Deloitte &amp; Touche LLP, All Rights Reserv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o part of this publication may be reproduced, stored in any retrieval system, or transmitted in any form or by any means – electronic,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echanical, photocopying, recording or otherwise – without the express permission of Deloitte &amp; Touche LLP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43400" y="6989760"/>
            <a:ext cx="11239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ge  </a:t>
            </a:r>
            <a:fld id="{1BFBD39E-9575-4E22-840D-512F471165A8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304920"/>
            <a:ext cx="8661240" cy="2426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7e98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03480" y="1864800"/>
            <a:ext cx="5988240" cy="1079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20814" b="0"/>
          <a:stretch/>
        </p:blipFill>
        <p:spPr>
          <a:xfrm>
            <a:off x="0" y="0"/>
            <a:ext cx="22096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66880" y="2282760"/>
            <a:ext cx="228600" cy="2133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360" y="2276640"/>
            <a:ext cx="63183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1680" y="425520"/>
            <a:ext cx="1608120" cy="657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5000"/>
              </a:lnSpc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0" algn="ctr">
              <a:lnSpc>
                <a:spcPct val="95000"/>
              </a:lnSpc>
              <a:spcBef>
                <a:spcPts val="176"/>
              </a:spcBef>
              <a:spcAft>
                <a:spcPts val="524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9040" algn="ctr">
              <a:lnSpc>
                <a:spcPct val="95000"/>
              </a:lnSpc>
              <a:spcBef>
                <a:spcPts val="176"/>
              </a:spcBef>
              <a:buClr>
                <a:srgbClr val="e2baba"/>
              </a:buClr>
              <a:buSzPct val="80000"/>
              <a:buFont typeface="Arial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904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6212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7621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7621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mcarmuega@deloitte.com.ar" TargetMode="External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00240" y="2577960"/>
            <a:ext cx="5988240" cy="157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uevas Fronteras en el manejo de la Seguridad Informáti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08600" y="6321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iembre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66880" y="2743200"/>
            <a:ext cx="7839000" cy="3722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305920" cy="173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necesita un programa de Seguridad empresarial robusto e integral para que las organizaciones cambien el foco del proceso en IT a un foco más centrado en el negocio, y de esta forma, administrar los riesgos de manera más efec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791480" cy="403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524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67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ff"/>
                </a:solidFill>
                <a:latin typeface="Arial"/>
                <a:ea typeface="Arial"/>
              </a:rPr>
              <a:t>Un Programa de Seguridad empresar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5000"/>
              </a:lnSpc>
              <a:spcBef>
                <a:spcPts val="224"/>
              </a:spcBef>
              <a:spcAft>
                <a:spcPts val="675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Que una todos los elementos de control de seguridad, físicos, técnicos y organizacion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5000"/>
              </a:lnSpc>
              <a:spcBef>
                <a:spcPts val="224"/>
              </a:spcBef>
              <a:spcAft>
                <a:spcPts val="1500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Hacia un diseño de solución que combine los escenarios posibles de amenazas, los requerimientos legales y los “drivers” estratégicos del negoc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5000"/>
              </a:lnSpc>
              <a:spcBef>
                <a:spcPts val="224"/>
              </a:spcBef>
              <a:spcAft>
                <a:spcPts val="1500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Que asegure que los mismos están integrados operativamente con la arquitectura de IT, los procesos y la cultura de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5000"/>
              </a:lnSpc>
              <a:spcBef>
                <a:spcPts val="224"/>
              </a:spcBef>
              <a:spcAft>
                <a:spcPts val="1500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n resumen, que cubra las 4 p... (Procesos, procedimientos, productos, perso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D78D-6A79-4489-A4CD-9138E1A6B2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305920" cy="75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necesita …… un programa de Seguridad empresarial robusto e integral …. que cubra todos los eleme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0080" y="1887480"/>
            <a:ext cx="2725920" cy="4794480"/>
          </a:xfrm>
          <a:custGeom>
            <a:avLst/>
            <a:gdLst>
              <a:gd name="textAreaLeft" fmla="*/ 54000 w 2725920"/>
              <a:gd name="textAreaRight" fmla="*/ 2671920 w 2725920"/>
              <a:gd name="textAreaTop" fmla="*/ 54000 h 4794480"/>
              <a:gd name="textAreaBottom" fmla="*/ 4740480 h 4794480"/>
            </a:gdLst>
            <a:ahLst/>
            <a:rect l="textAreaLeft" t="textAreaTop" r="textAreaRight" b="textAreaBottom"/>
            <a:pathLst>
              <a:path w="21600" h="37989">
                <a:moveTo>
                  <a:pt x="1470" y="0"/>
                </a:moveTo>
                <a:arcTo wR="1470" hR="1470" stAng="16200000" swAng="-5400000"/>
                <a:lnTo>
                  <a:pt x="0" y="36519"/>
                </a:lnTo>
                <a:arcTo wR="1470" hR="1470" stAng="10800000" swAng="-5400000"/>
                <a:lnTo>
                  <a:pt x="20130" y="37989"/>
                </a:lnTo>
                <a:arcTo wR="1470" hR="1470" stAng="5400000" swAng="-5400000"/>
                <a:lnTo>
                  <a:pt x="21600" y="1470"/>
                </a:lnTo>
                <a:arcTo wR="1470" hR="1470" stAng="0" swAng="-5400000"/>
                <a:close/>
              </a:path>
            </a:pathLst>
          </a:custGeom>
          <a:gradFill rotWithShape="0">
            <a:gsLst>
              <a:gs pos="0">
                <a:srgbClr val="c9c9e3"/>
              </a:gs>
              <a:gs pos="100000">
                <a:srgbClr val="b3b3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0760" y="4030560"/>
            <a:ext cx="1257480" cy="2598840"/>
          </a:xfrm>
          <a:custGeom>
            <a:avLst/>
            <a:gdLst>
              <a:gd name="textAreaLeft" fmla="*/ 37800 w 1257480"/>
              <a:gd name="textAreaRight" fmla="*/ 1219680 w 1257480"/>
              <a:gd name="textAreaTop" fmla="*/ 37800 h 2598840"/>
              <a:gd name="textAreaBottom" fmla="*/ 2561040 h 2598840"/>
            </a:gdLst>
            <a:ahLst/>
            <a:rect l="textAreaLeft" t="textAreaTop" r="textAreaRight" b="textAreaBottom"/>
            <a:pathLst>
              <a:path w="21600" h="44634">
                <a:moveTo>
                  <a:pt x="2222" y="0"/>
                </a:moveTo>
                <a:arcTo wR="2222" hR="2222" stAng="16200000" swAng="-5400000"/>
                <a:lnTo>
                  <a:pt x="0" y="42412"/>
                </a:lnTo>
                <a:arcTo wR="2222" hR="2222" stAng="10800000" swAng="-5400000"/>
                <a:lnTo>
                  <a:pt x="19378" y="44634"/>
                </a:lnTo>
                <a:arcTo wR="2222" hR="2222" stAng="5400000" swAng="-5400000"/>
                <a:lnTo>
                  <a:pt x="21600" y="2222"/>
                </a:lnTo>
                <a:arcTo wR="2222" hR="2222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93840" y="6081840"/>
            <a:ext cx="1112760" cy="398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Risk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93840" y="5519880"/>
            <a:ext cx="1112760" cy="3999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mpli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93840" y="4959360"/>
            <a:ext cx="1112760" cy="3999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Incident Respo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3840" y="4398840"/>
            <a:ext cx="1112760" cy="4003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Logging &amp;  Repo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4960" y="2241720"/>
            <a:ext cx="2584440" cy="1550880"/>
          </a:xfrm>
          <a:prstGeom prst="roundRect">
            <a:avLst>
              <a:gd name="adj" fmla="val 7403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6240" y="2522520"/>
            <a:ext cx="1119240" cy="3319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Policies &amp; Standa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76240" y="2932200"/>
            <a:ext cx="1119240" cy="3315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lassification &amp;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20760" y="2932200"/>
            <a:ext cx="1119240" cy="333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ystems Plan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6240" y="3343320"/>
            <a:ext cx="1119240" cy="3319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nfiguration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0760" y="3343320"/>
            <a:ext cx="1119240" cy="333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Development &amp; Mainte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0760" y="2522520"/>
            <a:ext cx="1119240" cy="3319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Proced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7040" y="4030560"/>
            <a:ext cx="1258920" cy="2598840"/>
          </a:xfrm>
          <a:custGeom>
            <a:avLst/>
            <a:gdLst>
              <a:gd name="textAreaLeft" fmla="*/ 41400 w 1258920"/>
              <a:gd name="textAreaRight" fmla="*/ 1217520 w 1258920"/>
              <a:gd name="textAreaTop" fmla="*/ 41400 h 2598840"/>
              <a:gd name="textAreaBottom" fmla="*/ 2557440 h 2598840"/>
            </a:gdLst>
            <a:ahLst/>
            <a:rect l="textAreaLeft" t="textAreaTop" r="textAreaRight" b="textAreaBottom"/>
            <a:pathLst>
              <a:path w="21600" h="44583">
                <a:moveTo>
                  <a:pt x="2436" y="0"/>
                </a:moveTo>
                <a:arcTo wR="2436" hR="2436" stAng="16200000" swAng="-5400000"/>
                <a:lnTo>
                  <a:pt x="0" y="42147"/>
                </a:lnTo>
                <a:arcTo wR="2436" hR="2436" stAng="10800000" swAng="-5400000"/>
                <a:lnTo>
                  <a:pt x="19164" y="44583"/>
                </a:lnTo>
                <a:arcTo wR="2436" hR="2436" stAng="5400000" swAng="-5400000"/>
                <a:lnTo>
                  <a:pt x="21600" y="2436"/>
                </a:lnTo>
                <a:arcTo wR="2436" hR="2436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57160" y="6132600"/>
            <a:ext cx="1136880" cy="34740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Third-Party    Ac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7160" y="5699160"/>
            <a:ext cx="1136880" cy="3477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Training &amp; Aware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7160" y="5265720"/>
            <a:ext cx="1136880" cy="3477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Roles &amp; Responsib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160" y="4832280"/>
            <a:ext cx="1136880" cy="3477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Perso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57160" y="4398840"/>
            <a:ext cx="1136880" cy="3477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3520" y="4913280"/>
            <a:ext cx="5761080" cy="1758960"/>
          </a:xfrm>
          <a:prstGeom prst="roundRect">
            <a:avLst>
              <a:gd name="adj" fmla="val 9514"/>
            </a:avLst>
          </a:prstGeom>
          <a:gradFill rotWithShape="0">
            <a:gsLst>
              <a:gs pos="0">
                <a:srgbClr val="c9c9e3"/>
              </a:gs>
              <a:gs pos="100000">
                <a:srgbClr val="b3b3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rastructure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0760" y="6153120"/>
            <a:ext cx="5654520" cy="476280"/>
          </a:xfrm>
          <a:prstGeom prst="roundRect">
            <a:avLst>
              <a:gd name="adj" fmla="val 10394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5640" y="6361200"/>
            <a:ext cx="1293840" cy="21564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Redunda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7560" y="6361200"/>
            <a:ext cx="1293840" cy="21564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Back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9840" y="6361200"/>
            <a:ext cx="1293480" cy="21564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ntin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41760" y="6362640"/>
            <a:ext cx="1293840" cy="21600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Recove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60760" y="5684760"/>
            <a:ext cx="5654520" cy="438120"/>
          </a:xfrm>
          <a:prstGeom prst="roundRect">
            <a:avLst>
              <a:gd name="adj" fmla="val 4227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81800" y="5880240"/>
            <a:ext cx="1746360" cy="20160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eg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11960" y="5880240"/>
            <a:ext cx="1744560" cy="20160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Network Dev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9960" y="5880240"/>
            <a:ext cx="1746360" cy="20160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Operating Syste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0760" y="5216400"/>
            <a:ext cx="5654520" cy="438120"/>
          </a:xfrm>
          <a:prstGeom prst="roundRect">
            <a:avLst>
              <a:gd name="adj" fmla="val 4227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5640" y="5396040"/>
            <a:ext cx="1293840" cy="21564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Phys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560" y="5396040"/>
            <a:ext cx="1293840" cy="21564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Intrusion / Mis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9840" y="5396040"/>
            <a:ext cx="1293480" cy="21564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n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41760" y="5397480"/>
            <a:ext cx="1293840" cy="21600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Vir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3520" y="3319560"/>
            <a:ext cx="5761080" cy="1538280"/>
          </a:xfrm>
          <a:prstGeom prst="roundRect">
            <a:avLst>
              <a:gd name="adj" fmla="val 9648"/>
            </a:avLst>
          </a:prstGeom>
          <a:gradFill rotWithShape="0">
            <a:gsLst>
              <a:gs pos="0">
                <a:srgbClr val="c9c9e3"/>
              </a:gs>
              <a:gs pos="100000">
                <a:srgbClr val="b3b3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vironment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52840" y="3600360"/>
            <a:ext cx="1382760" cy="1231920"/>
          </a:xfrm>
          <a:prstGeom prst="roundRect">
            <a:avLst>
              <a:gd name="adj" fmla="val 5523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erimeter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87800" y="3600360"/>
            <a:ext cx="1384560" cy="1231920"/>
          </a:xfrm>
          <a:prstGeom prst="roundRect">
            <a:avLst>
              <a:gd name="adj" fmla="val 5519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tern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3600360"/>
            <a:ext cx="1382760" cy="1231920"/>
          </a:xfrm>
          <a:prstGeom prst="roundRect">
            <a:avLst>
              <a:gd name="adj" fmla="val 5412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32880" y="3600360"/>
            <a:ext cx="1382400" cy="1231920"/>
          </a:xfrm>
          <a:prstGeom prst="roundRect">
            <a:avLst>
              <a:gd name="adj" fmla="val 4847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7080" y="3832200"/>
            <a:ext cx="1258920" cy="198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7080" y="4314960"/>
            <a:ext cx="1258920" cy="198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Wire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7080" y="4071960"/>
            <a:ext cx="1258920" cy="200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Extra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37080" y="4556160"/>
            <a:ext cx="1258920" cy="200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Dial-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57640" y="3832200"/>
            <a:ext cx="1260720" cy="198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Work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57640" y="4314960"/>
            <a:ext cx="1260720" cy="198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57640" y="4071960"/>
            <a:ext cx="1260720" cy="200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er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57640" y="4556160"/>
            <a:ext cx="1260720" cy="200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W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80000" y="3832200"/>
            <a:ext cx="1258920" cy="198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Web/eM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80000" y="4314960"/>
            <a:ext cx="1258920" cy="1983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Middlew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80000" y="4071960"/>
            <a:ext cx="1258920" cy="200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Enterpr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000" y="4556160"/>
            <a:ext cx="1258920" cy="2001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02720" y="3832200"/>
            <a:ext cx="1257120" cy="2509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r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02720" y="4167360"/>
            <a:ext cx="1257120" cy="25056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Equip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02720" y="4505400"/>
            <a:ext cx="1257120" cy="2509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3520" y="1881360"/>
            <a:ext cx="5761080" cy="13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9e3"/>
              </a:gs>
              <a:gs pos="100000">
                <a:srgbClr val="b3b3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73800" y="2178000"/>
            <a:ext cx="1827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cure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6240" y="2454120"/>
            <a:ext cx="1662120" cy="69372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nfidentia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8280" y="2178000"/>
            <a:ext cx="1827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eliable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70720" y="2940120"/>
            <a:ext cx="1662120" cy="19368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ccountab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70720" y="2698920"/>
            <a:ext cx="1662120" cy="19368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Non-Repud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70720" y="2454120"/>
            <a:ext cx="1662120" cy="19548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Integ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60760" y="2178000"/>
            <a:ext cx="182736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4e4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Validat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43200" y="2940120"/>
            <a:ext cx="1662120" cy="19368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3200" y="2698920"/>
            <a:ext cx="1662120" cy="19368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uthent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43200" y="2454120"/>
            <a:ext cx="1662120" cy="195480"/>
          </a:xfrm>
          <a:prstGeom prst="rect">
            <a:avLst/>
          </a:prstGeom>
          <a:solidFill>
            <a:srgbClr val="e9e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0789-4125-462B-8230-51273C1EBB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necesita …… el uso de un modelo probado …... para establecer procesos de seguridad efectivos y sustentables en el tiempo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2960" y="1733400"/>
            <a:ext cx="6716880" cy="917640"/>
          </a:xfrm>
          <a:prstGeom prst="triangle">
            <a:avLst>
              <a:gd name="adj" fmla="val 50000"/>
            </a:avLst>
          </a:prstGeom>
          <a:solidFill>
            <a:srgbClr val="e2baba"/>
          </a:solidFill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orporate Governanc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and Executive Overs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42960" y="2693880"/>
            <a:ext cx="6716880" cy="468360"/>
          </a:xfrm>
          <a:prstGeom prst="rect">
            <a:avLst/>
          </a:prstGeom>
          <a:solidFill>
            <a:srgbClr val="e2baba"/>
          </a:solidFill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Business &amp; Security Management Organ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2960" y="3200400"/>
            <a:ext cx="6716880" cy="628560"/>
          </a:xfrm>
          <a:prstGeom prst="rect">
            <a:avLst/>
          </a:prstGeom>
          <a:solidFill>
            <a:srgbClr val="e2baba"/>
          </a:solidFill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2960" y="5486400"/>
            <a:ext cx="6718320" cy="1295280"/>
          </a:xfrm>
          <a:prstGeom prst="rect">
            <a:avLst/>
          </a:prstGeom>
          <a:solidFill>
            <a:srgbClr val="e2baba"/>
          </a:solidFill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Security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646280" y="5867280"/>
            <a:ext cx="6511680" cy="816120"/>
            <a:chOff x="1646280" y="5867280"/>
            <a:chExt cx="6511680" cy="816120"/>
          </a:xfrm>
        </p:grpSpPr>
        <p:sp>
          <p:nvSpPr>
            <p:cNvPr id="246" name=""/>
            <p:cNvSpPr/>
            <p:nvPr/>
          </p:nvSpPr>
          <p:spPr>
            <a:xfrm>
              <a:off x="1646280" y="5867280"/>
              <a:ext cx="1269720" cy="816120"/>
            </a:xfrm>
            <a:prstGeom prst="rect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riv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55960" y="5867280"/>
              <a:ext cx="1269720" cy="816120"/>
            </a:xfrm>
            <a:prstGeom prst="rect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dent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67080" y="5867280"/>
              <a:ext cx="1271520" cy="816120"/>
            </a:xfrm>
            <a:prstGeom prst="rect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80000" y="5867280"/>
              <a:ext cx="1268280" cy="816120"/>
            </a:xfrm>
            <a:prstGeom prst="rect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89680" y="5867280"/>
              <a:ext cx="1268280" cy="816120"/>
            </a:xfrm>
            <a:prstGeom prst="rect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ntinu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6400" y="3295800"/>
            <a:ext cx="5850000" cy="422280"/>
          </a:xfrm>
          <a:prstGeom prst="rect">
            <a:avLst/>
          </a:prstGeom>
          <a:solidFill>
            <a:srgbClr val="cacfe8"/>
          </a:solidFill>
          <a:ln w="0">
            <a:noFill/>
          </a:ln>
          <a:effectLst>
            <a:outerShdw dist="17819" dir="2700000" blurRad="0" rotWithShape="0">
              <a:srgbClr val="787b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Business Aligned Security Policies, Standards and Strateg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2960" y="3867120"/>
            <a:ext cx="6716880" cy="628560"/>
          </a:xfrm>
          <a:prstGeom prst="rect">
            <a:avLst/>
          </a:prstGeom>
          <a:solidFill>
            <a:srgbClr val="e2baba"/>
          </a:solidFill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Performance Monito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42960" y="4532400"/>
            <a:ext cx="2205000" cy="914400"/>
            <a:chOff x="1542960" y="4532400"/>
            <a:chExt cx="2205000" cy="914400"/>
          </a:xfrm>
        </p:grpSpPr>
        <p:sp>
          <p:nvSpPr>
            <p:cNvPr id="254" name=""/>
            <p:cNvSpPr/>
            <p:nvPr/>
          </p:nvSpPr>
          <p:spPr>
            <a:xfrm>
              <a:off x="1542960" y="4532400"/>
              <a:ext cx="2205000" cy="914400"/>
            </a:xfrm>
            <a:prstGeom prst="rect">
              <a:avLst/>
            </a:prstGeom>
            <a:solidFill>
              <a:srgbClr val="e2baba"/>
            </a:solidFill>
            <a:ln w="0">
              <a:noFill/>
            </a:ln>
            <a:effectLst>
              <a:outerShdw dist="17819" dir="2700000" blurRad="0" rotWithShape="0">
                <a:srgbClr val="876f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28720" y="4621320"/>
              <a:ext cx="1835280" cy="738000"/>
            </a:xfrm>
            <a:prstGeom prst="ellipse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Business Proces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054840" y="4533840"/>
            <a:ext cx="2205000" cy="914400"/>
            <a:chOff x="6054840" y="4533840"/>
            <a:chExt cx="2205000" cy="914400"/>
          </a:xfrm>
        </p:grpSpPr>
        <p:sp>
          <p:nvSpPr>
            <p:cNvPr id="257" name=""/>
            <p:cNvSpPr/>
            <p:nvPr/>
          </p:nvSpPr>
          <p:spPr>
            <a:xfrm>
              <a:off x="6054840" y="4533840"/>
              <a:ext cx="2205000" cy="914400"/>
            </a:xfrm>
            <a:prstGeom prst="rect">
              <a:avLst/>
            </a:prstGeom>
            <a:solidFill>
              <a:srgbClr val="e2baba"/>
            </a:solidFill>
            <a:ln w="0">
              <a:noFill/>
            </a:ln>
            <a:effectLst>
              <a:outerShdw dist="17819" dir="2700000" blurRad="0" rotWithShape="0">
                <a:srgbClr val="876f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0600" y="4621320"/>
              <a:ext cx="1834920" cy="738000"/>
            </a:xfrm>
            <a:prstGeom prst="ellipse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Security Management Proces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798720" y="4532400"/>
            <a:ext cx="2205360" cy="914400"/>
            <a:chOff x="3798720" y="4532400"/>
            <a:chExt cx="2205360" cy="914400"/>
          </a:xfrm>
        </p:grpSpPr>
        <p:sp>
          <p:nvSpPr>
            <p:cNvPr id="260" name=""/>
            <p:cNvSpPr/>
            <p:nvPr/>
          </p:nvSpPr>
          <p:spPr>
            <a:xfrm>
              <a:off x="3798720" y="4532400"/>
              <a:ext cx="2205360" cy="914400"/>
            </a:xfrm>
            <a:prstGeom prst="rect">
              <a:avLst/>
            </a:prstGeom>
            <a:solidFill>
              <a:srgbClr val="e2baba"/>
            </a:solidFill>
            <a:ln w="0">
              <a:noFill/>
            </a:ln>
            <a:effectLst>
              <a:outerShdw dist="17819" dir="2700000" blurRad="0" rotWithShape="0">
                <a:srgbClr val="876f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spcAft>
                  <a:spcPts val="312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83040" y="4621320"/>
              <a:ext cx="1835280" cy="738000"/>
            </a:xfrm>
            <a:prstGeom prst="ellipse">
              <a:avLst/>
            </a:prstGeom>
            <a:solidFill>
              <a:srgbClr val="cacfe8"/>
            </a:solidFill>
            <a:ln w="0">
              <a:noFill/>
            </a:ln>
            <a:effectLst>
              <a:outerShdw dist="17819" dir="2700000" blurRad="0" rotWithShape="0">
                <a:srgbClr val="787b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IT Management Proces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22F1-DDC5-41CB-8E20-0A5ABCE5E7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94000" y="1930320"/>
            <a:ext cx="6735600" cy="5004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914400" y="685800"/>
            <a:ext cx="8121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necesita …… 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lan para lograrlo….    paso a pas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D0CD-F8FA-403C-8257-79C4ABAC7F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6960" y="1682640"/>
            <a:ext cx="8458200" cy="4972320"/>
          </a:xfrm>
          <a:prstGeom prst="rect">
            <a:avLst/>
          </a:prstGeom>
          <a:solidFill>
            <a:srgbClr val="e6e8e0"/>
          </a:solidFill>
          <a:ln w="0">
            <a:noFill/>
          </a:ln>
          <a:effectLst>
            <a:outerShdw dist="17819" dir="2700000" blurRad="0" rotWithShape="0">
              <a:srgbClr val="898a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66680" indent="-1666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as iniciativas necesitan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orienten al negocio (especialmente anticipando cambios que requiera el negocio) y lleguen a cubrir la totalidad de la organización; las soluciones de seguridad no sólo impactan tecnología, sino también el 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implementen con el soporte de la Alta 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Reciban la aceptación de la organización, previo a su 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fundamenten en soluciones centrales, que se implementen a partir de planes graduales y sobre arquitecturas flex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os proyectos necesitan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asignen equipos con dedicación exclusiva y cuenten con una adecuada Administración de Proyecto, es decir que las actividades se administren a través de un Plan Integral (manejo de cronograma, presupuesto, indicadores de avanc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desarrollen procedimientos de comunicación y de escalación, ante probl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roll-out de la tecnología necesita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entienda el esfuerzo que implica integrar tecnología (herramientas, aplicacione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desarrollen procesos controlados y sustentabl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SzPct val="7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implementen pruebas pilotos y criterios de ace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406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os equipos de seguridad deben integrarse con perfiles técnicos (IT) y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21600" cy="4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unas lecciones aprendidas sobre segur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8032-E692-403C-BE0E-100DA38C3D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00240" y="2577960"/>
            <a:ext cx="5988240" cy="157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mpacto de internet en la Gestión de Seguridad Informáti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Internet y su impacto en negocios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080" y="2138400"/>
            <a:ext cx="828504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Internet es una </a:t>
            </a:r>
            <a:r>
              <a:rPr b="0" i="1" lang="es-MX" sz="2500" spc="-1" strike="noStrike">
                <a:solidFill>
                  <a:srgbClr val="000000"/>
                </a:solidFill>
                <a:latin typeface="Lucida Sans Unicode"/>
              </a:rPr>
              <a:t>Tecnología Habilitante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– un set de </a:t>
            </a:r>
            <a:r>
              <a:rPr b="0" lang="es-MX" sz="2500" spc="-1" strike="noStrike">
                <a:solidFill>
                  <a:srgbClr val="d51b07"/>
                </a:solidFill>
                <a:latin typeface="Lucida Sans Unicode"/>
              </a:rPr>
              <a:t>poderosas herramientas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que pueden ser utilizadas en casi </a:t>
            </a:r>
            <a:r>
              <a:rPr b="0" lang="es-MX" sz="2500" spc="-1" strike="noStrike">
                <a:solidFill>
                  <a:srgbClr val="d51b07"/>
                </a:solidFill>
                <a:latin typeface="Lucida Sans Unicode"/>
              </a:rPr>
              <a:t>cualquier industria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y como parte de casi </a:t>
            </a:r>
            <a:r>
              <a:rPr b="0" lang="es-MX" sz="2500" spc="-1" strike="noStrike">
                <a:solidFill>
                  <a:srgbClr val="d51b07"/>
                </a:solidFill>
                <a:latin typeface="Lucida Sans Unicode"/>
              </a:rPr>
              <a:t>cualquier estrategia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.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Michael E. Por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HBR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, Marzo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03400" y="3821040"/>
            <a:ext cx="2203560" cy="25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A33D-86C6-42A7-AE18-F58F4815DF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El impacto en la seguridad informática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120" y="2154240"/>
            <a:ext cx="60278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os principios son los mismo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8420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Confidencialidad, Integridad y Disponibilidad de la información (ISO 17.799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l contexto cambió radicalment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os riesgos cambiar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l proceso de seguridad informática cambió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027920" y="1776240"/>
            <a:ext cx="2363760" cy="24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DD71-0877-493F-BD3B-F15C2ED6502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En la era pre-Internet habí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120" y="2154240"/>
            <a:ext cx="60278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mbientes de procesamiento cerrados y control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No disponibilidad de información sobre bugs de segur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No disponibilidad del software para investigar su segur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8420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608960" y="1533600"/>
            <a:ext cx="1557360" cy="205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F789-77D6-44BC-A8E8-D7E95CCE3A9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En la era de Internet hay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120" y="2154240"/>
            <a:ext cx="60278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mbientes de procesamiento interconectados, abiertos al mundo, y soportado por múltiples dispositiv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Información pública sobre los problemas y bugs de seguridad del softw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Disponibilidad del software para su análisis e investigación (software barato, o piratería!!!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032600" y="1758960"/>
            <a:ext cx="2200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49D5-8DE1-4755-B83E-1F4AC1755B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21600" cy="4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28600" y="1455840"/>
            <a:ext cx="6500880" cy="414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marL="289080" indent="-230400">
              <a:lnSpc>
                <a:spcPct val="95000"/>
              </a:lnSpc>
              <a:spcBef>
                <a:spcPts val="675"/>
              </a:spcBef>
              <a:spcAft>
                <a:spcPts val="1125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nuevo Enfoque de Segurid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vas, desafí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cesidad de un Programa Integ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sos y modelos para implement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cciones aprend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30400">
              <a:lnSpc>
                <a:spcPct val="95000"/>
              </a:lnSpc>
              <a:spcBef>
                <a:spcPts val="675"/>
              </a:spcBef>
              <a:spcAft>
                <a:spcPts val="1125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o de Internet en la Gestión de Segurid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– impacto y nuevos ries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aques internos y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95000"/>
              </a:lnSpc>
              <a:spcBef>
                <a:spcPts val="201"/>
              </a:spcBef>
              <a:spcAft>
                <a:spcPts val="60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aves del Proceso de Administración de la Segu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5A91-6D6B-4E4C-89A7-ACB44B6508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Internet y el entorno de ries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120" y="1859040"/>
            <a:ext cx="5867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xtraordinario aumento de la exposición y visibilidad de la organización hacia el mund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Procesos de negocio clave basados en recursos públicos, no control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lta complejidad y volatilidad de la seguridad en las nuevas plataformas tecnológicas que soportan el nego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635880" y="1422360"/>
            <a:ext cx="263664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FEC4-1723-41BE-B796-96C2A1C4FE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Ataques internos y exte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51440" y="3905280"/>
            <a:ext cx="494640" cy="1114200"/>
            <a:chOff x="4051440" y="3905280"/>
            <a:chExt cx="494640" cy="1114200"/>
          </a:xfrm>
        </p:grpSpPr>
        <p:sp>
          <p:nvSpPr>
            <p:cNvPr id="284" name=""/>
            <p:cNvSpPr/>
            <p:nvPr/>
          </p:nvSpPr>
          <p:spPr>
            <a:xfrm>
              <a:off x="4453200" y="3905280"/>
              <a:ext cx="92880" cy="1077120"/>
            </a:xfrm>
            <a:custGeom>
              <a:avLst/>
              <a:gdLst/>
              <a:ahLst/>
              <a:rect l="l" t="t" r="r" b="b"/>
              <a:pathLst>
                <a:path w="56" h="636">
                  <a:moveTo>
                    <a:pt x="0" y="636"/>
                  </a:moveTo>
                  <a:lnTo>
                    <a:pt x="56" y="545"/>
                  </a:lnTo>
                  <a:lnTo>
                    <a:pt x="56" y="24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8360" y="3945960"/>
              <a:ext cx="95760" cy="1073520"/>
            </a:xfrm>
            <a:custGeom>
              <a:avLst/>
              <a:gdLst/>
              <a:ahLst/>
              <a:rect l="l" t="t" r="r" b="b"/>
              <a:pathLst>
                <a:path w="58" h="634">
                  <a:moveTo>
                    <a:pt x="0" y="634"/>
                  </a:moveTo>
                  <a:lnTo>
                    <a:pt x="58" y="543"/>
                  </a:lnTo>
                  <a:lnTo>
                    <a:pt x="58" y="0"/>
                  </a:lnTo>
                  <a:lnTo>
                    <a:pt x="0" y="91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74120" y="4100040"/>
              <a:ext cx="353880" cy="91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51440" y="4059000"/>
              <a:ext cx="376920" cy="923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51440" y="3905280"/>
              <a:ext cx="473040" cy="15372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0" y="91"/>
                  </a:moveTo>
                  <a:lnTo>
                    <a:pt x="227" y="91"/>
                  </a:lnTo>
                  <a:lnTo>
                    <a:pt x="285" y="0"/>
                  </a:lnTo>
                  <a:lnTo>
                    <a:pt x="5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28360" y="3905280"/>
              <a:ext cx="95760" cy="1077120"/>
            </a:xfrm>
            <a:custGeom>
              <a:avLst/>
              <a:gdLst/>
              <a:ahLst/>
              <a:rect l="l" t="t" r="r" b="b"/>
              <a:pathLst>
                <a:path w="58" h="636">
                  <a:moveTo>
                    <a:pt x="0" y="636"/>
                  </a:moveTo>
                  <a:lnTo>
                    <a:pt x="58" y="545"/>
                  </a:lnTo>
                  <a:lnTo>
                    <a:pt x="58" y="0"/>
                  </a:lnTo>
                  <a:lnTo>
                    <a:pt x="0" y="91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51440" y="4059000"/>
              <a:ext cx="376920" cy="18720"/>
            </a:xfrm>
            <a:custGeom>
              <a:avLst/>
              <a:gdLst/>
              <a:ahLst/>
              <a:rect l="l" t="t" r="r" b="b"/>
              <a:pathLst>
                <a:path w="227" h="11">
                  <a:moveTo>
                    <a:pt x="0" y="0"/>
                  </a:moveTo>
                  <a:lnTo>
                    <a:pt x="227" y="0"/>
                  </a:lnTo>
                  <a:lnTo>
                    <a:pt x="220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51440" y="4059000"/>
              <a:ext cx="9720" cy="923040"/>
            </a:xfrm>
            <a:custGeom>
              <a:avLst/>
              <a:gdLst/>
              <a:ahLst/>
              <a:rect l="l" t="t" r="r" b="b"/>
              <a:pathLst>
                <a:path w="6" h="545">
                  <a:moveTo>
                    <a:pt x="0" y="0"/>
                  </a:moveTo>
                  <a:lnTo>
                    <a:pt x="0" y="545"/>
                  </a:lnTo>
                  <a:lnTo>
                    <a:pt x="6" y="534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1440" y="4309920"/>
              <a:ext cx="376920" cy="1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1160" y="4328640"/>
              <a:ext cx="3672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51440" y="4579200"/>
              <a:ext cx="376920" cy="20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1160" y="4599720"/>
              <a:ext cx="36720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12080" y="4828320"/>
              <a:ext cx="69480" cy="7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51440" y="3905280"/>
              <a:ext cx="473040" cy="15372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285" y="0"/>
                  </a:moveTo>
                  <a:lnTo>
                    <a:pt x="277" y="13"/>
                  </a:lnTo>
                  <a:lnTo>
                    <a:pt x="56" y="1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56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837240" y="5495760"/>
            <a:ext cx="1164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Platafor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de Interne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917880" y="3089160"/>
          <a:ext cx="121932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7880" y="3089160"/>
                    <a:ext cx="1219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994200" y="2739960"/>
          <a:ext cx="6062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4200" y="2739960"/>
                    <a:ext cx="6062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554120" y="2143080"/>
          <a:ext cx="105084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2143080"/>
                    <a:ext cx="1050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127320" y="2670120"/>
          <a:ext cx="34452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7320" y="2670120"/>
                    <a:ext cx="344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2905920" y="2890800"/>
            <a:ext cx="808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>
            <a:off x="1181160" y="1601280"/>
            <a:ext cx="373680" cy="10422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9" name=""/>
          <p:cNvCxnSpPr/>
          <p:nvPr/>
        </p:nvCxnSpPr>
        <p:spPr>
          <a:xfrm>
            <a:off x="3471480" y="2817360"/>
            <a:ext cx="469080" cy="451800"/>
          </a:xfrm>
          <a:prstGeom prst="bentConnector3">
            <a:avLst>
              <a:gd name="adj1" fmla="val 4984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1171800" y="1887480"/>
            <a:ext cx="8953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/>
          <p:nvPr/>
        </p:nvCxnSpPr>
        <p:spPr>
          <a:xfrm>
            <a:off x="2604600" y="2642760"/>
            <a:ext cx="523080" cy="175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4273560" y="343836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44560" y="3228840"/>
            <a:ext cx="906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5745240" y="2460600"/>
          <a:ext cx="194940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45240" y="2460600"/>
                    <a:ext cx="194940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16" name=""/>
          <p:cNvCxnSpPr/>
          <p:nvPr/>
        </p:nvCxnSpPr>
        <p:spPr>
          <a:xfrm flipH="1" rot="16200000">
            <a:off x="5109480" y="2507040"/>
            <a:ext cx="54720" cy="1218240"/>
          </a:xfrm>
          <a:prstGeom prst="bentConnector4">
            <a:avLst>
              <a:gd name="adj1" fmla="val -423178"/>
              <a:gd name="adj2" fmla="val 74963"/>
            </a:avLst>
          </a:prstGeom>
          <a:ln w="324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5784840" y="3929040"/>
            <a:ext cx="19987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Redes Corpora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21680" y="1166760"/>
            <a:ext cx="241452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Tahoma"/>
              </a:rPr>
              <a:t>Riesgo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Empleados (o ex) “descontentos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Incidentes por errores de configuración de permis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014960" y="2257560"/>
            <a:ext cx="58716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124160"/>
            <a:ext cx="208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Tahoma"/>
              </a:rPr>
              <a:t>Riesgo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Virus/wor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Hackers (hacker, cracker, script kiddie, white hat/black hat, hacktivist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Tahoma"/>
              </a:rPr>
              <a:t>Espías industri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025640" y="3214800"/>
            <a:ext cx="795240" cy="83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210200" y="4067280"/>
            <a:ext cx="496440" cy="1113840"/>
            <a:chOff x="4210200" y="4067280"/>
            <a:chExt cx="496440" cy="1113840"/>
          </a:xfrm>
        </p:grpSpPr>
        <p:sp>
          <p:nvSpPr>
            <p:cNvPr id="323" name=""/>
            <p:cNvSpPr/>
            <p:nvPr/>
          </p:nvSpPr>
          <p:spPr>
            <a:xfrm>
              <a:off x="4613400" y="4067280"/>
              <a:ext cx="93240" cy="1076760"/>
            </a:xfrm>
            <a:custGeom>
              <a:avLst/>
              <a:gdLst/>
              <a:ahLst/>
              <a:rect l="l" t="t" r="r" b="b"/>
              <a:pathLst>
                <a:path w="56" h="636">
                  <a:moveTo>
                    <a:pt x="0" y="636"/>
                  </a:moveTo>
                  <a:lnTo>
                    <a:pt x="56" y="545"/>
                  </a:lnTo>
                  <a:lnTo>
                    <a:pt x="56" y="24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88560" y="4107960"/>
              <a:ext cx="96120" cy="1073160"/>
            </a:xfrm>
            <a:custGeom>
              <a:avLst/>
              <a:gdLst/>
              <a:ahLst/>
              <a:rect l="l" t="t" r="r" b="b"/>
              <a:pathLst>
                <a:path w="58" h="634">
                  <a:moveTo>
                    <a:pt x="0" y="634"/>
                  </a:moveTo>
                  <a:lnTo>
                    <a:pt x="58" y="543"/>
                  </a:lnTo>
                  <a:lnTo>
                    <a:pt x="58" y="0"/>
                  </a:lnTo>
                  <a:lnTo>
                    <a:pt x="0" y="91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33240" y="4261680"/>
              <a:ext cx="355320" cy="91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10200" y="4221000"/>
              <a:ext cx="378360" cy="92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10200" y="4067280"/>
              <a:ext cx="474840" cy="15372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0" y="91"/>
                  </a:moveTo>
                  <a:lnTo>
                    <a:pt x="227" y="91"/>
                  </a:lnTo>
                  <a:lnTo>
                    <a:pt x="285" y="0"/>
                  </a:lnTo>
                  <a:lnTo>
                    <a:pt x="5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88560" y="4067280"/>
              <a:ext cx="96120" cy="1076760"/>
            </a:xfrm>
            <a:custGeom>
              <a:avLst/>
              <a:gdLst/>
              <a:ahLst/>
              <a:rect l="l" t="t" r="r" b="b"/>
              <a:pathLst>
                <a:path w="58" h="636">
                  <a:moveTo>
                    <a:pt x="0" y="636"/>
                  </a:moveTo>
                  <a:lnTo>
                    <a:pt x="58" y="545"/>
                  </a:lnTo>
                  <a:lnTo>
                    <a:pt x="58" y="0"/>
                  </a:lnTo>
                  <a:lnTo>
                    <a:pt x="0" y="91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10200" y="4221000"/>
              <a:ext cx="378360" cy="18720"/>
            </a:xfrm>
            <a:custGeom>
              <a:avLst/>
              <a:gdLst/>
              <a:ahLst/>
              <a:rect l="l" t="t" r="r" b="b"/>
              <a:pathLst>
                <a:path w="227" h="11">
                  <a:moveTo>
                    <a:pt x="0" y="0"/>
                  </a:moveTo>
                  <a:lnTo>
                    <a:pt x="227" y="0"/>
                  </a:lnTo>
                  <a:lnTo>
                    <a:pt x="220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10200" y="4221000"/>
              <a:ext cx="9720" cy="922680"/>
            </a:xfrm>
            <a:custGeom>
              <a:avLst/>
              <a:gdLst/>
              <a:ahLst/>
              <a:rect l="l" t="t" r="r" b="b"/>
              <a:pathLst>
                <a:path w="6" h="545">
                  <a:moveTo>
                    <a:pt x="0" y="0"/>
                  </a:moveTo>
                  <a:lnTo>
                    <a:pt x="0" y="545"/>
                  </a:lnTo>
                  <a:lnTo>
                    <a:pt x="6" y="534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10200" y="4471920"/>
              <a:ext cx="378360" cy="1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19920" y="4490280"/>
              <a:ext cx="36828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10200" y="4741200"/>
              <a:ext cx="378360" cy="20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19920" y="4761360"/>
              <a:ext cx="36828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71560" y="4989960"/>
              <a:ext cx="69840" cy="7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10200" y="4067280"/>
              <a:ext cx="474840" cy="15372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285" y="0"/>
                  </a:moveTo>
                  <a:lnTo>
                    <a:pt x="277" y="13"/>
                  </a:lnTo>
                  <a:lnTo>
                    <a:pt x="56" y="1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56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370400" y="4230720"/>
            <a:ext cx="496440" cy="1112400"/>
            <a:chOff x="4370400" y="4230720"/>
            <a:chExt cx="496440" cy="1112400"/>
          </a:xfrm>
        </p:grpSpPr>
        <p:sp>
          <p:nvSpPr>
            <p:cNvPr id="338" name=""/>
            <p:cNvSpPr/>
            <p:nvPr/>
          </p:nvSpPr>
          <p:spPr>
            <a:xfrm>
              <a:off x="4773600" y="4230720"/>
              <a:ext cx="93240" cy="1075320"/>
            </a:xfrm>
            <a:custGeom>
              <a:avLst/>
              <a:gdLst/>
              <a:ahLst/>
              <a:rect l="l" t="t" r="r" b="b"/>
              <a:pathLst>
                <a:path w="56" h="636">
                  <a:moveTo>
                    <a:pt x="0" y="636"/>
                  </a:moveTo>
                  <a:lnTo>
                    <a:pt x="56" y="545"/>
                  </a:lnTo>
                  <a:lnTo>
                    <a:pt x="56" y="24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48760" y="4271040"/>
              <a:ext cx="96120" cy="1071720"/>
            </a:xfrm>
            <a:custGeom>
              <a:avLst/>
              <a:gdLst/>
              <a:ahLst/>
              <a:rect l="l" t="t" r="r" b="b"/>
              <a:pathLst>
                <a:path w="58" h="634">
                  <a:moveTo>
                    <a:pt x="0" y="634"/>
                  </a:moveTo>
                  <a:lnTo>
                    <a:pt x="58" y="543"/>
                  </a:lnTo>
                  <a:lnTo>
                    <a:pt x="58" y="0"/>
                  </a:lnTo>
                  <a:lnTo>
                    <a:pt x="0" y="91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93440" y="4425120"/>
              <a:ext cx="355320" cy="9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70400" y="4384440"/>
              <a:ext cx="378360" cy="921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70400" y="4230720"/>
              <a:ext cx="474840" cy="15372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0" y="91"/>
                  </a:moveTo>
                  <a:lnTo>
                    <a:pt x="227" y="91"/>
                  </a:lnTo>
                  <a:lnTo>
                    <a:pt x="285" y="0"/>
                  </a:lnTo>
                  <a:lnTo>
                    <a:pt x="5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48760" y="4230720"/>
              <a:ext cx="96120" cy="1075320"/>
            </a:xfrm>
            <a:custGeom>
              <a:avLst/>
              <a:gdLst/>
              <a:ahLst/>
              <a:rect l="l" t="t" r="r" b="b"/>
              <a:pathLst>
                <a:path w="58" h="636">
                  <a:moveTo>
                    <a:pt x="0" y="636"/>
                  </a:moveTo>
                  <a:lnTo>
                    <a:pt x="58" y="545"/>
                  </a:lnTo>
                  <a:lnTo>
                    <a:pt x="58" y="0"/>
                  </a:lnTo>
                  <a:lnTo>
                    <a:pt x="0" y="91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0400" y="4384440"/>
              <a:ext cx="378360" cy="18720"/>
            </a:xfrm>
            <a:custGeom>
              <a:avLst/>
              <a:gdLst/>
              <a:ahLst/>
              <a:rect l="l" t="t" r="r" b="b"/>
              <a:pathLst>
                <a:path w="227" h="11">
                  <a:moveTo>
                    <a:pt x="0" y="0"/>
                  </a:moveTo>
                  <a:lnTo>
                    <a:pt x="227" y="0"/>
                  </a:lnTo>
                  <a:lnTo>
                    <a:pt x="220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70400" y="4384440"/>
              <a:ext cx="9720" cy="921600"/>
            </a:xfrm>
            <a:custGeom>
              <a:avLst/>
              <a:gdLst/>
              <a:ahLst/>
              <a:rect l="l" t="t" r="r" b="b"/>
              <a:pathLst>
                <a:path w="6" h="545">
                  <a:moveTo>
                    <a:pt x="0" y="0"/>
                  </a:moveTo>
                  <a:lnTo>
                    <a:pt x="0" y="545"/>
                  </a:lnTo>
                  <a:lnTo>
                    <a:pt x="6" y="534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70400" y="4635000"/>
              <a:ext cx="378360" cy="1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80120" y="4653360"/>
              <a:ext cx="36828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70400" y="4903560"/>
              <a:ext cx="378360" cy="20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80120" y="4924080"/>
              <a:ext cx="36828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31760" y="5152320"/>
              <a:ext cx="69840" cy="7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70400" y="4230720"/>
              <a:ext cx="474840" cy="15372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285" y="0"/>
                  </a:moveTo>
                  <a:lnTo>
                    <a:pt x="277" y="13"/>
                  </a:lnTo>
                  <a:lnTo>
                    <a:pt x="56" y="1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56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8D05-E2A3-459A-A6C3-4E90A9E26F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Tendencias: los ataques exte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463760" y="2491920"/>
            <a:ext cx="4670280" cy="3211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87520" y="2444760"/>
            <a:ext cx="4876920" cy="3186000"/>
          </a:xfrm>
          <a:prstGeom prst="line">
            <a:avLst/>
          </a:prstGeom>
          <a:ln w="76320">
            <a:solidFill>
              <a:srgbClr val="ff0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89000" y="5996160"/>
            <a:ext cx="1490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97360" y="5996160"/>
            <a:ext cx="22669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47760" y="2492280"/>
            <a:ext cx="5478480" cy="3462480"/>
          </a:xfrm>
          <a:custGeom>
            <a:avLst/>
            <a:gdLst/>
            <a:ahLst/>
            <a:rect l="l" t="t" r="r" b="b"/>
            <a:pathLst>
              <a:path w="4407" h="2378">
                <a:moveTo>
                  <a:pt x="0" y="0"/>
                </a:moveTo>
                <a:lnTo>
                  <a:pt x="0" y="2377"/>
                </a:lnTo>
                <a:lnTo>
                  <a:pt x="4406" y="2377"/>
                </a:lnTo>
              </a:path>
            </a:pathLst>
          </a:custGeom>
          <a:noFill/>
          <a:ln cap="rnd" w="50760">
            <a:solidFill>
              <a:srgbClr val="91a8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7040" y="2363760"/>
            <a:ext cx="704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5640480"/>
            <a:ext cx="779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11200" y="5965920"/>
            <a:ext cx="69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98840" y="5978520"/>
            <a:ext cx="69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27720" y="5978520"/>
            <a:ext cx="698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33400" y="5578560"/>
            <a:ext cx="2554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ssword Guess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68560" y="5261040"/>
            <a:ext cx="2459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elf Replicating 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57600" y="4876920"/>
            <a:ext cx="2409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ssword Crac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43400" y="4389480"/>
            <a:ext cx="3163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xploiting Known Vulnerab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51240" y="3911760"/>
            <a:ext cx="1876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ackdo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27680" y="3421080"/>
            <a:ext cx="1447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ni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83080" y="3095640"/>
            <a:ext cx="1944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cket Spoof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34240" y="2689200"/>
            <a:ext cx="1954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ools with GU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64200" y="1876320"/>
            <a:ext cx="23828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Sofisticación de las Herramien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46880" y="4964040"/>
            <a:ext cx="20556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Conocimientos que debe poseer el ataca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05720" y="6354720"/>
            <a:ext cx="44784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Fuente Departamento de Defensa de los Estados Uni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1347-C696-40AB-8C70-D0963A15654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3440" y="1225440"/>
            <a:ext cx="900900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La seguridad en Internet vs. la seguridad en la vida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8120" y="2246400"/>
            <a:ext cx="6132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Como en la vida real, la seguridad informática en Internet no puede ser absolut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Detrás de toda medida de seguridad existe un nivel de riesgo que conciente o inconcientemente es asumi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No basta tomar medidas de seguridad, si no se monitorea su aplicación y se analiza su eficacia y eficiencia a lo largo del tiempo, en forma perman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937200" y="2031840"/>
            <a:ext cx="2190960" cy="273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5512-A373-4951-B63D-E191E38EB6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3440" y="1171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Claves del proceso de Seguridad Informá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392200" y="1611360"/>
            <a:ext cx="4830840" cy="46879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892680" y="3139920"/>
            <a:ext cx="1787400" cy="1683000"/>
          </a:xfrm>
          <a:prstGeom prst="ellipse">
            <a:avLst/>
          </a:prstGeom>
          <a:gradFill rotWithShape="0">
            <a:gsLst>
              <a:gs pos="0">
                <a:srgbClr val="663902"/>
              </a:gs>
              <a:gs pos="50000">
                <a:srgbClr val="de7c06"/>
              </a:gs>
              <a:gs pos="100000">
                <a:srgbClr val="66390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ahoma"/>
              </a:rPr>
              <a:t>Informát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61000" y="1990800"/>
            <a:ext cx="0" cy="116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61000" y="4809960"/>
            <a:ext cx="0" cy="120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35280" y="4021200"/>
            <a:ext cx="117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0320" y="4022640"/>
            <a:ext cx="117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2120" y="2695680"/>
            <a:ext cx="13986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Arial"/>
              </a:rPr>
              <a:t>Administración del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03880" y="2697120"/>
            <a:ext cx="14907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Arial"/>
              </a:rPr>
              <a:t>Control de Acceso Integ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16160" y="4808520"/>
            <a:ext cx="1293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Arial"/>
              </a:rPr>
              <a:t>Seguridad de la Aplic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2880" y="4768920"/>
            <a:ext cx="1292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s-MX" sz="1300" spc="-1" strike="noStrike">
                <a:solidFill>
                  <a:srgbClr val="ffffff"/>
                </a:solidFill>
                <a:latin typeface="Arial"/>
              </a:rPr>
              <a:t>Monitoreo de la Segur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560" y="1603440"/>
            <a:ext cx="28796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106200" indent="-106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 u="sng">
                <a:solidFill>
                  <a:srgbClr val="2caebe"/>
                </a:solidFill>
                <a:uFillTx/>
                <a:latin typeface="Arial"/>
              </a:rPr>
              <a:t>Control de Acceso Integ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Bef>
                <a:spcPts val="814"/>
              </a:spcBef>
              <a:buClr>
                <a:srgbClr val="2caebe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300" spc="-1" strike="noStrike">
                <a:solidFill>
                  <a:srgbClr val="2caebe"/>
                </a:solidFill>
                <a:latin typeface="Arial"/>
              </a:rPr>
              <a:t>Repositorio único de “Usuarios de Información” (Directory Services Softwa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Bef>
                <a:spcPts val="814"/>
              </a:spcBef>
              <a:buClr>
                <a:srgbClr val="2caebe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300" spc="-1" strike="noStrike">
                <a:solidFill>
                  <a:srgbClr val="2caebe"/>
                </a:solidFill>
                <a:latin typeface="Arial"/>
              </a:rPr>
              <a:t>Definición de Políticas en forma centralizada y Propagación de perfiles ( Access Management  &amp; Provisioning Softwa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15160" y="4672080"/>
            <a:ext cx="25416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106200" indent="-106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 u="sng">
                <a:solidFill>
                  <a:srgbClr val="8b47a2"/>
                </a:solidFill>
                <a:uFillTx/>
                <a:latin typeface="Arial"/>
              </a:rPr>
              <a:t>Monitoreo de la Segurid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8b47a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8b47a2"/>
                </a:solidFill>
                <a:latin typeface="Arial"/>
              </a:rPr>
              <a:t>Vulnerabilities Assessment Periód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8b47a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8b47a2"/>
                </a:solidFill>
                <a:latin typeface="Arial"/>
              </a:rPr>
              <a:t>Monitoreo on-line de la seguridad (IDS + Firewal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8b47a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8b47a2"/>
                </a:solidFill>
                <a:latin typeface="Arial"/>
              </a:rPr>
              <a:t>Procesos de respuesta ante inciden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470480"/>
            <a:ext cx="29480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 u="sng">
                <a:solidFill>
                  <a:srgbClr val="d3810a"/>
                </a:solidFill>
                <a:uFillTx/>
                <a:latin typeface="Arial"/>
              </a:rPr>
              <a:t>Seguridad de la Aplic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3810a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d3810a"/>
                </a:solidFill>
                <a:latin typeface="Arial"/>
              </a:rPr>
              <a:t>Estándares de seguridad para el desarrollo de aplica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3810a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d3810a"/>
                </a:solidFill>
                <a:latin typeface="Arial"/>
              </a:rPr>
              <a:t>Estándares de seguridad para la selección de solu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95600"/>
            <a:ext cx="29811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106200" indent="-106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 u="sng">
                <a:solidFill>
                  <a:srgbClr val="4b8518"/>
                </a:solidFill>
                <a:uFillTx/>
                <a:latin typeface="Arial"/>
              </a:rPr>
              <a:t>Actualización permanente del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4b8518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4b8518"/>
                </a:solidFill>
                <a:latin typeface="Arial"/>
              </a:rPr>
              <a:t>Configuración Segura del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4b8518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1500" spc="-1" strike="noStrike">
                <a:solidFill>
                  <a:srgbClr val="4b8518"/>
                </a:solidFill>
                <a:latin typeface="Arial"/>
              </a:rPr>
              <a:t>Seguimiento de “Advisories” y el proceso de aplicación de “Patch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7120" y="3273480"/>
            <a:ext cx="1555920" cy="46188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576" y="384"/>
                </a:moveTo>
                <a:lnTo>
                  <a:pt x="0" y="38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6507000" y="4260240"/>
            <a:ext cx="1386000" cy="31428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576" y="384"/>
                </a:moveTo>
                <a:lnTo>
                  <a:pt x="0" y="38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508080" y="3414600"/>
            <a:ext cx="1382760" cy="30960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576" y="384"/>
                </a:moveTo>
                <a:lnTo>
                  <a:pt x="0" y="38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11280" y="4275000"/>
            <a:ext cx="1577880" cy="16848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576" y="384"/>
                </a:moveTo>
                <a:lnTo>
                  <a:pt x="0" y="38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BA1B-087C-4930-9213-62EE93E67D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Actualización permanente del softw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8120" y="1846440"/>
            <a:ext cx="6950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os proveedores de software (Sistemas Operativos, software de infraestructura, aplicaciones, y equipos de red) generan actualizaciones y “patches” de seguridad muy frecuentem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a tendencia a lanzar nuevas versiones de los software, sumada a la complejidad de los sistemas y la dificultad para probarlos hace que el software tenga inevitablemente fallas de segurida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a creciente sofisticaciones de los ataques  externos es otro elemento que impulsa la actualización del softw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s necesario comprender que las instalaciones por “default” no están enfocadas a proporcionar seguridad sino funcional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508880" y="2043000"/>
            <a:ext cx="1647720" cy="29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E93D-EE8A-442C-B331-11B2668601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Seguridad de las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8120" y="1846440"/>
            <a:ext cx="67737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as aplicaciones “publicadas” en Internet son sometidas a usuarios estandar y malicios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No basta con pensar en los esquemas tradicionales de gestión de acce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a propia lógica de una aplicación puede ser vulnerada mediante distintas técnicas de ataq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s necesario impulsar el desarrollo de aplicaciones “security in mind”, incorporando el concepto de seguridad en todo el ciclo de vida de una aplic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69120" y="1814400"/>
            <a:ext cx="1646280" cy="29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1926-8A4C-4DBF-9BBE-37EFB6ABFFC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63440" y="1225440"/>
            <a:ext cx="9009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MX" sz="3000" spc="-1" strike="noStrike">
                <a:solidFill>
                  <a:srgbClr val="cc6600"/>
                </a:solidFill>
                <a:latin typeface="Arial"/>
              </a:rPr>
              <a:t>Control de Acceso Integr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8120" y="2021040"/>
            <a:ext cx="7137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xiste disparidad de tecnologías y la redundancia de sistemas propietarios de control de acces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El aseguramiento de la consistencia de perfiles a lo largo de los distintos sistemas y plataformas implica altos costos y excesivo trabajo manu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a apertura de los sistemas, requerida por el negocio, se ve dificultada o imposibilitada por no poder asegurar y proteger adecuadamente la inform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La gestión de seguridad debe orientar el control de acceso a la integración de las identidades en un único repositorio de usuarios de información, sin importar si los usuarios son empleados, clientes,  proveedores o cualquier otro usuario de inform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674120" y="2440080"/>
            <a:ext cx="1647720" cy="293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A6F3-40F8-4570-A8CE-9C5ABC13570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00240" y="3071520"/>
            <a:ext cx="5988240" cy="1079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reguntas y Respuestas, Comentarios, etc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3320" y="5516640"/>
            <a:ext cx="30225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482760" indent="-4827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s-MX" sz="1500" spc="-1" strike="noStrike">
                <a:solidFill>
                  <a:srgbClr val="000000"/>
                </a:solidFill>
                <a:latin typeface="Arial"/>
              </a:rPr>
              <a:t>Martín M. Carmu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1500" spc="-1" strike="noStrike">
                <a:solidFill>
                  <a:srgbClr val="000000"/>
                </a:solidFill>
                <a:latin typeface="Arial"/>
              </a:rPr>
              <a:t>So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1500" spc="-1" strike="noStrike">
                <a:solidFill>
                  <a:srgbClr val="000000"/>
                </a:solidFill>
                <a:latin typeface="Arial"/>
              </a:rPr>
              <a:t>Enterprise Risk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s-MX" sz="1500" spc="-1" strike="noStrike">
                <a:solidFill>
                  <a:srgbClr val="000000"/>
                </a:solidFill>
                <a:latin typeface="Arial"/>
              </a:rPr>
              <a:t>Deloitte &amp; Touc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500" spc="-1" strike="noStrike" u="sng">
                <a:solidFill>
                  <a:srgbClr val="405f9f"/>
                </a:solidFill>
                <a:uFillTx/>
                <a:latin typeface="Arial"/>
                <a:hlinkClick r:id="rId1"/>
              </a:rPr>
              <a:t>mcarmuega@deloitte.com.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s-MX" sz="1500" spc="-1" strike="noStrike">
                <a:solidFill>
                  <a:srgbClr val="000000"/>
                </a:solidFill>
                <a:latin typeface="Arial"/>
              </a:rPr>
              <a:t>4320 - 4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08200" y="1544760"/>
            <a:ext cx="3935160" cy="314280"/>
          </a:xfrm>
          <a:prstGeom prst="rect">
            <a:avLst/>
          </a:prstGeom>
          <a:solidFill>
            <a:srgbClr val="cccce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1960560"/>
            <a:ext cx="3933720" cy="4748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405f9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upo coordinado en la Región (Latinoamérica) , con más 200 profesionales con habilidades en diversos productos, tecnologías y con focalización por industrias de nego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n Argentina, más de 20 trabajos realizados en clientes de envergadura, y skills técnicos de nivel internacional, brindando apoyo a otros países como Canadá, Brasil, Chil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 de divers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spcBef>
                <a:spcPts val="249"/>
              </a:spcBef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 and other ER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spcBef>
                <a:spcPts val="249"/>
              </a:spcBef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y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spcBef>
                <a:spcPts val="249"/>
              </a:spcBef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ty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spcBef>
                <a:spcPts val="249"/>
              </a:spcBef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Business, Supply-Chain, Ex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spcBef>
                <a:spcPts val="249"/>
              </a:spcBef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ology 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boratorio de Seguridad Informática en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sarrollo de relaciones comerciales con proveedores de soluciones como Sun Microsystems, Novell, Sofne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oporte de la Firma Mundial, que cuenta con más de 1000 Profesionales con dedicación exclusiva a temas de segu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41720" y="1544760"/>
            <a:ext cx="3935520" cy="325440"/>
          </a:xfrm>
          <a:prstGeom prst="rect">
            <a:avLst/>
          </a:prstGeom>
          <a:solidFill>
            <a:srgbClr val="cccce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gunos Trabajos Realiz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41720" y="1940040"/>
            <a:ext cx="4084920" cy="4743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405f9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77840" indent="-177840">
              <a:lnSpc>
                <a:spcPct val="100000"/>
              </a:lnSpc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pplication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mplementación de controles y seguridad en aplicaciones ERP, incluyendo SAP, Oracle, PeopleSoft, JD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dentit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istencia en la selección / implementación de soluciones de administración de identidades, tecnologías single sign-on y directorios d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frastructure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iagnósticos y Evaluaciones de ries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ruebas de Intento de Penetración (Ethical Hacking) y “Scanneo” de vulner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iseño e implementación de soluciones de infraestructura de seguridad y/o Políticas de Segu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sarrollo de diagnósticos y gap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mplementación de Soluciones y Certificados (P.ej, WEB-TRUST, SYSTRU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405f9f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isaster Recovery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40040">
              <a:lnSpc>
                <a:spcPct val="100000"/>
              </a:lnSpc>
              <a:buClr>
                <a:srgbClr val="405f9f"/>
              </a:buClr>
              <a:buSzPct val="110000"/>
              <a:buFont typeface="Wingdings" charset="2"/>
              <a:buChar char="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istencia en la evaluación de riesgos, en la selección de estrategias y en la definición de Planes y procedimientos técnicos y d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1920" y="884160"/>
            <a:ext cx="94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</a:rPr>
              <a:t>Deloitte &amp; Touche: Soluciones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2225-B088-403F-8154-1FEE5C029E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00240" y="3071520"/>
            <a:ext cx="5988240" cy="1079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 nuevo enfoque de Seguridad Informáti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121600" cy="102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uridad – El enfoque tradicional: El riesgo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 mucho dinero en juego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9680" y="1641240"/>
            <a:ext cx="673272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marL="289080" indent="-23040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leados de una de las mayores fábricas de autos robaron informes de crédito de 13,000 clientes de la Agencia de Crédito Experian </a:t>
            </a:r>
            <a:r>
              <a:rPr b="0" i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Security Wire Digest, Jun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99120" y="2355840"/>
            <a:ext cx="4997160" cy="314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39680" y="2584440"/>
            <a:ext cx="3473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46800" anchor="t">
            <a:noAutofit/>
          </a:bodyPr>
          <a:p>
            <a:pPr marL="289080" indent="-23040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botajes realizados por un Empleado sobre diversas pruebas arrojaron una menor performance, que costaron millones en recursos y pérdidas de venta, discos rígidos reformateados, corte de cables y alteraciones sobre logs: gastos superiores a $1 millón tratando de solucionar el problema </a:t>
            </a:r>
            <a:r>
              <a:rPr b="0" i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BC News, Jun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5751360"/>
            <a:ext cx="43372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46800" anchor="t">
            <a:noAutofit/>
          </a:bodyPr>
          <a:p>
            <a:pPr marL="289080" indent="-23040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virus informáticos y los ataques de denegación de servicios le cuestan a las Compañías, billones por año </a:t>
            </a:r>
            <a:r>
              <a:rPr b="0" i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formation Week, Feb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D788-91C1-4E46-8618-333E46721D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21600" cy="4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guridad – Un nuevo enfoque de Negoc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6600" y="1523520"/>
            <a:ext cx="83502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46800" anchor="t">
            <a:normAutofit/>
          </a:bodyPr>
          <a:p>
            <a:pPr marL="210960" indent="0">
              <a:lnSpc>
                <a:spcPct val="95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xpectativas de la Dirección sobre la Segur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304920">
              <a:lnSpc>
                <a:spcPct val="95000"/>
              </a:lnSpc>
              <a:spcBef>
                <a:spcPts val="249"/>
              </a:spcBef>
              <a:spcAft>
                <a:spcPts val="75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inimizar Ries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304920">
              <a:lnSpc>
                <a:spcPct val="95000"/>
              </a:lnSpc>
              <a:spcBef>
                <a:spcPts val="249"/>
              </a:spcBef>
              <a:spcAft>
                <a:spcPts val="75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grar que el Desarrollo e Integración de Aplicaciones sea más efectivo (y la base para una nueva plataforma de negoc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304920">
              <a:lnSpc>
                <a:spcPct val="95000"/>
              </a:lnSpc>
              <a:spcBef>
                <a:spcPts val="249"/>
              </a:spcBef>
              <a:spcAft>
                <a:spcPts val="75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ejorar la productividad de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304920">
              <a:lnSpc>
                <a:spcPct val="95000"/>
              </a:lnSpc>
              <a:spcBef>
                <a:spcPts val="249"/>
              </a:spcBef>
              <a:spcAft>
                <a:spcPts val="751"/>
              </a:spcAft>
              <a:buClr>
                <a:srgbClr val="666699"/>
              </a:buClr>
              <a:buFont typeface="Webdings" charset="2"/>
              <a:buChar char="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7880" y="4267080"/>
            <a:ext cx="77104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48600" bIns="486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s-AR" sz="1900" spc="-1" strike="noStrike">
                <a:solidFill>
                  <a:srgbClr val="0000ff"/>
                </a:solidFill>
                <a:latin typeface="Arial"/>
              </a:rPr>
              <a:t>En otras palabra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s-AR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AR" sz="1900" spc="-1" strike="noStrike">
                <a:solidFill>
                  <a:srgbClr val="0000ff"/>
                </a:solidFill>
                <a:latin typeface="Arial"/>
              </a:rPr>
              <a:t>Proteger la Compañía, haciéndolo fácil para los usuarios, de la manera más económica posible y GENERANDO UNA INFRAESTRUCTURA CONFIABLE QUE PERMITA AMPLIAR EL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6FCE-D50F-4C21-86B3-6AC5B1D9B4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94240" y="3327480"/>
            <a:ext cx="2041560" cy="203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00920" y="3014640"/>
            <a:ext cx="777600" cy="6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135160" y="3009960"/>
            <a:ext cx="711360" cy="73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29360" y="5459400"/>
            <a:ext cx="893880" cy="6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070000" y="4260960"/>
            <a:ext cx="993960" cy="65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022480" y="4992840"/>
            <a:ext cx="1065240" cy="290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090880" y="5330880"/>
            <a:ext cx="946080" cy="37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3057480" y="4176720"/>
            <a:ext cx="1197000" cy="92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043080" y="5030280"/>
            <a:ext cx="1778040" cy="79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43080" y="4282920"/>
            <a:ext cx="2513160" cy="84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57480" y="3760920"/>
            <a:ext cx="2314800" cy="136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7560" y="3452760"/>
            <a:ext cx="1419480" cy="68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7560" y="3452760"/>
            <a:ext cx="2406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560" y="3452760"/>
            <a:ext cx="2156040" cy="160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358960" y="3494160"/>
            <a:ext cx="709560" cy="307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319720" y="3908160"/>
            <a:ext cx="704880" cy="153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385880" y="4187520"/>
            <a:ext cx="1638360" cy="12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858920" y="5097600"/>
            <a:ext cx="1165320" cy="350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490720" y="3494160"/>
            <a:ext cx="577800" cy="66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280" y="3144960"/>
            <a:ext cx="1423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Más cerca de los clie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4862520"/>
            <a:ext cx="1441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Cadena de Abast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4280" y="3171960"/>
            <a:ext cx="1606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Portal e Intranets Corporativ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4040" y="5430960"/>
            <a:ext cx="14637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plicaciones e Infraestructura de los Sistemas Centrales (Backbon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3720" y="3171960"/>
            <a:ext cx="79560" cy="406440"/>
          </a:xfrm>
          <a:custGeom>
            <a:avLst/>
            <a:gdLst>
              <a:gd name="textAreaLeft" fmla="*/ 0 w 79560"/>
              <a:gd name="textAreaRight" fmla="*/ 28800 w 79560"/>
              <a:gd name="textAreaTop" fmla="*/ 10440 h 406440"/>
              <a:gd name="textAreaBottom" fmla="*/ 3960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75360" y="3171960"/>
            <a:ext cx="88920" cy="257040"/>
          </a:xfrm>
          <a:custGeom>
            <a:avLst/>
            <a:gdLst>
              <a:gd name="textAreaLeft" fmla="*/ 56880 w 88920"/>
              <a:gd name="textAreaRight" fmla="*/ 89280 w 88920"/>
              <a:gd name="textAreaTop" fmla="*/ 6480 h 257040"/>
              <a:gd name="textAreaBottom" fmla="*/ 250560 h 2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0120" y="5516640"/>
            <a:ext cx="144720" cy="569880"/>
          </a:xfrm>
          <a:custGeom>
            <a:avLst/>
            <a:gdLst>
              <a:gd name="textAreaLeft" fmla="*/ 92520 w 144720"/>
              <a:gd name="textAreaRight" fmla="*/ 145080 w 144720"/>
              <a:gd name="textAreaTop" fmla="*/ 14760 h 569880"/>
              <a:gd name="textAreaBottom" fmla="*/ 555120 h 56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31880" y="5954760"/>
            <a:ext cx="27576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Sistemas de Colabor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- Proveedores</a:t>
            </a:r>
            <a:br>
              <a:rPr sz="1300"/>
            </a:b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- Productos y clie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- Grupos de Desarrol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- Emplead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503240" y="4473720"/>
            <a:ext cx="79560" cy="1162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83160" y="5124600"/>
            <a:ext cx="460440" cy="51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83160" y="4365720"/>
            <a:ext cx="973080" cy="1270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956040" y="5653080"/>
            <a:ext cx="1254240" cy="84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87480" y="4878360"/>
            <a:ext cx="79560" cy="406440"/>
          </a:xfrm>
          <a:custGeom>
            <a:avLst/>
            <a:gdLst>
              <a:gd name="textAreaLeft" fmla="*/ 0 w 79560"/>
              <a:gd name="textAreaRight" fmla="*/ 28800 w 79560"/>
              <a:gd name="textAreaTop" fmla="*/ 10440 h 406440"/>
              <a:gd name="textAreaBottom" fmla="*/ 3960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343400" y="4390920"/>
            <a:ext cx="2160720" cy="8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37480" y="4292640"/>
            <a:ext cx="1133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67560" y="4309920"/>
            <a:ext cx="90720" cy="389160"/>
          </a:xfrm>
          <a:custGeom>
            <a:avLst/>
            <a:gdLst>
              <a:gd name="textAreaLeft" fmla="*/ 57960 w 90720"/>
              <a:gd name="textAreaRight" fmla="*/ 91080 w 90720"/>
              <a:gd name="textAreaTop" fmla="*/ 10080 h 389160"/>
              <a:gd name="textAreaBottom" fmla="*/ 379080 h 3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27880" y="4146480"/>
          <a:ext cx="96048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7880" y="4146480"/>
                    <a:ext cx="960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26800" y="601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Eco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ía digital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(compleja red de aplicaciones, datos e infraestructuras) crea nuevas oportunidades y nuevos desafíos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287600" y="3052800"/>
            <a:ext cx="425160" cy="1176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7520" y="3029040"/>
            <a:ext cx="760320" cy="111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2313000"/>
            <a:ext cx="20318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Entes reguladores (Información, “Compliance”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572000" y="1915920"/>
            <a:ext cx="160200" cy="2170080"/>
          </a:xfrm>
          <a:custGeom>
            <a:avLst/>
            <a:gdLst>
              <a:gd name="textAreaLeft" fmla="*/ 0 w 160200"/>
              <a:gd name="textAreaRight" fmla="*/ 57960 w 160200"/>
              <a:gd name="textAreaTop" fmla="*/ 56520 h 2170080"/>
              <a:gd name="textAreaBottom" fmla="*/ 2113560 h 21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4361040" y="1641600"/>
            <a:ext cx="644400" cy="72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84680" y="5987880"/>
            <a:ext cx="79200" cy="1054440"/>
          </a:xfrm>
          <a:custGeom>
            <a:avLst/>
            <a:gdLst>
              <a:gd name="textAreaLeft" fmla="*/ 0 w 79200"/>
              <a:gd name="textAreaRight" fmla="*/ 28440 w 79200"/>
              <a:gd name="textAreaTop" fmla="*/ 27360 h 1054440"/>
              <a:gd name="textAreaBottom" fmla="*/ 1027080 h 105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074D-3C94-458F-9B91-F6217BFB56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6800" y="1585800"/>
            <a:ext cx="5094360" cy="3944880"/>
          </a:xfrm>
          <a:prstGeom prst="rect">
            <a:avLst/>
          </a:prstGeom>
          <a:solidFill>
            <a:srgbClr val="b4b4b4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 “Mercado” de 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ity and priv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d Securit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re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7760" y="1973160"/>
            <a:ext cx="2128680" cy="28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ened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ies an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ack &amp; Pene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P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less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-metrics and strong 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24520" y="3435480"/>
            <a:ext cx="801720" cy="560160"/>
          </a:xfrm>
          <a:prstGeom prst="rightArrow">
            <a:avLst>
              <a:gd name="adj1" fmla="val 50000"/>
              <a:gd name="adj2" fmla="val 35781"/>
            </a:avLst>
          </a:prstGeom>
          <a:solidFill>
            <a:srgbClr val="e2baba"/>
          </a:solidFill>
          <a:ln w="0">
            <a:noFill/>
          </a:ln>
          <a:effectLst>
            <a:outerShdw dist="17819" dir="2700000" blurRad="0" rotWithShape="0">
              <a:srgbClr val="87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0400" y="1558800"/>
            <a:ext cx="2189160" cy="4345200"/>
          </a:xfrm>
          <a:prstGeom prst="rect">
            <a:avLst/>
          </a:prstGeom>
          <a:solidFill>
            <a:srgbClr val="b4b4b4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a Solución de IT deber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2071800"/>
            <a:ext cx="1766880" cy="3749400"/>
          </a:xfrm>
          <a:prstGeom prst="rect">
            <a:avLst/>
          </a:prstGeom>
          <a:gradFill rotWithShape="0">
            <a:gsLst>
              <a:gs pos="0">
                <a:srgbClr val="11208b"/>
              </a:gs>
              <a:gs pos="100000">
                <a:srgbClr val="e0e2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46800" y="2179800"/>
            <a:ext cx="1600200" cy="998280"/>
          </a:xfrm>
          <a:prstGeom prst="roundRect">
            <a:avLst>
              <a:gd name="adj" fmla="val 16667"/>
            </a:avLst>
          </a:prstGeom>
          <a:solidFill>
            <a:srgbClr val="91397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umplir con requerimientos actuales y fut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46800" y="3425760"/>
            <a:ext cx="1600200" cy="998640"/>
          </a:xfrm>
          <a:prstGeom prst="roundRect">
            <a:avLst>
              <a:gd name="adj" fmla="val 16667"/>
            </a:avLst>
          </a:prstGeom>
          <a:solidFill>
            <a:srgbClr val="91397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Proveer benefici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62640" y="4718160"/>
            <a:ext cx="1600200" cy="998280"/>
          </a:xfrm>
          <a:prstGeom prst="roundRect">
            <a:avLst>
              <a:gd name="adj" fmla="val 16667"/>
            </a:avLst>
          </a:prstGeom>
          <a:solidFill>
            <a:srgbClr val="91397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Integrarse adecuadamente con la infrastructura ex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7080" y="691920"/>
            <a:ext cx="8245440" cy="75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“mercado” de seguridad ofrece una vasta gama de solu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3A66-8DD2-4926-A1D1-8B8E0F59FC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7080" y="691920"/>
            <a:ext cx="8245440" cy="141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Organizaciones enfrentan el desafío de proveer seguridad de manera costo-efectiva al mismo tiempo que tratan de cumplir con los continuos requerimientos del negoc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71600" y="2057400"/>
            <a:ext cx="8794800" cy="4983840"/>
            <a:chOff x="471600" y="2057400"/>
            <a:chExt cx="8794800" cy="4983840"/>
          </a:xfrm>
        </p:grpSpPr>
        <p:sp>
          <p:nvSpPr>
            <p:cNvPr id="156" name=""/>
            <p:cNvSpPr/>
            <p:nvPr/>
          </p:nvSpPr>
          <p:spPr>
            <a:xfrm>
              <a:off x="471600" y="2584800"/>
              <a:ext cx="8794800" cy="417600"/>
            </a:xfrm>
            <a:custGeom>
              <a:avLst/>
              <a:gdLst/>
              <a:ahLst/>
              <a:rect l="l" t="t" r="r" b="b"/>
              <a:pathLst>
                <a:path w="4582" h="351">
                  <a:moveTo>
                    <a:pt x="2309" y="0"/>
                  </a:moveTo>
                  <a:lnTo>
                    <a:pt x="0" y="351"/>
                  </a:lnTo>
                  <a:lnTo>
                    <a:pt x="4582" y="351"/>
                  </a:lnTo>
                  <a:lnTo>
                    <a:pt x="2309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357960" y="3002400"/>
              <a:ext cx="2795400" cy="4038840"/>
              <a:chOff x="6357960" y="3002400"/>
              <a:chExt cx="2795400" cy="4038840"/>
            </a:xfrm>
          </p:grpSpPr>
          <p:sp>
            <p:nvSpPr>
              <p:cNvPr id="158" name=""/>
              <p:cNvSpPr/>
              <p:nvPr/>
            </p:nvSpPr>
            <p:spPr>
              <a:xfrm>
                <a:off x="6357960" y="3060360"/>
                <a:ext cx="2792160" cy="3980880"/>
              </a:xfrm>
              <a:custGeom>
                <a:avLst/>
                <a:gdLst>
                  <a:gd name="textAreaLeft" fmla="*/ 136080 w 2792160"/>
                  <a:gd name="textAreaRight" fmla="*/ 2656080 w 2792160"/>
                  <a:gd name="textAreaTop" fmla="*/ 136080 h 3980880"/>
                  <a:gd name="textAreaBottom" fmla="*/ 3844800 h 3980880"/>
                </a:gdLst>
                <a:ahLst/>
                <a:rect l="textAreaLeft" t="textAreaTop" r="textAreaRight" b="textAreaBottom"/>
                <a:pathLst>
                  <a:path w="21600" h="30795">
                    <a:moveTo>
                      <a:pt x="3600" y="0"/>
                    </a:moveTo>
                    <a:arcTo wR="3600" hR="3600" stAng="16200000" swAng="-5400000"/>
                    <a:lnTo>
                      <a:pt x="0" y="27195"/>
                    </a:lnTo>
                    <a:arcTo wR="3600" hR="3600" stAng="10800000" swAng="-5400000"/>
                    <a:lnTo>
                      <a:pt x="18000" y="3079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1440" bIns="0" anchor="t">
                <a:noAutofit/>
              </a:bodyPr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uevas responsabilidades de los ejecutivos sobre control interno y en relación con protección de activos de información (pérdidas de juicios, tarjetas de crédito, privacidad de la información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uevos requerimientos de confidencialidad de inform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57960" y="3002400"/>
                <a:ext cx="2795400" cy="515520"/>
              </a:xfrm>
              <a:prstGeom prst="roundRect">
                <a:avLst>
                  <a:gd name="adj" fmla="val 16667"/>
                </a:avLst>
              </a:prstGeom>
              <a:solidFill>
                <a:srgbClr val="b8bfe0"/>
              </a:solidFill>
              <a:ln w="19080">
                <a:solidFill>
                  <a:srgbClr val="8da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1" lang="es-AR" sz="1500" spc="-1" strike="noStrike">
                    <a:solidFill>
                      <a:srgbClr val="000000"/>
                    </a:solidFill>
                    <a:latin typeface="Arial"/>
                  </a:rPr>
                  <a:t>Aspectos legales y regulatorio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413160" y="3002400"/>
              <a:ext cx="2795400" cy="4030560"/>
              <a:chOff x="3413160" y="3002400"/>
              <a:chExt cx="2795400" cy="4030560"/>
            </a:xfrm>
          </p:grpSpPr>
          <p:sp>
            <p:nvSpPr>
              <p:cNvPr id="161" name=""/>
              <p:cNvSpPr/>
              <p:nvPr/>
            </p:nvSpPr>
            <p:spPr>
              <a:xfrm>
                <a:off x="3413160" y="3060360"/>
                <a:ext cx="2793960" cy="3972600"/>
              </a:xfrm>
              <a:custGeom>
                <a:avLst/>
                <a:gdLst>
                  <a:gd name="textAreaLeft" fmla="*/ 136080 w 2793960"/>
                  <a:gd name="textAreaRight" fmla="*/ 2657880 w 2793960"/>
                  <a:gd name="textAreaTop" fmla="*/ 136080 h 3972600"/>
                  <a:gd name="textAreaBottom" fmla="*/ 3836520 h 3972600"/>
                </a:gdLst>
                <a:ahLst/>
                <a:rect l="textAreaLeft" t="textAreaTop" r="textAreaRight" b="textAreaBottom"/>
                <a:pathLst>
                  <a:path w="21600" h="30711">
                    <a:moveTo>
                      <a:pt x="3600" y="0"/>
                    </a:moveTo>
                    <a:arcTo wR="3600" hR="3600" stAng="16200000" swAng="-5400000"/>
                    <a:lnTo>
                      <a:pt x="0" y="27111"/>
                    </a:lnTo>
                    <a:arcTo wR="3600" hR="3600" stAng="10800000" swAng="-5400000"/>
                    <a:lnTo>
                      <a:pt x="18000" y="307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1440" bIns="0" anchor="t">
                <a:noAutofit/>
              </a:bodyPr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876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2B, B2C, EAI y modelos de negocios de empresas extend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secuencia de Fusiones – Diferentes enfoques y tecnolog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cnologías complejas y cambia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</a:rPr>
                  <a:t>Problemas de consistencia, autorización, escalabilidad y performance como consecuencia de </a:t>
                </a: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rfaces entre los sistemas distribuidos y los locale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13160" y="3002400"/>
                <a:ext cx="2795400" cy="515520"/>
              </a:xfrm>
              <a:prstGeom prst="roundRect">
                <a:avLst>
                  <a:gd name="adj" fmla="val 16667"/>
                </a:avLst>
              </a:prstGeom>
              <a:solidFill>
                <a:srgbClr val="b8bfe0"/>
              </a:solidFill>
              <a:ln w="19080">
                <a:solidFill>
                  <a:srgbClr val="8da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1" lang="es-AR" sz="1500" spc="-1" strike="noStrike">
                    <a:solidFill>
                      <a:srgbClr val="000000"/>
                    </a:solidFill>
                    <a:latin typeface="Arial"/>
                  </a:rPr>
                  <a:t>Seguridad de punta a pun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306600" y="2057400"/>
              <a:ext cx="3133800" cy="527400"/>
            </a:xfrm>
            <a:prstGeom prst="roundRect">
              <a:avLst>
                <a:gd name="adj" fmla="val 16667"/>
              </a:avLst>
            </a:prstGeom>
            <a:solidFill>
              <a:srgbClr val="b8bfe0"/>
            </a:solidFill>
            <a:ln w="19080">
              <a:solidFill>
                <a:srgbClr val="8da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s-AR" sz="1900" spc="-1" strike="noStrike">
                  <a:solidFill>
                    <a:srgbClr val="000000"/>
                  </a:solidFill>
                  <a:latin typeface="Arial"/>
                </a:rPr>
                <a:t>Desafí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71600" y="3002400"/>
              <a:ext cx="2793960" cy="4033440"/>
              <a:chOff x="471600" y="3002400"/>
              <a:chExt cx="2793960" cy="403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471600" y="3060360"/>
                <a:ext cx="2793960" cy="3975480"/>
              </a:xfrm>
              <a:custGeom>
                <a:avLst/>
                <a:gdLst>
                  <a:gd name="textAreaLeft" fmla="*/ 136080 w 2793960"/>
                  <a:gd name="textAreaRight" fmla="*/ 2657880 w 2793960"/>
                  <a:gd name="textAreaTop" fmla="*/ 136080 h 3975480"/>
                  <a:gd name="textAreaBottom" fmla="*/ 3839400 h 3975480"/>
                </a:gdLst>
                <a:ahLst/>
                <a:rect l="textAreaLeft" t="textAreaTop" r="textAreaRight" b="textAreaBottom"/>
                <a:pathLst>
                  <a:path w="21600" h="30733">
                    <a:moveTo>
                      <a:pt x="3600" y="0"/>
                    </a:moveTo>
                    <a:arcTo wR="3600" hR="3600" stAng="16200000" swAng="-5400000"/>
                    <a:lnTo>
                      <a:pt x="0" y="27133"/>
                    </a:lnTo>
                    <a:arcTo wR="3600" hR="3600" stAng="10800000" swAng="-5400000"/>
                    <a:lnTo>
                      <a:pt x="18000" y="307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1440" bIns="0" anchor="t">
                <a:noAutofit/>
              </a:bodyPr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876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yores puntos de entrada, a partir de la incorporación de Portales, Intranets y otras soluciones basadas en inter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Bef>
                    <a:spcPts val="524"/>
                  </a:spcBef>
                  <a:spcAft>
                    <a:spcPts val="524"/>
                  </a:spcAft>
                  <a:buClr>
                    <a:srgbClr val="000099"/>
                  </a:buClr>
                  <a:buSzPct val="70000"/>
                  <a:buFont typeface="Wingdings 2" charset="2"/>
                  <a:buChar char="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yores requerimientos de acceso de los usuarios (independientemente de la locación y el tipo de usuario) sin impactar en incrementos de cos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1600" y="3002400"/>
                <a:ext cx="2793960" cy="515520"/>
              </a:xfrm>
              <a:prstGeom prst="roundRect">
                <a:avLst>
                  <a:gd name="adj" fmla="val 16667"/>
                </a:avLst>
              </a:prstGeom>
              <a:solidFill>
                <a:srgbClr val="b8bfe0"/>
              </a:solidFill>
              <a:ln w="19080">
                <a:solidFill>
                  <a:srgbClr val="8da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1" lang="es-AR" sz="1500" spc="-1" strike="noStrike">
                    <a:solidFill>
                      <a:srgbClr val="000000"/>
                    </a:solidFill>
                    <a:latin typeface="Arial"/>
                  </a:rPr>
                  <a:t>Acceso Globa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BD2C-8D8A-4F75-A6AF-AB0EDDA74B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36600" y="2865600"/>
            <a:ext cx="2657520" cy="252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8da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La mayoría de los Programas e iniciativas de Seguridad de las Empresas fallan por falta de un claro alineamiento con el negocio y/o por falta de compromiso de la Dire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8381880" cy="75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s desafíos de implementación son predominantemente organizacionales y cultur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9760" y="3105000"/>
            <a:ext cx="946440" cy="20098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600" rIns="48600" tIns="48600" bIns="48600" anchor="ctr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spcAft>
                <a:spcPts val="649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Causas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imari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3640" y="2001960"/>
            <a:ext cx="4599000" cy="4582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48600" bIns="48600" anchor="t">
            <a:spAutoFit/>
          </a:bodyPr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Falta de una clara demostración del ROI (retorn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Pobre definición de lo que se entiende por éx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No alineamiento real con el nego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Falta de estrategias a largo plazo para reducir el nivel de exposiciones y riesg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Falta de una estandarización re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Falta de un modelo en el que se encuadre cómo diseñar y solucionar nuevos problem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Proyectos de seguridad basados en IT y liderados por personal técnico solam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Percepción de que con la incorporación de seguridad se pierde agilidad o flexibilida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Percepción de que se incrementan los costos (overhea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Baja prioridad de temas de seguridad en relación con los temas e iniciativas del nego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Falta de apreciación de la importancia de la seguridad hasta la ocurrencia de algún hecho punt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Desconectado de las metas del Nego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01320">
              <a:lnSpc>
                <a:spcPct val="90000"/>
              </a:lnSpc>
              <a:spcBef>
                <a:spcPts val="488"/>
              </a:spcBef>
              <a:buClr>
                <a:srgbClr val="405f9f"/>
              </a:buClr>
              <a:buSzPct val="8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Falta de madurez de las soluciones tecnológ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0B33-6591-4677-BEA4-39CA3D9A1466}" type="slidenum">
              <a:t>9</a:t>
            </a:fld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12:58Z</dcterms:created>
  <dc:creator>David Deckter</dc:creator>
  <dc:description/>
  <dc:language>en-US</dc:language>
  <cp:lastModifiedBy>pagina</cp:lastModifiedBy>
  <dcterms:modified xsi:type="dcterms:W3CDTF">2003-11-18T21:08:53Z</dcterms:modified>
  <cp:revision>2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967211</vt:r8>
  </property>
  <property fmtid="{D5CDD505-2E9C-101B-9397-08002B2CF9AE}" pid="3" name="_AuthorEmail">
    <vt:lpwstr>lepena@DELOITTE.com</vt:lpwstr>
  </property>
  <property fmtid="{D5CDD505-2E9C-101B-9397-08002B2CF9AE}" pid="4" name="_AuthorEmailDisplayName">
    <vt:lpwstr>Pena, Leonardo (AR - )</vt:lpwstr>
  </property>
  <property fmtid="{D5CDD505-2E9C-101B-9397-08002B2CF9AE}" pid="5" name="_EmailSubject">
    <vt:lpwstr>2º Congreso de Tecnología de la Información</vt:lpwstr>
  </property>
  <property fmtid="{D5CDD505-2E9C-101B-9397-08002B2CF9AE}" pid="6" name="_PreviousAdHocReviewCycleID">
    <vt:r8>-1489356467</vt:r8>
  </property>
</Properties>
</file>