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859-8AE3-4A13-A588-7957363A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621-A7D8-46F6-9B43-B173F44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B8E-EA2A-4F31-85EC-9A21B221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9C5-9E1F-46B9-BA4E-08DEDCD8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9D1-5EEF-40BD-BA71-BD12B28D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535-76CD-415A-B435-1039DE93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A19-0A70-471C-85C2-745963D3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FB3-E4BD-49FE-AB99-28C8E92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D75-BF6C-460E-B4BE-AA83565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D18-7557-4831-A2E5-43F1A64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A9F-ED36-4D6C-9E7F-1031588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E92-D889-4A80-B1AC-44C8740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B7F-A501-4D11-AD9E-69148CEC818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T. DE LA I. Y LA TRANSFORMACION EMPRESARIA FRENTE AL IMPERATIVO DE LA COMPETITIVIDAD</a:t>
            </a:r>
            <a:br>
              <a:rPr sz="2400"/>
            </a:br>
            <a:br>
              <a:rPr sz="2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r. Armando Bertagn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5829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ompetitividad como imperativ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mensiones y palancas de la competitividad sust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o se alcanza la competitividad sustentable a través de los procesos de camb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ubicación de la TI  en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En el modelo descriptiv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En el modelo normativ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686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582912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actos de la TI en las palancas de la competitividad susten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En la efectividad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En la innovación estraté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En l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hipótesis de Nicholas Car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HBR - mayo´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Formulación: dificultades crecientes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canzar ventajas competitivas a travé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ones en 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Discusión para cada pala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1523880"/>
            <a:ext cx="5829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582912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sitos para l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lineación con la estrategia y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ciativas del nego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lineación con el perfil de gest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ción en la selección de l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ependencia del hardware/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ependencia de las 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ependencia de las aplica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686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5829120" cy="74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S  DOS  VISIONES  DE  LA TI   EN  LOS PROCESO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Racional o normativa:  el deber 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º)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º) Estructura y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º)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Habitual o descriptiva de la r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º)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º) Procesos  y 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º)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l management del cambio y los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digmas  involuc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recomenda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nder lo descriptivo para,  a partir de la realidad, introducir racionalidad y mejorar el grado de alineación de la TI y de su contribución a un proceso de cambio efe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O CAMBIO ELVINCULO ENTRE SISTEMAS E INFRAESTRUCTURA EN LOS ULTIMOS AÑ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72000"/>
            <a:ext cx="26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214800"/>
            <a:ext cx="16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31240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240" y="4979880"/>
            <a:ext cx="17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 de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040" y="6186600"/>
            <a:ext cx="28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r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los cam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 equipos y 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00400"/>
            <a:ext cx="2590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4956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410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0988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4648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05320" y="67057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812880"/>
            <a:ext cx="582912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ROL DEL CIO O RESPONSABLE DE TI  EN LA ARGENTIN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582948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aptación a la realidad:  costos, productividad,  RR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al negocio con velocidad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Desarrollar nuevas aplicaciones y/o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Migrar de aplicaciones y/o bases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Migrar de SO/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PROCESO DE ALINEAMIENTO DE L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files empresario y de                 Desfasaje actua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actuales                               la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9480" y="3657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657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1600" y="4433760"/>
            <a:ext cx="273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ios deseados en 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con tiemp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gresos y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23960" y="4662360"/>
            <a:ext cx="23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fasaje proyec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760" y="6033960"/>
            <a:ext cx="301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ricciones en la el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ostos y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ie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6781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7086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95720" y="6491160"/>
            <a:ext cx="2675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ineación de la TI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estrategia, la organ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ación y la cult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mbios intern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 para reducir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ganar produ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29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INEAMIENTO DE LA TI - SIN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752480"/>
            <a:ext cx="37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de camb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undidad,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6576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4876920"/>
            <a:ext cx="20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ne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791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867280"/>
            <a:ext cx="2362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ciones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4038480"/>
            <a:ext cx="9907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5715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403848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447920" y="57913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895480" y="5791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590920"/>
            <a:ext cx="1676160" cy="32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632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6000" y="7086600"/>
            <a:ext cx="14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io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8077320"/>
            <a:ext cx="18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8077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8077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14440" y="670572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67057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685800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8534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9880" y="6781320"/>
            <a:ext cx="7621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5486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8:11:15Z</dcterms:created>
  <dc:creator>Bertagnini </dc:creator>
  <dc:description/>
  <dc:language>en-US</dc:language>
  <cp:lastModifiedBy>pagina</cp:lastModifiedBy>
  <cp:lastPrinted>2003-11-12T21:02:12Z</cp:lastPrinted>
  <dcterms:modified xsi:type="dcterms:W3CDTF">2003-11-18T21:03:34Z</dcterms:modified>
  <cp:revision>9</cp:revision>
  <dc:subject/>
  <dc:title>LA T. DE LA I. Y LA TRANSFORMACION EMPRESARIA FRENTE AL IMPERATIVO DE LA COMPETITIVIDAD      Dr. Armando Bertagnini</dc:title>
</cp:coreProperties>
</file>