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26.png" ContentType="image/png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0.wmf" ContentType="image/x-wmf"/>
  <Override PartName="/ppt/media/image25.png" ContentType="image/png"/>
  <Override PartName="/ppt/media/image6.png" ContentType="image/png"/>
  <Override PartName="/ppt/media/image14.wmf" ContentType="image/x-wmf"/>
  <Override PartName="/ppt/media/image5.wmf" ContentType="image/x-wmf"/>
  <Override PartName="/ppt/media/image3.jpeg" ContentType="image/jpeg"/>
  <Override PartName="/ppt/media/image24.png" ContentType="image/png"/>
  <Override PartName="/ppt/media/image23.png" ContentType="image/png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CE38-61D9-4DFD-B209-2042B9B35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EFC3-5E77-4B62-994F-FF588CEA4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BD82-F691-4106-8E76-4C2ADC70F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4CFD-E689-4344-844B-DBE524653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27FA-28B5-42BE-8DE5-300D4961D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83F9-D994-4B78-B4AA-32FF9D724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720F-0A03-4FB3-8BD3-4CADDDD5B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6A4F-470E-4084-A876-3F3F6F90E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F27C-39E0-4060-BB1B-60E58FD2B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2672-2AB3-4819-A53C-3B0779EC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2E2B-CD25-463F-BAD3-F556126B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BC31-247D-402F-8137-4ABC529C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CADA8-30B1-4249-8B76-5CB319C9E57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wm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escudo" descr=""/>
          <p:cNvPicPr/>
          <p:nvPr/>
        </p:nvPicPr>
        <p:blipFill>
          <a:blip r:embed="rId2"/>
          <a:stretch/>
        </p:blipFill>
        <p:spPr>
          <a:xfrm>
            <a:off x="5016600" y="324000"/>
            <a:ext cx="3740040" cy="1135080"/>
          </a:xfrm>
          <a:prstGeom prst="rect">
            <a:avLst/>
          </a:prstGeom>
          <a:ln w="0">
            <a:noFill/>
          </a:ln>
        </p:spPr>
      </p:pic>
      <p:pic>
        <p:nvPicPr>
          <p:cNvPr id="42" name="super" descr=""/>
          <p:cNvPicPr/>
          <p:nvPr/>
        </p:nvPicPr>
        <p:blipFill>
          <a:blip r:embed="rId3"/>
          <a:stretch/>
        </p:blipFill>
        <p:spPr>
          <a:xfrm>
            <a:off x="457200" y="5486400"/>
            <a:ext cx="3235320" cy="10238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mpacto de las políticas Sanitarias sobre los trabajadores independiente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257440" y="5181480"/>
            <a:ext cx="3429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Dr. Rubén Tor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2º Congreso de la Seguridad Soci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Times New Roman"/>
              </a:rPr>
              <a:t>Octubre de 200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685800" y="1981080"/>
          <a:ext cx="8077320" cy="4276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981080"/>
                    <a:ext cx="8077320" cy="42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ONOTRIBUTISTA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SCRIPTOS Y APORTAN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380880" y="1819440"/>
          <a:ext cx="8763120" cy="464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819440"/>
                    <a:ext cx="8763120" cy="46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ONOTRIBUTISTA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SCRIPTOS Y APORTANTES</a:t>
            </a:r>
            <a:br>
              <a:rPr sz="40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.S.B.A. (MAY 2001/MAY 200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Equidad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80880" y="1981080"/>
          <a:ext cx="8077320" cy="4276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981080"/>
                    <a:ext cx="8077320" cy="42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304920" y="1617840"/>
          <a:ext cx="8839080" cy="467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617840"/>
                    <a:ext cx="8839080" cy="46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OSPAC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NOS 1-0360-Abril 200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0" y="1573200"/>
          <a:ext cx="9982080" cy="528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573200"/>
                    <a:ext cx="9982080" cy="52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0" y="4572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UTILIZACIÒN DE SERVICIOS DE ALTA COMPLEJIDAD en 48 beneficiarios inscriptos entre 11/02 y 4/03 </a:t>
            </a:r>
            <a:br>
              <a:rPr sz="3200"/>
            </a:b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Fuente :Elaboraciòn propia en base a datos de OSP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na propues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685800" y="1981080"/>
          <a:ext cx="8458200" cy="4478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981080"/>
                    <a:ext cx="8458200" cy="44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Times New Roman"/>
              </a:rPr>
              <a:t>Ingresos totales de las familias</a:t>
            </a:r>
            <a:br>
              <a:rPr sz="4400"/>
            </a:b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% sobre el total de hog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s posib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80880" y="1981080"/>
          <a:ext cx="8534520" cy="451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981080"/>
                    <a:ext cx="853452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240" y="158436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1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838080" y="1523880"/>
            <a:ext cx="7391160" cy="3809880"/>
            <a:chOff x="838080" y="1523880"/>
            <a:chExt cx="7391160" cy="3809880"/>
          </a:xfrm>
        </p:grpSpPr>
        <p:grpSp>
          <p:nvGrpSpPr>
            <p:cNvPr id="149" name=""/>
            <p:cNvGrpSpPr/>
            <p:nvPr/>
          </p:nvGrpSpPr>
          <p:grpSpPr>
            <a:xfrm>
              <a:off x="844200" y="1529640"/>
              <a:ext cx="7377480" cy="3797280"/>
              <a:chOff x="844200" y="1529640"/>
              <a:chExt cx="7377480" cy="3797280"/>
            </a:xfrm>
          </p:grpSpPr>
          <p:grpSp>
            <p:nvGrpSpPr>
              <p:cNvPr id="150" name=""/>
              <p:cNvGrpSpPr/>
              <p:nvPr/>
            </p:nvGrpSpPr>
            <p:grpSpPr>
              <a:xfrm>
                <a:off x="844200" y="1529640"/>
                <a:ext cx="3286800" cy="1244880"/>
                <a:chOff x="844200" y="1529640"/>
                <a:chExt cx="3286800" cy="124488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905040" y="1529640"/>
                  <a:ext cx="3164760" cy="124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AR" sz="15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 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AR" sz="15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Forma de inserción laboral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44200" y="1529640"/>
                  <a:ext cx="3286800" cy="124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31360" y="1529640"/>
                <a:ext cx="1363320" cy="1244880"/>
                <a:chOff x="4131360" y="1529640"/>
                <a:chExt cx="1363320" cy="124488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192560" y="1529640"/>
                  <a:ext cx="1240200" cy="124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AR" sz="15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 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AR" sz="15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Distribución %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4131360" y="1529640"/>
                  <a:ext cx="1363320" cy="124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5495040" y="1529640"/>
                <a:ext cx="1362960" cy="1244880"/>
                <a:chOff x="5495040" y="1529640"/>
                <a:chExt cx="1362960" cy="124488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5555880" y="1529640"/>
                  <a:ext cx="1240560" cy="124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AR" sz="15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 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AR" sz="15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Horas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AR" sz="15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Semanales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5495040" y="1529640"/>
                  <a:ext cx="1362960" cy="124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6858720" y="1529640"/>
                <a:ext cx="1362960" cy="1244880"/>
                <a:chOff x="6858720" y="1529640"/>
                <a:chExt cx="1362960" cy="124488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6919560" y="1529640"/>
                  <a:ext cx="1240920" cy="124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AR" sz="15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 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AR" sz="15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Ingreso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AR" sz="15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Horario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858720" y="1529640"/>
                  <a:ext cx="1362960" cy="124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844200" y="2774880"/>
                <a:ext cx="3286800" cy="2552040"/>
                <a:chOff x="844200" y="2774880"/>
                <a:chExt cx="3286800" cy="25520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905040" y="2774880"/>
                  <a:ext cx="3164760" cy="255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04880"/>
                      <a:tab algn="r" pos="58482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AR" sz="15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Principal perceptor ocupado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04880"/>
                      <a:tab algn="r" pos="58482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5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Puestos de mayor calificación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04880"/>
                      <a:tab algn="r" pos="58482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pt-BR" sz="15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Ocupados formales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04880"/>
                      <a:tab algn="r" pos="58482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pt-BR" sz="15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Asalariados semi-formales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04880"/>
                      <a:tab algn="r" pos="58482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AR" sz="15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Ocupados precarios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04880"/>
                      <a:tab algn="r" pos="58482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5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Puestos de menor calificación 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04880"/>
                      <a:tab algn="r" pos="58482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pt-BR" sz="15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Ocupados formales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04880"/>
                      <a:tab algn="r" pos="58482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pt-BR" sz="15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Asalariados semi-formales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04880"/>
                      <a:tab algn="r" pos="58482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AR" sz="15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Ocupados precarios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04880"/>
                      <a:tab algn="r" pos="58482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844200" y="2774880"/>
                  <a:ext cx="3286800" cy="255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4131360" y="2774880"/>
                <a:ext cx="1363320" cy="2552040"/>
                <a:chOff x="4131360" y="2774880"/>
                <a:chExt cx="1363320" cy="255204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4192560" y="2774880"/>
                  <a:ext cx="1240200" cy="255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5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 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AR" sz="15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5.1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5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3.9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5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 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5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1.2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AR" sz="15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95.0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5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38.9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5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9.8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5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46.2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4131360" y="2774880"/>
                  <a:ext cx="1363320" cy="255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5495040" y="2774880"/>
                <a:ext cx="1362960" cy="2552040"/>
                <a:chOff x="5495040" y="2774880"/>
                <a:chExt cx="1362960" cy="255204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5555880" y="2774880"/>
                  <a:ext cx="1240560" cy="255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5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 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AR" sz="15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43.8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5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44.5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5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 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5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41.5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AR" sz="15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40.8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5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47.1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5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17.6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5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40.4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5495040" y="2774880"/>
                  <a:ext cx="1362960" cy="255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6858720" y="2774880"/>
                <a:ext cx="1362960" cy="2552040"/>
                <a:chOff x="6858720" y="2774880"/>
                <a:chExt cx="1362960" cy="255204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6919560" y="2774880"/>
                  <a:ext cx="1240920" cy="255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5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 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AR" sz="15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2.3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5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2.2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5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 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5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2.6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AR" sz="15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2.7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5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2.2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5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5.0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AR" sz="1500" spc="-1" strike="noStrike">
                      <a:solidFill>
                        <a:srgbClr val="000000"/>
                      </a:solidFill>
                      <a:latin typeface="Tahoma"/>
                      <a:ea typeface="Times New Roman"/>
                    </a:rPr>
                    <a:t>2.5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6858720" y="2774880"/>
                  <a:ext cx="1362960" cy="255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4" name=""/>
            <p:cNvSpPr/>
            <p:nvPr/>
          </p:nvSpPr>
          <p:spPr>
            <a:xfrm>
              <a:off x="838080" y="1523880"/>
              <a:ext cx="7391160" cy="38098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3240" y="5148360"/>
            <a:ext cx="9144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1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900" spc="-1" strike="noStrike">
                <a:solidFill>
                  <a:srgbClr val="000000"/>
                </a:solidFill>
                <a:latin typeface="Tahoma"/>
                <a:ea typeface="Times New Roman"/>
              </a:rPr>
              <a:t>Fuente: Secretaría de Política Económica. Ministerio de Economía-Octubre 200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Formas de inserciòn labo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0" y="2438280"/>
          <a:ext cx="9144000" cy="367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438280"/>
                    <a:ext cx="9144000" cy="36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0" y="1252440"/>
          <a:ext cx="9144000" cy="2232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1252440"/>
                    <a:ext cx="9144000" cy="22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0" y="4861080"/>
          <a:ext cx="9325080" cy="915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4861080"/>
                    <a:ext cx="9325080" cy="9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0" y="334800"/>
            <a:ext cx="91440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volución de la distribución del ingreso en la Argent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920" y="5770440"/>
            <a:ext cx="412920" cy="18756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197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8829720" y="5562720"/>
            <a:ext cx="88920" cy="598320"/>
            <a:chOff x="8829720" y="5562720"/>
            <a:chExt cx="88920" cy="598320"/>
          </a:xfrm>
        </p:grpSpPr>
        <p:sp>
          <p:nvSpPr>
            <p:cNvPr id="186" name=""/>
            <p:cNvSpPr/>
            <p:nvPr/>
          </p:nvSpPr>
          <p:spPr>
            <a:xfrm>
              <a:off x="8874000" y="5562720"/>
              <a:ext cx="0" cy="5900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829720" y="6120000"/>
              <a:ext cx="88920" cy="4104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8731080" y="5791320"/>
            <a:ext cx="412920" cy="18720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95480" y="914400"/>
            <a:ext cx="323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3366"/>
                </a:solidFill>
                <a:latin typeface="Arial"/>
              </a:rPr>
              <a:t>- BS AS 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Times New Roman"/>
              </a:rPr>
              <a:t>Niveles de asegur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0" y="1932120"/>
          <a:ext cx="8893080" cy="4925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932120"/>
                    <a:ext cx="8893080" cy="49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Gasto de los hogares en atenciòn mèdica y seguros voluntarios</a:t>
            </a:r>
            <a:br>
              <a:rPr sz="4000"/>
            </a:b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(en %-199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0" y="1935000"/>
          <a:ext cx="8893080" cy="4919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935000"/>
                    <a:ext cx="8893080" cy="49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Gasto en medicamentos                           </a:t>
            </a:r>
            <a:br>
              <a:rPr sz="3600"/>
            </a:b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(en %-199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1219320" y="824040"/>
            <a:ext cx="7543800" cy="56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1219320" y="762120"/>
            <a:ext cx="746748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2854440" y="0"/>
            <a:ext cx="54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80880" y="0"/>
            <a:ext cx="462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ESTADO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2057400" y="1957320"/>
          <a:ext cx="7086600" cy="4900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7400" y="1957320"/>
                    <a:ext cx="7086600" cy="49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2133720" y="1981080"/>
            <a:ext cx="701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JUSTICIA SOCIA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133720" y="3429000"/>
            <a:ext cx="678168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000000"/>
                </a:solidFill>
                <a:latin typeface="Times New Roman"/>
              </a:rPr>
              <a:t>Hacer </a:t>
            </a:r>
            <a:r>
              <a:rPr b="1" i="1" lang="es-E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on todos</a:t>
            </a:r>
            <a:r>
              <a:rPr b="1" i="1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i="1" lang="es-ES" sz="6000" spc="-1" strike="noStrike">
                <a:solidFill>
                  <a:srgbClr val="000000"/>
                </a:solidFill>
                <a:latin typeface="Times New Roman"/>
              </a:rPr>
              <a:t>para todos</a:t>
            </a:r>
            <a:r>
              <a:rPr b="1" i="1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000000"/>
                </a:solidFill>
                <a:latin typeface="Times New Roman"/>
              </a:rPr>
              <a:t>una Argentin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000000"/>
                </a:solidFill>
                <a:latin typeface="Times New Roman"/>
              </a:rPr>
              <a:t>màs salud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685800" y="1981080"/>
          <a:ext cx="8458200" cy="4478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981080"/>
                    <a:ext cx="8458200" cy="44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Times New Roman"/>
              </a:rPr>
              <a:t>Cobertura de salud</a:t>
            </a:r>
            <a:br>
              <a:rPr sz="4400"/>
            </a:b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En millones</a:t>
            </a:r>
            <a:br>
              <a:rPr sz="2000"/>
            </a:b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AR" sz="1400" spc="-1" strike="noStrike">
                <a:solidFill>
                  <a:srgbClr val="000000"/>
                </a:solidFill>
                <a:latin typeface="Times New Roman"/>
              </a:rPr>
              <a:t>Fuentes:Censo 1991/Encuesta Desarrollo Social(EDS)/ Encuesta de Condiciones de Vida (ECV) y padrones de la S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1333440"/>
            <a:ext cx="9112320" cy="5272200"/>
            <a:chOff x="0" y="1333440"/>
            <a:chExt cx="9112320" cy="5272200"/>
          </a:xfrm>
        </p:grpSpPr>
        <p:sp>
          <p:nvSpPr>
            <p:cNvPr id="52" name=""/>
            <p:cNvSpPr/>
            <p:nvPr/>
          </p:nvSpPr>
          <p:spPr>
            <a:xfrm>
              <a:off x="1438920" y="5918040"/>
              <a:ext cx="693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3366"/>
                  </a:solidFill>
                  <a:latin typeface="Arial"/>
                </a:rPr>
                <a:t>TASA DE DESEMPLEO - % de población desocupada sobre PEA (Población Económica Activa) – Fuente: INDE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599840" y="5961240"/>
              <a:ext cx="120240" cy="1299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666080" y="6207120"/>
              <a:ext cx="2155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ff0000"/>
                  </a:solidFill>
                  <a:latin typeface="Arial"/>
                </a:rPr>
                <a:t>2 MILLONES PLANES SOCIAL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599840" y="6264360"/>
              <a:ext cx="120240" cy="129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0" y="1333440"/>
              <a:ext cx="9112320" cy="4307040"/>
              <a:chOff x="0" y="1333440"/>
              <a:chExt cx="9112320" cy="4307040"/>
            </a:xfrm>
          </p:grpSpPr>
          <p:grpSp>
            <p:nvGrpSpPr>
              <p:cNvPr id="57" name=""/>
              <p:cNvGrpSpPr/>
              <p:nvPr/>
            </p:nvGrpSpPr>
            <p:grpSpPr>
              <a:xfrm>
                <a:off x="0" y="1333440"/>
                <a:ext cx="9112320" cy="4307040"/>
                <a:chOff x="0" y="1333440"/>
                <a:chExt cx="9112320" cy="4307040"/>
              </a:xfrm>
            </p:grpSpPr>
            <p:graphicFrame>
              <p:nvGraphicFramePr>
                <p:cNvPr id="58" name=""/>
                <p:cNvGraphicFramePr/>
                <p:nvPr/>
              </p:nvGraphicFramePr>
              <p:xfrm>
                <a:off x="0" y="1333440"/>
                <a:ext cx="9112320" cy="359568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59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0" y="1333440"/>
                          <a:ext cx="9112320" cy="35956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60" name=""/>
                <p:cNvSpPr/>
                <p:nvPr/>
              </p:nvSpPr>
              <p:spPr>
                <a:xfrm rot="16200000">
                  <a:off x="12600" y="5041800"/>
                  <a:ext cx="489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May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rot="16200000">
                  <a:off x="226080" y="4971960"/>
                  <a:ext cx="6318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0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Octubr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rot="16200000">
                  <a:off x="581400" y="5041800"/>
                  <a:ext cx="489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May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 rot="16200000">
                  <a:off x="796320" y="4971960"/>
                  <a:ext cx="6318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0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Octubr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 rot="16200000">
                  <a:off x="1151280" y="5041800"/>
                  <a:ext cx="489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May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 rot="16200000">
                  <a:off x="1366200" y="4971960"/>
                  <a:ext cx="6318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0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Octubr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 rot="16200000">
                  <a:off x="1721160" y="5041800"/>
                  <a:ext cx="489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May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 rot="16200000">
                  <a:off x="1934640" y="4971960"/>
                  <a:ext cx="6318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0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Octubr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 rot="16200000">
                  <a:off x="2291400" y="5041800"/>
                  <a:ext cx="489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May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 rot="16200000">
                  <a:off x="2504520" y="4971960"/>
                  <a:ext cx="6318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0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Octubr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 rot="16200000">
                  <a:off x="2861280" y="5041800"/>
                  <a:ext cx="489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May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 rot="16200000">
                  <a:off x="3075120" y="4971960"/>
                  <a:ext cx="6318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0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Octubr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 rot="16200000">
                  <a:off x="3430080" y="5041800"/>
                  <a:ext cx="489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May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 rot="16200000">
                  <a:off x="3645000" y="4971960"/>
                  <a:ext cx="6318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0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Octubr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 rot="16200000">
                  <a:off x="4000320" y="5041800"/>
                  <a:ext cx="489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May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 rot="16200000">
                  <a:off x="4214880" y="4971960"/>
                  <a:ext cx="6318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0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Octubr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 rot="16200000">
                  <a:off x="4570200" y="5041800"/>
                  <a:ext cx="489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May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 rot="16200000">
                  <a:off x="4783320" y="4971960"/>
                  <a:ext cx="6318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0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Octubr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 rot="16200000">
                  <a:off x="5140080" y="5041800"/>
                  <a:ext cx="489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May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rot="16200000">
                  <a:off x="5353560" y="4971960"/>
                  <a:ext cx="6318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0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Octubr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 rot="16200000">
                  <a:off x="5710320" y="5041800"/>
                  <a:ext cx="489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May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 rot="16200000">
                  <a:off x="5923800" y="4971960"/>
                  <a:ext cx="6318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0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Octubr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 rot="16200000">
                  <a:off x="6279120" y="5041800"/>
                  <a:ext cx="489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May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 rot="16200000">
                  <a:off x="6494040" y="4971960"/>
                  <a:ext cx="6318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0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Octubr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rot="16200000">
                  <a:off x="6849000" y="5041800"/>
                  <a:ext cx="489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May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rot="16200000">
                  <a:off x="7063920" y="4971960"/>
                  <a:ext cx="6318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0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Octubr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rot="16200000">
                  <a:off x="7418880" y="5041800"/>
                  <a:ext cx="489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May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654840" y="3581280"/>
                  <a:ext cx="635760" cy="555840"/>
                </a:xfrm>
                <a:prstGeom prst="ellipse">
                  <a:avLst/>
                </a:pr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rot="16200000">
                  <a:off x="7632360" y="4971960"/>
                  <a:ext cx="6318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0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Octubr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16200000">
                  <a:off x="7989120" y="5041800"/>
                  <a:ext cx="489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May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187200" y="5403960"/>
                  <a:ext cx="453960" cy="236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200" spc="-1" strike="noStrike">
                      <a:solidFill>
                        <a:srgbClr val="003366"/>
                      </a:solidFill>
                      <a:latin typeface="Arial"/>
                    </a:rPr>
                    <a:t>198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753120" y="5403960"/>
                  <a:ext cx="453960" cy="236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200" spc="-1" strike="noStrike">
                      <a:solidFill>
                        <a:srgbClr val="003366"/>
                      </a:solidFill>
                      <a:latin typeface="Arial"/>
                    </a:rPr>
                    <a:t>198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1318680" y="5403960"/>
                  <a:ext cx="453960" cy="236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200" spc="-1" strike="noStrike">
                      <a:solidFill>
                        <a:srgbClr val="003366"/>
                      </a:solidFill>
                      <a:latin typeface="Arial"/>
                    </a:rPr>
                    <a:t>199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1884600" y="5403960"/>
                  <a:ext cx="453960" cy="236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200" spc="-1" strike="noStrike">
                      <a:solidFill>
                        <a:srgbClr val="003366"/>
                      </a:solidFill>
                      <a:latin typeface="Arial"/>
                    </a:rPr>
                    <a:t>199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2450160" y="5403960"/>
                  <a:ext cx="453960" cy="236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200" spc="-1" strike="noStrike">
                      <a:solidFill>
                        <a:srgbClr val="003366"/>
                      </a:solidFill>
                      <a:latin typeface="Arial"/>
                    </a:rPr>
                    <a:t>199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3015720" y="5403960"/>
                  <a:ext cx="453960" cy="236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200" spc="-1" strike="noStrike">
                      <a:solidFill>
                        <a:srgbClr val="003366"/>
                      </a:solidFill>
                      <a:latin typeface="Arial"/>
                    </a:rPr>
                    <a:t>199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3581280" y="5403960"/>
                  <a:ext cx="453960" cy="236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200" spc="-1" strike="noStrike">
                      <a:solidFill>
                        <a:srgbClr val="003366"/>
                      </a:solidFill>
                      <a:latin typeface="Arial"/>
                    </a:rPr>
                    <a:t>199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4148640" y="5403960"/>
                  <a:ext cx="453960" cy="236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200" spc="-1" strike="noStrike">
                      <a:solidFill>
                        <a:srgbClr val="003366"/>
                      </a:solidFill>
                      <a:latin typeface="Arial"/>
                    </a:rPr>
                    <a:t>199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4714200" y="5403960"/>
                  <a:ext cx="453960" cy="236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200" spc="-1" strike="noStrike">
                      <a:solidFill>
                        <a:srgbClr val="003366"/>
                      </a:solidFill>
                      <a:latin typeface="Arial"/>
                    </a:rPr>
                    <a:t>199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5279760" y="5403960"/>
                  <a:ext cx="453960" cy="236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200" spc="-1" strike="noStrike">
                      <a:solidFill>
                        <a:srgbClr val="003366"/>
                      </a:solidFill>
                      <a:latin typeface="Arial"/>
                    </a:rPr>
                    <a:t>199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5845320" y="5403960"/>
                  <a:ext cx="453960" cy="236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200" spc="-1" strike="noStrike">
                      <a:solidFill>
                        <a:srgbClr val="003366"/>
                      </a:solidFill>
                      <a:latin typeface="Arial"/>
                    </a:rPr>
                    <a:t>199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6411240" y="5403960"/>
                  <a:ext cx="453960" cy="236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200" spc="-1" strike="noStrike">
                      <a:solidFill>
                        <a:srgbClr val="003366"/>
                      </a:solidFill>
                      <a:latin typeface="Arial"/>
                    </a:rPr>
                    <a:t>199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6977160" y="5403960"/>
                  <a:ext cx="453960" cy="236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200" spc="-1" strike="noStrike">
                      <a:solidFill>
                        <a:srgbClr val="003366"/>
                      </a:solidFill>
                      <a:latin typeface="Arial"/>
                    </a:rPr>
                    <a:t>200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7542720" y="5403960"/>
                  <a:ext cx="453960" cy="236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200" spc="-1" strike="noStrike">
                      <a:solidFill>
                        <a:srgbClr val="003366"/>
                      </a:solidFill>
                      <a:latin typeface="Arial"/>
                    </a:rPr>
                    <a:t>200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8109720" y="5403960"/>
                  <a:ext cx="453960" cy="236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200" spc="-1" strike="noStrike">
                      <a:solidFill>
                        <a:srgbClr val="003366"/>
                      </a:solidFill>
                      <a:latin typeface="Arial"/>
                    </a:rPr>
                    <a:t>200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8643240" y="5403960"/>
                  <a:ext cx="453960" cy="236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200" spc="-1" strike="noStrike">
                      <a:solidFill>
                        <a:srgbClr val="ffffff"/>
                      </a:solidFill>
                      <a:latin typeface="Arial"/>
                    </a:rPr>
                    <a:t>200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 rot="16200000">
                  <a:off x="8202240" y="4971960"/>
                  <a:ext cx="6318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0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Octubr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 rot="16200000">
                  <a:off x="8559000" y="5041800"/>
                  <a:ext cx="489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3366"/>
                      </a:solidFill>
                      <a:latin typeface="Arial"/>
                      <a:ea typeface="Arial"/>
                    </a:rPr>
                    <a:t>May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8366040" y="1627200"/>
                <a:ext cx="210960" cy="307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650440" y="2170080"/>
                <a:ext cx="210960" cy="3081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" name=""/>
          <p:cNvSpPr/>
          <p:nvPr/>
        </p:nvSpPr>
        <p:spPr>
          <a:xfrm>
            <a:off x="1068840" y="203040"/>
            <a:ext cx="6988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000000"/>
                </a:solidFill>
                <a:latin typeface="Verdana"/>
              </a:rPr>
              <a:t>Tasa de Desempleo Últimos 15 Añ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762120" y="228600"/>
            <a:ext cx="8381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lación entre tasa de desempleo y cobertura de los seguros de salu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838080" y="1828800"/>
            <a:ext cx="83059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Pensado para aumentar la recaudación impositiva (prestación intangible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Consecuencias previsionales: ni en un sistema ni en otro (prestación diferida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Falta de claridad normativa y falta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de normati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716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006600"/>
                </a:solidFill>
                <a:latin typeface="Times New Roman"/>
              </a:rPr>
              <a:t>Régimen de Monotribut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Cotizantes autònomos y monotributistas</a:t>
            </a:r>
            <a:br>
              <a:rPr sz="3600"/>
            </a:b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Ene-Mar/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685800" y="1981080"/>
          <a:ext cx="8458200" cy="4478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981080"/>
                    <a:ext cx="8458200" cy="44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9907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Salud: </a:t>
            </a: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estación inmedi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umplimiento obligatorio de  brindar el PMO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umplimiento obligatorio de prestaciones de alta complejidad, sin aporte al FS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porte insuficiente para costar el PMO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Inscripciones fraudulentas para captación de Benefi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23880" y="6094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006600"/>
                </a:solidFill>
                <a:latin typeface="Times New Roman"/>
              </a:rPr>
              <a:t>Régimen de Monotribut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Autònomos vs.monotributis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85800" y="1600200"/>
          <a:ext cx="7924680" cy="5002200"/>
        </p:xfrm>
        <a:graphic>
          <a:graphicData uri="http://schemas.openxmlformats.org/drawingml/2006/table">
            <a:tbl>
              <a:tblPr/>
              <a:tblGrid>
                <a:gridCol w="2641680"/>
                <a:gridCol w="2641680"/>
                <a:gridCol w="2641320"/>
              </a:tblGrid>
              <a:tr h="56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tònom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notributist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88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or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%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1 personal + 16 al RPP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35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RPP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ud en activ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MOe 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titular + optativo grupo familia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55e75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560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ud en reti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orte al INSSJy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 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55e75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88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orte al FS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55e75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30T21:08:12Z</dcterms:created>
  <dc:creator>rtorres</dc:creator>
  <dc:description/>
  <dc:language>en-US</dc:language>
  <cp:lastModifiedBy>pagina</cp:lastModifiedBy>
  <dcterms:modified xsi:type="dcterms:W3CDTF">2003-10-17T21:56:11Z</dcterms:modified>
  <cp:revision>9</cp:revision>
  <dc:subject/>
  <dc:title>Presentación de PowerPoint</dc:title>
</cp:coreProperties>
</file>