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7A18-A537-4678-B644-252F60F2F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E699-A29F-49DD-8865-5A94B723A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B3BA-86F3-4644-AE7D-39AF495F4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DADF-E380-4244-AB44-9C0E894AA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20FBA-BD3F-48EA-A029-7A9E78C1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714B6-29F2-4C74-97B1-671CA183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7F714-6CD0-42E1-85D5-107D9DCD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4F6F1-2865-44C4-BAEA-62552A7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76731-4523-4FD0-9B28-8436DF47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179F8-110F-4FDC-A0F2-9F6C6435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8DE4A-37A4-47A2-A6BF-0D0DE3D6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402B-F9CC-4103-A1F1-DBE840202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0DD59-EB79-4CCC-AEED-F4E47495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819B3-0BC0-49F0-9FEA-76DF21A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563FB-7E4D-4941-8E8C-4644796C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E6355-63C9-4F56-9D30-75A031E6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35BD9-0925-4D91-A7E5-829BED51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E7E8-BDE8-44CE-A1AA-A182706CE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F753-9210-4991-AD22-BFB8DD3DB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ACE9-26DC-41A3-B77F-39144236F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785E-41DE-4B2F-A389-AB3B1A9E4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57CB-D347-4FFF-8D97-E04B4381E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11CA-7296-44FB-8F4F-C155A226A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926A-DA00-424F-81A0-26C6D2458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4324-FF49-414E-BC3A-B7B30A7CA1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DD80-03A4-40AF-AF32-BB68CCA4A16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6705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9900"/>
                </a:solidFill>
                <a:latin typeface="Arial Narrow"/>
              </a:rPr>
              <a:t>TRABAJADORES </a:t>
            </a:r>
            <a:br>
              <a:rPr sz="4800"/>
            </a:br>
            <a:br>
              <a:rPr sz="4800"/>
            </a:br>
            <a:r>
              <a:rPr b="1" lang="es-AR" sz="4800" spc="-1" strike="noStrike">
                <a:solidFill>
                  <a:srgbClr val="ff9900"/>
                </a:solidFill>
                <a:latin typeface="Arial Narrow"/>
              </a:rPr>
              <a:t>POR </a:t>
            </a:r>
            <a:br>
              <a:rPr sz="4800"/>
            </a:br>
            <a:br>
              <a:rPr sz="4800"/>
            </a:br>
            <a:r>
              <a:rPr b="1" lang="es-AR" sz="4800" spc="-1" strike="noStrike">
                <a:solidFill>
                  <a:srgbClr val="ff9900"/>
                </a:solidFill>
                <a:latin typeface="Arial Narrow"/>
              </a:rPr>
              <a:t>CUENTA PROPIA</a:t>
            </a:r>
            <a:endParaRPr b="0" lang="en-US" sz="4800" spc="-1" strike="noStrike">
              <a:solidFill>
                <a:srgbClr val="ff9900"/>
              </a:solidFill>
              <a:latin typeface="Arial Narrow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05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36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8824" t="790" r="8824" b="2974"/>
          <a:stretch/>
        </p:blipFill>
        <p:spPr>
          <a:xfrm>
            <a:off x="1523880" y="144792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813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1042920"/>
            <a:ext cx="7619760" cy="5027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9223" t="2046" r="9223" b="10703"/>
          <a:stretch/>
        </p:blipFill>
        <p:spPr>
          <a:xfrm>
            <a:off x="1219320" y="1141560"/>
            <a:ext cx="6626160" cy="472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766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1928" t="2918" r="11928" b="3679"/>
          <a:stretch/>
        </p:blipFill>
        <p:spPr>
          <a:xfrm>
            <a:off x="1523880" y="685800"/>
            <a:ext cx="5943600" cy="4583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7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1238400"/>
            <a:ext cx="8458200" cy="4019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860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207" t="2822" r="2964" b="2853"/>
          <a:stretch/>
        </p:blipFill>
        <p:spPr>
          <a:xfrm>
            <a:off x="1143000" y="762120"/>
            <a:ext cx="6553080" cy="5099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5736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941" t="2693" r="1941" b="2693"/>
          <a:stretch/>
        </p:blipFill>
        <p:spPr>
          <a:xfrm>
            <a:off x="762120" y="60948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421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21956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800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13:53:52Z</dcterms:created>
  <dc:creator>xxx</dc:creator>
  <dc:description/>
  <dc:language>en-US</dc:language>
  <cp:lastModifiedBy>pagina</cp:lastModifiedBy>
  <cp:lastPrinted>2003-10-07T17:18:49Z</cp:lastPrinted>
  <dcterms:modified xsi:type="dcterms:W3CDTF">2003-10-17T21:51:46Z</dcterms:modified>
  <cp:revision>14</cp:revision>
  <dc:subject/>
  <dc:title>PRESENTACIÓN </dc:title>
</cp:coreProperties>
</file>