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F92-F3A5-45A9-9474-6A731DD8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3BB-22DC-48E2-9EEA-B43D83A2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0E9-5258-4BAB-8390-A5513B6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CA6-B360-42E9-AF92-9F2C24B1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11E-E6D8-42DA-8ED9-69DD8BE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56C-3594-4D24-8C8C-A337BEE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7D-8018-4DBC-BC38-DBDC763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6B2-7E0D-480A-A990-3D3C436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A05-3191-4335-84F8-D5A4B948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253-202A-43E8-9445-BC5FA8D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056-4726-408E-B37A-6BB3D57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2B9-B323-4251-92ED-0D9E8AFB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EC31-6920-4A98-ABE8-444105E17FD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BAJADOR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leadores con asalar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adores por cuent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embros cooperativ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adores familiares colab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a por su cuenta y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ta de sub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bitu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etario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 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1219320"/>
          <a:ext cx="807732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77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OR QUE CUBRIR AL TRABAJADOR INDEPENDIENT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evisiones de la L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bertura de riesgos del trabajo es parte dela Seguridad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iversalidad de la Seg.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racterísticas actuales de los trabajadores autónom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bajador dependiente, independiente y parasubordin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ficultades que presenta la instrumentación de la cobertura sobre riesgos del trabajo a  los trabajadores independ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ción del origen de la contin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del se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ta R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egociación individual: falta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conocimiento de la extensión de la jornada lab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BERTURA DE AUTONOMOS POR RIESGOS DEL TRABAJ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DIFERENTES PA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HILE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rabajadores independientes del antiguo sistema previsional y del actual sistema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ienen derecho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a la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LOMB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trabajadores independientes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ued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filiarse al Sistema General de Riesgos Profesionale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 través del contratan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BERTURA DE AUTONOMOS POR RIESGOS DEL TRABAJ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DIFERENTES PA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eguros obligato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ólizas para construcción, para producción, enactividades estacionarias y Seguro RT adol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bligación T trabajadores Indepe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olicitar la protección del Segur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lig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BERTURA DE AUTONOMOS POR RIESGOS DEL TRABAJ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DIFERENTES PA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SP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 protege por las contingencias profesionales  al trabajador por Cuenta Propia o Autónomo  incorporado al “Régimen Especial de la Seguridad Social para Trabajadores por Cuenta Propia o Autónom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Hay obligación de efectuar las correspondientes cotiz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ómo cubrir al trabajador indepen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ción de asoc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r un fondo de solid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r subsidios par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contratistas se afilian voluntariamente con la misma clase de cotización del contrata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citación por tipo de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incipales desafí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lación entre los ingresos y el costo del segu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sigual relación entre las partes contra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iesgo de cobertura de personas que actúan por cuenta propia y no están sujetos a ningún control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voluntariedad u obligatoriedad de la cobertura sobre riesgos del trabaj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Posibles solucio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dicar a los trabajadores por tipo de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citar entre todas las aseguradoras el mejor precio para la cobertura, por tipo de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filiarlo a la misma Administradora de Riesgos Profesionales a la cual se encuentra afiliado el dador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3:36:07Z</dcterms:created>
  <dc:creator>Marta Spinolo Machado</dc:creator>
  <dc:description/>
  <dc:language>en-US</dc:language>
  <cp:lastModifiedBy>pagina</cp:lastModifiedBy>
  <dcterms:modified xsi:type="dcterms:W3CDTF">2003-10-17T21:32:27Z</dcterms:modified>
  <cp:revision>1</cp:revision>
  <dc:subject/>
  <dc:title>TRABAJADOR INDEPENDIENTE</dc:title>
</cp:coreProperties>
</file>