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898B-F728-45BF-BD0D-D7CE75D84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E43A-0214-4855-945A-66917749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CE1E-7C3A-46F2-91C7-3F108CA14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F543-2D06-4F4A-87E1-72454C643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08D0-92C0-408A-936D-61499D4A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75DD-A573-4130-A29A-5603E6DB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2A5A-EABB-49AB-931C-DF5058AF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336E-14CF-405C-9F8A-7FB70CFD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2C2C-2330-40AB-AA05-2857755D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020C-5ACA-4C3E-BF21-A75738DC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8B12-EE81-4CD8-8428-03AB4447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7219-F6FB-4A1B-8EAA-5D25DE9C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7D36-8396-4222-82B5-043F112899A1}" type="slidenum">
              <a:rPr b="0" lang="es-A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TEMAS A TRAT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rado de cober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enef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inanci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luciones propue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POR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es categorías: empresarios, profesionales e independ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nto igual por catego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stribución de los apor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1% de la renta como aporte person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5% de la renta como contribución al régimen públ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ma fija para  sal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ma fija para el INNSJ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ota mensual para riesgos de trab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eterminantes grado de cobertur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ructura demográ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asa de empl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bajo no declarado (neg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alidades de empleo promov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mpleo precario o inf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paración Interna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número relativo de trabajadores autónomos se ve incrementado en todo el mu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países de mayor nivel de desarrollo observan relativamente menor número de trabajadores autónomos (correlación inver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to más cantidad de trabajadores autónomos, menor es el grado de cobertura (correlación inver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obligatoriedad de la afiliación no garantiza mayor grado de cober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incipales prest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Jubilación, invalidez y sobreviv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al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ccidentes de trab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sempl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inanci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tribuciones obligatorias o volunta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lculo de las contribuciones: renta real, renta presunta, tarifa.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uestos generales o de afectación específ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incipales causas de incumplimiento en los apor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rencia de un conocimiento pleno de los beneficios (miopía del contribuyen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imación inapropiada del vínculo beneficio-co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sincentivos de carácter fiscales y previsionales. Por ejemplo, comparación con monotributistas, asignación al régimen público, Ley 25.321, complejidad de los trámites de alta y baja al SIJ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opuesta de reforma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t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visionales idem Ley 24.2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iesgo de trabajo idem Ley 24.5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grama médico obligatorio para el tit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grama médico optativo para famili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bertura médico asistencial del INSSJP al obtener la jubilación o pens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13:33:58Z</dcterms:created>
  <dc:creator>Walter E. Schulthess</dc:creator>
  <dc:description/>
  <dc:language>en-US</dc:language>
  <cp:lastModifiedBy>pagina</cp:lastModifiedBy>
  <dcterms:modified xsi:type="dcterms:W3CDTF">2003-10-17T22:03:24Z</dcterms:modified>
  <cp:revision>6</cp:revision>
  <dc:subject/>
  <dc:title>TEMAS A TRATAR</dc:title>
</cp:coreProperties>
</file>