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6770-06B9-4CF8-852F-EB8CCC521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D195-49E4-49BD-BDAF-CF5571B93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8678-AC1C-496C-B3F4-24E028074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969C-4E15-4F64-AD3A-F8CED0CB6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0366-6456-4BF5-BC48-DD4A4158E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5586-0E5B-4A1A-95CE-E70B71AE2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827C-2C08-4B18-B177-F3E8207E2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502C-A070-467D-A669-6481222E5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DEA9-4A74-4BAB-B0B0-E595A5F60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2D57-759B-441A-9E24-13184364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BD33-582B-44BB-9CB2-06F9EC30D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BE3B-D6D0-468F-82C2-27E2C52F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83C3A-3820-4433-84E6-F52F8223C7A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LAS INVERSIONES DE LAS AFJ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POR LEY LAS AFJP DEBEN INVERTIR EL 90 % DE LOS FONDOS EN ARGENT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LAS INVERSIONES DEBEN SER AUTORIZADAS POR EL BCRA Y LA CN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DEBEN SER CALIFICADAS CON CATEGORÍA “INVESTMENT GRADE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SON SUPERVISADAS RIGUROSA Y DIARIAMENTE POR LA SAFJ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LOS FONDOS RECIBIDOS SE DEBEN INVERTIR INMEDIATAMENTE. NO PUEDEN ESTAR LÍQUID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SOLO SE PERMITE INVERTIR EN EL EXTERIOR HASTA UN 10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LA HISTORIA DE LAS INVER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spcAft>
                <a:spcPts val="24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EN TODOS LOS PAISES QUE SE MIGRA DE UN SISTEMA DE REPARTO A CAPITALIZACION SE DEBE FINANCIAR LA TRANSICION (VER CUADRO ANEX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spcAft>
                <a:spcPts val="24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LAS AFJP PARA ELLO INVERTIAN HASTA UN 50 % EN TITULOS PUBL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spcAft>
                <a:spcPts val="24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INVERTIR EN RIESGO SOBERANO ES EL MEJOR RIESGO EN CUALQUIER PA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spcAft>
                <a:spcPts val="24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CUANDO SE INVERTIA EN EL EXTERIOR, SE CRITICABA A LAS AFJP POR NO INVERTIR EN EL PA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609200" y="1219320"/>
            <a:ext cx="628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ESTRATEGIA DE RENEGOCI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22240" y="3089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2666880"/>
            <a:ext cx="769608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TAMAÑO DEL MERCADO DE CAPI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RESPONSABILIDAD DEL PRINCIPAL ACREEDOR EN    UNA RENEGOCI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NO PRECIPITAR LA QUIEBRA DEL DEU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DEFAULT PRIVADO CUANDO HAY DEFAULT PÚBL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LA PRIMERA REESTRUCTURA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EN EL 2001 SE EFECTUA UN PRIMER CANJE DE BONOS CON MAYOR PLAZO Y T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TAMIEN EN EL 2001 SE EFECTUA EL PRIMER TRAMO DE REESTRUCTURACION CANJEANDO LOS BONOS POR PRESTAMOS GARANTIZADOS CON LAS SIGUIENTES CARACTERISTIC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spcAft>
                <a:spcPts val="20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DOLARIZ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spcAft>
                <a:spcPts val="20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MAS PLAZO Y CON MENOR TA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spcAft>
                <a:spcPts val="20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TRIPLE GARANTIA CON 1) BONOS SUBYACENTES 2) RECAUDACION IMP. AL CHEQUE 3) COPARTICIPAC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LA COMPULS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EN EL 2001 POR DECRETO SE OBLIGA A LAS AFJP A AUMENTAR SU PARTICIPACION EN TITULOS PUBLICOS CON LOS VENCIMIENTOS DE LOS PLAZOS FIJOS (DECR. 1572) EXTENDIENDOSE HASTA ABRIL/02 (GOB. DUHALD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POR ESO Y POR LA REGISTRACION DE LA PESIFICACION AUMENTA LA INVERSION EN T. PUBLICOS AL 75 % DE LOS FON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LAS AFJP ACUDEN A LA JUSTICIA. (NACION NO ACOMPAÑÓ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LA CAMARA DE APELACIONES ACABA DE RESOLVER A FAVOR DE LAS AFJP POR VULNERACION DEL DERECHO DE PROPI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DEVALUACION Y PESIFICA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123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CON LA DEVALUACION EL GOBIERNO PESIFICA LOS PRESTAMOS GARANTIZ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123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LAS AFJP (SALVO NACION) NUEVAMENTE ACUDEN A LA JUSTICIA RECLAMANDO EL MANTENIMIENTO DE LAS CONDI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123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DURANTE MAS DE UN AÑO LAS AFJP PRESENTAN, SIN ÉXITO, PROPUESTAS AL GOBIERNO DE REESTRUCTURACION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11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MANTENIENDO LA MONEDA DE ORIGEN Y LAS GARANT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11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ALARGANDO LOS PLAZOS Y REDUCIENDO LA TA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123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POR OTRO DECRETO (530/03) EL ACTUAL GOBIERNO ELIMINA LAS GARANTIAS Y DEVUELVE LOS BONOS ORIGI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123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NUEVAMENTE LAS AFJP ACUDEN A LA JUSTICIA.(SALVO NAC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LA NUEVA REESTRUCTURA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EL GOBIERNO OFRECE 3 ALTERNATIVAS. UNA DE ELLAS ES UN BONO A LA PAR, DOLARIZADO, CON MAYOR PLAZO Y MENOR T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ESTA PROPUESTA NO DIFIERE MUCHO DE LA QUE VIENE HACIENDO EL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SI EXISTE VOLUNTAD DEL GOBIERNO DE PRESERVAR LOS AHORROS DEBERIA OFRECER ESPECIFICAMENTE ESTA ALTERNATIVA A LOS FONDOS DE PEN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9T11:11:43Z</dcterms:created>
  <dc:creator>sarinelr</dc:creator>
  <dc:description/>
  <dc:language>en-US</dc:language>
  <cp:lastModifiedBy>pagina</cp:lastModifiedBy>
  <dcterms:modified xsi:type="dcterms:W3CDTF">2003-10-17T21:25:50Z</dcterms:modified>
  <cp:revision>8</cp:revision>
  <dc:subject/>
  <dc:title>LAS INVERSIONES DE LAS AFJP</dc:title>
</cp:coreProperties>
</file>