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media/image13.wmf" ContentType="image/x-wmf"/>
  <Override PartName="/ppt/media/image9.wmf" ContentType="image/x-wmf"/>
  <Override PartName="/ppt/media/image12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A69-201D-4403-99BD-C0622C62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7AA-E7A2-4737-A21E-FF23045F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FE10-988B-4023-87C2-0792578C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9814-A2C9-44E3-95E8-C7AD6289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9DB-CD8C-45FC-94E0-6CA5D91F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A367-993D-43DE-85EB-FF9F4BF2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71C8-361A-44C7-99C5-E962B7CB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92CC-D9AB-4879-A5AB-B0967B1C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6632-2EA9-4688-8B19-D5B30D8C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6F53-C5B7-43A6-9731-337423B1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3EA9-7456-44DF-91C3-5B436265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E50-4A38-4D7D-BB1C-77B12260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58E7-E55C-4352-92D3-D9330E2783F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 Black"/>
              </a:rPr>
              <a:t>CRISIS ACTUAL y FUTURO PREVIS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POR EDUARDO SAN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CBB0-4119-4C6A-A6D3-22D1BB692FDF}" type="slidenum">
              <a:t>1</a:t>
            </a:fld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0"/>
          <a:ext cx="9144000" cy="713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1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7ACC-9496-457F-A7D7-5B2DF26EA71C}" type="slidenum">
              <a:t>10</a:t>
            </a:fld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886040" y="16621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141120"/>
          <a:ext cx="9144000" cy="657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120"/>
                    <a:ext cx="9144000" cy="657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0CD8-BD84-41AB-8A0E-8DCC07397DA9}" type="slidenum">
              <a:t>11</a:t>
            </a:fld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057400" y="18622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704880"/>
            <a:ext cx="9144000" cy="544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F859-C250-496F-8818-EFFAB00F926B}" type="slidenum">
              <a:t>12</a:t>
            </a:fld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66960" y="1609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552600"/>
            <a:ext cx="9144000" cy="589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89E3-86C2-4539-8C5A-E9C598860950}" type="slidenum">
              <a:t>13</a:t>
            </a:fld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268200"/>
          <a:ext cx="9144000" cy="631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8200"/>
                    <a:ext cx="91440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774D-6C84-4481-82FC-D0908FBB038C}" type="slidenum">
              <a:t>14</a:t>
            </a:fld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0" y="357120"/>
          <a:ext cx="9144000" cy="614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7120"/>
                    <a:ext cx="914400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293-E92D-4976-B1F4-7A5762D29DF7}" type="slidenum">
              <a:t>15</a:t>
            </a:fld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871640" y="15955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450720"/>
            <a:ext cx="9144000" cy="59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153-5E12-4692-8A95-78B7A177486C}" type="slidenum">
              <a:t>16</a:t>
            </a:fld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 Black"/>
              </a:rPr>
              <a:t>CRISIS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6ECA-D200-42E8-9287-59D753BA55F3}" type="slidenum">
              <a:t>17</a:t>
            </a:fld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0" y="468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82D4-E7EA-48EC-AA8D-BEE419639D97}" type="slidenum">
              <a:t>18</a:t>
            </a:fld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457200"/>
          <a:ext cx="9144000" cy="574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57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1E35-E913-46DD-81A6-8C157A1134C1}" type="slidenum">
              <a:t>19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 Black"/>
              </a:rPr>
              <a:t>PROBLEMAS del VIEJO SISTEMA de REPAR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TABA DESACTUALIZADO DESDE EL PUNTO DE VISTA ACTUA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RA PERMISIVO AL ACCESO DE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AS PRESTACIONES NO CUBRÍAN LAS EXPECTATIVAS NI DE APORTANTES NI DE LOS BENEFICI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TABA DESEQUILIBRADO  FISC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A608-53FE-4649-B594-6116E62B1FCA}" type="slidenum">
              <a:t>2</a:t>
            </a:fld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336600"/>
          <a:ext cx="9144000" cy="61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6600"/>
                    <a:ext cx="91440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7EE1-580B-4C92-8AE8-186E5BCAF4D5}" type="slidenum">
              <a:t>20</a:t>
            </a:fld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0" y="811080"/>
          <a:ext cx="9144000" cy="523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11080"/>
                    <a:ext cx="9144000" cy="52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84BB-F59A-4B8E-8195-14B18547DF8B}" type="slidenum">
              <a:t>21</a:t>
            </a:fld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es-AR" sz="6000" spc="-1" strike="noStrike">
                <a:solidFill>
                  <a:srgbClr val="000000"/>
                </a:solidFill>
                <a:latin typeface="Arial Black"/>
              </a:rPr>
              <a:t>PROPUESTA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CE64-B993-4173-AACE-A2CED02ACC70}" type="slidenum">
              <a:t>22</a:t>
            </a:fld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s-AR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AR" sz="3600" spc="-1" strike="noStrike">
                <a:solidFill>
                  <a:srgbClr val="000000"/>
                </a:solidFill>
                <a:latin typeface="Arial"/>
              </a:rPr>
              <a:t>...se introdujo un falso debate entre sistema de reparto o de capitalización, cuando lo que se debe discutir es como evitamos profundizar la crisis..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28E9-2B33-4C82-AC25-09377B9FB803}" type="slidenum">
              <a:t>23</a:t>
            </a:fld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es-ES_tradnl" sz="4400" spc="-1" strike="noStrike">
                <a:solidFill>
                  <a:srgbClr val="000000"/>
                </a:solidFill>
                <a:latin typeface="Optima"/>
                <a:ea typeface="Times New Roman"/>
              </a:rPr>
              <a:t> </a:t>
            </a:r>
            <a:r>
              <a:rPr b="1" i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i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...en menos de 15 años el 50% de los mayores de 70 no tendrá cobertura, hoy esa cifra es del 20%....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0C4-1A0C-4722-93A6-A06D9D4F1CFC}" type="slidenum">
              <a:t>24</a:t>
            </a:fld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628640"/>
            <a:ext cx="91440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Optima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...el actual sistema se financia en un 65% con impuestos que pagan todos, por lo tanto es sumamente injusto que se jubile solo una parte de la población...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A70-0B7E-4076-9897-8F9DCDD71672}" type="slidenum">
              <a:t>25</a:t>
            </a:fld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6765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...se debe pensar en un sistema que tenga un componente universal a los 65 años y luego dos pilares donde la gente pueda optar entre un sistema de reparto o de capitalización para complementar su jubilación....”</a:t>
            </a:r>
            <a:r>
              <a:rPr b="1" i="1" lang="en-US" sz="3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9C48-E4B9-4989-A506-82B3259BF3DC}" type="slidenum">
              <a:t>26</a:t>
            </a:fld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 Black"/>
              </a:rPr>
              <a:t>MUCHAS GRA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 Black"/>
              </a:rPr>
              <a:t>EDUARDO SAN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2906-0991-41BA-99AD-A9BC5DE9C78C}" type="slidenum">
              <a:t>27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000000"/>
                </a:solidFill>
                <a:latin typeface="Arial Black"/>
              </a:rPr>
              <a:t>SOLUCIONES QUE SE PROPUSIERON</a:t>
            </a:r>
            <a:r>
              <a:rPr b="0" lang="es-AR" sz="40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REAR UN MERCADO DE CAPITALES AUTÓT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DISMINUIR LOS APORTES PATRONALES PARA BAJAR EL “COSTO ARGENTIN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UNIFICAR LOS SISTEMAS PROVINCIALES PARA DISMINUIR LOS DÉFICIT LO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EA97-A5B6-492D-B293-F712B1284866}" type="slidenum">
              <a:t>3</a:t>
            </a:fld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 Black"/>
              </a:rPr>
              <a:t>DECISIONES POLÍTICAS QUE SE TOMAR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REAR UN SISTEMA DE CAPITALIZACIÓN INDIVIDUAL PARA INCENTIVAR EL MERCADO DE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BAJAR LAS CONTRIBUCIONES PATR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RANSFERIR LAS CAJAS PREVISIONALES PROVI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3154-9752-436F-8C80-B9D84794BE7C}" type="slidenum">
              <a:t>4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1219320"/>
          <a:ext cx="914400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E6AA-3A45-486E-8B64-706E6C78552E}" type="slidenum">
              <a:t>5</a:t>
            </a:fld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9144000" cy="624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2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61B-9A9E-4892-A55D-37C6B3339A18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5248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419040"/>
          <a:ext cx="91440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9040"/>
                    <a:ext cx="9144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CFCE-523A-4C52-982D-02CFF1F3DF77}" type="slidenum">
              <a:t>7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-101520" y="1440"/>
          <a:ext cx="9201240" cy="60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1520" y="1440"/>
                    <a:ext cx="9201240" cy="60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D512-D446-4A7F-A935-0DB7A43C9FC3}" type="slidenum">
              <a:t>8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5840"/>
          <a:ext cx="9144000" cy="682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840"/>
                    <a:ext cx="9144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D0F9-EFF9-4B7B-93BD-CA49A84F3406}" type="slidenum">
              <a:t>9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4:20:23Z</dcterms:created>
  <dc:creator>Christian</dc:creator>
  <dc:description/>
  <dc:language>en-US</dc:language>
  <cp:lastModifiedBy>pagina</cp:lastModifiedBy>
  <cp:lastPrinted>2003-10-07T16:53:15Z</cp:lastPrinted>
  <dcterms:modified xsi:type="dcterms:W3CDTF">2003-10-17T20:23:46Z</dcterms:modified>
  <cp:revision>37</cp:revision>
  <dc:subject/>
  <dc:title>Sin título de diapositiva</dc:title>
</cp:coreProperties>
</file>