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320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320" bIns="403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33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jorgesanmartino.com.ar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228600" y="2286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99"/>
                </a:solidFill>
                <a:latin typeface="Verdana"/>
              </a:rPr>
              <a:t>Recursos de la Seguridad 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76320" y="838080"/>
            <a:ext cx="8839080" cy="57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375"/>
              </a:spcBef>
              <a:buClr>
                <a:srgbClr val="ff9933"/>
              </a:buClr>
              <a:buFont typeface="Wingdings" charset="2"/>
              <a:buChar char=""/>
              <a:tabLst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99"/>
                </a:solidFill>
                <a:latin typeface="Verdana"/>
                <a:ea typeface="HG Mincho Light J"/>
              </a:rPr>
              <a:t>Los recursos de la Seguridad Social están focalizados en las transacciones desarrolladas en el mercado laboral forma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375"/>
              </a:spcBef>
              <a:buClr>
                <a:srgbClr val="ff9933"/>
              </a:buClr>
              <a:buFont typeface="Wingdings" charset="2"/>
              <a:buChar char=""/>
              <a:tabLst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99"/>
                </a:solidFill>
                <a:latin typeface="Verdana"/>
                <a:ea typeface="HG Mincho Light J"/>
              </a:rPr>
              <a:t>La recaudación para el año 2002 fue de $13.000 millones, compuesto de la siguiente maner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49240" indent="-277560">
              <a:lnSpc>
                <a:spcPct val="100000"/>
              </a:lnSpc>
              <a:spcBef>
                <a:spcPts val="689"/>
              </a:spcBef>
              <a:buClr>
                <a:srgbClr val="ff9933"/>
              </a:buClr>
              <a:buFont typeface="Wingdings" charset="2"/>
              <a:buChar char=""/>
              <a:tabLst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99"/>
                </a:solidFill>
                <a:latin typeface="Verdana"/>
                <a:ea typeface="HG Mincho Light J"/>
              </a:rPr>
              <a:t>Sistema Integrado de Jubilaciones y Pensiones: 59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49240" indent="-277560">
              <a:lnSpc>
                <a:spcPct val="100000"/>
              </a:lnSpc>
              <a:spcBef>
                <a:spcPts val="689"/>
              </a:spcBef>
              <a:buClr>
                <a:srgbClr val="ff9933"/>
              </a:buClr>
              <a:buFont typeface="Wingdings" charset="2"/>
              <a:buChar char=""/>
              <a:tabLst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99"/>
                </a:solidFill>
                <a:latin typeface="Verdana"/>
                <a:ea typeface="HG Mincho Light J"/>
              </a:rPr>
              <a:t>Sistema Nacional de Salud 18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49240" indent="-277560">
              <a:lnSpc>
                <a:spcPct val="100000"/>
              </a:lnSpc>
              <a:spcBef>
                <a:spcPts val="689"/>
              </a:spcBef>
              <a:buClr>
                <a:srgbClr val="ff9933"/>
              </a:buClr>
              <a:buFont typeface="Wingdings" charset="2"/>
              <a:buChar char=""/>
              <a:tabLst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99"/>
                </a:solidFill>
                <a:latin typeface="Verdana"/>
                <a:ea typeface="HG Mincho Light J"/>
              </a:rPr>
              <a:t>Aportes y Contribuciones INSSJP  12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49240" indent="-277560">
              <a:lnSpc>
                <a:spcPct val="100000"/>
              </a:lnSpc>
              <a:spcBef>
                <a:spcPts val="689"/>
              </a:spcBef>
              <a:buClr>
                <a:srgbClr val="ff9933"/>
              </a:buClr>
              <a:buFont typeface="Wingdings" charset="2"/>
              <a:buChar char=""/>
              <a:tabLst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99"/>
                </a:solidFill>
                <a:latin typeface="Verdana"/>
                <a:ea typeface="HG Mincho Light J"/>
              </a:rPr>
              <a:t>Sistema de la LRT 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49240" indent="-277560">
              <a:lnSpc>
                <a:spcPct val="100000"/>
              </a:lnSpc>
              <a:spcBef>
                <a:spcPts val="689"/>
              </a:spcBef>
              <a:buClr>
                <a:srgbClr val="ff9933"/>
              </a:buClr>
              <a:buFont typeface="Wingdings" charset="2"/>
              <a:buChar char=""/>
              <a:tabLst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99"/>
                </a:solidFill>
                <a:latin typeface="Verdana"/>
                <a:ea typeface="HG Mincho Light J"/>
              </a:rPr>
              <a:t>Resto de los subsistemas</a:t>
            </a:r>
            <a:r>
              <a:rPr b="0" lang="es-MX" sz="2200" spc="-1" strike="noStrike">
                <a:solidFill>
                  <a:srgbClr val="000099"/>
                </a:solidFill>
                <a:latin typeface="Verdana"/>
                <a:ea typeface="HG Mincho Light J"/>
              </a:rPr>
              <a:t> 6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375"/>
              </a:spcBef>
              <a:buClr>
                <a:srgbClr val="ff9933"/>
              </a:buClr>
              <a:buFont typeface="Wingdings" charset="2"/>
              <a:buChar char=""/>
              <a:tabLst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99"/>
                </a:solidFill>
                <a:latin typeface="Verdana"/>
                <a:ea typeface="Times New Roman"/>
              </a:rPr>
              <a:t>Durante el año 2002 cotizaron mensualmente 4,1 millones de trabajadores en promedio, registrando una mejora en la tendencia durante el segundo semestre del añ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49240" indent="-277560">
              <a:lnSpc>
                <a:spcPct val="100000"/>
              </a:lnSpc>
              <a:spcBef>
                <a:spcPts val="689"/>
              </a:spcBef>
              <a:buClr>
                <a:srgbClr val="ff9933"/>
              </a:buClr>
              <a:buFont typeface="Wingdings" charset="2"/>
              <a:buChar char=""/>
              <a:tabLst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99"/>
                </a:solidFill>
                <a:latin typeface="Verdana"/>
                <a:ea typeface="Times New Roman"/>
              </a:rPr>
              <a:t>En relación de dependencia: 88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49240" indent="-277560">
              <a:lnSpc>
                <a:spcPct val="100000"/>
              </a:lnSpc>
              <a:spcBef>
                <a:spcPts val="689"/>
              </a:spcBef>
              <a:buClr>
                <a:srgbClr val="ff9933"/>
              </a:buClr>
              <a:buFont typeface="Wingdings" charset="2"/>
              <a:buChar char=""/>
              <a:tabLst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99"/>
                </a:solidFill>
                <a:latin typeface="Verdana"/>
                <a:ea typeface="Times New Roman"/>
              </a:rPr>
              <a:t>Autónomos y monotributistas: 12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99"/>
                </a:solidFill>
                <a:latin typeface="Verdana"/>
              </a:rPr>
              <a:t>Muchas gracias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99"/>
                </a:solidFill>
                <a:latin typeface="Verdana"/>
              </a:rPr>
              <a:t>Lic. Jorge A. San Martino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www.jorgesanmartino.com.ar</a:t>
            </a:r>
            <a:endParaRPr b="0" lang="en-US" sz="2000" spc="-1" strike="noStrike">
              <a:solidFill>
                <a:srgbClr val="003399"/>
              </a:solidFill>
              <a:latin typeface="Verdana"/>
            </a:endParaRPr>
          </a:p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Verdana"/>
            </a:endParaRPr>
          </a:p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99"/>
                </a:solidFill>
                <a:latin typeface="Verdana"/>
              </a:rPr>
              <a:t>Email: jorgesanmartino@yahoo.com.ar</a:t>
            </a:r>
            <a:endParaRPr b="0" lang="en-US" sz="2000" spc="-1" strike="noStrike">
              <a:solidFill>
                <a:srgbClr val="003399"/>
              </a:solidFill>
              <a:latin typeface="Verdan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Verdana"/>
              </a:rPr>
              <a:t>Mercado Lab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6019920"/>
            <a:ext cx="868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99"/>
                </a:solidFill>
                <a:latin typeface="Verdana"/>
              </a:rPr>
              <a:t>Fuente: Elaborado por el INARSS, en base a la metodología de cálculo implementada por la “Comisión Interministerial para el cálculo de la Evasión Previsional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914400" y="1295280"/>
            <a:ext cx="6515280" cy="4356360"/>
            <a:chOff x="914400" y="1295280"/>
            <a:chExt cx="6515280" cy="4356360"/>
          </a:xfrm>
        </p:grpSpPr>
        <p:sp>
          <p:nvSpPr>
            <p:cNvPr id="44" name=""/>
            <p:cNvSpPr/>
            <p:nvPr/>
          </p:nvSpPr>
          <p:spPr>
            <a:xfrm>
              <a:off x="914400" y="1295280"/>
              <a:ext cx="4572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80"/>
                  </a:solidFill>
                  <a:latin typeface="Arial"/>
                </a:rPr>
                <a:t>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371600" y="1295280"/>
              <a:ext cx="297180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80"/>
                  </a:solidFill>
                  <a:latin typeface="Arial"/>
                </a:rPr>
                <a:t>Población Económicamente Activ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058080" y="1295280"/>
              <a:ext cx="137160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80"/>
                  </a:solidFill>
                  <a:latin typeface="Arial"/>
                </a:rPr>
                <a:t>14.336.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343400" y="1523520"/>
              <a:ext cx="171468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2285640"/>
              <a:ext cx="4572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80"/>
                  </a:solidFill>
                  <a:latin typeface="Arial"/>
                </a:rPr>
                <a:t>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71600" y="2285640"/>
              <a:ext cx="297180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80"/>
                  </a:solidFill>
                  <a:latin typeface="Arial"/>
                </a:rPr>
                <a:t>PEA desocupa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058080" y="2285640"/>
              <a:ext cx="137160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80"/>
                  </a:solidFill>
                  <a:latin typeface="Arial"/>
                </a:rPr>
                <a:t>2.503.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343400" y="2514240"/>
              <a:ext cx="171468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14400" y="3301920"/>
              <a:ext cx="4572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80"/>
                  </a:solidFill>
                  <a:latin typeface="Arial"/>
                </a:rPr>
                <a:t>3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371600" y="3301920"/>
              <a:ext cx="297180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80"/>
                  </a:solidFill>
                  <a:latin typeface="Arial"/>
                </a:rPr>
                <a:t>PEA ocupa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058080" y="3301920"/>
              <a:ext cx="137160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80"/>
                  </a:solidFill>
                  <a:latin typeface="Arial"/>
                </a:rPr>
                <a:t>11.837.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3530520"/>
              <a:ext cx="171468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171520" y="1866600"/>
              <a:ext cx="137160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80"/>
                  </a:solidFill>
                  <a:latin typeface="Arial"/>
                </a:rPr>
                <a:t>MEN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71520" y="2869920"/>
              <a:ext cx="137160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80"/>
                  </a:solidFill>
                  <a:latin typeface="Arial"/>
                </a:rPr>
                <a:t>IGUAL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71520" y="3809880"/>
              <a:ext cx="137160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80"/>
                  </a:solidFill>
                  <a:latin typeface="Arial"/>
                </a:rPr>
                <a:t>MEN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14400" y="4165560"/>
              <a:ext cx="4572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80"/>
                  </a:solidFill>
                  <a:latin typeface="Arial"/>
                </a:rPr>
                <a:t>4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71600" y="4165560"/>
              <a:ext cx="2971800" cy="558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80"/>
                  </a:solidFill>
                  <a:latin typeface="Arial"/>
                </a:rPr>
                <a:t>Población Económicamente Activ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80"/>
                  </a:solidFill>
                  <a:latin typeface="Arial"/>
                </a:rPr>
                <a:t>No obligada al SIJ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58080" y="4165560"/>
              <a:ext cx="137160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80"/>
                  </a:solidFill>
                  <a:latin typeface="Arial"/>
                </a:rPr>
                <a:t>1.983.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343400" y="4394160"/>
              <a:ext cx="171468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71520" y="4737240"/>
              <a:ext cx="137160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80"/>
                  </a:solidFill>
                  <a:latin typeface="Arial"/>
                </a:rPr>
                <a:t>IGUAL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4400" y="5092920"/>
              <a:ext cx="4572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80"/>
                  </a:solidFill>
                  <a:latin typeface="Arial"/>
                </a:rPr>
                <a:t>5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371600" y="5092920"/>
              <a:ext cx="2971800" cy="558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80"/>
                  </a:solidFill>
                  <a:latin typeface="Arial"/>
                </a:rPr>
                <a:t>Población Económicamente Activ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r>
                <a:rPr b="0" lang="es-ES" sz="1400" spc="-1" strike="noStrike">
                  <a:solidFill>
                    <a:srgbClr val="000080"/>
                  </a:solidFill>
                  <a:latin typeface="Arial"/>
                </a:rPr>
                <a:t>obligada al SIJ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58080" y="5092920"/>
              <a:ext cx="137160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80"/>
                  </a:solidFill>
                  <a:latin typeface="Arial"/>
                </a:rPr>
                <a:t>9.854.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5321160"/>
              <a:ext cx="171468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Verdana"/>
              </a:rPr>
              <a:t>Mercado Lab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6340320"/>
            <a:ext cx="868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99"/>
                </a:solidFill>
                <a:latin typeface="Verdana"/>
              </a:rPr>
              <a:t>Fuente: Elaborado por el INARSS, en base a la metodología de cálculo implementada por la “Comisión Interministerial para el cálculo de la Evasión Previsional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32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9"/>
                </a:solidFill>
                <a:latin typeface="Verdana"/>
              </a:rPr>
              <a:t>Recursos que no ingresan al SU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838080" y="1447920"/>
            <a:ext cx="5867640" cy="4876560"/>
            <a:chOff x="838080" y="1447920"/>
            <a:chExt cx="5867640" cy="4876560"/>
          </a:xfrm>
        </p:grpSpPr>
        <p:sp>
          <p:nvSpPr>
            <p:cNvPr id="72" name=""/>
            <p:cNvSpPr/>
            <p:nvPr/>
          </p:nvSpPr>
          <p:spPr>
            <a:xfrm>
              <a:off x="3494880" y="1447920"/>
              <a:ext cx="2656800" cy="423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80"/>
                  </a:solidFill>
                  <a:latin typeface="Arial"/>
                </a:rPr>
                <a:t>Población Económicamente Acti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80"/>
                  </a:solidFill>
                  <a:latin typeface="Arial"/>
                </a:rPr>
                <a:t>Obligada al SIJ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4159080" y="1871640"/>
              <a:ext cx="110520" cy="2116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77320" y="1871640"/>
              <a:ext cx="111240" cy="2116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162960" y="2107440"/>
              <a:ext cx="1439280" cy="317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80"/>
                  </a:solidFill>
                  <a:latin typeface="Arial"/>
                </a:rPr>
                <a:t>Asalaria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266440" y="2107440"/>
              <a:ext cx="1439280" cy="317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80"/>
                  </a:solidFill>
                  <a:latin typeface="Arial"/>
                </a:rPr>
                <a:t>Autónom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59480" y="2095560"/>
              <a:ext cx="1439280" cy="31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80"/>
                  </a:solidFill>
                  <a:latin typeface="Arial"/>
                </a:rPr>
                <a:t>(Cifras a octubre de 2002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38080" y="2613960"/>
              <a:ext cx="442800" cy="42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80"/>
                  </a:solidFill>
                  <a:latin typeface="Arial"/>
                </a:rPr>
                <a:t>6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80880" y="2613960"/>
              <a:ext cx="1660680" cy="31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80"/>
                  </a:solidFill>
                  <a:latin typeface="Arial"/>
                </a:rPr>
                <a:t>PEA  obligada al SIJ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266440" y="2613960"/>
              <a:ext cx="1439280" cy="317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80"/>
                  </a:solidFill>
                  <a:latin typeface="Arial"/>
                </a:rPr>
                <a:t>2.989.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62960" y="2613960"/>
              <a:ext cx="1439280" cy="317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80"/>
                  </a:solidFill>
                  <a:latin typeface="Arial"/>
                </a:rPr>
                <a:t>6.865.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38080" y="3038040"/>
              <a:ext cx="442800" cy="42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80"/>
                  </a:solidFill>
                  <a:latin typeface="Arial"/>
                </a:rPr>
                <a:t>7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280880" y="3038040"/>
              <a:ext cx="1660680" cy="31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80"/>
                  </a:solidFill>
                  <a:latin typeface="Arial"/>
                </a:rPr>
                <a:t>Afiliados al SIJ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266440" y="3038040"/>
              <a:ext cx="1439280" cy="317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80"/>
                  </a:solidFill>
                  <a:latin typeface="Arial"/>
                </a:rPr>
                <a:t>3.172.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162960" y="3038040"/>
              <a:ext cx="1439280" cy="317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80"/>
                  </a:solidFill>
                  <a:latin typeface="Arial"/>
                </a:rPr>
                <a:t>8.345.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8080" y="3462120"/>
              <a:ext cx="442800" cy="42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80"/>
                  </a:solidFill>
                  <a:latin typeface="Arial"/>
                </a:rPr>
                <a:t>8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280880" y="3462120"/>
              <a:ext cx="1660680" cy="31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80"/>
                  </a:solidFill>
                  <a:latin typeface="Arial"/>
                </a:rPr>
                <a:t>Cotizantes regula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66440" y="3462120"/>
              <a:ext cx="1439280" cy="317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80"/>
                  </a:solidFill>
                  <a:latin typeface="Arial"/>
                </a:rPr>
                <a:t>489.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62960" y="3462120"/>
              <a:ext cx="1439280" cy="317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80"/>
                  </a:solidFill>
                  <a:latin typeface="Arial"/>
                </a:rPr>
                <a:t>3.642.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8080" y="3897720"/>
              <a:ext cx="442800" cy="42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80"/>
                  </a:solidFill>
                  <a:latin typeface="Arial"/>
                </a:rPr>
                <a:t>9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70000" y="3897720"/>
              <a:ext cx="1881720" cy="51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80"/>
                  </a:solidFill>
                  <a:latin typeface="Arial"/>
                </a:rPr>
                <a:t>Trabajadores sin cotizac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80"/>
                  </a:solidFill>
                  <a:latin typeface="Arial"/>
                </a:rPr>
                <a:t>(no declarados +declarados sin pagos) (6) –(8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66440" y="3897720"/>
              <a:ext cx="1439280" cy="317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80"/>
                  </a:solidFill>
                  <a:latin typeface="Arial"/>
                </a:rPr>
                <a:t>2.500.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62960" y="3897720"/>
              <a:ext cx="1439280" cy="317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80"/>
                  </a:solidFill>
                  <a:latin typeface="Arial"/>
                </a:rPr>
                <a:t>3.223.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02240" y="4062960"/>
              <a:ext cx="66420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34520" y="4086360"/>
              <a:ext cx="0" cy="3178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269960" y="4416120"/>
              <a:ext cx="1217520" cy="317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80"/>
                  </a:solidFill>
                  <a:latin typeface="Arial"/>
                </a:rPr>
                <a:t>5.723.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716640" y="4204080"/>
              <a:ext cx="0" cy="8478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41520" y="4204080"/>
              <a:ext cx="0" cy="8478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8080" y="5087520"/>
              <a:ext cx="442800" cy="42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80"/>
                  </a:solidFill>
                  <a:latin typeface="Arial"/>
                </a:rPr>
                <a:t>1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70000" y="5087520"/>
              <a:ext cx="1881720" cy="51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80"/>
                  </a:solidFill>
                  <a:latin typeface="Arial"/>
                </a:rPr>
                <a:t>Total de recursos mensuales que no ingresan al SU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66440" y="5087520"/>
              <a:ext cx="1439280" cy="317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80"/>
                  </a:solidFill>
                  <a:latin typeface="Arial"/>
                </a:rPr>
                <a:t>385.947.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162960" y="5087520"/>
              <a:ext cx="1439280" cy="317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80"/>
                  </a:solidFill>
                  <a:latin typeface="Arial"/>
                </a:rPr>
                <a:t>739.624.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02240" y="5252760"/>
              <a:ext cx="66420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34520" y="5276160"/>
              <a:ext cx="0" cy="4122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69960" y="5817960"/>
              <a:ext cx="1328400" cy="317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80"/>
                  </a:solidFill>
                  <a:latin typeface="Arial"/>
                </a:rPr>
                <a:t>14.246.000.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8080" y="5806440"/>
              <a:ext cx="442800" cy="42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80"/>
                  </a:solidFill>
                  <a:latin typeface="Arial"/>
                </a:rPr>
                <a:t>1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70000" y="5806440"/>
              <a:ext cx="1881720" cy="51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80"/>
                  </a:solidFill>
                  <a:latin typeface="Arial"/>
                </a:rPr>
                <a:t>Total de recursos Anuales que no ingresan al SU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Verdana"/>
              </a:rPr>
              <a:t>Evolución de la cantidad de cotizantes</a:t>
            </a: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62120" y="666720"/>
          <a:ext cx="7010280" cy="672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66720"/>
                    <a:ext cx="7010280" cy="672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Verdana"/>
              </a:rPr>
              <a:t>Salario medio declarado</a:t>
            </a: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307800"/>
          <a:ext cx="7924680" cy="655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07800"/>
                    <a:ext cx="7924680" cy="655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0880" y="1371600"/>
            <a:ext cx="8302680" cy="43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100000"/>
              </a:lnSpc>
              <a:spcBef>
                <a:spcPts val="1375"/>
              </a:spcBef>
              <a:buClr>
                <a:srgbClr val="ff9933"/>
              </a:buClr>
              <a:buFont typeface="Wingdings" charset="2"/>
              <a:buChar char=""/>
              <a:tabLst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99"/>
                </a:solidFill>
                <a:latin typeface="Verdana"/>
                <a:ea typeface="HG Mincho Light J"/>
              </a:rPr>
              <a:t>No se observan diferencias en el comportamiento de los empleadores, en cuanto al pago de aportes y contribuc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375"/>
              </a:spcBef>
              <a:buClr>
                <a:srgbClr val="ff9933"/>
              </a:buClr>
              <a:buFont typeface="Wingdings" charset="2"/>
              <a:buChar char=""/>
              <a:tabLst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99"/>
                </a:solidFill>
                <a:latin typeface="Verdana"/>
                <a:ea typeface="HG Mincho Light J"/>
              </a:rPr>
              <a:t>No se evidencian diferencias significativas en el cumplimiento de los pagos según el sexo del cotiz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375"/>
              </a:spcBef>
              <a:buClr>
                <a:srgbClr val="ff9933"/>
              </a:buClr>
              <a:buFont typeface="Wingdings" charset="2"/>
              <a:buChar char=""/>
              <a:tabLst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99"/>
                </a:solidFill>
                <a:latin typeface="Verdana"/>
                <a:ea typeface="HG Mincho Light J"/>
              </a:rPr>
              <a:t>3,3 millones de trabajadores en relación de dependencia fueron declarados 12 períodos consecuti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1375"/>
              </a:spcBef>
              <a:buClr>
                <a:srgbClr val="ff9933"/>
              </a:buClr>
              <a:buFont typeface="Wingdings" charset="2"/>
              <a:buChar char=""/>
              <a:tabLst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99"/>
                </a:solidFill>
                <a:latin typeface="Verdana"/>
                <a:ea typeface="HG Mincho Light J"/>
              </a:rPr>
              <a:t>Si bien la serie de Cotizantes es estable, la cantidad de trabajadores que presentan situación de regularidad (en cuanto a prestaciones previsionales) alcanza aproximadamente el 40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304920"/>
            <a:ext cx="8001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Verdana"/>
              </a:rPr>
              <a:t>Determinantes del pago de los trabajadores depend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Verdana"/>
              </a:rPr>
              <a:t>Trabajadores autónomos</a:t>
            </a: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1066680"/>
            <a:ext cx="6400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9"/>
                </a:solidFill>
                <a:latin typeface="Verdana"/>
              </a:rPr>
              <a:t>Cumplimiento en la cantidad de pag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04920" y="1495440"/>
          <a:ext cx="8839080" cy="546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95440"/>
                    <a:ext cx="8839080" cy="54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Verdana"/>
              </a:rPr>
              <a:t>Trabajadores autónomos</a:t>
            </a:r>
            <a:endParaRPr b="1" lang="en-US" sz="2800" spc="-1" strike="noStrike">
              <a:solidFill>
                <a:srgbClr val="003399"/>
              </a:solidFill>
              <a:latin typeface="Verdan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219320" y="1523880"/>
          <a:ext cx="6248160" cy="536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6248160" cy="53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228600" y="99072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99"/>
                </a:solidFill>
                <a:latin typeface="Verdana"/>
              </a:rPr>
              <a:t>Grado de cumplimiento en la cantidad de pagos según período de inic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90440" y="990720"/>
            <a:ext cx="8953560" cy="53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99"/>
                </a:solidFill>
                <a:latin typeface="Verdana"/>
                <a:ea typeface="HG Mincho Light J"/>
              </a:rPr>
              <a:t>Del comportamiento de los pagos de trabajadores autónomos surg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 algn="just">
              <a:lnSpc>
                <a:spcPct val="100000"/>
              </a:lnSpc>
              <a:spcBef>
                <a:spcPts val="964"/>
              </a:spcBef>
              <a:buClr>
                <a:srgbClr val="ff9933"/>
              </a:buClr>
              <a:buFont typeface="Wingdings" charset="2"/>
              <a:buChar char=""/>
              <a:tabLst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99"/>
                </a:solidFill>
                <a:latin typeface="Verdana"/>
                <a:ea typeface="HG Mincho Light J"/>
              </a:rPr>
              <a:t>Una continua disminución en el número de cotizantes a partir del año 199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 algn="just">
              <a:lnSpc>
                <a:spcPct val="100000"/>
              </a:lnSpc>
              <a:spcBef>
                <a:spcPts val="964"/>
              </a:spcBef>
              <a:buClr>
                <a:srgbClr val="ff9933"/>
              </a:buClr>
              <a:buFont typeface="Wingdings" charset="2"/>
              <a:buChar char=""/>
              <a:tabLst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99"/>
                </a:solidFill>
                <a:latin typeface="Verdana"/>
                <a:ea typeface="Times New Roman"/>
              </a:rPr>
              <a:t>En el mes de diciembre de 2001 se registra el menor número de cotizantes (368 mi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 algn="just">
              <a:lnSpc>
                <a:spcPct val="100000"/>
              </a:lnSpc>
              <a:spcBef>
                <a:spcPts val="964"/>
              </a:spcBef>
              <a:buClr>
                <a:srgbClr val="ff9933"/>
              </a:buClr>
              <a:buFont typeface="Wingdings" charset="2"/>
              <a:buChar char=""/>
              <a:tabLst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99"/>
                </a:solidFill>
                <a:latin typeface="Verdana"/>
                <a:ea typeface="Times New Roman"/>
              </a:rPr>
              <a:t>Actualmente de 550.000 cotizantes aproximadamente el 46% son autónomos y el resto monotributist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 algn="just">
              <a:lnSpc>
                <a:spcPct val="100000"/>
              </a:lnSpc>
              <a:spcBef>
                <a:spcPts val="964"/>
              </a:spcBef>
              <a:buClr>
                <a:srgbClr val="ff9933"/>
              </a:buClr>
              <a:buFont typeface="Wingdings" charset="2"/>
              <a:buChar char=""/>
              <a:tabLst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99"/>
                </a:solidFill>
                <a:latin typeface="Verdana"/>
                <a:ea typeface="Times New Roman"/>
              </a:rPr>
              <a:t>De acuerdo al número de pagos se observa que durante todos los años el 30% deja de pagar después del 1° pago, a los 6 meses continúa pagando el 50% y al año el 40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 algn="just">
              <a:lnSpc>
                <a:spcPct val="100000"/>
              </a:lnSpc>
              <a:spcBef>
                <a:spcPts val="964"/>
              </a:spcBef>
              <a:buClr>
                <a:srgbClr val="ff9933"/>
              </a:buClr>
              <a:buFont typeface="Wingdings" charset="2"/>
              <a:buChar char=""/>
              <a:tabLst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99"/>
                </a:solidFill>
                <a:latin typeface="Verdana"/>
                <a:ea typeface="Times New Roman"/>
              </a:rPr>
              <a:t>Este comportamiento recursivo refuerza la idea de la inscripción de los autónomos como una necesidad de contar con un mecanismo de factur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Verdana"/>
              </a:rPr>
              <a:t>Determinantes del pago de Autóno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7T16:00:15Z</dcterms:created>
  <dc:creator/>
  <dc:description/>
  <dc:language>en-US</dc:language>
  <cp:lastModifiedBy>pagina</cp:lastModifiedBy>
  <cp:lastPrinted>2003-03-21T18:51:53Z</cp:lastPrinted>
  <dcterms:modified xsi:type="dcterms:W3CDTF">2003-10-17T21:28:24Z</dcterms:modified>
  <cp:revision>76</cp:revision>
  <dc:subject/>
  <dc:title>Sin título de diapositiva</dc:title>
</cp:coreProperties>
</file>