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3385-7D99-4318-BF9D-2CB8E64F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089-BF73-4662-A652-86980AF3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2A8-CF5C-4489-886E-05E7D75D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599-51C7-4870-9C76-9032C5A2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7CA-58AB-41D8-8FB7-AAAA0CDA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D867-CC61-4E3F-8F21-13E152E0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B3B-D412-4F97-8A43-676E15C6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49C-64D3-4BAC-BFA8-F4A61584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5F2-5FF5-40C2-ADFF-027B71F1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739B-73DF-4445-8344-A51AE649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BD0-3247-41FB-89B6-26E9D954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952-2B34-4669-998C-907D00F2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168F-BB6D-400D-9D69-0E5BC5F1563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image" Target="../media/image3.png"/><Relationship Id="rId4" Type="http://schemas.openxmlformats.org/officeDocument/2006/relationships/slide" Target="slide37.xml"/><Relationship Id="rId5" Type="http://schemas.openxmlformats.org/officeDocument/2006/relationships/image" Target="../media/image3.png"/><Relationship Id="rId6" Type="http://schemas.openxmlformats.org/officeDocument/2006/relationships/slide" Target="slide40.xml"/><Relationship Id="rId7" Type="http://schemas.openxmlformats.org/officeDocument/2006/relationships/image" Target="../media/image3.png"/><Relationship Id="rId8" Type="http://schemas.openxmlformats.org/officeDocument/2006/relationships/slide" Target="slide43.xml"/><Relationship Id="rId9" Type="http://schemas.openxmlformats.org/officeDocument/2006/relationships/image" Target="../media/image3.png"/><Relationship Id="rId10" Type="http://schemas.openxmlformats.org/officeDocument/2006/relationships/slide" Target="slide19.xml"/><Relationship Id="rId11" Type="http://schemas.openxmlformats.org/officeDocument/2006/relationships/image" Target="../media/image3.png"/><Relationship Id="rId12" Type="http://schemas.openxmlformats.org/officeDocument/2006/relationships/slide" Target="slide22.xml"/><Relationship Id="rId13" Type="http://schemas.openxmlformats.org/officeDocument/2006/relationships/image" Target="../media/image3.png"/><Relationship Id="rId14" Type="http://schemas.openxmlformats.org/officeDocument/2006/relationships/slide" Target="slide25.xml"/><Relationship Id="rId15" Type="http://schemas.openxmlformats.org/officeDocument/2006/relationships/image" Target="../media/image3.png"/><Relationship Id="rId16" Type="http://schemas.openxmlformats.org/officeDocument/2006/relationships/slide" Target="slide28.xm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7467480" cy="2362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3333cc"/>
                </a:solidFill>
                <a:latin typeface="Verdana"/>
              </a:rPr>
              <a:t>RECIPROCIDAD JUBILATOR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3333cc"/>
                </a:solidFill>
                <a:latin typeface="Verdana"/>
              </a:rPr>
              <a:t>ROL DE LAS CAJAS PROVINCIALES DE PROFESIO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3333cc"/>
                </a:solidFill>
                <a:uFillTx/>
                <a:latin typeface="Aachen BT"/>
              </a:rPr>
              <a:t>SISTEMA DE RECIPROCIDAD JUBILATO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1º  Finalidad – Integr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2º  Quienes pueden invoc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3º  Cajas Otorgantes – Cajas Particip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4º  Fecha de ley vi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5º  Reconocimientos de servicios de las Cajas particip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6º  Determinación de Edad y Antigüedad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7º  Determinación del Hab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                          </a:t>
            </a: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Servicios simultáne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                          </a:t>
            </a: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signaciones familiares</a:t>
            </a:r>
            <a:r>
              <a:rPr b="1" i="1" lang="es-A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3333cc"/>
                </a:solidFill>
                <a:uFillTx/>
                <a:latin typeface="Aachen BT"/>
              </a:rPr>
              <a:t>SISTEMA DE RECIPROCIDAD JUBILATO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8º    Movi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9º   Actos administrativos de la Caja otorg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10º Transferencias de Haberes Proporcio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11º Confli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                         </a:t>
            </a: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Leyes Aplicables y Jurisd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                         </a:t>
            </a: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Cancelación de Matríc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                         </a:t>
            </a: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C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                         </a:t>
            </a: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Compatibi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12º Las Cajas participantes solo responden por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                         </a:t>
            </a: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p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5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3333cc"/>
                </a:solidFill>
                <a:uFillTx/>
                <a:latin typeface="Aachen BT"/>
              </a:rPr>
              <a:t>SISTEMA DE RECIPROCIDAD JUBILATO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13º  Si se reúnen los Requisitos, no se de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                          </a:t>
            </a: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invocar la Reciprocidad. Exclusión de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                         </a:t>
            </a: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Regla de la Prestación ú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14º 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15º  Denuncia de la Resolución 363/8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16º  Mantienen la vigencia Convenio d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                          </a:t>
            </a: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Tucumán y reciprocidad Provincia de Bs. 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17º  Desvinculación del Decreto 9316/4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Artículo 18º  Inicio de la vigencia – 1º de Julio de 198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500"/>
                            </p:stCondLst>
                            <p:childTnLst>
                              <p:par>
                                <p:cTn id="4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500"/>
                            </p:stCondLst>
                            <p:childTnLst>
                              <p:par>
                                <p:cTn id="4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8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3333cc"/>
                </a:solidFill>
                <a:uFillTx/>
                <a:latin typeface="Aachen BT"/>
              </a:rPr>
              <a:t>RESUMEN ESTADIS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0920" y="1413000"/>
          <a:ext cx="8497800" cy="5111640"/>
        </p:xfrm>
        <a:graphic>
          <a:graphicData uri="http://schemas.openxmlformats.org/drawingml/2006/table">
            <a:tbl>
              <a:tblPr/>
              <a:tblGrid>
                <a:gridCol w="5041800"/>
                <a:gridCol w="1701720"/>
                <a:gridCol w="1754280"/>
              </a:tblGrid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sos Vig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ntidad de Cajas con casos vig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,33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ntidad de casos en que las Cajas actúan como Cajas Otorg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3,26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ntidad de Cajas que actúan como Cajas Otorg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0,83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3333cc"/>
                </a:solidFill>
                <a:uFillTx/>
                <a:latin typeface="Aachen BT"/>
              </a:rPr>
              <a:t>DIFICULTADES DETECTA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* Caja de Martilleros Bs. As.: "Sí, se reciben quejas puesto que perciben con 2 o más meses de atraso con respecto a los haberes abonados por la Institución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a sus jubilados y pensionados propios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* Caja de Abogados Bs. As.: "Sólo en el caso de un afiliado, con relación al cual la ANSES no ha comenzado a transferir la prorrata, es más aún no ha conformado el dictado de la resolución </a:t>
            </a:r>
            <a:br>
              <a:rPr sz="2800"/>
            </a:br>
            <a:r>
              <a:rPr b="1" lang="es-ES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de esta Caja otorgando el beneficio.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3333cc"/>
                </a:solidFill>
                <a:uFillTx/>
                <a:latin typeface="Aachen BT"/>
              </a:rPr>
              <a:t>DIFICULTADES DETECTA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*</a:t>
            </a:r>
            <a:r>
              <a:rPr b="0" lang="es-ES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Caja de Ingenieros de Córdoba: sólo informa "Los beneficiarios de estas jubilaciones presentan dificultades para el cobro de lo haberes con las Cajas Nacionales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* Caja de Ingenieros de Entre Ríos: "Un afiliado cuya Caja otorgante es ANSES tuvo algunos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 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inconvenientes en el cobro de sus haberes, especialmente en deducciones no informada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3333cc"/>
                </a:solidFill>
                <a:uFillTx/>
                <a:latin typeface="Aachen BT"/>
              </a:rPr>
              <a:t>EJEMPL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5123520" y="1855440"/>
            <a:ext cx="3861720" cy="4028400"/>
            <a:chOff x="5123520" y="1855440"/>
            <a:chExt cx="3861720" cy="4028400"/>
          </a:xfrm>
        </p:grpSpPr>
        <p:sp>
          <p:nvSpPr>
            <p:cNvPr id="77" name=""/>
            <p:cNvSpPr/>
            <p:nvPr/>
          </p:nvSpPr>
          <p:spPr>
            <a:xfrm rot="5688000">
              <a:off x="4784760" y="29649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6348800">
              <a:off x="6089040" y="23770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7480" y="2438280"/>
            <a:ext cx="4010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ÑOS NO SIMULTÁN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ÑOS SUCES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ÑOS EX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ÑOS SIMULTÁN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0320" y="144684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ños de A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2680" y="456120"/>
            <a:ext cx="62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ciprocidad Jubilatoria - Ejemplos de Aplicación - Años de Apor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693280" y="6417360"/>
            <a:ext cx="18720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839160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87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4724280" y="-762120"/>
            <a:ext cx="304920" cy="4419720"/>
          </a:xfrm>
          <a:custGeom>
            <a:avLst/>
            <a:gdLst>
              <a:gd name="textAreaLeft" fmla="*/ 0 w 304920"/>
              <a:gd name="textAreaRight" fmla="*/ 110160 w 3049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0480" y="990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2285640" y="175248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1219320"/>
            <a:ext cx="0" cy="51051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317720" y="3352320"/>
            <a:ext cx="1448640" cy="1024200"/>
            <a:chOff x="7317720" y="3352320"/>
            <a:chExt cx="1448640" cy="1024200"/>
          </a:xfrm>
        </p:grpSpPr>
        <p:sp>
          <p:nvSpPr>
            <p:cNvPr id="95" name=""/>
            <p:cNvSpPr/>
            <p:nvPr/>
          </p:nvSpPr>
          <p:spPr>
            <a:xfrm flipV="1">
              <a:off x="7543800" y="3352320"/>
              <a:ext cx="0" cy="3812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7720" y="3733920"/>
              <a:ext cx="144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xced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83040" y="2819520"/>
            <a:ext cx="8358840" cy="761760"/>
            <a:chOff x="383040" y="2819520"/>
            <a:chExt cx="8358840" cy="761760"/>
          </a:xfrm>
        </p:grpSpPr>
        <p:sp>
          <p:nvSpPr>
            <p:cNvPr id="98" name=""/>
            <p:cNvSpPr/>
            <p:nvPr/>
          </p:nvSpPr>
          <p:spPr>
            <a:xfrm>
              <a:off x="383040" y="3124080"/>
              <a:ext cx="13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ucesi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66880" y="3276720"/>
              <a:ext cx="5486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66880" y="2971800"/>
              <a:ext cx="0" cy="6094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2971800"/>
              <a:ext cx="0" cy="6094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53280" y="2971800"/>
              <a:ext cx="0" cy="6094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05120" y="312408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64680" y="2819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79280" y="2819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8080" y="3084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82320" y="1636560"/>
            <a:ext cx="7292520" cy="916920"/>
            <a:chOff x="382320" y="1636560"/>
            <a:chExt cx="7292520" cy="916920"/>
          </a:xfrm>
        </p:grpSpPr>
        <p:sp>
          <p:nvSpPr>
            <p:cNvPr id="108" name=""/>
            <p:cNvSpPr/>
            <p:nvPr/>
          </p:nvSpPr>
          <p:spPr>
            <a:xfrm>
              <a:off x="382320" y="1636560"/>
              <a:ext cx="1540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imultáne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6880" y="2057400"/>
              <a:ext cx="4419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6880" y="1752480"/>
              <a:ext cx="0" cy="6098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76920" y="1752480"/>
              <a:ext cx="0" cy="6098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05120" y="19051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07480" y="1712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3480" y="1712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1040" y="1905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6600" y="1752480"/>
              <a:ext cx="0" cy="60984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666880" y="4137120"/>
            <a:ext cx="5957280" cy="2068200"/>
            <a:chOff x="2666880" y="4137120"/>
            <a:chExt cx="5957280" cy="2068200"/>
          </a:xfrm>
        </p:grpSpPr>
        <p:sp>
          <p:nvSpPr>
            <p:cNvPr id="118" name=""/>
            <p:cNvSpPr/>
            <p:nvPr/>
          </p:nvSpPr>
          <p:spPr>
            <a:xfrm>
              <a:off x="4267080" y="4686480"/>
              <a:ext cx="1295640" cy="457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4686480"/>
              <a:ext cx="2895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66880" y="4305240"/>
              <a:ext cx="0" cy="1600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600" y="4305240"/>
              <a:ext cx="0" cy="1600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67080" y="4305240"/>
              <a:ext cx="0" cy="12193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7080" y="5143680"/>
              <a:ext cx="3962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62720" y="4305240"/>
              <a:ext cx="0" cy="12193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7543800" y="5219280"/>
              <a:ext cx="0" cy="3812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17360" y="5624640"/>
              <a:ext cx="130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xced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66840" y="5548320"/>
              <a:ext cx="194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ños Simultáne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876920" y="5219280"/>
              <a:ext cx="0" cy="3812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666880" y="4137120"/>
              <a:ext cx="1524600" cy="1098360"/>
              <a:chOff x="2666880" y="4137120"/>
              <a:chExt cx="1524600" cy="1098360"/>
            </a:xfrm>
          </p:grpSpPr>
          <p:sp>
            <p:nvSpPr>
              <p:cNvPr id="130" name=""/>
              <p:cNvSpPr/>
              <p:nvPr/>
            </p:nvSpPr>
            <p:spPr>
              <a:xfrm rot="20677200">
                <a:off x="2744640" y="431496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677200">
                <a:off x="2818080" y="429480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562360" y="4670640"/>
              <a:ext cx="1524600" cy="1098360"/>
              <a:chOff x="5562360" y="4670640"/>
              <a:chExt cx="1524600" cy="1098360"/>
            </a:xfrm>
          </p:grpSpPr>
          <p:sp>
            <p:nvSpPr>
              <p:cNvPr id="133" name=""/>
              <p:cNvSpPr/>
              <p:nvPr/>
            </p:nvSpPr>
            <p:spPr>
              <a:xfrm rot="20677200">
                <a:off x="5640120" y="484848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20677200">
                <a:off x="5713560" y="482832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42640" y="4862520"/>
              <a:ext cx="138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ños 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multáne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46800" y="4405320"/>
              <a:ext cx="138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ños 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multáne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52680" y="456120"/>
            <a:ext cx="62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ciprocidad Jubilatoria - Ejemplos de Aplicación - Años de Apor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5123520" y="1855440"/>
            <a:ext cx="3861720" cy="4028400"/>
            <a:chOff x="5123520" y="1855440"/>
            <a:chExt cx="3861720" cy="4028400"/>
          </a:xfrm>
        </p:grpSpPr>
        <p:sp>
          <p:nvSpPr>
            <p:cNvPr id="143" name=""/>
            <p:cNvSpPr/>
            <p:nvPr/>
          </p:nvSpPr>
          <p:spPr>
            <a:xfrm rot="5688000">
              <a:off x="4784760" y="29649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348800">
              <a:off x="6089040" y="23770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2680" y="456120"/>
            <a:ext cx="627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ciprocidad Jubilatoria - Ejemplos de Aplicación - Años de Apor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680" y="10656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08040" y="1591920"/>
            <a:ext cx="702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jemplo N° 1 - Básico / Años Suce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08040" y="2179440"/>
            <a:ext cx="74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jemplo N° 2 - Básico / Años Sucesivos con Excedentes Simét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08040" y="2788920"/>
            <a:ext cx="73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jemplo N° 3 - Básico / Años Sucesivos con Excedentes Asimét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08040" y="3305160"/>
            <a:ext cx="740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jemplo N° 4 - Básico / Años Sucesivos con Excedentes Asimétricos (Invers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08040" y="3908160"/>
            <a:ext cx="74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jemplo N° 5 - Determinación de Edad  /  Bá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08040" y="4419720"/>
            <a:ext cx="740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jemplo N° 6 - Determinación de Edad  /  Básico  -  Con Años sucesivos exced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08040" y="5029200"/>
            <a:ext cx="733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jemplo N° 7 - Determinación de Edad  /  Básico  -  Con Años Simultáneos (menos 5 añ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08040" y="5667480"/>
            <a:ext cx="733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jemplo N° 8 - Determinación de Edad  /  Básico  -  Con Años Simultáneos (más de 5 añ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1219320" y="1609560"/>
            <a:ext cx="304560" cy="304920"/>
          </a:xfrm>
          <a:prstGeom prst="rightArrow">
            <a:avLst>
              <a:gd name="adj1" fmla="val 43750"/>
              <a:gd name="adj2" fmla="val 7291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1219320" y="2200320"/>
            <a:ext cx="304560" cy="304920"/>
          </a:xfrm>
          <a:prstGeom prst="rightArrow">
            <a:avLst>
              <a:gd name="adj1" fmla="val 43750"/>
              <a:gd name="adj2" fmla="val 7291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6" action="ppaction://hlinksldjump"/>
          </p:cNvPr>
          <p:cNvSpPr/>
          <p:nvPr/>
        </p:nvSpPr>
        <p:spPr>
          <a:xfrm>
            <a:off x="1219320" y="2809800"/>
            <a:ext cx="304560" cy="304920"/>
          </a:xfrm>
          <a:prstGeom prst="rightArrow">
            <a:avLst>
              <a:gd name="adj1" fmla="val 43750"/>
              <a:gd name="adj2" fmla="val 7291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1219320" y="3324240"/>
            <a:ext cx="304560" cy="304920"/>
          </a:xfrm>
          <a:prstGeom prst="rightArrow">
            <a:avLst>
              <a:gd name="adj1" fmla="val 43750"/>
              <a:gd name="adj2" fmla="val 7291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0" action="ppaction://hlinksldjump"/>
          </p:cNvPr>
          <p:cNvSpPr/>
          <p:nvPr/>
        </p:nvSpPr>
        <p:spPr>
          <a:xfrm>
            <a:off x="1219320" y="3924360"/>
            <a:ext cx="304560" cy="304920"/>
          </a:xfrm>
          <a:prstGeom prst="rightArrow">
            <a:avLst>
              <a:gd name="adj1" fmla="val 43750"/>
              <a:gd name="adj2" fmla="val 7291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2" action="ppaction://hlinksldjump"/>
          </p:cNvPr>
          <p:cNvSpPr/>
          <p:nvPr/>
        </p:nvSpPr>
        <p:spPr>
          <a:xfrm>
            <a:off x="1219320" y="4438800"/>
            <a:ext cx="304560" cy="304560"/>
          </a:xfrm>
          <a:prstGeom prst="rightArrow">
            <a:avLst>
              <a:gd name="adj1" fmla="val 43750"/>
              <a:gd name="adj2" fmla="val 72917"/>
            </a:avLst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4" action="ppaction://hlinksldjump"/>
          </p:cNvPr>
          <p:cNvSpPr/>
          <p:nvPr/>
        </p:nvSpPr>
        <p:spPr>
          <a:xfrm>
            <a:off x="1219320" y="5048280"/>
            <a:ext cx="304560" cy="304920"/>
          </a:xfrm>
          <a:prstGeom prst="rightArrow">
            <a:avLst>
              <a:gd name="adj1" fmla="val 43750"/>
              <a:gd name="adj2" fmla="val 72917"/>
            </a:avLst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6" action="ppaction://hlinksldjump"/>
          </p:cNvPr>
          <p:cNvSpPr/>
          <p:nvPr/>
        </p:nvSpPr>
        <p:spPr>
          <a:xfrm>
            <a:off x="1219320" y="5686560"/>
            <a:ext cx="304560" cy="304560"/>
          </a:xfrm>
          <a:prstGeom prst="rightArrow">
            <a:avLst>
              <a:gd name="adj1" fmla="val 43750"/>
              <a:gd name="adj2" fmla="val 72917"/>
            </a:avLst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s-ES_tradnl" sz="4000" spc="-1" strike="noStrike">
                <a:solidFill>
                  <a:srgbClr val="3333cc"/>
                </a:solidFill>
                <a:latin typeface="Aachen BT"/>
              </a:rPr>
              <a:t>SEGURIDAD SOCIAL  Y </a:t>
            </a:r>
            <a:br>
              <a:rPr sz="4000"/>
            </a:br>
            <a:br>
              <a:rPr sz="4000"/>
            </a:br>
            <a:r>
              <a:rPr b="1" i="1" lang="es-ES_tradnl" sz="4000" spc="-1" strike="noStrike">
                <a:solidFill>
                  <a:srgbClr val="3333cc"/>
                </a:solidFill>
                <a:latin typeface="Aachen BT"/>
              </a:rPr>
              <a:t>TOTALIZACIÓN DE SERV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5123520" y="1974240"/>
            <a:ext cx="3861720" cy="4028400"/>
            <a:chOff x="5123520" y="1974240"/>
            <a:chExt cx="3861720" cy="4028400"/>
          </a:xfrm>
        </p:grpSpPr>
        <p:sp>
          <p:nvSpPr>
            <p:cNvPr id="168" name=""/>
            <p:cNvSpPr/>
            <p:nvPr/>
          </p:nvSpPr>
          <p:spPr>
            <a:xfrm rot="5688000">
              <a:off x="4784760" y="30837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348800">
              <a:off x="6089040" y="24958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rot="10800000">
            <a:off x="6718320" y="2373120"/>
            <a:ext cx="193680" cy="2889000"/>
          </a:xfrm>
          <a:custGeom>
            <a:avLst/>
            <a:gdLst>
              <a:gd name="textAreaLeft" fmla="*/ 0 w 193680"/>
              <a:gd name="textAreaRight" fmla="*/ 69840 w 193680"/>
              <a:gd name="textAreaTop" fmla="*/ 75240 h 2889000"/>
              <a:gd name="textAreaBottom" fmla="*/ 2813760 h 28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133720" y="2166840"/>
            <a:ext cx="2090520" cy="3956040"/>
            <a:chOff x="2133720" y="2166840"/>
            <a:chExt cx="2090520" cy="3956040"/>
          </a:xfrm>
        </p:grpSpPr>
        <p:sp>
          <p:nvSpPr>
            <p:cNvPr id="173" name=""/>
            <p:cNvSpPr/>
            <p:nvPr/>
          </p:nvSpPr>
          <p:spPr>
            <a:xfrm>
              <a:off x="2133720" y="2166840"/>
              <a:ext cx="1676160" cy="35816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5560" y="236232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CAJA “A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77920" y="52689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66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16440" y="33926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16440" y="39225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2000" y="44528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$ 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57280" y="2903400"/>
              <a:ext cx="17528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57280" y="5040360"/>
              <a:ext cx="17528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527200" y="5024520"/>
              <a:ext cx="1524600" cy="1098360"/>
              <a:chOff x="2527200" y="5024520"/>
              <a:chExt cx="1524600" cy="1098360"/>
            </a:xfrm>
          </p:grpSpPr>
          <p:sp>
            <p:nvSpPr>
              <p:cNvPr id="182" name=""/>
              <p:cNvSpPr/>
              <p:nvPr/>
            </p:nvSpPr>
            <p:spPr>
              <a:xfrm rot="20677200">
                <a:off x="2604960" y="520236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20677200">
                <a:off x="2678400" y="518220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4495680" y="2166840"/>
            <a:ext cx="2129040" cy="3956040"/>
            <a:chOff x="4495680" y="2166840"/>
            <a:chExt cx="2129040" cy="3956040"/>
          </a:xfrm>
        </p:grpSpPr>
        <p:sp>
          <p:nvSpPr>
            <p:cNvPr id="185" name=""/>
            <p:cNvSpPr/>
            <p:nvPr/>
          </p:nvSpPr>
          <p:spPr>
            <a:xfrm>
              <a:off x="4495680" y="2166840"/>
              <a:ext cx="1676520" cy="35816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56320" y="236232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CAJA “B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040" y="33926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040" y="39225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8680" y="52689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990033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51600" y="44528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$ 6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71880" y="2903400"/>
              <a:ext cx="175284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71880" y="5040360"/>
              <a:ext cx="175284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965480" y="5024520"/>
              <a:ext cx="1524600" cy="1098360"/>
              <a:chOff x="4965480" y="5024520"/>
              <a:chExt cx="1524600" cy="1098360"/>
            </a:xfrm>
          </p:grpSpPr>
          <p:sp>
            <p:nvSpPr>
              <p:cNvPr id="194" name=""/>
              <p:cNvSpPr/>
              <p:nvPr/>
            </p:nvSpPr>
            <p:spPr>
              <a:xfrm rot="20677200">
                <a:off x="5043240" y="520236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20677200">
                <a:off x="5116680" y="518220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6834960" y="2760480"/>
            <a:ext cx="2280960" cy="2120760"/>
            <a:chOff x="6834960" y="2760480"/>
            <a:chExt cx="2280960" cy="2120760"/>
          </a:xfrm>
        </p:grpSpPr>
        <p:grpSp>
          <p:nvGrpSpPr>
            <p:cNvPr id="197" name=""/>
            <p:cNvGrpSpPr/>
            <p:nvPr/>
          </p:nvGrpSpPr>
          <p:grpSpPr>
            <a:xfrm>
              <a:off x="6834960" y="2760480"/>
              <a:ext cx="2280960" cy="2120760"/>
              <a:chOff x="6834960" y="2760480"/>
              <a:chExt cx="2280960" cy="2120760"/>
            </a:xfrm>
          </p:grpSpPr>
          <p:sp>
            <p:nvSpPr>
              <p:cNvPr id="198" name=""/>
              <p:cNvSpPr/>
              <p:nvPr/>
            </p:nvSpPr>
            <p:spPr>
              <a:xfrm rot="20677200">
                <a:off x="7024680" y="2997000"/>
                <a:ext cx="1798560" cy="1675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20677200">
                <a:off x="7126920" y="2968920"/>
                <a:ext cx="1798560" cy="167580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7019280" y="3211560"/>
              <a:ext cx="17794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Caj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Particip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863280" y="339264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5800" y="392256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ntigü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8120" y="445284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12800" y="3897360"/>
            <a:ext cx="434340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12800" y="4430880"/>
            <a:ext cx="434340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9960" y="975240"/>
            <a:ext cx="49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emplo N° 1 - Básico, Años Suce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1680" y="456120"/>
            <a:ext cx="35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1 - Básico / Años Suces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2" action="ppaction://hlinksldjump"/>
          </p:cNvPr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213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869800" y="838080"/>
            <a:ext cx="3061080" cy="1375920"/>
            <a:chOff x="5869800" y="838080"/>
            <a:chExt cx="3061080" cy="1375920"/>
          </a:xfrm>
        </p:grpSpPr>
        <p:sp>
          <p:nvSpPr>
            <p:cNvPr id="217" name=""/>
            <p:cNvSpPr/>
            <p:nvPr/>
          </p:nvSpPr>
          <p:spPr>
            <a:xfrm>
              <a:off x="6853320" y="83808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CAJA “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13960" y="83808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CAJA “B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87560" y="10548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87560" y="12718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34480" y="18504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39520" y="10548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39520" y="12718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83520" y="156096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$ 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34760" y="156096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$ 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43240" y="1054800"/>
              <a:ext cx="96048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70400" y="1054800"/>
              <a:ext cx="9604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955200" y="1697760"/>
              <a:ext cx="723600" cy="516240"/>
              <a:chOff x="6955200" y="1697760"/>
              <a:chExt cx="723600" cy="516240"/>
            </a:xfrm>
          </p:grpSpPr>
          <p:sp>
            <p:nvSpPr>
              <p:cNvPr id="229" name=""/>
              <p:cNvSpPr/>
              <p:nvPr/>
            </p:nvSpPr>
            <p:spPr>
              <a:xfrm rot="20677200">
                <a:off x="6991200" y="1782720"/>
                <a:ext cx="616320" cy="35568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677200">
                <a:off x="7026120" y="1773000"/>
                <a:ext cx="616320" cy="35568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6099120" y="982440"/>
              <a:ext cx="5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96240" y="156096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Ha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6399720" y="1271880"/>
              <a:ext cx="2290680" cy="288720"/>
              <a:chOff x="6399720" y="1271880"/>
              <a:chExt cx="2290680" cy="288720"/>
            </a:xfrm>
          </p:grpSpPr>
          <p:sp>
            <p:nvSpPr>
              <p:cNvPr id="234" name=""/>
              <p:cNvSpPr/>
              <p:nvPr/>
            </p:nvSpPr>
            <p:spPr>
              <a:xfrm>
                <a:off x="6399720" y="1271880"/>
                <a:ext cx="2290680" cy="0"/>
              </a:xfrm>
              <a:prstGeom prst="line">
                <a:avLst/>
              </a:prstGeom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399720" y="1560600"/>
                <a:ext cx="2290680" cy="0"/>
              </a:xfrm>
              <a:prstGeom prst="line">
                <a:avLst/>
              </a:prstGeom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5869800" y="1271880"/>
              <a:ext cx="101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Antigü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3240" y="1850400"/>
              <a:ext cx="96048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70400" y="1850400"/>
              <a:ext cx="9604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17080" y="18504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8137800" y="1697760"/>
              <a:ext cx="723600" cy="516240"/>
              <a:chOff x="8137800" y="1697760"/>
              <a:chExt cx="723600" cy="516240"/>
            </a:xfrm>
          </p:grpSpPr>
          <p:sp>
            <p:nvSpPr>
              <p:cNvPr id="241" name=""/>
              <p:cNvSpPr/>
              <p:nvPr/>
            </p:nvSpPr>
            <p:spPr>
              <a:xfrm rot="20677200">
                <a:off x="8173800" y="1782720"/>
                <a:ext cx="616320" cy="35568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20677200">
                <a:off x="8208720" y="1773000"/>
                <a:ext cx="616320" cy="35568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455400" y="190512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afiliado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57560" y="5070240"/>
            <a:ext cx="8152920" cy="576360"/>
            <a:chOff x="457560" y="5070240"/>
            <a:chExt cx="8152920" cy="576360"/>
          </a:xfrm>
        </p:grpSpPr>
        <p:sp>
          <p:nvSpPr>
            <p:cNvPr id="245" name=""/>
            <p:cNvSpPr/>
            <p:nvPr/>
          </p:nvSpPr>
          <p:spPr>
            <a:xfrm>
              <a:off x="457560" y="523548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i ambos piden 60 añ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55400" y="5162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8680" y="51624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Será la E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4838400" y="5070240"/>
              <a:ext cx="825840" cy="576360"/>
              <a:chOff x="4838400" y="5070240"/>
              <a:chExt cx="825840" cy="576360"/>
            </a:xfrm>
          </p:grpSpPr>
          <p:sp>
            <p:nvSpPr>
              <p:cNvPr id="249" name=""/>
              <p:cNvSpPr/>
              <p:nvPr/>
            </p:nvSpPr>
            <p:spPr>
              <a:xfrm rot="20677200">
                <a:off x="4877640" y="5167440"/>
                <a:ext cx="707400" cy="39204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0677200">
                <a:off x="4917600" y="5156640"/>
                <a:ext cx="707400" cy="39204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456480" y="5527440"/>
            <a:ext cx="8154000" cy="576360"/>
            <a:chOff x="456480" y="5527440"/>
            <a:chExt cx="8154000" cy="576360"/>
          </a:xfrm>
        </p:grpSpPr>
        <p:sp>
          <p:nvSpPr>
            <p:cNvPr id="252" name=""/>
            <p:cNvSpPr/>
            <p:nvPr/>
          </p:nvSpPr>
          <p:spPr>
            <a:xfrm>
              <a:off x="456480" y="5692680"/>
              <a:ext cx="444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i ambos piden 30 años de Antigüe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6196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38680" y="56196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Será la Antigüe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8400" y="5527440"/>
              <a:ext cx="825840" cy="576360"/>
              <a:chOff x="4838400" y="5527440"/>
              <a:chExt cx="825840" cy="576360"/>
            </a:xfrm>
          </p:grpSpPr>
          <p:sp>
            <p:nvSpPr>
              <p:cNvPr id="256" name=""/>
              <p:cNvSpPr/>
              <p:nvPr/>
            </p:nvSpPr>
            <p:spPr>
              <a:xfrm rot="20677200">
                <a:off x="4877640" y="5624640"/>
                <a:ext cx="707400" cy="39204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77200">
                <a:off x="4917600" y="5613840"/>
                <a:ext cx="707400" cy="39204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2362320" y="2514600"/>
            <a:ext cx="6012360" cy="2435040"/>
            <a:chOff x="2362320" y="2514600"/>
            <a:chExt cx="6012360" cy="2435040"/>
          </a:xfrm>
        </p:grpSpPr>
        <p:sp>
          <p:nvSpPr>
            <p:cNvPr id="259" name=""/>
            <p:cNvSpPr/>
            <p:nvPr/>
          </p:nvSpPr>
          <p:spPr>
            <a:xfrm>
              <a:off x="2835360" y="2514600"/>
              <a:ext cx="495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5 años NO SIMULTÁNEO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 APORTES EN CADA INSTIT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35360" y="33163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incide la E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35360" y="369720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incide la Antigüe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35360" y="407844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No hay AÑOS EXCED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35360" y="4459320"/>
              <a:ext cx="35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No hay AÑOS SIMULTÁNE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77840" y="4307040"/>
              <a:ext cx="189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(Qué sirve sól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para el hab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62320" y="3697200"/>
              <a:ext cx="205740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62320" y="4078440"/>
              <a:ext cx="205740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62320" y="4459320"/>
              <a:ext cx="205740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rot="10800000">
              <a:off x="6245280" y="4383000"/>
              <a:ext cx="155520" cy="4572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9" name=""/>
          <p:cNvCxnSpPr/>
          <p:nvPr/>
        </p:nvCxnSpPr>
        <p:spPr>
          <a:xfrm flipV="1" rot="10800000">
            <a:off x="3123360" y="1218960"/>
            <a:ext cx="2667960" cy="915120"/>
          </a:xfrm>
          <a:prstGeom prst="bentConnector3">
            <a:avLst>
              <a:gd name="adj1" fmla="val 50000"/>
            </a:avLst>
          </a:prstGeom>
          <a:ln w="936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661680" y="456120"/>
            <a:ext cx="35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1 - Básico / Años Suces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276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94120" y="1669680"/>
            <a:ext cx="1680120" cy="1411560"/>
            <a:chOff x="294120" y="1669680"/>
            <a:chExt cx="1680120" cy="1411560"/>
          </a:xfrm>
        </p:grpSpPr>
        <p:sp>
          <p:nvSpPr>
            <p:cNvPr id="280" name=""/>
            <p:cNvSpPr/>
            <p:nvPr/>
          </p:nvSpPr>
          <p:spPr>
            <a:xfrm rot="20677200">
              <a:off x="410760" y="1852200"/>
              <a:ext cx="1366920" cy="106668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0677200">
              <a:off x="490320" y="1831680"/>
              <a:ext cx="1366560" cy="1066680"/>
            </a:xfrm>
            <a:prstGeom prst="ellipse">
              <a:avLst/>
            </a:prstGeom>
            <a:noFill/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5920" y="1995480"/>
              <a:ext cx="121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0033"/>
                  </a:solidFill>
                  <a:latin typeface="Arial"/>
                </a:rPr>
                <a:t>Prue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0033"/>
                  </a:solidFill>
                  <a:latin typeface="Arial"/>
                </a:rPr>
                <a:t>E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9720" y="2387520"/>
              <a:ext cx="114300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 flipH="1">
            <a:off x="7421400" y="1919160"/>
            <a:ext cx="1371600" cy="83844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95560" y="3803760"/>
            <a:ext cx="1678680" cy="1412280"/>
            <a:chOff x="295560" y="3803760"/>
            <a:chExt cx="1678680" cy="1412280"/>
          </a:xfrm>
        </p:grpSpPr>
        <p:grpSp>
          <p:nvGrpSpPr>
            <p:cNvPr id="286" name=""/>
            <p:cNvGrpSpPr/>
            <p:nvPr/>
          </p:nvGrpSpPr>
          <p:grpSpPr>
            <a:xfrm>
              <a:off x="295560" y="3803760"/>
              <a:ext cx="1678680" cy="1412280"/>
              <a:chOff x="295560" y="3803760"/>
              <a:chExt cx="1678680" cy="1412280"/>
            </a:xfrm>
          </p:grpSpPr>
          <p:sp>
            <p:nvSpPr>
              <p:cNvPr id="287" name=""/>
              <p:cNvSpPr/>
              <p:nvPr/>
            </p:nvSpPr>
            <p:spPr>
              <a:xfrm rot="20677200">
                <a:off x="412200" y="3987000"/>
                <a:ext cx="1367280" cy="106668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20677200">
                <a:off x="489600" y="3965760"/>
                <a:ext cx="1367280" cy="106668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565920" y="4129200"/>
              <a:ext cx="121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Prue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Anti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9720" y="4521240"/>
              <a:ext cx="114300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 flipH="1">
            <a:off x="7421400" y="4052880"/>
            <a:ext cx="1371600" cy="8380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977840" y="1919160"/>
            <a:ext cx="5483520" cy="838440"/>
            <a:chOff x="1977840" y="1919160"/>
            <a:chExt cx="5483520" cy="838440"/>
          </a:xfrm>
        </p:grpSpPr>
        <p:sp>
          <p:nvSpPr>
            <p:cNvPr id="293" name=""/>
            <p:cNvSpPr/>
            <p:nvPr/>
          </p:nvSpPr>
          <p:spPr>
            <a:xfrm>
              <a:off x="2011320" y="1919160"/>
              <a:ext cx="5181480" cy="8384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77840" y="1981080"/>
              <a:ext cx="25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90033"/>
                  </a:solidFill>
                  <a:latin typeface="Arial"/>
                </a:rPr>
                <a:t>(15 X 60) + (15 X 6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87640" y="2387520"/>
              <a:ext cx="2361960" cy="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26880" y="23511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18800" y="198108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90033"/>
                  </a:solidFill>
                  <a:latin typeface="Arial"/>
                </a:rPr>
                <a:t>900 + 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46480" y="23511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48880" y="198108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90033"/>
                  </a:solidFill>
                  <a:latin typeface="Arial"/>
                </a:rPr>
                <a:t>1.8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26000" y="23511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08840" y="2376000"/>
              <a:ext cx="1066680" cy="111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4678200" y="2376000"/>
              <a:ext cx="1219320" cy="111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20800" y="22089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51080" y="22089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46360" y="22089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977840" y="4052880"/>
            <a:ext cx="5483520" cy="838080"/>
            <a:chOff x="1977840" y="4052880"/>
            <a:chExt cx="5483520" cy="838080"/>
          </a:xfrm>
        </p:grpSpPr>
        <p:sp>
          <p:nvSpPr>
            <p:cNvPr id="307" name=""/>
            <p:cNvSpPr/>
            <p:nvPr/>
          </p:nvSpPr>
          <p:spPr>
            <a:xfrm>
              <a:off x="2011320" y="4052880"/>
              <a:ext cx="5181480" cy="838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77840" y="4114800"/>
              <a:ext cx="25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(15 X 30) + (15 X 3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87640" y="4521240"/>
              <a:ext cx="2361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26880" y="44845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22040" y="411480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450 + 4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46480" y="44845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55800" y="41148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26000" y="44845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108840" y="4509720"/>
              <a:ext cx="1066680" cy="11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4678200" y="4509720"/>
              <a:ext cx="1219320" cy="11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20800" y="43426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51080" y="43426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46360" y="43426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661680" y="456120"/>
            <a:ext cx="35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1 - Básico / Años Suces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rId2" action="ppaction://hlinksldjump"/>
          </p:cNvPr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326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457200" y="4267080"/>
            <a:ext cx="845820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29600" y="2531880"/>
            <a:ext cx="1577160" cy="1306800"/>
            <a:chOff x="129600" y="2531880"/>
            <a:chExt cx="1577160" cy="1306800"/>
          </a:xfrm>
        </p:grpSpPr>
        <p:grpSp>
          <p:nvGrpSpPr>
            <p:cNvPr id="331" name=""/>
            <p:cNvGrpSpPr/>
            <p:nvPr/>
          </p:nvGrpSpPr>
          <p:grpSpPr>
            <a:xfrm>
              <a:off x="129600" y="2531880"/>
              <a:ext cx="1577160" cy="1306800"/>
              <a:chOff x="129600" y="2531880"/>
              <a:chExt cx="1577160" cy="1306800"/>
            </a:xfrm>
          </p:grpSpPr>
          <p:sp>
            <p:nvSpPr>
              <p:cNvPr id="332" name=""/>
              <p:cNvSpPr/>
              <p:nvPr/>
            </p:nvSpPr>
            <p:spPr>
              <a:xfrm rot="20677200">
                <a:off x="236160" y="2705760"/>
                <a:ext cx="1290240" cy="9792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0677200">
                <a:off x="309600" y="2685600"/>
                <a:ext cx="1290240" cy="97920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309240" y="290664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cc"/>
                  </a:solidFill>
                  <a:latin typeface="Arial"/>
                </a:rPr>
                <a:t>HA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 flipH="1">
            <a:off x="7924680" y="2844720"/>
            <a:ext cx="990720" cy="838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$5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431800" y="804240"/>
            <a:ext cx="3441600" cy="1896840"/>
            <a:chOff x="2431800" y="804240"/>
            <a:chExt cx="3441600" cy="1896840"/>
          </a:xfrm>
        </p:grpSpPr>
        <p:sp>
          <p:nvSpPr>
            <p:cNvPr id="337" name=""/>
            <p:cNvSpPr/>
            <p:nvPr/>
          </p:nvSpPr>
          <p:spPr>
            <a:xfrm rot="20677200">
              <a:off x="2517480" y="1243440"/>
              <a:ext cx="3093840" cy="1066320"/>
            </a:xfrm>
            <a:prstGeom prst="ellipse">
              <a:avLst/>
            </a:prstGeom>
            <a:noFill/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20677200">
              <a:off x="2693160" y="1195200"/>
              <a:ext cx="3093840" cy="1066320"/>
            </a:xfrm>
            <a:prstGeom prst="ellipse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68480" y="1293840"/>
            <a:ext cx="4506120" cy="825480"/>
            <a:chOff x="1068480" y="1293840"/>
            <a:chExt cx="4506120" cy="825480"/>
          </a:xfrm>
        </p:grpSpPr>
        <p:sp>
          <p:nvSpPr>
            <p:cNvPr id="340" name=""/>
            <p:cNvSpPr/>
            <p:nvPr/>
          </p:nvSpPr>
          <p:spPr>
            <a:xfrm>
              <a:off x="1068480" y="129420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HORA, 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73600" y="1293840"/>
              <a:ext cx="26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oporcionam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l HA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751120" y="4418640"/>
            <a:ext cx="4457160" cy="703800"/>
            <a:chOff x="2751120" y="4418640"/>
            <a:chExt cx="4457160" cy="703800"/>
          </a:xfrm>
        </p:grpSpPr>
        <p:sp>
          <p:nvSpPr>
            <p:cNvPr id="343" name=""/>
            <p:cNvSpPr/>
            <p:nvPr/>
          </p:nvSpPr>
          <p:spPr>
            <a:xfrm>
              <a:off x="2751120" y="457128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Párra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2320" y="4418640"/>
              <a:ext cx="2865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(no se discute la E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incid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743200" y="5180760"/>
            <a:ext cx="5616720" cy="779760"/>
            <a:chOff x="2743200" y="5180760"/>
            <a:chExt cx="5616720" cy="779760"/>
          </a:xfrm>
        </p:grpSpPr>
        <p:sp>
          <p:nvSpPr>
            <p:cNvPr id="346" name=""/>
            <p:cNvSpPr/>
            <p:nvPr/>
          </p:nvSpPr>
          <p:spPr>
            <a:xfrm>
              <a:off x="2743200" y="5180760"/>
              <a:ext cx="22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l Haber Teóric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08640" y="518076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s $ 500 para la Caja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08640" y="5561640"/>
              <a:ext cx="29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s $ 600 para la Caj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9840" y="3939480"/>
            <a:ext cx="1662480" cy="1330200"/>
            <a:chOff x="429840" y="3939480"/>
            <a:chExt cx="1662480" cy="1330200"/>
          </a:xfrm>
        </p:grpSpPr>
        <p:sp>
          <p:nvSpPr>
            <p:cNvPr id="350" name=""/>
            <p:cNvSpPr/>
            <p:nvPr/>
          </p:nvSpPr>
          <p:spPr>
            <a:xfrm>
              <a:off x="763560" y="4418640"/>
              <a:ext cx="108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rt. 7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29840" y="3939480"/>
              <a:ext cx="1662480" cy="1330200"/>
              <a:chOff x="429840" y="3939480"/>
              <a:chExt cx="1662480" cy="1330200"/>
            </a:xfrm>
          </p:grpSpPr>
          <p:sp>
            <p:nvSpPr>
              <p:cNvPr id="352" name=""/>
              <p:cNvSpPr/>
              <p:nvPr/>
            </p:nvSpPr>
            <p:spPr>
              <a:xfrm rot="20677200">
                <a:off x="534960" y="4125600"/>
                <a:ext cx="1374120" cy="9792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0677200">
                <a:off x="612720" y="4104000"/>
                <a:ext cx="1374120" cy="97920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4" name=""/>
          <p:cNvGrpSpPr/>
          <p:nvPr/>
        </p:nvGrpSpPr>
        <p:grpSpPr>
          <a:xfrm>
            <a:off x="1443600" y="2844720"/>
            <a:ext cx="6557400" cy="838440"/>
            <a:chOff x="1443600" y="2844720"/>
            <a:chExt cx="6557400" cy="838440"/>
          </a:xfrm>
        </p:grpSpPr>
        <p:sp>
          <p:nvSpPr>
            <p:cNvPr id="355" name=""/>
            <p:cNvSpPr/>
            <p:nvPr/>
          </p:nvSpPr>
          <p:spPr>
            <a:xfrm>
              <a:off x="1523880" y="2844720"/>
              <a:ext cx="6324840" cy="838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3600" y="2906640"/>
              <a:ext cx="327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(15 X $ 500) + (15 X $ 6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68520" y="3287880"/>
              <a:ext cx="3047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42920" y="3276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99160" y="2906640"/>
              <a:ext cx="174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7.500 + 9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28800" y="3276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82040" y="29066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16.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25760" y="3276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5720" y="3287880"/>
              <a:ext cx="10666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76920" y="3287880"/>
              <a:ext cx="1600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72000" y="310932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77120" y="31093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772400" y="31093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cc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61680" y="456120"/>
            <a:ext cx="35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1 - Básico / Años Suces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374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6360" y="121824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t. 9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50160" y="36727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7543800" y="3276720"/>
            <a:ext cx="304920" cy="1447560"/>
            <a:chOff x="7543800" y="3276720"/>
            <a:chExt cx="304920" cy="1447560"/>
          </a:xfrm>
        </p:grpSpPr>
        <p:sp>
          <p:nvSpPr>
            <p:cNvPr id="380" name=""/>
            <p:cNvSpPr/>
            <p:nvPr/>
          </p:nvSpPr>
          <p:spPr>
            <a:xfrm>
              <a:off x="7543800" y="33526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7800"/>
                  </a:lnTo>
                  <a:cubicBezTo>
                    <a:pt x="10800" y="8700"/>
                    <a:pt x="16200" y="9600"/>
                    <a:pt x="21600" y="9600"/>
                  </a:cubicBezTo>
                  <a:cubicBezTo>
                    <a:pt x="16200" y="9600"/>
                    <a:pt x="10800" y="10500"/>
                    <a:pt x="10800" y="114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27672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04920" y="2284920"/>
            <a:ext cx="5059800" cy="534600"/>
            <a:chOff x="304920" y="2284920"/>
            <a:chExt cx="5059800" cy="534600"/>
          </a:xfrm>
        </p:grpSpPr>
        <p:sp>
          <p:nvSpPr>
            <p:cNvPr id="383" name=""/>
            <p:cNvSpPr/>
            <p:nvPr/>
          </p:nvSpPr>
          <p:spPr>
            <a:xfrm>
              <a:off x="304920" y="2284920"/>
              <a:ext cx="317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Haber Teórico Ini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21880" y="228492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$ 5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2120" y="2819520"/>
              <a:ext cx="441936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07080" y="3427920"/>
            <a:ext cx="7165440" cy="1069200"/>
            <a:chOff x="307080" y="3427920"/>
            <a:chExt cx="7165440" cy="1069200"/>
          </a:xfrm>
        </p:grpSpPr>
        <p:sp>
          <p:nvSpPr>
            <p:cNvPr id="387" name=""/>
            <p:cNvSpPr/>
            <p:nvPr/>
          </p:nvSpPr>
          <p:spPr>
            <a:xfrm>
              <a:off x="307080" y="3656520"/>
              <a:ext cx="390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ada Caja qué porcentaj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20800" y="342792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15 /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93840" y="34279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84200" y="3427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20800" y="403740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15 /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93840" y="40374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4037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486400" y="342792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86400" y="4037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53080" y="342792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553080" y="4037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2120" y="4495680"/>
              <a:ext cx="4419360" cy="0"/>
            </a:xfrm>
            <a:prstGeom prst="line">
              <a:avLst/>
            </a:prstGeom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661680" y="456120"/>
            <a:ext cx="35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1 - Básico / Años Suces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405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133720" y="2003400"/>
            <a:ext cx="2090520" cy="3956040"/>
            <a:chOff x="2133720" y="2003400"/>
            <a:chExt cx="2090520" cy="3956040"/>
          </a:xfrm>
        </p:grpSpPr>
        <p:sp>
          <p:nvSpPr>
            <p:cNvPr id="409" name=""/>
            <p:cNvSpPr/>
            <p:nvPr/>
          </p:nvSpPr>
          <p:spPr>
            <a:xfrm>
              <a:off x="2133720" y="2003400"/>
              <a:ext cx="1676160" cy="35812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357280" y="2739960"/>
              <a:ext cx="17528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57280" y="4876920"/>
              <a:ext cx="17528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65560" y="219852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CAJA “A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77920" y="51055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6600"/>
                  </a:solidFill>
                  <a:latin typeface="Arial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16440" y="32288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16440" y="37591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72000" y="42894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$ 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527200" y="4861080"/>
              <a:ext cx="1524600" cy="1098360"/>
              <a:chOff x="2527200" y="4861080"/>
              <a:chExt cx="1524600" cy="1098360"/>
            </a:xfrm>
          </p:grpSpPr>
          <p:sp>
            <p:nvSpPr>
              <p:cNvPr id="418" name=""/>
              <p:cNvSpPr/>
              <p:nvPr/>
            </p:nvSpPr>
            <p:spPr>
              <a:xfrm rot="20677200">
                <a:off x="2604960" y="503892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20677200">
                <a:off x="2678400" y="501876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4495680" y="2003400"/>
            <a:ext cx="2129040" cy="3956040"/>
            <a:chOff x="4495680" y="2003400"/>
            <a:chExt cx="2129040" cy="3956040"/>
          </a:xfrm>
        </p:grpSpPr>
        <p:sp>
          <p:nvSpPr>
            <p:cNvPr id="421" name=""/>
            <p:cNvSpPr/>
            <p:nvPr/>
          </p:nvSpPr>
          <p:spPr>
            <a:xfrm>
              <a:off x="4495680" y="2003400"/>
              <a:ext cx="1676520" cy="35812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56320" y="219852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CAJA “B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96040" y="32288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96040" y="37591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68680" y="51055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990033"/>
                  </a:solidFill>
                  <a:latin typeface="Arial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51600" y="42894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$ 6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71880" y="2739960"/>
              <a:ext cx="175284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71880" y="4876920"/>
              <a:ext cx="175284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4965480" y="4861080"/>
              <a:ext cx="1524600" cy="1098360"/>
              <a:chOff x="4965480" y="4861080"/>
              <a:chExt cx="1524600" cy="1098360"/>
            </a:xfrm>
          </p:grpSpPr>
          <p:sp>
            <p:nvSpPr>
              <p:cNvPr id="430" name=""/>
              <p:cNvSpPr/>
              <p:nvPr/>
            </p:nvSpPr>
            <p:spPr>
              <a:xfrm rot="20677200">
                <a:off x="5043240" y="503892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20677200">
                <a:off x="5116680" y="501876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>
            <a:off x="863280" y="322884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5800" y="375912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ntigü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98120" y="428940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12800" y="3733920"/>
            <a:ext cx="434340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12800" y="4267080"/>
            <a:ext cx="434340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6631200" y="5051520"/>
            <a:ext cx="1446120" cy="685800"/>
            <a:chOff x="6631200" y="5051520"/>
            <a:chExt cx="1446120" cy="685800"/>
          </a:xfrm>
        </p:grpSpPr>
        <p:sp>
          <p:nvSpPr>
            <p:cNvPr id="438" name=""/>
            <p:cNvSpPr/>
            <p:nvPr/>
          </p:nvSpPr>
          <p:spPr>
            <a:xfrm>
              <a:off x="7086600" y="5051520"/>
              <a:ext cx="990720" cy="6858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631200" y="51267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239960" y="505152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3333cc"/>
                  </a:solidFill>
                  <a:latin typeface="Arial"/>
                </a:rPr>
                <a:t>3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 flipH="1" rot="10800000">
            <a:off x="6718320" y="2209680"/>
            <a:ext cx="193680" cy="2889360"/>
          </a:xfrm>
          <a:custGeom>
            <a:avLst/>
            <a:gdLst>
              <a:gd name="textAreaLeft" fmla="*/ 0 w 193680"/>
              <a:gd name="textAreaRight" fmla="*/ 69840 w 193680"/>
              <a:gd name="textAreaTop" fmla="*/ 75240 h 2889360"/>
              <a:gd name="textAreaBottom" fmla="*/ 2814120 h 288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834960" y="2597040"/>
            <a:ext cx="2280600" cy="2120400"/>
            <a:chOff x="6834960" y="2597040"/>
            <a:chExt cx="2280600" cy="2120400"/>
          </a:xfrm>
        </p:grpSpPr>
        <p:grpSp>
          <p:nvGrpSpPr>
            <p:cNvPr id="443" name=""/>
            <p:cNvGrpSpPr/>
            <p:nvPr/>
          </p:nvGrpSpPr>
          <p:grpSpPr>
            <a:xfrm>
              <a:off x="6834960" y="2597040"/>
              <a:ext cx="2280600" cy="2120400"/>
              <a:chOff x="6834960" y="2597040"/>
              <a:chExt cx="2280600" cy="2120400"/>
            </a:xfrm>
          </p:grpSpPr>
          <p:sp>
            <p:nvSpPr>
              <p:cNvPr id="444" name=""/>
              <p:cNvSpPr/>
              <p:nvPr/>
            </p:nvSpPr>
            <p:spPr>
              <a:xfrm rot="20677200">
                <a:off x="7024680" y="2833560"/>
                <a:ext cx="1798560" cy="167544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20677200">
                <a:off x="7126920" y="2805480"/>
                <a:ext cx="1798560" cy="167544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7019280" y="3048120"/>
              <a:ext cx="17794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Caj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Particip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654840" y="456120"/>
            <a:ext cx="591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2 - Básico / Años Sucesivos con Excedentes Simét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1400" y="1142280"/>
            <a:ext cx="75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 N° 2 - Básico / Años Sucesivos con Excedentes Simét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454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5869800" y="838080"/>
            <a:ext cx="3061440" cy="1375920"/>
            <a:chOff x="5869800" y="838080"/>
            <a:chExt cx="3061440" cy="1375920"/>
          </a:xfrm>
        </p:grpSpPr>
        <p:sp>
          <p:nvSpPr>
            <p:cNvPr id="458" name=""/>
            <p:cNvSpPr/>
            <p:nvPr/>
          </p:nvSpPr>
          <p:spPr>
            <a:xfrm>
              <a:off x="6854040" y="83808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CAJA “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14320" y="83808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CAJA “B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288640" y="1055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288640" y="1271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134480" y="18511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139520" y="1055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39520" y="1271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84600" y="156060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$ 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35120" y="156060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$ 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43600" y="1055520"/>
              <a:ext cx="96048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970760" y="1055520"/>
              <a:ext cx="96048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6955560" y="1697760"/>
              <a:ext cx="723600" cy="516240"/>
              <a:chOff x="6955560" y="1697760"/>
              <a:chExt cx="723600" cy="516240"/>
            </a:xfrm>
          </p:grpSpPr>
          <p:sp>
            <p:nvSpPr>
              <p:cNvPr id="470" name=""/>
              <p:cNvSpPr/>
              <p:nvPr/>
            </p:nvSpPr>
            <p:spPr>
              <a:xfrm rot="20677200">
                <a:off x="6991560" y="1782720"/>
                <a:ext cx="616320" cy="35568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20677200">
                <a:off x="7026480" y="1773000"/>
                <a:ext cx="616320" cy="35568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6099120" y="982800"/>
              <a:ext cx="5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96240" y="156060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Ha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6400800" y="1271520"/>
              <a:ext cx="2290680" cy="289080"/>
              <a:chOff x="6400800" y="1271520"/>
              <a:chExt cx="2290680" cy="289080"/>
            </a:xfrm>
          </p:grpSpPr>
          <p:sp>
            <p:nvSpPr>
              <p:cNvPr id="475" name=""/>
              <p:cNvSpPr/>
              <p:nvPr/>
            </p:nvSpPr>
            <p:spPr>
              <a:xfrm>
                <a:off x="6400800" y="1271520"/>
                <a:ext cx="2290680" cy="0"/>
              </a:xfrm>
              <a:prstGeom prst="line">
                <a:avLst/>
              </a:prstGeom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00800" y="1560600"/>
                <a:ext cx="2290680" cy="0"/>
              </a:xfrm>
              <a:prstGeom prst="line">
                <a:avLst/>
              </a:prstGeom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5869800" y="1271520"/>
              <a:ext cx="101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Antigü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43600" y="1851120"/>
              <a:ext cx="96048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970760" y="1851120"/>
              <a:ext cx="96048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317440" y="18511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8138520" y="1697760"/>
              <a:ext cx="723240" cy="516240"/>
              <a:chOff x="8138520" y="1697760"/>
              <a:chExt cx="723240" cy="516240"/>
            </a:xfrm>
          </p:grpSpPr>
          <p:sp>
            <p:nvSpPr>
              <p:cNvPr id="482" name=""/>
              <p:cNvSpPr/>
              <p:nvPr/>
            </p:nvSpPr>
            <p:spPr>
              <a:xfrm rot="20677200">
                <a:off x="8174520" y="1782720"/>
                <a:ext cx="615960" cy="35568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0677200">
                <a:off x="8209440" y="1773000"/>
                <a:ext cx="615960" cy="35568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4" name=""/>
          <p:cNvSpPr/>
          <p:nvPr/>
        </p:nvSpPr>
        <p:spPr>
          <a:xfrm>
            <a:off x="455400" y="190512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afiliado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/>
          <p:nvPr/>
        </p:nvCxnSpPr>
        <p:spPr>
          <a:xfrm flipV="1" rot="10800000">
            <a:off x="3123360" y="1218960"/>
            <a:ext cx="2667960" cy="915120"/>
          </a:xfrm>
          <a:prstGeom prst="bentConnector3">
            <a:avLst>
              <a:gd name="adj1" fmla="val 50000"/>
            </a:avLst>
          </a:prstGeom>
          <a:ln w="9360">
            <a:solidFill>
              <a:srgbClr val="0066ff"/>
            </a:solidFill>
            <a:miter/>
            <a:tailEnd len="med" type="triangle" w="med"/>
          </a:ln>
        </p:spPr>
      </p:cxnSp>
      <p:grpSp>
        <p:nvGrpSpPr>
          <p:cNvPr id="486" name=""/>
          <p:cNvGrpSpPr/>
          <p:nvPr/>
        </p:nvGrpSpPr>
        <p:grpSpPr>
          <a:xfrm>
            <a:off x="380880" y="2514600"/>
            <a:ext cx="8534520" cy="825480"/>
            <a:chOff x="380880" y="2514600"/>
            <a:chExt cx="8534520" cy="825480"/>
          </a:xfrm>
        </p:grpSpPr>
        <p:sp>
          <p:nvSpPr>
            <p:cNvPr id="487" name=""/>
            <p:cNvSpPr/>
            <p:nvPr/>
          </p:nvSpPr>
          <p:spPr>
            <a:xfrm>
              <a:off x="380880" y="26668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ños SUCES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29000" y="251460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rt. 7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Inc. “C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29200" y="2666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Determinación del Ha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018240" y="2119320"/>
            <a:ext cx="2189520" cy="1552680"/>
            <a:chOff x="3018240" y="2119320"/>
            <a:chExt cx="2189520" cy="1552680"/>
          </a:xfrm>
        </p:grpSpPr>
        <p:sp>
          <p:nvSpPr>
            <p:cNvPr id="491" name=""/>
            <p:cNvSpPr/>
            <p:nvPr/>
          </p:nvSpPr>
          <p:spPr>
            <a:xfrm rot="20677200">
              <a:off x="3125880" y="2376720"/>
              <a:ext cx="1867680" cy="1066320"/>
            </a:xfrm>
            <a:prstGeom prst="ellipse">
              <a:avLst/>
            </a:prstGeom>
            <a:noFill/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20677200">
              <a:off x="3231720" y="2347560"/>
              <a:ext cx="1867680" cy="1066320"/>
            </a:xfrm>
            <a:prstGeom prst="ellipse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80880" y="34290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que excedan se deben deducir proporcion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36480" y="4456800"/>
            <a:ext cx="40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 / 34   =  11,76 %  Exc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36840" y="392328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4  -  30   =  Exceden 4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80880" y="4991040"/>
            <a:ext cx="8305920" cy="1389240"/>
            <a:chOff x="380880" y="4991040"/>
            <a:chExt cx="8305920" cy="1389240"/>
          </a:xfrm>
        </p:grpSpPr>
        <p:sp>
          <p:nvSpPr>
            <p:cNvPr id="497" name=""/>
            <p:cNvSpPr/>
            <p:nvPr/>
          </p:nvSpPr>
          <p:spPr>
            <a:xfrm>
              <a:off x="914400" y="4991040"/>
              <a:ext cx="7162920" cy="13716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0880" y="5067000"/>
              <a:ext cx="830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7  -  (11,76%)  =  2  =  15    /  30  =  50% Particip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0880" y="5600520"/>
              <a:ext cx="830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7  -  (11,76%)  =  2  =  15    /  30  =  50% Particip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29000" y="598140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62520" y="5981400"/>
              <a:ext cx="457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54840" y="456120"/>
            <a:ext cx="591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2 - Básico / Años Sucesivos con Excedentes Simét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508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65600" y="735480"/>
            <a:ext cx="1649520" cy="1040040"/>
            <a:chOff x="165600" y="735480"/>
            <a:chExt cx="1649520" cy="1040040"/>
          </a:xfrm>
        </p:grpSpPr>
        <p:sp>
          <p:nvSpPr>
            <p:cNvPr id="512" name=""/>
            <p:cNvSpPr/>
            <p:nvPr/>
          </p:nvSpPr>
          <p:spPr>
            <a:xfrm rot="20677200">
              <a:off x="228600" y="927000"/>
              <a:ext cx="1440360" cy="66960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20677200">
              <a:off x="312120" y="914400"/>
              <a:ext cx="1440000" cy="669600"/>
            </a:xfrm>
            <a:prstGeom prst="ellipse">
              <a:avLst/>
            </a:prstGeom>
            <a:noFill/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307440" y="9288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ue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27760" y="1600200"/>
            <a:ext cx="258840" cy="2514600"/>
          </a:xfrm>
          <a:custGeom>
            <a:avLst/>
            <a:gdLst>
              <a:gd name="textAreaLeft" fmla="*/ 0 w 258840"/>
              <a:gd name="textAreaRight" fmla="*/ 93600 w 25884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33760" y="175212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gú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rt. 9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563440" y="2971440"/>
            <a:ext cx="2996280" cy="1191240"/>
            <a:chOff x="5563440" y="2971440"/>
            <a:chExt cx="2996280" cy="1191240"/>
          </a:xfrm>
        </p:grpSpPr>
        <p:sp>
          <p:nvSpPr>
            <p:cNvPr id="518" name=""/>
            <p:cNvSpPr/>
            <p:nvPr/>
          </p:nvSpPr>
          <p:spPr>
            <a:xfrm>
              <a:off x="7286400" y="2971440"/>
              <a:ext cx="1273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torg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recis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63440" y="2971440"/>
              <a:ext cx="85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Ha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ni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nc. 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0" name=""/>
          <p:cNvCxnSpPr>
            <a:stCxn id="518" idx="0"/>
            <a:endCxn id="521" idx="2"/>
          </p:cNvCxnSpPr>
          <p:nvPr/>
        </p:nvCxnSpPr>
        <p:spPr>
          <a:xfrm flipV="1" rot="16200000">
            <a:off x="6836760" y="1884960"/>
            <a:ext cx="445320" cy="1728000"/>
          </a:xfrm>
          <a:prstGeom prst="curvedConnector5">
            <a:avLst>
              <a:gd name="adj1" fmla="val 49595"/>
              <a:gd name="adj2" fmla="val 49989"/>
              <a:gd name="adj3" fmla="val 49595"/>
            </a:avLst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522" name=""/>
          <p:cNvGrpSpPr/>
          <p:nvPr/>
        </p:nvGrpSpPr>
        <p:grpSpPr>
          <a:xfrm>
            <a:off x="457920" y="1675440"/>
            <a:ext cx="6293880" cy="853560"/>
            <a:chOff x="457920" y="1675440"/>
            <a:chExt cx="6293880" cy="853560"/>
          </a:xfrm>
        </p:grpSpPr>
        <p:sp>
          <p:nvSpPr>
            <p:cNvPr id="523" name=""/>
            <p:cNvSpPr/>
            <p:nvPr/>
          </p:nvSpPr>
          <p:spPr>
            <a:xfrm>
              <a:off x="1417680" y="1676520"/>
              <a:ext cx="4145040" cy="838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26680" y="1752480"/>
              <a:ext cx="284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(15 X 500) + (15 X 6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15760" y="2122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43840" y="17524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6.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89000" y="2122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5638680" y="1690560"/>
              <a:ext cx="1113120" cy="8384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61960" y="1980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04960" y="1980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94000" y="2133720"/>
              <a:ext cx="266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41760" y="21337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7920" y="1675440"/>
              <a:ext cx="70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1°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57920" y="4266360"/>
            <a:ext cx="5704920" cy="1662120"/>
            <a:chOff x="457920" y="4266360"/>
            <a:chExt cx="5704920" cy="1662120"/>
          </a:xfrm>
        </p:grpSpPr>
        <p:sp>
          <p:nvSpPr>
            <p:cNvPr id="534" name=""/>
            <p:cNvSpPr/>
            <p:nvPr/>
          </p:nvSpPr>
          <p:spPr>
            <a:xfrm>
              <a:off x="1417680" y="4343400"/>
              <a:ext cx="4602240" cy="12952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677200">
              <a:off x="4876920" y="5117760"/>
              <a:ext cx="1150920" cy="66996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77200">
              <a:off x="4943520" y="5105160"/>
              <a:ext cx="1150920" cy="669960"/>
            </a:xfrm>
            <a:prstGeom prst="ellipse">
              <a:avLst/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57920" y="4266360"/>
              <a:ext cx="70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2°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21360" y="4342320"/>
              <a:ext cx="232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A  =  $ 500 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87280" y="43423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029560" y="434232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2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572000" y="4343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21360" y="4799520"/>
              <a:ext cx="232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B  =  $ 600 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87280" y="4799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29560" y="479952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3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72000" y="48006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29560" y="525672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5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29200" y="5257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6553080" y="51814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ultado igual 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mero porque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cedentes s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 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8" idx="1"/>
            <a:endCxn id="546" idx="3"/>
          </p:cNvCxnSpPr>
          <p:nvPr/>
        </p:nvCxnSpPr>
        <p:spPr>
          <a:xfrm rot="10800000">
            <a:off x="5848200" y="5455440"/>
            <a:ext cx="705240" cy="3214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0" name=""/>
          <p:cNvSpPr/>
          <p:nvPr/>
        </p:nvSpPr>
        <p:spPr>
          <a:xfrm>
            <a:off x="654840" y="456120"/>
            <a:ext cx="591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2 - Básico / Años Sucesivos con Excedentes Simét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556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86600" y="5138640"/>
            <a:ext cx="99072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2133720" y="2090880"/>
            <a:ext cx="2090520" cy="3955680"/>
            <a:chOff x="2133720" y="2090880"/>
            <a:chExt cx="2090520" cy="3955680"/>
          </a:xfrm>
        </p:grpSpPr>
        <p:sp>
          <p:nvSpPr>
            <p:cNvPr id="561" name=""/>
            <p:cNvSpPr/>
            <p:nvPr/>
          </p:nvSpPr>
          <p:spPr>
            <a:xfrm>
              <a:off x="2133720" y="2090880"/>
              <a:ext cx="1676160" cy="35812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65560" y="228600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CAJA “A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77920" y="519264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6600"/>
                  </a:solidFill>
                  <a:latin typeface="Arial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16440" y="33163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16440" y="38466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772000" y="437688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$ 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57280" y="2827440"/>
              <a:ext cx="17528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357280" y="4964040"/>
              <a:ext cx="17528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527200" y="4948560"/>
              <a:ext cx="1524240" cy="1098000"/>
              <a:chOff x="2527200" y="4948560"/>
              <a:chExt cx="1524240" cy="1098000"/>
            </a:xfrm>
          </p:grpSpPr>
          <p:sp>
            <p:nvSpPr>
              <p:cNvPr id="570" name=""/>
              <p:cNvSpPr/>
              <p:nvPr/>
            </p:nvSpPr>
            <p:spPr>
              <a:xfrm rot="20677200">
                <a:off x="2604960" y="5126400"/>
                <a:ext cx="1295280" cy="7617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20677200">
                <a:off x="2678400" y="5106240"/>
                <a:ext cx="1295280" cy="76176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2" name=""/>
          <p:cNvGrpSpPr/>
          <p:nvPr/>
        </p:nvGrpSpPr>
        <p:grpSpPr>
          <a:xfrm>
            <a:off x="4495680" y="2090880"/>
            <a:ext cx="2129040" cy="3955680"/>
            <a:chOff x="4495680" y="2090880"/>
            <a:chExt cx="2129040" cy="3955680"/>
          </a:xfrm>
        </p:grpSpPr>
        <p:sp>
          <p:nvSpPr>
            <p:cNvPr id="573" name=""/>
            <p:cNvSpPr/>
            <p:nvPr/>
          </p:nvSpPr>
          <p:spPr>
            <a:xfrm>
              <a:off x="4495680" y="2090880"/>
              <a:ext cx="1676520" cy="35812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756320" y="228600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CAJA “B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96040" y="33163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96040" y="38466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68680" y="519264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990033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51600" y="437688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$ 6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71880" y="2827440"/>
              <a:ext cx="175284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71880" y="4964040"/>
              <a:ext cx="175284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4965480" y="4948560"/>
              <a:ext cx="1524240" cy="1098000"/>
              <a:chOff x="4965480" y="4948560"/>
              <a:chExt cx="1524240" cy="1098000"/>
            </a:xfrm>
          </p:grpSpPr>
          <p:sp>
            <p:nvSpPr>
              <p:cNvPr id="582" name=""/>
              <p:cNvSpPr/>
              <p:nvPr/>
            </p:nvSpPr>
            <p:spPr>
              <a:xfrm rot="20677200">
                <a:off x="5043240" y="5126400"/>
                <a:ext cx="1295280" cy="7617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20677200">
                <a:off x="5116680" y="5106240"/>
                <a:ext cx="1295280" cy="76176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4" name=""/>
          <p:cNvSpPr/>
          <p:nvPr/>
        </p:nvSpPr>
        <p:spPr>
          <a:xfrm>
            <a:off x="863280" y="33163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800" y="384660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ntigü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98120" y="43768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12800" y="3821040"/>
            <a:ext cx="434340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612800" y="4354560"/>
            <a:ext cx="434340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31200" y="52138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39960" y="5138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rot="10800000">
            <a:off x="6718320" y="2297160"/>
            <a:ext cx="193680" cy="2889360"/>
          </a:xfrm>
          <a:custGeom>
            <a:avLst/>
            <a:gdLst>
              <a:gd name="textAreaLeft" fmla="*/ 0 w 193680"/>
              <a:gd name="textAreaRight" fmla="*/ 69840 w 193680"/>
              <a:gd name="textAreaTop" fmla="*/ 75240 h 2889360"/>
              <a:gd name="textAreaBottom" fmla="*/ 2814120 h 288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6834960" y="2684160"/>
            <a:ext cx="2280960" cy="2120760"/>
            <a:chOff x="6834960" y="2684160"/>
            <a:chExt cx="2280960" cy="2120760"/>
          </a:xfrm>
        </p:grpSpPr>
        <p:grpSp>
          <p:nvGrpSpPr>
            <p:cNvPr id="593" name=""/>
            <p:cNvGrpSpPr/>
            <p:nvPr/>
          </p:nvGrpSpPr>
          <p:grpSpPr>
            <a:xfrm>
              <a:off x="6834960" y="2684160"/>
              <a:ext cx="2280960" cy="2120760"/>
              <a:chOff x="6834960" y="2684160"/>
              <a:chExt cx="2280960" cy="2120760"/>
            </a:xfrm>
          </p:grpSpPr>
          <p:sp>
            <p:nvSpPr>
              <p:cNvPr id="594" name=""/>
              <p:cNvSpPr/>
              <p:nvPr/>
            </p:nvSpPr>
            <p:spPr>
              <a:xfrm rot="20677200">
                <a:off x="7024680" y="2920680"/>
                <a:ext cx="1798560" cy="1675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20677200">
                <a:off x="7126920" y="2892600"/>
                <a:ext cx="1798560" cy="167580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7019280" y="3135240"/>
              <a:ext cx="17794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Caj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Particip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654480" y="456120"/>
            <a:ext cx="60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3 - Básico / Años Sucesivos con Excedentes Asimét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1760" y="1218600"/>
            <a:ext cx="76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 N° 3 - Básico / Años Sucesivos con Excedentes Asimét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604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869800" y="838080"/>
            <a:ext cx="3061440" cy="1375920"/>
            <a:chOff x="5869800" y="838080"/>
            <a:chExt cx="3061440" cy="1375920"/>
          </a:xfrm>
        </p:grpSpPr>
        <p:sp>
          <p:nvSpPr>
            <p:cNvPr id="608" name=""/>
            <p:cNvSpPr/>
            <p:nvPr/>
          </p:nvSpPr>
          <p:spPr>
            <a:xfrm>
              <a:off x="6854040" y="83808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CAJA “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014320" y="83808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CAJA “B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88640" y="1055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288640" y="1271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34480" y="18511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139520" y="1055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39520" y="1271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184600" y="156060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$ 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35120" y="156060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$ 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43600" y="1055520"/>
              <a:ext cx="96048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970760" y="1055520"/>
              <a:ext cx="96048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6955560" y="1697760"/>
              <a:ext cx="723600" cy="516240"/>
              <a:chOff x="6955560" y="1697760"/>
              <a:chExt cx="723600" cy="516240"/>
            </a:xfrm>
          </p:grpSpPr>
          <p:sp>
            <p:nvSpPr>
              <p:cNvPr id="620" name=""/>
              <p:cNvSpPr/>
              <p:nvPr/>
            </p:nvSpPr>
            <p:spPr>
              <a:xfrm rot="20677200">
                <a:off x="6991560" y="1782720"/>
                <a:ext cx="616320" cy="35568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20677200">
                <a:off x="7026480" y="1773000"/>
                <a:ext cx="616320" cy="35568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6099120" y="982800"/>
              <a:ext cx="5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96240" y="156060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Ha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6400800" y="1271520"/>
              <a:ext cx="2290680" cy="289080"/>
              <a:chOff x="6400800" y="1271520"/>
              <a:chExt cx="2290680" cy="289080"/>
            </a:xfrm>
          </p:grpSpPr>
          <p:sp>
            <p:nvSpPr>
              <p:cNvPr id="625" name=""/>
              <p:cNvSpPr/>
              <p:nvPr/>
            </p:nvSpPr>
            <p:spPr>
              <a:xfrm>
                <a:off x="6400800" y="1271520"/>
                <a:ext cx="2290680" cy="0"/>
              </a:xfrm>
              <a:prstGeom prst="line">
                <a:avLst/>
              </a:prstGeom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00800" y="1560600"/>
                <a:ext cx="2290680" cy="0"/>
              </a:xfrm>
              <a:prstGeom prst="line">
                <a:avLst/>
              </a:prstGeom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869800" y="1271520"/>
              <a:ext cx="101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Antigü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43600" y="1851120"/>
              <a:ext cx="96048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970760" y="1851120"/>
              <a:ext cx="96048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317440" y="18511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138520" y="1697760"/>
              <a:ext cx="723240" cy="516240"/>
              <a:chOff x="8138520" y="1697760"/>
              <a:chExt cx="723240" cy="516240"/>
            </a:xfrm>
          </p:grpSpPr>
          <p:sp>
            <p:nvSpPr>
              <p:cNvPr id="632" name=""/>
              <p:cNvSpPr/>
              <p:nvPr/>
            </p:nvSpPr>
            <p:spPr>
              <a:xfrm rot="20677200">
                <a:off x="8174520" y="1782720"/>
                <a:ext cx="615960" cy="35568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0677200">
                <a:off x="8209440" y="1773000"/>
                <a:ext cx="615960" cy="35568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"/>
          <p:cNvSpPr/>
          <p:nvPr/>
        </p:nvSpPr>
        <p:spPr>
          <a:xfrm>
            <a:off x="2436480" y="319932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6  / 36   =  16,67 % de Exce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36840" y="243720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6  -  30   =  Exceden 6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80880" y="4267080"/>
            <a:ext cx="8305920" cy="1389600"/>
            <a:chOff x="380880" y="4267080"/>
            <a:chExt cx="8305920" cy="1389600"/>
          </a:xfrm>
        </p:grpSpPr>
        <p:sp>
          <p:nvSpPr>
            <p:cNvPr id="637" name=""/>
            <p:cNvSpPr/>
            <p:nvPr/>
          </p:nvSpPr>
          <p:spPr>
            <a:xfrm>
              <a:off x="685800" y="4267080"/>
              <a:ext cx="7620120" cy="13716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0880" y="4343400"/>
              <a:ext cx="830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7  -  (16,67%)  =  2,83  =  14,17  /  30  =  47,23% Particip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4876920"/>
              <a:ext cx="830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9  -  (16,67%)  =  3,17  =  15,83  /  30  =  52,77% Particip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33920" y="52578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86200" y="5257800"/>
              <a:ext cx="68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10080" y="5257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00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62720" y="5257800"/>
              <a:ext cx="68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654480" y="456120"/>
            <a:ext cx="60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3 - Básico / Años Sucesivos con Excedentes Asimét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;Times"/>
              </a:rPr>
              <a:t>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342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achen BT"/>
              </a:rPr>
              <a:t>DERECHO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295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achen BT"/>
              </a:rPr>
              <a:t>MULTIPLICIDAD DE        REGÍM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491796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achen BT"/>
              </a:rPr>
              <a:t>MULTIPLICIDAD DE JURISDI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achen BT"/>
              </a:rPr>
              <a:t>Estados Fed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429000" y="2057040"/>
            <a:ext cx="1143000" cy="160020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3733920"/>
            <a:ext cx="1143000" cy="129528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650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55640" y="762120"/>
            <a:ext cx="838188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654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65600" y="1102320"/>
            <a:ext cx="1649520" cy="1040040"/>
            <a:chOff x="165600" y="1102320"/>
            <a:chExt cx="1649520" cy="1040040"/>
          </a:xfrm>
        </p:grpSpPr>
        <p:sp>
          <p:nvSpPr>
            <p:cNvPr id="657" name=""/>
            <p:cNvSpPr/>
            <p:nvPr/>
          </p:nvSpPr>
          <p:spPr>
            <a:xfrm rot="20677200">
              <a:off x="228600" y="1293840"/>
              <a:ext cx="1440360" cy="66960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20677200">
              <a:off x="312120" y="1281240"/>
              <a:ext cx="1440000" cy="669600"/>
            </a:xfrm>
            <a:prstGeom prst="ellipse">
              <a:avLst/>
            </a:prstGeom>
            <a:noFill/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07440" y="12952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ue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63880" y="4418640"/>
            <a:ext cx="7113600" cy="1602000"/>
            <a:chOff x="263880" y="4418640"/>
            <a:chExt cx="7113600" cy="1602000"/>
          </a:xfrm>
        </p:grpSpPr>
        <p:sp>
          <p:nvSpPr>
            <p:cNvPr id="661" name=""/>
            <p:cNvSpPr/>
            <p:nvPr/>
          </p:nvSpPr>
          <p:spPr>
            <a:xfrm>
              <a:off x="1417680" y="4435560"/>
              <a:ext cx="5821200" cy="12952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20677200">
              <a:off x="5940360" y="5190840"/>
              <a:ext cx="1295640" cy="66996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20677200">
              <a:off x="6006600" y="5176440"/>
              <a:ext cx="1305000" cy="669960"/>
            </a:xfrm>
            <a:prstGeom prst="ellipse">
              <a:avLst/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3880" y="441864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°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826640" y="4434480"/>
              <a:ext cx="23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A  =  $ 500 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15520" y="443448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47,23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95880" y="443448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236,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34120" y="443556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26640" y="4891680"/>
              <a:ext cx="23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B  =  $ 600 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15520" y="489168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52,77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95880" y="489168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316,6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34120" y="489276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95880" y="534888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552,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95880" y="5349960"/>
              <a:ext cx="762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 flipH="1">
            <a:off x="7771680" y="2514600"/>
            <a:ext cx="1219320" cy="82404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$552,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52280" y="2514600"/>
            <a:ext cx="7620120" cy="838080"/>
            <a:chOff x="152280" y="2514600"/>
            <a:chExt cx="7620120" cy="838080"/>
          </a:xfrm>
        </p:grpSpPr>
        <p:sp>
          <p:nvSpPr>
            <p:cNvPr id="677" name=""/>
            <p:cNvSpPr/>
            <p:nvPr/>
          </p:nvSpPr>
          <p:spPr>
            <a:xfrm>
              <a:off x="152280" y="25293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1°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5800" y="2514600"/>
              <a:ext cx="6858000" cy="838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0400" y="2576520"/>
              <a:ext cx="397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(14,17 X $ 500) + (15,83 X $ 6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30000" y="2946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23200" y="2576520"/>
              <a:ext cx="174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7.085 + 9.4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52840" y="2946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53440" y="2576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6.58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97160" y="2946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95680" y="277884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400800" y="277884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43800" y="277884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2120" y="2957400"/>
              <a:ext cx="3733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00600" y="2957400"/>
              <a:ext cx="1600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629400" y="2957400"/>
              <a:ext cx="838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73" idx="3"/>
            <a:endCxn id="675" idx="2"/>
          </p:cNvCxnSpPr>
          <p:nvPr/>
        </p:nvCxnSpPr>
        <p:spPr>
          <a:xfrm flipV="1">
            <a:off x="7267320" y="3336120"/>
            <a:ext cx="1114920" cy="2212200"/>
          </a:xfrm>
          <a:prstGeom prst="curvedConnector2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654480" y="456120"/>
            <a:ext cx="60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3 - Básico / Años Sucesivos con Excedentes Asimét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698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133720" y="2243160"/>
            <a:ext cx="2090520" cy="3956040"/>
            <a:chOff x="2133720" y="2243160"/>
            <a:chExt cx="2090520" cy="3956040"/>
          </a:xfrm>
        </p:grpSpPr>
        <p:sp>
          <p:nvSpPr>
            <p:cNvPr id="703" name=""/>
            <p:cNvSpPr/>
            <p:nvPr/>
          </p:nvSpPr>
          <p:spPr>
            <a:xfrm>
              <a:off x="2133720" y="2243160"/>
              <a:ext cx="1676160" cy="35812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65560" y="243828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CAJA “A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977920" y="53452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66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16440" y="34686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16440" y="39988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72000" y="45291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$ 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57280" y="2979720"/>
              <a:ext cx="17528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57280" y="5116680"/>
              <a:ext cx="17528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2527200" y="5100840"/>
              <a:ext cx="1524600" cy="1098360"/>
              <a:chOff x="2527200" y="5100840"/>
              <a:chExt cx="1524600" cy="1098360"/>
            </a:xfrm>
          </p:grpSpPr>
          <p:sp>
            <p:nvSpPr>
              <p:cNvPr id="712" name=""/>
              <p:cNvSpPr/>
              <p:nvPr/>
            </p:nvSpPr>
            <p:spPr>
              <a:xfrm rot="20677200">
                <a:off x="2604960" y="527868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20677200">
                <a:off x="2678400" y="525852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4495680" y="2243160"/>
            <a:ext cx="2129040" cy="3956040"/>
            <a:chOff x="4495680" y="2243160"/>
            <a:chExt cx="2129040" cy="3956040"/>
          </a:xfrm>
        </p:grpSpPr>
        <p:sp>
          <p:nvSpPr>
            <p:cNvPr id="715" name=""/>
            <p:cNvSpPr/>
            <p:nvPr/>
          </p:nvSpPr>
          <p:spPr>
            <a:xfrm>
              <a:off x="4495680" y="2243160"/>
              <a:ext cx="1676520" cy="35812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56320" y="243828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CAJA “B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96040" y="346860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96040" y="39988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68680" y="53452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990033"/>
                  </a:solidFill>
                  <a:latin typeface="Arial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51600" y="452916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$ 6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71880" y="2979720"/>
              <a:ext cx="175284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71880" y="5116680"/>
              <a:ext cx="175284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4965480" y="5100840"/>
              <a:ext cx="1524600" cy="1098360"/>
              <a:chOff x="4965480" y="5100840"/>
              <a:chExt cx="1524600" cy="1098360"/>
            </a:xfrm>
          </p:grpSpPr>
          <p:sp>
            <p:nvSpPr>
              <p:cNvPr id="724" name=""/>
              <p:cNvSpPr/>
              <p:nvPr/>
            </p:nvSpPr>
            <p:spPr>
              <a:xfrm rot="20677200">
                <a:off x="5043240" y="527868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20677200">
                <a:off x="5116680" y="525852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6" name=""/>
          <p:cNvSpPr/>
          <p:nvPr/>
        </p:nvSpPr>
        <p:spPr>
          <a:xfrm>
            <a:off x="863280" y="34686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25800" y="399888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ntigü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98120" y="452916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12800" y="3973680"/>
            <a:ext cx="434340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12800" y="4506840"/>
            <a:ext cx="434340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631200" y="5291280"/>
            <a:ext cx="1446120" cy="685800"/>
            <a:chOff x="6631200" y="5291280"/>
            <a:chExt cx="1446120" cy="685800"/>
          </a:xfrm>
        </p:grpSpPr>
        <p:sp>
          <p:nvSpPr>
            <p:cNvPr id="732" name=""/>
            <p:cNvSpPr/>
            <p:nvPr/>
          </p:nvSpPr>
          <p:spPr>
            <a:xfrm>
              <a:off x="7086600" y="5291280"/>
              <a:ext cx="990720" cy="6858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31200" y="536652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39960" y="529128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3333cc"/>
                  </a:solidFill>
                  <a:latin typeface="Arial"/>
                </a:rPr>
                <a:t>3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80520" y="4938840"/>
            <a:ext cx="2111760" cy="1260360"/>
            <a:chOff x="380520" y="4938840"/>
            <a:chExt cx="2111760" cy="1260360"/>
          </a:xfrm>
        </p:grpSpPr>
        <p:sp>
          <p:nvSpPr>
            <p:cNvPr id="736" name=""/>
            <p:cNvSpPr/>
            <p:nvPr/>
          </p:nvSpPr>
          <p:spPr>
            <a:xfrm rot="20677200">
              <a:off x="447840" y="5202720"/>
              <a:ext cx="1870560" cy="762120"/>
            </a:xfrm>
            <a:prstGeom prst="ellipse">
              <a:avLst/>
            </a:prstGeom>
            <a:noFill/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20677200">
              <a:off x="554040" y="5173200"/>
              <a:ext cx="1870560" cy="762120"/>
            </a:xfrm>
            <a:prstGeom prst="ellipse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686160" y="5259960"/>
            <a:ext cx="153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rot="10800000">
            <a:off x="6718320" y="2449440"/>
            <a:ext cx="193680" cy="2889360"/>
          </a:xfrm>
          <a:custGeom>
            <a:avLst/>
            <a:gdLst>
              <a:gd name="textAreaLeft" fmla="*/ 0 w 193680"/>
              <a:gd name="textAreaRight" fmla="*/ 69840 w 193680"/>
              <a:gd name="textAreaTop" fmla="*/ 75240 h 2889360"/>
              <a:gd name="textAreaBottom" fmla="*/ 2814120 h 288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6834960" y="2836800"/>
            <a:ext cx="2280600" cy="2120400"/>
            <a:chOff x="6834960" y="2836800"/>
            <a:chExt cx="2280600" cy="2120400"/>
          </a:xfrm>
        </p:grpSpPr>
        <p:grpSp>
          <p:nvGrpSpPr>
            <p:cNvPr id="741" name=""/>
            <p:cNvGrpSpPr/>
            <p:nvPr/>
          </p:nvGrpSpPr>
          <p:grpSpPr>
            <a:xfrm>
              <a:off x="6834960" y="2836800"/>
              <a:ext cx="2280600" cy="2120400"/>
              <a:chOff x="6834960" y="2836800"/>
              <a:chExt cx="2280600" cy="2120400"/>
            </a:xfrm>
          </p:grpSpPr>
          <p:sp>
            <p:nvSpPr>
              <p:cNvPr id="742" name=""/>
              <p:cNvSpPr/>
              <p:nvPr/>
            </p:nvSpPr>
            <p:spPr>
              <a:xfrm rot="20677200">
                <a:off x="7024680" y="3073320"/>
                <a:ext cx="1798560" cy="167544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20677200">
                <a:off x="7126920" y="3045240"/>
                <a:ext cx="1798560" cy="167544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7019280" y="3287880"/>
              <a:ext cx="17794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Caj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Particip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51240" y="456120"/>
            <a:ext cx="68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4 - Básico / Años Sucesivos con Excedentes Asimétricos (Invers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1760" y="1066320"/>
            <a:ext cx="77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 N° 4 - Básico / Años Sucesivos con Excedentes Asimétri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Inver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752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869800" y="838080"/>
            <a:ext cx="3061440" cy="1375920"/>
            <a:chOff x="5869800" y="838080"/>
            <a:chExt cx="3061440" cy="1375920"/>
          </a:xfrm>
        </p:grpSpPr>
        <p:sp>
          <p:nvSpPr>
            <p:cNvPr id="756" name=""/>
            <p:cNvSpPr/>
            <p:nvPr/>
          </p:nvSpPr>
          <p:spPr>
            <a:xfrm>
              <a:off x="6854040" y="83808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CAJA “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014320" y="83808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CAJA “B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288640" y="1055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288640" y="1271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134480" y="18511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39520" y="1055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39520" y="1271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184600" y="156060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$ 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035120" y="156060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$ 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43600" y="1055520"/>
              <a:ext cx="96048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970760" y="1055520"/>
              <a:ext cx="96048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6955560" y="1697760"/>
              <a:ext cx="723600" cy="516240"/>
              <a:chOff x="6955560" y="1697760"/>
              <a:chExt cx="723600" cy="516240"/>
            </a:xfrm>
          </p:grpSpPr>
          <p:sp>
            <p:nvSpPr>
              <p:cNvPr id="768" name=""/>
              <p:cNvSpPr/>
              <p:nvPr/>
            </p:nvSpPr>
            <p:spPr>
              <a:xfrm rot="20677200">
                <a:off x="6991560" y="1782720"/>
                <a:ext cx="616320" cy="35568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20677200">
                <a:off x="7026480" y="1773000"/>
                <a:ext cx="616320" cy="35568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>
              <a:off x="6099120" y="982800"/>
              <a:ext cx="5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96240" y="156060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Ha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6400800" y="1271520"/>
              <a:ext cx="2290680" cy="289080"/>
              <a:chOff x="6400800" y="1271520"/>
              <a:chExt cx="2290680" cy="289080"/>
            </a:xfrm>
          </p:grpSpPr>
          <p:sp>
            <p:nvSpPr>
              <p:cNvPr id="773" name=""/>
              <p:cNvSpPr/>
              <p:nvPr/>
            </p:nvSpPr>
            <p:spPr>
              <a:xfrm>
                <a:off x="6400800" y="1271520"/>
                <a:ext cx="2290680" cy="0"/>
              </a:xfrm>
              <a:prstGeom prst="line">
                <a:avLst/>
              </a:prstGeom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400800" y="1560600"/>
                <a:ext cx="2290680" cy="0"/>
              </a:xfrm>
              <a:prstGeom prst="line">
                <a:avLst/>
              </a:prstGeom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5869800" y="1271520"/>
              <a:ext cx="101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Antigü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43600" y="1851120"/>
              <a:ext cx="960480" cy="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70760" y="1851120"/>
              <a:ext cx="96048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317440" y="18511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8138520" y="1697760"/>
              <a:ext cx="723240" cy="516240"/>
              <a:chOff x="8138520" y="1697760"/>
              <a:chExt cx="723240" cy="516240"/>
            </a:xfrm>
          </p:grpSpPr>
          <p:sp>
            <p:nvSpPr>
              <p:cNvPr id="780" name=""/>
              <p:cNvSpPr/>
              <p:nvPr/>
            </p:nvSpPr>
            <p:spPr>
              <a:xfrm rot="20677200">
                <a:off x="8174520" y="1782720"/>
                <a:ext cx="615960" cy="35568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20677200">
                <a:off x="8209440" y="1773000"/>
                <a:ext cx="615960" cy="35568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2" name=""/>
          <p:cNvSpPr/>
          <p:nvPr/>
        </p:nvSpPr>
        <p:spPr>
          <a:xfrm>
            <a:off x="2436480" y="319932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6  / 36   =  16,67 % de Exce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436840" y="243720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6  -  30   =  Exceden 6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380880" y="4267080"/>
            <a:ext cx="8305920" cy="1389600"/>
            <a:chOff x="380880" y="4267080"/>
            <a:chExt cx="8305920" cy="1389600"/>
          </a:xfrm>
        </p:grpSpPr>
        <p:sp>
          <p:nvSpPr>
            <p:cNvPr id="785" name=""/>
            <p:cNvSpPr/>
            <p:nvPr/>
          </p:nvSpPr>
          <p:spPr>
            <a:xfrm>
              <a:off x="685800" y="4267080"/>
              <a:ext cx="7620120" cy="13716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0880" y="4343400"/>
              <a:ext cx="830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9  -  (16,67%)  =  3,17  =  15,83  /  30  =  52,77% Particip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0880" y="4876920"/>
              <a:ext cx="830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7  -  (16,67%)  =  2,83  =  14,17  /  30  =  47,23% Particip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733920" y="52578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886200" y="5257800"/>
              <a:ext cx="68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410080" y="5257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00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62720" y="5257800"/>
              <a:ext cx="68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651240" y="456120"/>
            <a:ext cx="68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4 - Básico / Años Sucesivos con Excedentes Asimétricos (Invers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798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802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165600" y="964080"/>
            <a:ext cx="1649520" cy="1040040"/>
            <a:chOff x="165600" y="964080"/>
            <a:chExt cx="1649520" cy="1040040"/>
          </a:xfrm>
        </p:grpSpPr>
        <p:grpSp>
          <p:nvGrpSpPr>
            <p:cNvPr id="805" name=""/>
            <p:cNvGrpSpPr/>
            <p:nvPr/>
          </p:nvGrpSpPr>
          <p:grpSpPr>
            <a:xfrm>
              <a:off x="165600" y="964080"/>
              <a:ext cx="1649520" cy="1040040"/>
              <a:chOff x="165600" y="964080"/>
              <a:chExt cx="1649520" cy="1040040"/>
            </a:xfrm>
          </p:grpSpPr>
          <p:sp>
            <p:nvSpPr>
              <p:cNvPr id="806" name=""/>
              <p:cNvSpPr/>
              <p:nvPr/>
            </p:nvSpPr>
            <p:spPr>
              <a:xfrm rot="20677200">
                <a:off x="228600" y="1155600"/>
                <a:ext cx="1440360" cy="669600"/>
              </a:xfrm>
              <a:prstGeom prst="ellipse">
                <a:avLst/>
              </a:prstGeom>
              <a:noFill/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0677200">
                <a:off x="312120" y="1143000"/>
                <a:ext cx="1440000" cy="669600"/>
              </a:xfrm>
              <a:prstGeom prst="ellipse">
                <a:avLst/>
              </a:prstGeom>
              <a:noFill/>
              <a:ln w="9360">
                <a:solidFill>
                  <a:srgbClr val="ff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307440" y="115740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ue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263880" y="4418640"/>
            <a:ext cx="7113600" cy="1602000"/>
            <a:chOff x="263880" y="4418640"/>
            <a:chExt cx="7113600" cy="1602000"/>
          </a:xfrm>
        </p:grpSpPr>
        <p:sp>
          <p:nvSpPr>
            <p:cNvPr id="810" name=""/>
            <p:cNvSpPr/>
            <p:nvPr/>
          </p:nvSpPr>
          <p:spPr>
            <a:xfrm>
              <a:off x="1417680" y="4435560"/>
              <a:ext cx="5821200" cy="12952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20677200">
              <a:off x="5940360" y="5190840"/>
              <a:ext cx="1295640" cy="66996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20677200">
              <a:off x="6006600" y="5176440"/>
              <a:ext cx="1305000" cy="669960"/>
            </a:xfrm>
            <a:prstGeom prst="ellipse">
              <a:avLst/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63880" y="4418640"/>
              <a:ext cx="57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°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26640" y="4434480"/>
              <a:ext cx="23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A  =  $ 500 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115520" y="443448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52,77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95880" y="443448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263,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34120" y="443556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26640" y="4891680"/>
              <a:ext cx="23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B  =  $ 600 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115520" y="489168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47,23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95880" y="489168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283,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34120" y="489276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095880" y="534888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547,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95880" y="5349960"/>
              <a:ext cx="762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H="1">
            <a:off x="7771680" y="2341440"/>
            <a:ext cx="1219320" cy="82404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$547,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52280" y="2341440"/>
            <a:ext cx="7620120" cy="838080"/>
            <a:chOff x="152280" y="2341440"/>
            <a:chExt cx="7620120" cy="838080"/>
          </a:xfrm>
        </p:grpSpPr>
        <p:sp>
          <p:nvSpPr>
            <p:cNvPr id="826" name=""/>
            <p:cNvSpPr/>
            <p:nvPr/>
          </p:nvSpPr>
          <p:spPr>
            <a:xfrm>
              <a:off x="152280" y="2356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1°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" y="2341440"/>
              <a:ext cx="6858000" cy="838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80400" y="2403360"/>
              <a:ext cx="397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(15,83 X $ 500) + (14,17 X $ 6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430000" y="2773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723200" y="2403360"/>
              <a:ext cx="174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7.915 + 8.5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352840" y="2773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553440" y="24033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6.4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797160" y="2773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95680" y="260568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400800" y="2605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43800" y="2605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2120" y="2784240"/>
              <a:ext cx="3733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00600" y="2784240"/>
              <a:ext cx="1600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629400" y="2784240"/>
              <a:ext cx="838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22" idx="3"/>
            <a:endCxn id="824" idx="2"/>
          </p:cNvCxnSpPr>
          <p:nvPr/>
        </p:nvCxnSpPr>
        <p:spPr>
          <a:xfrm flipV="1">
            <a:off x="7267320" y="3163680"/>
            <a:ext cx="1114920" cy="2384640"/>
          </a:xfrm>
          <a:prstGeom prst="curvedConnector2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1" name=""/>
          <p:cNvSpPr/>
          <p:nvPr/>
        </p:nvSpPr>
        <p:spPr>
          <a:xfrm>
            <a:off x="651240" y="456120"/>
            <a:ext cx="68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4 - Básico / Años Sucesivos con Excedentes Asimétricos (Invers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847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2133720" y="1523880"/>
            <a:ext cx="2090520" cy="3597120"/>
            <a:chOff x="2133720" y="1523880"/>
            <a:chExt cx="2090520" cy="3597120"/>
          </a:xfrm>
        </p:grpSpPr>
        <p:sp>
          <p:nvSpPr>
            <p:cNvPr id="851" name=""/>
            <p:cNvSpPr/>
            <p:nvPr/>
          </p:nvSpPr>
          <p:spPr>
            <a:xfrm>
              <a:off x="2133720" y="1523880"/>
              <a:ext cx="1676160" cy="322272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65560" y="167652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CAJA “A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977920" y="42670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66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016440" y="23907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5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16440" y="29210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772000" y="345132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$ 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57280" y="2217600"/>
              <a:ext cx="17528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357280" y="4038480"/>
              <a:ext cx="17528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2527200" y="4023000"/>
              <a:ext cx="1524240" cy="1098000"/>
              <a:chOff x="2527200" y="4023000"/>
              <a:chExt cx="1524240" cy="1098000"/>
            </a:xfrm>
          </p:grpSpPr>
          <p:sp>
            <p:nvSpPr>
              <p:cNvPr id="860" name=""/>
              <p:cNvSpPr/>
              <p:nvPr/>
            </p:nvSpPr>
            <p:spPr>
              <a:xfrm rot="20677200">
                <a:off x="2604960" y="4200840"/>
                <a:ext cx="1295280" cy="7617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0677200">
                <a:off x="2678400" y="4180680"/>
                <a:ext cx="1295280" cy="76176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2" name=""/>
          <p:cNvGrpSpPr/>
          <p:nvPr/>
        </p:nvGrpSpPr>
        <p:grpSpPr>
          <a:xfrm>
            <a:off x="4495680" y="1523880"/>
            <a:ext cx="2129040" cy="3597120"/>
            <a:chOff x="4495680" y="1523880"/>
            <a:chExt cx="2129040" cy="3597120"/>
          </a:xfrm>
        </p:grpSpPr>
        <p:sp>
          <p:nvSpPr>
            <p:cNvPr id="863" name=""/>
            <p:cNvSpPr/>
            <p:nvPr/>
          </p:nvSpPr>
          <p:spPr>
            <a:xfrm>
              <a:off x="4495680" y="1523880"/>
              <a:ext cx="1676520" cy="322272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56320" y="167652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CAJA “B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396040" y="23907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396040" y="29210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368680" y="426708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990033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51600" y="345132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$ 6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71880" y="2217600"/>
              <a:ext cx="175284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871880" y="4038480"/>
              <a:ext cx="175284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4965480" y="4023000"/>
              <a:ext cx="1524240" cy="1098000"/>
              <a:chOff x="4965480" y="4023000"/>
              <a:chExt cx="1524240" cy="1098000"/>
            </a:xfrm>
          </p:grpSpPr>
          <p:sp>
            <p:nvSpPr>
              <p:cNvPr id="872" name=""/>
              <p:cNvSpPr/>
              <p:nvPr/>
            </p:nvSpPr>
            <p:spPr>
              <a:xfrm rot="20677200">
                <a:off x="5043240" y="4200840"/>
                <a:ext cx="1295280" cy="7617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20677200">
                <a:off x="5116680" y="4180680"/>
                <a:ext cx="1295280" cy="76176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4" name=""/>
          <p:cNvSpPr/>
          <p:nvPr/>
        </p:nvSpPr>
        <p:spPr>
          <a:xfrm>
            <a:off x="863280" y="239076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5800" y="292104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ntigü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98120" y="345132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12800" y="2895480"/>
            <a:ext cx="434340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612800" y="3429000"/>
            <a:ext cx="434340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631200" y="4213080"/>
            <a:ext cx="1446120" cy="685800"/>
            <a:chOff x="6631200" y="4213080"/>
            <a:chExt cx="1446120" cy="685800"/>
          </a:xfrm>
        </p:grpSpPr>
        <p:sp>
          <p:nvSpPr>
            <p:cNvPr id="880" name=""/>
            <p:cNvSpPr/>
            <p:nvPr/>
          </p:nvSpPr>
          <p:spPr>
            <a:xfrm>
              <a:off x="7086600" y="4213080"/>
              <a:ext cx="990720" cy="6858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31200" y="42886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39960" y="421308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3333cc"/>
                  </a:solidFill>
                  <a:latin typeface="Arial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80520" y="3861000"/>
            <a:ext cx="2111760" cy="1260000"/>
            <a:chOff x="380520" y="3861000"/>
            <a:chExt cx="2111760" cy="1260000"/>
          </a:xfrm>
        </p:grpSpPr>
        <p:grpSp>
          <p:nvGrpSpPr>
            <p:cNvPr id="884" name=""/>
            <p:cNvGrpSpPr/>
            <p:nvPr/>
          </p:nvGrpSpPr>
          <p:grpSpPr>
            <a:xfrm>
              <a:off x="380520" y="3861000"/>
              <a:ext cx="2111760" cy="1260000"/>
              <a:chOff x="380520" y="3861000"/>
              <a:chExt cx="2111760" cy="1260000"/>
            </a:xfrm>
          </p:grpSpPr>
          <p:sp>
            <p:nvSpPr>
              <p:cNvPr id="885" name=""/>
              <p:cNvSpPr/>
              <p:nvPr/>
            </p:nvSpPr>
            <p:spPr>
              <a:xfrm rot="20677200">
                <a:off x="447840" y="4124880"/>
                <a:ext cx="1870560" cy="76176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677200">
                <a:off x="554040" y="4095360"/>
                <a:ext cx="1870560" cy="76176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686160" y="4182120"/>
              <a:ext cx="153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Añ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de Servic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2057400" y="5105520"/>
            <a:ext cx="5779800" cy="1265760"/>
            <a:chOff x="2057400" y="5105520"/>
            <a:chExt cx="5779800" cy="1265760"/>
          </a:xfrm>
        </p:grpSpPr>
        <p:sp>
          <p:nvSpPr>
            <p:cNvPr id="889" name=""/>
            <p:cNvSpPr/>
            <p:nvPr/>
          </p:nvSpPr>
          <p:spPr>
            <a:xfrm>
              <a:off x="2057400" y="5238360"/>
              <a:ext cx="382716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sto es Sin Exced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sto es Sin Simultáne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867280" y="5105520"/>
              <a:ext cx="304920" cy="12193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486"/>
                  </a:lnTo>
                  <a:cubicBezTo>
                    <a:pt x="10800" y="9386"/>
                    <a:pt x="16200" y="10286"/>
                    <a:pt x="21600" y="10286"/>
                  </a:cubicBezTo>
                  <a:cubicBezTo>
                    <a:pt x="16200" y="10286"/>
                    <a:pt x="10800" y="11186"/>
                    <a:pt x="10800" y="12086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00800" y="5180040"/>
              <a:ext cx="143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Só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difiere 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DA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 flipH="1" rot="10800000">
            <a:off x="6718320" y="1676160"/>
            <a:ext cx="193680" cy="2889000"/>
          </a:xfrm>
          <a:custGeom>
            <a:avLst/>
            <a:gdLst>
              <a:gd name="textAreaLeft" fmla="*/ 0 w 193680"/>
              <a:gd name="textAreaRight" fmla="*/ 69840 w 193680"/>
              <a:gd name="textAreaTop" fmla="*/ 75240 h 2889000"/>
              <a:gd name="textAreaBottom" fmla="*/ 2813760 h 28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6834960" y="2063520"/>
            <a:ext cx="2280960" cy="2120760"/>
            <a:chOff x="6834960" y="2063520"/>
            <a:chExt cx="2280960" cy="2120760"/>
          </a:xfrm>
        </p:grpSpPr>
        <p:grpSp>
          <p:nvGrpSpPr>
            <p:cNvPr id="894" name=""/>
            <p:cNvGrpSpPr/>
            <p:nvPr/>
          </p:nvGrpSpPr>
          <p:grpSpPr>
            <a:xfrm>
              <a:off x="6834960" y="2063520"/>
              <a:ext cx="2280960" cy="2120760"/>
              <a:chOff x="6834960" y="2063520"/>
              <a:chExt cx="2280960" cy="2120760"/>
            </a:xfrm>
          </p:grpSpPr>
          <p:sp>
            <p:nvSpPr>
              <p:cNvPr id="895" name=""/>
              <p:cNvSpPr/>
              <p:nvPr/>
            </p:nvSpPr>
            <p:spPr>
              <a:xfrm rot="20677200">
                <a:off x="7024680" y="2300040"/>
                <a:ext cx="1798560" cy="1675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677200">
                <a:off x="7126920" y="2271960"/>
                <a:ext cx="1798560" cy="167580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7019280" y="2514600"/>
              <a:ext cx="17794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Caj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Particip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658800" y="45612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5 - Determinación de Edad  /  Bá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69960" y="957960"/>
            <a:ext cx="53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 N° 5 - Determinación de Edad  /  Bá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905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7421400" y="2986200"/>
            <a:ext cx="1371600" cy="8380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57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293760" y="2734200"/>
            <a:ext cx="7167600" cy="1242720"/>
            <a:chOff x="293760" y="2734200"/>
            <a:chExt cx="7167600" cy="1242720"/>
          </a:xfrm>
        </p:grpSpPr>
        <p:sp>
          <p:nvSpPr>
            <p:cNvPr id="910" name=""/>
            <p:cNvSpPr/>
            <p:nvPr/>
          </p:nvSpPr>
          <p:spPr>
            <a:xfrm>
              <a:off x="2011320" y="2986200"/>
              <a:ext cx="5181480" cy="838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77840" y="3048120"/>
              <a:ext cx="25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(15 X 55) + (15 X 6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293760" y="2734200"/>
              <a:ext cx="1617840" cy="1242720"/>
              <a:chOff x="293760" y="2734200"/>
              <a:chExt cx="1617840" cy="1242720"/>
            </a:xfrm>
          </p:grpSpPr>
          <p:sp>
            <p:nvSpPr>
              <p:cNvPr id="913" name=""/>
              <p:cNvSpPr/>
              <p:nvPr/>
            </p:nvSpPr>
            <p:spPr>
              <a:xfrm rot="20677200">
                <a:off x="387000" y="2921400"/>
                <a:ext cx="1366920" cy="890280"/>
              </a:xfrm>
              <a:prstGeom prst="ellipse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20677200">
                <a:off x="458640" y="2900520"/>
                <a:ext cx="1366920" cy="833400"/>
              </a:xfrm>
              <a:prstGeom prst="ellipse">
                <a:avLst/>
              </a:prstGeom>
              <a:noFill/>
              <a:ln w="93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>
              <a:off x="709920" y="3062160"/>
              <a:ext cx="9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87640" y="3454560"/>
              <a:ext cx="23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26880" y="3417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18800" y="30481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825 + 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46480" y="3417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48880" y="304812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.7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26000" y="3417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6108840" y="3443040"/>
              <a:ext cx="106668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4678200" y="3443040"/>
              <a:ext cx="12193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420800" y="3276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51080" y="3276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146360" y="3276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5945760" y="4418280"/>
            <a:ext cx="29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ad Recipr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quer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8077320" y="3809880"/>
            <a:ext cx="0" cy="6098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0" y="518148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tigüedad = 3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4640" y="16002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er Párra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318600" y="1022400"/>
            <a:ext cx="3018960" cy="1608480"/>
            <a:chOff x="318600" y="1022400"/>
            <a:chExt cx="3018960" cy="1608480"/>
          </a:xfrm>
        </p:grpSpPr>
        <p:sp>
          <p:nvSpPr>
            <p:cNvPr id="932" name=""/>
            <p:cNvSpPr/>
            <p:nvPr/>
          </p:nvSpPr>
          <p:spPr>
            <a:xfrm rot="20677200">
              <a:off x="387360" y="1392480"/>
              <a:ext cx="2745720" cy="890280"/>
            </a:xfrm>
            <a:prstGeom prst="ellipse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20677200">
              <a:off x="530280" y="1371600"/>
              <a:ext cx="2745720" cy="833400"/>
            </a:xfrm>
            <a:prstGeom prst="ellipse">
              <a:avLst/>
            </a:prstGeom>
            <a:noFill/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2669400" y="160020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ebe prorrat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58800" y="45612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5 - Determinación de Edad  /  Bá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0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941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80880" y="2035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380880" y="3961440"/>
            <a:ext cx="6921000" cy="1746360"/>
            <a:chOff x="380880" y="3961440"/>
            <a:chExt cx="6921000" cy="1746360"/>
          </a:xfrm>
        </p:grpSpPr>
        <p:sp>
          <p:nvSpPr>
            <p:cNvPr id="946" name=""/>
            <p:cNvSpPr/>
            <p:nvPr/>
          </p:nvSpPr>
          <p:spPr>
            <a:xfrm>
              <a:off x="1143000" y="3962520"/>
              <a:ext cx="6095880" cy="14475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20677200">
              <a:off x="5940360" y="4870080"/>
              <a:ext cx="1295640" cy="66996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rot="20677200">
              <a:off x="5866920" y="4876560"/>
              <a:ext cx="1305000" cy="669960"/>
            </a:xfrm>
            <a:prstGeom prst="ellipse">
              <a:avLst/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80880" y="39614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°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16440" y="4113720"/>
              <a:ext cx="239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A  =  15 / 30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809880" y="411372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50% x 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096600" y="411372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2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34120" y="41148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16440" y="4570920"/>
              <a:ext cx="239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B  =  15 / 30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809880" y="457092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50% x 6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096600" y="457092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3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34120" y="45720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096600" y="502812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5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95880" y="5029200"/>
              <a:ext cx="762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0" name=""/>
          <p:cNvSpPr/>
          <p:nvPr/>
        </p:nvSpPr>
        <p:spPr>
          <a:xfrm flipH="1">
            <a:off x="7771680" y="2021040"/>
            <a:ext cx="1219320" cy="8236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$ 5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8" idx="3"/>
            <a:endCxn id="960" idx="2"/>
          </p:cNvCxnSpPr>
          <p:nvPr/>
        </p:nvCxnSpPr>
        <p:spPr>
          <a:xfrm flipV="1">
            <a:off x="6915240" y="2842920"/>
            <a:ext cx="1467360" cy="2384640"/>
          </a:xfrm>
          <a:prstGeom prst="curvedConnector2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2" name=""/>
          <p:cNvSpPr/>
          <p:nvPr/>
        </p:nvSpPr>
        <p:spPr>
          <a:xfrm>
            <a:off x="684360" y="1097640"/>
            <a:ext cx="38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uego se determina el HA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165320" y="2021040"/>
            <a:ext cx="6607080" cy="838080"/>
            <a:chOff x="1165320" y="2021040"/>
            <a:chExt cx="6607080" cy="838080"/>
          </a:xfrm>
        </p:grpSpPr>
        <p:sp>
          <p:nvSpPr>
            <p:cNvPr id="964" name=""/>
            <p:cNvSpPr/>
            <p:nvPr/>
          </p:nvSpPr>
          <p:spPr>
            <a:xfrm>
              <a:off x="1165320" y="2021040"/>
              <a:ext cx="6324480" cy="838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215000" y="2082960"/>
              <a:ext cx="327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(15 X $ 500) + (15 X $ 6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14320" y="2452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69200" y="2082960"/>
              <a:ext cx="174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7.500 + 9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98840" y="2452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99440" y="20829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6.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743520" y="2452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441680" y="236160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346800" y="2361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543800" y="2361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746600" y="2513160"/>
              <a:ext cx="1600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575400" y="2513160"/>
              <a:ext cx="838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1317240" y="2514600"/>
              <a:ext cx="304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658800" y="45612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5 - Determinación de Edad  /  Bá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983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2133720" y="1828800"/>
            <a:ext cx="2090520" cy="3597120"/>
            <a:chOff x="2133720" y="1828800"/>
            <a:chExt cx="2090520" cy="3597120"/>
          </a:xfrm>
        </p:grpSpPr>
        <p:sp>
          <p:nvSpPr>
            <p:cNvPr id="987" name=""/>
            <p:cNvSpPr/>
            <p:nvPr/>
          </p:nvSpPr>
          <p:spPr>
            <a:xfrm>
              <a:off x="2133720" y="1828800"/>
              <a:ext cx="1676160" cy="322272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365560" y="198108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CAJA “A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977920" y="457200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6600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016440" y="26956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5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16440" y="32259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772000" y="375588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$ 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2522520"/>
              <a:ext cx="17528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57280" y="4343400"/>
              <a:ext cx="17528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5" name=""/>
            <p:cNvGrpSpPr/>
            <p:nvPr/>
          </p:nvGrpSpPr>
          <p:grpSpPr>
            <a:xfrm>
              <a:off x="2527200" y="4327560"/>
              <a:ext cx="1524600" cy="1098360"/>
              <a:chOff x="2527200" y="4327560"/>
              <a:chExt cx="1524600" cy="1098360"/>
            </a:xfrm>
          </p:grpSpPr>
          <p:sp>
            <p:nvSpPr>
              <p:cNvPr id="996" name=""/>
              <p:cNvSpPr/>
              <p:nvPr/>
            </p:nvSpPr>
            <p:spPr>
              <a:xfrm rot="20677200">
                <a:off x="2604960" y="450540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20677200">
                <a:off x="2678400" y="448524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8" name=""/>
          <p:cNvGrpSpPr/>
          <p:nvPr/>
        </p:nvGrpSpPr>
        <p:grpSpPr>
          <a:xfrm>
            <a:off x="4495680" y="1828800"/>
            <a:ext cx="2129040" cy="3597120"/>
            <a:chOff x="4495680" y="1828800"/>
            <a:chExt cx="2129040" cy="3597120"/>
          </a:xfrm>
        </p:grpSpPr>
        <p:sp>
          <p:nvSpPr>
            <p:cNvPr id="999" name=""/>
            <p:cNvSpPr/>
            <p:nvPr/>
          </p:nvSpPr>
          <p:spPr>
            <a:xfrm>
              <a:off x="4495680" y="1828800"/>
              <a:ext cx="1676520" cy="322272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756320" y="198108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CAJA “B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96040" y="26956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96040" y="32259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368680" y="457200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990033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151600" y="375588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$ 6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871880" y="2522520"/>
              <a:ext cx="175284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871880" y="4343400"/>
              <a:ext cx="175284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4965480" y="4327560"/>
              <a:ext cx="1524600" cy="1098360"/>
              <a:chOff x="4965480" y="4327560"/>
              <a:chExt cx="1524600" cy="1098360"/>
            </a:xfrm>
          </p:grpSpPr>
          <p:sp>
            <p:nvSpPr>
              <p:cNvPr id="1008" name=""/>
              <p:cNvSpPr/>
              <p:nvPr/>
            </p:nvSpPr>
            <p:spPr>
              <a:xfrm rot="20677200">
                <a:off x="5043240" y="450540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20677200">
                <a:off x="5116680" y="448524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0" name=""/>
          <p:cNvSpPr/>
          <p:nvPr/>
        </p:nvSpPr>
        <p:spPr>
          <a:xfrm>
            <a:off x="863280" y="269568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25800" y="322596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ntigü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98120" y="37558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612800" y="3200400"/>
            <a:ext cx="434340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612800" y="3733920"/>
            <a:ext cx="434340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6631200" y="4518000"/>
            <a:ext cx="1446120" cy="685800"/>
            <a:chOff x="6631200" y="4518000"/>
            <a:chExt cx="1446120" cy="685800"/>
          </a:xfrm>
        </p:grpSpPr>
        <p:sp>
          <p:nvSpPr>
            <p:cNvPr id="1016" name=""/>
            <p:cNvSpPr/>
            <p:nvPr/>
          </p:nvSpPr>
          <p:spPr>
            <a:xfrm>
              <a:off x="7086600" y="4518000"/>
              <a:ext cx="990720" cy="6858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31200" y="459324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239960" y="451800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3333cc"/>
                  </a:solidFill>
                  <a:latin typeface="Arial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380520" y="4165560"/>
            <a:ext cx="2111760" cy="1260360"/>
            <a:chOff x="380520" y="4165560"/>
            <a:chExt cx="2111760" cy="1260360"/>
          </a:xfrm>
        </p:grpSpPr>
        <p:sp>
          <p:nvSpPr>
            <p:cNvPr id="1020" name=""/>
            <p:cNvSpPr/>
            <p:nvPr/>
          </p:nvSpPr>
          <p:spPr>
            <a:xfrm rot="20677200">
              <a:off x="447840" y="4429440"/>
              <a:ext cx="1870560" cy="762120"/>
            </a:xfrm>
            <a:prstGeom prst="ellipse">
              <a:avLst/>
            </a:prstGeom>
            <a:noFill/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20677200">
              <a:off x="554040" y="4399920"/>
              <a:ext cx="1870560" cy="762120"/>
            </a:xfrm>
            <a:prstGeom prst="ellipse">
              <a:avLst/>
            </a:prstGeom>
            <a:noFill/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686160" y="4486680"/>
            <a:ext cx="153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4113720" y="5199120"/>
            <a:ext cx="4461480" cy="1099800"/>
            <a:chOff x="4113720" y="5199120"/>
            <a:chExt cx="4461480" cy="1099800"/>
          </a:xfrm>
        </p:grpSpPr>
        <p:sp>
          <p:nvSpPr>
            <p:cNvPr id="1024" name=""/>
            <p:cNvSpPr/>
            <p:nvPr/>
          </p:nvSpPr>
          <p:spPr>
            <a:xfrm>
              <a:off x="5033160" y="5199120"/>
              <a:ext cx="26719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xceden 10añ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113720" y="5656320"/>
              <a:ext cx="44614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10  /  40  =  25% de Exced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 flipH="1" rot="10800000">
            <a:off x="6718320" y="2065320"/>
            <a:ext cx="193680" cy="2889360"/>
          </a:xfrm>
          <a:custGeom>
            <a:avLst/>
            <a:gdLst>
              <a:gd name="textAreaLeft" fmla="*/ 0 w 193680"/>
              <a:gd name="textAreaRight" fmla="*/ 69840 w 193680"/>
              <a:gd name="textAreaTop" fmla="*/ 75240 h 2889360"/>
              <a:gd name="textAreaBottom" fmla="*/ 2814120 h 288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6834960" y="2452320"/>
            <a:ext cx="2280960" cy="2120760"/>
            <a:chOff x="6834960" y="2452320"/>
            <a:chExt cx="2280960" cy="2120760"/>
          </a:xfrm>
        </p:grpSpPr>
        <p:grpSp>
          <p:nvGrpSpPr>
            <p:cNvPr id="1028" name=""/>
            <p:cNvGrpSpPr/>
            <p:nvPr/>
          </p:nvGrpSpPr>
          <p:grpSpPr>
            <a:xfrm>
              <a:off x="6834960" y="2452320"/>
              <a:ext cx="2280960" cy="2120760"/>
              <a:chOff x="6834960" y="2452320"/>
              <a:chExt cx="2280960" cy="2120760"/>
            </a:xfrm>
          </p:grpSpPr>
          <p:sp>
            <p:nvSpPr>
              <p:cNvPr id="1029" name=""/>
              <p:cNvSpPr/>
              <p:nvPr/>
            </p:nvSpPr>
            <p:spPr>
              <a:xfrm rot="20677200">
                <a:off x="7024680" y="2688840"/>
                <a:ext cx="1798560" cy="1675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20677200">
                <a:off x="7126920" y="2660760"/>
                <a:ext cx="1798560" cy="167580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7019280" y="2903400"/>
              <a:ext cx="17794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Caj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Particip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648720" y="456120"/>
            <a:ext cx="727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6 - Determinación de Edad  /  Básico  -  Con Años sucesivos exce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8880" y="975960"/>
            <a:ext cx="57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 N° 6 - Determinación de Edad  /  Básico  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 Años sucesivos exced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1039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673560" y="1976400"/>
            <a:ext cx="7192440" cy="990360"/>
            <a:chOff x="673560" y="1976400"/>
            <a:chExt cx="7192440" cy="990360"/>
          </a:xfrm>
        </p:grpSpPr>
        <p:sp>
          <p:nvSpPr>
            <p:cNvPr id="1043" name=""/>
            <p:cNvSpPr/>
            <p:nvPr/>
          </p:nvSpPr>
          <p:spPr>
            <a:xfrm>
              <a:off x="673560" y="2113920"/>
              <a:ext cx="13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ra sa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E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668320" y="2113920"/>
              <a:ext cx="519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e debe restar el Exceso - 10 añ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 la Caja Participante que requiere más E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209680" y="1976400"/>
              <a:ext cx="76320" cy="9903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  <a:effectLst>
              <a:outerShdw dist="85328" dir="3806096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671400" y="3256200"/>
            <a:ext cx="5805720" cy="1326240"/>
            <a:chOff x="671400" y="3256200"/>
            <a:chExt cx="5805720" cy="1326240"/>
          </a:xfrm>
        </p:grpSpPr>
        <p:sp>
          <p:nvSpPr>
            <p:cNvPr id="1047" name=""/>
            <p:cNvSpPr/>
            <p:nvPr/>
          </p:nvSpPr>
          <p:spPr>
            <a:xfrm>
              <a:off x="2514600" y="3257640"/>
              <a:ext cx="3962520" cy="12762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71400" y="3437640"/>
              <a:ext cx="108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ños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erv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209680" y="3333600"/>
              <a:ext cx="152640" cy="104724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7000 h 1047240"/>
                <a:gd name="textAreaBottom" fmla="*/ 1020240 h 104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  <a:effectLst>
              <a:outerShdw dist="85328" dir="3806096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42840" y="3256200"/>
              <a:ext cx="1793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  - 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B  -  20 -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802040" y="3256200"/>
              <a:ext cx="35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410080" y="4122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12600" y="3256200"/>
              <a:ext cx="51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257800" y="4124160"/>
              <a:ext cx="7621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7924680" y="4762440"/>
            <a:ext cx="990720" cy="1219320"/>
            <a:chOff x="7924680" y="4762440"/>
            <a:chExt cx="990720" cy="1219320"/>
          </a:xfrm>
        </p:grpSpPr>
        <p:sp>
          <p:nvSpPr>
            <p:cNvPr id="1056" name=""/>
            <p:cNvSpPr/>
            <p:nvPr/>
          </p:nvSpPr>
          <p:spPr>
            <a:xfrm>
              <a:off x="7924680" y="4762440"/>
              <a:ext cx="914400" cy="121932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924680" y="52185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56,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671400" y="4743360"/>
            <a:ext cx="7309080" cy="1219320"/>
            <a:chOff x="671400" y="4743360"/>
            <a:chExt cx="7309080" cy="1219320"/>
          </a:xfrm>
        </p:grpSpPr>
        <p:sp>
          <p:nvSpPr>
            <p:cNvPr id="1059" name=""/>
            <p:cNvSpPr/>
            <p:nvPr/>
          </p:nvSpPr>
          <p:spPr>
            <a:xfrm>
              <a:off x="1523880" y="4743360"/>
              <a:ext cx="6096240" cy="121932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71400" y="495540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518840" y="4941000"/>
              <a:ext cx="29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(20  x  55)  +  (10  x  6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723200" y="4941000"/>
              <a:ext cx="167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.100  +  6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706080" y="494100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.7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344840" y="5199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52560" y="5428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327280" y="5428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883200" y="5428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600200" y="5429160"/>
              <a:ext cx="2743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724280" y="5429160"/>
              <a:ext cx="1600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705720" y="5429160"/>
              <a:ext cx="838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25920" y="5199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621560" y="5199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685800" y="952560"/>
            <a:ext cx="5791320" cy="931320"/>
            <a:chOff x="685800" y="952560"/>
            <a:chExt cx="5791320" cy="931320"/>
          </a:xfrm>
        </p:grpSpPr>
        <p:sp>
          <p:nvSpPr>
            <p:cNvPr id="1074" name=""/>
            <p:cNvSpPr/>
            <p:nvPr/>
          </p:nvSpPr>
          <p:spPr>
            <a:xfrm>
              <a:off x="685800" y="952560"/>
              <a:ext cx="5791320" cy="9144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6720" y="1027800"/>
              <a:ext cx="342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A  =  20  -  25%  =  5 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114080" y="1027800"/>
              <a:ext cx="138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5  /  30 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56720" y="1485000"/>
              <a:ext cx="342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B  =  20  -  25%  =  5 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114080" y="1485000"/>
              <a:ext cx="138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5  /  30 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639760" y="10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639760" y="14850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5867280" y="5657760"/>
            <a:ext cx="2438640" cy="672480"/>
            <a:chOff x="5867280" y="5657760"/>
            <a:chExt cx="2438640" cy="672480"/>
          </a:xfrm>
        </p:grpSpPr>
        <p:sp>
          <p:nvSpPr>
            <p:cNvPr id="1082" name=""/>
            <p:cNvSpPr/>
            <p:nvPr/>
          </p:nvSpPr>
          <p:spPr>
            <a:xfrm>
              <a:off x="5867280" y="5961960"/>
              <a:ext cx="24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dad a requer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8305920" y="5657760"/>
              <a:ext cx="0" cy="5335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7619760" y="6191280"/>
              <a:ext cx="685800" cy="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648720" y="456120"/>
            <a:ext cx="727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6 - Determinación de Edad  /  Básico  -  Con Años sucesivos exce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1091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59000" y="106740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hora se determina el 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56840" y="1523520"/>
            <a:ext cx="77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No se ve incidido por esto que es Exceso de años de servicios,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terminar la ED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56840" y="2361600"/>
            <a:ext cx="62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debe hacer proporcional como en el cálculo 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80880" y="4683600"/>
            <a:ext cx="6235200" cy="1746360"/>
            <a:chOff x="380880" y="4683600"/>
            <a:chExt cx="6235200" cy="1746360"/>
          </a:xfrm>
        </p:grpSpPr>
        <p:sp>
          <p:nvSpPr>
            <p:cNvPr id="1098" name=""/>
            <p:cNvSpPr/>
            <p:nvPr/>
          </p:nvSpPr>
          <p:spPr>
            <a:xfrm>
              <a:off x="2057400" y="4684680"/>
              <a:ext cx="4495680" cy="1447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20677200">
              <a:off x="5254560" y="5592240"/>
              <a:ext cx="1295640" cy="66996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20677200">
              <a:off x="5181120" y="5598720"/>
              <a:ext cx="1305000" cy="669960"/>
            </a:xfrm>
            <a:prstGeom prst="ellipse">
              <a:avLst/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80880" y="4683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°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33000" y="4836240"/>
              <a:ext cx="14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A  =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735000" y="483624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10800" y="483624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2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8320" y="4836960"/>
              <a:ext cx="457200" cy="381240"/>
            </a:xfrm>
            <a:prstGeom prst="rightArrow">
              <a:avLst>
                <a:gd name="adj1" fmla="val 50000"/>
                <a:gd name="adj2" fmla="val 2998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133000" y="5293440"/>
              <a:ext cx="14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B  =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735000" y="529344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410800" y="529344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3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8320" y="5294160"/>
              <a:ext cx="457200" cy="381240"/>
            </a:xfrm>
            <a:prstGeom prst="rightArrow">
              <a:avLst>
                <a:gd name="adj1" fmla="val 50000"/>
                <a:gd name="adj2" fmla="val 29981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410800" y="575064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5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410080" y="5751360"/>
              <a:ext cx="7621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 flipH="1">
            <a:off x="7771680" y="3124080"/>
            <a:ext cx="1219320" cy="82404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$ 5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3" name=""/>
          <p:cNvCxnSpPr>
            <a:stCxn id="1110" idx="3"/>
            <a:endCxn id="1112" idx="2"/>
          </p:cNvCxnSpPr>
          <p:nvPr/>
        </p:nvCxnSpPr>
        <p:spPr>
          <a:xfrm flipV="1">
            <a:off x="6229080" y="3945960"/>
            <a:ext cx="2153160" cy="2004120"/>
          </a:xfrm>
          <a:prstGeom prst="curvedConnector2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114" name=""/>
          <p:cNvGrpSpPr/>
          <p:nvPr/>
        </p:nvGrpSpPr>
        <p:grpSpPr>
          <a:xfrm>
            <a:off x="380880" y="3124080"/>
            <a:ext cx="7391520" cy="838440"/>
            <a:chOff x="380880" y="3124080"/>
            <a:chExt cx="7391520" cy="838440"/>
          </a:xfrm>
        </p:grpSpPr>
        <p:sp>
          <p:nvSpPr>
            <p:cNvPr id="1115" name=""/>
            <p:cNvSpPr/>
            <p:nvPr/>
          </p:nvSpPr>
          <p:spPr>
            <a:xfrm>
              <a:off x="380880" y="31388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1°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165320" y="3124080"/>
              <a:ext cx="6324480" cy="8384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215000" y="3186000"/>
              <a:ext cx="327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(15 X $ 500) + (15 X $ 6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614320" y="3556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69200" y="3186000"/>
              <a:ext cx="174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7.500 + 9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298840" y="3556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499440" y="31860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6.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743520" y="3556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441680" y="346464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346800" y="346464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543800" y="346464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746600" y="3616200"/>
              <a:ext cx="1600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575400" y="3616200"/>
              <a:ext cx="838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1317240" y="3618000"/>
              <a:ext cx="304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648720" y="456120"/>
            <a:ext cx="727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6 - Determinación de Edad  /  Básico  -  Con Años sucesivos exce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600" spc="-1" strike="noStrike">
                <a:solidFill>
                  <a:srgbClr val="3333cc"/>
                </a:solidFill>
                <a:latin typeface="Verdana"/>
              </a:rPr>
              <a:t>Técnicas de Protecció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259056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Totalización de Servicios (“cómputo recíproco de servicios” o “reciprocidad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Cálculo a prorrata de hab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1135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2133720" y="2133720"/>
            <a:ext cx="2090520" cy="3597120"/>
            <a:chOff x="2133720" y="2133720"/>
            <a:chExt cx="2090520" cy="3597120"/>
          </a:xfrm>
        </p:grpSpPr>
        <p:sp>
          <p:nvSpPr>
            <p:cNvPr id="1139" name=""/>
            <p:cNvSpPr/>
            <p:nvPr/>
          </p:nvSpPr>
          <p:spPr>
            <a:xfrm>
              <a:off x="2133720" y="2133720"/>
              <a:ext cx="1676160" cy="322236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65560" y="228600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CAJA “A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977920" y="48769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66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016440" y="30002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016440" y="35305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772000" y="40608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$ 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357280" y="2827440"/>
              <a:ext cx="17528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357280" y="4648320"/>
              <a:ext cx="17528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2527200" y="4632480"/>
              <a:ext cx="1524600" cy="1098360"/>
              <a:chOff x="2527200" y="4632480"/>
              <a:chExt cx="1524600" cy="1098360"/>
            </a:xfrm>
          </p:grpSpPr>
          <p:sp>
            <p:nvSpPr>
              <p:cNvPr id="1148" name=""/>
              <p:cNvSpPr/>
              <p:nvPr/>
            </p:nvSpPr>
            <p:spPr>
              <a:xfrm rot="20677200">
                <a:off x="2604960" y="481032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20677200">
                <a:off x="2678400" y="479016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"/>
          <p:cNvGrpSpPr/>
          <p:nvPr/>
        </p:nvGrpSpPr>
        <p:grpSpPr>
          <a:xfrm>
            <a:off x="4495680" y="2133720"/>
            <a:ext cx="2129040" cy="3597120"/>
            <a:chOff x="4495680" y="2133720"/>
            <a:chExt cx="2129040" cy="3597120"/>
          </a:xfrm>
        </p:grpSpPr>
        <p:sp>
          <p:nvSpPr>
            <p:cNvPr id="1151" name=""/>
            <p:cNvSpPr/>
            <p:nvPr/>
          </p:nvSpPr>
          <p:spPr>
            <a:xfrm>
              <a:off x="4495680" y="2133720"/>
              <a:ext cx="1676520" cy="322236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756320" y="228600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CAJA “B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96040" y="300024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396040" y="35305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368680" y="487692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990033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151600" y="406080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$ 6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71880" y="2827440"/>
              <a:ext cx="175284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871880" y="4648320"/>
              <a:ext cx="175284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4965480" y="4632480"/>
              <a:ext cx="1524600" cy="1098360"/>
              <a:chOff x="4965480" y="4632480"/>
              <a:chExt cx="1524600" cy="1098360"/>
            </a:xfrm>
          </p:grpSpPr>
          <p:sp>
            <p:nvSpPr>
              <p:cNvPr id="1160" name=""/>
              <p:cNvSpPr/>
              <p:nvPr/>
            </p:nvSpPr>
            <p:spPr>
              <a:xfrm rot="20677200">
                <a:off x="5043240" y="481032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20677200">
                <a:off x="5116680" y="479016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2" name=""/>
          <p:cNvSpPr/>
          <p:nvPr/>
        </p:nvSpPr>
        <p:spPr>
          <a:xfrm>
            <a:off x="863280" y="300024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5800" y="353052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ntigü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98120" y="406080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12800" y="3505320"/>
            <a:ext cx="434340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612800" y="4038480"/>
            <a:ext cx="434340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6631200" y="4822920"/>
            <a:ext cx="1446120" cy="685800"/>
            <a:chOff x="6631200" y="4822920"/>
            <a:chExt cx="1446120" cy="685800"/>
          </a:xfrm>
        </p:grpSpPr>
        <p:sp>
          <p:nvSpPr>
            <p:cNvPr id="1168" name=""/>
            <p:cNvSpPr/>
            <p:nvPr/>
          </p:nvSpPr>
          <p:spPr>
            <a:xfrm>
              <a:off x="7086600" y="4822920"/>
              <a:ext cx="990720" cy="6858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631200" y="48981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239960" y="482292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3333cc"/>
                  </a:solidFill>
                  <a:latin typeface="Arial"/>
                </a:rPr>
                <a:t>3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380520" y="4470480"/>
            <a:ext cx="2111760" cy="1260360"/>
            <a:chOff x="380520" y="4470480"/>
            <a:chExt cx="2111760" cy="1260360"/>
          </a:xfrm>
        </p:grpSpPr>
        <p:grpSp>
          <p:nvGrpSpPr>
            <p:cNvPr id="1172" name=""/>
            <p:cNvGrpSpPr/>
            <p:nvPr/>
          </p:nvGrpSpPr>
          <p:grpSpPr>
            <a:xfrm>
              <a:off x="380520" y="4470480"/>
              <a:ext cx="2111760" cy="1260360"/>
              <a:chOff x="380520" y="4470480"/>
              <a:chExt cx="2111760" cy="1260360"/>
            </a:xfrm>
          </p:grpSpPr>
          <p:sp>
            <p:nvSpPr>
              <p:cNvPr id="1173" name=""/>
              <p:cNvSpPr/>
              <p:nvPr/>
            </p:nvSpPr>
            <p:spPr>
              <a:xfrm rot="20677200">
                <a:off x="447840" y="4734360"/>
                <a:ext cx="1870560" cy="7621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0677200">
                <a:off x="554040" y="4704840"/>
                <a:ext cx="1870560" cy="76212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5" name=""/>
            <p:cNvSpPr/>
            <p:nvPr/>
          </p:nvSpPr>
          <p:spPr>
            <a:xfrm>
              <a:off x="686160" y="4791600"/>
              <a:ext cx="153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Añ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de Servic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 flipH="1" rot="10800000">
            <a:off x="6718320" y="2369880"/>
            <a:ext cx="193680" cy="2889000"/>
          </a:xfrm>
          <a:custGeom>
            <a:avLst/>
            <a:gdLst>
              <a:gd name="textAreaLeft" fmla="*/ 0 w 193680"/>
              <a:gd name="textAreaRight" fmla="*/ 69840 w 193680"/>
              <a:gd name="textAreaTop" fmla="*/ 75240 h 2889000"/>
              <a:gd name="textAreaBottom" fmla="*/ 2813760 h 288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6834960" y="2757240"/>
            <a:ext cx="2280960" cy="2120760"/>
            <a:chOff x="6834960" y="2757240"/>
            <a:chExt cx="2280960" cy="2120760"/>
          </a:xfrm>
        </p:grpSpPr>
        <p:grpSp>
          <p:nvGrpSpPr>
            <p:cNvPr id="1178" name=""/>
            <p:cNvGrpSpPr/>
            <p:nvPr/>
          </p:nvGrpSpPr>
          <p:grpSpPr>
            <a:xfrm>
              <a:off x="6834960" y="2757240"/>
              <a:ext cx="2280960" cy="2120760"/>
              <a:chOff x="6834960" y="2757240"/>
              <a:chExt cx="2280960" cy="2120760"/>
            </a:xfrm>
          </p:grpSpPr>
          <p:sp>
            <p:nvSpPr>
              <p:cNvPr id="1179" name=""/>
              <p:cNvSpPr/>
              <p:nvPr/>
            </p:nvSpPr>
            <p:spPr>
              <a:xfrm rot="20677200">
                <a:off x="7024680" y="2993760"/>
                <a:ext cx="1798560" cy="167580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rot="20677200">
                <a:off x="7126920" y="2965680"/>
                <a:ext cx="1798560" cy="167580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1" name=""/>
            <p:cNvSpPr/>
            <p:nvPr/>
          </p:nvSpPr>
          <p:spPr>
            <a:xfrm>
              <a:off x="7241760" y="3352680"/>
              <a:ext cx="1308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n es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No Acre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71400" y="130896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ólo actúa sobre el HA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8000" y="456120"/>
            <a:ext cx="78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7 - Determinación de Edad  /  Básico  -  Con Años Simultáneos (menos 5 añ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70320" y="92808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 N° 7 - Años Simultá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1190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5869800" y="838080"/>
            <a:ext cx="3061440" cy="1375920"/>
            <a:chOff x="5869800" y="838080"/>
            <a:chExt cx="3061440" cy="1375920"/>
          </a:xfrm>
        </p:grpSpPr>
        <p:sp>
          <p:nvSpPr>
            <p:cNvPr id="1194" name=""/>
            <p:cNvSpPr/>
            <p:nvPr/>
          </p:nvSpPr>
          <p:spPr>
            <a:xfrm>
              <a:off x="6854040" y="83808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CAJA “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014320" y="83808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CAJA “B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288640" y="1055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288640" y="1271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134480" y="18511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139520" y="1055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39520" y="1271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184600" y="156060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$ 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035120" y="156060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$ 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843600" y="1055520"/>
              <a:ext cx="960480" cy="18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970760" y="1055520"/>
              <a:ext cx="960480" cy="180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6955560" y="1697760"/>
              <a:ext cx="723600" cy="516240"/>
              <a:chOff x="6955560" y="1697760"/>
              <a:chExt cx="723600" cy="516240"/>
            </a:xfrm>
          </p:grpSpPr>
          <p:sp>
            <p:nvSpPr>
              <p:cNvPr id="1206" name=""/>
              <p:cNvSpPr/>
              <p:nvPr/>
            </p:nvSpPr>
            <p:spPr>
              <a:xfrm rot="20677200">
                <a:off x="6991560" y="1782720"/>
                <a:ext cx="616320" cy="35568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20677200">
                <a:off x="7026480" y="1773000"/>
                <a:ext cx="616320" cy="35568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6099120" y="982800"/>
              <a:ext cx="5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096240" y="156060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Ha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400800" y="1560600"/>
              <a:ext cx="2290680" cy="1440"/>
            </a:xfrm>
            <a:prstGeom prst="line">
              <a:avLst/>
            </a:prstGeom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869800" y="1271520"/>
              <a:ext cx="101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Antigü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43600" y="1851120"/>
              <a:ext cx="960480" cy="144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970760" y="1851120"/>
              <a:ext cx="960480" cy="144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317440" y="18511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8138520" y="1697760"/>
              <a:ext cx="723240" cy="516240"/>
              <a:chOff x="8138520" y="1697760"/>
              <a:chExt cx="723240" cy="516240"/>
            </a:xfrm>
          </p:grpSpPr>
          <p:sp>
            <p:nvSpPr>
              <p:cNvPr id="1216" name=""/>
              <p:cNvSpPr/>
              <p:nvPr/>
            </p:nvSpPr>
            <p:spPr>
              <a:xfrm rot="20677200">
                <a:off x="8174520" y="1782720"/>
                <a:ext cx="615960" cy="35568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20677200">
                <a:off x="8209440" y="1773000"/>
                <a:ext cx="615960" cy="35568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>
              <a:off x="6400800" y="1295280"/>
              <a:ext cx="2290680" cy="1800"/>
            </a:xfrm>
            <a:prstGeom prst="line">
              <a:avLst/>
            </a:prstGeom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668520" y="491436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ad           =  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tigüedad =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533520" y="5682600"/>
            <a:ext cx="8247240" cy="381600"/>
            <a:chOff x="533520" y="5682600"/>
            <a:chExt cx="8247240" cy="381600"/>
          </a:xfrm>
        </p:grpSpPr>
        <p:sp>
          <p:nvSpPr>
            <p:cNvPr id="1221" name=""/>
            <p:cNvSpPr/>
            <p:nvPr/>
          </p:nvSpPr>
          <p:spPr>
            <a:xfrm>
              <a:off x="533520" y="5683320"/>
              <a:ext cx="8229600" cy="3808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34960" y="5682600"/>
              <a:ext cx="824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¿Qué Haber corresponde sabiendo que No Acrece y que hay Excedente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1447920" y="2006280"/>
            <a:ext cx="6196320" cy="2584440"/>
            <a:chOff x="1447920" y="2006280"/>
            <a:chExt cx="6196320" cy="2584440"/>
          </a:xfrm>
        </p:grpSpPr>
        <p:sp>
          <p:nvSpPr>
            <p:cNvPr id="1224" name=""/>
            <p:cNvSpPr/>
            <p:nvPr/>
          </p:nvSpPr>
          <p:spPr>
            <a:xfrm>
              <a:off x="3681360" y="2873160"/>
              <a:ext cx="1809720" cy="64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447920" y="2873160"/>
              <a:ext cx="4043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2336760"/>
              <a:ext cx="0" cy="2253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620120" y="2336760"/>
              <a:ext cx="0" cy="2253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681360" y="2336760"/>
              <a:ext cx="0" cy="1717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681360" y="3517560"/>
              <a:ext cx="3938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491080" y="2336760"/>
              <a:ext cx="0" cy="1717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1" name=""/>
            <p:cNvGrpSpPr/>
            <p:nvPr/>
          </p:nvGrpSpPr>
          <p:grpSpPr>
            <a:xfrm>
              <a:off x="1563120" y="2006280"/>
              <a:ext cx="2003760" cy="1423800"/>
              <a:chOff x="1563120" y="2006280"/>
              <a:chExt cx="2003760" cy="1423800"/>
            </a:xfrm>
          </p:grpSpPr>
          <p:sp>
            <p:nvSpPr>
              <p:cNvPr id="1232" name=""/>
              <p:cNvSpPr/>
              <p:nvPr/>
            </p:nvSpPr>
            <p:spPr>
              <a:xfrm rot="20677200">
                <a:off x="1662120" y="2241720"/>
                <a:ext cx="1708560" cy="97884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20677200">
                <a:off x="1758960" y="2215080"/>
                <a:ext cx="1708560" cy="97884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5549040" y="3047760"/>
              <a:ext cx="2095200" cy="1347480"/>
              <a:chOff x="5549040" y="3047760"/>
              <a:chExt cx="2095200" cy="1347480"/>
            </a:xfrm>
          </p:grpSpPr>
          <p:sp>
            <p:nvSpPr>
              <p:cNvPr id="1235" name=""/>
              <p:cNvSpPr/>
              <p:nvPr/>
            </p:nvSpPr>
            <p:spPr>
              <a:xfrm rot="20677200">
                <a:off x="5630760" y="3303000"/>
                <a:ext cx="1827000" cy="86508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20677200">
                <a:off x="5734800" y="3274200"/>
                <a:ext cx="1827000" cy="86508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7" name=""/>
            <p:cNvSpPr/>
            <p:nvPr/>
          </p:nvSpPr>
          <p:spPr>
            <a:xfrm>
              <a:off x="1981440" y="241920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1 añ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116240" y="3066840"/>
              <a:ext cx="904680" cy="368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4 añ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992920" y="360036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5 añ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648000" y="456120"/>
            <a:ext cx="78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7 - Determinación de Edad  /  Básico  -  Con Años Simultáneos (menos 5 añ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811320" y="420948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multá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4191120" y="3447720"/>
            <a:ext cx="0" cy="685800"/>
          </a:xfrm>
          <a:prstGeom prst="line">
            <a:avLst/>
          </a:prstGeom>
          <a:ln w="22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7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1248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374760" y="2125800"/>
            <a:ext cx="6864120" cy="914400"/>
            <a:chOff x="374760" y="2125800"/>
            <a:chExt cx="6864120" cy="914400"/>
          </a:xfrm>
        </p:grpSpPr>
        <p:sp>
          <p:nvSpPr>
            <p:cNvPr id="1252" name=""/>
            <p:cNvSpPr/>
            <p:nvPr/>
          </p:nvSpPr>
          <p:spPr>
            <a:xfrm>
              <a:off x="380880" y="2125800"/>
              <a:ext cx="6858000" cy="9144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74760" y="2181960"/>
              <a:ext cx="39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A  =  15  x  11,76 = 1,76  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41960" y="2181960"/>
              <a:ext cx="181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3,24  /  30  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75120" y="2639160"/>
              <a:ext cx="389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B  =  19  x  11,76 = 2,23  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341960" y="2639160"/>
              <a:ext cx="181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6,76  /  30  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172920" y="218196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44,13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172920" y="263916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55,87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380880" y="1066680"/>
            <a:ext cx="5347800" cy="931320"/>
            <a:chOff x="380880" y="1066680"/>
            <a:chExt cx="5347800" cy="931320"/>
          </a:xfrm>
        </p:grpSpPr>
        <p:sp>
          <p:nvSpPr>
            <p:cNvPr id="1260" name=""/>
            <p:cNvSpPr/>
            <p:nvPr/>
          </p:nvSpPr>
          <p:spPr>
            <a:xfrm>
              <a:off x="380880" y="1066680"/>
              <a:ext cx="5334120" cy="914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51800" y="1141920"/>
              <a:ext cx="527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4 - 30 =   4 años de exceso y simultáne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55400" y="1599120"/>
              <a:ext cx="188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4  /  34 = 11,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377640" y="3279600"/>
            <a:ext cx="8156520" cy="1067040"/>
            <a:chOff x="377640" y="3279600"/>
            <a:chExt cx="8156520" cy="1067040"/>
          </a:xfrm>
        </p:grpSpPr>
        <p:sp>
          <p:nvSpPr>
            <p:cNvPr id="1264" name=""/>
            <p:cNvSpPr/>
            <p:nvPr/>
          </p:nvSpPr>
          <p:spPr>
            <a:xfrm>
              <a:off x="6553080" y="3279600"/>
              <a:ext cx="1981080" cy="1067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80880" y="3279600"/>
              <a:ext cx="6095880" cy="1067040"/>
            </a:xfrm>
            <a:custGeom>
              <a:avLst/>
              <a:gdLst>
                <a:gd name="textAreaLeft" fmla="*/ 0 w 6095880"/>
                <a:gd name="textAreaRight" fmla="*/ 6096240 w 609588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103" y="0"/>
                  </a:lnTo>
                  <a:lnTo>
                    <a:pt x="21600" y="10800"/>
                  </a:lnTo>
                  <a:lnTo>
                    <a:pt x="2010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85328" dir="3806096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77640" y="3431160"/>
              <a:ext cx="332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A  =  44,13%  x  $ 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77640" y="3888360"/>
              <a:ext cx="332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B  =  55,87%  x  $ 6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105520" y="3431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220,6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105520" y="38883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35,2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933960" y="3583440"/>
              <a:ext cx="13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555,8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733560" y="350820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733560" y="396540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375480" y="4476600"/>
            <a:ext cx="8539920" cy="838440"/>
            <a:chOff x="375480" y="4476600"/>
            <a:chExt cx="8539920" cy="838440"/>
          </a:xfrm>
        </p:grpSpPr>
        <p:sp>
          <p:nvSpPr>
            <p:cNvPr id="1274" name=""/>
            <p:cNvSpPr/>
            <p:nvPr/>
          </p:nvSpPr>
          <p:spPr>
            <a:xfrm>
              <a:off x="380880" y="4476600"/>
              <a:ext cx="7010640" cy="8384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75480" y="4538520"/>
              <a:ext cx="397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(13,24 X $ 500) + (16,76 X $ 6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134800" y="4908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418280" y="4538520"/>
              <a:ext cx="188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6.620 + 10.05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106600" y="4908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324840" y="4538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6.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568560" y="4908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7620120" y="4476600"/>
              <a:ext cx="1295280" cy="824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$ 555,8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267080" y="47365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7200" y="4919760"/>
              <a:ext cx="380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495680" y="491976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400800" y="491976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172200" y="47365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315200" y="4720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8" name=""/>
          <p:cNvSpPr/>
          <p:nvPr/>
        </p:nvSpPr>
        <p:spPr>
          <a:xfrm>
            <a:off x="2362320" y="5619240"/>
            <a:ext cx="64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caso de años SIMULTÁNEOS que sea menor de 5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transforma en un cálculo básico de Años de Ex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48000" y="456120"/>
            <a:ext cx="78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7 - Determinación de Edad  /  Básico  -  Con Años Simultáneos (menos 5 añ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4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1295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133720" y="2457360"/>
            <a:ext cx="2090520" cy="3597120"/>
            <a:chOff x="2133720" y="2457360"/>
            <a:chExt cx="2090520" cy="3597120"/>
          </a:xfrm>
        </p:grpSpPr>
        <p:sp>
          <p:nvSpPr>
            <p:cNvPr id="1299" name=""/>
            <p:cNvSpPr/>
            <p:nvPr/>
          </p:nvSpPr>
          <p:spPr>
            <a:xfrm>
              <a:off x="2133720" y="2457360"/>
              <a:ext cx="1676160" cy="322236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365560" y="260964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CAJA “A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977920" y="52005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66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016440" y="33238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016440" y="38541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772000" y="43844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6600"/>
                  </a:solidFill>
                  <a:latin typeface="Arial"/>
                </a:rPr>
                <a:t>$ 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357280" y="3151080"/>
              <a:ext cx="17528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357280" y="4971960"/>
              <a:ext cx="17528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7" name=""/>
            <p:cNvGrpSpPr/>
            <p:nvPr/>
          </p:nvGrpSpPr>
          <p:grpSpPr>
            <a:xfrm>
              <a:off x="2527200" y="4956120"/>
              <a:ext cx="1524600" cy="1098360"/>
              <a:chOff x="2527200" y="4956120"/>
              <a:chExt cx="1524600" cy="1098360"/>
            </a:xfrm>
          </p:grpSpPr>
          <p:sp>
            <p:nvSpPr>
              <p:cNvPr id="1308" name=""/>
              <p:cNvSpPr/>
              <p:nvPr/>
            </p:nvSpPr>
            <p:spPr>
              <a:xfrm rot="20677200">
                <a:off x="2604960" y="513396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20677200">
                <a:off x="2678400" y="511380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0" name=""/>
          <p:cNvGrpSpPr/>
          <p:nvPr/>
        </p:nvGrpSpPr>
        <p:grpSpPr>
          <a:xfrm>
            <a:off x="4495680" y="2457360"/>
            <a:ext cx="2129040" cy="3597120"/>
            <a:chOff x="4495680" y="2457360"/>
            <a:chExt cx="2129040" cy="3597120"/>
          </a:xfrm>
        </p:grpSpPr>
        <p:sp>
          <p:nvSpPr>
            <p:cNvPr id="1311" name=""/>
            <p:cNvSpPr/>
            <p:nvPr/>
          </p:nvSpPr>
          <p:spPr>
            <a:xfrm>
              <a:off x="4495680" y="2457360"/>
              <a:ext cx="1676520" cy="322236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756320" y="2609640"/>
              <a:ext cx="185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CAJA “B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396040" y="332388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396040" y="385416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368680" y="52005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990033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51600" y="438444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990033"/>
                  </a:solidFill>
                  <a:latin typeface="Arial"/>
                </a:rPr>
                <a:t>$ 6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871880" y="3151080"/>
              <a:ext cx="175284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871880" y="4971960"/>
              <a:ext cx="1752840" cy="0"/>
            </a:xfrm>
            <a:prstGeom prst="line">
              <a:avLst/>
            </a:prstGeom>
            <a:ln w="381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4965480" y="4956120"/>
              <a:ext cx="1524600" cy="1098360"/>
              <a:chOff x="4965480" y="4956120"/>
              <a:chExt cx="1524600" cy="1098360"/>
            </a:xfrm>
          </p:grpSpPr>
          <p:sp>
            <p:nvSpPr>
              <p:cNvPr id="1320" name=""/>
              <p:cNvSpPr/>
              <p:nvPr/>
            </p:nvSpPr>
            <p:spPr>
              <a:xfrm rot="20677200">
                <a:off x="5043240" y="513396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rot="20677200">
                <a:off x="5116680" y="5113800"/>
                <a:ext cx="1295280" cy="76212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2" name=""/>
          <p:cNvSpPr/>
          <p:nvPr/>
        </p:nvSpPr>
        <p:spPr>
          <a:xfrm>
            <a:off x="863280" y="332424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25800" y="385452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ntigü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120" y="438480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612800" y="3828960"/>
            <a:ext cx="434340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612800" y="4362480"/>
            <a:ext cx="434340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6631200" y="5146560"/>
            <a:ext cx="1446120" cy="685800"/>
            <a:chOff x="6631200" y="5146560"/>
            <a:chExt cx="1446120" cy="685800"/>
          </a:xfrm>
        </p:grpSpPr>
        <p:sp>
          <p:nvSpPr>
            <p:cNvPr id="1328" name=""/>
            <p:cNvSpPr/>
            <p:nvPr/>
          </p:nvSpPr>
          <p:spPr>
            <a:xfrm>
              <a:off x="7086600" y="5146560"/>
              <a:ext cx="990720" cy="6858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631200" y="522180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960" y="5146560"/>
              <a:ext cx="68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3333cc"/>
                  </a:solidFill>
                  <a:latin typeface="Arial"/>
                </a:rPr>
                <a:t>3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380520" y="4794480"/>
            <a:ext cx="2111760" cy="1260360"/>
            <a:chOff x="380520" y="4794480"/>
            <a:chExt cx="2111760" cy="1260360"/>
          </a:xfrm>
        </p:grpSpPr>
        <p:grpSp>
          <p:nvGrpSpPr>
            <p:cNvPr id="1332" name=""/>
            <p:cNvGrpSpPr/>
            <p:nvPr/>
          </p:nvGrpSpPr>
          <p:grpSpPr>
            <a:xfrm>
              <a:off x="380520" y="4794480"/>
              <a:ext cx="2111760" cy="1260360"/>
              <a:chOff x="380520" y="4794480"/>
              <a:chExt cx="2111760" cy="1260360"/>
            </a:xfrm>
          </p:grpSpPr>
          <p:sp>
            <p:nvSpPr>
              <p:cNvPr id="1333" name=""/>
              <p:cNvSpPr/>
              <p:nvPr/>
            </p:nvSpPr>
            <p:spPr>
              <a:xfrm rot="20677200">
                <a:off x="447840" y="5058360"/>
                <a:ext cx="1870560" cy="76212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20677200">
                <a:off x="554040" y="5028840"/>
                <a:ext cx="1870560" cy="76212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5" name=""/>
            <p:cNvSpPr/>
            <p:nvPr/>
          </p:nvSpPr>
          <p:spPr>
            <a:xfrm>
              <a:off x="686160" y="5115600"/>
              <a:ext cx="153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Añ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Arial"/>
                </a:rPr>
                <a:t>de Servic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6" name=""/>
          <p:cNvSpPr/>
          <p:nvPr/>
        </p:nvSpPr>
        <p:spPr>
          <a:xfrm flipH="1" rot="10800000">
            <a:off x="6718320" y="2693880"/>
            <a:ext cx="193680" cy="2889360"/>
          </a:xfrm>
          <a:custGeom>
            <a:avLst/>
            <a:gdLst>
              <a:gd name="textAreaLeft" fmla="*/ 0 w 193680"/>
              <a:gd name="textAreaRight" fmla="*/ 69840 w 193680"/>
              <a:gd name="textAreaTop" fmla="*/ 75240 h 2889360"/>
              <a:gd name="textAreaBottom" fmla="*/ 2814120 h 288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6834960" y="3081240"/>
            <a:ext cx="2280600" cy="2120400"/>
            <a:chOff x="6834960" y="3081240"/>
            <a:chExt cx="2280600" cy="2120400"/>
          </a:xfrm>
        </p:grpSpPr>
        <p:grpSp>
          <p:nvGrpSpPr>
            <p:cNvPr id="1338" name=""/>
            <p:cNvGrpSpPr/>
            <p:nvPr/>
          </p:nvGrpSpPr>
          <p:grpSpPr>
            <a:xfrm>
              <a:off x="6834960" y="3081240"/>
              <a:ext cx="2280600" cy="2120400"/>
              <a:chOff x="6834960" y="3081240"/>
              <a:chExt cx="2280600" cy="2120400"/>
            </a:xfrm>
          </p:grpSpPr>
          <p:sp>
            <p:nvSpPr>
              <p:cNvPr id="1339" name=""/>
              <p:cNvSpPr/>
              <p:nvPr/>
            </p:nvSpPr>
            <p:spPr>
              <a:xfrm rot="20677200">
                <a:off x="7024680" y="3317760"/>
                <a:ext cx="1798560" cy="167544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20677200">
                <a:off x="7126920" y="3289680"/>
                <a:ext cx="1798560" cy="167544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7089840" y="3600360"/>
              <a:ext cx="17380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99c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crecien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Ha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2" name=""/>
          <p:cNvSpPr/>
          <p:nvPr/>
        </p:nvSpPr>
        <p:spPr>
          <a:xfrm>
            <a:off x="648000" y="913680"/>
            <a:ext cx="41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 N° 8 -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ÑOS SIMULTÁ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49440" y="129456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ólo actúa sobre para el HA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389120" y="1295280"/>
            <a:ext cx="389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guales condiciones básica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5 o más años de servicios con apor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47280" y="456120"/>
            <a:ext cx="785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8 - Determinación de Edad  /  Básico  -  Con Años Simultáneos (más de 5 añ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6705720" y="5486400"/>
            <a:ext cx="1523880" cy="6858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09480" y="5627520"/>
            <a:ext cx="533412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10920" y="5626800"/>
            <a:ext cx="53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Haber corresponde sabiendo que Acre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1354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5869800" y="838080"/>
            <a:ext cx="3061440" cy="1375920"/>
            <a:chOff x="5869800" y="838080"/>
            <a:chExt cx="3061440" cy="1375920"/>
          </a:xfrm>
        </p:grpSpPr>
        <p:sp>
          <p:nvSpPr>
            <p:cNvPr id="1358" name=""/>
            <p:cNvSpPr/>
            <p:nvPr/>
          </p:nvSpPr>
          <p:spPr>
            <a:xfrm>
              <a:off x="6854040" y="83808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CAJA “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014320" y="83808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CAJA “B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8288640" y="1055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288640" y="1271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34480" y="18511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139520" y="1055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139520" y="1271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184600" y="156060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$ 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035120" y="156060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$ 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843600" y="1055520"/>
              <a:ext cx="960480" cy="18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970760" y="1055520"/>
              <a:ext cx="960480" cy="180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6955560" y="1697760"/>
              <a:ext cx="723600" cy="516240"/>
              <a:chOff x="6955560" y="1697760"/>
              <a:chExt cx="723600" cy="516240"/>
            </a:xfrm>
          </p:grpSpPr>
          <p:sp>
            <p:nvSpPr>
              <p:cNvPr id="1370" name=""/>
              <p:cNvSpPr/>
              <p:nvPr/>
            </p:nvSpPr>
            <p:spPr>
              <a:xfrm rot="20677200">
                <a:off x="6991560" y="1782720"/>
                <a:ext cx="616320" cy="35568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20677200">
                <a:off x="7026480" y="1773000"/>
                <a:ext cx="616320" cy="35568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2" name=""/>
            <p:cNvSpPr/>
            <p:nvPr/>
          </p:nvSpPr>
          <p:spPr>
            <a:xfrm>
              <a:off x="6099120" y="982800"/>
              <a:ext cx="5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096240" y="156060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Ha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400800" y="1560600"/>
              <a:ext cx="2290680" cy="1440"/>
            </a:xfrm>
            <a:prstGeom prst="line">
              <a:avLst/>
            </a:prstGeom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869800" y="1271520"/>
              <a:ext cx="101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Antigü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843600" y="1851120"/>
              <a:ext cx="960480" cy="144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970760" y="1851120"/>
              <a:ext cx="960480" cy="144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317440" y="18511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9" name=""/>
            <p:cNvGrpSpPr/>
            <p:nvPr/>
          </p:nvGrpSpPr>
          <p:grpSpPr>
            <a:xfrm>
              <a:off x="8138520" y="1697760"/>
              <a:ext cx="723240" cy="516240"/>
              <a:chOff x="8138520" y="1697760"/>
              <a:chExt cx="723240" cy="516240"/>
            </a:xfrm>
          </p:grpSpPr>
          <p:sp>
            <p:nvSpPr>
              <p:cNvPr id="1380" name=""/>
              <p:cNvSpPr/>
              <p:nvPr/>
            </p:nvSpPr>
            <p:spPr>
              <a:xfrm rot="20677200">
                <a:off x="8174520" y="1782720"/>
                <a:ext cx="615960" cy="35568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20677200">
                <a:off x="8209440" y="1773000"/>
                <a:ext cx="615960" cy="35568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6400800" y="1295280"/>
              <a:ext cx="2290680" cy="1800"/>
            </a:xfrm>
            <a:prstGeom prst="line">
              <a:avLst/>
            </a:prstGeom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668520" y="4647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ad           =  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tigüedad =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1447920" y="1911240"/>
            <a:ext cx="6196320" cy="3233520"/>
            <a:chOff x="1447920" y="1911240"/>
            <a:chExt cx="6196320" cy="3233520"/>
          </a:xfrm>
        </p:grpSpPr>
        <p:sp>
          <p:nvSpPr>
            <p:cNvPr id="1385" name=""/>
            <p:cNvSpPr/>
            <p:nvPr/>
          </p:nvSpPr>
          <p:spPr>
            <a:xfrm>
              <a:off x="3681360" y="2778120"/>
              <a:ext cx="1809720" cy="644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447920" y="2778120"/>
              <a:ext cx="4043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447920" y="2241720"/>
              <a:ext cx="0" cy="2253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620120" y="2241720"/>
              <a:ext cx="0" cy="2253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681360" y="3422520"/>
              <a:ext cx="3938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0" name=""/>
            <p:cNvGrpSpPr/>
            <p:nvPr/>
          </p:nvGrpSpPr>
          <p:grpSpPr>
            <a:xfrm>
              <a:off x="3681360" y="2514600"/>
              <a:ext cx="1809720" cy="1171440"/>
              <a:chOff x="3681360" y="2514600"/>
              <a:chExt cx="1809720" cy="1171440"/>
            </a:xfrm>
          </p:grpSpPr>
          <p:sp>
            <p:nvSpPr>
              <p:cNvPr id="1391" name=""/>
              <p:cNvSpPr/>
              <p:nvPr/>
            </p:nvSpPr>
            <p:spPr>
              <a:xfrm>
                <a:off x="3681360" y="2514600"/>
                <a:ext cx="0" cy="11714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491080" y="2514600"/>
                <a:ext cx="0" cy="11714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1563120" y="1911240"/>
              <a:ext cx="2003760" cy="1423800"/>
              <a:chOff x="1563120" y="1911240"/>
              <a:chExt cx="2003760" cy="1423800"/>
            </a:xfrm>
          </p:grpSpPr>
          <p:sp>
            <p:nvSpPr>
              <p:cNvPr id="1394" name=""/>
              <p:cNvSpPr/>
              <p:nvPr/>
            </p:nvSpPr>
            <p:spPr>
              <a:xfrm rot="20677200">
                <a:off x="1662120" y="2146680"/>
                <a:ext cx="1708560" cy="97884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rot="20677200">
                <a:off x="1758960" y="2120040"/>
                <a:ext cx="1708560" cy="97884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5549040" y="2952720"/>
              <a:ext cx="2095200" cy="1347480"/>
              <a:chOff x="5549040" y="2952720"/>
              <a:chExt cx="2095200" cy="1347480"/>
            </a:xfrm>
          </p:grpSpPr>
          <p:sp>
            <p:nvSpPr>
              <p:cNvPr id="1397" name=""/>
              <p:cNvSpPr/>
              <p:nvPr/>
            </p:nvSpPr>
            <p:spPr>
              <a:xfrm rot="20677200">
                <a:off x="5630760" y="3207960"/>
                <a:ext cx="1827000" cy="86508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20677200">
                <a:off x="5734800" y="3179160"/>
                <a:ext cx="1827000" cy="86508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9" name=""/>
            <p:cNvSpPr/>
            <p:nvPr/>
          </p:nvSpPr>
          <p:spPr>
            <a:xfrm>
              <a:off x="1981440" y="232416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0 añ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15880" y="2946240"/>
              <a:ext cx="986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5 añ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992920" y="350532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15 añ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657600" y="3809880"/>
              <a:ext cx="3809880" cy="304920"/>
            </a:xfrm>
            <a:custGeom>
              <a:avLst/>
              <a:gdLst/>
              <a:ahLst/>
              <a:rect l="l" t="t" r="r" b="b"/>
              <a:pathLst>
                <a:path w="2400" h="192">
                  <a:moveTo>
                    <a:pt x="0" y="0"/>
                  </a:moveTo>
                  <a:lnTo>
                    <a:pt x="0" y="192"/>
                  </a:lnTo>
                  <a:lnTo>
                    <a:pt x="2400" y="192"/>
                  </a:lnTo>
                </a:path>
              </a:pathLst>
            </a:custGeom>
            <a:noFill/>
            <a:ln w="19080">
              <a:solidFill>
                <a:srgbClr val="9900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3" name=""/>
            <p:cNvGrpSpPr/>
            <p:nvPr/>
          </p:nvGrpSpPr>
          <p:grpSpPr>
            <a:xfrm>
              <a:off x="4415400" y="3797640"/>
              <a:ext cx="2095560" cy="1347120"/>
              <a:chOff x="4415400" y="3797640"/>
              <a:chExt cx="2095560" cy="1347120"/>
            </a:xfrm>
          </p:grpSpPr>
          <p:sp>
            <p:nvSpPr>
              <p:cNvPr id="1404" name=""/>
              <p:cNvSpPr/>
              <p:nvPr/>
            </p:nvSpPr>
            <p:spPr>
              <a:xfrm rot="20677200">
                <a:off x="4497120" y="4052520"/>
                <a:ext cx="1827360" cy="865080"/>
              </a:xfrm>
              <a:prstGeom prst="ellipse">
                <a:avLst/>
              </a:prstGeom>
              <a:noFill/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rot="20677200">
                <a:off x="4601160" y="4024080"/>
                <a:ext cx="1827360" cy="865080"/>
              </a:xfrm>
              <a:prstGeom prst="ellipse">
                <a:avLst/>
              </a:prstGeom>
              <a:noFill/>
              <a:ln w="93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6" name=""/>
            <p:cNvSpPr/>
            <p:nvPr/>
          </p:nvSpPr>
          <p:spPr>
            <a:xfrm>
              <a:off x="4859640" y="4349880"/>
              <a:ext cx="103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20 añ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"/>
          <p:cNvSpPr/>
          <p:nvPr/>
        </p:nvSpPr>
        <p:spPr>
          <a:xfrm>
            <a:off x="6095880" y="5638680"/>
            <a:ext cx="533520" cy="370080"/>
          </a:xfrm>
          <a:custGeom>
            <a:avLst/>
            <a:gdLst>
              <a:gd name="textAreaLeft" fmla="*/ 0 w 533520"/>
              <a:gd name="textAreaRight" fmla="*/ 533880 w 533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706440" y="549072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 pro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Proporció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47280" y="456120"/>
            <a:ext cx="785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8 - Determinación de Edad  /  Básico  -  Con Años Simultáneos (más de 5 añ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4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1415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7" name=""/>
          <p:cNvSpPr/>
          <p:nvPr/>
        </p:nvSpPr>
        <p:spPr>
          <a:xfrm>
            <a:off x="755640" y="762120"/>
            <a:ext cx="838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5123520" y="1626840"/>
            <a:ext cx="3861720" cy="4028400"/>
            <a:chOff x="5123520" y="1626840"/>
            <a:chExt cx="3861720" cy="4028400"/>
          </a:xfrm>
        </p:grpSpPr>
        <p:sp>
          <p:nvSpPr>
            <p:cNvPr id="1419" name=""/>
            <p:cNvSpPr/>
            <p:nvPr/>
          </p:nvSpPr>
          <p:spPr>
            <a:xfrm rot="5688000">
              <a:off x="4784760" y="2736360"/>
              <a:ext cx="329832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rot="16348800">
              <a:off x="6089040" y="2148480"/>
              <a:ext cx="3298680" cy="2353320"/>
            </a:xfrm>
            <a:custGeom>
              <a:avLst/>
              <a:gdLst/>
              <a:ahLst/>
              <a:rect l="l" t="t" r="r" b="b"/>
              <a:pathLst>
                <a:path w="2832" h="2208">
                  <a:moveTo>
                    <a:pt x="48" y="480"/>
                  </a:moveTo>
                  <a:lnTo>
                    <a:pt x="768" y="2208"/>
                  </a:lnTo>
                  <a:lnTo>
                    <a:pt x="2832" y="1200"/>
                  </a:lnTo>
                  <a:lnTo>
                    <a:pt x="2592" y="720"/>
                  </a:lnTo>
                  <a:lnTo>
                    <a:pt x="1344" y="1296"/>
                  </a:lnTo>
                  <a:lnTo>
                    <a:pt x="672" y="0"/>
                  </a:lnTo>
                  <a:lnTo>
                    <a:pt x="0" y="336"/>
                  </a:lnTo>
                  <a:lnTo>
                    <a:pt x="48" y="48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377640" y="4648320"/>
            <a:ext cx="8156520" cy="1066680"/>
            <a:chOff x="377640" y="4648320"/>
            <a:chExt cx="8156520" cy="1066680"/>
          </a:xfrm>
        </p:grpSpPr>
        <p:sp>
          <p:nvSpPr>
            <p:cNvPr id="1422" name=""/>
            <p:cNvSpPr/>
            <p:nvPr/>
          </p:nvSpPr>
          <p:spPr>
            <a:xfrm>
              <a:off x="6553080" y="4648320"/>
              <a:ext cx="1981080" cy="1066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80880" y="4648320"/>
              <a:ext cx="6095880" cy="1066680"/>
            </a:xfrm>
            <a:custGeom>
              <a:avLst/>
              <a:gdLst>
                <a:gd name="textAreaLeft" fmla="*/ 0 w 6095880"/>
                <a:gd name="textAreaRight" fmla="*/ 6096240 w 609588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103" y="0"/>
                  </a:lnTo>
                  <a:lnTo>
                    <a:pt x="21600" y="10800"/>
                  </a:lnTo>
                  <a:lnTo>
                    <a:pt x="2010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85328" dir="3806096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8000" y="4799520"/>
              <a:ext cx="297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A  =  $ 500  x  5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7640" y="5256720"/>
              <a:ext cx="332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B  =  $ 600  x  66,67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106240" y="47995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106240" y="52567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933960" y="4951440"/>
              <a:ext cx="13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$ 6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733560" y="4876560"/>
              <a:ext cx="1371600" cy="228240"/>
            </a:xfrm>
            <a:prstGeom prst="rightArrow">
              <a:avLst>
                <a:gd name="adj1" fmla="val 50000"/>
                <a:gd name="adj2" fmla="val 15023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733560" y="5333760"/>
              <a:ext cx="1371600" cy="228240"/>
            </a:xfrm>
            <a:prstGeom prst="rightArrow">
              <a:avLst>
                <a:gd name="adj1" fmla="val 50000"/>
                <a:gd name="adj2" fmla="val 15023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380880" y="1371600"/>
            <a:ext cx="8534520" cy="838080"/>
            <a:chOff x="380880" y="1371600"/>
            <a:chExt cx="8534520" cy="838080"/>
          </a:xfrm>
        </p:grpSpPr>
        <p:sp>
          <p:nvSpPr>
            <p:cNvPr id="1432" name=""/>
            <p:cNvSpPr/>
            <p:nvPr/>
          </p:nvSpPr>
          <p:spPr>
            <a:xfrm>
              <a:off x="380880" y="1371600"/>
              <a:ext cx="7010640" cy="838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25760" y="1433160"/>
              <a:ext cx="327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(15 X $ 500) + (20 X $ 60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134800" y="1803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92800" y="1433160"/>
              <a:ext cx="174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7.500 + 12.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106600" y="1803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328080" y="143316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9.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568560" y="1803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7620120" y="1371600"/>
              <a:ext cx="1295280" cy="823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$ 6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267080" y="16308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57200" y="1814400"/>
              <a:ext cx="380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95680" y="18144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400800" y="18144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172200" y="16308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315200" y="1614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377640" y="2666880"/>
            <a:ext cx="4042080" cy="1524240"/>
            <a:chOff x="377640" y="2666880"/>
            <a:chExt cx="4042080" cy="1524240"/>
          </a:xfrm>
        </p:grpSpPr>
        <p:sp>
          <p:nvSpPr>
            <p:cNvPr id="1447" name=""/>
            <p:cNvSpPr/>
            <p:nvPr/>
          </p:nvSpPr>
          <p:spPr>
            <a:xfrm>
              <a:off x="380880" y="2666880"/>
              <a:ext cx="4038840" cy="9144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77640" y="2742120"/>
              <a:ext cx="275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A  =  15  /  30  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77640" y="3199320"/>
              <a:ext cx="268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aja B  =  20  /  30  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201120" y="274212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50,0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201120" y="319932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66,67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819520" y="3657600"/>
              <a:ext cx="1600200" cy="533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048480" y="373284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116,67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647280" y="456120"/>
            <a:ext cx="785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jemplo N° 8 - Determinación de Edad  /  Básico  -  Con Años Simultáneos (más de 5 añ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8559720" y="6417360"/>
            <a:ext cx="187560" cy="276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53966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>
            <a:hlinkClick r:id="" action="ppaction://hlinkshowjump?jump=previousslide"/>
          </p:cNvPr>
          <p:cNvSpPr/>
          <p:nvPr/>
        </p:nvSpPr>
        <p:spPr>
          <a:xfrm>
            <a:off x="825804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>
            <a:hlinkClick r:id="" action="ppaction://hlinkshowjump?jump=nextslide"/>
          </p:cNvPr>
          <p:cNvSpPr/>
          <p:nvPr/>
        </p:nvSpPr>
        <p:spPr>
          <a:xfrm flipH="1">
            <a:off x="8839080" y="6429240"/>
            <a:ext cx="209520" cy="257400"/>
          </a:xfrm>
          <a:prstGeom prst="leftArrow">
            <a:avLst>
              <a:gd name="adj1" fmla="val 54843"/>
              <a:gd name="adj2" fmla="val 6153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6458040"/>
            <a:ext cx="22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PAC - Sec. Hac. y Fz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3333cc"/>
                </a:solidFill>
                <a:uFillTx/>
                <a:latin typeface="Times New Roman"/>
              </a:rPr>
              <a:t>MUCHAS GRACIAS POR SU AMABLE ATENC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3333cc"/>
                </a:solidFill>
                <a:uFillTx/>
                <a:latin typeface="Verdana"/>
              </a:rPr>
              <a:t>ARGENTINA CONVENIOS</a:t>
            </a:r>
            <a:r>
              <a:rPr b="0" lang="es-ES_tradnl" sz="4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4000" spc="-1" strike="noStrike" u="sng">
                <a:solidFill>
                  <a:srgbClr val="3333cc"/>
                </a:solidFill>
                <a:uFillTx/>
                <a:latin typeface="Verdana"/>
              </a:rPr>
              <a:t>BILATER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0000"/>
              </a:buClr>
              <a:buSzPct val="50000"/>
              <a:buFont typeface="Times New Roman"/>
              <a:buChar char="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Aachen BT"/>
              </a:rPr>
              <a:t>España   1/9/6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0000"/>
              <a:buFont typeface="Aachen BT"/>
              <a:buChar char="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achen BT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Aachen BT"/>
              </a:rPr>
              <a:t>Portugal  27/10/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0000"/>
              <a:buFont typeface="Aachen BT"/>
              <a:buChar char="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achen BT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Aachen BT"/>
              </a:rPr>
              <a:t>Uruguay  1/1/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0000"/>
              <a:buFont typeface="Aachen BT"/>
              <a:buChar char="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achen BT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Aachen BT"/>
              </a:rPr>
              <a:t>Chile  1/6/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0000"/>
              <a:buFont typeface="Aachen BT"/>
              <a:buChar char="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achen BT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Aachen BT"/>
              </a:rPr>
              <a:t>Brasil  18/11/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0000"/>
              <a:buFont typeface="Aachen BT"/>
              <a:buChar char="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achen BT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Aachen BT"/>
              </a:rPr>
              <a:t>Italia  1/1/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0000"/>
              <a:buFont typeface="Aachen BT"/>
              <a:buChar char="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achen BT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Aachen BT"/>
              </a:rPr>
              <a:t>Grecia  1/5/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0000"/>
              <a:buFont typeface="Aachen BT"/>
              <a:buChar char="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achen BT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Aachen BT"/>
              </a:rPr>
              <a:t>Perú  S.A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 rot="10800000">
            <a:off x="0" y="-100080"/>
            <a:ext cx="698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3333cc"/>
                </a:solidFill>
                <a:uFillTx/>
                <a:latin typeface="Times New Roman"/>
              </a:rPr>
              <a:t>RECIPROCIDAD JUBILAT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496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ache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3333cc"/>
                </a:solidFill>
                <a:uFillTx/>
                <a:latin typeface="Aachen BT"/>
              </a:rPr>
              <a:t>Decreto 9316/46</a:t>
            </a:r>
            <a:r>
              <a:rPr b="0" lang="es-AR" sz="32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i="1" lang="es-AR" sz="3200" spc="-1" strike="noStrike">
                <a:solidFill>
                  <a:srgbClr val="3333cc"/>
                </a:solidFill>
                <a:latin typeface="Times New Roman"/>
              </a:rPr>
              <a:t>Comprende el SIJyP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s-AR" sz="3200" spc="-1" strike="noStrike">
                <a:solidFill>
                  <a:srgbClr val="3333cc"/>
                </a:solidFill>
                <a:latin typeface="Times New Roman"/>
              </a:rPr>
              <a:t>Cajas Estatales de Provincias y Municip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ache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3333cc"/>
                </a:solidFill>
                <a:uFillTx/>
                <a:latin typeface="Aachen BT"/>
              </a:rPr>
              <a:t>Resolución 363/81</a:t>
            </a:r>
            <a:r>
              <a:rPr b="0" lang="es-AR" sz="32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i="1" lang="es-AR" sz="3200" spc="-1" strike="noStrike">
                <a:solidFill>
                  <a:srgbClr val="3333cc"/>
                </a:solidFill>
                <a:latin typeface="Times New Roman"/>
              </a:rPr>
              <a:t>Comprende a Cajas Profesionales entre sí , con el SIJyP y Cajas Estatales de Provincias y Municip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ache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3333cc"/>
                </a:solidFill>
                <a:uFillTx/>
                <a:latin typeface="Aachen BT"/>
              </a:rPr>
              <a:t>Resolución SAFJP 12/99, ANSES 521/99 y SSN 27188</a:t>
            </a:r>
            <a:r>
              <a:rPr b="0" lang="es-AR" sz="32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i="1" lang="es-AR" sz="3200" spc="-1" strike="noStrike">
                <a:solidFill>
                  <a:srgbClr val="3333cc"/>
                </a:solidFill>
                <a:latin typeface="Times New Roman"/>
              </a:rPr>
              <a:t>Instrumentan la aplicación de la Resolución 363/81 en el Régimen de Capitalización.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3333cc"/>
                </a:solidFill>
                <a:uFillTx/>
                <a:latin typeface="Aachen BT"/>
              </a:rPr>
              <a:t>SISTEMA DE RECIPROCIDAD JUBILAT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3333cc"/>
                </a:solidFill>
                <a:uFillTx/>
                <a:latin typeface="Aachen BT"/>
              </a:rPr>
              <a:t>FIN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3333cc"/>
                </a:solidFill>
                <a:latin typeface="Times New Roman"/>
              </a:rPr>
              <a:t>Las Cajas computarán recíprocamente dentro de s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3333cc"/>
                </a:solidFill>
                <a:latin typeface="Times New Roman"/>
              </a:rPr>
              <a:t>órbita de aplicación y al solo efecto de la determina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3333cc"/>
                </a:solidFill>
                <a:latin typeface="Times New Roman"/>
              </a:rPr>
              <a:t>ción de la antigüedad, los servicios no simultáne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3333cc"/>
                </a:solidFill>
                <a:latin typeface="Times New Roman"/>
              </a:rPr>
              <a:t>reconocidos por cada una de ellas a fin de acce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3333cc"/>
                </a:solidFill>
                <a:latin typeface="Times New Roman"/>
              </a:rPr>
              <a:t>sus afiliados y derechohabientes a los beneficio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ache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cc"/>
                </a:solidFill>
                <a:latin typeface="Aachen BT"/>
              </a:rPr>
              <a:t>JUBILACIÓN ORDI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ache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cc"/>
                </a:solidFill>
                <a:latin typeface="Aachen BT"/>
              </a:rPr>
              <a:t>JUBILACIÓN EXTRAORDIN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achen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cc"/>
                </a:solidFill>
                <a:latin typeface="Aachen BT"/>
              </a:rPr>
              <a:t>PENSIÓN DERIVADA DE LAS MISMAS</a:t>
            </a:r>
            <a:r>
              <a:rPr b="0" lang="es-AR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3333cc"/>
                </a:solidFill>
                <a:uFillTx/>
                <a:latin typeface="Aachen BT"/>
              </a:rPr>
              <a:t>Decreto 9316/4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3333cc"/>
                </a:solidFill>
                <a:latin typeface="Times New Roman"/>
              </a:rPr>
              <a:t>Caja otorgante: La de mayor cantidad de años de servicios con apor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3333cc"/>
                </a:solidFill>
                <a:latin typeface="Times New Roman"/>
              </a:rPr>
              <a:t>Ficción de Caja Ú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3333cc"/>
                </a:solidFill>
                <a:latin typeface="Times New Roman"/>
              </a:rPr>
              <a:t>Legislación de la Caja otorg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3333cc"/>
                </a:solidFill>
                <a:uFillTx/>
                <a:latin typeface="Aachen BT"/>
              </a:rPr>
              <a:t>Resolución 363/8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3333cc"/>
                </a:solidFill>
                <a:latin typeface="Times New Roman"/>
              </a:rPr>
              <a:t>Caja otorgante: Elección del afiliado entre Cajas con mínimo de 10 años de servicios con apor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3333cc"/>
                </a:solidFill>
                <a:latin typeface="Times New Roman"/>
              </a:rPr>
              <a:t>Prorrata Temp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3333cc"/>
                </a:solidFill>
                <a:latin typeface="Times New Roman"/>
              </a:rPr>
              <a:t>Legislación de cada Caja intervin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3333cc"/>
                </a:solidFill>
                <a:uFillTx/>
                <a:latin typeface="Aachen BT"/>
              </a:rPr>
              <a:t>Decreto 9316/4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Haber a cargo de la Caja otorg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Transferencia de Aportes y Contribu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Regla de prestación ú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Beneficio ún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3333cc"/>
                </a:solidFill>
                <a:uFillTx/>
                <a:latin typeface="Aachen BT"/>
              </a:rPr>
              <a:t>Resolución 363/8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Haberes proporcionales a cargo de cada Caja intervin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Sin transferencia de fo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800" spc="-1" strike="noStrike">
                <a:solidFill>
                  <a:srgbClr val="3333cc"/>
                </a:solidFill>
                <a:latin typeface="Times New Roman"/>
              </a:rPr>
              <a:t>Exclusión de la regla de prestación ún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2:09:03Z</dcterms:created>
  <dc:creator>.</dc:creator>
  <dc:description/>
  <dc:language>en-US</dc:language>
  <cp:lastModifiedBy>pagina</cp:lastModifiedBy>
  <cp:lastPrinted>2003-10-07T16:37:59Z</cp:lastPrinted>
  <dcterms:modified xsi:type="dcterms:W3CDTF">2003-10-17T21:06:55Z</dcterms:modified>
  <cp:revision>9</cp:revision>
  <dc:subject/>
  <dc:title>RECIPROCIDAD JUBILATORIA</dc:title>
</cp:coreProperties>
</file>