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84BF-831D-4EAE-B748-3E208832D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1B50-3AED-44F8-8537-9D269D93C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569A-7300-4BDE-9644-B71D9BD8C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A7BC-CF55-487C-8180-A5234239B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EE0F9-34C6-4EE9-B959-6F2128F95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C8134-1F9D-4F2E-A1E9-3ECE5609B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DA57B-E056-432A-9E67-074DCD368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00091-FB09-4126-8396-47558BE70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DA98D-9509-4D45-BD6C-628B2E138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DDD91-6FE0-42B7-A723-53CC1E837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55488-04EC-49D4-9062-D80A7F2F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02C5-40CD-44E1-9E52-BDF4898BC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6E773-6193-4EF1-96D7-9A26F66B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709D5-DE9E-4B3B-910F-106769BA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CFC8B-DA30-4C25-9F14-8F9FD9DC2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85A44-4B3F-4004-9EB0-2F5034B8F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CC575-472A-404F-85D3-14EFC0D99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38BF-177B-4922-B0F0-40B25CE9A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8F82-BF61-498C-83A7-E72E22A92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41CF-4728-4160-8C76-69FE3FA42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C139-4330-4E7C-B87B-4FAA6E5E0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7DA8-AFDC-409F-88F3-2121A7AF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E620-4DD5-4FB3-A184-1DA508CD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24F2-13AA-4226-9961-DBF52A66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70152-22B2-4432-ACC9-4F2AB4D77A2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7D273-4231-4CFA-A923-91569DA7900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7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8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27813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BERTURA, BENEFICIOS Y FINANCIAMIEN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32000" y="5300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lsa Rodríguez Romer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cretaría de Seguridad Soc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inisterio de Trabajo, Empleo y Seguridad Soc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ctubre 200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577280" y="5245200"/>
            <a:ext cx="1242720" cy="11365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68360" y="5445000"/>
            <a:ext cx="1081080" cy="8463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187280" y="812880"/>
            <a:ext cx="7128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2º CONGRESO DE SEGURIDAD SO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l trabajador independ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u acceso a la Seguridad Socia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Haber Medio </a:t>
            </a:r>
            <a:br>
              <a:rPr sz="4400"/>
            </a:b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en $ constantes de 1997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4920" y="1557360"/>
          <a:ext cx="8928000" cy="5156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920" y="1557360"/>
                    <a:ext cx="8928000" cy="515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Relación Renta de Referencia / Haber Mínimo (1955/1968) Empresario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08000" y="1476360"/>
            <a:ext cx="8964720" cy="5192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84240" y="1547640"/>
            <a:ext cx="9024840" cy="4834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Relación Renta de Referencia / Haber Mínimo (1955/1968) Independiente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0" y="3357720"/>
          <a:ext cx="3006720" cy="2857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357720"/>
                    <a:ext cx="3006720" cy="28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2943360" y="3357720"/>
          <a:ext cx="3016080" cy="28717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43360" y="3357720"/>
                    <a:ext cx="3016080" cy="28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5921280" y="3362400"/>
          <a:ext cx="3016440" cy="28717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921280" y="3362400"/>
                    <a:ext cx="3016440" cy="28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cremento de Aport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916560" y="2637000"/>
            <a:ext cx="166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ategoría 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501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59200" y="2660760"/>
            <a:ext cx="165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ategoría 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392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09760" y="2660760"/>
            <a:ext cx="167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ategoría 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392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95280" y="1989000"/>
            <a:ext cx="831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Verdana"/>
              </a:rPr>
              <a:t>Desde Abril de 1991 a Ho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739240" y="6302520"/>
            <a:ext cx="466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bril de 1991            Actual (desde 04/9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498920" y="6373800"/>
            <a:ext cx="287280" cy="216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835280" y="6373800"/>
            <a:ext cx="287280" cy="216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euda de Autónom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46040" y="1700280"/>
          <a:ext cx="8302320" cy="4750920"/>
        </p:xfrm>
        <a:graphic>
          <a:graphicData uri="http://schemas.openxmlformats.org/drawingml/2006/table">
            <a:tbl>
              <a:tblPr/>
              <a:tblGrid>
                <a:gridCol w="1640160"/>
                <a:gridCol w="397080"/>
                <a:gridCol w="334440"/>
                <a:gridCol w="1569960"/>
                <a:gridCol w="246600"/>
                <a:gridCol w="1639800"/>
                <a:gridCol w="397440"/>
                <a:gridCol w="329760"/>
                <a:gridCol w="1747080"/>
              </a:tblGrid>
              <a:tr h="3960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5481"/>
                          </a:solidFill>
                          <a:latin typeface="Tahoma"/>
                          <a:ea typeface="Arial"/>
                        </a:rPr>
                        <a:t>CATEGOR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5481"/>
                          </a:solidFill>
                          <a:latin typeface="Tahoma"/>
                          <a:ea typeface="Arial"/>
                        </a:rPr>
                        <a:t>"A"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5481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5481"/>
                          </a:solidFill>
                          <a:latin typeface="Tahoma"/>
                          <a:ea typeface="Arial"/>
                        </a:rPr>
                        <a:t>CATEGOR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5481"/>
                          </a:solidFill>
                          <a:latin typeface="Tahoma"/>
                          <a:ea typeface="Arial"/>
                        </a:rPr>
                        <a:t>"D"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5481"/>
                          </a:solidFill>
                          <a:latin typeface="Tahoma"/>
                          <a:ea typeface="Arial"/>
                        </a:rPr>
                        <a:t>PERÍOD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5481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5481"/>
                          </a:solidFill>
                          <a:latin typeface="Tahoma"/>
                          <a:ea typeface="Arial"/>
                        </a:rPr>
                        <a:t>2/199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5481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5481"/>
                          </a:solidFill>
                          <a:latin typeface="Tahoma"/>
                          <a:ea typeface="Arial"/>
                        </a:rPr>
                        <a:t>PERÍOD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5481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5481"/>
                          </a:solidFill>
                          <a:latin typeface="Tahoma"/>
                          <a:ea typeface="Arial"/>
                        </a:rPr>
                        <a:t>2/199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8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5481"/>
                          </a:solidFill>
                          <a:latin typeface="Tahoma"/>
                          <a:ea typeface="Arial"/>
                        </a:rPr>
                        <a:t>VALOR APORTE AL 2/199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5481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5481"/>
                          </a:solidFill>
                          <a:latin typeface="Tahoma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2b5481"/>
                          </a:solidFill>
                          <a:latin typeface="Tahoma"/>
                          <a:ea typeface="Arial"/>
                        </a:rPr>
                        <a:t>$ 46,50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5481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5481"/>
                          </a:solidFill>
                          <a:latin typeface="Tahoma"/>
                          <a:ea typeface="Arial"/>
                        </a:rPr>
                        <a:t>VALOR APORTE AL 2/199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5481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5481"/>
                          </a:solidFill>
                          <a:latin typeface="Tahoma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2b5481"/>
                          </a:solidFill>
                          <a:latin typeface="Tahoma"/>
                          <a:ea typeface="Arial"/>
                        </a:rPr>
                        <a:t>$ 139,50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8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5481"/>
                          </a:solidFill>
                          <a:latin typeface="Tahoma"/>
                          <a:ea typeface="Arial"/>
                        </a:rPr>
                        <a:t>VALOR APORTE AL 10/20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5481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5481"/>
                          </a:solidFill>
                          <a:latin typeface="Tahoma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2b5481"/>
                          </a:solidFill>
                          <a:latin typeface="Tahoma"/>
                          <a:ea typeface="Arial"/>
                        </a:rPr>
                        <a:t>$ 99,84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5481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5481"/>
                          </a:solidFill>
                          <a:latin typeface="Tahoma"/>
                          <a:ea typeface="Arial"/>
                        </a:rPr>
                        <a:t>VALOR APORTE AL 10/20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5481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5481"/>
                          </a:solidFill>
                          <a:latin typeface="Tahoma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2b5481"/>
                          </a:solidFill>
                          <a:latin typeface="Tahoma"/>
                          <a:ea typeface="Arial"/>
                        </a:rPr>
                        <a:t>$ 245,12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8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5481"/>
                          </a:solidFill>
                          <a:latin typeface="Tahoma"/>
                          <a:ea typeface="Arial"/>
                        </a:rPr>
                        <a:t>INTERESES AL 30/9/20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5481"/>
                          </a:solidFill>
                          <a:latin typeface="Tahoma"/>
                          <a:ea typeface="Arial"/>
                        </a:rPr>
                        <a:t>366,4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5481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5481"/>
                          </a:solidFill>
                          <a:latin typeface="Tahoma"/>
                          <a:ea typeface="Arial"/>
                        </a:rPr>
                        <a:t>INTERESES AL 30/9/20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5481"/>
                          </a:solidFill>
                          <a:latin typeface="Tahoma"/>
                          <a:ea typeface="Arial"/>
                        </a:rPr>
                        <a:t>366,4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3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2b5481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2b5481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2b5481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2b5481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2b5481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2b5481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2b5481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2b5481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2b5481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84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5481"/>
                          </a:solidFill>
                          <a:latin typeface="Tahoma"/>
                          <a:ea typeface="Arial"/>
                        </a:rPr>
                        <a:t>MONTO ADEUDADO A 1/10/20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5481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5481"/>
                          </a:solidFill>
                          <a:latin typeface="Tahoma"/>
                          <a:ea typeface="Arial"/>
                        </a:rPr>
                        <a:t>MONTO ADEUDADO A 1/10/20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6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b5481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b5481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b5481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b5481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b5481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b5481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b5481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b5481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2b5481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9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5481"/>
                          </a:solidFill>
                          <a:latin typeface="Tahoma"/>
                          <a:ea typeface="Arial"/>
                        </a:rPr>
                        <a:t>CAPI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5481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5481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5481"/>
                          </a:solidFill>
                          <a:latin typeface="Tahoma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2b5481"/>
                          </a:solidFill>
                          <a:latin typeface="Tahoma"/>
                          <a:ea typeface="Arial"/>
                        </a:rPr>
                        <a:t>$  99,84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5481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5481"/>
                          </a:solidFill>
                          <a:latin typeface="Tahoma"/>
                          <a:ea typeface="Arial"/>
                        </a:rPr>
                        <a:t>CAPI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5481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5481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5481"/>
                          </a:solidFill>
                          <a:latin typeface="Tahoma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2b5481"/>
                          </a:solidFill>
                          <a:latin typeface="Tahoma"/>
                          <a:ea typeface="Arial"/>
                        </a:rPr>
                        <a:t>$ 245,12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40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5481"/>
                          </a:solidFill>
                          <a:latin typeface="Tahoma"/>
                          <a:ea typeface="Arial"/>
                        </a:rPr>
                        <a:t>INTERES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5481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5481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5481"/>
                          </a:solidFill>
                          <a:latin typeface="Tahoma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2b5481"/>
                          </a:solidFill>
                          <a:latin typeface="Tahoma"/>
                          <a:ea typeface="Arial"/>
                        </a:rPr>
                        <a:t>$ 365,81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5481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5481"/>
                          </a:solidFill>
                          <a:latin typeface="Tahoma"/>
                          <a:ea typeface="Arial"/>
                        </a:rPr>
                        <a:t>INTERES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5481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5481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5481"/>
                          </a:solidFill>
                          <a:latin typeface="Tahoma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2b5481"/>
                          </a:solidFill>
                          <a:latin typeface="Tahoma"/>
                          <a:ea typeface="Arial"/>
                        </a:rPr>
                        <a:t>$ 898,12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85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2b5481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2b5481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2b5481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2b5481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2b5481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2b5481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2b5481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2b5481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2b5481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824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5481"/>
                          </a:solidFill>
                          <a:latin typeface="Tahoma"/>
                          <a:ea typeface="Arial"/>
                        </a:rPr>
                        <a:t>TOTAL ADEUDAD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5481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5481"/>
                          </a:solidFill>
                          <a:latin typeface="Tahoma"/>
                          <a:ea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2b5481"/>
                          </a:solidFill>
                          <a:latin typeface="Tahoma"/>
                          <a:ea typeface="Arial"/>
                        </a:rPr>
                        <a:t>$ 465,65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5481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5481"/>
                          </a:solidFill>
                          <a:latin typeface="Tahoma"/>
                          <a:ea typeface="Arial"/>
                        </a:rPr>
                        <a:t>TOTAL ADEUDAD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5481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5481"/>
                          </a:solidFill>
                          <a:latin typeface="Tahoma"/>
                          <a:ea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2b5481"/>
                          </a:solidFill>
                          <a:latin typeface="Tahoma"/>
                          <a:ea typeface="Arial"/>
                        </a:rPr>
                        <a:t>$ 1.143,24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oblación Ocupada y Autónomos. Total de Aglomerados Urbano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20600" y="1868400"/>
          <a:ext cx="8832960" cy="4440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0600" y="1868400"/>
                    <a:ext cx="8832960" cy="444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3765600" y="476280"/>
            <a:ext cx="1649520" cy="5745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PEA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15.500.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30280" y="1193760"/>
            <a:ext cx="1649520" cy="5745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OCUPADO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13.300.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00560" y="1193760"/>
            <a:ext cx="1648080" cy="5745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DESOCUPADO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2.200.000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1844640"/>
            <a:ext cx="824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1989000"/>
            <a:ext cx="1649520" cy="5749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ASALARIADO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9.800.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87720" y="2162160"/>
            <a:ext cx="2384280" cy="1513080"/>
          </a:xfrm>
          <a:solidFill>
            <a:srgbClr val="ccffcc"/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No obligados:   950.0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Menores de 18 años: </a:t>
            </a: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80.0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Empleados públicos de provincias no transf.: </a:t>
            </a: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1.200.0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FFAA, Seguridad 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PFA: </a:t>
            </a: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150.0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Pasantes: </a:t>
            </a: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20.0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97280" y="1987560"/>
            <a:ext cx="1649520" cy="5745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AUTÓNOMO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3.500.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659640" y="2160720"/>
            <a:ext cx="2376360" cy="1436400"/>
          </a:xfrm>
          <a:solidFill>
            <a:srgbClr val="ccffcc"/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No obligados: 510.0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Menores de 18 años: </a:t>
            </a: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80.0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Profesionales con Regimenes Especiales: </a:t>
            </a: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260.0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Familiares sin remuneración fija: </a:t>
            </a: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170.0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3335400" y="1052640"/>
            <a:ext cx="500040" cy="141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270040" y="1052640"/>
            <a:ext cx="574920" cy="141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6560" y="4078440"/>
            <a:ext cx="824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39680" y="4148280"/>
            <a:ext cx="3156120" cy="57600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ASALARIADOS OBLIGADOS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6.850.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68920" y="4148280"/>
            <a:ext cx="3155760" cy="57600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AUTÓNOMOS OBLIGADOS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2.990.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39680" y="4795920"/>
            <a:ext cx="3156120" cy="57636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APORTANTES ASALARIADOS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4.300.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68920" y="4795920"/>
            <a:ext cx="3155760" cy="57636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APORTANTES AUTÓNOMOS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600.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6560" y="5446800"/>
            <a:ext cx="824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68400" y="5518080"/>
            <a:ext cx="3227400" cy="8636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EVASIÓN ASALARIADOS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1.950.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(37%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99080" y="5518080"/>
            <a:ext cx="3225600" cy="8636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EVASIÓN AUTÓNOMOS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2.390.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(80%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89040" y="3749760"/>
            <a:ext cx="2733840" cy="306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Plan Jefes y Jefas        </a:t>
            </a: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2.000.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160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agos por Categorí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11280" y="3392640"/>
          <a:ext cx="7920000" cy="3565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3392640"/>
                    <a:ext cx="7920000" cy="35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468360" y="765000"/>
            <a:ext cx="8351640" cy="27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7678800" y="3195720"/>
            <a:ext cx="123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Proyectado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Renta de Referencia Media Implícita de la Recaudació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39640" y="1773360"/>
          <a:ext cx="7986960" cy="4968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1773360"/>
                    <a:ext cx="7986960" cy="49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 rot="18580200">
            <a:off x="7624440" y="5963040"/>
            <a:ext cx="9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r-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35280" y="2060640"/>
            <a:ext cx="178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apitaliz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641280" y="386064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epar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Ingresos Medios </a:t>
            </a:r>
            <a:br>
              <a:rPr sz="3600"/>
            </a:b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de la Ocupación Principal.</a:t>
            </a:r>
            <a:br>
              <a:rPr sz="36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Total de Aglomerados Urbanos  (en $ constantes de 1997).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                                          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04640" y="1916280"/>
          <a:ext cx="8380440" cy="4213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4640" y="1916280"/>
                    <a:ext cx="8380440" cy="42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920" y="907920"/>
            <a:ext cx="3286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e5ffff"/>
                </a:solidFill>
                <a:latin typeface="Tahoma"/>
              </a:rPr>
              <a:t>Grado de </a:t>
            </a:r>
            <a:br>
              <a:rPr sz="4000"/>
            </a:br>
            <a:r>
              <a:rPr b="0" lang="es-ES" sz="4000" spc="-1" strike="noStrike">
                <a:solidFill>
                  <a:srgbClr val="e5ffff"/>
                </a:solidFill>
                <a:latin typeface="Tahoma"/>
              </a:rPr>
              <a:t>Adhesión </a:t>
            </a:r>
            <a:br>
              <a:rPr sz="4000"/>
            </a:br>
            <a:r>
              <a:rPr b="0" lang="es-ES" sz="4000" spc="-1" strike="noStrike">
                <a:solidFill>
                  <a:srgbClr val="e5ffff"/>
                </a:solidFill>
                <a:latin typeface="Tahoma"/>
              </a:rPr>
              <a:t>de </a:t>
            </a:r>
            <a:br>
              <a:rPr sz="4000"/>
            </a:br>
            <a:r>
              <a:rPr b="0" lang="es-ES" sz="4000" spc="-1" strike="noStrike">
                <a:solidFill>
                  <a:srgbClr val="e5ffff"/>
                </a:solidFill>
                <a:latin typeface="Tahoma"/>
              </a:rPr>
              <a:t>Cotizante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76720" y="3587760"/>
          <a:ext cx="5688000" cy="3270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76720" y="3587760"/>
                    <a:ext cx="5688000" cy="32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3276720" y="195120"/>
          <a:ext cx="5689440" cy="32720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76720" y="195120"/>
                    <a:ext cx="5689440" cy="32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4804920" y="5892840"/>
            <a:ext cx="30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parto         Capitaliz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498920" y="6093000"/>
            <a:ext cx="2890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938920" y="6093000"/>
            <a:ext cx="28872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45200" y="1700280"/>
            <a:ext cx="18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PENDIE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57680" y="3854520"/>
            <a:ext cx="16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UTÓNOM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Beneficios Previsionales</a:t>
            </a:r>
            <a:br>
              <a:rPr sz="4400"/>
            </a:br>
            <a:r>
              <a:rPr b="0" lang="es-ES" sz="2400" spc="-1" strike="noStrike">
                <a:solidFill>
                  <a:srgbClr val="e5ffff"/>
                </a:solidFill>
                <a:latin typeface="Tahoma"/>
              </a:rPr>
              <a:t>marzo 2003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49160" y="1916280"/>
          <a:ext cx="7388280" cy="4900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9160" y="1916280"/>
                    <a:ext cx="7388280" cy="49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1000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edianas de Eda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684360" y="1052640"/>
          <a:ext cx="6478560" cy="2930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1052640"/>
                    <a:ext cx="6478560" cy="29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684360" y="3773520"/>
          <a:ext cx="6551640" cy="29638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4360" y="3773520"/>
                    <a:ext cx="6551640" cy="29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8025120" y="3084480"/>
            <a:ext cx="122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ujer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Homb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740720" y="3141720"/>
            <a:ext cx="21600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740720" y="3718080"/>
            <a:ext cx="216000" cy="215640"/>
          </a:xfrm>
          <a:prstGeom prst="rect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278840" y="2133720"/>
            <a:ext cx="17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JUBIL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90800" y="4941720"/>
            <a:ext cx="134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EN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13:39:47Z</dcterms:created>
  <dc:creator>AGP</dc:creator>
  <dc:description/>
  <dc:language>en-US</dc:language>
  <cp:lastModifiedBy>pagina</cp:lastModifiedBy>
  <dcterms:modified xsi:type="dcterms:W3CDTF">2003-10-17T21:49:59Z</dcterms:modified>
  <cp:revision>30</cp:revision>
  <dc:subject/>
  <dc:title>COBERTURA, BENEFICIOS Y FINANCIAMIENTO</dc:title>
</cp:coreProperties>
</file>