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E37-C213-4EDD-B839-BAA42CCF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280-7364-4D77-BED0-DF7E2896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2CE-9ABC-4BDA-B179-0766F704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100-0258-4B3B-8A8D-00E8C207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A27E-00D1-44B1-A435-7CC996F0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2A3-9F7E-4EFD-AFDE-AE08A9F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869D-1467-46C2-974B-42C6E6F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D53-8E35-446E-8667-BADEEF9A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6AA0-9013-4954-BAED-D5A28AA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1068-69D1-4AF3-AC80-16ABA57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8638-ED69-486E-9D9A-BC67ECE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322-1F37-4B61-88ED-E5575210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A977-A972-4D4C-B226-B5C37955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0D34-486E-48F9-B72A-1EC9C0B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A7E6-0BD5-4E19-84B4-9CFA2F61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CE82-B369-4073-ADCC-5D4474AB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292-262F-4892-A476-6042EC5A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912-4369-46AC-A757-6E1E4F3E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BFB-9A57-4942-B632-4E49B78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6AB-646E-4C19-99A4-6771C2A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89B-3F68-4682-B755-448DFFC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09F-8EA0-4BF6-834B-AE59EF5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921-42CB-41AF-A9FC-8CE40F5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742-6D8E-4ACA-A9F8-E56B0245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 Extra Bold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 Extra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 Extra Bold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 Extra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 Extra Bol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F799-D789-4D2E-9351-3BF5B5811A25}" type="slidenum">
              <a:rPr b="0" lang="en-US" sz="1400" spc="-1" strike="noStrike">
                <a:solidFill>
                  <a:srgbClr val="ffffff"/>
                </a:solidFill>
                <a:latin typeface="Albertus Extra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 Extra Bold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 Extra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 Extra Bold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lbertus Extra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lbertus Extra Bol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F413-E137-4E9F-B74A-6C002955B3EE}" type="slidenum">
              <a:rPr b="0" lang="en-US" sz="1400" spc="-1" strike="noStrike">
                <a:solidFill>
                  <a:srgbClr val="ffffff"/>
                </a:solidFill>
                <a:latin typeface="Albertus Extra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NESTO REZ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nerezk@eco.unc.edu.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stituto de Economía y Finanz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cultad de Ciencias Econó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versidad Nacional de Cór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ACTUAL SIJP MACRO-ECONOMICA E INTERTEMPORALMENTE SOSTENI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, DEBIDO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CRECIENTE DEPENDENCIA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ONES ACTUARIALES INADECU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O NIVEL DE E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O DEL DESEMP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LES SON LOS PRINCIPALES PROBLEMAS EN EL CASO DEL TRABAJADOR INDEPENDIE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RSION DEL COL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RTE DEPENDENCIA DEL CICLO ECONO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UMPL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CIMIENTO DE LA ECONOMIA PARALELA E INCENTIVOS A LA E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ES DE RIESGO MORAL (MORAL HAZAR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PROBLEMA DE LA NO SOSTENIBILIDAD TEMPORAL DEL SISTEMA UN PROBLEMA EXCLUSIVAMENTE ARGENTINO?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. HIRTE (PENSION POLICIES FOR AN AGING SOCIETY, 2001), DESARROLLO UN MODELO DE EQUILIBRIO GENERAL PARA ALEMANIA EN EL QUE SIMULO LOS EFECTOS REDISTRIBUTIVOS Y SOBRE EL BIENESTAR DE LOS SIGUIENTES CAMBIOS EN EL SISTEMA JUBILATOR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 DE LA EDAD JUBILATORI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CONVENIE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 DE CONTRIBUCIONES JUBILATORIAS A RECURSOS DERIVADOS DE IMPUESTOS SOBRE EL CONSUMO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CONVENIENTE SOLO SI ES PA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MINUCION DE CONTRIBUCIONE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(EFECTOS POSITIV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REZK (LA HIPOTESIS DE LAFFER Y LAS CONTRIBUCIONES DE SEGURIDAD SOCIAL, JORNADAS DE FINANZAS PUBLICAS, 1999) HALLO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 EVALUACIONES EMPIRICAS REALIZADAS PARA EL CASO ARGENTINO, CON LAS CONTRIBUCIONES DE SEGURIDAD SOCIAL, MUESTRAN QUE LAS PREDICCIONES DE LAFFER NO SE VERIFICARON A PESAR DE LAS MODIFICACIONES EN LAS ALICUOTAS DE LAS CONTRIBUCIONES PATRONALES DURANTE EL PERIODO 1993-1997 DEBIDO AL IMPACTO DE LA EVASION FISC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CONCLU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égimen de Repa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udios internacionales evaluan importancia de impacto demongráfico y aconsejan aumento de la edad de reti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sostenibilidad intertermporal de los sistemas de  jubilación requeriría financiamiento vía impuestos al consumo o, como segundo mejor, dirigirse a los denominados sistemas “fully funded”: impuestos al consumo y contribuciones de seguridad social o deu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CONCLU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égimen de Repar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establecimiento de contribuciones fijas (tax smoothing schemes) con un ajuste completo de los beneficios, respetando el principio de presupuesto balanceado, puede producir beneficios positivos, aunque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tax smoothing schem puede coexistir con políticas de privatización parcial de los fon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CONCLU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égimen de Capit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r ser aplicados tanto por el Sector Público o bajo un esquema de Fondos de Pensión Priv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sostenibilidad temporal requiere controlar tanto el incumplimiento de los cotizantes como el actual nivel de evasión (economía inform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adhesión al sistema requiere que se capitalice un porcentaje de los aportes mayor que el act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jo ciertas condiciones fortalece Mercado de Capitales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ES UN TRABAJADOR INDEPENDIE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el 30 de Junio de 1994, las personas regidas por la  Ley Nº 18.038. A partir del 1 de Julio de 1994  el Sistema Integrado de Jubilaciones y Pensiones unificó regímenes de trabajadores autónomos y dependientes  en la Ley Nº 24.241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ES UN TRABAJADOR INDEPENDIE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baj. Autonómos en Repa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baj. Autonómos en Capit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onotributi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rabaj. Autonómos  con Regím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peciales (i.e. Profesion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ISTRIBUCION DE AUTONOMOS POR REGIMEN DE APORTES Y CATEGORIA (JUNIO DE 2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Categorí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part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Capitaliz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          18,8%         25,2%           14,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B - B´             38,7%         38,6%           38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 - C´              4,0%           4,1%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,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D - D´            25,4%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23,0%           27,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 - E´               9,7%           6,7%           11,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                     0,6%           0,4%             0,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 - G´              2,0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,5%             2,4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COTIZANTES AUTONOMOS Y MONOTRIBUT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995 = 1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JUNIO DE                REPARTO    CAPIT.         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80,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97,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87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61,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93,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74,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8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1,8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88,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69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43,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92,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63,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88,4*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1,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72,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78,6*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46,8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65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6,5*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33,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46,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3 (Marzo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8,3*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34,3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48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*) A partir de 2000, reparto incluye monotributi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TIZANTES DEPEND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995 = 1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UNIO DE                REPARTO    CAPIT.         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77,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6,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6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73,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1,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4,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,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0,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4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1,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2,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2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9,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,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1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,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2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3,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,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1,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(Marz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,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,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BI (1993=100) Y TOTAL COTIZANTES (1995=1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JUNIO DE       PRODUCTO BRUTO        COTIZ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05,8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1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14,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11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8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18,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9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14,4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13,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13,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6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08,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96,7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3,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3 (Marzo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01,9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SOSTENIBILIDAD INTERTEMPORAL DEL SIJ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JUNIO DE           AUT. C/A      DEP. C/A      TOT. C/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5,9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5,3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6,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4,2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8,8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4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5,7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6,9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7,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8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,4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,9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2,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6,5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5,3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7,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8,4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5,3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7,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,3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3,0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5,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7,1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,9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1,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003 (Marzo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7,7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8,3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,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EFECTOS ECONOMICOS DEL SISTEMA PREVISIONAL E INFLUENCIA DEL TRABAJADOR INDEPENDIENT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ESTRUCTURALES DEL SIJ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A JUNIO DE           DFM            TFC            TS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6           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46,5%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1,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7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49,8%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40,5%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1,49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8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6,8%         37,9%         1,47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9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74,2%         31,4%         1,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8,3%          30,1%         1,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1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71,3%         29,5%         1,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2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8,4%         30,9%         1,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3 (Marzo)   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5,7%         39,0%         1,55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19:49:12Z</dcterms:created>
  <dc:creator>.</dc:creator>
  <dc:description/>
  <dc:language>en-US</dc:language>
  <cp:lastModifiedBy>pagina</cp:lastModifiedBy>
  <dcterms:modified xsi:type="dcterms:W3CDTF">2003-10-17T20:27:16Z</dcterms:modified>
  <cp:revision>16</cp:revision>
  <dc:subject/>
  <dc:title>EFECTOS ECONOMICOS DEL SISTEMA PREVISIONAL E INFLUENCIA DEL TRABAJADOR INDEPENDIENTE</dc:title>
</cp:coreProperties>
</file>