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811-BB09-4C27-B80B-1CFA6D47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F68-EF29-45F7-8019-E4F3AE2A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DF0-AB81-4DE4-B912-EE95D269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9AE-F9C1-4E42-90AF-932EF575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ECEC-6C6F-4477-8BB9-6C357D52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3DF4-5C02-4EA9-A778-8F70E972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7C8-9CF6-4A59-83C6-F425D01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7755-7D5C-4F06-A930-2972C218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9AB-C4AF-41C5-9E4B-AB81036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73E-71FC-480D-B770-7B1791FD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A605-415C-4E7E-AD6C-DD2917D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C0-FBA0-4425-8B36-516A30ED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AF7B-8E68-4CEF-9095-1415BC8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16F8-7075-4B5C-A992-63AF8C9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EBD-F6AB-460D-AE4E-F4EBF4AE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3329-01E7-4EF3-8D4F-61D21D4F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8BC-6984-49CB-89B8-A3E40DE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B86-7F57-4C1B-9EF0-47815E93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C4E-6D14-4AB0-90B6-4C8C5EA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A64-9A70-465C-997A-9BFCF54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FDD-E439-422A-BD82-A025B91E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B3C-47CC-44EE-A85E-C028FF5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913-808A-406A-9152-D06450A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67E-7B6B-4FEF-A7A6-63D9D1F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D3F-E524-47BA-AE97-0B232D750B2A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ECC-2D54-4879-B56B-20A7AE8D567A}" type="slidenum"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DO. CONGRESO DE LA SEGURIDAD  SOCIAL</a:t>
            </a:r>
            <a:br>
              <a:rPr sz="2400"/>
            </a:b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El trabajador independiente – Su acceso a la seguridad social”</a:t>
            </a:r>
            <a:br>
              <a:rPr sz="2400"/>
            </a:b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uenos Aires, 1 al 3 de octubre de 2003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a legislación comparada.  Latinoamérica y países del Mercos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rabajadores por cuenta propia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atrib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prop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sencia de subordin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bitu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pital prop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inform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tinoamérica. Creció el 56% entre 1980 y 1987. El sector informal está representado por un gran porcentaje de la fuerza laboral urbana.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70% en Paraguay en 1984; 61% en Bolivia; aproximadamente 60 por c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gentina 50%   (52% al inicio de los noventa y  49.3% en 1998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xtendió la precariedad del empleo entendida como aquellos puestos de trabajo sin contribuciones a la seguridad social. Por ejemplo, el empleo asalariado “sin descuento” jubilatorio aumentó desde un 28% a un 37% entre 1994 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r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sector privado 38,7 millones sin cobertura previsional, lo que representa el 59,1% de la población ocupada priv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ectores más críticos: trabajadores por cuenta propia, del servicio doméstico, de autoconsumo y no remunerados, y la principal razón de la no contribución es la insuficiencia de ren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claración de Filadelfia de 1944, la Conferencia Internacional del Trabajo, propuso que las naciones del mundo deben diseñar programas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"que tengan por meta... la ampliación de la seguridad social para asegurar a todos los que la necesiten un ingreso básico y atención médica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integral"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roblema principal -respecto a la protección social-, es la ausencia de derechos, y no la intensidad de la cobertura o base para su deter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emás,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sólo encontramos un gran número de personas sin cobertura, sino que en su mayoría estas personas son las más expuestas a las contingencias de la protección soci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uciones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sión de todos los trabajadores por cuenta propia en el régimen de seguro social princip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ulgaria, Eslovaquia, Estonia, Filipinas, Hungría, República Checa, Rus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bertura selectiva en el régimen gener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Aquellas categorías que obtienen ingresos por sobre un monto prescrito, o dedicados a ciertas ocupaciones o profesiones, son los únicos registrados. (Corea, Irán, Latvia, Polonia y Tún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bertura en un régimen espe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(Polonia - agricultores, Rumania - profesionales por cuenta propia, Turquí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bertura Voluntar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Agricultores de Rumania, y trabajadores urbanos por cuenta propia de Chile, Costa Rica, Perú, México, Corea e Irán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Propuestas de OIT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mpliar los regímenes de segur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mover el microseg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troducir prestaciones universales financiadas con ingresos generales d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ablecer o ampliar prestaciones asistenciales con comprobación de ingresos financiados también con ingresos generales d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forme VI a la Conferencia Internacional del Trabajo 89ª. Reunión 2001, “Seguridad Social: temas, retos y perspectivas”</a:t>
            </a:r>
            <a:r>
              <a:rPr b="1" i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stáculos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sencia de credibilidad del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lta de proporcionalidad entre la cotización y las pensiones. Para trabajadores de bajos ingresos y con esperanza de vida menor al promedio, el beneficio futuro se percibe menor al costo de sacrificar parte del consumo pres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falta de portabilidad de los beneficios o la ausencia de mecanismos de reciprocidad. La diversidad y multiplicidad de regímenes existentes en algunos países y la ausencia de mecanismos de reciprocidad jubilatoria o armonización de requisitos, constituye un importante factor que desincentiva el aumento de cober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rácter urbano/formal de los sistemas. Los sistemas pensionarios de los países en desarrollo están diseñados para otorgar beneficios a trabajadores con una relación de trabajo dependiente formal y urb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sencia de prestaciones complementarias en etapa activa. Habilitar la utilización de sistemas de salud, o de riesgos de trabajo, complementarios de los sistemas  de pensione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gidez en el sistema de afiliación y aportaciones. Existen requisitos demasiado rígidos que dificultan la afiliación y el pago de las contribuciones de los trabajadores atíp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uestas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visión del régimen general, y establecimiento de regímenes especiales vinculados, en estructuras funcionales multipilares, para facilitar la participación parcial de los trabajadores por cuenta propia, trabajadores domésticos, trabajadores rurales y los que tienen un ingreso regular por actividades en el sector inform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ortalecimiento de la capacidad administrativa de los regímenes de pensiones, especialmente en cuanto a la afiliación y registración, a la recaudación y fiscalización  cumplimiento de las cotizaciones, al mantenimiento de las historias de los trabajadores, y a una eficiente gestión financier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ortalecerse los esfuerzos de fiscalización de las cotizaciones dentro de un sistema que asegure efectividad en la recuperación de las cotizaciones por medio de un uso racional y eficiente de la inteligencia fiscal y de las sanciones aplic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arrollo y ejecución de programas de educación e información pública para mejorar el conocimiento y la imagen del sistema de pensiones, tendientes a construir una cultura previs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mover la previsión social y sus beneficios, a través de las diferentes instancias dependientes del estado, con competencia en la materia.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otenciar la coordinación entre las redes estatales vinculadas en seguridad social, y organismos no gubernamentales y entidades privadas que desarrollen labores en el área, promoviendo las tareas de difusión y mejoramiento de la cobertura de los sistem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seño de políticas de empleo y formalización del empleo para los trabajadores de bajos ingresos, evitando que ocurran comportamientos oportunistas que disminuyan el ahorro previ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87680" y="2276640"/>
            <a:ext cx="5768640" cy="34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ablecer mecanismos que permitan a los trabajadores mantenerse vinculados al sistema, aún en coyunturas de pérdida del empleo. Como parte de los regímenes de cobertura al desempl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ablecer subsidios para el pago de aportes, de trabajadores de bajos recursos, que incentive la continuidad en la afiliación y cotización. Constituir un fondo de administración estatal que provea este subsid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lexibilizar los sistemas de registración y de cotización, para asegurar que trabajadores con ingresos estacionales, o menores a los mínimos (flexibilidad económica), les sea posible pertenecer al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entar el desarrollo de regímenes de apoyo mutuo, para aquellos excluidos de la cobertura ampliada, y complementario para aquellos cubiertos sólo con protección bás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ablecer prestaciones asistenciales dirigidas a los absolutamente pobres dentro de grupos vulnerables, con prestaciones suficiente y razonablemente diferenciadas de las prestaciones básicas de los sistemas contributivos, como una forma de alentar el cumplimiento de las cotizaciones al régimen gen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stablecer un régimen especial para trabajadores por cuenta propia. Obligatoriedad de incorporación a regímenes flexibles, adaptables a las características de las actividades independientes, en cuanto a la fecha de pago de las cotizaciones, regularidad ampliada a un año calendario (flexibilidad financiera), niveles de ingresos mínimos, pago parcial del aporte con la percepción de honorarios o facturación (flexibilidad económica), pero además con vías y formas flexibles de registración (flexibilidad administrativa). etc.</a:t>
            </a:r>
            <a:r>
              <a:rPr b="0" lang="es-MX" sz="16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[2]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strumentación de medidas orientadas a eliminar la diferencias de género en la edad de retiro y en las tablas de mortalidad, o constituyendo “cuentas familiares”, que sean un verdadero incentivo para incrementar la participación femenina en el sistema de pens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romover la constitución de regímenes especiales con características de mutualidades para las profesiones liberales, articulados al pilar básico del sistema general de pensiones, a través de un aporte solidario, y como contrapartida el otorgamiento de un componente básico público de carácter universal en las pr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mérica Latina la cobertura alcanza a un tercio de la fuerza de trabajo de Bolivia, Colombia, Ecuador, Guatemala y Perú, y menos del 15 % en El Salvador, Honduras y Paragu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Asia, la cobertura de la seguridad social alcanza al 8% de la fuerza de trabajo en India, al 10% en Tailandia y al 12% en Indones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ur de África alcanza  al 1% de PEA (Gambia, Niger y Chad), y sólo alcanza niveles escasamente moderados en el Norte del continente (22/24 % en Egipto y Túnez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l tipo de régimen de pensiones.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universal, de seguro social, capitalización individual)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gímenes universales o de asistencia social, se financian con impuestos y no con cotizaciones, y los de capitalización dependen del financiamiento individ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dministración eficiente de la seguridad social.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na deficiente administración afectará la credibilidad y la viabilidad del régimen, y limita la ampliación de la cobertura para incorporar tanto a los grupos como las contingencias no inclu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dad mínima y cantidad de años de servicios mínimos requerido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na edad excesivamente alta limitará la cobertura real del sistema una excesivamente baja lo hará sumamente onero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l sector formal.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sulta más fácil recaudar las cotizaciones de los trabajadores del sector for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os niveles de cumplimiento y evasión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Afectarán al sistema al disminuir los recursos disponibles y a los trabajadores por la ausencia de aportes que implicará perdida de cobertura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ivel del desarrollo económico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La oferta y la demanda de protección social están fuertemente vinculadas con los recursos existentes para financiar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é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iliados a fondos de pensión de empres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ción de dependencia (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rabajador dependiente o subordinad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y opuesta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rabajador autónomo o por cuenta prop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pto “simple, evidente y casi intuitivo”. La técnica del haz de indicios –por su abusiva utilización- demuestra su propia deb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relativización del concepto de trabajador subordinado y por cuenta ajena como concepto único capaz de generar una normativa protectora única”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nómenos que impactan en la dependenci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centralización produ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ternalización de fun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parición de nuevas formas de contratación de trabajo humano (servicios eventuales, franchising, suministro de mercaderías, concesión, subcontratación, et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laciones laborales especiales” del derecho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si-trabajadores” del derecho alemá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adores “para-subordinados” en Italia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prestación laboral continuada, prestación laboral coordinada con el empresario principal y una prestación prevalentemente pers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bertura de pensiones para los trabajadores por cuenta propia.</a:t>
            </a:r>
            <a:br>
              <a:rPr sz="24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continuidad laboral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”tiempos” de trabajo retribuido (autónomo, dependiente, y asimilado a uno u otro), a los “tiempos” de desempleo, y otros “tiempos” socialmente relevantes, (formación profesional, trabajo solidario, deberes cívicos, atención de compromisos familiares, de descanso)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ato de actividad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greso ciudad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inanciamiento. Estado. Empleadores. Trabajador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ge García Rapp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1:04:50Z</dcterms:created>
  <dc:creator>George</dc:creator>
  <dc:description/>
  <dc:language>en-US</dc:language>
  <cp:lastModifiedBy>pagina</cp:lastModifiedBy>
  <dcterms:modified xsi:type="dcterms:W3CDTF">2003-10-17T21:17:34Z</dcterms:modified>
  <cp:revision>2</cp:revision>
  <dc:subject/>
  <dc:title>2DO. CONGRESO DE LA SEGURIDAD  SOCIAL “El trabajador independiente – Su acceso a la seguridad social” Buenos Aires, 1 al 3 de octubre de 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2435398</vt:r8>
  </property>
  <property fmtid="{D5CDD505-2E9C-101B-9397-08002B2CF9AE}" pid="3" name="_AuthorEmail">
    <vt:lpwstr>jgarciarapp@speedy.com.ar</vt:lpwstr>
  </property>
  <property fmtid="{D5CDD505-2E9C-101B-9397-08002B2CF9AE}" pid="4" name="_AuthorEmailDisplayName">
    <vt:lpwstr>Jorge García Rapp</vt:lpwstr>
  </property>
  <property fmtid="{D5CDD505-2E9C-101B-9397-08002B2CF9AE}" pid="5" name="_EmailSubject">
    <vt:lpwstr/>
  </property>
</Properties>
</file>