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65BB-BA8D-4803-9F0B-CEEEF086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0EE-358F-4ECD-8EE8-B5769C26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740-B781-4125-BB6F-40A45D0F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20D-B673-417C-A560-C3636C85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615A-9C8A-4099-89BA-56BD10F7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1FC9-0C94-41A6-9776-20898A49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54E7-D42B-4D6B-9C7E-A9F46781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35D1-A51F-4DB6-A590-0A3A26B6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2E6C-FAEA-4A1B-9A2C-010F1DBE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6B36-AEBE-46D1-A2B2-AD7FB2C4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E403-D09D-4A18-B2CE-A85AD383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297-C32F-464A-8DDC-2ECEA436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E3E5-8F3C-4D89-B97D-C83350B4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8031-BD04-4BA0-B8C9-796189A3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51BE-D187-41DA-815C-63BA9237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C41A-0A10-4CE9-8169-A72F72E0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21B8-2970-4537-9DE6-17923FAC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637-C2E5-4CE4-8451-E31D6AA6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1D0-E964-4834-82A7-B0E6A6EC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E32-A764-4C9F-A3B6-0ACCF506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FB8-EABD-4EE7-80B9-CC7A6B94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CCC-2F50-4279-A23B-082C81C6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51B-8E1F-4350-A99E-120417F1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1E23-2CFF-44A0-ACD7-2755CCCD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5BF9-A60E-4794-BBF3-9A0A02525CB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285F-B724-4824-805D-3EAA2E6C19D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TRABAJADORES AUTONOMOS EN EL MUN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HISTORIA DE LA COBER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FUTURO DEL TRABAJO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INDEPEND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TENDENCIAS MUND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CASO ARGENT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COMUNIDAD MARIT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22640" y="110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HISTOR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ACTIVIDAD NACIDA CON EL TRUE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1785</a:t>
            </a: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 – MANUEL KANT – 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“De la fundamentación de la Metafísica de las Costumbr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1800  – </a:t>
            </a: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MAX WEBER – “ </a:t>
            </a:r>
            <a:r>
              <a:rPr b="0" i="1" lang="es-AR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lectivo  productor  de    servicios   y    de   valores   económic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AR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traordinarios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” -“Tratado de  Economía y Sociedad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FUTURO DEL TRABAJO</a:t>
            </a:r>
            <a:br>
              <a:rPr sz="4400"/>
            </a:b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INDEPENDIEN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PROGRESISTAS: </a:t>
            </a: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impacto de la competividad y externalidad tecnológ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REGRESISTAS: </a:t>
            </a: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expulsión del mercado laboral tradicional; involución en térmi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de trabajo intelectual; cadenas productivas en condiciones primarias; mig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campo-ciudad e interregional; escape de la medición moneta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TENDENCIAS MUNDIA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DESACONSEJAN ATENDER A LA PERSECUSIÓN DE LA CLANDESTIN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PROPICIAN PROYECTOS SOCIALES PA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TRANSPARENTAR </a:t>
            </a:r>
            <a:r>
              <a:rPr b="0" lang="es-AR" sz="2800" spc="-1" strike="noStrike">
                <a:solidFill>
                  <a:srgbClr val="ffffff"/>
                </a:solidFill>
                <a:latin typeface="Arial Alternative"/>
                <a:ea typeface="Arial Alternative"/>
              </a:rPr>
              <a:t></a:t>
            </a: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 “SOCIOS DE COOPERATIVAS” (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manejo de gestió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FORMALIZAR (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trabajador autónom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RECAUDAR Y FISCALIZAR (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real capacidad tributari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INTELIGENCIA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TRANSPARENCI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1986 – COLOMBIA: 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“La Cartuja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cartoneros – recolector – recicl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1993 – BRASIL – BELLO HORIZO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Pastoral de Rua/Cáritas-Sect.de Industria y Comercio-Sect.de Desarrollo So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CURITIBA: 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“Vila de oficios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CANADÁ –TORONTO: “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Autosuficiencia, ciudadanos en sus propios barrio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ESPAÑA: 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a la vanguardia – teleworker –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COLECTIVO MARITI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LEY Nº 20.477 –RESERVA DE CAR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LEY Nº 20.094 – DE NAVEGAC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tripulación argentina – ley del pabell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1991 -REFORMA DEL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DTO. Nº 1772/ 91- DNU:  </a:t>
            </a:r>
            <a:r>
              <a:rPr b="0" i="1" lang="es-AR" sz="3200" spc="-1" strike="noStrike">
                <a:solidFill>
                  <a:srgbClr val="ffffff"/>
                </a:solidFill>
                <a:latin typeface="Times New Roman"/>
              </a:rPr>
              <a:t>cese de  bandera provisorio; licencia sin goce de sueldo; indemnización del art. 247 LCT;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DESPROTECCION ABSOLUT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DTO. Nº 1772/ 9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DTO. Nº 2284/ 9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DTO. Nº 2359/ 9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DTO. Nº 817  / 9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DTO. Nº 1493/ 9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DTO. Nº 2265/ 9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DTO. Nº 2094/ 9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DTO. Nº  343 / 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COMPRENSION DEL PROBLEM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LEY Nº 24.922 (199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LEY Nº 25.2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DTO. Nº 1255/ 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RES. SSS Nº 18/ 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TRAMO 1991- 2000 :4000 fuera del sistema – autónomos voluntarios?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TRAMO 2000 EN ADELANTE – dependientes ?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PROPUESTAS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20:59:11Z</dcterms:created>
  <dc:creator> </dc:creator>
  <dc:description/>
  <dc:language>en-US</dc:language>
  <cp:lastModifiedBy>pagina</cp:lastModifiedBy>
  <dcterms:modified xsi:type="dcterms:W3CDTF">2003-10-17T20:18:06Z</dcterms:modified>
  <cp:revision>5</cp:revision>
  <dc:subject/>
  <dc:title> TRABAJADORES AUTONOMOS EN EL MUNDO</dc:title>
</cp:coreProperties>
</file>