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11C-04CD-463E-8375-1AA942B6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1FF-39CC-477E-9942-412B7C7E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F09-4E0B-4307-9838-FABD41B0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6DE-6A99-4348-A532-EB60B8AC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EC5-45C4-494B-A345-11B2DAD3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9C0-5404-4E33-948C-655FEC34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BE2-8883-4464-9A65-3CF5877F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CF6-D48B-4FF7-AD50-E2B8FB37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A16-4472-423E-A3E8-42941E05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E39-0159-45C0-9364-B92320AA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6C5-ED2B-4266-AEA9-FC61948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5C3-EE26-4DA7-B4FF-E6BE580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E4F3-83B8-43AB-BEF0-76D53ABC14A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RABAJADORES AUTONO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SPECTOS RECAUDATO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SCRIPCION - PAGOS - PAD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CTUBRE 20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895480" y="152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TR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0666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1219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- CRUCES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9144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S AFIP OTROS IMPUESTOS TARJETAS DE CREDITO        CUENTAS BANC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71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3716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057400" y="114264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54304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IFICACION  EN SEGMENTOS POR SITUACION DE CONTRIBUY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2209680"/>
            <a:ext cx="541008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CTIVOS: Un pago en las ultimas 24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SUNTAMENTE ACTIVOS: No hay pagos en los ultimos     24 meses pero registran presentacion de otrs im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ACTIVOS: No registran pagos de aportes - no registran movimientos en el resto de los registros de af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 CODIGO DE 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320" y="4800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- INTIMACIONES CENTR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NOMOS                 &gt;=CAT D  MONOTRIBUTISTAS    &gt;=CA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495680" y="48765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49528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5715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- INDUCCION AL PAGO                       CATEGORIAS BAJAS POR COR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5867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25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2147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290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1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36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2514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819520" y="23623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819520" y="2666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1952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31240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05120" y="304920"/>
            <a:ext cx="52578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RESOLUCION GENERAL 1566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SUSTITUTIVA DE LA RES. GRAL. 3756 Y M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MULTAS AUTOMATICAS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: SE DESCAR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76320" y="3124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HAY PAGO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236232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I- FALTA DE INSCRIP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4495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II- MORA EN EL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289548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20% TOTAL DE LOS APORTES ADEUDADOS 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76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SI NO REGULARIZA LA INSCRIPCION    (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50292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5% TOTAL DE LOS APORTES ADEUDADOS EXIGIBLES  (3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4038480"/>
            <a:ext cx="129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En efectivo de con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518148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gulariza en PFP o R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3429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1981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MULTAS POR INTIMACION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9" idx="2"/>
            <a:endCxn id="310" idx="1"/>
          </p:cNvCxnSpPr>
          <p:nvPr/>
        </p:nvCxnSpPr>
        <p:spPr>
          <a:xfrm>
            <a:off x="2133360" y="2347560"/>
            <a:ext cx="11437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9" idx="2"/>
            <a:endCxn id="311" idx="1"/>
          </p:cNvCxnSpPr>
          <p:nvPr/>
        </p:nvCxnSpPr>
        <p:spPr>
          <a:xfrm>
            <a:off x="2133360" y="2347920"/>
            <a:ext cx="1067400" cy="23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685800" y="624852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FALTA DE PAGO/ INSCRIPCION/ IMPUGNACION/ DEUDA FIRME/ EJEC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380880"/>
            <a:ext cx="25146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OS TRABAJ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609480"/>
            <a:ext cx="2286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 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295280"/>
            <a:ext cx="43434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SUMEN EL RIESGO ECO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1981080"/>
            <a:ext cx="3048120" cy="1059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MPLEADOS EN NEG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UENTA PROPISTAS NO INSCRIP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09680"/>
            <a:ext cx="24382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UENTA PROPISTAS AUTÓNOMOS INSCRIP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81760" y="5057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REGIME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0576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REGIMEN SIMPL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4770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ustituyen IVA y Gana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5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scriptos en IVA y Gana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505320"/>
            <a:ext cx="180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3505320"/>
            <a:ext cx="411480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124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mpetencia desleal/eva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6480" y="457200"/>
            <a:ext cx="25146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UTONO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762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800" y="609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83808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666880" y="1676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9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34520" y="1066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19520" y="3962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REGIME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475160"/>
            <a:ext cx="281952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TODOS LOS INSCRIPTOS EN   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UNI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SOC. DE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RESPONSABLES SOC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PROFE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495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5181480"/>
            <a:ext cx="1600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ATEGORIAS S/ACTIVIDAD S/Nº EMP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28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REGIMEN SIMPL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3520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UNI- PERSONALES SOC.     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97308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6080 h 2514600"/>
              <a:gd name="textAreaBottom" fmla="*/ 246852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6"/>
                  <a:pt x="10800" y="1272"/>
                </a:cubicBezTo>
                <a:lnTo>
                  <a:pt x="10800" y="9528"/>
                </a:lnTo>
                <a:cubicBezTo>
                  <a:pt x="10800" y="10164"/>
                  <a:pt x="5400" y="10800"/>
                  <a:pt x="0" y="10800"/>
                </a:cubicBezTo>
                <a:cubicBezTo>
                  <a:pt x="5400" y="10800"/>
                  <a:pt x="10800" y="11436"/>
                  <a:pt x="10800" y="12072"/>
                </a:cubicBezTo>
                <a:lnTo>
                  <a:pt x="10800" y="20328"/>
                </a:lnTo>
                <a:cubicBezTo>
                  <a:pt x="10800" y="209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973080"/>
            <a:ext cx="22096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OMER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PRODU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PROFE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AGROPEC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89676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89676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INGRESOS BRUTOS ANUALES $14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847800"/>
            <a:ext cx="838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SIN 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ON 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229716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ING. B. ANUALES $3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344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3030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954160"/>
            <a:ext cx="3047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OTIZA SEG. S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NO COTIZA IM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896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486400" y="11250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35396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104940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AT  0 A 7 SIN  TO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1811160"/>
            <a:ext cx="12956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AT           4-1              5-2               6 y 7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15200" y="13536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658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5638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00400" y="5076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2127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MONOTRIB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27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REGIME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066680"/>
            <a:ext cx="3124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18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INSCRIP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ATEG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APORTAR- COT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15080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. 160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86640" y="2209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. 16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220968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486400" y="24379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905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. 460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33360" y="2133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33720" y="1752480"/>
            <a:ext cx="1828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133360" y="213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28195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S/ ACTIVIDAD             S/ Nª DE EMPLEADOS S/ RENTA PRES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38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CATEG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276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OBLIGAT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“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A a J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1148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52760" y="47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OPT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043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Una CAT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66"/>
                </a:solidFill>
                <a:uFillTx/>
                <a:latin typeface="Times New Roman"/>
              </a:rPr>
              <a:t>VOLUN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58672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Pago oblig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Menos de 55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1" idx="3"/>
            <a:endCxn id="102" idx="1"/>
          </p:cNvCxnSpPr>
          <p:nvPr/>
        </p:nvCxnSpPr>
        <p:spPr>
          <a:xfrm flipV="1">
            <a:off x="1904760" y="3993840"/>
            <a:ext cx="64836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1" idx="3"/>
            <a:endCxn id="105" idx="1"/>
          </p:cNvCxnSpPr>
          <p:nvPr/>
        </p:nvCxnSpPr>
        <p:spPr>
          <a:xfrm>
            <a:off x="1904760" y="492264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1" idx="3"/>
            <a:endCxn id="107" idx="1"/>
          </p:cNvCxnSpPr>
          <p:nvPr/>
        </p:nvCxnSpPr>
        <p:spPr>
          <a:xfrm>
            <a:off x="1905120" y="4922640"/>
            <a:ext cx="1829520" cy="74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324480" y="281952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MONTOS FIJOS TODAS LAS CATEG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4267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$ 55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4038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$35.- R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$20.- O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3"/>
            <a:endCxn id="115" idx="1"/>
          </p:cNvCxnSpPr>
          <p:nvPr/>
        </p:nvCxnSpPr>
        <p:spPr>
          <a:xfrm flipV="1">
            <a:off x="7086600" y="423648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4" idx="3"/>
            <a:endCxn id="116" idx="1"/>
          </p:cNvCxnSpPr>
          <p:nvPr/>
        </p:nvCxnSpPr>
        <p:spPr>
          <a:xfrm>
            <a:off x="7086600" y="446544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2666880" y="5335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5720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943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$ 33.00 Cap /Rep. F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62320" y="13716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MODIFICACIO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21621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B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30002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BAJA RETROA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238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REGIMEN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2380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REGIMEN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SIMPL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14240" y="1796760"/>
            <a:ext cx="3734640" cy="136800"/>
            <a:chOff x="2514240" y="1796760"/>
            <a:chExt cx="3734640" cy="136800"/>
          </a:xfrm>
        </p:grpSpPr>
        <p:cxnSp>
          <p:nvCxnSpPr>
            <p:cNvPr id="130" name=""/>
            <p:cNvCxnSpPr>
              <a:stCxn id="124" idx="2"/>
            </p:cNvCxnSpPr>
            <p:nvPr/>
          </p:nvCxnSpPr>
          <p:spPr>
            <a:xfrm flipH="1" rot="16200000">
              <a:off x="5246640" y="931320"/>
              <a:ext cx="137160" cy="186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2"/>
            </p:cNvCxnSpPr>
            <p:nvPr/>
          </p:nvCxnSpPr>
          <p:spPr>
            <a:xfrm rot="5400000">
              <a:off x="3379320" y="931680"/>
              <a:ext cx="137160" cy="186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2" name=""/>
          <p:cNvSpPr/>
          <p:nvPr/>
        </p:nvSpPr>
        <p:spPr>
          <a:xfrm>
            <a:off x="609480" y="162864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F.460/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F.92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24670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F.16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62864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F.160/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22884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PRUEBAS DEL CESE RG-558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307656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DICTAMENES FAVORABLES PARA QUE SE ACEP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324080"/>
            <a:ext cx="8686800" cy="7617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085840"/>
            <a:ext cx="8686800" cy="83844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924280"/>
            <a:ext cx="8686800" cy="12189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514240" y="2619000"/>
            <a:ext cx="3734640" cy="136800"/>
            <a:chOff x="2514240" y="2619000"/>
            <a:chExt cx="3734640" cy="136800"/>
          </a:xfrm>
        </p:grpSpPr>
        <p:cxnSp>
          <p:nvCxnSpPr>
            <p:cNvPr id="142" name=""/>
            <p:cNvCxnSpPr/>
            <p:nvPr/>
          </p:nvCxnSpPr>
          <p:spPr>
            <a:xfrm flipH="1" rot="16200000">
              <a:off x="5246640" y="1753560"/>
              <a:ext cx="137160" cy="186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/>
            <p:nvPr/>
          </p:nvCxnSpPr>
          <p:spPr>
            <a:xfrm rot="5400000">
              <a:off x="3379320" y="1753920"/>
              <a:ext cx="137160" cy="186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513880" y="3533400"/>
            <a:ext cx="3734640" cy="136800"/>
            <a:chOff x="2513880" y="3533400"/>
            <a:chExt cx="3734640" cy="136800"/>
          </a:xfrm>
        </p:grpSpPr>
        <p:cxnSp>
          <p:nvCxnSpPr>
            <p:cNvPr id="145" name=""/>
            <p:cNvCxnSpPr/>
            <p:nvPr/>
          </p:nvCxnSpPr>
          <p:spPr>
            <a:xfrm flipH="1" rot="16200000">
              <a:off x="5246280" y="2667960"/>
              <a:ext cx="137160" cy="186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/>
            <p:nvPr/>
          </p:nvCxnSpPr>
          <p:spPr>
            <a:xfrm rot="5400000">
              <a:off x="3378960" y="2668320"/>
              <a:ext cx="137160" cy="1867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7" name=""/>
          <p:cNvSpPr/>
          <p:nvPr/>
        </p:nvSpPr>
        <p:spPr>
          <a:xfrm>
            <a:off x="227160" y="409680"/>
            <a:ext cx="8688240" cy="91440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3275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FORMAS DE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3657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BCO / CADENA DE PAGO RAP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CAJEROS AUTOMA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HOME B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DEBITO DIR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5486400"/>
            <a:ext cx="43434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HOY HAY UN NUMERO ACOTADO DE AFILIADOS- (PLANES DE PAG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SE TRABAJA PARA AMPLIAR EL SERVICIO A UNA EXTENSA RED DE BANCOS A PARTIR DE ESTE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514600" y="571464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6019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NOVEDADES AL PAD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00400" y="5076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PROFESIO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432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95560" y="8380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imes New Roman"/>
              </a:rPr>
              <a:t>SIN LIMITE INSCRIPTOS  EN  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8288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imes New Roman"/>
              </a:rPr>
              <a:t>HASTA $ 36.000                     NO INSCRIPTOS  EN 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5" idx="3"/>
            <a:endCxn id="156" idx="1"/>
          </p:cNvCxnSpPr>
          <p:nvPr/>
        </p:nvCxnSpPr>
        <p:spPr>
          <a:xfrm flipV="1">
            <a:off x="1600200" y="1128240"/>
            <a:ext cx="4960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5" idx="3"/>
            <a:endCxn id="157" idx="1"/>
          </p:cNvCxnSpPr>
          <p:nvPr/>
        </p:nvCxnSpPr>
        <p:spPr>
          <a:xfrm>
            <a:off x="1600200" y="1630440"/>
            <a:ext cx="45792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6172200" y="914400"/>
            <a:ext cx="29718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imes New Roman"/>
              </a:rPr>
              <a:t>MAS  RELACION DE DEPE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PUEDE SUSTITUIR SEG. SOC. POR COTIZACION FIJA $55.-      E IM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1447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152640" cy="1219320"/>
          </a:xfrm>
          <a:custGeom>
            <a:avLst/>
            <a:gdLst>
              <a:gd name="textAreaLeft" fmla="*/ 44640 w 152640"/>
              <a:gd name="textAreaRight" fmla="*/ 153000 w 15264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7" idx="3"/>
            <a:endCxn id="162" idx="1"/>
          </p:cNvCxnSpPr>
          <p:nvPr/>
        </p:nvCxnSpPr>
        <p:spPr>
          <a:xfrm flipV="1">
            <a:off x="4571640" y="1523520"/>
            <a:ext cx="1524600" cy="718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6095880" y="2590920"/>
            <a:ext cx="30481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imes New Roman"/>
              </a:rPr>
              <a:t>SIN RELACION DE DEPE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PUEDE ADHERIR                         NO SUSTITUYE  SEG, SOC.  APORTA S/ANT. MATRICULA SUSTITUYE IVA Y GANA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124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362320"/>
            <a:ext cx="76320" cy="1828800"/>
          </a:xfrm>
          <a:custGeom>
            <a:avLst/>
            <a:gdLst>
              <a:gd name="textAreaLeft" fmla="*/ 22320 w 76320"/>
              <a:gd name="textAreaRight" fmla="*/ 76320 w 76320"/>
              <a:gd name="textAreaTop" fmla="*/ 75960 h 1828800"/>
              <a:gd name="textAreaBottom" fmla="*/ 17528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57" idx="3"/>
            <a:endCxn id="166" idx="1"/>
          </p:cNvCxnSpPr>
          <p:nvPr/>
        </p:nvCxnSpPr>
        <p:spPr>
          <a:xfrm>
            <a:off x="4571640" y="2241360"/>
            <a:ext cx="1524600" cy="1035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457200" y="2895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CATEGORIA            S/ANT. MATR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3526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imes New Roman"/>
              </a:rPr>
              <a:t>A----HASTA 3 AÑOS      B----HASTA 10 AÑOS     D----MAS DE 1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95680"/>
            <a:ext cx="556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OCUPA EMPLEADOS          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</a:rPr>
              <a:t>AUMENTA LA CATEG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0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4952880"/>
            <a:ext cx="335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HASTA 3 AÑOS    CAT. A  EMPLEADOS        CAT. B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045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858000" y="52574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952880"/>
            <a:ext cx="5790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127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MONOTRIB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127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REGIME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019920"/>
            <a:ext cx="9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SOCIEDAD         FACTURA INDIVIDUAL            CATEGORIA PROFE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6400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FACTURA EL ESTUDIO            ACTIVIDAD SIMULTA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6248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228600"/>
            <a:ext cx="3124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BAJADOR AUTONO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157400"/>
            <a:ext cx="1676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O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990720"/>
            <a:ext cx="4419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IGIBLES          10/93 Y POSTERIORE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EXIGIBLES     09/93 Y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14300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Y 244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5000" y="2357280"/>
            <a:ext cx="3057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AÑOS DE APO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640" y="233676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Y 24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429000"/>
            <a:ext cx="1523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NCION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41972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NCION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4290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9/93 Y ANTERIORES        LEY 244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809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93 Y POSTERIORES      LEY 253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35053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IP F.577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33526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44197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45720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ARTA TODOS LOS PERI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4648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Y 253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5720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556272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OCAR LA EXEN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62118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 AÑOS LA MUJER   65 AÑOS EL HOMB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6210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 AÑOS DE APOR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67480" y="6242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187" idx="3"/>
            <a:endCxn id="189" idx="1"/>
          </p:cNvCxnSpPr>
          <p:nvPr/>
        </p:nvCxnSpPr>
        <p:spPr>
          <a:xfrm>
            <a:off x="2209680" y="13456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5029200" y="914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189" idx="3"/>
            <a:endCxn id="188" idx="1"/>
          </p:cNvCxnSpPr>
          <p:nvPr/>
        </p:nvCxnSpPr>
        <p:spPr>
          <a:xfrm flipV="1">
            <a:off x="4191120" y="1342800"/>
            <a:ext cx="8388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5638680" y="20700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NO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NOMOS + REL.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87" idx="2"/>
            <a:endCxn id="191" idx="0"/>
          </p:cNvCxnSpPr>
          <p:nvPr/>
        </p:nvCxnSpPr>
        <p:spPr>
          <a:xfrm>
            <a:off x="1371240" y="1533240"/>
            <a:ext cx="108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91" idx="3"/>
            <a:endCxn id="190" idx="1"/>
          </p:cNvCxnSpPr>
          <p:nvPr/>
        </p:nvCxnSpPr>
        <p:spPr>
          <a:xfrm>
            <a:off x="2095560" y="2539800"/>
            <a:ext cx="11016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 flipV="1">
            <a:off x="5257800" y="22856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25146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5530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BILACION  INTIMACION DE AF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6477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048120" y="57146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3720" y="304920"/>
            <a:ext cx="4572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JUBILADOS REINGRESADOS A LA ACTIVIDAD AUTO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898640"/>
            <a:ext cx="2667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GIME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1936800"/>
            <a:ext cx="3429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GIMEN SIMPL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790720"/>
            <a:ext cx="160020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Y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18037/18038 O RECIPRO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2911320"/>
            <a:ext cx="16002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Y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4241 RECIPRO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334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3232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3994200"/>
            <a:ext cx="1676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EXCEPTUADOS DE APOR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39942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ATEGORIA A SIN P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2"/>
            <a:endCxn id="230" idx="0"/>
          </p:cNvCxnSpPr>
          <p:nvPr/>
        </p:nvCxnSpPr>
        <p:spPr>
          <a:xfrm flipH="1" rot="16200000">
            <a:off x="2021040" y="2302920"/>
            <a:ext cx="30204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9" idx="0"/>
          </p:cNvCxnSpPr>
          <p:nvPr/>
        </p:nvCxnSpPr>
        <p:spPr>
          <a:xfrm rot="5400000">
            <a:off x="1166400" y="2243160"/>
            <a:ext cx="181440" cy="915120"/>
          </a:xfrm>
          <a:prstGeom prst="bentConnector3">
            <a:avLst>
              <a:gd name="adj1" fmla="val 49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486400" y="2789280"/>
            <a:ext cx="160020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Y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18037/18038 O RECIPRO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2911320"/>
            <a:ext cx="16002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Y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4241 RECIPRO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334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3276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28" idx="2"/>
            <a:endCxn id="238" idx="0"/>
          </p:cNvCxnSpPr>
          <p:nvPr/>
        </p:nvCxnSpPr>
        <p:spPr>
          <a:xfrm flipH="1" rot="16200000">
            <a:off x="7374240" y="2169720"/>
            <a:ext cx="568800" cy="915120"/>
          </a:xfrm>
          <a:prstGeom prst="bentConnector3">
            <a:avLst>
              <a:gd name="adj1" fmla="val 404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8" idx="2"/>
            <a:endCxn id="237" idx="0"/>
          </p:cNvCxnSpPr>
          <p:nvPr/>
        </p:nvCxnSpPr>
        <p:spPr>
          <a:xfrm rot="5400000">
            <a:off x="6520320" y="2108880"/>
            <a:ext cx="446760" cy="915120"/>
          </a:xfrm>
          <a:prstGeom prst="bentConnector3">
            <a:avLst>
              <a:gd name="adj1" fmla="val 497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5562720" y="399420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$ 0.- RPP              $ 0.-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3360" y="3994200"/>
            <a:ext cx="1447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$ 35.- RPP       0.-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5137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SOLO COMPONENTE IMPOSI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137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Y COMPONENTE IMPOSI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3" idx="2"/>
            <a:endCxn id="245" idx="0"/>
          </p:cNvCxnSpPr>
          <p:nvPr/>
        </p:nvCxnSpPr>
        <p:spPr>
          <a:xfrm>
            <a:off x="6324120" y="4520880"/>
            <a:ext cx="108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4" idx="2"/>
            <a:endCxn id="246" idx="0"/>
          </p:cNvCxnSpPr>
          <p:nvPr/>
        </p:nvCxnSpPr>
        <p:spPr>
          <a:xfrm>
            <a:off x="8076960" y="4520880"/>
            <a:ext cx="108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JUBILACION ORDI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27" idx="0"/>
          </p:cNvCxnSpPr>
          <p:nvPr/>
        </p:nvCxnSpPr>
        <p:spPr>
          <a:xfrm flipH="1">
            <a:off x="1713960" y="1403280"/>
            <a:ext cx="28198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9" idx="2"/>
            <a:endCxn id="228" idx="0"/>
          </p:cNvCxnSpPr>
          <p:nvPr/>
        </p:nvCxnSpPr>
        <p:spPr>
          <a:xfrm>
            <a:off x="4533480" y="1403280"/>
            <a:ext cx="2667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533520" y="5562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JUBILADO POR INVA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2" idx="2"/>
            <a:endCxn id="246" idx="2"/>
          </p:cNvCxnSpPr>
          <p:nvPr/>
        </p:nvCxnSpPr>
        <p:spPr>
          <a:xfrm flipH="1" flipV="1" rot="5400000">
            <a:off x="5032080" y="2853720"/>
            <a:ext cx="32760" cy="6058800"/>
          </a:xfrm>
          <a:prstGeom prst="bentConnector3">
            <a:avLst>
              <a:gd name="adj1" fmla="val -7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52" idx="0"/>
            <a:endCxn id="234" idx="2"/>
          </p:cNvCxnSpPr>
          <p:nvPr/>
        </p:nvCxnSpPr>
        <p:spPr>
          <a:xfrm flipH="1" flipV="1" rot="5400000">
            <a:off x="1841040" y="4698360"/>
            <a:ext cx="1042200" cy="686520"/>
          </a:xfrm>
          <a:prstGeom prst="bentConnector3">
            <a:avLst>
              <a:gd name="adj1" fmla="val 144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0" y="624060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JUBILADOS/ PENSIONADOS/ RETIRADOS    FUERZAS DE SEGURIDA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6553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63244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ACTIVO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5" idx="3"/>
            <a:endCxn id="257" idx="1"/>
          </p:cNvCxnSpPr>
          <p:nvPr/>
        </p:nvCxnSpPr>
        <p:spPr>
          <a:xfrm>
            <a:off x="6172200" y="6392880"/>
            <a:ext cx="534240" cy="8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6" idx="3"/>
            <a:endCxn id="257" idx="1"/>
          </p:cNvCxnSpPr>
          <p:nvPr/>
        </p:nvCxnSpPr>
        <p:spPr>
          <a:xfrm flipV="1">
            <a:off x="5486040" y="6476400"/>
            <a:ext cx="1220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73392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981080" y="304920"/>
            <a:ext cx="495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ADRON DE CONTRIB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219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ON ALTA EN AUTONOMOS                    4.55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6765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OTIZANTES REG. GRAL. Y SIMP.            63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14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DIFERENCIAS:                                               3.000.000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1911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FALLEC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JUBILADOS ORDI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JUBILADOS POR INVALID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ESADOS SIN B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411480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QUE DERIVARON EN PENSION QUE NO GENERARON P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474012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AUTONOMOS               REL. DE DEPEN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583884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EN RELACION DE DEPENDENCIA SIN TRABAJO                                  SALIERON DEL PAIS                   PRIVADOS DE LA LIBER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47242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5334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58672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7816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11480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0384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29718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EPURACION POR CRUCES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297036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ANSES                             REG. NAC. PERS.      OTROS ORGANIS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11788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ON BAJA                                                          87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31240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312408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312408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03:16Z</dcterms:created>
  <dc:creator>MAriano Rosés</dc:creator>
  <dc:description/>
  <dc:language>en-US</dc:language>
  <cp:lastModifiedBy>pagina</cp:lastModifiedBy>
  <cp:lastPrinted>2003-09-30T16:02:34Z</cp:lastPrinted>
  <dcterms:modified xsi:type="dcterms:W3CDTF">2003-10-17T22:00:47Z</dcterms:modified>
  <cp:revision>54</cp:revision>
  <dc:subject/>
  <dc:title>Sin título de diapositiva</dc:title>
</cp:coreProperties>
</file>