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A0C-474D-4BB9-A854-28E49A6A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A5A-6F4D-4B4D-AF0A-2BD068D9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48C-B7E0-4E5E-9DB6-5C518E74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84A-AF69-423A-9A0E-18BF54EA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D17-CE8E-4FC4-BF54-81F6794B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CDA3-18C7-4402-9DCF-06C2C323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502-C38D-42A5-A527-C3B45C41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70A-2AB4-4839-80A4-2266DFF2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93C-29C9-4EA3-8490-A49CB54B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FFD-3FFD-43CD-91B3-17EFC620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115-30F1-41D4-9BCD-CCCD6D40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591-6FFC-4B6F-A804-4E2F9C86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7ECD-6E9F-466C-A3C7-485F9738D2F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752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JORAR LA COBERTURA: 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FIO MAYOR DE LA REFORMA DE PENSIONES EN CHIL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Times New Roman"/>
              </a:rPr>
              <a:t>Guillermo Larraín 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intendente de A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Buenos Aires, 2 de Octubre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447920" cy="1138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52480" y="3808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3300"/>
                </a:solidFill>
                <a:latin typeface="Times New Roman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447920" cy="1138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33720" y="1197000"/>
            <a:ext cx="6399000" cy="100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 DEMOGRAFIA y las teorías del crecimiento sugieren que el mejor sistema de pensiones para los países en desarrollo es uno de capita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2565360"/>
          <a:ext cx="4140360" cy="3959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565360"/>
                    <a:ext cx="41403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284720" y="2852640"/>
          <a:ext cx="4859280" cy="3745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720" y="2852640"/>
                    <a:ext cx="485928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248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3300"/>
                </a:solidFill>
                <a:latin typeface="Times New Roman"/>
              </a:rPr>
              <a:t>CONS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447920" cy="11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1557360"/>
            <a:ext cx="8280360" cy="1373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regimenes de reparto enfrentan en el largo plazo un gran riesgo social y financiero: gran problema intergen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059280"/>
            <a:ext cx="8280360" cy="947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adopción, parcial o total, de regimenes de capitalización es una necesidad inevi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4138560"/>
            <a:ext cx="8280360" cy="520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6600cc"/>
                </a:solidFill>
                <a:latin typeface="Times New Roman"/>
              </a:rPr>
              <a:t>…</a:t>
            </a:r>
            <a:r>
              <a:rPr b="0" lang="es-CL" sz="2800" spc="-1" strike="noStrike">
                <a:solidFill>
                  <a:srgbClr val="6600cc"/>
                </a:solidFill>
                <a:latin typeface="Times New Roman"/>
              </a:rPr>
              <a:t>que no está exento de riesg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781520"/>
            <a:ext cx="828036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6600cc"/>
                </a:solidFill>
                <a:latin typeface="Times New Roman"/>
              </a:rPr>
              <a:t>Costo fiscal de la transición (ajuste, ¿T o G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47920" y="228600"/>
            <a:ext cx="7619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3300"/>
                </a:solidFill>
                <a:latin typeface="Times New Roman"/>
              </a:rPr>
              <a:t>SISTEMA DE CAPI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447920" cy="1138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1353960"/>
            <a:ext cx="8229600" cy="1800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el antiguo sistema de reparto, la cotización  tenía un componente importante de impuesto, ya que al pago efectuado por el cotizante no se asociaba ningún beneficio dir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3284640"/>
            <a:ext cx="82296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6600cc"/>
                </a:solidFill>
                <a:latin typeface="Times New Roman"/>
              </a:rPr>
              <a:t>La evasión asociada a dicho impuesto ten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149720"/>
            <a:ext cx="39607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6600cc"/>
                </a:solidFill>
                <a:latin typeface="Times New Roman"/>
              </a:rPr>
              <a:t>Efecto fi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4920" y="4149720"/>
            <a:ext cx="39607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6600cc"/>
                </a:solidFill>
                <a:latin typeface="Times New Roman"/>
              </a:rPr>
              <a:t>Sin efecto previ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7920" y="228600"/>
            <a:ext cx="7619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3300"/>
                </a:solidFill>
                <a:latin typeface="Times New Roman"/>
              </a:rPr>
              <a:t>SISTEMA DE CAPI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447920" cy="1138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1353960"/>
            <a:ext cx="82296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el sistema de capitalización, el componente impuesto disminuye aunque no desapare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2421000"/>
            <a:ext cx="8229600" cy="13737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razón es que a pesar de la capitalización individual, persiste la miopía, las restricciones al crédito e “imperfecciones” de ese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4797360"/>
            <a:ext cx="396072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Sin efecto fi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14920" y="4797360"/>
            <a:ext cx="396072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Con efecto previ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3927600"/>
            <a:ext cx="8229600" cy="5205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 la consecuencia del impuesto ahora es disti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1676520"/>
          <a:ext cx="9144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0" y="6095880"/>
            <a:ext cx="8229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79f"/>
                </a:solidFill>
                <a:latin typeface="Arial"/>
              </a:rPr>
              <a:t>Nota: (1) Cobertura= Cotizantes A.F.P./ Fuerza de Trabajo Ocupa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79f"/>
                </a:solidFill>
                <a:latin typeface="Arial"/>
              </a:rPr>
              <a:t>(2) Razon cotizantes= Cotizantes AFP/Afiliados 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79f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55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3300"/>
                </a:solidFill>
                <a:latin typeface="Arial"/>
              </a:rPr>
              <a:t>Sistema tiene un problema de cober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157320"/>
            <a:ext cx="1447920" cy="1137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0720" y="45684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Times New Roman"/>
              </a:rPr>
              <a:t>Dejar de cotizar siendo jóven, es muy cost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962000"/>
          <a:ext cx="9144000" cy="377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2000"/>
                    <a:ext cx="9144000" cy="37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447920" cy="1138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752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JORAR LA COBERTURA: 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FIO MAYOR DE LA REFORMA DE PENSIONES EN CHIL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66"/>
                </a:solidFill>
                <a:latin typeface="Times New Roman"/>
              </a:rPr>
              <a:t>Guillermo Larraín 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intendente de A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Buenos Aires, 2 de Octubre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447920" cy="1138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12:36:21Z</dcterms:created>
  <dc:creator>División Informática</dc:creator>
  <dc:description/>
  <dc:language>en-US</dc:language>
  <cp:lastModifiedBy>pagina</cp:lastModifiedBy>
  <cp:lastPrinted>2000-10-25T21:43:35Z</cp:lastPrinted>
  <dcterms:modified xsi:type="dcterms:W3CDTF">2003-10-17T20:31:50Z</dcterms:modified>
  <cp:revision>225</cp:revision>
  <dc:subject/>
  <dc:title>MEDICION DE LA RENTABILIDAD EN EL SISTEMA DE PENSIONES    NOVIEMBRE, 2000</dc:title>
</cp:coreProperties>
</file>