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E26-05CC-4E44-8185-A71AA37E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C7D-2569-4AB8-A605-8EA5080C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E50-5D9E-4019-B6A3-96A7188B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E80-DEC8-4288-8E52-B06B28D0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CA6-E8BC-4B2D-96E2-F3190639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6750-67D7-427B-BC2C-F33F29A7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D07B-8D65-467F-B27C-E708C305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7802-3DCE-40CA-8A50-87027755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38F5-8A2A-4C61-907A-9DCCFE6C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7027-C48B-45E9-91D4-C8D789DF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53B2-7837-4FF1-B850-211B216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57B-AC56-418B-ACA4-12DDA19A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456B-ABFE-4D3F-8282-1B495B71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AE7C-43B0-4AED-9DB8-0108722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BF0A-48F4-4769-8AF5-55BD9E1B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67A7-85E1-40FC-B33D-0E91C78E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63E1-0FC9-4749-97BB-5B4BC981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83A-31C9-4C22-B901-0F721A85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F1D-573F-4DDB-901D-9887BA0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202-AD48-48D8-973F-EA8EF4A4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25C-E7C5-44C6-BEEB-C1742286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8E3-DCDC-42A7-BA3F-5403746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A5F-EE71-4596-A77F-6B3EA50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2EB-A749-42F3-803F-9D4B9D9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62C3-3185-4649-82BB-552F0ECEDA72}" type="slidenum">
              <a:rPr b="0" lang="es-E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88BC-BDFE-42A8-9E83-226D51067BE0}" type="slidenum">
              <a:rPr b="0" lang="es-E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1142640"/>
            <a:ext cx="639936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Impact"/>
              </a:rPr>
              <a:t>CONFEDERACION       MEDICA       </a:t>
            </a:r>
            <a:r>
              <a:rPr b="0" lang="es-ES_tradnl" sz="4400" spc="-1" strike="noStrike">
                <a:solidFill>
                  <a:srgbClr val="ff9900"/>
                </a:solidFill>
                <a:latin typeface="Impact"/>
              </a:rPr>
              <a:t>	</a:t>
            </a:r>
            <a:r>
              <a:rPr b="0" lang="es-ES_tradnl" sz="4400" spc="-1" strike="noStrike">
                <a:solidFill>
                  <a:srgbClr val="ff9900"/>
                </a:solidFill>
                <a:latin typeface="Impact"/>
              </a:rPr>
              <a:t>	</a:t>
            </a:r>
            <a:r>
              <a:rPr b="0" lang="es-ES_tradnl" sz="4400" spc="-1" strike="noStrike">
                <a:solidFill>
                  <a:srgbClr val="ff9900"/>
                </a:solidFill>
                <a:latin typeface="Impact"/>
              </a:rPr>
              <a:t>DE             LA REPUBLICA            ARGENTIN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53341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92" name="LOGO%20COMRA" descr=""/>
          <p:cNvPicPr/>
          <p:nvPr/>
        </p:nvPicPr>
        <p:blipFill>
          <a:blip r:embed="rId1"/>
          <a:stretch/>
        </p:blipFill>
        <p:spPr>
          <a:xfrm>
            <a:off x="4233960" y="4419720"/>
            <a:ext cx="67608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9900"/>
                </a:solidFill>
                <a:latin typeface="Arial Narrow"/>
              </a:rPr>
              <a:t>MERCADOS   PRESTADORES</a:t>
            </a:r>
            <a:endParaRPr b="0" lang="en-US" sz="4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SERVICIOS MEDICOS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SERVICIOS SANATORIALES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MEDICAMENTOS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0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9900"/>
                </a:solidFill>
                <a:latin typeface="Arial Narrow"/>
              </a:rPr>
              <a:t>SERVICIOS MEDICOS</a:t>
            </a:r>
            <a:endParaRPr b="0" lang="en-US" sz="4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3 MEDICOS C/ 1000 HABITANT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80 % ESPECIALISTAS,70% EN LAS CAPITAL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COMUNIDAD PROFESIONAL CRECE 5 VECES MAS RAPIDO QUE LA POBLACION.(PROLETARIADO MEDICO)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3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PROFESIONALES</a:t>
            </a:r>
            <a:endParaRPr b="0" lang="en-US" sz="5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PREGRAD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POSGRAD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EDUCACION MEDICA CONTINU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RESPONSABILIDAD PROFESION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6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PREGRADO</a:t>
            </a:r>
            <a:endParaRPr b="0" lang="en-US" sz="5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CURRICULA  FUNDAMENTADA EN MEDICINA BASADA EN LA EVIDENCIA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COORDINACIÓN ENTRE LOS MINISTERIOS</a:t>
            </a:r>
            <a:r>
              <a:rPr b="0" lang="es-ES_tradnl" sz="36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DE SALUD Y EDUCACION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POSGRADO</a:t>
            </a:r>
            <a:endParaRPr b="0" lang="en-US" sz="5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ACCESIBILIDAD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PRIORIZAR LAS DE MEDICINA FAMILIAR –GENERAL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VACANTES EN ESPECIALIDADES LINEALES ACORDE CON LAS NECESIDADES DEL SISTEMA</a:t>
            </a:r>
            <a:r>
              <a:rPr b="0" lang="es-ES_tradnl" sz="36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31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457164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-EDUCACION MEDICA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CONTINUA</a:t>
            </a: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-CERTIFICACION-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RECERTIFICACION</a:t>
            </a: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-RESPONSABILIDAD      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PROFESIONAL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3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CARRERA MEDICA</a:t>
            </a:r>
            <a:endParaRPr b="0" lang="en-US" sz="5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4760" y="30481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SECTOR PUBLIC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66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SEGURIDAD SOCI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36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POLITICAS</a:t>
            </a:r>
            <a:r>
              <a:rPr b="1" lang="es-ES_tradnl" sz="5400" spc="-1" strike="noStrike">
                <a:solidFill>
                  <a:srgbClr val="ff9900"/>
                </a:solidFill>
                <a:latin typeface="Impact"/>
              </a:rPr>
              <a:t> </a:t>
            </a:r>
            <a:r>
              <a:rPr b="0" lang="es-ES_tradnl" sz="4400" spc="-1" strike="noStrike">
                <a:solidFill>
                  <a:srgbClr val="ff9900"/>
                </a:solidFill>
                <a:latin typeface="Impact"/>
              </a:rPr>
              <a:t>      </a:t>
            </a: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DE       SALUD</a:t>
            </a:r>
            <a:endParaRPr b="0" lang="en-US" sz="5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95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HISTORIA</a:t>
            </a:r>
            <a:endParaRPr b="0" lang="en-US" sz="5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Sociedades de Beneficencia y Socorros Mutuos (Inmigrantes)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Responsabilidad Individual y hospitales de caridad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Creación del Ministerio de Salud (Hospitales Públicos-Obras Sociales)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Estancamiento del sector Público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98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6000" spc="-1" strike="noStrike">
              <a:solidFill>
                <a:srgbClr val="ff99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Creación del INOS.Ley 18.610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-Obligatoriedad del aporte.Consolidación de las Obras Sociales como ente financiadores                                                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-Aparición de las prepaga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-Descentralización Hospitalari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ff9900"/>
                </a:solidFill>
                <a:latin typeface="Arial Narrow"/>
              </a:rPr>
              <a:t>-Creación  del I.N.S.S.J.P.(PAMI)</a:t>
            </a:r>
            <a:r>
              <a:rPr b="1" lang="es-ES_tradnl" sz="2800" spc="-1" strike="noStrike">
                <a:solidFill>
                  <a:srgbClr val="ff99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1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6000" spc="-1" strike="noStrike">
              <a:solidFill>
                <a:srgbClr val="ff996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Ley 20748/74   S.N.I.S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14400" y="3048120"/>
            <a:ext cx="1083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66"/>
                </a:solidFill>
                <a:latin typeface="Arial Narrow"/>
              </a:rPr>
              <a:t>(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Integración y Coordinación de las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políticas de Salud)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        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(Derogada en 1976.)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6000" spc="-1" strike="noStrike">
              <a:solidFill>
                <a:srgbClr val="ff996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Arancelamiento Hospitalario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Aumento del gasto en tecnología médica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Bajo presupuesto para Atención Primaria y Prevención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Proliferación de Médicos Especialistas</a:t>
            </a:r>
            <a:r>
              <a:rPr b="1" i="1" lang="es-ES_tradnl" sz="3200" spc="-1" strike="noStrike">
                <a:solidFill>
                  <a:srgbClr val="ff99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8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6000" spc="-1" strike="noStrike">
              <a:solidFill>
                <a:srgbClr val="ff99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Leyes 23.660 y 23.661(Seguro Nacional de Salud.)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Sobrecarga del Sector Público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Crisis del Sector Prestador Privado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1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6000" spc="-1" strike="noStrike">
              <a:solidFill>
                <a:srgbClr val="ff99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-Desregulación del Estado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lvl="1" marL="56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    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-Hospitales de Autogestión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    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-Libre elección de Obra Social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    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-Prohibición a las Obras Sociales  de      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contratar con Entidades Médicas.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          </a:t>
            </a:r>
            <a:r>
              <a:rPr b="1" lang="es-ES_tradnl" sz="3600" spc="-1" strike="noStrike">
                <a:solidFill>
                  <a:srgbClr val="ff9900"/>
                </a:solidFill>
                <a:latin typeface="Arial Narrow"/>
              </a:rPr>
              <a:t>(Decreto 9/93)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4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12192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9900"/>
                </a:solidFill>
                <a:latin typeface="Arial Narrow"/>
              </a:rPr>
              <a:t>GASTO EN SALUD</a:t>
            </a:r>
            <a:endParaRPr b="0" lang="en-US" sz="5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9900"/>
                </a:solidFill>
                <a:latin typeface="Arial Narrow"/>
              </a:rPr>
              <a:t>SUBSECTOR PUBLICO:                 21.7%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9900"/>
                </a:solidFill>
                <a:latin typeface="Arial Narrow"/>
              </a:rPr>
              <a:t>SUBSECTOR S. SOCIAL:                36.3%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9900"/>
                </a:solidFill>
                <a:latin typeface="Arial Narrow"/>
              </a:rPr>
              <a:t>SUBSECTOR PRIVADO :                42.0%  </a:t>
            </a:r>
            <a:r>
              <a:rPr b="1" i="1" lang="es-ES_tradnl" sz="32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1" i="1" lang="es-ES_tradnl" sz="32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1" i="1" lang="es-ES_tradnl" sz="3200" spc="-1" strike="noStrike">
                <a:solidFill>
                  <a:srgbClr val="ff9900"/>
                </a:solidFill>
                <a:latin typeface="Arial Narrow"/>
              </a:rPr>
              <a:t>                 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7" name="LOGO%20COMRA" descr=""/>
          <p:cNvPicPr/>
          <p:nvPr/>
        </p:nvPicPr>
        <p:blipFill>
          <a:blip r:embed="rId1"/>
          <a:stretch/>
        </p:blipFill>
        <p:spPr>
          <a:xfrm>
            <a:off x="8467560" y="0"/>
            <a:ext cx="676440" cy="88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3:04:35Z</dcterms:created>
  <dc:creator>x</dc:creator>
  <dc:description/>
  <dc:language>en-US</dc:language>
  <cp:lastModifiedBy>pagina</cp:lastModifiedBy>
  <cp:lastPrinted>2003-10-07T17:33:59Z</cp:lastPrinted>
  <dcterms:modified xsi:type="dcterms:W3CDTF">2003-10-17T21:19:57Z</dcterms:modified>
  <cp:revision>4</cp:revision>
  <dc:subject/>
  <dc:title>CONFEDERACION       MEDICA         DE             LA REPUBLICA            ARGENTINA</dc:title>
</cp:coreProperties>
</file>