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255-33E8-48F1-AF5D-036E0101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D57-B8EE-4144-8948-599B8AE9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BEA-BFE0-4003-9AE3-C6D984F5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F61-076E-453C-8644-E0858314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869F-751A-4839-8177-2323AA5B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C0DF-3DC3-4E1E-9987-51249BA0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79A9-F3A8-4A1E-BA28-703A1C04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BE4E-BC64-4B6E-A716-838316B1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6EC1-F304-4A73-925D-1BFED14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98D9-8521-41D2-9BE7-98842DC6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1B27-9480-464B-8DC1-F77CCF6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162-96BF-4B35-AC36-19B5645A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ED98-5517-43B1-83BD-EF06191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7058-CC10-479D-81EE-CE05404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73EE-68D0-4D98-8332-6F86733C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2004-FD72-49FE-B136-7E2304F1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22ED-D8CB-45B4-8770-F9AB4A82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86C-E647-40FD-A3ED-EFFB33D3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156-0FAE-4C7C-B7DF-CBAF9FC1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343-BD6E-4CE0-9914-86257955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93A-BD42-418B-81CE-D5BED38D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15E-F859-4925-B020-64CB0F50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B01-59C0-4C4C-9111-1DC8C36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E10-59C0-4152-A511-A2399C2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D2C5-4BA5-46AD-A7B6-58B1D033741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A6B8-B120-4429-8E4A-A29475F371D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gferro@uade.edu.ar" TargetMode="External"/><Relationship Id="rId2" Type="http://schemas.openxmlformats.org/officeDocument/2006/relationships/hyperlink" Target="mailto:gferro@uade.edu.ar" TargetMode="External"/><Relationship Id="rId3" Type="http://schemas.openxmlformats.org/officeDocument/2006/relationships/hyperlink" Target="mailto:gferro@uade.edu.ar" TargetMode="External"/><Relationship Id="rId4" Type="http://schemas.openxmlformats.org/officeDocument/2006/relationships/hyperlink" Target="mailto:gferro@uade.edu.ar" TargetMode="External"/><Relationship Id="rId5" Type="http://schemas.openxmlformats.org/officeDocument/2006/relationships/hyperlink" Target="mailto:gferro@uade.edu.ar" TargetMode="External"/><Relationship Id="rId6" Type="http://schemas.openxmlformats.org/officeDocument/2006/relationships/hyperlink" Target="mailto:gferro@uade.edu.ar" TargetMode="External"/><Relationship Id="rId7" Type="http://schemas.openxmlformats.org/officeDocument/2006/relationships/hyperlink" Target="mailto:gferro@uade.edu.ar" TargetMode="External"/><Relationship Id="rId8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a3d7a"/>
                </a:solidFill>
                <a:latin typeface="Times New Roman"/>
              </a:rPr>
              <a:t>Segundo Congreso de la</a:t>
            </a: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2a3d7a"/>
                </a:solidFill>
                <a:latin typeface="Times New Roman"/>
              </a:rPr>
              <a:t>Seguridad Social </a:t>
            </a:r>
            <a:br>
              <a:rPr sz="2400"/>
            </a:br>
            <a:r>
              <a:rPr b="0" lang="es-ES_tradnl" sz="2400" spc="-1" strike="noStrike">
                <a:solidFill>
                  <a:srgbClr val="2a3d7a"/>
                </a:solidFill>
                <a:latin typeface="Times New Roman"/>
              </a:rPr>
              <a:t>OISS-CPCECABA, 1 al 3 de Octubre de 2003 </a:t>
            </a:r>
            <a:br>
              <a:rPr sz="2400"/>
            </a:br>
            <a:r>
              <a:rPr b="0" lang="es-AR" sz="20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“El trabajador independiente – Su acceso a la Seguridad Social”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b5249"/>
                </a:solidFill>
                <a:latin typeface="Times New Roman"/>
              </a:rPr>
              <a:t>Sistema previsional: capitalización y trabajadores independiente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b5249"/>
                </a:solidFill>
                <a:latin typeface="Times New Roman"/>
              </a:rPr>
              <a:t>Gustavo Ferro (UADE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b5249"/>
                </a:solidFill>
                <a:latin typeface="Times New Roman"/>
              </a:rPr>
              <a:t>Doctor en Economí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Algunas diferencias de diseño con la reforma chil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Nuevo sistema de reparto no existe en Chile (en su lugar, Garantía de Pensión Mínima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usencia de PBU en Chile, en su lugar Garantía de Pensión Mínim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conocimiento de aportes al viejo sistema en forma de Bonos de Reconocimiento en Chile, incorporados a las cuentas de capitaliz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istema indexado en Unidades de Fomento en Chile (protegido contra la inflación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Participación voluntaria en Chile de los autónomos (obligatoria en Argentina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E2F-6B31-4B8F-A656-3873699FC4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Efectos de la reforma sobre el ahorro (1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horro (A) total = A privado + A público + A exter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 nacional = A privado + A públic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 total = A nacional + A exter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Un sistema de capitalización, considerado aisladamente, eleva el A privad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Un sistema de reparto residual al que se quita financiamiento, considerado aisladamente, mientras persista efectuando pagos, disminuye el A públic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82A-4C9F-4C84-981C-FD6981F4EF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Efectos de la reforma sobre ahorro (2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b5249"/>
                </a:solidFill>
                <a:latin typeface="Times New Roman"/>
              </a:rPr>
              <a:t>Cambio en el A por la Reforma = Aumento de A privado + Disminución del A público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b5249"/>
                </a:solidFill>
                <a:latin typeface="Times New Roman"/>
              </a:rPr>
              <a:t>Como el sistema residual tiene el carácter de temporario y con obligaciones decrecientes en el tiempo, y el sistema de capitalización es permanente y con recursos crecientes, pasado un cierto número de años, el Cambio en el A por la reforma es positivo. Pero tal efecto NO ES INMEDIATO. Además, si en el medio se introducen por ejemplo, aumentos de jubilación a los miembros del sistema residual, o bajas de aportes, el aumento en A se demora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102-0FB7-426A-80F2-1E880501BA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Ejemplo de efectos sobre ahorr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upóngase un trabajador que aporta 40 años para vivir 10 en retir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En reparto, $ 1 de aporte, generan $ 1 de prestaciones. El trabajador tendría que aportar $ 25 por año trabajado para percibir $ 100 cada año retirad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i en lugar de ello ahorra $ 25 por año, con una tasa de interés del 2% juntará $ 168 para cada año en retiro, al 5% tendrá $ 391 al año, y al 8% logrará $ 965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diferencia con los $ 100 de reparto tiene que ver con la asignación a usos productivos de los aportes, en lugar de redistribuirlos en forma inmediat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AF3-464E-43EF-91B3-94946B9D2A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¿Qué ventajas tiene repart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Al momento de iniciar un sistema, permite desde el lanzamiento estar pagando jubilacion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En capitalización hay que esperar a que el dinero se acumu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También permite efectuar redistribuciones de ingreso entre miembros de una misma cohor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5F7-6D9E-479D-8025-E090DFB360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Efectos sobre el crecimiento económic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El crecimiento económico (o sea de la capacidad productiva de la economía en el largo plazo) depende de la acumulación de factores (K y L) y del cambio tecnológico, suponiendo cierto entorno instituciona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iempre suponiendo cierto entorno institucional y de los intermediarios financieros, el A se transforma en K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Ceteris paribus, más A implica más K, y más K implica más PBI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i parte de A se atesora o se fuga al exterior, hay menos K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i el entorno institucional es malo y los intermediarios financieros ineficientes, a igual A se tiene menos K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109-71FE-40D9-9B9C-7C78B0C9B1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Efectos sobre las cuentas públic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Flujos: al A público es el superávit presupuestario. La reforma genera déficits transitorios, al disminuir los ingresos para el segmento estatal y permanecer los gastos del sistema residual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Stocks: los déficits estatales acumulados son deuda pública (explícita). Un sistema de reparto esconde también deuda pública (implícita) que en principio está calzada con futuros ingresos (pero es sensible a la demografía y a la mala administración)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La reforma en el sentido operado explicitará deuda implícita en el corto plazo, aunque en el largo plazo al desaparecer compromisos, caerá la deuda implícita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Un esquema como el chileno de bonos de reconocimiento explicita en forma más clara deuda implícita, respecto a un esquema como la PAP argentina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20D-194D-4976-B1BF-CB4FC1CBC3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La problemática de los autónomos en Argenti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Fue un grupo incorporado tardíamente (década de los cincuenta) y la antigua “Caja de Autónomos” fue tempranamente deficitari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Con la reforma se mantuvo la obligatoriedad del aporte sobre ingresos presuntos. Los aportes son de suma fija. En Chile se decidió hacer la participación voluntari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El nivel de cumplimiento de los autónomos es bajísimo. Con el monotributo se quiso inducir a participar, pero tampoco se lo logró. Hubo intentos referidos a personal doméstico y otros donde tampoco se consiguió éxit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¿Cómo inducir la participación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4D7-00EE-47F4-8479-9245589E0B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Participación obligatoria y análisis costo/benefici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Cuando las retenciones son en la fuente, las posibilidades de evasión por parte del trabajador se acotan. Hay vías de elusión: subdeclaración, sumas no remunerativas o directamente sobresueldos en negro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Cuando la retención no es en la fuente, hay un análisis costo/beneficio de evadir (es más difícil eludir)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Un problema que hace a la “capacidad de pago”: la suma fija. Si los ingresos del trabajador caen, no puede reducir su aporte, si aumentan no puede elevarlos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Otro problema: escasa apropiabilidad del aporte. Tomando el que replica al patronal en 16% y el que replica al personal en 11%, sólo este último es capitalizable. El empleado dependiente “no ve” el aporte patronal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285-C4BD-4FBD-ADC9-25CD20D44B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2a3d7a"/>
                </a:solidFill>
                <a:latin typeface="Times New Roman"/>
              </a:rPr>
              <a:t>Un marco de análisis económico para la problemática del autónom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Paradigma Principal-Agente (P-A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P quiere optimizar cierto objetivo, que involucra que el A efectúe cierta acción. La optimización está acotada por dos restriccione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1) Participación (el A debe tener incentivos para participar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2) Compatibilidad de incentivos (el A debe estar alineado con el objetivo del principal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habla de incentivos económicos (no morales) donde entran premios y penalidad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110-CD78-4802-A1F5-376CA7F301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Sistema Previsional y Seguridad Soc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Sistema Previsional es un subsistema de la Seguridad Soci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u meta es proveer recursos para el consumo en la vejez y para la supervivencia de dependientes ante muerte o inhabilitación del causa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tiende a la pérdida de ingresos derivada de “siniestros” biológicos, que afectan a la capacidad de generar ingresos (vejez, invalidez y muerte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Sistema puede tener incorporadas con mayor o menor intensidad las funciones de seguro, ahorro y redistribu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6B3-246A-4D3E-A72F-5DAE57B97C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La aplicación al caso en estudi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objetivo del P podría definirse como “hacer contribuir a los autónomos para que generen su propio ahorro, cofinancien el mantenimiento del sistema residual y no sean un problema futuro”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stricción de participación: el A debe hallar más rentable/menos costoso participar que no hacerl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stricción de compatibilidad de incentivos: el A debe tener una penalidad creíble e implementable si no contribuye al sistem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FF1-6CAC-498F-AD00-0A2FDD0F34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¿Qué se puede hacer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1) Cobrar un porcentaje de lo facturado, y no una suma fija. El porcentaje descontado debe identificar el componente de ahorro personal del de contribución a reparto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2) Este último componente debería ir disminuyendo en el tiempo, a medida que el viejo sistema se extingue. Se puede estimar un cronograma tentativo de disminución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3) Quien factura contribuye automáticamente (podría tener que comprar facturas fiscales, con estampillado). Quien no factura es sancionado (multa, clausura o penalidad corporal)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b5249"/>
                </a:solidFill>
                <a:latin typeface="Times New Roman"/>
              </a:rPr>
              <a:t>4) El destino del ahorro previsional es una cartera de valores mobiliarios. Dicha cartera podrían manejarla diferentes intermediarios.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5DE-6F8A-44DB-85BA-65BFAF6EDF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Tipos de fondos de pensiones en el mund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entas en bancos o compañías de segur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ticipaciones en fondos de compañías de segur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entas en Administradoras de Fond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undaciones, fideicomisos y mutua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531-E670-40B3-A82C-F5D74807C1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Muchas gracias por la atenció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gferro</a:t>
            </a:r>
            <a:r>
              <a:rPr b="0" lang="es-ES_tradnl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s-ES_tradnl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uade</a:t>
            </a:r>
            <a:r>
              <a:rPr b="0" lang="es-ES_tradnl" sz="3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_tradnl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edu</a:t>
            </a:r>
            <a:r>
              <a:rPr b="0" lang="es-ES_tradnl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s-ES_tradnl" sz="3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Alternativas de organizació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Obligatorio versus voluntari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Público versus privad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Contribuciones definidas (CD) versus beneficios definidos (BD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Reparto (pay-as-you-go, transferencias intergeneracionales) versus capitalización (fully-funded, ahorro individual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F67-04C6-46A8-8AF2-4622BF3A3A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Obligatorio versus voluntari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e lo considera un bien meritorio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, preferible a la caridad o la familia ampliada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vitar la "selección adversa" de malos riesgos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 con libre afiliación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3)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iesgo moral": 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la cigarra y la hormiga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4)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omportamientos individuales como miopía o incapacidad de percepción de los riesgos propios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7E6-8E5E-4AE9-A9BB-9A19633B65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Público versus privad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Nada indica que deba organizarse en forma privada o pública a priori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Desventaja del enfoque privado: requiere regulación (por externalidades informativas y consideración de bien meritorio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Desventaja del enfoque público: en entornos institucionales pobres, puede dar lugar a excesivas transferencias intrageneracionales fundadas en el proceso polític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740-7451-45D1-9BE5-142434CEF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Contribuciones definidas versus beneficios definid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n el primer caso (CD) no hay un compromiso del ente que recauda a una corriente de pagos determinad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segundo esquema (BD) fija de antemano un compromiso de una corriente de pagos explícit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primer arreglo establece menos presión sobre el sistema, el segundo parece a priori proteger a los futuros jubilado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A82-A4B0-46C6-B273-174C229D66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Reparto versus capitalizació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Reparto se basa en solidaridad entre generaciones: cada generación activa sostiene a la generación pasiva con la que convive. Sensible a la demografía (un aumento de la esperanza de vida y/o caída en el crecimiento demográfico requieren disminuir los beneficios y/o elevar la edad legal de retiro y/o aumentar la tasa de aporte. Permite redistribuciones intrageneracionale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Capitalización se basa en ahorro individual: cada generación ahorra en actividad para el período inactivo. Sensible a crisis financieras, ya que el ahorro por definición está denominado en instrumentos financieros. Es menos posible la redistribución intrageneraciona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D89-2182-418A-A83D-70407CAF38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Argentina (1877-1994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1877-1946 Esfuerzos aislados, sindicales o mutuales, privados y de capitaliz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1946-67 Estatización, progresiva generalización, obligatoriedad y expropiación estatal de los fondos capitalizado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1967-94 Generalización, sistema de reparto estatal, definición de beneficios a un nivel muy alto, sucesivos shocks macroeconómicos, demográficos, inflación y redistribu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702-CFD5-41D5-B6B4-98598F9864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a3d7a"/>
                </a:solidFill>
                <a:latin typeface="Times New Roman"/>
              </a:rPr>
              <a:t>Argentina (1994-...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Nuevo sistema mixto. Opción por reparto (PAP, de BD) o capitalización (JO, de CD). Traspaso no compulsivo sino ligado a incentivo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paración de la función redistributiva, concentrada en una Prestación Básica Universal (PBU primero BD, luego CD a partir de la Ley de Solidaridad Previsional –cambió AMPO por MOPRE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Reconocimiento de aportes al viejo sistema (PC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antenimiento del sistema precedente cerrado (alrededor de 3,5 millones de personas), previo reconocimiento de deudas caídas en 1992. Por simplicidad, será designado como “sistema residual”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DD8-2B50-4969-A933-C39A9237F1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37:59Z</dcterms:created>
  <dc:creator>gferro</dc:creator>
  <dc:description/>
  <dc:language>en-US</dc:language>
  <cp:lastModifiedBy>pagina</cp:lastModifiedBy>
  <dcterms:modified xsi:type="dcterms:W3CDTF">2003-10-17T21:10:56Z</dcterms:modified>
  <cp:revision>13</cp:revision>
  <dc:subject/>
  <dc:title>Congreso Seguridad Social CPCECABA, Octubre 2003</dc:title>
</cp:coreProperties>
</file>