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211-01E9-4C9E-81F9-11A2CB9D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1DD-DE72-49B4-853C-D30D2AA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9D8-50C0-49E1-9BE0-4A5E5145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83C-D654-4696-93BF-2E798552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2F01-F479-40E9-BDF3-B5BE0057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0061-4412-4E1D-876E-85A37F6F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9602-272A-4DE7-81FE-8B59946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7F1-BC3C-452E-BAFC-8854FB1B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1BE-7306-44F8-8B7C-5E08E50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31B7-A895-45AA-95FF-BC142A8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FCE-99B4-48D8-8145-017FEDA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0A0-A172-4C24-BE9E-2049D6CD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E2D-4D11-4C46-B08E-DA51ECCE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5118-B52C-4C9D-871F-D308045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9CC4-9AF9-4EC6-A64D-91EAFE60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E7C0-5B0D-4398-BADC-18BBB7A2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02C-BB1E-4FC5-982D-4CF21074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970-E9C6-4E21-92C8-65876594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D44-4CE4-49A3-9478-E2D55DF1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51B-0F3A-4982-B843-581271BB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793-AC39-44CC-B70C-58CFE25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E08-DD28-46FE-853C-983ED98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BAC-CE35-4CC4-9973-777C1F0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5B9-50E6-4783-BE89-74D6D58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678E-8EFD-41E1-A3CD-ACE9756092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EE9-131F-42F2-94C7-5E9C1B337D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2do. CONGRESO DE LA SEGURIDAD SOCI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TRABAJADOR INDEPENDIENTE-SU ACCESO A LA SEGURIDAD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72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XTO INTERNACIONAL DE LA COBERTURA DE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ISLACION COMPA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734080"/>
            <a:ext cx="2817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r. Oscar O. Coch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Superintendencia de Servicios de Salud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OBRAS SOCIALES</a:t>
            </a: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istemas de adherentes (voluntari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ago de una cu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Servicios equipa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rup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Fondo Solidario de Redistribu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SISTEMA DE MONOTRIBUTO</a:t>
            </a: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gunas obras so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terminadas pres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go de una cuota dentro del trib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go adicional por grup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in Fondo Solidario de Redistribu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DIFICULTADES DEL SISTEMA</a:t>
            </a: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caso o nulo cumplimiento de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mento de la cobertu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alor de la cu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rruptel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ta de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ta de unif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pción induc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REFORMA PROPUESTA</a:t>
            </a: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greso volun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mbio de valor de la cuota: $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greso al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in “cláusula de salida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PROPUESTA</a:t>
            </a: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ntenimiento de planes de adherentes de las obras so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corporación de los autónomos al Sistema Nacional del Seguro de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gulación de la medicina prep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eracción de los Sistemas y sub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CLASIFICACION DE ACUERDO A SU FORMA DE FINANCIAMIENT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istema Nacional de Salu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seguramiento Pri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istema argent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SISTEMAS DE SALUD EUROPE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289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bertura general muy exten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inanciamiento público por rentas gen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inanciamiento por impuestos al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inanciamiento mix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PROVISION DE SERVICIOS EN LA UNION EUROPE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70000" y="1946160"/>
          <a:ext cx="7772400" cy="463572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os los serv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o por pres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AÑ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– Méd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privados, dentistas, farma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rio más cop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os los serv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o por pres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AL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públicos, especialis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y especialistas priv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i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INO U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públicos, servicios comunitarios, especialis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es privados, odontología, médicos de familia s/autóno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i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16200" y="546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 Chi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80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69400" y="95580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AP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112536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692280"/>
            <a:ext cx="248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baja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pendientes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6840" y="21337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incipio: cotización (porcentaje o renta presu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8560" y="2967120"/>
            <a:ext cx="26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n Canad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33960" y="3881520"/>
            <a:ext cx="436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GUROS DE ENFERME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ministrac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g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ivers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snfer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3360" y="308916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inanciamiento a través de 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En E.E.U.U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DICAID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DI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ros Privados – H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ol del gobi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 la Argent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2520" y="1946160"/>
            <a:ext cx="854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rabajador dependiente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Sistema Nacional (ley 23.6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Sistemas Provi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Leyes especiales (Universidad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der Legislativo, Poder Judici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licía Federal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rabajador independiente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Empresas de Medicina Prepa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¿indig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Monotribu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368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09680" y="2895480"/>
          <a:ext cx="5639040" cy="27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563904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952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stribución por tipo de beneficiario tit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286000" y="1523880"/>
          <a:ext cx="594036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594036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1:21:21Z</dcterms:created>
  <dc:creator>ocochlar</dc:creator>
  <dc:description/>
  <dc:language>en-US</dc:language>
  <cp:lastModifiedBy>pagina</cp:lastModifiedBy>
  <cp:lastPrinted>2003-10-07T17:02:40Z</cp:lastPrinted>
  <dcterms:modified xsi:type="dcterms:W3CDTF">2003-10-17T21:54:27Z</dcterms:modified>
  <cp:revision>11</cp:revision>
  <dc:subject/>
  <dc:title>2do. CONGRESO DE LA SEGURIDAD SOCIAL</dc:title>
</cp:coreProperties>
</file>