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C7A-D0B5-46D9-A799-7E17C6BD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911-EADB-4EF0-B991-074699BC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D7E-095D-43CC-8D0C-5535114C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421-70E6-4DF7-AB32-26284A06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C48-8EE8-444D-9A52-31499151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6D9-1A91-4C4C-A1B8-F656912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40B-EC34-4ADD-A493-0E61EE43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35A-10B9-4AB2-9C63-4D1B77FF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A82-D09D-44E6-9D11-D91EC94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DDD-B1C1-463B-8105-4F66B26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373-976E-4689-8CC6-976313A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BA2-F5E9-420F-9CC0-583698A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EFD9-5CC0-42CF-9C20-2858946684AF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AUTÓNOMOS EN LA PREVIS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084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. Leopoldo van Cauwla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/10/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98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TEGORÍAS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Genuinos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172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icios (incluidos los de actividades extractivas prima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s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s de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o doméstico de tiempo redu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es no remun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r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1628640"/>
            <a:ext cx="6985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SOS NO GENUI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42920" y="3284280"/>
            <a:ext cx="73454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dores de fú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ados d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adores” de años de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Ú DE ENCUADR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8920" y="2636640"/>
            <a:ext cx="64008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jas profesionales provi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IJP 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ono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rvicio doméstico (L 2523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1280" y="1628640"/>
          <a:ext cx="7772400" cy="4237200"/>
        </p:xfrm>
        <a:graphic>
          <a:graphicData uri="http://schemas.openxmlformats.org/drawingml/2006/table">
            <a:tbl>
              <a:tblPr/>
              <a:tblGrid>
                <a:gridCol w="3093840"/>
                <a:gridCol w="2468520"/>
                <a:gridCol w="221004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RTE SI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nta de la categor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 SI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nta de la categor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RTE INSS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nta de la categor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u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39640" y="26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404640"/>
            <a:ext cx="8569080" cy="581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INO DEL APORTE DEL AUTÓN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NAS DIFICULT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92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elimitación “recupero de insumos”, “renta del capital”, “renta del trabajo person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rregularidad de la magnitud de la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rregularidad en la periodicidad de la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alta de registros d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ficultades referidas a la localización del trabajo (domicilio propio, “a domicilio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tomización vs detección 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NAS PRO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universalizar”: clasificar sectores y crear tratamientos específ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cular prestaciones de goce futuro (vejez, invalidez y muerte), con prestaciones de goce presente (salud, riesgo de trabajo, incapacidad o inactividad transitor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mializar” sectores y crear tratamientos gru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r la proporción contributiva, mejorando la relación aporte / benef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ES DETERMINANTES DE LA CARACTERIZACIÓN DEL INDEPEND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2204640"/>
            <a:ext cx="817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ósito de lu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unción de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determinación en elección de producto / servicio, horario, localización, método de trabajo, client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u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enes de capital / insumos y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 FENÓMENO ACT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0000" y="349992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mpleo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versus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JADORES INFORMALES / OCUPADOS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87280" y="1397160"/>
          <a:ext cx="6432840" cy="4140000"/>
        </p:xfrm>
        <a:graphic>
          <a:graphicData uri="http://schemas.openxmlformats.org/drawingml/2006/table">
            <a:tbl>
              <a:tblPr/>
              <a:tblGrid>
                <a:gridCol w="2532240"/>
                <a:gridCol w="2203560"/>
                <a:gridCol w="1697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ip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ena F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42920" y="6453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UENTE: Schulthess - Felipp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260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JADORES INFORMALES / OCUPADOS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87280" y="1125360"/>
          <a:ext cx="6432840" cy="5079960"/>
        </p:xfrm>
        <a:graphic>
          <a:graphicData uri="http://schemas.openxmlformats.org/drawingml/2006/table">
            <a:tbl>
              <a:tblPr/>
              <a:tblGrid>
                <a:gridCol w="2532240"/>
                <a:gridCol w="2203560"/>
                <a:gridCol w="1697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iv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a 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ara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042920" y="6453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UENTE: Schulthess - Felipp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260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JADORES INFORMALES / OCUPADOS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87280" y="907920"/>
          <a:ext cx="6432840" cy="5588280"/>
        </p:xfrm>
        <a:graphic>
          <a:graphicData uri="http://schemas.openxmlformats.org/drawingml/2006/table">
            <a:tbl>
              <a:tblPr/>
              <a:tblGrid>
                <a:gridCol w="2532240"/>
                <a:gridCol w="2203560"/>
                <a:gridCol w="1697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él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ama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ñ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o Un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042920" y="6453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UENTE: Schulthess - Felipp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403280" y="2133720"/>
          <a:ext cx="6624720" cy="35845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-d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ó-no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692360" y="83664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RTANTES AL SISTEMA NACIONAL DE PREVISIÓN SOCIAL (m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6453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UENTE: Schulthess - Felipp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00000" y="627120"/>
          <a:ext cx="7488360" cy="57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7120"/>
                    <a:ext cx="74883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042920" y="6453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FUENTE: Schulthess - Felipp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1:14:05Z</dcterms:created>
  <dc:creator>::</dc:creator>
  <dc:description/>
  <dc:language>en-US</dc:language>
  <cp:lastModifiedBy>pagina</cp:lastModifiedBy>
  <dcterms:modified xsi:type="dcterms:W3CDTF">2003-10-17T21:58:27Z</dcterms:modified>
  <cp:revision>19</cp:revision>
  <dc:subject/>
  <dc:title>Diapositiva 1</dc:title>
</cp:coreProperties>
</file>