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438E-A0DC-45A2-A21D-1D29BE14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4284-5042-4A10-82DF-C38D50B8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C90B-EBD1-4309-ACFB-B4DD10985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DD5D-3717-4001-AFA7-2740BC350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E0AF-74EB-4092-BC2E-7A36A011B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DB80-3F2B-4462-B283-0203246A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562D-3BBA-4612-8738-D9B78DA7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45DC-446A-4682-97F0-D02D8E15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B452-881A-4143-85CB-B7D6CA71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4CC3-3CAE-4B04-A50B-FD74CC24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F4B1-5EE3-4DC7-8C61-B2544F35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FC84-178C-446C-984E-D4EA999E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9CB6-2D9A-4E3A-BF8F-8EB7717C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4C6E-AEA3-40B2-A190-771537D2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4F5E-7CD7-4536-AE36-C12AB7B1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AD21-8F7C-44E2-821A-5C35AFB11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F145-7643-445D-891C-F301FC66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943A-3FE5-4EA4-9979-A2F4F18B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AE36-35DA-4696-9326-D9DC0E11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1890-F196-45DC-9ED7-59281EBA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B69C-E89D-4BB0-A0B2-666981EC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8CB1-8FA4-432C-B504-FF248146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2B4A-6DA1-4AE8-BF9E-B2C7F9C1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EFD0-73C7-4C13-A606-B1BE6BBD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2648-E38D-4157-BA81-CDC77396ABD5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523880" y="2133720"/>
          <a:ext cx="7010640" cy="44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>
                    <a:alphaModFix amt="50000"/>
                  </a:blip>
                  <a:stretch/>
                </p:blipFill>
                <p:spPr>
                  <a:xfrm>
                    <a:off x="1523880" y="2133720"/>
                    <a:ext cx="7010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9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51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410C-E6DF-476B-BAD7-CF071CD4D0E4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838080" y="2666880"/>
            <a:ext cx="8305920" cy="35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3366"/>
                </a:solidFill>
                <a:latin typeface="Verdana"/>
              </a:rPr>
              <a:t>La cobertura de riesgos del trabajo para el trabajador independient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Verdana"/>
              </a:rPr>
              <a:t>Lic. Mara Bettio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5791320" y="630360"/>
          <a:ext cx="2666880" cy="113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630360"/>
                    <a:ext cx="2666880" cy="11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1" name=""/>
          <p:cNvGraphicFramePr/>
          <p:nvPr/>
        </p:nvGraphicFramePr>
        <p:xfrm>
          <a:off x="914400" y="2514600"/>
          <a:ext cx="7848720" cy="2209680"/>
        </p:xfrm>
        <a:graphic>
          <a:graphicData uri="http://schemas.openxmlformats.org/drawingml/2006/table">
            <a:tbl>
              <a:tblPr/>
              <a:tblGrid>
                <a:gridCol w="2895480"/>
                <a:gridCol w="4953240"/>
              </a:tblGrid>
              <a:tr h="220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Prevención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 indent="-185760"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Asesoramiento según normativa específica por sector o actividad o características de siniestralidad del empleador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marL="185760" indent="-185760"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Denuncias por incumplimientos del empleador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"/>
          <p:cNvSpPr/>
          <p:nvPr/>
        </p:nvSpPr>
        <p:spPr>
          <a:xfrm>
            <a:off x="1447920" y="762120"/>
            <a:ext cx="7391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66"/>
                </a:solidFill>
                <a:latin typeface="Verdana"/>
              </a:rPr>
              <a:t>Características principales del sistema de riesgos del trabaj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21932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Verdana"/>
                <a:ea typeface="Arial"/>
              </a:rPr>
              <a:t>Prestaciones dinerarias según grado de incapacidad Argentina, España y EE. UU.</a:t>
            </a:r>
            <a:r>
              <a:rPr b="1" lang="es-MX" sz="2000" spc="-1" strike="noStrike">
                <a:solidFill>
                  <a:srgbClr val="003366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Verdana"/>
                <a:ea typeface="Times New Roman"/>
              </a:rPr>
              <a:t>(valores para un trabajador de 38 años</a:t>
            </a:r>
            <a:r>
              <a:rPr b="0" lang="es-MX" sz="1600" spc="-1" strike="noStrike">
                <a:solidFill>
                  <a:srgbClr val="003366"/>
                </a:solidFill>
                <a:latin typeface="Verdana"/>
                <a:ea typeface="Times New Roman"/>
              </a:rPr>
              <a:t>, en términos de salario promedio de cada país considerado</a:t>
            </a:r>
            <a:r>
              <a:rPr b="0" lang="es-ES" sz="1600" spc="-1" strike="noStrike">
                <a:solidFill>
                  <a:srgbClr val="003366"/>
                </a:solidFill>
                <a:latin typeface="Verdana"/>
                <a:ea typeface="Times New Roman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990720" y="2743200"/>
          <a:ext cx="6858000" cy="37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743200"/>
                    <a:ext cx="685800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6" name=""/>
          <p:cNvGrpSpPr/>
          <p:nvPr/>
        </p:nvGrpSpPr>
        <p:grpSpPr>
          <a:xfrm>
            <a:off x="6303960" y="2971800"/>
            <a:ext cx="914400" cy="1461240"/>
            <a:chOff x="6303960" y="2971800"/>
            <a:chExt cx="914400" cy="1461240"/>
          </a:xfrm>
        </p:grpSpPr>
        <p:grpSp>
          <p:nvGrpSpPr>
            <p:cNvPr id="317" name=""/>
            <p:cNvGrpSpPr/>
            <p:nvPr/>
          </p:nvGrpSpPr>
          <p:grpSpPr>
            <a:xfrm>
              <a:off x="6319800" y="2971800"/>
              <a:ext cx="762120" cy="1432080"/>
              <a:chOff x="6319800" y="2971800"/>
              <a:chExt cx="762120" cy="1432080"/>
            </a:xfrm>
          </p:grpSpPr>
          <p:sp>
            <p:nvSpPr>
              <p:cNvPr id="318" name=""/>
              <p:cNvSpPr/>
              <p:nvPr/>
            </p:nvSpPr>
            <p:spPr>
              <a:xfrm>
                <a:off x="6458040" y="3276720"/>
                <a:ext cx="334800" cy="1127160"/>
              </a:xfrm>
              <a:prstGeom prst="rect">
                <a:avLst/>
              </a:prstGeom>
              <a:gradFill rotWithShape="0">
                <a:gsLst>
                  <a:gs pos="0">
                    <a:srgbClr val="66ffff"/>
                  </a:gs>
                  <a:gs pos="50000">
                    <a:srgbClr val="ffffff"/>
                  </a:gs>
                  <a:gs pos="100000">
                    <a:srgbClr val="66ffff"/>
                  </a:gs>
                </a:gsLst>
                <a:lin ang="5400000"/>
              </a:gra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319800" y="2971800"/>
                <a:ext cx="762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003366"/>
                    </a:solidFill>
                    <a:latin typeface="Verdana"/>
                  </a:rPr>
                  <a:t>303.5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6303960" y="412596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3366"/>
                  </a:solidFill>
                  <a:latin typeface="Verdana"/>
                </a:rPr>
                <a:t>151.6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914400" y="762120"/>
            <a:ext cx="7924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Verdana"/>
                <a:ea typeface="Arial"/>
              </a:rPr>
              <a:t>Evolución del costo del segur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Verdana"/>
                <a:ea typeface="Times New Roman"/>
              </a:rPr>
              <a:t>(alícuotas pactadas como % del salario, promedio anua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914400" y="2170080"/>
          <a:ext cx="746748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70080"/>
                    <a:ext cx="746748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371600" y="762120"/>
            <a:ext cx="7467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Verdana"/>
                <a:ea typeface="Arial"/>
              </a:rPr>
              <a:t>Costo del seguro – comparación entre sector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Verdana"/>
                <a:ea typeface="Times New Roman"/>
              </a:rPr>
              <a:t>(alícuotas pactadas como % del salario por sector de actividad, jul</a:t>
            </a:r>
            <a:r>
              <a:rPr b="0" lang="es-MX" sz="1600" spc="-1" strike="noStrike">
                <a:solidFill>
                  <a:srgbClr val="003366"/>
                </a:solidFill>
                <a:latin typeface="Verdana"/>
                <a:ea typeface="Times New Roman"/>
              </a:rPr>
              <a:t>/</a:t>
            </a:r>
            <a:r>
              <a:rPr b="0" lang="es-ES" sz="1600" spc="-1" strike="noStrike">
                <a:solidFill>
                  <a:srgbClr val="003366"/>
                </a:solidFill>
                <a:latin typeface="Verdana"/>
                <a:ea typeface="Times New Roman"/>
              </a:rPr>
              <a:t>01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990720" y="2152800"/>
          <a:ext cx="7210440" cy="47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152800"/>
                    <a:ext cx="7210440" cy="47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181160" y="800280"/>
            <a:ext cx="8077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Verdana"/>
                <a:ea typeface="Arial"/>
              </a:rPr>
              <a:t>Costo del seguro –comparación internaciona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Verdana"/>
                <a:ea typeface="Arial"/>
              </a:rPr>
              <a:t> </a:t>
            </a:r>
            <a:r>
              <a:rPr b="0" lang="es-ES" sz="1600" spc="-1" strike="noStrike">
                <a:solidFill>
                  <a:srgbClr val="003366"/>
                </a:solidFill>
                <a:latin typeface="Verdana"/>
                <a:ea typeface="Times New Roman"/>
              </a:rPr>
              <a:t>(como % de la masa salarial, por países con sistemas similares al </a:t>
            </a:r>
            <a:r>
              <a:rPr b="0" lang="es-MX" sz="1600" spc="-1" strike="noStrike">
                <a:solidFill>
                  <a:srgbClr val="003366"/>
                </a:solidFill>
                <a:latin typeface="Verdana"/>
                <a:ea typeface="Times New Roman"/>
              </a:rPr>
              <a:t>nuestro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838080" y="2070000"/>
          <a:ext cx="7175520" cy="47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070000"/>
                    <a:ext cx="7175520" cy="47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447920" y="762120"/>
            <a:ext cx="7315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66"/>
                </a:solidFill>
                <a:latin typeface="Verdana"/>
                <a:ea typeface="Arial"/>
              </a:rPr>
              <a:t>Aspectos críticos de la estrategia de diseñ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066680" y="2133720"/>
            <a:ext cx="7315200" cy="32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9600" indent="-5796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72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66"/>
                </a:solidFill>
                <a:latin typeface="Verdana"/>
              </a:rPr>
              <a:t>Eliminación de la litigiosidad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579600" indent="-579600"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SzPct val="140000"/>
              <a:buFont typeface="Wingdings" charset="2"/>
              <a:buChar char=""/>
              <a:tabLst>
                <a:tab algn="l" pos="372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66"/>
                </a:solidFill>
                <a:latin typeface="Verdana"/>
              </a:rPr>
              <a:t>Definición clara de contingencias cubiertas (definición de accidente de trabajo y listado de enfermedades)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579600" indent="-579600"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SzPct val="140000"/>
              <a:buFont typeface="Wingdings" charset="2"/>
              <a:buChar char=""/>
              <a:tabLst>
                <a:tab algn="l" pos="372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66"/>
                </a:solidFill>
                <a:latin typeface="Verdana"/>
              </a:rPr>
              <a:t>Definición precisa de prestaciones (utilización de la Tabla de Evaluación de Incapacidades y fórmulas de calculo de prestaciones)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579600" indent="-579600"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SzPct val="140000"/>
              <a:buFont typeface="Wingdings" charset="2"/>
              <a:buChar char=""/>
              <a:tabLst>
                <a:tab algn="l" pos="372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66"/>
                </a:solidFill>
                <a:latin typeface="Verdana"/>
              </a:rPr>
              <a:t>Procedimiento ágil para dirimir controversias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447920" y="762120"/>
            <a:ext cx="7391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66"/>
                </a:solidFill>
                <a:latin typeface="Verdana"/>
                <a:ea typeface="Arial"/>
              </a:rPr>
              <a:t>Algunos indicadores de context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27200" y="2306520"/>
            <a:ext cx="8035920" cy="36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 algn="just"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SzPct val="140000"/>
              <a:buFont typeface="Wingdings" charset="2"/>
              <a:buChar char=""/>
              <a:tabLst>
                <a:tab algn="l" pos="372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003366"/>
                </a:solidFill>
                <a:uFillTx/>
                <a:latin typeface="Verdana"/>
              </a:rPr>
              <a:t>Situación Macro</a:t>
            </a:r>
            <a:r>
              <a:rPr b="1" lang="es-ES" sz="2200" spc="-1" strike="noStrike">
                <a:solidFill>
                  <a:srgbClr val="003366"/>
                </a:solidFill>
                <a:latin typeface="Verdana"/>
              </a:rPr>
              <a:t>. Caída del PBI de 11% en 2002. Caída acumulada del PBI entre 1998 y 2002 de 18,4%. Inflación acumulada de 45%.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SzPct val="140000"/>
              <a:buFont typeface="Wingdings" charset="2"/>
              <a:buChar char=""/>
              <a:tabLst>
                <a:tab algn="l" pos="372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003366"/>
                </a:solidFill>
                <a:uFillTx/>
                <a:latin typeface="Verdana"/>
              </a:rPr>
              <a:t>Trabajo en negro</a:t>
            </a:r>
            <a:r>
              <a:rPr b="1" lang="es-ES" sz="2200" spc="-1" strike="noStrike">
                <a:solidFill>
                  <a:srgbClr val="003366"/>
                </a:solidFill>
                <a:latin typeface="Verdana"/>
              </a:rPr>
              <a:t>. El 29% de los empleadores afiliados que efectúa su declaración vía CUSS no informa trabajadores. Así como también, el 18,95% de los trabajadores atendidos, presenta alguna irregularidad en la Declaración Jurada del empleador. Y donde el trabajo no registrado asciende a 44% según datos del Indec para mayo-’03.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838080" y="2133720"/>
            <a:ext cx="784872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 algn="just"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SzPct val="140000"/>
              <a:buFont typeface="Wingdings" charset="2"/>
              <a:buChar char=""/>
              <a:tabLst>
                <a:tab algn="l" pos="372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3366"/>
                </a:solidFill>
                <a:latin typeface="Verdana"/>
              </a:rPr>
              <a:t>Más de 330 mil siniestros evitados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SzPct val="140000"/>
              <a:buFont typeface="Wingdings" charset="2"/>
              <a:buChar char=""/>
              <a:tabLst>
                <a:tab algn="l" pos="372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3366"/>
                </a:solidFill>
                <a:latin typeface="Verdana"/>
              </a:rPr>
              <a:t>Más de 2,4 millones de siniestros atendidos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SzPct val="140000"/>
              <a:buFont typeface="Wingdings" charset="2"/>
              <a:buChar char=""/>
              <a:tabLst>
                <a:tab algn="l" pos="372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3366"/>
                </a:solidFill>
                <a:latin typeface="Verdana"/>
              </a:rPr>
              <a:t>Más de $2,3 mil millones en prestaciones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SzPct val="140000"/>
              <a:buFont typeface="Wingdings" charset="2"/>
              <a:buChar char=""/>
              <a:tabLst>
                <a:tab algn="l" pos="372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3366"/>
                </a:solidFill>
                <a:latin typeface="Verdana"/>
              </a:rPr>
              <a:t>Menos de 65 mil casos (alrededor del 2,6% de los casos atendidos) se presentaron en divergencia ante las comisiones médicas, cuyo plazo promedio de expedición del dictamen ronda los 60 días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SzPct val="140000"/>
              <a:buFont typeface="Wingdings" charset="2"/>
              <a:buChar char=""/>
              <a:tabLst>
                <a:tab algn="l" pos="372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3366"/>
                </a:solidFill>
                <a:latin typeface="Verdana"/>
              </a:rPr>
              <a:t>Prestaciones dinerarias y prestaciones médicas integrales comparables a las de Estados Unidos, España y Chile.      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447920" y="762120"/>
            <a:ext cx="7391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66"/>
                </a:solidFill>
                <a:latin typeface="Verdana"/>
                <a:ea typeface="Arial"/>
              </a:rPr>
              <a:t>Algunos indicadores de resultad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762120" y="2057400"/>
            <a:ext cx="8076960" cy="46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SzPct val="140000"/>
              <a:buFont typeface="Wingdings" charset="2"/>
              <a:buChar char=""/>
              <a:tabLst>
                <a:tab algn="l" pos="372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66"/>
                </a:solidFill>
                <a:latin typeface="Verdana"/>
              </a:rPr>
              <a:t>Plazo de 15 días para el pago </a:t>
            </a:r>
            <a:r>
              <a:rPr b="1" lang="es-ES" sz="2200" spc="-1" strike="noStrike">
                <a:solidFill>
                  <a:srgbClr val="003366"/>
                </a:solidFill>
                <a:latin typeface="Verdana"/>
              </a:rPr>
              <a:t>de prestaciones dinerarias por incapacidades definitivas y fallecimientos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SzPct val="140000"/>
              <a:buFont typeface="Wingdings" charset="2"/>
              <a:buChar char=""/>
              <a:tabLst>
                <a:tab algn="l" pos="372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3366"/>
                </a:solidFill>
                <a:latin typeface="Verdana"/>
              </a:rPr>
              <a:t>Las enfermedades profesionales representan el 1,5% de los siniestros, cifra similar a la de México y superior a la de España (1,2%)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SzPct val="140000"/>
              <a:buFont typeface="Wingdings" charset="2"/>
              <a:buChar char=""/>
              <a:tabLst>
                <a:tab algn="l" pos="372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66"/>
                </a:solidFill>
                <a:latin typeface="Verdana"/>
              </a:rPr>
              <a:t>Una</a:t>
            </a:r>
            <a:r>
              <a:rPr b="1" lang="es-ES" sz="2200" spc="-1" strike="noStrike">
                <a:solidFill>
                  <a:srgbClr val="003366"/>
                </a:solidFill>
                <a:latin typeface="Verdana"/>
              </a:rPr>
              <a:t> elocuente satisfacción por parte de empleadores y trabajadores: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lvl="1" marL="849240" indent="-285840" algn="just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SzPct val="140000"/>
              <a:buFont typeface="Wingdings" charset="2"/>
              <a:buChar char=""/>
              <a:tabLst>
                <a:tab algn="l" pos="372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El 87% de los empleadores se declaró satisfecho o muy satisfecho con la gestión de las AR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849240" indent="-285840" algn="just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SzPct val="140000"/>
              <a:buFont typeface="Wingdings" charset="2"/>
              <a:buChar char=""/>
              <a:tabLst>
                <a:tab algn="l" pos="372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El 93% de los trabajadores hizo lo propio respecto de la atención recibid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47920" y="762120"/>
            <a:ext cx="7391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66"/>
                </a:solidFill>
                <a:latin typeface="Verdana"/>
                <a:ea typeface="Arial"/>
              </a:rPr>
              <a:t>Algunos indicadores de resultad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990720" y="2362320"/>
            <a:ext cx="784836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1375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800000"/>
                </a:solidFill>
                <a:latin typeface="Verdana"/>
                <a:ea typeface="Arial"/>
              </a:rPr>
              <a:t>Gestión de los riesgos del trabajo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lvl="1" marL="849240" indent="-368280">
              <a:lnSpc>
                <a:spcPct val="100000"/>
              </a:lnSpc>
              <a:spcBef>
                <a:spcPts val="1375"/>
              </a:spcBef>
              <a:buClr>
                <a:srgbClr val="284f6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284f64"/>
                </a:solidFill>
                <a:latin typeface="Verdana"/>
                <a:ea typeface="Arial"/>
              </a:rPr>
              <a:t>Situación previa a julio de 1996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lvl="1" marL="849240" indent="-368280">
              <a:lnSpc>
                <a:spcPct val="100000"/>
              </a:lnSpc>
              <a:spcBef>
                <a:spcPts val="1375"/>
              </a:spcBef>
              <a:buClr>
                <a:srgbClr val="284f6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284f64"/>
                </a:solidFill>
                <a:latin typeface="Verdana"/>
                <a:ea typeface="Arial"/>
              </a:rPr>
              <a:t>Situación posterior a la vigencia de la Ley sobre Riesgos del Trabajo (LRT)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375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800000"/>
                </a:solidFill>
                <a:latin typeface="Verdana"/>
                <a:ea typeface="Arial"/>
              </a:rPr>
              <a:t>Autónomos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lvl="1" marL="849240" indent="-368280">
              <a:lnSpc>
                <a:spcPct val="100000"/>
              </a:lnSpc>
              <a:spcBef>
                <a:spcPts val="1375"/>
              </a:spcBef>
              <a:buClr>
                <a:srgbClr val="284f6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284f64"/>
                </a:solidFill>
                <a:latin typeface="Verdana"/>
                <a:ea typeface="Arial"/>
              </a:rPr>
              <a:t>Características generales de la población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lvl="1" marL="849240" indent="-368280">
              <a:lnSpc>
                <a:spcPct val="100000"/>
              </a:lnSpc>
              <a:spcBef>
                <a:spcPts val="1375"/>
              </a:spcBef>
              <a:buClr>
                <a:srgbClr val="284f6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284f64"/>
                </a:solidFill>
                <a:latin typeface="Verdana"/>
                <a:ea typeface="Arial"/>
              </a:rPr>
              <a:t>Aspectos a considerar para el diseño de una propuesta de cobertura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33520" y="646200"/>
            <a:ext cx="73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Verdana"/>
              </a:rPr>
              <a:t>Cobertura de riesgos del trabajo para el trabajador autónom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90720" y="2362320"/>
            <a:ext cx="784836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1375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800000"/>
                </a:solidFill>
                <a:latin typeface="Verdana"/>
                <a:ea typeface="Arial"/>
              </a:rPr>
              <a:t>Gestión de los riesgos del trabajo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lvl="1" marL="849240" indent="-368280">
              <a:lnSpc>
                <a:spcPct val="100000"/>
              </a:lnSpc>
              <a:spcBef>
                <a:spcPts val="1375"/>
              </a:spcBef>
              <a:buClr>
                <a:srgbClr val="284f6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284f64"/>
                </a:solidFill>
                <a:latin typeface="Verdana"/>
                <a:ea typeface="Arial"/>
              </a:rPr>
              <a:t>Situación previa a julio de 1996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lvl="1" marL="849240" indent="-368280">
              <a:lnSpc>
                <a:spcPct val="100000"/>
              </a:lnSpc>
              <a:spcBef>
                <a:spcPts val="1375"/>
              </a:spcBef>
              <a:buClr>
                <a:srgbClr val="284f6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284f64"/>
                </a:solidFill>
                <a:latin typeface="Verdana"/>
                <a:ea typeface="Arial"/>
              </a:rPr>
              <a:t>Situación posterior a la vigencia de la Ley sobre Riesgos del Trabajo (LRT)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375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800000"/>
                </a:solidFill>
                <a:latin typeface="Verdana"/>
                <a:ea typeface="Arial"/>
              </a:rPr>
              <a:t>Autónomos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lvl="1" marL="849240" indent="-368280">
              <a:lnSpc>
                <a:spcPct val="100000"/>
              </a:lnSpc>
              <a:spcBef>
                <a:spcPts val="1375"/>
              </a:spcBef>
              <a:buClr>
                <a:srgbClr val="284f6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284f64"/>
                </a:solidFill>
                <a:latin typeface="Verdana"/>
                <a:ea typeface="Arial"/>
              </a:rPr>
              <a:t>Características generales de la población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lvl="1" marL="849240" indent="-368280">
              <a:lnSpc>
                <a:spcPct val="100000"/>
              </a:lnSpc>
              <a:spcBef>
                <a:spcPts val="1375"/>
              </a:spcBef>
              <a:buClr>
                <a:srgbClr val="284f6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284f64"/>
                </a:solidFill>
                <a:latin typeface="Verdana"/>
                <a:ea typeface="Arial"/>
              </a:rPr>
              <a:t>Aspectos a considerar para el diseño de una propuesta de cobertura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433520" y="646200"/>
            <a:ext cx="73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Verdana"/>
              </a:rPr>
              <a:t>Cobertura de riesgos del trabajo para el trabajador autónom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939320" y="812880"/>
            <a:ext cx="567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Verdana"/>
              </a:rPr>
              <a:t>Situación actual de autónom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362320"/>
            <a:ext cx="769608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57160" indent="-476280">
              <a:lnSpc>
                <a:spcPct val="100000"/>
              </a:lnSpc>
              <a:spcBef>
                <a:spcPts val="1375"/>
              </a:spcBef>
              <a:buClr>
                <a:srgbClr val="284f64"/>
              </a:buClr>
              <a:buFont typeface="Verdana"/>
              <a:buChar char="•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284f64"/>
                </a:solidFill>
                <a:latin typeface="Verdana"/>
                <a:ea typeface="Arial"/>
              </a:rPr>
              <a:t>Existe un régimen general de autónomos y uno simplificado de monotributistas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lvl="1" marL="857160" indent="-476280">
              <a:lnSpc>
                <a:spcPct val="100000"/>
              </a:lnSpc>
              <a:spcBef>
                <a:spcPts val="1375"/>
              </a:spcBef>
              <a:buClr>
                <a:srgbClr val="284f64"/>
              </a:buClr>
              <a:buFont typeface="Verdana"/>
              <a:buChar char="•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284f64"/>
                </a:solidFill>
                <a:latin typeface="Verdana"/>
                <a:ea typeface="Arial"/>
              </a:rPr>
              <a:t>Universo estimado de 3,6 millones de trabajadores (aprox. 27% de la PO)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lvl="1" marL="857160" indent="-476280">
              <a:lnSpc>
                <a:spcPct val="100000"/>
              </a:lnSpc>
              <a:spcBef>
                <a:spcPts val="1375"/>
              </a:spcBef>
              <a:buClr>
                <a:srgbClr val="284f64"/>
              </a:buClr>
              <a:buFont typeface="Verdana"/>
              <a:buChar char="•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284f64"/>
                </a:solidFill>
                <a:latin typeface="Verdana"/>
                <a:ea typeface="Arial"/>
              </a:rPr>
              <a:t>Relación cotizante /afiliado estimada en el 28% 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lvl="1" marL="857160" indent="-476280">
              <a:lnSpc>
                <a:spcPct val="100000"/>
              </a:lnSpc>
              <a:spcBef>
                <a:spcPts val="1375"/>
              </a:spcBef>
              <a:buClr>
                <a:srgbClr val="284f64"/>
              </a:buClr>
              <a:buFont typeface="Verdana"/>
              <a:buChar char="•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284f64"/>
                </a:solidFill>
                <a:latin typeface="Verdana"/>
                <a:ea typeface="Arial"/>
              </a:rPr>
              <a:t>Ingreso promedio para cuentapropistas de $430/mes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955800" y="2251080"/>
            <a:ext cx="769608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375"/>
              </a:spcBef>
              <a:buClr>
                <a:srgbClr val="284f64"/>
              </a:buClr>
              <a:buFont typeface="Verdana"/>
              <a:buChar char="•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284f64"/>
                </a:solidFill>
                <a:latin typeface="Verdana"/>
                <a:ea typeface="Arial"/>
              </a:rPr>
              <a:t>Alta subregistración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375"/>
              </a:spcBef>
              <a:buClr>
                <a:srgbClr val="284f64"/>
              </a:buClr>
              <a:buFont typeface="Verdana"/>
              <a:buChar char="•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284f64"/>
                </a:solidFill>
                <a:latin typeface="Verdana"/>
                <a:ea typeface="Arial"/>
              </a:rPr>
              <a:t>Riesgos muy diversos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375"/>
              </a:spcBef>
              <a:buClr>
                <a:srgbClr val="284f64"/>
              </a:buClr>
              <a:buFont typeface="Verdana"/>
              <a:buChar char="•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284f64"/>
                </a:solidFill>
                <a:latin typeface="Verdana"/>
                <a:ea typeface="Arial"/>
              </a:rPr>
              <a:t>Inexistencia de empleadores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375"/>
              </a:spcBef>
              <a:buClr>
                <a:srgbClr val="284f64"/>
              </a:buClr>
              <a:buFont typeface="Verdana"/>
              <a:buChar char="•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284f64"/>
                </a:solidFill>
                <a:latin typeface="Verdana"/>
                <a:ea typeface="Arial"/>
              </a:rPr>
              <a:t>Alta atomización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375"/>
              </a:spcBef>
              <a:buClr>
                <a:srgbClr val="284f64"/>
              </a:buClr>
              <a:buFont typeface="Verdana"/>
              <a:buChar char="•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284f64"/>
                </a:solidFill>
                <a:latin typeface="Verdana"/>
                <a:ea typeface="Arial"/>
              </a:rPr>
              <a:t>Inexistencia de un límite preciso entre lo laboral y no laboral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375"/>
              </a:spcBef>
              <a:buClr>
                <a:srgbClr val="284f64"/>
              </a:buClr>
              <a:buFont typeface="Verdana"/>
              <a:buChar char="•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284f64"/>
                </a:solidFill>
                <a:latin typeface="Verdana"/>
                <a:ea typeface="Arial"/>
              </a:rPr>
              <a:t>Marcadas diferencias con el sistema de trabajadores en relación de dependencia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375"/>
              </a:spcBef>
              <a:buClr>
                <a:srgbClr val="284f64"/>
              </a:buClr>
              <a:buFont typeface="Verdana"/>
              <a:buChar char="•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284f64"/>
                </a:solidFill>
                <a:latin typeface="Verdana"/>
                <a:ea typeface="Arial"/>
              </a:rPr>
              <a:t>Ingreso supuesto desvinculado de la capacidad contributiva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34280" y="812880"/>
            <a:ext cx="574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Verdana"/>
              </a:rPr>
              <a:t>Particularidades de autónom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990720" y="2362320"/>
            <a:ext cx="784836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1375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800000"/>
                </a:solidFill>
                <a:latin typeface="Verdana"/>
                <a:ea typeface="Arial"/>
              </a:rPr>
              <a:t>Gestión de los riesgos del trabajo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lvl="1" marL="849240" indent="-368280">
              <a:lnSpc>
                <a:spcPct val="100000"/>
              </a:lnSpc>
              <a:spcBef>
                <a:spcPts val="1375"/>
              </a:spcBef>
              <a:buClr>
                <a:srgbClr val="284f6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284f64"/>
                </a:solidFill>
                <a:latin typeface="Verdana"/>
                <a:ea typeface="Arial"/>
              </a:rPr>
              <a:t>Situación previa a julio de 1996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lvl="1" marL="849240" indent="-368280">
              <a:lnSpc>
                <a:spcPct val="100000"/>
              </a:lnSpc>
              <a:spcBef>
                <a:spcPts val="1375"/>
              </a:spcBef>
              <a:buClr>
                <a:srgbClr val="284f6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284f64"/>
                </a:solidFill>
                <a:latin typeface="Verdana"/>
                <a:ea typeface="Arial"/>
              </a:rPr>
              <a:t>Situación posterior a la vigencia de la Ley sobre Riesgos del Trabajo (LRT)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375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800000"/>
                </a:solidFill>
                <a:latin typeface="Verdana"/>
                <a:ea typeface="Arial"/>
              </a:rPr>
              <a:t>Autónomos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lvl="1" marL="849240" indent="-368280">
              <a:lnSpc>
                <a:spcPct val="100000"/>
              </a:lnSpc>
              <a:spcBef>
                <a:spcPts val="1375"/>
              </a:spcBef>
              <a:buClr>
                <a:srgbClr val="284f6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284f64"/>
                </a:solidFill>
                <a:latin typeface="Verdana"/>
                <a:ea typeface="Arial"/>
              </a:rPr>
              <a:t>Características generales de la población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lvl="1" marL="849240" indent="-368280">
              <a:lnSpc>
                <a:spcPct val="100000"/>
              </a:lnSpc>
              <a:spcBef>
                <a:spcPts val="1375"/>
              </a:spcBef>
              <a:buClr>
                <a:srgbClr val="284f6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284f64"/>
                </a:solidFill>
                <a:latin typeface="Verdana"/>
                <a:ea typeface="Arial"/>
              </a:rPr>
              <a:t>Aspectos a considerar para el diseño de una propuesta de cobertura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433520" y="646200"/>
            <a:ext cx="73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Verdana"/>
              </a:rPr>
              <a:t>Cobertura de riesgos del trabajo para el trabajador autónom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914400" y="2133720"/>
            <a:ext cx="7848720" cy="43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1375"/>
              </a:spcBef>
              <a:buClr>
                <a:srgbClr val="284f6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284f64"/>
                </a:solidFill>
                <a:latin typeface="Verdana"/>
                <a:ea typeface="Arial"/>
              </a:rPr>
              <a:t>Puesta en marcha gradual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375"/>
              </a:spcBef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800000"/>
                </a:solidFill>
                <a:latin typeface="Verdana"/>
                <a:ea typeface="Arial"/>
              </a:rPr>
              <a:t>Definición de una cobertura mínima (que incluya por ejemplo, incapacidades permanentes y asistencia médica)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375"/>
              </a:spcBef>
              <a:buClr>
                <a:srgbClr val="284f6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284f64"/>
                </a:solidFill>
                <a:latin typeface="Verdana"/>
                <a:ea typeface="Arial"/>
              </a:rPr>
              <a:t>Aprobación de modelos para cobertura extra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375"/>
              </a:spcBef>
              <a:buClr>
                <a:srgbClr val="284f6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284f64"/>
                </a:solidFill>
                <a:latin typeface="Verdana"/>
                <a:ea typeface="Arial"/>
              </a:rPr>
              <a:t>Contratación voluntaria, tanto para el trabajador autónomo como para la ART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375"/>
              </a:spcBef>
              <a:buClr>
                <a:srgbClr val="284f6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284f64"/>
                </a:solidFill>
                <a:latin typeface="Verdana"/>
                <a:ea typeface="Arial"/>
              </a:rPr>
              <a:t>Estipulación libre entre las partes de la cuota, el plazo y la forma de pago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375"/>
              </a:spcBef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800000"/>
                </a:solidFill>
                <a:latin typeface="Verdana"/>
                <a:ea typeface="Arial"/>
              </a:rPr>
              <a:t>Rescisión automática ante falta de pago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851840" y="646200"/>
            <a:ext cx="677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Verdana"/>
              </a:rPr>
              <a:t>Consideraciones para una propuesta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Verdana"/>
              </a:rPr>
              <a:t>de inclusión de autónom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914400" y="2133720"/>
            <a:ext cx="7848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284f64"/>
                </a:solidFill>
                <a:latin typeface="Verdana"/>
                <a:ea typeface="Arial"/>
              </a:rPr>
              <a:t>Aspecto de solución controvertida: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375"/>
              </a:spcBef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800000"/>
                </a:solidFill>
                <a:latin typeface="Verdana"/>
                <a:ea typeface="Arial"/>
              </a:rPr>
              <a:t>Responsabilidad Civil Objetiva del contratante del servicio (art. 1113 del C.C.)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51840" y="646200"/>
            <a:ext cx="677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Verdana"/>
              </a:rPr>
              <a:t>Consideraciones para una propuesta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Verdana"/>
              </a:rPr>
              <a:t>de inclusión de autónom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914400" y="2286000"/>
            <a:ext cx="7696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375"/>
              </a:spcBef>
              <a:buClr>
                <a:srgbClr val="284f6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284f64"/>
                </a:solidFill>
                <a:latin typeface="Verdana"/>
                <a:ea typeface="Arial"/>
              </a:rPr>
              <a:t>Atender las características particulares de la población a incluir (autónomos, domésticos, trabajadores vinculados por relaciones no laborales, bombero voluntarios)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375"/>
              </a:spcBef>
              <a:buClr>
                <a:srgbClr val="284f6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284f64"/>
                </a:solidFill>
                <a:latin typeface="Verdana"/>
                <a:ea typeface="Arial"/>
              </a:rPr>
              <a:t>Definir contingencias, prestaciones y otros servicios específicos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375"/>
              </a:spcBef>
              <a:buClr>
                <a:srgbClr val="284f6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284f64"/>
                </a:solidFill>
                <a:latin typeface="Verdana"/>
                <a:ea typeface="Arial"/>
              </a:rPr>
              <a:t>Definir acceso, precios y extinción de la cobertura particulares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433520" y="646200"/>
            <a:ext cx="72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Verdana"/>
              </a:rPr>
              <a:t>Requisitos para una cobertura sostenib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447920" y="762120"/>
            <a:ext cx="73911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66"/>
                </a:solidFill>
                <a:latin typeface="Verdana"/>
              </a:rPr>
              <a:t>Algunos indicadores del anterior régimen de riesgos del trabaj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71600" y="2057400"/>
            <a:ext cx="731520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372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Verdana"/>
              </a:rPr>
              <a:t>53 mil demandas anuales que involucraban un costo de 11 mil millones de peso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372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Verdana"/>
              </a:rPr>
              <a:t>Ante discrepancias la duración promedio de un juicio era de entre 4 y 5 año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372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Verdana"/>
              </a:rPr>
              <a:t>El costo promedio fluctuaba entre el 7 y el 15% de la nómina salaria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372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Verdana"/>
              </a:rPr>
              <a:t>El 97% de los empleadores declaró no cumplir con las normas de h y 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372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Verdana"/>
              </a:rPr>
              <a:t>El índice de incidencia en muertes era 5 veces el de Estados Unidos y 2,5 veces el de Españ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372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Verdana"/>
              </a:rPr>
              <a:t>Solo reportaban información (parcial) 8 mil empresas sobre 400 mil registrada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457200" y="1981080"/>
          <a:ext cx="868680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68680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1447920" y="762120"/>
            <a:ext cx="73911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66"/>
                </a:solidFill>
                <a:latin typeface="Verdana"/>
              </a:rPr>
              <a:t>Destino de recursos del anterior régimen de riesgos del trabaj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990720" y="2362320"/>
            <a:ext cx="784836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1375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800000"/>
                </a:solidFill>
                <a:latin typeface="Verdana"/>
                <a:ea typeface="Arial"/>
              </a:rPr>
              <a:t>Gestión de los riesgos del trabajo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lvl="1" marL="849240" indent="-368280">
              <a:lnSpc>
                <a:spcPct val="100000"/>
              </a:lnSpc>
              <a:spcBef>
                <a:spcPts val="1375"/>
              </a:spcBef>
              <a:buClr>
                <a:srgbClr val="284f6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284f64"/>
                </a:solidFill>
                <a:latin typeface="Verdana"/>
                <a:ea typeface="Arial"/>
              </a:rPr>
              <a:t>Situación previa a julio de 1996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lvl="1" marL="849240" indent="-368280">
              <a:lnSpc>
                <a:spcPct val="100000"/>
              </a:lnSpc>
              <a:spcBef>
                <a:spcPts val="1375"/>
              </a:spcBef>
              <a:buClr>
                <a:srgbClr val="284f6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284f64"/>
                </a:solidFill>
                <a:latin typeface="Verdana"/>
                <a:ea typeface="Arial"/>
              </a:rPr>
              <a:t>Situación posterior a la vigencia de la Ley sobre Riesgos del Trabajo (LRT)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375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800000"/>
                </a:solidFill>
                <a:latin typeface="Verdana"/>
                <a:ea typeface="Arial"/>
              </a:rPr>
              <a:t>Autónomos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lvl="1" marL="849240" indent="-368280">
              <a:lnSpc>
                <a:spcPct val="100000"/>
              </a:lnSpc>
              <a:spcBef>
                <a:spcPts val="1375"/>
              </a:spcBef>
              <a:buClr>
                <a:srgbClr val="284f6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284f64"/>
                </a:solidFill>
                <a:latin typeface="Verdana"/>
                <a:ea typeface="Arial"/>
              </a:rPr>
              <a:t>Características generales de la población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lvl="1" marL="849240" indent="-368280">
              <a:lnSpc>
                <a:spcPct val="100000"/>
              </a:lnSpc>
              <a:spcBef>
                <a:spcPts val="1375"/>
              </a:spcBef>
              <a:buClr>
                <a:srgbClr val="284f6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284f64"/>
                </a:solidFill>
                <a:latin typeface="Verdana"/>
                <a:ea typeface="Arial"/>
              </a:rPr>
              <a:t>Aspectos a considerar para el diseño de una propuesta de cobertura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433520" y="646200"/>
            <a:ext cx="73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Verdana"/>
              </a:rPr>
              <a:t>Cobertura de riesgos del trabajo para el trabajador autónom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447920" y="762120"/>
            <a:ext cx="754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66"/>
                </a:solidFill>
                <a:latin typeface="Verdana"/>
              </a:rPr>
              <a:t>Ley sobre Riesgos del Trabajo (LRT) Actores involucrados y sus ro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838080" y="2438280"/>
          <a:ext cx="8077320" cy="4194360"/>
        </p:xfrm>
        <a:graphic>
          <a:graphicData uri="http://schemas.openxmlformats.org/drawingml/2006/table">
            <a:tbl>
              <a:tblPr/>
              <a:tblGrid>
                <a:gridCol w="2895840"/>
                <a:gridCol w="5181480"/>
              </a:tblGrid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AR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Brinda prestaciones y asesora en materia de prevenció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18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Estado Nacional (SRT y SSN)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Regula y fiscaliza a AR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9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Empleador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Paga la cuota y cumple con la normativa de h y segurida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Estados provinciale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Fiscalizan cumplimiento de empleadores de las normas de h y segurida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447920" y="762120"/>
            <a:ext cx="7391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66"/>
                </a:solidFill>
                <a:latin typeface="Verdana"/>
              </a:rPr>
              <a:t>Características principales del sistema de riesgos del trabaj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685800" y="2286000"/>
          <a:ext cx="8375760" cy="4356000"/>
        </p:xfrm>
        <a:graphic>
          <a:graphicData uri="http://schemas.openxmlformats.org/drawingml/2006/table">
            <a:tbl>
              <a:tblPr/>
              <a:tblGrid>
                <a:gridCol w="2295360"/>
                <a:gridCol w="6080400"/>
              </a:tblGrid>
              <a:tr h="114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Población cubierta                                  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Trabajadores en relación de dependencia, con facultad al PEN para incluir autónomos, entre otros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44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Hechos cubiertos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 indent="-185760"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Accidente de trabajo. Definición amplia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marL="185760" indent="-185760"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Enfermedades profesionales. Contenidas en el Listado de Enfermedades Profesionales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76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Organización institucional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 indent="-185760"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Conjunto de servicios fijados por el estado y precio libre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marL="185760" indent="-185760"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Requisitos económicos y financieros fijados por la SSN y requisitos de infraestructura por la SRT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914400" y="2438280"/>
          <a:ext cx="7772400" cy="4046760"/>
        </p:xfrm>
        <a:graphic>
          <a:graphicData uri="http://schemas.openxmlformats.org/drawingml/2006/table">
            <a:tbl>
              <a:tblPr/>
              <a:tblGrid>
                <a:gridCol w="2514600"/>
                <a:gridCol w="5257800"/>
              </a:tblGrid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Garantías de Cobertura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Requisitos de solvencia y liquidez. Autoseguro. Fondo de Garantía y Fondo de Reserva.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Afiliación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Por empresa y obligatoria para la empresa y para la ART, con </a:t>
                      </a:r>
                      <a:r>
                        <a:rPr b="1" lang="es-MX" sz="2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contrato estándar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Corte de cobertura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Acumulación de una deuda equivalente a 2 meses de cuota. Con procedimiento específico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Traspasos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 vez por año, con un mínimo de 6 meses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447920" y="762120"/>
            <a:ext cx="7391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66"/>
                </a:solidFill>
                <a:latin typeface="Verdana"/>
              </a:rPr>
              <a:t>Características principales del sistema de riesgos del trabaj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9" name=""/>
          <p:cNvGraphicFramePr/>
          <p:nvPr/>
        </p:nvGraphicFramePr>
        <p:xfrm>
          <a:off x="838080" y="2133720"/>
          <a:ext cx="7925040" cy="4478040"/>
        </p:xfrm>
        <a:graphic>
          <a:graphicData uri="http://schemas.openxmlformats.org/drawingml/2006/table">
            <a:tbl>
              <a:tblPr/>
              <a:tblGrid>
                <a:gridCol w="2438640"/>
                <a:gridCol w="5486400"/>
              </a:tblGrid>
              <a:tr h="196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Prestaciones dinerarias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5760" indent="-185760"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Para incapacidades temporarias y definitivas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marL="185760" indent="-185760"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En proporción al salario: rentas y pagos únicos. Adicionales en sumas fijas de $30, $40 y $50 mil.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5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Prestaciones en especie integrales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Médica, farmacéutica, prótesis y ortopedia, rehabilitación y recalificación profesional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Divergencias sobre alcance de cobertura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Procedimiento administrativo ágil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"/>
          <p:cNvSpPr/>
          <p:nvPr/>
        </p:nvSpPr>
        <p:spPr>
          <a:xfrm>
            <a:off x="1447920" y="762120"/>
            <a:ext cx="7391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66"/>
                </a:solidFill>
                <a:latin typeface="Verdana"/>
              </a:rPr>
              <a:t>Características principales del sistema de riesgos del trabaj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3T14:58:47Z</dcterms:created>
  <dc:creator>Juan de Elizalde</dc:creator>
  <dc:description/>
  <dc:language>en-US</dc:language>
  <cp:lastModifiedBy>pagina</cp:lastModifiedBy>
  <dcterms:modified xsi:type="dcterms:W3CDTF">2003-10-17T21:31:10Z</dcterms:modified>
  <cp:revision>104</cp:revision>
  <dc:subject/>
  <dc:title>Presentación de PowerPoint</dc:title>
</cp:coreProperties>
</file>