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90E-D778-4069-8671-E9FFD5AA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092-B82B-470C-837B-32E74C2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C29-C41F-4E3C-9FAC-DEBA77A5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A17-FB38-4AD4-B86B-402E1024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7A36-821B-498A-B357-6D690697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09D-5C55-4F9D-B6CD-CC97D33A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67BD-2FDC-47C6-B315-3150A503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13E5-58AE-4EA7-9665-5EF7453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6055-E3A1-486D-925C-D006BE0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47F-A972-45C2-9EB1-455DDD4C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51A1-D6B0-466F-9E25-342EAAFC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1B5-B122-4841-9CBF-70A0456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1E1A-FC4E-44C6-A7EE-E4E26A5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726-96FC-4170-A4C9-23D22EC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37CB-CCF0-490F-96C4-89FC3A53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716E-A34C-4338-B889-89C2AA02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AF2F-A751-4FCE-A928-24300269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555-A39E-47EC-9155-B5440102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3DA-6E11-4FD3-BAC3-752C6A0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F9C-6AF8-4E1B-83B6-64D8AE4B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746-BE1C-42E2-A64E-9A5019A6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500-6EFB-42AD-ADF0-6B59403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E8F-1396-42D5-A331-8500C8C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396-0FA3-4A12-B4C7-8497527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481F-08E7-4A5C-9650-3E14D55433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6186-3B3D-4A04-82D9-C5B270882B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areja%201%20alons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66680" y="457200"/>
            <a:ext cx="4572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Comic Sans MS"/>
              </a:rPr>
              <a:t>Cobertura, beneficios y financiami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Comic Sans MS"/>
              </a:rPr>
              <a:t>2° Congreso de la Seguridad Soc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33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Dr. Juan Carlos Alon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Octubre d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2520" y="507960"/>
            <a:ext cx="62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Capitaliz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209680"/>
            <a:ext cx="678168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imi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ntabilidad insuficiente del fon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yor longevidad, menores rent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23800" y="507960"/>
            <a:ext cx="54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s de Jubil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209680"/>
            <a:ext cx="67816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6019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Comic Sans MS"/>
              </a:rPr>
              <a:t>Situación actua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Comic Sans MS"/>
              </a:rPr>
              <a:t>Sistema Mixto de reparto y capit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Envejecimiento poblacional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¿por qué import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Para los gobiern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Mayores costos de los progra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Presión para reducir déficits presupues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Tensiones gener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Envejecimiento poblacional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¿por qué import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666880"/>
            <a:ext cx="617724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Para las person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Revocabilidad de prome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Reducción de benefi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Cambios en los patrones de      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Envejecimiento poblacional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¿por qué importa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895400"/>
            <a:ext cx="617688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Para los negoc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- Mayores impuestos y costos de 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Reducción de merc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Menor retención de personal califi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Mayor competencia de ventas decrec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Comic Sans MS"/>
              </a:rPr>
              <a:t>Expectativa de vida y 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Comic Sans MS"/>
              </a:rPr>
              <a:t>tablas de mortal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28600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 expectativa de vida, puede definirse como la cantidad de años que una persona con determinada edad y sexo, va a vivir en promedio según la tabla de mortalidad que se utilice para calcularla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66"/>
                </a:solidFill>
                <a:latin typeface="Comic Sans MS"/>
              </a:rPr>
              <a:t>Evolución de la expectativa de vida al nacimient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1523880"/>
          <a:ext cx="701028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102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66"/>
                </a:solidFill>
                <a:latin typeface="Comic Sans MS"/>
              </a:rPr>
              <a:t>Evolución de la expectativa de vida al nacimient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9250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Comic Sans MS"/>
              </a:rPr>
              <a:t>Expectativa de vida</a:t>
            </a:r>
            <a:br>
              <a:rPr sz="4400"/>
            </a:br>
            <a:r>
              <a:rPr b="0" lang="es-AR" sz="3200" spc="-1" strike="noStrike">
                <a:solidFill>
                  <a:srgbClr val="ffcc66"/>
                </a:solidFill>
                <a:latin typeface="Comic Sans MS"/>
              </a:rPr>
              <a:t>Análisis comparativo</a:t>
            </a:r>
            <a:br>
              <a:rPr sz="3200"/>
            </a:br>
            <a:r>
              <a:rPr b="0" lang="es-AR" sz="2400" spc="-1" strike="noStrike">
                <a:solidFill>
                  <a:srgbClr val="ffcc66"/>
                </a:solidFill>
                <a:latin typeface="Comic Sans MS"/>
              </a:rPr>
              <a:t>Hombre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676520" y="2057400"/>
            <a:ext cx="5409720" cy="1981080"/>
            <a:chOff x="1676520" y="2057400"/>
            <a:chExt cx="5409720" cy="1981080"/>
          </a:xfrm>
        </p:grpSpPr>
        <p:grpSp>
          <p:nvGrpSpPr>
            <p:cNvPr id="127" name=""/>
            <p:cNvGrpSpPr/>
            <p:nvPr/>
          </p:nvGrpSpPr>
          <p:grpSpPr>
            <a:xfrm>
              <a:off x="1684080" y="2060640"/>
              <a:ext cx="5393160" cy="1973880"/>
              <a:chOff x="1684080" y="2060640"/>
              <a:chExt cx="5393160" cy="19738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1684080" y="2060640"/>
                <a:ext cx="955440" cy="591840"/>
                <a:chOff x="1684080" y="2060640"/>
                <a:chExt cx="955440" cy="5918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684080" y="2060640"/>
                  <a:ext cx="955440" cy="5918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" name=""/>
                <p:cNvGrpSpPr/>
                <p:nvPr/>
              </p:nvGrpSpPr>
              <p:grpSpPr>
                <a:xfrm>
                  <a:off x="1684080" y="2060640"/>
                  <a:ext cx="955080" cy="591840"/>
                  <a:chOff x="1684080" y="2060640"/>
                  <a:chExt cx="955080" cy="591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1756440" y="2060640"/>
                    <a:ext cx="809640" cy="5918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Edad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1684080" y="2060640"/>
                    <a:ext cx="955080" cy="59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2639880" y="2060640"/>
                <a:ext cx="1295280" cy="591840"/>
                <a:chOff x="2639880" y="2060640"/>
                <a:chExt cx="1295280" cy="591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639880" y="2060640"/>
                  <a:ext cx="1295280" cy="5918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2639880" y="2060640"/>
                  <a:ext cx="1294920" cy="591840"/>
                  <a:chOff x="2639880" y="2060640"/>
                  <a:chExt cx="1294920" cy="59184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2712240" y="2060640"/>
                    <a:ext cx="1150200" cy="5918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GAM-7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639880" y="2060640"/>
                    <a:ext cx="1294920" cy="59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3935520" y="2060640"/>
                <a:ext cx="1202040" cy="591840"/>
                <a:chOff x="3935520" y="2060640"/>
                <a:chExt cx="1202040" cy="591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35520" y="2060640"/>
                  <a:ext cx="1202040" cy="5918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3935520" y="2060640"/>
                  <a:ext cx="1201680" cy="591840"/>
                  <a:chOff x="3935520" y="2060640"/>
                  <a:chExt cx="1201680" cy="5918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4008240" y="2060640"/>
                    <a:ext cx="1055520" cy="5918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GAM-8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935520" y="2060640"/>
                    <a:ext cx="1201680" cy="59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5137920" y="2060640"/>
                <a:ext cx="1939320" cy="591840"/>
                <a:chOff x="5137920" y="2060640"/>
                <a:chExt cx="1939320" cy="59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137920" y="2060640"/>
                  <a:ext cx="1939320" cy="5918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5137920" y="2060640"/>
                  <a:ext cx="1938960" cy="591840"/>
                  <a:chOff x="5137920" y="2060640"/>
                  <a:chExt cx="1938960" cy="5918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5210280" y="2060640"/>
                    <a:ext cx="1794240" cy="5918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GAM-94 Stati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137920" y="2060640"/>
                    <a:ext cx="1938960" cy="591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1684080" y="2652480"/>
                <a:ext cx="955440" cy="460440"/>
                <a:chOff x="1684080" y="2652480"/>
                <a:chExt cx="955440" cy="460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684080" y="2652480"/>
                  <a:ext cx="95544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684080" y="2652480"/>
                  <a:ext cx="955080" cy="460440"/>
                  <a:chOff x="1684080" y="2652480"/>
                  <a:chExt cx="955080" cy="4604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756440" y="2652480"/>
                    <a:ext cx="80964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684080" y="2652480"/>
                    <a:ext cx="95508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2639880" y="2652480"/>
                <a:ext cx="1295280" cy="460440"/>
                <a:chOff x="2639880" y="2652480"/>
                <a:chExt cx="1295280" cy="4604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639880" y="2652480"/>
                  <a:ext cx="129528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2639880" y="2652480"/>
                  <a:ext cx="1294920" cy="460440"/>
                  <a:chOff x="2639880" y="2652480"/>
                  <a:chExt cx="1294920" cy="4604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2712240" y="2652480"/>
                    <a:ext cx="115020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5,97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639880" y="2652480"/>
                    <a:ext cx="129492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" name=""/>
              <p:cNvGrpSpPr/>
              <p:nvPr/>
            </p:nvGrpSpPr>
            <p:grpSpPr>
              <a:xfrm>
                <a:off x="3935520" y="2652480"/>
                <a:ext cx="1202040" cy="460440"/>
                <a:chOff x="3935520" y="2652480"/>
                <a:chExt cx="1202040" cy="460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935520" y="2652480"/>
                  <a:ext cx="120204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3935520" y="2652480"/>
                  <a:ext cx="1201680" cy="460440"/>
                  <a:chOff x="3935520" y="2652480"/>
                  <a:chExt cx="1201680" cy="4604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4008240" y="2652480"/>
                    <a:ext cx="105552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8,42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935520" y="2652480"/>
                    <a:ext cx="120168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" name=""/>
              <p:cNvGrpSpPr/>
              <p:nvPr/>
            </p:nvGrpSpPr>
            <p:grpSpPr>
              <a:xfrm>
                <a:off x="5137920" y="2652480"/>
                <a:ext cx="1939320" cy="460440"/>
                <a:chOff x="5137920" y="2652480"/>
                <a:chExt cx="1939320" cy="4604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137920" y="2652480"/>
                  <a:ext cx="193932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5137920" y="2652480"/>
                  <a:ext cx="1938960" cy="460440"/>
                  <a:chOff x="5137920" y="2652480"/>
                  <a:chExt cx="1938960" cy="4604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5210280" y="2652480"/>
                    <a:ext cx="179424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0,10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137920" y="2652480"/>
                    <a:ext cx="193896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1684080" y="3113280"/>
                <a:ext cx="955440" cy="460440"/>
                <a:chOff x="1684080" y="3113280"/>
                <a:chExt cx="955440" cy="4604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684080" y="3113280"/>
                  <a:ext cx="95544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1684080" y="3113280"/>
                  <a:ext cx="955080" cy="460440"/>
                  <a:chOff x="1684080" y="3113280"/>
                  <a:chExt cx="955080" cy="4604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756440" y="3113280"/>
                    <a:ext cx="80964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5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684080" y="3113280"/>
                    <a:ext cx="95508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2639880" y="3113280"/>
                <a:ext cx="1295280" cy="460440"/>
                <a:chOff x="2639880" y="3113280"/>
                <a:chExt cx="1295280" cy="4604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639880" y="3113280"/>
                  <a:ext cx="129528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2639880" y="3113280"/>
                  <a:ext cx="1294920" cy="460440"/>
                  <a:chOff x="2639880" y="3113280"/>
                  <a:chExt cx="1294920" cy="4604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2712240" y="3113280"/>
                    <a:ext cx="115020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1,32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2639880" y="3113280"/>
                    <a:ext cx="129492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935520" y="3113280"/>
                <a:ext cx="1202040" cy="460440"/>
                <a:chOff x="3935520" y="3113280"/>
                <a:chExt cx="1202040" cy="460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935520" y="3113280"/>
                  <a:ext cx="120204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935520" y="3113280"/>
                  <a:ext cx="1201680" cy="460440"/>
                  <a:chOff x="3935520" y="3113280"/>
                  <a:chExt cx="1201680" cy="4604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4008240" y="3113280"/>
                    <a:ext cx="105552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3,70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935520" y="3113280"/>
                    <a:ext cx="120168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5137920" y="3113280"/>
                <a:ext cx="1939320" cy="460440"/>
                <a:chOff x="5137920" y="3113280"/>
                <a:chExt cx="1939320" cy="460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137920" y="3113280"/>
                  <a:ext cx="1939320" cy="4604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5137920" y="3113280"/>
                  <a:ext cx="1938960" cy="460440"/>
                  <a:chOff x="5137920" y="3113280"/>
                  <a:chExt cx="1938960" cy="4604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5210280" y="3113280"/>
                    <a:ext cx="1794240" cy="46044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5,33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37920" y="3113280"/>
                    <a:ext cx="1938960" cy="460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1684080" y="3573720"/>
                <a:ext cx="955440" cy="460800"/>
                <a:chOff x="1684080" y="3573720"/>
                <a:chExt cx="955440" cy="4608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684080" y="3573720"/>
                  <a:ext cx="955440" cy="460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1684080" y="3573720"/>
                  <a:ext cx="955080" cy="460800"/>
                  <a:chOff x="1684080" y="3573720"/>
                  <a:chExt cx="955080" cy="4608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756440" y="3573720"/>
                    <a:ext cx="809640" cy="460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65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684080" y="3573720"/>
                    <a:ext cx="955080" cy="46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2639880" y="3573720"/>
                <a:ext cx="1295280" cy="460800"/>
                <a:chOff x="2639880" y="3573720"/>
                <a:chExt cx="1295280" cy="4608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639880" y="3573720"/>
                  <a:ext cx="1295280" cy="460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639880" y="3573720"/>
                  <a:ext cx="1294920" cy="460800"/>
                  <a:chOff x="2639880" y="3573720"/>
                  <a:chExt cx="1294920" cy="46080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712240" y="3573720"/>
                    <a:ext cx="1150200" cy="460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5,07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639880" y="3573720"/>
                    <a:ext cx="1294920" cy="46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3935520" y="3573720"/>
                <a:ext cx="1202040" cy="460800"/>
                <a:chOff x="3935520" y="3573720"/>
                <a:chExt cx="1202040" cy="460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935520" y="3573720"/>
                  <a:ext cx="1202040" cy="460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3935520" y="3573720"/>
                  <a:ext cx="1201680" cy="460800"/>
                  <a:chOff x="3935520" y="3573720"/>
                  <a:chExt cx="1201680" cy="460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4008240" y="3573720"/>
                    <a:ext cx="1055520" cy="460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6,65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935520" y="3573720"/>
                    <a:ext cx="1201680" cy="46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5137920" y="3573720"/>
                <a:ext cx="1939320" cy="460800"/>
                <a:chOff x="5137920" y="3573720"/>
                <a:chExt cx="1939320" cy="460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137920" y="3573720"/>
                  <a:ext cx="1939320" cy="460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5137920" y="3573720"/>
                  <a:ext cx="1938960" cy="460800"/>
                  <a:chOff x="5137920" y="3573720"/>
                  <a:chExt cx="1938960" cy="4608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5210280" y="3573720"/>
                    <a:ext cx="1794240" cy="460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7,80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137920" y="3573720"/>
                    <a:ext cx="1938960" cy="46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8" name=""/>
            <p:cNvSpPr/>
            <p:nvPr/>
          </p:nvSpPr>
          <p:spPr>
            <a:xfrm>
              <a:off x="1676520" y="2057400"/>
              <a:ext cx="540972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828800" y="3581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8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6520" y="4648320"/>
            <a:ext cx="5409720" cy="1904760"/>
            <a:chOff x="1676520" y="4648320"/>
            <a:chExt cx="5409720" cy="1904760"/>
          </a:xfrm>
        </p:grpSpPr>
        <p:grpSp>
          <p:nvGrpSpPr>
            <p:cNvPr id="213" name=""/>
            <p:cNvGrpSpPr/>
            <p:nvPr/>
          </p:nvGrpSpPr>
          <p:grpSpPr>
            <a:xfrm>
              <a:off x="1684080" y="4651560"/>
              <a:ext cx="5393160" cy="1898280"/>
              <a:chOff x="1684080" y="4651560"/>
              <a:chExt cx="5393160" cy="189828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684080" y="4651560"/>
                <a:ext cx="955440" cy="569160"/>
                <a:chOff x="1684080" y="4651560"/>
                <a:chExt cx="955440" cy="569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684080" y="4651560"/>
                  <a:ext cx="955440" cy="5691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1684080" y="4651560"/>
                  <a:ext cx="955080" cy="569160"/>
                  <a:chOff x="1684080" y="4651560"/>
                  <a:chExt cx="955080" cy="5691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1756440" y="4651560"/>
                    <a:ext cx="809640" cy="56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Edad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1684080" y="4651560"/>
                    <a:ext cx="955080" cy="56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2639880" y="4651560"/>
                <a:ext cx="1295280" cy="569160"/>
                <a:chOff x="2639880" y="4651560"/>
                <a:chExt cx="1295280" cy="569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39880" y="4651560"/>
                  <a:ext cx="1295280" cy="5691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2639880" y="4651560"/>
                  <a:ext cx="1294920" cy="569160"/>
                  <a:chOff x="2639880" y="4651560"/>
                  <a:chExt cx="1294920" cy="5691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2712240" y="4651560"/>
                    <a:ext cx="1150200" cy="56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GAM-71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639880" y="4651560"/>
                    <a:ext cx="1294920" cy="56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935520" y="4651560"/>
                <a:ext cx="1202040" cy="569160"/>
                <a:chOff x="3935520" y="4651560"/>
                <a:chExt cx="1202040" cy="569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35520" y="4651560"/>
                  <a:ext cx="1202040" cy="5691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3935520" y="4651560"/>
                  <a:ext cx="1201680" cy="569160"/>
                  <a:chOff x="3935520" y="4651560"/>
                  <a:chExt cx="1201680" cy="569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4008240" y="4651560"/>
                    <a:ext cx="1055520" cy="56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GAM-83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935520" y="4651560"/>
                    <a:ext cx="1201680" cy="56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" name=""/>
              <p:cNvGrpSpPr/>
              <p:nvPr/>
            </p:nvGrpSpPr>
            <p:grpSpPr>
              <a:xfrm>
                <a:off x="5137920" y="4651560"/>
                <a:ext cx="1939320" cy="569160"/>
                <a:chOff x="5137920" y="4651560"/>
                <a:chExt cx="1939320" cy="569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137920" y="4651560"/>
                  <a:ext cx="1939320" cy="5691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5137920" y="4651560"/>
                  <a:ext cx="1938960" cy="569160"/>
                  <a:chOff x="5137920" y="4651560"/>
                  <a:chExt cx="1938960" cy="5691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210280" y="4651560"/>
                    <a:ext cx="1794240" cy="56916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600" spc="-1" strike="noStrike">
                        <a:solidFill>
                          <a:srgbClr val="ffffff"/>
                        </a:solidFill>
                        <a:latin typeface="Comic Sans MS"/>
                        <a:ea typeface="Times New Roman"/>
                      </a:rPr>
                      <a:t>GAM-94 Stati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137920" y="4651560"/>
                    <a:ext cx="1938960" cy="569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1684080" y="5220720"/>
                <a:ext cx="955440" cy="442800"/>
                <a:chOff x="1684080" y="5220720"/>
                <a:chExt cx="955440" cy="442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684080" y="5220720"/>
                  <a:ext cx="95544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1684080" y="5220720"/>
                  <a:ext cx="955080" cy="442800"/>
                  <a:chOff x="1684080" y="5220720"/>
                  <a:chExt cx="955080" cy="442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56440" y="5220720"/>
                    <a:ext cx="80964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0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4080" y="5220720"/>
                    <a:ext cx="95508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" name=""/>
              <p:cNvGrpSpPr/>
              <p:nvPr/>
            </p:nvGrpSpPr>
            <p:grpSpPr>
              <a:xfrm>
                <a:off x="2639880" y="5220720"/>
                <a:ext cx="1295280" cy="442800"/>
                <a:chOff x="2639880" y="5220720"/>
                <a:chExt cx="1295280" cy="4428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639880" y="5220720"/>
                  <a:ext cx="129528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2639880" y="5220720"/>
                  <a:ext cx="1294920" cy="442800"/>
                  <a:chOff x="2639880" y="5220720"/>
                  <a:chExt cx="1294920" cy="4428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2712240" y="5220720"/>
                    <a:ext cx="115020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2,05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639880" y="5220720"/>
                    <a:ext cx="129492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3935520" y="5220720"/>
                <a:ext cx="1202040" cy="442800"/>
                <a:chOff x="3935520" y="5220720"/>
                <a:chExt cx="1202040" cy="4428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935520" y="5220720"/>
                  <a:ext cx="120204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3935520" y="5220720"/>
                  <a:ext cx="1201680" cy="442800"/>
                  <a:chOff x="3935520" y="5220720"/>
                  <a:chExt cx="1201680" cy="44280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4008240" y="5220720"/>
                    <a:ext cx="105552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4,28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935520" y="5220720"/>
                    <a:ext cx="120168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5137920" y="5220720"/>
                <a:ext cx="1939320" cy="442800"/>
                <a:chOff x="5137920" y="5220720"/>
                <a:chExt cx="1939320" cy="4428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37920" y="5220720"/>
                  <a:ext cx="193932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5137920" y="5220720"/>
                  <a:ext cx="1938960" cy="442800"/>
                  <a:chOff x="5137920" y="5220720"/>
                  <a:chExt cx="1938960" cy="442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210280" y="5220720"/>
                    <a:ext cx="179424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4,67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137920" y="5220720"/>
                    <a:ext cx="193896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1684080" y="5663520"/>
                <a:ext cx="955440" cy="442800"/>
                <a:chOff x="1684080" y="5663520"/>
                <a:chExt cx="955440" cy="442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684080" y="5663520"/>
                  <a:ext cx="95544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1684080" y="5663520"/>
                  <a:ext cx="955080" cy="442800"/>
                  <a:chOff x="1684080" y="5663520"/>
                  <a:chExt cx="955080" cy="4428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56440" y="5663520"/>
                    <a:ext cx="80964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5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4080" y="5663520"/>
                    <a:ext cx="95508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2639880" y="5663520"/>
                <a:ext cx="1295280" cy="442800"/>
                <a:chOff x="2639880" y="5663520"/>
                <a:chExt cx="1295280" cy="4428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639880" y="5663520"/>
                  <a:ext cx="129528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2639880" y="5663520"/>
                  <a:ext cx="1294920" cy="442800"/>
                  <a:chOff x="2639880" y="5663520"/>
                  <a:chExt cx="1294920" cy="44280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2712240" y="5663520"/>
                    <a:ext cx="115020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7,27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639880" y="5663520"/>
                    <a:ext cx="129492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3935520" y="5663520"/>
                <a:ext cx="1202040" cy="442800"/>
                <a:chOff x="3935520" y="5663520"/>
                <a:chExt cx="1202040" cy="4428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935520" y="5663520"/>
                  <a:ext cx="120204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3935520" y="5663520"/>
                  <a:ext cx="1201680" cy="442800"/>
                  <a:chOff x="3935520" y="5663520"/>
                  <a:chExt cx="1201680" cy="4428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4008240" y="5663520"/>
                    <a:ext cx="105552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9,6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935520" y="5663520"/>
                    <a:ext cx="120168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"/>
              <p:cNvGrpSpPr/>
              <p:nvPr/>
            </p:nvGrpSpPr>
            <p:grpSpPr>
              <a:xfrm>
                <a:off x="5137920" y="5663520"/>
                <a:ext cx="1939320" cy="442800"/>
                <a:chOff x="5137920" y="5663520"/>
                <a:chExt cx="1939320" cy="4428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137920" y="5663520"/>
                  <a:ext cx="1939320" cy="44280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5137920" y="5663520"/>
                  <a:ext cx="1938960" cy="442800"/>
                  <a:chOff x="5137920" y="5663520"/>
                  <a:chExt cx="1938960" cy="442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210280" y="5663520"/>
                    <a:ext cx="1794240" cy="44280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9,6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137920" y="5663520"/>
                    <a:ext cx="1938960" cy="442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1684080" y="6106680"/>
                <a:ext cx="955440" cy="443160"/>
                <a:chOff x="1684080" y="6106680"/>
                <a:chExt cx="955440" cy="443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684080" y="6106680"/>
                  <a:ext cx="955440" cy="44316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684080" y="6106680"/>
                  <a:ext cx="955080" cy="443160"/>
                  <a:chOff x="1684080" y="6106680"/>
                  <a:chExt cx="955080" cy="4431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756440" y="6106680"/>
                    <a:ext cx="809640" cy="44316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5</a:t>
                    </a:r>
                    <a:r>
                      <a:rPr b="1" i="1" lang="en-US" sz="12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684080" y="6106680"/>
                    <a:ext cx="955080" cy="44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2639880" y="6106680"/>
                <a:ext cx="1295280" cy="443160"/>
                <a:chOff x="2639880" y="6106680"/>
                <a:chExt cx="1295280" cy="443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639880" y="6106680"/>
                  <a:ext cx="1295280" cy="44316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639880" y="6106680"/>
                  <a:ext cx="1294920" cy="443160"/>
                  <a:chOff x="2639880" y="6106680"/>
                  <a:chExt cx="1294920" cy="4431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2712240" y="6106680"/>
                    <a:ext cx="1150200" cy="44316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9,20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639880" y="6106680"/>
                    <a:ext cx="1294920" cy="44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3935520" y="6106680"/>
                <a:ext cx="1202040" cy="443160"/>
                <a:chOff x="3935520" y="6106680"/>
                <a:chExt cx="1202040" cy="443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935520" y="6106680"/>
                  <a:ext cx="1202040" cy="44316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3935520" y="6106680"/>
                  <a:ext cx="1201680" cy="443160"/>
                  <a:chOff x="3935520" y="6106680"/>
                  <a:chExt cx="1201680" cy="4431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008240" y="6106680"/>
                    <a:ext cx="1055520" cy="44316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1,24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935520" y="6106680"/>
                    <a:ext cx="1201680" cy="44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" name=""/>
              <p:cNvGrpSpPr/>
              <p:nvPr/>
            </p:nvGrpSpPr>
            <p:grpSpPr>
              <a:xfrm>
                <a:off x="5137920" y="6106680"/>
                <a:ext cx="1939320" cy="443160"/>
                <a:chOff x="5137920" y="6106680"/>
                <a:chExt cx="1939320" cy="4431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137920" y="6106680"/>
                  <a:ext cx="1939320" cy="44316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5137920" y="6106680"/>
                  <a:ext cx="1938960" cy="443160"/>
                  <a:chOff x="5137920" y="6106680"/>
                  <a:chExt cx="1938960" cy="44316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5210280" y="6106680"/>
                    <a:ext cx="1794240" cy="443160"/>
                  </a:xfrm>
                  <a:prstGeom prst="rect">
                    <a:avLst/>
                  </a:prstGeom>
                  <a:solidFill>
                    <a:srgbClr val="ff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1,23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137920" y="6106680"/>
                    <a:ext cx="1938960" cy="443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4" name=""/>
            <p:cNvSpPr/>
            <p:nvPr/>
          </p:nvSpPr>
          <p:spPr>
            <a:xfrm>
              <a:off x="1676520" y="4648320"/>
              <a:ext cx="5409720" cy="1904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2520" y="4191120"/>
            <a:ext cx="11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66"/>
                </a:solidFill>
                <a:latin typeface="Comic Sans MS"/>
              </a:rPr>
              <a:t>Muj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: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algunas cuest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220968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Comic Sans MS"/>
              </a:rPr>
              <a:t>PRIMERA CUESTION</a:t>
            </a:r>
            <a:r>
              <a:rPr b="0" lang="es-AR" sz="2800" spc="-1" strike="noStrike">
                <a:solidFill>
                  <a:srgbClr val="ffcc6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66"/>
                </a:solidFill>
                <a:latin typeface="Comic Sans MS"/>
              </a:rPr>
              <a:t>APORTANDO SIMULTANEAMENTE  COMO AUTÓNOMO Y EN RELACIÓN DE DEPENDENCIA, POR APLICACIÓN DEL DECRETO 679/95, PODRIA OCURRIR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5257800"/>
            <a:ext cx="81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ff00"/>
                </a:solidFill>
                <a:latin typeface="Comic Sans MS"/>
              </a:rPr>
              <a:t>A MAYOR APORTE, MENOR REN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5200" y="104760"/>
            <a:ext cx="54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s de Jubil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770040"/>
            <a:ext cx="6858000" cy="61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mer pil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125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ásico, con objetivos redistributiv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 administración públic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nanciado con impuestos y aportes  obligato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gundo pil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 administración privad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nanciado con aportes obligato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rcer pil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 administración privad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nanciado con ahorro volunt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uarto pil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istencial, para los que no aporta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¿A financiar con impuest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FÓRMULA DE CÁLCULO PARA SERVICIOS SUCESIVOS Y/O SIMULTÁNEOS EN RELACION DE DEPENDENCIA  Y AUTÓNOMOS</a:t>
            </a:r>
            <a:r>
              <a:rPr b="0" lang="es-AR" sz="2000" spc="-1" strike="noStrike">
                <a:solidFill>
                  <a:srgbClr val="ffffff"/>
                </a:solidFill>
                <a:latin typeface="Comic Sans MS"/>
              </a:rPr>
              <a:t> (Anexo I- Dec.679/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C = 1,5% .N [((n+p).W + (m+p).R)/(n+m+p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Siend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(n+m+p) </a:t>
            </a:r>
            <a:r>
              <a:rPr b="1" lang="es-A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 420 :N </a:t>
            </a:r>
            <a:r>
              <a:rPr b="1" lang="es-A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 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Meses anteriores al 1/7/19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W= Remuneración promedio rel. de depend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R= Renta promedio autón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n= meses de aportes en relación de depend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m=meses de aportes autón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p= meses simultáneos rel.dep. y autón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1447920"/>
            <a:ext cx="7543800" cy="47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Hombre cuyo inicio laboral fue el 1.7.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ños trabajados hasta 1.7.94 =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Comic Sans MS"/>
              </a:rPr>
              <a:t>1er cas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Trabaja hasta los 65 en relación de dependencia. Sueldo: $ 48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PC = 1,5% . 16 . 4800 = $ 11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C =1,5% .N [((n+p).W +(m+p).R)/(n+m+p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90512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2do.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Trabaja hasta los 65 en relación de depend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Sueldo: $ 4800. Adicionalmente, desde el 1.7.94 aporta como autónomo categoría A (mínima), calculando la PC resul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1,5% .16 .[(192+ 0).4500 + (0 +0). 292) /(192+0+0)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C = $ 1.0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C =1,5% .N [((n+p).W +(m+p).R)/(n+m+p)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1981080"/>
            <a:ext cx="7620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3er.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Trabaja hasta los 65 en relación de depend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Sueldo: $ 4800. Adicionalmente desde el 1.7.94 aporta como autónomo categoría J (máxima), calculando la PC resul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1,5% .16 .[(192+ 0).2400 + (0 +0). 2400) /(192+0+0)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PC = $ 5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2767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¿QUÉ CONCLUSIÓN PODRIA SACAR EL APORTANTE A AMBAS ACTIVIDAD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80060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LA CONVENIENCIA DE RENUNCIAR A LOS MESES TRABAJADOS EN CALIDAD DE AUTÓNOMO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(Ley 25321, sep. 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94760" y="1219320"/>
            <a:ext cx="693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omic Sans MS"/>
              </a:rPr>
              <a:t>RESUMIENDO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1°) Sólo en rel. de dependencia:  PC =  $ 1.15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2°) Rel. Dep.+ Aut. (A) luego 1.7.94: PC = $ 1.0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3°) Rel. Dep.+ Aut. (J) luego 1.7.94: PC = $ 5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Arial"/>
              </a:rPr>
              <a:t>Prestación Compensato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44200" y="144792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Comic Sans MS"/>
              </a:rPr>
              <a:t>SEGUNDA CUESTION</a:t>
            </a:r>
            <a:r>
              <a:rPr b="0" lang="es-AR" sz="2800" spc="-1" strike="noStrike">
                <a:solidFill>
                  <a:srgbClr val="ffcc66"/>
                </a:solidFill>
                <a:latin typeface="Comic Sans MS"/>
              </a:rPr>
              <a:t>: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981080"/>
            <a:ext cx="723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APORTANTE A AMBAS ACTIVIDADES, QUE ENTRARA EN EL PERÍODO DE LOS ÚLTIMOS 10 AÑOS DE APORTES Y TUVIERA UNA FUERTE DISMINUCIÓN DE SUS INGRESOS EN RELACIÓN DE DEPENDENCIA, DEBERÁ EVALUAR LA CONVENIENCIA DE NO APORTAR EN ÉSTA ÚLTIMA COND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9960" y="4648320"/>
            <a:ext cx="700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¿RAZ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L CÓMPUTO DE LOS APOR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COMO AUTÓNOMOS: TODOS LOS EFECTU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EN RELACIÓN DE DEPENDENCIA: LOS 10 AÑ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omic Sans MS"/>
              </a:rPr>
              <a:t>ANTERIORES LA CESACIÓN EN EL SERV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4840" y="50796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Repar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828800"/>
            <a:ext cx="609624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orte de los trabajadores en actividad, destinados a abonar los beneficios de los actuales jubilados y pension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s trabajadores en actividad adquieren el derecho a percibir una prestación cuando se reti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74840" y="50796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Repar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23880"/>
            <a:ext cx="601992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acterístic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ja c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lidaridad intergener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quilibrio económico: Adecuada relación activos/ retir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quilibrio demográfico: Estabilidad entre ingresantes, mortalidad y mig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74840" y="50796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Repar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67820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imit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vejecimiento demográfico 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o de la longev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ducción de la fer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o de emigr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ortes insuficien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ía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érdida del poder adquis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icultades de liquidarse el siste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4840" y="507960"/>
            <a:ext cx="48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Repar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95280"/>
            <a:ext cx="678204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gunas acciones frecuentes al romperse el equilibrio económico y/o demográf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o de los apor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minución de los benef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74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longación de la edad normal de ret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2520" y="507960"/>
            <a:ext cx="62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Capitaliz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5000"/>
              </a:lnSpc>
              <a:spcBef>
                <a:spcPts val="275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ndo acumulado por el trabajador durante la etapa activa, tal que le per-mita adquirir a la edad de retiro una renta vitalicia equivalen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Valor actual de los aportes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= Valor actual de los beneficio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2520" y="507960"/>
            <a:ext cx="62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Capitaliz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pitalización pura o colectiva:</a:t>
            </a:r>
            <a:br>
              <a:rPr sz="2800"/>
            </a:br>
            <a:br>
              <a:rPr sz="2800"/>
            </a:br>
            <a:r>
              <a:rPr b="0" lang="es-A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 equilibrio técnico corresponde al de todos los afiliados en su conjunto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pitalización individual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 equilibrio técnico se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retende </a:t>
            </a:r>
            <a:r>
              <a:rPr b="0" lang="es-AR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canzar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para cada afiliado, tomado aisladamente.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2520" y="507960"/>
            <a:ext cx="62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Sistema de Capitaliz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acterística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Intrageneracion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quilibrio económico y demográfico sobre bases técnicas actuariale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limina déficit del sistema de reparto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Prevé los compromisos futuro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s posible efectuar la liquidación del fond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Reservas técnic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Fondos invertidos en obras de utilidad social o en la actividad empresarial.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5:26:32Z</dcterms:created>
  <dc:creator>Juan Carlos Alonso</dc:creator>
  <dc:description/>
  <dc:language>en-US</dc:language>
  <cp:lastModifiedBy>pagina</cp:lastModifiedBy>
  <cp:lastPrinted>2003-10-07T16:11:13Z</cp:lastPrinted>
  <dcterms:modified xsi:type="dcterms:W3CDTF">2003-10-17T20:29:19Z</dcterms:modified>
  <cp:revision>47</cp:revision>
  <dc:subject/>
  <dc:title>Presentación de PowerPoint</dc:title>
</cp:coreProperties>
</file>