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9D46-DBE9-4F7C-9242-3B4517A3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7289-8FE3-4CFA-B389-62847FD2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4D6C-5794-4D5B-AC73-B154FE9B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6076-3443-4692-B379-1C645B17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81F0-11AB-4380-A30B-70D9FBF4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9844-C588-414E-BB7C-DF3CFB0E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C7FF-7681-4489-BA91-108CDE05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7FA8-CB73-4C0C-9048-A536C54F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FC27-21BC-4D5E-BEBE-707B88AE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DF8C-B150-44EA-BE36-C7B6445C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C07E-8A4F-43B3-AE08-67A607F8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19D7-4210-4B31-B87A-B3D03F9A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D2F3-E587-4254-AD20-D4083DB8DF0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70000" cy="237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25146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Salud:Marco Estratégico Polític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56386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9880" y="5410080"/>
            <a:ext cx="5334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Dr. Rubén Tor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uperintendencia de Servicios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5445000"/>
            <a:ext cx="3581280" cy="1024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016600" y="324000"/>
            <a:ext cx="37400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596960"/>
          <a:ext cx="8077320" cy="452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596960"/>
                    <a:ext cx="807732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43000" y="6094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volución de los ingresos medios por beneficiario/m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62120" y="1752480"/>
          <a:ext cx="8153280" cy="451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752480"/>
                    <a:ext cx="8153280" cy="45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gistro de acree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68360" y="1600200"/>
          <a:ext cx="8675280" cy="5184720"/>
        </p:xfrm>
        <a:graphic>
          <a:graphicData uri="http://schemas.openxmlformats.org/drawingml/2006/table">
            <a:tbl>
              <a:tblPr/>
              <a:tblGrid>
                <a:gridCol w="4331880"/>
                <a:gridCol w="4343400"/>
              </a:tblGrid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o de prestad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os reclamad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n millones de pes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 numero de regist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tram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laran regist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een regist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gistro de acree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38080" y="1598760"/>
          <a:ext cx="8001000" cy="449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598760"/>
                    <a:ext cx="8001000" cy="44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gistro de acreedor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62120" y="1598760"/>
          <a:ext cx="8381880" cy="449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598760"/>
                    <a:ext cx="8381880" cy="44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 rot="16200000">
            <a:off x="-1530000" y="3816000"/>
            <a:ext cx="47451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reto 1400/01 - Obras Sociales en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143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ISTEMA DE DIAGNO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663560" y="2590920"/>
          <a:ext cx="6858000" cy="3378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3560" y="2590920"/>
                    <a:ext cx="685800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2895480" y="2362320"/>
            <a:ext cx="152640" cy="3581280"/>
          </a:xfrm>
          <a:custGeom>
            <a:avLst/>
            <a:gdLst>
              <a:gd name="textAreaLeft" fmla="*/ 97560 w 152640"/>
              <a:gd name="textAreaRight" fmla="*/ 153000 w 15264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19320" y="274680"/>
            <a:ext cx="746748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ruce de padro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90720" y="1828800"/>
          <a:ext cx="7696080" cy="429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76960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5280" y="2438280"/>
            <a:ext cx="8137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95280" y="351000"/>
            <a:ext cx="764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pleo no registra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% de asalariados a los que no se les descuenta el aporte person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219320" y="990720"/>
          <a:ext cx="7924680" cy="573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990720"/>
                    <a:ext cx="792468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82120" y="274320"/>
            <a:ext cx="585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eldo bruto de los trabajadores privados priv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N= 3.862.000 trabajad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en porcentaje) (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43000" y="987480"/>
          <a:ext cx="8001000" cy="582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987480"/>
                    <a:ext cx="800100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4043880" y="6521040"/>
            <a:ext cx="476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Fuente: Elaboración propia en base a datos del Ministerio de Economia de la Nacion (sueldos brut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eclarado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14300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Y 24.977         LEY 25.86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2017800"/>
            <a:ext cx="342900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$ 20 por titul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$ 20 por todo el grupo famili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n FS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 integran el Sist. Nac. Del Seguro de Salu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 solidarida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n grupo de OO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2017800"/>
            <a:ext cx="377352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$ 22 por titul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$ 19 por cada integrante del grup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 FS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gra el Sistema del Seguro de Salu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lidaridad relati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das las OO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1333440" y="3848040"/>
            <a:ext cx="42674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GIMEN SIMPLIFICAD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PEQUEÑOS CONTRIBUY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95280" y="-28440"/>
            <a:ext cx="784872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bable evoluci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 de la tasa de desempleo en relaci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 al crecimiento del P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02-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2dos.trimest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19320" y="1600200"/>
          <a:ext cx="7619760" cy="488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600200"/>
                    <a:ext cx="761976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94160" y="6400080"/>
            <a:ext cx="2945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Fuente: Elaboracion propia en base a datos de EPH, INDE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15920" y="2362320"/>
          <a:ext cx="9144000" cy="112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2362320"/>
                    <a:ext cx="914400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143000" y="334800"/>
            <a:ext cx="8116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volución de la distribución del ingreso en la Argen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13200" y="907920"/>
            <a:ext cx="323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66"/>
                </a:solidFill>
                <a:latin typeface="Arial"/>
              </a:rPr>
              <a:t>- BS AS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2438280"/>
          <a:ext cx="9144000" cy="367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438280"/>
                    <a:ext cx="914400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965320" y="6583320"/>
            <a:ext cx="131760" cy="142920"/>
          </a:xfrm>
          <a:prstGeom prst="rect">
            <a:avLst/>
          </a:prstGeom>
          <a:solidFill>
            <a:srgbClr val="00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58920" y="652932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3366"/>
                </a:solidFill>
                <a:latin typeface="Arial"/>
              </a:rPr>
              <a:t>10 % MÁS R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16520" y="6583320"/>
            <a:ext cx="13176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08320" y="6529320"/>
            <a:ext cx="149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3366"/>
                </a:solidFill>
                <a:latin typeface="Arial"/>
              </a:rPr>
              <a:t>10 % MÁS PO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72360" y="6208560"/>
            <a:ext cx="396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3366"/>
                </a:solidFill>
                <a:uFillTx/>
                <a:latin typeface="Arial"/>
              </a:rPr>
              <a:t>PORCENTAJE DE CONCENTRACIÓN DEL INGR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85840" y="5562720"/>
            <a:ext cx="87120" cy="598320"/>
            <a:chOff x="285840" y="5562720"/>
            <a:chExt cx="87120" cy="598320"/>
          </a:xfrm>
        </p:grpSpPr>
        <p:sp>
          <p:nvSpPr>
            <p:cNvPr id="144" name=""/>
            <p:cNvSpPr/>
            <p:nvPr/>
          </p:nvSpPr>
          <p:spPr>
            <a:xfrm>
              <a:off x="329400" y="5562720"/>
              <a:ext cx="0" cy="590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5840" y="6120000"/>
              <a:ext cx="87120" cy="410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79320" y="5562720"/>
            <a:ext cx="88920" cy="598320"/>
            <a:chOff x="679320" y="5562720"/>
            <a:chExt cx="88920" cy="598320"/>
          </a:xfrm>
        </p:grpSpPr>
        <p:sp>
          <p:nvSpPr>
            <p:cNvPr id="147" name=""/>
            <p:cNvSpPr/>
            <p:nvPr/>
          </p:nvSpPr>
          <p:spPr>
            <a:xfrm>
              <a:off x="723600" y="5562720"/>
              <a:ext cx="0" cy="590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9320" y="6120000"/>
              <a:ext cx="88920" cy="410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074600" y="5562720"/>
            <a:ext cx="87480" cy="598320"/>
            <a:chOff x="1074600" y="5562720"/>
            <a:chExt cx="87480" cy="598320"/>
          </a:xfrm>
        </p:grpSpPr>
        <p:sp>
          <p:nvSpPr>
            <p:cNvPr id="150" name=""/>
            <p:cNvSpPr/>
            <p:nvPr/>
          </p:nvSpPr>
          <p:spPr>
            <a:xfrm>
              <a:off x="1118160" y="5562720"/>
              <a:ext cx="0" cy="590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74600" y="6120000"/>
              <a:ext cx="87480" cy="410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467000" y="5562720"/>
            <a:ext cx="87120" cy="598320"/>
            <a:chOff x="1467000" y="5562720"/>
            <a:chExt cx="87120" cy="598320"/>
          </a:xfrm>
        </p:grpSpPr>
        <p:sp>
          <p:nvSpPr>
            <p:cNvPr id="153" name=""/>
            <p:cNvSpPr/>
            <p:nvPr/>
          </p:nvSpPr>
          <p:spPr>
            <a:xfrm>
              <a:off x="1510560" y="5562720"/>
              <a:ext cx="0" cy="590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67000" y="6120000"/>
              <a:ext cx="87120" cy="410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860480" y="5562720"/>
            <a:ext cx="88920" cy="598320"/>
            <a:chOff x="1860480" y="5562720"/>
            <a:chExt cx="88920" cy="598320"/>
          </a:xfrm>
        </p:grpSpPr>
        <p:sp>
          <p:nvSpPr>
            <p:cNvPr id="156" name=""/>
            <p:cNvSpPr/>
            <p:nvPr/>
          </p:nvSpPr>
          <p:spPr>
            <a:xfrm>
              <a:off x="1904760" y="5562720"/>
              <a:ext cx="0" cy="590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60480" y="6120000"/>
              <a:ext cx="88920" cy="410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255760" y="5562720"/>
            <a:ext cx="87480" cy="598320"/>
            <a:chOff x="2255760" y="5562720"/>
            <a:chExt cx="87480" cy="598320"/>
          </a:xfrm>
        </p:grpSpPr>
        <p:sp>
          <p:nvSpPr>
            <p:cNvPr id="159" name=""/>
            <p:cNvSpPr/>
            <p:nvPr/>
          </p:nvSpPr>
          <p:spPr>
            <a:xfrm>
              <a:off x="2299320" y="5562720"/>
              <a:ext cx="0" cy="590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55760" y="6120000"/>
              <a:ext cx="87480" cy="410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647800" y="5562720"/>
            <a:ext cx="87480" cy="598320"/>
            <a:chOff x="2647800" y="5562720"/>
            <a:chExt cx="87480" cy="598320"/>
          </a:xfrm>
        </p:grpSpPr>
        <p:sp>
          <p:nvSpPr>
            <p:cNvPr id="162" name=""/>
            <p:cNvSpPr/>
            <p:nvPr/>
          </p:nvSpPr>
          <p:spPr>
            <a:xfrm>
              <a:off x="2691360" y="5562720"/>
              <a:ext cx="0" cy="590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47800" y="6120000"/>
              <a:ext cx="87480" cy="410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041640" y="5562720"/>
            <a:ext cx="88920" cy="598320"/>
            <a:chOff x="3041640" y="5562720"/>
            <a:chExt cx="88920" cy="598320"/>
          </a:xfrm>
        </p:grpSpPr>
        <p:sp>
          <p:nvSpPr>
            <p:cNvPr id="165" name=""/>
            <p:cNvSpPr/>
            <p:nvPr/>
          </p:nvSpPr>
          <p:spPr>
            <a:xfrm>
              <a:off x="3085920" y="5562720"/>
              <a:ext cx="0" cy="590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41640" y="6120000"/>
              <a:ext cx="88920" cy="410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436920" y="5562720"/>
            <a:ext cx="87480" cy="598320"/>
            <a:chOff x="3436920" y="5562720"/>
            <a:chExt cx="87480" cy="598320"/>
          </a:xfrm>
        </p:grpSpPr>
        <p:sp>
          <p:nvSpPr>
            <p:cNvPr id="168" name=""/>
            <p:cNvSpPr/>
            <p:nvPr/>
          </p:nvSpPr>
          <p:spPr>
            <a:xfrm>
              <a:off x="3480480" y="5562720"/>
              <a:ext cx="0" cy="590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36920" y="6120000"/>
              <a:ext cx="87480" cy="410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828960" y="5562720"/>
            <a:ext cx="87480" cy="598320"/>
            <a:chOff x="3828960" y="5562720"/>
            <a:chExt cx="87480" cy="598320"/>
          </a:xfrm>
        </p:grpSpPr>
        <p:sp>
          <p:nvSpPr>
            <p:cNvPr id="171" name=""/>
            <p:cNvSpPr/>
            <p:nvPr/>
          </p:nvSpPr>
          <p:spPr>
            <a:xfrm>
              <a:off x="3872520" y="5562720"/>
              <a:ext cx="0" cy="590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28960" y="6120000"/>
              <a:ext cx="87480" cy="410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222800" y="5562720"/>
            <a:ext cx="88920" cy="598320"/>
            <a:chOff x="4222800" y="5562720"/>
            <a:chExt cx="88920" cy="598320"/>
          </a:xfrm>
        </p:grpSpPr>
        <p:sp>
          <p:nvSpPr>
            <p:cNvPr id="174" name=""/>
            <p:cNvSpPr/>
            <p:nvPr/>
          </p:nvSpPr>
          <p:spPr>
            <a:xfrm>
              <a:off x="4267080" y="5562720"/>
              <a:ext cx="0" cy="590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22800" y="6120000"/>
              <a:ext cx="88920" cy="410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616280" y="5562720"/>
            <a:ext cx="87480" cy="598320"/>
            <a:chOff x="4616280" y="5562720"/>
            <a:chExt cx="87480" cy="598320"/>
          </a:xfrm>
        </p:grpSpPr>
        <p:sp>
          <p:nvSpPr>
            <p:cNvPr id="177" name=""/>
            <p:cNvSpPr/>
            <p:nvPr/>
          </p:nvSpPr>
          <p:spPr>
            <a:xfrm>
              <a:off x="4659840" y="5562720"/>
              <a:ext cx="0" cy="590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16280" y="6120000"/>
              <a:ext cx="87480" cy="410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010120" y="5562720"/>
            <a:ext cx="87480" cy="598320"/>
            <a:chOff x="5010120" y="5562720"/>
            <a:chExt cx="87480" cy="598320"/>
          </a:xfrm>
        </p:grpSpPr>
        <p:sp>
          <p:nvSpPr>
            <p:cNvPr id="180" name=""/>
            <p:cNvSpPr/>
            <p:nvPr/>
          </p:nvSpPr>
          <p:spPr>
            <a:xfrm>
              <a:off x="5053680" y="5562720"/>
              <a:ext cx="0" cy="590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10120" y="6120000"/>
              <a:ext cx="87480" cy="410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403960" y="5562720"/>
            <a:ext cx="88920" cy="598320"/>
            <a:chOff x="5403960" y="5562720"/>
            <a:chExt cx="88920" cy="598320"/>
          </a:xfrm>
        </p:grpSpPr>
        <p:sp>
          <p:nvSpPr>
            <p:cNvPr id="183" name=""/>
            <p:cNvSpPr/>
            <p:nvPr/>
          </p:nvSpPr>
          <p:spPr>
            <a:xfrm>
              <a:off x="5448240" y="5562720"/>
              <a:ext cx="0" cy="590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03960" y="6120000"/>
              <a:ext cx="88920" cy="410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797440" y="5562720"/>
            <a:ext cx="87480" cy="598320"/>
            <a:chOff x="5797440" y="5562720"/>
            <a:chExt cx="87480" cy="598320"/>
          </a:xfrm>
        </p:grpSpPr>
        <p:sp>
          <p:nvSpPr>
            <p:cNvPr id="186" name=""/>
            <p:cNvSpPr/>
            <p:nvPr/>
          </p:nvSpPr>
          <p:spPr>
            <a:xfrm>
              <a:off x="5841000" y="5562720"/>
              <a:ext cx="0" cy="590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7440" y="6120000"/>
              <a:ext cx="87480" cy="410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191280" y="5562720"/>
            <a:ext cx="87120" cy="598320"/>
            <a:chOff x="6191280" y="5562720"/>
            <a:chExt cx="87120" cy="598320"/>
          </a:xfrm>
        </p:grpSpPr>
        <p:sp>
          <p:nvSpPr>
            <p:cNvPr id="189" name=""/>
            <p:cNvSpPr/>
            <p:nvPr/>
          </p:nvSpPr>
          <p:spPr>
            <a:xfrm>
              <a:off x="6234840" y="5562720"/>
              <a:ext cx="0" cy="590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91280" y="6120000"/>
              <a:ext cx="87120" cy="410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585120" y="5562720"/>
            <a:ext cx="88560" cy="598320"/>
            <a:chOff x="6585120" y="5562720"/>
            <a:chExt cx="88560" cy="598320"/>
          </a:xfrm>
        </p:grpSpPr>
        <p:sp>
          <p:nvSpPr>
            <p:cNvPr id="192" name=""/>
            <p:cNvSpPr/>
            <p:nvPr/>
          </p:nvSpPr>
          <p:spPr>
            <a:xfrm>
              <a:off x="6629400" y="5562720"/>
              <a:ext cx="0" cy="590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85120" y="6120000"/>
              <a:ext cx="88560" cy="410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978600" y="5562720"/>
            <a:ext cx="87480" cy="598320"/>
            <a:chOff x="6978600" y="5562720"/>
            <a:chExt cx="87480" cy="598320"/>
          </a:xfrm>
        </p:grpSpPr>
        <p:sp>
          <p:nvSpPr>
            <p:cNvPr id="195" name=""/>
            <p:cNvSpPr/>
            <p:nvPr/>
          </p:nvSpPr>
          <p:spPr>
            <a:xfrm>
              <a:off x="7022160" y="5562720"/>
              <a:ext cx="0" cy="590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78600" y="6120000"/>
              <a:ext cx="87480" cy="410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7372440" y="5562720"/>
            <a:ext cx="87120" cy="598320"/>
            <a:chOff x="7372440" y="5562720"/>
            <a:chExt cx="87120" cy="598320"/>
          </a:xfrm>
        </p:grpSpPr>
        <p:sp>
          <p:nvSpPr>
            <p:cNvPr id="198" name=""/>
            <p:cNvSpPr/>
            <p:nvPr/>
          </p:nvSpPr>
          <p:spPr>
            <a:xfrm>
              <a:off x="7416000" y="5562720"/>
              <a:ext cx="0" cy="590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372440" y="6120000"/>
              <a:ext cx="87120" cy="410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7765920" y="5562720"/>
            <a:ext cx="88920" cy="598320"/>
            <a:chOff x="7765920" y="5562720"/>
            <a:chExt cx="88920" cy="598320"/>
          </a:xfrm>
        </p:grpSpPr>
        <p:sp>
          <p:nvSpPr>
            <p:cNvPr id="201" name=""/>
            <p:cNvSpPr/>
            <p:nvPr/>
          </p:nvSpPr>
          <p:spPr>
            <a:xfrm>
              <a:off x="7810200" y="5562720"/>
              <a:ext cx="0" cy="590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765920" y="6120000"/>
              <a:ext cx="88920" cy="410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8159760" y="5562720"/>
            <a:ext cx="87480" cy="598320"/>
            <a:chOff x="8159760" y="5562720"/>
            <a:chExt cx="87480" cy="598320"/>
          </a:xfrm>
        </p:grpSpPr>
        <p:sp>
          <p:nvSpPr>
            <p:cNvPr id="204" name=""/>
            <p:cNvSpPr/>
            <p:nvPr/>
          </p:nvSpPr>
          <p:spPr>
            <a:xfrm>
              <a:off x="8203320" y="5562720"/>
              <a:ext cx="0" cy="590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59760" y="6120000"/>
              <a:ext cx="87480" cy="410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8553600" y="5562720"/>
            <a:ext cx="87120" cy="598320"/>
            <a:chOff x="8553600" y="5562720"/>
            <a:chExt cx="87120" cy="598320"/>
          </a:xfrm>
        </p:grpSpPr>
        <p:sp>
          <p:nvSpPr>
            <p:cNvPr id="207" name=""/>
            <p:cNvSpPr/>
            <p:nvPr/>
          </p:nvSpPr>
          <p:spPr>
            <a:xfrm>
              <a:off x="8597160" y="5562720"/>
              <a:ext cx="0" cy="590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553600" y="6120000"/>
              <a:ext cx="87120" cy="410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8945640" y="5562720"/>
            <a:ext cx="88920" cy="598320"/>
            <a:chOff x="8945640" y="5562720"/>
            <a:chExt cx="88920" cy="598320"/>
          </a:xfrm>
        </p:grpSpPr>
        <p:sp>
          <p:nvSpPr>
            <p:cNvPr id="210" name=""/>
            <p:cNvSpPr/>
            <p:nvPr/>
          </p:nvSpPr>
          <p:spPr>
            <a:xfrm>
              <a:off x="8989920" y="5562720"/>
              <a:ext cx="0" cy="590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45640" y="6120000"/>
              <a:ext cx="88920" cy="410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23840" y="5770440"/>
            <a:ext cx="412560" cy="1875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19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7680" y="5770440"/>
            <a:ext cx="412560" cy="1875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11160" y="5770440"/>
            <a:ext cx="414360" cy="1875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198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05000" y="5770440"/>
            <a:ext cx="412560" cy="1875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19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98480" y="5770440"/>
            <a:ext cx="412920" cy="1875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92320" y="5770440"/>
            <a:ext cx="414360" cy="1875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86160" y="5770440"/>
            <a:ext cx="412560" cy="1875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79640" y="5770440"/>
            <a:ext cx="412920" cy="1875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198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73480" y="5770440"/>
            <a:ext cx="414360" cy="1875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19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66960" y="5770440"/>
            <a:ext cx="412920" cy="1875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60800" y="5770440"/>
            <a:ext cx="412920" cy="1875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52840" y="5770440"/>
            <a:ext cx="414360" cy="1875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48120" y="5770440"/>
            <a:ext cx="412920" cy="1875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41960" y="5770440"/>
            <a:ext cx="412560" cy="1875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34000" y="5770440"/>
            <a:ext cx="414360" cy="1875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29280" y="5770440"/>
            <a:ext cx="412920" cy="1875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23120" y="5770440"/>
            <a:ext cx="412560" cy="1875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15160" y="5770440"/>
            <a:ext cx="414360" cy="1875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10440" y="5770440"/>
            <a:ext cx="412560" cy="1875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04280" y="5770440"/>
            <a:ext cx="412560" cy="1875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996320" y="5770440"/>
            <a:ext cx="414360" cy="1875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391600" y="5770440"/>
            <a:ext cx="412560" cy="1875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783640" y="5770440"/>
            <a:ext cx="412920" cy="1875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4861080"/>
          <a:ext cx="9325080" cy="915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4861080"/>
                    <a:ext cx="932508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219320" y="2181240"/>
          <a:ext cx="7924680" cy="427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181240"/>
                    <a:ext cx="7924680" cy="42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838080" y="60948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NOTRIBUTISTA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SCRIPTOS Y APORTANTES</a:t>
            </a:r>
            <a:br>
              <a:rPr sz="4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.S.B.A. (MAY 2001/MAY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219320" y="1981080"/>
          <a:ext cx="7696080" cy="427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981080"/>
                    <a:ext cx="769608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907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NOTRIBUTISTA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SCRIPTOS Y APORT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1430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Y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6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orporación obligatoria del tit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orporación voluntaria del grupo famili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a Médico Obligatorio (PMO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ablecimiento de car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be estar al día en el pago del tribu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bilidad de darlo de ba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-1257120" y="3999960"/>
            <a:ext cx="4038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GIMEN SIMPLIFICAD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PEQUEÑOS CONTRIBUY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447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EY 25.86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4480" y="2438280"/>
          <a:ext cx="8839080" cy="3070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80" y="2438280"/>
                    <a:ext cx="8839080" cy="30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28600" y="6248520"/>
            <a:ext cx="861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REGIMEN SIMPLIFICADO PARA PEQUEÑOS CONTRIBUYEN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95280" y="404640"/>
            <a:ext cx="8421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osé Ingeni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773360"/>
            <a:ext cx="44197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os hombres mediocres son cuantitativos, pueden apreciar el más y el menos, pero nunca distinguen lo mejor de lo pe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203480" y="2362320"/>
            <a:ext cx="35208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295280" y="304920"/>
            <a:ext cx="7848720" cy="820440"/>
          </a:xfrm>
          <a:prstGeom prst="rect">
            <a:avLst/>
          </a:prstGeom>
          <a:solidFill>
            <a:srgbClr val="516a9b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ograma Médico Obligatorio de Emergencia 2002 vs. Nuevo Formulario Terapéutico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63680" y="1600200"/>
            <a:ext cx="8680320" cy="4843440"/>
            <a:chOff x="463680" y="1600200"/>
            <a:chExt cx="8680320" cy="4843440"/>
          </a:xfrm>
        </p:grpSpPr>
        <p:sp>
          <p:nvSpPr>
            <p:cNvPr id="69" name=""/>
            <p:cNvSpPr/>
            <p:nvPr/>
          </p:nvSpPr>
          <p:spPr>
            <a:xfrm>
              <a:off x="463680" y="2392560"/>
              <a:ext cx="4357440" cy="539640"/>
            </a:xfrm>
            <a:prstGeom prst="rect">
              <a:avLst/>
            </a:prstGeom>
            <a:solidFill>
              <a:srgbClr val="8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entury Gothic"/>
                </a:rPr>
                <a:t>Drogas Genér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16400" y="2392560"/>
              <a:ext cx="1150920" cy="569880"/>
            </a:xfrm>
            <a:prstGeom prst="rect">
              <a:avLst/>
            </a:prstGeom>
            <a:solidFill>
              <a:srgbClr val="ff33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Century Gothic"/>
                </a:rPr>
                <a:t>2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21480" y="2392560"/>
              <a:ext cx="1150920" cy="569880"/>
            </a:xfrm>
            <a:prstGeom prst="rect">
              <a:avLst/>
            </a:pr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Century Gothic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Century Gothic"/>
                </a:rPr>
                <a:t>37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16400" y="3262320"/>
              <a:ext cx="1150920" cy="569880"/>
            </a:xfrm>
            <a:prstGeom prst="rect">
              <a:avLst/>
            </a:prstGeom>
            <a:solidFill>
              <a:srgbClr val="ff33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66"/>
                  </a:solidFill>
                  <a:latin typeface="Century Gothic"/>
                </a:rPr>
                <a:t>2.6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1480" y="3262320"/>
              <a:ext cx="1150920" cy="569880"/>
            </a:xfrm>
            <a:prstGeom prst="rect">
              <a:avLst/>
            </a:pr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66"/>
                  </a:solidFill>
                  <a:latin typeface="Century Gothic"/>
                </a:rPr>
                <a:t>3.9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3680" y="3262320"/>
              <a:ext cx="4357440" cy="539640"/>
            </a:xfrm>
            <a:prstGeom prst="rect">
              <a:avLst/>
            </a:prstGeom>
            <a:solidFill>
              <a:srgbClr val="8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entury Gothic"/>
                </a:rPr>
                <a:t>Presentaciones Comerci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3680" y="4132440"/>
              <a:ext cx="4357440" cy="539640"/>
            </a:xfrm>
            <a:prstGeom prst="rect">
              <a:avLst/>
            </a:prstGeom>
            <a:solidFill>
              <a:srgbClr val="8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entury Gothic"/>
                </a:rPr>
                <a:t>Medicamentos al 4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16400" y="4132440"/>
              <a:ext cx="1150920" cy="569880"/>
            </a:xfrm>
            <a:prstGeom prst="rect">
              <a:avLst/>
            </a:prstGeom>
            <a:solidFill>
              <a:srgbClr val="ff33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66"/>
                  </a:solidFill>
                  <a:latin typeface="Century Gothic"/>
                </a:rPr>
                <a:t>19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1480" y="4132440"/>
              <a:ext cx="1150920" cy="569880"/>
            </a:xfrm>
            <a:prstGeom prst="rect">
              <a:avLst/>
            </a:pr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66"/>
                  </a:solidFill>
                  <a:latin typeface="Century Gothic"/>
                </a:rPr>
                <a:t>17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63680" y="5002200"/>
              <a:ext cx="4357440" cy="539640"/>
            </a:xfrm>
            <a:prstGeom prst="rect">
              <a:avLst/>
            </a:prstGeom>
            <a:solidFill>
              <a:srgbClr val="8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entury Gothic"/>
                </a:rPr>
                <a:t>Medicamentos al 7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16400" y="5004000"/>
              <a:ext cx="1150920" cy="569880"/>
            </a:xfrm>
            <a:prstGeom prst="rect">
              <a:avLst/>
            </a:prstGeom>
            <a:solidFill>
              <a:srgbClr val="ff33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Century Gothic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21480" y="5002200"/>
              <a:ext cx="1150920" cy="569880"/>
            </a:xfrm>
            <a:prstGeom prst="rect">
              <a:avLst/>
            </a:pr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Century Gothic"/>
                </a:rPr>
                <a:t>1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3680" y="5873760"/>
              <a:ext cx="4357440" cy="539640"/>
            </a:xfrm>
            <a:prstGeom prst="rect">
              <a:avLst/>
            </a:prstGeom>
            <a:solidFill>
              <a:srgbClr val="8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entury Gothic"/>
                </a:rPr>
                <a:t>Medicamentos al 10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16400" y="5873760"/>
              <a:ext cx="1150920" cy="569880"/>
            </a:xfrm>
            <a:prstGeom prst="rect">
              <a:avLst/>
            </a:prstGeom>
            <a:solidFill>
              <a:srgbClr val="ff33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66"/>
                  </a:solidFill>
                  <a:latin typeface="Century Gothic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21480" y="5873760"/>
              <a:ext cx="1150920" cy="569880"/>
            </a:xfrm>
            <a:prstGeom prst="rect">
              <a:avLst/>
            </a:pr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66"/>
                  </a:solidFill>
                  <a:latin typeface="Century Gothic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216400" y="1600200"/>
              <a:ext cx="1150920" cy="5698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Century Gothic"/>
                </a:rPr>
                <a:t>AN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1480" y="1600200"/>
              <a:ext cx="1150920" cy="569880"/>
            </a:xfrm>
            <a:prstGeom prst="rect">
              <a:avLst/>
            </a:prstGeom>
            <a:solidFill>
              <a:srgbClr val="ff33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Century Gothic"/>
                </a:rPr>
                <a:t>AH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93080" y="2392560"/>
              <a:ext cx="1150920" cy="5698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Century Gothic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Century Gothic"/>
                </a:rPr>
                <a:t>7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93080" y="3262320"/>
              <a:ext cx="1150920" cy="5698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66"/>
                  </a:solidFill>
                  <a:latin typeface="Century Gothic"/>
                </a:rPr>
                <a:t>48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993080" y="4132440"/>
              <a:ext cx="1150920" cy="5698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66"/>
                  </a:solidFill>
                  <a:latin typeface="Century Gothic"/>
                </a:rPr>
                <a:t>-7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93080" y="5002200"/>
              <a:ext cx="1150920" cy="5698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Century Gothic"/>
                </a:rPr>
                <a:t>3.63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993080" y="5873760"/>
              <a:ext cx="1150920" cy="5698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66"/>
                  </a:solidFill>
                  <a:latin typeface="Century Gothic"/>
                </a:rPr>
                <a:t>33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8400" y="1600200"/>
              <a:ext cx="1150920" cy="569880"/>
            </a:xfrm>
            <a:prstGeom prst="rect">
              <a:avLst/>
            </a:pr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Century Gothic"/>
                </a:rPr>
                <a:t>Var. 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19320" y="368280"/>
            <a:ext cx="7565760" cy="755640"/>
          </a:xfrm>
          <a:prstGeom prst="rect">
            <a:avLst/>
          </a:prstGeom>
          <a:solidFill>
            <a:srgbClr val="516a9b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>
                <a:solidFill>
                  <a:srgbClr val="1a0169"/>
                </a:solidFill>
                <a:latin typeface="Century Gothic"/>
              </a:rPr>
              <a:t>Nuevo Formulario Terapéutic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1421280"/>
            <a:ext cx="6318000" cy="80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9a0"/>
              </a:gs>
              <a:gs pos="100000">
                <a:srgbClr val="005a6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entury Gothic"/>
              </a:rPr>
              <a:t>DOS DIMEN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4080" y="5199120"/>
            <a:ext cx="2185920" cy="605880"/>
          </a:xfrm>
          <a:prstGeom prst="roundRect">
            <a:avLst>
              <a:gd name="adj" fmla="val 16667"/>
            </a:avLst>
          </a:prstGeom>
          <a:solidFill>
            <a:srgbClr val="516a9b">
              <a:alpha val="4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1a0169"/>
                </a:solidFill>
                <a:latin typeface="Century Gothic"/>
              </a:rPr>
              <a:t>Cualitati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7080" y="3089520"/>
            <a:ext cx="2222280" cy="605880"/>
          </a:xfrm>
          <a:prstGeom prst="roundRect">
            <a:avLst>
              <a:gd name="adj" fmla="val 16667"/>
            </a:avLst>
          </a:prstGeom>
          <a:solidFill>
            <a:srgbClr val="516a9b">
              <a:alpha val="4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1a0169"/>
                </a:solidFill>
                <a:latin typeface="Century Gothic"/>
              </a:rPr>
              <a:t>Cuantitativ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76360" y="2471400"/>
            <a:ext cx="6767640" cy="18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5000"/>
              </a:lnSpc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Mayor cantidad de drogas genér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Mayor cobertura por el sistem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Precios de refer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3080" y="4781160"/>
            <a:ext cx="66596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spcAft>
                <a:spcPts val="1100"/>
              </a:spcAft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Disminución de las barreras de acces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spcAft>
                <a:spcPts val="1100"/>
              </a:spcAft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Selección de las drogas con criterio de efectividad clínica y de costo/efectiv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9T16:43:36Z</dcterms:created>
  <dc:creator>_</dc:creator>
  <dc:description/>
  <dc:language>en-US</dc:language>
  <cp:lastModifiedBy>C.P.C.E.C.A.B.A.</cp:lastModifiedBy>
  <dcterms:modified xsi:type="dcterms:W3CDTF">2004-07-01T19:36:00Z</dcterms:modified>
  <cp:revision>5</cp:revision>
  <dc:subject/>
  <dc:title>Diapositiva 1</dc:title>
</cp:coreProperties>
</file>