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wmf" ContentType="image/x-wmf"/>
  <Override PartName="/ppt/media/image14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2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87800" cy="47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87800" cy="47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49200" y="709560"/>
            <a:ext cx="4834080" cy="36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55800" y="4571640"/>
            <a:ext cx="5419440" cy="4335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9144000"/>
            <a:ext cx="3187800" cy="47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4142880" y="9144000"/>
            <a:ext cx="3187800" cy="47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B1073BD-134A-4CD7-9DB8-EC5B929A3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142880" y="9144000"/>
            <a:ext cx="3187800" cy="47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F1E74B1-6C14-4A4F-A800-36F9C14BA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9144000"/>
            <a:ext cx="3187800" cy="47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0"/>
            <a:ext cx="3187800" cy="47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142880" y="0"/>
            <a:ext cx="3187800" cy="47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5867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920" y="1295280"/>
            <a:ext cx="7238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920" y="3962160"/>
            <a:ext cx="7238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5867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1295280"/>
            <a:ext cx="3532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7360" y="1295280"/>
            <a:ext cx="3532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920" y="3962160"/>
            <a:ext cx="3532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7360" y="3962160"/>
            <a:ext cx="3532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5867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920" y="12952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5560" y="12952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43200" y="12952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920" y="39621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5560" y="39621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43200" y="39621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5867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47920" y="1295280"/>
            <a:ext cx="72388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5867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47920" y="1295280"/>
            <a:ext cx="7238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5867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1295280"/>
            <a:ext cx="3532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7360" y="1295280"/>
            <a:ext cx="3532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5867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828800" y="304920"/>
            <a:ext cx="58672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5867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920" y="1295280"/>
            <a:ext cx="3532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7360" y="1295280"/>
            <a:ext cx="3532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447920" y="3962160"/>
            <a:ext cx="3532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5867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920" y="1295280"/>
            <a:ext cx="72388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5867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7920" y="1295280"/>
            <a:ext cx="3532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7360" y="1295280"/>
            <a:ext cx="3532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57360" y="3962160"/>
            <a:ext cx="3532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5867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920" y="1295280"/>
            <a:ext cx="3532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7360" y="1295280"/>
            <a:ext cx="3532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447920" y="3962160"/>
            <a:ext cx="7238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5867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7920" y="1295280"/>
            <a:ext cx="7238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447920" y="3962160"/>
            <a:ext cx="7238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5867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920" y="1295280"/>
            <a:ext cx="3532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7360" y="1295280"/>
            <a:ext cx="3532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47920" y="3962160"/>
            <a:ext cx="3532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57360" y="3962160"/>
            <a:ext cx="3532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5867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920" y="12952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95560" y="12952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43200" y="12952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447920" y="39621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895560" y="39621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43200" y="39621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5867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920" y="1295280"/>
            <a:ext cx="7238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5867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1295280"/>
            <a:ext cx="3532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7360" y="1295280"/>
            <a:ext cx="3532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5867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304920"/>
            <a:ext cx="58672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5867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920" y="1295280"/>
            <a:ext cx="3532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7360" y="1295280"/>
            <a:ext cx="3532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920" y="3962160"/>
            <a:ext cx="3532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5867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920" y="1295280"/>
            <a:ext cx="3532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7360" y="1295280"/>
            <a:ext cx="3532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7360" y="3962160"/>
            <a:ext cx="3532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5867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920" y="1295280"/>
            <a:ext cx="3532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7360" y="1295280"/>
            <a:ext cx="3532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920" y="3962160"/>
            <a:ext cx="7238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5867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33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1295280"/>
            <a:ext cx="7238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lvl="1" marL="669960" indent="-325440">
              <a:spcBef>
                <a:spcPts val="751"/>
              </a:spcBef>
              <a:buClr>
                <a:srgbClr val="00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lvl="2" marL="1022400" indent="-3510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lvl="3" marL="1339920" indent="-316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lvl="4" marL="1681200" indent="-339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"/>
          <p:cNvSpPr/>
          <p:nvPr/>
        </p:nvSpPr>
        <p:spPr>
          <a:xfrm>
            <a:off x="1523880" y="128520"/>
            <a:ext cx="6843960" cy="1014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1980720" y="5538240"/>
            <a:ext cx="6843960" cy="101412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493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6000" y="234936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2" marL="671400" algn="ctr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0238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341360" algn="ctr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36120" y="2057400"/>
            <a:ext cx="78980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660066"/>
                </a:solidFill>
                <a:latin typeface="Garamond"/>
              </a:rPr>
              <a:t>Optimización en la aplicación de los recursos</a:t>
            </a:r>
            <a:br>
              <a:rPr sz="4800"/>
            </a:br>
            <a:br>
              <a:rPr sz="3600"/>
            </a:br>
            <a:r>
              <a:rPr b="1" lang="es-ES_tradnl" sz="2400" spc="-1" strike="noStrike">
                <a:solidFill>
                  <a:srgbClr val="660066"/>
                </a:solidFill>
                <a:latin typeface="Garamond"/>
              </a:rPr>
              <a:t>2 Jornada de Administración en Salud</a:t>
            </a:r>
            <a:br>
              <a:rPr sz="2400"/>
            </a:br>
            <a:r>
              <a:rPr b="1" lang="es-ES_tradnl" sz="2000" spc="-1" strike="noStrike">
                <a:solidFill>
                  <a:srgbClr val="660066"/>
                </a:solidFill>
                <a:latin typeface="Garamond"/>
              </a:rPr>
              <a:t>Consejo Profesional de Ciencias Económicas de la Ciudad Autónoma de Buenos Aires</a:t>
            </a:r>
            <a:r>
              <a:rPr b="1" lang="es-ES_tradnl" sz="2400" spc="-1" strike="noStrike">
                <a:solidFill>
                  <a:srgbClr val="660066"/>
                </a:solidFill>
                <a:latin typeface="Garamond"/>
              </a:rPr>
              <a:t> </a:t>
            </a:r>
            <a:endParaRPr b="1" lang="en-US" sz="2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757840"/>
            <a:ext cx="4572000" cy="6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Garamond"/>
              </a:rPr>
              <a:t>Dr Marcelo Marchet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Gerente Méd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n de Salud del Hospital Itali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6633"/>
                </a:solidFill>
                <a:latin typeface="Arial"/>
              </a:rPr>
              <a:t>Sistemas de Salud</a:t>
            </a:r>
            <a:endParaRPr b="1" lang="en-US" sz="4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Responsabilidad Primaria: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Garamond"/>
              </a:rPr>
              <a:t>Resultados de Calidad</a:t>
            </a: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Garamond"/>
              </a:rPr>
              <a:t>Calidad de Atención Médica: 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0000"/>
                </a:solidFill>
                <a:latin typeface="Garamond"/>
              </a:rPr>
              <a:t>   “</a:t>
            </a:r>
            <a:r>
              <a:rPr b="1" i="1" lang="es-ES_tradnl" sz="2600" spc="-1" strike="noStrike">
                <a:solidFill>
                  <a:srgbClr val="000000"/>
                </a:solidFill>
                <a:latin typeface="Garamond"/>
              </a:rPr>
              <a:t>provisión de servicios médicos accesibles y equitativos con un nivel profesional óptimo, que tiene en cuenta los recursos disponibles y logra la adhesión y satisfacción del usuario”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3395520" y="5632560"/>
            <a:ext cx="54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Garamond"/>
              </a:rPr>
              <a:t>Congreso Iberoamericano de Calidad en Salud, 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1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99"/>
                </a:solidFill>
                <a:latin typeface="Arial"/>
              </a:rPr>
              <a:t>Gerenciamiento Médico</a:t>
            </a:r>
            <a:r>
              <a:rPr b="0" lang="es-MX" sz="4000" spc="-1" strike="noStrike">
                <a:solidFill>
                  <a:srgbClr val="006633"/>
                </a:solidFill>
                <a:latin typeface="Arial"/>
              </a:rPr>
              <a:t> </a:t>
            </a:r>
            <a:br>
              <a:rPr sz="4000"/>
            </a:br>
            <a:r>
              <a:rPr b="0" lang="es-MX" sz="3200" spc="-1" strike="noStrike">
                <a:solidFill>
                  <a:srgbClr val="006633"/>
                </a:solidFill>
                <a:latin typeface="Arial"/>
              </a:rPr>
              <a:t>DEFINICIONES</a:t>
            </a:r>
            <a:endParaRPr b="1" lang="en-US" sz="3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520" y="19051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Usualmente ..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lvl="3" marL="1614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Garamond"/>
              </a:rPr>
              <a:t>Gestión para reducir costo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Nuestra visión ..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lvl="3" marL="1614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Garamond"/>
              </a:rPr>
              <a:t>Adecuada utilización de los recursos humanos, tecnológicos y económicos para una </a:t>
            </a:r>
            <a:r>
              <a:rPr b="1" i="1" lang="es-MX" sz="2800" spc="-1" strike="noStrike">
                <a:solidFill>
                  <a:srgbClr val="006633"/>
                </a:solidFill>
                <a:latin typeface="Garamond"/>
              </a:rPr>
              <a:t>eficiente</a:t>
            </a:r>
            <a:r>
              <a:rPr b="0" i="1" lang="es-MX" sz="28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1" i="1" lang="es-MX" sz="2800" spc="-1" strike="noStrike">
                <a:solidFill>
                  <a:srgbClr val="006633"/>
                </a:solidFill>
                <a:latin typeface="Garamond"/>
              </a:rPr>
              <a:t>eficaz</a:t>
            </a:r>
            <a:r>
              <a:rPr b="1" lang="es-MX" sz="2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i="1" lang="es-MX" sz="2800" spc="-1" strike="noStrike">
                <a:solidFill>
                  <a:srgbClr val="000000"/>
                </a:solidFill>
                <a:latin typeface="Garamond"/>
              </a:rPr>
              <a:t>atención médica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876920" y="380880"/>
            <a:ext cx="3047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2131920"/>
            <a:ext cx="7086600" cy="12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687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Médico de Atención Primar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87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nformación Médico-Aministrativ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/>
          <p:nvPr/>
        </p:nvCxnSpPr>
        <p:spPr>
          <a:xfrm flipV="1" rot="10800000">
            <a:off x="4114080" y="3428640"/>
            <a:ext cx="1080" cy="762840"/>
          </a:xfrm>
          <a:prstGeom prst="bentConnector2">
            <a:avLst/>
          </a:prstGeom>
          <a:ln w="79200">
            <a:solidFill>
              <a:srgbClr val="000080"/>
            </a:solidFill>
            <a:miter/>
            <a:tailEnd len="med" type="triangle" w="lg"/>
          </a:ln>
        </p:spPr>
      </p:cxnSp>
      <p:sp>
        <p:nvSpPr>
          <p:cNvPr id="121" name=""/>
          <p:cNvSpPr/>
          <p:nvPr/>
        </p:nvSpPr>
        <p:spPr>
          <a:xfrm>
            <a:off x="380880" y="405288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storia Clínica Electró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4648320"/>
            <a:ext cx="77724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ucación Médica Especí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a en Gerenciamiento Médico (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encia de Informática Médica (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a de Epidemiología (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76920" y="434340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4052880"/>
            <a:ext cx="2819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533520"/>
            <a:ext cx="4419360" cy="1143000"/>
          </a:xfrm>
          <a:prstGeom prst="rect">
            <a:avLst/>
          </a:prstGeom>
          <a:solidFill>
            <a:srgbClr val="84bae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Pilares” d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Gerenciamiento Méd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981080" y="1447920"/>
            <a:ext cx="1752840" cy="609480"/>
          </a:xfrm>
          <a:prstGeom prst="rect">
            <a:avLst/>
          </a:prstGeom>
          <a:solidFill>
            <a:srgbClr val="84bae2"/>
          </a:solidFill>
          <a:ln w="2844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147636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Necesidad de 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2666880"/>
            <a:ext cx="16002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Pregunta Concre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cuantificable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34290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Búsqueda de la Mejor Evidencia “disponible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4349880"/>
            <a:ext cx="16002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Análisis Crít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Validació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52261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Aplicación en el Ámbito Prop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6064200"/>
            <a:ext cx="16002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Evaluación de Resultad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5909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3352680"/>
            <a:ext cx="167652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267080"/>
            <a:ext cx="144792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5105520"/>
            <a:ext cx="1600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43800" y="5943600"/>
            <a:ext cx="121932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32004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4114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49528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57913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38098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47242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54100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05720" y="63244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37" idx="0"/>
            <a:endCxn id="127" idx="3"/>
          </p:cNvCxnSpPr>
          <p:nvPr/>
        </p:nvCxnSpPr>
        <p:spPr>
          <a:xfrm flipV="1" rot="16200000">
            <a:off x="3938040" y="1713960"/>
            <a:ext cx="4163040" cy="42678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6781680" y="26049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228600"/>
            <a:ext cx="7391520" cy="9144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99"/>
                </a:solidFill>
                <a:latin typeface="Times New Roman"/>
              </a:rPr>
              <a:t>El proceso de Medicina Basada en la Evidenc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2600" spc="-1" strike="noStrike">
                <a:solidFill>
                  <a:srgbClr val="000099"/>
                </a:solidFill>
                <a:latin typeface="Times New Roman"/>
              </a:rPr>
              <a:t>aplicado a la Planificación en Salu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5715000"/>
            <a:ext cx="26668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e, Jennif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Managed Care in Global Healthcare Markets, 199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19520" y="20574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99840" y="160020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Sistemas de Información de Alta Calidad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69960" indent="-32544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structura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669960" indent="-32544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rocesos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669960" indent="-32544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Resultados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Análisis de Datos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"/>
          <p:cNvSpPr/>
          <p:nvPr/>
        </p:nvSpPr>
        <p:spPr>
          <a:xfrm>
            <a:off x="2081520" y="204840"/>
            <a:ext cx="487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Gerenciamiento Médico</a:t>
            </a:r>
            <a:r>
              <a:rPr b="1" lang="es-MX" sz="3200" spc="-1" strike="noStrike">
                <a:solidFill>
                  <a:srgbClr val="006633"/>
                </a:solidFill>
                <a:latin typeface="Arial"/>
              </a:rPr>
              <a:t> </a:t>
            </a:r>
            <a:br>
              <a:rPr sz="3200"/>
            </a:br>
            <a:r>
              <a:rPr b="1" lang="es-MX" sz="2400" spc="-1" strike="noStrike">
                <a:solidFill>
                  <a:srgbClr val="006633"/>
                </a:solidFill>
                <a:latin typeface="Arial"/>
              </a:rPr>
              <a:t>NECES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2438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dística       Epidemi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333684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terpretación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434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541008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renciamiento y Diseño de Polí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171840" y="2057400"/>
            <a:ext cx="6858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0" y="2057400"/>
            <a:ext cx="7621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28195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077320" y="28191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1028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40384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Gerenciamiento Médico</a:t>
            </a:r>
            <a:r>
              <a:rPr b="1" lang="es-MX" sz="3200" spc="-1" strike="noStrike">
                <a:solidFill>
                  <a:srgbClr val="006633"/>
                </a:solidFill>
                <a:latin typeface="Arial"/>
              </a:rPr>
              <a:t> </a:t>
            </a:r>
            <a:br>
              <a:rPr sz="3200"/>
            </a:br>
            <a:r>
              <a:rPr b="0" lang="es-MX" sz="2800" spc="-1" strike="noStrike">
                <a:solidFill>
                  <a:srgbClr val="006633"/>
                </a:solidFill>
                <a:latin typeface="Arial"/>
              </a:rPr>
              <a:t>Dificultades</a:t>
            </a:r>
            <a:endParaRPr b="1" lang="en-US" sz="2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770120"/>
            <a:ext cx="3810240" cy="31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Fragmentación de la Informac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formación Mé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formación Estad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formación Con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1509840"/>
            <a:ext cx="3810240" cy="40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Datos de mala Calid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Análisis no relacionado a los Objetiv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Mala lectura o Interpretación de la Informac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52680" y="5987880"/>
            <a:ext cx="3124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0000"/>
                </a:solidFill>
                <a:latin typeface="Times New Roman"/>
              </a:rPr>
              <a:t>Políticas Incorrect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510552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38880" y="510552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62485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477120" y="624852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46840" y="2219400"/>
            <a:ext cx="2454480" cy="337320"/>
          </a:xfrm>
          <a:prstGeom prst="rect">
            <a:avLst/>
          </a:prstGeom>
          <a:solidFill>
            <a:srgbClr val="00cc99">
              <a:alpha val="5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FORMATICA MED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96080" y="2231640"/>
            <a:ext cx="2655720" cy="337320"/>
          </a:xfrm>
          <a:prstGeom prst="rect">
            <a:avLst/>
          </a:prstGeom>
          <a:solidFill>
            <a:srgbClr val="00cc99">
              <a:alpha val="5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ESTION AMBULATO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90920"/>
            <a:ext cx="2454480" cy="337320"/>
          </a:xfrm>
          <a:prstGeom prst="rect">
            <a:avLst/>
          </a:prstGeom>
          <a:solidFill>
            <a:srgbClr val="00cc99">
              <a:alpha val="5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NTRAT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30920" y="4828680"/>
            <a:ext cx="1812960" cy="337320"/>
          </a:xfrm>
          <a:prstGeom prst="rect">
            <a:avLst/>
          </a:prstGeom>
          <a:solidFill>
            <a:srgbClr val="00cc99">
              <a:alpha val="5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PIDEMIOLO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48440" y="5762520"/>
            <a:ext cx="1092240" cy="337320"/>
          </a:xfrm>
          <a:prstGeom prst="rect">
            <a:avLst/>
          </a:prstGeom>
          <a:solidFill>
            <a:srgbClr val="00cc99">
              <a:alpha val="5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5064120"/>
            <a:ext cx="2743200" cy="580680"/>
          </a:xfrm>
          <a:prstGeom prst="rect">
            <a:avLst/>
          </a:prstGeom>
          <a:solidFill>
            <a:srgbClr val="00cc99">
              <a:alpha val="5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ORMACION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63840" y="3819600"/>
            <a:ext cx="2660760" cy="8254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Gerencia Mé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Plan de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20720" y="3300120"/>
            <a:ext cx="2555280" cy="337320"/>
          </a:xfrm>
          <a:prstGeom prst="rect">
            <a:avLst/>
          </a:prstGeom>
          <a:solidFill>
            <a:srgbClr val="00cc99">
              <a:alpha val="5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ESTION INTERN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5360" y="3416400"/>
            <a:ext cx="2163600" cy="580680"/>
          </a:xfrm>
          <a:prstGeom prst="rect">
            <a:avLst/>
          </a:prstGeom>
          <a:solidFill>
            <a:srgbClr val="00cc99">
              <a:alpha val="5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DMISION NUEV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SOCI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08160" y="2209680"/>
            <a:ext cx="1305360" cy="580680"/>
          </a:xfrm>
          <a:prstGeom prst="rect">
            <a:avLst/>
          </a:prstGeom>
          <a:solidFill>
            <a:srgbClr val="00cc99">
              <a:alpha val="5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UDITO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MED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8360" y="5964120"/>
            <a:ext cx="1854000" cy="580680"/>
          </a:xfrm>
          <a:prstGeom prst="rect">
            <a:avLst/>
          </a:prstGeom>
          <a:solidFill>
            <a:srgbClr val="00cc99">
              <a:alpha val="5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UDITO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ODONTOLO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67880" y="2611440"/>
            <a:ext cx="2107080" cy="337320"/>
          </a:xfrm>
          <a:prstGeom prst="rect">
            <a:avLst/>
          </a:prstGeom>
          <a:solidFill>
            <a:srgbClr val="00cc99">
              <a:alpha val="5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rogramas Méd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90920" y="6167520"/>
            <a:ext cx="2872080" cy="337320"/>
          </a:xfrm>
          <a:prstGeom prst="rect">
            <a:avLst/>
          </a:prstGeom>
          <a:solidFill>
            <a:srgbClr val="00cc99">
              <a:alpha val="5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rogramas de Uso R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48520" y="5562720"/>
            <a:ext cx="2151360" cy="337320"/>
          </a:xfrm>
          <a:prstGeom prst="rect">
            <a:avLst/>
          </a:prstGeom>
          <a:solidFill>
            <a:srgbClr val="00cc99">
              <a:alpha val="5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CONOMIA MED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85280" y="5943600"/>
            <a:ext cx="2882880" cy="337320"/>
          </a:xfrm>
          <a:prstGeom prst="rect">
            <a:avLst/>
          </a:prstGeom>
          <a:solidFill>
            <a:srgbClr val="00cc99">
              <a:alpha val="5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rograma de Medica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95640" y="3895560"/>
            <a:ext cx="1846440" cy="580680"/>
          </a:xfrm>
          <a:prstGeom prst="rect">
            <a:avLst/>
          </a:prstGeom>
          <a:solidFill>
            <a:srgbClr val="00cc99">
              <a:alpha val="5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LANIFIC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Y DESARROLL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9960" y="2860200"/>
            <a:ext cx="3050280" cy="337320"/>
          </a:xfrm>
          <a:prstGeom prst="rect">
            <a:avLst/>
          </a:prstGeom>
          <a:solidFill>
            <a:srgbClr val="00cc99">
              <a:alpha val="5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TERNACION DOMICILI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83080" y="5334120"/>
            <a:ext cx="801000" cy="337320"/>
          </a:xfrm>
          <a:prstGeom prst="rect">
            <a:avLst/>
          </a:prstGeom>
          <a:solidFill>
            <a:srgbClr val="00cc99">
              <a:alpha val="5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HED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30360" y="6324480"/>
            <a:ext cx="2602440" cy="337320"/>
          </a:xfrm>
          <a:prstGeom prst="rect">
            <a:avLst/>
          </a:prstGeom>
          <a:solidFill>
            <a:srgbClr val="00cc99">
              <a:alpha val="5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ist. Farmacias Mut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92480" y="528480"/>
            <a:ext cx="3938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Estructu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Gerencia Médica Plan de Sal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6633"/>
                </a:solidFill>
                <a:latin typeface="Arial"/>
              </a:rPr>
              <a:t>Costo-Beneficio</a:t>
            </a:r>
            <a:br>
              <a:rPr sz="2400"/>
            </a:br>
            <a:r>
              <a:rPr b="0" lang="es-AR" sz="2400" spc="-1" strike="noStrike">
                <a:solidFill>
                  <a:srgbClr val="006633"/>
                </a:solidFill>
                <a:latin typeface="Arial"/>
              </a:rPr>
              <a:t>Medidas seleccionadas</a:t>
            </a:r>
            <a:br>
              <a:rPr sz="2400"/>
            </a:br>
            <a:r>
              <a:rPr b="1" lang="es-AR" sz="2400" spc="-1" strike="noStrike">
                <a:solidFill>
                  <a:srgbClr val="006633"/>
                </a:solidFill>
                <a:latin typeface="Arial"/>
              </a:rPr>
              <a:t>Costo por año de vida en u$s</a:t>
            </a:r>
            <a:endParaRPr b="1" lang="en-US" sz="2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52480" y="190476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Garamond"/>
              </a:rPr>
              <a:t>Inmunizaciones en niños</a:t>
            </a:r>
            <a:r>
              <a:rPr b="0" lang="es-AR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AR" sz="2600" spc="-1" strike="noStrike">
                <a:solidFill>
                  <a:srgbClr val="000000"/>
                </a:solidFill>
                <a:latin typeface="Garamond"/>
                <a:ea typeface="Tahoma"/>
              </a:rPr>
              <a:t>&lt; 1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Garamond"/>
              </a:rPr>
              <a:t>Cuidados prenatales</a:t>
            </a:r>
            <a:r>
              <a:rPr b="0" lang="es-AR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AR" sz="2600" spc="-1" strike="noStrike">
                <a:solidFill>
                  <a:srgbClr val="000000"/>
                </a:solidFill>
                <a:latin typeface="Garamond"/>
                <a:ea typeface="Tahoma"/>
              </a:rPr>
              <a:t>&lt; 1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Garamond"/>
                <a:ea typeface="Tahoma"/>
              </a:rPr>
              <a:t>Vacunación antiinfluenza &gt;65 años </a:t>
            </a:r>
            <a:r>
              <a:rPr b="0" lang="es-AR" sz="2600" spc="-1" strike="noStrike">
                <a:solidFill>
                  <a:srgbClr val="000000"/>
                </a:solidFill>
                <a:latin typeface="Garamond"/>
                <a:ea typeface="Tahoma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Garamond"/>
                <a:ea typeface="Tahoma"/>
              </a:rPr>
              <a:t> 140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Garamond"/>
              </a:rPr>
              <a:t>Mamografía en mujeres </a:t>
            </a:r>
            <a:r>
              <a:rPr b="0" lang="es-AR" sz="2600" spc="-1" strike="noStrike">
                <a:solidFill>
                  <a:srgbClr val="000000"/>
                </a:solidFill>
                <a:latin typeface="Garamond"/>
                <a:ea typeface="Tahoma"/>
              </a:rPr>
              <a:t>&gt;50 años</a:t>
            </a:r>
            <a:r>
              <a:rPr b="0" lang="es-AR" sz="2600" spc="-1" strike="noStrike">
                <a:solidFill>
                  <a:srgbClr val="000000"/>
                </a:solidFill>
                <a:latin typeface="Garamond"/>
                <a:ea typeface="Tahoma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Garamond"/>
                <a:ea typeface="Tahoma"/>
              </a:rPr>
              <a:t> 810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Garamond"/>
                <a:ea typeface="Tahoma"/>
              </a:rPr>
              <a:t>Mamografía en mujeres 40-49 años</a:t>
            </a:r>
            <a:r>
              <a:rPr b="0" lang="es-AR" sz="2600" spc="-1" strike="noStrike">
                <a:solidFill>
                  <a:srgbClr val="000000"/>
                </a:solidFill>
                <a:latin typeface="Garamond"/>
                <a:ea typeface="Tahoma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Garamond"/>
                <a:ea typeface="Tahoma"/>
              </a:rPr>
              <a:t> 95000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Garamond"/>
                <a:ea typeface="Tahoma"/>
              </a:rPr>
              <a:t>UCI en pac. preoop. CCV</a:t>
            </a:r>
            <a:r>
              <a:rPr b="0" lang="es-AR" sz="2600" spc="-1" strike="noStrike">
                <a:solidFill>
                  <a:srgbClr val="000000"/>
                </a:solidFill>
                <a:latin typeface="Garamond"/>
                <a:ea typeface="Tahoma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Garamond"/>
                <a:ea typeface="Tahoma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Garamond"/>
                <a:ea typeface="Tahoma"/>
              </a:rPr>
              <a:t> 850000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"/>
          <p:cNvSpPr/>
          <p:nvPr/>
        </p:nvSpPr>
        <p:spPr>
          <a:xfrm>
            <a:off x="3048120" y="571500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Times New Roman"/>
              </a:rPr>
              <a:t>Tengs T, et al . Risk Analysis. 1995; 15: 36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5867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ffa0c"/>
                </a:solidFill>
                <a:latin typeface="Arial"/>
              </a:rPr>
              <a:t>Componentes del Costo</a:t>
            </a:r>
            <a:endParaRPr b="1" lang="en-US" sz="3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52120" y="1523520"/>
            <a:ext cx="3962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66"/>
                </a:solidFill>
                <a:latin typeface="Garamond"/>
              </a:rPr>
              <a:t>Otros Costos</a:t>
            </a:r>
            <a:r>
              <a:rPr b="0" lang="es-ES_tradnl" sz="2200" spc="-1" strike="noStrike">
                <a:solidFill>
                  <a:srgbClr val="ffff66"/>
                </a:solidFill>
                <a:latin typeface="Garamond"/>
              </a:rPr>
              <a:t> </a:t>
            </a:r>
            <a:r>
              <a:rPr b="0" lang="es-ES_tradnl" sz="1800" spc="-1" strike="noStrike">
                <a:solidFill>
                  <a:srgbClr val="ffff66"/>
                </a:solidFill>
                <a:latin typeface="Garamond"/>
              </a:rPr>
              <a:t>(Administración – Comercialización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22400" indent="-3510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Garamond"/>
              </a:rPr>
              <a:t>12 – 15 %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22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22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22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22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99"/>
                </a:solidFill>
                <a:latin typeface="Garamond"/>
              </a:rPr>
              <a:t>Costo del Servicio Médico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1022400" indent="-3510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99"/>
                </a:solidFill>
                <a:latin typeface="Garamond"/>
              </a:rPr>
              <a:t>85 – 88 %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648320" y="609480"/>
          <a:ext cx="4794120" cy="861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609480"/>
                    <a:ext cx="4794120" cy="861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33"/>
                </a:solidFill>
                <a:latin typeface="Arial"/>
              </a:rPr>
              <a:t>Costos de Administración, Gestión y Comerciales.</a:t>
            </a:r>
            <a:endParaRPr b="1" lang="en-US" sz="2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7560" y="1295280"/>
            <a:ext cx="3547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 marL="533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676520" y="1295280"/>
          <a:ext cx="6933960" cy="4800600"/>
        </p:xfrm>
        <a:graphic>
          <a:graphicData uri="http://schemas.openxmlformats.org/drawingml/2006/table">
            <a:tbl>
              <a:tblPr/>
              <a:tblGrid>
                <a:gridCol w="3123720"/>
                <a:gridCol w="2210040"/>
                <a:gridCol w="1600200"/>
              </a:tblGrid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66"/>
                          </a:solidFill>
                          <a:latin typeface="Garamond"/>
                        </a:rPr>
                        <a:t>S/otr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66"/>
                          </a:solidFill>
                          <a:latin typeface="Garamond"/>
                        </a:rPr>
                        <a:t>(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66"/>
                          </a:solidFill>
                          <a:latin typeface="Garamond"/>
                        </a:rPr>
                        <a:t>S/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66"/>
                          </a:solidFill>
                          <a:latin typeface="Garamond"/>
                        </a:rPr>
                        <a:t>(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mpuestos *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mercial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eld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.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branz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municac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istem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7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tr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7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1600200" y="61722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* Excluye IVA (10,5% sobre precio de comercializ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33"/>
                </a:solidFill>
                <a:latin typeface="Arial"/>
              </a:rPr>
              <a:t>Plan de Salud</a:t>
            </a:r>
            <a:r>
              <a:rPr b="0" lang="es-MX" sz="2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6633"/>
                </a:solidFill>
                <a:latin typeface="Arial"/>
              </a:rPr>
              <a:t>del Hospital Italiano</a:t>
            </a:r>
            <a:br>
              <a:rPr sz="2400"/>
            </a:br>
            <a:r>
              <a:rPr b="0" lang="es-MX" sz="2400" spc="-1" strike="noStrike">
                <a:solidFill>
                  <a:srgbClr val="006633"/>
                </a:solidFill>
                <a:latin typeface="Arial"/>
              </a:rPr>
              <a:t> Descripción</a:t>
            </a:r>
            <a:endParaRPr b="1" lang="en-US" sz="2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58440" y="1981080"/>
            <a:ext cx="728028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Sistema de Medicina Prepaga del </a:t>
            </a:r>
            <a:r>
              <a:rPr b="0" i="1" lang="es-MX" sz="2800" spc="-1" strike="noStrike">
                <a:solidFill>
                  <a:srgbClr val="000000"/>
                </a:solidFill>
                <a:latin typeface="Garamond"/>
              </a:rPr>
              <a:t>Hospital Italiano 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de Buenos Aire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Creado por el </a:t>
            </a:r>
            <a:r>
              <a:rPr b="0" i="1" lang="es-MX" sz="2800" spc="-1" strike="noStrike">
                <a:solidFill>
                  <a:srgbClr val="000000"/>
                </a:solidFill>
                <a:latin typeface="Garamond"/>
              </a:rPr>
              <a:t>Hospital Italiano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 en el año 1979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Organización médico-asistencial integrada al </a:t>
            </a:r>
            <a:r>
              <a:rPr b="0" i="1" lang="es-MX" sz="2800" spc="-1" strike="noStrike">
                <a:solidFill>
                  <a:srgbClr val="000000"/>
                </a:solidFill>
                <a:latin typeface="Garamond"/>
              </a:rPr>
              <a:t>Hospital Italiano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 y sus Servicios médicos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5867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6633"/>
                </a:solidFill>
                <a:latin typeface="Arial"/>
              </a:rPr>
              <a:t>Composición del Costo Médico</a:t>
            </a:r>
            <a:endParaRPr b="1" lang="en-US" sz="26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944720" y="1295280"/>
          <a:ext cx="6386400" cy="4496040"/>
        </p:xfrm>
        <a:graphic>
          <a:graphicData uri="http://schemas.openxmlformats.org/drawingml/2006/table">
            <a:tbl>
              <a:tblPr/>
              <a:tblGrid>
                <a:gridCol w="4570560"/>
                <a:gridCol w="1815840"/>
              </a:tblGrid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onorarios Profesional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2.6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Gastos Hospitalari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7.8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edicamentos, descartables, prótesi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.9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tr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7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5867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6633"/>
                </a:solidFill>
                <a:latin typeface="Arial"/>
              </a:rPr>
              <a:t>Composición del Costo Médico</a:t>
            </a:r>
            <a:endParaRPr b="1" lang="en-US" sz="2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47920" y="1295280"/>
            <a:ext cx="7238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Ambulatorio</a:t>
            </a: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64,8 %</a:t>
            </a: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es-ES_tradnl" sz="2400" spc="-1" strike="noStrike">
                <a:solidFill>
                  <a:srgbClr val="000066"/>
                </a:solidFill>
                <a:latin typeface="Arial Unicode MS"/>
              </a:rPr>
              <a:t>S/Costo Medic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spcBef>
                <a:spcPts val="550"/>
              </a:spcBef>
              <a:buClr>
                <a:srgbClr val="00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Honorarios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46 %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66"/>
                </a:solidFill>
                <a:latin typeface="Arial Unicode MS"/>
              </a:rPr>
              <a:t>29.8 %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spcBef>
                <a:spcPts val="550"/>
              </a:spcBef>
              <a:buClr>
                <a:srgbClr val="00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Gastos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40 %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66"/>
                </a:solidFill>
                <a:latin typeface="Arial Unicode MS"/>
              </a:rPr>
              <a:t>25.9 %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spcBef>
                <a:spcPts val="550"/>
              </a:spcBef>
              <a:buClr>
                <a:srgbClr val="00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Medicamentos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8.3 %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s-ES_tradnl" sz="2200" spc="-1" strike="noStrike">
                <a:solidFill>
                  <a:srgbClr val="000066"/>
                </a:solidFill>
                <a:latin typeface="Arial Unicode MS"/>
              </a:rPr>
              <a:t>5.4 %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spcBef>
                <a:spcPts val="550"/>
              </a:spcBef>
              <a:buClr>
                <a:srgbClr val="00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Otros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5.7 %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s-ES_tradnl" sz="2200" spc="-1" strike="noStrike">
                <a:solidFill>
                  <a:srgbClr val="000066"/>
                </a:solidFill>
                <a:latin typeface="Arial Unicode MS"/>
              </a:rPr>
              <a:t>3.7 %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Internación</a:t>
            </a: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35,2 %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spcBef>
                <a:spcPts val="550"/>
              </a:spcBef>
              <a:buClr>
                <a:srgbClr val="00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Honorarios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21.2 %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s-ES_tradnl" sz="2200" spc="-1" strike="noStrike">
                <a:solidFill>
                  <a:srgbClr val="000066"/>
                </a:solidFill>
                <a:latin typeface="Arial Unicode MS"/>
              </a:rPr>
              <a:t>7.4 %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spcBef>
                <a:spcPts val="550"/>
              </a:spcBef>
              <a:buClr>
                <a:srgbClr val="00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Gastos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49.1 %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66"/>
                </a:solidFill>
                <a:latin typeface="Arial Unicode MS"/>
              </a:rPr>
              <a:t>17.2 %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spcBef>
                <a:spcPts val="550"/>
              </a:spcBef>
              <a:buClr>
                <a:srgbClr val="00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Med,Md,Prot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28.4 %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66"/>
                </a:solidFill>
                <a:latin typeface="Arial Unicode MS"/>
              </a:rPr>
              <a:t>10.2 %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spcBef>
                <a:spcPts val="550"/>
              </a:spcBef>
              <a:buClr>
                <a:srgbClr val="00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Otros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1.2 %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s-ES_tradnl" sz="2200" spc="-1" strike="noStrike">
                <a:solidFill>
                  <a:srgbClr val="000066"/>
                </a:solidFill>
                <a:latin typeface="Arial Unicode MS"/>
              </a:rPr>
              <a:t>0.4 %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"/>
          <p:cNvSpPr/>
          <p:nvPr/>
        </p:nvSpPr>
        <p:spPr>
          <a:xfrm>
            <a:off x="7010280" y="2514600"/>
            <a:ext cx="1067040" cy="457200"/>
          </a:xfrm>
          <a:prstGeom prst="ellipse">
            <a:avLst/>
          </a:prstGeom>
          <a:noFill/>
          <a:ln cap="sq"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29400" y="2743200"/>
            <a:ext cx="380880" cy="0"/>
          </a:xfrm>
          <a:prstGeom prst="line">
            <a:avLst/>
          </a:prstGeom>
          <a:ln cap="sq" w="2844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91320" y="25750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Arial Unicode MS"/>
              </a:rPr>
              <a:t>15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33"/>
                </a:solidFill>
                <a:latin typeface="Arial"/>
              </a:rPr>
              <a:t>Costo del Servicio Médico</a:t>
            </a:r>
            <a:endParaRPr b="1" lang="en-US" sz="24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914400" y="1927080"/>
          <a:ext cx="441972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27080"/>
                    <a:ext cx="441972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4952880" y="1755720"/>
          <a:ext cx="4419720" cy="441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755720"/>
                    <a:ext cx="441972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752480" y="1143000"/>
            <a:ext cx="2667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Ambulatorios :  64,8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1143000"/>
            <a:ext cx="2666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Internación :  35,2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68580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Arial"/>
              </a:rPr>
              <a:t>Composición del Costo Médico Post Reingeniería en Medicamentos</a:t>
            </a:r>
            <a:endParaRPr b="1" lang="en-US" sz="24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731960" y="2160720"/>
          <a:ext cx="6386400" cy="3638520"/>
        </p:xfrm>
        <a:graphic>
          <a:graphicData uri="http://schemas.openxmlformats.org/drawingml/2006/table">
            <a:tbl>
              <a:tblPr/>
              <a:tblGrid>
                <a:gridCol w="4570560"/>
                <a:gridCol w="181584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onorarios Profesional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7.3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Gastos Hospitalari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3.2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edicamentos, descartables, prótesi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.4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tr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1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1600200" y="129528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Disminución del Costo Médico: 12,4 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33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33"/>
                </a:solidFill>
                <a:latin typeface="Arial"/>
              </a:rPr>
              <a:t>Costo del Servicio Médico</a:t>
            </a:r>
            <a:endParaRPr b="1" lang="en-US" sz="24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14400" y="1927080"/>
          <a:ext cx="441972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27080"/>
                    <a:ext cx="441972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4952880" y="1755720"/>
          <a:ext cx="4419720" cy="441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755720"/>
                    <a:ext cx="441972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1752480" y="1143000"/>
            <a:ext cx="2667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Ambulatorios :  64,8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1143000"/>
            <a:ext cx="2666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Internación :  35,2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5867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6633"/>
                </a:solidFill>
                <a:latin typeface="Arial"/>
              </a:rPr>
              <a:t>Composición del Costo Médico</a:t>
            </a:r>
            <a:endParaRPr b="1" lang="en-US" sz="2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47920" y="1295280"/>
            <a:ext cx="7238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Garamond"/>
              </a:rPr>
              <a:t>Ambulatorio</a:t>
            </a:r>
            <a:r>
              <a:rPr b="1" lang="es-ES_tradnl" sz="2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s-ES_tradnl" sz="2100" spc="-1" strike="noStrike">
                <a:solidFill>
                  <a:srgbClr val="000000"/>
                </a:solidFill>
                <a:latin typeface="Garamond"/>
              </a:rPr>
              <a:t>64,8 %</a:t>
            </a:r>
            <a:r>
              <a:rPr b="1" lang="es-ES_tradnl" sz="2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100" spc="-1" strike="noStrike">
                <a:solidFill>
                  <a:srgbClr val="000066"/>
                </a:solidFill>
                <a:latin typeface="Arial Unicode MS"/>
              </a:rPr>
              <a:t>S/Costo Medico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 lvl="1" marL="669960" indent="-325440">
              <a:spcBef>
                <a:spcPts val="499"/>
              </a:spcBef>
              <a:buClr>
                <a:srgbClr val="00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Consultas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24.7 %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Arial Unicode MS"/>
              </a:rPr>
              <a:t>16.1 %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69960" indent="-325440">
              <a:spcBef>
                <a:spcPts val="499"/>
              </a:spcBef>
              <a:buClr>
                <a:srgbClr val="00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Serv. Auxiliares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59 %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Arial Unicode MS"/>
              </a:rPr>
              <a:t>38.2 %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22400" indent="-351000"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aramond"/>
              </a:rPr>
              <a:t>Hon</a:t>
            </a:r>
            <a:r>
              <a:rPr b="0" lang="es-ES_tradnl" sz="15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Garamond"/>
              </a:rPr>
              <a:t>21 %</a:t>
            </a:r>
            <a:r>
              <a:rPr b="0" lang="es-ES_tradnl" sz="15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1500" spc="-1" strike="noStrike">
                <a:solidFill>
                  <a:srgbClr val="000066"/>
                </a:solidFill>
                <a:latin typeface="Arial Unicode MS"/>
              </a:rPr>
              <a:t>13.6 %</a:t>
            </a: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  <a:p>
            <a:pPr lvl="2" marL="1022400" indent="-351000"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aramond"/>
              </a:rPr>
              <a:t>Der</a:t>
            </a:r>
            <a:r>
              <a:rPr b="0" lang="es-ES_tradnl" sz="15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Garamond"/>
              </a:rPr>
              <a:t>38 %</a:t>
            </a:r>
            <a:r>
              <a:rPr b="0" lang="es-ES_tradnl" sz="15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1500" spc="-1" strike="noStrike">
                <a:solidFill>
                  <a:srgbClr val="000066"/>
                </a:solidFill>
                <a:latin typeface="Arial Unicode MS"/>
              </a:rPr>
              <a:t>24.6 %</a:t>
            </a: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  <a:p>
            <a:pPr lvl="1" marL="669960" indent="-325440">
              <a:spcBef>
                <a:spcPts val="499"/>
              </a:spcBef>
              <a:buClr>
                <a:srgbClr val="00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Medicamentos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8.3 %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s-ES_tradnl" sz="2000" spc="-1" strike="noStrike">
                <a:solidFill>
                  <a:srgbClr val="000066"/>
                </a:solidFill>
                <a:latin typeface="Arial Unicode MS"/>
              </a:rPr>
              <a:t>5.4 %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69960" indent="-325440">
              <a:spcBef>
                <a:spcPts val="499"/>
              </a:spcBef>
              <a:buClr>
                <a:srgbClr val="00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Otros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5.7 %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s-ES_tradnl" sz="2000" spc="-1" strike="noStrike">
                <a:solidFill>
                  <a:srgbClr val="000066"/>
                </a:solidFill>
                <a:latin typeface="Arial Unicode MS"/>
              </a:rPr>
              <a:t>3.7 %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0" y="2666880"/>
            <a:ext cx="914400" cy="304920"/>
          </a:xfrm>
          <a:prstGeom prst="ellipse">
            <a:avLst/>
          </a:prstGeom>
          <a:noFill/>
          <a:ln cap="sq"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811160" y="252360"/>
            <a:ext cx="58676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6633"/>
                </a:solidFill>
                <a:latin typeface="Arial"/>
              </a:rPr>
              <a:t>Gerencia de la Cal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/>
          <p:nvPr/>
        </p:nvCxnSpPr>
        <p:spPr>
          <a:xfrm>
            <a:off x="3657240" y="3657600"/>
            <a:ext cx="2515320" cy="1296000"/>
          </a:xfrm>
          <a:prstGeom prst="bentConnector3">
            <a:avLst>
              <a:gd name="adj1" fmla="val 50000"/>
            </a:avLst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34" name=""/>
          <p:cNvCxnSpPr/>
          <p:nvPr/>
        </p:nvCxnSpPr>
        <p:spPr>
          <a:xfrm flipV="1">
            <a:off x="3580920" y="2437560"/>
            <a:ext cx="2667960" cy="1220040"/>
          </a:xfrm>
          <a:prstGeom prst="bentConnector3">
            <a:avLst>
              <a:gd name="adj1" fmla="val 50000"/>
            </a:avLst>
          </a:prstGeom>
          <a:ln w="28440">
            <a:solidFill>
              <a:srgbClr val="cc0000"/>
            </a:solidFill>
            <a:miter/>
          </a:ln>
        </p:spPr>
      </p:cxnSp>
      <p:sp>
        <p:nvSpPr>
          <p:cNvPr id="235" name=""/>
          <p:cNvSpPr/>
          <p:nvPr/>
        </p:nvSpPr>
        <p:spPr>
          <a:xfrm>
            <a:off x="1447920" y="2841480"/>
            <a:ext cx="2133360" cy="2288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Garamond"/>
              </a:rPr>
              <a:t>Herramientas Actuales para evaluación de la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61120" y="2009880"/>
            <a:ext cx="2438280" cy="8254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Modelo H.M.O: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Garamond"/>
              </a:rPr>
              <a:t>HED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78680" y="4518000"/>
            <a:ext cx="2438280" cy="11912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Modelo Institucional: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Garamond"/>
              </a:rPr>
              <a:t>ORY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00200" y="1143000"/>
            <a:ext cx="54864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es-ES_tradnl" sz="2800" spc="-1" strike="noStrike">
                <a:solidFill>
                  <a:srgbClr val="000000"/>
                </a:solidFill>
                <a:latin typeface="Garamond"/>
              </a:rPr>
              <a:t>Modelos de Gestión de la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413080" cy="3048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200320" y="4067280"/>
            <a:ext cx="2752560" cy="2409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grpSp>
        <p:nvGrpSpPr>
          <p:cNvPr id="241" name=""/>
          <p:cNvGrpSpPr/>
          <p:nvPr/>
        </p:nvGrpSpPr>
        <p:grpSpPr>
          <a:xfrm>
            <a:off x="1600200" y="762120"/>
            <a:ext cx="4800600" cy="5027400"/>
            <a:chOff x="1600200" y="762120"/>
            <a:chExt cx="4800600" cy="5027400"/>
          </a:xfrm>
        </p:grpSpPr>
        <p:sp>
          <p:nvSpPr>
            <p:cNvPr id="242" name=""/>
            <p:cNvSpPr/>
            <p:nvPr/>
          </p:nvSpPr>
          <p:spPr>
            <a:xfrm>
              <a:off x="1600200" y="76212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00200" y="762120"/>
              <a:ext cx="4800600" cy="50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4952880" y="3657600"/>
            <a:ext cx="3733920" cy="2800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5" name=""/>
          <p:cNvSpPr/>
          <p:nvPr/>
        </p:nvSpPr>
        <p:spPr>
          <a:xfrm>
            <a:off x="1523880" y="255600"/>
            <a:ext cx="58676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6633"/>
                </a:solidFill>
                <a:latin typeface="Arial"/>
              </a:rPr>
              <a:t>Gerencia de la Cal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990720"/>
            <a:ext cx="18288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Garamond"/>
              </a:rPr>
              <a:t>HED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1477800"/>
            <a:ext cx="48765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7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H</a:t>
            </a:r>
            <a:r>
              <a:rPr b="1" i="1" lang="es-ES" sz="1700" spc="-1" strike="noStrike">
                <a:solidFill>
                  <a:srgbClr val="000000"/>
                </a:solidFill>
                <a:latin typeface="Garamond"/>
                <a:ea typeface="Times New Roman"/>
              </a:rPr>
              <a:t>ealth Plan </a:t>
            </a:r>
            <a:r>
              <a:rPr b="1" i="1" lang="es-ES" sz="17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E</a:t>
            </a:r>
            <a:r>
              <a:rPr b="1" i="1" lang="es-ES" sz="1700" spc="-1" strike="noStrike">
                <a:solidFill>
                  <a:srgbClr val="000000"/>
                </a:solidFill>
                <a:latin typeface="Garamond"/>
                <a:ea typeface="Times New Roman"/>
              </a:rPr>
              <a:t>mployer </a:t>
            </a:r>
            <a:r>
              <a:rPr b="1" i="1" lang="es-ES" sz="17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D</a:t>
            </a:r>
            <a:r>
              <a:rPr b="1" i="1" lang="es-ES" sz="1700" spc="-1" strike="noStrike">
                <a:solidFill>
                  <a:srgbClr val="000000"/>
                </a:solidFill>
                <a:latin typeface="Garamond"/>
                <a:ea typeface="Times New Roman"/>
              </a:rPr>
              <a:t>ata and </a:t>
            </a:r>
            <a:r>
              <a:rPr b="1" i="1" lang="es-ES" sz="17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I</a:t>
            </a:r>
            <a:r>
              <a:rPr b="1" i="1" lang="es-ES" sz="1700" spc="-1" strike="noStrike">
                <a:solidFill>
                  <a:srgbClr val="000000"/>
                </a:solidFill>
                <a:latin typeface="Garamond"/>
                <a:ea typeface="Times New Roman"/>
              </a:rPr>
              <a:t>nformation </a:t>
            </a:r>
            <a:r>
              <a:rPr b="1" i="1" lang="es-ES" sz="17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S</a:t>
            </a:r>
            <a:r>
              <a:rPr b="1" i="1" lang="es-ES" sz="1700" spc="-1" strike="noStrike">
                <a:solidFill>
                  <a:srgbClr val="000000"/>
                </a:solidFill>
                <a:latin typeface="Garamond"/>
                <a:ea typeface="Times New Roman"/>
              </a:rPr>
              <a:t>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37600" y="1828800"/>
            <a:ext cx="47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Garamond"/>
                <a:ea typeface="Times New Roman"/>
              </a:rPr>
              <a:t>National Committee for Quality Assurance (NCQA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676520" y="1409760"/>
            <a:ext cx="7010280" cy="51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Garamond"/>
              </a:rPr>
              <a:t>Dominios contenidos en el HED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3b812f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s-ES_tradnl" sz="2600" spc="-1" strike="noStrike">
                <a:solidFill>
                  <a:srgbClr val="cc0000"/>
                </a:solidFill>
                <a:latin typeface="Garamond"/>
              </a:rPr>
              <a:t>Efectividad</a:t>
            </a:r>
            <a:r>
              <a:rPr b="1" lang="es-ES_tradnl" sz="26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del cuidado méd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3b812f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s-ES_tradnl" sz="2600" spc="-1" strike="noStrike">
                <a:solidFill>
                  <a:srgbClr val="cc0000"/>
                </a:solidFill>
                <a:latin typeface="Garamond"/>
              </a:rPr>
              <a:t>Accesibilidad </a:t>
            </a: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al cuidado méd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3b812f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s-ES_tradnl" sz="2600" spc="-1" strike="noStrike">
                <a:solidFill>
                  <a:srgbClr val="cc0000"/>
                </a:solidFill>
                <a:latin typeface="Garamond"/>
              </a:rPr>
              <a:t>Satisfacción</a:t>
            </a:r>
            <a:r>
              <a:rPr b="1" lang="es-ES_tradnl" sz="26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con la experiencia del cuid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3b812f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s-ES_tradnl" sz="2600" spc="-1" strike="noStrike">
                <a:solidFill>
                  <a:srgbClr val="cc0000"/>
                </a:solidFill>
                <a:latin typeface="Garamond"/>
              </a:rPr>
              <a:t>Estabilidad</a:t>
            </a:r>
            <a:r>
              <a:rPr b="1" lang="es-ES_tradnl" sz="26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del Plan de Salu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3b812f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Uso de servicios</a:t>
            </a:r>
            <a:r>
              <a:rPr b="1" lang="es-ES_tradnl" sz="26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s-ES_tradnl" sz="2600" spc="-1" strike="noStrike">
                <a:solidFill>
                  <a:srgbClr val="cc0000"/>
                </a:solidFill>
                <a:latin typeface="Garamond"/>
              </a:rPr>
              <a:t>-recursos-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3b812f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s-ES_tradnl" sz="2600" spc="-1" strike="noStrike">
                <a:solidFill>
                  <a:srgbClr val="cc0000"/>
                </a:solidFill>
                <a:latin typeface="Garamond"/>
              </a:rPr>
              <a:t>Costos </a:t>
            </a: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del cuidado méd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3b812f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s-ES_tradnl" sz="2600" spc="-1" strike="noStrike">
                <a:solidFill>
                  <a:srgbClr val="cc0000"/>
                </a:solidFill>
                <a:latin typeface="Garamond"/>
              </a:rPr>
              <a:t>Información </a:t>
            </a:r>
            <a:r>
              <a:rPr b="1" lang="es-ES_tradnl" sz="2600" spc="-1" strike="noStrike">
                <a:solidFill>
                  <a:srgbClr val="000000"/>
                </a:solidFill>
                <a:latin typeface="Garamond"/>
              </a:rPr>
              <a:t>descriptiva del Pl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11160" y="252360"/>
            <a:ext cx="58676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6633"/>
                </a:solidFill>
                <a:latin typeface="Arial"/>
              </a:rPr>
              <a:t>Gerencia de la Cal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811160" y="252360"/>
            <a:ext cx="58676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6633"/>
                </a:solidFill>
                <a:latin typeface="Arial"/>
              </a:rPr>
              <a:t>Gerencia de la Cal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17840" y="838080"/>
            <a:ext cx="72212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Garamond"/>
              </a:rPr>
              <a:t>Efectividad del cuidado méd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es-ES" sz="2800" spc="-1" strike="noStrike">
                <a:solidFill>
                  <a:srgbClr val="660066"/>
                </a:solidFill>
                <a:latin typeface="Garamond"/>
              </a:rPr>
              <a:t>Control de la presión ar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Garamond"/>
              </a:rPr>
              <a:t>Medida administrativa (realizable a través de la evaluación de la totalidad de la población por intermedio de las bases de da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057400" y="2971800"/>
          <a:ext cx="365760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971800"/>
                    <a:ext cx="365760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922400" y="5538960"/>
            <a:ext cx="670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Garamond"/>
              </a:rPr>
              <a:t>Medida HEDIS 2000: 48.2% (IC 95%: 46.3-50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Garamond"/>
              </a:rPr>
              <a:t>Medida HEDIS 2001: 50.9% (IC 95%: 48.17-56.6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Garamond"/>
              </a:rPr>
              <a:t>Medida HEDIS 2002: 57.28% (IC 95%: 55.7-57.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6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Plan de Salud – </a:t>
            </a: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Planes Médicos</a:t>
            </a:r>
            <a:endParaRPr b="1" lang="en-US" sz="2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846440" y="1752120"/>
            <a:ext cx="7526160" cy="361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Garamond"/>
              </a:rPr>
              <a:t>108.000 afiliado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Garamond"/>
              </a:rPr>
              <a:t>8500 en Planes Corporativo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Garamond"/>
              </a:rPr>
              <a:t>7000 asociados en “Planes abiertos”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MX" sz="2200" spc="-1" strike="noStrike">
                <a:solidFill>
                  <a:srgbClr val="ffffff"/>
                </a:solidFill>
                <a:latin typeface="Garamond"/>
              </a:rPr>
              <a:t>Planes sin médico de cabecera o de atención primaria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Garamond"/>
              </a:rPr>
              <a:t>101.000  asociados Planes con médico de At. Primaria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Garamond"/>
              </a:rPr>
              <a:t>55000 Plan NPC (Grupos familiares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Garamond"/>
              </a:rPr>
              <a:t>23000 Plan Mayor (personas mayores de 65 años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Garamond"/>
              </a:rPr>
              <a:t>13000 Plan Joven y Universitario (menores de 30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Garamond"/>
              </a:rPr>
              <a:t>8000  Plan 2002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Garamond"/>
              </a:rPr>
              <a:t>2000 Plan Infantil (menores de 16 años)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811160" y="252360"/>
            <a:ext cx="58676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6633"/>
                </a:solidFill>
                <a:latin typeface="Arial"/>
              </a:rPr>
              <a:t>Gerencia de la Cal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17840" y="838080"/>
            <a:ext cx="72212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Garamond"/>
              </a:rPr>
              <a:t>Efectividad del cuidado méd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es-ES_tradnl" sz="2800" spc="-1" strike="noStrike">
                <a:solidFill>
                  <a:srgbClr val="660066"/>
                </a:solidFill>
                <a:latin typeface="Garamond"/>
              </a:rPr>
              <a:t>Screening de cáncer cerv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Garamond"/>
              </a:rPr>
              <a:t>Medida administrativa (realizable a través de la evaluación de la totalidad de la población por intermedio de las bases de da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209680" y="2819520"/>
          <a:ext cx="4267440" cy="26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819520"/>
                    <a:ext cx="4267440" cy="26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1773360" y="54864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Medida HEDIS 2000: 67% (IC 95%: 66.4-67.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480" y="57913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Medida HEDIS 2001: 69.4% (IC 95%: 68.8-69.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Medida HEDIS 2002: 73.58% (IC 95%: 73.01-74.14)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811160" y="252360"/>
            <a:ext cx="58676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6633"/>
                </a:solidFill>
                <a:latin typeface="Arial"/>
              </a:rPr>
              <a:t>Gerencia de la Cal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17840" y="838080"/>
            <a:ext cx="75261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Garamond"/>
              </a:rPr>
              <a:t>Efectividad del cuidado méd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es-ES_tradnl" sz="2800" spc="-1" strike="noStrike">
                <a:solidFill>
                  <a:srgbClr val="800080"/>
                </a:solidFill>
                <a:latin typeface="Garamond"/>
              </a:rPr>
              <a:t>Beta-bloqueantes post-infarto agudo de miocar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362320" y="2473200"/>
          <a:ext cx="4343400" cy="303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473200"/>
                    <a:ext cx="4343400" cy="30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1849320" y="5299200"/>
            <a:ext cx="50850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Garamond"/>
              </a:rPr>
              <a:t>Medida HEDIS 2000: 88.9% (IC 95%: 78.7-94.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Medida HEDIS 2001: 95.1% (IC 95%: 85.6-98.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Medida HEDIS 2002: 94.6% (IC 95%: 84.8-97.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811160" y="252360"/>
            <a:ext cx="58676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6633"/>
                </a:solidFill>
                <a:latin typeface="Arial"/>
              </a:rPr>
              <a:t>Gerencia de la Cal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17840" y="838080"/>
            <a:ext cx="75261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Garamond"/>
              </a:rPr>
              <a:t>Efectividad del cuidado méd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es-ES_tradnl" sz="2800" spc="-1" strike="noStrike">
                <a:solidFill>
                  <a:srgbClr val="800080"/>
                </a:solidFill>
                <a:latin typeface="Garamond"/>
              </a:rPr>
              <a:t>Vacunación contra Influenza Virus en adul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743200" y="2209680"/>
          <a:ext cx="4267080" cy="30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09680"/>
                    <a:ext cx="426708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1981080" y="5264280"/>
            <a:ext cx="6172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Medida HEDIS 2000: 65,78% (IC 95%: 61,7-69,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Garamond"/>
              </a:rPr>
              <a:t>Medida HEDIS 2001: 68,85% (IC 95%: 55,7-80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Medida HEDIS 2002: 66.09% (IC 95%: 59.62-72.14)</a:t>
            </a:r>
            <a:r>
              <a:rPr b="0" i="1" lang="es-E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1503360" y="2514600"/>
          <a:ext cx="350532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3360" y="2514600"/>
                    <a:ext cx="3505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876920" y="2514600"/>
          <a:ext cx="388620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514600"/>
                    <a:ext cx="38862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1752480" y="4802040"/>
            <a:ext cx="33530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Medida HEDIS 2000: 74.6% (IC 95%: 67.3-80.7) </a:t>
            </a:r>
            <a:br>
              <a:rPr sz="1600"/>
            </a:br>
            <a:r>
              <a:rPr b="0" i="1" lang="es-ES" sz="1600" spc="-1" strike="noStrike">
                <a:solidFill>
                  <a:srgbClr val="000000"/>
                </a:solidFill>
                <a:latin typeface="Garamond"/>
              </a:rPr>
              <a:t>Medida HEDIS 2001: 84.7% (IC 95%: 76.1-90.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Medida HEDIS 2002: 79.23% (IC 95%: 74.03-83.79)</a:t>
            </a:r>
            <a:r>
              <a:rPr b="0" i="1" lang="es-ES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34120" y="4724280"/>
            <a:ext cx="34290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Medida HEDIS 2000: 68.6% (IC 95%: 61.3-75.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Garamond"/>
              </a:rPr>
              <a:t>Medida HEDIS 2001: 40.4% (IC 95%: 30.3-51.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Medida HEDIS 2002: 67.6% (IC 95%: 61.82-73.01)</a:t>
            </a:r>
            <a:r>
              <a:rPr b="0" i="1" lang="es-ES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11160" y="252360"/>
            <a:ext cx="58676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6633"/>
                </a:solidFill>
                <a:latin typeface="Arial"/>
              </a:rPr>
              <a:t>Gerencia de la Cal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17840" y="838080"/>
            <a:ext cx="75261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Garamond"/>
              </a:rPr>
              <a:t>Efectividad del cuidado méd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es-ES_tradnl" sz="2800" spc="-1" strike="noStrike">
                <a:solidFill>
                  <a:srgbClr val="800080"/>
                </a:solidFill>
                <a:latin typeface="Garamond"/>
              </a:rPr>
              <a:t>Manejo del colesterol después de un evento cardiovascular agu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52480" y="22446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Garamond"/>
              </a:rPr>
              <a:t>Solicitud de LDL-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69040" y="22525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Garamond"/>
              </a:rPr>
              <a:t>LDL-c &lt; 130 mg/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811160" y="252360"/>
            <a:ext cx="58676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6633"/>
                </a:solidFill>
                <a:latin typeface="Arial"/>
              </a:rPr>
              <a:t>Gerencia de la Cal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17840" y="838080"/>
            <a:ext cx="7526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Garamond"/>
              </a:rPr>
              <a:t>Efectividad del cuidado méd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es-ES_tradnl" sz="2800" spc="-1" strike="noStrike">
                <a:solidFill>
                  <a:srgbClr val="800080"/>
                </a:solidFill>
                <a:latin typeface="Garamond"/>
              </a:rPr>
              <a:t>Cuidado de la población diab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295280" y="2293920"/>
          <a:ext cx="4038840" cy="25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93920"/>
                    <a:ext cx="4038840" cy="25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5029200" y="2314440"/>
          <a:ext cx="3962520" cy="26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314440"/>
                    <a:ext cx="396252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1752480" y="184644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Garamond"/>
              </a:rPr>
              <a:t>Solicitud de Hb. A1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86400" y="1847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Garamond"/>
              </a:rPr>
              <a:t>Hb. A1c &gt; 7,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4802040"/>
            <a:ext cx="33530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Medida HEDIS 2000: 66.6% (IC 95%: 63.9-69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es-ES" sz="1600" spc="-1" strike="noStrike">
                <a:solidFill>
                  <a:srgbClr val="000000"/>
                </a:solidFill>
                <a:latin typeface="Garamond"/>
              </a:rPr>
              <a:t>Medida HEDIS 2001: 67.4% (IC </a:t>
            </a:r>
            <a:r>
              <a:rPr b="0" i="1" lang="es-ES_tradnl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s-ES" sz="1600" spc="-1" strike="noStrike">
                <a:solidFill>
                  <a:srgbClr val="000000"/>
                </a:solidFill>
                <a:latin typeface="Garamond"/>
              </a:rPr>
              <a:t>95%: 65.5-69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  </a:t>
            </a:r>
            <a:r>
              <a:rPr b="0" i="1" lang="es-E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Medida HEDIS 2002: 93.6% (IC 95%: 92.8-94.3)</a:t>
            </a:r>
            <a:r>
              <a:rPr b="0" i="1" lang="es-ES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89560" y="4800600"/>
            <a:ext cx="33526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Medida HEDIS 2000: 41.9% (IC 95%: 39.1-44.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Garamond"/>
              </a:rPr>
              <a:t>Medida HEDIS 2001: 16.7% (IC 95%: 14.9-18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Medida HEDIS 2002: 17.9% (IC 95%: 16.7-19.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5867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6633"/>
                </a:solidFill>
                <a:latin typeface="Arial"/>
              </a:rPr>
              <a:t>Conclusiones</a:t>
            </a:r>
            <a:endParaRPr b="1" lang="en-US" sz="2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99840" y="1218960"/>
            <a:ext cx="7162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Garamond"/>
              </a:rPr>
              <a:t>Sin buena información medico-administrativa integrada no tendremos buenas oportunidades de planificar adecuadamente.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Garamond"/>
              </a:rPr>
              <a:t>Se requiere de análisis profesionalizado de esta información.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Garamond"/>
              </a:rPr>
              <a:t>No perder de vista el objetivo calidad de servicio médico y utilizar medidas validadas para su medición.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Garamond"/>
              </a:rPr>
              <a:t>Detectar focos pasibles de reingeniería sin sacrificar calidad.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Garamond"/>
              </a:rPr>
              <a:t>Detectar focos de gasto superfluo e implementar ciclos de mejora basados en la educación medica y en la educación para la salud de la población.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928360" cy="5761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63440" y="27367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10960" y="34113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518184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Arial"/>
              </a:rPr>
              <a:t>Índices Comparativos Mundiales</a:t>
            </a:r>
            <a:endParaRPr b="1" lang="en-US" sz="24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97" name="5" descr=""/>
          <p:cNvPicPr/>
          <p:nvPr/>
        </p:nvPicPr>
        <p:blipFill>
          <a:blip r:embed="rId1"/>
          <a:stretch/>
        </p:blipFill>
        <p:spPr>
          <a:xfrm>
            <a:off x="1635120" y="1176480"/>
            <a:ext cx="7128000" cy="514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Gasto en Salud 1950-2002 (USA)</a:t>
            </a:r>
            <a:endParaRPr b="1" lang="en-US" sz="32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352520" y="1619280"/>
          <a:ext cx="7410600" cy="45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619280"/>
                    <a:ext cx="741060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2819520" y="61722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uente: Health Care Financing Administr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523880" y="1066680"/>
          <a:ext cx="7373880" cy="561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066680"/>
                    <a:ext cx="7373880" cy="56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6633"/>
                </a:solidFill>
                <a:latin typeface="Arial"/>
              </a:rPr>
              <a:t>Costos Por Edad ($ / cápita)</a:t>
            </a:r>
            <a:endParaRPr b="1" lang="en-US" sz="26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586728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6633"/>
                </a:solidFill>
                <a:latin typeface="Arial"/>
              </a:rPr>
              <a:t>Gasto en Salud en USA (1997) por tipo</a:t>
            </a:r>
            <a:br>
              <a:rPr sz="2400"/>
            </a:br>
            <a:r>
              <a:rPr b="1" lang="es-AR" sz="2400" spc="-1" strike="noStrike">
                <a:solidFill>
                  <a:srgbClr val="006633"/>
                </a:solidFill>
                <a:latin typeface="Arial"/>
              </a:rPr>
              <a:t>(miles de millones u$s)</a:t>
            </a:r>
            <a:endParaRPr b="1" lang="en-US" sz="24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63840" y="1371600"/>
          <a:ext cx="6131880" cy="5181120"/>
        </p:xfrm>
        <a:graphic>
          <a:graphicData uri="http://schemas.openxmlformats.org/drawingml/2006/table">
            <a:tbl>
              <a:tblPr/>
              <a:tblGrid>
                <a:gridCol w="3720600"/>
                <a:gridCol w="2411280"/>
              </a:tblGrid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Gasto Nacional en Salu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9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ervicios de Salu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57         96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ervicios Individu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69                9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marL="914400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erv. Hospitalari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71                  38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marL="914400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onorarios Méd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8                  22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marL="914400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dontologí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1                      5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marL="914400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tros Profesion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2                      6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marL="914400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erv. Domiciliari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2                      3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marL="914400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edicament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9                  11.2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marL="914400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ftalmolog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                      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marL="914400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nfermería domiciliar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3                      8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marL="914400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tr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                      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dminist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0                   4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ctividades de Salud Públ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9                   3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vestiga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               1.6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nstruc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               1.6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848720" y="5562720"/>
            <a:ext cx="114300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000" spc="-1" strike="noStrike">
                <a:solidFill>
                  <a:srgbClr val="000000"/>
                </a:solidFill>
                <a:latin typeface="Times New Roman"/>
              </a:rPr>
              <a:t>Brandsen et al 1998</a:t>
            </a:r>
            <a:r>
              <a:rPr b="1" lang="es-AR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Times New Roman"/>
              </a:rPr>
              <a:t>The Economics of Health and Health C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380520"/>
            <a:ext cx="6991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6633"/>
                </a:solidFill>
                <a:latin typeface="Arial"/>
              </a:rPr>
              <a:t>Gastos en Educación, Defensa y Salud en USA</a:t>
            </a:r>
            <a:br>
              <a:rPr sz="2400"/>
            </a:br>
            <a:r>
              <a:rPr b="1" i="1" lang="es-ES" sz="2400" spc="-1" strike="noStrike">
                <a:solidFill>
                  <a:srgbClr val="006633"/>
                </a:solidFill>
                <a:latin typeface="Arial"/>
              </a:rPr>
              <a:t>Porcentaje del PBI en 19</a:t>
            </a:r>
            <a:r>
              <a:rPr b="1" i="1" lang="es-MX" sz="2400" spc="-1" strike="noStrike">
                <a:solidFill>
                  <a:srgbClr val="006633"/>
                </a:solidFill>
                <a:latin typeface="Arial"/>
              </a:rPr>
              <a:t>99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86000" y="1676520"/>
          <a:ext cx="5397480" cy="39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676520"/>
                    <a:ext cx="5397480" cy="39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583320" y="6248520"/>
            <a:ext cx="2101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f.: Dpto. de Comercio. U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87200" y="5334120"/>
            <a:ext cx="3404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ducación    Defensa     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17:37:31Z</dcterms:created>
  <dc:creator>ADMINISTRADOR</dc:creator>
  <dc:description/>
  <dc:language>en-US</dc:language>
  <cp:lastModifiedBy>C.P.C.E.C.A.B.A.</cp:lastModifiedBy>
  <dcterms:modified xsi:type="dcterms:W3CDTF">2004-07-01T19:30:12Z</dcterms:modified>
  <cp:revision>52</cp:revision>
  <dc:subject/>
  <dc:title>Gerencia de la Calidad</dc:title>
</cp:coreProperties>
</file>